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Click to move the slide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42A1-9C66-40A0-8EC3-B6A1CC442255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40120" y="942192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BCDFA3-77D4-4CC2-B616-3A373467D70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7920" cy="37180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F418-549B-4645-8192-5A70D2724E66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 celle su cui applicare la formattazione condizionale possono contenere formule, oltre che val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. Immettere in colonna i valori 2000, 3500, 2750, 3800 e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. In A6 inserire la somma dei valori immessi da A1 ad A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 Attivare A6 e applicare la formattazione condizionale in modo da essere avvertiti quando il valore è &lt; 1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4. Scegliere un formato per tale ev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5F40-0176-46A5-B45C-89F710F79F88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Salvataggio dell’area di lavoro: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 vengono salvate le singole cartelle di lavoro, le informazioni sui file aperti e sulle posizioni delle finest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Quando si apre il file di un’area di lavoro, tutte le cartelle di lavoro e le finestre sono aperte e disposte come nell’area di lavoro salva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FE30-04C3-4F3A-B06C-BAFA3968397E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imes New Roman"/>
              </a:rPr>
              <a:t>ES. 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 Selezionare i fogli, immettere e modificare dati, modificare larghezza colonne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3F2A-1702-4A85-99D4-899C81DF8C8F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ES.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Calcolare il valore di un incremento del 10% per uno stipendio di L. 2.000.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. In A2, digitare 2000000, riattivare A2, cliccare sul pulsante Valu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. In B2, digitare il 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3. In C2, digitare =A2*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ES.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empio di funzione semplice: visualizza “Eccedenza budget” se il valore immesso è &lt;1000, altrimenti “OK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A10, digitare 1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. In B10, digitare =SE(A10&gt;1000; “Eccedenza budget”; “OK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ES.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sempio di funzione complessa: =SE(A20&gt;=9; “A”; SE(A20&gt;=8; “B”; SE(A20&gt;=7; “C”; SE (A20&gt;=6; “D”; “F”)))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ltri esempi: vedere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Guida </a:t>
            </a:r>
            <a:r>
              <a:rPr b="1" i="1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Esempi di formule comu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8183-C683-49B0-8946-28C4F909A4CA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È possibile ridimensionare la colonna trascinando il bordo che si trova tra le intestazioni di colon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pplicare un formato numero different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   In alcuni casi è possibile cambiare il formato numero della cella per adattare il numero alla larghezza della cella. È ad esempio possibile diminuire il numero di cifre decimali dopo la virg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Accertarsi che le formule di data e di ora siano corrett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   Quando si sottraggono date e ore, accertarsi che la formula sia definita correttamente. Se si utilizza il sistema di data 1900, è necessario che le date e le ore siano valori positivi. Di conseguenza, se si sottrae una data o un'ora da una precedente, verrà restituito l'errore #####. Per utilizzare il sistema di data 1900, sceglier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Opzion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al menu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trumenti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, fare clic sulla sched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alcol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, quindi deselezionare la casella di controllo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Sistema data 1904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 Se la formula è corretta, benché il risultato sia un valore negativo, sarà possibile visualizzare il valore utilizzando nella cella in formato diverso dal formato data o ora. Scegliere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Cell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al menu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Format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, fare clic sulla sched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umer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, quindi selezionare un formato differente dal formato data o o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EFDF-9F04-4D68-8AC9-C3DD4F81DB8D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1C36-999B-46B5-8E9A-C58A6DED0B0D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7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it-IT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892D-0E94-4D2E-9F22-E5837D53927F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edere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Guida</a:t>
            </a:r>
            <a:r>
              <a:rPr b="1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Differenza tra riferimenti relativi e riferimenti assolu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81C7-AC53-4B5E-AB52-DE04059C1B78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905B-0442-4A68-8133-1222137C525F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 questo esempio un grafico ad area evidenzia l'incremento delle vendite in Valle d'Aosta e illustra il contributo di ciascuna area alle vendite tota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el grafico riportato in questo esempio, la serie di dati che copre l'area più ampia rappresenta la marca con il più alto contenuto di vitamine (marca 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8207-E147-4285-ABFC-8F4EAC9CC320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Cenni: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 Inserire, rimuovere, scoprire, nascondere, ridimensionare righe e colo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-up Menu, o Inserisci, o Form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grafico di questo esempio mostra che la società A prevale come numero di prodotti e quota di mercato ma non come vend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grafico a superficie mostra le varie combinazioni di temperature e tempo relative a una stessa misura di resistenza alla tr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ES.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Creazione di un ideogra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elezionare il grafico, cliccare con il tasto destro del mouse, scegliere Tipo di grafico e selezionare un istogramma a due dimensio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liccare su una delle due barre del graf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nserisci/Immagine/Da file, scegliere l’imma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liccare  con il tasto destro del mouse e scegliere Formato serie da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liccare sull’opzione Proporzionale dalla scheda Mo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9821-BA54-4C28-B8D5-71C280AB3B8C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Numeri: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Excel usa automaticamente la notazione scientifica per visualizzare i numeri troppo lunghi perché la cella possa contenerli per intero. Se anche la notazione scientifica è troppo estesa, il valore viene sostituito con una serie di simboli di numero o cancelletto. Oltre le 11 cifre, Excel converte il numero in notazione scientifica e regola la larghezza della colonna di conseguen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Testo: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quando un numero deve essere interpretato come testo è sufficiente digitare un apostrofo prima del num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Date/Orari: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Excel converte l’informazione in numero progressivo, indicante il tempo che separa la data o l’ora dall’inizio del secolo. L’uso di questi numeri progressivi permettte al programma di effettuare qualsiasi calcolo sulle date e gli orari immessi. I numeri progressivi sono mantenuti in background dal programma, che invece visualizza sul foglio le date e gli orari corrispondenti nel formato scel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F768-7781-4E8E-BA6E-53D78784A1FF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ES.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gen, gen-00, 1 3, Mela pera ara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Valore limit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 valore finale della ser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Tendenza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 fornisce le curve di crescita lineare e geome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Cenni: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 Controllo ortografia e correzione autom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417D-EB05-4A7B-9AD1-C76098A54C18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 u="sng">
                <a:solidFill>
                  <a:srgbClr val="000000"/>
                </a:solidFill>
                <a:uFillTx/>
                <a:latin typeface="Times New Roman"/>
              </a:rPr>
              <a:t>Cenni:</a:t>
            </a:r>
            <a:r>
              <a:rPr b="0" i="1" lang="it-IT" sz="1200" spc="-1" strike="noStrike">
                <a:solidFill>
                  <a:srgbClr val="000000"/>
                </a:solidFill>
                <a:latin typeface="Times New Roman"/>
              </a:rPr>
              <a:t> Pulsante unisci c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561B-C8A1-465F-8A43-A53C3624C1B6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F25-EF69-4DBD-B83F-AB2465EE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80010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785400"/>
            <a:ext cx="80010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2749-BDBC-4DA2-9FC1-E62C6067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78540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78540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513-1193-4B62-BD4C-F2D63B50B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34136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34136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78540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78540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78540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347-E0DA-4D56-8F61-18644B1A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71FBB-BE91-4F35-818E-1DF16E3906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6F337-FEEB-4B1B-8202-2925B924B8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CA813-54C5-4AAB-8105-7AA269FB06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042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341360"/>
            <a:ext cx="39042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475BD-A29A-4B44-B33F-62A88CC0A3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D5B0B-0D97-4A9E-B75B-41217EDCDC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10920" y="333360"/>
            <a:ext cx="80010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B91F3-1ECA-4C04-A636-627CD7CBF1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341360"/>
            <a:ext cx="39042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6280" y="378540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CCFF8-3259-48DC-94E7-E042C5CB1A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21D-AAB2-4E94-9061-BA4CE2FB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042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5960" y="378540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B5B0A-A22D-459E-A557-6362CD9920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96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6280" y="3785400"/>
            <a:ext cx="80010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B6FAF-8D55-4003-BE95-C0E5D26F0F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80010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6280" y="3785400"/>
            <a:ext cx="80010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FC016-4488-4B59-82F8-A38143E4DF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596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6280" y="378540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5960" y="378540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5956D-5B89-4D16-8F71-AD30145C98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71680" y="134136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7080" y="134136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66280" y="378540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71680" y="378540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7080" y="3785400"/>
            <a:ext cx="257616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2710D-0636-4036-BE68-4A309655AD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1BAE-61A6-4AD7-9FCF-79EDC88C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042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341360"/>
            <a:ext cx="39042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65B-830D-412B-9A2B-D1371A55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608-833C-4168-B768-747F9990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10920" y="333360"/>
            <a:ext cx="80010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23A-744F-46D1-A596-CAAF0E0C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341360"/>
            <a:ext cx="39042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78540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E80-33E9-48FB-9693-CA25F139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042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78540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8E3-07E8-41F4-B4C3-FCF4FE53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341360"/>
            <a:ext cx="39042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785400"/>
            <a:ext cx="8001000" cy="22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55D-825B-40C4-B10E-FBB10917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2093760" indent="-39816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2093760" indent="-398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2093760" indent="-398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59280" y="6381360"/>
            <a:ext cx="198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0920" y="6381360"/>
            <a:ext cx="198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9EE1-482F-4244-88B7-E41AE9C531C1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946160" y="981000"/>
            <a:ext cx="7197840" cy="108000"/>
            <a:chOff x="1946160" y="981000"/>
            <a:chExt cx="7197840" cy="108000"/>
          </a:xfrm>
        </p:grpSpPr>
        <p:sp>
          <p:nvSpPr>
            <p:cNvPr id="6" name="Rectangle 8"/>
            <p:cNvSpPr/>
            <p:nvPr/>
          </p:nvSpPr>
          <p:spPr>
            <a:xfrm>
              <a:off x="1946160" y="1017720"/>
              <a:ext cx="7197840" cy="3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877080" y="981000"/>
              <a:ext cx="1800360" cy="1080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0" y="189000"/>
            <a:ext cx="7197840" cy="936360"/>
            <a:chOff x="0" y="189000"/>
            <a:chExt cx="7197840" cy="936360"/>
          </a:xfrm>
        </p:grpSpPr>
        <p:sp>
          <p:nvSpPr>
            <p:cNvPr id="9" name="Rectangle 11"/>
            <p:cNvSpPr/>
            <p:nvPr/>
          </p:nvSpPr>
          <p:spPr>
            <a:xfrm>
              <a:off x="0" y="331920"/>
              <a:ext cx="7197840" cy="3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24000" y="189000"/>
              <a:ext cx="215640" cy="93636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4"/>
          <p:cNvSpPr/>
          <p:nvPr/>
        </p:nvSpPr>
        <p:spPr>
          <a:xfrm flipV="1">
            <a:off x="1187280" y="2851560"/>
            <a:ext cx="7201080" cy="71640"/>
          </a:xfrm>
          <a:prstGeom prst="pi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AutoShape 5"/>
          <p:cNvSpPr/>
          <p:nvPr/>
        </p:nvSpPr>
        <p:spPr>
          <a:xfrm flipH="1">
            <a:off x="1115280" y="4508640"/>
            <a:ext cx="7270920" cy="71280"/>
          </a:xfrm>
          <a:prstGeom prst="pi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651640" y="5084640"/>
            <a:ext cx="28065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2093760" indent="-39816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2093760" indent="-398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2093760" indent="-3981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468000" y="6381360"/>
            <a:ext cx="198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0BB8-E353-4DAD-BB32-1058274BE940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cc0000"/>
                </a:solidFill>
                <a:latin typeface="Tahoma"/>
              </a:rPr>
              <a:t>Università della Calabria</a:t>
            </a:r>
            <a:br>
              <a:rPr sz="1500"/>
            </a:br>
            <a:br>
              <a:rPr sz="2300"/>
            </a:br>
            <a:r>
              <a:rPr b="0" lang="it-IT" sz="1700" spc="-1" strike="noStrike">
                <a:solidFill>
                  <a:srgbClr val="cc0000"/>
                </a:solidFill>
                <a:latin typeface="Tahoma"/>
              </a:rPr>
              <a:t>Facoltà di Farmacia e Scienze della Nutrizione e della Salute</a:t>
            </a:r>
            <a:endParaRPr b="0" lang="en-US" sz="17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84360" y="392904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336699"/>
                </a:solidFill>
                <a:latin typeface="Tahoma"/>
              </a:rPr>
              <a:t>CORSI DI POTENZIAMENTO</a:t>
            </a:r>
            <a:br>
              <a:rPr sz="1500"/>
            </a:br>
            <a:br>
              <a:rPr sz="1500"/>
            </a:br>
            <a:r>
              <a:rPr b="1" lang="it-IT" sz="1500" spc="-1" strike="noStrike">
                <a:solidFill>
                  <a:srgbClr val="cc0000"/>
                </a:solidFill>
                <a:latin typeface="Tahoma"/>
              </a:rPr>
              <a:t>Modulo di </a:t>
            </a:r>
            <a:br>
              <a:rPr sz="1500"/>
            </a:br>
            <a:r>
              <a:rPr b="1" lang="it-IT" sz="1500" spc="-1" strike="noStrike">
                <a:solidFill>
                  <a:srgbClr val="cc0000"/>
                </a:solidFill>
                <a:latin typeface="Tahoma"/>
              </a:rPr>
              <a:t>INFORMATICA</a:t>
            </a:r>
            <a:br>
              <a:rPr sz="1500"/>
            </a:br>
            <a:br>
              <a:rPr sz="1300"/>
            </a:br>
            <a:br>
              <a:rPr sz="1300"/>
            </a:br>
            <a:r>
              <a:rPr b="1" lang="it-IT" sz="2700" spc="-1" strike="noStrike">
                <a:solidFill>
                  <a:srgbClr val="cc0000"/>
                </a:solidFill>
                <a:latin typeface="Tahoma"/>
              </a:rPr>
              <a:t>4-Microsoft Excel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50B7-FC3B-44C4-B8B2-B48C2C704E83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66280" y="1703160"/>
            <a:ext cx="8001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Formattazione automatica: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pplicare i formati predefiniti ad un gruppo di dati disposti in forma tabellar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Formattazione condizionale: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onitorare i dati immessi ed avvertire l’utente quando i valori digitati in un certo intervallo non soddisfano i criteri impostati precedentement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Menù FORMATO -&gt; Formattazione condizionale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attazione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 del </a:t>
            </a: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glio di lavoro</a:t>
            </a:r>
            <a:br>
              <a:rPr sz="1600"/>
            </a:b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Cella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4/4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171" name="Picture 4" descr="format_cond"/>
          <p:cNvPicPr/>
          <p:nvPr/>
        </p:nvPicPr>
        <p:blipFill>
          <a:blip r:embed="rId1"/>
          <a:stretch/>
        </p:blipFill>
        <p:spPr>
          <a:xfrm>
            <a:off x="1928880" y="4429080"/>
            <a:ext cx="524808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72" name="Group 5"/>
          <p:cNvGrpSpPr/>
          <p:nvPr/>
        </p:nvGrpSpPr>
        <p:grpSpPr>
          <a:xfrm>
            <a:off x="6858000" y="235080"/>
            <a:ext cx="1676520" cy="1323000"/>
            <a:chOff x="6858000" y="235080"/>
            <a:chExt cx="1676520" cy="1323000"/>
          </a:xfrm>
        </p:grpSpPr>
        <p:pic>
          <p:nvPicPr>
            <p:cNvPr id="173" name="Picture 6" descr="lez"/>
            <p:cNvPicPr/>
            <p:nvPr/>
          </p:nvPicPr>
          <p:blipFill>
            <a:blip r:embed="rId2"/>
            <a:stretch/>
          </p:blipFill>
          <p:spPr>
            <a:xfrm>
              <a:off x="7050240" y="235080"/>
              <a:ext cx="1331640" cy="106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7"/>
            <p:cNvSpPr/>
            <p:nvPr/>
          </p:nvSpPr>
          <p:spPr>
            <a:xfrm>
              <a:off x="6858000" y="122076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 u="sng">
                  <a:solidFill>
                    <a:srgbClr val="cc0000"/>
                  </a:solidFill>
                  <a:uFillTx/>
                  <a:latin typeface="Tahoma"/>
                </a:rPr>
                <a:t>Esempio pratic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5" name="Segnaposto data 8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egnaposto piè di pagina 9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3E06-FD6F-4841-BB7E-FD858137149E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66280" y="155880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alvataggio dell’area di lavoro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emorizzare la disposizione desiderata delle finestre apert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400" spc="-1" strike="noStrike">
                <a:solidFill>
                  <a:srgbClr val="003399"/>
                </a:solidFill>
                <a:latin typeface="Arial"/>
              </a:rPr>
              <a:t>File/Salva area di lavoro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isposizione delle cartelle di lavor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400" spc="-1" strike="noStrike">
                <a:solidFill>
                  <a:srgbClr val="003399"/>
                </a:solidFill>
                <a:latin typeface="Arial"/>
              </a:rPr>
              <a:t>Finestra/Disponi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postamento e copia dei 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fogli di lavoro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400" spc="-1" strike="noStrike">
                <a:solidFill>
                  <a:srgbClr val="003399"/>
                </a:solidFill>
                <a:latin typeface="Arial"/>
              </a:rPr>
              <a:t>Modifica/Sposta  </a:t>
            </a: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o </a:t>
            </a:r>
            <a:r>
              <a:rPr b="0" i="1" lang="it-IT" sz="2400" spc="-1" strike="noStrike">
                <a:solidFill>
                  <a:srgbClr val="003399"/>
                </a:solidFill>
                <a:latin typeface="Arial"/>
              </a:rPr>
              <a:t>Modifica/Copia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Rapidi: 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postamento: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drag ‘n’ drop con il pulsante sinistro del mous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opia: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CTRL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+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drag ‘n’ drop con il pulsante sinistro del mous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attazione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 del </a:t>
            </a: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glio di lavoro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Gestione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1000" spc="-1" strike="noStrike">
                <a:solidFill>
                  <a:srgbClr val="cc0000"/>
                </a:solidFill>
                <a:latin typeface="Tahoma"/>
              </a:rPr>
              <a:t>dell’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area di lavoro</a:t>
            </a: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1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6927840" y="44280"/>
            <a:ext cx="1676520" cy="1323360"/>
            <a:chOff x="6927840" y="44280"/>
            <a:chExt cx="1676520" cy="1323360"/>
          </a:xfrm>
        </p:grpSpPr>
        <p:pic>
          <p:nvPicPr>
            <p:cNvPr id="181" name="Picture 6" descr="lez"/>
            <p:cNvPicPr/>
            <p:nvPr/>
          </p:nvPicPr>
          <p:blipFill>
            <a:blip r:embed="rId1"/>
            <a:stretch/>
          </p:blipFill>
          <p:spPr>
            <a:xfrm>
              <a:off x="7120080" y="44280"/>
              <a:ext cx="13316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7"/>
            <p:cNvSpPr/>
            <p:nvPr/>
          </p:nvSpPr>
          <p:spPr>
            <a:xfrm>
              <a:off x="6927840" y="103032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 u="sng">
                  <a:solidFill>
                    <a:srgbClr val="cc0000"/>
                  </a:solidFill>
                  <a:uFillTx/>
                  <a:latin typeface="Tahoma"/>
                </a:rPr>
                <a:t>Esempio pratic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" name="Segnaposto data 7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Segnaposto piè di pagina 8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F0DD-626C-4F68-9575-7BB039F4CC83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66280" y="1630080"/>
            <a:ext cx="8001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elezione e modifica su </a:t>
            </a:r>
            <a:r>
              <a:rPr b="0" lang="it-IT" sz="2400" spc="-1" strike="noStrike">
                <a:solidFill>
                  <a:srgbClr val="cc0000"/>
                </a:solidFill>
                <a:latin typeface="Lucida Sans"/>
              </a:rPr>
              <a:t>fogli multipl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nserire le stesse informazioni, applicare lo stesso format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prire una nuova cartella di lavoro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liccare sulla scheda del primo foglio da modificare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Tenere premuto </a:t>
            </a:r>
            <a:r>
              <a:rPr b="0" lang="it-IT" sz="2000" spc="-1" strike="noStrike">
                <a:solidFill>
                  <a:srgbClr val="003399"/>
                </a:solidFill>
                <a:latin typeface="Courier New"/>
              </a:rPr>
              <a:t>SHIFT 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e cliccare sulla scheda dell’ultimo foglio da modificare; per i fogli non adiacenti tenere premuto </a:t>
            </a:r>
            <a:r>
              <a:rPr b="0" lang="it-IT" sz="2000" spc="-1" strike="noStrike">
                <a:solidFill>
                  <a:srgbClr val="003399"/>
                </a:solidFill>
                <a:latin typeface="Courier New"/>
              </a:rPr>
              <a:t>CTRL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 anziché </a:t>
            </a:r>
            <a:r>
              <a:rPr b="0" lang="it-IT" sz="2000" spc="-1" strike="noStrike">
                <a:solidFill>
                  <a:srgbClr val="003399"/>
                </a:solidFill>
                <a:latin typeface="Courier New"/>
              </a:rPr>
              <a:t>SHIFT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ollegamenti ipertestual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400" spc="-1" strike="noStrike">
                <a:solidFill>
                  <a:srgbClr val="003399"/>
                </a:solidFill>
                <a:latin typeface="Arial"/>
              </a:rPr>
              <a:t>Inserisci/Collegamento ipertestuale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attazione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 del </a:t>
            </a: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glio di lavoro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Gestione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1000" spc="-1" strike="noStrike">
                <a:solidFill>
                  <a:srgbClr val="cc0000"/>
                </a:solidFill>
                <a:latin typeface="Tahoma"/>
              </a:rPr>
              <a:t>dell’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area di lavoro</a:t>
            </a: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2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7072200" y="115920"/>
            <a:ext cx="1676520" cy="1323000"/>
            <a:chOff x="7072200" y="115920"/>
            <a:chExt cx="1676520" cy="1323000"/>
          </a:xfrm>
        </p:grpSpPr>
        <p:pic>
          <p:nvPicPr>
            <p:cNvPr id="189" name="Picture 5" descr="lez"/>
            <p:cNvPicPr/>
            <p:nvPr/>
          </p:nvPicPr>
          <p:blipFill>
            <a:blip r:embed="rId1"/>
            <a:stretch/>
          </p:blipFill>
          <p:spPr>
            <a:xfrm>
              <a:off x="7264440" y="115920"/>
              <a:ext cx="1331640" cy="106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6"/>
            <p:cNvSpPr/>
            <p:nvPr/>
          </p:nvSpPr>
          <p:spPr>
            <a:xfrm>
              <a:off x="7072200" y="110160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 u="sng">
                  <a:solidFill>
                    <a:srgbClr val="cc0000"/>
                  </a:solidFill>
                  <a:uFillTx/>
                  <a:latin typeface="Tahoma"/>
                </a:rPr>
                <a:t>Esempio pratic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" name="Segnaposto data 7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Segnaposto piè di pagina 8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5859-C5AB-4F6F-B389-0FD968BEA193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66280" y="1703160"/>
            <a:ext cx="8001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Una formula/funzione si distingue da un dato costante iniziando con un segno di uguale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(=)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Visualizzare il testo delle formule/funzioni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(anziché il risultato)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000" spc="-1" strike="noStrike">
                <a:solidFill>
                  <a:srgbClr val="003399"/>
                </a:solidFill>
                <a:latin typeface="Arial"/>
              </a:rPr>
              <a:t>Strumenti/Opzioni/Visualizza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, casella di controllo </a:t>
            </a:r>
            <a:r>
              <a:rPr b="0" i="1" lang="it-IT" sz="2000" spc="-1" strike="noStrike">
                <a:solidFill>
                  <a:srgbClr val="003399"/>
                </a:solidFill>
                <a:latin typeface="Arial"/>
              </a:rPr>
              <a:t>Formule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; oppure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nteporre al testo un segno di apice (‘)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Ordine di priorità degli operatori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1800" spc="-1" strike="noStrike">
                <a:solidFill>
                  <a:srgbClr val="003399"/>
                </a:solidFill>
                <a:latin typeface="Lucida Sans"/>
              </a:rPr>
              <a:t>Elementi fra parentesi – Potenze – Moltiplicazioni – Divisioni – Somme –  Sottrazioni</a:t>
            </a:r>
            <a:endParaRPr b="0" lang="en-US" sz="18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ule e Funzioni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Creazione</a:t>
            </a:r>
            <a:r>
              <a:rPr b="0" lang="it-IT" sz="1000" spc="-1" strike="noStrike">
                <a:solidFill>
                  <a:srgbClr val="cc0000"/>
                </a:solidFill>
                <a:latin typeface="Tahoma"/>
              </a:rPr>
              <a:t> di 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formule</a:t>
            </a:r>
            <a:r>
              <a:rPr b="0" lang="it-IT" sz="1000" spc="-1" strike="noStrike">
                <a:solidFill>
                  <a:srgbClr val="cc0000"/>
                </a:solidFill>
                <a:latin typeface="Tahoma"/>
              </a:rPr>
              <a:t> e 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funzioni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196" name="Group 5"/>
          <p:cNvGrpSpPr/>
          <p:nvPr/>
        </p:nvGrpSpPr>
        <p:grpSpPr>
          <a:xfrm>
            <a:off x="6858000" y="44280"/>
            <a:ext cx="1676520" cy="1323360"/>
            <a:chOff x="6858000" y="44280"/>
            <a:chExt cx="1676520" cy="1323360"/>
          </a:xfrm>
        </p:grpSpPr>
        <p:pic>
          <p:nvPicPr>
            <p:cNvPr id="197" name="Picture 6" descr="lez"/>
            <p:cNvPicPr/>
            <p:nvPr/>
          </p:nvPicPr>
          <p:blipFill>
            <a:blip r:embed="rId1"/>
            <a:stretch/>
          </p:blipFill>
          <p:spPr>
            <a:xfrm>
              <a:off x="7050240" y="44280"/>
              <a:ext cx="13316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7"/>
            <p:cNvSpPr/>
            <p:nvPr/>
          </p:nvSpPr>
          <p:spPr>
            <a:xfrm>
              <a:off x="6858000" y="103032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 u="sng">
                  <a:solidFill>
                    <a:srgbClr val="cc0000"/>
                  </a:solidFill>
                  <a:uFillTx/>
                  <a:latin typeface="Tahoma"/>
                </a:rPr>
                <a:t>Esempio pratic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9" name="Segnaposto data 7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egnaposto piè di pagina 8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0885-02C2-4437-910B-8F340DE1476C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rrore #####: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si verifica quando la cella contiene un numero, una data o un'ora che non rientra nella cella oppure quando contiene una formula di data e/o di ora che genera un risultato negativo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Correzioni: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ngrandimento della larghezza della colonn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pplicare un formato numerico differen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ccertarsi che le formule di data e di ora siano corrett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ule e Funzioni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Errori legati alle formule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1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04" name="Segnaposto data 4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Segnaposto piè di pagina 5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DF38-1D6E-4438-A69B-56E7BC16C258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752480" y="2367000"/>
          <a:ext cx="6096240" cy="3429000"/>
        </p:xfrm>
        <a:graphic>
          <a:graphicData uri="http://schemas.openxmlformats.org/drawingml/2006/table">
            <a:tbl>
              <a:tblPr/>
              <a:tblGrid>
                <a:gridCol w="1600200"/>
                <a:gridCol w="44960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ssagg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DIV/0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a formula contiene una divisione per z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/D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Uno dei valori della formula non è disponib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OM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Nella formula è stato usato un nome di intervallo non riconosciu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LLO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a formula contiene un riferimento di cella non val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a formula contiene un numero non corr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RIF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a formula contiene un riferimento non valido ad una cella o interval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VALORE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La formula contiene un argomento o un operatore non vali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ule e Funzioni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Errori legati alle formule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2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09" name="Segnaposto data 32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Segnaposto piè di pagina 33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87EF-035B-4875-A8AF-D92FE6801504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Operatori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Due punti: identifica l’intervallo di cell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Es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1:A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Punto e virgola: identifica l’unione di celle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Es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1;A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Spazio: identifica l’intersezione di due intervalli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Es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1:A4 A1:C4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 riferimenti possono essere estesi anch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d altri fogli della stessa cartella di lavoro: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Es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=Foglio3!A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 fogli di altre cartelle di lavoro: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Es.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=‘C:\dirname\filename.xls’!A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ule e Funzioni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Riferimenti</a:t>
            </a:r>
            <a:r>
              <a:rPr b="0" lang="it-IT" sz="11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800" spc="-1" strike="noStrike">
                <a:solidFill>
                  <a:srgbClr val="cc0000"/>
                </a:solidFill>
                <a:latin typeface="Tahoma"/>
              </a:rPr>
              <a:t>di </a:t>
            </a:r>
            <a:r>
              <a:rPr b="0" lang="it-IT" sz="1100" spc="-1" strike="noStrike">
                <a:solidFill>
                  <a:srgbClr val="cc0000"/>
                </a:solidFill>
                <a:latin typeface="Tahoma"/>
              </a:rPr>
              <a:t>cella</a:t>
            </a:r>
            <a:r>
              <a:rPr b="0" lang="it-IT" sz="800" spc="-1" strike="noStrike">
                <a:solidFill>
                  <a:srgbClr val="cc0000"/>
                </a:solidFill>
                <a:latin typeface="Tahoma"/>
              </a:rPr>
              <a:t> e </a:t>
            </a:r>
            <a:r>
              <a:rPr b="0" lang="it-IT" sz="1100" spc="-1" strike="noStrike">
                <a:solidFill>
                  <a:srgbClr val="cc0000"/>
                </a:solidFill>
                <a:latin typeface="Tahoma"/>
              </a:rPr>
              <a:t>intervallo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1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6858000" y="44280"/>
            <a:ext cx="1676520" cy="1323360"/>
            <a:chOff x="6858000" y="44280"/>
            <a:chExt cx="1676520" cy="1323360"/>
          </a:xfrm>
        </p:grpSpPr>
        <p:pic>
          <p:nvPicPr>
            <p:cNvPr id="215" name="Picture 6" descr="lez"/>
            <p:cNvPicPr/>
            <p:nvPr/>
          </p:nvPicPr>
          <p:blipFill>
            <a:blip r:embed="rId1"/>
            <a:stretch/>
          </p:blipFill>
          <p:spPr>
            <a:xfrm>
              <a:off x="7050240" y="44280"/>
              <a:ext cx="13316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7"/>
            <p:cNvSpPr/>
            <p:nvPr/>
          </p:nvSpPr>
          <p:spPr>
            <a:xfrm>
              <a:off x="6858000" y="103032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 u="sng">
                  <a:solidFill>
                    <a:srgbClr val="cc0000"/>
                  </a:solidFill>
                  <a:uFillTx/>
                  <a:latin typeface="Tahoma"/>
                </a:rPr>
                <a:t>Esempio pratic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" name="Segnaposto data 7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Segnaposto piè di pagina 8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9821-1B4F-4B53-9EF4-EA32670CE5D3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66280" y="177480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tile A1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mpostazione predefinit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Riferimento ad una cella: 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lettera della colonna seguita dal numero di riga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Riferimento ad un intervallo: 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iferimento della cella nell’angolo superiore sinistro, seguito da :, seguito dal riferimento della cella nell’angolo inferiore destro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tile R1C1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a posizione di una cella è indicata da una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seguita da un numero di riga, e da una </a:t>
            </a:r>
            <a:r>
              <a:rPr b="0" i="1" lang="it-IT" sz="2000" spc="-1" strike="noStrike">
                <a:solidFill>
                  <a:srgbClr val="000000"/>
                </a:solidFill>
                <a:latin typeface="Lucida Sans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seguita da un numero di colonn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ule e Funzioni</a:t>
            </a:r>
            <a:br>
              <a:rPr sz="1600"/>
            </a:b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Riferimenti</a:t>
            </a:r>
            <a:r>
              <a:rPr b="0" lang="it-IT" sz="11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800" spc="-1" strike="noStrike">
                <a:solidFill>
                  <a:srgbClr val="cc0000"/>
                </a:solidFill>
                <a:latin typeface="Tahoma"/>
              </a:rPr>
              <a:t>di </a:t>
            </a:r>
            <a:r>
              <a:rPr b="0" lang="it-IT" sz="1100" spc="-1" strike="noStrike">
                <a:solidFill>
                  <a:srgbClr val="cc0000"/>
                </a:solidFill>
                <a:latin typeface="Tahoma"/>
              </a:rPr>
              <a:t>cella</a:t>
            </a:r>
            <a:r>
              <a:rPr b="0" lang="it-IT" sz="800" spc="-1" strike="noStrike">
                <a:solidFill>
                  <a:srgbClr val="cc0000"/>
                </a:solidFill>
                <a:latin typeface="Tahoma"/>
              </a:rPr>
              <a:t> e </a:t>
            </a:r>
            <a:r>
              <a:rPr b="0" lang="it-IT" sz="1100" spc="-1" strike="noStrike">
                <a:solidFill>
                  <a:srgbClr val="cc0000"/>
                </a:solidFill>
                <a:latin typeface="Tahoma"/>
              </a:rPr>
              <a:t>intervallo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2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6858000" y="189000"/>
            <a:ext cx="1676520" cy="1323000"/>
            <a:chOff x="6858000" y="189000"/>
            <a:chExt cx="1676520" cy="1323000"/>
          </a:xfrm>
        </p:grpSpPr>
        <p:pic>
          <p:nvPicPr>
            <p:cNvPr id="223" name="Picture 5" descr="lez"/>
            <p:cNvPicPr/>
            <p:nvPr/>
          </p:nvPicPr>
          <p:blipFill>
            <a:blip r:embed="rId1"/>
            <a:stretch/>
          </p:blipFill>
          <p:spPr>
            <a:xfrm>
              <a:off x="7050240" y="189000"/>
              <a:ext cx="1331640" cy="106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6"/>
            <p:cNvSpPr/>
            <p:nvPr/>
          </p:nvSpPr>
          <p:spPr>
            <a:xfrm>
              <a:off x="6858000" y="11746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 u="sng">
                  <a:solidFill>
                    <a:srgbClr val="cc0000"/>
                  </a:solidFill>
                  <a:uFillTx/>
                  <a:latin typeface="Tahoma"/>
                </a:rPr>
                <a:t>Esempio pratic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" name="Segnaposto data 7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Segnaposto piè di pagina 8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BCA1-D1DD-455E-A570-F51775E424AD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66280" y="1703160"/>
            <a:ext cx="8001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Relativo: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onserva la distanza e non la posizione fisica della cella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le copie sono aggiornate relativamente alla nuova posizione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Assoluto ($):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onserva la posizione fisica della cella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mantiene invariati i riferimenti di cella nelle formule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Passaggio da relativo ad assolut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Selezionare il riferimento da modificar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Premere F4 per passare ad un diverso tipo di riferimento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ule e Funzioni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Riferimenti</a:t>
            </a:r>
            <a:r>
              <a:rPr b="0" lang="it-IT" sz="13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1700" spc="-1" strike="noStrike">
                <a:solidFill>
                  <a:srgbClr val="cc0000"/>
                </a:solidFill>
                <a:latin typeface="Tahoma"/>
              </a:rPr>
              <a:t>relativi</a:t>
            </a:r>
            <a:r>
              <a:rPr b="0" lang="it-IT" sz="1100" spc="-1" strike="noStrike">
                <a:solidFill>
                  <a:srgbClr val="cc0000"/>
                </a:solidFill>
                <a:latin typeface="Tahoma"/>
              </a:rPr>
              <a:t> e </a:t>
            </a:r>
            <a:r>
              <a:rPr b="0" lang="it-IT" sz="1700" spc="-1" strike="noStrike">
                <a:solidFill>
                  <a:srgbClr val="cc0000"/>
                </a:solidFill>
                <a:latin typeface="Tahoma"/>
              </a:rPr>
              <a:t>assoluti</a:t>
            </a:r>
            <a:endParaRPr b="0" lang="en-US" sz="17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6858000" y="44280"/>
            <a:ext cx="1676520" cy="1323360"/>
            <a:chOff x="6858000" y="44280"/>
            <a:chExt cx="1676520" cy="1323360"/>
          </a:xfrm>
        </p:grpSpPr>
        <p:pic>
          <p:nvPicPr>
            <p:cNvPr id="231" name="Picture 5" descr="lez"/>
            <p:cNvPicPr/>
            <p:nvPr/>
          </p:nvPicPr>
          <p:blipFill>
            <a:blip r:embed="rId1"/>
            <a:stretch/>
          </p:blipFill>
          <p:spPr>
            <a:xfrm>
              <a:off x="7050240" y="44280"/>
              <a:ext cx="1331640" cy="10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6"/>
            <p:cNvSpPr/>
            <p:nvPr/>
          </p:nvSpPr>
          <p:spPr>
            <a:xfrm>
              <a:off x="6858000" y="103032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 u="sng">
                  <a:solidFill>
                    <a:srgbClr val="cc0000"/>
                  </a:solidFill>
                  <a:uFillTx/>
                  <a:latin typeface="Tahoma"/>
                </a:rPr>
                <a:t>Esempio pratic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3" name="Segnaposto data 7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Segnaposto piè di pagina 8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80B5-5728-4864-AD66-D81AC18F2A0B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Formule predefinite per il calcolo di espressioni matematiche comples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Sintassi:</a:t>
            </a:r>
            <a:r>
              <a:rPr b="0" lang="it-IT" sz="2800" spc="-1" strike="noStrike">
                <a:solidFill>
                  <a:srgbClr val="003399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=Funzione(arg</a:t>
            </a:r>
            <a:r>
              <a:rPr b="0" i="1" lang="it-IT" sz="20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;arg</a:t>
            </a:r>
            <a:r>
              <a:rPr b="0" i="1" lang="it-IT" sz="20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;…;arg</a:t>
            </a:r>
            <a:r>
              <a:rPr b="0" i="1" lang="it-IT" sz="20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it-IT" sz="20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ategori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Lucida Sans"/>
              </a:rPr>
              <a:t>Finanziarie</a:t>
            </a:r>
            <a:endParaRPr b="0" lang="en-US" sz="18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Lucida Sans"/>
              </a:rPr>
              <a:t>Data e ora</a:t>
            </a:r>
            <a:endParaRPr b="0" lang="en-US" sz="18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Lucida Sans"/>
              </a:rPr>
              <a:t>Matematiche</a:t>
            </a:r>
            <a:r>
              <a:rPr b="0" lang="it-IT" sz="1200" spc="-1" strike="noStrike">
                <a:solidFill>
                  <a:srgbClr val="003399"/>
                </a:solidFill>
                <a:latin typeface="Lucida Sans"/>
              </a:rPr>
              <a:t> e </a:t>
            </a:r>
            <a:r>
              <a:rPr b="0" lang="it-IT" sz="1600" spc="-1" strike="noStrike">
                <a:solidFill>
                  <a:srgbClr val="003399"/>
                </a:solidFill>
                <a:latin typeface="Lucida Sans"/>
              </a:rPr>
              <a:t>trigonometriche</a:t>
            </a:r>
            <a:endParaRPr b="0" lang="en-US" sz="16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Lucida Sans"/>
              </a:rPr>
              <a:t>Statistiche</a:t>
            </a:r>
            <a:endParaRPr b="0" lang="en-US" sz="18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Lucida Sans"/>
              </a:rPr>
              <a:t>Ricerca e riferimento</a:t>
            </a:r>
            <a:endParaRPr b="0" lang="en-US" sz="18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Lucida Sans"/>
              </a:rPr>
              <a:t>Database</a:t>
            </a:r>
            <a:endParaRPr b="0" lang="en-US" sz="18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Lucida Sans"/>
              </a:rPr>
              <a:t>Testo</a:t>
            </a:r>
            <a:endParaRPr b="0" lang="en-US" sz="18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Lucida Sans"/>
              </a:rPr>
              <a:t>Logiche</a:t>
            </a:r>
            <a:endParaRPr b="0" lang="en-US" sz="18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Lucida Sans"/>
              </a:rPr>
              <a:t>Informative</a:t>
            </a:r>
            <a:endParaRPr b="0" lang="en-US" sz="18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Lucida Sans"/>
              </a:rPr>
              <a:t>Definite dall’utente</a:t>
            </a:r>
            <a:endParaRPr b="0" lang="en-US" sz="18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ule e Funzioni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Funzioni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238" name="Picture 4" descr="funzioni_excel"/>
          <p:cNvPicPr/>
          <p:nvPr/>
        </p:nvPicPr>
        <p:blipFill>
          <a:blip r:embed="rId1"/>
          <a:stretch/>
        </p:blipFill>
        <p:spPr>
          <a:xfrm>
            <a:off x="4570560" y="3141720"/>
            <a:ext cx="4105080" cy="2800440"/>
          </a:xfrm>
          <a:prstGeom prst="rect">
            <a:avLst/>
          </a:prstGeom>
          <a:ln w="0">
            <a:noFill/>
          </a:ln>
        </p:spPr>
      </p:pic>
      <p:sp>
        <p:nvSpPr>
          <p:cNvPr id="239" name="Segnaposto data 5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Segnaposto piè di pagina 6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8F69-69B5-4020-A9F1-F098FD841641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Excel è uno spreadsheet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Consente di effettuare calcoli e analisi sui dati, e rappresentare graficamente le informazioni in vari tipi di diagrammi.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Supporta l’utente nelle operazioni di: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odellazione di formule comples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Rappresentazione grafica avanzata e creazione di carte geografich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rdinare e filtrare elenchi di informazion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mportazione/esportazione per lo scambio di dati con databa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Introduzione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Cos’è Excel?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Segnaposto data 4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Segnaposto piè di pagina 5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677A-A4BE-441F-9836-0CFE5C186C12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66280" y="1703160"/>
            <a:ext cx="8001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 nomi consentono di identificare istantaneamente le celle a cui si riferiscono, a differenza dei riferimenti (impersonali e generici)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efinizion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Selezionare la cella o l’intervallo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400" spc="-1" strike="noStrike">
                <a:solidFill>
                  <a:srgbClr val="003399"/>
                </a:solidFill>
                <a:latin typeface="Arial"/>
              </a:rPr>
              <a:t>Inserisci/Nome/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it-IT" sz="2400" spc="-1" strike="noStrike">
                <a:solidFill>
                  <a:srgbClr val="003399"/>
                </a:solidFill>
                <a:latin typeface="Arial"/>
              </a:rPr>
              <a:t>Definisci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ule e Funzioni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Nomi</a:t>
            </a: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 di </a:t>
            </a: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cella</a:t>
            </a: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 o </a:t>
            </a: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intervallo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244" name="Picture 5" descr="definisci_nome"/>
          <p:cNvPicPr/>
          <p:nvPr/>
        </p:nvPicPr>
        <p:blipFill>
          <a:blip r:embed="rId1"/>
          <a:stretch/>
        </p:blipFill>
        <p:spPr>
          <a:xfrm>
            <a:off x="4843440" y="4005360"/>
            <a:ext cx="3905280" cy="238104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6"/>
          <p:cNvGrpSpPr/>
          <p:nvPr/>
        </p:nvGrpSpPr>
        <p:grpSpPr>
          <a:xfrm>
            <a:off x="6858000" y="189000"/>
            <a:ext cx="1676520" cy="1323000"/>
            <a:chOff x="6858000" y="189000"/>
            <a:chExt cx="1676520" cy="1323000"/>
          </a:xfrm>
        </p:grpSpPr>
        <p:pic>
          <p:nvPicPr>
            <p:cNvPr id="246" name="Picture 7" descr="lez"/>
            <p:cNvPicPr/>
            <p:nvPr/>
          </p:nvPicPr>
          <p:blipFill>
            <a:blip r:embed="rId2"/>
            <a:stretch/>
          </p:blipFill>
          <p:spPr>
            <a:xfrm>
              <a:off x="7050240" y="189000"/>
              <a:ext cx="1331640" cy="106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8"/>
            <p:cNvSpPr/>
            <p:nvPr/>
          </p:nvSpPr>
          <p:spPr>
            <a:xfrm>
              <a:off x="6858000" y="11746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 u="sng">
                  <a:solidFill>
                    <a:srgbClr val="cc0000"/>
                  </a:solidFill>
                  <a:uFillTx/>
                  <a:latin typeface="Tahoma"/>
                </a:rPr>
                <a:t>Esempio pratic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8" name="Segnaposto data 8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Segnaposto piè di pagina 9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68D6-4644-4330-9411-D4B27DB6BA12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Raccolte di informazioni organizzate per righe (</a:t>
            </a:r>
            <a:r>
              <a:rPr b="0" i="1" lang="it-IT" sz="2200" spc="-1" strike="noStrike">
                <a:solidFill>
                  <a:srgbClr val="000000"/>
                </a:solidFill>
                <a:latin typeface="Lucida Sans"/>
              </a:rPr>
              <a:t>Record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) e colonne (</a:t>
            </a:r>
            <a:r>
              <a:rPr b="0" i="1" lang="it-IT" sz="2200" spc="-1" strike="noStrike">
                <a:solidFill>
                  <a:srgbClr val="000000"/>
                </a:solidFill>
                <a:latin typeface="Lucida Sans"/>
              </a:rPr>
              <a:t>Campi</a:t>
            </a: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55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Lucida Sans"/>
              </a:rPr>
              <a:t>Per creare un elenco trattabile con Excel occorre rispettare alcune semplici regole:</a:t>
            </a:r>
            <a:endParaRPr b="0" lang="en-US" sz="22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Lucida Sans"/>
              </a:rPr>
              <a:t>un solo elenco per foglio di lavoro</a:t>
            </a:r>
            <a:endParaRPr b="0" lang="en-US" sz="22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Lucida Sans"/>
              </a:rPr>
              <a:t>inserire le etichette dei campi nella prima riga dell’elenco</a:t>
            </a:r>
            <a:endParaRPr b="0" lang="en-US" sz="22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Lucida Sans"/>
              </a:rPr>
              <a:t>non inserire righe vuote sotto la prima</a:t>
            </a:r>
            <a:endParaRPr b="0" lang="en-US" sz="22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Lucida Sans"/>
              </a:rPr>
              <a:t>inserire dati omogenei</a:t>
            </a:r>
            <a:endParaRPr b="0" lang="en-US" sz="22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Lucida Sans"/>
              </a:rPr>
              <a:t>usare lo stesso formato per tutti i dati di una stessa colonna</a:t>
            </a:r>
            <a:endParaRPr b="0" lang="en-US" sz="22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Lucida Sans"/>
              </a:rPr>
              <a:t>non inserire spazi davanti ai dati nelle celle</a:t>
            </a:r>
            <a:endParaRPr b="0" lang="en-US" sz="22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Manipolazione dei dati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Elenchi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1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53" name="Segnaposto data 4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Segnaposto piè di pagina 5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94CE-4949-411E-9DC0-BF86240D3750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Creazione di un modulo per l’inserimento dei record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Definire la riga d’intestazione dell’elenco, con le etichette dei campi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400" spc="-1" strike="noStrike">
                <a:solidFill>
                  <a:srgbClr val="003399"/>
                </a:solidFill>
                <a:latin typeface="Arial"/>
              </a:rPr>
              <a:t>Dati/Modulo</a:t>
            </a: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, inserire i record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Ricerca dei record con l’uso dei 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criteri: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ulsant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riter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pecificare i criteri e avviare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a ricer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Manipolazione dei dati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Elenchi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2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258" name="Picture 4" descr="modulo_elenco"/>
          <p:cNvPicPr/>
          <p:nvPr/>
        </p:nvPicPr>
        <p:blipFill>
          <a:blip r:embed="rId1"/>
          <a:stretch/>
        </p:blipFill>
        <p:spPr>
          <a:xfrm>
            <a:off x="6095880" y="3562200"/>
            <a:ext cx="2448000" cy="2962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modulo_elenco_"/>
          <p:cNvPicPr/>
          <p:nvPr/>
        </p:nvPicPr>
        <p:blipFill>
          <a:blip r:embed="rId2"/>
          <a:stretch/>
        </p:blipFill>
        <p:spPr>
          <a:xfrm>
            <a:off x="3276720" y="5651640"/>
            <a:ext cx="2619360" cy="514080"/>
          </a:xfrm>
          <a:prstGeom prst="rect">
            <a:avLst/>
          </a:prstGeom>
          <a:ln w="0">
            <a:noFill/>
          </a:ln>
        </p:spPr>
      </p:pic>
      <p:sp>
        <p:nvSpPr>
          <p:cNvPr id="260" name="Segnaposto data 6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Segnaposto piè di pagina 7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E440-FD83-4A5C-925E-0555396221DB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Ordinare un elenco sulla base di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Lucida Sans"/>
              </a:rPr>
              <a:t>un campo (pulsanti        )</a:t>
            </a:r>
            <a:endParaRPr b="0" lang="en-US" sz="28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Lucida Sans"/>
              </a:rPr>
              <a:t>chiavi di ordinamento multiple:</a:t>
            </a:r>
            <a:endParaRPr b="0" lang="en-US" sz="28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Menu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ati/Ordina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Lucida Sans"/>
              </a:rPr>
              <a:t>convenzioni non alfabetiche </a:t>
            </a:r>
            <a:r>
              <a:rPr b="0" lang="it-IT" sz="2400" spc="-1" strike="noStrike">
                <a:solidFill>
                  <a:srgbClr val="003399"/>
                </a:solidFill>
                <a:latin typeface="Lucida Sans"/>
              </a:rPr>
              <a:t>(es., per i nomi dei mesi)</a:t>
            </a:r>
            <a:endParaRPr b="0" lang="en-US" sz="24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Menu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trumenti/Opzioni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, sched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Elenchi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nserire l’elenco delle nuove voci nell’area di testo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Voci di elenc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Manipolazione dei dati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Ordinamento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265" name="Picture 4" descr="tasti_ordinamento"/>
          <p:cNvPicPr/>
          <p:nvPr/>
        </p:nvPicPr>
        <p:blipFill>
          <a:blip r:embed="rId1"/>
          <a:stretch/>
        </p:blipFill>
        <p:spPr>
          <a:xfrm>
            <a:off x="4673520" y="2924280"/>
            <a:ext cx="690480" cy="323640"/>
          </a:xfrm>
          <a:prstGeom prst="rect">
            <a:avLst/>
          </a:prstGeom>
          <a:ln w="0">
            <a:noFill/>
          </a:ln>
        </p:spPr>
      </p:pic>
      <p:grpSp>
        <p:nvGrpSpPr>
          <p:cNvPr id="266" name="Group 5"/>
          <p:cNvGrpSpPr/>
          <p:nvPr/>
        </p:nvGrpSpPr>
        <p:grpSpPr>
          <a:xfrm>
            <a:off x="6858000" y="162000"/>
            <a:ext cx="1676520" cy="1323000"/>
            <a:chOff x="6858000" y="162000"/>
            <a:chExt cx="1676520" cy="1323000"/>
          </a:xfrm>
        </p:grpSpPr>
        <p:pic>
          <p:nvPicPr>
            <p:cNvPr id="267" name="Picture 6" descr="lez"/>
            <p:cNvPicPr/>
            <p:nvPr/>
          </p:nvPicPr>
          <p:blipFill>
            <a:blip r:embed="rId2"/>
            <a:stretch/>
          </p:blipFill>
          <p:spPr>
            <a:xfrm>
              <a:off x="7050240" y="162000"/>
              <a:ext cx="1331640" cy="106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7"/>
            <p:cNvSpPr/>
            <p:nvPr/>
          </p:nvSpPr>
          <p:spPr>
            <a:xfrm>
              <a:off x="6858000" y="11476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 u="sng">
                  <a:solidFill>
                    <a:srgbClr val="cc0000"/>
                  </a:solidFill>
                  <a:uFillTx/>
                  <a:latin typeface="Tahoma"/>
                </a:rPr>
                <a:t>Esempio pratic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Segnaposto data 8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Segnaposto piè di pagina 9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Panoramica sulle funzioni e funzioni principali</a:t>
            </a:r>
            <a:br>
              <a:rPr sz="1200"/>
            </a:br>
            <a:r>
              <a:rPr b="1" lang="it-IT" sz="1800" spc="-1" strike="noStrike">
                <a:solidFill>
                  <a:srgbClr val="cc0000"/>
                </a:solidFill>
                <a:latin typeface="Tahoma"/>
              </a:rPr>
              <a:t>Descrizione delle funzioni principali</a:t>
            </a:r>
            <a:endParaRPr b="0" lang="en-US" sz="1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272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SE(test;se_vero;se_falso)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restituisce un valore se la condizione specificata ha valore VERO e un altro valore se essa ha valore FALS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CONTA.SE(intervallo;criteri)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onta il numero di celle in un intervallo che corrispondono al criterio dat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Lucida Sans"/>
              </a:rPr>
              <a:t>SOMMA.SE(intervallo;criteri;int_somma): 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omma le celle specificate secondo un criterio assegnat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Panoramica sulle funzioni e funzioni principali</a:t>
            </a:r>
            <a:br>
              <a:rPr sz="1200"/>
            </a:br>
            <a:r>
              <a:rPr b="1" lang="it-IT" sz="1600" spc="-1" strike="noStrike">
                <a:solidFill>
                  <a:srgbClr val="cc0000"/>
                </a:solidFill>
                <a:latin typeface="Tahoma"/>
              </a:rPr>
              <a:t>Esempi di uso delle funzioni principali</a:t>
            </a:r>
            <a:endParaRPr b="0" lang="en-US" sz="1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43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=ARROTONDA(1,23;1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isultato: 1,2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=ARROTONDA(A12;2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isultato: il contenuto della cella A12 arrotondato a due cifre decimali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SOMMA(A1:A24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isultato: la somma delle celle della colonna A a partire dalla riga 1 alla riga 24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=</a:t>
            </a: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MEDIA(B2:B10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isultato: la media aritmetica delle celle della colonna B a partire dalla riga 2 alla riga 10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=MAX(C1:C10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isultato: il massimo valore contenuto nelle celle della colonna C a partire dalla riga 2 alla riga 10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Panoramica sulle funzioni e funzioni principali</a:t>
            </a:r>
            <a:br>
              <a:rPr sz="1200"/>
            </a:br>
            <a:r>
              <a:rPr b="1" lang="it-IT" sz="1600" spc="-1" strike="noStrike">
                <a:solidFill>
                  <a:srgbClr val="cc0000"/>
                </a:solidFill>
                <a:latin typeface="Tahoma"/>
              </a:rPr>
              <a:t>Esempi di uso delle funzioni principali:</a:t>
            </a:r>
            <a:br>
              <a:rPr sz="1600"/>
            </a:br>
            <a:r>
              <a:rPr b="1" lang="it-IT" sz="1600" spc="-1" strike="noStrike">
                <a:solidFill>
                  <a:srgbClr val="cc0000"/>
                </a:solidFill>
                <a:latin typeface="Tahoma"/>
              </a:rPr>
              <a:t>FUNZIONE SE(test;se_vero;se_falso) (1/2)</a:t>
            </a:r>
            <a:endParaRPr b="0" lang="en-US" sz="1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43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SE(test;se_vero;se_falso)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est   è un valore o un'espressione qualsiasi che può dare come risultato VERO o FALSO. Ad esempio, A10=100 è un'espressione logica; se il valore contenuto nella cella A10 è uguale a 100, l'espressione darà come risultato VERO. In caso contrario, l'espressione darà come risultato FALSO. Questo argomento può utilizzare qualsiasi operatore di calcolo di confronto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Lucida Sans"/>
              </a:rPr>
              <a:t>Se_vero 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  è il valore che viene restituito se test è VERO. Ad esempio, se questo argomento è la stringa di testo </a:t>
            </a:r>
            <a:r>
              <a:rPr b="0" i="1" lang="it-IT" sz="2000" spc="-1" strike="noStrike">
                <a:solidFill>
                  <a:srgbClr val="003399"/>
                </a:solidFill>
                <a:latin typeface="Lucida Sans"/>
              </a:rPr>
              <a:t>“Nel budget”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 e l'argomento test dà come risultato VERO, allora la funzione SE visualizzerà il testo </a:t>
            </a:r>
            <a:r>
              <a:rPr b="0" i="1" lang="it-IT" sz="2000" spc="-1" strike="noStrike">
                <a:solidFill>
                  <a:srgbClr val="003399"/>
                </a:solidFill>
                <a:latin typeface="Lucida Sans"/>
              </a:rPr>
              <a:t>“Nel budget”.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 Se_vero può anche essere un'altra formula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Lucida Sans"/>
              </a:rPr>
              <a:t>Se_falso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   è il valore che viene restituito se test è FALSO. Ad esempio, se questo argomento è la stringa di testo Fuori budget e l'argomento test dà come risultato FALSO, allora la funzione SE visualizzerà il testo </a:t>
            </a:r>
            <a:r>
              <a:rPr b="0" i="1" lang="it-IT" sz="2000" spc="-1" strike="noStrike">
                <a:solidFill>
                  <a:srgbClr val="003399"/>
                </a:solidFill>
                <a:latin typeface="Lucida Sans"/>
              </a:rPr>
              <a:t>“Fuori budget”.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 Se_falso può anche essere un'altra formula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Panoramica sulle funzioni e funzioni principali</a:t>
            </a:r>
            <a:br>
              <a:rPr sz="1200"/>
            </a:br>
            <a:r>
              <a:rPr b="1" lang="it-IT" sz="1600" spc="-1" strike="noStrike">
                <a:solidFill>
                  <a:srgbClr val="cc0000"/>
                </a:solidFill>
                <a:latin typeface="Tahoma"/>
              </a:rPr>
              <a:t>Esempi di uso delle funzioni principali:</a:t>
            </a:r>
            <a:br>
              <a:rPr sz="1600"/>
            </a:br>
            <a:r>
              <a:rPr b="1" lang="it-IT" sz="1600" spc="-1" strike="noStrike">
                <a:solidFill>
                  <a:srgbClr val="cc0000"/>
                </a:solidFill>
                <a:latin typeface="Tahoma"/>
              </a:rPr>
              <a:t>FUNZIONE SE(test,se_vero,se_falso) (2/2)</a:t>
            </a:r>
            <a:endParaRPr b="0" lang="en-US" sz="16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39640" y="1268280"/>
          <a:ext cx="8200800" cy="5219640"/>
        </p:xfrm>
        <a:graphic>
          <a:graphicData uri="http://schemas.openxmlformats.org/drawingml/2006/table">
            <a:tbl>
              <a:tblPr/>
              <a:tblGrid>
                <a:gridCol w="4889520"/>
                <a:gridCol w="3311280"/>
              </a:tblGrid>
              <a:tr h="106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scrizione (risultat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=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E(A2&lt;=100;"Nel budget";"Fuori budget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e il numero è inferiore o uguale a 100, la formula visualizza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Nel budge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. In caso contrario, verrà visualizzato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uori budge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 (Nel budg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=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E(A2&gt;100;SOMMA(B5:B15);"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e il numero è maggiore di 100, verrà calcolato l'intervallo B5:B15. In caso contrario, verrà restituita una stringa di testo vuota ("") 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Panoramica sulle funzioni e funzioni principali</a:t>
            </a:r>
            <a:br>
              <a:rPr sz="1200"/>
            </a:br>
            <a:r>
              <a:rPr b="1" lang="it-IT" sz="1500" spc="-1" strike="noStrike">
                <a:solidFill>
                  <a:srgbClr val="cc0000"/>
                </a:solidFill>
                <a:latin typeface="Tahoma"/>
              </a:rPr>
              <a:t>Esempi di uso delle funzioni principali:</a:t>
            </a:r>
            <a:br>
              <a:rPr sz="1500"/>
            </a:br>
            <a:r>
              <a:rPr b="1" lang="it-IT" sz="1500" spc="-1" strike="noStrike">
                <a:solidFill>
                  <a:srgbClr val="cc0000"/>
                </a:solidFill>
                <a:latin typeface="Tahoma"/>
              </a:rPr>
              <a:t>FUNZIONE CONTA.SE(intervallo;criteri) (1/2)</a:t>
            </a:r>
            <a:endParaRPr b="0" lang="en-US" sz="1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72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CONTA.SE(intervallo;criteri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Intervallo   è l'intervallo di celle a partire dal quale si desidera contare le cell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riteri   sono i criteri in forma di numeri, espressioni o testo che determinano quali celle verranno contate. Ad esempio, criteri può essere espresso come 32, "32", "&gt;32", "mele"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Panoramica sulle funzioni e funzioni principali</a:t>
            </a:r>
            <a:br>
              <a:rPr sz="1200"/>
            </a:br>
            <a:r>
              <a:rPr b="1" lang="it-IT" sz="1500" spc="-1" strike="noStrike">
                <a:solidFill>
                  <a:srgbClr val="cc0000"/>
                </a:solidFill>
                <a:latin typeface="Tahoma"/>
              </a:rPr>
              <a:t>Esempi di uso delle funzioni principali:</a:t>
            </a:r>
            <a:br>
              <a:rPr sz="1500"/>
            </a:br>
            <a:r>
              <a:rPr b="1" lang="it-IT" sz="1500" spc="-1" strike="noStrike">
                <a:solidFill>
                  <a:srgbClr val="cc0000"/>
                </a:solidFill>
                <a:latin typeface="Tahoma"/>
              </a:rPr>
              <a:t>FUNZIONE CONTA.SE(intervallo;criteri) (2/2)</a:t>
            </a:r>
            <a:endParaRPr b="0" lang="en-US" sz="15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411280" y="1371600"/>
          <a:ext cx="6481800" cy="4936680"/>
        </p:xfrm>
        <a:graphic>
          <a:graphicData uri="http://schemas.openxmlformats.org/drawingml/2006/table">
            <a:tbl>
              <a:tblPr/>
              <a:tblGrid>
                <a:gridCol w="216000"/>
                <a:gridCol w="6265800"/>
              </a:tblGrid>
              <a:tr h="49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566640" y="1341360"/>
          <a:ext cx="8001000" cy="4496040"/>
        </p:xfrm>
        <a:graphic>
          <a:graphicData uri="http://schemas.openxmlformats.org/drawingml/2006/table">
            <a:tbl>
              <a:tblPr/>
              <a:tblGrid>
                <a:gridCol w="3746520"/>
                <a:gridCol w="4254480"/>
              </a:tblGrid>
              <a:tr h="1498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scrizione (risultat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=CONTA.SE(A2:A5;"mele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Numero di celle contenente mele nella prima colonna (righe da 2 a 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=CONTA.SE(B2:B5;"&gt;55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Numero di celle con un valore maggiore di 55 nella seconda colonna (righe da 2 a 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egnaposto numero diapositiva 4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045F-964F-450F-B789-C5F8CE5CDB60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Introduzione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Interfaccia di Excel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105" name="Picture 7" descr="gui"/>
          <p:cNvPicPr/>
          <p:nvPr/>
        </p:nvPicPr>
        <p:blipFill>
          <a:blip r:embed="rId1"/>
          <a:stretch/>
        </p:blipFill>
        <p:spPr>
          <a:xfrm>
            <a:off x="1332000" y="1773360"/>
            <a:ext cx="6054480" cy="44431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7650360" y="58737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arra di sta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7194600" y="6172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4971240" y="1216080"/>
            <a:ext cx="23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arra degli strumen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5823000" y="157320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542600" y="6345360"/>
            <a:ext cx="23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tri fogli disponibi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13"/>
          <p:cNvSpPr/>
          <p:nvPr/>
        </p:nvSpPr>
        <p:spPr>
          <a:xfrm flipV="1">
            <a:off x="2484360" y="6058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14"/>
          <p:cNvSpPr/>
          <p:nvPr/>
        </p:nvSpPr>
        <p:spPr>
          <a:xfrm flipV="1">
            <a:off x="2179800" y="60580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179280" y="134136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arra del titolo (cartella di lavor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2394000" y="162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3057120" y="105264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arra dei me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3851280" y="13557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1427400" y="2449440"/>
            <a:ext cx="13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ella attiv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900000" y="26780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7542000" y="366408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oglio at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Line 22"/>
          <p:cNvSpPr/>
          <p:nvPr/>
        </p:nvSpPr>
        <p:spPr>
          <a:xfrm flipH="1">
            <a:off x="6172200" y="3886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900000" y="2421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ine 24"/>
          <p:cNvSpPr/>
          <p:nvPr/>
        </p:nvSpPr>
        <p:spPr>
          <a:xfrm>
            <a:off x="900000" y="2421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Segnaposto data 21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Segnaposto piè di pagina 22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Panoramica sulle funzioni e funzioni principali</a:t>
            </a:r>
            <a:br>
              <a:rPr sz="1200"/>
            </a:br>
            <a:r>
              <a:rPr b="1" lang="it-IT" sz="1500" spc="-1" strike="noStrike">
                <a:solidFill>
                  <a:srgbClr val="cc0000"/>
                </a:solidFill>
                <a:latin typeface="Tahoma"/>
              </a:rPr>
              <a:t>Esempi di uso delle funzioni principali:</a:t>
            </a:r>
            <a:br>
              <a:rPr sz="1500"/>
            </a:br>
            <a:r>
              <a:rPr b="1" lang="it-IT" sz="1500" spc="-1" strike="noStrike">
                <a:solidFill>
                  <a:srgbClr val="cc0000"/>
                </a:solidFill>
                <a:latin typeface="Tahoma"/>
              </a:rPr>
              <a:t>FUNZIONE SOMMA.SE(intervallo;criteri;int_somma) (1/2)</a:t>
            </a:r>
            <a:endParaRPr b="0" lang="en-US" sz="15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72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SOMMA.SE(intervallo;criteri;int_somma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Intervallo   è l'intervallo di celle che si desidera calcolare e sul quale verificare i criter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riteri   sono i criteri in forma di numeri, espressioni o testo che determinano le celle che verranno sommate. Ad esempio, criteri può essere espresso come 32, "32", "&gt;32", "mele"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Int_somma   sono le celle da sommare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3860640"/>
            <a:ext cx="64008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Lucida Sans"/>
              </a:rPr>
              <a:t>Osservazio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Le celle in int_somma vengono sommate solo se le celle corrispondenti in intervallo soddisfano i criteri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Se Int_somma è omesso, verranno sommate le celle in intervallo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Panoramica sulle funzioni e funzioni principali</a:t>
            </a:r>
            <a:br>
              <a:rPr sz="1200"/>
            </a:br>
            <a:r>
              <a:rPr b="1" lang="it-IT" sz="1500" spc="-1" strike="noStrike">
                <a:solidFill>
                  <a:srgbClr val="cc0000"/>
                </a:solidFill>
                <a:latin typeface="Tahoma"/>
              </a:rPr>
              <a:t>Esempi di uso delle funzioni principali:</a:t>
            </a:r>
            <a:br>
              <a:rPr sz="1500"/>
            </a:br>
            <a:r>
              <a:rPr b="1" lang="it-IT" sz="1500" spc="-1" strike="noStrike">
                <a:solidFill>
                  <a:srgbClr val="cc0000"/>
                </a:solidFill>
                <a:latin typeface="Tahoma"/>
              </a:rPr>
              <a:t>FUNZIONE SOMMA.SE(intervallo;criteri;int_somma) (2/2)</a:t>
            </a:r>
            <a:endParaRPr b="0" lang="en-US" sz="15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11280" y="1125360"/>
          <a:ext cx="8200800" cy="5091120"/>
        </p:xfrm>
        <a:graphic>
          <a:graphicData uri="http://schemas.openxmlformats.org/drawingml/2006/table">
            <a:tbl>
              <a:tblPr/>
              <a:tblGrid>
                <a:gridCol w="4856040"/>
                <a:gridCol w="3344760"/>
              </a:tblGrid>
              <a:tr h="939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Form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escrizione (risultat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=SOMMA.SE(A2:A5;"&gt;160000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omma del contenuto delle celle della selezione A2:A5 dove il contenuto della cella è maggiore di 16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=SOMMA.SE(A2:A5;"&gt;160000";B2:B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omma del contenuto delle celle della selezione B2:B5 dove il contenuto della cella corrispondente in A2:A5 è maggiore di 16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Rappresentare graficamente le informazioni per renderle interessanti e facilmente comprensibili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nserimento di un grafico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Selezionare l’intervallo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ontenente i dati da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appresentare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000" spc="-1" strike="noStrike">
                <a:solidFill>
                  <a:srgbClr val="003399"/>
                </a:solidFill>
                <a:latin typeface="Lucida Sans"/>
              </a:rPr>
              <a:t>Inserisci/Grafico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Seguire la procedura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reare il grafico sul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foglio attivo o in uno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nuovo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1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800600" y="3271680"/>
            <a:ext cx="371952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d aree: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appresentano il contributo che ogni serie di dati fornisce al totale, nel tempo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Più piccola è l’area di una serie, più lieve è il contributo apportato al total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datti alla rappresentazione di: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pes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Vendit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Costi di produzion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2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067280" y="3645000"/>
            <a:ext cx="46926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 barre: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appresentano elementi diversi da confrontare, o valori diversi assunti dallo stesso elemento in tempi divers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Le categorie sono organizzate verticalmente e i valori orizzontalmente per evidenziare il confronto dei valori anziché la variazione nel tempo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I grafici a barre in pila mostrano le relazioni dei singoli elementi rispetto al total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datti alla rappresentazione di: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Risultati di attività competitive in gener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3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332000" y="4941720"/>
            <a:ext cx="2547720" cy="142740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716360" y="5013360"/>
            <a:ext cx="324648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stogrammi: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Simili ai grafici a barre, in quanto confrontano valori divers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Tuttavia, l’asse dei valori è verticale, mentre l’asse delle categorie è orizzontal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Utile mantenere al minimo il numero di serie, per evitare che le colonne siano eccessivamente strette e difficili da analizzar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Gli istogrammi in pila mostrano le relazioni dei singoli elementi rispetto al totale.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La prospettiva 3D mette a confronto i dati su due ass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datti alla rappresentazione di: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Valori da confrontare nel temp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4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5580000" y="4724280"/>
            <a:ext cx="32068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 torta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appresentano il rapporto delle parti fra loro e il relativo contributo al total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onsente di rappresentare una sola serie di valor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Per facilitare la visualizzazione delle sezioni più piccole, è possibile raggrupparle in un unico elemento del grafico a torta per poi dividerle in un grafico più piccolo, a torta o a barr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698400" indent="-26856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datti alla rappresentazione di: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074240" indent="-21456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Contributo di più prodotti al totale dell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074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vendit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074240" indent="-21456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Informazioni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074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ulla popolazion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5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780000" y="4797360"/>
            <a:ext cx="2732040" cy="16462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22557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 linee: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appresentano le variazioni dei valori nel tempo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datti alla rilevazione di tendenze, piuttosto che alla rappresentazione di valori static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d anello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Simili ai grafici a torta, mostrano il contributo delle varie parti al totale, ma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onsentono di rappresentare più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serie di dati, disponendole su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diversi anelli concentric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6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219640" y="2205000"/>
            <a:ext cx="3238560" cy="1471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35640" y="4508640"/>
            <a:ext cx="2936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 radar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onfrontano le serie di dati rispetto ad un punto central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Strutturati come uno schermo radar: l’osservatore si trova al centro, da cui vengono emessi i segnali radar (asse dei valori) in tutte le direzion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I punti adiacenti sono congiunti con una linea, creando poligoni per facilitare la localizzazione dei gruppi di dati divers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datti alla rappresentazione di: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Valori aggregati di varie serie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di dati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7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859280" y="4365720"/>
            <a:ext cx="368136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 dispersione (XY)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Mostrano le relazioni tra i valori di varie seri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Tracciano due gruppi di valori come un'unica serie di coordinate XY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ispetto ai grafici a linee, l’asse delle categorie è sostituito da un secondo asse dei valor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Visualizzano intervalli,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o gruppi, non omogenei di dat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datti alla rappresentazione di: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Risultati di ricerche ed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esperimenti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8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148360" y="3500280"/>
            <a:ext cx="364464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886A-D5F4-49F3-AA1F-0F07CF89CAEF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Composizione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elle disposte in 256 colonne e 65.536 righ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dentificativi colonne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…Z, AA…ZZ, BA…BZ, …, IA…IV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dentificativi righe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1…65.536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Indirizzo di cella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ombinazione di una lettera di colonna e di un numero di rig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Introduzione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Foglio di lavoro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28" name="Segnaposto data 4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Segnaposto piè di pagina 5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 bolle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Tipo di grafico a dispersione (XY) in cui la dimensione dell'indicatore di dati rappresenta il valore di una terza variabile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Quando si immettono i dati,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è utile disporre i valori X in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una riga o colonna e i relativi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valori Y e delle dimensioni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delle bolle nelle righe o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olonne adiacent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9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003640" y="3068640"/>
            <a:ext cx="379260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zionari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Grafici delle quotazioni azionarie massime, minime e di chiusura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datti alla rappresentazione di: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prezzi di azioni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rappresentazione di dati scientifici (es. variazioni di temperatura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È necessario ordinare i dati in modo corretto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10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511020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 superficie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Utili per trovare le combinazioni più favorevoli tra due sistemi di dati.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ome in una carta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topografica, i colori e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i motivi indicano le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ree che si trovano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nello stesso intervallo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di valor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11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284720" y="3068640"/>
            <a:ext cx="429732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 coni, cilindri, piramidi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Utilizzando gli indicatori di dati a forma di cono, cilindro e piramide è possibile conferire notevole impatto agli istogrammi e ai grafici a barre 3D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12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042920" y="3284640"/>
            <a:ext cx="3036960" cy="21524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5003640" y="3284640"/>
            <a:ext cx="299736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deogrammi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Rappresentano le informazioni utilizzando piccole immagini inerenti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onsentono di inserire una clip art in un grafico lineare o in un istogramma.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Grafici 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400" spc="-1" strike="noStrike">
                <a:solidFill>
                  <a:srgbClr val="cc0000"/>
                </a:solidFill>
                <a:latin typeface="Tahoma"/>
              </a:rPr>
              <a:t>13/13</a:t>
            </a:r>
            <a:r>
              <a:rPr b="0" lang="it-IT" sz="14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771640" y="3213000"/>
            <a:ext cx="455292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Creazione Grafico </a:t>
            </a: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( Intervallo dati )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33" name="Rectangle 3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6173640" cy="522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Rectangle 3"/>
          <p:cNvGraphicFramePr/>
          <p:nvPr/>
        </p:nvGraphicFramePr>
        <p:xfrm>
          <a:off x="395280" y="2205000"/>
          <a:ext cx="2208240" cy="266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205000"/>
                    <a:ext cx="220824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Creazione Grafico </a:t>
            </a: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( Serie )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37" name="Rectangle 3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6156360" cy="525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Rectangle 3"/>
          <p:cNvGraphicFramePr/>
          <p:nvPr/>
        </p:nvGraphicFramePr>
        <p:xfrm>
          <a:off x="336600" y="2205000"/>
          <a:ext cx="2149560" cy="25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6600" y="2205000"/>
                    <a:ext cx="21495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Creazione Grafico</a:t>
            </a:r>
            <a:endParaRPr b="0" lang="en-US" sz="28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41" name="Rectangle 3" descr=""/>
          <p:cNvPicPr/>
          <p:nvPr/>
        </p:nvPicPr>
        <p:blipFill>
          <a:blip r:embed="rId1"/>
          <a:stretch/>
        </p:blipFill>
        <p:spPr>
          <a:xfrm>
            <a:off x="2556000" y="2762280"/>
            <a:ext cx="5940360" cy="34750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250920" y="1341360"/>
            <a:ext cx="331308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Tes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Titolo del graf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sse dei valori (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sse dei valori (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Creazione Grafico</a:t>
            </a:r>
            <a:endParaRPr b="0" lang="en-US" sz="2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3924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99240" indent="-39924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ss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71480" indent="-370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sse dei valori (X)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71480" indent="-370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ssi dei valori (Y)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399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99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99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99240" indent="-39924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Grigli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71480" indent="-370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sse dei valori (X)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109160" indent="-33588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Griglia principal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09160" indent="-33588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Griglia secondari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71480" indent="-37080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sse dei valori (Y)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109160" indent="-33588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Griglia principal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09160" indent="-33588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Griglia secondari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71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71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pic>
        <p:nvPicPr>
          <p:cNvPr id="345" name="Rectangle 3" descr=""/>
          <p:cNvPicPr/>
          <p:nvPr/>
        </p:nvPicPr>
        <p:blipFill>
          <a:blip r:embed="rId1"/>
          <a:stretch/>
        </p:blipFill>
        <p:spPr>
          <a:xfrm>
            <a:off x="4924440" y="1341360"/>
            <a:ext cx="3362400" cy="2262240"/>
          </a:xfrm>
          <a:prstGeom prst="rect">
            <a:avLst/>
          </a:prstGeom>
          <a:ln w="0">
            <a:noFill/>
          </a:ln>
        </p:spPr>
      </p:pic>
      <p:pic>
        <p:nvPicPr>
          <p:cNvPr id="346" name="Rectangle 3" descr=""/>
          <p:cNvPicPr/>
          <p:nvPr/>
        </p:nvPicPr>
        <p:blipFill>
          <a:blip r:embed="rId2"/>
          <a:stretch/>
        </p:blipFill>
        <p:spPr>
          <a:xfrm>
            <a:off x="4923000" y="3755880"/>
            <a:ext cx="336384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Tahoma"/>
              </a:rPr>
              <a:t>Creazione grafico</a:t>
            </a:r>
            <a:endParaRPr b="0" lang="en-US" sz="2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24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ostra legend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osizion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In basso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In angolo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In alto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 destra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A sinistra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tichette dat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Nome serie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Valore X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Valore Y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pic>
        <p:nvPicPr>
          <p:cNvPr id="349" name="Rectangle 3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3362400" cy="2262240"/>
          </a:xfrm>
          <a:prstGeom prst="rect">
            <a:avLst/>
          </a:prstGeom>
          <a:ln w="0">
            <a:noFill/>
          </a:ln>
        </p:spPr>
      </p:pic>
      <p:pic>
        <p:nvPicPr>
          <p:cNvPr id="350" name="Rectangle 3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336384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CF84-A191-4F92-9248-105BBA393F8D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Barra della formula: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ssiste l’utente nella creazione di funzioni. Si attiva ad ogni immissione di dati in una cell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Numeri: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nteri, decimali, in notazione scientific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Testo: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qualsiasi dato non identificato come numero o dat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Date/Orari: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visualizzati nel formato scelto, ma memorizzati come numeri progressivi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Introduzione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Immissione dei dati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1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33" name="Segnaposto data 4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egnaposto piè di pagina 5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Importare dati esterni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66280" y="1341360"/>
            <a:ext cx="392436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Dati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Importa dati esterni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Importa dati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353" name="Rectangle 3" descr=""/>
          <p:cNvPicPr/>
          <p:nvPr/>
        </p:nvPicPr>
        <p:blipFill>
          <a:blip r:embed="rId1"/>
          <a:stretch/>
        </p:blipFill>
        <p:spPr>
          <a:xfrm>
            <a:off x="1547640" y="2781360"/>
            <a:ext cx="598176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reazione e ordinamento delle tabelle in Word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000" spc="-1" strike="noStrike">
                <a:solidFill>
                  <a:srgbClr val="003399"/>
                </a:solidFill>
                <a:latin typeface="Lucida Sans"/>
              </a:rPr>
              <a:t>Tabella/Inserisci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celta del formato e inserimento delle intestazioni di colonna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000" spc="-1" strike="noStrike">
                <a:solidFill>
                  <a:srgbClr val="003399"/>
                </a:solidFill>
                <a:latin typeface="Lucida Sans"/>
              </a:rPr>
              <a:t>Visualizza/Barre degli strumenti/Database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, pulsante </a:t>
            </a:r>
            <a:r>
              <a:rPr b="0" i="1" lang="it-IT" sz="2000" spc="-1" strike="noStrike">
                <a:solidFill>
                  <a:srgbClr val="003399"/>
                </a:solidFill>
                <a:latin typeface="Lucida Sans"/>
              </a:rPr>
              <a:t>Modulo dati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Immissione dei dati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Menu Tabella/Seleziona tabella, copia selezione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Copia delle tabelle in Exc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Incolla selezione, salva file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Integrazione con Word e Access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Collegamento</a:t>
            </a:r>
            <a:r>
              <a:rPr b="0" lang="it-IT" sz="1800" spc="-1" strike="noStrike">
                <a:solidFill>
                  <a:srgbClr val="cc0000"/>
                </a:solidFill>
                <a:latin typeface="Tahoma"/>
              </a:rPr>
              <a:t> dei file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1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Importazione (collegamento) in Acces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000" spc="-1" strike="noStrike">
                <a:solidFill>
                  <a:srgbClr val="003399"/>
                </a:solidFill>
                <a:latin typeface="Lucida Sans"/>
              </a:rPr>
              <a:t>File/Apri</a:t>
            </a: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, selezionare il file Excel appena salvato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Seguire la procedura guidata: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cegliere il foglio di lavor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cegliere le intestazioni delle colonne come campi delle tabell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Esportazione in Exc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Menu </a:t>
            </a:r>
            <a:r>
              <a:rPr b="0" i="1" lang="it-IT" sz="2000" spc="-1" strike="noStrike">
                <a:solidFill>
                  <a:srgbClr val="003399"/>
                </a:solidFill>
                <a:latin typeface="Lucida Sans"/>
              </a:rPr>
              <a:t>File/Esporta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Integrazione con Word e Access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Collegamento</a:t>
            </a:r>
            <a:r>
              <a:rPr b="0" lang="it-IT" sz="1800" spc="-1" strike="noStrike">
                <a:solidFill>
                  <a:srgbClr val="cc0000"/>
                </a:solidFill>
                <a:latin typeface="Tahoma"/>
              </a:rPr>
              <a:t> dei file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2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ESERCIZIO</a:t>
            </a: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59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36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6227640" cy="2509920"/>
          </a:xfrm>
          <a:prstGeom prst="rect">
            <a:avLst/>
          </a:prstGeom>
          <a:ln w="0">
            <a:noFill/>
          </a:ln>
        </p:spPr>
      </p:pic>
      <p:pic>
        <p:nvPicPr>
          <p:cNvPr id="363" name="Rectangle 3" descr=""/>
          <p:cNvPicPr/>
          <p:nvPr/>
        </p:nvPicPr>
        <p:blipFill>
          <a:blip r:embed="rId2"/>
          <a:stretch/>
        </p:blipFill>
        <p:spPr>
          <a:xfrm>
            <a:off x="1476360" y="2532240"/>
            <a:ext cx="6480360" cy="39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56C7-CFA7-4278-91A8-83F7084C5B88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566280" y="1703160"/>
            <a:ext cx="8001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Serie di dati: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iste di numeri o parole (es. giorni della settimana, nomi dei mesi, etc.) omogenee, ordinate, non necessariamente consecutive, ripetibili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Lucida Sans"/>
              </a:rPr>
              <a:t>Creazione: </a:t>
            </a:r>
            <a:endParaRPr b="0" lang="en-US" sz="20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Rapida, mediante il dragging della maniglia di riempimento della cell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vanzata: Menu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Modifica/Riempimento/Seri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Introduzione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Immissione dei dati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2/2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6858000" y="115920"/>
            <a:ext cx="1676520" cy="1323000"/>
            <a:chOff x="6858000" y="115920"/>
            <a:chExt cx="1676520" cy="1323000"/>
          </a:xfrm>
        </p:grpSpPr>
        <p:pic>
          <p:nvPicPr>
            <p:cNvPr id="139" name="Picture 5" descr="lez"/>
            <p:cNvPicPr/>
            <p:nvPr/>
          </p:nvPicPr>
          <p:blipFill>
            <a:blip r:embed="rId1"/>
            <a:stretch/>
          </p:blipFill>
          <p:spPr>
            <a:xfrm>
              <a:off x="7050240" y="115920"/>
              <a:ext cx="1331640" cy="106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6"/>
            <p:cNvSpPr/>
            <p:nvPr/>
          </p:nvSpPr>
          <p:spPr>
            <a:xfrm>
              <a:off x="6858000" y="110160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600" spc="-1" strike="noStrike" u="sng">
                  <a:solidFill>
                    <a:srgbClr val="cc0000"/>
                  </a:solidFill>
                  <a:uFillTx/>
                  <a:latin typeface="Tahoma"/>
                </a:rPr>
                <a:t>Esempio pratic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1" name="Picture 7" descr="serie"/>
          <p:cNvPicPr/>
          <p:nvPr/>
        </p:nvPicPr>
        <p:blipFill>
          <a:blip r:embed="rId2"/>
          <a:stretch/>
        </p:blipFill>
        <p:spPr>
          <a:xfrm>
            <a:off x="2743200" y="4508640"/>
            <a:ext cx="4076640" cy="1927080"/>
          </a:xfrm>
          <a:prstGeom prst="rect">
            <a:avLst/>
          </a:prstGeom>
          <a:ln w="0">
            <a:noFill/>
          </a:ln>
        </p:spPr>
      </p:pic>
      <p:sp>
        <p:nvSpPr>
          <p:cNvPr id="142" name="Segnaposto data 8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Segnaposto piè di pagina 9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10A2-3D68-4E63-8870-C9E157B0E9FA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Formati numerici: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menu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ormato/Celle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, scheda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Numero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attazione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 del </a:t>
            </a: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glio di lavoro</a:t>
            </a:r>
            <a:br>
              <a:rPr sz="1600"/>
            </a:b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Cella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1/4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52480" y="2762280"/>
          <a:ext cx="6096240" cy="3429000"/>
        </p:xfrm>
        <a:graphic>
          <a:graphicData uri="http://schemas.openxmlformats.org/drawingml/2006/table">
            <a:tbl>
              <a:tblPr/>
              <a:tblGrid>
                <a:gridCol w="2590920"/>
                <a:gridCol w="35053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ls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fet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Va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ggiunge al numero il simbolo di valuta ed i separatori delle miglia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ggiunge al numero il simbolo di valuta in eu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tile percentu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pplica al numero il formato percentu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Stile separat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ggiunge al numero i punti di separazione delle miglia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umenta decim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Aggiunge una cifra deci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Diminuisci decimal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00"/>
                          </a:solidFill>
                          <a:latin typeface="Lucida Sans"/>
                        </a:rPr>
                        <a:t>Elimina una cifra deci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Picture 31" descr="valuta"/>
          <p:cNvPicPr/>
          <p:nvPr/>
        </p:nvPicPr>
        <p:blipFill>
          <a:blip r:embed="rId1"/>
          <a:stretch/>
        </p:blipFill>
        <p:spPr>
          <a:xfrm>
            <a:off x="1828800" y="321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2" descr="euro"/>
          <p:cNvPicPr/>
          <p:nvPr/>
        </p:nvPicPr>
        <p:blipFill>
          <a:blip r:embed="rId2"/>
          <a:stretch/>
        </p:blipFill>
        <p:spPr>
          <a:xfrm>
            <a:off x="1828800" y="3772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3" descr="percentuale"/>
          <p:cNvPicPr/>
          <p:nvPr/>
        </p:nvPicPr>
        <p:blipFill>
          <a:blip r:embed="rId3"/>
          <a:stretch/>
        </p:blipFill>
        <p:spPr>
          <a:xfrm>
            <a:off x="1828800" y="42768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4" descr="dec_decimali"/>
          <p:cNvPicPr/>
          <p:nvPr/>
        </p:nvPicPr>
        <p:blipFill>
          <a:blip r:embed="rId4"/>
          <a:stretch/>
        </p:blipFill>
        <p:spPr>
          <a:xfrm>
            <a:off x="1828800" y="528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5" descr="inc_decimali"/>
          <p:cNvPicPr/>
          <p:nvPr/>
        </p:nvPicPr>
        <p:blipFill>
          <a:blip r:embed="rId5"/>
          <a:stretch/>
        </p:blipFill>
        <p:spPr>
          <a:xfrm>
            <a:off x="182880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6" descr="separatore"/>
          <p:cNvPicPr/>
          <p:nvPr/>
        </p:nvPicPr>
        <p:blipFill>
          <a:blip r:embed="rId6"/>
          <a:stretch/>
        </p:blipFill>
        <p:spPr>
          <a:xfrm>
            <a:off x="1828800" y="4797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4" name="Segnaposto data 36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Segnaposto piè di pagina 37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ECA6-7FEE-405A-8736-62EEC4751F06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Orientamento del testo:</a:t>
            </a: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orizzontale, verticale,     o qualsiasi rotazione intermedia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Bordi: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vari tipi di contorno da applicare alle cell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attazione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 del </a:t>
            </a: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glio di lavoro</a:t>
            </a:r>
            <a:br>
              <a:rPr sz="1600"/>
            </a:b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Cella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2/4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159" name="Picture 5" descr="rotazione_testo"/>
          <p:cNvPicPr/>
          <p:nvPr/>
        </p:nvPicPr>
        <p:blipFill>
          <a:blip r:embed="rId1"/>
          <a:stretch/>
        </p:blipFill>
        <p:spPr>
          <a:xfrm>
            <a:off x="1219320" y="3289320"/>
            <a:ext cx="3886200" cy="2311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bordo_celle"/>
          <p:cNvPicPr/>
          <p:nvPr/>
        </p:nvPicPr>
        <p:blipFill>
          <a:blip r:embed="rId2"/>
          <a:stretch/>
        </p:blipFill>
        <p:spPr>
          <a:xfrm>
            <a:off x="5334120" y="3068640"/>
            <a:ext cx="3047760" cy="2887560"/>
          </a:xfrm>
          <a:prstGeom prst="rect">
            <a:avLst/>
          </a:prstGeom>
          <a:ln w="0">
            <a:noFill/>
          </a:ln>
        </p:spPr>
      </p:pic>
      <p:sp>
        <p:nvSpPr>
          <p:cNvPr id="161" name="Segnaposto data 6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Segnaposto piè di pagina 7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5"/>
          <p:cNvSpPr/>
          <p:nvPr/>
        </p:nvSpPr>
        <p:spPr>
          <a:xfrm>
            <a:off x="61128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8423-D339-49A1-98EF-7F9C4D47EB80}" type="slidenum">
              <a:rPr b="0" lang="it-IT" sz="9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66280" y="1341360"/>
            <a:ext cx="8001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Lucida Sans"/>
              </a:rPr>
              <a:t>Stili: </a:t>
            </a:r>
            <a:r>
              <a:rPr b="0" lang="it-IT" sz="2400" spc="-1" strike="noStrike">
                <a:solidFill>
                  <a:srgbClr val="000000"/>
                </a:solidFill>
                <a:latin typeface="Lucida Sans"/>
              </a:rPr>
              <a:t>registrare tutti i formati applicati ad una cella o intervallo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Lucida Sans"/>
              </a:rPr>
              <a:t>Creazione:</a:t>
            </a:r>
            <a:endParaRPr b="0" lang="en-US" sz="2800" spc="-1" strike="noStrike">
              <a:solidFill>
                <a:srgbClr val="003399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elezionare l’intervallo da formattar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Menu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Formato/Stile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, pulsant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elezionare i formati desiderati sulle singole sched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Dalla finestra di dialogo principale, deselezionare le caselle di controllo che non sono di interess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Assegnare un nome allo stile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Pulsant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hiudi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, per salvare lo stile ma non applicarlo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610920" y="33336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rmattazione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 del </a:t>
            </a: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foglio di lavoro</a:t>
            </a:r>
            <a:br>
              <a:rPr sz="1600"/>
            </a:br>
            <a:r>
              <a:rPr b="0" lang="it-IT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cc0000"/>
                </a:solidFill>
                <a:latin typeface="Tahoma"/>
              </a:rPr>
              <a:t>Cella 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[</a:t>
            </a:r>
            <a:r>
              <a:rPr b="0" lang="it-IT" sz="1200" spc="-1" strike="noStrike">
                <a:solidFill>
                  <a:srgbClr val="cc0000"/>
                </a:solidFill>
                <a:latin typeface="Tahoma"/>
              </a:rPr>
              <a:t>3/4</a:t>
            </a:r>
            <a:r>
              <a:rPr b="0" lang="it-IT" sz="1200" spc="-1" strike="noStrike">
                <a:solidFill>
                  <a:srgbClr val="336699"/>
                </a:solidFill>
                <a:latin typeface="Tahoma"/>
              </a:rPr>
              <a:t>]</a:t>
            </a:r>
            <a:endParaRPr b="0" lang="en-US" sz="1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66" name="Segnaposto data 4"/>
          <p:cNvSpPr/>
          <p:nvPr/>
        </p:nvSpPr>
        <p:spPr>
          <a:xfrm>
            <a:off x="6659640" y="6381720"/>
            <a:ext cx="1981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31/10/2007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Segnaposto piè di pagina 5"/>
          <p:cNvSpPr/>
          <p:nvPr/>
        </p:nvSpPr>
        <p:spPr>
          <a:xfrm>
            <a:off x="313200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Tahoma"/>
              </a:rPr>
              <a:t>Esercitazione 4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tonella Guzzo</dc:creator>
  <dc:description/>
  <dc:language>en-US</dc:language>
  <cp:lastModifiedBy>#</cp:lastModifiedBy>
  <dcterms:modified xsi:type="dcterms:W3CDTF">2008-09-24T08:23:03Z</dcterms:modified>
  <cp:revision>106</cp:revision>
  <dc:subject/>
  <dc:title>PowerPoint Presentation</dc:title>
</cp:coreProperties>
</file>