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283-7F3F-458D-A095-B880E0DE6BC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6CE7-ECC5-4280-AD66-4396D60F51C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64C7-BABE-4F85-98BA-FDD672FF2CA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3186-1370-464C-A192-5050DC86E8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F6FC-D477-40A4-A051-4FEC7D113F7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FA0-ADA6-4F79-B0AD-C6AD8BB98D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83F4-451E-453A-804E-C0967A3A7D4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DDA9-D6B4-43CD-B46F-75985C2584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2A55-86FF-4F7C-B6F0-04E42418F1C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FFE-17EE-4C62-9DF5-69D7AA4E98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540-96BD-42B7-8A96-9109600E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F661-BA12-4C69-8162-5EE806F3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6C0D-427B-487C-8B04-8D76F5D8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AAB-EBBE-4F2A-94F5-5DBC6B45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79E1-9B36-4B36-BEEC-C3B0C573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030A-A54D-4DE2-9BCD-B6956ECB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8DA3-B42D-44FE-9C2F-B1FE322B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13CB-EB9B-4456-843F-454E7B4D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68D8-1797-4BD2-9968-56D232EA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8CD2-9DD4-4B1A-835A-5BA986CC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1F01-E9A9-45A9-9EAB-5188CF86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340-C90D-4641-8CA0-BF86AB18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A0C6-A888-44BD-A863-2C88B980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1914-B3A7-4D95-BAF1-E51D7AA8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86B2-422F-4E8B-8E16-645FE335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6AE2-5064-4B16-87F9-47455448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6FBF-6110-44C3-9F15-235B6990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8DF-5C9B-4C25-9B06-230EED61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60E-02B6-4A61-897B-6D2BFD82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36E-2883-43DF-93F6-A87DF810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8C4F-A371-4070-9A7F-07EF187B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A2A-EDDD-4C1F-AEA9-48EAB53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2F9-1301-485A-83E4-E477ED68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5EFD-4DA0-480F-B97B-D8DDD588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1B01-35E6-4184-BA91-4799EEDDC4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B4C-5871-408E-920A-C4E7DFC00E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image" Target="../media/image10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image" Target="../media/image13.jpeg"/><Relationship Id="rId18" Type="http://schemas.openxmlformats.org/officeDocument/2006/relationships/hyperlink" Target="http://images.google.it/imgres?imgurl=http://www.online-ergonomics.co.uk/Images/Touch%2520Pad%2520Standard.jpg&amp;imgrefurl=http://www.online-ergonomics.co.uk/Catalogue/Cat28.html&amp;h=199&amp;w=250&amp;sz=6&amp;tbnid=EHz6pcbcmJ8J:&amp;tbnh=84&amp;tbnw=106&amp;hl=it&amp;start=7&amp;prev=/images%3Fq%3Dtouch%2Bpad%26svnum%3D10%26hl%3Dit%26lr%3D" TargetMode="External"/><Relationship Id="rId19" Type="http://schemas.openxmlformats.org/officeDocument/2006/relationships/image" Target="../media/image14.jpeg"/><Relationship Id="rId20" Type="http://schemas.openxmlformats.org/officeDocument/2006/relationships/hyperlink" Target="http://images.google.it/imgres?imgurl=http://www.thepc.info/images/trackball.jpg&amp;imgrefurl=http://www.thepc.info/mouse.html&amp;h=389&amp;w=349&amp;sz=22&amp;tbnid=vZ6H-B-nJNkJ:&amp;tbnh=119&amp;tbnw=106&amp;hl=it&amp;start=1&amp;prev=/images%3Fq%3Dtrackball%26svnum%3D10%26hl%3Dit%26lr%3D%26sa%3DG" TargetMode="External"/><Relationship Id="rId21" Type="http://schemas.openxmlformats.org/officeDocument/2006/relationships/image" Target="../media/image15.jpeg"/><Relationship Id="rId22" Type="http://schemas.openxmlformats.org/officeDocument/2006/relationships/hyperlink" Target="http://images.google.it/imgres?imgurl=http://www.bow.it/isroot/bownew/SiteImages/prodotti/foto/WC011599.jpg&amp;imgrefurl=http://www.hwside.it/periferiche/tavolette_grafiche.asp&amp;h=150&amp;w=150&amp;sz=5&amp;tbnid=n0-eevghA_kJ:&amp;tbnh=90&amp;tbnw=90&amp;hl=it&amp;start=12&amp;prev=/images%3Fq%3Dtavoletta%2Bgrafica%26svnum%3D10%26hl%3Dit%26lr%3D" TargetMode="External"/><Relationship Id="rId23" Type="http://schemas.openxmlformats.org/officeDocument/2006/relationships/image" Target="../media/image16.jpeg"/><Relationship Id="rId24" Type="http://schemas.openxmlformats.org/officeDocument/2006/relationships/hyperlink" Target="http://images.google.it/imgres?imgurl=http://tienda.cero.com/images/51441.JPG&amp;imgrefurl=http://tienda.cero.com/index.php/cPath/145&amp;h=180&amp;w=200&amp;sz=3&amp;tbnid=44sZ-vyUkgQJ:&amp;tbnh=89&amp;tbnw=99&amp;hl=it&amp;start=2&amp;prev=/images%3Fq%3Dmicrofono%2Bcomputer%26svnum%3D10%26hl%3Dit%26lr%3D" TargetMode="External"/><Relationship Id="rId25" Type="http://schemas.openxmlformats.org/officeDocument/2006/relationships/image" Target="../media/image17.jpeg"/><Relationship Id="rId26" Type="http://schemas.openxmlformats.org/officeDocument/2006/relationships/hyperlink" Target="http://images.google.it/imgres?imgurl=http://storage1.evectors.it/images/site001692/images/PennaSM.jpg&amp;imgrefurl=http://www.accessoripc.com/activesoftware/directory%24dir%3D378&amp;h=104&amp;w=100&amp;sz=19&amp;tbnid=x4ScklKuJr4J:&amp;tbnh=79&amp;tbnw=75&amp;hl=it&amp;start=55&amp;prev=/images%3Fq%3Dpenna%2Bottica%26start%3D40%26svnum%3D10%26hl%3Dit%26lr%3D%26sa%3DN" TargetMode="External"/><Relationship Id="rId27" Type="http://schemas.openxmlformats.org/officeDocument/2006/relationships/image" Target="../media/image18.jpeg"/><Relationship Id="rId28" Type="http://schemas.openxmlformats.org/officeDocument/2006/relationships/hyperlink" Target="http://images.google.it/imgres?imgurl=http://www.pcself.com/primopiano/flash/images/canon_powershota_520_b.jpg&amp;imgrefurl=http://www.pcself.com/primopiano/flash/news_item.asp%3FNewsID%3D447&amp;h=360&amp;w=480&amp;sz=23&amp;tbnid=xD82234sH54J:&amp;tbnh=94&amp;tbnw=126&amp;hl=it&amp;start=2&amp;prev=/images%3Fq%3Dfotocamera%2Bdigitale%26svnum%3D10%26hl%3Dit%26lr%3D" TargetMode="External"/><Relationship Id="rId29" Type="http://schemas.openxmlformats.org/officeDocument/2006/relationships/image" Target="../media/image19.jpeg"/><Relationship Id="rId30" Type="http://schemas.openxmlformats.org/officeDocument/2006/relationships/hyperlink" Target="http://images.google.it/imgres?imgurl=http://navcity.co.uk/catalog/images/wmr1.jpg&amp;imgrefurl=http://navcity.co.uk/catalog/product_info.php%2Bproducts_id%2B335&amp;h=438&amp;w=465&amp;sz=32&amp;tbnid=iP2gNVmk504J:&amp;tbnh=117&amp;tbnw=125&amp;hl=it&amp;start=1&amp;prev=/images%3Fq%3Dtouch%2Bscreen%26svnum%3D10%26hl%3Dit%26lr%3D" TargetMode="External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hyperlink" Target="http://images.google.it/imgres?imgurl=http://www.rcsteam.com/images/030506%2520HP%2520500%2520Plotter%252001.jpg&amp;imgrefurl=http://www.rcsteam.com/design.htm&amp;h=1163&amp;w=1397&amp;sz=51&amp;tbnid=ekYwgrAxqsMJ:&amp;tbnh=124&amp;tbnw=150&amp;hl=it&amp;start=3&amp;prev=/images%3Fq%3Dplotter%26svnum%3D10%26hl%3Dit%26lr%3D" TargetMode="External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image" Target="../media/image27.jpeg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2923920"/>
            <a:ext cx="95727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Il processore - CPU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4000" spc="-1" strike="noStrike">
                <a:solidFill>
                  <a:srgbClr val="336699"/>
                </a:solidFill>
                <a:latin typeface="Verdana"/>
              </a:rPr>
              <a:t>CENTRAL PROCESSING UNIT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equenza di cloc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52360" y="1628640"/>
            <a:ext cx="914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frequenza con cui si eseguono i cicli di esecuzione è scandita dal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lock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orologio intern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d ogni impulso di clock l’unità di controllo esegue un ciclo di esecu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a velocità di elaborazione di un microprocessore dipende dalla frequenza del suo clock (300, 400,... MHz) (es.: 300 milioni di cicli al secondo). Attualmente si parla di G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560" y="4140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94940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piccole unita’ di memoria (2, 4, 8 byte) con tempi di accesso molto piu’ bassi delle celle della memoria prima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Ospitano le informazioni necessarie per eseguire l’istruzione corr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In numero molto limitato (10, 20, 64) si dividono in registri </a:t>
            </a: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speciali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it-IT" sz="3200" spc="-1" strike="noStrike">
                <a:solidFill>
                  <a:srgbClr val="336699"/>
                </a:solidFill>
                <a:latin typeface="Verdana"/>
              </a:rPr>
              <a:t>genera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l Program Counter (PC)</a:t>
            </a:r>
            <a:r>
              <a:rPr b="0" lang="it-IT" sz="3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tiene l’indirizzo in memoria centrale della prossima istruzione da esegui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l’inizio dell’esecuzione di un programma viene caricato con l’indirizzo della prima istruzione di quel programm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d ogni istruzione eseguita il PC viene modificato per contenere l’indirizzo della istruzione success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9356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560" y="1773000"/>
            <a:ext cx="92170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L’Instruction Register (I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tiene l’istruzione correntemente in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CU legge l’istruzione contenuta nell’instruction register e la eseg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IL Registro di stato (PSW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escrive lo stato corrente della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egnala eventuali errori (ad es.: overflow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SPECI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640" y="198288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egistro Indirizzi Memoria (MA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 l’indirizzo della cella da cui leggere o in cui scrivere un da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Registro dati Memoria (MD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iene il dato letto dalla memoria o da scrivere in memo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 REGISTRI GENERAL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I registri gener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in numero di 8, 16, 64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7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000000"/>
                </a:solidFill>
                <a:latin typeface="Verdana"/>
              </a:rPr>
              <a:t>sono usati come memorie temporanee per contenere gli operandi delle istruzioni e i risultati parziali durante l’esecuzione delle istruzioni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957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ARITHMETIC-LOGIC UNIT (ALU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Si occupa di eseguire le operazioni di tipo aritmetico/logico: somme, confronti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preleva gli operandi dai / deposita il risultato delle operazioni nei: registri general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 volte e’ affiancata da un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co-processore matematic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8000" y="333360"/>
            <a:ext cx="928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800"/>
            </a:b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ARITHMETIC-LOGIC UNIT (AL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784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400"/>
            </a:b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LA CONTROL UNIT (CU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unità di controllo del processore (CPU) esegue una istruzione svolgendo le seguenti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tr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operazion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di ba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lettur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ecod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ecodifica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xecut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esecu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programma è eseguito reiterando il ciclo 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fetch-decode-execute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ciclo macchin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) per eseguire ordinatamente le sue istr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Il ciclo </a:t>
            </a: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Fetch-Decode-Execu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252520" y="1933560"/>
            <a:ext cx="46292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69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zionamen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grammi e dati risiedono in file memorizzati in memoria secondaria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r essere eseguiti (i programmi) e usati  (i dati) vengono copiati nella memoria primaria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 CPU e’ in grado di eseguire le istruzioni di cui sono composti i programm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780000" y="3719520"/>
            <a:ext cx="4968720" cy="2446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628640"/>
            <a:ext cx="798984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95560" indent="-295560" algn="just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) FETC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38600" algn="just">
              <a:lnSpc>
                <a:spcPct val="90000"/>
              </a:lnSpc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accede alla prossima istruzione, riferita dal registro contatore dell’istruzione (PC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9960" indent="-138600" algn="just">
              <a:lnSpc>
                <a:spcPct val="100000"/>
              </a:lnSpc>
              <a:buClr>
                <a:srgbClr val="cc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porta tale istruzione dalla memoria centrale al Registro Istruzioni (I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61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2) DECOD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: decodifica dell’istr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individua il tipo dell’operazione e gli operandi (dati) us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i trasferiscono i dati nei registri opportu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24360" y="3860640"/>
            <a:ext cx="4656240" cy="2243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iclo </a:t>
            </a:r>
            <a:r>
              <a:rPr b="1" i="1" lang="it-IT" sz="3800" spc="-1" strike="noStrike">
                <a:solidFill>
                  <a:srgbClr val="000000"/>
                </a:solidFill>
                <a:latin typeface="Verdana"/>
              </a:rPr>
              <a:t>fetch-decode-execu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9612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) EXECU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ecuzione dell’istruzio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 incrementa il registro contatore dell’istruzione (P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ascuna azione viene richiesta al componente opportu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588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MEMORIA 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175392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ivello di memoria intermedio tra i registri e la r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memorizzare i dati usati piu’ spesso senza doverli recuperare in memo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64, 128, 256, 512KB, 1MB, 2M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terna o esterna all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nfluisce moltissimo sulle prestazioni e il costo della CPU (e quindi del compu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I computer attuali hanno spesso più livelli di cach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855880" y="3660840"/>
            <a:ext cx="193212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29440" y="2946240"/>
            <a:ext cx="1384200" cy="1543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91760" y="47084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0360" y="501336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3032280"/>
            <a:ext cx="1908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9" idx="3"/>
            <a:endCxn id="175" idx="1"/>
          </p:cNvCxnSpPr>
          <p:nvPr/>
        </p:nvCxnSpPr>
        <p:spPr>
          <a:xfrm>
            <a:off x="2303640" y="3267000"/>
            <a:ext cx="552960" cy="822960"/>
          </a:xfrm>
          <a:prstGeom prst="curvedConnector5">
            <a:avLst>
              <a:gd name="adj1" fmla="val 49967"/>
              <a:gd name="adj2" fmla="val 49978"/>
              <a:gd name="adj3" fmla="val 49967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916360" y="3841920"/>
            <a:ext cx="180000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1560" y="1644480"/>
            <a:ext cx="262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il programma in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 l'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657160" y="2289240"/>
            <a:ext cx="16020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7480" y="5697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gui le istruzioni de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6798960" y="4032360"/>
            <a:ext cx="52200" cy="161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89640" y="318600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5960" y="3146400"/>
            <a:ext cx="1106280" cy="144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7800" y="465300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02240" y="3803760"/>
            <a:ext cx="72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2560" y="3476520"/>
            <a:ext cx="93816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360" y="1797120"/>
            <a:ext cx="323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un pezzettino di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dei dati in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81" idx="0"/>
            <a:endCxn id="190" idx="0"/>
          </p:cNvCxnSpPr>
          <p:nvPr/>
        </p:nvCxnSpPr>
        <p:spPr>
          <a:xfrm flipH="1" flipV="1" rot="5400000">
            <a:off x="4641480" y="2650680"/>
            <a:ext cx="366120" cy="2016720"/>
          </a:xfrm>
          <a:prstGeom prst="curvedConnector5">
            <a:avLst>
              <a:gd name="adj1" fmla="val 162598"/>
              <a:gd name="adj2" fmla="val 49991"/>
              <a:gd name="adj3" fmla="val 16259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 flipH="1">
            <a:off x="5479920" y="2446200"/>
            <a:ext cx="184320" cy="385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3360" y="2533680"/>
            <a:ext cx="2128680" cy="23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26280" y="3841920"/>
            <a:ext cx="119844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92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MEMORIA CACH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56160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di un compu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320" y="1964880"/>
            <a:ext cx="89913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Registr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1 K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0 * pico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Cach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1 M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ano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lt; 4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nano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Hard disk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gt; 40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microse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Dischi ottic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650MB-17GB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icro/milli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Nastri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&gt; 10 GByte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10 * millisecond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Gerarchia delle memo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5596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onnette CPU, memorie ed interfacce verso dispositivi periferici (I/O, memoria di massa, ..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eg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ue unità funzionali alla vol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 algn="just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 trasmette e l’altra rice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trasferimento dei dati avviene sotto il controllo della CP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788000" y="4508640"/>
            <a:ext cx="374472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846080"/>
            <a:ext cx="8208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bus trasporta dati, indirizzi e coman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ponenti del bus (sottogruppi di linee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dati (data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indirizzi (address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Bus comandi (command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dati (data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trasferire dat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 la memoria centrale ed il registro dati (MDR) della CP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tra periferiche e CPU (o memoria centra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B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Bus di siste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1846080"/>
            <a:ext cx="8351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indirizzi (address bu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trasmettere il contenuto del registro indirizzi (MAR) alla memoria (o ad una perifer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i seleziona una cella per successive operazioni di lettura o scri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Bus comandi (command bus)</a:t>
            </a:r>
            <a:r>
              <a:rPr b="1" lang="it-IT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e per inviare comand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so la memoria (es: lettura o scrittur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 verso una periferica (es. stampa verso la stampante / interfacc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direzion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42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zionament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695160" y="2077920"/>
            <a:ext cx="2125800" cy="23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32080" y="2935440"/>
            <a:ext cx="1987560" cy="85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56520" y="2349360"/>
            <a:ext cx="1239840" cy="1543320"/>
          </a:xfrm>
          <a:prstGeom prst="rect">
            <a:avLst/>
          </a:prstGeom>
          <a:solidFill>
            <a:srgbClr val="a3b2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6520" y="398304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360" y="4637160"/>
            <a:ext cx="23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2306520"/>
            <a:ext cx="1849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3"/>
            <a:endCxn id="98" idx="1"/>
          </p:cNvCxnSpPr>
          <p:nvPr/>
        </p:nvCxnSpPr>
        <p:spPr>
          <a:xfrm>
            <a:off x="2676240" y="2541600"/>
            <a:ext cx="556200" cy="822960"/>
          </a:xfrm>
          <a:prstGeom prst="curvedConnector5">
            <a:avLst>
              <a:gd name="adj1" fmla="val 49676"/>
              <a:gd name="adj2" fmla="val 49978"/>
              <a:gd name="adj3" fmla="val 4967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294000" y="3116160"/>
            <a:ext cx="1782720" cy="459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19640" y="3213000"/>
            <a:ext cx="1149480" cy="7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9800" y="1700280"/>
            <a:ext cx="26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ia il programma in 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33720" y="1989000"/>
            <a:ext cx="890640" cy="717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32600" y="49719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egui le istruzioni del progra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896080" y="3363840"/>
            <a:ext cx="738000" cy="1457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30680" y="2778120"/>
            <a:ext cx="10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900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aratteristiche dei microprocessor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epertorio di istruzio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insieme delle istruzioni che costituiscono il linguaggio macchina del process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requenza di clo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esecuzione di una istruzione può richiedere più cicli macch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ampiezza del b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umero di bit nel bus interno del process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-process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rocessori specializzati per operazioni complesse (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: co-processore matematic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a ca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emoria veloce locale al processore, che consente di accedere più velocemente ai dati da elab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9320" y="417240"/>
            <a:ext cx="77626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input/output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I/O, PERIFERICHE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2109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Terminali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. Tastiera + Video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risoluzione, dimensione in pollici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tampanti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d aghi, a getto, d’inchiostro, laser,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dem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per collegarsi in rete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canner: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per digitalizzare le immagin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95280" y="812880"/>
            <a:ext cx="6782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In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060640"/>
            <a:ext cx="16765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t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1778040"/>
            <a:ext cx="190512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20000" y="5157720"/>
            <a:ext cx="167616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yst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1854360"/>
            <a:ext cx="1676520" cy="761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rack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1854360"/>
            <a:ext cx="1676160" cy="761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ouch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9640" y="3933720"/>
            <a:ext cx="1905120" cy="9144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na ot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4221000"/>
            <a:ext cx="1905120" cy="9144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006720"/>
            <a:ext cx="1905120" cy="9144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Webc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797360"/>
            <a:ext cx="1676520" cy="76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tocam. 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141720"/>
            <a:ext cx="1905120" cy="91440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f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19640" y="5013360"/>
            <a:ext cx="2514600" cy="91440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hermi touch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3159000"/>
            <a:ext cx="1981440" cy="762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voletta gra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3"/>
          <a:srcRect l="17649" t="31620" r="23529" b="24266"/>
          <a:stretch/>
        </p:blipFill>
        <p:spPr>
          <a:xfrm>
            <a:off x="324000" y="2687760"/>
            <a:ext cx="761760" cy="38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8244000" y="4724280"/>
            <a:ext cx="453960" cy="623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rcRect l="0" t="21888" r="0" b="0"/>
          <a:stretch/>
        </p:blipFill>
        <p:spPr>
          <a:xfrm>
            <a:off x="3419640" y="242100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6"/>
          <a:srcRect l="0" t="0" r="0" b="5034"/>
          <a:stretch/>
        </p:blipFill>
        <p:spPr>
          <a:xfrm>
            <a:off x="7020000" y="4365720"/>
            <a:ext cx="761760" cy="4791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7"/>
          <a:srcRect l="11360" t="13631" r="6532" b="13631"/>
          <a:stretch/>
        </p:blipFill>
        <p:spPr>
          <a:xfrm>
            <a:off x="7740720" y="3573360"/>
            <a:ext cx="685800" cy="484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8172360" y="2421000"/>
            <a:ext cx="792360" cy="6271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6012000" y="2205000"/>
            <a:ext cx="641160" cy="719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203640" y="3068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68360" y="3789360"/>
            <a:ext cx="649080" cy="584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2556000" y="4581360"/>
            <a:ext cx="714240" cy="7527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1692360" y="5373720"/>
            <a:ext cx="936720" cy="698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30"/>
          </p:cNvPr>
          <p:cNvPicPr/>
          <p:nvPr/>
        </p:nvPicPr>
        <p:blipFill>
          <a:blip r:embed="rId31"/>
          <a:stretch/>
        </p:blipFill>
        <p:spPr>
          <a:xfrm>
            <a:off x="4140360" y="4437000"/>
            <a:ext cx="903240" cy="8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812880"/>
            <a:ext cx="876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di Outpu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990720"/>
            <a:ext cx="815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38160" y="1884240"/>
            <a:ext cx="19051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57600" y="5257800"/>
            <a:ext cx="19051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ff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7640" y="1730520"/>
            <a:ext cx="1905120" cy="761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98960" y="2722680"/>
            <a:ext cx="2286000" cy="1066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mp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1640" y="4221000"/>
            <a:ext cx="2286000" cy="1067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sse acus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2000" y="4114800"/>
            <a:ext cx="2286000" cy="1066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deoproie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rcRect l="21185" t="0" r="4638" b="15052"/>
          <a:stretch/>
        </p:blipFill>
        <p:spPr>
          <a:xfrm>
            <a:off x="468360" y="2492280"/>
            <a:ext cx="1150920" cy="9860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5003640" y="2997360"/>
            <a:ext cx="1008360" cy="87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2349360"/>
            <a:ext cx="1428480" cy="118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1"/>
          <a:stretch/>
        </p:blipFill>
        <p:spPr>
          <a:xfrm>
            <a:off x="539640" y="4941720"/>
            <a:ext cx="1019160" cy="952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2"/>
          <a:stretch/>
        </p:blipFill>
        <p:spPr>
          <a:xfrm>
            <a:off x="4356000" y="429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"/>
          <a:stretch/>
        </p:blipFill>
        <p:spPr>
          <a:xfrm>
            <a:off x="7236000" y="4941720"/>
            <a:ext cx="1368360" cy="7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155520" y="1492200"/>
            <a:ext cx="313524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55520" y="1492200"/>
          <a:ext cx="9144000" cy="47116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65240" y="1501920"/>
          <a:ext cx="9124920" cy="4706640"/>
        </p:xfrm>
        <a:graphic>
          <a:graphicData uri="http://schemas.openxmlformats.org/drawingml/2006/table">
            <a:tbl>
              <a:tblPr/>
              <a:tblGrid>
                <a:gridCol w="9124920"/>
              </a:tblGrid>
              <a:tr h="379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6" name="" descr="Figura 2 - la struttura interna di una piastra madre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773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1280" y="189000"/>
            <a:ext cx="7921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iastra mad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6680" y="69228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6680" y="692280"/>
            <a:ext cx="9068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 programm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(il software!!!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77300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l computer e’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programmabil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Usando programmi (sequenze di istruzioni) diversi, gli facciamo fare cose dive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ssolutamente immateri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izzato su supporti magnetici, ottici, o di altro gene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ce al computer “cosa fa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oftware di b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2232000"/>
            <a:ext cx="914400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Dobbiamo impartire ordini al computer usando solo il codice binar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Ovviamente no: alcuni programmi (il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software di base – sistema operativ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 rendono il computer più “facile da usare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Questi programmi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virtualizzan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l computer, per andare incontro alle esigenze dell’utente, che può così ignorare i dettagli implemen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3560" y="63792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istema Opera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1080" y="1844640"/>
            <a:ext cx="8712000" cy="46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di gran lunga il programma più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mportante che gira sul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enza il Sistema Operativo (S.O.) il computer sarebbe scomodissimo e complicatissimo da us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sfruttare le risorse del computer in modo semplice e intuitivo (si pensi ad esempio alle interfacce grafich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mette di eseguire programmi senza preoccuparsi di come questo avvenga all’interno del compu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1080" y="55368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sa fa il sistema operativ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722240"/>
            <a:ext cx="8424720" cy="48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sconde  la macchina fisica all’uten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stisce in modo efficiente le risorse del computer: cpu, memoria, periferi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erpreta i comandi dell’utente: movimenti del mouse, click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 eseguire i programmi (le applicazion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8680" y="47628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processore - CPU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CENTRAL PROCESSING UNIT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occupa di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eseguir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 programm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programmi che la CPU è in grado di eseguire sono scritti in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linguaggio macchi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7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Istruzioni macchi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4149720"/>
            <a:ext cx="86104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odice istruzi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gom. 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rgom.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4941720"/>
            <a:ext cx="6130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o 32 bit di lungh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argomenti possono man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4042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trati del sistema operativo (semplificat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11280" y="2060640"/>
            <a:ext cx="7772400" cy="4114800"/>
          </a:xfrm>
          <a:prstGeom prst="rect">
            <a:avLst/>
          </a:prstGeom>
          <a:solidFill>
            <a:srgbClr val="99c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42920" y="2924280"/>
            <a:ext cx="6967440" cy="2763720"/>
          </a:xfrm>
          <a:prstGeom prst="rect">
            <a:avLst/>
          </a:prstGeom>
          <a:solidFill>
            <a:srgbClr val="ffff99">
              <a:alpha val="72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430280" y="3911760"/>
            <a:ext cx="6283440" cy="126972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FACCIA COMAN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1428120" y="2987640"/>
            <a:ext cx="62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TIONE MEMORIA/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662280" y="423864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ipi si sistemi operati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79360" y="1835280"/>
            <a:ext cx="8864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no-utente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ulti-utente (Mono/multi-user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ono 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Multi-programmati (Mono/multi-tasking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850"/>
              </a:spcBef>
              <a:spcAft>
                <a:spcPts val="850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Distribuiti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 (o di ret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6720" y="55224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funzioni principali dei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istemi operativ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0160" y="18633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 processore e dei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process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memoria princip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memoria virtu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stione della memoria secondaria (il </a:t>
            </a: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file system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80520"/>
            <a:ext cx="7920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Un programma in linguaggio macchina (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ASSEMBLER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152800"/>
            <a:ext cx="17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362600" y="2209680"/>
            <a:ext cx="5267880" cy="3912840"/>
            <a:chOff x="1362600" y="2209680"/>
            <a:chExt cx="5267880" cy="3912840"/>
          </a:xfrm>
        </p:grpSpPr>
        <p:grpSp>
          <p:nvGrpSpPr>
            <p:cNvPr id="118" name=""/>
            <p:cNvGrpSpPr/>
            <p:nvPr/>
          </p:nvGrpSpPr>
          <p:grpSpPr>
            <a:xfrm>
              <a:off x="2815560" y="2209680"/>
              <a:ext cx="3814560" cy="3912840"/>
              <a:chOff x="2815560" y="2209680"/>
              <a:chExt cx="3814560" cy="391284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8440" y="2209680"/>
                <a:ext cx="380844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AD 3568 R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815560" y="2863800"/>
                <a:ext cx="380844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LOAD 3574 R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815560" y="351792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DD R1 R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18440" y="417204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STORE R1 356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18440" y="4826160"/>
                <a:ext cx="380520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JUMP 10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18440" y="5479920"/>
                <a:ext cx="3811680" cy="64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62600" y="22096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18800" y="4172040"/>
              <a:ext cx="38116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TORE R1 356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2600" y="293832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52320" y="346068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2600" y="35924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0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4120" y="411480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2600" y="424656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52360" y="4768920"/>
              <a:ext cx="1695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62600" y="490068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0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73476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et di istruzioni macchin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871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gni tipo di processore e’ in grado di eseguire un numero limitato (40/100) di istr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ndo in modo diverso sequenze anche molto lunghe di istruzioni (i programmi) si possono far fare al computer tantissime cose completamente divers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62244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set di istruzioni macchi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630440"/>
            <a:ext cx="8424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Istruzioni per l’elaborazione dei dat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itmeti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giche (AND, OR, NO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zionali (maggiore, minore, uguale,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Controllo del flusso delle istruzio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que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le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c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99"/>
                </a:solidFill>
                <a:latin typeface="Verdana"/>
              </a:rPr>
              <a:t>Trasferimento di informazio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 ed istruzioni fra CPU e memo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i fra CPU e dispositivi di I/O (tramite interfac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622440"/>
            <a:ext cx="8856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ruttura del processo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4360" y="1700280"/>
            <a:ext cx="7772400" cy="4467240"/>
            <a:chOff x="684360" y="1700280"/>
            <a:chExt cx="7772400" cy="446724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7772400" cy="44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825480" y="1916280"/>
              <a:ext cx="1224000" cy="4033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emori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entr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Le componenti della CPU: </a:t>
            </a:r>
            <a:br>
              <a:rPr sz="3400"/>
            </a:b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LA CONTROL UNIT (CU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22640" indent="-4226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unità di controllo del processore esegue una istruzione svolgendo le seguenti tre operazioni di ba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lettur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Decod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decodific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Execut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esecuzion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Un programma è eseguito reiterando il ciclo </a:t>
            </a: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fetch-decode-execute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ciclo macchina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) per eseguire ordinatamente le sue istruzio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5:32:58Z</dcterms:modified>
  <cp:revision>96</cp:revision>
  <dc:subject/>
  <dc:title>Diapositiva 1</dc:title>
</cp:coreProperties>
</file>