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4019040" y="0"/>
            <a:ext cx="30783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40190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48F47C7D-3376-4A09-8E90-0C97D152D9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B1AAC61C-0772-40BF-B164-7F9E1AB17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3EC1BD4B-F074-488F-9E5D-C664B641A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74A21F99-5CEF-4E41-B99E-70505E969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CC6A8BA0-C094-4811-AB80-94EBE77EF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E591AD01-C03E-4B82-A2D0-0A5E621A4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6EA01A2F-4643-46D5-89DD-3A49B6832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5F9BB5A1-5128-47B2-81D9-DE90A1CC32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F2016CA2-812D-4706-A9B8-FB1A4BB62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D86A5704-DEFD-41E7-94AB-AE32E3022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6275CF22-B320-47AC-BE36-1AE76A841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E4518A10-0D4B-4D81-939C-FD5BE8659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56A181E7-BD4B-45EF-B446-597FD8227A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0BB17195-F74D-4E42-9716-379319333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5CC766A0-97E1-424B-BBF7-9260020A6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171369A2-D326-4A31-8123-659556856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1F771DD1-46E9-47EF-A200-B8B784EF1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F1667ED8-26BD-42B1-BFD6-74BB4105CF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704D2C40-66F6-44D9-B7E5-05EB03BCD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62221960-6DAA-4850-8930-8EBC0470DB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CCF2AE5C-530B-4985-A5AE-DF45688BB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F642E708-110F-4ECF-8C09-AE38724609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BC3C597C-9E40-492C-B1AD-1057B56F6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51A19A92-926E-4ECA-89C3-DA65367AD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419B1793-61C2-42E1-8122-5B9B67105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A5320818-5F5C-4E53-A946-5DCF90FAE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1BDD6D5A-C394-4479-BF0F-4A96568E4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354170E0-A737-4209-B15E-251131ECA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AF595D74-CB8F-43B3-82D6-FB761C77E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FFABA6CC-6558-4BF3-8071-707ACD2B84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AE7021DE-E5AC-4F67-A86A-27E2DCDA9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CAE74D72-5B35-48FF-AD95-E665FC5ED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280BDC7A-EACC-480C-A438-DC6ED533F8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C82883C5-73EA-4736-B349-44761FC4E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F50AE0FA-3868-48E3-8FD5-75E9C5832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233D3267-8A51-4DC9-8609-E78E3CF158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62080" y="895320"/>
            <a:ext cx="4780080" cy="358452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44640" y="4865400"/>
            <a:ext cx="520992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A0D2FF7B-342F-42FB-95D3-05ECB477E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62080" y="895320"/>
            <a:ext cx="4780080" cy="358452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44640" y="4865400"/>
            <a:ext cx="520992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F787A407-9C66-4DFC-A765-27C7C16D5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D2234906-29A3-4668-BE87-CEC92BA606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5AF21809-2F09-4B0F-AF9B-BC203B98EF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D439BB75-5C57-4018-BF6D-20AB265F04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03584777-36F5-484C-B880-AABF37B95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8FD069B3-1756-4589-BBE7-A3E977D1E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2CCC20E9-8723-426D-BFCA-96ED5A52E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820A3726-BE76-4AB6-89F0-0B4F48EDC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C9BA67CA-B7EC-4356-B75A-01212A8FC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C1F13FD2-BAB7-449E-AA57-02479C87FA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F657E9E0-0BB9-4BE8-A62E-0396FC3E37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FD9A2D02-AC1C-4704-B6F6-F1B6640EE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70CF6046-13F2-448C-AB53-DD97245D1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20A753D3-68BC-4682-9BF9-9261CC69B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662C1FD0-5D54-4853-ABB5-DEB37246FF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E0CEF461-9AEE-4BE1-AD6A-BBB920C80A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401940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00265D81-4A2D-480D-B286-F7BBCC758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EEF0-5DF9-4430-976A-F52A05BBF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8271-9059-4A50-AC5B-390CD8CD8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ACBB-FFBB-4C59-B758-5BE9190EF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CF28-4F30-4534-8740-4E4A0DE72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4233A-CD3B-43CF-A7BB-A5D887542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5FAB8-3428-4F3F-AD01-EF52EF2BB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72A06-0991-475D-A131-9DF0D9374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84D36-F272-4BA7-9F1E-5CC132803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9C82A-3345-4D3B-887E-475F4CC69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E5A86-2407-4335-9101-1B6231356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7A8FE-EB7C-4579-A979-05BF060FC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C455-AE0C-48B8-A984-857FA2F91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354FF-AE50-4B5D-A36C-9A4F37982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70B41-B310-42FE-A9DA-0551852A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2D030-0EBC-4B45-8386-CA11426CA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066E7-94EB-40B1-A7C1-AFAB0A929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C189F-8F22-4B19-808C-5135FC68D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48D9-FDBC-40BD-8D33-DAE3BB748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36EE-9940-44E5-AFF1-49F1EA355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1689-A524-4BC6-BA77-1493E426C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F73F-CE1C-4681-97A5-0BD1BFF21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7F0D-D277-441B-867F-2BE8FCECA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AE67-06B1-4FCF-89CA-BA84E6CED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79A6-C3D4-4ECC-B155-1D9E1DB6E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318E4-DB57-4F9A-8BDD-D9BFE4A071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79AD8-AA81-4B78-8B03-1AB4055788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INTRODUZION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ALL’ INFORMATIC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AutoShape 3">
            <a:hlinkClick r:id="" action="ppaction://hlinkshowjump?jump=nextslide"/>
          </p:cNvPr>
          <p:cNvSpPr/>
          <p:nvPr/>
        </p:nvSpPr>
        <p:spPr>
          <a:xfrm>
            <a:off x="8893080" y="6597720"/>
            <a:ext cx="250920" cy="260280"/>
          </a:xfrm>
          <a:custGeom>
            <a:avLst/>
            <a:gdLst>
              <a:gd name="textAreaLeft" fmla="*/ 16200 w 250920"/>
              <a:gd name="textAreaRight" fmla="*/ 234720 w 250920"/>
              <a:gd name="textAreaTop" fmla="*/ 16200 h 260280"/>
              <a:gd name="textAreaBottom" fmla="*/ 244080 h 260280"/>
            </a:gdLst>
            <a:ahLst/>
            <a:rect l="textAreaLeft" t="textAreaTop" r="textAreaRight" b="textAreaBottom"/>
            <a:pathLst>
              <a:path w="21600" h="22405">
                <a:moveTo>
                  <a:pt x="0" y="0"/>
                </a:moveTo>
                <a:lnTo>
                  <a:pt x="21600" y="0"/>
                </a:lnTo>
                <a:lnTo>
                  <a:pt x="21600" y="22405"/>
                </a:lnTo>
                <a:lnTo>
                  <a:pt x="0" y="22405"/>
                </a:lnTo>
                <a:close/>
              </a:path>
              <a:path fill="lightenLess" w="21600" h="224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405">
                <a:moveTo>
                  <a:pt x="21600" y="0"/>
                </a:moveTo>
                <a:lnTo>
                  <a:pt x="21600" y="22405"/>
                </a:lnTo>
                <a:lnTo>
                  <a:pt x="20200" y="21005"/>
                </a:lnTo>
                <a:lnTo>
                  <a:pt x="20200" y="1400"/>
                </a:lnTo>
                <a:close/>
              </a:path>
              <a:path fill="darkenLess" w="21600" h="22405">
                <a:moveTo>
                  <a:pt x="21600" y="22405"/>
                </a:moveTo>
                <a:lnTo>
                  <a:pt x="0" y="22405"/>
                </a:lnTo>
                <a:lnTo>
                  <a:pt x="1400" y="21005"/>
                </a:lnTo>
                <a:lnTo>
                  <a:pt x="20200" y="21005"/>
                </a:lnTo>
                <a:close/>
              </a:path>
              <a:path fill="lighten" w="21600" h="22405">
                <a:moveTo>
                  <a:pt x="0" y="224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005"/>
                </a:lnTo>
                <a:close/>
              </a:path>
              <a:path fill="darken" w="21600" h="22405">
                <a:moveTo>
                  <a:pt x="3794" y="4196"/>
                </a:moveTo>
                <a:lnTo>
                  <a:pt x="17806" y="11202"/>
                </a:lnTo>
                <a:lnTo>
                  <a:pt x="3794" y="18209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2776680"/>
            <a:ext cx="7991280" cy="36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69800" indent="-46980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000" spc="-1" strike="noStrike" u="sng">
                <a:solidFill>
                  <a:srgbClr val="000000"/>
                </a:solidFill>
                <a:uFillTx/>
                <a:latin typeface="Verdana"/>
              </a:rPr>
              <a:t>Ing. Francesco Calimer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600" spc="-1" strike="noStrike">
                <a:solidFill>
                  <a:srgbClr val="cc0000"/>
                </a:solidFill>
                <a:latin typeface="Verdana"/>
              </a:rPr>
              <a:t>Web</a:t>
            </a:r>
            <a:r>
              <a:rPr b="0" i="1" lang="it-IT" sz="2600" spc="-1" strike="noStrike">
                <a:solidFill>
                  <a:srgbClr val="000000"/>
                </a:solidFill>
                <a:latin typeface="Verdana"/>
              </a:rPr>
              <a:t>: http://www.mat.unical.it/calimer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600" spc="-1" strike="noStrike">
                <a:solidFill>
                  <a:srgbClr val="cc0000"/>
                </a:solidFill>
                <a:latin typeface="Verdana"/>
              </a:rPr>
              <a:t>E-Mail</a:t>
            </a:r>
            <a:r>
              <a:rPr b="0" i="1" lang="it-IT" sz="26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it-IT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it-IT" sz="2600" spc="-1" strike="noStrike">
                <a:solidFill>
                  <a:srgbClr val="000000"/>
                </a:solidFill>
                <a:latin typeface="Verdana"/>
              </a:rPr>
              <a:t>calimeri@mat.unical.i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600" spc="-1" strike="noStrike">
                <a:solidFill>
                  <a:srgbClr val="cc0000"/>
                </a:solidFill>
                <a:latin typeface="Verdana"/>
              </a:rPr>
              <a:t>Indirizzo</a:t>
            </a:r>
            <a:r>
              <a:rPr b="0" i="1" lang="it-IT" sz="2600" spc="-1" strike="noStrike">
                <a:solidFill>
                  <a:srgbClr val="000000"/>
                </a:solidFill>
                <a:latin typeface="Verdana"/>
              </a:rPr>
              <a:t>: Dipartimento di Matematica,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600" spc="-1" strike="noStrike">
                <a:solidFill>
                  <a:srgbClr val="000000"/>
                </a:solidFill>
                <a:latin typeface="Verdana"/>
              </a:rPr>
              <a:t>cubo 30b, Università della Calabri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it-IT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it-IT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it-IT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it-IT" sz="2600" spc="-1" strike="noStrike">
                <a:solidFill>
                  <a:srgbClr val="000000"/>
                </a:solidFill>
                <a:latin typeface="Verdana"/>
              </a:rPr>
              <a:t>87036 Rende (Cosenza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600" spc="-1" strike="noStrike">
                <a:solidFill>
                  <a:srgbClr val="cc0000"/>
                </a:solidFill>
                <a:latin typeface="Verdana"/>
              </a:rPr>
              <a:t>Tel. Ufficio</a:t>
            </a:r>
            <a:r>
              <a:rPr b="0" i="1" lang="it-IT" sz="2600" spc="-1" strike="noStrike">
                <a:solidFill>
                  <a:srgbClr val="000000"/>
                </a:solidFill>
                <a:latin typeface="Verdana"/>
              </a:rPr>
              <a:t>:0984 – 496478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39016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Cosa possiamo fare con un calcolatore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Picture 4" descr="j0285750"/>
          <p:cNvPicPr/>
          <p:nvPr/>
        </p:nvPicPr>
        <p:blipFill>
          <a:blip r:embed="rId1"/>
          <a:stretch/>
        </p:blipFill>
        <p:spPr>
          <a:xfrm>
            <a:off x="2556000" y="2421000"/>
            <a:ext cx="4776840" cy="293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Cosa possiamo fare con un calcolatore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3" descr="Screen_Campo_minato"/>
          <p:cNvPicPr/>
          <p:nvPr/>
        </p:nvPicPr>
        <p:blipFill>
          <a:blip r:embed="rId1"/>
          <a:stretch/>
        </p:blipFill>
        <p:spPr>
          <a:xfrm>
            <a:off x="2916360" y="2133720"/>
            <a:ext cx="3200400" cy="34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Cosa possiamo fare con un calcolatore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1187280" y="1773360"/>
            <a:ext cx="6891480" cy="43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9216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osa possiamo fare con un calcolatore?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8280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Verdana"/>
              </a:rPr>
              <a:t>Word Processing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Memorizzare, elaborare testi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Verdana"/>
              </a:rPr>
              <a:t>Basi di Dati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. Memorizzare grossi archivi di dati, recupero veloce, produrre informazioni globali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Verdana"/>
              </a:rPr>
              <a:t>Accesso Remoto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Trasmissione e recupero di informazioni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Verdana"/>
              </a:rPr>
              <a:t>Calcolo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. Risolvere problemi matematici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Verdana"/>
              </a:rPr>
              <a:t>Simulazioni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. Rappresentare e elaborare informazioni che simulano l’ambiente real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0000"/>
                </a:solidFill>
                <a:latin typeface="Verdana"/>
              </a:rPr>
              <a:t>Utilizzo di un elaborato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Come utent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Uso software applicativo esistente per creare documenti  e interfacce grafiche, effettuare calcoli, navigare in re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Come sviluppator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Creo nuovi programmi sullo strato del software esisten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Nuovi programmi applicativi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Nuovi programmi di sistema (cioè che fanno funzionare il calcolatore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0000"/>
                </a:solidFill>
                <a:latin typeface="Verdana"/>
              </a:rPr>
              <a:t>Architettura dei Sistemi Informatic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000" spc="-1" strike="noStrike">
                <a:solidFill>
                  <a:srgbClr val="003366"/>
                </a:solidFill>
                <a:latin typeface="Verdana"/>
              </a:rPr>
              <a:t>Sistemi Informatici</a:t>
            </a:r>
            <a:r>
              <a:rPr b="0" lang="it-IT" sz="3000" spc="-1" strike="noStrike">
                <a:solidFill>
                  <a:srgbClr val="003366"/>
                </a:solidFill>
                <a:latin typeface="Verdana"/>
              </a:rPr>
              <a:t>: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 PC, Rete di Calc., ..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000" spc="-1" strike="noStrike">
                <a:solidFill>
                  <a:srgbClr val="003366"/>
                </a:solidFill>
                <a:latin typeface="Verdana"/>
              </a:rPr>
              <a:t>Architettura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: insieme delle componenti del sistema, descrizione delle loro funzionalità e della loro interazion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Suddivisione principal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600" spc="-1" strike="noStrike">
                <a:solidFill>
                  <a:srgbClr val="003366"/>
                </a:solidFill>
                <a:latin typeface="Verdana"/>
              </a:rPr>
              <a:t>Hardwa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600" spc="-1" strike="noStrike">
                <a:solidFill>
                  <a:srgbClr val="003366"/>
                </a:solidFill>
                <a:latin typeface="Verdana"/>
              </a:rPr>
              <a:t>Softwa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0000"/>
                </a:solidFill>
                <a:latin typeface="Verdana"/>
              </a:rPr>
              <a:t>Hardwa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3366"/>
                </a:solidFill>
                <a:latin typeface="Verdana"/>
              </a:rPr>
              <a:t>Unità di Elaborazione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(Processore o CPU)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Svolge le elaborazion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Coordina il trasferimento dei dat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Cioè ‘esegue’ i programm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3366"/>
                </a:solidFill>
                <a:latin typeface="Verdana"/>
              </a:rPr>
              <a:t>Memoria Central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Memorizza dati e programmi per l’elaborazion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Volati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Accesso rapid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Capacità limitata</a:t>
            </a: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0000"/>
                </a:solidFill>
                <a:latin typeface="Verdana"/>
              </a:rPr>
              <a:t>Hardwa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3366"/>
                </a:solidFill>
                <a:latin typeface="Verdana"/>
              </a:rPr>
              <a:t>Memoria Secondaria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 (es. Hard disk,floppy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Grande capacit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Persisten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Accesso piu lento della R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3366"/>
                </a:solidFill>
                <a:latin typeface="Verdana"/>
              </a:rPr>
              <a:t>Unità Periferich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Interfaccia verso l’estern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Terminali (tastiera, video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Stampant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0000"/>
                </a:solidFill>
                <a:latin typeface="Verdana"/>
              </a:rPr>
              <a:t>Hardwa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3366"/>
                </a:solidFill>
                <a:latin typeface="Verdana"/>
              </a:rPr>
              <a:t>Bus di Sistem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Collega le altre component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Verdana"/>
              </a:rPr>
              <a:t>RAM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Verdana"/>
              </a:rPr>
              <a:t>Memorie Secondarie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2300" spc="-1" strike="noStrike">
                <a:solidFill>
                  <a:srgbClr val="000000"/>
                </a:solidFill>
                <a:latin typeface="Verdana"/>
              </a:rPr>
              <a:t>Periferich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Insieme di collegamenti di vario tip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0000"/>
                </a:solidFill>
                <a:latin typeface="Verdana"/>
              </a:rPr>
              <a:t>Esempi di S. I. :</a:t>
            </a:r>
            <a:br>
              <a:rPr sz="3800"/>
            </a:br>
            <a:r>
              <a:rPr b="0" lang="it-IT" sz="3800" spc="-1" strike="noStrike">
                <a:solidFill>
                  <a:srgbClr val="000000"/>
                </a:solidFill>
                <a:latin typeface="Verdana"/>
              </a:rPr>
              <a:t>Personal Comput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000" spc="-1" strike="noStrike">
                <a:solidFill>
                  <a:srgbClr val="000000"/>
                </a:solidFill>
                <a:latin typeface="Verdana"/>
              </a:rPr>
              <a:t>Contenitore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 c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CPU, R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Memoria Centra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Verdana"/>
              </a:rPr>
              <a:t>Fisso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Verdana"/>
              </a:rPr>
              <a:t>Unità per Dischetti/C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Monito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Disco Tastier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2627280" y="6453360"/>
            <a:ext cx="432108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685800" y="404640"/>
            <a:ext cx="77724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oordinatori del cors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31640" y="1701720"/>
            <a:ext cx="831708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tt. William Spataro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spataro@unical.i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udio A: Dipartimento di Matematica, Cubo 31B 2° Piano -- Studio B: Centro di Eccellenza per il Calcolo ad Alte Prestazioni (HPCC), Cubo 22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l. 0984.496464 – 0984.49487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b: www.mat.unical.it/spatar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tt.ssa Mina Catalano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catalano@mat.unical.i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partimento di Matematica, Cubo 31B 2° pian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l. 0984.49648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0000"/>
                </a:solidFill>
                <a:latin typeface="Verdana"/>
              </a:rPr>
              <a:t>Altri Sistemi Informatic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56760" y="1642680"/>
            <a:ext cx="83631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46040" indent="-44604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3366"/>
                </a:solidFill>
                <a:latin typeface="Verdana"/>
              </a:rPr>
              <a:t>Works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2200" indent="-41436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Calcolatore con elevate prestazion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3366"/>
                </a:solidFill>
                <a:latin typeface="Verdana"/>
              </a:rPr>
              <a:t>Mini-compu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2200" indent="-41436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Servono reti di terminali con pochi utent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3366"/>
                </a:solidFill>
                <a:latin typeface="Verdana"/>
              </a:rPr>
              <a:t>Main-fra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2200" indent="-41436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Servono reti di terminali con centinaia di utent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2060"/>
                </a:solidFill>
                <a:latin typeface="Verdana"/>
              </a:rPr>
              <a:t>Calcolatori High 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2200" indent="-41436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Solitamente calcolatori composti da più CPU collegati in parallelo (es:Dual/Quad Core, Cluster, ecc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622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622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0000"/>
                </a:solidFill>
                <a:latin typeface="Verdana"/>
              </a:rPr>
              <a:t>Altri Sistemi Informatic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Reti di Calcolator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600" spc="-1" strike="noStrike">
                <a:solidFill>
                  <a:srgbClr val="003366"/>
                </a:solidFill>
                <a:latin typeface="Verdana"/>
              </a:rPr>
              <a:t>Reti Locali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: collegano terminali vicini tra loro; i terminali usufruiscono di servizi quali stampanti di diverso tipo, memoria di massa,..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600" spc="-1" strike="noStrike">
                <a:solidFill>
                  <a:srgbClr val="003366"/>
                </a:solidFill>
                <a:latin typeface="Verdana"/>
              </a:rPr>
              <a:t>Reti Geografiche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: collegano dei calcolatori (detti) </a:t>
            </a:r>
            <a:r>
              <a:rPr b="0" i="1" lang="it-IT" sz="2600" spc="-1" strike="noStrike">
                <a:solidFill>
                  <a:srgbClr val="000000"/>
                </a:solidFill>
                <a:latin typeface="Verdana"/>
              </a:rPr>
              <a:t>host 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a medio-grandi distanze; ad esempio possono collegare diverse reti locali tra loro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0000"/>
                </a:solidFill>
                <a:latin typeface="Verdana"/>
              </a:rPr>
              <a:t>Softwa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000" spc="-1" strike="noStrike">
                <a:solidFill>
                  <a:srgbClr val="003366"/>
                </a:solidFill>
                <a:latin typeface="Verdana"/>
              </a:rPr>
              <a:t>Software di base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Dedicato alla </a:t>
            </a:r>
            <a:r>
              <a:rPr b="1" lang="it-IT" sz="2600" spc="-1" strike="noStrike">
                <a:solidFill>
                  <a:srgbClr val="000000"/>
                </a:solidFill>
                <a:latin typeface="Verdana"/>
              </a:rPr>
              <a:t>gestione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dell’elaborator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Esempio: </a:t>
            </a:r>
            <a:r>
              <a:rPr b="1" lang="it-IT" sz="2600" spc="-1" strike="noStrike">
                <a:solidFill>
                  <a:srgbClr val="000000"/>
                </a:solidFill>
                <a:latin typeface="Verdana"/>
              </a:rPr>
              <a:t>Sistema Operativo (Windows, Linux, etc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000" spc="-1" strike="noStrike">
                <a:solidFill>
                  <a:srgbClr val="003366"/>
                </a:solidFill>
                <a:latin typeface="Verdana"/>
              </a:rPr>
              <a:t>Software applicativo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Dedicato alla realizzazione di specifiche applicativ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Esempio: programmi per scrittura, gestione aziendale, navigazione su internet, ec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ome ragiona il computer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blemi e algoritm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AutoShape 4">
            <a:hlinkClick r:id="" action="ppaction://hlinkshowjump?jump=nextslide"/>
          </p:cNvPr>
          <p:cNvSpPr/>
          <p:nvPr/>
        </p:nvSpPr>
        <p:spPr>
          <a:xfrm>
            <a:off x="8820000" y="6524640"/>
            <a:ext cx="324000" cy="33336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33360"/>
              <a:gd name="textAreaBottom" fmla="*/ 312480 h 333360"/>
            </a:gdLst>
            <a:ahLst/>
            <a:rect l="textAreaLeft" t="textAreaTop" r="textAreaRight" b="textAreaBottom"/>
            <a:pathLst>
              <a:path w="21600" h="22223">
                <a:moveTo>
                  <a:pt x="0" y="0"/>
                </a:moveTo>
                <a:lnTo>
                  <a:pt x="21600" y="0"/>
                </a:lnTo>
                <a:lnTo>
                  <a:pt x="21600" y="22223"/>
                </a:lnTo>
                <a:lnTo>
                  <a:pt x="0" y="22223"/>
                </a:lnTo>
                <a:close/>
              </a:path>
              <a:path fill="lightenLess" w="21600" h="222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23">
                <a:moveTo>
                  <a:pt x="21600" y="0"/>
                </a:moveTo>
                <a:lnTo>
                  <a:pt x="21600" y="22223"/>
                </a:lnTo>
                <a:lnTo>
                  <a:pt x="20200" y="20823"/>
                </a:lnTo>
                <a:lnTo>
                  <a:pt x="20200" y="1400"/>
                </a:lnTo>
                <a:close/>
              </a:path>
              <a:path fill="darkenLess" w="21600" h="22223">
                <a:moveTo>
                  <a:pt x="21600" y="22223"/>
                </a:moveTo>
                <a:lnTo>
                  <a:pt x="0" y="22223"/>
                </a:lnTo>
                <a:lnTo>
                  <a:pt x="1400" y="20823"/>
                </a:lnTo>
                <a:lnTo>
                  <a:pt x="20200" y="20823"/>
                </a:lnTo>
                <a:close/>
              </a:path>
              <a:path fill="lighten" w="21600" h="22223">
                <a:moveTo>
                  <a:pt x="0" y="222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23"/>
                </a:lnTo>
                <a:close/>
              </a:path>
              <a:path fill="darken" w="21600" h="22223">
                <a:moveTo>
                  <a:pt x="3794" y="4105"/>
                </a:moveTo>
                <a:lnTo>
                  <a:pt x="17806" y="11112"/>
                </a:lnTo>
                <a:lnTo>
                  <a:pt x="3794" y="18118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Il problem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bbiamo un </a:t>
            </a: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problema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quando ci poniamo un </a:t>
            </a: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obiettivo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da raggiungere e per raggiungerlo dobbiamo mettere a punto una </a:t>
            </a: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strateg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AutoShape 4">
            <a:hlinkClick r:id="" action="ppaction://hlinkshowjump?jump=nextslide"/>
          </p:cNvPr>
          <p:cNvSpPr/>
          <p:nvPr/>
        </p:nvSpPr>
        <p:spPr>
          <a:xfrm>
            <a:off x="8820000" y="6524640"/>
            <a:ext cx="324000" cy="33336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33360"/>
              <a:gd name="textAreaBottom" fmla="*/ 312480 h 333360"/>
            </a:gdLst>
            <a:ahLst/>
            <a:rect l="textAreaLeft" t="textAreaTop" r="textAreaRight" b="textAreaBottom"/>
            <a:pathLst>
              <a:path w="21600" h="22223">
                <a:moveTo>
                  <a:pt x="0" y="0"/>
                </a:moveTo>
                <a:lnTo>
                  <a:pt x="21600" y="0"/>
                </a:lnTo>
                <a:lnTo>
                  <a:pt x="21600" y="22223"/>
                </a:lnTo>
                <a:lnTo>
                  <a:pt x="0" y="22223"/>
                </a:lnTo>
                <a:close/>
              </a:path>
              <a:path fill="lightenLess" w="21600" h="222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23">
                <a:moveTo>
                  <a:pt x="21600" y="0"/>
                </a:moveTo>
                <a:lnTo>
                  <a:pt x="21600" y="22223"/>
                </a:lnTo>
                <a:lnTo>
                  <a:pt x="20200" y="20823"/>
                </a:lnTo>
                <a:lnTo>
                  <a:pt x="20200" y="1400"/>
                </a:lnTo>
                <a:close/>
              </a:path>
              <a:path fill="darkenLess" w="21600" h="22223">
                <a:moveTo>
                  <a:pt x="21600" y="22223"/>
                </a:moveTo>
                <a:lnTo>
                  <a:pt x="0" y="22223"/>
                </a:lnTo>
                <a:lnTo>
                  <a:pt x="1400" y="20823"/>
                </a:lnTo>
                <a:lnTo>
                  <a:pt x="20200" y="20823"/>
                </a:lnTo>
                <a:close/>
              </a:path>
              <a:path fill="lighten" w="21600" h="22223">
                <a:moveTo>
                  <a:pt x="0" y="222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23"/>
                </a:lnTo>
                <a:close/>
              </a:path>
              <a:path fill="darken" w="21600" h="22223">
                <a:moveTo>
                  <a:pt x="3794" y="4105"/>
                </a:moveTo>
                <a:lnTo>
                  <a:pt x="17806" y="11112"/>
                </a:lnTo>
                <a:lnTo>
                  <a:pt x="3794" y="18118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Oval 6"/>
          <p:cNvSpPr/>
          <p:nvPr/>
        </p:nvSpPr>
        <p:spPr>
          <a:xfrm>
            <a:off x="755640" y="4149720"/>
            <a:ext cx="1944720" cy="1295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Verdana"/>
              </a:rPr>
              <a:t>Proble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AutoShape 7"/>
          <p:cNvSpPr/>
          <p:nvPr/>
        </p:nvSpPr>
        <p:spPr>
          <a:xfrm>
            <a:off x="2700360" y="4579920"/>
            <a:ext cx="863640" cy="433440"/>
          </a:xfrm>
          <a:prstGeom prst="rightArrow">
            <a:avLst>
              <a:gd name="adj1" fmla="val 50000"/>
              <a:gd name="adj2" fmla="val 49813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3564000" y="4076640"/>
            <a:ext cx="2232000" cy="1295640"/>
          </a:xfrm>
          <a:prstGeom prst="rect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Verdana"/>
              </a:rPr>
              <a:t>Strateg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AutoShape 9"/>
          <p:cNvSpPr/>
          <p:nvPr/>
        </p:nvSpPr>
        <p:spPr>
          <a:xfrm>
            <a:off x="5796000" y="4579920"/>
            <a:ext cx="863640" cy="433440"/>
          </a:xfrm>
          <a:prstGeom prst="rightArrow">
            <a:avLst>
              <a:gd name="adj1" fmla="val 50000"/>
              <a:gd name="adj2" fmla="val 49813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Oval 10"/>
          <p:cNvSpPr/>
          <p:nvPr/>
        </p:nvSpPr>
        <p:spPr>
          <a:xfrm>
            <a:off x="6659640" y="4149720"/>
            <a:ext cx="1944720" cy="129528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Verdana"/>
              </a:rPr>
              <a:t>Obiettiv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I problemi tipici dell’informatic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AutoShape 3">
            <a:hlinkClick r:id="" action="ppaction://hlinkshowjump?jump=nextslide"/>
          </p:cNvPr>
          <p:cNvSpPr/>
          <p:nvPr/>
        </p:nvSpPr>
        <p:spPr>
          <a:xfrm>
            <a:off x="8820000" y="6524640"/>
            <a:ext cx="324000" cy="33336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33360"/>
              <a:gd name="textAreaBottom" fmla="*/ 312480 h 333360"/>
            </a:gdLst>
            <a:ahLst/>
            <a:rect l="textAreaLeft" t="textAreaTop" r="textAreaRight" b="textAreaBottom"/>
            <a:pathLst>
              <a:path w="21600" h="22223">
                <a:moveTo>
                  <a:pt x="0" y="0"/>
                </a:moveTo>
                <a:lnTo>
                  <a:pt x="21600" y="0"/>
                </a:lnTo>
                <a:lnTo>
                  <a:pt x="21600" y="22223"/>
                </a:lnTo>
                <a:lnTo>
                  <a:pt x="0" y="22223"/>
                </a:lnTo>
                <a:close/>
              </a:path>
              <a:path fill="lightenLess" w="21600" h="222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23">
                <a:moveTo>
                  <a:pt x="21600" y="0"/>
                </a:moveTo>
                <a:lnTo>
                  <a:pt x="21600" y="22223"/>
                </a:lnTo>
                <a:lnTo>
                  <a:pt x="20200" y="20823"/>
                </a:lnTo>
                <a:lnTo>
                  <a:pt x="20200" y="1400"/>
                </a:lnTo>
                <a:close/>
              </a:path>
              <a:path fill="darkenLess" w="21600" h="22223">
                <a:moveTo>
                  <a:pt x="21600" y="22223"/>
                </a:moveTo>
                <a:lnTo>
                  <a:pt x="0" y="22223"/>
                </a:lnTo>
                <a:lnTo>
                  <a:pt x="1400" y="20823"/>
                </a:lnTo>
                <a:lnTo>
                  <a:pt x="20200" y="20823"/>
                </a:lnTo>
                <a:close/>
              </a:path>
              <a:path fill="lighten" w="21600" h="22223">
                <a:moveTo>
                  <a:pt x="0" y="222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23"/>
                </a:lnTo>
                <a:close/>
              </a:path>
              <a:path fill="darken" w="21600" h="22223">
                <a:moveTo>
                  <a:pt x="3794" y="4105"/>
                </a:moveTo>
                <a:lnTo>
                  <a:pt x="17806" y="11112"/>
                </a:lnTo>
                <a:lnTo>
                  <a:pt x="3794" y="18118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Ricerca di informazion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rovare il numero di telefono di una person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dividuare il numero più piccolo di una sequenz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abilire se una parola precede alfabeticamente un’altr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AutoShape 4">
            <a:hlinkClick r:id="" action="ppaction://hlinkshowjump?jump=nextslide"/>
          </p:cNvPr>
          <p:cNvSpPr/>
          <p:nvPr/>
        </p:nvSpPr>
        <p:spPr>
          <a:xfrm>
            <a:off x="8820000" y="6524640"/>
            <a:ext cx="324000" cy="33336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33360"/>
              <a:gd name="textAreaBottom" fmla="*/ 312480 h 333360"/>
            </a:gdLst>
            <a:ahLst/>
            <a:rect l="textAreaLeft" t="textAreaTop" r="textAreaRight" b="textAreaBottom"/>
            <a:pathLst>
              <a:path w="21600" h="22223">
                <a:moveTo>
                  <a:pt x="0" y="0"/>
                </a:moveTo>
                <a:lnTo>
                  <a:pt x="21600" y="0"/>
                </a:lnTo>
                <a:lnTo>
                  <a:pt x="21600" y="22223"/>
                </a:lnTo>
                <a:lnTo>
                  <a:pt x="0" y="22223"/>
                </a:lnTo>
                <a:close/>
              </a:path>
              <a:path fill="lightenLess" w="21600" h="222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23">
                <a:moveTo>
                  <a:pt x="21600" y="0"/>
                </a:moveTo>
                <a:lnTo>
                  <a:pt x="21600" y="22223"/>
                </a:lnTo>
                <a:lnTo>
                  <a:pt x="20200" y="20823"/>
                </a:lnTo>
                <a:lnTo>
                  <a:pt x="20200" y="1400"/>
                </a:lnTo>
                <a:close/>
              </a:path>
              <a:path fill="darkenLess" w="21600" h="22223">
                <a:moveTo>
                  <a:pt x="21600" y="22223"/>
                </a:moveTo>
                <a:lnTo>
                  <a:pt x="0" y="22223"/>
                </a:lnTo>
                <a:lnTo>
                  <a:pt x="1400" y="20823"/>
                </a:lnTo>
                <a:lnTo>
                  <a:pt x="20200" y="20823"/>
                </a:lnTo>
                <a:close/>
              </a:path>
              <a:path fill="lighten" w="21600" h="22223">
                <a:moveTo>
                  <a:pt x="0" y="222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23"/>
                </a:lnTo>
                <a:close/>
              </a:path>
              <a:path fill="darken" w="21600" h="22223">
                <a:moveTo>
                  <a:pt x="3794" y="4105"/>
                </a:moveTo>
                <a:lnTo>
                  <a:pt x="17806" y="11112"/>
                </a:lnTo>
                <a:lnTo>
                  <a:pt x="3794" y="18118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Problemi di elaborazione di informazion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lcolare il costo totale di un certo numero di prodotti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rovare perimetro e area di una figura geometr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AutoShape 4">
            <a:hlinkClick r:id="" action="ppaction://hlinkshowjump?jump=nextslide"/>
          </p:cNvPr>
          <p:cNvSpPr/>
          <p:nvPr/>
        </p:nvSpPr>
        <p:spPr>
          <a:xfrm>
            <a:off x="8820000" y="6524640"/>
            <a:ext cx="324000" cy="33336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33360"/>
              <a:gd name="textAreaBottom" fmla="*/ 312480 h 333360"/>
            </a:gdLst>
            <a:ahLst/>
            <a:rect l="textAreaLeft" t="textAreaTop" r="textAreaRight" b="textAreaBottom"/>
            <a:pathLst>
              <a:path w="21600" h="22223">
                <a:moveTo>
                  <a:pt x="0" y="0"/>
                </a:moveTo>
                <a:lnTo>
                  <a:pt x="21600" y="0"/>
                </a:lnTo>
                <a:lnTo>
                  <a:pt x="21600" y="22223"/>
                </a:lnTo>
                <a:lnTo>
                  <a:pt x="0" y="22223"/>
                </a:lnTo>
                <a:close/>
              </a:path>
              <a:path fill="lightenLess" w="21600" h="222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23">
                <a:moveTo>
                  <a:pt x="21600" y="0"/>
                </a:moveTo>
                <a:lnTo>
                  <a:pt x="21600" y="22223"/>
                </a:lnTo>
                <a:lnTo>
                  <a:pt x="20200" y="20823"/>
                </a:lnTo>
                <a:lnTo>
                  <a:pt x="20200" y="1400"/>
                </a:lnTo>
                <a:close/>
              </a:path>
              <a:path fill="darkenLess" w="21600" h="22223">
                <a:moveTo>
                  <a:pt x="21600" y="22223"/>
                </a:moveTo>
                <a:lnTo>
                  <a:pt x="0" y="22223"/>
                </a:lnTo>
                <a:lnTo>
                  <a:pt x="1400" y="20823"/>
                </a:lnTo>
                <a:lnTo>
                  <a:pt x="20200" y="20823"/>
                </a:lnTo>
                <a:close/>
              </a:path>
              <a:path fill="lighten" w="21600" h="22223">
                <a:moveTo>
                  <a:pt x="0" y="222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23"/>
                </a:lnTo>
                <a:close/>
              </a:path>
              <a:path fill="darken" w="21600" h="22223">
                <a:moveTo>
                  <a:pt x="3794" y="4105"/>
                </a:moveTo>
                <a:lnTo>
                  <a:pt x="17806" y="11112"/>
                </a:lnTo>
                <a:lnTo>
                  <a:pt x="3794" y="18118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Problemi di ottimizzazion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rovare tra tutte le soluzioni possibili del problema quella che rende minimo un certo fattore, per esempio scegliere il mezzo di trasporto più economico per andare a Parigi oppure quello con il quale si impiega meno temp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AutoShape 4">
            <a:hlinkClick r:id="" action="ppaction://hlinkshowjump?jump=nextslide"/>
          </p:cNvPr>
          <p:cNvSpPr/>
          <p:nvPr/>
        </p:nvSpPr>
        <p:spPr>
          <a:xfrm>
            <a:off x="8820000" y="6524640"/>
            <a:ext cx="324000" cy="33336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33360"/>
              <a:gd name="textAreaBottom" fmla="*/ 312480 h 333360"/>
            </a:gdLst>
            <a:ahLst/>
            <a:rect l="textAreaLeft" t="textAreaTop" r="textAreaRight" b="textAreaBottom"/>
            <a:pathLst>
              <a:path w="21600" h="22223">
                <a:moveTo>
                  <a:pt x="0" y="0"/>
                </a:moveTo>
                <a:lnTo>
                  <a:pt x="21600" y="0"/>
                </a:lnTo>
                <a:lnTo>
                  <a:pt x="21600" y="22223"/>
                </a:lnTo>
                <a:lnTo>
                  <a:pt x="0" y="22223"/>
                </a:lnTo>
                <a:close/>
              </a:path>
              <a:path fill="lightenLess" w="21600" h="222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23">
                <a:moveTo>
                  <a:pt x="21600" y="0"/>
                </a:moveTo>
                <a:lnTo>
                  <a:pt x="21600" y="22223"/>
                </a:lnTo>
                <a:lnTo>
                  <a:pt x="20200" y="20823"/>
                </a:lnTo>
                <a:lnTo>
                  <a:pt x="20200" y="1400"/>
                </a:lnTo>
                <a:close/>
              </a:path>
              <a:path fill="darkenLess" w="21600" h="22223">
                <a:moveTo>
                  <a:pt x="21600" y="22223"/>
                </a:moveTo>
                <a:lnTo>
                  <a:pt x="0" y="22223"/>
                </a:lnTo>
                <a:lnTo>
                  <a:pt x="1400" y="20823"/>
                </a:lnTo>
                <a:lnTo>
                  <a:pt x="20200" y="20823"/>
                </a:lnTo>
                <a:close/>
              </a:path>
              <a:path fill="lighten" w="21600" h="22223">
                <a:moveTo>
                  <a:pt x="0" y="222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23"/>
                </a:lnTo>
                <a:close/>
              </a:path>
              <a:path fill="darken" w="21600" h="22223">
                <a:moveTo>
                  <a:pt x="3794" y="4105"/>
                </a:moveTo>
                <a:lnTo>
                  <a:pt x="17806" y="11112"/>
                </a:lnTo>
                <a:lnTo>
                  <a:pt x="3794" y="18118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569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Risolvere un problem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560" y="2041200"/>
            <a:ext cx="883908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e si costruisce la soluzione a un problema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Qual è il giusto “punto di partenza” per pensare la soluzione a un problema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Quali metodologie e tecniche usar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Programma del cors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Introduzione agli algoritm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Rappresentazione delle Informazion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Architettura del calcolato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Reti di Calcolatori (Reti Locali, Internet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Elementi di Programmazion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2627280" y="6453360"/>
            <a:ext cx="432108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Risolvere un problem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79280" y="1609560"/>
            <a:ext cx="9361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rpretare l’enuncia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dividuare i dati noti e quelli da trov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struire un modell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vere il procedimento risolutiv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eguire le operazioni stabilite nel processo risolutiv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erificare se i risultati ottenuti corrispondono alla soluzione del problema rea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AutoShape 13">
            <a:hlinkClick r:id="" action="ppaction://hlinkshowjump?jump=nextslide"/>
          </p:cNvPr>
          <p:cNvSpPr/>
          <p:nvPr/>
        </p:nvSpPr>
        <p:spPr>
          <a:xfrm>
            <a:off x="8820000" y="6524640"/>
            <a:ext cx="324000" cy="33336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33360"/>
              <a:gd name="textAreaBottom" fmla="*/ 312480 h 333360"/>
            </a:gdLst>
            <a:ahLst/>
            <a:rect l="textAreaLeft" t="textAreaTop" r="textAreaRight" b="textAreaBottom"/>
            <a:pathLst>
              <a:path w="21600" h="22223">
                <a:moveTo>
                  <a:pt x="0" y="0"/>
                </a:moveTo>
                <a:lnTo>
                  <a:pt x="21600" y="0"/>
                </a:lnTo>
                <a:lnTo>
                  <a:pt x="21600" y="22223"/>
                </a:lnTo>
                <a:lnTo>
                  <a:pt x="0" y="22223"/>
                </a:lnTo>
                <a:close/>
              </a:path>
              <a:path fill="lightenLess" w="21600" h="222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23">
                <a:moveTo>
                  <a:pt x="21600" y="0"/>
                </a:moveTo>
                <a:lnTo>
                  <a:pt x="21600" y="22223"/>
                </a:lnTo>
                <a:lnTo>
                  <a:pt x="20200" y="20823"/>
                </a:lnTo>
                <a:lnTo>
                  <a:pt x="20200" y="1400"/>
                </a:lnTo>
                <a:close/>
              </a:path>
              <a:path fill="darkenLess" w="21600" h="22223">
                <a:moveTo>
                  <a:pt x="21600" y="22223"/>
                </a:moveTo>
                <a:lnTo>
                  <a:pt x="0" y="22223"/>
                </a:lnTo>
                <a:lnTo>
                  <a:pt x="1400" y="20823"/>
                </a:lnTo>
                <a:lnTo>
                  <a:pt x="20200" y="20823"/>
                </a:lnTo>
                <a:close/>
              </a:path>
              <a:path fill="lighten" w="21600" h="22223">
                <a:moveTo>
                  <a:pt x="0" y="222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23"/>
                </a:lnTo>
                <a:close/>
              </a:path>
              <a:path fill="darken" w="21600" h="22223">
                <a:moveTo>
                  <a:pt x="3794" y="4105"/>
                </a:moveTo>
                <a:lnTo>
                  <a:pt x="17806" y="11112"/>
                </a:lnTo>
                <a:lnTo>
                  <a:pt x="3794" y="18118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0" name="Group 20"/>
          <p:cNvGrpSpPr/>
          <p:nvPr/>
        </p:nvGrpSpPr>
        <p:grpSpPr>
          <a:xfrm>
            <a:off x="611280" y="4292640"/>
            <a:ext cx="7129080" cy="2376360"/>
            <a:chOff x="611280" y="4292640"/>
            <a:chExt cx="7129080" cy="2376360"/>
          </a:xfrm>
        </p:grpSpPr>
        <p:sp>
          <p:nvSpPr>
            <p:cNvPr id="171" name="AutoShape 21"/>
            <p:cNvSpPr/>
            <p:nvPr/>
          </p:nvSpPr>
          <p:spPr>
            <a:xfrm>
              <a:off x="611280" y="4292640"/>
              <a:ext cx="7055280" cy="23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" name="AutoShape 22"/>
            <p:cNvSpPr/>
            <p:nvPr/>
          </p:nvSpPr>
          <p:spPr>
            <a:xfrm>
              <a:off x="1360440" y="4913640"/>
              <a:ext cx="6379920" cy="1751040"/>
            </a:xfrm>
            <a:custGeom>
              <a:avLst/>
              <a:gdLst>
                <a:gd name="textAreaLeft" fmla="*/ 1116360 w 6379920"/>
                <a:gd name="textAreaRight" fmla="*/ 4625640 w 6379920"/>
                <a:gd name="textAreaTop" fmla="*/ 234360 h 1751040"/>
                <a:gd name="textAreaBottom" fmla="*/ 1516680 h 175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Oval 23"/>
            <p:cNvSpPr/>
            <p:nvPr/>
          </p:nvSpPr>
          <p:spPr>
            <a:xfrm>
              <a:off x="990000" y="4605120"/>
              <a:ext cx="1851120" cy="41076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000"/>
                  </a:solidFill>
                  <a:latin typeface="Comic Sans MS"/>
                </a:rPr>
                <a:t>Problema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Oval 24"/>
            <p:cNvSpPr/>
            <p:nvPr/>
          </p:nvSpPr>
          <p:spPr>
            <a:xfrm>
              <a:off x="619560" y="5324400"/>
              <a:ext cx="3147840" cy="41076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000"/>
                  </a:solidFill>
                  <a:latin typeface="Comic Sans MS"/>
                </a:rPr>
                <a:t>Interpretazione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5" name="Oval 25"/>
            <p:cNvSpPr/>
            <p:nvPr/>
          </p:nvSpPr>
          <p:spPr>
            <a:xfrm>
              <a:off x="1738080" y="6048000"/>
              <a:ext cx="1852200" cy="41076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000"/>
                  </a:solidFill>
                  <a:latin typeface="Comic Sans MS"/>
                </a:rPr>
                <a:t>Modello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6" name="Oval 26"/>
            <p:cNvSpPr/>
            <p:nvPr/>
          </p:nvSpPr>
          <p:spPr>
            <a:xfrm>
              <a:off x="4324320" y="6043680"/>
              <a:ext cx="2037240" cy="51336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000"/>
                  </a:solidFill>
                  <a:latin typeface="Comic Sans MS"/>
                </a:rPr>
                <a:t>Procedimento risolutivo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7" name="Oval 27"/>
            <p:cNvSpPr/>
            <p:nvPr/>
          </p:nvSpPr>
          <p:spPr>
            <a:xfrm>
              <a:off x="4887000" y="5534640"/>
              <a:ext cx="2222640" cy="41076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000"/>
                  </a:solidFill>
                  <a:latin typeface="Comic Sans MS"/>
                </a:rPr>
                <a:t>Esecuzione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" name="Oval 28"/>
            <p:cNvSpPr/>
            <p:nvPr/>
          </p:nvSpPr>
          <p:spPr>
            <a:xfrm>
              <a:off x="5250240" y="4296960"/>
              <a:ext cx="2408040" cy="61632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000"/>
                  </a:solidFill>
                  <a:latin typeface="Comic Sans MS"/>
                </a:rPr>
                <a:t>Verifica dei risultati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Descrizione procedimento risolutiv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10920" y="22046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dividuazione di una sequenza di passi che, partendo dai dati noti, arrivi a dare la soluzion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finizion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3000" spc="-1" strike="noStrike">
                <a:solidFill>
                  <a:srgbClr val="000000"/>
                </a:solidFill>
                <a:latin typeface="Verdana"/>
              </a:rPr>
              <a:t>Algoritm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AutoShape 4">
            <a:hlinkClick r:id="" action="ppaction://hlinkshowjump?jump=nextslide"/>
          </p:cNvPr>
          <p:cNvSpPr/>
          <p:nvPr/>
        </p:nvSpPr>
        <p:spPr>
          <a:xfrm>
            <a:off x="8820000" y="6524640"/>
            <a:ext cx="324000" cy="33336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33360"/>
              <a:gd name="textAreaBottom" fmla="*/ 312480 h 333360"/>
            </a:gdLst>
            <a:ahLst/>
            <a:rect l="textAreaLeft" t="textAreaTop" r="textAreaRight" b="textAreaBottom"/>
            <a:pathLst>
              <a:path w="21600" h="22223">
                <a:moveTo>
                  <a:pt x="0" y="0"/>
                </a:moveTo>
                <a:lnTo>
                  <a:pt x="21600" y="0"/>
                </a:lnTo>
                <a:lnTo>
                  <a:pt x="21600" y="22223"/>
                </a:lnTo>
                <a:lnTo>
                  <a:pt x="0" y="22223"/>
                </a:lnTo>
                <a:close/>
              </a:path>
              <a:path fill="lightenLess" w="21600" h="222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23">
                <a:moveTo>
                  <a:pt x="21600" y="0"/>
                </a:moveTo>
                <a:lnTo>
                  <a:pt x="21600" y="22223"/>
                </a:lnTo>
                <a:lnTo>
                  <a:pt x="20200" y="20823"/>
                </a:lnTo>
                <a:lnTo>
                  <a:pt x="20200" y="1400"/>
                </a:lnTo>
                <a:close/>
              </a:path>
              <a:path fill="darkenLess" w="21600" h="22223">
                <a:moveTo>
                  <a:pt x="21600" y="22223"/>
                </a:moveTo>
                <a:lnTo>
                  <a:pt x="0" y="22223"/>
                </a:lnTo>
                <a:lnTo>
                  <a:pt x="1400" y="20823"/>
                </a:lnTo>
                <a:lnTo>
                  <a:pt x="20200" y="20823"/>
                </a:lnTo>
                <a:close/>
              </a:path>
              <a:path fill="lighten" w="21600" h="22223">
                <a:moveTo>
                  <a:pt x="0" y="222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23"/>
                </a:lnTo>
                <a:close/>
              </a:path>
              <a:path fill="darken" w="21600" h="22223">
                <a:moveTo>
                  <a:pt x="3794" y="4105"/>
                </a:moveTo>
                <a:lnTo>
                  <a:pt x="17806" y="11112"/>
                </a:lnTo>
                <a:lnTo>
                  <a:pt x="3794" y="18118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AutoShape 22"/>
          <p:cNvSpPr/>
          <p:nvPr/>
        </p:nvSpPr>
        <p:spPr>
          <a:xfrm flipV="1">
            <a:off x="1258920" y="4149000"/>
            <a:ext cx="2233440" cy="107964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Algoritm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560" y="1590480"/>
            <a:ext cx="8713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 algoritmo è una </a:t>
            </a: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sequenza finita di operazioni elementari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he porta alla risoluzion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un tempo finito una classe di problemi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generale un algoritmo può essere visto come una funzione da un dominio d’ingresso ad uno d’usci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AutoShape 4">
            <a:hlinkClick r:id="" action="ppaction://hlinkshowjump?jump=nextslide"/>
          </p:cNvPr>
          <p:cNvSpPr/>
          <p:nvPr/>
        </p:nvSpPr>
        <p:spPr>
          <a:xfrm>
            <a:off x="8820000" y="6524640"/>
            <a:ext cx="324000" cy="33336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33360"/>
              <a:gd name="textAreaBottom" fmla="*/ 312480 h 333360"/>
            </a:gdLst>
            <a:ahLst/>
            <a:rect l="textAreaLeft" t="textAreaTop" r="textAreaRight" b="textAreaBottom"/>
            <a:pathLst>
              <a:path w="21600" h="22223">
                <a:moveTo>
                  <a:pt x="0" y="0"/>
                </a:moveTo>
                <a:lnTo>
                  <a:pt x="21600" y="0"/>
                </a:lnTo>
                <a:lnTo>
                  <a:pt x="21600" y="22223"/>
                </a:lnTo>
                <a:lnTo>
                  <a:pt x="0" y="22223"/>
                </a:lnTo>
                <a:close/>
              </a:path>
              <a:path fill="lightenLess" w="21600" h="222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23">
                <a:moveTo>
                  <a:pt x="21600" y="0"/>
                </a:moveTo>
                <a:lnTo>
                  <a:pt x="21600" y="22223"/>
                </a:lnTo>
                <a:lnTo>
                  <a:pt x="20200" y="20823"/>
                </a:lnTo>
                <a:lnTo>
                  <a:pt x="20200" y="1400"/>
                </a:lnTo>
                <a:close/>
              </a:path>
              <a:path fill="darkenLess" w="21600" h="22223">
                <a:moveTo>
                  <a:pt x="21600" y="22223"/>
                </a:moveTo>
                <a:lnTo>
                  <a:pt x="0" y="22223"/>
                </a:lnTo>
                <a:lnTo>
                  <a:pt x="1400" y="20823"/>
                </a:lnTo>
                <a:lnTo>
                  <a:pt x="20200" y="20823"/>
                </a:lnTo>
                <a:close/>
              </a:path>
              <a:path fill="lighten" w="21600" h="22223">
                <a:moveTo>
                  <a:pt x="0" y="222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23"/>
                </a:lnTo>
                <a:close/>
              </a:path>
              <a:path fill="darken" w="21600" h="22223">
                <a:moveTo>
                  <a:pt x="3794" y="4105"/>
                </a:moveTo>
                <a:lnTo>
                  <a:pt x="17806" y="11112"/>
                </a:lnTo>
                <a:lnTo>
                  <a:pt x="3794" y="18118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2700360" y="4653000"/>
            <a:ext cx="3672000" cy="1295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Verdana"/>
              </a:rPr>
              <a:t>Algoritm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AutoShape 6"/>
          <p:cNvSpPr/>
          <p:nvPr/>
        </p:nvSpPr>
        <p:spPr>
          <a:xfrm>
            <a:off x="1619280" y="5013360"/>
            <a:ext cx="863640" cy="433440"/>
          </a:xfrm>
          <a:prstGeom prst="rightArrow">
            <a:avLst>
              <a:gd name="adj1" fmla="val 50000"/>
              <a:gd name="adj2" fmla="val 49813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AutoShape 8"/>
          <p:cNvSpPr/>
          <p:nvPr/>
        </p:nvSpPr>
        <p:spPr>
          <a:xfrm>
            <a:off x="6732720" y="5013360"/>
            <a:ext cx="863640" cy="433440"/>
          </a:xfrm>
          <a:prstGeom prst="rightArrow">
            <a:avLst>
              <a:gd name="adj1" fmla="val 50000"/>
              <a:gd name="adj2" fmla="val 49813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828720" y="5373720"/>
            <a:ext cx="1871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ati(INPUT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6372360" y="5373720"/>
            <a:ext cx="2555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sultati(OUTPUT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(X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Algoritmi: proprietà fondamental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4000" y="1844640"/>
            <a:ext cx="828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Verdana"/>
              </a:rPr>
              <a:t>Eseguibilità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: ogni azione deve essere eseguibile da parte dell’esecutore dell’algoritmo in un tempo fini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Verdana"/>
              </a:rPr>
              <a:t>Non-ambiguità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: ogni azione deve essere univocamente interpretabile dall'esecut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Verdana"/>
              </a:rPr>
              <a:t>Finitezza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: il numero totale di azioni da eseguire, per ogni insieme di dati di ingresso, deve essere finito.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it-IT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Algoritmi equivalent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4360" y="1978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ue algoritmi si dicono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equivalenti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quando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anno lo stesso dominio di ingresso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anno lo stesso dominio di uscita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 corrispondenza degli stessi valori nel dominio di ingresso producono gli stessi valori nel dominio di uscit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41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Algoritmi equivalenti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16192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ue algoritmi equivalenti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rniscono lo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stesso risultat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 possono avere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diversa efficienz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 possono essere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profondamente diversi 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Esempio: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ltiplicare tra loro due numer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Verdana"/>
              </a:rPr>
              <a:t>Algoritmo 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mme successiv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12x12 = 12+12+…+12=144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5726160" y="3929040"/>
            <a:ext cx="273348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6699"/>
                </a:solidFill>
                <a:latin typeface="Arial"/>
              </a:rPr>
              <a:t>Algoritmo 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omma e shift”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12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ourier New"/>
              </a:rPr>
              <a:t>12=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Courier New"/>
              </a:rPr>
              <a:t>12=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14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Esecuzion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9" name="Picture 3" descr=""/>
          <p:cNvPicPr/>
          <p:nvPr/>
        </p:nvPicPr>
        <p:blipFill>
          <a:blip r:embed="rId1"/>
          <a:srcRect l="3127" t="36241" r="3906" b="17906"/>
          <a:stretch/>
        </p:blipFill>
        <p:spPr>
          <a:xfrm>
            <a:off x="420840" y="2276640"/>
            <a:ext cx="8370720" cy="3354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569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Algoritmi e programm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179280" y="1628640"/>
            <a:ext cx="896472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99"/>
                </a:solidFill>
                <a:latin typeface="Verdana"/>
              </a:rPr>
              <a:t>Algoritmo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quenza finita di passi che risolve in tempo finito un problem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99"/>
                </a:solidFill>
                <a:latin typeface="Verdana"/>
              </a:rPr>
              <a:t>Codific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ase di scrittura di un algoritmo attraverso un insieme ordinato di frasi (“istruzioni”), scritte in un qualche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inguaggio di programmazio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che specificano le azioni da compier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600" spc="-1" strike="noStrike">
                <a:solidFill>
                  <a:srgbClr val="336699"/>
                </a:solidFill>
                <a:latin typeface="Verdana"/>
              </a:rPr>
              <a:t>Programm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sto scritto in accordo con la sintassi e la semantica di un linguaggio di programmazion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AutoShape 4"/>
          <p:cNvSpPr/>
          <p:nvPr/>
        </p:nvSpPr>
        <p:spPr>
          <a:xfrm flipV="1">
            <a:off x="1258920" y="4075920"/>
            <a:ext cx="1441440" cy="647640"/>
          </a:xfrm>
          <a:prstGeom prst="pi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3" name="Group 5"/>
          <p:cNvGrpSpPr/>
          <p:nvPr/>
        </p:nvGrpSpPr>
        <p:grpSpPr>
          <a:xfrm>
            <a:off x="179280" y="5518080"/>
            <a:ext cx="8713800" cy="574920"/>
            <a:chOff x="179280" y="5518080"/>
            <a:chExt cx="8713800" cy="574920"/>
          </a:xfrm>
        </p:grpSpPr>
        <p:sp>
          <p:nvSpPr>
            <p:cNvPr id="204" name="Oval 6"/>
            <p:cNvSpPr/>
            <p:nvPr/>
          </p:nvSpPr>
          <p:spPr>
            <a:xfrm>
              <a:off x="179280" y="5518080"/>
              <a:ext cx="2305080" cy="574920"/>
            </a:xfrm>
            <a:prstGeom prst="ellips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ROBLEMA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" name="AutoShape 7"/>
            <p:cNvSpPr/>
            <p:nvPr/>
          </p:nvSpPr>
          <p:spPr>
            <a:xfrm>
              <a:off x="2627280" y="5589720"/>
              <a:ext cx="504720" cy="433440"/>
            </a:xfrm>
            <a:prstGeom prst="rightArrow">
              <a:avLst>
                <a:gd name="adj1" fmla="val 50000"/>
                <a:gd name="adj2" fmla="val 29111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Oval 8"/>
            <p:cNvSpPr/>
            <p:nvPr/>
          </p:nvSpPr>
          <p:spPr>
            <a:xfrm>
              <a:off x="3348000" y="5518080"/>
              <a:ext cx="2305080" cy="574920"/>
            </a:xfrm>
            <a:prstGeom prst="ellips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LGORITMO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Oval 9"/>
            <p:cNvSpPr/>
            <p:nvPr/>
          </p:nvSpPr>
          <p:spPr>
            <a:xfrm>
              <a:off x="6588000" y="5518080"/>
              <a:ext cx="2305080" cy="574920"/>
            </a:xfrm>
            <a:prstGeom prst="ellips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ROGRAMMA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AutoShape 10"/>
            <p:cNvSpPr/>
            <p:nvPr/>
          </p:nvSpPr>
          <p:spPr>
            <a:xfrm>
              <a:off x="5867280" y="5589720"/>
              <a:ext cx="576360" cy="433440"/>
            </a:xfrm>
            <a:prstGeom prst="rightArrow">
              <a:avLst>
                <a:gd name="adj1" fmla="val 50000"/>
                <a:gd name="adj2" fmla="val 33243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0000"/>
                </a:solidFill>
                <a:latin typeface="Verdana"/>
              </a:rPr>
              <a:t>Linguaggi di Programmazion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Linguaggi per esprimere in maniera rigorosa un algoritm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Linguaggio macchina (seq. Istruzioni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Linguaggi ad alto livello (vicini al ling. natural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Esempi:</a:t>
            </a: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Pasca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C e C++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Basi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Esempio di programm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2155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000" spc="-1" strike="noStrike">
                <a:solidFill>
                  <a:srgbClr val="336699"/>
                </a:solidFill>
                <a:latin typeface="Verdana"/>
              </a:rPr>
              <a:t>Sub</a:t>
            </a:r>
            <a:r>
              <a:rPr b="1" i="1" lang="it-IT" sz="3000" spc="-1" strike="noStrike">
                <a:solidFill>
                  <a:srgbClr val="000000"/>
                </a:solidFill>
                <a:latin typeface="Verdana"/>
              </a:rPr>
              <a:t> SOMMA( 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000" spc="-1" strike="noStrike">
                <a:solidFill>
                  <a:srgbClr val="336699"/>
                </a:solidFill>
                <a:latin typeface="Verdana"/>
              </a:rPr>
              <a:t>Dim</a:t>
            </a:r>
            <a:r>
              <a:rPr b="1" i="1" lang="it-IT" sz="3000" spc="-1" strike="noStrike">
                <a:solidFill>
                  <a:srgbClr val="000000"/>
                </a:solidFill>
                <a:latin typeface="Verdana"/>
              </a:rPr>
              <a:t> A, B </a:t>
            </a:r>
            <a:r>
              <a:rPr b="1" i="1" lang="it-IT" sz="3000" spc="-1" strike="noStrike">
                <a:solidFill>
                  <a:srgbClr val="336699"/>
                </a:solidFill>
                <a:latin typeface="Verdana"/>
              </a:rPr>
              <a:t>as Integ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000" spc="-1" strike="noStrike">
                <a:solidFill>
                  <a:srgbClr val="000000"/>
                </a:solidFill>
                <a:latin typeface="Verdana"/>
              </a:rPr>
              <a:t>A = InputBox("Immetti un numero"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000" spc="-1" strike="noStrike">
                <a:solidFill>
                  <a:srgbClr val="000000"/>
                </a:solidFill>
                <a:latin typeface="Verdana"/>
              </a:rPr>
              <a:t>B = InputBox(“Immetti un secondo numero”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000" spc="-1" strike="noStrike">
                <a:solidFill>
                  <a:srgbClr val="336699"/>
                </a:solidFill>
                <a:latin typeface="Verdana"/>
              </a:rPr>
              <a:t>Print</a:t>
            </a:r>
            <a:r>
              <a:rPr b="1" i="1" lang="it-IT" sz="3000" spc="-1" strike="noStrike">
                <a:solidFill>
                  <a:srgbClr val="000000"/>
                </a:solidFill>
                <a:latin typeface="Verdana"/>
              </a:rPr>
              <a:t> “Somma:”; A+B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000" spc="-1" strike="noStrike">
                <a:solidFill>
                  <a:srgbClr val="336699"/>
                </a:solidFill>
                <a:latin typeface="Verdana"/>
              </a:rPr>
              <a:t>End Sub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it-IT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it-IT" sz="3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Programma del corso (laboratorio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Verdana"/>
              </a:rPr>
              <a:t>Ambiente Operativo Window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Verdana"/>
              </a:rPr>
              <a:t>Elaborazione dei Testi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Verdana"/>
              </a:rPr>
              <a:t>Strumenti e Servizi Interne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Verdana"/>
              </a:rPr>
              <a:t>Fogli Elettronici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0000"/>
                </a:solidFill>
                <a:latin typeface="Verdana"/>
              </a:rPr>
              <a:t>Esempio: poten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600" spc="-1" strike="noStrike">
                <a:solidFill>
                  <a:srgbClr val="336699"/>
                </a:solidFill>
                <a:latin typeface="Verdana"/>
              </a:rPr>
              <a:t>Problema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: Calcolare </a:t>
            </a:r>
            <a:r>
              <a:rPr b="0" lang="it-IT" sz="2600" spc="-1" strike="noStrike">
                <a:solidFill>
                  <a:srgbClr val="336699"/>
                </a:solidFill>
                <a:latin typeface="Verdana"/>
              </a:rPr>
              <a:t>a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elevato alla </a:t>
            </a:r>
            <a:r>
              <a:rPr b="0" lang="it-IT" sz="2600" spc="-1" strike="noStrike">
                <a:solidFill>
                  <a:srgbClr val="336699"/>
                </a:solidFill>
                <a:latin typeface="Verdana"/>
              </a:rPr>
              <a:t>n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it-IT" sz="2600" spc="-1" strike="noStrike">
                <a:solidFill>
                  <a:srgbClr val="336699"/>
                </a:solidFill>
                <a:latin typeface="Verdana"/>
              </a:rPr>
              <a:t>a^n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Utilizziamo le </a:t>
            </a:r>
            <a:r>
              <a:rPr b="1" i="1" lang="it-IT" sz="2600" spc="-1" strike="noStrike">
                <a:solidFill>
                  <a:srgbClr val="000000"/>
                </a:solidFill>
                <a:latin typeface="Verdana"/>
              </a:rPr>
              <a:t>variabili 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N, Ri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Inizialmente Ris=1  e   N=</a:t>
            </a:r>
            <a:r>
              <a:rPr b="0" lang="it-IT" sz="2600" spc="-1" strike="noStrike">
                <a:solidFill>
                  <a:srgbClr val="336699"/>
                </a:solidFill>
                <a:latin typeface="Verdana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600" spc="-1" strike="noStrike">
                <a:solidFill>
                  <a:srgbClr val="336699"/>
                </a:solidFill>
                <a:latin typeface="Verdana"/>
              </a:rPr>
              <a:t>Algoritmo</a:t>
            </a:r>
            <a:r>
              <a:rPr b="0" lang="it-IT" sz="2600" spc="-1" strike="noStrike">
                <a:solidFill>
                  <a:srgbClr val="336699"/>
                </a:solidFill>
                <a:latin typeface="Verdan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Fino a che N&gt;0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Calcola Ris </a:t>
            </a:r>
            <a:r>
              <a:rPr b="0" lang="it-IT" sz="2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a e memorizzalo in Ri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Decrementa 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600" spc="-1" strike="noStrike">
                <a:solidFill>
                  <a:srgbClr val="336699"/>
                </a:solidFill>
                <a:latin typeface="Verdana"/>
              </a:rPr>
              <a:t>Correttezza</a:t>
            </a:r>
            <a:r>
              <a:rPr b="0" lang="it-IT" sz="2600" spc="-1" strike="noStrike">
                <a:solidFill>
                  <a:srgbClr val="003366"/>
                </a:solidFill>
                <a:latin typeface="Verdan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Al termine Ris=</a:t>
            </a:r>
            <a:r>
              <a:rPr b="0" lang="it-IT" sz="2600" spc="-1" strike="noStrike">
                <a:solidFill>
                  <a:srgbClr val="336699"/>
                </a:solidFill>
                <a:latin typeface="Verdana"/>
              </a:rPr>
              <a:t>a^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0000"/>
                </a:solidFill>
                <a:latin typeface="Verdana"/>
              </a:rPr>
              <a:t>Esempio in Pseudo Pasc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Verdana"/>
              </a:rPr>
              <a:t>Program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potenza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Verdana"/>
              </a:rPr>
              <a:t>Integer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Ris,N,A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Verdana"/>
              </a:rPr>
              <a:t>Read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(N);</a:t>
            </a:r>
            <a:r>
              <a:rPr b="1" lang="it-IT" sz="2600" spc="-1" strike="noStrike">
                <a:solidFill>
                  <a:srgbClr val="000000"/>
                </a:solidFill>
                <a:latin typeface="Verdana"/>
              </a:rPr>
              <a:t>Read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(A)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Ris=1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Verdana"/>
              </a:rPr>
              <a:t>While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(N&gt;0) </a:t>
            </a:r>
            <a:r>
              <a:rPr b="1" lang="it-IT" sz="2600" spc="-1" strike="noStrike">
                <a:solidFill>
                  <a:srgbClr val="000000"/>
                </a:solidFill>
                <a:latin typeface="Verdana"/>
              </a:rPr>
              <a:t>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Ris=Ris*A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N=N-1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Verdana"/>
              </a:rPr>
              <a:t>Print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(Ris)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95280" y="1989000"/>
            <a:ext cx="9468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Ogni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elaboratore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è una macchina in grado di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eseguire azioni elementari su dat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L'esecuzione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delle azioni elementari è richies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ll'elaboratore tramite comandi chiamati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istruzion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Le istruzioni sono espresse attraverso frasi di un opportuno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linguaggio di programmazio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Un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rogramma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è la formulazione testuale di un algoritmo in un linguaggio di programmazio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Un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algoritmo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è il processo risolutivo di un proble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609480" y="569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Riassumendo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Esistono problemi che un elaboratore non può risolvere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Sì.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Ci sono problemi non calcolabili da nessun modello di calcolo reale o astrat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Esempio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: data una funzione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 : N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N, stabilire se f(x) è costante per ogni valore di x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Esistono problemi che un elaboratore non può risolvere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Esempio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. Dato un insieme di immagini di paesaggi, determinare quello più rilassant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iù in generale, quando il problema presenta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infinite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oluzioni, o non è stato trovato per esso un metodo risolutivo o è dimostrato che non esiste un metodo risolutiv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Diagramma di flusso o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diagrammi a blocchi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È uno metodi più comuni usati per la rappresentazione di algoritmi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 presenta come un insieme di  figure geometriche collegate da frecc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AutoShape 4">
            <a:hlinkClick r:id="" action="ppaction://hlinkshowjump?jump=nextslide"/>
          </p:cNvPr>
          <p:cNvSpPr/>
          <p:nvPr/>
        </p:nvSpPr>
        <p:spPr>
          <a:xfrm>
            <a:off x="8820000" y="6524640"/>
            <a:ext cx="324000" cy="33336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33360"/>
              <a:gd name="textAreaBottom" fmla="*/ 312480 h 333360"/>
            </a:gdLst>
            <a:ahLst/>
            <a:rect l="textAreaLeft" t="textAreaTop" r="textAreaRight" b="textAreaBottom"/>
            <a:pathLst>
              <a:path w="21600" h="22223">
                <a:moveTo>
                  <a:pt x="0" y="0"/>
                </a:moveTo>
                <a:lnTo>
                  <a:pt x="21600" y="0"/>
                </a:lnTo>
                <a:lnTo>
                  <a:pt x="21600" y="22223"/>
                </a:lnTo>
                <a:lnTo>
                  <a:pt x="0" y="22223"/>
                </a:lnTo>
                <a:close/>
              </a:path>
              <a:path fill="lightenLess" w="21600" h="222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23">
                <a:moveTo>
                  <a:pt x="21600" y="0"/>
                </a:moveTo>
                <a:lnTo>
                  <a:pt x="21600" y="22223"/>
                </a:lnTo>
                <a:lnTo>
                  <a:pt x="20200" y="20823"/>
                </a:lnTo>
                <a:lnTo>
                  <a:pt x="20200" y="1400"/>
                </a:lnTo>
                <a:close/>
              </a:path>
              <a:path fill="darkenLess" w="21600" h="22223">
                <a:moveTo>
                  <a:pt x="21600" y="22223"/>
                </a:moveTo>
                <a:lnTo>
                  <a:pt x="0" y="22223"/>
                </a:lnTo>
                <a:lnTo>
                  <a:pt x="1400" y="20823"/>
                </a:lnTo>
                <a:lnTo>
                  <a:pt x="20200" y="20823"/>
                </a:lnTo>
                <a:close/>
              </a:path>
              <a:path fill="lighten" w="21600" h="22223">
                <a:moveTo>
                  <a:pt x="0" y="222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23"/>
                </a:lnTo>
                <a:close/>
              </a:path>
              <a:path fill="darken" w="21600" h="22223">
                <a:moveTo>
                  <a:pt x="3794" y="4105"/>
                </a:moveTo>
                <a:lnTo>
                  <a:pt x="17806" y="11112"/>
                </a:lnTo>
                <a:lnTo>
                  <a:pt x="3794" y="18118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50"/>
                            </p:stCondLst>
                            <p:childTnLst>
                              <p:par>
                                <p:cTn id="37" nodeType="afterEffect" fill="hold" presetClass="entr" presetID="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100"/>
                            </p:stCondLst>
                            <p:childTnLst>
                              <p:par>
                                <p:cTn id="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niz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utti i diagrammi a blocchi cominciano con un’ellisse che contiene la parola </a:t>
            </a: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inizi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Oval 4"/>
          <p:cNvSpPr/>
          <p:nvPr/>
        </p:nvSpPr>
        <p:spPr>
          <a:xfrm>
            <a:off x="1116000" y="2924280"/>
            <a:ext cx="2879640" cy="151272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Inizio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AutoShape 5">
            <a:hlinkClick r:id="" action="ppaction://hlinkshowjump?jump=nextslide"/>
          </p:cNvPr>
          <p:cNvSpPr/>
          <p:nvPr/>
        </p:nvSpPr>
        <p:spPr>
          <a:xfrm>
            <a:off x="8820000" y="6524640"/>
            <a:ext cx="324000" cy="33336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33360"/>
              <a:gd name="textAreaBottom" fmla="*/ 312480 h 333360"/>
            </a:gdLst>
            <a:ahLst/>
            <a:rect l="textAreaLeft" t="textAreaTop" r="textAreaRight" b="textAreaBottom"/>
            <a:pathLst>
              <a:path w="21600" h="22223">
                <a:moveTo>
                  <a:pt x="0" y="0"/>
                </a:moveTo>
                <a:lnTo>
                  <a:pt x="21600" y="0"/>
                </a:lnTo>
                <a:lnTo>
                  <a:pt x="21600" y="22223"/>
                </a:lnTo>
                <a:lnTo>
                  <a:pt x="0" y="22223"/>
                </a:lnTo>
                <a:close/>
              </a:path>
              <a:path fill="lightenLess" w="21600" h="222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23">
                <a:moveTo>
                  <a:pt x="21600" y="0"/>
                </a:moveTo>
                <a:lnTo>
                  <a:pt x="21600" y="22223"/>
                </a:lnTo>
                <a:lnTo>
                  <a:pt x="20200" y="20823"/>
                </a:lnTo>
                <a:lnTo>
                  <a:pt x="20200" y="1400"/>
                </a:lnTo>
                <a:close/>
              </a:path>
              <a:path fill="darkenLess" w="21600" h="22223">
                <a:moveTo>
                  <a:pt x="21600" y="22223"/>
                </a:moveTo>
                <a:lnTo>
                  <a:pt x="0" y="22223"/>
                </a:lnTo>
                <a:lnTo>
                  <a:pt x="1400" y="20823"/>
                </a:lnTo>
                <a:lnTo>
                  <a:pt x="20200" y="20823"/>
                </a:lnTo>
                <a:close/>
              </a:path>
              <a:path fill="lighten" w="21600" h="22223">
                <a:moveTo>
                  <a:pt x="0" y="222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23"/>
                </a:lnTo>
                <a:close/>
              </a:path>
              <a:path fill="darken" w="21600" h="22223">
                <a:moveTo>
                  <a:pt x="3794" y="4105"/>
                </a:moveTo>
                <a:lnTo>
                  <a:pt x="17806" y="11112"/>
                </a:lnTo>
                <a:lnTo>
                  <a:pt x="3794" y="18118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100"/>
                            </p:stCondLst>
                            <p:childTnLst>
                              <p:par>
                                <p:cTn id="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ati in ingress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 </a:t>
            </a: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dati in ingresso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sono i dati noti del problema, quelli che devono essere elaborati per arrivare alla soluzion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AutoShape 4"/>
          <p:cNvSpPr/>
          <p:nvPr/>
        </p:nvSpPr>
        <p:spPr>
          <a:xfrm>
            <a:off x="1042920" y="2565360"/>
            <a:ext cx="3384720" cy="1727280"/>
          </a:xfrm>
          <a:prstGeom prst="flowChartInputOutpu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ati i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ingress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AutoShape 5">
            <a:hlinkClick r:id="" action="ppaction://hlinkshowjump?jump=nextslide"/>
          </p:cNvPr>
          <p:cNvSpPr/>
          <p:nvPr/>
        </p:nvSpPr>
        <p:spPr>
          <a:xfrm>
            <a:off x="8820000" y="6524640"/>
            <a:ext cx="324000" cy="33336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33360"/>
              <a:gd name="textAreaBottom" fmla="*/ 312480 h 333360"/>
            </a:gdLst>
            <a:ahLst/>
            <a:rect l="textAreaLeft" t="textAreaTop" r="textAreaRight" b="textAreaBottom"/>
            <a:pathLst>
              <a:path w="21600" h="22223">
                <a:moveTo>
                  <a:pt x="0" y="0"/>
                </a:moveTo>
                <a:lnTo>
                  <a:pt x="21600" y="0"/>
                </a:lnTo>
                <a:lnTo>
                  <a:pt x="21600" y="22223"/>
                </a:lnTo>
                <a:lnTo>
                  <a:pt x="0" y="22223"/>
                </a:lnTo>
                <a:close/>
              </a:path>
              <a:path fill="lightenLess" w="21600" h="222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23">
                <a:moveTo>
                  <a:pt x="21600" y="0"/>
                </a:moveTo>
                <a:lnTo>
                  <a:pt x="21600" y="22223"/>
                </a:lnTo>
                <a:lnTo>
                  <a:pt x="20200" y="20823"/>
                </a:lnTo>
                <a:lnTo>
                  <a:pt x="20200" y="1400"/>
                </a:lnTo>
                <a:close/>
              </a:path>
              <a:path fill="darkenLess" w="21600" h="22223">
                <a:moveTo>
                  <a:pt x="21600" y="22223"/>
                </a:moveTo>
                <a:lnTo>
                  <a:pt x="0" y="22223"/>
                </a:lnTo>
                <a:lnTo>
                  <a:pt x="1400" y="20823"/>
                </a:lnTo>
                <a:lnTo>
                  <a:pt x="20200" y="20823"/>
                </a:lnTo>
                <a:close/>
              </a:path>
              <a:path fill="lighten" w="21600" h="22223">
                <a:moveTo>
                  <a:pt x="0" y="222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23"/>
                </a:lnTo>
                <a:close/>
              </a:path>
              <a:path fill="darken" w="21600" h="22223">
                <a:moveTo>
                  <a:pt x="3794" y="4105"/>
                </a:moveTo>
                <a:lnTo>
                  <a:pt x="17806" y="11112"/>
                </a:lnTo>
                <a:lnTo>
                  <a:pt x="3794" y="18118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450"/>
                            </p:stCondLst>
                            <p:childTnLst>
                              <p:par>
                                <p:cTn id="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perazion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 </a:t>
            </a: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operazioni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da svolgere sui dati sono racchiuse in rettangol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1116000" y="2852640"/>
            <a:ext cx="3168720" cy="144000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Operazioni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AutoShape 5">
            <a:hlinkClick r:id="" action="ppaction://hlinkshowjump?jump=nextslide"/>
          </p:cNvPr>
          <p:cNvSpPr/>
          <p:nvPr/>
        </p:nvSpPr>
        <p:spPr>
          <a:xfrm>
            <a:off x="8820000" y="6524640"/>
            <a:ext cx="324000" cy="33336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33360"/>
              <a:gd name="textAreaBottom" fmla="*/ 312480 h 333360"/>
            </a:gdLst>
            <a:ahLst/>
            <a:rect l="textAreaLeft" t="textAreaTop" r="textAreaRight" b="textAreaBottom"/>
            <a:pathLst>
              <a:path w="21600" h="22223">
                <a:moveTo>
                  <a:pt x="0" y="0"/>
                </a:moveTo>
                <a:lnTo>
                  <a:pt x="21600" y="0"/>
                </a:lnTo>
                <a:lnTo>
                  <a:pt x="21600" y="22223"/>
                </a:lnTo>
                <a:lnTo>
                  <a:pt x="0" y="22223"/>
                </a:lnTo>
                <a:close/>
              </a:path>
              <a:path fill="lightenLess" w="21600" h="222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23">
                <a:moveTo>
                  <a:pt x="21600" y="0"/>
                </a:moveTo>
                <a:lnTo>
                  <a:pt x="21600" y="22223"/>
                </a:lnTo>
                <a:lnTo>
                  <a:pt x="20200" y="20823"/>
                </a:lnTo>
                <a:lnTo>
                  <a:pt x="20200" y="1400"/>
                </a:lnTo>
                <a:close/>
              </a:path>
              <a:path fill="darkenLess" w="21600" h="22223">
                <a:moveTo>
                  <a:pt x="21600" y="22223"/>
                </a:moveTo>
                <a:lnTo>
                  <a:pt x="0" y="22223"/>
                </a:lnTo>
                <a:lnTo>
                  <a:pt x="1400" y="20823"/>
                </a:lnTo>
                <a:lnTo>
                  <a:pt x="20200" y="20823"/>
                </a:lnTo>
                <a:close/>
              </a:path>
              <a:path fill="lighten" w="21600" h="22223">
                <a:moveTo>
                  <a:pt x="0" y="222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23"/>
                </a:lnTo>
                <a:close/>
              </a:path>
              <a:path fill="darken" w="21600" h="22223">
                <a:moveTo>
                  <a:pt x="3794" y="4105"/>
                </a:moveTo>
                <a:lnTo>
                  <a:pt x="17806" y="11112"/>
                </a:lnTo>
                <a:lnTo>
                  <a:pt x="3794" y="18118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950"/>
                            </p:stCondLst>
                            <p:childTnLst>
                              <p:par>
                                <p:cTn id="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celt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Quando si deve fare una </a:t>
            </a: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scelta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ra due possibilità si usa il romb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AutoShape 4"/>
          <p:cNvSpPr/>
          <p:nvPr/>
        </p:nvSpPr>
        <p:spPr>
          <a:xfrm>
            <a:off x="1187280" y="2637000"/>
            <a:ext cx="3313440" cy="2447640"/>
          </a:xfrm>
          <a:prstGeom prst="flowChartDecision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Vero o falso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AutoShape 5">
            <a:hlinkClick r:id="" action="ppaction://hlinkshowjump?jump=nextslide"/>
          </p:cNvPr>
          <p:cNvSpPr/>
          <p:nvPr/>
        </p:nvSpPr>
        <p:spPr>
          <a:xfrm>
            <a:off x="8820000" y="6524640"/>
            <a:ext cx="324000" cy="33336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33360"/>
              <a:gd name="textAreaBottom" fmla="*/ 312480 h 333360"/>
            </a:gdLst>
            <a:ahLst/>
            <a:rect l="textAreaLeft" t="textAreaTop" r="textAreaRight" b="textAreaBottom"/>
            <a:pathLst>
              <a:path w="21600" h="22223">
                <a:moveTo>
                  <a:pt x="0" y="0"/>
                </a:moveTo>
                <a:lnTo>
                  <a:pt x="21600" y="0"/>
                </a:lnTo>
                <a:lnTo>
                  <a:pt x="21600" y="22223"/>
                </a:lnTo>
                <a:lnTo>
                  <a:pt x="0" y="22223"/>
                </a:lnTo>
                <a:close/>
              </a:path>
              <a:path fill="lightenLess" w="21600" h="222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23">
                <a:moveTo>
                  <a:pt x="21600" y="0"/>
                </a:moveTo>
                <a:lnTo>
                  <a:pt x="21600" y="22223"/>
                </a:lnTo>
                <a:lnTo>
                  <a:pt x="20200" y="20823"/>
                </a:lnTo>
                <a:lnTo>
                  <a:pt x="20200" y="1400"/>
                </a:lnTo>
                <a:close/>
              </a:path>
              <a:path fill="darkenLess" w="21600" h="22223">
                <a:moveTo>
                  <a:pt x="21600" y="22223"/>
                </a:moveTo>
                <a:lnTo>
                  <a:pt x="0" y="22223"/>
                </a:lnTo>
                <a:lnTo>
                  <a:pt x="1400" y="20823"/>
                </a:lnTo>
                <a:lnTo>
                  <a:pt x="20200" y="20823"/>
                </a:lnTo>
                <a:close/>
              </a:path>
              <a:path fill="lighten" w="21600" h="22223">
                <a:moveTo>
                  <a:pt x="0" y="222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23"/>
                </a:lnTo>
                <a:close/>
              </a:path>
              <a:path fill="darken" w="21600" h="22223">
                <a:moveTo>
                  <a:pt x="3794" y="4105"/>
                </a:moveTo>
                <a:lnTo>
                  <a:pt x="17806" y="11112"/>
                </a:lnTo>
                <a:lnTo>
                  <a:pt x="3794" y="18118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100"/>
                            </p:stCondLst>
                            <p:childTnLst>
                              <p:par>
                                <p:cTn id="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Prove di accertamen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560" y="1752480"/>
            <a:ext cx="88930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va Intermed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va finale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2627280" y="6453360"/>
            <a:ext cx="432108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ati in uscit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 </a:t>
            </a: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dati in uscita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sono quelli che si vuole conoscere e costituiscono il risultato dell’elaborazion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AutoShape 4"/>
          <p:cNvSpPr/>
          <p:nvPr/>
        </p:nvSpPr>
        <p:spPr>
          <a:xfrm>
            <a:off x="900000" y="2924280"/>
            <a:ext cx="3456000" cy="1512720"/>
          </a:xfrm>
          <a:prstGeom prst="flowChartInputOutpu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Dati i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uscit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AutoShape 5">
            <a:hlinkClick r:id="" action="ppaction://hlinkshowjump?jump=nextslide"/>
          </p:cNvPr>
          <p:cNvSpPr/>
          <p:nvPr/>
        </p:nvSpPr>
        <p:spPr>
          <a:xfrm>
            <a:off x="8820000" y="6524640"/>
            <a:ext cx="324000" cy="33336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33360"/>
              <a:gd name="textAreaBottom" fmla="*/ 312480 h 333360"/>
            </a:gdLst>
            <a:ahLst/>
            <a:rect l="textAreaLeft" t="textAreaTop" r="textAreaRight" b="textAreaBottom"/>
            <a:pathLst>
              <a:path w="21600" h="22223">
                <a:moveTo>
                  <a:pt x="0" y="0"/>
                </a:moveTo>
                <a:lnTo>
                  <a:pt x="21600" y="0"/>
                </a:lnTo>
                <a:lnTo>
                  <a:pt x="21600" y="22223"/>
                </a:lnTo>
                <a:lnTo>
                  <a:pt x="0" y="22223"/>
                </a:lnTo>
                <a:close/>
              </a:path>
              <a:path fill="lightenLess" w="21600" h="222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23">
                <a:moveTo>
                  <a:pt x="21600" y="0"/>
                </a:moveTo>
                <a:lnTo>
                  <a:pt x="21600" y="22223"/>
                </a:lnTo>
                <a:lnTo>
                  <a:pt x="20200" y="20823"/>
                </a:lnTo>
                <a:lnTo>
                  <a:pt x="20200" y="1400"/>
                </a:lnTo>
                <a:close/>
              </a:path>
              <a:path fill="darkenLess" w="21600" h="22223">
                <a:moveTo>
                  <a:pt x="21600" y="22223"/>
                </a:moveTo>
                <a:lnTo>
                  <a:pt x="0" y="22223"/>
                </a:lnTo>
                <a:lnTo>
                  <a:pt x="1400" y="20823"/>
                </a:lnTo>
                <a:lnTo>
                  <a:pt x="20200" y="20823"/>
                </a:lnTo>
                <a:close/>
              </a:path>
              <a:path fill="lighten" w="21600" h="22223">
                <a:moveTo>
                  <a:pt x="0" y="222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23"/>
                </a:lnTo>
                <a:close/>
              </a:path>
              <a:path fill="darken" w="21600" h="22223">
                <a:moveTo>
                  <a:pt x="3794" y="4105"/>
                </a:moveTo>
                <a:lnTo>
                  <a:pt x="17806" y="11112"/>
                </a:lnTo>
                <a:lnTo>
                  <a:pt x="3794" y="18118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200"/>
                            </p:stCondLst>
                            <p:childTnLst>
                              <p:par>
                                <p:cTn id="1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Fin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gni diagramma di flusso si conclude con un’ellisse che contiene la parola </a:t>
            </a: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fin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Oval 4"/>
          <p:cNvSpPr/>
          <p:nvPr/>
        </p:nvSpPr>
        <p:spPr>
          <a:xfrm>
            <a:off x="1042920" y="2852640"/>
            <a:ext cx="3168720" cy="172872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Verdana"/>
              </a:rPr>
              <a:t>fine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AutoShape 5">
            <a:hlinkClick r:id="" action="ppaction://hlinkshowjump?jump=nextslide"/>
          </p:cNvPr>
          <p:cNvSpPr/>
          <p:nvPr/>
        </p:nvSpPr>
        <p:spPr>
          <a:xfrm>
            <a:off x="8820000" y="6524640"/>
            <a:ext cx="324000" cy="33336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33360"/>
              <a:gd name="textAreaBottom" fmla="*/ 312480 h 333360"/>
            </a:gdLst>
            <a:ahLst/>
            <a:rect l="textAreaLeft" t="textAreaTop" r="textAreaRight" b="textAreaBottom"/>
            <a:pathLst>
              <a:path w="21600" h="22223">
                <a:moveTo>
                  <a:pt x="0" y="0"/>
                </a:moveTo>
                <a:lnTo>
                  <a:pt x="21600" y="0"/>
                </a:lnTo>
                <a:lnTo>
                  <a:pt x="21600" y="22223"/>
                </a:lnTo>
                <a:lnTo>
                  <a:pt x="0" y="22223"/>
                </a:lnTo>
                <a:close/>
              </a:path>
              <a:path fill="lightenLess" w="21600" h="222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23">
                <a:moveTo>
                  <a:pt x="21600" y="0"/>
                </a:moveTo>
                <a:lnTo>
                  <a:pt x="21600" y="22223"/>
                </a:lnTo>
                <a:lnTo>
                  <a:pt x="20200" y="20823"/>
                </a:lnTo>
                <a:lnTo>
                  <a:pt x="20200" y="1400"/>
                </a:lnTo>
                <a:close/>
              </a:path>
              <a:path fill="darkenLess" w="21600" h="22223">
                <a:moveTo>
                  <a:pt x="21600" y="22223"/>
                </a:moveTo>
                <a:lnTo>
                  <a:pt x="0" y="22223"/>
                </a:lnTo>
                <a:lnTo>
                  <a:pt x="1400" y="20823"/>
                </a:lnTo>
                <a:lnTo>
                  <a:pt x="20200" y="20823"/>
                </a:lnTo>
                <a:close/>
              </a:path>
              <a:path fill="lighten" w="21600" h="22223">
                <a:moveTo>
                  <a:pt x="0" y="222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23"/>
                </a:lnTo>
                <a:close/>
              </a:path>
              <a:path fill="darken" w="21600" h="22223">
                <a:moveTo>
                  <a:pt x="3794" y="4105"/>
                </a:moveTo>
                <a:lnTo>
                  <a:pt x="17806" y="11112"/>
                </a:lnTo>
                <a:lnTo>
                  <a:pt x="3794" y="18118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100"/>
                            </p:stCondLst>
                            <p:childTnLst>
                              <p:par>
                                <p:cTn id="1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Problema della chiav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rovare in un mazzo di chiavi quella che apre il lucchett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2" name="Picture 4" descr="chiavi"/>
          <p:cNvPicPr/>
          <p:nvPr/>
        </p:nvPicPr>
        <p:blipFill>
          <a:blip r:embed="rId1"/>
          <a:stretch/>
        </p:blipFill>
        <p:spPr>
          <a:xfrm>
            <a:off x="1187280" y="3500280"/>
            <a:ext cx="1625760" cy="2057400"/>
          </a:xfrm>
          <a:prstGeom prst="rect">
            <a:avLst/>
          </a:prstGeom>
          <a:ln w="0">
            <a:noFill/>
          </a:ln>
        </p:spPr>
      </p:pic>
      <p:sp>
        <p:nvSpPr>
          <p:cNvPr id="253" name="AutoShape 5">
            <a:hlinkClick r:id="" action="ppaction://hlinkshowjump?jump=nextslide"/>
          </p:cNvPr>
          <p:cNvSpPr/>
          <p:nvPr/>
        </p:nvSpPr>
        <p:spPr>
          <a:xfrm>
            <a:off x="8820000" y="6524640"/>
            <a:ext cx="324000" cy="33336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33360"/>
              <a:gd name="textAreaBottom" fmla="*/ 312480 h 333360"/>
            </a:gdLst>
            <a:ahLst/>
            <a:rect l="textAreaLeft" t="textAreaTop" r="textAreaRight" b="textAreaBottom"/>
            <a:pathLst>
              <a:path w="21600" h="22223">
                <a:moveTo>
                  <a:pt x="0" y="0"/>
                </a:moveTo>
                <a:lnTo>
                  <a:pt x="21600" y="0"/>
                </a:lnTo>
                <a:lnTo>
                  <a:pt x="21600" y="22223"/>
                </a:lnTo>
                <a:lnTo>
                  <a:pt x="0" y="22223"/>
                </a:lnTo>
                <a:close/>
              </a:path>
              <a:path fill="lightenLess" w="21600" h="222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23">
                <a:moveTo>
                  <a:pt x="21600" y="0"/>
                </a:moveTo>
                <a:lnTo>
                  <a:pt x="21600" y="22223"/>
                </a:lnTo>
                <a:lnTo>
                  <a:pt x="20200" y="20823"/>
                </a:lnTo>
                <a:lnTo>
                  <a:pt x="20200" y="1400"/>
                </a:lnTo>
                <a:close/>
              </a:path>
              <a:path fill="darkenLess" w="21600" h="22223">
                <a:moveTo>
                  <a:pt x="21600" y="22223"/>
                </a:moveTo>
                <a:lnTo>
                  <a:pt x="0" y="22223"/>
                </a:lnTo>
                <a:lnTo>
                  <a:pt x="1400" y="20823"/>
                </a:lnTo>
                <a:lnTo>
                  <a:pt x="20200" y="20823"/>
                </a:lnTo>
                <a:close/>
              </a:path>
              <a:path fill="lighten" w="21600" h="22223">
                <a:moveTo>
                  <a:pt x="0" y="222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23"/>
                </a:lnTo>
                <a:close/>
              </a:path>
              <a:path fill="darken" w="21600" h="22223">
                <a:moveTo>
                  <a:pt x="3794" y="4105"/>
                </a:moveTo>
                <a:lnTo>
                  <a:pt x="17806" y="11112"/>
                </a:lnTo>
                <a:lnTo>
                  <a:pt x="3794" y="18118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4" name="Group 6"/>
          <p:cNvGrpSpPr/>
          <p:nvPr/>
        </p:nvGrpSpPr>
        <p:grpSpPr>
          <a:xfrm>
            <a:off x="6372360" y="287280"/>
            <a:ext cx="2771640" cy="6237360"/>
            <a:chOff x="6372360" y="287280"/>
            <a:chExt cx="2771640" cy="6237360"/>
          </a:xfrm>
        </p:grpSpPr>
        <p:pic>
          <p:nvPicPr>
            <p:cNvPr id="255" name="Picture 7" descr="diagrammablocchi1"/>
            <p:cNvPicPr/>
            <p:nvPr/>
          </p:nvPicPr>
          <p:blipFill>
            <a:blip r:embed="rId2"/>
            <a:stretch/>
          </p:blipFill>
          <p:spPr>
            <a:xfrm>
              <a:off x="6703920" y="287280"/>
              <a:ext cx="2440080" cy="623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Rectangle 8"/>
            <p:cNvSpPr/>
            <p:nvPr/>
          </p:nvSpPr>
          <p:spPr>
            <a:xfrm>
              <a:off x="7812000" y="2060640"/>
              <a:ext cx="21600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7" name="Line 9"/>
            <p:cNvSpPr/>
            <p:nvPr/>
          </p:nvSpPr>
          <p:spPr>
            <a:xfrm>
              <a:off x="7956720" y="2060640"/>
              <a:ext cx="1440" cy="144360"/>
            </a:xfrm>
            <a:prstGeom prst="line">
              <a:avLst/>
            </a:prstGeom>
            <a:ln w="1584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8" name="Line 10"/>
            <p:cNvSpPr/>
            <p:nvPr/>
          </p:nvSpPr>
          <p:spPr>
            <a:xfrm>
              <a:off x="6732720" y="1484280"/>
              <a:ext cx="1224000" cy="1800"/>
            </a:xfrm>
            <a:prstGeom prst="line">
              <a:avLst/>
            </a:prstGeom>
            <a:ln w="1584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" name="Rectangle 11"/>
            <p:cNvSpPr/>
            <p:nvPr/>
          </p:nvSpPr>
          <p:spPr>
            <a:xfrm>
              <a:off x="6443640" y="2060640"/>
              <a:ext cx="144144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0" name="Rectangle 12"/>
            <p:cNvSpPr/>
            <p:nvPr/>
          </p:nvSpPr>
          <p:spPr>
            <a:xfrm>
              <a:off x="6372360" y="2205000"/>
              <a:ext cx="431640" cy="23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" name="Line 13"/>
            <p:cNvSpPr/>
            <p:nvPr/>
          </p:nvSpPr>
          <p:spPr>
            <a:xfrm>
              <a:off x="6732720" y="1484280"/>
              <a:ext cx="1440" cy="3168720"/>
            </a:xfrm>
            <a:prstGeom prst="line">
              <a:avLst/>
            </a:prstGeom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blema della stazion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Qual è la strada più breve per la stazion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4" name="Picture 4" descr="stazione"/>
          <p:cNvPicPr/>
          <p:nvPr/>
        </p:nvPicPr>
        <p:blipFill>
          <a:blip r:embed="rId1"/>
          <a:stretch/>
        </p:blipFill>
        <p:spPr>
          <a:xfrm>
            <a:off x="1116000" y="2997360"/>
            <a:ext cx="3240000" cy="30254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5" descr="diagrammablocchi2"/>
          <p:cNvPicPr/>
          <p:nvPr/>
        </p:nvPicPr>
        <p:blipFill>
          <a:blip r:embed="rId2"/>
          <a:stretch/>
        </p:blipFill>
        <p:spPr>
          <a:xfrm>
            <a:off x="5678640" y="0"/>
            <a:ext cx="346536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95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45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Testi consigliat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400" spc="-1" strike="noStrike">
                <a:solidFill>
                  <a:srgbClr val="000000"/>
                </a:solidFill>
                <a:latin typeface="Verdana"/>
              </a:rPr>
              <a:t>Sciuto, Bonanno, Fornaciari, Mari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it-IT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3400" spc="-1" strike="noStrike">
                <a:solidFill>
                  <a:srgbClr val="000000"/>
                </a:solidFill>
                <a:latin typeface="Verdana"/>
              </a:rPr>
              <a:t>Introduzione ai Sistemi Informatici </a:t>
            </a:r>
            <a:r>
              <a:rPr b="0" i="1" lang="it-IT" sz="3400" spc="-1" strike="noStrike">
                <a:solidFill>
                  <a:srgbClr val="000000"/>
                </a:solidFill>
                <a:latin typeface="Verdana"/>
              </a:rPr>
              <a:t>McGraw-Hill 1997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400" spc="-1" strike="noStrike">
                <a:solidFill>
                  <a:srgbClr val="000000"/>
                </a:solidFill>
                <a:latin typeface="Verdana"/>
              </a:rPr>
              <a:t>Curtin, Foley, Sen, Morris    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it-IT" sz="3400" spc="-1" strike="noStrike">
                <a:solidFill>
                  <a:srgbClr val="000000"/>
                </a:solidFill>
                <a:latin typeface="Verdana"/>
              </a:rPr>
              <a:t>Informatica di Bas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i="1" lang="it-IT" sz="3400" spc="-1" strike="noStrike">
                <a:solidFill>
                  <a:srgbClr val="000000"/>
                </a:solidFill>
                <a:latin typeface="Verdana"/>
              </a:rPr>
              <a:t>McGraw-Hill 1999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Programma del cors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 u="sng">
                <a:solidFill>
                  <a:srgbClr val="000000"/>
                </a:solidFill>
                <a:uFillTx/>
                <a:latin typeface="Verdana"/>
              </a:rPr>
              <a:t>Introduzione agli algoritmi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Rappresentazione delle Informazioni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Architettura del calcolator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Reti di Calcolatori (Reti Locali, Internet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Elementi di Programmazio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2627280" y="6453360"/>
            <a:ext cx="432108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684360" y="1844640"/>
            <a:ext cx="358560" cy="3603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osa è l’Informatica 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4560" y="2114280"/>
            <a:ext cx="9433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Scienza degli elaboratori elettronici (</a:t>
            </a:r>
            <a:r>
              <a:rPr b="0" i="1" lang="it-IT" sz="2400" spc="-1" strike="noStrike">
                <a:solidFill>
                  <a:srgbClr val="000000"/>
                </a:solidFill>
                <a:latin typeface="Verdana"/>
              </a:rPr>
              <a:t>Computer Scienc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Scienza dell’informazio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324000" y="3733920"/>
            <a:ext cx="8513640" cy="155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cienza della rappresentazione, memorizzazione, elaborazione e trasmissione dell’informazio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Elaboratore elettronico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(o “computer” o “calcolatore”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21142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’ uno strumento per la rappresentazione, la memorizzazione e l’elaborazione delle informazioni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’</a:t>
            </a:r>
            <a:r>
              <a:rPr b="1" lang="en-US" sz="3000" spc="-1" strike="noStrike">
                <a:solidFill>
                  <a:srgbClr val="336699"/>
                </a:solidFill>
                <a:latin typeface="Verdana"/>
              </a:rPr>
              <a:t> programmabile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: può essere predisposto per eseguire un </a:t>
            </a:r>
            <a:r>
              <a:rPr b="1" i="1" lang="en-US" sz="3000" spc="-1" strike="noStrike">
                <a:solidFill>
                  <a:srgbClr val="000000"/>
                </a:solidFill>
                <a:latin typeface="Verdana"/>
              </a:rPr>
              <a:t>particolare insieme di azioni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, allo scopo di </a:t>
            </a:r>
            <a:r>
              <a:rPr b="1" i="1" lang="en-US" sz="3000" spc="-1" strike="noStrike">
                <a:solidFill>
                  <a:srgbClr val="000000"/>
                </a:solidFill>
                <a:latin typeface="Verdana"/>
              </a:rPr>
              <a:t>risolvere un problema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6:49:59Z</dcterms:created>
  <dc:creator>.</dc:creator>
  <dc:description/>
  <dc:language>en-US</dc:language>
  <cp:lastModifiedBy>kali</cp:lastModifiedBy>
  <dcterms:modified xsi:type="dcterms:W3CDTF">2007-10-24T15:03:09Z</dcterms:modified>
  <cp:revision>31</cp:revision>
  <dc:subject/>
  <dc:title>Diapositiva 1</dc:title>
</cp:coreProperties>
</file>