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31F0-8CF6-489A-94E9-D0769489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B0CD-E042-4E0C-AD44-77902D98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27FD-A358-4A7B-900C-170CD3FD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EC4-B1AA-4CDA-838E-B2C1E9B2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F7E3-AA9F-4946-939B-E6020214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43FF-4799-4A29-BD5A-BF245A81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610C-E24E-45DF-A2B0-C702618A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6417-EE85-48D4-9051-89FBC40E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7C46-1426-43BE-B181-0506EE40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3502-6453-4B1B-A1CC-729DBA00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E515-6E8E-47D6-B6F0-141A7BE4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2FC-B43F-4B8C-A0A0-61B5D0AB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07DF-B2E3-4008-8475-F80FD2A8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76C2-73B3-4716-95C1-F8935CB3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5CB1-62CE-4406-B2BE-AA287909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559E-BE54-470D-B146-197C9A4C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ABB4-ED2F-4D2A-9E1B-A9BDC9B3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906E-2BC5-4D30-8058-C6B02367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9D9-7871-46DD-BC2D-985571E8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586-A59A-47D4-9DF8-5F6297B7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455-22FE-4182-9CD5-2229262E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597-9BBD-4BF9-912B-43BE9458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562-5639-4071-B843-019DD513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3383-7872-4BE7-B89F-BAE0E171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C49D-DA0F-4243-91FA-D8952E65AA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5D4D-8287-45AC-8533-2A20279E45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" y="1699920"/>
            <a:ext cx="950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ti di Calcolato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5300640"/>
            <a:ext cx="287280" cy="289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Visual Basi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guaggio di programmazione per lo sviluppo di applicazioni da eseguire in un qualunque ambiente Microsoft Windo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isual Basic è un’implementazione Microsoft dell’originario linguaggio Bas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Visual Basi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guaggio di programma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 alto livel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pretato (ambiente interattiv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su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uidato dagli even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Processo di programmazione in Visual Bas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getto dell’applica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eazione dell’interfaccia graf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giunta del codice agli elementi visiv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ecu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Processo di programmazione in Visual Bas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1969920"/>
            <a:ext cx="8964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 programma è costituita 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i (ciascuno rappresentato da un’icon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struzion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’interazione dell’utente con un qualunque controllo rappresenta un ev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 ogni controllo sono associati diversi even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l codice è suddiviso in blocchi (rout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 routine contiene il codice eseguito quando viene generato un evento su un controll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del mouse, pressione di un tasto, apertura di una finestra, ec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da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928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Integer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valori interi -32768 a 32767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Esempio: 0, 123, -453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Doubl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valori real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Esempio: 0, 12.34, 0,123 E+12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String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Esempio: “Ciao”, “Inserisci il primo numero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Boolean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valori true e fals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Operato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Operatori matematici:+, -, *, /, Mod, \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Operatori su stringhe: + oppure &amp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Esempio: “Visual” &amp; “Basic” = “VisualBasic”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Operatori condizionali: =, &lt;=, &gt;=, &lt;, &gt;, &lt;&gt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Operatori logici: AND, OR, XOR,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6043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strutti di ba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3534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Definizione delle variabili usate nel programma e del loro tip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SOMMA, N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As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cc0000"/>
                </a:solidFill>
                <a:latin typeface="Verdana"/>
              </a:rPr>
              <a:t>Integ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NOME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As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cc0000"/>
                </a:solidFill>
                <a:latin typeface="Verdana"/>
              </a:rPr>
              <a:t>Str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RISULTATO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As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cc0000"/>
                </a:solidFill>
                <a:latin typeface="Verdana"/>
              </a:rPr>
              <a:t>Doub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segnamento di un valore ad una variabi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IPPO =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TO = 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ISULTATO = PIPPO/PLU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STO = “Ciao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394920" y="620640"/>
            <a:ext cx="86043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strutti di ba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ngresso/Usci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X = InputBox(“Dammi X”)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leggi X da inpu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Print X+3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stampa il risultato di X+3 su outpu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94920" y="620640"/>
            <a:ext cx="86043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ostrutti di bas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755280" y="1773360"/>
            <a:ext cx="86439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condizional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If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A*A+B*B = C*C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“Triangolo rettangolo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El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“Triangolo non rettangolo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End I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394920" y="620640"/>
            <a:ext cx="86043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strutti di ba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964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Ricerca del massimo tra tre numer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eggi N1, N2, N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Poni in massimo uguale al numero N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MAX &gt; N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I  ---</a:t>
            </a:r>
            <a:r>
              <a:rPr b="0" lang="it-I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CONTINU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NO ---</a:t>
            </a:r>
            <a:r>
              <a:rPr b="0" lang="it-I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N2 è il nuovo massim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MAX &gt; N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I  ---</a:t>
            </a:r>
            <a:r>
              <a:rPr b="0" lang="it-I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CONTINU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NO ---</a:t>
            </a:r>
            <a:r>
              <a:rPr b="0" lang="it-I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N3 è il nuovo massim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tampa MA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68000" y="1773360"/>
            <a:ext cx="88218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ripetu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While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(I &lt; 10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OMMA = SOMMA +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 = I +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We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394920" y="620640"/>
            <a:ext cx="86043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strutti di ba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7280" y="620640"/>
            <a:ext cx="5545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semp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95280" y="1628640"/>
            <a:ext cx="4248000" cy="4464360"/>
            <a:chOff x="395280" y="1628640"/>
            <a:chExt cx="4248000" cy="4464360"/>
          </a:xfrm>
        </p:grpSpPr>
        <p:grpSp>
          <p:nvGrpSpPr>
            <p:cNvPr id="303" name=""/>
            <p:cNvGrpSpPr/>
            <p:nvPr/>
          </p:nvGrpSpPr>
          <p:grpSpPr>
            <a:xfrm>
              <a:off x="2034720" y="1972080"/>
              <a:ext cx="1315080" cy="565560"/>
              <a:chOff x="2034720" y="1972080"/>
              <a:chExt cx="1315080" cy="565560"/>
            </a:xfrm>
          </p:grpSpPr>
          <p:sp>
            <p:nvSpPr>
              <p:cNvPr id="304" name=""/>
              <p:cNvSpPr/>
              <p:nvPr/>
            </p:nvSpPr>
            <p:spPr>
              <a:xfrm>
                <a:off x="2034720" y="1972080"/>
                <a:ext cx="1315080" cy="565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50280" y="1974600"/>
                <a:ext cx="11275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STAR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928800" y="2894400"/>
              <a:ext cx="3590640" cy="520560"/>
              <a:chOff x="928800" y="2894400"/>
              <a:chExt cx="3590640" cy="520560"/>
            </a:xfrm>
          </p:grpSpPr>
          <p:sp>
            <p:nvSpPr>
              <p:cNvPr id="307" name=""/>
              <p:cNvSpPr/>
              <p:nvPr/>
            </p:nvSpPr>
            <p:spPr>
              <a:xfrm>
                <a:off x="928800" y="2899440"/>
                <a:ext cx="3590640" cy="502920"/>
              </a:xfrm>
              <a:prstGeom prst="flowChartInputOutpu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427400" y="2894400"/>
                <a:ext cx="259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Leggi 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395280" y="3839040"/>
              <a:ext cx="4248000" cy="459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 = X *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1054080" y="4716720"/>
              <a:ext cx="3120120" cy="508320"/>
              <a:chOff x="1054080" y="4716720"/>
              <a:chExt cx="3120120" cy="508320"/>
            </a:xfrm>
          </p:grpSpPr>
          <p:sp>
            <p:nvSpPr>
              <p:cNvPr id="311" name=""/>
              <p:cNvSpPr/>
              <p:nvPr/>
            </p:nvSpPr>
            <p:spPr>
              <a:xfrm>
                <a:off x="1054080" y="4721760"/>
                <a:ext cx="3120120" cy="503280"/>
              </a:xfrm>
              <a:prstGeom prst="flowChartInputOutpu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80040" y="4716720"/>
                <a:ext cx="21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tampa 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2040840" y="5527440"/>
              <a:ext cx="1314720" cy="565560"/>
              <a:chOff x="2040840" y="5527440"/>
              <a:chExt cx="1314720" cy="565560"/>
            </a:xfrm>
          </p:grpSpPr>
          <p:sp>
            <p:nvSpPr>
              <p:cNvPr id="314" name=""/>
              <p:cNvSpPr/>
              <p:nvPr/>
            </p:nvSpPr>
            <p:spPr>
              <a:xfrm>
                <a:off x="2040840" y="5527440"/>
                <a:ext cx="1314720" cy="565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56400" y="5528520"/>
                <a:ext cx="112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TO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2696760" y="1628640"/>
              <a:ext cx="0" cy="32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96760" y="2561040"/>
              <a:ext cx="0" cy="32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96760" y="3413880"/>
              <a:ext cx="0" cy="4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96760" y="4345200"/>
              <a:ext cx="0" cy="4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96760" y="5198400"/>
              <a:ext cx="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5148360" y="2535120"/>
            <a:ext cx="16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94400" y="1557360"/>
            <a:ext cx="4485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ub 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m X,P as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 = InputBox(“Dammi X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 = X*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INT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rea di un rettango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Sub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main(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base, altezza, area as Integ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base = InputBox(“Inserisci la base:”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altezza = InputBox(“Inserisci l’altezza”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area = base*altez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area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End Su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re se un triangolo è equilatero, isoscele o scale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280" y="1787400"/>
            <a:ext cx="833436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Sub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Main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A, B, C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As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 = InputBox("Inserisci il lato A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B = InputBox("Inserisci il lato B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 = InputBox("Inserisci il lato C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If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A = B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And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B = C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"Triangolo Equilatero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lseIf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A = B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Or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B = C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Or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C = A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"Triangolo Isoscele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"Triangolo Scaleno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720" y="40428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Trasformare la propria media espressa in trentesimi in centodecim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8600" y="1860480"/>
            <a:ext cx="868176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Sub Main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As Inte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A = InputBox("Dammi la tua media"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"La tua media espressa in centodecimi è"; A / 3*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alcolare la media dei propri vot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85672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Sub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Main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Voto, NumeroVoti, Somma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as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“Inserisci i tuoi voti”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omma =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NumeroVoti =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Voto =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InputBox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(“Inserisci un voto (-1 per finire)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While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Voto &lt;&gt; -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NumeroVoti = NumeroVoti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omma = Somma + Vo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Voto =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InputBox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(“Inserisci un voto (-1 per finire)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W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“La tua media è” &amp; Somma/NumeroVoti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5640" y="475920"/>
            <a:ext cx="89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are per quanti giorni la temperatura è stat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uperiore ai 30 grad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74680" y="1860480"/>
            <a:ext cx="890568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Sub Main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Conta, Temperatura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As Integ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ta =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"Inserisci una serie di temperature quotidiane (terminata da -400)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emperatura = InputBox("Dammi un valore di temperatura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hile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Temperatura &lt;&gt; -4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If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Temperatura &gt; 30 Th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ta = Conta +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emperatura = InputBox("Dammi un valore di temperatura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   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e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"Il numero totale di giorni afosi è “ &amp; Con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60360" y="475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lcolare se un certo anno sarà bisest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37600" y="1716120"/>
            <a:ext cx="868212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Sub Main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Anno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As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nno = InputBox("Inserisci l'anno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If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Anno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Mod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4 = 0 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If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Anno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Mod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100 = 0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And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Anno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Mod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400 &lt;&gt; 0 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"Anno Non Bisestile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    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"Anno bisestile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"Anno Non bisestile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nd Sub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137440" cy="16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Sommare 100 numeri</a:t>
            </a:r>
            <a:br>
              <a:rPr sz="3400"/>
            </a:b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(Trovare l’errore…)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3024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ta =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hile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Conta &lt; 1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omma =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Num = InputBox(“”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omma = Somma + Nu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ta = Conta +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e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Som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3429000" y="1276200"/>
            <a:ext cx="295272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ta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omma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hile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Conta &lt;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Num = InputBox(“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omma = Somma +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So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418440" y="1257480"/>
            <a:ext cx="28047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ta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omma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hile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Conta &lt;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Num = InputBox(“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ta = Conta + 1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So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8720" y="304920"/>
            <a:ext cx="92516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Ricerca del massimo tra tre numer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2060640"/>
            <a:ext cx="107964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2360" y="2925720"/>
            <a:ext cx="2879640" cy="503280"/>
          </a:xfrm>
          <a:prstGeom prst="parallelogram">
            <a:avLst>
              <a:gd name="adj" fmla="val 14304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N1, N2, 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56536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3716280"/>
            <a:ext cx="15130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 = 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342900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4560" y="4581360"/>
            <a:ext cx="1296720" cy="115272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 &gt; 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436572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573408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6093000"/>
            <a:ext cx="324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003640" y="1844280"/>
            <a:ext cx="0" cy="424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3640" y="1844640"/>
            <a:ext cx="158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0360" y="2133720"/>
            <a:ext cx="1297080" cy="115236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 &gt; 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4797360"/>
            <a:ext cx="151272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 = 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5157720"/>
            <a:ext cx="505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54450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763280" y="5877000"/>
            <a:ext cx="18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1844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92720" y="3789360"/>
            <a:ext cx="2879640" cy="503280"/>
          </a:xfrm>
          <a:prstGeom prst="parallelogram">
            <a:avLst>
              <a:gd name="adj" fmla="val 14304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mpa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328464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3440" y="4797360"/>
            <a:ext cx="107964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88000" y="429264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51640" y="2349360"/>
            <a:ext cx="1513080" cy="64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 = 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172360" y="2997360"/>
            <a:ext cx="0" cy="50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36000" y="270828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587640" y="3500280"/>
            <a:ext cx="158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461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Ricerca del massimo tra N numer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2133720"/>
            <a:ext cx="107928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8440"/>
            <a:ext cx="0" cy="21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364500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3357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5013360"/>
            <a:ext cx="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6093000"/>
            <a:ext cx="144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556000" y="1844280"/>
            <a:ext cx="0" cy="424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1844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1640" y="2276640"/>
            <a:ext cx="1297080" cy="792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&lt;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59280" y="184464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6000" y="3860640"/>
            <a:ext cx="1079280" cy="505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4724280"/>
            <a:ext cx="201636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5445000"/>
            <a:ext cx="1224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858920" y="3068640"/>
            <a:ext cx="180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9280" y="3860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59280" y="587700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40720" y="3500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40720" y="263700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276720" y="609300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276720" y="2060280"/>
            <a:ext cx="0" cy="403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06064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08720" y="263700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80000" y="220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0" y="2854440"/>
            <a:ext cx="2160720" cy="503280"/>
          </a:xfrm>
          <a:prstGeom prst="parallelogram">
            <a:avLst>
              <a:gd name="adj" fmla="val 10733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16720" y="2997360"/>
            <a:ext cx="2627280" cy="502920"/>
          </a:xfrm>
          <a:prstGeom prst="parallelogram">
            <a:avLst>
              <a:gd name="adj" fmla="val 130601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mpa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414972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508640"/>
            <a:ext cx="1512720" cy="50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3357720"/>
            <a:ext cx="2484360" cy="502920"/>
          </a:xfrm>
          <a:prstGeom prst="parallelogram">
            <a:avLst>
              <a:gd name="adj" fmla="val 1234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59280" y="494172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4149720"/>
            <a:ext cx="1297080" cy="792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 &gt;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4508640"/>
            <a:ext cx="10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88000" y="4508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88000" y="515772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859280" y="5300640"/>
            <a:ext cx="172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omma di K nume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2133720"/>
            <a:ext cx="107928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0" y="2854440"/>
            <a:ext cx="2160720" cy="503280"/>
          </a:xfrm>
          <a:prstGeom prst="parallelogram">
            <a:avLst>
              <a:gd name="adj" fmla="val 10733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2638440"/>
            <a:ext cx="0" cy="21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364500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3357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414828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4869000"/>
            <a:ext cx="0" cy="12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6093000"/>
            <a:ext cx="144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56000" y="1844280"/>
            <a:ext cx="0" cy="424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56000" y="1844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2276640"/>
            <a:ext cx="1297080" cy="792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&lt;=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436572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184464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3357720"/>
            <a:ext cx="2303640" cy="502920"/>
          </a:xfrm>
          <a:prstGeom prst="parallelogram">
            <a:avLst>
              <a:gd name="adj" fmla="val 11451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4365720"/>
            <a:ext cx="107928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40360" y="414972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 = S+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1080" y="3860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494172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61080" y="3068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61080" y="4653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544500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59640" y="3284640"/>
            <a:ext cx="2303280" cy="503280"/>
          </a:xfrm>
          <a:prstGeom prst="parallelogram">
            <a:avLst>
              <a:gd name="adj" fmla="val 11441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mpa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40720" y="378936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40720" y="2637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276720" y="573408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76720" y="2060640"/>
            <a:ext cx="0" cy="367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206064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08720" y="263700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80000" y="220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Prodotto di 2 numeri col metodo delle addizioni successiv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2133720"/>
            <a:ext cx="107928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2638440"/>
            <a:ext cx="0" cy="21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364500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357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4149720"/>
            <a:ext cx="0" cy="194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0" y="6093000"/>
            <a:ext cx="144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556000" y="1844280"/>
            <a:ext cx="0" cy="424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56000" y="1844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11640" y="2276640"/>
            <a:ext cx="1297080" cy="792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59280" y="184464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4365720"/>
            <a:ext cx="107928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95640" y="3645000"/>
            <a:ext cx="208908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D = PROD+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494172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 = 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58920" y="3068640"/>
            <a:ext cx="180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4149720"/>
            <a:ext cx="1800" cy="79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544500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40720" y="378936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40720" y="2637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276720" y="573408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276720" y="2060640"/>
            <a:ext cx="0" cy="367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06064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08720" y="263700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8472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80000" y="220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20" y="2854440"/>
            <a:ext cx="2160720" cy="503280"/>
          </a:xfrm>
          <a:prstGeom prst="parallelogram">
            <a:avLst>
              <a:gd name="adj" fmla="val 10733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59640" y="3284640"/>
            <a:ext cx="2484360" cy="503280"/>
          </a:xfrm>
          <a:prstGeom prst="parallelogram">
            <a:avLst>
              <a:gd name="adj" fmla="val 12340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mpa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dia tra N nume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2133720"/>
            <a:ext cx="107928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2638440"/>
            <a:ext cx="0" cy="21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364500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3357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5013360"/>
            <a:ext cx="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16000" y="6093000"/>
            <a:ext cx="144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56000" y="1844280"/>
            <a:ext cx="0" cy="424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0" y="1844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11640" y="2276640"/>
            <a:ext cx="1297080" cy="792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&lt;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59280" y="184464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36000" y="5445000"/>
            <a:ext cx="1079280" cy="505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4149720"/>
            <a:ext cx="208908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 = S+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40360" y="494172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858920" y="3068640"/>
            <a:ext cx="180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59280" y="3860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544500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740720" y="486900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0720" y="2637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276720" y="573408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276720" y="2060640"/>
            <a:ext cx="0" cy="367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206064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08720" y="263700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472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220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920" y="2854440"/>
            <a:ext cx="2160720" cy="503280"/>
          </a:xfrm>
          <a:prstGeom prst="parallelogram">
            <a:avLst>
              <a:gd name="adj" fmla="val 10733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16720" y="4363920"/>
            <a:ext cx="2627280" cy="503280"/>
          </a:xfrm>
          <a:prstGeom prst="parallelogram">
            <a:avLst>
              <a:gd name="adj" fmla="val 13050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mpa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414972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508640"/>
            <a:ext cx="1512720" cy="50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08360" y="3357720"/>
            <a:ext cx="2484360" cy="502920"/>
          </a:xfrm>
          <a:prstGeom prst="parallelogram">
            <a:avLst>
              <a:gd name="adj" fmla="val 1234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59280" y="4653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77080" y="3286080"/>
            <a:ext cx="1728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DIA = S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740720" y="378936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alcola in un insieme di numeri quanti sono maggiori di 5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2133720"/>
            <a:ext cx="107928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16000" y="2638440"/>
            <a:ext cx="0" cy="21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364500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6000" y="3357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16000" y="5013360"/>
            <a:ext cx="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16000" y="6093000"/>
            <a:ext cx="144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556000" y="1844280"/>
            <a:ext cx="0" cy="424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56000" y="1844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11640" y="2276640"/>
            <a:ext cx="1297080" cy="792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&lt;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59280" y="184464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236000" y="3860640"/>
            <a:ext cx="1079280" cy="505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80000" y="4724280"/>
            <a:ext cx="201636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 = CONT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84720" y="5445000"/>
            <a:ext cx="1224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858920" y="3068640"/>
            <a:ext cx="180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59280" y="3860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59280" y="587700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740720" y="3500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40720" y="263700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76720" y="609300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276720" y="2060280"/>
            <a:ext cx="0" cy="403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206064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08720" y="263700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8472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0000" y="220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0" y="2854440"/>
            <a:ext cx="2160720" cy="503280"/>
          </a:xfrm>
          <a:prstGeom prst="parallelogram">
            <a:avLst>
              <a:gd name="adj" fmla="val 10733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16720" y="2997360"/>
            <a:ext cx="2627280" cy="502920"/>
          </a:xfrm>
          <a:prstGeom prst="parallelogram">
            <a:avLst>
              <a:gd name="adj" fmla="val 130601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mpa C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414972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4508640"/>
            <a:ext cx="1512720" cy="50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08360" y="3357720"/>
            <a:ext cx="2484360" cy="502920"/>
          </a:xfrm>
          <a:prstGeom prst="parallelogram">
            <a:avLst>
              <a:gd name="adj" fmla="val 1234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59280" y="494172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11640" y="4149720"/>
            <a:ext cx="1297080" cy="792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 &gt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08720" y="4508640"/>
            <a:ext cx="10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88000" y="4508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88000" y="515772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859280" y="5300640"/>
            <a:ext cx="172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Visual Basic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kali</cp:lastModifiedBy>
  <dcterms:modified xsi:type="dcterms:W3CDTF">2007-12-12T16:52:51Z</dcterms:modified>
  <cp:revision>112</cp:revision>
  <dc:subject/>
  <dc:title>Diapositiva 1</dc:title>
</cp:coreProperties>
</file>