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655-1A3F-41D4-A5F8-A05F67D8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2FA-0374-4CCD-9DFB-734D7D2B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4C8-1D8A-4295-8A2B-52DA1872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0FC-8247-4077-BEAF-D92F72D7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E0BE-38A8-4C0E-8214-F4D7EEB2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D45A-920B-4D1C-847C-73E911A2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4833-5393-47F6-B2B8-AF11ADA0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AF61-CD31-42CF-A067-4090B4D7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61AA-9074-40C5-B71A-D148E951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4651-81F7-4694-84D9-6E3EB791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2199-ED5D-43B7-882D-E15C075B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8E40-6603-4F01-8782-96F74C8F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00EB-FF1B-4330-9B5F-0C1531B7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C59B-262D-47B3-B6DA-85736022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AB35-2A30-4F28-822F-048BE83E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5A18-CF94-48DA-A3F3-8FD6C6FA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ECE9-64F8-4418-83BA-8D1F11FE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923-7055-4F3B-88B1-05BA2DD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B4C-7FF4-469B-B0B9-A60AF27B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E06-777A-4E6A-9444-71AD4D4B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1F0-E96B-42FA-8767-D9BB687B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3DC-B4B9-4873-BCB7-8AFC8498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C38-41EF-4174-9CA7-F098DE9E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070-FA82-423C-9C1C-8B6821CF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D694-9C4B-47C5-AC3E-30421EE566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BA0E-ABB8-44EE-8CD0-4CFDEF0973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080" y="270828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istema decim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72368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0 cifre di base: 0, 1, 2, …, 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Notazione posizionale: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a posizione di una cifra in un numero indica il suo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eso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in potenze di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10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I pesi son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unità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0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cin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1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entinai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0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2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igliai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= 10</a:t>
            </a:r>
            <a:r>
              <a:rPr b="0" lang="it-IT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= 100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osiz. 3-esim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…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..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sempio di numero rappresentato in notazione decim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964880"/>
            <a:ext cx="8915400" cy="38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al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304 in notazione decim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o in base 10) rappresenta la quantità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304 = 2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3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0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4*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0 + 300 + 0 + 4 = 2304 (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a: numero e numerale qui coincidono, perché il sistema decimale e quello adottato come sistema di riferim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istema bi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 Cifre di base: 0 e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Notazione posizionale: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posizione di una cifra in un numero binario indica il suo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peso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in potenze di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I pesi son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siz. 0-es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2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siz. 1-es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siz. 2-esi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8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16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32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64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128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256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512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= 1024;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2048,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12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=4096;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80720"/>
            <a:ext cx="878184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empio di numero rappresentato in notazione bina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704960"/>
            <a:ext cx="9144000" cy="51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al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100101 in notazione binaria (o in base 2) rappresenta la quantità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1001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0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+1*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28 + 0 + 32 + 0 + 0 + 4 + 0 + 1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5 (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umer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067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numero più grande rappresentato con 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cif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067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ist. Decimale = 99…99 = 10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-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Sist. Binario= 11..11 =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- 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Verdana"/>
              </a:rPr>
              <a:t>Esempio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: 11111111 (8 bit binari) = 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-1 = 255. Per rappresentare il n. 256 ci vuole un bit in più: 100000000 = 1*2</a:t>
            </a:r>
            <a:r>
              <a:rPr b="0" lang="it-IT" sz="32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= 256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Quindi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ssate quante cifre (bit) sono usate per rappresentare i numeri, si fissa anche il numero più grande che si può rappresent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 16 bit: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1 = 65.53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 32 bit: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1 = 4.294.967.295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 64 bit: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64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1 = circa 1,84 *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9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22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da base 2 a base 1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320" y="155556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sta moltiplicare ogni bit per il suo peso e sommare il tutt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Esempi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1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+ 0*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6 + 4 = 2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conversione e’ una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somma di potenze</a:t>
            </a:r>
            <a:r>
              <a:rPr b="0" lang="en-US" sz="3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N.B. se il numero binario termina per 1 e’ dispari altrimenti e’ pari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56664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da base 10 a bas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8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ividere il numero per 2 ripetutamente finche` il risultato non e`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rivere i resti in ordine invers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Esempio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conversione del numero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ivisioni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2/2 = 6/2 = 3/2 = 1/2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Resti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0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1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12 = 11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404640"/>
            <a:ext cx="88930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nversione da base 10 a base 2 - </a:t>
            </a: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Esemp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543640" cy="43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88928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ea di fond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usare le potenze di 2 che, sommate, danno il numero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a converti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ndere le potenze di 2 &lt;=  di N nell’ordine dalla più grande alla più piccola (cioè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ociare il bit 1 alle potenze che vengono usate nella somma per ricostrui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ociare il bit 0 alle potenze non us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56664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da base 10 a base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difica dell’infor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l calcolatore memorizza ed elabora vari tipi di informazion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umeri, testi, immagini, su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Occorre rappresentare tale informazione in formato facilmente manipolabile dall’elaborat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73476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istono anche altre basi di numer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8220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CODICE OTTAL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ifre: 0, 1, 2, 3, 4, 5, 6,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0 (ottale) = 8 (decim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789360"/>
            <a:ext cx="9144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>
              <a:lnSpc>
                <a:spcPct val="11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CODICE ESADECIMA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53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ifre: 0,1,2,3,4,5,6,7,8,9,A,B,C,D,E,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53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 (esadecimale) = 16 (decimale); B = 11; 2B=2*16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+B*16</a:t>
            </a:r>
            <a:r>
              <a:rPr b="0" lang="en-US" sz="3500" spc="-1" strike="noStrike" baseline="30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32+11 = 4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440" indent="-253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38188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i numeri positivi e negati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85000" indent="-58500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bit più a sinistra rappresenta il segno del numero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 = ‘+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= ‘-’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1101 = -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-58500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’ indispensabile indicare il numero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 bit utilizzati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1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t per il segno e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t per il modul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-58500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 un byte possiamo rappresentare tutti i numeri compresi t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+127 (01111111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200" spc="-1" strike="noStrike">
                <a:solidFill>
                  <a:srgbClr val="336699"/>
                </a:solidFill>
                <a:latin typeface="Verdana"/>
              </a:rPr>
              <a:t>  –127 (11111111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2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generale con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it si rappresentano i valori 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16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- 2</a:t>
            </a:r>
            <a:r>
              <a:rPr b="1" lang="en-US" sz="2200" spc="-1" strike="noStrike" baseline="30000">
                <a:solidFill>
                  <a:srgbClr val="336699"/>
                </a:solidFill>
                <a:latin typeface="Verdana"/>
              </a:rPr>
              <a:t>N-1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 - 1 a +2</a:t>
            </a:r>
            <a:r>
              <a:rPr b="1" lang="en-US" sz="2200" spc="-1" strike="noStrike" baseline="30000">
                <a:solidFill>
                  <a:srgbClr val="336699"/>
                </a:solidFill>
                <a:latin typeface="Verdana"/>
              </a:rPr>
              <a:t>N-1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 - 1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85000"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979280"/>
            <a:ext cx="9144000" cy="40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sono i bit da utilizzare e 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il numero da rappresentare si utilizza il valore binario pari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lang="it-IT" sz="2800" spc="-1" strike="noStrike" baseline="30000">
                <a:solidFill>
                  <a:srgbClr val="336699"/>
                </a:solidFill>
                <a:latin typeface="Verdana"/>
              </a:rPr>
              <a:t>N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 +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s. con 4 bi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+7 =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+ 7 = 16 + 7 = 23 =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0111 = 01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-7 = 2</a:t>
            </a:r>
            <a:r>
              <a:rPr b="0" lang="it-IT" sz="2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- 7 = 16 - 7 = 9 = 1001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15920"/>
            <a:ext cx="83818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i numeri positivi e negativi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Complemento a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5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Rappresentazione di numeri positivi e negativi - </a:t>
            </a:r>
            <a:r>
              <a:rPr b="1" lang="en-US" sz="3300" spc="-1" strike="noStrike">
                <a:solidFill>
                  <a:srgbClr val="336699"/>
                </a:solidFill>
                <a:latin typeface="Verdana"/>
              </a:rPr>
              <a:t>Complemento a 2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81200"/>
            <a:ext cx="9144000" cy="455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91120" indent="-591120">
              <a:lnSpc>
                <a:spcPct val="12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n alternativa, per i numeri negativi si eseguono i seguenti pass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60840" indent="-517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rappresenta in binario il corrispondente numero positiv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0840" indent="-517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invertono tutti i b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0840" indent="-517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aggiunge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112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. con 4 bit il numero –7: +7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=0111 =&gt; 1000+1=1001 = -7</a:t>
            </a:r>
            <a:r>
              <a:rPr b="0" lang="it-IT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168120"/>
            <a:ext cx="8381880" cy="182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plemento a 2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 - Addizio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566640" y="225756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segno viene determinato automaticament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: 15 – 5 (utilizzando 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cio la somma “normalmen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 111 (ripor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0 1111 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 1011 (-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=========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0 1010 (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B: Si ignora il bit di overflow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 flipV="1">
            <a:off x="785880" y="528768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2480" y="259920"/>
            <a:ext cx="8382240" cy="134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i numeri frazionari in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Virgola fis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 numero frazionario è rappresentato come una coppia di numeri interi: la </a:t>
            </a: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parte intera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e la </a:t>
            </a: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parte decimale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12,52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&lt;12; 52&gt;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&lt;1100; 110100&gt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6480" y="4042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in virgola mobile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it-IT" sz="3800" spc="-1" strike="noStrike">
                <a:solidFill>
                  <a:srgbClr val="336699"/>
                </a:solidFill>
                <a:latin typeface="Verdana"/>
              </a:rPr>
              <a:t>Floating point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dea:  12,52 = 1252/100 = 1252 * 10</a:t>
            </a:r>
            <a:r>
              <a:rPr b="0" lang="en-US" sz="3400" spc="-1" strike="noStrike" baseline="30000">
                <a:solidFill>
                  <a:srgbClr val="000000"/>
                </a:solidFill>
                <a:latin typeface="Verdana"/>
              </a:rPr>
              <a:t>-2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n numero decimale è rappresentato come un intero moltiplicato per una opportuna potenza di 10, cioè con una coppia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&lt;1252; -2&gt;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ntissa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pone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8124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necessario stabilire quanti bit assegnare alla mantissa e all’espone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 esempio, con 16 bit a disposizione possiamo usarne 12 per la mantissa e 4 per l’esponent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in realtà dovremmo anche tener conto dei segn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66032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 lo stesso metodo possiamo rappresentare numeri molto grandi. Ad esempio, con 8 bi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 bit di mantissa: 11111 = 3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3 bit di esponente: 111 = 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1111111 = 31 *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310 milio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tre, con la notazione classica, con 8 b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ppresentiamo al massimo il n. 25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901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Ma allora, perchè non usare sempre la notazione floating point?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Perchè si perde in precisio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Esempio: 5 cifre (decimali) : 4 per la mantissa, 1 per l’esponente. Rappresentar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312,4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&lt;3124; -1&gt; = [312,4 .. 312,5]??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2200" y="20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9616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dea di fo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414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are presenza/assenza di carica elettr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414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are passaggio/non passaggio di corrente/lu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iamo cioè una rappresentazione binaria (a due valori) dell’inform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unità minimale di rappresentazione è il </a:t>
            </a:r>
            <a:br>
              <a:rPr sz="2800"/>
            </a:b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BIT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B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ary digi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– cifra digitale):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195200" cy="16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8302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14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Quindi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: possiamo rappresentare numeri molto grandi o con molti decimali al costo di una perdita di precisio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Perchè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Perchè i computer permettono solo rappresentazioni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finite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, e così dobbiamo approssimare alcuni numeri (ad esempio gli irrazionali), ma anche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immagini e suon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609480" y="556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Numeri floating poi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La Codifica dei Caratter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997360"/>
            <a:ext cx="691200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B ... a b .... &amp; % $ .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Codici per i simboli dell’alfabe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22572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appresentare i simboli dell’alfabeto anglosassone (0 1 2 ... A B ... A b ...) bastano 7 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Nota: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b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ono simboli diver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6 maiuscole + 26 minuscole + 10 cifre + 30 segni di interpunzione+… -&gt; circa 120 ogget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l’alfabeto esteso  con simboli quali &amp;, %, $, ... bastano  8 bit come nella codifica accettata universalmente chiamata ASCII este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manipolare un numero maggiore di simboli si utilizza la codifica UNICODE a 16 b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difica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 ASC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codifica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ASCII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merican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tandard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ode for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I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nterchange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ode)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tilizza codici su 7 bi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it-IT" sz="2500" spc="-1" strike="noStrike">
                <a:solidFill>
                  <a:srgbClr val="336699"/>
                </a:solidFill>
                <a:latin typeface="Verdana"/>
              </a:rPr>
              <a:t>(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it-IT" sz="2500" spc="-1" strike="noStrike" baseline="30000">
                <a:solidFill>
                  <a:srgbClr val="336699"/>
                </a:solidFill>
                <a:latin typeface="Verdana"/>
              </a:rPr>
              <a:t>7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 = 128 caratteri diversi</a:t>
            </a:r>
            <a:r>
              <a:rPr b="0" lang="it-IT" sz="2500" spc="-1" strike="noStrike">
                <a:solidFill>
                  <a:srgbClr val="336699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 esemp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 0 0 0 0 0 1  rappresenta  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 0 0 0 0 1 0  rappresenta 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0 0 0 0 1 1  rappresenta  C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e parole si codificano utilizzando sequenze di 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000010 1000001 1000010  1000001 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B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  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     B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        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0680" y="493560"/>
            <a:ext cx="7105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ltri codici di codific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936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ASCII EST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a anche il primo bit di ogni by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6 caratteri divers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 è standard (cambia con la lingua us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UNI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ndard proposto a 16 bit (65.536 caratter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EBCD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ro codice a 8 bit della IBM (quasi in disus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SCII est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203328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 cifre 0..9 rappresentate in Ascii sono simboli o caratteri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NON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quantità numeri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possiamo usarle per indicare quantità e per le operazioni aritmetiche. (Anche nella vita di tutti giorni usiamo i numeri come simboli e non come quantità: i n. telefonic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6840" y="426960"/>
            <a:ext cx="7643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umeri in ASCI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89548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720" y="569880"/>
            <a:ext cx="73436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formazioni comples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5640" y="2016000"/>
            <a:ext cx="87757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 1 bit rappresentiamo solo 2 diverse informazion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/no - on/off - 0/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tendo insieme più bit possiamo rappresentare più informazion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00 / 01 / 10 /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Informazioni complesse si memorizzano come sequenze di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 codificare i nomi delle 4 stagioni bastano 2 b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 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vern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ave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 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st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rappresent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utunn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ti bit per codificare i nomi dei giorni della settiman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formazioni comples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498600"/>
            <a:ext cx="8280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formazioni complesse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720" y="18302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e, con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it, ognuno dei quali può assume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alori, possiamo rappresenta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800" spc="-1" strike="noStrike" baseline="30000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zioni diverse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tte le possibili combinazioni di 0 e 1 su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posizion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cever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 rappresenta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zioni dobbiamo usar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bit, in modo che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800" spc="-1" strike="noStrike" baseline="30000">
                <a:solidFill>
                  <a:srgbClr val="336699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&gt;= 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mp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7640" y="1844280"/>
            <a:ext cx="9280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 rappresentare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57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informazioni diverse dobbiamo usare gruppi di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meno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6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bit. Infatti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3400" spc="-1" strike="noStrike" baseline="30000">
                <a:solidFill>
                  <a:srgbClr val="336699"/>
                </a:solidFill>
                <a:latin typeface="Verdana"/>
              </a:rPr>
              <a:t>6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 = 64 &gt; 57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ioè un gruppo di 6 bit può assumer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64 configurazioni diverse: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000000 / 000001 / 000010 …/ 111110 / 1111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2720" y="714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By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sequenza di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 bi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viene chiamat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 0 0 0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 0 0 0 0 0 0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byte = 8 bit = 2</a:t>
            </a:r>
            <a:r>
              <a:rPr b="1" lang="en-US" sz="2800" spc="-1" strike="noStrike" baseline="30000">
                <a:solidFill>
                  <a:srgbClr val="336699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= 256 informazioni dive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to come unità di misura per indi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e dimensioni della memori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velocità di trasmissio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60320" indent="-2854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a potenza di un elaborato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ndo sequenze di byte (e quindi di bit) si possono rappresentare caratteri, numeri immagini, su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tre unità di mis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KiloByte (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KB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, MegaByte (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MB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, GigaByte (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GB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 ragioni storiche in informatica Kilo, Mega, e Giga indicano però le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potenze di 2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he più si avvicinano alle corrispondenti potenze di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iù precisam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 KB = 1024 x 1 byte 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~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 MB = 1024 x 1 KB =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2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~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 GB = 1024 x 1 MB =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3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~ 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multipli del byte vengono utilizzati come unità di misura per la capacità della memoria di un elabora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07T19:06:01Z</dcterms:modified>
  <cp:revision>55</cp:revision>
  <dc:subject/>
  <dc:title>Diapositiva 1</dc:title>
</cp:coreProperties>
</file>