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0.wmf" ContentType="image/x-wmf"/>
  <Override PartName="/ppt/media/image2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68D4-456F-4147-84EB-CE221CA12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E273-E903-438D-8E28-93C09787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B80E-1B08-4C91-939E-4B4EAA14D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410F-313D-4481-A75E-F95EEA33D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763E-A036-466E-845A-BE52AFB49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90DF-7CB2-4A54-AAB3-05E7E80F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DDE3-5118-4825-9A35-A9CECCE3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3CD7-6444-41D5-8530-116C38FF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AA86-31F0-4C2B-855C-3ABD44CB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670F-F53D-4B5F-8D09-63596F34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8EA1-1207-4FFF-97ED-ACD41122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515D-496C-4E0C-95C0-2DB85696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53B7-3702-4EEF-AFBE-D799014E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9889-07B2-45B0-83CB-05B00057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F600-040C-4541-97D9-C12C98A7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B89A-87C4-4FAF-8544-AB21A35D3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FEFC-9A7A-408F-A66C-AA75DD744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ABB1-B306-4E0C-A0A5-6C388E1A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4A32-B47C-41F4-B09C-7E21755C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715A-1175-425D-9EAE-353FE760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3AE4-1CF3-4E47-9666-BF6F6F8B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CE40-0B63-409A-9FAB-08DCC7E3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DA67-F1B4-4369-B007-82708234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B074-B5B5-45D6-84BA-1EBA22A5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60B8-7DFC-40EA-A208-71B4E011B73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6689-924F-45F5-AC1E-A7891B0EAB6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image" Target="../media/image21.wm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image" Target="../media/image22.wmf"/><Relationship Id="rId9" Type="http://schemas.openxmlformats.org/officeDocument/2006/relationships/image" Target="../media/image22.wmf"/><Relationship Id="rId10" Type="http://schemas.openxmlformats.org/officeDocument/2006/relationships/image" Target="../media/image22.wmf"/><Relationship Id="rId11" Type="http://schemas.openxmlformats.org/officeDocument/2006/relationships/image" Target="../media/image22.wmf"/><Relationship Id="rId12" Type="http://schemas.openxmlformats.org/officeDocument/2006/relationships/image" Target="../media/image22.wmf"/><Relationship Id="rId13" Type="http://schemas.openxmlformats.org/officeDocument/2006/relationships/image" Target="../media/image22.wmf"/><Relationship Id="rId1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gramma del cor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8856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-4460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Introduzione agli algoritm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appresentazione delle Informazion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rchitettura del calcolato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3900" spc="-1" strike="noStrike">
                <a:solidFill>
                  <a:srgbClr val="000000"/>
                </a:solidFill>
                <a:latin typeface="Verdana"/>
              </a:rPr>
              <a:t>Reti di Calcolatori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Elementi di Programmazio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826920" y="4581360"/>
            <a:ext cx="360360" cy="3603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ipi di reti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(dal punto di vist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lla tecnologia di comunicazion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eti punto a pu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ù connessioni individuali tra coppie di calcolator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unicazione tra due calcolator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siste un canale di trasmissione diretto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lo si usa per la comunicazion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on esiste un canale di comunicazione diretto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la comunicazione avviene passando attraverso calcolatori intermedi                                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ipi di reti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(dal punto di vist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lla tecnologia di comunicazion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In generale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Le reti geograficamente localizzate tendono ad essere broadca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Le reti geograficamente molto estese tendono ad essere punto a pun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0920" y="304920"/>
            <a:ext cx="77770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ipi di reti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(dal punto di vist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lla loro estension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713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Rete locale (LAN - Local Area Network):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Di limitata estension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Collega due o più computer in un area non più grande di un edificio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Collega computer di un laboratorio, gruppo di lavoro, ufficio, ditta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Rete metropolitana (MAN - Metropolitan Area Network):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Collega dispositivi collocati nella stessa area urban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Collega computer di una singola organizzazione nella stessa area urbana (es.: banca con filiali cittadine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ipi di reti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(dal punto di vist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lla loro estension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6360" y="1773360"/>
            <a:ext cx="849636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Rete geografica (Wide Area Network)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Collega dispositivi diffusi in un’ampia area geografica (nazione, continent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Trasmissione dati: attraverso messagg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Rete di reti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Collega più reti differenti e singoli calcolatori mediante opportuni elementi di interfacci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Può avere estensione mondiale (es.: Internet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ipi di reti </a:t>
            </a:r>
            <a:br>
              <a:rPr sz="38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(dal punto di vista topologico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blema: quanti e quali cavi utilizzare e come disporli per connettere i nodi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attori di scelta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Verdana"/>
              </a:rPr>
              <a:t>Economicit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umero e lunghezza dei cav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Verdana"/>
              </a:rPr>
              <a:t>Velocità di comunicazio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umero di nodi intermed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Verdana"/>
              </a:rPr>
              <a:t>Affidabilit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olleranza rispetto ai guast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ipi di reti </a:t>
            </a:r>
            <a:br>
              <a:rPr sz="38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(dal punto di vista topologico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6367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Linea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ell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ell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unto-pu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is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1173240" y="2368440"/>
            <a:ext cx="7059600" cy="1086120"/>
            <a:chOff x="1173240" y="2368440"/>
            <a:chExt cx="7059600" cy="1086120"/>
          </a:xfrm>
        </p:grpSpPr>
        <p:sp>
          <p:nvSpPr>
            <p:cNvPr id="125" name=""/>
            <p:cNvSpPr/>
            <p:nvPr/>
          </p:nvSpPr>
          <p:spPr>
            <a:xfrm>
              <a:off x="1173240" y="3454560"/>
              <a:ext cx="7059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587600" y="2368440"/>
              <a:ext cx="928440" cy="1086120"/>
              <a:chOff x="1587600" y="2368440"/>
              <a:chExt cx="928440" cy="1086120"/>
            </a:xfrm>
          </p:grpSpPr>
          <p:sp>
            <p:nvSpPr>
              <p:cNvPr id="127" name=""/>
              <p:cNvSpPr/>
              <p:nvPr/>
            </p:nvSpPr>
            <p:spPr>
              <a:xfrm>
                <a:off x="1587600" y="2368440"/>
                <a:ext cx="928440" cy="51300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PC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052720" y="2881440"/>
                <a:ext cx="0" cy="57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3400560" y="2368440"/>
              <a:ext cx="928440" cy="1086120"/>
              <a:chOff x="3400560" y="2368440"/>
              <a:chExt cx="928440" cy="1086120"/>
            </a:xfrm>
          </p:grpSpPr>
          <p:sp>
            <p:nvSpPr>
              <p:cNvPr id="130" name=""/>
              <p:cNvSpPr/>
              <p:nvPr/>
            </p:nvSpPr>
            <p:spPr>
              <a:xfrm>
                <a:off x="3400560" y="2368440"/>
                <a:ext cx="928440" cy="51300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PC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65680" y="2881440"/>
                <a:ext cx="0" cy="57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5165640" y="2368440"/>
              <a:ext cx="928440" cy="1086120"/>
              <a:chOff x="5165640" y="2368440"/>
              <a:chExt cx="928440" cy="1086120"/>
            </a:xfrm>
          </p:grpSpPr>
          <p:sp>
            <p:nvSpPr>
              <p:cNvPr id="133" name=""/>
              <p:cNvSpPr/>
              <p:nvPr/>
            </p:nvSpPr>
            <p:spPr>
              <a:xfrm>
                <a:off x="5165640" y="2368440"/>
                <a:ext cx="928440" cy="51300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PC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630760" y="2881440"/>
                <a:ext cx="0" cy="57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6840360" y="2368440"/>
              <a:ext cx="928440" cy="1086120"/>
              <a:chOff x="6840360" y="2368440"/>
              <a:chExt cx="928440" cy="1086120"/>
            </a:xfrm>
          </p:grpSpPr>
          <p:sp>
            <p:nvSpPr>
              <p:cNvPr id="136" name=""/>
              <p:cNvSpPr/>
              <p:nvPr/>
            </p:nvSpPr>
            <p:spPr>
              <a:xfrm>
                <a:off x="6840360" y="2368440"/>
                <a:ext cx="928440" cy="51300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PC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305480" y="2881440"/>
                <a:ext cx="0" cy="57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9080" y="304920"/>
            <a:ext cx="8820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opologia lineare (a bus)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81080" y="3716280"/>
            <a:ext cx="91440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Fu la prima ad essere utilizzata nel progetto di reti local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Trasmissioni broadcast che condividono un unico canale di trasmissio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Richiede un mezzo trasmissivo intrinsecamente bidirezional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E’ necessario risolvere conflitti tra le risorse che vogliono accedere contemporaneamente alla risors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Topologia lineare (a bus)</a:t>
            </a: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 Etherne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964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Ethernet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è il tipo di rete locale più diffu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Qualsiasi computer di qualsiasi tipo prevede la possibilità di usare una </a:t>
            </a:r>
            <a:r>
              <a:rPr b="1" lang="it-IT" sz="2200" spc="-1" strike="noStrike">
                <a:solidFill>
                  <a:srgbClr val="336699"/>
                </a:solidFill>
                <a:latin typeface="Verdana"/>
              </a:rPr>
              <a:t>scheda Ethernet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per connettersi alla rete loca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Metodo di access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Quando un computer vuole comunicare invia il segnale sul cavo di collegamen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Se si verifica un conflitto (due computer hanno tentato di comunicare contemporaneamente) i due computer si fermano e aspettano per un tempo T casuale, poi riprovan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Velocità di trasmissione: 100 Megabit/se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opologia lineare (a bu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9280" y="1771200"/>
            <a:ext cx="896472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Vantagg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Semplicità </a:t>
            </a:r>
            <a:r>
              <a:rPr b="0" lang="it-IT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facile gestione e manutenzio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Flessibilità </a:t>
            </a:r>
            <a:r>
              <a:rPr b="0" lang="it-IT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facile connessione di stazioni alla re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Bassi cost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Affidabilità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vantagg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Tutte le stazioni dipendono da un solo mezzo trasmissivo condiviso: le prestazioni possono divenire un fattore critico nel momento di traffico elevato: non è garantita la consegna del messaggio entro un certo intervallo di temp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752480" y="1773360"/>
            <a:ext cx="4522680" cy="1368000"/>
            <a:chOff x="1752480" y="1773360"/>
            <a:chExt cx="4522680" cy="1368000"/>
          </a:xfrm>
        </p:grpSpPr>
        <p:sp>
          <p:nvSpPr>
            <p:cNvPr id="145" name=""/>
            <p:cNvSpPr/>
            <p:nvPr/>
          </p:nvSpPr>
          <p:spPr>
            <a:xfrm>
              <a:off x="2005560" y="1848600"/>
              <a:ext cx="4269600" cy="1292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87120" y="1965960"/>
              <a:ext cx="788040" cy="273960"/>
            </a:xfrm>
            <a:prstGeom prst="rect">
              <a:avLst/>
            </a:prstGeom>
            <a:solidFill>
              <a:srgbClr val="a3b2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C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15000" y="2867400"/>
              <a:ext cx="787680" cy="273960"/>
            </a:xfrm>
            <a:prstGeom prst="rect">
              <a:avLst/>
            </a:prstGeom>
            <a:solidFill>
              <a:srgbClr val="a3b2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C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52480" y="2546640"/>
              <a:ext cx="788040" cy="273960"/>
            </a:xfrm>
            <a:prstGeom prst="rect">
              <a:avLst/>
            </a:prstGeom>
            <a:solidFill>
              <a:srgbClr val="a3b2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C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80080" y="1773360"/>
              <a:ext cx="787680" cy="273960"/>
            </a:xfrm>
            <a:prstGeom prst="rect">
              <a:avLst/>
            </a:prstGeom>
            <a:solidFill>
              <a:srgbClr val="a3b2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C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opologia ad anel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8000" y="3384360"/>
            <a:ext cx="8856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Connessione circolare punto-a-punto tra tutte le stazioni colleg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L’informazione transita in una direzione e viene ricevuta a turno da ogni stazione, che verifica se essa è destinataria del messaggio; in caso negativo la stazione rigenera il segnale e lo trasmette alla stazione successi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Evoluzione dei sistemi informatic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046160" y="2114640"/>
          <a:ext cx="7042320" cy="354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6160" y="2114640"/>
                    <a:ext cx="7042320" cy="35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opologia ad anel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7280" y="2349000"/>
            <a:ext cx="8856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La tecnica </a:t>
            </a: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token-ring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viene usata per la comunicazione tra gli elaborator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n token (un gruppo di byte) viene continuamente passato da un computer all’alt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n computer può trasmettere sulla rete solo quando e’ in possesso del tok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opologia ad anel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87280" y="1628280"/>
            <a:ext cx="8856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ntagg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98840" indent="-383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sto ridot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9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vantagg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98840" indent="-383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mitata flessibilità: l’aggiunta di una nuova stazione comporta l’apertura dell’anell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ospensione attività per il tempo necessario all’inseriment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98840" indent="-383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fidabilità della rete: dipende dall’affidabilità di tutte le stazioni collegate; se una di esse ha un malfunzionamento l’anello si interromp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2920" y="-360"/>
            <a:ext cx="687708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opologia a stell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42720" y="4797000"/>
            <a:ext cx="880092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 connessioni fanno capo ad un unico nodo centrale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HU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dispositivo hardware specializzato che smista le comunicazioni dei comput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ente un controllo centralizzato delle comunicazion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581120" y="2008080"/>
            <a:ext cx="6064200" cy="2241720"/>
            <a:chOff x="1581120" y="2008080"/>
            <a:chExt cx="6064200" cy="2241720"/>
          </a:xfrm>
        </p:grpSpPr>
        <p:grpSp>
          <p:nvGrpSpPr>
            <p:cNvPr id="159" name=""/>
            <p:cNvGrpSpPr/>
            <p:nvPr/>
          </p:nvGrpSpPr>
          <p:grpSpPr>
            <a:xfrm>
              <a:off x="1581120" y="2008080"/>
              <a:ext cx="6064200" cy="2241720"/>
              <a:chOff x="1581120" y="2008080"/>
              <a:chExt cx="6064200" cy="2241720"/>
            </a:xfrm>
          </p:grpSpPr>
          <p:sp>
            <p:nvSpPr>
              <p:cNvPr id="160" name=""/>
              <p:cNvSpPr/>
              <p:nvPr/>
            </p:nvSpPr>
            <p:spPr>
              <a:xfrm>
                <a:off x="3932280" y="3454560"/>
                <a:ext cx="1173240" cy="79524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94320" y="2008080"/>
                <a:ext cx="928800" cy="51300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PC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509920" y="2008080"/>
                <a:ext cx="928440" cy="51300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PC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716880" y="3736800"/>
                <a:ext cx="928440" cy="51300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PC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581120" y="3736800"/>
                <a:ext cx="928800" cy="51300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PC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38360" y="2521080"/>
                <a:ext cx="493920" cy="9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5105520" y="2521080"/>
                <a:ext cx="388800" cy="9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509920" y="3967200"/>
                <a:ext cx="1422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105520" y="3967200"/>
                <a:ext cx="161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932280" y="3525840"/>
              <a:ext cx="116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2920" y="-360"/>
            <a:ext cx="687708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opologia a stell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4582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842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84240" indent="-842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ntagg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163080" indent="-784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163080" indent="-784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stazioni elevate, grazie alle connessioni punto a punto dedic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163080" indent="-784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acilità di controllo centralizzato del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163080" indent="-784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mplicità del protocollo di comunicazio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84240" indent="-842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vantagg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163080" indent="-784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ssibilità di sovraccarico in caso di traffico elevato, con possibilità di blocco delle comunicazion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163080" indent="-784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pendenza dall’affidabilità del server, dato che un suo guasto blocca l’intera re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16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2195640" y="1755720"/>
            <a:ext cx="4176360" cy="2249280"/>
            <a:chOff x="2195640" y="1755720"/>
            <a:chExt cx="4176360" cy="2249280"/>
          </a:xfrm>
        </p:grpSpPr>
        <p:sp>
          <p:nvSpPr>
            <p:cNvPr id="173" name=""/>
            <p:cNvSpPr/>
            <p:nvPr/>
          </p:nvSpPr>
          <p:spPr>
            <a:xfrm>
              <a:off x="2195640" y="1755720"/>
              <a:ext cx="970920" cy="717120"/>
            </a:xfrm>
            <a:prstGeom prst="rect">
              <a:avLst/>
            </a:prstGeom>
            <a:solidFill>
              <a:srgbClr val="a3b2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C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01440" y="1755720"/>
              <a:ext cx="970560" cy="717120"/>
            </a:xfrm>
            <a:prstGeom prst="rect">
              <a:avLst/>
            </a:prstGeom>
            <a:solidFill>
              <a:srgbClr val="a3b2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C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95640" y="3288240"/>
              <a:ext cx="970920" cy="716760"/>
            </a:xfrm>
            <a:prstGeom prst="rect">
              <a:avLst/>
            </a:prstGeom>
            <a:solidFill>
              <a:srgbClr val="a3b2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C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01440" y="3288240"/>
              <a:ext cx="970560" cy="716760"/>
            </a:xfrm>
            <a:prstGeom prst="rect">
              <a:avLst/>
            </a:prstGeom>
            <a:solidFill>
              <a:srgbClr val="a3b2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C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22600" y="2472840"/>
              <a:ext cx="1080" cy="81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66560" y="2062800"/>
              <a:ext cx="2234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66560" y="3653280"/>
              <a:ext cx="2234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84560" y="2472840"/>
              <a:ext cx="12960" cy="81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6560" y="2472840"/>
              <a:ext cx="2234880" cy="81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166560" y="2472480"/>
              <a:ext cx="2234880" cy="81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22824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opologia punto a pu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4320720"/>
            <a:ext cx="8748720" cy="16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tima tolleranza ai guasti ma altissimi costi per i collegamenti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tilizzabile solo per reti con pochissimi nodi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476280"/>
            <a:ext cx="687708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opologia mis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508120" y="2419200"/>
            <a:ext cx="1086120" cy="3578400"/>
            <a:chOff x="2508120" y="2419200"/>
            <a:chExt cx="1086120" cy="3578400"/>
          </a:xfrm>
        </p:grpSpPr>
        <p:sp>
          <p:nvSpPr>
            <p:cNvPr id="187" name=""/>
            <p:cNvSpPr/>
            <p:nvPr/>
          </p:nvSpPr>
          <p:spPr>
            <a:xfrm flipV="1">
              <a:off x="3594240" y="2419200"/>
              <a:ext cx="0" cy="357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2508120" y="5317200"/>
              <a:ext cx="1086120" cy="470520"/>
              <a:chOff x="2508120" y="5317200"/>
              <a:chExt cx="1086120" cy="470520"/>
            </a:xfrm>
          </p:grpSpPr>
          <p:sp>
            <p:nvSpPr>
              <p:cNvPr id="189" name=""/>
              <p:cNvSpPr/>
              <p:nvPr/>
            </p:nvSpPr>
            <p:spPr>
              <a:xfrm rot="16200000">
                <a:off x="2529360" y="5295960"/>
                <a:ext cx="470520" cy="51300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021120" y="5551920"/>
                <a:ext cx="57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2508120" y="4398120"/>
              <a:ext cx="1086120" cy="470520"/>
              <a:chOff x="2508120" y="4398120"/>
              <a:chExt cx="1086120" cy="470520"/>
            </a:xfrm>
          </p:grpSpPr>
          <p:sp>
            <p:nvSpPr>
              <p:cNvPr id="192" name=""/>
              <p:cNvSpPr/>
              <p:nvPr/>
            </p:nvSpPr>
            <p:spPr>
              <a:xfrm rot="16200000">
                <a:off x="2529360" y="4376880"/>
                <a:ext cx="470520" cy="51300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021120" y="4632840"/>
                <a:ext cx="57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2508120" y="3503520"/>
              <a:ext cx="1086120" cy="470520"/>
              <a:chOff x="2508120" y="3503520"/>
              <a:chExt cx="1086120" cy="470520"/>
            </a:xfrm>
          </p:grpSpPr>
          <p:sp>
            <p:nvSpPr>
              <p:cNvPr id="195" name=""/>
              <p:cNvSpPr/>
              <p:nvPr/>
            </p:nvSpPr>
            <p:spPr>
              <a:xfrm rot="16200000">
                <a:off x="2529360" y="3482280"/>
                <a:ext cx="470520" cy="51300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021120" y="3738240"/>
                <a:ext cx="57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2508120" y="2654640"/>
              <a:ext cx="1086120" cy="470520"/>
              <a:chOff x="2508120" y="2654640"/>
              <a:chExt cx="1086120" cy="470520"/>
            </a:xfrm>
          </p:grpSpPr>
          <p:sp>
            <p:nvSpPr>
              <p:cNvPr id="198" name=""/>
              <p:cNvSpPr/>
              <p:nvPr/>
            </p:nvSpPr>
            <p:spPr>
              <a:xfrm rot="16200000">
                <a:off x="2529360" y="2633400"/>
                <a:ext cx="470520" cy="51300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021120" y="2889360"/>
                <a:ext cx="57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"/>
          <p:cNvGrpSpPr/>
          <p:nvPr/>
        </p:nvGrpSpPr>
        <p:grpSpPr>
          <a:xfrm>
            <a:off x="5694840" y="2246400"/>
            <a:ext cx="1728360" cy="3516120"/>
            <a:chOff x="5694840" y="2246400"/>
            <a:chExt cx="1728360" cy="3516120"/>
          </a:xfrm>
        </p:grpSpPr>
        <p:grpSp>
          <p:nvGrpSpPr>
            <p:cNvPr id="201" name=""/>
            <p:cNvGrpSpPr/>
            <p:nvPr/>
          </p:nvGrpSpPr>
          <p:grpSpPr>
            <a:xfrm>
              <a:off x="5694840" y="2246400"/>
              <a:ext cx="1728360" cy="3516120"/>
              <a:chOff x="5694840" y="2246400"/>
              <a:chExt cx="1728360" cy="3516120"/>
            </a:xfrm>
          </p:grpSpPr>
          <p:sp>
            <p:nvSpPr>
              <p:cNvPr id="202" name=""/>
              <p:cNvSpPr/>
              <p:nvPr/>
            </p:nvSpPr>
            <p:spPr>
              <a:xfrm rot="5400000">
                <a:off x="5661360" y="3642840"/>
                <a:ext cx="680040" cy="61308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5400000">
                <a:off x="6956280" y="4586400"/>
                <a:ext cx="538200" cy="39528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5400000">
                <a:off x="6956280" y="2855880"/>
                <a:ext cx="538200" cy="39528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5400000">
                <a:off x="5623200" y="5295600"/>
                <a:ext cx="538200" cy="39528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5400000">
                <a:off x="5623200" y="2317680"/>
                <a:ext cx="538200" cy="39528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6308280" y="3323160"/>
                <a:ext cx="719640" cy="28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 flipV="1">
                <a:off x="6308280" y="4289760"/>
                <a:ext cx="719640" cy="22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912640" y="2784600"/>
                <a:ext cx="0" cy="82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912640" y="4289760"/>
                <a:ext cx="0" cy="93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 rot="5400000">
              <a:off x="5705280" y="3744000"/>
              <a:ext cx="67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 flipV="1">
            <a:off x="3587760" y="3970440"/>
            <a:ext cx="2106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ndivisione di risor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una rete si vogliono condividere le risorse. In una LAN, ad esempio,  stampanti, dischi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l S.O. deve permettere anche l’uso di quelle risorse che non sono fisicamente collegate al computer su cui si sta lavorand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S.O. dei computer in rete devono quindi dialogare fra loro per permettere la condivisione delle risor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4643280" y="260280"/>
          <a:ext cx="403236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260280"/>
                    <a:ext cx="403236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000000"/>
                </a:solidFill>
                <a:latin typeface="Verdana"/>
              </a:rPr>
              <a:t>Scambio di </a:t>
            </a:r>
            <a:br>
              <a:rPr sz="3400"/>
            </a:br>
            <a:r>
              <a:rPr b="1" lang="it-IT" sz="3400" spc="-1" strike="noStrike">
                <a:solidFill>
                  <a:srgbClr val="000000"/>
                </a:solidFill>
                <a:latin typeface="Verdana"/>
              </a:rPr>
              <a:t>informazion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0" y="3068640"/>
            <a:ext cx="9144000" cy="3789360"/>
            <a:chOff x="0" y="3068640"/>
            <a:chExt cx="9144000" cy="3789360"/>
          </a:xfrm>
        </p:grpSpPr>
        <p:pic>
          <p:nvPicPr>
            <p:cNvPr id="219" name="" descr=""/>
            <p:cNvPicPr/>
            <p:nvPr/>
          </p:nvPicPr>
          <p:blipFill>
            <a:blip r:embed="rId3"/>
            <a:stretch/>
          </p:blipFill>
          <p:spPr>
            <a:xfrm>
              <a:off x="446040" y="3068640"/>
              <a:ext cx="3643200" cy="374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4"/>
            <a:stretch/>
          </p:blipFill>
          <p:spPr>
            <a:xfrm>
              <a:off x="5502240" y="3108240"/>
              <a:ext cx="3641760" cy="37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755640" y="6137280"/>
              <a:ext cx="4753080" cy="72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38960" y="3164040"/>
              <a:ext cx="3306600" cy="66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72320" y="6135840"/>
              <a:ext cx="3122280" cy="69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3119400"/>
              <a:ext cx="4162320" cy="66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4560" y="1628640"/>
            <a:ext cx="8839080" cy="27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ffinché due calcolatori possano scambiarsi dei dati sono necessar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n-US" sz="2200" spc="-1" strike="noStrike">
                <a:solidFill>
                  <a:srgbClr val="336699"/>
                </a:solidFill>
                <a:latin typeface="Verdana"/>
              </a:rPr>
              <a:t>insieme di rego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he regolano lo scambio di dati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n-US" sz="2200" spc="-1" strike="noStrike">
                <a:solidFill>
                  <a:srgbClr val="336699"/>
                </a:solidFill>
                <a:latin typeface="Verdana"/>
              </a:rPr>
              <a:t>canale fisic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di comunicazione tra i due calcolator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n-US" sz="2200" spc="-1" strike="noStrike">
                <a:solidFill>
                  <a:srgbClr val="336699"/>
                </a:solidFill>
                <a:latin typeface="Verdana"/>
              </a:rPr>
              <a:t>componente hardwar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della comunicazio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l </a:t>
            </a:r>
            <a:r>
              <a:rPr b="1" lang="en-US" sz="2200" spc="-1" strike="noStrike">
                <a:solidFill>
                  <a:srgbClr val="336699"/>
                </a:solidFill>
                <a:latin typeface="Verdana"/>
              </a:rPr>
              <a:t>softwar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er la comunicazio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Protocolli di comunicazi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560" y="1717200"/>
            <a:ext cx="871380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l solo collegamento fisico non è sufficiente per permettere la comunicazione fra calcolator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lla comunicazione tra calcolatori, è necessaria la presenza di uno strato software che consenta lo scambio di dati sulla base di un </a:t>
            </a: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protocol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un protocollo di comunicazione è un insieme di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regole e convenzion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che controllano lo scambio di informazioni in una comunic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41440" y="0"/>
            <a:ext cx="9144000" cy="14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tocolli di comunicazi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-36720" y="1557000"/>
            <a:ext cx="93963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22640" indent="-42264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protocolli stabiliscono regole di comunicazione (messaggi consentiti e loro formato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e velocità avviene l’invio di byt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 segnali indicano l’inizio e la fine di una trasmission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 tecniche si usano per verificare la correttezza dei messaggi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e segnale indica la corretta ricezion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7432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l messaggio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380360" y="2637000"/>
            <a:ext cx="1203120" cy="755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7380360" y="3808440"/>
            <a:ext cx="1258920" cy="7729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7380360" y="5084640"/>
            <a:ext cx="140328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Cos’è una ret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245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ieme di calcolatori autonomi tra loro collegati mediante una rete di comunicazio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li utenti sono in grado di interagire in modo esplicito con la rete (ed in alcuni casi sono tenuti a farl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 calcolatori connessi alla rete mantengono un certo grado di indipendenza: in caso di guasto o indisponibilità della rete ogni calcolatore continua a funzionare individualment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Protocolli di comunicazi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57736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e nel caso della codifica dei dati occorre utilizzare degli </a:t>
            </a:r>
            <a:r>
              <a:rPr b="1" lang="en-US" sz="2600" spc="-1" strike="noStrike">
                <a:solidFill>
                  <a:srgbClr val="336699"/>
                </a:solidFill>
                <a:latin typeface="Verdana"/>
              </a:rPr>
              <a:t>standar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per problemi di compatibilità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emp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ello </a:t>
            </a:r>
            <a:r>
              <a:rPr b="1" lang="en-US" sz="2200" spc="-1" strike="noStrike">
                <a:solidFill>
                  <a:srgbClr val="cc0000"/>
                </a:solidFill>
                <a:latin typeface="Verdana"/>
              </a:rPr>
              <a:t> ISO/OSI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(Open System Interconnection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ello </a:t>
            </a:r>
            <a:r>
              <a:rPr b="1" lang="en-US" sz="2200" spc="-1" strike="noStrike">
                <a:solidFill>
                  <a:srgbClr val="cc0000"/>
                </a:solidFill>
                <a:latin typeface="Verdana"/>
              </a:rPr>
              <a:t>TCP/I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(standard de fact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Mezzi di trasmissi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4560" y="1604880"/>
            <a:ext cx="9180360" cy="484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Per la comunicazione tra calcolatori si possono usare diversi canali fisici di trasmissio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3366"/>
                </a:solidFill>
                <a:latin typeface="Verdana"/>
              </a:rPr>
              <a:t>Mezzi guida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Linee fisiche che portano il segnale fino al ricevito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Supportano la trasmissione di segnali elettrici oppure ottic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egnali elettrici: doppino telefonico o cavo coassi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egnali ottici: fibre ottich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3366"/>
                </a:solidFill>
                <a:latin typeface="Verdana"/>
              </a:rPr>
              <a:t>Mezzi non guidati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Irradiazione di segnali elettromagnetici nelle spazio 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atellite, antenne, infraross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ezzi guida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79280" y="1700280"/>
            <a:ext cx="8210520" cy="4392000"/>
            <a:chOff x="179280" y="1700280"/>
            <a:chExt cx="8210520" cy="4392000"/>
          </a:xfrm>
        </p:grpSpPr>
        <p:grpSp>
          <p:nvGrpSpPr>
            <p:cNvPr id="239" name=""/>
            <p:cNvGrpSpPr/>
            <p:nvPr/>
          </p:nvGrpSpPr>
          <p:grpSpPr>
            <a:xfrm>
              <a:off x="179280" y="1768680"/>
              <a:ext cx="7920000" cy="4323600"/>
              <a:chOff x="179280" y="1768680"/>
              <a:chExt cx="7920000" cy="4323600"/>
            </a:xfrm>
          </p:grpSpPr>
          <p:pic>
            <p:nvPicPr>
              <p:cNvPr id="24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4000" y="1842120"/>
                <a:ext cx="7775280" cy="417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>
                <a:off x="611280" y="1768680"/>
                <a:ext cx="7057800" cy="920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39640" y="5525280"/>
                <a:ext cx="7058160" cy="496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79280" y="1770120"/>
                <a:ext cx="865440" cy="432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7524720" y="1700280"/>
              <a:ext cx="865080" cy="432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7453440" y="4673520"/>
            <a:ext cx="17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lamento vetroso di sil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524720" y="278136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li di 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51640" y="357336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po centrale condut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ezzi non guida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4560" y="1752480"/>
            <a:ext cx="889308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 segnali vengono trasmessi e ricevuti mediante anten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’antenna del trasmettitore irradia nell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azio onde elettromagnetiche ch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’antenna ricevente cap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 trasmissione del segnal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uò essere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6699"/>
                </a:solidFill>
                <a:latin typeface="Verdana"/>
              </a:rPr>
              <a:t>direzionale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6699"/>
                </a:solidFill>
                <a:latin typeface="Verdana"/>
              </a:rPr>
              <a:t>non direziona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877080" y="3573360"/>
            <a:ext cx="193824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Cosa influenza la trasmissione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87138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Verdana"/>
              </a:rPr>
              <a:t>La capacità del canale (chiamata anche larghezza di banda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Quanti bit il canale trasmette nell’unità di temp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Maggiore è la larghezza del canale, maggiore è la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velocità di trasmission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Verdana"/>
              </a:rPr>
              <a:t>Il grado di attenuazione del segnal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Limita la distanza percorribile dal segnal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Diversi supporti fisici hanno diverse caratteristiche di attenuazion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 ripetitori hanno il compito di amplificare e trasmettere il segnale per eliminare l’attenuazion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Verdana"/>
              </a:rPr>
              <a:t>Le interferenze tra segnal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Nei mezzi guidati si può adottare una schermatura del cav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Nei mezzi non guidati il problema è più critic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Verdana"/>
              </a:rPr>
              <a:t>Il numero dei ricevitor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Punto-a-punto: pochi disturbi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Multipunto: ogni connessione introduce fenomeni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di attenuazione e distorsione della linea, riducendo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la velocità di trasmissione e le distanze coperte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88240" y="2136600"/>
            <a:ext cx="2004840" cy="78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1 1 1 0 0 1 0 1 0 0 1...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7093080" y="4581360"/>
            <a:ext cx="1245960" cy="17496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8172360" y="5589720"/>
            <a:ext cx="717480" cy="6969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8028000" y="4724280"/>
            <a:ext cx="789120" cy="7653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6588000" y="4724280"/>
            <a:ext cx="719280" cy="6778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6732720" y="5589720"/>
            <a:ext cx="718920" cy="6778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6"/>
          <a:stretch/>
        </p:blipFill>
        <p:spPr>
          <a:xfrm>
            <a:off x="8388360" y="3141720"/>
            <a:ext cx="4636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49080" y="304920"/>
            <a:ext cx="72356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Aspetti della trasmissione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di segnal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66280" y="218592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ondivisione del cana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Direzione della trasmissio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rasmissione seriale o parallel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rasmissione sincrona/asincro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rasmissione digitale/analogi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49440" y="304920"/>
            <a:ext cx="7883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Condivisione del canale</a:t>
            </a:r>
            <a:br>
              <a:rPr sz="3800"/>
            </a:b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(multiplexing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Verdana"/>
              </a:rPr>
              <a:t>Obiettivo: </a:t>
            </a: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utilizzare un canale fisico come più canali logici, ognuno dei quali dedicato ad una sorgente che trasmette lungo il canale fisic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TDM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Synchronous Time-Division Multiplexing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tempo di trasmissione viene diviso in intervalli di uguale dura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Ogni sorgente a turno ha la possibilità di inviare i propri dati sul cana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FDM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Frequency-Division Multiplexing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A ogni flusso di dati viene assegnato un diverso spettro di frequenz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e diverse trasmissioni possono condividere il canale fisico nello stesso tempo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49080" y="304920"/>
            <a:ext cx="72356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Direzione della trasmission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6640" y="2060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Simplex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: solo una direzio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(full)-Duplex: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entrambe le direzioni contemporaneam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Half-Duplex: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in entramb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le direzioni, ma non i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contemporane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6659640" y="1987560"/>
            <a:ext cx="1838160" cy="6494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6804000" y="3068640"/>
            <a:ext cx="1838520" cy="6494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6804000" y="3618000"/>
            <a:ext cx="1814400" cy="6015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6877080" y="4724280"/>
            <a:ext cx="1838160" cy="6494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6877080" y="5589720"/>
            <a:ext cx="181440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Trasmissione seriale/parallel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72960" y="1699920"/>
            <a:ext cx="8591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Trasmissione di un byt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6699"/>
                </a:solidFill>
                <a:latin typeface="Verdana"/>
              </a:rPr>
              <a:t>Seriale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: se il canale di comunicazione e’ fatto di un solo filo, il byte è trasmesso un bit per vol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6699"/>
                </a:solidFill>
                <a:latin typeface="Verdana"/>
              </a:rPr>
              <a:t>Parallela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: se il canale di comunicazione ha 8 fili, possiamo trasmettere gli 8 bit in contemporane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La trasmissione parallela e’ piu’ veloce, ma piu’ costosa da implementa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viene usata di solito solo per collegamenti punto a punto e molto corti (es.: computer - stampant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La trasmissione seriale e’ quella normalmente usata nelle reti, locali e non local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90723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rasmissione sincrona/asincron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4560" y="1752120"/>
            <a:ext cx="910908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Verdana"/>
              </a:rPr>
              <a:t>Trasmettitore e ricevitore debbono cooperare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I dati vengono tipicamente trasmessi un bit per volta lungo il canale (trasmissione seria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La temporizzazione di questi bit deve essere la stessa tra trasmettitore e ricevitor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336699"/>
                </a:solidFill>
                <a:latin typeface="Verdana"/>
              </a:rPr>
              <a:t>Trasmissione sincrona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Trasmettitore e ricevitore devono essere sincronizzati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Per una corretta ricezione il ricevitore deve conoscere frequenza di trasmissione e durata di un bi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L’informazione di sincronizzazione può essere contenuta nei dati mediante speciali codifich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336699"/>
                </a:solidFill>
                <a:latin typeface="Verdana"/>
              </a:rPr>
              <a:t>Trasmissione asincrona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Trasmissione di breve durata, un carattere per volta (da 5 a 8 bit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Il ricevitore deve re-sincronizzarsi all’inizio di ogni nuovo carattere (segnalato mediante un bit di start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La fine di un carattere è poi segnalata da un altro bit di controllo, il bit di stop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Cos’è una ret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42600" y="1752480"/>
            <a:ext cx="7597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unto di vista logic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stema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distribuit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di dati, risorse di elaborazione ed uten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unto di vista fisic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ieme di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hardwa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collegamenti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e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protocolli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he permettono la comunicazione tra macchine remo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569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rasmissione analogica/digita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8000" y="1700280"/>
            <a:ext cx="9036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lle 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reti local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la comunicazione tra due computer passa di solito su cavi dedicati, installati esplicitamente per la rete, e adatti per la trasmissione digitale delle informazion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plificando un po’, su questi cavi si ha una variazione del livello di tensione fra due valori, che corrisponde alla trasmissione di bit di valore 0 oppure 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 le 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comunicazioni su lunga distanz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 cerca di sfruttare le reti di comunicazione esistenti, come ad esempio la rete telefon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 rete telefonica e’ però fatta per comunicare la voce, cioè un segnale analogico che varia in maniera continua in una banda di frequenz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no necessari appositi dispositivi per poter usare la rete telefonica come mezzo di comunicazione tra computer: i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mod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396720" y="1773360"/>
            <a:ext cx="7773840" cy="1068840"/>
            <a:chOff x="396720" y="1773360"/>
            <a:chExt cx="7773840" cy="1068840"/>
          </a:xfrm>
        </p:grpSpPr>
        <p:sp>
          <p:nvSpPr>
            <p:cNvPr id="278" name=""/>
            <p:cNvSpPr/>
            <p:nvPr/>
          </p:nvSpPr>
          <p:spPr>
            <a:xfrm>
              <a:off x="396720" y="2048040"/>
              <a:ext cx="2806920" cy="581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OMPUT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014520" y="2048040"/>
              <a:ext cx="2156040" cy="581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ODE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2920" y="1773360"/>
              <a:ext cx="1782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66"/>
                  </a:solidFill>
                  <a:latin typeface="Arial"/>
                </a:rPr>
                <a:t>Segnal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66"/>
                  </a:solidFill>
                  <a:latin typeface="Arial"/>
                </a:rPr>
                <a:t>digita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29200" y="2335320"/>
              <a:ext cx="281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347760" y="5052960"/>
            <a:ext cx="7772040" cy="1068840"/>
            <a:chOff x="347760" y="5052960"/>
            <a:chExt cx="7772040" cy="1068840"/>
          </a:xfrm>
        </p:grpSpPr>
        <p:sp>
          <p:nvSpPr>
            <p:cNvPr id="283" name=""/>
            <p:cNvSpPr/>
            <p:nvPr/>
          </p:nvSpPr>
          <p:spPr>
            <a:xfrm>
              <a:off x="5965200" y="5284800"/>
              <a:ext cx="2154600" cy="581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ODE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47760" y="5284800"/>
              <a:ext cx="2805480" cy="581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OMPUT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58960" y="5052960"/>
              <a:ext cx="1782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66"/>
                  </a:solidFill>
                  <a:latin typeface="Arial"/>
                </a:rPr>
                <a:t>Segnal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66"/>
                  </a:solidFill>
                  <a:latin typeface="Arial"/>
                </a:rPr>
                <a:t>digita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186720" y="5614920"/>
              <a:ext cx="281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6551640" y="2997360"/>
            <a:ext cx="27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g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nalo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357960" y="2646360"/>
            <a:ext cx="0" cy="261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mode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6877080" y="4149720"/>
            <a:ext cx="1936800" cy="13446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6804000" y="907920"/>
            <a:ext cx="1936800" cy="13446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324000" y="2492280"/>
            <a:ext cx="1698480" cy="14763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1793880" y="3933720"/>
            <a:ext cx="169848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Il mode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Informazione </a:t>
            </a:r>
            <a:r>
              <a:rPr b="1" lang="it-IT" sz="2600" spc="-1" strike="noStrike">
                <a:solidFill>
                  <a:srgbClr val="cc0000"/>
                </a:solidFill>
                <a:latin typeface="Verdana"/>
              </a:rPr>
              <a:t>digitale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(sequenza di bi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egnale </a:t>
            </a:r>
            <a:r>
              <a:rPr b="1" lang="it-IT" sz="2600" spc="-1" strike="noStrike">
                <a:solidFill>
                  <a:srgbClr val="cc0000"/>
                </a:solidFill>
                <a:latin typeface="Verdana"/>
              </a:rPr>
              <a:t>analogico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(continu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Il modem (</a:t>
            </a: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Modulatore-Demodulatore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) trasforma bit in segnali e vicevers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mode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50560" y="1717200"/>
            <a:ext cx="878508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I modem attuali  hanno velocità di trasmissione di 14.400, 28.800, 38.400, 56.600 bit/se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Se due computer comunicano tramite modem, la velocità di comunicazione è sempre quella del modem più lent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Il modem è usato soprattutto per le comunicazioni privat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 esempio, un utente che si collega ad internet tramite il suo provi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Ormai obsoleti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79280" y="19800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ADSL </a:t>
            </a: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Asymmetric Digital Subscriber 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9280" y="1803240"/>
            <a:ext cx="8964720" cy="42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Modalità di accesso alla normale linea telefonica che assume la condizione di “linea digitale”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La trasmissione è asimmetrica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il download è molto maggiore dell’uplo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128Kbps/640Kbps ma può arrivare a 1Mbps/20Mbps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I modem sono in realtà dei processori di segnali digitali o adattator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canale di comunicazione: 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inea dedicata/commuta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8353440" cy="50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linea dedicata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: la comunicazione avviene lungo un canale (linea fisica o “parte” di essa) dedicato esclusivamente ad ess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due PC connessi da un cav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i comunicazio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linea commutata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: il canale viene “costruito” per ogni nuova sessione di  comunicazione, collegando singoli tratti di linee dedic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comunicazione tra due computer in Interne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altri computer fanno da tramite tra i due ch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evono comunicare, ritrasmettendo i loro messagg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6764400" y="2565360"/>
            <a:ext cx="2128680" cy="12384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7267680" y="4581360"/>
            <a:ext cx="160956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Il canale di comunicazione: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linea dedicata/commutat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23640" y="1752480"/>
            <a:ext cx="8243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 le linee commutate si riducono i c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 modalità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6699"/>
                </a:solidFill>
                <a:latin typeface="Verdana"/>
              </a:rPr>
              <a:t>commutazione di circuito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6699"/>
                </a:solidFill>
                <a:latin typeface="Verdana"/>
              </a:rPr>
              <a:t>commutazione di pacchett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mmutazione di circuit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a rete telefonic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50560" y="1752480"/>
            <a:ext cx="8577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 telefoni di un distretto telefonico fanno capo ad una centrale di smistamento, che comunica con le centrali degli altri distrett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ndo telefoniamo, la chiamata viene fatta passare attraverso una o più centrali, fino a raggiungere il numero chiamat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unicando fra loro, le centrali costruiscono una connessione diretta fra i due telefoni, che dura tutto (e solo) il tempo della telefonat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Commutazione di circuito: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la rete telefonic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398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Quando due telefoni comunicano, la linea e’ occupata: nessuno puo’ chiamare quei telefon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Che succede se usiamo una comunicazione a commutazione di circuito su interne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DISASTRO: qualsiasi servizio offerto sarebbe disponibile ad un solo utente per volt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Ad esempio, chi riesce a connettersi ad un sito web lo puo’ usare in esclusiva per tutto il tempo che vuole !!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mmutazione di pacchet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gni messaggio e’ diviso in tanti pacchetti numerati di dimensione fiss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gni pacchetto contiene l’indirizzo del computer destinatario e del mitten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gni pacchetto e’ trasmesso separatamen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a volta inviato, il mittente se ne disinteress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gni pacchetto fa (virtualmente) una strada diversa per arrivare al destinatar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I servizi di una re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05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L’utente di un calcolatore in rete può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Fruire di risorse informatiche condivi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stampanti, dischi, calcolatori più potenti, ..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cambiare dati e messaggi con utenti di altri calcolatori connessi in ret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documenti, e-mail, newsgroups, mailing-list, web, ..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Eseguire applicazioni di uso individuale o di grupp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mmutazione di pacchet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 pacchetti non arrivano necessariamente nello stesso ordine con cui sono stati invia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l destinatario aspetta di aver ricevuto tutti i pacchetti per ricomporli e ricostruire il messagg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gni pacchetto occupa il mezzo di trasmissione e la scheda di rete per un tempo molto bre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 ha un effetto di parallelismo: ogni computer può essere coinvolto contemporaneamente in più comunicazion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826920" y="1898640"/>
            <a:ext cx="7645320" cy="3692880"/>
            <a:chOff x="826920" y="1898640"/>
            <a:chExt cx="7645320" cy="3692880"/>
          </a:xfrm>
        </p:grpSpPr>
        <p:sp>
          <p:nvSpPr>
            <p:cNvPr id="315" name=""/>
            <p:cNvSpPr/>
            <p:nvPr/>
          </p:nvSpPr>
          <p:spPr>
            <a:xfrm>
              <a:off x="1677960" y="2951280"/>
              <a:ext cx="1879560" cy="2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4078080" y="2224080"/>
              <a:ext cx="1754280" cy="99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078080" y="3851280"/>
              <a:ext cx="1711440" cy="117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189480" y="3516480"/>
              <a:ext cx="1855800" cy="136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414840" y="2324160"/>
              <a:ext cx="1328760" cy="80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503360" y="3149640"/>
              <a:ext cx="1504800" cy="170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33680" y="5130720"/>
              <a:ext cx="1905120" cy="12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26920" y="2398680"/>
              <a:ext cx="55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921440" y="2936880"/>
              <a:ext cx="55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909880" y="4805280"/>
              <a:ext cx="55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18240" y="5010120"/>
              <a:ext cx="55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280" y="2936880"/>
              <a:ext cx="55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867280" y="1898640"/>
              <a:ext cx="55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753920" y="4278240"/>
              <a:ext cx="55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27280" y="4129200"/>
              <a:ext cx="55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097760" y="2027160"/>
              <a:ext cx="55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43360" y="1903320"/>
              <a:ext cx="55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12760" y="2357640"/>
              <a:ext cx="55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182760" y="3851280"/>
              <a:ext cx="351000" cy="82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26920" y="2398680"/>
              <a:ext cx="55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089320" y="3828960"/>
              <a:ext cx="55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196040" y="4356000"/>
              <a:ext cx="55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604880" y="2749680"/>
              <a:ext cx="190512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4078080" y="2048040"/>
              <a:ext cx="1711440" cy="87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64240" y="2198880"/>
              <a:ext cx="1379520" cy="77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30360" y="3516480"/>
              <a:ext cx="1201680" cy="141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3384360" y="3827160"/>
              <a:ext cx="300240" cy="82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078080" y="3516480"/>
              <a:ext cx="171144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6541920" y="3827160"/>
              <a:ext cx="1654200" cy="11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mmutazione di pacchet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11280" y="2349360"/>
            <a:ext cx="1008000" cy="91296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2556000" y="4941720"/>
            <a:ext cx="1008000" cy="9129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5435640" y="5157720"/>
            <a:ext cx="1008000" cy="9129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3635280" y="2852640"/>
            <a:ext cx="1008000" cy="9129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5"/>
          <a:stretch/>
        </p:blipFill>
        <p:spPr>
          <a:xfrm>
            <a:off x="7956720" y="2924280"/>
            <a:ext cx="1008000" cy="9126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6"/>
          <a:stretch/>
        </p:blipFill>
        <p:spPr>
          <a:xfrm>
            <a:off x="5796000" y="1628640"/>
            <a:ext cx="1008000" cy="91296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7"/>
          <a:stretch/>
        </p:blipFill>
        <p:spPr>
          <a:xfrm>
            <a:off x="2340000" y="2349360"/>
            <a:ext cx="647640" cy="4431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8"/>
          <a:stretch/>
        </p:blipFill>
        <p:spPr>
          <a:xfrm>
            <a:off x="1116000" y="4076640"/>
            <a:ext cx="647640" cy="4428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9"/>
          <a:stretch/>
        </p:blipFill>
        <p:spPr>
          <a:xfrm>
            <a:off x="3348000" y="4581360"/>
            <a:ext cx="647640" cy="44316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10"/>
          <a:stretch/>
        </p:blipFill>
        <p:spPr>
          <a:xfrm>
            <a:off x="5435640" y="3933720"/>
            <a:ext cx="647640" cy="4431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11"/>
          <a:stretch/>
        </p:blipFill>
        <p:spPr>
          <a:xfrm>
            <a:off x="4211640" y="2060640"/>
            <a:ext cx="647640" cy="4428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12"/>
          <a:stretch/>
        </p:blipFill>
        <p:spPr>
          <a:xfrm>
            <a:off x="7524720" y="2133720"/>
            <a:ext cx="647640" cy="4428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13"/>
          <a:stretch/>
        </p:blipFill>
        <p:spPr>
          <a:xfrm>
            <a:off x="7596360" y="4437000"/>
            <a:ext cx="64764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Commutazione di pacchetto: instradamento (routing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e far arrivare i pacchetti a destinazion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gni nodo della rete mantiene una tabella che indica a quale/quali vicini ritrasmettere un pacchetto non destinato a lui, in base all’indirizzo di destinazione del pacchet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 scelta del nodo a cui inoltrare il pacchetto dipende anche da situazioni temporanee di carico della rete, guasti, ecc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Linea dedicata/commutata: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un esemp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50560" y="1752480"/>
            <a:ext cx="8577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Nel collegamento ad Internet col telefono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dal PC al provider è in corso una comunicazione a commutazione di circuit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la linea e’ occupata, perchè si sta effettuando una chiamata telefonic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dal provider verso qualsiasi punto di Internet al quale decidete di collegarvi, la comunicazione è a commutazione di pacchet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erché una ret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divisione di risor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iduzione cost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ffidabilità e disponibilit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unicazione fra uten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ambio di informazion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aborazione a distanz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erché una ret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0" y="1628640"/>
            <a:ext cx="8820000" cy="4464360"/>
            <a:chOff x="0" y="1628640"/>
            <a:chExt cx="8820000" cy="4464360"/>
          </a:xfrm>
        </p:grpSpPr>
        <p:grpSp>
          <p:nvGrpSpPr>
            <p:cNvPr id="100" name=""/>
            <p:cNvGrpSpPr/>
            <p:nvPr/>
          </p:nvGrpSpPr>
          <p:grpSpPr>
            <a:xfrm>
              <a:off x="250920" y="1752480"/>
              <a:ext cx="8569080" cy="4340520"/>
              <a:chOff x="250920" y="1752480"/>
              <a:chExt cx="8569080" cy="434052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566640" y="1752480"/>
                <a:ext cx="8001000" cy="4267440"/>
                <a:chOff x="566640" y="1752480"/>
                <a:chExt cx="8001000" cy="4267440"/>
              </a:xfrm>
            </p:grpSpPr>
            <p:pic>
              <p:nvPicPr>
                <p:cNvPr id="102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66640" y="1752480"/>
                  <a:ext cx="8001000" cy="426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" name=""/>
                <p:cNvSpPr txBox="1"/>
                <p:nvPr/>
              </p:nvSpPr>
              <p:spPr>
                <a:xfrm>
                  <a:off x="566640" y="1752480"/>
                  <a:ext cx="8001000" cy="426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rmAutofit/>
                </a:bodyPr>
                <a:p>
                  <a:pPr lvl="1" marL="907920" indent="-436320">
                    <a:spcBef>
                      <a:spcPts val="751"/>
                    </a:spcBef>
                    <a:buClr>
                      <a:srgbClr val="cc0000"/>
                    </a:buClr>
                    <a:buSzPct val="6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>
                <a:off x="395280" y="2421000"/>
                <a:ext cx="360360" cy="352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388360" y="2276640"/>
                <a:ext cx="431640" cy="3816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50920" y="5516640"/>
                <a:ext cx="8569080" cy="576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0" y="1628640"/>
              <a:ext cx="8820000" cy="100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ipi di re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33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arametri utili per definire l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caratteristiche di una ret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Tecnologia trasmissi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Scala dimensiona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Topolog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ipi di reti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(dal punto di vist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lla tecnologia di comunicazion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360" y="168120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Reti broadcast (multipunto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nico canale di trasmissione condiviso da tutti i calcolatori della re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Ogni calcolatore deve essere associato ad un identificatore univoco (indirizzo di rete), associato ad un dispositivo fisico utilizzato per connettersi   alla re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n messaggio inviato sulla rete raggiunge tutti i calcolatori della rete, ma solo il calcolatore il cui indirizzo corrisponde a quello presente nel messaggio, lo tratterrà per eleborarl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6:49:59Z</dcterms:created>
  <dc:creator>.</dc:creator>
  <dc:description/>
  <dc:language>en-US</dc:language>
  <cp:lastModifiedBy>kali</cp:lastModifiedBy>
  <dcterms:modified xsi:type="dcterms:W3CDTF">2007-11-22T19:12:27Z</dcterms:modified>
  <cp:revision>151</cp:revision>
  <dc:subject/>
  <dc:title>Diapositiva 1</dc:title>
</cp:coreProperties>
</file>