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F4EF-B7E2-43CA-8DA1-07D0D48A552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9962-34F6-4634-8CF0-23600F30F35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C828-300B-4324-8758-DA012408F43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EE1C-1091-44FB-8047-AFF932A2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991-1D3C-4E6A-AFD8-800244A5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FF1-420A-47BA-AA31-71964777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3BC-30FD-4C46-9C58-9A1B1073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090A-7F8F-45E8-B1A2-90794047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04B8-8757-4F7E-A4E2-A304B083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4B286-CC51-43A6-948C-C4BD3B4A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A478-0FF8-4FED-A256-196F5F8C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261E-0141-428C-B8C2-2AB38DAA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C927-A6AC-452D-8C8B-DC237D9A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C2BD-529F-45EE-9DEB-3CD85B7D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F21-63DB-48A9-A380-2E9E28E1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4F15-18C6-4EA0-B4F8-D9740284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5AC7-A120-4576-9303-291FDBB8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95EB-CD88-4F81-8BE3-35DE7BCB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43BF-FD7B-4A93-A7AB-583F4D85D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3DCD-1241-4234-9579-912FF951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19AB-340F-495B-B845-8435CFE6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2282-7BCE-45B9-9BB0-55D526A2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A470-8D50-4262-A771-173C4868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1BC-2CED-4C5E-AF05-B63475E3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5F8-4160-41B5-809B-A5B3C4B4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25F4-377D-4F70-850D-E929E1E4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1C0-D74A-4330-ABC2-2A6BF14E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883B-B06F-40E7-8548-F4F03BEB09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B91F-0D35-44E6-86F3-B688F0BB1C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theway.com.br/musica/imagens/nota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lacoctelera.com/claudiaysandra/imagen/nota_musical.gif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theway.com.br/musica/imagens/nota.gif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lacoctelera.com/claudiaysandra/imagen/nota_musical.gif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gramma del co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560" y="1699920"/>
            <a:ext cx="9505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ntroduzione agli algoritm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Rappresentazione delle Informazion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tettura del calcolato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eti di Calcolatori (Reti Locali, Internet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lementi di Programmazion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6453360"/>
            <a:ext cx="432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1080" y="2708280"/>
            <a:ext cx="287280" cy="2890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1555560"/>
            <a:ext cx="842472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oiché una sequenza di bit è lineare, si deve definire una convenzione per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rdina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i pixel della grigl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Hp: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ssumiamo che i pixel siano ordinati dal basso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so l'alto e da sinistra verso dest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638600" y="3292560"/>
            <a:ext cx="3093840" cy="2152800"/>
            <a:chOff x="4638600" y="3292560"/>
            <a:chExt cx="3093840" cy="2152800"/>
          </a:xfrm>
        </p:grpSpPr>
        <p:sp>
          <p:nvSpPr>
            <p:cNvPr id="142" name=""/>
            <p:cNvSpPr/>
            <p:nvPr/>
          </p:nvSpPr>
          <p:spPr>
            <a:xfrm>
              <a:off x="4638600" y="3296520"/>
              <a:ext cx="3022560" cy="1969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76040" y="3792240"/>
              <a:ext cx="294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76040" y="4309200"/>
              <a:ext cx="29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1160" y="4810320"/>
              <a:ext cx="292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82120" y="3332160"/>
              <a:ext cx="0" cy="191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31760" y="3349080"/>
              <a:ext cx="0" cy="18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64840" y="3332160"/>
              <a:ext cx="0" cy="18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17320" y="3332160"/>
              <a:ext cx="0" cy="191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51840" y="3349080"/>
              <a:ext cx="0" cy="18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82800" y="3332160"/>
              <a:ext cx="0" cy="189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699800" y="3292560"/>
              <a:ext cx="2952360" cy="2008440"/>
              <a:chOff x="4699800" y="3292560"/>
              <a:chExt cx="2952360" cy="2008440"/>
            </a:xfrm>
          </p:grpSpPr>
          <p:sp>
            <p:nvSpPr>
              <p:cNvPr id="153" name=""/>
              <p:cNvSpPr/>
              <p:nvPr/>
            </p:nvSpPr>
            <p:spPr>
              <a:xfrm>
                <a:off x="514872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9836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4872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1348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03180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48108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77520" y="3292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9980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1420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9836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9980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9836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44940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8428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303320" y="484632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01920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89904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03320" y="432756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03108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6488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01920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88392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1844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28820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83920" y="38278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64520" y="330948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3432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714200" y="4829400"/>
                <a:ext cx="333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812480" y="3524400"/>
              <a:ext cx="2919960" cy="1920960"/>
              <a:chOff x="4812480" y="3524400"/>
              <a:chExt cx="2919960" cy="1920960"/>
            </a:xfrm>
          </p:grpSpPr>
          <p:sp>
            <p:nvSpPr>
              <p:cNvPr id="182" name=""/>
              <p:cNvSpPr/>
              <p:nvPr/>
            </p:nvSpPr>
            <p:spPr>
              <a:xfrm>
                <a:off x="4883400" y="499104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34480" y="500976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67200" y="500976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3000" y="500976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618240" y="500976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053120" y="500976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72520" y="500832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83400" y="454140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334480" y="4541400"/>
                <a:ext cx="25596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95920" y="4541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12800" y="4541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547320" y="4541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80040" y="4541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401600" y="4541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1248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6176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9592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11280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547320" y="402588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8004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401600" y="404136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1248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6176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9592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1280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54732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98004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401600" y="3524400"/>
                <a:ext cx="3308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1047600" y="3260880"/>
            <a:ext cx="3110040" cy="2011320"/>
            <a:chOff x="1047600" y="3260880"/>
            <a:chExt cx="3110040" cy="2011320"/>
          </a:xfrm>
        </p:grpSpPr>
        <p:grpSp>
          <p:nvGrpSpPr>
            <p:cNvPr id="211" name=""/>
            <p:cNvGrpSpPr/>
            <p:nvPr/>
          </p:nvGrpSpPr>
          <p:grpSpPr>
            <a:xfrm>
              <a:off x="1047600" y="3260880"/>
              <a:ext cx="3110040" cy="2011320"/>
              <a:chOff x="1047600" y="3260880"/>
              <a:chExt cx="3110040" cy="2011320"/>
            </a:xfrm>
          </p:grpSpPr>
          <p:sp>
            <p:nvSpPr>
              <p:cNvPr id="212" name=""/>
              <p:cNvSpPr/>
              <p:nvPr/>
            </p:nvSpPr>
            <p:spPr>
              <a:xfrm>
                <a:off x="1056600" y="3272400"/>
                <a:ext cx="3093120" cy="1989720"/>
              </a:xfrm>
              <a:custGeom>
                <a:avLst/>
                <a:gdLst/>
                <a:ahLst/>
                <a:rect l="l" t="t" r="r" b="b"/>
                <a:pathLst>
                  <a:path w="2064" h="1398">
                    <a:moveTo>
                      <a:pt x="0" y="0"/>
                    </a:moveTo>
                    <a:lnTo>
                      <a:pt x="2063" y="0"/>
                    </a:lnTo>
                    <a:lnTo>
                      <a:pt x="2063" y="1397"/>
                    </a:lnTo>
                    <a:lnTo>
                      <a:pt x="0" y="139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047600" y="3260880"/>
                <a:ext cx="3110040" cy="2011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32360" y="3376440"/>
                <a:ext cx="2172960" cy="1238040"/>
              </a:xfrm>
              <a:custGeom>
                <a:avLst/>
                <a:gdLst/>
                <a:ahLst/>
                <a:rect l="l" t="t" r="r" b="b"/>
                <a:pathLst>
                  <a:path w="1450" h="870">
                    <a:moveTo>
                      <a:pt x="243" y="0"/>
                    </a:moveTo>
                    <a:lnTo>
                      <a:pt x="0" y="869"/>
                    </a:lnTo>
                    <a:lnTo>
                      <a:pt x="1449" y="869"/>
                    </a:lnTo>
                    <a:lnTo>
                      <a:pt x="24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1299240" y="3430080"/>
                <a:ext cx="444960" cy="1162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84560" y="4635720"/>
                <a:ext cx="20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flipV="1">
                <a:off x="1661760" y="3341520"/>
                <a:ext cx="1900440" cy="133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10240" y="3779280"/>
                <a:ext cx="298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10240" y="4302720"/>
                <a:ext cx="298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23920" y="4811040"/>
                <a:ext cx="2969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16320" y="3324960"/>
                <a:ext cx="0" cy="19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07640" y="3341880"/>
                <a:ext cx="0" cy="189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75320" y="3324960"/>
                <a:ext cx="0" cy="19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420280" y="3324960"/>
                <a:ext cx="0" cy="19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34280" y="3324960"/>
                <a:ext cx="0" cy="19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279240" y="3324960"/>
                <a:ext cx="0" cy="191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flipV="1">
              <a:off x="1398240" y="4564800"/>
              <a:ext cx="2018880" cy="11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24000" y="5157720"/>
            <a:ext cx="86868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appresentazione della figura è data dalla stringa binari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0000000 0111100 0110000 0100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4000" y="730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odifica di un’immagine B/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1219320" y="2362320"/>
            <a:ext cx="4267080" cy="281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28954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3429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40384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4648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9112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23623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2743200"/>
            <a:ext cx="2210040" cy="1752480"/>
          </a:xfrm>
          <a:prstGeom prst="flowChartExtra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495680" y="4419720"/>
            <a:ext cx="76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19600" y="571500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ixel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25640" y="3048120"/>
            <a:ext cx="18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0 0 1 0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0 1 1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0 1 1 1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1 1 1 1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0 0 0 0 0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65400" y="5334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d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ecodif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4191120" y="2286000"/>
            <a:ext cx="426708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28195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33526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39625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4572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2428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7240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6292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412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22860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666880"/>
            <a:ext cx="2210040" cy="175284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0 0 0 1 0 0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0 0 1 1 1 0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0 0 1 1 1 0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0 1 1 1 1 1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0 0 0 0 0 0 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703440" y="407196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d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3352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43600" y="2286000"/>
            <a:ext cx="685800" cy="228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29400" y="2819520"/>
            <a:ext cx="533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2819520"/>
            <a:ext cx="68580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24280" y="3962520"/>
            <a:ext cx="30481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65600" y="536724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mma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07640" y="1628280"/>
            <a:ext cx="8675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 sempre il contorno della figura coincide con le linee della grigl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nella codifica si ottiene un'approssimazione della figura originaria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rappresentazione sarà più fedele all'aumentare del numero di pix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ia al diminuire delle dimensioni dei quadratini della griglia in cui è suddivisa l'immagine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14600" y="3645000"/>
            <a:ext cx="4379760" cy="2469960"/>
            <a:chOff x="2514600" y="3645000"/>
            <a:chExt cx="4379760" cy="2469960"/>
          </a:xfrm>
        </p:grpSpPr>
        <p:sp>
          <p:nvSpPr>
            <p:cNvPr id="272" name=""/>
            <p:cNvSpPr/>
            <p:nvPr/>
          </p:nvSpPr>
          <p:spPr>
            <a:xfrm>
              <a:off x="2514600" y="3645000"/>
              <a:ext cx="4379760" cy="2469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85880" y="4259160"/>
              <a:ext cx="4214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5880" y="4908600"/>
              <a:ext cx="423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08200" y="5535720"/>
              <a:ext cx="419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5108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2284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2908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86560" y="3716280"/>
              <a:ext cx="0" cy="23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92800" y="3738600"/>
              <a:ext cx="0" cy="22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03568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2744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76520" y="3738600"/>
              <a:ext cx="0" cy="22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3880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2596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89680" y="3738600"/>
              <a:ext cx="0" cy="230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9592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32200" y="3716280"/>
              <a:ext cx="0" cy="23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85880" y="3957480"/>
              <a:ext cx="423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85880" y="4584600"/>
              <a:ext cx="423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08200" y="5211720"/>
              <a:ext cx="4214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08200" y="5838840"/>
              <a:ext cx="419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66920" y="3957480"/>
              <a:ext cx="547920" cy="1257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86000" y="4294080"/>
              <a:ext cx="28728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11440" y="4272120"/>
              <a:ext cx="285840" cy="28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86000" y="4618080"/>
              <a:ext cx="287280" cy="28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11440" y="3970440"/>
              <a:ext cx="285840" cy="285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05320" y="4294080"/>
              <a:ext cx="914400" cy="865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z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92600" y="4262400"/>
              <a:ext cx="654120" cy="3175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22400" y="4902120"/>
              <a:ext cx="325440" cy="304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6040" y="4921200"/>
              <a:ext cx="28548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67120" y="4597560"/>
              <a:ext cx="287640" cy="285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11840" y="4921200"/>
              <a:ext cx="566640" cy="2840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21160" y="4597560"/>
              <a:ext cx="615960" cy="6156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14920" y="4618080"/>
              <a:ext cx="285480" cy="28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86000" y="4921200"/>
              <a:ext cx="28728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11440" y="4898880"/>
              <a:ext cx="285840" cy="2876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41680" y="4921200"/>
              <a:ext cx="28764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38560" y="4597560"/>
              <a:ext cx="287280" cy="2854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35440" y="4898880"/>
              <a:ext cx="287280" cy="2876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45160" y="4921200"/>
              <a:ext cx="28728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89480" y="4618080"/>
              <a:ext cx="287280" cy="28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38560" y="4921200"/>
              <a:ext cx="287280" cy="2858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324000" y="730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2680" y="65052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320" y="1738080"/>
            <a:ext cx="8991360" cy="50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Quind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 le immagini sono rappresentate con un certo livello di approssimazione, o meglio, di </a:t>
            </a: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risoluzion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ossia il numero di pixel usati per riprodurre l’immagin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99"/>
                </a:solidFill>
                <a:latin typeface="Verdana"/>
              </a:rPr>
              <a:t>Risoluzioni tipich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640 x 480 pixel; 800 x 600 pix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24 x 768 pixel; 1280 x 1024 pix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mmagini in toni di grig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1844640"/>
            <a:ext cx="87138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immagini in bianco e nero hanno delle sfumature, o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livelli di intensità di gri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 codificare immagini con sfumatu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fissa un insieme di livelli 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on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di grigio, cui si assegna convenzionalmente una rappresentazione bin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 ogni pixel si stabilisce il livello medio di grigio e si memorizza la codifica corrispondente a tale liv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 memorizzare un pixel non è più sufficiente 1 b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it si possono rappresentare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2000" spc="-1" strike="noStrike" baseline="30000">
                <a:solidFill>
                  <a:srgbClr val="336699"/>
                </a:solidFill>
                <a:latin typeface="Verdana"/>
              </a:rPr>
              <a:t>4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=16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velli di gri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it ne possiamo distinguere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2000" spc="-1" strike="noStrike" baseline="30000">
                <a:solidFill>
                  <a:srgbClr val="336699"/>
                </a:solidFill>
                <a:latin typeface="Verdana"/>
              </a:rPr>
              <a:t>8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=25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</a:t>
            </a:r>
            <a:r>
              <a:rPr b="0" lang="en-US" sz="20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it ne possiamo distinguere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2</a:t>
            </a:r>
            <a:r>
              <a:rPr b="1" lang="en-US" sz="2000" spc="-1" strike="noStrike" baseline="30000">
                <a:solidFill>
                  <a:srgbClr val="336699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Verdana"/>
              </a:rPr>
              <a:t>Immagini a color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000" y="1915920"/>
            <a:ext cx="9036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nalogamente possono essere codificate le immagini a color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bisogna definire un insieme di sfumature di colore differ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 rappresentarle mediante una opportuna sequenza di bi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Nella codifica </a:t>
            </a:r>
            <a:r>
              <a:rPr b="1" lang="it-IT" sz="2000" spc="-1" strike="noStrike">
                <a:solidFill>
                  <a:srgbClr val="336699"/>
                </a:solidFill>
                <a:latin typeface="Verdana"/>
              </a:rPr>
              <a:t>RGB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si utilizzano tre colo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Verdana"/>
              </a:rPr>
              <a:t>rosso</a:t>
            </a:r>
            <a:r>
              <a:rPr b="0" lang="it-IT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Red), </a:t>
            </a:r>
            <a:r>
              <a:rPr b="1" lang="it-IT" sz="1800" spc="-1" strike="noStrike">
                <a:solidFill>
                  <a:srgbClr val="009900"/>
                </a:solidFill>
                <a:latin typeface="Verdana"/>
              </a:rPr>
              <a:t>verd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(Green) e </a:t>
            </a:r>
            <a:r>
              <a:rPr b="1" lang="it-IT" sz="1800" spc="-1" strike="noStrike">
                <a:solidFill>
                  <a:srgbClr val="000099"/>
                </a:solidFill>
                <a:latin typeface="Verdana"/>
              </a:rPr>
              <a:t>blu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(Blu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 ogni colore si associa un certo numer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 sfumature codificate su N bit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2</a:t>
            </a:r>
            <a:r>
              <a:rPr b="0" lang="it-IT" sz="18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possibili sfumatur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empi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n 2 bit per colore si ottengono 4 sfumature per colo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on 8 bit per colore si ottengono 256 sfumature per colore e 256</a:t>
            </a:r>
            <a:r>
              <a:rPr b="0" lang="it-IT" sz="1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16 milioni) possibili colo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27640" y="3079800"/>
            <a:ext cx="22320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Immagini a color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 qualità dell'immagine dipen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l numero di punti in cui viene suddivisa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isoluzion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i toni di colore permessi dalla codific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Bitma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0560" y="1898280"/>
            <a:ext cx="871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La rappresentazione di un’immagine mediante la codifica a pixel viene chiamata </a:t>
            </a:r>
            <a:r>
              <a:rPr b="1" lang="it-IT" sz="2500" spc="-1" strike="noStrike">
                <a:solidFill>
                  <a:srgbClr val="336699"/>
                </a:solidFill>
                <a:latin typeface="Verdana"/>
              </a:rPr>
              <a:t>bitmap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l numero di byte richiesti per memorizzare un bitmap dipende dalla risoluzione e dal numero di color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Esemp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se la risoluzione è 640x480 con 256 colori occorrono 2.457.600 bit = 300 KB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Bitma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0560" y="1898280"/>
            <a:ext cx="8893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 formati bitmap più conosciuti son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BITMAP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(.bmp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GIF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(.gif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JPEG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(.jpg)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TIFF 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(.tiff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Verdana"/>
              </a:rPr>
              <a:t>PNG</a:t>
            </a:r>
            <a:r>
              <a:rPr b="0" lang="it-IT" sz="1700" spc="-1" strike="noStrike">
                <a:solidFill>
                  <a:srgbClr val="000000"/>
                </a:solidFill>
                <a:latin typeface="Verdana"/>
              </a:rPr>
              <a:t> (.png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 tali formati si utilizzano metodi di </a:t>
            </a:r>
            <a:r>
              <a:rPr b="1" i="1" lang="it-IT" sz="2000" spc="-1" strike="noStrike">
                <a:solidFill>
                  <a:srgbClr val="336699"/>
                </a:solidFill>
                <a:latin typeface="Verdana"/>
              </a:rPr>
              <a:t>compressione</a:t>
            </a:r>
            <a:r>
              <a:rPr b="0" i="1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er ridurre lo spazio di memorizzazion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ree dello stesso colore si rappresentano in modo “abbreviato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’ in genere possibile passare da un formato ad un alt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858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en-US" sz="3800" spc="-1" strike="noStrike">
                <a:solidFill>
                  <a:srgbClr val="336699"/>
                </a:solidFill>
                <a:latin typeface="Verdana"/>
              </a:rPr>
              <a:t>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825560"/>
            <a:ext cx="88390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236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ILE: sequenza di byte conosciuta nel computer con un certo nome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1236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TIPI DI FI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1296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file di dati (es: immagini o suon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81296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rogrammi (es:  word o explor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181296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file di testo (cioè caratteri ascii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1236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TENSIONI DI UN FILE (window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1812960" indent="-2858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nome.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gif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, nome.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exe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, nome.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doc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, ..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73440" y="519120"/>
            <a:ext cx="9325080" cy="110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vettoriale delle immagi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560" y="1753920"/>
            <a:ext cx="8991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1160" indent="-2811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 utilizza quando le immagini da memorizzare hanno caratteristiche geometriche ben defin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disegno da memorizzare può essere facilment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composto in elementi bas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e una linea o un arco di circonferenz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memorizzazione dell'intera immagine avviene tramite la codifica di ogni singola par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-73440" y="519120"/>
            <a:ext cx="9325080" cy="110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vettoriale delle immagi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88640" y="1628640"/>
            <a:ext cx="9279000" cy="498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Richiede poco spaz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84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Per definire un segmento basteranno le coordinate dei due estremi (</a:t>
            </a:r>
            <a:r>
              <a:rPr b="0" lang="it-IT" sz="2000" spc="-1" strike="noStrike">
                <a:solidFill>
                  <a:srgbClr val="cc0000"/>
                </a:solidFill>
                <a:latin typeface="Verdana"/>
              </a:rPr>
              <a:t>Linea dal punto &lt;10;12&gt; a &lt;20; 30&gt;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Il formato più diffuso è il 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PostScript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84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ps, eps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usato anche per la stampa dei test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84040" indent="-2840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Altri formati: wmf, cdr (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CorelDraw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6680" y="637920"/>
            <a:ext cx="9068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i film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540720" cy="534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mmagini in movimento sono memorizzate come sequenze di fotogram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i sfrutta la limitatezza della capacità percettiv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'occhio uma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sequenza continua di immagini viene </a:t>
            </a:r>
            <a:r>
              <a:rPr b="0" i="1" lang="it-IT" sz="1800" spc="-1" strike="noStrike">
                <a:solidFill>
                  <a:srgbClr val="000000"/>
                </a:solidFill>
                <a:latin typeface="Verdana"/>
              </a:rPr>
              <a:t>discretizzat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ttenendo una serie di immagini 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ram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 che varian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elocemente, ma a intervalli stabili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 genere si tratta di sequenze compresse di immagi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d esempio si possono registrare solo le variazioni tra u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otogramma e l’al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17222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6680" y="637920"/>
            <a:ext cx="90680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i filma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79930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istono vari formati (comprendente il sonoro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Verdan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Verdana"/>
              </a:rPr>
              <a:t>a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Verdana"/>
              </a:rPr>
              <a:t>quick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6699"/>
                </a:solidFill>
                <a:latin typeface="Verdana"/>
              </a:rPr>
              <a:t>mo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’ possibile ritoccare i singoli fotogramm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Codifica dei suo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Si effettuano dei campionamenti su dati analogic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’onda sonora viene misurata (campionata) ad intervalli regol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Si rappresentano i valori campionati con valori digital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La frequenza del campionamento determina la fedeltà della riproduzione del suo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Minore è l’intervallo di campionamento e maggiore è la qualità del suon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Verdana"/>
              </a:rPr>
              <a:t>CD musicali: 44000 campionamenti al secondo, 16 bit per campio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692280"/>
            <a:ext cx="752400" cy="819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260280"/>
            <a:ext cx="800280" cy="819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89000"/>
            <a:ext cx="752400" cy="819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12000" y="692280"/>
            <a:ext cx="80028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i suon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0676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1643040"/>
            <a:ext cx="86104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cuni format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.w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.mp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.m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765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a struttura dei 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5736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’ meglio vedere un file come una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quenz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d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y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E’ il programma che usa il file a gestirne il contenuto in modo corrett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 esempio, nei file di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est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quando viene incontrato il byte = &lt;new line&gt; si devono visualizzare i caratteri successivi nella riga sottostant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Verdana"/>
              </a:rPr>
              <a:t>Codifica di immagin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819520" y="3733920"/>
            <a:ext cx="32353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difica di immag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0360" y="2058840"/>
            <a:ext cx="8820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’immagine è un insieme continuo di informazio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differenza delle cifre e dei caratteri alfanumerici, per le immagini non esiste un'unità minima di riferim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a: render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digitale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a informazione prettament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nalo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difica di immag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770120"/>
            <a:ext cx="882000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Esistono numerose tecniche per la memorizzazione digitale e l'elaborazione di un'immagi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a prevede la scomposizione dell'immagine in una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griglia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 tanti elementi (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unt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che sono l'unità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minima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 memorizzazion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seconda strada prevede la presenza di strutture elementari di natura più complessa, quali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line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irconferenz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rchi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73008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898640"/>
            <a:ext cx="9144000" cy="484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4120" indent="-384120">
              <a:lnSpc>
                <a:spcPct val="11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Dividere l’immagine in una griglia a righe orizzontali e vertica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4120" indent="-384120">
              <a:lnSpc>
                <a:spcPct val="11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gni quadratino della griglia è un </a:t>
            </a:r>
            <a:r>
              <a:rPr b="1" lang="it-IT" sz="2600" spc="-1" strike="noStrike">
                <a:solidFill>
                  <a:srgbClr val="336699"/>
                </a:solidFill>
                <a:latin typeface="Verdana"/>
              </a:rPr>
              <a:t>pixel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412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2600" spc="-1" strike="noStrike">
                <a:solidFill>
                  <a:srgbClr val="000000"/>
                </a:solidFill>
                <a:latin typeface="Verdana"/>
              </a:rPr>
              <a:t>picture element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84120" indent="-384120">
              <a:lnSpc>
                <a:spcPct val="11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dificare ogni pixel c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0 se il pixel è bian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0400" indent="-28584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Verdana"/>
              </a:rPr>
              <a:t>1 se il pixel è n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84120" indent="-384120">
              <a:lnSpc>
                <a:spcPct val="11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Convenire un ordinamento per i bit usati nella codif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630440"/>
            <a:ext cx="842184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deriamo un'immagine in bianco e nero, senza ombreggiature o livelli di chiaroscur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ddividiamo l’immagine mediante una griglia formata da righe orizzontali e verticali a distanza costan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059280" y="5300640"/>
            <a:ext cx="2576520" cy="1458720"/>
            <a:chOff x="3059280" y="5300640"/>
            <a:chExt cx="2576520" cy="1458720"/>
          </a:xfrm>
        </p:grpSpPr>
        <p:grpSp>
          <p:nvGrpSpPr>
            <p:cNvPr id="110" name=""/>
            <p:cNvGrpSpPr/>
            <p:nvPr/>
          </p:nvGrpSpPr>
          <p:grpSpPr>
            <a:xfrm>
              <a:off x="3059280" y="5300640"/>
              <a:ext cx="2576520" cy="1458720"/>
              <a:chOff x="3059280" y="5300640"/>
              <a:chExt cx="2576520" cy="1458720"/>
            </a:xfrm>
          </p:grpSpPr>
          <p:sp>
            <p:nvSpPr>
              <p:cNvPr id="111" name=""/>
              <p:cNvSpPr/>
              <p:nvPr/>
            </p:nvSpPr>
            <p:spPr>
              <a:xfrm>
                <a:off x="3065400" y="5306760"/>
                <a:ext cx="2565360" cy="1447920"/>
              </a:xfrm>
              <a:custGeom>
                <a:avLst/>
                <a:gdLst/>
                <a:ahLst/>
                <a:rect l="l" t="t" r="r" b="b"/>
                <a:pathLst>
                  <a:path w="1616" h="912">
                    <a:moveTo>
                      <a:pt x="0" y="0"/>
                    </a:moveTo>
                    <a:lnTo>
                      <a:pt x="1615" y="0"/>
                    </a:lnTo>
                    <a:lnTo>
                      <a:pt x="1615" y="911"/>
                    </a:lnTo>
                    <a:lnTo>
                      <a:pt x="0" y="9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059280" y="5300640"/>
                <a:ext cx="2576520" cy="1458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94000" y="5383080"/>
                <a:ext cx="1803600" cy="901800"/>
              </a:xfrm>
              <a:custGeom>
                <a:avLst/>
                <a:gdLst/>
                <a:ahLst/>
                <a:rect l="l" t="t" r="r" b="b"/>
                <a:pathLst>
                  <a:path w="1136" h="568">
                    <a:moveTo>
                      <a:pt x="191" y="0"/>
                    </a:moveTo>
                    <a:lnTo>
                      <a:pt x="0" y="567"/>
                    </a:lnTo>
                    <a:lnTo>
                      <a:pt x="1135" y="567"/>
                    </a:lnTo>
                    <a:lnTo>
                      <a:pt x="191" y="0"/>
                    </a:lnTo>
                  </a:path>
                </a:pathLst>
              </a:custGeom>
              <a:solidFill>
                <a:srgbClr val="3333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3263400" y="5429160"/>
                <a:ext cx="373320" cy="82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40080" y="6296040"/>
                <a:ext cx="173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3565080" y="5351040"/>
                <a:ext cx="1576440" cy="9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1480" y="5675040"/>
                <a:ext cx="24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1480" y="6054480"/>
                <a:ext cx="24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4080" y="6422760"/>
                <a:ext cx="245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446280" y="5352840"/>
                <a:ext cx="0" cy="13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261040" y="5365440"/>
                <a:ext cx="0" cy="136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827520" y="5352840"/>
                <a:ext cx="0" cy="13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95800" y="5352840"/>
                <a:ext cx="0" cy="13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537080" y="5352840"/>
                <a:ext cx="0" cy="13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5360" y="5352840"/>
                <a:ext cx="0" cy="137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V="1">
              <a:off x="3328920" y="6249960"/>
              <a:ext cx="17319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987640" y="2421000"/>
            <a:ext cx="2576520" cy="1460520"/>
            <a:chOff x="2987640" y="2421000"/>
            <a:chExt cx="2576520" cy="1460520"/>
          </a:xfrm>
        </p:grpSpPr>
        <p:grpSp>
          <p:nvGrpSpPr>
            <p:cNvPr id="128" name=""/>
            <p:cNvGrpSpPr/>
            <p:nvPr/>
          </p:nvGrpSpPr>
          <p:grpSpPr>
            <a:xfrm>
              <a:off x="2987640" y="2421000"/>
              <a:ext cx="2576520" cy="1460520"/>
              <a:chOff x="2987640" y="2421000"/>
              <a:chExt cx="2576520" cy="1460520"/>
            </a:xfrm>
          </p:grpSpPr>
          <p:sp>
            <p:nvSpPr>
              <p:cNvPr id="129" name=""/>
              <p:cNvSpPr/>
              <p:nvPr/>
            </p:nvSpPr>
            <p:spPr>
              <a:xfrm>
                <a:off x="3235320" y="2655720"/>
                <a:ext cx="1792440" cy="752760"/>
              </a:xfrm>
              <a:custGeom>
                <a:avLst/>
                <a:gdLst/>
                <a:ahLst/>
                <a:rect l="l" t="t" r="r" b="b"/>
                <a:pathLst>
                  <a:path w="1129" h="474">
                    <a:moveTo>
                      <a:pt x="276" y="0"/>
                    </a:moveTo>
                    <a:lnTo>
                      <a:pt x="0" y="473"/>
                    </a:lnTo>
                    <a:lnTo>
                      <a:pt x="1128" y="473"/>
                    </a:lnTo>
                    <a:lnTo>
                      <a:pt x="27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35320" y="2655720"/>
                <a:ext cx="1808280" cy="768600"/>
              </a:xfrm>
              <a:custGeom>
                <a:avLst/>
                <a:gdLst/>
                <a:ahLst/>
                <a:rect l="l" t="t" r="r" b="b"/>
                <a:pathLst>
                  <a:path w="1139" h="484">
                    <a:moveTo>
                      <a:pt x="278" y="0"/>
                    </a:moveTo>
                    <a:lnTo>
                      <a:pt x="0" y="483"/>
                    </a:lnTo>
                    <a:lnTo>
                      <a:pt x="1138" y="483"/>
                    </a:lnTo>
                    <a:lnTo>
                      <a:pt x="27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2987640" y="2421000"/>
                <a:ext cx="2576520" cy="1460520"/>
                <a:chOff x="2987640" y="2421000"/>
                <a:chExt cx="2576520" cy="1460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987640" y="2421000"/>
                  <a:ext cx="2576520" cy="1460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3235320" y="2503440"/>
                  <a:ext cx="1792440" cy="905040"/>
                </a:xfrm>
                <a:custGeom>
                  <a:avLst/>
                  <a:gdLst/>
                  <a:ahLst/>
                  <a:rect l="l" t="t" r="r" b="b"/>
                  <a:pathLst>
                    <a:path w="1129" h="570">
                      <a:moveTo>
                        <a:pt x="188" y="0"/>
                      </a:moveTo>
                      <a:lnTo>
                        <a:pt x="0" y="569"/>
                      </a:lnTo>
                      <a:lnTo>
                        <a:pt x="1128" y="569"/>
                      </a:lnTo>
                      <a:lnTo>
                        <a:pt x="188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235320" y="2503440"/>
                  <a:ext cx="1808280" cy="920880"/>
                </a:xfrm>
                <a:custGeom>
                  <a:avLst/>
                  <a:gdLst/>
                  <a:ahLst/>
                  <a:rect l="l" t="t" r="r" b="b"/>
                  <a:pathLst>
                    <a:path w="1139" h="580">
                      <a:moveTo>
                        <a:pt x="190" y="0"/>
                      </a:moveTo>
                      <a:lnTo>
                        <a:pt x="0" y="579"/>
                      </a:lnTo>
                      <a:lnTo>
                        <a:pt x="1138" y="579"/>
                      </a:lnTo>
                      <a:lnTo>
                        <a:pt x="19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"/>
              <p:cNvSpPr/>
              <p:nvPr/>
            </p:nvSpPr>
            <p:spPr>
              <a:xfrm>
                <a:off x="3318120" y="3408480"/>
                <a:ext cx="1649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318120" y="3406680"/>
              <a:ext cx="166212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4000" y="730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77120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Ogni quadratino derivante da tale suddivisione prende il nome di </a:t>
            </a:r>
            <a:r>
              <a:rPr b="1" lang="it-IT" sz="2600" spc="-1" strike="noStrike">
                <a:solidFill>
                  <a:srgbClr val="ff3300"/>
                </a:solidFill>
                <a:latin typeface="Verdana"/>
              </a:rPr>
              <a:t>pixel</a:t>
            </a: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 (picture element) e può essere codificato in binario secondo la seguente convenzion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il simbolo “</a:t>
            </a:r>
            <a:r>
              <a:rPr b="1" lang="it-IT" sz="2300" spc="-1" strike="noStrike">
                <a:solidFill>
                  <a:srgbClr val="ff3300"/>
                </a:solidFill>
                <a:latin typeface="Verdana"/>
              </a:rPr>
              <a:t>0</a:t>
            </a: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” viene utilizzato per la codifica di un pixel corrispondente ad un quadratino bianco (in cui il bianco è predominante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il simbolo “</a:t>
            </a:r>
            <a:r>
              <a:rPr b="1" lang="it-IT" sz="23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it-IT" sz="2300" spc="-1" strike="noStrike">
                <a:solidFill>
                  <a:srgbClr val="000000"/>
                </a:solidFill>
                <a:latin typeface="Verdana"/>
              </a:rPr>
              <a:t>” viene utilizzato per la codifica di un pixel corrispondente ad un quadratino nero (in cui il nero è predominante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73008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odifica delle immagini B/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6:49:59Z</dcterms:created>
  <dc:creator>.</dc:creator>
  <dc:description/>
  <dc:language>en-US</dc:language>
  <cp:lastModifiedBy>kali</cp:lastModifiedBy>
  <dcterms:modified xsi:type="dcterms:W3CDTF">2007-11-07T15:33:47Z</dcterms:modified>
  <cp:revision>65</cp:revision>
  <dc:subject/>
  <dc:title>Diapositiva 1</dc:title>
</cp:coreProperties>
</file>