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1904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190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AFD394-F12A-4AEA-B5FA-B918ADFC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49A1AF-CEE8-4AB0-94B1-CD7874C0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121576-8AA7-436D-977B-D22170CB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E4D2EE-23C3-4D5E-B834-31B84DB3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39C52B-024D-45EE-BDB8-E41D331D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18C48A-A247-431E-9622-8D7A4309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479761-8379-487B-A547-51112256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74ECDCA-46FE-471D-9C43-D892E6BD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CD2CC19-A581-4397-B2E1-9F02FDEA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2C45CB4-DF7B-4849-9EB8-C3640D1F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EF302C0-D3D5-4899-8DE8-6D10D780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7B53FC-05A9-4D14-BF5F-EC4D2143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2E1870-6802-4D62-A658-C89AE3EB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C52D03-54BD-427A-9B30-81A5AD03E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CF3C06-BDA1-471A-A3E5-F6C27BB5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2A79C7-00A1-4570-9F88-E45B69C6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018A13-31F2-40C0-B2AE-2603FA59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CA45ED-EFA6-4820-B488-C8779B27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6365C6-BCBD-4348-9972-91F7C6C71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0ADFF1-C2E7-4A03-80C7-9BC2F474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E9471A-FADE-4441-B575-F1462B6F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BC5B3C-0F58-4251-BEDC-D18EF8E2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859D84-F4BF-4E6D-9D59-E13EF8B6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005493-A6DC-44F2-B012-1E248489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2719C5-B016-436D-8062-57A7BA2E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7AF46D-6BCA-461F-B4DC-8270AF9A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E31B8C-A0D5-4CAD-BFE3-3B972B9F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2CF350-271C-4F9D-BA4C-79F3A3D5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3505F7-B1A0-4B5E-B5DD-F91E5907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CD49CB-C2CF-4371-A5F7-C0DF72766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8B931D6-6F9D-427E-9F81-231DEFD3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F596C7-4091-4085-825B-BB0A9321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C6DA5B-182B-43E1-864B-4CF1F30B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514E7F-5C76-4737-89E5-A16E8157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113E266-2D54-49C0-9F87-FFC2A0E9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EC29B8-C3B7-406D-9578-3ADA5093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12FC6A-FD04-4526-9664-82367F98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791E75-EDA3-4F89-9D73-3F511321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A00658-7543-4944-B798-85DF76B7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CF2CA9-596A-43B2-A68C-DDCBA00D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764070-EFA0-4286-8667-506296555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012C07-72E0-4853-B7A3-C836EA7DB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9CB852-828F-4268-8650-7006C4DE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437CDA-C984-4355-864C-47F4CE7B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95D098-83DD-4EC1-9F8D-1F430865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E0E8CE-1E85-4282-A88D-B4DABE18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6962AB-AD24-4C4D-9FE8-56C072E7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E344FBB-D088-40CD-9A51-1D3ABC75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21F053-F38B-4A5A-AD1B-CF0E59F1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8AEE77-C3BA-4CF8-B043-67B16E087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621C84E-0F46-4A59-AC0C-64FDAE63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371E56-7E92-48EF-A181-7AB37B40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A8A6EF-8962-4602-83E8-80C8C9B5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E3E6726-07C4-47C5-8A0E-1332D9B4E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7ED-CF2B-40A1-8930-12436D33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9FC-3B89-44F9-AC11-7EFF83FB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F75-DCE0-4E06-95B1-365E2B08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6B2-2FB9-4578-8497-7AC419B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2CF-E47D-42BE-ACCB-B40523EB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BE2-7911-40C4-A559-AEE2888C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A5E-A309-4D12-9086-C629F0EE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644-E5FD-4CB9-8FF4-9E2B368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D258-4CD0-4B27-A56F-DDAF3FE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AE0E-0610-4B71-B36E-62540BA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48C-6FB7-4489-A06A-3D75B3E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E0A-372B-4523-A92A-9F7930D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244-4B69-4748-B6CE-31D11B3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AA3-1271-4118-9CE6-DD458D7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0CA-E0D4-4F6F-A854-97ED3E9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50DE-1B1D-41D7-B00E-5AA197E7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172C-ED54-4EAE-8185-1CC6C95C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7F6-137D-405B-B829-745823C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298-6A3D-4F6C-A128-187C973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BFD-CA60-4416-9143-FDD2DA02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97D-27CB-4649-8394-DA3A502A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013-9CF6-484A-A516-9F67912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35B-241D-4029-A0F1-1E278EE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FAC-67C6-4DEA-97DE-6E0686E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E29-4207-4BD9-8DA2-0E7A43232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9ED1-3A58-435E-94FF-CD994E1D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RODUZI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L’ 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3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76680"/>
            <a:ext cx="79912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g. Francesco Calime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Web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http://www.mat.unical.it/cali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E-Mail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alimeri@mat.unical.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Indirizz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Dipartimento di Matematic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ubo 30b, Università della Calab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87036 Rende (Cosenz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Tel. Uffici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0984 – 4964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j0285750"/>
          <p:cNvPicPr/>
          <p:nvPr/>
        </p:nvPicPr>
        <p:blipFill>
          <a:blip r:embed="rId1"/>
          <a:stretch/>
        </p:blipFill>
        <p:spPr>
          <a:xfrm>
            <a:off x="2556000" y="2421000"/>
            <a:ext cx="4776840" cy="29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Screen_Campo_minato"/>
          <p:cNvPicPr/>
          <p:nvPr/>
        </p:nvPicPr>
        <p:blipFill>
          <a:blip r:embed="rId1"/>
          <a:stretch/>
        </p:blipFill>
        <p:spPr>
          <a:xfrm>
            <a:off x="2916360" y="2133720"/>
            <a:ext cx="32004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914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921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Word Process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emorizzare, elaborare tes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Basi di Dat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Memorizzare grossi archivi di dati, recupero veloce, produrre informazioni glob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ccesso Remo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smissione e recupero di informazi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alcolo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isolvere problemi matemat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Simulazion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appresentare e elaborare informazioni che simulano l’ambiente re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Utilizzo di un elabor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uten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Uso software applicativo esistente per creare documenti  e interfacce grafiche, effettuare calcoli, navigare in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sviluppato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reo nuovi programmi sullo strato del software esist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applicativ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di sistema (cioè che fanno funzionare il calcolato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rchitettura de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istemi Informatici</a:t>
            </a: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PC, Rete di Calc., 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Architettu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nsieme delle componenti del sistema, descrizione delle loro funzionalità e della loro inter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uddivisione principa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Unità di Elaboraz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rocessore o CPU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volge le elabor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ordina il trasferimento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oè ‘esegue’ i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Memoria Centr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Memorizza dati e programmi per l’elabor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ccesso ra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apacità limitat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Memoria Secondari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es. Hard disk,flopp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Grande capa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sist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ccesso piu lento della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Unità Perifer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terfaccia verso l’ester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erminali (tastiera, vide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Bus di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llega le altre compon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Memorie Secondari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Periferi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sieme di collegamenti di vario t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 di S. I. :</a:t>
            </a:r>
            <a:br>
              <a:rPr sz="3800"/>
            </a:b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ersonal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Contenito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c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PU,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Fis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Unità per Dischetti/C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sco Tasti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5800" y="404640"/>
            <a:ext cx="77724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rdinatori del cor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31640" y="1701720"/>
            <a:ext cx="8317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 William Spatar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pataro@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io A: Dipartimento di Matematica, Cubo 31B 2° Piano -- Studio B: Centro di Eccellenza per il Calcolo ad Alte Prestazioni (HPCC), Cubo 22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64 – 0984.4948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: www.mat.unical.it/spata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ssa Mina Catalan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atalano@mat.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partimento di Matematica, Cubo 31B 2° pia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Work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lcolatore con elevate prest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ini-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poch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ain-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centinaia d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2060"/>
                </a:solidFill>
                <a:latin typeface="Verdana"/>
              </a:rPr>
              <a:t>Calcolatori High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litamente calcolatori composti da più CPU collegati in parallelo (es:Dual/Quad Core, Cluster, ec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Local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terminali vicini tra loro; i terminali usufruiscono di servizi quali stampanti di diverso tipo, memoria di massa,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Geografich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dei calcolatori (detti)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host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 medio-grandi distanze; ad esempio possono collegare diverse reti locali tra lo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di ba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gest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dell’elaborato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Sistema Operativo (Windows, Linux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applicativ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realizzazione di specifiche applic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programmi per scrittura, gestione aziendale, navigazione su internet, e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e ragiona il compu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i e algorit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b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quando ci pon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iettiv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a raggiungere e per raggiungerlo dobbiamo mettere a punto un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755640" y="4149720"/>
            <a:ext cx="194472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70036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564000" y="4076640"/>
            <a:ext cx="2232000" cy="12956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79600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659640" y="4149720"/>
            <a:ext cx="1944720" cy="1295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 problemi tipici dell’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cerca di 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il numero di telefono di una pers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re il numero più piccolo di una sequen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bilire se una parola precede alfabeticamente un’alt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elaborazione di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re il costo totale di un certo numero di prodott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perimetro e area di una figura geome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ottim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tra tutte le soluzioni possibili del problema quella che rende minimo un certo fattore, per esempio scegliere il mezzo di trasporto più economico per andare a Parigi oppure quello con il quale si impiega meno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04120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si costruisc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il giusto “punto di partenza” per pensar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 metodologie e tecniche usa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09560"/>
            <a:ext cx="936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are l’enunci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re i dati noti e quelli da trov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ruire un mode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vere il procediment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guire le operazioni stabilite nel process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re se i risultati ottenuti corrispondono alla soluzione del problema re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611280" y="4292640"/>
            <a:ext cx="7129080" cy="2376360"/>
            <a:chOff x="611280" y="4292640"/>
            <a:chExt cx="7129080" cy="2376360"/>
          </a:xfrm>
        </p:grpSpPr>
        <p:sp>
          <p:nvSpPr>
            <p:cNvPr id="171" name="AutoShape 21"/>
            <p:cNvSpPr/>
            <p:nvPr/>
          </p:nvSpPr>
          <p:spPr>
            <a:xfrm>
              <a:off x="611280" y="4292640"/>
              <a:ext cx="70552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22"/>
            <p:cNvSpPr/>
            <p:nvPr/>
          </p:nvSpPr>
          <p:spPr>
            <a:xfrm>
              <a:off x="1360440" y="4913640"/>
              <a:ext cx="6379920" cy="1751040"/>
            </a:xfrm>
            <a:custGeom>
              <a:avLst/>
              <a:gdLst>
                <a:gd name="textAreaLeft" fmla="*/ 1116360 w 6379920"/>
                <a:gd name="textAreaRight" fmla="*/ 4625640 w 6379920"/>
                <a:gd name="textAreaTop" fmla="*/ 234360 h 1751040"/>
                <a:gd name="textAreaBottom" fmla="*/ 151668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990000" y="4605120"/>
              <a:ext cx="185112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ble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619560" y="5324400"/>
              <a:ext cx="31478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Interpret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1738080" y="6048000"/>
              <a:ext cx="185220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Modell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4324320" y="6043680"/>
              <a:ext cx="2037240" cy="513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cedimento risolutiv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4887000" y="5534640"/>
              <a:ext cx="22226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Esecu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5250240" y="4296960"/>
              <a:ext cx="2408040" cy="6163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Verifica dei risultat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escrizione procedimento risolutiv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zione di una sequenza di passi che, partendo dai dati noti, arrivi a dare la soluzio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zion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22"/>
          <p:cNvSpPr/>
          <p:nvPr/>
        </p:nvSpPr>
        <p:spPr>
          <a:xfrm flipV="1">
            <a:off x="1258920" y="4149000"/>
            <a:ext cx="2233440" cy="107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5904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quenza finita di operazioni elementa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e porta alla risoluzio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 tempo finito una classe di problem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 un algoritmo può essere visto come una funzione da un dominio d’ingresso ad uno d’usc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700360" y="4653000"/>
            <a:ext cx="36720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73272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828720" y="5373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i(IN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372360" y="5373720"/>
            <a:ext cx="25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sultati(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: proprietà fonda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eguibil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eseguibile da parte dell’esecutore dell’algoritmo in un tempo fin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n-ambigu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univocamente interpretabile dall'esecu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initezz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l numero totale di azioni da eseguire, per ogni insieme di dati di ingresso, deve essere finito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si dicon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quivalenti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ingress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uscit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rrispondenza degli stessi valori nel dominio di ingresso producono gli stessi valori nel dominio di usci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equival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niscono l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esso risult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 possono av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versa efficie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possono ess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fondamente diversi 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plicare tra loro due nu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lgoritmo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me successi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12x12 = 12+12+…+12=14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726160" y="3929040"/>
            <a:ext cx="2733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lgoritmo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ma e shift”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2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rcRect l="3127" t="36241" r="3906" b="17906"/>
          <a:stretch/>
        </p:blipFill>
        <p:spPr>
          <a:xfrm>
            <a:off x="420840" y="2276640"/>
            <a:ext cx="8370720" cy="335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 flipV="1">
            <a:off x="1258920" y="4075920"/>
            <a:ext cx="1441440" cy="647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204" name="Oval 6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Linguagg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per esprimere in maniera rigorosa un algorit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o macchina (seq.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ad alto livello (vicini al ling. natur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asc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 e C++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 di program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15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SOMMA(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A, B </a:t>
            </a: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A = InputBox("Immetti un numero"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B = InputBox(“Immetti un secondo numero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“Somma:”; A+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gramma del corso (laboratori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Ambiente Operativo Window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Elaborazione dei Tes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trumenti e Servizi Interne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Fogli Elettron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: pot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336699"/>
                </a:solidFill>
                <a:latin typeface="Verdana"/>
              </a:rPr>
              <a:t>Problem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alcolare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elevato alla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tilizziamo le </a:t>
            </a:r>
            <a:r>
              <a:rPr b="1" i="1" lang="it-IT" sz="2600" spc="-1" strike="noStrike">
                <a:solidFill>
                  <a:srgbClr val="000000"/>
                </a:solidFill>
                <a:latin typeface="Verdana"/>
              </a:rPr>
              <a:t>variabili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N,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izialmente Ris=1  e   N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Algoritmo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no a che N&gt;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alcola Ris </a:t>
            </a: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a e memorizzalo in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rementa 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Correttezza</a:t>
            </a: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 termine Ris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 in Pseudo Pasc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otenz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Ris,N,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N);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A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Whi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N&gt;0)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Ris*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=N-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i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Ri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9468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gn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aborator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una macchina in grado d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eguire azioni elementari su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'esecuzion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elle azioni elementari è richi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'elaboratore tramite comandi chiamat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 istruzioni sono espresse attraverso frasi di un opportun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gramm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la formulazione testuale di un algoritmo in un 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lgoritm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il processo risolutivo di un 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iassumend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ì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i sono problemi non calcolabili da nessun modello di calcolo reale o astra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data una funzion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 :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, stabilire se f(x) è costante per ogni valore d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Dato un insieme di immagini di paesaggi, determinare quello più rilassa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ù in generale, quando il problema present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oluzioni, o non è stato trovato per esso un metodo risolutivo o è dimostrato che non esiste un metodo risolu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a di flusso o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i a blocch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È uno metodi più comuni usati per la rappresentazione di algorit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 presenta come un insieme di  figure geometriche collegate da frec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"/>
                            </p:stCondLst>
                            <p:childTnLst>
                              <p:par>
                                <p:cTn id="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iz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tti i diagrammi a blocchi cominciano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16000" y="2924280"/>
            <a:ext cx="2879640" cy="1512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iz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ingre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ingress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i dati noti del problema, quelli che devono essere elaborati per arrivare alla sol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042920" y="2565360"/>
            <a:ext cx="3384720" cy="172728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gress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perazion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a svolgere sui dati sono racchiuse in rettang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16000" y="2852640"/>
            <a:ext cx="3168720" cy="1440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erazio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l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deve fare u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scel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ra due possibilità si usa il romb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187280" y="2637000"/>
            <a:ext cx="3313440" cy="2447640"/>
          </a:xfrm>
          <a:prstGeom prst="flowChartDecision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ro o fal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ve di accer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Int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final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usci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usci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quelli che si vuole conoscere e costituiscono il risultato dell’elabor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900000" y="2924280"/>
            <a:ext cx="3456000" cy="151272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ci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diagramma di flusso si conclude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1042920" y="2852640"/>
            <a:ext cx="3168720" cy="1728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fin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a della chi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ovare in un mazzo di chiavi quella che apre il lu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chiavi"/>
          <p:cNvPicPr/>
          <p:nvPr/>
        </p:nvPicPr>
        <p:blipFill>
          <a:blip r:embed="rId1"/>
          <a:stretch/>
        </p:blipFill>
        <p:spPr>
          <a:xfrm>
            <a:off x="1187280" y="3500280"/>
            <a:ext cx="1625760" cy="20574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6372360" y="287280"/>
            <a:ext cx="2771640" cy="6237360"/>
            <a:chOff x="6372360" y="287280"/>
            <a:chExt cx="2771640" cy="6237360"/>
          </a:xfrm>
        </p:grpSpPr>
        <p:pic>
          <p:nvPicPr>
            <p:cNvPr id="255" name="Picture 7" descr="diagrammablocchi1"/>
            <p:cNvPicPr/>
            <p:nvPr/>
          </p:nvPicPr>
          <p:blipFill>
            <a:blip r:embed="rId2"/>
            <a:stretch/>
          </p:blipFill>
          <p:spPr>
            <a:xfrm>
              <a:off x="6703920" y="287280"/>
              <a:ext cx="244008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8"/>
            <p:cNvSpPr/>
            <p:nvPr/>
          </p:nvSpPr>
          <p:spPr>
            <a:xfrm>
              <a:off x="7812000" y="206064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7956720" y="2060640"/>
              <a:ext cx="1440" cy="14436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6732720" y="1484280"/>
              <a:ext cx="122400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6443640" y="2060640"/>
              <a:ext cx="1441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6372360" y="2205000"/>
              <a:ext cx="43164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6732720" y="1484280"/>
              <a:ext cx="1440" cy="31687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 della st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la strada più breve per la st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stazione"/>
          <p:cNvPicPr/>
          <p:nvPr/>
        </p:nvPicPr>
        <p:blipFill>
          <a:blip r:embed="rId1"/>
          <a:stretch/>
        </p:blipFill>
        <p:spPr>
          <a:xfrm>
            <a:off x="1116000" y="2997360"/>
            <a:ext cx="3240000" cy="3025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iagrammablocchi2"/>
          <p:cNvPicPr/>
          <p:nvPr/>
        </p:nvPicPr>
        <p:blipFill>
          <a:blip r:embed="rId2"/>
          <a:stretch/>
        </p:blipFill>
        <p:spPr>
          <a:xfrm>
            <a:off x="5678640" y="0"/>
            <a:ext cx="3465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5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5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sti consigli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Sciuto, Bonanno, Fornaciari, M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troduzione ai Sistemi Informatici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Curtin, Foley, Sen, Morris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formatica di 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Verdana"/>
              </a:rPr>
              <a:t>Introduzione agli algoritm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4360" y="1844640"/>
            <a:ext cx="3585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è l’Informatica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60" y="2114280"/>
            <a:ext cx="943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gli elaboratori elettronici (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Computer Scien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ll’infor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3733920"/>
            <a:ext cx="85136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cienza della rappresentazione, memorizzazione, elaborazione e trasmissione dell’informaz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laboratore elettronic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(o “computer” o “calcolatore”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uno strumento per la rappresentazione, la memorizzazione e l’elaborazione delle informazion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 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può essere predisposto per eseguire un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particolare insieme di 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allo scopo di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0-24T15:03:09Z</dcterms:modified>
  <cp:revision>31</cp:revision>
  <dc:subject/>
  <dc:title>Diapositiva 1</dc:title>
</cp:coreProperties>
</file>