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4B39-179E-4DE0-9156-A5B561129F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44FA-EECB-4963-A302-744FD021D3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5EE-82B7-4A71-978C-EC4923449B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C18-8B77-4E58-8960-617B764D93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D97D-FC9B-495F-BAA6-8CD73025F4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6CED-BEF5-4C04-AA96-8AAF5AD5DF8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3781-0880-4C32-9E2C-1E7AAD9851C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AD34-E41D-4E86-B393-6C2CF29D9C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62F-030C-413F-B015-578B95C0F9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33FF-0930-4B56-95A5-7BF0C850E2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B2E-0CBC-41A2-8DC0-8C13F919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986-8322-49C1-B63F-9ADBDF7A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0C4-2E19-441E-8812-64633CB7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396-6888-4B19-85EF-C5D3AECC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60C1-DF27-4D68-BB95-C3C7D0A7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1F44-A747-461F-82F4-C2B60C5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B3B3-982E-4855-8CE5-C99F880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AE88-55BA-4579-A1AF-EFDBC512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1597-FC73-4093-A35F-E637101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98BE-3B26-4628-8C7B-C91D1CC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21FB-8EE5-4B6A-B1DC-3D3614F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F16-15EE-41FF-AB8A-6F7238BD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55A-822F-409B-A23B-0E6D019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1354-116A-4C8D-9314-C1B292A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055B-CB5F-43BF-A713-69022C9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087-E4DD-4C05-B367-FF06509C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F705-26D7-40B9-B283-7A352F6E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64D-94EA-4234-850C-F858CBF9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D90-45E7-4805-B88A-E812A738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395-87D3-46F9-A6B7-FB975305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1C8-6FD2-4AC8-A7F7-C98FBF6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737-A060-46D0-A3C0-0CA01697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936-C2BA-48F5-9CEA-D6705355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5EE-CAA8-4CA8-9320-178DA05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8178-4879-4822-B9B5-14A49DAAC5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C097-D852-42A1-AC3E-86A10ED3AA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hyperlink" Target="http://images.google.it/imgres?imgurl=http://www.online-ergonomics.co.uk/Images/Touch%2520Pad%2520Standard.jpg&amp;imgrefurl=http://www.online-ergonomics.co.uk/Catalogue/Cat28.html&amp;h=199&amp;w=250&amp;sz=6&amp;tbnid=EHz6pcbcmJ8J:&amp;tbnh=84&amp;tbnw=106&amp;hl=it&amp;start=7&amp;prev=/images%3Fq%3Dtouch%2Bpad%26svnum%3D10%26hl%3Dit%26lr%3D" TargetMode="External"/><Relationship Id="rId19" Type="http://schemas.openxmlformats.org/officeDocument/2006/relationships/image" Target="../media/image14.jpeg"/><Relationship Id="rId20" Type="http://schemas.openxmlformats.org/officeDocument/2006/relationships/hyperlink" Target="http://images.google.it/imgres?imgurl=http://www.thepc.info/images/trackball.jpg&amp;imgrefurl=http://www.thepc.info/mouse.html&amp;h=389&amp;w=349&amp;sz=22&amp;tbnid=vZ6H-B-nJNkJ:&amp;tbnh=119&amp;tbnw=106&amp;hl=it&amp;start=1&amp;prev=/images%3Fq%3Dtrackball%26svnum%3D10%26hl%3Dit%26lr%3D%26sa%3DG" TargetMode="External"/><Relationship Id="rId21" Type="http://schemas.openxmlformats.org/officeDocument/2006/relationships/image" Target="../media/image15.jpeg"/><Relationship Id="rId22" Type="http://schemas.openxmlformats.org/officeDocument/2006/relationships/hyperlink" Target="http://images.google.it/imgres?imgurl=http://www.bow.it/isroot/bownew/SiteImages/prodotti/foto/WC011599.jpg&amp;imgrefurl=http://www.hwside.it/periferiche/tavolette_grafiche.asp&amp;h=150&amp;w=150&amp;sz=5&amp;tbnid=n0-eevghA_kJ:&amp;tbnh=90&amp;tbnw=90&amp;hl=it&amp;start=12&amp;prev=/images%3Fq%3Dtavoletta%2Bgrafica%26svnum%3D10%26hl%3Dit%26lr%3D" TargetMode="External"/><Relationship Id="rId23" Type="http://schemas.openxmlformats.org/officeDocument/2006/relationships/image" Target="../media/image16.jpeg"/><Relationship Id="rId24" Type="http://schemas.openxmlformats.org/officeDocument/2006/relationships/hyperlink" Target="http://images.google.it/imgres?imgurl=http://tienda.cero.com/images/51441.JPG&amp;imgrefurl=http://tienda.cero.com/index.php/cPath/145&amp;h=180&amp;w=200&amp;sz=3&amp;tbnid=44sZ-vyUkgQJ:&amp;tbnh=89&amp;tbnw=99&amp;hl=it&amp;start=2&amp;prev=/images%3Fq%3Dmicrofono%2Bcomputer%26svnum%3D10%26hl%3Dit%26lr%3D" TargetMode="External"/><Relationship Id="rId25" Type="http://schemas.openxmlformats.org/officeDocument/2006/relationships/image" Target="../media/image17.jpeg"/><Relationship Id="rId26" Type="http://schemas.openxmlformats.org/officeDocument/2006/relationships/hyperlink" Target="http://images.google.it/imgres?imgurl=http://storage1.evectors.it/images/site001692/images/PennaSM.jpg&amp;imgrefurl=http://www.accessoripc.com/activesoftware/directory%24dir%3D378&amp;h=104&amp;w=100&amp;sz=19&amp;tbnid=x4ScklKuJr4J:&amp;tbnh=79&amp;tbnw=75&amp;hl=it&amp;start=55&amp;prev=/images%3Fq%3Dpenna%2Bottica%26start%3D40%26svnum%3D10%26hl%3Dit%26lr%3D%26sa%3DN" TargetMode="External"/><Relationship Id="rId27" Type="http://schemas.openxmlformats.org/officeDocument/2006/relationships/image" Target="../media/image18.jpeg"/><Relationship Id="rId28" Type="http://schemas.openxmlformats.org/officeDocument/2006/relationships/hyperlink" Target="http://images.google.it/imgres?imgurl=http://www.pcself.com/primopiano/flash/images/canon_powershota_520_b.jpg&amp;imgrefurl=http://www.pcself.com/primopiano/flash/news_item.asp%3FNewsID%3D447&amp;h=360&amp;w=480&amp;sz=23&amp;tbnid=xD82234sH54J:&amp;tbnh=94&amp;tbnw=126&amp;hl=it&amp;start=2&amp;prev=/images%3Fq%3Dfotocamera%2Bdigitale%26svnum%3D10%26hl%3Dit%26lr%3D" TargetMode="External"/><Relationship Id="rId29" Type="http://schemas.openxmlformats.org/officeDocument/2006/relationships/image" Target="../media/image19.jpeg"/><Relationship Id="rId30" Type="http://schemas.openxmlformats.org/officeDocument/2006/relationships/hyperlink" Target="http://images.google.it/imgres?imgurl=http://navcity.co.uk/catalog/images/wmr1.jpg&amp;imgrefurl=http://navcity.co.uk/catalog/product_info.php%2Bproducts_id%2B335&amp;h=438&amp;w=465&amp;sz=32&amp;tbnid=iP2gNVmk504J:&amp;tbnh=117&amp;tbnw=125&amp;hl=it&amp;start=1&amp;prev=/images%3Fq%3Dtouch%2Bscreen%26svnum%3D10%26hl%3Dit%26lr%3D" TargetMode="External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hyperlink" Target="http://images.google.it/imgres?imgurl=http://www.rcsteam.com/images/030506%2520HP%2520500%2520Plotter%252001.jpg&amp;imgrefurl=http://www.rcsteam.com/design.htm&amp;h=1163&amp;w=1397&amp;sz=51&amp;tbnid=ekYwgrAxqsMJ:&amp;tbnh=124&amp;tbnw=150&amp;hl=it&amp;start=3&amp;prev=/images%3Fq%3Dplotter%26svnum%3D10%26hl%3Dit%26lr%3D" TargetMode="External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923920"/>
            <a:ext cx="957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l processore - CPU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CENTRAL PROCESSING UNI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equenza di c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52360" y="1628640"/>
            <a:ext cx="914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frequenza con cui si eseguono i cicli di esecuzione è scandita dal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lock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orologio intern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d ogni impulso di clock l’unità di controllo esegue un ciclo di esecu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velocità di elaborazione di un microprocessore dipende dalla frequenza del suo clock (300, 400,... MHz) (es.: 300 milioni di cicli al secondo). Attualmente si parla di GH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414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494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piccole unita’ di memoria (2, 4, 8 byte) con tempi di accesso molto piu’ bassi delle celle della memoria prim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Ospitano le informazioni necessarie per eseguire l’istruzione corr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n numero molto limitato (10, 20, 64) si dividono in registri </a:t>
            </a: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speciali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gener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l Program Counter (PC)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tiene l’indirizzo in memoria centrale della prossima istruzione da esegu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l’inizio dell’esecuzione di un programma viene caricato con l’indirizzo della prima istruzione di quel program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d ogni istruzione eseguita il PC viene modificato per contenere l’indirizzo della istruzione success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9356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560" y="1773000"/>
            <a:ext cx="9217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L’Instruction Register (I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tiene l’istruzione correntemente in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CU legge l’istruzione contenuta nell’instruction register e la eseg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L Registro di stato (PSW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scrive lo stato corrente della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egnala eventuali errori (ad es.: overflow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640" y="198288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egistro Indirizzi Memoria (MA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 l’indirizzo della cella da cui leggere o in cui scrivere un d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Registro dati Memoria (MD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 il dato letto dalla memoria o da scrivere in memo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GENER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I registri gener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Verdana"/>
              </a:rPr>
              <a:t>in numero di 8, 16, 64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Verdana"/>
              </a:rPr>
              <a:t>sono usati come memorie temporanee per contenere gli operandi delle istruzioni e i risultati parziali durante l’esecuzione delle istruzioni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957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ARITHMETIC-LOGIC UNIT (ALU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Si occupa di eseguire le operazioni di tipo aritmetico/logico: somme, confronti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preleva gli operandi dai / deposita il risultato delle operazioni nei: registri gener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 volte e’ affiancata da u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co-processore matematic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8000" y="333360"/>
            <a:ext cx="928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ARITHMETIC-LOGIC UNIT (AL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400"/>
            </a:b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LA CONTROL UNIT (CU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unità di controllo del processore (CPU) esegue una istruzione svolgendo le seguenti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tr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operazion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di ba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lettur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ecod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decodific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xecut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esecu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programma è eseguito reiterando il ciclo 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fetch-decode-execut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iclo macchin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 per eseguire ordinatamente le sue istr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l ciclo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Fetch-Decode-Execu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2252520" y="1933560"/>
            <a:ext cx="46292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zionamen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grammi e dati risiedono in file memorizzati in memoria secondaria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 essere eseguiti (i programmi) e usati  (i dati) vengono copiati nella memoria primaria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 CPU e’ in grado di eseguire le istruzioni di cui sono composti i programm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80000" y="3719520"/>
            <a:ext cx="4968720" cy="2446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628640"/>
            <a:ext cx="79898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95560" indent="-295560"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) FETC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38600" algn="just">
              <a:lnSpc>
                <a:spcPct val="90000"/>
              </a:lnSpc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ccede alla prossima istruzione, riferita dal registro contatore dell’istruzione (PC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38600" algn="just">
              <a:lnSpc>
                <a:spcPct val="100000"/>
              </a:lnSpc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porta tale istruzione dalla memoria centrale al Registro Istruzioni (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961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2) DECOD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decodifica dell’istr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individua il tipo dell’operazione e gli operandi (dati) us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trasferiscono i dati nei registri opportu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24360" y="3860640"/>
            <a:ext cx="4656240" cy="2243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961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) EXECU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ecuzione dell’istr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incrementa il registro contatore dell’istruzione (P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ascuna azione viene richiesta al componente opport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588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MEMORIA 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75392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ivello di memoria intermedio tra i registri e la 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memorizzare i dati usati piu’ spesso senza doverli recuperare in memo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64, 128, 256, 512KB, 1MB, 2M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terna o esterna all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fluisce moltissimo sulle prestazioni e il costo della CPU (e quindi del compu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computer attuali hanno spesso più livelli di ca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55880" y="3660840"/>
            <a:ext cx="1932120" cy="85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29440" y="2946240"/>
            <a:ext cx="1384200" cy="15433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91760" y="47084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360" y="501336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032280"/>
            <a:ext cx="1908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9" idx="3"/>
            <a:endCxn id="175" idx="1"/>
          </p:cNvCxnSpPr>
          <p:nvPr/>
        </p:nvCxnSpPr>
        <p:spPr>
          <a:xfrm>
            <a:off x="2303640" y="3267000"/>
            <a:ext cx="552960" cy="822960"/>
          </a:xfrm>
          <a:prstGeom prst="curvedConnector5">
            <a:avLst>
              <a:gd name="adj1" fmla="val 49967"/>
              <a:gd name="adj2" fmla="val 49978"/>
              <a:gd name="adj3" fmla="val 4996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916360" y="3841920"/>
            <a:ext cx="180000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1560" y="1644480"/>
            <a:ext cx="26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il programma in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l'esec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657160" y="2289240"/>
            <a:ext cx="16020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7480" y="5697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gui le istruzioni de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798960" y="4032360"/>
            <a:ext cx="52200" cy="161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89640" y="3186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5960" y="3146400"/>
            <a:ext cx="1106280" cy="144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7800" y="465300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2240" y="380376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2560" y="3476520"/>
            <a:ext cx="93816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360" y="1797120"/>
            <a:ext cx="323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un pezzettino di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dei dati in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1" idx="0"/>
            <a:endCxn id="190" idx="0"/>
          </p:cNvCxnSpPr>
          <p:nvPr/>
        </p:nvCxnSpPr>
        <p:spPr>
          <a:xfrm flipH="1" flipV="1" rot="5400000">
            <a:off x="4641480" y="2650680"/>
            <a:ext cx="366120" cy="2016720"/>
          </a:xfrm>
          <a:prstGeom prst="curvedConnector5">
            <a:avLst>
              <a:gd name="adj1" fmla="val 162598"/>
              <a:gd name="adj2" fmla="val 49991"/>
              <a:gd name="adj3" fmla="val 16259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 flipH="1">
            <a:off x="5479920" y="2446200"/>
            <a:ext cx="184320" cy="385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3360" y="2533680"/>
            <a:ext cx="2128680" cy="23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26280" y="3841920"/>
            <a:ext cx="119844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92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MEMORIA 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56160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di un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20" y="196488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Registr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1 K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0 * pico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Cach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1 M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ano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4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nano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Hard disk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gt; 40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microse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Dischi ottic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650MB-17GB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icro/milli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astri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gt; 10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milli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erarchia delle memo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5596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onnette CPU, memorie ed interfacce verso dispositivi periferici (I/O, memoria di massa, .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g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ue unità funzionali alla vol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 trasmette e l’altra rice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trasferimento dei dati avviene sotto il controllo dell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788000" y="4508640"/>
            <a:ext cx="37447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846080"/>
            <a:ext cx="820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bus trasporta dati, indirizzi e comand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ponenti del bus (sottogruppi di linee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dati (data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indirizzi (address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comandi (command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dati (data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trasferire da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ra la memoria centrale ed il registro dati (MDR) della C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ra periferiche e CPU (o memoria centra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84608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indirizzi (address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trasmettere il contenuto del registro indirizzi (MAR) alla memoria (o ad una perifer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i seleziona una cella per successive operazioni di lettura o scri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comandi (command bus)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inviare comand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so la memoria (es: lettura o scrittur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 verso una periferica (es. stampa verso la stampante / interfac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2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zionament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95160" y="2077920"/>
            <a:ext cx="2125800" cy="23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32080" y="2935440"/>
            <a:ext cx="1987560" cy="85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56520" y="2349360"/>
            <a:ext cx="1239840" cy="15433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6520" y="39830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360" y="463716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306520"/>
            <a:ext cx="1849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3"/>
            <a:endCxn id="98" idx="1"/>
          </p:cNvCxnSpPr>
          <p:nvPr/>
        </p:nvCxnSpPr>
        <p:spPr>
          <a:xfrm>
            <a:off x="2676240" y="2541600"/>
            <a:ext cx="556200" cy="822960"/>
          </a:xfrm>
          <a:prstGeom prst="curvedConnector5">
            <a:avLst>
              <a:gd name="adj1" fmla="val 49676"/>
              <a:gd name="adj2" fmla="val 49978"/>
              <a:gd name="adj3" fmla="val 4967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294000" y="3116160"/>
            <a:ext cx="178272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213000"/>
            <a:ext cx="1149480" cy="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9800" y="1700280"/>
            <a:ext cx="26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il programma in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33720" y="1989000"/>
            <a:ext cx="890640" cy="71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2600" y="49719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gui le istruzioni de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896080" y="3363840"/>
            <a:ext cx="738000" cy="145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30680" y="27781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900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ratteristiche dei microprocesso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pertorio di istruzio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insieme delle istruzioni che costituiscono il linguaggio macchina del process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requenza di cl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esecuzione di una istruzione può richiedere più cicli macch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mpiezza del 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umero di bit nel bus interno del process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-process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ori specializzati per operazioni complesse (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-processore matematic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a 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emoria veloce locale al processore, che consente di accedere più velocemente ai dati da elab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9320" y="417240"/>
            <a:ext cx="7762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input/output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/O, PERIFERICHE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109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Terminali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. Tastiera + Video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isoluzione, dimensione in pollici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tampanti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d aghi, a getto, d’inchiostro, laser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dem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per collegarsi in ret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canner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per digitalizzare le immagi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95280" y="812880"/>
            <a:ext cx="6782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In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060640"/>
            <a:ext cx="16765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t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1778040"/>
            <a:ext cx="190512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5157720"/>
            <a:ext cx="167616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yst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1854360"/>
            <a:ext cx="167652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ack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1854360"/>
            <a:ext cx="167616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ouch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9640" y="3933720"/>
            <a:ext cx="190512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na ot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4221000"/>
            <a:ext cx="190512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006720"/>
            <a:ext cx="190512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797360"/>
            <a:ext cx="1676520" cy="76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tocam. 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141720"/>
            <a:ext cx="190512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rof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5013360"/>
            <a:ext cx="25146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hermi touch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3159000"/>
            <a:ext cx="1981440" cy="762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voletta gra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3"/>
          <a:srcRect l="17649" t="31620" r="23529" b="24266"/>
          <a:stretch/>
        </p:blipFill>
        <p:spPr>
          <a:xfrm>
            <a:off x="324000" y="268776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8244000" y="4724280"/>
            <a:ext cx="453960" cy="623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5"/>
          <a:srcRect l="0" t="21888" r="0" b="0"/>
          <a:stretch/>
        </p:blipFill>
        <p:spPr>
          <a:xfrm>
            <a:off x="3419640" y="24210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6"/>
          <a:srcRect l="0" t="0" r="0" b="5034"/>
          <a:stretch/>
        </p:blipFill>
        <p:spPr>
          <a:xfrm>
            <a:off x="7020000" y="4365720"/>
            <a:ext cx="761760" cy="479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7"/>
          <a:srcRect l="11360" t="13631" r="6532" b="13631"/>
          <a:stretch/>
        </p:blipFill>
        <p:spPr>
          <a:xfrm>
            <a:off x="7740720" y="3573360"/>
            <a:ext cx="685800" cy="484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172360" y="2421000"/>
            <a:ext cx="792360" cy="62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012000" y="2205000"/>
            <a:ext cx="641160" cy="71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203640" y="3068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68360" y="3789360"/>
            <a:ext cx="649080" cy="584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2556000" y="4581360"/>
            <a:ext cx="714240" cy="752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1692360" y="5373720"/>
            <a:ext cx="936720" cy="69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4140360" y="4437000"/>
            <a:ext cx="903240" cy="8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812880"/>
            <a:ext cx="876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990720"/>
            <a:ext cx="815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38160" y="1884240"/>
            <a:ext cx="19051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5257800"/>
            <a:ext cx="19051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f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7640" y="1730520"/>
            <a:ext cx="1905120" cy="76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98960" y="2722680"/>
            <a:ext cx="2286000" cy="1066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m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1640" y="4221000"/>
            <a:ext cx="2286000" cy="10670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se acu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4114800"/>
            <a:ext cx="2286000" cy="1066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deoproi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rcRect l="21185" t="0" r="4638" b="15052"/>
          <a:stretch/>
        </p:blipFill>
        <p:spPr>
          <a:xfrm>
            <a:off x="468360" y="2492280"/>
            <a:ext cx="1150920" cy="986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5003640" y="2997360"/>
            <a:ext cx="1008360" cy="87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2349360"/>
            <a:ext cx="1428480" cy="118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539640" y="4941720"/>
            <a:ext cx="1019160" cy="952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4356000" y="429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7236000" y="4941720"/>
            <a:ext cx="1368360" cy="7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55520" y="1492200"/>
            <a:ext cx="313524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5520" y="1492200"/>
          <a:ext cx="9144000" cy="4711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65240" y="1501920"/>
          <a:ext cx="9124920" cy="470664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379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" descr="Figura 2 - la struttura interna di una piastra madre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773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1280" y="189000"/>
            <a:ext cx="79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iastra mad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6680" y="692280"/>
            <a:ext cx="9068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6680" y="692280"/>
            <a:ext cx="9068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 programm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(il software!!!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77300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e’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programmabi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Usando programmi (sequenze di istruzioni) diversi, gli facciamo fare cose dive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olutamente immateri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izzato su supporti magnetici, ottici, o di altro gene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ce al computer “cosa fa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oftware di b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2232000"/>
            <a:ext cx="9144000" cy="53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bbiamo impartire ordini al computer usando solo il codice binar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vviamente no: alcuni programmi (il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software di base – sistema operativ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 rendono il computer più “facile da usar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esti programmi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virtualizza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l computer, per andare incontro alle esigenze dell’utente, che può così ignorare i dettagli implement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560" y="63792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Opera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1080" y="1844640"/>
            <a:ext cx="87120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di gran lunga il programma più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mportante che gira sul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nza il Sistema Operativo (S.O.) il computer sarebbe scomodissimo e complicatissimo da us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sfruttare le risorse del computer in modo semplice e intuitivo (si pensi ad esempio alle interfacce grafich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eseguire programmi senza preoccuparsi di come questo avvenga all’interno del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1080" y="5536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sa fa il sistema operativ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722240"/>
            <a:ext cx="8424720" cy="48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sconde  la macchina fisica all’uten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stisce in modo efficiente le risorse del computer: cpu, memoria, periferi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a i comandi dell’utente: movimenti del mouse, click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 eseguire i programmi (le applicazion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8680" y="476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processore - CPU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CENTRAL PROCESSING UNIT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occupa di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esegui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 programm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rogrammi che la CPU è in grado di eseguire sono scritti in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linguaggio macch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Istruzioni macchi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149720"/>
            <a:ext cx="86104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dice istruzi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rgom. 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rgom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4941720"/>
            <a:ext cx="613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o 32 bit di lungh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argomenti possono man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4042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trati del sistema operativo (semplificat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11280" y="2060640"/>
            <a:ext cx="7772400" cy="411480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42920" y="2924280"/>
            <a:ext cx="6967440" cy="2763720"/>
          </a:xfrm>
          <a:prstGeom prst="rect">
            <a:avLst/>
          </a:prstGeom>
          <a:solidFill>
            <a:srgbClr val="ffff99">
              <a:alpha val="72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430280" y="3911760"/>
            <a:ext cx="6283440" cy="126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FACCIA COMAN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428120" y="2987640"/>
            <a:ext cx="62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ONE MEMORIA/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662280" y="423864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si sistemi opera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79360" y="1835280"/>
            <a:ext cx="8864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no-utente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ulti-utente (Mono/multi-use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no 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ulti-programmati (Mono/multi-tasking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Distribuiti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(o di ret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6720" y="55224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funzioni principali dei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istemi operativ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0160" y="1863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 processore e dei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ces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memoria princip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memoria virtu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memoria secondaria (il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file syst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805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Un programma in linguaggio macchina (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ASSEMBLER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152800"/>
            <a:ext cx="17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62600" y="2209680"/>
            <a:ext cx="5267880" cy="3912840"/>
            <a:chOff x="1362600" y="2209680"/>
            <a:chExt cx="5267880" cy="3912840"/>
          </a:xfrm>
        </p:grpSpPr>
        <p:grpSp>
          <p:nvGrpSpPr>
            <p:cNvPr id="118" name=""/>
            <p:cNvGrpSpPr/>
            <p:nvPr/>
          </p:nvGrpSpPr>
          <p:grpSpPr>
            <a:xfrm>
              <a:off x="2815560" y="2209680"/>
              <a:ext cx="3814560" cy="3912840"/>
              <a:chOff x="2815560" y="2209680"/>
              <a:chExt cx="3814560" cy="391284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8440" y="2209680"/>
                <a:ext cx="380844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AD 3568 R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15560" y="2863800"/>
                <a:ext cx="380844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AD 3574 R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15560" y="351792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DD R1 R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8440" y="417204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STORE R1 356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18440" y="4826160"/>
                <a:ext cx="380520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JUMP 10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18440" y="547992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62600" y="22096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8800" y="4172040"/>
              <a:ext cx="38116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ORE R1 356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2600" y="293832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2320" y="346068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2600" y="35924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4120" y="411480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2600" y="424656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2360" y="476892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62600" y="49006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7347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et di istruzioni macch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871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tipo di processore e’ in grado di eseguire un numero limitato (40/100) di istr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ndo in modo diverso sequenze anche molto lunghe di istruzioni (i programmi) si possono far fare al computer tantissime cose completamente divers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62244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et di istruzioni macch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30440"/>
            <a:ext cx="842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Istruzioni per l’elaborazione dei da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itmeti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che (AND, OR, N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zionali (maggiore, minore, uguale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ontrollo del flusso delle istruzio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qu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e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rasferimento di informazio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i ed istruzioni fra CPU e memo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i fra CPU e dispositivi di I/O (tramite interfac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622440"/>
            <a:ext cx="885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ruttura del processo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4360" y="1700280"/>
            <a:ext cx="7772400" cy="4467240"/>
            <a:chOff x="684360" y="1700280"/>
            <a:chExt cx="7772400" cy="44672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77724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5480" y="1916280"/>
              <a:ext cx="1224000" cy="4033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emori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entr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400"/>
            </a:b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LA CONTROL UNIT (CU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unità di controllo del processore esegue una istruzione svolgendo le seguenti tre operazioni di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lettur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Decod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decodific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xecut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esecuzion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Un programma è eseguito reiterando il ciclo </a:t>
            </a: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fetch-decode-execut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ciclo macchin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) per eseguire ordinatamente le sue istruzio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5:32:58Z</dcterms:modified>
  <cp:revision>96</cp:revision>
  <dc:subject/>
  <dc:title>Diapositiva 1</dc:title>
</cp:coreProperties>
</file>