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07D-A199-42C4-A999-7983A6AF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25F-BA23-40DB-B27B-D7976DE9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C54-9B79-4B92-BB54-11064EBA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E7B-3A60-4AE3-B66E-17A72561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BCEE-FABE-47CA-BDD5-51C013241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283D-BBEA-462B-B3E2-B0955B6A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06C8-0EAB-4014-8252-7CC647ED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069D-E1AE-47DE-BC7D-8147BDA8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398E-4E20-4DB6-9438-E39D9156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B1B5-9286-45B1-BC7A-FDEAAC55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862C-BB16-47A7-9ED7-EE336837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FDEC-EFE2-4AB3-B4A8-40F82A8A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71A2-14DA-4255-BE89-3FD72D49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C665-1CFC-4BC6-8D71-8CC1DF6F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7D36-DC49-4AD8-9D64-B70D6686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CA90-E261-4808-B74D-2FF81E63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E1ED-CDB1-4E66-9451-6686E1DF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29B-EC61-40F2-9F96-C5D35702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DC28-6AD6-4F0D-BCB6-9E2DAF57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8D5-9DF7-48A5-877E-BDF0E8B9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0FAA-39BD-4C92-91BF-DE840652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F4C-B05B-4213-A625-9CF5A63B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FFD-5AD9-4C59-938A-42F2EB07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437D-2468-4B9F-BDE5-D8E17251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FCB0-F418-49DB-90F4-07177AA5DF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AEAD-78DF-403E-8FE1-96BAC8E054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1080" y="350028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zz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alcolatore memoriz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dati, che rappresentano informazioni di interes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programmi per l’elaborazione dei d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</a:rPr>
              <a:t>memoria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è l’unità responsabile della memorizzazione dei dati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a unità di memoria fornisce due sole opera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orizzazione di un valore 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crittu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o al valore memorizzato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ttu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labor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2200" y="1701720"/>
            <a:ext cx="8570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 istruzioni di un programma corrispondono ad operazioni elementari di elabor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zioni aritmeti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zioni relazionali (confronto tra dat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zioni su caratteri e valori di ver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tre operazioni numeri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Elaborazion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2200" y="1701720"/>
            <a:ext cx="85708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 calcolatore sa svolgere poche tipologie di operazioni elementari ma in modo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molto effic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un calcolatore può eseguire decine o centinaia di milioni di istruzioni al seco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’elaborazione dei dati viene svolta dall’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unità aritmetico-logica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, che è un componente dell’unità centrale di elabor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rasferi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84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Obiettivo: permettere lo scambio di informazioni tra le varie componenti funzionali del calcolat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rasferimento dei dati e delle informazioni di control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ue possibili soluzio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legare ciascun componente con ogni altro compon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legare tutti i componenti a un unico canale (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bu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utilizzo di un bus favorisce la modularità e l’espandibilità del calcolat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ntrol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4247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coordinamento tra le varie parti del calcolatore è svolto dall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nità di control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è un componente dell’unità centrale di elabor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gni componente dal calcolatore esegue solo le azioni che gli vengono richieste dall’unità di control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controllo consiste nel coordinamento dell’esecuzione temporale delle operazion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a internamente all’unità di elaborazione sia negli altri elementi funzion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304920"/>
            <a:ext cx="885672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ispositivi di memorizzazion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1773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emorie d’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am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Verdana"/>
              </a:rPr>
              <a:t>Random Access Memory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o Memoria ad accesso cas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Rom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it-IT" sz="1800" spc="-1" strike="noStrike" u="sng">
                <a:solidFill>
                  <a:srgbClr val="000000"/>
                </a:solidFill>
                <a:uFillTx/>
                <a:latin typeface="Verdana"/>
              </a:rPr>
              <a:t>Read Only Memory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o memoria di sola lettura; si attiva all’accensione del Comp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789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Memorie di Ma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loppy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d –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ità di Back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2087640" cy="1555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04000" y="2565360"/>
            <a:ext cx="1787400" cy="1128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12609" t="14921" r="18834" b="865"/>
          <a:stretch/>
        </p:blipFill>
        <p:spPr>
          <a:xfrm>
            <a:off x="3203640" y="5013360"/>
            <a:ext cx="771480" cy="841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116000" y="5084640"/>
            <a:ext cx="1060560" cy="1060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rcRect l="23847" t="1602" r="23847" b="11463"/>
          <a:stretch/>
        </p:blipFill>
        <p:spPr>
          <a:xfrm>
            <a:off x="2595600" y="3645000"/>
            <a:ext cx="861840" cy="96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3147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emoria centrale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19280" y="1967040"/>
            <a:ext cx="6408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emoria centrale (o principal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60" y="1773000"/>
            <a:ext cx="92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la componente del calcolatore in cui vengono immagazzinati e da cui vengono acceduti i dati e i programm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’ la memoria che può essere acceduta direttamente dal process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è costituita da sequenze di </a:t>
            </a:r>
            <a:r>
              <a:rPr b="1" lang="en-US" sz="2700" spc="-1" strike="noStrike">
                <a:solidFill>
                  <a:srgbClr val="336699"/>
                </a:solidFill>
                <a:latin typeface="Verdana"/>
              </a:rPr>
              <a:t>celle</a:t>
            </a:r>
            <a:r>
              <a:rPr b="0" lang="en-US" sz="2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(o </a:t>
            </a: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locazioni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ogni cella può contenere una quantità fissata di memoria (numero di bit), detta </a:t>
            </a:r>
            <a:r>
              <a:rPr b="1" lang="en-US" sz="2700" spc="-1" strike="noStrike">
                <a:solidFill>
                  <a:srgbClr val="336699"/>
                </a:solidFill>
                <a:latin typeface="Verdana"/>
              </a:rPr>
              <a:t>parola</a:t>
            </a:r>
            <a:r>
              <a:rPr b="1" lang="en-US" sz="2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i memori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gni cella è caratterizzata d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indirizz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che è un numero che identifica la cella e ne consente l’acces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val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che è la sequenza di bit memorizzata dalla cel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 memoria fornisce le operazioni d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lettur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consultazione del valore di una cella con un dato indirizz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scrittur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ifica del valore di una cella con un dato indirizz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280" y="341280"/>
            <a:ext cx="90363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ratteristiche dell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06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capa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6208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 numero di bit che possono essere memorizzati, misurati in byte (e multipli del by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velocità di ac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6208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sura la velocità di esecuzione delle operazioni di lettura/scrit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4680" indent="-27468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volatil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6040" indent="-26208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ca la capacità di conservare i valori memorizzati in modo permanente o m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746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3640" y="1752480"/>
            <a:ext cx="82436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computer è una macchina in grado di accettare informazioni provenienti dall’esterno, di effettuare su di esse operazioni aritmetiche e logiche e quindi di fornire risultati in forma comprensibi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 svolgere ciascuna di queste funzioni possiede dei dispositivi idone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568440" y="476280"/>
            <a:ext cx="832464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alcol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77080" y="3573360"/>
            <a:ext cx="223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3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memoria centra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isicamente e’ fatta di componenti elettronici (transistors) miniaturizza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Ogni unità elementare può trovarsi a due diversi livelli di tensione elettrica: ecco il corrispettivo fisico del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b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emorie RAM e memorie RO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986120"/>
            <a:ext cx="7848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e memorie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RA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(random access memory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ossono essere accedute sia in lettura che in scrittu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volatili (i dati memorizzati vengono persi allo spegnimento del calcolator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usate per memorizzare dati e program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ts val="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emorie RAM e memorie RO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409760"/>
            <a:ext cx="7848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ts val="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e memorie 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ROM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read only memory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permettono solo la lettura dei da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sono persistenti (mantengono il suo contenuto anche quando non c’è alimentazione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in questa memoria si trovano i programmi che servono per l’avvio della macchina, i cosiddetti programmi di sistema e il BIOS (Basic Input Output System) sistema di base per il controllo di entrata ed usci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622440"/>
            <a:ext cx="9290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Struttura della RA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13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7840" y="556920"/>
            <a:ext cx="7489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RAM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67760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 celle sono numerate in sequenza: il numero di ogni cella costituisce il suo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indirizz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Specificando l’indirizzo di una cella, la CPU e’ in grado di leggere e/o modificare il valore del byte memorizzato in quella c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andom Access Memory </a:t>
            </a:r>
            <a:r>
              <a:rPr b="1" lang="it-IT" sz="2800" spc="-1" strike="noStrike">
                <a:solidFill>
                  <a:srgbClr val="336699"/>
                </a:solidFill>
                <a:latin typeface="Verdana"/>
              </a:rPr>
              <a:t>(RAM),</a:t>
            </a:r>
            <a:r>
              <a:rPr b="0" lang="it-IT" sz="2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che’ ogni cella e’ indirizzabile direttam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1440" y="566640"/>
            <a:ext cx="67672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mensioni del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685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336699"/>
                </a:solidFill>
                <a:latin typeface="Verdana"/>
              </a:rPr>
              <a:t>Spazio di indirizzamento</a:t>
            </a: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: insieme o numero delle celle indirizzabili direttame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Il numero di celle indirizzabili e’ una potenza di due. Co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16 bit si indirizzano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16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elle  = 65.536 ce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32 bit si indirizzano 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Verdana"/>
              </a:rPr>
              <a:t>32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4.294.967.296 ce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6000" y="41400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819520" y="2209680"/>
            <a:ext cx="38098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01011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7720" y="2863800"/>
            <a:ext cx="38102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001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17720" y="3517920"/>
            <a:ext cx="38116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1010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4826160"/>
            <a:ext cx="380844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479920"/>
            <a:ext cx="38113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000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17920" y="2209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4172040"/>
            <a:ext cx="38113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1111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01720" y="2938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52680" y="3460680"/>
            <a:ext cx="171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01720" y="3592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44480" y="4114800"/>
            <a:ext cx="17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01720" y="4246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2720" y="4768920"/>
            <a:ext cx="16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19440" y="4900680"/>
            <a:ext cx="171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0240" y="549108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.5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478944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566640"/>
            <a:ext cx="80038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nità di misura della memor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6360" y="196488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i usano delle unita’ di misura per indicare la dimensione della memori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kilobyt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KB) = 1024 byte (2</a:t>
            </a:r>
            <a:r>
              <a:rPr b="0" lang="it-IT" sz="2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byt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megabyt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MB) = 1000 KB (2</a:t>
            </a:r>
            <a:r>
              <a:rPr b="0" lang="it-IT" sz="2600" spc="-1" strike="noStrike" baseline="30000">
                <a:solidFill>
                  <a:srgbClr val="000000"/>
                </a:solidFill>
                <a:latin typeface="Verdana"/>
              </a:rPr>
              <a:t>20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gigabyt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GB) = 1 miliardo di by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Quindi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 16 bit si indirizzano 64KB di memor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 32 bit si indirizzano 4GB di memori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8680" y="714240"/>
            <a:ext cx="8256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mensioni tipiche del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Nei Personal computer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28, 256, 512 MByte, 1GBy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una volta era un lusso avere 64 K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Nei Mainframe/Workstations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819000" indent="-2854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1, 2, 3.. GBy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Ricordatevi che la memoria e’ espandibile (fino ad un certo limit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41400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ltre informazioni sulla RAM: 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PAROLA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WOR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parola (word)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di un computer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nti bit possono essere letti/scritti/usa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lla CPU con un unico accesso alla memo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16, 32, 64, 128 bi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iù grande è la </a:t>
            </a:r>
            <a:r>
              <a:rPr b="1" lang="en-US" sz="3400" spc="-1" strike="noStrike">
                <a:solidFill>
                  <a:srgbClr val="336699"/>
                </a:solidFill>
                <a:latin typeface="Verdana"/>
              </a:rPr>
              <a:t>parola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, maggiore è la potenza del compu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914120"/>
            <a:ext cx="84247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udiare l’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rchitettura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 calcolatore signific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dividuare ciascun componente del siste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re i principi generali di funzionamento di ciascun compon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re come le varie componenti interagisco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632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prietà della 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89360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iene i dati e le istruzioni che devono essere elaborati dalla CP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M e’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velo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leggere/scrivere una cella ci vogliono, in media 5--30 nanosecondi (millesimi di milionesimi di secondo = 30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M e’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volati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’ fatta di componenti elettronici, e se togliete l’alimentazione perdete tut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M e’</a:t>
            </a: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Verdana"/>
              </a:rPr>
              <a:t>costos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relativamente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grandezza della ram viene misurata in mega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ggiore è la quantità di RAM, più spazio sarà disponibile per i dati sui quali può operare la CPU per l’elabora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e seconda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424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Memoria secondaria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Memoria di mas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morizza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grandi mas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dat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dati memorizzati sopravvivono all’esecuzione dei programm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non pu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ssere acceduta direttamente dalla CP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 dati di una memoria secondaria per essere elaborati dal processore devono passare nella memoria centra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66280" y="1412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moria principale Vs. Memoria seconda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moria secondari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orizza in modo permanente tutti i programmi e i dati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orizza i programmi in esecuzione e i dati necessari per la loro esecu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emorie seconda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aratteristiche delle memorie secondar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640" y="1557360"/>
            <a:ext cx="921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non volatil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dati memorizzati non si perdono allo spegnimento del calcolatore (perché memorizzati in forma magnetica o ottica anziché elettroni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grande capa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cità maggiore (anche di diversi ordini di grandezza) rispetto alla memoria centr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bassi c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costo per bit di una memoria secondaria è minore (di diversi ordini di grandezza) rispetto alla memoria centr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bassa velocità di ac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mpi di accesso maggiori (di qualche ordine di grandezza) rispetto a quelli della memoria princip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memoria secondar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grammi e dati risiedono normalmente in memoria secondar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ndo si lancia un programma questo viene copiato dalla memoria secondaria in memoria primaria. Questa operazione si chiama 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aricamen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1876320"/>
            <a:ext cx="9541080" cy="51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fatto di supporti magnetici permanenti, gestiti mediante dispositivi meccanic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mpi di accesso dell’ordine dei micro/millisecond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pazio disponibil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80, 20, 160, …, 300 Giga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(una volta era un lusso avere 20 Megaby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" descr="Hard disk"/>
          <p:cNvPicPr/>
          <p:nvPr/>
        </p:nvPicPr>
        <p:blipFill>
          <a:blip r:embed="rId1"/>
          <a:stretch/>
        </p:blipFill>
        <p:spPr>
          <a:xfrm>
            <a:off x="6012000" y="4508640"/>
            <a:ext cx="23050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79280" y="175392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ll’hard disk la memoria e’ organizzata in blocchi di dimensione fissa (512B, 1KB,2KB,..)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indirizzabili dirett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 lettura/scrittura del disco avviene sempre in blocchi, per risparmiare tempo (pensate al tempo perso se si dovesse leggere un byte per volta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l disco e’ quindi </a:t>
            </a:r>
            <a:r>
              <a:rPr b="1" lang="en-US" sz="3200" spc="-1" strike="noStrike">
                <a:solidFill>
                  <a:srgbClr val="336699"/>
                </a:solidFill>
                <a:latin typeface="Verdana"/>
              </a:rPr>
              <a:t>formattat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blocch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7095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843280" y="2565360"/>
          <a:ext cx="302400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565360"/>
                    <a:ext cx="302400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 disco consiste in un certo numero di 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piatti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due superfici che ruotano attorno ad un perno centr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gni superficie dispone di una propria testina di lettura / scrittu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322200" y="4869000"/>
            <a:ext cx="8497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superfici sono organizzate in cerchi concentrici (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trac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e in spicchi di ugual grandezza (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settor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bit corrisponde ad uno stato di polarizzazione (positiva o negativa) del materiale magnetico che costituisce i dis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Dischi magnetici: l’HARD DIS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841680" y="1741320"/>
            <a:ext cx="78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tracce equidistanti dal centro formano un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cilind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600200" y="2441520"/>
          <a:ext cx="6229440" cy="31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41520"/>
                    <a:ext cx="622944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emoria primaria vs memoria secondar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7080" y="1916280"/>
            <a:ext cx="86756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RAM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HARD DIS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veloce (nanosec)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lenta(microse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iccola (Megabyte)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grande (Gigabyt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volatil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         perman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941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ate che, in teoria, il computer potrebbe funzionare con la sola ram o il solo hardd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533520"/>
            <a:ext cx="8001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557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00280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prima decomposizione di un calcolatore è relativa a due macro-componen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rdw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33880" y="2509920"/>
            <a:ext cx="4817880" cy="32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chi magnetici: floppy dis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30440"/>
            <a:ext cx="7848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75840" indent="-37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dischi magnetici di piccola capacità, portatili, usati per trasferire informazioni (file) tra computer diversi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5840" indent="-37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ono costituiti da un unico disco con due superfic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75840" indent="-37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Storicamente ne sono stati creati vari tipi identificati dal loro diametro (3.5, 5.25 e 8 pollici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-348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oggi sopravvivono solo dischetti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26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da 3.5” (1.4 Mbyt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Floppy"/>
          <p:cNvPicPr/>
          <p:nvPr/>
        </p:nvPicPr>
        <p:blipFill>
          <a:blip r:embed="rId1"/>
          <a:stretch/>
        </p:blipFill>
        <p:spPr>
          <a:xfrm>
            <a:off x="7020000" y="4797360"/>
            <a:ext cx="129708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chi magnetici: zi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omigliano ai dischetti floppy ma sono un po' più grandi e la forma è un po’ diversa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istono da 100 e 250 MByte e necessitano di un drive apposito, diverso da quello dei floppy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ono piuttosto costosi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" descr="Disco zip"/>
          <p:cNvPicPr/>
          <p:nvPr/>
        </p:nvPicPr>
        <p:blipFill>
          <a:blip r:embed="rId1"/>
          <a:stretch/>
        </p:blipFill>
        <p:spPr>
          <a:xfrm>
            <a:off x="6877080" y="4437000"/>
            <a:ext cx="1422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379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astri magne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961640"/>
            <a:ext cx="90676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ngono usati dagli amministratori di grandi sistemi di computer per creare periodicamente copie (Backup) del contenuto degli hard disk, in modo da salvare i dati qualora se ne guastasse un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ccesso sequenziale: la lettura/scrittura è molto lenta (può richiedere alcune ore), per questo l'operazione di backup viene lanciata tipicamente durante la notte.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Nastro"/>
          <p:cNvPicPr/>
          <p:nvPr/>
        </p:nvPicPr>
        <p:blipFill>
          <a:blip r:embed="rId1"/>
          <a:stretch/>
        </p:blipFill>
        <p:spPr>
          <a:xfrm>
            <a:off x="6732720" y="4797360"/>
            <a:ext cx="1865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76720" y="3787920"/>
            <a:ext cx="4535280" cy="2305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Nastri magne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no nastri di materiale magnetizzabile raccolti su supporti circolari, o in casset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l nastro sono tracciate piste orizzontali paralle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 solito 9 piste, di cui 8 corrispondono ad un byte e la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è il bit di parit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 dati sul nastro sono organizzati in zone contigue dett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recor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eparate da zone prive di informazione 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interrecord ga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1752120"/>
            <a:ext cx="86407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CD-ROM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Compact Disk): sono esattamente gli stessi CD usati per la mus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sigla ROM (Read Only Memory) indica il fatto che i dati, una volta scritti su CD, sono indelebili e potranno essere soltanto let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capacità tipica è di 650 MByte (che nei CD audio corrisponde a 74 minuti di registrazione), ma esistono anche modelli leggermente più capienti.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CD"/>
          <p:cNvPicPr/>
          <p:nvPr/>
        </p:nvPicPr>
        <p:blipFill>
          <a:blip r:embed="rId1"/>
          <a:stretch/>
        </p:blipFill>
        <p:spPr>
          <a:xfrm>
            <a:off x="6948360" y="4653000"/>
            <a:ext cx="136044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752120"/>
            <a:ext cx="86407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Mini C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sono CD con diametro ridotto (8 cm) e capacità di 180 MByte o 21 minuti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no perfettamente compatibili con i normali lettori CD (eccetto quelli in cui il CD va inserito attraverso una fessura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istono in commercio anche le </a:t>
            </a: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CD Car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, dischetti di forma rettangolare (!) grandi all'incirca come una carta di credito e con capacità che va da 30 a 80 MByt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" descr="Mini CD"/>
          <p:cNvPicPr/>
          <p:nvPr/>
        </p:nvPicPr>
        <p:blipFill>
          <a:blip r:embed="rId1"/>
          <a:stretch/>
        </p:blipFill>
        <p:spPr>
          <a:xfrm>
            <a:off x="6602400" y="4941720"/>
            <a:ext cx="10620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positiv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752120"/>
            <a:ext cx="86407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Verdana"/>
              </a:rPr>
              <a:t>DVD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(Digital Versatile Disk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Esteriormente sono in tutto simili ai CD-ROM, ma possono contenere da 9 a 17 GByte (cioè fino a 25 volte la capacità di un normale CD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Sono usati da alcuni anni soprattutto per i film digitali, tuttavia possono benissimo contenere anche i normali dati come i CD-RO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er leggere i DVD occorre un lettore CD appropriato (i normali drive per CD non sono in grado di farlo). Il lettore DVD è invece semp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 grado di leggere anche i normali CD-RO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812000" y="501336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Dischi 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280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95920" indent="-2959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La superficie di un disco presenta una successione di tratti disposti secondo un’unica traccia a spir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746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pit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tratto di superficie avvall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2746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Verdana"/>
              </a:rPr>
              <a:t>land</a:t>
            </a: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: tratto di superficie lisc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95920" indent="-295920" algn="just">
              <a:lnSpc>
                <a:spcPct val="90000"/>
              </a:lnSpc>
              <a:spcBef>
                <a:spcPts val="1137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l passaggio da pit a lan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5920" indent="0" algn="just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e viceversa) rappresent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5920" indent="0" algn="just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1 mentre l’assenza di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5920" indent="0" algn="just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variazione rappresenta 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219640" y="3714840"/>
          <a:ext cx="3672000" cy="245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3714840"/>
                    <a:ext cx="36720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5940360" y="2852640"/>
            <a:ext cx="144360" cy="574920"/>
          </a:xfrm>
          <a:custGeom>
            <a:avLst/>
            <a:gdLst>
              <a:gd name="textAreaLeft" fmla="*/ 0 w 144360"/>
              <a:gd name="textAreaRight" fmla="*/ 52200 w 144360"/>
              <a:gd name="textAreaTop" fmla="*/ 14760 h 574920"/>
              <a:gd name="textAreaBottom" fmla="*/ 5601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284796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iflettono raggi lumino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n modo dive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Dispositivi magneto-ottic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964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00"/>
                </a:solidFill>
                <a:latin typeface="Verdana"/>
              </a:rPr>
              <a:t>MOD (Magneto Optical Disk)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 sono dischi a supporto magnetico, su cui però la scrittura dei dati può avvenire solo dopo un forte riscaldamento della superficie con un fascio laser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A temperatura ambiente i dischi magneto-ottici non sono sensibili ai campi magnetici e questo li mette al riparo dalle cancellazioni accidentali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Esistono in numerosi modelli, con capacità che arriva fino ad alcuni GByte, e richiedono la presenza di un apposito driv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Costo eccessivo (soprattutto del driv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Rimangono in uso solo in alcuni sistemi dove è richiesto il frequente salvataggio di una grande quantità di dat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in condizioni di sicurezza (per es. nelle banch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" descr="Disco magneto-ottico"/>
          <p:cNvPicPr/>
          <p:nvPr/>
        </p:nvPicPr>
        <p:blipFill>
          <a:blip r:embed="rId1"/>
          <a:stretch/>
        </p:blipFill>
        <p:spPr>
          <a:xfrm>
            <a:off x="7524720" y="5226120"/>
            <a:ext cx="12589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698120"/>
            <a:ext cx="8134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’architettura dell’</a:t>
            </a: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 di un calcolatore reale è molto comples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it-IT" sz="3000" spc="-1" strike="noStrike">
                <a:solidFill>
                  <a:srgbClr val="336699"/>
                </a:solidFill>
                <a:latin typeface="Verdana"/>
              </a:rPr>
              <a:t>macchina di Von Neumann</a:t>
            </a:r>
            <a:r>
              <a:rPr b="1" lang="it-IT" sz="3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è un modello semplificato dei calcolatori modern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Von Neumann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progettò, verso il 1945, il primo calcolatore con programmi memorizzabili anziché codificati mediante cavi e interruttor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71640" y="1628640"/>
            <a:ext cx="9396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’ composta da 4 tipologie di componenti funzionali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unità centrale di elaborazion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600" spc="-1" strike="noStrike">
                <a:solidFill>
                  <a:srgbClr val="336699"/>
                </a:solidFill>
                <a:latin typeface="Verdana"/>
              </a:rPr>
              <a:t>CP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segue istruzioni per l’elaborazione dei dat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volge anche funzioni di controllo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moria centra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morizza e fornisce l’accesso a dati e programm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terfacce di ingresso e usci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onenti di collegamento con le periferiche del calcolato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-258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648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volge la funzionalità di trasferimento di dati e di informazioni di controllo tra le varie componenti funziona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1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41256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560" y="1989000"/>
            <a:ext cx="9001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l funzionamento di un calcolatore è descrivibile in termini di poche componenti (macro-unità) funziona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gni macro-unità è specializzata nello svolgimento di una tipologia omogenea di funzionalità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ccezi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l’unità centrale di elaborazione, che svolge sia funzionalità di elaborazione che di control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Macchina di Von Neuman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848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.</cp:lastModifiedBy>
  <dcterms:modified xsi:type="dcterms:W3CDTF">2005-10-13T15:45:51Z</dcterms:modified>
  <cp:revision>84</cp:revision>
  <dc:subject/>
  <dc:title>Diapositiva 1</dc:title>
</cp:coreProperties>
</file>