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63C7-7EC7-407C-8A5A-352A4AFC8B4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B94-96AA-400A-8647-7C39333D745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olto “Vado_a_Parigi”. Crea l’equivoco che si parli di Sto_bene AND Ho_i_soldi -&gt; Vado_a_pari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E8A9-A951-4B30-AC89-246EC9ED8EA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 sop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D042-E28A-4F55-B811-7EFA6A775C8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A035-ED24-4B1F-9582-FD12D001F75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0723-F343-43EB-913E-61F56E3F2A2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56F-0C5F-4646-A895-417EA779F3D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843E-4062-4009-A9EE-E5B774363E0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BD4-B0C6-4569-8215-AFC495F3C3C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ABCA-D865-49DB-A85F-5CF694CC75D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F44C-59E5-459E-9586-8F0EDBD760F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F9B4-7514-4558-96FF-9E6D4056CF4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E132-D164-49BA-9291-3A65958DCAD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rretta tabella di verità, altrimenti err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20DF-7DBE-49CE-9E24-7A7E7B3314C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0AD2-A30E-42AF-AD3B-7A027C66C49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B945-FC5A-47D4-840E-6839A73771C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5FCC-1EA9-41BB-845A-C7664C0B824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2166-D7DD-4D75-ABFA-E161A653A91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937-F1FB-4CE1-AA75-9D406DA9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3ED-E07D-4AA2-888A-BAB64C2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916-C202-4DF5-94E6-91DD95B5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7B1-B86B-411B-A92D-E8756B46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5609-B5F5-47C1-94C3-83AA1349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399A-1051-41A4-B3B7-FB9B0465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3717-F649-4D27-BC03-6805D8CD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28A8-87B8-41DB-AF77-77E108FF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BDB2-1C99-44E7-8A70-506121BC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11CE-6F7C-40BB-B069-83C67E5E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F0B1-3AD5-48C7-9174-533EBDC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6CE-17E8-4FAA-8287-689848E2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E407-D507-4573-96A0-0D4CE669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9D80-C8BF-45A0-8B37-3DFB672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03B2-F34C-4771-A7CB-825148EF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336E-F061-489D-B9D5-AECC315A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A734-D716-4FFF-AC1C-FF1D34A3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F1F3-3B20-4937-BD03-D08A8799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81C8-6289-451D-A0B7-3D8B68B7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BFE9F-8E19-4EB5-9DA0-E9F329CC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7E39-871A-42DB-91A5-ED818366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971B-414A-4BD4-AE76-D901FB59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D4D-F7C7-481E-9FEB-955529F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5572-3ED2-4772-A334-2641C7B9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8A3C-4ED7-40C8-82D6-350387E3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6F7BD-7EB5-4063-ADD0-1ABE091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519C-C36B-45D2-B775-04F6B2C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D7A2-4DBB-4777-92F5-05EEBD1A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94A5D-8D4A-42C2-AA6D-1C5F7464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59FCD-031A-4C73-B263-709F2568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593-2E3B-476F-98F6-54ECDF1A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CB4-3D07-464B-8262-9FA69954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B98-61D3-4019-852F-DFC8C2A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0CA-A15E-4D24-B1E3-BB0F04F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C8A-DB86-42E8-B375-F0BC2A8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58A-06F9-4261-8B48-811E2FD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9D74-1B3B-4B2E-B9C5-6F94991032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EFC8-E8C1-4743-8295-71F6627DE0F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D99F-9DB1-42B6-9EEE-EBB8F144F3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560" y="1699920"/>
            <a:ext cx="8929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79280" y="5229360"/>
            <a:ext cx="320760" cy="357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Operatori booleani bina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9680" y="2357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iun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disgiunzione inclus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XOR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giunzione esclus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congiunzione “AND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e due proposizioni P e Q l’operatore “AND” permette di costruire una nuova proposizione “P AND Q” che sarà VERA solo se P e Q sono entrambe ve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62320" y="4038480"/>
          <a:ext cx="3809880" cy="1981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AND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congiunzione “AND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70028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isponde alla congiunzione italian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empio: per andare a Parigi, debbo stare be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bbo avere i soldi per viaggio, vitto ed allogg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3213000"/>
          <a:ext cx="7105680" cy="3260880"/>
        </p:xfrm>
        <a:graphic>
          <a:graphicData uri="http://schemas.openxmlformats.org/drawingml/2006/table">
            <a:tbl>
              <a:tblPr/>
              <a:tblGrid>
                <a:gridCol w="1960560"/>
                <a:gridCol w="2205000"/>
                <a:gridCol w="244440"/>
                <a:gridCol w="2695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_b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_i_sold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_bene AND Ho_i_sol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a disgiunzione inclusiva “OR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e due proposizioni P e Q l’operatore “OR” permette di costruire una nuova proposizione “P OR Q” che sarà FALSA solo se P e Q sono entrambe fal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62320" y="4038480"/>
          <a:ext cx="3809880" cy="1981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OR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a disgiunzione inclusiva “OR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70028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isponde alla disgiunzio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empio: per essere promosso, debbo essere preparato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bbo essere raccomand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3068640"/>
          <a:ext cx="8659800" cy="3681360"/>
        </p:xfrm>
        <a:graphic>
          <a:graphicData uri="http://schemas.openxmlformats.org/drawingml/2006/table">
            <a:tbl>
              <a:tblPr/>
              <a:tblGrid>
                <a:gridCol w="2754000"/>
                <a:gridCol w="2936880"/>
                <a:gridCol w="231840"/>
                <a:gridCol w="2737080"/>
              </a:tblGrid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re_prepar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re_raccomandato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re_promo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essere_raccomand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La disgiunzione esclusiva “XOR”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e due proposizioni P e Q l’operatore “XOR” permette di costruire una nuova proposizione “P XOR Q” che sarà VERA quando P e Q hanno valori divers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362320" y="4038480"/>
          <a:ext cx="3809880" cy="1981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XOR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posizioni compost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Si valutano attribuendo valori di verità alle proposizioni semplici e applicando i connettivi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L‘ordine di applicazione dei connettivi rispecchia, a meno di parentesi  “(“  e  “)”  la seguente gerarchia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&lt;  =  &gt;  </a:t>
            </a:r>
            <a:r>
              <a:rPr b="1" lang="it-IT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Es.: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per A vero e B falso      not B or (B and not A) =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ordine di applicazione             3    4        2      1     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risultati delle applicazioni        V    V        F      F     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posizioni compos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384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diamo meglio il metodo che è lo stesso che per le espressioni aritmetich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+ (y – z) /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ordine di applicazione)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    1   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con x = 5, y = 20, z =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73160" y="4363920"/>
          <a:ext cx="5884920" cy="242280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228600"/>
                <a:gridCol w="914400"/>
              </a:tblGrid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7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posizioni compos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diamo meglio l’esempio precedente: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=V, B=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posizione          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not B or (B and not A)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 ordine di applicazione       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   4         2     1      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43000" y="3286080"/>
          <a:ext cx="7238880" cy="323064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  <a:gridCol w="228600"/>
                <a:gridCol w="914400"/>
              </a:tblGrid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2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7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9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 calcolare i valori di verità di u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sizione non elementare co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P AND Q) OR (NOT P AND NOT 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Calcolo proposiziona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2971800"/>
          <a:ext cx="7470720" cy="2692440"/>
        </p:xfrm>
        <a:graphic>
          <a:graphicData uri="http://schemas.openxmlformats.org/drawingml/2006/table">
            <a:tbl>
              <a:tblPr/>
              <a:tblGrid>
                <a:gridCol w="642600"/>
                <a:gridCol w="1117800"/>
                <a:gridCol w="649080"/>
                <a:gridCol w="729720"/>
                <a:gridCol w="1490760"/>
                <a:gridCol w="1029240"/>
                <a:gridCol w="15969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2971800"/>
          <a:ext cx="7191360" cy="2692440"/>
        </p:xfrm>
        <a:graphic>
          <a:graphicData uri="http://schemas.openxmlformats.org/drawingml/2006/table">
            <a:tbl>
              <a:tblPr/>
              <a:tblGrid>
                <a:gridCol w="618480"/>
                <a:gridCol w="948600"/>
                <a:gridCol w="658440"/>
                <a:gridCol w="741960"/>
                <a:gridCol w="1484640"/>
                <a:gridCol w="987840"/>
                <a:gridCol w="153684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90720" y="2971800"/>
          <a:ext cx="7122960" cy="2692440"/>
        </p:xfrm>
        <a:graphic>
          <a:graphicData uri="http://schemas.openxmlformats.org/drawingml/2006/table">
            <a:tbl>
              <a:tblPr/>
              <a:tblGrid>
                <a:gridCol w="612360"/>
                <a:gridCol w="938880"/>
                <a:gridCol w="651960"/>
                <a:gridCol w="734040"/>
                <a:gridCol w="1470240"/>
                <a:gridCol w="978480"/>
                <a:gridCol w="152244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90720" y="2971800"/>
          <a:ext cx="7261200" cy="2692440"/>
        </p:xfrm>
        <a:graphic>
          <a:graphicData uri="http://schemas.openxmlformats.org/drawingml/2006/table">
            <a:tbl>
              <a:tblPr/>
              <a:tblGrid>
                <a:gridCol w="624960"/>
                <a:gridCol w="956520"/>
                <a:gridCol w="666000"/>
                <a:gridCol w="750240"/>
                <a:gridCol w="1498680"/>
                <a:gridCol w="997560"/>
                <a:gridCol w="155268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971800"/>
          <a:ext cx="7402320" cy="2692440"/>
        </p:xfrm>
        <a:graphic>
          <a:graphicData uri="http://schemas.openxmlformats.org/drawingml/2006/table">
            <a:tbl>
              <a:tblPr/>
              <a:tblGrid>
                <a:gridCol w="637200"/>
                <a:gridCol w="975240"/>
                <a:gridCol w="680400"/>
                <a:gridCol w="762840"/>
                <a:gridCol w="1528920"/>
                <a:gridCol w="1018080"/>
                <a:gridCol w="15843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calcolano poi i valori del primo AND  e si cancellano le colonne dei valori us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90720" y="2971800"/>
          <a:ext cx="6981840" cy="2692440"/>
        </p:xfrm>
        <a:graphic>
          <a:graphicData uri="http://schemas.openxmlformats.org/drawingml/2006/table">
            <a:tbl>
              <a:tblPr/>
              <a:tblGrid>
                <a:gridCol w="599760"/>
                <a:gridCol w="919800"/>
                <a:gridCol w="639000"/>
                <a:gridCol w="720000"/>
                <a:gridCol w="1438560"/>
                <a:gridCol w="959400"/>
                <a:gridCol w="14907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63"/>
          <p:cNvSpPr/>
          <p:nvPr/>
        </p:nvSpPr>
        <p:spPr>
          <a:xfrm>
            <a:off x="2743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opera allo stesso modo con il secondo A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971800"/>
          <a:ext cx="6657840" cy="3038400"/>
        </p:xfrm>
        <a:graphic>
          <a:graphicData uri="http://schemas.openxmlformats.org/drawingml/2006/table">
            <a:tbl>
              <a:tblPr/>
              <a:tblGrid>
                <a:gridCol w="570960"/>
                <a:gridCol w="875520"/>
                <a:gridCol w="609120"/>
                <a:gridCol w="685080"/>
                <a:gridCol w="1370160"/>
                <a:gridCol w="913320"/>
                <a:gridCol w="1419120"/>
                <a:gridCol w="2160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8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3"/>
          <p:cNvSpPr/>
          <p:nvPr/>
        </p:nvSpPr>
        <p:spPr>
          <a:xfrm>
            <a:off x="2743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64"/>
          <p:cNvSpPr/>
          <p:nvPr/>
        </p:nvSpPr>
        <p:spPr>
          <a:xfrm>
            <a:off x="4427640" y="371628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65"/>
          <p:cNvSpPr/>
          <p:nvPr/>
        </p:nvSpPr>
        <p:spPr>
          <a:xfrm>
            <a:off x="6705720" y="3505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calcola infine OR utilizzando come valori di ingresso le due colonne rimaste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0720" y="2971800"/>
          <a:ext cx="7051680" cy="2692440"/>
        </p:xfrm>
        <a:graphic>
          <a:graphicData uri="http://schemas.openxmlformats.org/drawingml/2006/table">
            <a:tbl>
              <a:tblPr/>
              <a:tblGrid>
                <a:gridCol w="605880"/>
                <a:gridCol w="929520"/>
                <a:gridCol w="645480"/>
                <a:gridCol w="726480"/>
                <a:gridCol w="1454040"/>
                <a:gridCol w="969120"/>
                <a:gridCol w="150660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63"/>
          <p:cNvSpPr/>
          <p:nvPr/>
        </p:nvSpPr>
        <p:spPr>
          <a:xfrm>
            <a:off x="2843280" y="3500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4"/>
          <p:cNvSpPr/>
          <p:nvPr/>
        </p:nvSpPr>
        <p:spPr>
          <a:xfrm>
            <a:off x="4643280" y="357336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65"/>
          <p:cNvSpPr/>
          <p:nvPr/>
        </p:nvSpPr>
        <p:spPr>
          <a:xfrm>
            <a:off x="6705720" y="3505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4000" y="169992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tto OR, che è il “connettivo principale” troviamo la tavola di verità della proposizio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2971800"/>
          <a:ext cx="6981840" cy="2692440"/>
        </p:xfrm>
        <a:graphic>
          <a:graphicData uri="http://schemas.openxmlformats.org/drawingml/2006/table">
            <a:tbl>
              <a:tblPr/>
              <a:tblGrid>
                <a:gridCol w="599760"/>
                <a:gridCol w="919800"/>
                <a:gridCol w="639000"/>
                <a:gridCol w="720000"/>
                <a:gridCol w="1438560"/>
                <a:gridCol w="959400"/>
                <a:gridCol w="14907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2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63"/>
          <p:cNvSpPr/>
          <p:nvPr/>
        </p:nvSpPr>
        <p:spPr>
          <a:xfrm>
            <a:off x="2743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64"/>
          <p:cNvSpPr/>
          <p:nvPr/>
        </p:nvSpPr>
        <p:spPr>
          <a:xfrm>
            <a:off x="4572000" y="357336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65"/>
          <p:cNvSpPr/>
          <p:nvPr/>
        </p:nvSpPr>
        <p:spPr>
          <a:xfrm>
            <a:off x="7020000" y="3500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eorema o tautolo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posizione composta che è vera per qualsiasi combinazione di valori di verità attribuita alle sue proposizioni semplic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s. 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La prima legge di De Morga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not (A and B) = not A or not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                1               6       3          5       4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rdine di esecu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28840" y="4143240"/>
          <a:ext cx="6095880" cy="2422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ero e falso: logica binar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proposizion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è una affermazione (formula ben formata di un linguaggio), che può essere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ver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oppure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fal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Es. “Mia madre mi vuole bene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Non esiste una terza possibil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traddi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posizione composta che è falsa per qualsiasi combinazione di valori di verità attribuita alle sue proposizioni semplic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. (A &lt; B) = (A 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1          3         2                 ordine di esecu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3352680"/>
          <a:ext cx="4267440" cy="24228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48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Connettivi tri-, .. , n- argomenta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BASTA, non se ne può più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 come descrivere situazion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iù compless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cui non sia intuitivo l’uso dei connettivi studiat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no sufficienti  opportune combinazioni di 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per esprimere un qualsiasi connettiv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057400" y="3581280"/>
          <a:ext cx="4876920" cy="24228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tilizzano solo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descrivere risultati  dipendenti da valori di verità di proposizioni sempl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i si riferisce al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ola di verità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cui appaiono tutte le possibili assegnazioni di verità delle proposizioni sempl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considerano le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mbina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le quali si ottiene valore di verità 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 ogni tale combinazione le proposizioni con valore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verità F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fanno precedere d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proposizioni così modificate vengono fra loro connesse con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si creano congiunzion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i congiunzioni vengono fra loro connesse con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, formando una forma disgiuntiva nor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.   A=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isultato: (A and B) or (not A and not 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447920" y="1981080"/>
          <a:ext cx="4902120" cy="2457720"/>
        </p:xfrm>
        <a:graphic>
          <a:graphicData uri="http://schemas.openxmlformats.org/drawingml/2006/table">
            <a:tbl>
              <a:tblPr/>
              <a:tblGrid>
                <a:gridCol w="608400"/>
                <a:gridCol w="608400"/>
                <a:gridCol w="188640"/>
                <a:gridCol w="760680"/>
                <a:gridCol w="456480"/>
                <a:gridCol w="227952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 gridSpan="2" rowSpan="2"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and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rowSpan="2"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72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A and not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ercizi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condizione di presa nel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ioc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ll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riscol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er il giocatore che tira per primo 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izioni che definiscono la condizion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semi sono uguali 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secondo giocatore ha tirato una briscola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valore della carta del I giocatore è maggiore del  valore della carta del II giocatore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560" y="8377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dizione di presa nella briscola per il primo giocatore (elenchiamo le varie combinazion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G1 = (SU and B2  and M1) or (SU and not B2 and M1) or (not SU and not B2 and M1) or (not SU and not B2 and not M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071800" y="1857240"/>
          <a:ext cx="5333760" cy="3124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533160"/>
                <a:gridCol w="1143000"/>
              </a:tblGrid>
              <a:tr h="376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posizion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oposi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empli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  complesso linguistico o segnico per il quale ha senso attribuire un valore di ver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Valore di ver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(principio di bivalenz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uò esser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vero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true   T       1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also  F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alse  F      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empio1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_luna_è_verde_a_pallini_bl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empio2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netti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214280"/>
            <a:ext cx="8467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proposizioni si possono connettere fra loro a forma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posizioni com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valore di verità della proposizione composta dipende dal tipo d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onnettiv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 dal valore di verità delle proposizioni compon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nnettivi si distinguono dal numero di proposizioni (1, 2, … n) che possono connetter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ono-, bi-,  … n- argomental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’effet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i connettivi si specific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ncand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utti i possibili casi di combinazioni di valori vero e falso delle proposizioni compon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negazione “NOT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2060640"/>
            <a:ext cx="39229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P è una proposizione, si danno due casi possibil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 = V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 = FAL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5080" y="2060280"/>
            <a:ext cx="392256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conseguenza, per la negazione di P si avranno pure 2 casi corrispondent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P = FAL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P = V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09480" y="5257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OT” È UN OPERATORE BOOLEANO UNARIO (l’unico connettivo mono-argomenta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033720" y="44290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3071880" y="4929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16292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Esempi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914400" y="1522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8580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connettivo NOT nega il valore delle proposi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3429000"/>
          <a:ext cx="6121440" cy="1951200"/>
        </p:xfrm>
        <a:graphic>
          <a:graphicData uri="http://schemas.openxmlformats.org/drawingml/2006/table">
            <a:tbl>
              <a:tblPr/>
              <a:tblGrid>
                <a:gridCol w="2649240"/>
                <a:gridCol w="216000"/>
                <a:gridCol w="32562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o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   </a:t>
                      </a: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o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nettivi bi-argoment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0040" y="4500720"/>
            <a:ext cx="784224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cuni  sono banali: rimandano tutti V, tutti F, stessi valori di A o B, valori negati di A e 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ri sono parte fondamentale del nostro linguagg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920" y="1828800"/>
          <a:ext cx="8483400" cy="2470320"/>
        </p:xfrm>
        <a:graphic>
          <a:graphicData uri="http://schemas.openxmlformats.org/drawingml/2006/table">
            <a:tbl>
              <a:tblPr/>
              <a:tblGrid>
                <a:gridCol w="448920"/>
                <a:gridCol w="448920"/>
                <a:gridCol w="216000"/>
                <a:gridCol w="366480"/>
                <a:gridCol w="533160"/>
                <a:gridCol w="532800"/>
                <a:gridCol w="609480"/>
                <a:gridCol w="456840"/>
                <a:gridCol w="380520"/>
                <a:gridCol w="380520"/>
                <a:gridCol w="304920"/>
                <a:gridCol w="304920"/>
                <a:gridCol w="532800"/>
                <a:gridCol w="533160"/>
                <a:gridCol w="685440"/>
                <a:gridCol w="533160"/>
                <a:gridCol w="374040"/>
                <a:gridCol w="38700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nettivi bi-argomentali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&lt;  =  &gt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7524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usano anche con valori numeric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ricordi la corrispondenza di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“ e di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rrisponde a “se e solo se”   (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)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sarò_promosso “se e solo se” imparerò_la_ma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mplica”   (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essere_multiplo_di_10 “implica” essere_multiplo_di_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rrisponde all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lternativa: o … o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i_mangi_questa_minestra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i_butti_dalla_finest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2-14T11:11:43Z</dcterms:modified>
  <cp:revision>104</cp:revision>
  <dc:subject/>
  <dc:title>Diapositiva 1</dc:title>
</cp:coreProperties>
</file>