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120" rIns="9612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236E-5707-4512-BAB6-8239B84E87B9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CB49-2597-4BD2-B633-9281A7B34F6E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olto “Vado_a_Parigi”. Crea l’equivoco che si parli di Sto_bene AND Ho_i_soldi -&gt; Vado_a_parig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9CAA-108A-4372-8F82-2A51E019F2E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 sop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1C04-F679-4D28-B00A-DB76F516153F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E973-D561-42FE-BD69-F24B33FB8104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32AA-9C1E-497C-8A59-08CA5C85092C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A9B6-B347-4F51-965E-5FDB7293440D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710A-54AD-4B44-812D-982E52633FE8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DCE0-9C15-46E4-9C9A-7D69001C240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2770-4621-4F92-A082-78F5424160BE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E6BA-C53F-4549-A726-A608F78AF8DA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8A7B-374F-4A3D-9B07-9726F45AF88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4528-2A7A-4A49-91CB-50F512875803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rretta tabella di verità, altrimenti err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2C4E-62DF-407D-8EA1-AB888FD037DB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0FCC-ADA6-4EC0-A65C-9980F2BC9B65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0996-1AC3-494D-964B-72879B55D2D0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C7BC7-8026-46EF-9561-F073A11BBFAE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F0B6-36B6-42CC-B994-C12B9F183176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47520" y="4861080"/>
            <a:ext cx="520380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00F1-344E-4BFD-A7FB-F103D3BE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77C8-5F48-48E6-A4DF-35F612B2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5C7-649F-4617-B24D-67A30A79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4E6-DD01-4EC0-AB39-F2FC895D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9164-8013-4206-9EBC-04154D73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7279-C80A-4E95-A411-4D6D9E2B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1F5E-36D3-475A-9CA6-689A2108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686D-30FE-4A4D-8107-9C980B52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091F-3A0F-4EB4-996F-45CA23AC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D4B1-8816-4418-B6DA-B0513647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B256-466D-41A9-843F-F7A6CF3F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BA0-C431-4D99-92B1-A25698EF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8EED-EC61-46B8-A26A-29212746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F51D-267D-4593-A800-CDFF7DAE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0DCC-BD6F-4D0F-987D-37163587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ED02-49BB-45C8-BBF8-937E2B5C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CF3A-D72A-4465-B040-037699AB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41DF5-28ED-434C-8B91-F1045C49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BB8FD-462C-4032-A7B2-6C6C38AB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AFD4D-9A49-44B5-B1B7-1874EDF7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FC04B-E627-4B83-8685-66C57E23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E5A61-C9CC-43D7-AA0E-C409D0C7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2D5-10C4-4FD4-BC60-E5B873CE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523EE-574F-4959-863E-71ADE512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746BC-F54E-48DA-915F-0E630AB8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599D1-65D7-4BC8-8E9B-0C2A6BA9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CCD17-AD07-46B6-81BE-4C92D26F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A2169-F83C-4823-96C8-4C43BAF5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CC97A-2508-4850-9F97-5B172B15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46886-E1D8-4172-A23B-92A3D173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2C27-9369-4481-9F7C-FD4E6F2B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DC9-FD46-4CB9-82B2-81C4B758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8090-F4C3-4FD9-B75D-11210EF4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D68-58C8-4597-9DD0-82ED72D7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0BB-1CFF-4F1B-9A46-74BB87A7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46C-D6BF-4CF0-9664-2F453EA5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6434-6177-46EB-ABD1-6C567CC1F0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98B6-5907-42E6-AD20-7CDE5F89A3E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A766-D027-41D4-B715-63083859F8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4560" y="1699920"/>
            <a:ext cx="8929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79280" y="5229360"/>
            <a:ext cx="320760" cy="357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Operatori booleani binar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99680" y="23572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giun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O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disgiunzione inclus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XOR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giunzione esclus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congiunzione “AND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808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e due proposizioni P e Q l’operatore “AND” permette di costruire una nuova proposizione “P AND Q” che sarà VERA solo se P e Q sono entrambe ve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362320" y="4038480"/>
          <a:ext cx="3809880" cy="1981440"/>
        </p:xfrm>
        <a:graphic>
          <a:graphicData uri="http://schemas.openxmlformats.org/drawingml/2006/table">
            <a:tbl>
              <a:tblPr/>
              <a:tblGrid>
                <a:gridCol w="1066680"/>
                <a:gridCol w="114300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AND 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congiunzione “AND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70028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isponde alla congiunzione italian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empio: per andare a Parigi, debbo stare be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bbo avere i soldi per viaggio, vitto ed allogg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16000" y="3213000"/>
          <a:ext cx="7105680" cy="3260880"/>
        </p:xfrm>
        <a:graphic>
          <a:graphicData uri="http://schemas.openxmlformats.org/drawingml/2006/table">
            <a:tbl>
              <a:tblPr/>
              <a:tblGrid>
                <a:gridCol w="1960560"/>
                <a:gridCol w="2205000"/>
                <a:gridCol w="244440"/>
                <a:gridCol w="26956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_be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_i_sold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_bene AND Ho_i_sol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a disgiunzione inclusiva “OR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e due proposizioni P e Q l’operatore “OR” permette di costruire una nuova proposizione “P OR Q” che sarà FALSA solo se P e Q sono entrambe fals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362320" y="4038480"/>
          <a:ext cx="3809880" cy="1981440"/>
        </p:xfrm>
        <a:graphic>
          <a:graphicData uri="http://schemas.openxmlformats.org/drawingml/2006/table">
            <a:tbl>
              <a:tblPr/>
              <a:tblGrid>
                <a:gridCol w="1066680"/>
                <a:gridCol w="114300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OR 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a disgiunzione inclusiva “OR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70028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isponde alla disgiunzion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+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empio: per essere promosso, debbo essere preparato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bbo essere raccomand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24000" y="3068640"/>
          <a:ext cx="8659800" cy="3681360"/>
        </p:xfrm>
        <a:graphic>
          <a:graphicData uri="http://schemas.openxmlformats.org/drawingml/2006/table">
            <a:tbl>
              <a:tblPr/>
              <a:tblGrid>
                <a:gridCol w="2754000"/>
                <a:gridCol w="2936880"/>
                <a:gridCol w="231840"/>
                <a:gridCol w="2737080"/>
              </a:tblGrid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ere_prepara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ere_raccomandato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sere_promos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 essere_raccomand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La disgiunzione esclusiva “XOR”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e due proposizioni P e Q l’operatore “XOR” permette di costruire una nuova proposizione “P XOR Q” che sarà VERA quando P e Q hanno valori divers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362320" y="4038480"/>
          <a:ext cx="3809880" cy="1981440"/>
        </p:xfrm>
        <a:graphic>
          <a:graphicData uri="http://schemas.openxmlformats.org/drawingml/2006/table">
            <a:tbl>
              <a:tblPr/>
              <a:tblGrid>
                <a:gridCol w="1066680"/>
                <a:gridCol w="114300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XOR 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posizioni compost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Si valutano attribuendo valori di verità alle proposizioni semplici e applicando i connettivi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L‘ordine di applicazione dei connettivi rispecchia, a meno di parentesi  “(“  e  “)”  la seguente gerarchia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Verdana"/>
              </a:rPr>
              <a:t>no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Verdana"/>
              </a:rPr>
              <a:t>&lt;  =  &gt;  </a:t>
            </a:r>
            <a:r>
              <a:rPr b="1" lang="it-IT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it-IT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3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it-IT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3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Es.: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per A vero e B falso      not B or (B and not A) =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ordine di applicazione             3    4        2      1     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risultati delle applicazioni        V    V        F      F     </a:t>
            </a:r>
            <a:r>
              <a:rPr b="1" lang="it-IT" sz="2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posizioni compos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1384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diamo meglio il metodo che è lo stesso che per le espressioni aritmetich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 + (y – z) / 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 ordine di applicazione)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    1   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 con x = 5, y = 20, z = 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73160" y="4363920"/>
          <a:ext cx="5884920" cy="242280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228600"/>
                <a:gridCol w="914400"/>
              </a:tblGrid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 gridSpan="7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posizioni compos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diamo meglio l’esempio precedente: 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A=V, B=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proposizione              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not B or (B and not A) =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 ordine di applicazione         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3   4         2     1      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143000" y="3286080"/>
          <a:ext cx="7238880" cy="323064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  <a:gridCol w="228600"/>
                <a:gridCol w="914400"/>
              </a:tblGrid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 gridSpan="2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 gridSpan="7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 gridSpan="9"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 calcolare i valori di verità di u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posizione non elementare co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P AND Q) OR (NOT P AND NOT Q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Verdana"/>
              </a:rPr>
              <a:t>Calcolo proposiziona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assegnano i valori di ingresso alle varie occorrenze di P e di Q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2971800"/>
          <a:ext cx="7470720" cy="2692440"/>
        </p:xfrm>
        <a:graphic>
          <a:graphicData uri="http://schemas.openxmlformats.org/drawingml/2006/table">
            <a:tbl>
              <a:tblPr/>
              <a:tblGrid>
                <a:gridCol w="642600"/>
                <a:gridCol w="1117800"/>
                <a:gridCol w="649080"/>
                <a:gridCol w="729720"/>
                <a:gridCol w="1490760"/>
                <a:gridCol w="1029240"/>
                <a:gridCol w="159696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assegnano i valori di ingresso alle varie occorrenze di P e di Q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2971800"/>
          <a:ext cx="7191360" cy="2692440"/>
        </p:xfrm>
        <a:graphic>
          <a:graphicData uri="http://schemas.openxmlformats.org/drawingml/2006/table">
            <a:tbl>
              <a:tblPr/>
              <a:tblGrid>
                <a:gridCol w="618480"/>
                <a:gridCol w="948600"/>
                <a:gridCol w="658440"/>
                <a:gridCol w="741960"/>
                <a:gridCol w="1484640"/>
                <a:gridCol w="987840"/>
                <a:gridCol w="153684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assegnano i valori di ingresso alle varie occorrenze di P e di Q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90720" y="2971800"/>
          <a:ext cx="7122960" cy="2692440"/>
        </p:xfrm>
        <a:graphic>
          <a:graphicData uri="http://schemas.openxmlformats.org/drawingml/2006/table">
            <a:tbl>
              <a:tblPr/>
              <a:tblGrid>
                <a:gridCol w="612360"/>
                <a:gridCol w="938880"/>
                <a:gridCol w="651960"/>
                <a:gridCol w="734040"/>
                <a:gridCol w="1470240"/>
                <a:gridCol w="978480"/>
                <a:gridCol w="152244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assegnano i valori di ingresso alle varie occorrenze di P e di Q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990720" y="2971800"/>
          <a:ext cx="7261200" cy="2692440"/>
        </p:xfrm>
        <a:graphic>
          <a:graphicData uri="http://schemas.openxmlformats.org/drawingml/2006/table">
            <a:tbl>
              <a:tblPr/>
              <a:tblGrid>
                <a:gridCol w="624960"/>
                <a:gridCol w="956520"/>
                <a:gridCol w="666000"/>
                <a:gridCol w="750240"/>
                <a:gridCol w="1498680"/>
                <a:gridCol w="997560"/>
                <a:gridCol w="155268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assegnano i valori di ingresso alle varie occorrenze di P e di Q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2971800"/>
          <a:ext cx="7402320" cy="2692440"/>
        </p:xfrm>
        <a:graphic>
          <a:graphicData uri="http://schemas.openxmlformats.org/drawingml/2006/table">
            <a:tbl>
              <a:tblPr/>
              <a:tblGrid>
                <a:gridCol w="637200"/>
                <a:gridCol w="975240"/>
                <a:gridCol w="680400"/>
                <a:gridCol w="762840"/>
                <a:gridCol w="1528920"/>
                <a:gridCol w="1018080"/>
                <a:gridCol w="158436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calcolano poi i valori del primo AND  e si cancellano le colonne dei valori usa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990720" y="2971800"/>
          <a:ext cx="6981840" cy="2692440"/>
        </p:xfrm>
        <a:graphic>
          <a:graphicData uri="http://schemas.openxmlformats.org/drawingml/2006/table">
            <a:tbl>
              <a:tblPr/>
              <a:tblGrid>
                <a:gridCol w="599760"/>
                <a:gridCol w="919800"/>
                <a:gridCol w="639000"/>
                <a:gridCol w="720000"/>
                <a:gridCol w="1438560"/>
                <a:gridCol w="959400"/>
                <a:gridCol w="149076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Line 62"/>
          <p:cNvSpPr/>
          <p:nvPr/>
        </p:nvSpPr>
        <p:spPr>
          <a:xfrm flipH="1">
            <a:off x="1218960" y="3505320"/>
            <a:ext cx="759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63"/>
          <p:cNvSpPr/>
          <p:nvPr/>
        </p:nvSpPr>
        <p:spPr>
          <a:xfrm>
            <a:off x="2743200" y="3505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opera allo stesso modo con il secondo AN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90720" y="2971800"/>
          <a:ext cx="6657840" cy="3038400"/>
        </p:xfrm>
        <a:graphic>
          <a:graphicData uri="http://schemas.openxmlformats.org/drawingml/2006/table">
            <a:tbl>
              <a:tblPr/>
              <a:tblGrid>
                <a:gridCol w="570960"/>
                <a:gridCol w="875520"/>
                <a:gridCol w="609120"/>
                <a:gridCol w="685080"/>
                <a:gridCol w="1370160"/>
                <a:gridCol w="913320"/>
                <a:gridCol w="1419120"/>
                <a:gridCol w="21600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8" name="Line 62"/>
          <p:cNvSpPr/>
          <p:nvPr/>
        </p:nvSpPr>
        <p:spPr>
          <a:xfrm flipH="1">
            <a:off x="1218960" y="3505320"/>
            <a:ext cx="759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Line 63"/>
          <p:cNvSpPr/>
          <p:nvPr/>
        </p:nvSpPr>
        <p:spPr>
          <a:xfrm>
            <a:off x="2743200" y="3505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64"/>
          <p:cNvSpPr/>
          <p:nvPr/>
        </p:nvSpPr>
        <p:spPr>
          <a:xfrm>
            <a:off x="4427640" y="371628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Line 65"/>
          <p:cNvSpPr/>
          <p:nvPr/>
        </p:nvSpPr>
        <p:spPr>
          <a:xfrm>
            <a:off x="6705720" y="35053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66280" y="1752120"/>
            <a:ext cx="800100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i calcola infine OR utilizzando come valori di ingresso le due colonne rimaste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0520" indent="-380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90720" y="2971800"/>
          <a:ext cx="7051680" cy="2692440"/>
        </p:xfrm>
        <a:graphic>
          <a:graphicData uri="http://schemas.openxmlformats.org/drawingml/2006/table">
            <a:tbl>
              <a:tblPr/>
              <a:tblGrid>
                <a:gridCol w="605880"/>
                <a:gridCol w="929520"/>
                <a:gridCol w="645480"/>
                <a:gridCol w="726480"/>
                <a:gridCol w="1454040"/>
                <a:gridCol w="969120"/>
                <a:gridCol w="150660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Line 62"/>
          <p:cNvSpPr/>
          <p:nvPr/>
        </p:nvSpPr>
        <p:spPr>
          <a:xfrm flipH="1">
            <a:off x="1218960" y="3505320"/>
            <a:ext cx="759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63"/>
          <p:cNvSpPr/>
          <p:nvPr/>
        </p:nvSpPr>
        <p:spPr>
          <a:xfrm>
            <a:off x="2843280" y="35002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64"/>
          <p:cNvSpPr/>
          <p:nvPr/>
        </p:nvSpPr>
        <p:spPr>
          <a:xfrm>
            <a:off x="4643280" y="357336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65"/>
          <p:cNvSpPr/>
          <p:nvPr/>
        </p:nvSpPr>
        <p:spPr>
          <a:xfrm>
            <a:off x="6705720" y="35053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avole di verit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4000" y="169992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tto OR, che è il “connettivo principale” troviamo la tavola di verità della proposizion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2971800"/>
          <a:ext cx="6981840" cy="2692440"/>
        </p:xfrm>
        <a:graphic>
          <a:graphicData uri="http://schemas.openxmlformats.org/drawingml/2006/table">
            <a:tbl>
              <a:tblPr/>
              <a:tblGrid>
                <a:gridCol w="599760"/>
                <a:gridCol w="919800"/>
                <a:gridCol w="639000"/>
                <a:gridCol w="720000"/>
                <a:gridCol w="1438560"/>
                <a:gridCol w="959400"/>
                <a:gridCol w="1490760"/>
                <a:gridCol w="216000"/>
              </a:tblGrid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NOT 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Q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2" name="Line 62"/>
          <p:cNvSpPr/>
          <p:nvPr/>
        </p:nvSpPr>
        <p:spPr>
          <a:xfrm flipH="1">
            <a:off x="1218960" y="3505320"/>
            <a:ext cx="759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63"/>
          <p:cNvSpPr/>
          <p:nvPr/>
        </p:nvSpPr>
        <p:spPr>
          <a:xfrm>
            <a:off x="2743200" y="3505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64"/>
          <p:cNvSpPr/>
          <p:nvPr/>
        </p:nvSpPr>
        <p:spPr>
          <a:xfrm>
            <a:off x="4572000" y="357336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65"/>
          <p:cNvSpPr/>
          <p:nvPr/>
        </p:nvSpPr>
        <p:spPr>
          <a:xfrm>
            <a:off x="7020000" y="3500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eorema o tautolog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posizione composta che è vera per qualsiasi combinazione di valori di verità attribuita alle sue proposizioni semplic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Es. </a:t>
            </a: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La prima legge di De Morga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not (A and B) = not A or not 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2                1               6       3          5       4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rdine di esecu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428840" y="4143240"/>
          <a:ext cx="6095880" cy="24228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</a:tblGrid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Vero e falso: logica binar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Una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proposizion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è una affermazione (formula ben formata di un linguaggio), che può essere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vera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oppure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fal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Es. “Mia madre mi vuole bene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Non esiste una terza possibil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traddi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60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posizione composta che è falsa per qualsiasi combinazione di valori di verità attribuita alle sue proposizioni semplic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s. (A &lt; B) = (A </a:t>
            </a:r>
            <a:r>
              <a:rPr b="0" lang="it-IT" sz="3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B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1          3         2                 ordine di esecu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438280" y="3352680"/>
          <a:ext cx="4267440" cy="242280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48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Connettivi tri-, .. , n- argomental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BASTA, non se ne può più 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a come descrivere situazion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iù compless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 cui non sia intuitivo l’uso dei connettivi studiati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ono sufficienti  opportune combinazioni di 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not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or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per esprimere un qualsiasi connettivo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057400" y="3581280"/>
          <a:ext cx="4876920" cy="24228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</a:tblGrid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orme disgiuntive norm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56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tilizzano solo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no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or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per descrivere risultati  dipendenti da valori di verità di proposizioni sempli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i si riferisce alla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avola di verità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 cui appaiono tutte le possibili assegnazioni di verità delle proposizioni sempli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considerano le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ombinazion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per le quali si ottiene valore di verità 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er ogni tale combinazione le proposizioni con valore d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verità F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fanno precedere da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not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proposizioni così modificate vengono fra loro connesse con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and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si creano congiunzion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li congiunzioni vengono fra loro connesse con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or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, formando una forma disgiuntiva norm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orme disgiuntive norm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56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s.   A=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Risultato: (A and B) or (not A and not 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447920" y="1981080"/>
          <a:ext cx="4902120" cy="2457720"/>
        </p:xfrm>
        <a:graphic>
          <a:graphicData uri="http://schemas.openxmlformats.org/drawingml/2006/table">
            <a:tbl>
              <a:tblPr/>
              <a:tblGrid>
                <a:gridCol w="608400"/>
                <a:gridCol w="608400"/>
                <a:gridCol w="188640"/>
                <a:gridCol w="760680"/>
                <a:gridCol w="456480"/>
                <a:gridCol w="2279520"/>
              </a:tblGrid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 gridSpan="2" rowSpan="2"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and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 rowSpan="2"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72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b2c1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4280"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A and not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0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orme disgiuntive norm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560" y="10663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ercizi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condizione di presa nel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ioc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ll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riscol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er il giocatore che tira per primo  (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izioni che definiscono la condizion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semi sono uguali 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secondo giocatore ha tirato una briscola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valore della carta del I giocatore è maggiore del  valore della carta del II giocatore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orme disgiuntive normal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560" y="8377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ndizione di presa nella briscola per il primo giocatore (elenchiamo le varie combinazion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G1 = (SU and B2  and M1) or (SU and not B2 and M1) or (not SU and not B2 and M1) or (not SU and not B2 and not M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071800" y="1857240"/>
          <a:ext cx="5333760" cy="31244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533160"/>
                <a:gridCol w="1143000"/>
              </a:tblGrid>
              <a:tr h="37692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57240" rIns="57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roposizion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16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roposi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emplic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  complesso linguistico o segnico per il quale ha senso attribuire un valore di verit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Valore di verità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(principio di bivalenza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uò esser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vero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true   T       1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falso  F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false  F      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Esempio1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_luna_è_verde_a_pallini_bl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Esempio2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it-IT" sz="30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nettiv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214280"/>
            <a:ext cx="84675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 proposizioni si possono connettere fra loro a formar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posizioni compos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valore di verità della proposizione composta dipende dal tipo di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connettiv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 dal valore di verità delle proposizioni componen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connettivi si distinguono dal numero di proposizioni (1, 2, … n) che possono connetter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ono-, bi-,  … n- argomental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’effett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i connettivi si specific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ncand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utti i possibili casi di combinazioni di valori vero e falso delle proposizioni componen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negazione “NOT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2060640"/>
            <a:ext cx="39229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P è una proposizione, si danno due casi possibil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 = VE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 = FAL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5080" y="2060280"/>
            <a:ext cx="392256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 conseguenza, per la negazione di P si avranno pure 2 casi corrispondent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P = FAL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P = VER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09480" y="5257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NOT” È UN OPERATORE BOOLEANO UNARIO (l’unico connettivo mono-argomenta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3033720" y="442908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3071880" y="492912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162920" cy="9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Esempio </a:t>
            </a:r>
            <a:r>
              <a:rPr b="1" i="1" lang="it-IT" sz="3800" spc="-1" strike="noStrike">
                <a:solidFill>
                  <a:srgbClr val="000000"/>
                </a:solidFill>
                <a:latin typeface="Verdana"/>
              </a:rPr>
              <a:t>no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914400" y="15228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8580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connettivo NOT nega il valore delle proposizio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14400" y="3429000"/>
          <a:ext cx="6121440" cy="1951200"/>
        </p:xfrm>
        <a:graphic>
          <a:graphicData uri="http://schemas.openxmlformats.org/drawingml/2006/table">
            <a:tbl>
              <a:tblPr/>
              <a:tblGrid>
                <a:gridCol w="2649240"/>
                <a:gridCol w="216000"/>
                <a:gridCol w="32562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o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   </a:t>
                      </a:r>
                      <a:r>
                        <a:rPr b="1" lang="it-IT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io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2600" y="49968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nettivi bi-argoment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00040" y="4500720"/>
            <a:ext cx="784224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cuni  sono banali: rimandano tutti V, tutti F, stessi valori di A o B, valori negati di A e B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tri sono parte fondamentale del nostro linguagg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4920" y="1828800"/>
          <a:ext cx="8483400" cy="2470320"/>
        </p:xfrm>
        <a:graphic>
          <a:graphicData uri="http://schemas.openxmlformats.org/drawingml/2006/table">
            <a:tbl>
              <a:tblPr/>
              <a:tblGrid>
                <a:gridCol w="448920"/>
                <a:gridCol w="448920"/>
                <a:gridCol w="216000"/>
                <a:gridCol w="366480"/>
                <a:gridCol w="533160"/>
                <a:gridCol w="532800"/>
                <a:gridCol w="609480"/>
                <a:gridCol w="456840"/>
                <a:gridCol w="380520"/>
                <a:gridCol w="380520"/>
                <a:gridCol w="304920"/>
                <a:gridCol w="304920"/>
                <a:gridCol w="532800"/>
                <a:gridCol w="533160"/>
                <a:gridCol w="685440"/>
                <a:gridCol w="533160"/>
                <a:gridCol w="374040"/>
                <a:gridCol w="387000"/>
                <a:gridCol w="4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nettivi bi-argomentali: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&lt;  =  &gt;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240" y="17524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usano anche con valori numeric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i ricordi la corrispondenza di “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“ e di “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1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rrisponde a “se e solo se”   (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)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 sarò_promosso “se e solo se” imparerò_la_ma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mplica”   (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 essere_multiplo_di_10 “implica” essere_multiplo_di_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rrisponde alla </a:t>
            </a:r>
            <a:r>
              <a:rPr b="1" i="1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lternativa: o … o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 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ti_mangi_questa_minestra 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i_butti_dalla_finest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2-14T11:11:43Z</dcterms:modified>
  <cp:revision>104</cp:revision>
  <dc:subject/>
  <dc:title>Diapositiva 1</dc:title>
</cp:coreProperties>
</file>