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487-0151-4080-AF54-2C736A8E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85D-EFFA-4DDA-8CC7-B01A1E64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0B7-4731-4FC3-AA92-2FDE5C50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2CF-99AB-4A00-BE06-95B903C4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F99B-B023-45B2-8877-B7E012D4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2857-A2A7-401E-B230-2BD3FF70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D645-B09D-4D17-9F87-D37069D1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8BFD-59BD-43F9-BEF9-31A87D88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7F48-7932-4757-8811-B6A056EA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0DBF-A103-40A9-9CFE-0F591A5A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E818-FC48-481D-97D5-4A9D98F9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04C-9A44-44A6-8C27-C8901FAE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A5F2-B901-4526-B6EA-5AC1FC63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C0A8-91E2-445A-BF74-1FF7C0EC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9CF3-D453-4591-80A9-39D468E0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6F96-EE9D-45F5-ABC7-D9CE6AD7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70FB-7404-42DC-87C6-0DB43EE1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F8D-5FDD-4D38-B0A0-D049AD23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1A6-15F0-4514-919A-647792E5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0E5-9C81-4E01-8861-D11AEE3B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D4C6-5433-4A0D-A993-B29EF985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4F95-539E-4B56-971D-10F14C6F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47C-238E-4C23-AB24-B4F0F52B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608-10F0-48CD-83ED-0600DE08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6E3C-610F-42C8-B1BC-DD4CB29CD3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7E08-9FD6-4BBC-8D93-950234913E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" y="1699920"/>
            <a:ext cx="950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 (Reti Locali, Intern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1080" y="3500280"/>
            <a:ext cx="287280" cy="289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morizz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alcolatore memoriz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dati, che rappresentano informazioni di interes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programmi per l’elaborazione dei da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memoria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è l’unità responsabile della memorizzazione dei dat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unità di memoria fornisce due sole operazio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orizzazione di un valore 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rittu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o al valore memorizzato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ttu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labor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2200" y="1701720"/>
            <a:ext cx="8570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 istruzioni di un programma corrispondono ad operazioni elementari di elabor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zioni aritmeti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zioni relazionali (confronto tra dat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zioni su caratteri e valori di ver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tre operazioni numeri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labor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2200" y="1701720"/>
            <a:ext cx="8570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n calcolatore sa svolgere poche tipologie di operazioni elementari ma in modo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molto effic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un calcolatore può eseguire decine o centinaia di milioni di istruzioni al seco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’elaborazione dei dati viene svolta dall’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unità aritmetico-logica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, che è un componente dell’unità centrale di elabor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rasferi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84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Obiettivo: permettere lo scambio di informazioni tra le varie componenti funzionali del calcolat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rasferimento dei dati e delle informazioni di control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ue possibili soluzio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legare ciascun componente con ogni altro compon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legare tutti i componenti a un unico canale (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bu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utilizzo di un bus favorisce la modularità e l’espandibilità del calcolat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tro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2472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coordinamento tra le varie parti del calcolatore è svolto dall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nità di control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è un componente dell’unità centrale di elabor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gni componente dal calcolatore esegue solo le azioni che gli vengono richieste dall’unità di control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controllo consiste nel coordinamento dell’esecuzione temporale delle operazion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a internamente all’unità di elaborazione sia negli altri elementi funzion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304920"/>
            <a:ext cx="8856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ispositivi di memorizzazion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773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Memorie d’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am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Verdana"/>
              </a:rPr>
              <a:t>Random Access Memory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o Memoria ad accesso cas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om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Verdana"/>
              </a:rPr>
              <a:t>Read Only Memory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o memoria di sola lettura; si attiva all’accensione del Comp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789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Memorie di M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loppy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d –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ità di Back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2087640" cy="1555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04000" y="2565360"/>
            <a:ext cx="1787400" cy="1128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12609" t="14921" r="18834" b="865"/>
          <a:stretch/>
        </p:blipFill>
        <p:spPr>
          <a:xfrm>
            <a:off x="3203640" y="5013360"/>
            <a:ext cx="771480" cy="841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116000" y="50846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rcRect l="23847" t="1602" r="23847" b="11463"/>
          <a:stretch/>
        </p:blipFill>
        <p:spPr>
          <a:xfrm>
            <a:off x="2595600" y="3645000"/>
            <a:ext cx="861840" cy="96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13147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emoria centrale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9280" y="1967040"/>
            <a:ext cx="6408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emoria centrale (o principal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560" y="1773000"/>
            <a:ext cx="92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’ la componente del calcolatore in cui vengono immagazzinati e da cui vengono acceduti i dati e i program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’ la memoria che può essere acceduta direttamente dal process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è costituita da sequenze di </a:t>
            </a:r>
            <a:r>
              <a:rPr b="1" lang="en-US" sz="2700" spc="-1" strike="noStrike">
                <a:solidFill>
                  <a:srgbClr val="336699"/>
                </a:solidFill>
                <a:latin typeface="Verdana"/>
              </a:rPr>
              <a:t>celle</a:t>
            </a:r>
            <a:r>
              <a:rPr b="0" lang="en-US" sz="27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(o 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locazioni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ogni cella può contenere una quantità fissata di memoria (numero di bit), detta </a:t>
            </a:r>
            <a:r>
              <a:rPr b="1" lang="en-US" sz="2700" spc="-1" strike="noStrike">
                <a:solidFill>
                  <a:srgbClr val="336699"/>
                </a:solidFill>
                <a:latin typeface="Verdana"/>
              </a:rPr>
              <a:t>parola</a:t>
            </a:r>
            <a:r>
              <a:rPr b="1" lang="en-US" sz="27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i memori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moria centra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8469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gni cella è caratterizzata d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indirizz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che è un numero che identifica la cella e ne consente l’acces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val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che è la sequenza di bit memorizzata dalla cel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 memoria fornisce le operazioni d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lettur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consultazione del valore di una cella con un dato indirizz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scrittur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ifica del valore di una cella con un dato indirizz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1280" y="341280"/>
            <a:ext cx="9036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ratteristiche dell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emoria centra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capa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6208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 numero di bit che possono essere memorizzati, misurati in byte (e multipli del byt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4680" indent="-27468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velocità di acc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6208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sura la velocità di esecuzione delle operazioni di lettura/scrit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4680" indent="-27468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volatil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6208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ca la capacità di conservare i valori memorizzati in modo permanente o me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46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3640" y="1752480"/>
            <a:ext cx="8243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computer è una macchina in grado di accettare informazioni provenienti dall’esterno, di effettuare su di esse operazioni aritmetiche e logiche e quindi di fornire risultati in forma comprensibi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 svolgere ciascuna di queste funzioni possiede dei dispositivi idone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568440" y="476280"/>
            <a:ext cx="832464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alcola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77080" y="3573360"/>
            <a:ext cx="2232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3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memoria centra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isicamente e’ fatta di componenti elettronici (transistors) miniaturizza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Ogni unità elementare può trovarsi a due diversi livelli di tensione elettrica: ecco il corrispettivo fisico del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b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emorie RAM e memorie RO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986120"/>
            <a:ext cx="7848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e memorie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RAM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(random access memory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ossono essere accedute sia in lettura che in scrit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ono volatili (i dati memorizzati vengono persi allo spegnimento del calcolator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ono usate per memorizzare dati e program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ts val="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emorie RAM e memorie RO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409760"/>
            <a:ext cx="7848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ts val="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e memorie 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ROM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read only memory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permettono solo la lettura dei dat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ono persistenti (mantengono il suo contenuto anche quando non c’è alimentazione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in questa memoria si trovano i programmi che servono per l’avvio della macchina, i cosiddetti programmi di sistema e il BIOS (Basic Input Output System) sistema di base per il controllo di entrata ed usci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622440"/>
            <a:ext cx="9290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truttura della R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7840" y="556920"/>
            <a:ext cx="7489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RAM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67760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e celle sono numerate in sequenza: il numero di ogni cella costituisce il suo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indirizz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pecificando l’indirizzo di una cella, la CPU e’ in grado di leggere e/o modificare il valore del byte memorizzato in quella c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Random Access Memory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(RAM),</a:t>
            </a:r>
            <a:r>
              <a:rPr b="0" lang="it-IT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che’ ogni cella e’ indirizzabile direttam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1440" y="566640"/>
            <a:ext cx="6767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mensioni della 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685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Spazio di indirizzamento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: insieme o numero delle celle indirizzabili direttame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Il numero di celle indirizzabili e’ una potenza di due. Co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6 bit si indirizzano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16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elle  = 65.536 ce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32 bit si indirizzano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32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4.294.967.296 ce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6000" y="41400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2209680"/>
            <a:ext cx="38098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01011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7720" y="2863800"/>
            <a:ext cx="38102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001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17720" y="3517920"/>
            <a:ext cx="38116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1010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4826160"/>
            <a:ext cx="38084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479920"/>
            <a:ext cx="38113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00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17920" y="2209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4172040"/>
            <a:ext cx="38113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111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01720" y="2938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52680" y="3460680"/>
            <a:ext cx="17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01720" y="3592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44480" y="4114800"/>
            <a:ext cx="17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01720" y="4246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2720" y="4768920"/>
            <a:ext cx="16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19440" y="4900680"/>
            <a:ext cx="171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0240" y="549108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.5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47894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400" y="566640"/>
            <a:ext cx="8003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nità di misura della memor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360" y="196488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i usano delle unita’ di misura per indicare la dimensione della memori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kilobyt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KB) = 1024 byte (2</a:t>
            </a:r>
            <a:r>
              <a:rPr b="0" lang="it-IT" sz="2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byt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megabyt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MB) = 1000 KB (2</a:t>
            </a:r>
            <a:r>
              <a:rPr b="0" lang="it-IT" sz="2600" spc="-1" strike="noStrike" baseline="30000">
                <a:solidFill>
                  <a:srgbClr val="000000"/>
                </a:solidFill>
                <a:latin typeface="Verdana"/>
              </a:rPr>
              <a:t>2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gigabyt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GB) = 1 miliardo di by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Quindi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 16 bit si indirizzano 64KB di memor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 32 bit si indirizzano 4GB di memori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8680" y="714240"/>
            <a:ext cx="8256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mensioni tipiche della 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Nei Personal computer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128, 256, 512 MByte, 1GBy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una volta era un lusso avere 64 K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Nei Mainframe/Workstation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1, 2, 3.. GBy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Ricordatevi che la memoria e’ espandibile (fino ad un certo limit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41400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tre informazioni sulla RAM: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PAROLA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WOR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parola (word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di un computer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nti bit possono essere letti/scritti/usa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lla CPU con un unico accesso alla memo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16, 32, 64, 128 bi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iù grande è la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parola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, maggiore è la potenza del compu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914120"/>
            <a:ext cx="84247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udiare l’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rchitettura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l calcolatore signific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viduare ciascun componente del siste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ndere i principi generali di funzionamento di ciascun compon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ndere come le varie componenti interagisco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632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prietà della 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89360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ene i dati e le istruzioni che devono essere elaborati dalla CP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RAM e’ 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velo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 leggere/scrivere una cella ci vogliono, in media 5--30 nanosecondi (millesimi di milionesimi di secondo = 30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RAM e’ 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volati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’ fatta di componenti elettronici, e se togliete l’alimentazione perdete tut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RAM e’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costos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relativamente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grandezza della ram viene misurata in mega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ggiore è la quantità di RAM, più spazio sarà disponibile per i dati sui quali può operare la CPU per l’elabora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morie secondar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Memoria secondaria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Memoria di mas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orizza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grandi mass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 da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dati memorizzati sopravvivono all’esecuzione dei programm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non pu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ssere acceduta direttamente dalla CP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 dati di una memoria secondaria per essere elaborati dal processore devono passare nella memoria centra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moria principale Vs. Memoria seconda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emoria secondar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orizza in modo permanente tutti i programmi e i dati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emoria centra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orizza i programmi in esecuzione e i dati necessari per la loro esecu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morie secondar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aratteristiche delle memorie secondar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9217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non volatil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dati memorizzati non si perdono allo spegnimento del calcolatore (perché memorizzati in forma magnetica o ottica anziché elettron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grande capa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cità maggiore (anche di diversi ordini di grandezza) rispetto alla memoria centr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bassi c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costo per bit di una memoria secondaria è minore (di diversi ordini di grandezza) rispetto alla memoria centr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bassa velocità di acc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mpi di accesso maggiori (di qualche ordine di grandezza) rispetto a quelli della memoria princip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memoria secondar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917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grammi e dati risiedono normalmente in memoria secondar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do si lancia un programma questo viene copiato dalla memoria secondaria in memoria primaria. Questa operazione si chiama 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caricamen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schi magnetici: l’HARD DIS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876320"/>
            <a:ext cx="9541080" cy="51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’ fatto di supporti magnetici permanenti, gestiti mediante dispositivi meccanic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empi di accesso dell’ordine dei micro/millisecond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pazio disponibi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80, 20, 160, …, 300 Giga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(una volta era un lusso avere 20 Megaby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Hard disk"/>
          <p:cNvPicPr/>
          <p:nvPr/>
        </p:nvPicPr>
        <p:blipFill>
          <a:blip r:embed="rId1"/>
          <a:stretch/>
        </p:blipFill>
        <p:spPr>
          <a:xfrm>
            <a:off x="6012000" y="4508640"/>
            <a:ext cx="23050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79280" y="175392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ll’hard disk la memoria e’ organizzata in blocchi di dimensione fissa (512B, 1KB,2KB,..)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indirizzabili diretta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 lettura/scrittura del disco avviene sempre in blocchi, per risparmiare tempo (pensate al tempo perso se si dovesse leggere un byte per volta!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l disco e’ quindi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formattat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 blocch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7095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schi magnetici: l’HARD DIS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843280" y="2565360"/>
          <a:ext cx="30240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565360"/>
                    <a:ext cx="30240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schi magnetici: l’HARD DIS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 disco consiste in un certo numero di 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piatti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 due superfici che ruotano attorno ad un perno centr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gni superficie dispone di una propria testina di lettura / scrittu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322200" y="4869000"/>
            <a:ext cx="8497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superfici sono organizzate in cerchi concentrici (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trac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e in spicchi di ugual grandezza (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settor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bit corrisponde ad uno stato di polarizzazione (positiva o negativa) del materiale magnetico che costituisce i di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schi magnetici: l’HARD DIS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841680" y="1741320"/>
            <a:ext cx="78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 tracce equidistanti dal centro formano un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ilind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600200" y="2441520"/>
          <a:ext cx="6229440" cy="31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41520"/>
                    <a:ext cx="6229440" cy="31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emoria primaria vs memoria secondar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17080" y="1916280"/>
            <a:ext cx="86756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RAM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HARD DIS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veloce (nanosec)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lenta(microse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iccola (Megabyte)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grande (Gigabyt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volatil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     perman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941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ate che, in teoria, il computer potrebbe funzionare con la sola ram o il solo hardd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533520"/>
            <a:ext cx="8001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557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prima decomposizione di un calcolatore è relativa a due macro-componen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dw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33880" y="2509920"/>
            <a:ext cx="4817880" cy="32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chi magnetici: floppy dis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30440"/>
            <a:ext cx="7848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75840" indent="-37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ono dischi magnetici di piccola capacità, portatili, usati per trasferire informazioni (file) tra computer diversi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75840" indent="-37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ono costituiti da un unico disco con due superfic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75840" indent="-37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toricamente ne sono stati creati vari tipi identificati dal loro diametro (3.5, 5.25 e 8 pollici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348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oggi sopravvivono solo dischett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da 3.5” (1.4 Mbyt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Floppy"/>
          <p:cNvPicPr/>
          <p:nvPr/>
        </p:nvPicPr>
        <p:blipFill>
          <a:blip r:embed="rId1"/>
          <a:stretch/>
        </p:blipFill>
        <p:spPr>
          <a:xfrm>
            <a:off x="7020000" y="4797360"/>
            <a:ext cx="129708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chi magnetici: zi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omigliano ai dischetti floppy ma sono un po' più grandi e la forma è un po’ diversa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istono da 100 e 250 MByte e necessitano di un drive apposito, diverso da quello dei floppy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ono piuttosto costos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Disco zip"/>
          <p:cNvPicPr/>
          <p:nvPr/>
        </p:nvPicPr>
        <p:blipFill>
          <a:blip r:embed="rId1"/>
          <a:stretch/>
        </p:blipFill>
        <p:spPr>
          <a:xfrm>
            <a:off x="6877080" y="4437000"/>
            <a:ext cx="1422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3792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astri magne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961640"/>
            <a:ext cx="9067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ngono usati dagli amministratori di grandi sistemi di computer per creare periodicamente copie (Backup) del contenuto degli hard disk, in modo da salvare i dati qualora se ne guastasse un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ccesso sequenziale: la lettura/scrittura è molto lenta (può richiedere alcune ore), per questo l'operazione di backup viene lanciata tipicamente durante la notte.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Nastro"/>
          <p:cNvPicPr/>
          <p:nvPr/>
        </p:nvPicPr>
        <p:blipFill>
          <a:blip r:embed="rId1"/>
          <a:stretch/>
        </p:blipFill>
        <p:spPr>
          <a:xfrm>
            <a:off x="6732720" y="4797360"/>
            <a:ext cx="18651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76720" y="3787920"/>
            <a:ext cx="4535280" cy="2305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astri magne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no nastri di materiale magnetizzabile raccolti su supporti circolari, o in casset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l nastro sono tracciate piste orizzontali paralle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 solito 9 piste, di cui 8 corrispondono ad un byte e la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è il bit di parit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 dati sul nastro sono organizzati in zone contigue dett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recor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eparate da zone prive di informazione (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terrecord ga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ot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1752120"/>
            <a:ext cx="86407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CD-ROM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Compact Disk): sono esattamente gli stessi CD usati per la mus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sigla ROM (Read Only Memory) indica il fatto che i dati, una volta scritti su CD, sono indelebili e potranno essere soltanto let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capacità tipica è di 650 MByte (che nei CD audio corrisponde a 74 minuti di registrazione), ma esistono anche modelli leggermente più capienti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CD"/>
          <p:cNvPicPr/>
          <p:nvPr/>
        </p:nvPicPr>
        <p:blipFill>
          <a:blip r:embed="rId1"/>
          <a:stretch/>
        </p:blipFill>
        <p:spPr>
          <a:xfrm>
            <a:off x="6948360" y="4653000"/>
            <a:ext cx="1360440" cy="13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ot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752120"/>
            <a:ext cx="86407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Mini C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sono CD con diametro ridotto (8 cm) e capacità di 180 MByte o 21 minuti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ono perfettamente compatibili con i normali lettori CD (eccetto quelli in cui il CD va inserito attraverso una fessura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istono in commercio anche le 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CD Car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dischetti di forma rettangolare (!) grandi all'incirca come una carta di credito e con capacità che va da 30 a 80 MByt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" descr="Mini CD"/>
          <p:cNvPicPr/>
          <p:nvPr/>
        </p:nvPicPr>
        <p:blipFill>
          <a:blip r:embed="rId1"/>
          <a:stretch/>
        </p:blipFill>
        <p:spPr>
          <a:xfrm>
            <a:off x="6602400" y="4941720"/>
            <a:ext cx="10620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ot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752120"/>
            <a:ext cx="86407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DVD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(Digital Versatile Disk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Esteriormente sono in tutto simili ai CD-ROM, ma possono contenere da 9 a 17 GByte (cioè fino a 25 volte la capacità di un normale CD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ono usati da alcuni anni soprattutto per i film digitali, tuttavia possono benissimo contenere anche i normali dati come i CD-RO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 leggere i DVD occorre un lettore CD appropriato (i normali drive per CD non sono in grado di farlo). Il lettore DVD è invece semp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 grado di leggere anche i normali CD-RO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812000" y="501336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chi ot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280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95920" indent="-2959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a superficie di un disco presenta una successione di tratti disposti secondo un’unica traccia a spir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2746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pit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: tratto di superficie avvall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2746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land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: tratto di superficie lisci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5920" indent="-295920" algn="just">
              <a:lnSpc>
                <a:spcPct val="90000"/>
              </a:lnSpc>
              <a:spcBef>
                <a:spcPts val="1137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l passaggio da pit a lan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5920" indent="0" algn="just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e viceversa) rappresent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5920" indent="0" algn="just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1 mentre l’assenza d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5920" indent="0" algn="just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variazione rappresenta 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219640" y="3714840"/>
          <a:ext cx="3672000" cy="24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3714840"/>
                    <a:ext cx="367200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5940360" y="2852640"/>
            <a:ext cx="144360" cy="574920"/>
          </a:xfrm>
          <a:custGeom>
            <a:avLst/>
            <a:gdLst>
              <a:gd name="textAreaLeft" fmla="*/ 0 w 144360"/>
              <a:gd name="textAreaRight" fmla="*/ 52200 w 144360"/>
              <a:gd name="textAreaTop" fmla="*/ 14760 h 574920"/>
              <a:gd name="textAreaBottom" fmla="*/ 560160 h 5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6360" y="2847960"/>
            <a:ext cx="35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riflettono raggi lumino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n modo dive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Dispositivi magneto-ot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964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Verdana"/>
              </a:rPr>
              <a:t>MOD (Magneto Optical Disk)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 sono dischi a supporto magnetico, su cui però la scrittura dei dati può avvenire solo dopo un forte riscaldamento della superficie con un fascio lase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A temperatura ambiente i dischi magneto-ottici non sono sensibili ai campi magnetici e questo li mette al riparo dalle cancellazioni accidentali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Esistono in numerosi modelli, con capacità che arriva fino ad alcuni GByte, e richiedono la presenza di un apposito driv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Costo eccessivo (soprattutto del driv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Rimangono in uso solo in alcuni sistemi dove è richiesto il frequente salvataggio di una grande quantità di dat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in condizioni di sicurezza (per es. nelle banch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Disco magneto-ottico"/>
          <p:cNvPicPr/>
          <p:nvPr/>
        </p:nvPicPr>
        <p:blipFill>
          <a:blip r:embed="rId1"/>
          <a:stretch/>
        </p:blipFill>
        <p:spPr>
          <a:xfrm>
            <a:off x="7524720" y="5226120"/>
            <a:ext cx="12589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698120"/>
            <a:ext cx="8134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architettura dell’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di un calcolatore reale è molto comples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macchina di Von Neumann</a:t>
            </a:r>
            <a:r>
              <a:rPr b="1" lang="it-IT" sz="3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è un modello semplificato dei calcolatori moder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Von Neumann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progettò, verso il 1945, il primo calcolatore con programmi memorizzabili anziché codificati mediante cavi e interrut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acchina di Von Neuman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71640" y="1628640"/>
            <a:ext cx="939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’ composta da 4 tipologie di componenti funzional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1360" indent="-258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unità centrale di elaborazion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CPU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egue istruzioni per l’elaborazione dei dat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volge anche funzioni di controll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1360" indent="-258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emoria centr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morizza e fornisce l’accesso a dati e programm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1360" indent="-258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terfacce di ingresso e usci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onenti di collegamento con le periferiche del calcolato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1360" indent="-258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volge la funzionalità di trasferimento di dati e di informazioni di controllo tra le varie componenti funziona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acchina di Von Neuman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acchina di Von Neuman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560" y="1989000"/>
            <a:ext cx="9001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 funzionamento di un calcolatore è descrivibile in termini di poche componenti (macro-unità) funziona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gni macro-unità è specializzata nello svolgimento di una tipologia omogenea di funzionalit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ccezi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l’unità centrale di elaborazione, che svolge sia funzionalità di elaborazione che di control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acchina di Von Neuman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848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.</cp:lastModifiedBy>
  <dcterms:modified xsi:type="dcterms:W3CDTF">2005-10-13T15:45:51Z</dcterms:modified>
  <cp:revision>84</cp:revision>
  <dc:subject/>
  <dc:title>Diapositiva 1</dc:title>
</cp:coreProperties>
</file>