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AC7E-5702-44A2-9939-D8C0841E8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FA34-CBE7-4488-8225-B2565FFD5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15C7-3965-41DE-8FCA-AB53C750E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A5B6-CC90-419C-B02F-4C8D28056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9A56B-22B9-49D6-A996-9AD459378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D61F2-8090-4004-9A6E-403B583E7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03305-9763-4859-A300-D92423975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4D149-05AF-49D2-89B4-08B1936E4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945A4-477B-49A7-9C8F-8D2AA82A4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DBDFF-BD78-4263-BF6D-EB3CCFBB1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5220D-E060-4F62-BE7D-D577DE28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900B-8229-4F06-ABC9-21565C37A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8FC94-1C65-4FF2-8CAA-876BAE07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0C8B0-279B-416E-96E0-38C847C9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9722E-7F1B-44EC-B065-AC406A80E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4E644-062C-43AD-82E3-6B3A03E26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E4B51-5BDB-4610-9F90-7491F8F56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53ED-519C-4740-973D-319E0887E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4CB0-F22F-4F5D-8A03-288B0F7B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5056-75F1-46CF-BA34-1FE5A4E7F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30DD-D16E-4282-965C-BB24BBB03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8E23-22F4-4BDD-8431-6BA9E9D3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5F0F-D681-4B9E-9310-42CC42BC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AA74-204C-46F0-BF82-23C55359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CBA2E-6CB1-49BB-B81C-73E59D28E8E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E0A3B-46F9-4B6A-87C4-140A87DF1E9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Programma del cor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4560" y="1699920"/>
            <a:ext cx="950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Introduzione agli algoritm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Rappresentazione delle Informazion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Architettura del calcolato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Reti di Calcolator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Elementi di Programmazion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179280" y="5300640"/>
            <a:ext cx="287280" cy="2890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Compilatori vs interpret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60360" y="1557000"/>
            <a:ext cx="882000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 un programma compilato, la traduzione avviene una sola volta, e poi il programma oggetto può essere eseguito quante volte si vu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 un programma interpretato, la traduzione avviene tutte le volte che si esegue il programma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lti linguaggi permettono entrambe le scel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ttualmente, i computer sono così potenti che anche la compilazione di lunghi programmi non richiede molto temp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30200" y="1844640"/>
            <a:ext cx="871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Dall’algoritm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al program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75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l concetto di algoritm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614240"/>
            <a:ext cx="9144000" cy="47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 algoritmo è una sequenza di passi necessari per risolvere un problema o eseguire una computazio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alcuni casi, lo stesso problema/computazione può essere risolto in modi diversi, ai cui corrispondono diversi algoritmi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 programma non è altro che  la descrizione di un algoritmo scritta nel linguaggio di programmazione scel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3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Esempio di algoritmo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icerca di una voce nell’elenco telefonico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1674360"/>
            <a:ext cx="8136000" cy="44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spcBef>
                <a:spcPts val="499"/>
              </a:spcBef>
              <a:buClr>
                <a:srgbClr val="cc0000"/>
              </a:buClr>
              <a:buSzPct val="6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a 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cognom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la voce da cerca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499"/>
              </a:spcBef>
              <a:buClr>
                <a:srgbClr val="cc0000"/>
              </a:buClr>
              <a:buSzPct val="6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a 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’elenco da “sfogliare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ipet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 E è vuoto allora cognome non esiste, termin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vidi a metà l’elenco 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amina tutte le voci della pagina che hai di fro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 trovi cognome allora annota il numero e termin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 cognome &lt; prima voce pagin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59600" indent="-37944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dera come E la prima metà dell’elen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trimenti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59600" indent="-37944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dera come E la seconda metà dell’elen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Diagrammi di flus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azione grafica usata per descrivere in modo intuitivo le azioni di cui è fatto un algoritm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ene usata per descrivere i passi salienti di un algoritmo, senza doversi preoccupare dei dettagli sintattici del programma corrisponden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a volta che l’algoritmo è stato descritto con un diagramma di flusso, deve però essere trasformato nel programma corrispondent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gni azione è rappresentata da un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blocc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17440"/>
            <a:ext cx="77724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Blocchi di fluss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nizio e fine algoritm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370160" y="2394000"/>
            <a:ext cx="2958840" cy="2514600"/>
            <a:chOff x="1370160" y="2394000"/>
            <a:chExt cx="2958840" cy="2514600"/>
          </a:xfrm>
        </p:grpSpPr>
        <p:sp>
          <p:nvSpPr>
            <p:cNvPr id="127" name=""/>
            <p:cNvSpPr/>
            <p:nvPr/>
          </p:nvSpPr>
          <p:spPr>
            <a:xfrm>
              <a:off x="1370160" y="2394000"/>
              <a:ext cx="2958840" cy="1781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931760" y="3057480"/>
              <a:ext cx="173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STAR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83600" y="4175280"/>
              <a:ext cx="0" cy="733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5137200" y="2467080"/>
            <a:ext cx="2960640" cy="2471760"/>
            <a:chOff x="5137200" y="2467080"/>
            <a:chExt cx="2960640" cy="2471760"/>
          </a:xfrm>
        </p:grpSpPr>
        <p:sp>
          <p:nvSpPr>
            <p:cNvPr id="131" name=""/>
            <p:cNvSpPr/>
            <p:nvPr/>
          </p:nvSpPr>
          <p:spPr>
            <a:xfrm>
              <a:off x="5137200" y="3157560"/>
              <a:ext cx="2960640" cy="1781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699160" y="3821040"/>
              <a:ext cx="173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STO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6595920" y="2467080"/>
              <a:ext cx="0" cy="68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2920" y="192240"/>
            <a:ext cx="7885080" cy="14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Blocchi di fluss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una o più azioni elementar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833480" y="1684440"/>
            <a:ext cx="5056200" cy="4475160"/>
            <a:chOff x="1833480" y="1684440"/>
            <a:chExt cx="5056200" cy="4475160"/>
          </a:xfrm>
        </p:grpSpPr>
        <p:sp>
          <p:nvSpPr>
            <p:cNvPr id="136" name=""/>
            <p:cNvSpPr/>
            <p:nvPr/>
          </p:nvSpPr>
          <p:spPr>
            <a:xfrm>
              <a:off x="1833480" y="2735280"/>
              <a:ext cx="5056200" cy="2392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29000" y="1684440"/>
              <a:ext cx="0" cy="1001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29000" y="5157720"/>
              <a:ext cx="0" cy="1001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198520" y="3224160"/>
              <a:ext cx="405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PIPPO = PIPPO + 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206800" y="4016520"/>
              <a:ext cx="404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PLUTO = 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6408720" cy="14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Blocchi di fluss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Blocco condiziona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414360" y="2306520"/>
            <a:ext cx="7872480" cy="4067280"/>
            <a:chOff x="414360" y="2306520"/>
            <a:chExt cx="7872480" cy="4067280"/>
          </a:xfrm>
        </p:grpSpPr>
        <p:grpSp>
          <p:nvGrpSpPr>
            <p:cNvPr id="143" name=""/>
            <p:cNvGrpSpPr/>
            <p:nvPr/>
          </p:nvGrpSpPr>
          <p:grpSpPr>
            <a:xfrm>
              <a:off x="1908360" y="2306520"/>
              <a:ext cx="4759200" cy="2192400"/>
              <a:chOff x="1908360" y="2306520"/>
              <a:chExt cx="4759200" cy="2192400"/>
            </a:xfrm>
          </p:grpSpPr>
          <p:sp>
            <p:nvSpPr>
              <p:cNvPr id="144" name=""/>
              <p:cNvSpPr/>
              <p:nvPr/>
            </p:nvSpPr>
            <p:spPr>
              <a:xfrm>
                <a:off x="2375280" y="2306520"/>
                <a:ext cx="3828960" cy="1832040"/>
              </a:xfrm>
              <a:prstGeom prst="flowChartDecision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178680" y="3224160"/>
                <a:ext cx="488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908360" y="3230280"/>
                <a:ext cx="488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911600" y="3224160"/>
                <a:ext cx="0" cy="1244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656760" y="3254040"/>
                <a:ext cx="0" cy="1244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414360" y="4468680"/>
              <a:ext cx="317520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iagramma 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12000" y="4473360"/>
              <a:ext cx="317484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iagramma 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907000" y="2881080"/>
              <a:ext cx="288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ondizio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05120" y="5079960"/>
              <a:ext cx="0" cy="65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905120" y="5738760"/>
              <a:ext cx="2398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74040" y="5109840"/>
              <a:ext cx="0" cy="65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03800" y="5744880"/>
              <a:ext cx="2398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303800" y="5738760"/>
              <a:ext cx="0" cy="63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50040" y="2368440"/>
              <a:ext cx="46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64000" y="2398680"/>
              <a:ext cx="46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4329000" y="1733400"/>
            <a:ext cx="0" cy="561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-171360"/>
            <a:ext cx="6624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Blocchi di fluss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Blocco di ripetizion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789200" y="1731960"/>
            <a:ext cx="4438080" cy="4665600"/>
            <a:chOff x="1789200" y="1731960"/>
            <a:chExt cx="4438080" cy="4665600"/>
          </a:xfrm>
        </p:grpSpPr>
        <p:sp>
          <p:nvSpPr>
            <p:cNvPr id="162" name=""/>
            <p:cNvSpPr/>
            <p:nvPr/>
          </p:nvSpPr>
          <p:spPr>
            <a:xfrm>
              <a:off x="2400120" y="2842920"/>
              <a:ext cx="3827160" cy="1832040"/>
            </a:xfrm>
            <a:prstGeom prst="flowChartDecision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933200" y="3767040"/>
              <a:ext cx="488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936440" y="3760560"/>
              <a:ext cx="0" cy="2637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760120" y="5297400"/>
              <a:ext cx="317340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iagramma 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931480" y="3417840"/>
              <a:ext cx="288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ondizio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353480" y="4674960"/>
              <a:ext cx="0" cy="63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054760" y="4552920"/>
              <a:ext cx="464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789200" y="2935080"/>
              <a:ext cx="464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353480" y="1731960"/>
              <a:ext cx="0" cy="1099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328640" y="2344320"/>
            <a:ext cx="2630880" cy="3272040"/>
            <a:chOff x="4328640" y="2344320"/>
            <a:chExt cx="2630880" cy="3272040"/>
          </a:xfrm>
        </p:grpSpPr>
        <p:sp>
          <p:nvSpPr>
            <p:cNvPr id="172" name=""/>
            <p:cNvSpPr/>
            <p:nvPr/>
          </p:nvSpPr>
          <p:spPr>
            <a:xfrm>
              <a:off x="5934240" y="5592600"/>
              <a:ext cx="102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6959520" y="2344320"/>
              <a:ext cx="0" cy="327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4328640" y="2344680"/>
              <a:ext cx="2630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Blocchi di fluss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nput/Outpu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050920" y="2349360"/>
            <a:ext cx="4348440" cy="3351240"/>
            <a:chOff x="2050920" y="2349360"/>
            <a:chExt cx="4348440" cy="3351240"/>
          </a:xfrm>
        </p:grpSpPr>
        <p:sp>
          <p:nvSpPr>
            <p:cNvPr id="177" name=""/>
            <p:cNvSpPr/>
            <p:nvPr/>
          </p:nvSpPr>
          <p:spPr>
            <a:xfrm>
              <a:off x="2050920" y="3287520"/>
              <a:ext cx="4348440" cy="1441440"/>
            </a:xfrm>
            <a:prstGeom prst="flowChartInputOutpu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200400" y="3741840"/>
              <a:ext cx="2516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Input/outpu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329000" y="2349360"/>
              <a:ext cx="0" cy="9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329000" y="4772160"/>
              <a:ext cx="0" cy="92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569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Algoritmi e programm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1628640"/>
            <a:ext cx="896472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99"/>
                </a:solidFill>
                <a:latin typeface="Verdana"/>
              </a:rPr>
              <a:t>Algoritm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quenza finita di passi che risolve in tempo finito un probl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99"/>
                </a:solidFill>
                <a:latin typeface="Verdana"/>
              </a:rPr>
              <a:t>Codif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se di scrittura di un algoritmo attraverso un insieme ordinato di frasi (“istruzioni”), scritte in un qualche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inguaggio di programmazio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che specificano le azioni da compi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600" spc="-1" strike="noStrike">
                <a:solidFill>
                  <a:srgbClr val="336699"/>
                </a:solidFill>
                <a:latin typeface="Verdana"/>
              </a:rPr>
              <a:t>Program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sto scritto in accordo con la sintassi e la semantica di un linguaggio di programmazi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258920" y="4075920"/>
            <a:ext cx="1441440" cy="647640"/>
          </a:xfrm>
          <a:custGeom>
            <a:avLst/>
            <a:gdLst>
              <a:gd name="textAreaLeft" fmla="*/ 0 w 1441440"/>
              <a:gd name="textAreaRight" fmla="*/ 1441800 w 1441440"/>
              <a:gd name="textAreaTop" fmla="*/ -360 h 647640"/>
              <a:gd name="textAreaBottom" fmla="*/ 647640 h 647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79280" y="5518080"/>
            <a:ext cx="8713800" cy="574920"/>
            <a:chOff x="179280" y="5518080"/>
            <a:chExt cx="8713800" cy="574920"/>
          </a:xfrm>
        </p:grpSpPr>
        <p:sp>
          <p:nvSpPr>
            <p:cNvPr id="91" name=""/>
            <p:cNvSpPr/>
            <p:nvPr/>
          </p:nvSpPr>
          <p:spPr>
            <a:xfrm>
              <a:off x="179280" y="5518080"/>
              <a:ext cx="2305080" cy="57492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ROBLE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627280" y="5589720"/>
              <a:ext cx="504720" cy="433440"/>
            </a:xfrm>
            <a:prstGeom prst="rightArrow">
              <a:avLst>
                <a:gd name="adj1" fmla="val 50000"/>
                <a:gd name="adj2" fmla="val 29111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348000" y="5518080"/>
              <a:ext cx="2305080" cy="57492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LGORITM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588000" y="5518080"/>
              <a:ext cx="2305080" cy="57492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ROGRAM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7280" y="5589720"/>
              <a:ext cx="576360" cy="433440"/>
            </a:xfrm>
            <a:prstGeom prst="rightArrow">
              <a:avLst>
                <a:gd name="adj1" fmla="val 50000"/>
                <a:gd name="adj2" fmla="val 33243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360" y="485280"/>
            <a:ext cx="64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l concetto di variabi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1635120"/>
            <a:ext cx="9144000" cy="56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 eseguire una qualsiasi computazione, abbiamo bisogno di poter immagazzinare i risultati temporanei e finali della computazione stess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gni linguaggio ad alto livello mette a disposizione  le variabili: “contenitori” in cui immagazzinare i dati della computazio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cettualmente, le variabili sono come pezzi di carta su cui si possono annotare/modificare i valori di un calcolo che si sta facend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5280" y="48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l concetto di variabi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80720" y="1779120"/>
            <a:ext cx="856764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gni variabile ha un nome mnemonico, che si usa nel programma per riferirsi alla var. stess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a variabile contiene un valore che può essere modificato a piacim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urante l’esecuzione di un programma, il sistema operativo mantiene una associazione tra il nome di ogni var. e l’indirizzo della cella di memoria in cui è memorizzato il suo valo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indi una variabile è semplicemente una astrazione della cella di memoria fisic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48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l concetto di variabi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24000" y="1825200"/>
            <a:ext cx="8712000" cy="462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Quando si scrive un programma è necessario dichiarare quali variabili vogliamo usar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e variabili possono essere di tipo diverso, per indicare che le usiamo per memorizzare dati di tipo diverso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ariabile </a:t>
            </a:r>
            <a:r>
              <a:rPr b="1" lang="en-US" sz="3000" spc="-1" strike="noStrike">
                <a:solidFill>
                  <a:srgbClr val="cc0000"/>
                </a:solidFill>
                <a:latin typeface="Verdana"/>
              </a:rPr>
              <a:t>LETTERA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, tipo: carattere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ariabile </a:t>
            </a:r>
            <a:r>
              <a:rPr b="1" lang="en-US" sz="3000" spc="-1" strike="noStrike">
                <a:solidFill>
                  <a:srgbClr val="cc0000"/>
                </a:solidFill>
                <a:latin typeface="Verdana"/>
              </a:rPr>
              <a:t>SOMMA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, tipo: intero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L’importanza delle variabil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13600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e variabili sono lo strumento fondamentale per assicurare la flessibilità dei programmi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o stesso programma, eseguito con variabili di valore diverso da risultati diversi. Lo stesso programma si adatta cioè alle esigenze del momento, senza dover essere riscrit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Esempi di algoritmi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3185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Calcolo dell’area di un rettangol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eggi da input l’altezza (H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eggi da input la base (B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lcola l’are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ai in output il risulta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Calcola l’area di un rettangol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92640"/>
            <a:ext cx="295128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Area = Base*Altez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564000" y="1700280"/>
            <a:ext cx="1511280" cy="71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916360" y="2565360"/>
            <a:ext cx="2808000" cy="576360"/>
          </a:xfrm>
          <a:prstGeom prst="parallelogram">
            <a:avLst>
              <a:gd name="adj" fmla="val 1217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ggi Altez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843280" y="3429000"/>
            <a:ext cx="2952720" cy="576360"/>
          </a:xfrm>
          <a:prstGeom prst="parallelogram">
            <a:avLst>
              <a:gd name="adj" fmla="val 12807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ggi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556000" y="5084640"/>
            <a:ext cx="3528720" cy="576360"/>
          </a:xfrm>
          <a:prstGeom prst="parallelogram">
            <a:avLst>
              <a:gd name="adj" fmla="val 1530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ampa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64000" y="5950080"/>
            <a:ext cx="1511280" cy="71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stCxn id="195" idx="4"/>
            <a:endCxn id="196" idx="1"/>
          </p:cNvCxnSpPr>
          <p:nvPr/>
        </p:nvCxnSpPr>
        <p:spPr>
          <a:xfrm>
            <a:off x="4319640" y="2419200"/>
            <a:ext cx="216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" name=""/>
          <p:cNvCxnSpPr>
            <a:stCxn id="196" idx="4"/>
            <a:endCxn id="197" idx="1"/>
          </p:cNvCxnSpPr>
          <p:nvPr/>
        </p:nvCxnSpPr>
        <p:spPr>
          <a:xfrm flipH="1">
            <a:off x="4319280" y="3141720"/>
            <a:ext cx="216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197" idx="4"/>
            <a:endCxn id="194" idx="0"/>
          </p:cNvCxnSpPr>
          <p:nvPr/>
        </p:nvCxnSpPr>
        <p:spPr>
          <a:xfrm>
            <a:off x="4319640" y="4005360"/>
            <a:ext cx="216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94" idx="2"/>
            <a:endCxn id="198" idx="1"/>
          </p:cNvCxnSpPr>
          <p:nvPr/>
        </p:nvCxnSpPr>
        <p:spPr>
          <a:xfrm>
            <a:off x="4320720" y="4797360"/>
            <a:ext cx="108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98" idx="4"/>
            <a:endCxn id="199" idx="0"/>
          </p:cNvCxnSpPr>
          <p:nvPr/>
        </p:nvCxnSpPr>
        <p:spPr>
          <a:xfrm flipH="1">
            <a:off x="4319280" y="5660640"/>
            <a:ext cx="216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onversione lire in eur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eggi da input l’importo in li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lcola il corrispettivo in Eur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ai in output il risulta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onversione lire in Eur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"/>
          <p:cNvSpPr/>
          <p:nvPr/>
        </p:nvSpPr>
        <p:spPr>
          <a:xfrm>
            <a:off x="2843280" y="3645000"/>
            <a:ext cx="295092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uro = Lire/1936,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564000" y="1700280"/>
            <a:ext cx="1511280" cy="71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16360" y="2637000"/>
            <a:ext cx="2808000" cy="576000"/>
          </a:xfrm>
          <a:prstGeom prst="parallelogram">
            <a:avLst>
              <a:gd name="adj" fmla="val 12187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ggi L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413080" y="4581360"/>
            <a:ext cx="3814560" cy="576360"/>
          </a:xfrm>
          <a:prstGeom prst="parallelogram">
            <a:avLst>
              <a:gd name="adj" fmla="val 1654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ampa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564000" y="5373720"/>
            <a:ext cx="1511280" cy="71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"/>
          <p:cNvCxnSpPr>
            <a:stCxn id="209" idx="4"/>
            <a:endCxn id="210" idx="1"/>
          </p:cNvCxnSpPr>
          <p:nvPr/>
        </p:nvCxnSpPr>
        <p:spPr>
          <a:xfrm>
            <a:off x="4319640" y="2418840"/>
            <a:ext cx="2160" cy="21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"/>
          <p:cNvCxnSpPr>
            <a:stCxn id="210" idx="4"/>
            <a:endCxn id="208" idx="0"/>
          </p:cNvCxnSpPr>
          <p:nvPr/>
        </p:nvCxnSpPr>
        <p:spPr>
          <a:xfrm flipH="1">
            <a:off x="4319280" y="3213000"/>
            <a:ext cx="216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"/>
          <p:cNvCxnSpPr>
            <a:stCxn id="208" idx="2"/>
            <a:endCxn id="211" idx="1"/>
          </p:cNvCxnSpPr>
          <p:nvPr/>
        </p:nvCxnSpPr>
        <p:spPr>
          <a:xfrm>
            <a:off x="4319640" y="4149360"/>
            <a:ext cx="216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"/>
          <p:cNvCxnSpPr>
            <a:stCxn id="211" idx="4"/>
            <a:endCxn id="212" idx="0"/>
          </p:cNvCxnSpPr>
          <p:nvPr/>
        </p:nvCxnSpPr>
        <p:spPr>
          <a:xfrm flipH="1">
            <a:off x="4319280" y="5157720"/>
            <a:ext cx="216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50560" y="304920"/>
            <a:ext cx="87138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Scambio dei valori di due variabili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Leggi valore prima variabile X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Leggi valore seconda variabile 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Conserva X in una variabile temporanea Aux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Assegna il valore di Y ad X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Assegna il valore di Aux a 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Scrivi X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Scrivi 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enni di programmazion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1120" y="1628280"/>
            <a:ext cx="864252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l computer esegue programm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n programma eseguibile dal computer è una sequenza di istruzioni comprensibili da quel comput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ando sequenze diverse di istruzioni, e dati diversi, possiamo far fare al computer le cose più dispara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6774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Scambio dei valori di due variabili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66640" y="1752480"/>
            <a:ext cx="80010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Massimo tra due numer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eggi X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eggi 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 X &gt; 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mpa X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ltriment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mpa 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Massimo tra due numer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19240" y="1752480"/>
            <a:ext cx="870552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Pari o dispar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eggi 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vidi N per 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 Resto = 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crivi “N è pari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ltriment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crivi “N è dispari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Pari o dispar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566640" y="1752480"/>
            <a:ext cx="80010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89080" y="1628280"/>
            <a:ext cx="8820000" cy="462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l linguaggio di programmazione che viene compreso da un calcolatore è il linguaggio macchina (</a:t>
            </a:r>
            <a:r>
              <a:rPr b="1" lang="en-US" sz="2400" spc="-1" strike="noStrike">
                <a:solidFill>
                  <a:srgbClr val="336699"/>
                </a:solidFill>
                <a:latin typeface="Verdana"/>
              </a:rPr>
              <a:t>assembl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ò scrivere programmi in assembler è scomodo, perché il linguaggio è molto distante da quello umano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ltre, un programma in assembler gira solo su un tipo di cp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arebbe comodo poter usare lo stesso programma su cpu diverse senza doverlo riscrivere ogni volt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68360" y="404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enni di programmazion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41440" y="0"/>
            <a:ext cx="8423280" cy="15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Linguaggi di programmazione 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ad alto livell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8000" y="1835280"/>
            <a:ext cx="9144000" cy="50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I linguaggi di programmazione ad alto livello permettono di scrivere programmi con una notazione adatta agli esseri umani, e in alcuni casi molto intuitiv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Usando degli opportuni traduttori (compilatori ed interpreti) lo stesso programma può essere usato su macchine diver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Fortran, Cobol, Pascal, Ada, C, C++, Java, Lisp, ML, Prolog,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567640" cy="15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Linguaggi di programmazione 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ad alto livell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9144000" cy="50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n linguaggio artificiale per scrivere programm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n linguaggio preciso e rigoroso. Occorre rispettar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a sintassi (regole di composizione dei simboli del linguaggio per ricavarne le istruzioni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a semantica (significato delle istruzioni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l computer è meno tollerante agli “errori” di un uman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784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l compilato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565280"/>
            <a:ext cx="91440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 programma scritto in un linguaggio ad alto livello è detto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programma sorgent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 essere eseguito su un computer, va tradotto nel linguaggio macchina del comput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l </a:t>
            </a:r>
            <a:r>
              <a:rPr b="1" lang="en-US" sz="2800" spc="-1" strike="noStrike">
                <a:solidFill>
                  <a:srgbClr val="336699"/>
                </a:solidFill>
                <a:latin typeface="Verdana"/>
              </a:rPr>
              <a:t>compilator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è un programma che esegue la traduzione, producendo il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programma</a:t>
            </a:r>
            <a:r>
              <a:rPr b="1" lang="en-US" sz="28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oggetto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ossia una sequenza di istruzioni macchin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l compilatore segnala anche eventuali errori di sintassi nella scrittura del programma sorgen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l compilato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417600" y="1658880"/>
            <a:ext cx="287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a P scritto nel linguaggio 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68840" y="1830240"/>
            <a:ext cx="4000320" cy="10688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atore per P sul computer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84760" y="3699000"/>
            <a:ext cx="471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a P’ nel linguaggio macchina di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27080" y="5153040"/>
            <a:ext cx="248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ecuzione di P’ su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74840" y="2417760"/>
            <a:ext cx="1154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48320" y="2930400"/>
            <a:ext cx="3240" cy="76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3708360" y="5157720"/>
            <a:ext cx="2232000" cy="662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L’interpret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914400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 alternativa alla compilazione, un programma sorgente può essere </a:t>
            </a:r>
            <a:r>
              <a:rPr b="1" lang="en-US" sz="3000" spc="-1" strike="noStrike">
                <a:solidFill>
                  <a:srgbClr val="cc0000"/>
                </a:solidFill>
                <a:latin typeface="Verdana"/>
              </a:rPr>
              <a:t>interpretato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n </a:t>
            </a:r>
            <a:r>
              <a:rPr b="1" lang="en-US" sz="3000" spc="-1" strike="noStrike">
                <a:solidFill>
                  <a:srgbClr val="336699"/>
                </a:solidFill>
                <a:latin typeface="Verdana"/>
              </a:rPr>
              <a:t>interprete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è un programma che non produce alcun programma oggetto, ma legge il ogni istruzione del programma sorgente e genera le istruzioni macchina corrispondenti, che vengono passate all’hardware per l’esecuzion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6:49:59Z</dcterms:created>
  <dc:creator>.</dc:creator>
  <dc:description/>
  <dc:language>en-US</dc:language>
  <cp:lastModifiedBy>.</cp:lastModifiedBy>
  <dcterms:modified xsi:type="dcterms:W3CDTF">2005-11-17T10:17:19Z</dcterms:modified>
  <cp:revision>87</cp:revision>
  <dc:subject/>
  <dc:title>Diapositiva 1</dc:title>
</cp:coreProperties>
</file>