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318-6326-4109-962F-517298D2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F15-84EB-4625-AE73-7C75F74F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46B-01A1-4259-AAED-79341642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595-DB12-4C5D-BC9F-F5BB89EF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6250-A98D-4C7E-9980-9CC848EA3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FB57-8EAE-4DC1-BDA7-9BD96EE6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A356-6FFA-4554-A807-FAF5079E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ED46-3EB8-4EB6-A6D7-DB1D1E03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4829-DA47-447A-8B0E-80DDEE87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9E26-22C0-41CB-AA54-8824984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605C-5182-4324-A61B-8B290991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C0A-AF56-4698-AA4B-E9398420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7555-EF85-44B0-A08C-435B2ACE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3448-ADF8-4EE9-986B-D0A898B8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09A0-8373-40FF-99EF-64585F62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55C-0647-4262-8A6F-930D4F22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4396-70F6-4B47-9C60-15CA6661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6AD-47D0-4968-9DBF-2F408B7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997B-6EF5-4E1B-B2C3-82F4B929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E404-A0CF-42EE-A934-A9082AF1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955-D115-4469-802C-4F28285A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0A1-C945-4DED-912F-ECC9F266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4B6-555E-4E2B-B3E1-82E785BE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3A6-81A7-42E3-A0E8-A1449BC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A309-65BA-4D42-8CDF-BF86395405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4FA-C07F-438B-94FC-70B9FCE701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 per lo sviluppo di applicazioni da eseguire in un qualunque ambiente Microsoft Wind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sual Basic è un’implementazione Microsoft dell’originario linguaggio Bas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rpretato (ambiente interattiv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s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uidato dagl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etto dell’applica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zione dell’interfaccia gra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giunta del codice agli elementi visi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cesso di programmazione in Visual Bas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196992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programma è costituita 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i (ciascuno rappresentato da un’icona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tru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interazione dell’utente con un qualunque controllo rappresenta un ev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 ogni controllo sono associati diversi ev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codice è suddiviso in blocchi (rout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routine contiene il codice eseguito quando viene generato un evento su un contro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del mouse, pressione di un tasto, apertura di una finestra, ec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928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Integer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interi -32768 a 32767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3, -453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ub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valori real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0, 12.34, 0,123 E+12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String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Ciao”, “Inserisci il primo numero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Boolean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valori true e fals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rato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matematici:+, -, *, /, Mod, \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su stringhe: + oppure &amp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Esempio: “Visual” &amp; “Basic” = “VisualBasic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condizionali: =, &lt;=, &gt;=, &lt;, &gt;, &lt;&gt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peratori logici: AND, OR, XOR,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35344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Definizione delle variabili usate nel programma e del loro tip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SOMMA, N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NOM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RISULTATO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As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cc0000"/>
                </a:solidFill>
                <a:latin typeface="Verdana"/>
              </a:rPr>
              <a:t>Dou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egnamento di un valore ad una variab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IPPO =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TO = 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SULTATO = PIPPO/PLU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O = “Cia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ngresso/Usci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X = InputBox(“Dammi X”)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leggi X da in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rint X+3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stampa il risultato di X+3 su outpu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55280" y="1773360"/>
            <a:ext cx="864396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condizional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A*A+B*B = C*C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“Triangolo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“Triangolo non rettangol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964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ni in massimo uguale al numero N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2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I 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CONTINU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NO ---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N3 è il nuovo massim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68000" y="1773360"/>
            <a:ext cx="88218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ipet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I &lt; 10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MA = SOMMA +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 = I +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394920" y="620640"/>
            <a:ext cx="86043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strutti di ba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7280" y="620640"/>
            <a:ext cx="55450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95280" y="1628640"/>
            <a:ext cx="4248000" cy="4464360"/>
            <a:chOff x="395280" y="1628640"/>
            <a:chExt cx="4248000" cy="4464360"/>
          </a:xfrm>
        </p:grpSpPr>
        <p:grpSp>
          <p:nvGrpSpPr>
            <p:cNvPr id="303" name=""/>
            <p:cNvGrpSpPr/>
            <p:nvPr/>
          </p:nvGrpSpPr>
          <p:grpSpPr>
            <a:xfrm>
              <a:off x="2034720" y="1972080"/>
              <a:ext cx="1315080" cy="565560"/>
              <a:chOff x="2034720" y="1972080"/>
              <a:chExt cx="1315080" cy="565560"/>
            </a:xfrm>
          </p:grpSpPr>
          <p:sp>
            <p:nvSpPr>
              <p:cNvPr id="304" name=""/>
              <p:cNvSpPr/>
              <p:nvPr/>
            </p:nvSpPr>
            <p:spPr>
              <a:xfrm>
                <a:off x="2034720" y="1972080"/>
                <a:ext cx="131508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50280" y="1974600"/>
                <a:ext cx="1127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928800" y="2894400"/>
              <a:ext cx="3590640" cy="520560"/>
              <a:chOff x="928800" y="2894400"/>
              <a:chExt cx="3590640" cy="520560"/>
            </a:xfrm>
          </p:grpSpPr>
          <p:sp>
            <p:nvSpPr>
              <p:cNvPr id="307" name=""/>
              <p:cNvSpPr/>
              <p:nvPr/>
            </p:nvSpPr>
            <p:spPr>
              <a:xfrm>
                <a:off x="928800" y="2899440"/>
                <a:ext cx="3590640" cy="50292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27400" y="2894400"/>
                <a:ext cx="2591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Leggi 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95280" y="3839040"/>
              <a:ext cx="4248000" cy="45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 = X *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054080" y="4716720"/>
              <a:ext cx="3120120" cy="508320"/>
              <a:chOff x="1054080" y="4716720"/>
              <a:chExt cx="3120120" cy="508320"/>
            </a:xfrm>
          </p:grpSpPr>
          <p:sp>
            <p:nvSpPr>
              <p:cNvPr id="311" name=""/>
              <p:cNvSpPr/>
              <p:nvPr/>
            </p:nvSpPr>
            <p:spPr>
              <a:xfrm>
                <a:off x="1054080" y="4721760"/>
                <a:ext cx="3120120" cy="503280"/>
              </a:xfrm>
              <a:prstGeom prst="flowChartInputOutpu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80040" y="4716720"/>
                <a:ext cx="21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ampa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040840" y="5527440"/>
              <a:ext cx="1314720" cy="565560"/>
              <a:chOff x="2040840" y="5527440"/>
              <a:chExt cx="1314720" cy="565560"/>
            </a:xfrm>
          </p:grpSpPr>
          <p:sp>
            <p:nvSpPr>
              <p:cNvPr id="314" name=""/>
              <p:cNvSpPr/>
              <p:nvPr/>
            </p:nvSpPr>
            <p:spPr>
              <a:xfrm>
                <a:off x="2040840" y="5527440"/>
                <a:ext cx="1314720" cy="5655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56400" y="5528520"/>
                <a:ext cx="112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O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2696760" y="162864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96760" y="2561040"/>
              <a:ext cx="0" cy="3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96760" y="341388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96760" y="4345200"/>
              <a:ext cx="0" cy="42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96760" y="5198400"/>
              <a:ext cx="0" cy="36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148360" y="2535120"/>
            <a:ext cx="16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94400" y="1557360"/>
            <a:ext cx="4485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 X,P as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X = InputBox(“Dammi X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 = X*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NT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ea di un rettango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base, altezza, area as Inte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base = InputBox(“Inserisci la base: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ltezza = InputBox(“Inserisci l’altezza”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 area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ire se un triangolo è equilatero, isoscele o scale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787400"/>
            <a:ext cx="83343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, B,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 = InputBox("Inserisci il lato A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 = InputBox("Inserisci il lato B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 = InputBox("Inserisci il lato C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Equilatero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 = B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B = C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Or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C = 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Isoscele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Triangolo Scalen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720" y="40428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Trasformare la propria media espressa in trentesimi in centodeci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8600" y="1860480"/>
            <a:ext cx="868176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A = InputBox("Dammi la tua media"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"La tua media espressa in centodecimi è"; A / 3*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re la media dei propri vot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85672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Mai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, NumeroVoti, Somm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Print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Inserisci i tuoi voti”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Voto &lt;&gt; -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NumeroVoti = NumeroVoti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omma = Somma + V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oto =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nput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(“Inserisci un voto (-1 per finire)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“La tua media è” &amp; Somma/NumeroVoti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5640" y="475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are per quanti giorni la temperatura è sta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periore ai 30 grad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4680" y="1860480"/>
            <a:ext cx="890568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, Temperatura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nserisci una serie di temperature quotidiane (terminata da -400)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lt;&gt; -4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Temperatura &gt; 30 T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emperatura = InputBox("Dammi un valore di temperatura"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"Il numero totale di giorni afosi è “ &amp; Con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5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036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lcolare se un certo anno sarà bisest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37600" y="1716120"/>
            <a:ext cx="868212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ub Main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Dim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s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o = InputBox("Inserisci l'anno"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4 =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If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100 = 0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An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Anno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od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400 &lt;&gt; 0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    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"Anno Non bisestil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End Sub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137440" cy="16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ommare 100 numeri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(Trovare l’errore…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3024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1276200"/>
            <a:ext cx="295272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Somma +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418440" y="1257480"/>
            <a:ext cx="28047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omma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Conta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Num = InputBox(“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ta = Conta + 1</a:t>
            </a: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W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Verdana"/>
              </a:rPr>
              <a:t>MsgBox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S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8720" y="304920"/>
            <a:ext cx="9251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tre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206064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2360" y="292572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1, N2,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56536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716280"/>
            <a:ext cx="15130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6364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4560" y="4581360"/>
            <a:ext cx="1296720" cy="115272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573408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6093000"/>
            <a:ext cx="324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0364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18446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2133720"/>
            <a:ext cx="1297080" cy="1152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&gt;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4797360"/>
            <a:ext cx="151272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5445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763280" y="5877000"/>
            <a:ext cx="187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789360"/>
            <a:ext cx="2879640" cy="503280"/>
          </a:xfrm>
          <a:prstGeom prst="parallelogram">
            <a:avLst>
              <a:gd name="adj" fmla="val 14304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3284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3440" y="4797360"/>
            <a:ext cx="107964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88000" y="4292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51640" y="2349360"/>
            <a:ext cx="1513080" cy="6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2997360"/>
            <a:ext cx="0" cy="50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236000" y="27082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87640" y="350028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304920"/>
            <a:ext cx="8461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Ricerca del massimo tra N nume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omma di K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16000" y="41482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6000" y="4869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=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365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8360" y="3357720"/>
            <a:ext cx="2303640" cy="502920"/>
          </a:xfrm>
          <a:prstGeom prst="parallelogram">
            <a:avLst>
              <a:gd name="adj" fmla="val 1145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4149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61080" y="306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610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3284640"/>
            <a:ext cx="2303280" cy="503280"/>
          </a:xfrm>
          <a:prstGeom prst="parallelogram">
            <a:avLst>
              <a:gd name="adj" fmla="val 11441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Prodotto di 2 numeri col metodo delle addizioni successiv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4149720"/>
            <a:ext cx="0" cy="19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4365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364500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D = PROD+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 = 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58920" y="3068640"/>
            <a:ext cx="180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149720"/>
            <a:ext cx="1800" cy="79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3284640"/>
            <a:ext cx="2484360" cy="503280"/>
          </a:xfrm>
          <a:prstGeom prst="parallelogram">
            <a:avLst>
              <a:gd name="adj" fmla="val 1234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dia tra N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6000" y="544500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51280" y="4149720"/>
            <a:ext cx="208908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 = S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494172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5445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4869000"/>
            <a:ext cx="0" cy="57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0720" y="263700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276720" y="573408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4363920"/>
            <a:ext cx="2627280" cy="503280"/>
          </a:xfrm>
          <a:prstGeom prst="parallelogram">
            <a:avLst>
              <a:gd name="adj" fmla="val 13050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465300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77080" y="3286080"/>
            <a:ext cx="1728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A = S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0720" y="378936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in un insieme di numeri quanti sono maggiori di 5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2133720"/>
            <a:ext cx="1079280" cy="50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26384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3645000"/>
            <a:ext cx="1512720" cy="50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600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16000" y="5013360"/>
            <a:ext cx="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16000" y="6093000"/>
            <a:ext cx="144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556000" y="1844280"/>
            <a:ext cx="0" cy="424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56000" y="1844640"/>
            <a:ext cx="2303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227664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&lt;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59280" y="184464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6000" y="3860640"/>
            <a:ext cx="1079280" cy="505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4724280"/>
            <a:ext cx="2016360" cy="43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 = CON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4720" y="5445000"/>
            <a:ext cx="1224000" cy="43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I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858920" y="3068640"/>
            <a:ext cx="180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3860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5877000"/>
            <a:ext cx="0" cy="21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40720" y="3500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40720" y="263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76720" y="609300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276720" y="2060280"/>
            <a:ext cx="0" cy="403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2060640"/>
            <a:ext cx="1582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8720" y="263700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84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0000" y="2205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2854440"/>
            <a:ext cx="2160720" cy="503280"/>
          </a:xfrm>
          <a:prstGeom prst="parallelogram">
            <a:avLst>
              <a:gd name="adj" fmla="val 1073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16720" y="2997360"/>
            <a:ext cx="2627280" cy="502920"/>
          </a:xfrm>
          <a:prstGeom prst="parallelogram">
            <a:avLst>
              <a:gd name="adj" fmla="val 13060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mpa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16000" y="4149720"/>
            <a:ext cx="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5280" y="4508640"/>
            <a:ext cx="1512720" cy="50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08360" y="3357720"/>
            <a:ext cx="2484360" cy="502920"/>
          </a:xfrm>
          <a:prstGeom prst="parallelogram">
            <a:avLst>
              <a:gd name="adj" fmla="val 1234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59280" y="4941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4149720"/>
            <a:ext cx="1297080" cy="79200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508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88000" y="4508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8800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859280" y="5300640"/>
            <a:ext cx="172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Visual Basic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2-12T16:52:51Z</dcterms:modified>
  <cp:revision>112</cp:revision>
  <dc:subject/>
  <dc:title>Diapositiva 1</dc:title>
</cp:coreProperties>
</file>