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E640-3411-4A1A-BF66-8EA551997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7B12-24E1-4926-BE8C-DF28129B8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3007-2CB8-4D27-A2A0-5BE194F8E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8EB2-B2A3-4774-98C9-1BBF5E1A4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30CF-C817-4A29-9F5A-602B3DC568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561B-8C53-4692-9271-FAE586E27D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A507-FDDC-4798-B3C3-CF5E739C94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1150-FFAE-476C-B997-93FED4A7D3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DD9C-DE0A-4A21-AC0D-38618D8C72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41E2-8EB7-49A8-AD1F-3C738A27F1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C7F97-B339-426E-A2E0-127450C950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3EAA-3CA6-48EB-BFE4-0B362E5E4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09DD-5139-4B6F-993F-DACCEEB122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B3BA-38F7-415C-8044-2A9C3921B9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EE11-012F-46B6-886B-986E23C477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B2641-058A-4DF5-80D6-0F803C9AF5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8A75-594A-41F8-A3C5-BD6FAF45A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82AA-5902-4AFE-A4A4-E353B22DB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E1C8-4177-4385-9953-0FDCD9EB2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E254-AB6B-4B5A-B7BD-686DFE5EE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1B22-EE88-4259-B80F-5D06B55B7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A509-3439-41F0-9E39-FA9191E4D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D10C-4FBC-48FF-9A34-135EFF73A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BE3B-8CBB-4458-B1B5-B3A1C3F34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EF34-011A-4660-AB6B-20863E375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3AD1-70CE-4D36-BDE0-A55EE3BC6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5E13-3A87-4358-9887-40EA4E6A2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2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1027"/>
          <p:cNvSpPr/>
          <p:nvPr/>
        </p:nvSpPr>
        <p:spPr>
          <a:xfrm>
            <a:off x="609480" y="1303200"/>
            <a:ext cx="792504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Separating Interface from 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ontrolling Access to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Access-Functions and Utility-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Using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Using Data Me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2C9A-7DD7-42C6-B421-5813C5CB0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class members/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name as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 variables can be initialized by the constructor or set after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ng arguments to a constru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object of a class is declared, initializers can be prov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of declaration with initializ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1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-type ObjectName( value1,value2,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s may also be specified in the constructor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1242-53F1-491C-9913-BD94FFE82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3"/>
          <p:cNvGrpSpPr/>
          <p:nvPr/>
        </p:nvGrpSpPr>
        <p:grpSpPr>
          <a:xfrm>
            <a:off x="0" y="0"/>
            <a:ext cx="6705000" cy="6324120"/>
            <a:chOff x="0" y="0"/>
            <a:chExt cx="6705000" cy="6324120"/>
          </a:xfrm>
        </p:grpSpPr>
        <p:grpSp>
          <p:nvGrpSpPr>
            <p:cNvPr id="423" name="Group 28"/>
            <p:cNvGrpSpPr/>
            <p:nvPr/>
          </p:nvGrpSpPr>
          <p:grpSpPr>
            <a:xfrm>
              <a:off x="0" y="0"/>
              <a:ext cx="6705000" cy="274680"/>
              <a:chOff x="0" y="0"/>
              <a:chExt cx="6705000" cy="274680"/>
            </a:xfrm>
          </p:grpSpPr>
          <p:sp>
            <p:nvSpPr>
              <p:cNvPr id="424" name="Rectangle 27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4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8: tim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30"/>
            <p:cNvGrpSpPr/>
            <p:nvPr/>
          </p:nvGrpSpPr>
          <p:grpSpPr>
            <a:xfrm>
              <a:off x="0" y="274680"/>
              <a:ext cx="6705000" cy="274680"/>
              <a:chOff x="0" y="274680"/>
              <a:chExt cx="6705000" cy="274680"/>
            </a:xfrm>
          </p:grpSpPr>
          <p:sp>
            <p:nvSpPr>
              <p:cNvPr id="427" name="Rectangle 29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5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32"/>
            <p:cNvGrpSpPr/>
            <p:nvPr/>
          </p:nvGrpSpPr>
          <p:grpSpPr>
            <a:xfrm>
              <a:off x="0" y="549720"/>
              <a:ext cx="6705000" cy="275040"/>
              <a:chOff x="0" y="549720"/>
              <a:chExt cx="6705000" cy="275040"/>
            </a:xfrm>
          </p:grpSpPr>
          <p:sp>
            <p:nvSpPr>
              <p:cNvPr id="430" name="Rectangle 31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6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are defined in tim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34"/>
            <p:cNvGrpSpPr/>
            <p:nvPr/>
          </p:nvGrpSpPr>
          <p:grpSpPr>
            <a:xfrm>
              <a:off x="0" y="824760"/>
              <a:ext cx="6705000" cy="274680"/>
              <a:chOff x="0" y="824760"/>
              <a:chExt cx="6705000" cy="274680"/>
            </a:xfrm>
          </p:grpSpPr>
          <p:sp>
            <p:nvSpPr>
              <p:cNvPr id="433" name="Rectangle 33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7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36"/>
            <p:cNvGrpSpPr/>
            <p:nvPr/>
          </p:nvGrpSpPr>
          <p:grpSpPr>
            <a:xfrm>
              <a:off x="0" y="1099800"/>
              <a:ext cx="6705000" cy="274680"/>
              <a:chOff x="0" y="1099800"/>
              <a:chExt cx="6705000" cy="274680"/>
            </a:xfrm>
          </p:grpSpPr>
          <p:sp>
            <p:nvSpPr>
              <p:cNvPr id="436" name="Rectangle 35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8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38"/>
            <p:cNvGrpSpPr/>
            <p:nvPr/>
          </p:nvGrpSpPr>
          <p:grpSpPr>
            <a:xfrm>
              <a:off x="0" y="1374840"/>
              <a:ext cx="6705000" cy="274680"/>
              <a:chOff x="0" y="1374840"/>
              <a:chExt cx="6705000" cy="274680"/>
            </a:xfrm>
          </p:grpSpPr>
          <p:sp>
            <p:nvSpPr>
              <p:cNvPr id="439" name="Rectangle 37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9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40"/>
            <p:cNvGrpSpPr/>
            <p:nvPr/>
          </p:nvGrpSpPr>
          <p:grpSpPr>
            <a:xfrm>
              <a:off x="0" y="1649520"/>
              <a:ext cx="6705000" cy="275040"/>
              <a:chOff x="0" y="1649520"/>
              <a:chExt cx="6705000" cy="275040"/>
            </a:xfrm>
          </p:grpSpPr>
          <p:sp>
            <p:nvSpPr>
              <p:cNvPr id="442" name="Rectangle 39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42"/>
            <p:cNvGrpSpPr/>
            <p:nvPr/>
          </p:nvGrpSpPr>
          <p:grpSpPr>
            <a:xfrm>
              <a:off x="0" y="1924920"/>
              <a:ext cx="6705000" cy="274680"/>
              <a:chOff x="0" y="1924920"/>
              <a:chExt cx="6705000" cy="274680"/>
            </a:xfrm>
          </p:grpSpPr>
          <p:sp>
            <p:nvSpPr>
              <p:cNvPr id="445" name="Rectangle 41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11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0" y="2199600"/>
              <a:ext cx="6705000" cy="274680"/>
              <a:chOff x="0" y="2199600"/>
              <a:chExt cx="6705000" cy="274680"/>
            </a:xfrm>
          </p:grpSpPr>
          <p:sp>
            <p:nvSpPr>
              <p:cNvPr id="448" name="Rectangle 43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2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46"/>
            <p:cNvGrpSpPr/>
            <p:nvPr/>
          </p:nvGrpSpPr>
          <p:grpSpPr>
            <a:xfrm>
              <a:off x="0" y="2474640"/>
              <a:ext cx="6705000" cy="274680"/>
              <a:chOff x="0" y="2474640"/>
              <a:chExt cx="6705000" cy="274680"/>
            </a:xfrm>
          </p:grpSpPr>
          <p:sp>
            <p:nvSpPr>
              <p:cNvPr id="451" name="Rectangle 45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13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48"/>
            <p:cNvGrpSpPr/>
            <p:nvPr/>
          </p:nvGrpSpPr>
          <p:grpSpPr>
            <a:xfrm>
              <a:off x="0" y="2749680"/>
              <a:ext cx="6705000" cy="275040"/>
              <a:chOff x="0" y="2749680"/>
              <a:chExt cx="6705000" cy="275040"/>
            </a:xfrm>
          </p:grpSpPr>
          <p:sp>
            <p:nvSpPr>
              <p:cNvPr id="454" name="Rectangle 47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14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50"/>
            <p:cNvGrpSpPr/>
            <p:nvPr/>
          </p:nvGrpSpPr>
          <p:grpSpPr>
            <a:xfrm>
              <a:off x="0" y="3024720"/>
              <a:ext cx="6705000" cy="274680"/>
              <a:chOff x="0" y="3024720"/>
              <a:chExt cx="6705000" cy="274680"/>
            </a:xfrm>
          </p:grpSpPr>
          <p:sp>
            <p:nvSpPr>
              <p:cNvPr id="457" name="Rectangle 49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15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52"/>
            <p:cNvGrpSpPr/>
            <p:nvPr/>
          </p:nvGrpSpPr>
          <p:grpSpPr>
            <a:xfrm>
              <a:off x="0" y="3299760"/>
              <a:ext cx="6705000" cy="274680"/>
              <a:chOff x="0" y="3299760"/>
              <a:chExt cx="6705000" cy="274680"/>
            </a:xfrm>
          </p:grpSpPr>
          <p:sp>
            <p:nvSpPr>
              <p:cNvPr id="460" name="Rectangle 51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16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54"/>
            <p:cNvGrpSpPr/>
            <p:nvPr/>
          </p:nvGrpSpPr>
          <p:grpSpPr>
            <a:xfrm>
              <a:off x="0" y="3574800"/>
              <a:ext cx="6705000" cy="274680"/>
              <a:chOff x="0" y="3574800"/>
              <a:chExt cx="6705000" cy="274680"/>
            </a:xfrm>
          </p:grpSpPr>
          <p:sp>
            <p:nvSpPr>
              <p:cNvPr id="463" name="Rectangle 53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17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56"/>
            <p:cNvGrpSpPr/>
            <p:nvPr/>
          </p:nvGrpSpPr>
          <p:grpSpPr>
            <a:xfrm>
              <a:off x="0" y="3849480"/>
              <a:ext cx="6705000" cy="275040"/>
              <a:chOff x="0" y="3849480"/>
              <a:chExt cx="6705000" cy="275040"/>
            </a:xfrm>
          </p:grpSpPr>
          <p:sp>
            <p:nvSpPr>
              <p:cNvPr id="466" name="Rectangle 55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18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58"/>
            <p:cNvGrpSpPr/>
            <p:nvPr/>
          </p:nvGrpSpPr>
          <p:grpSpPr>
            <a:xfrm>
              <a:off x="0" y="4124880"/>
              <a:ext cx="6705000" cy="274680"/>
              <a:chOff x="0" y="4124880"/>
              <a:chExt cx="6705000" cy="274680"/>
            </a:xfrm>
          </p:grpSpPr>
          <p:sp>
            <p:nvSpPr>
              <p:cNvPr id="469" name="Rectangle 57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19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60"/>
            <p:cNvGrpSpPr/>
            <p:nvPr/>
          </p:nvGrpSpPr>
          <p:grpSpPr>
            <a:xfrm>
              <a:off x="0" y="4399560"/>
              <a:ext cx="6705000" cy="274680"/>
              <a:chOff x="0" y="4399560"/>
              <a:chExt cx="6705000" cy="274680"/>
            </a:xfrm>
          </p:grpSpPr>
          <p:sp>
            <p:nvSpPr>
              <p:cNvPr id="472" name="Rectangle 59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20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62"/>
            <p:cNvGrpSpPr/>
            <p:nvPr/>
          </p:nvGrpSpPr>
          <p:grpSpPr>
            <a:xfrm>
              <a:off x="0" y="4674600"/>
              <a:ext cx="6705000" cy="274680"/>
              <a:chOff x="0" y="4674600"/>
              <a:chExt cx="6705000" cy="274680"/>
            </a:xfrm>
          </p:grpSpPr>
          <p:sp>
            <p:nvSpPr>
              <p:cNvPr id="475" name="Rectangle 61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21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64"/>
            <p:cNvGrpSpPr/>
            <p:nvPr/>
          </p:nvGrpSpPr>
          <p:grpSpPr>
            <a:xfrm>
              <a:off x="0" y="4949640"/>
              <a:ext cx="6705000" cy="274680"/>
              <a:chOff x="0" y="4949640"/>
              <a:chExt cx="6705000" cy="274680"/>
            </a:xfrm>
          </p:grpSpPr>
          <p:sp>
            <p:nvSpPr>
              <p:cNvPr id="478" name="Rectangle 63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22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66"/>
            <p:cNvGrpSpPr/>
            <p:nvPr/>
          </p:nvGrpSpPr>
          <p:grpSpPr>
            <a:xfrm>
              <a:off x="0" y="5224680"/>
              <a:ext cx="6705000" cy="275040"/>
              <a:chOff x="0" y="5224680"/>
              <a:chExt cx="6705000" cy="275040"/>
            </a:xfrm>
          </p:grpSpPr>
          <p:sp>
            <p:nvSpPr>
              <p:cNvPr id="481" name="Rectangle 65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23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68"/>
            <p:cNvGrpSpPr/>
            <p:nvPr/>
          </p:nvGrpSpPr>
          <p:grpSpPr>
            <a:xfrm>
              <a:off x="0" y="5499720"/>
              <a:ext cx="6705000" cy="274680"/>
              <a:chOff x="0" y="5499720"/>
              <a:chExt cx="6705000" cy="274680"/>
            </a:xfrm>
          </p:grpSpPr>
          <p:sp>
            <p:nvSpPr>
              <p:cNvPr id="484" name="Rectangle 67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24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70"/>
            <p:cNvGrpSpPr/>
            <p:nvPr/>
          </p:nvGrpSpPr>
          <p:grpSpPr>
            <a:xfrm>
              <a:off x="0" y="5774760"/>
              <a:ext cx="6705000" cy="274680"/>
              <a:chOff x="0" y="5774760"/>
              <a:chExt cx="6705000" cy="274680"/>
            </a:xfrm>
          </p:grpSpPr>
          <p:sp>
            <p:nvSpPr>
              <p:cNvPr id="487" name="Rectangle 69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25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0" y="6049440"/>
              <a:ext cx="6705000" cy="274680"/>
              <a:chOff x="0" y="6049440"/>
              <a:chExt cx="6705000" cy="274680"/>
            </a:xfrm>
          </p:grpSpPr>
          <p:sp>
            <p:nvSpPr>
              <p:cNvPr id="490" name="Rectangle 71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26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2" name="Group 78"/>
          <p:cNvGrpSpPr/>
          <p:nvPr/>
        </p:nvGrpSpPr>
        <p:grpSpPr>
          <a:xfrm>
            <a:off x="3733560" y="2971800"/>
            <a:ext cx="5334120" cy="2040840"/>
            <a:chOff x="3733560" y="2971800"/>
            <a:chExt cx="5334120" cy="2040840"/>
          </a:xfrm>
        </p:grpSpPr>
        <p:sp>
          <p:nvSpPr>
            <p:cNvPr id="493" name="Line 74"/>
            <p:cNvSpPr/>
            <p:nvPr/>
          </p:nvSpPr>
          <p:spPr>
            <a:xfrm flipH="1">
              <a:off x="3733560" y="3124080"/>
              <a:ext cx="2819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75"/>
            <p:cNvSpPr/>
            <p:nvPr/>
          </p:nvSpPr>
          <p:spPr>
            <a:xfrm>
              <a:off x="6477120" y="2971800"/>
              <a:ext cx="259056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at default settings for the three member variables are set in constructor prototype.  No names are needed; the defaults are applied in the order the member variables ar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its defaul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6BED-39F6-4DF8-A2E0-B97982CFD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Group 316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498" name="Group 251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499" name="Rectangle 250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217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8: fig06_0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253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502" name="Rectangle 252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218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a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255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505" name="Rectangle 254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219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 for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257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508" name="Rectangle 256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220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259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511" name="Rectangle 258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221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261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514" name="Rectangle 260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222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263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517" name="Rectangle 262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223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265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520" name="Rectangle 264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224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267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523" name="Rectangle 266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225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69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526" name="Rectangle 268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226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71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529" name="Rectangle 270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227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273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532" name="Rectangle 272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228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75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535" name="Rectangle 274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229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1,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 arguments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77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538" name="Rectangle 276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230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2(2),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inute and second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79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541" name="Rectangle 278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231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3(21, 34),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cond defaul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281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544" name="Rectangle 280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232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4(12, 25, 42)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283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547" name="Rectangle 282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233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5(27, 74, 99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 bad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285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550" name="Rectangle 284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234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287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553" name="Rectangle 286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235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onstructed with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289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556" name="Rectangle 288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236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all arguments defaulted: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291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559" name="Rectangle 290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237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1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93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562" name="Rectangle 292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238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95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565" name="Rectangle 294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239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1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97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568" name="Rectangle 296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240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299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571" name="Rectangle 298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241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 specified; minute and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01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574" name="Rectangle 300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242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03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577" name="Rectangle 302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243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2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305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580" name="Rectangle 304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244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307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583" name="Rectangle 306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245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2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309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586" name="Rectangle 308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246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311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589" name="Rectangle 310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247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 and minute specified;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313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592" name="Rectangle 312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248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315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595" name="Rectangle 314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249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3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reate objects using default argument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th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 320"/>
          <p:cNvGrpSpPr/>
          <p:nvPr/>
        </p:nvGrpSpPr>
        <p:grpSpPr>
          <a:xfrm>
            <a:off x="1905120" y="762120"/>
            <a:ext cx="4876560" cy="1828800"/>
            <a:chOff x="1905120" y="762120"/>
            <a:chExt cx="4876560" cy="1828800"/>
          </a:xfrm>
        </p:grpSpPr>
        <p:sp>
          <p:nvSpPr>
            <p:cNvPr id="599" name="Text Box 321"/>
            <p:cNvSpPr/>
            <p:nvPr/>
          </p:nvSpPr>
          <p:spPr>
            <a:xfrm>
              <a:off x="2514600" y="762120"/>
              <a:ext cx="4267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objects are initialized: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nstru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bjectNam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alue1,value2…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t enough values are specified, the rightmost values are set to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322"/>
            <p:cNvSpPr/>
            <p:nvPr/>
          </p:nvSpPr>
          <p:spPr>
            <a:xfrm flipH="1">
              <a:off x="1905120" y="182880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0862-F3CE-455D-83A5-D807496B1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(continued)  Print the objects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50"/>
          <p:cNvSpPr/>
          <p:nvPr/>
        </p:nvSpPr>
        <p:spPr>
          <a:xfrm>
            <a:off x="0" y="3657600"/>
            <a:ext cx="670572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ed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 arguments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specified; minute and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2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nd minute specified;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1: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9:34:0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, minute, and second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25:4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 invalid values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00:00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4"/>
          <p:cNvGrpSpPr/>
          <p:nvPr/>
        </p:nvGrpSpPr>
        <p:grpSpPr>
          <a:xfrm>
            <a:off x="4343040" y="3689280"/>
            <a:ext cx="3200760" cy="1554120"/>
            <a:chOff x="4343040" y="3689280"/>
            <a:chExt cx="3200760" cy="1554120"/>
          </a:xfrm>
        </p:grpSpPr>
        <p:sp>
          <p:nvSpPr>
            <p:cNvPr id="605" name="Text Box 51"/>
            <p:cNvSpPr/>
            <p:nvPr/>
          </p:nvSpPr>
          <p:spPr>
            <a:xfrm>
              <a:off x="5867280" y="3689280"/>
              <a:ext cx="16765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en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specified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e set to their default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53"/>
            <p:cNvSpPr/>
            <p:nvPr/>
          </p:nvSpPr>
          <p:spPr>
            <a:xfrm flipH="1">
              <a:off x="4343040" y="41911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109"/>
          <p:cNvGrpSpPr/>
          <p:nvPr/>
        </p:nvGrpSpPr>
        <p:grpSpPr>
          <a:xfrm>
            <a:off x="0" y="0"/>
            <a:ext cx="6705000" cy="3657600"/>
            <a:chOff x="0" y="0"/>
            <a:chExt cx="6705000" cy="3657600"/>
          </a:xfrm>
        </p:grpSpPr>
        <p:grpSp>
          <p:nvGrpSpPr>
            <p:cNvPr id="608" name="Group 74"/>
            <p:cNvGrpSpPr/>
            <p:nvPr/>
          </p:nvGrpSpPr>
          <p:grpSpPr>
            <a:xfrm>
              <a:off x="0" y="0"/>
              <a:ext cx="6705000" cy="203040"/>
              <a:chOff x="0" y="0"/>
              <a:chExt cx="6705000" cy="203040"/>
            </a:xfrm>
          </p:grpSpPr>
          <p:sp>
            <p:nvSpPr>
              <p:cNvPr id="609" name="Rectangle 73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55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76"/>
            <p:cNvGrpSpPr/>
            <p:nvPr/>
          </p:nvGrpSpPr>
          <p:grpSpPr>
            <a:xfrm>
              <a:off x="0" y="203040"/>
              <a:ext cx="6705000" cy="203040"/>
              <a:chOff x="0" y="203040"/>
              <a:chExt cx="6705000" cy="203040"/>
            </a:xfrm>
          </p:grpSpPr>
          <p:sp>
            <p:nvSpPr>
              <p:cNvPr id="612" name="Rectangle 75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56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3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78"/>
            <p:cNvGrpSpPr/>
            <p:nvPr/>
          </p:nvGrpSpPr>
          <p:grpSpPr>
            <a:xfrm>
              <a:off x="0" y="406080"/>
              <a:ext cx="6705000" cy="203040"/>
              <a:chOff x="0" y="406080"/>
              <a:chExt cx="6705000" cy="203040"/>
            </a:xfrm>
          </p:grpSpPr>
          <p:sp>
            <p:nvSpPr>
              <p:cNvPr id="615" name="Rectangle 77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57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80"/>
            <p:cNvGrpSpPr/>
            <p:nvPr/>
          </p:nvGrpSpPr>
          <p:grpSpPr>
            <a:xfrm>
              <a:off x="0" y="609480"/>
              <a:ext cx="6705000" cy="203040"/>
              <a:chOff x="0" y="609480"/>
              <a:chExt cx="6705000" cy="203040"/>
            </a:xfrm>
          </p:grpSpPr>
          <p:sp>
            <p:nvSpPr>
              <p:cNvPr id="618" name="Rectangle 79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58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, minute, and second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82"/>
            <p:cNvGrpSpPr/>
            <p:nvPr/>
          </p:nvGrpSpPr>
          <p:grpSpPr>
            <a:xfrm>
              <a:off x="0" y="812520"/>
              <a:ext cx="6705000" cy="203040"/>
              <a:chOff x="0" y="812520"/>
              <a:chExt cx="6705000" cy="203040"/>
            </a:xfrm>
          </p:grpSpPr>
          <p:sp>
            <p:nvSpPr>
              <p:cNvPr id="621" name="Rectangle 81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59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84"/>
            <p:cNvGrpSpPr/>
            <p:nvPr/>
          </p:nvGrpSpPr>
          <p:grpSpPr>
            <a:xfrm>
              <a:off x="0" y="1015920"/>
              <a:ext cx="6705000" cy="203040"/>
              <a:chOff x="0" y="1015920"/>
              <a:chExt cx="6705000" cy="203040"/>
            </a:xfrm>
          </p:grpSpPr>
          <p:sp>
            <p:nvSpPr>
              <p:cNvPr id="624" name="Rectangle 83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60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4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86"/>
            <p:cNvGrpSpPr/>
            <p:nvPr/>
          </p:nvGrpSpPr>
          <p:grpSpPr>
            <a:xfrm>
              <a:off x="0" y="1218960"/>
              <a:ext cx="6705000" cy="203040"/>
              <a:chOff x="0" y="1218960"/>
              <a:chExt cx="6705000" cy="203040"/>
            </a:xfrm>
          </p:grpSpPr>
          <p:sp>
            <p:nvSpPr>
              <p:cNvPr id="627" name="Rectangle 85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61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88"/>
            <p:cNvGrpSpPr/>
            <p:nvPr/>
          </p:nvGrpSpPr>
          <p:grpSpPr>
            <a:xfrm>
              <a:off x="0" y="1422360"/>
              <a:ext cx="6705000" cy="203040"/>
              <a:chOff x="0" y="1422360"/>
              <a:chExt cx="6705000" cy="203040"/>
            </a:xfrm>
          </p:grpSpPr>
          <p:sp>
            <p:nvSpPr>
              <p:cNvPr id="630" name="Rectangle 87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62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4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90"/>
            <p:cNvGrpSpPr/>
            <p:nvPr/>
          </p:nvGrpSpPr>
          <p:grpSpPr>
            <a:xfrm>
              <a:off x="0" y="1625400"/>
              <a:ext cx="6705000" cy="203040"/>
              <a:chOff x="0" y="1625400"/>
              <a:chExt cx="6705000" cy="203040"/>
            </a:xfrm>
          </p:grpSpPr>
          <p:sp>
            <p:nvSpPr>
              <p:cNvPr id="633" name="Rectangle 89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63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2"/>
            <p:cNvGrpSpPr/>
            <p:nvPr/>
          </p:nvGrpSpPr>
          <p:grpSpPr>
            <a:xfrm>
              <a:off x="0" y="1828800"/>
              <a:ext cx="6705000" cy="203040"/>
              <a:chOff x="0" y="1828800"/>
              <a:chExt cx="6705000" cy="203040"/>
            </a:xfrm>
          </p:grpSpPr>
          <p:sp>
            <p:nvSpPr>
              <p:cNvPr id="636" name="Rectangle 91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64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all invalid values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94"/>
            <p:cNvGrpSpPr/>
            <p:nvPr/>
          </p:nvGrpSpPr>
          <p:grpSpPr>
            <a:xfrm>
              <a:off x="0" y="2031840"/>
              <a:ext cx="6705000" cy="203040"/>
              <a:chOff x="0" y="2031840"/>
              <a:chExt cx="6705000" cy="203040"/>
            </a:xfrm>
          </p:grpSpPr>
          <p:sp>
            <p:nvSpPr>
              <p:cNvPr id="639" name="Rectangle 93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65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96"/>
            <p:cNvGrpSpPr/>
            <p:nvPr/>
          </p:nvGrpSpPr>
          <p:grpSpPr>
            <a:xfrm>
              <a:off x="0" y="2235240"/>
              <a:ext cx="6705000" cy="203040"/>
              <a:chOff x="0" y="2235240"/>
              <a:chExt cx="6705000" cy="203040"/>
            </a:xfrm>
          </p:grpSpPr>
          <p:sp>
            <p:nvSpPr>
              <p:cNvPr id="642" name="Rectangle 95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66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5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98"/>
            <p:cNvGrpSpPr/>
            <p:nvPr/>
          </p:nvGrpSpPr>
          <p:grpSpPr>
            <a:xfrm>
              <a:off x="0" y="2438280"/>
              <a:ext cx="6705000" cy="203040"/>
              <a:chOff x="0" y="2438280"/>
              <a:chExt cx="6705000" cy="203040"/>
            </a:xfrm>
          </p:grpSpPr>
          <p:sp>
            <p:nvSpPr>
              <p:cNvPr id="645" name="Rectangle 97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67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100"/>
            <p:cNvGrpSpPr/>
            <p:nvPr/>
          </p:nvGrpSpPr>
          <p:grpSpPr>
            <a:xfrm>
              <a:off x="0" y="2641680"/>
              <a:ext cx="6705000" cy="203040"/>
              <a:chOff x="0" y="2641680"/>
              <a:chExt cx="6705000" cy="203040"/>
            </a:xfrm>
          </p:grpSpPr>
          <p:sp>
            <p:nvSpPr>
              <p:cNvPr id="648" name="Rectangle 99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68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5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102"/>
            <p:cNvGrpSpPr/>
            <p:nvPr/>
          </p:nvGrpSpPr>
          <p:grpSpPr>
            <a:xfrm>
              <a:off x="0" y="2844720"/>
              <a:ext cx="6705000" cy="203040"/>
              <a:chOff x="0" y="2844720"/>
              <a:chExt cx="6705000" cy="203040"/>
            </a:xfrm>
          </p:grpSpPr>
          <p:sp>
            <p:nvSpPr>
              <p:cNvPr id="651" name="Rectangle 101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69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104"/>
            <p:cNvGrpSpPr/>
            <p:nvPr/>
          </p:nvGrpSpPr>
          <p:grpSpPr>
            <a:xfrm>
              <a:off x="0" y="3048120"/>
              <a:ext cx="6705000" cy="203040"/>
              <a:chOff x="0" y="3048120"/>
              <a:chExt cx="6705000" cy="203040"/>
            </a:xfrm>
          </p:grpSpPr>
          <p:sp>
            <p:nvSpPr>
              <p:cNvPr id="654" name="Rectangle 103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Rectangle 70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106"/>
            <p:cNvGrpSpPr/>
            <p:nvPr/>
          </p:nvGrpSpPr>
          <p:grpSpPr>
            <a:xfrm>
              <a:off x="0" y="3251160"/>
              <a:ext cx="6705000" cy="203040"/>
              <a:chOff x="0" y="3251160"/>
              <a:chExt cx="6705000" cy="203040"/>
            </a:xfrm>
          </p:grpSpPr>
          <p:sp>
            <p:nvSpPr>
              <p:cNvPr id="657" name="Rectangle 105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Rectangle 71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Group 108"/>
            <p:cNvGrpSpPr/>
            <p:nvPr/>
          </p:nvGrpSpPr>
          <p:grpSpPr>
            <a:xfrm>
              <a:off x="0" y="3454560"/>
              <a:ext cx="6705000" cy="203040"/>
              <a:chOff x="0" y="3454560"/>
              <a:chExt cx="6705000" cy="203040"/>
            </a:xfrm>
          </p:grpSpPr>
          <p:sp>
            <p:nvSpPr>
              <p:cNvPr id="660" name="Rectangle 107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72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6649-8659-49E1-876F-CB380725A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clients of the clas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write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read) the values of private data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justing a customer’s bank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modified through the use of 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mber function that sets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a member function that return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Intere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s does not ma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function should ensure that the new value is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5EF2-8473-4720-8704-AEB90AD6C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Data Member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the name of th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used on the left side of an assignment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e can receive a value, which changes the original object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references: a subtle “tra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 return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avoided, breaks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4065-E1E0-4838-AE8C-CD2EC8FEE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70"/>
          <p:cNvGrpSpPr/>
          <p:nvPr/>
        </p:nvGrpSpPr>
        <p:grpSpPr>
          <a:xfrm>
            <a:off x="0" y="0"/>
            <a:ext cx="6705000" cy="5866920"/>
            <a:chOff x="0" y="0"/>
            <a:chExt cx="6705000" cy="5866920"/>
          </a:xfrm>
        </p:grpSpPr>
        <p:grpSp>
          <p:nvGrpSpPr>
            <p:cNvPr id="670" name="Group 27"/>
            <p:cNvGrpSpPr/>
            <p:nvPr/>
          </p:nvGrpSpPr>
          <p:grpSpPr>
            <a:xfrm>
              <a:off x="0" y="0"/>
              <a:ext cx="6705000" cy="266400"/>
              <a:chOff x="0" y="0"/>
              <a:chExt cx="6705000" cy="266400"/>
            </a:xfrm>
          </p:grpSpPr>
          <p:sp>
            <p:nvSpPr>
              <p:cNvPr id="671" name="Rectangle 26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4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1: time4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9"/>
            <p:cNvGrpSpPr/>
            <p:nvPr/>
          </p:nvGrpSpPr>
          <p:grpSpPr>
            <a:xfrm>
              <a:off x="0" y="266400"/>
              <a:ext cx="6705000" cy="266400"/>
              <a:chOff x="0" y="266400"/>
              <a:chExt cx="6705000" cy="266400"/>
            </a:xfrm>
          </p:grpSpPr>
          <p:sp>
            <p:nvSpPr>
              <p:cNvPr id="674" name="Rectangle 28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5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31"/>
            <p:cNvGrpSpPr/>
            <p:nvPr/>
          </p:nvGrpSpPr>
          <p:grpSpPr>
            <a:xfrm>
              <a:off x="0" y="533160"/>
              <a:ext cx="6705000" cy="266760"/>
              <a:chOff x="0" y="533160"/>
              <a:chExt cx="6705000" cy="266760"/>
            </a:xfrm>
          </p:grpSpPr>
          <p:sp>
            <p:nvSpPr>
              <p:cNvPr id="677" name="Rectangle 30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6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33"/>
            <p:cNvGrpSpPr/>
            <p:nvPr/>
          </p:nvGrpSpPr>
          <p:grpSpPr>
            <a:xfrm>
              <a:off x="0" y="799920"/>
              <a:ext cx="6705000" cy="266400"/>
              <a:chOff x="0" y="799920"/>
              <a:chExt cx="6705000" cy="266400"/>
            </a:xfrm>
          </p:grpSpPr>
          <p:sp>
            <p:nvSpPr>
              <p:cNvPr id="680" name="Rectangle 32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7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35"/>
            <p:cNvGrpSpPr/>
            <p:nvPr/>
          </p:nvGrpSpPr>
          <p:grpSpPr>
            <a:xfrm>
              <a:off x="0" y="1066680"/>
              <a:ext cx="6705000" cy="266400"/>
              <a:chOff x="0" y="1066680"/>
              <a:chExt cx="6705000" cy="266400"/>
            </a:xfrm>
          </p:grpSpPr>
          <p:sp>
            <p:nvSpPr>
              <p:cNvPr id="683" name="Rectangle 34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8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37"/>
            <p:cNvGrpSpPr/>
            <p:nvPr/>
          </p:nvGrpSpPr>
          <p:grpSpPr>
            <a:xfrm>
              <a:off x="0" y="1333440"/>
              <a:ext cx="6705000" cy="266400"/>
              <a:chOff x="0" y="1333440"/>
              <a:chExt cx="6705000" cy="266400"/>
            </a:xfrm>
          </p:grpSpPr>
          <p:sp>
            <p:nvSpPr>
              <p:cNvPr id="686" name="Rectangle 36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9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39"/>
            <p:cNvGrpSpPr/>
            <p:nvPr/>
          </p:nvGrpSpPr>
          <p:grpSpPr>
            <a:xfrm>
              <a:off x="0" y="1599840"/>
              <a:ext cx="6705000" cy="266760"/>
              <a:chOff x="0" y="1599840"/>
              <a:chExt cx="6705000" cy="266760"/>
            </a:xfrm>
          </p:grpSpPr>
          <p:sp>
            <p:nvSpPr>
              <p:cNvPr id="689" name="Rectangle 38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10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TIME4_H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41"/>
            <p:cNvGrpSpPr/>
            <p:nvPr/>
          </p:nvGrpSpPr>
          <p:grpSpPr>
            <a:xfrm>
              <a:off x="0" y="1866960"/>
              <a:ext cx="6705000" cy="266400"/>
              <a:chOff x="0" y="1866960"/>
              <a:chExt cx="6705000" cy="266400"/>
            </a:xfrm>
          </p:grpSpPr>
          <p:sp>
            <p:nvSpPr>
              <p:cNvPr id="692" name="Rectangle 40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11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TIME4_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43"/>
            <p:cNvGrpSpPr/>
            <p:nvPr/>
          </p:nvGrpSpPr>
          <p:grpSpPr>
            <a:xfrm>
              <a:off x="0" y="2133360"/>
              <a:ext cx="6705000" cy="266400"/>
              <a:chOff x="0" y="2133360"/>
              <a:chExt cx="6705000" cy="266400"/>
            </a:xfrm>
          </p:grpSpPr>
          <p:sp>
            <p:nvSpPr>
              <p:cNvPr id="695" name="Rectangle 42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12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45"/>
            <p:cNvGrpSpPr/>
            <p:nvPr/>
          </p:nvGrpSpPr>
          <p:grpSpPr>
            <a:xfrm>
              <a:off x="0" y="2400120"/>
              <a:ext cx="6705000" cy="266400"/>
              <a:chOff x="0" y="2400120"/>
              <a:chExt cx="6705000" cy="266400"/>
            </a:xfrm>
          </p:grpSpPr>
          <p:sp>
            <p:nvSpPr>
              <p:cNvPr id="698" name="Rectangle 44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13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47"/>
            <p:cNvGrpSpPr/>
            <p:nvPr/>
          </p:nvGrpSpPr>
          <p:grpSpPr>
            <a:xfrm>
              <a:off x="0" y="2666880"/>
              <a:ext cx="6705000" cy="266760"/>
              <a:chOff x="0" y="2666880"/>
              <a:chExt cx="6705000" cy="266760"/>
            </a:xfrm>
          </p:grpSpPr>
          <p:sp>
            <p:nvSpPr>
              <p:cNvPr id="701" name="Rectangle 46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Rectangle 14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49"/>
            <p:cNvGrpSpPr/>
            <p:nvPr/>
          </p:nvGrpSpPr>
          <p:grpSpPr>
            <a:xfrm>
              <a:off x="0" y="2933640"/>
              <a:ext cx="6705000" cy="266400"/>
              <a:chOff x="0" y="2933640"/>
              <a:chExt cx="6705000" cy="266400"/>
            </a:xfrm>
          </p:grpSpPr>
          <p:sp>
            <p:nvSpPr>
              <p:cNvPr id="704" name="Rectangle 48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15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1"/>
            <p:cNvGrpSpPr/>
            <p:nvPr/>
          </p:nvGrpSpPr>
          <p:grpSpPr>
            <a:xfrm>
              <a:off x="0" y="3200400"/>
              <a:ext cx="6705000" cy="266400"/>
              <a:chOff x="0" y="3200400"/>
              <a:chExt cx="6705000" cy="266400"/>
            </a:xfrm>
          </p:grpSpPr>
          <p:sp>
            <p:nvSpPr>
              <p:cNvPr id="707" name="Rectangle 50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Rectangle 16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0" y="3466800"/>
              <a:ext cx="6705000" cy="266400"/>
              <a:chOff x="0" y="3466800"/>
              <a:chExt cx="6705000" cy="266400"/>
            </a:xfrm>
          </p:grpSpPr>
          <p:sp>
            <p:nvSpPr>
              <p:cNvPr id="710" name="Rectangle 52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17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55"/>
            <p:cNvGrpSpPr/>
            <p:nvPr/>
          </p:nvGrpSpPr>
          <p:grpSpPr>
            <a:xfrm>
              <a:off x="0" y="3733560"/>
              <a:ext cx="6705000" cy="266760"/>
              <a:chOff x="0" y="3733560"/>
              <a:chExt cx="6705000" cy="266760"/>
            </a:xfrm>
          </p:grpSpPr>
          <p:sp>
            <p:nvSpPr>
              <p:cNvPr id="713" name="Rectangle 54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18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amp;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57"/>
            <p:cNvGrpSpPr/>
            <p:nvPr/>
          </p:nvGrpSpPr>
          <p:grpSpPr>
            <a:xfrm>
              <a:off x="0" y="4000320"/>
              <a:ext cx="6705000" cy="266400"/>
              <a:chOff x="0" y="4000320"/>
              <a:chExt cx="6705000" cy="266400"/>
            </a:xfrm>
          </p:grpSpPr>
          <p:sp>
            <p:nvSpPr>
              <p:cNvPr id="716" name="Rectangle 56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Rectangle 19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59"/>
            <p:cNvGrpSpPr/>
            <p:nvPr/>
          </p:nvGrpSpPr>
          <p:grpSpPr>
            <a:xfrm>
              <a:off x="0" y="4267080"/>
              <a:ext cx="6705000" cy="266400"/>
              <a:chOff x="0" y="4267080"/>
              <a:chExt cx="6705000" cy="266400"/>
            </a:xfrm>
          </p:grpSpPr>
          <p:sp>
            <p:nvSpPr>
              <p:cNvPr id="719" name="Rectangle 58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Rectangle 20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61"/>
            <p:cNvGrpSpPr/>
            <p:nvPr/>
          </p:nvGrpSpPr>
          <p:grpSpPr>
            <a:xfrm>
              <a:off x="0" y="4533840"/>
              <a:ext cx="6705000" cy="266400"/>
              <a:chOff x="0" y="4533840"/>
              <a:chExt cx="6705000" cy="266400"/>
            </a:xfrm>
          </p:grpSpPr>
          <p:sp>
            <p:nvSpPr>
              <p:cNvPr id="722" name="Rectangle 60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21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63"/>
            <p:cNvGrpSpPr/>
            <p:nvPr/>
          </p:nvGrpSpPr>
          <p:grpSpPr>
            <a:xfrm>
              <a:off x="0" y="4800600"/>
              <a:ext cx="6705000" cy="266400"/>
              <a:chOff x="0" y="4800600"/>
              <a:chExt cx="6705000" cy="266400"/>
            </a:xfrm>
          </p:grpSpPr>
          <p:sp>
            <p:nvSpPr>
              <p:cNvPr id="725" name="Rectangle 62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22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65"/>
            <p:cNvGrpSpPr/>
            <p:nvPr/>
          </p:nvGrpSpPr>
          <p:grpSpPr>
            <a:xfrm>
              <a:off x="0" y="5067000"/>
              <a:ext cx="6705000" cy="266760"/>
              <a:chOff x="0" y="5067000"/>
              <a:chExt cx="6705000" cy="266760"/>
            </a:xfrm>
          </p:grpSpPr>
          <p:sp>
            <p:nvSpPr>
              <p:cNvPr id="728" name="Rectangle 64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23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67"/>
            <p:cNvGrpSpPr/>
            <p:nvPr/>
          </p:nvGrpSpPr>
          <p:grpSpPr>
            <a:xfrm>
              <a:off x="0" y="5334120"/>
              <a:ext cx="6705000" cy="266400"/>
              <a:chOff x="0" y="5334120"/>
              <a:chExt cx="6705000" cy="266400"/>
            </a:xfrm>
          </p:grpSpPr>
          <p:sp>
            <p:nvSpPr>
              <p:cNvPr id="731" name="Rectangle 66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24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Group 69"/>
            <p:cNvGrpSpPr/>
            <p:nvPr/>
          </p:nvGrpSpPr>
          <p:grpSpPr>
            <a:xfrm>
              <a:off x="0" y="5600520"/>
              <a:ext cx="6705000" cy="266400"/>
              <a:chOff x="0" y="5600520"/>
              <a:chExt cx="6705000" cy="266400"/>
            </a:xfrm>
          </p:grpSpPr>
          <p:sp>
            <p:nvSpPr>
              <p:cNvPr id="734" name="Rectangle 68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Rectangle 25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6" name="Group 75"/>
          <p:cNvGrpSpPr/>
          <p:nvPr/>
        </p:nvGrpSpPr>
        <p:grpSpPr>
          <a:xfrm>
            <a:off x="1219320" y="1905120"/>
            <a:ext cx="4419360" cy="1885680"/>
            <a:chOff x="1219320" y="1905120"/>
            <a:chExt cx="4419360" cy="1885680"/>
          </a:xfrm>
        </p:grpSpPr>
        <p:sp>
          <p:nvSpPr>
            <p:cNvPr id="737" name="Line 73"/>
            <p:cNvSpPr/>
            <p:nvPr/>
          </p:nvSpPr>
          <p:spPr>
            <a:xfrm flipH="1">
              <a:off x="1219320" y="2743200"/>
              <a:ext cx="3124080" cy="10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 Box 72"/>
            <p:cNvSpPr/>
            <p:nvPr/>
          </p:nvSpPr>
          <p:spPr>
            <a:xfrm>
              <a:off x="2286000" y="190512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d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a referenc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return typ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prototyp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69FF-399E-44F4-8DE4-8FE9BEE5B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Load head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91"/>
          <p:cNvGrpSpPr/>
          <p:nvPr/>
        </p:nvGrpSpPr>
        <p:grpSpPr>
          <a:xfrm>
            <a:off x="0" y="0"/>
            <a:ext cx="6705000" cy="6629040"/>
            <a:chOff x="0" y="0"/>
            <a:chExt cx="6705000" cy="6629040"/>
          </a:xfrm>
        </p:grpSpPr>
        <p:grpSp>
          <p:nvGrpSpPr>
            <p:cNvPr id="743" name="Group 34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744" name="Rectangle 33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1: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36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747" name="Rectangle 3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38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750" name="Rectangle 37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6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40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753" name="Rectangle 39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42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756" name="Rectangle 41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8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44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759" name="Rectangle 43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9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46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762" name="Rectangle 45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10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Group 48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765" name="Rectangle 47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Rectangle 11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Group 50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768" name="Rectangle 49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12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52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771" name="Rectangle 51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13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54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774" name="Rectangle 53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1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56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777" name="Rectangle 5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1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58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780" name="Rectangle 57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16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60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783" name="Rectangle 59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Rectangle 1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 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Group 62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786" name="Rectangle 61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18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64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789" name="Rectangle 63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19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66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792" name="Rectangle 65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Rectangle 20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Group 68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795" name="Rectangle 67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Rectangle 21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70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798" name="Rectangle 69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22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Group 72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801" name="Rectangle 71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Rectangle 23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Hour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74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804" name="Rectangle 73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Rectangle 24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76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807" name="Rectangle 75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Rectangle 25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OR PROGRAMMING PRACTIC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78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810" name="Rectangle 77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Rectangle 26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ing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80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813" name="Rectangle 79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Rectangle 27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amp;Time::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82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816" name="Rectangle 81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Rectangle 28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84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819" name="Rectangle 83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Rectangle 29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= ( hh &gt;= 0 &amp;&amp; hh &lt; 24 ) ? h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86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822" name="Rectangle 85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Rectangle 30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Group 88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825" name="Rectangle 87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31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Group 90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828" name="Rectangle 89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Rectangle 32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0" name="Group 96"/>
          <p:cNvGrpSpPr/>
          <p:nvPr/>
        </p:nvGrpSpPr>
        <p:grpSpPr>
          <a:xfrm>
            <a:off x="4495680" y="4419720"/>
            <a:ext cx="3353040" cy="1676160"/>
            <a:chOff x="4495680" y="4419720"/>
            <a:chExt cx="3353040" cy="1676160"/>
          </a:xfrm>
        </p:grpSpPr>
        <p:sp>
          <p:nvSpPr>
            <p:cNvPr id="831" name="Text Box 92"/>
            <p:cNvSpPr/>
            <p:nvPr/>
          </p:nvSpPr>
          <p:spPr>
            <a:xfrm>
              <a:off x="5486400" y="4419720"/>
              <a:ext cx="2362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ing this reference will al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we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94"/>
            <p:cNvSpPr/>
            <p:nvPr/>
          </p:nvSpPr>
          <p:spPr>
            <a:xfrm flipH="1">
              <a:off x="4495680" y="54864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0377-CFA9-45A1-8B96-A6EE35927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 Declare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hange data using a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Group 97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837" name="Group 36"/>
            <p:cNvGrpSpPr/>
            <p:nvPr/>
          </p:nvGrpSpPr>
          <p:grpSpPr>
            <a:xfrm>
              <a:off x="0" y="0"/>
              <a:ext cx="6705000" cy="203760"/>
              <a:chOff x="0" y="0"/>
              <a:chExt cx="6705000" cy="203760"/>
            </a:xfrm>
          </p:grpSpPr>
          <p:sp>
            <p:nvSpPr>
              <p:cNvPr id="838" name="Rectangle 35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Rectangle 4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1: fig06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38"/>
            <p:cNvGrpSpPr/>
            <p:nvPr/>
          </p:nvGrpSpPr>
          <p:grpSpPr>
            <a:xfrm>
              <a:off x="0" y="203760"/>
              <a:ext cx="6705000" cy="203760"/>
              <a:chOff x="0" y="203760"/>
              <a:chExt cx="6705000" cy="203760"/>
            </a:xfrm>
          </p:grpSpPr>
          <p:sp>
            <p:nvSpPr>
              <p:cNvPr id="841" name="Rectangle 37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Rectangle 5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a publ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Group 40"/>
            <p:cNvGrpSpPr/>
            <p:nvPr/>
          </p:nvGrpSpPr>
          <p:grpSpPr>
            <a:xfrm>
              <a:off x="0" y="407880"/>
              <a:ext cx="6705000" cy="203760"/>
              <a:chOff x="0" y="407880"/>
              <a:chExt cx="6705000" cy="203760"/>
            </a:xfrm>
          </p:grpSpPr>
          <p:sp>
            <p:nvSpPr>
              <p:cNvPr id="844" name="Rectangle 39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Rectangle 6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s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42"/>
            <p:cNvGrpSpPr/>
            <p:nvPr/>
          </p:nvGrpSpPr>
          <p:grpSpPr>
            <a:xfrm>
              <a:off x="0" y="612000"/>
              <a:ext cx="6705000" cy="203760"/>
              <a:chOff x="0" y="612000"/>
              <a:chExt cx="6705000" cy="203760"/>
            </a:xfrm>
          </p:grpSpPr>
          <p:sp>
            <p:nvSpPr>
              <p:cNvPr id="847" name="Rectangle 41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7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class has been trimmed for this exampl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44"/>
            <p:cNvGrpSpPr/>
            <p:nvPr/>
          </p:nvGrpSpPr>
          <p:grpSpPr>
            <a:xfrm>
              <a:off x="0" y="815760"/>
              <a:ext cx="6705000" cy="203760"/>
              <a:chOff x="0" y="815760"/>
              <a:chExt cx="6705000" cy="203760"/>
            </a:xfrm>
          </p:grpSpPr>
          <p:sp>
            <p:nvSpPr>
              <p:cNvPr id="850" name="Rectangle 43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8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46"/>
            <p:cNvGrpSpPr/>
            <p:nvPr/>
          </p:nvGrpSpPr>
          <p:grpSpPr>
            <a:xfrm>
              <a:off x="0" y="1019880"/>
              <a:ext cx="6705000" cy="203760"/>
              <a:chOff x="0" y="1019880"/>
              <a:chExt cx="6705000" cy="203760"/>
            </a:xfrm>
          </p:grpSpPr>
          <p:sp>
            <p:nvSpPr>
              <p:cNvPr id="853" name="Rectangle 45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9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48"/>
            <p:cNvGrpSpPr/>
            <p:nvPr/>
          </p:nvGrpSpPr>
          <p:grpSpPr>
            <a:xfrm>
              <a:off x="0" y="1224000"/>
              <a:ext cx="6705000" cy="203760"/>
              <a:chOff x="0" y="1224000"/>
              <a:chExt cx="6705000" cy="203760"/>
            </a:xfrm>
          </p:grpSpPr>
          <p:sp>
            <p:nvSpPr>
              <p:cNvPr id="856" name="Rectangle 47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10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50"/>
            <p:cNvGrpSpPr/>
            <p:nvPr/>
          </p:nvGrpSpPr>
          <p:grpSpPr>
            <a:xfrm>
              <a:off x="0" y="1428120"/>
              <a:ext cx="6705000" cy="203760"/>
              <a:chOff x="0" y="1428120"/>
              <a:chExt cx="6705000" cy="203760"/>
            </a:xfrm>
          </p:grpSpPr>
          <p:sp>
            <p:nvSpPr>
              <p:cNvPr id="859" name="Rectangle 49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Rectangle 11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Group 52"/>
            <p:cNvGrpSpPr/>
            <p:nvPr/>
          </p:nvGrpSpPr>
          <p:grpSpPr>
            <a:xfrm>
              <a:off x="0" y="1631880"/>
              <a:ext cx="6705000" cy="203760"/>
              <a:chOff x="0" y="1631880"/>
              <a:chExt cx="6705000" cy="203760"/>
            </a:xfrm>
          </p:grpSpPr>
          <p:sp>
            <p:nvSpPr>
              <p:cNvPr id="862" name="Rectangle 51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12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54"/>
            <p:cNvGrpSpPr/>
            <p:nvPr/>
          </p:nvGrpSpPr>
          <p:grpSpPr>
            <a:xfrm>
              <a:off x="0" y="1836000"/>
              <a:ext cx="6705000" cy="203760"/>
              <a:chOff x="0" y="1836000"/>
              <a:chExt cx="6705000" cy="203760"/>
            </a:xfrm>
          </p:grpSpPr>
          <p:sp>
            <p:nvSpPr>
              <p:cNvPr id="865" name="Rectangle 53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13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56"/>
            <p:cNvGrpSpPr/>
            <p:nvPr/>
          </p:nvGrpSpPr>
          <p:grpSpPr>
            <a:xfrm>
              <a:off x="0" y="2040120"/>
              <a:ext cx="6705000" cy="203760"/>
              <a:chOff x="0" y="2040120"/>
              <a:chExt cx="6705000" cy="203760"/>
            </a:xfrm>
          </p:grpSpPr>
          <p:sp>
            <p:nvSpPr>
              <p:cNvPr id="868" name="Rectangle 55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14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58"/>
            <p:cNvGrpSpPr/>
            <p:nvPr/>
          </p:nvGrpSpPr>
          <p:grpSpPr>
            <a:xfrm>
              <a:off x="0" y="2244240"/>
              <a:ext cx="6705000" cy="203760"/>
              <a:chOff x="0" y="2244240"/>
              <a:chExt cx="6705000" cy="203760"/>
            </a:xfrm>
          </p:grpSpPr>
          <p:sp>
            <p:nvSpPr>
              <p:cNvPr id="871" name="Rectangle 57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15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60"/>
            <p:cNvGrpSpPr/>
            <p:nvPr/>
          </p:nvGrpSpPr>
          <p:grpSpPr>
            <a:xfrm>
              <a:off x="0" y="2448000"/>
              <a:ext cx="6705000" cy="203760"/>
              <a:chOff x="0" y="2448000"/>
              <a:chExt cx="6705000" cy="203760"/>
            </a:xfrm>
          </p:grpSpPr>
          <p:sp>
            <p:nvSpPr>
              <p:cNvPr id="874" name="Rectangle 59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16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62"/>
            <p:cNvGrpSpPr/>
            <p:nvPr/>
          </p:nvGrpSpPr>
          <p:grpSpPr>
            <a:xfrm>
              <a:off x="0" y="2652120"/>
              <a:ext cx="6705000" cy="203760"/>
              <a:chOff x="0" y="2652120"/>
              <a:chExt cx="6705000" cy="203760"/>
            </a:xfrm>
          </p:grpSpPr>
          <p:sp>
            <p:nvSpPr>
              <p:cNvPr id="877" name="Rectangle 61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17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64"/>
            <p:cNvGrpSpPr/>
            <p:nvPr/>
          </p:nvGrpSpPr>
          <p:grpSpPr>
            <a:xfrm>
              <a:off x="0" y="2856240"/>
              <a:ext cx="6705000" cy="203760"/>
              <a:chOff x="0" y="2856240"/>
              <a:chExt cx="6705000" cy="203760"/>
            </a:xfrm>
          </p:grpSpPr>
          <p:sp>
            <p:nvSpPr>
              <p:cNvPr id="880" name="Rectangle 63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Rectangle 18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amp;hourRef = t.badSetHour(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66"/>
            <p:cNvGrpSpPr/>
            <p:nvPr/>
          </p:nvGrpSpPr>
          <p:grpSpPr>
            <a:xfrm>
              <a:off x="0" y="3060360"/>
              <a:ext cx="6705000" cy="203760"/>
              <a:chOff x="0" y="3060360"/>
              <a:chExt cx="6705000" cy="203760"/>
            </a:xfrm>
          </p:grpSpPr>
          <p:sp>
            <p:nvSpPr>
              <p:cNvPr id="883" name="Rectangle 65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Rectangle 19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Group 68"/>
            <p:cNvGrpSpPr/>
            <p:nvPr/>
          </p:nvGrpSpPr>
          <p:grpSpPr>
            <a:xfrm>
              <a:off x="0" y="3264120"/>
              <a:ext cx="6705000" cy="203760"/>
              <a:chOff x="0" y="3264120"/>
              <a:chExt cx="6705000" cy="203760"/>
            </a:xfrm>
          </p:grpSpPr>
          <p:sp>
            <p:nvSpPr>
              <p:cNvPr id="886" name="Rectangle 67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20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Hour before modification: " &lt;&lt; hourRef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70"/>
            <p:cNvGrpSpPr/>
            <p:nvPr/>
          </p:nvGrpSpPr>
          <p:grpSpPr>
            <a:xfrm>
              <a:off x="0" y="3468240"/>
              <a:ext cx="6705000" cy="203760"/>
              <a:chOff x="0" y="3468240"/>
              <a:chExt cx="6705000" cy="203760"/>
            </a:xfrm>
          </p:grpSpPr>
          <p:sp>
            <p:nvSpPr>
              <p:cNvPr id="889" name="Rectangle 69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21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Ref = 3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odification with invali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72"/>
            <p:cNvGrpSpPr/>
            <p:nvPr/>
          </p:nvGrpSpPr>
          <p:grpSpPr>
            <a:xfrm>
              <a:off x="0" y="3672360"/>
              <a:ext cx="6705000" cy="203760"/>
              <a:chOff x="0" y="3672360"/>
              <a:chExt cx="6705000" cy="203760"/>
            </a:xfrm>
          </p:grpSpPr>
          <p:sp>
            <p:nvSpPr>
              <p:cNvPr id="892" name="Rectangle 71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22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 after modification: " &lt;&lt; t.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74"/>
            <p:cNvGrpSpPr/>
            <p:nvPr/>
          </p:nvGrpSpPr>
          <p:grpSpPr>
            <a:xfrm>
              <a:off x="0" y="3876120"/>
              <a:ext cx="6705000" cy="203760"/>
              <a:chOff x="0" y="3876120"/>
              <a:chExt cx="6705000" cy="203760"/>
            </a:xfrm>
          </p:grpSpPr>
          <p:sp>
            <p:nvSpPr>
              <p:cNvPr id="895" name="Rectangle 73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23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76"/>
            <p:cNvGrpSpPr/>
            <p:nvPr/>
          </p:nvGrpSpPr>
          <p:grpSpPr>
            <a:xfrm>
              <a:off x="0" y="4080240"/>
              <a:ext cx="6705000" cy="203760"/>
              <a:chOff x="0" y="4080240"/>
              <a:chExt cx="6705000" cy="203760"/>
            </a:xfrm>
          </p:grpSpPr>
          <p:sp>
            <p:nvSpPr>
              <p:cNvPr id="898" name="Rectangle 75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24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angerous: Function call that retur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Group 78"/>
            <p:cNvGrpSpPr/>
            <p:nvPr/>
          </p:nvGrpSpPr>
          <p:grpSpPr>
            <a:xfrm>
              <a:off x="0" y="4284360"/>
              <a:ext cx="6705000" cy="203760"/>
              <a:chOff x="0" y="4284360"/>
              <a:chExt cx="6705000" cy="203760"/>
            </a:xfrm>
          </p:grpSpPr>
          <p:sp>
            <p:nvSpPr>
              <p:cNvPr id="901" name="Rectangle 77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25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 reference can be used as an lvalue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80"/>
            <p:cNvGrpSpPr/>
            <p:nvPr/>
          </p:nvGrpSpPr>
          <p:grpSpPr>
            <a:xfrm>
              <a:off x="0" y="4488480"/>
              <a:ext cx="6705000" cy="203760"/>
              <a:chOff x="0" y="4488480"/>
              <a:chExt cx="6705000" cy="203760"/>
            </a:xfrm>
          </p:grpSpPr>
          <p:sp>
            <p:nvSpPr>
              <p:cNvPr id="904" name="Rectangle 79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26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badSetHour(12) = 7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82"/>
            <p:cNvGrpSpPr/>
            <p:nvPr/>
          </p:nvGrpSpPr>
          <p:grpSpPr>
            <a:xfrm>
              <a:off x="0" y="4692240"/>
              <a:ext cx="6705000" cy="203760"/>
              <a:chOff x="0" y="4692240"/>
              <a:chExt cx="6705000" cy="203760"/>
            </a:xfrm>
          </p:grpSpPr>
          <p:sp>
            <p:nvSpPr>
              <p:cNvPr id="907" name="Rectangle 81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27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*********************************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84"/>
            <p:cNvGrpSpPr/>
            <p:nvPr/>
          </p:nvGrpSpPr>
          <p:grpSpPr>
            <a:xfrm>
              <a:off x="0" y="4896360"/>
              <a:ext cx="6705000" cy="203760"/>
              <a:chOff x="0" y="4896360"/>
              <a:chExt cx="6705000" cy="203760"/>
            </a:xfrm>
          </p:grpSpPr>
          <p:sp>
            <p:nvSpPr>
              <p:cNvPr id="910" name="Rectangle 83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28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POOR PROGRAMMING PRACTICE!!!!!!!!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86"/>
            <p:cNvGrpSpPr/>
            <p:nvPr/>
          </p:nvGrpSpPr>
          <p:grpSpPr>
            <a:xfrm>
              <a:off x="0" y="5100480"/>
              <a:ext cx="6705000" cy="203760"/>
              <a:chOff x="0" y="5100480"/>
              <a:chExt cx="6705000" cy="203760"/>
            </a:xfrm>
          </p:grpSpPr>
          <p:sp>
            <p:nvSpPr>
              <p:cNvPr id="913" name="Rectangle 85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Rectangle 29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badSetHour as an lvalue, Hou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Group 88"/>
            <p:cNvGrpSpPr/>
            <p:nvPr/>
          </p:nvGrpSpPr>
          <p:grpSpPr>
            <a:xfrm>
              <a:off x="0" y="5304600"/>
              <a:ext cx="6705000" cy="203760"/>
              <a:chOff x="0" y="5304600"/>
              <a:chExt cx="6705000" cy="203760"/>
            </a:xfrm>
          </p:grpSpPr>
          <p:sp>
            <p:nvSpPr>
              <p:cNvPr id="916" name="Rectangle 87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30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t.getHou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90"/>
            <p:cNvGrpSpPr/>
            <p:nvPr/>
          </p:nvGrpSpPr>
          <p:grpSpPr>
            <a:xfrm>
              <a:off x="0" y="5508360"/>
              <a:ext cx="6705000" cy="203760"/>
              <a:chOff x="0" y="5508360"/>
              <a:chExt cx="6705000" cy="203760"/>
            </a:xfrm>
          </p:grpSpPr>
          <p:sp>
            <p:nvSpPr>
              <p:cNvPr id="919" name="Rectangle 89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31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*********************************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92"/>
            <p:cNvGrpSpPr/>
            <p:nvPr/>
          </p:nvGrpSpPr>
          <p:grpSpPr>
            <a:xfrm>
              <a:off x="0" y="5712480"/>
              <a:ext cx="6705000" cy="203760"/>
              <a:chOff x="0" y="5712480"/>
              <a:chExt cx="6705000" cy="203760"/>
            </a:xfrm>
          </p:grpSpPr>
          <p:sp>
            <p:nvSpPr>
              <p:cNvPr id="922" name="Rectangle 91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32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94"/>
            <p:cNvGrpSpPr/>
            <p:nvPr/>
          </p:nvGrpSpPr>
          <p:grpSpPr>
            <a:xfrm>
              <a:off x="0" y="5916600"/>
              <a:ext cx="6705000" cy="203760"/>
              <a:chOff x="0" y="5916600"/>
              <a:chExt cx="6705000" cy="203760"/>
            </a:xfrm>
          </p:grpSpPr>
          <p:sp>
            <p:nvSpPr>
              <p:cNvPr id="925" name="Rectangle 93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33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96"/>
            <p:cNvGrpSpPr/>
            <p:nvPr/>
          </p:nvGrpSpPr>
          <p:grpSpPr>
            <a:xfrm>
              <a:off x="0" y="6120720"/>
              <a:ext cx="6705000" cy="203760"/>
              <a:chOff x="0" y="6120720"/>
              <a:chExt cx="6705000" cy="203760"/>
            </a:xfrm>
          </p:grpSpPr>
          <p:sp>
            <p:nvSpPr>
              <p:cNvPr id="928" name="Rectangle 95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34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" name="Group 117"/>
          <p:cNvGrpSpPr/>
          <p:nvPr/>
        </p:nvGrpSpPr>
        <p:grpSpPr>
          <a:xfrm>
            <a:off x="1599840" y="1371600"/>
            <a:ext cx="4953240" cy="1523880"/>
            <a:chOff x="1599840" y="1371600"/>
            <a:chExt cx="4953240" cy="1523880"/>
          </a:xfrm>
        </p:grpSpPr>
        <p:sp>
          <p:nvSpPr>
            <p:cNvPr id="931" name="Line 100"/>
            <p:cNvSpPr/>
            <p:nvPr/>
          </p:nvSpPr>
          <p:spPr>
            <a:xfrm flipH="1">
              <a:off x="1599840" y="2057400"/>
              <a:ext cx="224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99"/>
            <p:cNvSpPr/>
            <p:nvPr/>
          </p:nvSpPr>
          <p:spPr>
            <a:xfrm>
              <a:off x="3429000" y="137160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at is assigned the reference returned by the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.badSetHour(20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12"/>
          <p:cNvGrpSpPr/>
          <p:nvPr/>
        </p:nvGrpSpPr>
        <p:grpSpPr>
          <a:xfrm>
            <a:off x="5486400" y="3352680"/>
            <a:ext cx="3123720" cy="824040"/>
            <a:chOff x="5486400" y="3352680"/>
            <a:chExt cx="3123720" cy="824040"/>
          </a:xfrm>
        </p:grpSpPr>
        <p:sp>
          <p:nvSpPr>
            <p:cNvPr id="934" name="Rectangle 103"/>
            <p:cNvSpPr/>
            <p:nvPr/>
          </p:nvSpPr>
          <p:spPr>
            <a:xfrm>
              <a:off x="6248160" y="33526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ias used to set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30 (an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04"/>
            <p:cNvSpPr/>
            <p:nvPr/>
          </p:nvSpPr>
          <p:spPr>
            <a:xfrm flipH="1">
              <a:off x="548640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113"/>
          <p:cNvGrpSpPr/>
          <p:nvPr/>
        </p:nvGrpSpPr>
        <p:grpSpPr>
          <a:xfrm>
            <a:off x="2819160" y="4495680"/>
            <a:ext cx="5867640" cy="824040"/>
            <a:chOff x="2819160" y="4495680"/>
            <a:chExt cx="5867640" cy="824040"/>
          </a:xfrm>
        </p:grpSpPr>
        <p:sp>
          <p:nvSpPr>
            <p:cNvPr id="937" name="Text Box 106"/>
            <p:cNvSpPr/>
            <p:nvPr/>
          </p:nvSpPr>
          <p:spPr>
            <a:xfrm>
              <a:off x="5791320" y="44956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call used as a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assigned the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7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another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107"/>
            <p:cNvSpPr/>
            <p:nvPr/>
          </p:nvSpPr>
          <p:spPr>
            <a:xfrm flipH="1">
              <a:off x="2819160" y="45720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Rectangle 118"/>
          <p:cNvSpPr/>
          <p:nvPr/>
        </p:nvSpPr>
        <p:spPr>
          <a:xfrm>
            <a:off x="5349240" y="304812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119"/>
          <p:cNvSpPr/>
          <p:nvPr/>
        </p:nvSpPr>
        <p:spPr>
          <a:xfrm>
            <a:off x="4663080" y="4038480"/>
            <a:ext cx="26496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20"/>
          <p:cNvSpPr/>
          <p:nvPr/>
        </p:nvSpPr>
        <p:spPr>
          <a:xfrm>
            <a:off x="5638680" y="5597640"/>
            <a:ext cx="33530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4BA5-4CCA-41C4-ABA2-2357F0BE9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Group 25"/>
          <p:cNvGrpSpPr/>
          <p:nvPr/>
        </p:nvGrpSpPr>
        <p:grpSpPr>
          <a:xfrm>
            <a:off x="990720" y="1523880"/>
            <a:ext cx="2895480" cy="2715120"/>
            <a:chOff x="990720" y="1523880"/>
            <a:chExt cx="2895480" cy="2715120"/>
          </a:xfrm>
        </p:grpSpPr>
        <p:sp>
          <p:nvSpPr>
            <p:cNvPr id="945" name="Text Box 15"/>
            <p:cNvSpPr/>
            <p:nvPr/>
          </p:nvSpPr>
          <p:spPr>
            <a:xfrm>
              <a:off x="990720" y="2441520"/>
              <a:ext cx="28954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ed to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n invalid value.  Normally, th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uld not have allowed this. However, because it returned a referenc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s changed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8"/>
            <p:cNvSpPr/>
            <p:nvPr/>
          </p:nvSpPr>
          <p:spPr>
            <a:xfrm flipV="1">
              <a:off x="1676520" y="1523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Rectangle 37"/>
          <p:cNvSpPr/>
          <p:nvPr/>
        </p:nvSpPr>
        <p:spPr>
          <a:xfrm>
            <a:off x="0" y="228600"/>
            <a:ext cx="670572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DE91-798C-4FF6-B842-FBFEB8BBB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parating Interface from Implement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it easier to modify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(*.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class definitions and 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-code files (*.cp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member function defin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AD78-8857-490F-8F59-1D1A152AB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0"/>
          <p:cNvGrpSpPr/>
          <p:nvPr/>
        </p:nvGrpSpPr>
        <p:grpSpPr>
          <a:xfrm>
            <a:off x="0" y="0"/>
            <a:ext cx="6705000" cy="6400800"/>
            <a:chOff x="0" y="0"/>
            <a:chExt cx="6705000" cy="6400800"/>
          </a:xfrm>
        </p:grpSpPr>
        <p:grpSp>
          <p:nvGrpSpPr>
            <p:cNvPr id="95" name="Group 27"/>
            <p:cNvGrpSpPr/>
            <p:nvPr/>
          </p:nvGrpSpPr>
          <p:grpSpPr>
            <a:xfrm>
              <a:off x="0" y="0"/>
              <a:ext cx="6705000" cy="290880"/>
              <a:chOff x="0" y="0"/>
              <a:chExt cx="6705000" cy="290880"/>
            </a:xfrm>
          </p:grpSpPr>
          <p:sp>
            <p:nvSpPr>
              <p:cNvPr id="96" name="Rectangle 26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4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5: tim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29"/>
            <p:cNvGrpSpPr/>
            <p:nvPr/>
          </p:nvGrpSpPr>
          <p:grpSpPr>
            <a:xfrm>
              <a:off x="0" y="290880"/>
              <a:ext cx="6705000" cy="290880"/>
              <a:chOff x="0" y="290880"/>
              <a:chExt cx="6705000" cy="290880"/>
            </a:xfrm>
          </p:grpSpPr>
          <p:sp>
            <p:nvSpPr>
              <p:cNvPr id="99" name="Rectangle 28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5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31"/>
            <p:cNvGrpSpPr/>
            <p:nvPr/>
          </p:nvGrpSpPr>
          <p:grpSpPr>
            <a:xfrm>
              <a:off x="0" y="581760"/>
              <a:ext cx="6705000" cy="290880"/>
              <a:chOff x="0" y="581760"/>
              <a:chExt cx="6705000" cy="290880"/>
            </a:xfrm>
          </p:grpSpPr>
          <p:sp>
            <p:nvSpPr>
              <p:cNvPr id="102" name="Rectangle 30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6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are defined in tim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33"/>
            <p:cNvGrpSpPr/>
            <p:nvPr/>
          </p:nvGrpSpPr>
          <p:grpSpPr>
            <a:xfrm>
              <a:off x="0" y="872640"/>
              <a:ext cx="6705000" cy="290880"/>
              <a:chOff x="0" y="872640"/>
              <a:chExt cx="6705000" cy="290880"/>
            </a:xfrm>
          </p:grpSpPr>
          <p:sp>
            <p:nvSpPr>
              <p:cNvPr id="105" name="Rectangle 32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35"/>
            <p:cNvGrpSpPr/>
            <p:nvPr/>
          </p:nvGrpSpPr>
          <p:grpSpPr>
            <a:xfrm>
              <a:off x="0" y="1163520"/>
              <a:ext cx="6705000" cy="290880"/>
              <a:chOff x="0" y="1163520"/>
              <a:chExt cx="6705000" cy="290880"/>
            </a:xfrm>
          </p:grpSpPr>
          <p:sp>
            <p:nvSpPr>
              <p:cNvPr id="108" name="Rectangle 34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37"/>
            <p:cNvGrpSpPr/>
            <p:nvPr/>
          </p:nvGrpSpPr>
          <p:grpSpPr>
            <a:xfrm>
              <a:off x="0" y="1454400"/>
              <a:ext cx="6705000" cy="290880"/>
              <a:chOff x="0" y="1454400"/>
              <a:chExt cx="6705000" cy="290880"/>
            </a:xfrm>
          </p:grpSpPr>
          <p:sp>
            <p:nvSpPr>
              <p:cNvPr id="111" name="Rectangle 36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39"/>
            <p:cNvGrpSpPr/>
            <p:nvPr/>
          </p:nvGrpSpPr>
          <p:grpSpPr>
            <a:xfrm>
              <a:off x="0" y="1745640"/>
              <a:ext cx="6705000" cy="290880"/>
              <a:chOff x="0" y="1745640"/>
              <a:chExt cx="6705000" cy="290880"/>
            </a:xfrm>
          </p:grpSpPr>
          <p:sp>
            <p:nvSpPr>
              <p:cNvPr id="114" name="Rectangle 38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41"/>
            <p:cNvGrpSpPr/>
            <p:nvPr/>
          </p:nvGrpSpPr>
          <p:grpSpPr>
            <a:xfrm>
              <a:off x="0" y="2036520"/>
              <a:ext cx="6705000" cy="290880"/>
              <a:chOff x="0" y="2036520"/>
              <a:chExt cx="6705000" cy="290880"/>
            </a:xfrm>
          </p:grpSpPr>
          <p:sp>
            <p:nvSpPr>
              <p:cNvPr id="117" name="Rectangle 40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1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43"/>
            <p:cNvGrpSpPr/>
            <p:nvPr/>
          </p:nvGrpSpPr>
          <p:grpSpPr>
            <a:xfrm>
              <a:off x="0" y="2327400"/>
              <a:ext cx="6705000" cy="290880"/>
              <a:chOff x="0" y="2327400"/>
              <a:chExt cx="6705000" cy="290880"/>
            </a:xfrm>
          </p:grpSpPr>
          <p:sp>
            <p:nvSpPr>
              <p:cNvPr id="120" name="Rectangle 42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45"/>
            <p:cNvGrpSpPr/>
            <p:nvPr/>
          </p:nvGrpSpPr>
          <p:grpSpPr>
            <a:xfrm>
              <a:off x="0" y="2618280"/>
              <a:ext cx="6705000" cy="290880"/>
              <a:chOff x="0" y="2618280"/>
              <a:chExt cx="6705000" cy="290880"/>
            </a:xfrm>
          </p:grpSpPr>
          <p:sp>
            <p:nvSpPr>
              <p:cNvPr id="123" name="Rectangle 44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47"/>
            <p:cNvGrpSpPr/>
            <p:nvPr/>
          </p:nvGrpSpPr>
          <p:grpSpPr>
            <a:xfrm>
              <a:off x="0" y="2909160"/>
              <a:ext cx="6705000" cy="290880"/>
              <a:chOff x="0" y="2909160"/>
              <a:chExt cx="6705000" cy="290880"/>
            </a:xfrm>
          </p:grpSpPr>
          <p:sp>
            <p:nvSpPr>
              <p:cNvPr id="126" name="Rectangle 46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49"/>
            <p:cNvGrpSpPr/>
            <p:nvPr/>
          </p:nvGrpSpPr>
          <p:grpSpPr>
            <a:xfrm>
              <a:off x="0" y="3200400"/>
              <a:ext cx="6705000" cy="290880"/>
              <a:chOff x="0" y="3200400"/>
              <a:chExt cx="6705000" cy="290880"/>
            </a:xfrm>
          </p:grpSpPr>
          <p:sp>
            <p:nvSpPr>
              <p:cNvPr id="129" name="Rectangle 48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5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51"/>
            <p:cNvGrpSpPr/>
            <p:nvPr/>
          </p:nvGrpSpPr>
          <p:grpSpPr>
            <a:xfrm>
              <a:off x="0" y="3491280"/>
              <a:ext cx="6705000" cy="290880"/>
              <a:chOff x="0" y="3491280"/>
              <a:chExt cx="6705000" cy="290880"/>
            </a:xfrm>
          </p:grpSpPr>
          <p:sp>
            <p:nvSpPr>
              <p:cNvPr id="132" name="Rectangle 50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53"/>
            <p:cNvGrpSpPr/>
            <p:nvPr/>
          </p:nvGrpSpPr>
          <p:grpSpPr>
            <a:xfrm>
              <a:off x="0" y="3782160"/>
              <a:ext cx="6705000" cy="290880"/>
              <a:chOff x="0" y="3782160"/>
              <a:chExt cx="6705000" cy="290880"/>
            </a:xfrm>
          </p:grpSpPr>
          <p:sp>
            <p:nvSpPr>
              <p:cNvPr id="135" name="Rectangle 52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17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55"/>
            <p:cNvGrpSpPr/>
            <p:nvPr/>
          </p:nvGrpSpPr>
          <p:grpSpPr>
            <a:xfrm>
              <a:off x="0" y="4073040"/>
              <a:ext cx="6705000" cy="290880"/>
              <a:chOff x="0" y="4073040"/>
              <a:chExt cx="6705000" cy="290880"/>
            </a:xfrm>
          </p:grpSpPr>
          <p:sp>
            <p:nvSpPr>
              <p:cNvPr id="138" name="Rectangle 54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8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57"/>
            <p:cNvGrpSpPr/>
            <p:nvPr/>
          </p:nvGrpSpPr>
          <p:grpSpPr>
            <a:xfrm>
              <a:off x="0" y="4364280"/>
              <a:ext cx="6705000" cy="290880"/>
              <a:chOff x="0" y="4364280"/>
              <a:chExt cx="6705000" cy="290880"/>
            </a:xfrm>
          </p:grpSpPr>
          <p:sp>
            <p:nvSpPr>
              <p:cNvPr id="141" name="Rectangle 56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9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59"/>
            <p:cNvGrpSpPr/>
            <p:nvPr/>
          </p:nvGrpSpPr>
          <p:grpSpPr>
            <a:xfrm>
              <a:off x="0" y="4655160"/>
              <a:ext cx="6705000" cy="290880"/>
              <a:chOff x="0" y="4655160"/>
              <a:chExt cx="6705000" cy="290880"/>
            </a:xfrm>
          </p:grpSpPr>
          <p:sp>
            <p:nvSpPr>
              <p:cNvPr id="144" name="Rectangle 58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20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61"/>
            <p:cNvGrpSpPr/>
            <p:nvPr/>
          </p:nvGrpSpPr>
          <p:grpSpPr>
            <a:xfrm>
              <a:off x="0" y="4946040"/>
              <a:ext cx="6705000" cy="290880"/>
              <a:chOff x="0" y="4946040"/>
              <a:chExt cx="6705000" cy="290880"/>
            </a:xfrm>
          </p:grpSpPr>
          <p:sp>
            <p:nvSpPr>
              <p:cNvPr id="147" name="Rectangle 60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21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63"/>
            <p:cNvGrpSpPr/>
            <p:nvPr/>
          </p:nvGrpSpPr>
          <p:grpSpPr>
            <a:xfrm>
              <a:off x="0" y="5236920"/>
              <a:ext cx="6705000" cy="290880"/>
              <a:chOff x="0" y="5236920"/>
              <a:chExt cx="6705000" cy="290880"/>
            </a:xfrm>
          </p:grpSpPr>
          <p:sp>
            <p:nvSpPr>
              <p:cNvPr id="150" name="Rectangle 62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22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65"/>
            <p:cNvGrpSpPr/>
            <p:nvPr/>
          </p:nvGrpSpPr>
          <p:grpSpPr>
            <a:xfrm>
              <a:off x="0" y="5527800"/>
              <a:ext cx="6705000" cy="290880"/>
              <a:chOff x="0" y="5527800"/>
              <a:chExt cx="6705000" cy="290880"/>
            </a:xfrm>
          </p:grpSpPr>
          <p:sp>
            <p:nvSpPr>
              <p:cNvPr id="153" name="Rectangle 64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23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67"/>
            <p:cNvGrpSpPr/>
            <p:nvPr/>
          </p:nvGrpSpPr>
          <p:grpSpPr>
            <a:xfrm>
              <a:off x="0" y="5819040"/>
              <a:ext cx="6705000" cy="290880"/>
              <a:chOff x="0" y="5819040"/>
              <a:chExt cx="6705000" cy="290880"/>
            </a:xfrm>
          </p:grpSpPr>
          <p:sp>
            <p:nvSpPr>
              <p:cNvPr id="156" name="Rectangle 66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24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69"/>
            <p:cNvGrpSpPr/>
            <p:nvPr/>
          </p:nvGrpSpPr>
          <p:grpSpPr>
            <a:xfrm>
              <a:off x="0" y="6109920"/>
              <a:ext cx="6705000" cy="290880"/>
              <a:chOff x="0" y="6109920"/>
              <a:chExt cx="6705000" cy="290880"/>
            </a:xfrm>
          </p:grpSpPr>
          <p:sp>
            <p:nvSpPr>
              <p:cNvPr id="159" name="Rectangle 68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25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Group 80"/>
          <p:cNvGrpSpPr/>
          <p:nvPr/>
        </p:nvGrpSpPr>
        <p:grpSpPr>
          <a:xfrm>
            <a:off x="1295280" y="2057400"/>
            <a:ext cx="7508880" cy="2000880"/>
            <a:chOff x="1295280" y="2057400"/>
            <a:chExt cx="7508880" cy="2000880"/>
          </a:xfrm>
        </p:grpSpPr>
        <p:sp>
          <p:nvSpPr>
            <p:cNvPr id="162" name="Line 74"/>
            <p:cNvSpPr/>
            <p:nvPr/>
          </p:nvSpPr>
          <p:spPr>
            <a:xfrm flipH="1" flipV="1">
              <a:off x="1295280" y="2057400"/>
              <a:ext cx="5181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3"/>
            <p:cNvSpPr/>
            <p:nvPr/>
          </p:nvSpPr>
          <p:spPr>
            <a:xfrm>
              <a:off x="5105520" y="2133720"/>
              <a:ext cx="369864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not defin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fn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hen it is load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def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ready defined, then everything up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endi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igno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prevents loading a header file multiple ti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Using the sam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 as before, create a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83"/>
          <p:cNvGrpSpPr/>
          <p:nvPr/>
        </p:nvGrpSpPr>
        <p:grpSpPr>
          <a:xfrm>
            <a:off x="2057400" y="1371600"/>
            <a:ext cx="6629400" cy="580680"/>
            <a:chOff x="2057400" y="1371600"/>
            <a:chExt cx="6629400" cy="580680"/>
          </a:xfrm>
        </p:grpSpPr>
        <p:sp>
          <p:nvSpPr>
            <p:cNvPr id="166" name="Text Box 84"/>
            <p:cNvSpPr/>
            <p:nvPr/>
          </p:nvSpPr>
          <p:spPr>
            <a:xfrm>
              <a:off x="4776840" y="1371600"/>
              <a:ext cx="3909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t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) replaced with underscore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) in fi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85"/>
            <p:cNvSpPr/>
            <p:nvPr/>
          </p:nvSpPr>
          <p:spPr>
            <a:xfrm flipH="1">
              <a:off x="2057400" y="1828440"/>
              <a:ext cx="271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D19C-8508-4724-A4DB-AE592BE9C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 Create a source code fi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 Load the header file to get the class defini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.  Define the member functions of th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112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71" name="Group 41"/>
            <p:cNvGrpSpPr/>
            <p:nvPr/>
          </p:nvGrpSpPr>
          <p:grpSpPr>
            <a:xfrm>
              <a:off x="0" y="0"/>
              <a:ext cx="6705000" cy="190440"/>
              <a:chOff x="0" y="0"/>
              <a:chExt cx="6705000" cy="190440"/>
            </a:xfrm>
          </p:grpSpPr>
          <p:sp>
            <p:nvSpPr>
              <p:cNvPr id="172" name="Rectangle 40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4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Fig. 6.5: time1.cp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Group 43"/>
            <p:cNvGrpSpPr/>
            <p:nvPr/>
          </p:nvGrpSpPr>
          <p:grpSpPr>
            <a:xfrm>
              <a:off x="0" y="190440"/>
              <a:ext cx="6705000" cy="190440"/>
              <a:chOff x="0" y="190440"/>
              <a:chExt cx="6705000" cy="190440"/>
            </a:xfrm>
          </p:grpSpPr>
          <p:sp>
            <p:nvSpPr>
              <p:cNvPr id="175" name="Rectangle 42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5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45"/>
            <p:cNvGrpSpPr/>
            <p:nvPr/>
          </p:nvGrpSpPr>
          <p:grpSpPr>
            <a:xfrm>
              <a:off x="0" y="380880"/>
              <a:ext cx="6705000" cy="190440"/>
              <a:chOff x="0" y="380880"/>
              <a:chExt cx="6705000" cy="190440"/>
            </a:xfrm>
          </p:grpSpPr>
          <p:sp>
            <p:nvSpPr>
              <p:cNvPr id="178" name="Rectangle 44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6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47"/>
            <p:cNvGrpSpPr/>
            <p:nvPr/>
          </p:nvGrpSpPr>
          <p:grpSpPr>
            <a:xfrm>
              <a:off x="0" y="571320"/>
              <a:ext cx="6705000" cy="190440"/>
              <a:chOff x="0" y="571320"/>
              <a:chExt cx="6705000" cy="190440"/>
            </a:xfrm>
          </p:grpSpPr>
          <p:sp>
            <p:nvSpPr>
              <p:cNvPr id="181" name="Rectangle 46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7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49"/>
            <p:cNvGrpSpPr/>
            <p:nvPr/>
          </p:nvGrpSpPr>
          <p:grpSpPr>
            <a:xfrm>
              <a:off x="0" y="761760"/>
              <a:ext cx="6705000" cy="190440"/>
              <a:chOff x="0" y="761760"/>
              <a:chExt cx="6705000" cy="190440"/>
            </a:xfrm>
          </p:grpSpPr>
          <p:sp>
            <p:nvSpPr>
              <p:cNvPr id="184" name="Rectangle 48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8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51"/>
            <p:cNvGrpSpPr/>
            <p:nvPr/>
          </p:nvGrpSpPr>
          <p:grpSpPr>
            <a:xfrm>
              <a:off x="0" y="952200"/>
              <a:ext cx="6705000" cy="190440"/>
              <a:chOff x="0" y="952200"/>
              <a:chExt cx="6705000" cy="190440"/>
            </a:xfrm>
          </p:grpSpPr>
          <p:sp>
            <p:nvSpPr>
              <p:cNvPr id="187" name="Rectangle 50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9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0" y="1142640"/>
              <a:ext cx="6705000" cy="190440"/>
              <a:chOff x="0" y="1142640"/>
              <a:chExt cx="6705000" cy="190440"/>
            </a:xfrm>
          </p:grpSpPr>
          <p:sp>
            <p:nvSpPr>
              <p:cNvPr id="190" name="Rectangle 52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0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#include "time1.h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55"/>
            <p:cNvGrpSpPr/>
            <p:nvPr/>
          </p:nvGrpSpPr>
          <p:grpSpPr>
            <a:xfrm>
              <a:off x="0" y="1333440"/>
              <a:ext cx="6705000" cy="190440"/>
              <a:chOff x="0" y="1333440"/>
              <a:chExt cx="6705000" cy="190440"/>
            </a:xfrm>
          </p:grpSpPr>
          <p:sp>
            <p:nvSpPr>
              <p:cNvPr id="193" name="Rectangle 54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11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57"/>
            <p:cNvGrpSpPr/>
            <p:nvPr/>
          </p:nvGrpSpPr>
          <p:grpSpPr>
            <a:xfrm>
              <a:off x="0" y="1523880"/>
              <a:ext cx="6705000" cy="190440"/>
              <a:chOff x="0" y="1523880"/>
              <a:chExt cx="6705000" cy="190440"/>
            </a:xfrm>
          </p:grpSpPr>
          <p:sp>
            <p:nvSpPr>
              <p:cNvPr id="196" name="Rectangle 56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Time constructor initializes each data member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59"/>
            <p:cNvGrpSpPr/>
            <p:nvPr/>
          </p:nvGrpSpPr>
          <p:grpSpPr>
            <a:xfrm>
              <a:off x="0" y="1714320"/>
              <a:ext cx="6705000" cy="190440"/>
              <a:chOff x="0" y="1714320"/>
              <a:chExt cx="6705000" cy="19044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Ensures all Time objects start in a consistent state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61"/>
            <p:cNvGrpSpPr/>
            <p:nvPr/>
          </p:nvGrpSpPr>
          <p:grpSpPr>
            <a:xfrm>
              <a:off x="0" y="1904760"/>
              <a:ext cx="6705000" cy="190440"/>
              <a:chOff x="0" y="1904760"/>
              <a:chExt cx="6705000" cy="190440"/>
            </a:xfrm>
          </p:grpSpPr>
          <p:sp>
            <p:nvSpPr>
              <p:cNvPr id="202" name="Rectangle 60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14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Time::Time() { hour = minute = second = 0; 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Group 63"/>
            <p:cNvGrpSpPr/>
            <p:nvPr/>
          </p:nvGrpSpPr>
          <p:grpSpPr>
            <a:xfrm>
              <a:off x="0" y="2095560"/>
              <a:ext cx="6705000" cy="190440"/>
              <a:chOff x="0" y="2095560"/>
              <a:chExt cx="6705000" cy="190440"/>
            </a:xfrm>
          </p:grpSpPr>
          <p:sp>
            <p:nvSpPr>
              <p:cNvPr id="205" name="Rectangle 62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15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65"/>
            <p:cNvGrpSpPr/>
            <p:nvPr/>
          </p:nvGrpSpPr>
          <p:grpSpPr>
            <a:xfrm>
              <a:off x="0" y="2286000"/>
              <a:ext cx="6705000" cy="190440"/>
              <a:chOff x="0" y="2286000"/>
              <a:chExt cx="6705000" cy="190440"/>
            </a:xfrm>
          </p:grpSpPr>
          <p:sp>
            <p:nvSpPr>
              <p:cNvPr id="208" name="Rectangle 64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16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Set a new Time value using military time. Perform validity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67"/>
            <p:cNvGrpSpPr/>
            <p:nvPr/>
          </p:nvGrpSpPr>
          <p:grpSpPr>
            <a:xfrm>
              <a:off x="0" y="2476440"/>
              <a:ext cx="6705000" cy="190440"/>
              <a:chOff x="0" y="2476440"/>
              <a:chExt cx="6705000" cy="190440"/>
            </a:xfrm>
          </p:grpSpPr>
          <p:sp>
            <p:nvSpPr>
              <p:cNvPr id="211" name="Rectangle 66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checks on the data values. Set invalid values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69"/>
            <p:cNvGrpSpPr/>
            <p:nvPr/>
          </p:nvGrpSpPr>
          <p:grpSpPr>
            <a:xfrm>
              <a:off x="0" y="2666880"/>
              <a:ext cx="6705000" cy="190440"/>
              <a:chOff x="0" y="2666880"/>
              <a:chExt cx="6705000" cy="190440"/>
            </a:xfrm>
          </p:grpSpPr>
          <p:sp>
            <p:nvSpPr>
              <p:cNvPr id="214" name="Rectangle 68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18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Time::setTime( int h, int m, int s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71"/>
            <p:cNvGrpSpPr/>
            <p:nvPr/>
          </p:nvGrpSpPr>
          <p:grpSpPr>
            <a:xfrm>
              <a:off x="0" y="2857320"/>
              <a:ext cx="6705000" cy="190440"/>
              <a:chOff x="0" y="2857320"/>
              <a:chExt cx="6705000" cy="190440"/>
            </a:xfrm>
          </p:grpSpPr>
          <p:sp>
            <p:nvSpPr>
              <p:cNvPr id="217" name="Rectangle 70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19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73"/>
            <p:cNvGrpSpPr/>
            <p:nvPr/>
          </p:nvGrpSpPr>
          <p:grpSpPr>
            <a:xfrm>
              <a:off x="0" y="3047760"/>
              <a:ext cx="6705000" cy="190440"/>
              <a:chOff x="0" y="3047760"/>
              <a:chExt cx="6705000" cy="190440"/>
            </a:xfrm>
          </p:grpSpPr>
          <p:sp>
            <p:nvSpPr>
              <p:cNvPr id="220" name="Rectangle 72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20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hour   = ( h &gt;= 0 &amp;&amp; h &lt; 24 ) ? h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75"/>
            <p:cNvGrpSpPr/>
            <p:nvPr/>
          </p:nvGrpSpPr>
          <p:grpSpPr>
            <a:xfrm>
              <a:off x="0" y="3238560"/>
              <a:ext cx="6705000" cy="190440"/>
              <a:chOff x="0" y="3238560"/>
              <a:chExt cx="6705000" cy="190440"/>
            </a:xfrm>
          </p:grpSpPr>
          <p:sp>
            <p:nvSpPr>
              <p:cNvPr id="223" name="Rectangle 74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21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77"/>
            <p:cNvGrpSpPr/>
            <p:nvPr/>
          </p:nvGrpSpPr>
          <p:grpSpPr>
            <a:xfrm>
              <a:off x="0" y="3429000"/>
              <a:ext cx="6705000" cy="190440"/>
              <a:chOff x="0" y="3429000"/>
              <a:chExt cx="6705000" cy="190440"/>
            </a:xfrm>
          </p:grpSpPr>
          <p:sp>
            <p:nvSpPr>
              <p:cNvPr id="226" name="Rectangle 76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22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79"/>
            <p:cNvGrpSpPr/>
            <p:nvPr/>
          </p:nvGrpSpPr>
          <p:grpSpPr>
            <a:xfrm>
              <a:off x="0" y="3619440"/>
              <a:ext cx="6705000" cy="190440"/>
              <a:chOff x="0" y="3619440"/>
              <a:chExt cx="6705000" cy="190440"/>
            </a:xfrm>
          </p:grpSpPr>
          <p:sp>
            <p:nvSpPr>
              <p:cNvPr id="229" name="Rectangle 78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23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81"/>
            <p:cNvGrpSpPr/>
            <p:nvPr/>
          </p:nvGrpSpPr>
          <p:grpSpPr>
            <a:xfrm>
              <a:off x="0" y="3809880"/>
              <a:ext cx="6705000" cy="190440"/>
              <a:chOff x="0" y="3809880"/>
              <a:chExt cx="6705000" cy="190440"/>
            </a:xfrm>
          </p:grpSpPr>
          <p:sp>
            <p:nvSpPr>
              <p:cNvPr id="232" name="Rectangle 80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24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Group 83"/>
            <p:cNvGrpSpPr/>
            <p:nvPr/>
          </p:nvGrpSpPr>
          <p:grpSpPr>
            <a:xfrm>
              <a:off x="0" y="4000320"/>
              <a:ext cx="6705000" cy="190440"/>
              <a:chOff x="0" y="4000320"/>
              <a:chExt cx="6705000" cy="190440"/>
            </a:xfrm>
          </p:grpSpPr>
          <p:sp>
            <p:nvSpPr>
              <p:cNvPr id="235" name="Rectangle 82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5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Print Time in military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85"/>
            <p:cNvGrpSpPr/>
            <p:nvPr/>
          </p:nvGrpSpPr>
          <p:grpSpPr>
            <a:xfrm>
              <a:off x="0" y="4190760"/>
              <a:ext cx="6705000" cy="190440"/>
              <a:chOff x="0" y="4190760"/>
              <a:chExt cx="6705000" cy="190440"/>
            </a:xfrm>
          </p:grpSpPr>
          <p:sp>
            <p:nvSpPr>
              <p:cNvPr id="238" name="Rectangle 84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6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Time::printMilitary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87"/>
            <p:cNvGrpSpPr/>
            <p:nvPr/>
          </p:nvGrpSpPr>
          <p:grpSpPr>
            <a:xfrm>
              <a:off x="0" y="4381560"/>
              <a:ext cx="6705000" cy="190440"/>
              <a:chOff x="0" y="4381560"/>
              <a:chExt cx="6705000" cy="190440"/>
            </a:xfrm>
          </p:grpSpPr>
          <p:sp>
            <p:nvSpPr>
              <p:cNvPr id="241" name="Rectangle 86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7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89"/>
            <p:cNvGrpSpPr/>
            <p:nvPr/>
          </p:nvGrpSpPr>
          <p:grpSpPr>
            <a:xfrm>
              <a:off x="0" y="4572000"/>
              <a:ext cx="6705000" cy="190440"/>
              <a:chOff x="0" y="4572000"/>
              <a:chExt cx="6705000" cy="190440"/>
            </a:xfrm>
          </p:grpSpPr>
          <p:sp>
            <p:nvSpPr>
              <p:cNvPr id="244" name="Rectangle 88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28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91"/>
            <p:cNvGrpSpPr/>
            <p:nvPr/>
          </p:nvGrpSpPr>
          <p:grpSpPr>
            <a:xfrm>
              <a:off x="0" y="4762440"/>
              <a:ext cx="6705000" cy="190440"/>
              <a:chOff x="0" y="4762440"/>
              <a:chExt cx="6705000" cy="190440"/>
            </a:xfrm>
          </p:grpSpPr>
          <p:sp>
            <p:nvSpPr>
              <p:cNvPr id="247" name="Rectangle 90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29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93"/>
            <p:cNvGrpSpPr/>
            <p:nvPr/>
          </p:nvGrpSpPr>
          <p:grpSpPr>
            <a:xfrm>
              <a:off x="0" y="4952880"/>
              <a:ext cx="6705000" cy="190440"/>
              <a:chOff x="0" y="4952880"/>
              <a:chExt cx="6705000" cy="190440"/>
            </a:xfrm>
          </p:grpSpPr>
          <p:sp>
            <p:nvSpPr>
              <p:cNvPr id="250" name="Rectangle 92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30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95"/>
            <p:cNvGrpSpPr/>
            <p:nvPr/>
          </p:nvGrpSpPr>
          <p:grpSpPr>
            <a:xfrm>
              <a:off x="0" y="5143320"/>
              <a:ext cx="6705000" cy="190440"/>
              <a:chOff x="0" y="5143320"/>
              <a:chExt cx="6705000" cy="190440"/>
            </a:xfrm>
          </p:grpSpPr>
          <p:sp>
            <p:nvSpPr>
              <p:cNvPr id="253" name="Rectangle 94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31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97"/>
            <p:cNvGrpSpPr/>
            <p:nvPr/>
          </p:nvGrpSpPr>
          <p:grpSpPr>
            <a:xfrm>
              <a:off x="0" y="5334120"/>
              <a:ext cx="6705000" cy="190440"/>
              <a:chOff x="0" y="5334120"/>
              <a:chExt cx="6705000" cy="190440"/>
            </a:xfrm>
          </p:grpSpPr>
          <p:sp>
            <p:nvSpPr>
              <p:cNvPr id="256" name="Rectangle 96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Print time in standard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99"/>
            <p:cNvGrpSpPr/>
            <p:nvPr/>
          </p:nvGrpSpPr>
          <p:grpSpPr>
            <a:xfrm>
              <a:off x="0" y="5524560"/>
              <a:ext cx="6705000" cy="190440"/>
              <a:chOff x="0" y="5524560"/>
              <a:chExt cx="6705000" cy="190440"/>
            </a:xfrm>
          </p:grpSpPr>
          <p:sp>
            <p:nvSpPr>
              <p:cNvPr id="259" name="Rectangle 98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33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Time::printStandard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101"/>
            <p:cNvGrpSpPr/>
            <p:nvPr/>
          </p:nvGrpSpPr>
          <p:grpSpPr>
            <a:xfrm>
              <a:off x="0" y="5715000"/>
              <a:ext cx="6705000" cy="190440"/>
              <a:chOff x="0" y="5715000"/>
              <a:chExt cx="6705000" cy="190440"/>
            </a:xfrm>
          </p:grpSpPr>
          <p:sp>
            <p:nvSpPr>
              <p:cNvPr id="262" name="Rectangle 100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34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103"/>
            <p:cNvGrpSpPr/>
            <p:nvPr/>
          </p:nvGrpSpPr>
          <p:grpSpPr>
            <a:xfrm>
              <a:off x="0" y="5905440"/>
              <a:ext cx="6705000" cy="190440"/>
              <a:chOff x="0" y="5905440"/>
              <a:chExt cx="6705000" cy="190440"/>
            </a:xfrm>
          </p:grpSpPr>
          <p:sp>
            <p:nvSpPr>
              <p:cNvPr id="265" name="Rectangle 102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0 || hour == 12 ) ? 12 : hour % 12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05"/>
            <p:cNvGrpSpPr/>
            <p:nvPr/>
          </p:nvGrpSpPr>
          <p:grpSpPr>
            <a:xfrm>
              <a:off x="0" y="6095880"/>
              <a:ext cx="6705000" cy="190440"/>
              <a:chOff x="0" y="6095880"/>
              <a:chExt cx="6705000" cy="190440"/>
            </a:xfrm>
          </p:grpSpPr>
          <p:sp>
            <p:nvSpPr>
              <p:cNvPr id="268" name="Rectangle 104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36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minute &lt; 10 ? "0" : "" ) &lt;&lt; minu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107"/>
            <p:cNvGrpSpPr/>
            <p:nvPr/>
          </p:nvGrpSpPr>
          <p:grpSpPr>
            <a:xfrm>
              <a:off x="0" y="6286680"/>
              <a:ext cx="6705000" cy="190440"/>
              <a:chOff x="0" y="6286680"/>
              <a:chExt cx="6705000" cy="190440"/>
            </a:xfrm>
          </p:grpSpPr>
          <p:sp>
            <p:nvSpPr>
              <p:cNvPr id="271" name="Rectangle 106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37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second &lt; 10 ? "0" : "" ) &lt;&lt; secon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9"/>
            <p:cNvGrpSpPr/>
            <p:nvPr/>
          </p:nvGrpSpPr>
          <p:grpSpPr>
            <a:xfrm>
              <a:off x="0" y="6477120"/>
              <a:ext cx="6705000" cy="190440"/>
              <a:chOff x="0" y="6477120"/>
              <a:chExt cx="6705000" cy="190440"/>
            </a:xfrm>
          </p:grpSpPr>
          <p:sp>
            <p:nvSpPr>
              <p:cNvPr id="274" name="Rectangle 108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38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11"/>
            <p:cNvGrpSpPr/>
            <p:nvPr/>
          </p:nvGrpSpPr>
          <p:grpSpPr>
            <a:xfrm>
              <a:off x="0" y="6667560"/>
              <a:ext cx="6705000" cy="190440"/>
              <a:chOff x="0" y="6667560"/>
              <a:chExt cx="6705000" cy="190440"/>
            </a:xfrm>
          </p:grpSpPr>
          <p:sp>
            <p:nvSpPr>
              <p:cNvPr id="277" name="Rectangle 110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39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Group 122"/>
          <p:cNvGrpSpPr/>
          <p:nvPr/>
        </p:nvGrpSpPr>
        <p:grpSpPr>
          <a:xfrm>
            <a:off x="2133720" y="920880"/>
            <a:ext cx="4495680" cy="580680"/>
            <a:chOff x="2133720" y="920880"/>
            <a:chExt cx="4495680" cy="580680"/>
          </a:xfrm>
        </p:grpSpPr>
        <p:sp>
          <p:nvSpPr>
            <p:cNvPr id="280" name="Text Box 113"/>
            <p:cNvSpPr/>
            <p:nvPr/>
          </p:nvSpPr>
          <p:spPr>
            <a:xfrm>
              <a:off x="3962520" y="92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urce file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load the header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14"/>
            <p:cNvSpPr/>
            <p:nvPr/>
          </p:nvSpPr>
          <p:spPr>
            <a:xfrm flipH="1">
              <a:off x="2133720" y="1295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123"/>
          <p:cNvGrpSpPr/>
          <p:nvPr/>
        </p:nvGrpSpPr>
        <p:grpSpPr>
          <a:xfrm>
            <a:off x="3505320" y="2895120"/>
            <a:ext cx="4724280" cy="2819880"/>
            <a:chOff x="3505320" y="2895120"/>
            <a:chExt cx="4724280" cy="2819880"/>
          </a:xfrm>
        </p:grpSpPr>
        <p:sp>
          <p:nvSpPr>
            <p:cNvPr id="283" name="Text Box 118"/>
            <p:cNvSpPr/>
            <p:nvPr/>
          </p:nvSpPr>
          <p:spPr>
            <a:xfrm>
              <a:off x="6095880" y="34290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urce file contains function 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19"/>
            <p:cNvSpPr/>
            <p:nvPr/>
          </p:nvSpPr>
          <p:spPr>
            <a:xfrm flipH="1" flipV="1">
              <a:off x="4114440" y="289512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20"/>
            <p:cNvSpPr/>
            <p:nvPr/>
          </p:nvSpPr>
          <p:spPr>
            <a:xfrm flipH="1">
              <a:off x="3505320" y="3733920"/>
              <a:ext cx="2590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21"/>
            <p:cNvSpPr/>
            <p:nvPr/>
          </p:nvSpPr>
          <p:spPr>
            <a:xfrm flipH="1">
              <a:off x="3886200" y="3733920"/>
              <a:ext cx="22096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43D6-9F4E-4F13-BBF3-008080F9E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rolling Access to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s clients with a view of the services the class provides (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and member functions are acce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access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nly accessible throug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nterface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E272-E180-4DBC-8C0A-BE5118B5D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67"/>
          <p:cNvGrpSpPr/>
          <p:nvPr/>
        </p:nvGrpSpPr>
        <p:grpSpPr>
          <a:xfrm>
            <a:off x="0" y="0"/>
            <a:ext cx="6705000" cy="4343400"/>
            <a:chOff x="0" y="0"/>
            <a:chExt cx="6705000" cy="4343400"/>
          </a:xfrm>
        </p:grpSpPr>
        <p:grpSp>
          <p:nvGrpSpPr>
            <p:cNvPr id="292" name="Group 26"/>
            <p:cNvGrpSpPr/>
            <p:nvPr/>
          </p:nvGrpSpPr>
          <p:grpSpPr>
            <a:xfrm>
              <a:off x="0" y="0"/>
              <a:ext cx="6705000" cy="206640"/>
              <a:chOff x="0" y="0"/>
              <a:chExt cx="6705000" cy="206640"/>
            </a:xfrm>
          </p:grpSpPr>
          <p:sp>
            <p:nvSpPr>
              <p:cNvPr id="293" name="Rectangle 25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4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6: fig06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28"/>
            <p:cNvGrpSpPr/>
            <p:nvPr/>
          </p:nvGrpSpPr>
          <p:grpSpPr>
            <a:xfrm>
              <a:off x="0" y="206640"/>
              <a:ext cx="6705000" cy="206640"/>
              <a:chOff x="0" y="206640"/>
              <a:chExt cx="6705000" cy="206640"/>
            </a:xfrm>
          </p:grpSpPr>
          <p:sp>
            <p:nvSpPr>
              <p:cNvPr id="296" name="Rectangle 27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5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e errors resulting from attemp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30"/>
            <p:cNvGrpSpPr/>
            <p:nvPr/>
          </p:nvGrpSpPr>
          <p:grpSpPr>
            <a:xfrm>
              <a:off x="0" y="413280"/>
              <a:ext cx="6705000" cy="206640"/>
              <a:chOff x="0" y="413280"/>
              <a:chExt cx="6705000" cy="206640"/>
            </a:xfrm>
          </p:grpSpPr>
          <p:sp>
            <p:nvSpPr>
              <p:cNvPr id="299" name="Rectangle 29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6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o access private class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32"/>
            <p:cNvGrpSpPr/>
            <p:nvPr/>
          </p:nvGrpSpPr>
          <p:grpSpPr>
            <a:xfrm>
              <a:off x="0" y="620280"/>
              <a:ext cx="6705000" cy="206640"/>
              <a:chOff x="0" y="620280"/>
              <a:chExt cx="6705000" cy="206640"/>
            </a:xfrm>
          </p:grpSpPr>
          <p:sp>
            <p:nvSpPr>
              <p:cNvPr id="302" name="Rectangle 31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7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34"/>
            <p:cNvGrpSpPr/>
            <p:nvPr/>
          </p:nvGrpSpPr>
          <p:grpSpPr>
            <a:xfrm>
              <a:off x="0" y="827280"/>
              <a:ext cx="6705000" cy="206640"/>
              <a:chOff x="0" y="827280"/>
              <a:chExt cx="6705000" cy="206640"/>
            </a:xfrm>
          </p:grpSpPr>
          <p:sp>
            <p:nvSpPr>
              <p:cNvPr id="305" name="Rectangle 33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36"/>
            <p:cNvGrpSpPr/>
            <p:nvPr/>
          </p:nvGrpSpPr>
          <p:grpSpPr>
            <a:xfrm>
              <a:off x="0" y="1033920"/>
              <a:ext cx="6705000" cy="206640"/>
              <a:chOff x="0" y="1033920"/>
              <a:chExt cx="6705000" cy="206640"/>
            </a:xfrm>
          </p:grpSpPr>
          <p:sp>
            <p:nvSpPr>
              <p:cNvPr id="308" name="Rectangle 35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9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38"/>
            <p:cNvGrpSpPr/>
            <p:nvPr/>
          </p:nvGrpSpPr>
          <p:grpSpPr>
            <a:xfrm>
              <a:off x="0" y="1240920"/>
              <a:ext cx="6705000" cy="206640"/>
              <a:chOff x="0" y="1240920"/>
              <a:chExt cx="6705000" cy="206640"/>
            </a:xfrm>
          </p:grpSpPr>
          <p:sp>
            <p:nvSpPr>
              <p:cNvPr id="311" name="Rectangle 37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10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40"/>
            <p:cNvGrpSpPr/>
            <p:nvPr/>
          </p:nvGrpSpPr>
          <p:grpSpPr>
            <a:xfrm>
              <a:off x="0" y="1447920"/>
              <a:ext cx="6705000" cy="206640"/>
              <a:chOff x="0" y="1447920"/>
              <a:chExt cx="6705000" cy="206640"/>
            </a:xfrm>
          </p:grpSpPr>
          <p:sp>
            <p:nvSpPr>
              <p:cNvPr id="314" name="Rectangle 39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11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42"/>
            <p:cNvGrpSpPr/>
            <p:nvPr/>
          </p:nvGrpSpPr>
          <p:grpSpPr>
            <a:xfrm>
              <a:off x="0" y="1654560"/>
              <a:ext cx="6705000" cy="206640"/>
              <a:chOff x="0" y="1654560"/>
              <a:chExt cx="6705000" cy="206640"/>
            </a:xfrm>
          </p:grpSpPr>
          <p:sp>
            <p:nvSpPr>
              <p:cNvPr id="317" name="Rectangle 41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12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44"/>
            <p:cNvGrpSpPr/>
            <p:nvPr/>
          </p:nvGrpSpPr>
          <p:grpSpPr>
            <a:xfrm>
              <a:off x="0" y="1861200"/>
              <a:ext cx="6705000" cy="206640"/>
              <a:chOff x="0" y="1861200"/>
              <a:chExt cx="6705000" cy="206640"/>
            </a:xfrm>
          </p:grpSpPr>
          <p:sp>
            <p:nvSpPr>
              <p:cNvPr id="320" name="Rectangle 43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13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46"/>
            <p:cNvGrpSpPr/>
            <p:nvPr/>
          </p:nvGrpSpPr>
          <p:grpSpPr>
            <a:xfrm>
              <a:off x="0" y="2068200"/>
              <a:ext cx="6705000" cy="206640"/>
              <a:chOff x="0" y="2068200"/>
              <a:chExt cx="6705000" cy="206640"/>
            </a:xfrm>
          </p:grpSpPr>
          <p:sp>
            <p:nvSpPr>
              <p:cNvPr id="323" name="Rectangle 45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14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48"/>
            <p:cNvGrpSpPr/>
            <p:nvPr/>
          </p:nvGrpSpPr>
          <p:grpSpPr>
            <a:xfrm>
              <a:off x="0" y="2275200"/>
              <a:ext cx="6705000" cy="206640"/>
              <a:chOff x="0" y="2275200"/>
              <a:chExt cx="6705000" cy="206640"/>
            </a:xfrm>
          </p:grpSpPr>
          <p:sp>
            <p:nvSpPr>
              <p:cNvPr id="326" name="Rectangle 47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50"/>
            <p:cNvGrpSpPr/>
            <p:nvPr/>
          </p:nvGrpSpPr>
          <p:grpSpPr>
            <a:xfrm>
              <a:off x="0" y="2481840"/>
              <a:ext cx="6705000" cy="206640"/>
              <a:chOff x="0" y="2481840"/>
              <a:chExt cx="6705000" cy="206640"/>
            </a:xfrm>
          </p:grpSpPr>
          <p:sp>
            <p:nvSpPr>
              <p:cNvPr id="329" name="Rectangle 49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16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52"/>
            <p:cNvGrpSpPr/>
            <p:nvPr/>
          </p:nvGrpSpPr>
          <p:grpSpPr>
            <a:xfrm>
              <a:off x="0" y="2688840"/>
              <a:ext cx="6705000" cy="206640"/>
              <a:chOff x="0" y="2688840"/>
              <a:chExt cx="6705000" cy="206640"/>
            </a:xfrm>
          </p:grpSpPr>
          <p:sp>
            <p:nvSpPr>
              <p:cNvPr id="332" name="Rectangle 51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17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Error: 'Time::hour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54"/>
            <p:cNvGrpSpPr/>
            <p:nvPr/>
          </p:nvGrpSpPr>
          <p:grpSpPr>
            <a:xfrm>
              <a:off x="0" y="2895480"/>
              <a:ext cx="6705000" cy="206640"/>
              <a:chOff x="0" y="2895480"/>
              <a:chExt cx="6705000" cy="206640"/>
            </a:xfrm>
          </p:grpSpPr>
          <p:sp>
            <p:nvSpPr>
              <p:cNvPr id="335" name="Rectangle 53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8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hou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56"/>
            <p:cNvGrpSpPr/>
            <p:nvPr/>
          </p:nvGrpSpPr>
          <p:grpSpPr>
            <a:xfrm>
              <a:off x="0" y="3102480"/>
              <a:ext cx="6705000" cy="206640"/>
              <a:chOff x="0" y="3102480"/>
              <a:chExt cx="6705000" cy="206640"/>
            </a:xfrm>
          </p:grpSpPr>
          <p:sp>
            <p:nvSpPr>
              <p:cNvPr id="338" name="Rectangle 55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9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58"/>
            <p:cNvGrpSpPr/>
            <p:nvPr/>
          </p:nvGrpSpPr>
          <p:grpSpPr>
            <a:xfrm>
              <a:off x="0" y="3309120"/>
              <a:ext cx="6705000" cy="206640"/>
              <a:chOff x="0" y="3309120"/>
              <a:chExt cx="6705000" cy="206640"/>
            </a:xfrm>
          </p:grpSpPr>
          <p:sp>
            <p:nvSpPr>
              <p:cNvPr id="341" name="Rectangle 57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Rectangle 20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Error: 'Time::minute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60"/>
            <p:cNvGrpSpPr/>
            <p:nvPr/>
          </p:nvGrpSpPr>
          <p:grpSpPr>
            <a:xfrm>
              <a:off x="0" y="3516120"/>
              <a:ext cx="6705000" cy="206640"/>
              <a:chOff x="0" y="3516120"/>
              <a:chExt cx="6705000" cy="206640"/>
            </a:xfrm>
          </p:grpSpPr>
          <p:sp>
            <p:nvSpPr>
              <p:cNvPr id="344" name="Rectangle 59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Rectangle 21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minute = "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62"/>
            <p:cNvGrpSpPr/>
            <p:nvPr/>
          </p:nvGrpSpPr>
          <p:grpSpPr>
            <a:xfrm>
              <a:off x="0" y="3722760"/>
              <a:ext cx="6705000" cy="206640"/>
              <a:chOff x="0" y="3722760"/>
              <a:chExt cx="6705000" cy="206640"/>
            </a:xfrm>
          </p:grpSpPr>
          <p:sp>
            <p:nvSpPr>
              <p:cNvPr id="347" name="Rectangle 61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22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64"/>
            <p:cNvGrpSpPr/>
            <p:nvPr/>
          </p:nvGrpSpPr>
          <p:grpSpPr>
            <a:xfrm>
              <a:off x="0" y="3929760"/>
              <a:ext cx="6705000" cy="206640"/>
              <a:chOff x="0" y="3929760"/>
              <a:chExt cx="6705000" cy="206640"/>
            </a:xfrm>
          </p:grpSpPr>
          <p:sp>
            <p:nvSpPr>
              <p:cNvPr id="350" name="Rectangle 63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23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66"/>
            <p:cNvGrpSpPr/>
            <p:nvPr/>
          </p:nvGrpSpPr>
          <p:grpSpPr>
            <a:xfrm>
              <a:off x="0" y="4136760"/>
              <a:ext cx="6705000" cy="206640"/>
              <a:chOff x="0" y="4136760"/>
              <a:chExt cx="6705000" cy="206640"/>
            </a:xfrm>
          </p:grpSpPr>
          <p:sp>
            <p:nvSpPr>
              <p:cNvPr id="353" name="Rectangle 65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4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Rectangle 68"/>
          <p:cNvSpPr/>
          <p:nvPr/>
        </p:nvSpPr>
        <p:spPr>
          <a:xfrm>
            <a:off x="0" y="4672080"/>
            <a:ext cx="670572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6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06_06.cpp(15) : error C2248: 'hour' : cannot access priv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6_06\time1.h(18) : see declaration of 'hou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06_06.cpp(18) : error C2248: 'minute' : cannot acces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time1.h(19) : see declaration of 'minut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.exe - 2 error(s), 0 warning(s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80"/>
          <p:cNvGrpSpPr/>
          <p:nvPr/>
        </p:nvGrpSpPr>
        <p:grpSpPr>
          <a:xfrm>
            <a:off x="3657600" y="3657600"/>
            <a:ext cx="5257800" cy="1981080"/>
            <a:chOff x="3657600" y="3657600"/>
            <a:chExt cx="5257800" cy="1981080"/>
          </a:xfrm>
        </p:grpSpPr>
        <p:sp>
          <p:nvSpPr>
            <p:cNvPr id="357" name="Text Box 71"/>
            <p:cNvSpPr/>
            <p:nvPr/>
          </p:nvSpPr>
          <p:spPr>
            <a:xfrm>
              <a:off x="5562720" y="36576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72"/>
            <p:cNvSpPr/>
            <p:nvPr/>
          </p:nvSpPr>
          <p:spPr>
            <a:xfrm flipH="1">
              <a:off x="3657600" y="3733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4"/>
            <p:cNvSpPr/>
            <p:nvPr/>
          </p:nvSpPr>
          <p:spPr>
            <a:xfrm flipH="1">
              <a:off x="6324120" y="4267080"/>
              <a:ext cx="685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 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an object of clas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ttempt to set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 Attempt to access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84"/>
          <p:cNvGrpSpPr/>
          <p:nvPr/>
        </p:nvGrpSpPr>
        <p:grpSpPr>
          <a:xfrm>
            <a:off x="1981080" y="2819520"/>
            <a:ext cx="6172200" cy="2286000"/>
            <a:chOff x="1981080" y="2819520"/>
            <a:chExt cx="6172200" cy="2286000"/>
          </a:xfrm>
        </p:grpSpPr>
        <p:sp>
          <p:nvSpPr>
            <p:cNvPr id="362" name="Text Box 85"/>
            <p:cNvSpPr/>
            <p:nvPr/>
          </p:nvSpPr>
          <p:spPr>
            <a:xfrm>
              <a:off x="4724280" y="28195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6"/>
            <p:cNvSpPr/>
            <p:nvPr/>
          </p:nvSpPr>
          <p:spPr>
            <a:xfrm flipH="1">
              <a:off x="1981080" y="30481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87"/>
            <p:cNvSpPr/>
            <p:nvPr/>
          </p:nvSpPr>
          <p:spPr>
            <a:xfrm flipH="1">
              <a:off x="4495680" y="3429000"/>
              <a:ext cx="457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88E3-AFC0-45FC-9BA1-0A9940DC6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ccess-Functions and Utility-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-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support the operation of public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tended to be used directly by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-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read/display data or check condi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o check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take in monthly sales and output the 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not shown, only access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4872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270000" rIns="0" tIns="270000" bIns="270000" anchor="t">
            <a:normAutofit fontScale="99000"/>
          </a:bodyPr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SalesPerson class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ifndef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P_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P_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alesPerson(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co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getSalesFromUser(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get sales figures from key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etSales( 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User supplies one month'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sales figu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printAnnualSale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privat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totalAnnualSales(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utilit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[ 12 ];    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12 monthly sales fig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0653-8117-42E1-A541-2AD79D6C47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CC67-5C93-47A6-B22B-9A6C7C7A9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3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371" name="Group 18"/>
            <p:cNvGrpSpPr/>
            <p:nvPr/>
          </p:nvGrpSpPr>
          <p:grpSpPr>
            <a:xfrm>
              <a:off x="0" y="0"/>
              <a:ext cx="6705000" cy="240120"/>
              <a:chOff x="0" y="0"/>
              <a:chExt cx="6705000" cy="240120"/>
            </a:xfrm>
          </p:grpSpPr>
          <p:sp>
            <p:nvSpPr>
              <p:cNvPr id="372" name="Rectangle 17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4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7: fig06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20"/>
            <p:cNvGrpSpPr/>
            <p:nvPr/>
          </p:nvGrpSpPr>
          <p:grpSpPr>
            <a:xfrm>
              <a:off x="0" y="240120"/>
              <a:ext cx="6705000" cy="240120"/>
              <a:chOff x="0" y="240120"/>
              <a:chExt cx="6705000" cy="240120"/>
            </a:xfrm>
          </p:grpSpPr>
          <p:sp>
            <p:nvSpPr>
              <p:cNvPr id="375" name="Rectangle 19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5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a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22"/>
            <p:cNvGrpSpPr/>
            <p:nvPr/>
          </p:nvGrpSpPr>
          <p:grpSpPr>
            <a:xfrm>
              <a:off x="0" y="480240"/>
              <a:ext cx="6705000" cy="240120"/>
              <a:chOff x="0" y="480240"/>
              <a:chExt cx="6705000" cy="240120"/>
            </a:xfrm>
          </p:grpSpPr>
          <p:sp>
            <p:nvSpPr>
              <p:cNvPr id="378" name="Rectangle 21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6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mpile with salesp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24"/>
            <p:cNvGrpSpPr/>
            <p:nvPr/>
          </p:nvGrpSpPr>
          <p:grpSpPr>
            <a:xfrm>
              <a:off x="0" y="720720"/>
              <a:ext cx="6705000" cy="240120"/>
              <a:chOff x="0" y="720720"/>
              <a:chExt cx="6705000" cy="240120"/>
            </a:xfrm>
          </p:grpSpPr>
          <p:sp>
            <p:nvSpPr>
              <p:cNvPr id="381" name="Rectangle 23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7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salesp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26"/>
            <p:cNvGrpSpPr/>
            <p:nvPr/>
          </p:nvGrpSpPr>
          <p:grpSpPr>
            <a:xfrm>
              <a:off x="0" y="961200"/>
              <a:ext cx="6705000" cy="240120"/>
              <a:chOff x="0" y="961200"/>
              <a:chExt cx="6705000" cy="240120"/>
            </a:xfrm>
          </p:grpSpPr>
          <p:sp>
            <p:nvSpPr>
              <p:cNvPr id="384" name="Rectangle 25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8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8"/>
            <p:cNvGrpSpPr/>
            <p:nvPr/>
          </p:nvGrpSpPr>
          <p:grpSpPr>
            <a:xfrm>
              <a:off x="0" y="1201320"/>
              <a:ext cx="6705000" cy="240120"/>
              <a:chOff x="0" y="1201320"/>
              <a:chExt cx="6705000" cy="240120"/>
            </a:xfrm>
          </p:grpSpPr>
          <p:sp>
            <p:nvSpPr>
              <p:cNvPr id="387" name="Rectangle 27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9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30"/>
            <p:cNvGrpSpPr/>
            <p:nvPr/>
          </p:nvGrpSpPr>
          <p:grpSpPr>
            <a:xfrm>
              <a:off x="0" y="1441800"/>
              <a:ext cx="6705000" cy="240120"/>
              <a:chOff x="0" y="1441800"/>
              <a:chExt cx="6705000" cy="240120"/>
            </a:xfrm>
          </p:grpSpPr>
          <p:sp>
            <p:nvSpPr>
              <p:cNvPr id="390" name="Rectangle 29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0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0" y="1682280"/>
              <a:ext cx="6705000" cy="240120"/>
              <a:chOff x="0" y="1682280"/>
              <a:chExt cx="6705000" cy="240120"/>
            </a:xfrm>
          </p:grpSpPr>
          <p:sp>
            <p:nvSpPr>
              <p:cNvPr id="393" name="Rectangle 31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1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alesPerson s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SalesPerson object 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34"/>
            <p:cNvGrpSpPr/>
            <p:nvPr/>
          </p:nvGrpSpPr>
          <p:grpSpPr>
            <a:xfrm>
              <a:off x="0" y="1922400"/>
              <a:ext cx="6705000" cy="240120"/>
              <a:chOff x="0" y="1922400"/>
              <a:chExt cx="6705000" cy="240120"/>
            </a:xfrm>
          </p:grpSpPr>
          <p:sp>
            <p:nvSpPr>
              <p:cNvPr id="396" name="Rectangle 33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2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36"/>
            <p:cNvGrpSpPr/>
            <p:nvPr/>
          </p:nvGrpSpPr>
          <p:grpSpPr>
            <a:xfrm>
              <a:off x="0" y="2162880"/>
              <a:ext cx="6705000" cy="240120"/>
              <a:chOff x="0" y="2162880"/>
              <a:chExt cx="6705000" cy="240120"/>
            </a:xfrm>
          </p:grpSpPr>
          <p:sp>
            <p:nvSpPr>
              <p:cNvPr id="399" name="Rectangle 35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3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.getSalesFromUser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te simple sequential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38"/>
            <p:cNvGrpSpPr/>
            <p:nvPr/>
          </p:nvGrpSpPr>
          <p:grpSpPr>
            <a:xfrm>
              <a:off x="0" y="2403000"/>
              <a:ext cx="6705000" cy="240120"/>
              <a:chOff x="0" y="2403000"/>
              <a:chExt cx="6705000" cy="240120"/>
            </a:xfrm>
          </p:grpSpPr>
          <p:sp>
            <p:nvSpPr>
              <p:cNvPr id="402" name="Rectangle 37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4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.printAnnualSale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 control structures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40"/>
            <p:cNvGrpSpPr/>
            <p:nvPr/>
          </p:nvGrpSpPr>
          <p:grpSpPr>
            <a:xfrm>
              <a:off x="0" y="2643480"/>
              <a:ext cx="6705000" cy="240120"/>
              <a:chOff x="0" y="2643480"/>
              <a:chExt cx="6705000" cy="240120"/>
            </a:xfrm>
          </p:grpSpPr>
          <p:sp>
            <p:nvSpPr>
              <p:cNvPr id="405" name="Rectangle 39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5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42"/>
            <p:cNvGrpSpPr/>
            <p:nvPr/>
          </p:nvGrpSpPr>
          <p:grpSpPr>
            <a:xfrm>
              <a:off x="0" y="2883960"/>
              <a:ext cx="6705000" cy="240120"/>
              <a:chOff x="0" y="2883960"/>
              <a:chExt cx="6705000" cy="240120"/>
            </a:xfrm>
          </p:grpSpPr>
          <p:sp>
            <p:nvSpPr>
              <p:cNvPr id="408" name="Rectangle 41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16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44"/>
          <p:cNvSpPr/>
          <p:nvPr/>
        </p:nvSpPr>
        <p:spPr>
          <a:xfrm>
            <a:off x="0" y="3352680"/>
            <a:ext cx="670572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: 5314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2: 4292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3: 4589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4: 5534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5: 4376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6: 5698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7: 4439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8: 5893.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9: 4909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0: 5123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1: 4024.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2: 5923.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total annual sales are: $60120.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55"/>
          <p:cNvGrpSpPr/>
          <p:nvPr/>
        </p:nvGrpSpPr>
        <p:grpSpPr>
          <a:xfrm>
            <a:off x="1980720" y="762120"/>
            <a:ext cx="4267800" cy="990360"/>
            <a:chOff x="1980720" y="762120"/>
            <a:chExt cx="4267800" cy="990360"/>
          </a:xfrm>
        </p:grpSpPr>
        <p:sp>
          <p:nvSpPr>
            <p:cNvPr id="412" name="Text Box 45"/>
            <p:cNvSpPr/>
            <p:nvPr/>
          </p:nvSpPr>
          <p:spPr>
            <a:xfrm>
              <a:off x="3733920" y="7621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es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46"/>
            <p:cNvSpPr/>
            <p:nvPr/>
          </p:nvSpPr>
          <p:spPr>
            <a:xfrm flipH="1">
              <a:off x="1980720" y="1143000"/>
              <a:ext cx="1752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 Load header file and compile with the file that contains the function defini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 Create an objec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 Use the object’s member functions to get and print sale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61"/>
          <p:cNvGrpSpPr/>
          <p:nvPr/>
        </p:nvGrpSpPr>
        <p:grpSpPr>
          <a:xfrm>
            <a:off x="2361960" y="2666520"/>
            <a:ext cx="6629760" cy="3522960"/>
            <a:chOff x="2361960" y="2666520"/>
            <a:chExt cx="6629760" cy="3522960"/>
          </a:xfrm>
        </p:grpSpPr>
        <p:sp>
          <p:nvSpPr>
            <p:cNvPr id="416" name="Text Box 62"/>
            <p:cNvSpPr/>
            <p:nvPr/>
          </p:nvSpPr>
          <p:spPr>
            <a:xfrm>
              <a:off x="6095880" y="3048120"/>
              <a:ext cx="2895840" cy="3141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ccess functions to gather and print data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SalesFromU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Annual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 Utility functions actually calculate the total sales, but the user is not aware of these function call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sim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– there are no control structures, only function calls. This hides the implementation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63"/>
            <p:cNvSpPr/>
            <p:nvPr/>
          </p:nvSpPr>
          <p:spPr>
            <a:xfrm flipH="1" flipV="1">
              <a:off x="2361960" y="2666520"/>
              <a:ext cx="3733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18T10:27:25Z</dcterms:modified>
  <cp:revision>462</cp:revision>
  <dc:subject/>
  <dc:title>Chapter 1 – Introduction to Computers and C++ Programming</dc:title>
</cp:coreProperties>
</file>