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3AAF-E868-4F73-938E-03DD4ED2E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DF54-FBB4-4968-BF18-D2D135BD2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2232-1D49-4564-B17D-03619371C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0B15-5807-4C64-AE47-3A24E815F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C1B2-0770-4402-8EC4-BC9278B0A1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E251-D07B-4A05-84B6-C54B3506A9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D665-22E0-4B87-9B20-A229F5C86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E2F4-D0C3-49DC-8A66-11B8649EAA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644C-7E4E-4CB2-B714-DAB7463B17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809C-1C39-47BD-B2DB-EA5A3CB347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6E5B-E2CA-4063-9676-C678AE380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93E0-EED0-477E-911A-28909FEAB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D4DB-ED11-4AC6-A713-E52A5C6FA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0C90-A1C8-4DBD-A3CC-9640AB0B95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03F9-F0F5-45A8-8676-321DDC09E3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F91B-D8A4-42C1-B212-506560B2B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341B-C1DD-419E-A804-CEF8E98C7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2512-B5C0-459D-B31F-BB3CEEC3F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07B4-C0CC-4F40-A353-808F0ABCC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5D14-B83D-4927-8F65-AD16AD043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0BF4-E659-4682-AA95-604B96D2F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7E0F-FEDC-4E03-8C4E-1D1AA5B3B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8F95-49AB-41FF-8379-EB9277F0D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426E-CDA7-4136-B68F-09F0248D6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05E5-1FDA-4CDD-99D8-0D1717E6C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0197-1366-45E5-AC4B-6C36A640F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C7A1-DDE8-4874-B025-7E11FAEF2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2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trolling Access to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ccess-Functions and Utility-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DAF-1936-40C6-9296-D758F29B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class members/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C1A-E308-466E-B027-6EFC1E7C0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3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423" name="Group 28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424" name="Rectangle 27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4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30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427" name="Rectangle 29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32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430" name="Rectangle 31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34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433" name="Rectangle 33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7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36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436" name="Rectangle 35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8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38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439" name="Rectangle 37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40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442" name="Rectangle 39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42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445" name="Rectangle 4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448" name="Rectangle 43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2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6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451" name="Rectangle 45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8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454" name="Rectangle 47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457" name="Rectangle 49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52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460" name="Rectangle 51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4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6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466" name="Rectangle 55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18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469" name="Rectangle 57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9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0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472" name="Rectangle 59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2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475" name="Rectangle 6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2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4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478" name="Rectangle 63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2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6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481" name="Rectangle 65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3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8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484" name="Rectangle 67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4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0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487" name="Rectangle 69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Group 78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493" name="Line 74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75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E49A-04B8-4EF6-8356-1B28BDB4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316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98" name="Group 251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499" name="Rectangle 250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21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253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502" name="Rectangle 252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8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55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505" name="Rectangle 254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19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7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508" name="Rectangle 256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20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59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511" name="Rectangle 25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21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1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514" name="Rectangle 260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222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63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517" name="Rectangle 262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223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265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520" name="Rectangle 26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2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67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523" name="Rectangle 266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25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9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526" name="Rectangle 268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26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71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529" name="Rectangle 270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2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73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532" name="Rectangle 272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28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75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535" name="Rectangle 274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29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77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538" name="Rectangle 276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30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79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541" name="Rectangle 27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231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81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544" name="Rectangle 280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32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283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547" name="Rectangle 282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233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285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550" name="Rectangle 28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23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287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553" name="Rectangle 286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235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289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556" name="Rectangle 288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36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291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559" name="Rectangle 290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3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93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562" name="Rectangle 292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38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95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565" name="Rectangle 294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39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97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568" name="Rectangle 296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240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299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571" name="Rectangle 29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241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01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574" name="Rectangle 300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42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03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577" name="Rectangle 302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3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305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580" name="Rectangle 30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4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307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583" name="Rectangle 306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245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586" name="Rectangle 308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246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11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589" name="Rectangle 310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4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13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592" name="Rectangle 312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48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315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595" name="Rectangle 314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249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320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599" name="Text Box 321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322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A5C8-9CB6-4A3B-B4B1-D4FEB189D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4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605" name="Text Box 51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3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09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608" name="Group 74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609" name="Rectangle 73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55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76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612" name="Rectangle 75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56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8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615" name="Rectangle 7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80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618" name="Rectangle 79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58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82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621" name="Rectangle 81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59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84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624" name="Rectangle 83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60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6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627" name="Rectangle 85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61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8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630" name="Rectangle 87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62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90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63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2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636" name="Rectangle 91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4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639" name="Rectangle 93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65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6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642" name="Rectangle 95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66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98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645" name="Rectangle 9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00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648" name="Rectangle 99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68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02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651" name="Rectangle 101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9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04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654" name="Rectangle 103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70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6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657" name="Rectangle 105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71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08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660" name="Rectangle 107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6931-521D-4EF2-A257-5152F623A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22E-DB5B-47C5-9157-49FEF0F7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: a subtle “tr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D29-AB4B-4806-9F65-0BACB4CF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0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670" name="Group 27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671" name="Rectangle 26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9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674" name="Rectangle 28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31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677" name="Rectangle 30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33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680" name="Rectangle 32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7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5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683" name="Rectangle 34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8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7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686" name="Rectangle 36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9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9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10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1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692" name="Rectangle 40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11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695" name="Rectangle 4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1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5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13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7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701" name="Rectangle 46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14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49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704" name="Rectangle 48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1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707" name="Rectangle 50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6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710" name="Rectangle 52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17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5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713" name="Rectangle 54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57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716" name="Rectangle 56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19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59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719" name="Rectangle 58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61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722" name="Rectangle 60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3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725" name="Rectangle 6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728" name="Rectangle 64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3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7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731" name="Rectangle 66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4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69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734" name="Rectangle 68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Group 75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737" name="Line 73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72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AC3-ED6B-4C71-B8EB-AD0376499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1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743" name="Group 34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36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747" name="Rectangle 3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8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750" name="Rectangle 37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753" name="Rectangle 39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2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756" name="Rectangle 41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4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759" name="Rectangle 43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46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762" name="Rectangle 45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48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765" name="Rectangle 47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50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768" name="Rectangle 49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52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771" name="Rectangle 51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54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774" name="Rectangle 53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56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777" name="Rectangle 5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58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780" name="Rectangle 57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0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783" name="Rectangle 59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62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786" name="Rectangle 61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64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789" name="Rectangle 63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66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792" name="Rectangle 65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68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795" name="Rectangle 67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70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798" name="Rectangle 69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72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801" name="Rectangle 71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74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804" name="Rectangle 73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76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807" name="Rectangle 7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78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810" name="Rectangle 77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80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813" name="Rectangle 79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82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816" name="Rectangle 81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84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819" name="Rectangle 83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86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822" name="Rectangle 85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88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825" name="Rectangle 87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90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828" name="Rectangle 89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Group 96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831" name="Text Box 92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4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75E-BE2F-4B39-B350-296B79F68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97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837" name="Group 36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838" name="Rectangle 35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4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38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841" name="Rectangle 37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5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844" name="Rectangle 39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42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847" name="Rectangle 41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7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4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850" name="Rectangle 43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46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853" name="Rectangle 45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9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48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856" name="Rectangle 47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10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50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1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52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862" name="Rectangle 51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2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54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865" name="Rectangle 5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56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868" name="Rectangle 55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14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58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871" name="Rectangle 57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5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60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874" name="Rectangle 59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6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62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877" name="Rectangle 61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17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64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880" name="Rectangle 63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18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6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883" name="Rectangle 65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19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8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886" name="Rectangle 67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20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70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889" name="Rectangle 69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2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22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4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895" name="Rectangle 7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2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898" name="Rectangle 75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24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8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901" name="Rectangle 77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25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0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904" name="Rectangle 79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6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2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907" name="Rectangle 81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27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4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910" name="Rectangle 83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28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86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913" name="Rectangle 85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9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88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916" name="Rectangle 87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30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90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919" name="Rectangle 89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31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92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922" name="Rectangle 91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32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94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925" name="Rectangle 9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3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96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928" name="Rectangle 95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Group 117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931" name="Line 100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99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2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934" name="Rectangle 103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04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13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937" name="Text Box 106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07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Rectangle 118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9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20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739-FD07-4EF4-857F-9D206779F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25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945" name="Text Box 15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Rectangle 37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6BD-EA3A-4CCB-96FA-E8664E870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(*.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 (*.c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F96-6512-4E94-8225-726583A1F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0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95" name="Group 27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96" name="Rectangle 26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4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29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99" name="Rectangle 28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1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102" name="Rectangle 30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105" name="Rectangle 32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108" name="Rectangle 34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37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111" name="Rectangle 36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39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114" name="Rectangle 38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41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117" name="Rectangle 40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1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3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120" name="Rectangle 4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45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123" name="Rectangle 44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47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126" name="Rectangle 46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9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129" name="Rectangle 48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51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132" name="Rectangle 50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53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135" name="Rectangle 52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5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138" name="Rectangle 54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8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7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141" name="Rectangle 56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59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144" name="Rectangle 58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1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147" name="Rectangle 60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1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63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150" name="Rectangle 6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65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153" name="Rectangle 64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23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67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156" name="Rectangle 66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69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159" name="Rectangle 68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80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162" name="Line 74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3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166" name="Text Box 84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85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9A0-382D-40E2-827B-38CDDEA8C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2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71" name="Group 41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172" name="Rectangle 40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4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43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175" name="Rectangle 42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45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178" name="Rectangle 44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47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181" name="Rectangle 46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49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184" name="Rectangle 4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51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187" name="Rectangle 50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190" name="Rectangle 52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0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55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193" name="Rectangle 54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57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196" name="Rectangle 56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59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61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202" name="Rectangle 60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63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205" name="Rectangle 62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65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208" name="Rectangle 64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16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67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211" name="Rectangle 66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9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214" name="Rectangle 6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71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217" name="Rectangle 70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3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220" name="Rectangle 72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20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75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223" name="Rectangle 74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7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226" name="Rectangle 76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22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9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229" name="Rectangle 78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23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81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232" name="Rectangle 80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24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83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235" name="Rectangle 82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85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238" name="Rectangle 84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87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241" name="Rectangle 86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7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89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244" name="Rectangle 8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91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247" name="Rectangle 90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29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93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250" name="Rectangle 92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95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253" name="Rectangle 94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1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97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256" name="Rectangle 96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99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259" name="Rectangle 98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1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262" name="Rectangle 100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4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3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265" name="Rectangle 102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5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268" name="Rectangle 104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36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271" name="Rectangle 106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37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9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274" name="Rectangle 10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3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1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277" name="Rectangle 110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39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122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280" name="Text Box 113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14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23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283" name="Text Box 118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19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0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21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7AA-F541-4C3F-804C-31822F50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493-70B8-47CC-9A3B-26C9EF4C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67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292" name="Group 26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293" name="Rectangle 25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4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8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296" name="Rectangle 27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5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299" name="Rectangle 29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6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32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302" name="Rectangle 31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4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305" name="Rectangle 33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6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9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8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311" name="Rectangle 37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314" name="Rectangle 39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11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2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317" name="Rectangle 41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2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320" name="Rectangle 4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6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323" name="Rectangle 45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48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326" name="Rectangle 47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0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329" name="Rectangle 49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2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332" name="Rectangle 51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335" name="Rectangle 53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8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6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338" name="Rectangle 55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341" name="Rectangle 57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20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0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21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62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347" name="Rectangle 61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22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350" name="Rectangle 6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66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353" name="Rectangle 65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4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Rectangle 68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80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357" name="Text Box 71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2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4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84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362" name="Text Box 85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6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87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3C3-98CA-404A-8017-9CBD15DF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-Functions and Utility-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270000" rIns="0" tIns="270000" bIns="27000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Person class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fndef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alesPerson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getSalesFromUser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get sales figures from key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etSales(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ser supplies one month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 fig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printAnnualSal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otalAnnualSales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tilit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[ 12 ];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12 monthly sales fig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AE80-6E4A-4B6B-8EF2-D5FA7D98B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2C9-2431-4443-A6D5-E7DFA76AB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371" name="Group 18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4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20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375" name="Rectangle 19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378" name="Rectangle 21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6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4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381" name="Rectangle 23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6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384" name="Rectangle 25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8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8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387" name="Rectangle 27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9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390" name="Rectangle 29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393" name="Rectangle 3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34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396" name="Rectangle 33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36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399" name="Rectangle 35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3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38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402" name="Rectangle 37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4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0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405" name="Rectangle 39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5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42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408" name="Rectangle 41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6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44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55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412" name="Text Box 45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416" name="Text Box 62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63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8T10:27:25Z</dcterms:modified>
  <cp:revision>462</cp:revision>
  <dc:subject/>
  <dc:title>Chapter 1 – Introduction to Computers and C++ Programming</dc:title>
</cp:coreProperties>
</file>