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CA11-FB52-44F6-82F5-3EB38B8A8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5BB7-1137-4721-B515-838A728EC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D0BC-0295-45F3-A576-4D09740D8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A311-D865-45E3-98C7-A6FC6D9B0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E7E0-DEC7-4F20-AE1A-2B37195A5C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6788-6D33-4717-97D8-D4E97469F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8589-FCCD-4882-B067-6B4F60E1FF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E1D9-F66C-4EC3-BE95-4820EFBC4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3ECF-CE3D-4E02-8109-142013D7EE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676A-FC01-4F9A-B6AC-4393E1DFF0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6469-028F-4B7F-8E84-BDFCC4FAC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1411-E996-4BE3-8EDF-02F7AB9F5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6C90-9568-4D46-9C95-89E97A115A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D429-50BD-47F0-9C21-BD53F4F4A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92DB-2D6E-4C1F-AF9C-2C154E63BC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FCFF-BDE3-4F77-91C5-3AAF50736F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61D9-20C7-4002-AD30-C4F28EF63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1A63-8F55-4F27-ADE1-DFF4BB525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59B5-787D-478C-BCDC-04288DB21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7354-A23E-4E7D-9E01-034639111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1B4A-5A92-4D20-8A53-AE82919F5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1BDB-2518-46D8-91A9-4D0137BCC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E576-7A81-4507-BE33-BB2502FBD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AA67-2F90-46CC-BF8A-0856B20B4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44B-6238-4791-BB85-14C8B9B12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FFE6-9DA4-4F3B-B88D-79F82BF40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0AA-A895-4555-8C94-A3D827FD5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2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trolling Access to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ccess-Functions and Utility-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83D-7537-4E42-A27D-CC0F837F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class members/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3FBD-257E-48B9-B5ED-D148467F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3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423" name="Group 28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424" name="Rectangle 27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4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30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427" name="Rectangle 29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5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32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430" name="Rectangle 31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6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34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433" name="Rectangle 33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7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36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436" name="Rectangle 35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8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38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439" name="Rectangle 37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40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442" name="Rectangle 39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42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445" name="Rectangle 4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448" name="Rectangle 43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2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6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451" name="Rectangle 45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3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8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454" name="Rectangle 47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457" name="Rectangle 49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5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52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460" name="Rectangle 51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4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6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466" name="Rectangle 55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18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469" name="Rectangle 57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19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0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472" name="Rectangle 59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2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475" name="Rectangle 6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2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4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478" name="Rectangle 63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22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6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481" name="Rectangle 65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23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8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484" name="Rectangle 67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4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0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487" name="Rectangle 69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26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Group 78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493" name="Line 74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75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965B-B1AE-4458-92B4-88EDA2582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316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98" name="Group 251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499" name="Rectangle 250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21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253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502" name="Rectangle 252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8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55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505" name="Rectangle 254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19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7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508" name="Rectangle 256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20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59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511" name="Rectangle 25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221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1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514" name="Rectangle 260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222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63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517" name="Rectangle 262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223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265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520" name="Rectangle 26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2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67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523" name="Rectangle 266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25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9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526" name="Rectangle 268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26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71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529" name="Rectangle 270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2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73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532" name="Rectangle 272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28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75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535" name="Rectangle 274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29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77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538" name="Rectangle 276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30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79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541" name="Rectangle 27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231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81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544" name="Rectangle 280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32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283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547" name="Rectangle 282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233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285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550" name="Rectangle 28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23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287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553" name="Rectangle 286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235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289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556" name="Rectangle 288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236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291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559" name="Rectangle 290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3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93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562" name="Rectangle 292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38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95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565" name="Rectangle 294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239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97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568" name="Rectangle 296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240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299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571" name="Rectangle 29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241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01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574" name="Rectangle 300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42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03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577" name="Rectangle 302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3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305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580" name="Rectangle 30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4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307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583" name="Rectangle 306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245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09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586" name="Rectangle 308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246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11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589" name="Rectangle 310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24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13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592" name="Rectangle 312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48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315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595" name="Rectangle 314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249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320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599" name="Text Box 321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322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D22-7FAA-4AEB-BD3D-4A6FB9E2B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4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605" name="Text Box 51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3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09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608" name="Group 74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609" name="Rectangle 73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55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76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612" name="Rectangle 75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56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8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615" name="Rectangle 7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5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80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618" name="Rectangle 79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58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82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621" name="Rectangle 81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59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84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624" name="Rectangle 83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60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6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627" name="Rectangle 85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61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8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630" name="Rectangle 87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62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90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63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2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636" name="Rectangle 91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4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639" name="Rectangle 93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65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6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642" name="Rectangle 95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66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98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645" name="Rectangle 9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00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648" name="Rectangle 99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68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02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651" name="Rectangle 101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9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04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654" name="Rectangle 103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70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6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657" name="Rectangle 105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71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08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660" name="Rectangle 107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72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40B4-E03F-4550-BFDB-C97848E1D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8A74-31FD-4FE2-9793-837ED7CE0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: a subtle “tr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CD8-B06F-4E51-985F-927FD8E6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70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670" name="Group 27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671" name="Rectangle 26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9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674" name="Rectangle 28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31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677" name="Rectangle 30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6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33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680" name="Rectangle 32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7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5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683" name="Rectangle 34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8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7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686" name="Rectangle 36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9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9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10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1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692" name="Rectangle 40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11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695" name="Rectangle 4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1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5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698" name="Rectangle 44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13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7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701" name="Rectangle 46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14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49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704" name="Rectangle 48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5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1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707" name="Rectangle 50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6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710" name="Rectangle 52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17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5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713" name="Rectangle 54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57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716" name="Rectangle 56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19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59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719" name="Rectangle 58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20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61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722" name="Rectangle 60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63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725" name="Rectangle 6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65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728" name="Rectangle 64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3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67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731" name="Rectangle 66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24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69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734" name="Rectangle 68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5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Group 75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737" name="Line 73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72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7F85-7536-455D-8111-74F3D1F06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91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743" name="Group 34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744" name="Rectangle 33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36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747" name="Rectangle 3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8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750" name="Rectangle 37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753" name="Rectangle 39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2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756" name="Rectangle 41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4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759" name="Rectangle 43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46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762" name="Rectangle 45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48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765" name="Rectangle 47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50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768" name="Rectangle 49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52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771" name="Rectangle 51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54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774" name="Rectangle 53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56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777" name="Rectangle 5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58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780" name="Rectangle 57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0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783" name="Rectangle 59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62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786" name="Rectangle 61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64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789" name="Rectangle 63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66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792" name="Rectangle 65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68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795" name="Rectangle 67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70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798" name="Rectangle 69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72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801" name="Rectangle 71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74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804" name="Rectangle 73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76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807" name="Rectangle 7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78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810" name="Rectangle 77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80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813" name="Rectangle 79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82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816" name="Rectangle 81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84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819" name="Rectangle 83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86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822" name="Rectangle 85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88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825" name="Rectangle 87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90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828" name="Rectangle 89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Group 96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831" name="Text Box 92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4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4136-2ABB-4063-813B-EFE7BFC4C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97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837" name="Group 36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838" name="Rectangle 35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4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38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841" name="Rectangle 37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5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844" name="Rectangle 39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6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42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847" name="Rectangle 41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7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4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850" name="Rectangle 43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8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46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853" name="Rectangle 45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9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48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856" name="Rectangle 47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10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50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859" name="Rectangle 49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1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52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862" name="Rectangle 51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2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54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865" name="Rectangle 5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56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868" name="Rectangle 55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14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58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871" name="Rectangle 57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5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60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874" name="Rectangle 59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16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62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877" name="Rectangle 61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17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64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880" name="Rectangle 63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18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6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883" name="Rectangle 65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19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8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886" name="Rectangle 67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20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70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889" name="Rectangle 69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2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22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4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895" name="Rectangle 7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2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898" name="Rectangle 75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24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8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901" name="Rectangle 77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25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0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904" name="Rectangle 79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6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2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907" name="Rectangle 81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27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4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910" name="Rectangle 83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28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86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913" name="Rectangle 85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29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88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916" name="Rectangle 87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30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90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919" name="Rectangle 89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31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92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922" name="Rectangle 91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32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94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925" name="Rectangle 9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3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96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928" name="Rectangle 95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34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Group 117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931" name="Line 100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99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12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934" name="Rectangle 103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04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113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937" name="Text Box 106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07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Rectangle 118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19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20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437-004F-4670-97D1-970980BE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25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945" name="Text Box 15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8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Rectangle 37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970-5BAE-470C-BB2C-1BDAA9F7A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(*.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 (*.c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65E-5564-4792-8501-DE964B629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0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95" name="Group 27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96" name="Rectangle 26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4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29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99" name="Rectangle 28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31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102" name="Rectangle 30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6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105" name="Rectangle 32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35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108" name="Rectangle 34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37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111" name="Rectangle 36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39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114" name="Rectangle 38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41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117" name="Rectangle 40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1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3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120" name="Rectangle 4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45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123" name="Rectangle 44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47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126" name="Rectangle 46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49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129" name="Rectangle 48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51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132" name="Rectangle 50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53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135" name="Rectangle 52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7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55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138" name="Rectangle 54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8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7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141" name="Rectangle 56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9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59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144" name="Rectangle 58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1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147" name="Rectangle 60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1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63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150" name="Rectangle 6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65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153" name="Rectangle 64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23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67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156" name="Rectangle 66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69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159" name="Rectangle 68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80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162" name="Line 74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3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166" name="Text Box 84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85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E12-7AEA-43A4-BCFE-F9766B64C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2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71" name="Group 41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172" name="Rectangle 40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4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43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175" name="Rectangle 42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45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178" name="Rectangle 44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47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181" name="Rectangle 46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49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184" name="Rectangle 4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51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187" name="Rectangle 50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190" name="Rectangle 52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0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55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193" name="Rectangle 54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57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196" name="Rectangle 56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59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61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202" name="Rectangle 60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63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205" name="Rectangle 62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65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208" name="Rectangle 64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16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67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211" name="Rectangle 66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9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214" name="Rectangle 6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1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71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217" name="Rectangle 70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19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73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220" name="Rectangle 72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20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75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223" name="Rectangle 74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7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226" name="Rectangle 76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22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79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229" name="Rectangle 78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23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81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232" name="Rectangle 80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24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83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235" name="Rectangle 82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85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238" name="Rectangle 84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6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87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241" name="Rectangle 86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7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89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244" name="Rectangle 8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2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91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247" name="Rectangle 90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29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93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250" name="Rectangle 92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30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95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253" name="Rectangle 94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31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97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256" name="Rectangle 96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99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259" name="Rectangle 98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33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1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262" name="Rectangle 100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4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3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265" name="Rectangle 102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5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268" name="Rectangle 104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36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271" name="Rectangle 106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37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9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274" name="Rectangle 10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3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11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277" name="Rectangle 110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39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122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280" name="Text Box 113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14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23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283" name="Text Box 118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19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0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21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2DA8-0924-4B58-8FEB-A8036922E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7C35-30E1-4434-BCAD-B0314597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67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292" name="Group 26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293" name="Rectangle 25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4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8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296" name="Rectangle 27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5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30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299" name="Rectangle 29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6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32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302" name="Rectangle 31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4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305" name="Rectangle 33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6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9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8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311" name="Rectangle 37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314" name="Rectangle 39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11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2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317" name="Rectangle 41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12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4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320" name="Rectangle 4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6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323" name="Rectangle 45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48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326" name="Rectangle 47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0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329" name="Rectangle 49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2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332" name="Rectangle 51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7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54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335" name="Rectangle 53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8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56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338" name="Rectangle 55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9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58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341" name="Rectangle 57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20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0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344" name="Rectangle 59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21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62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347" name="Rectangle 61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22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64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350" name="Rectangle 6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2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66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353" name="Rectangle 65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4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Rectangle 68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80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357" name="Text Box 71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72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4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84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362" name="Text Box 85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6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87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D25-93FE-4813-B2C8-C4700DEBF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-Functions and Utility-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270000" rIns="0" tIns="270000" bIns="270000" anchor="t">
            <a:normAutofit fontScale="99000"/>
          </a:bodyPr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Person class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ifndef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alesPerson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getSalesFromUser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get sales figures from key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etSales(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ser supplies one month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 fig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printAnnualSale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otalAnnualSales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tilit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[ 12 ];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12 monthly sales fig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CBA3-8D0D-4513-9644-D166189B5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137D-2F33-48A7-B7C6-F8E73C2DF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371" name="Group 18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4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20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375" name="Rectangle 19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5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378" name="Rectangle 21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6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4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381" name="Rectangle 23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6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384" name="Rectangle 25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8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8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387" name="Rectangle 27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9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390" name="Rectangle 29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0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393" name="Rectangle 3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34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396" name="Rectangle 33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36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399" name="Rectangle 35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3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38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402" name="Rectangle 37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4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0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405" name="Rectangle 39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5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42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408" name="Rectangle 41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6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44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55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412" name="Text Box 45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61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416" name="Text Box 62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63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8T10:27:25Z</dcterms:modified>
  <cp:revision>462</cp:revision>
  <dc:subject/>
  <dc:title>Chapter 1 – Introduction to Computers and C++ Programming</dc:title>
</cp:coreProperties>
</file>