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7E90-C82C-42C9-8EFE-C5D5AF95D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B976-AB9A-4F04-ACFF-F5574868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4035-7546-4BB6-8E13-9C761F031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5E0E-66D3-4BA3-9890-D793A2BCE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5552-129F-422F-A0CD-31D964F7C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A8EE-C506-47C9-A532-8FF382EE42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D56E-1421-45ED-B483-8B2F5C875F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BD81-58D9-4E4E-8412-FBB910D7C6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8814-0E54-4F99-924E-6BEA0DA28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D762-D114-4A7D-86EB-6B716CBB2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E069-1BCD-4F33-B8FB-2864D2161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0D41-255E-4981-88C2-2FDA510C6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98B0-FBF2-4A0D-83F2-7758E085FF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EF87-E3C3-4D05-ACB6-234E69172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5A1D-BEDE-4BD6-A64F-D2ACCFF30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E6D4-ABF8-47D1-B4ED-684278B8CB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F9B9-F7C7-4A27-B891-1FF5B6A98B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786-E9FA-4D7C-9E7C-0A0FE85694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FAB-43B6-40F3-AAC1-128F985E13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31B-FD5E-438F-8898-847370AF0D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9B8-BFBA-407A-9AA4-8FB6D76F1C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D55-B964-4F34-B42A-59953B409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72BC-1AA7-4266-B279-287F5C37BD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1AD-C9ED-4389-8D39-9190DBB5EF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088-7B1E-4463-A4BF-B7A279DA40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38E-B0D3-45D7-B8EA-9F456DB20B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360-A51F-43BF-9DE7-238A9A3D4B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220-D0B9-4988-A0E7-A0E8A1907F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B4E-C618-4781-85DD-1AEBEEF19D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B0F-CF12-4364-BEAC-FA0B5BD687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55F2C-19AD-46D3-B9F1-6FE9087DA2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F884-B3C4-4972-BE10-29CB0B68BC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A3E33-058F-4463-B64B-A75EB6D3C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8744-EA54-4CFC-B448-1ACC9F548E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41A61-F98D-48F4-B0A8-AD1368A948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616C4-241B-4669-9F5A-AC338EBAB2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ABCC0-93D5-4D7F-B8A0-1938B6BF45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09D6C-BD30-4F92-B686-0ABC2B0080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F8DEA-C177-4CBD-A0D7-DCA69B66D6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A14D0-80C0-41D4-B19E-A36619C35C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E774D-1048-46D1-950B-0848244339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C356-0AF8-463F-A1B0-51C977E1AD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5267F-9F90-4CE6-8776-9B458CB9E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FBF0-9FDD-4562-9705-4CA093111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DE61-9A3D-4036-9DCE-E03B58B95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D244-70EA-4B0D-8AD0-0D6B35980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DE56-662E-4C48-B75D-027FCF33B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C1EA-1F16-47F2-AF8E-BFC1DFC8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CBF-9B8D-435C-8F20-5D5AA52B6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09E9-F3B6-4257-88C8-3B6C65E0F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3A44-8A8E-4B56-91FA-2AC90999A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34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B7F-97EF-44CA-9818-6DCD37230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40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56C-4E12-4518-AD93-F6237B99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12952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friend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Functions /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thi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static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26A1-1EA1-4AE6-9B8E-BDAC95EA33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F06-8153-425E-A40E-47D4C022D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34" name="Group 4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7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438" name="Rectangle 8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441" name="Rectangle 11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3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444" name="Rectangle 14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6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447" name="Rectangle 17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450" name="Rectangle 20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22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453" name="Rectangle 23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5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456" name="Rectangle 26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459" name="Rectangle 29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31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462" name="Rectangle 32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34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465" name="Rectangle 35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37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468" name="Rectangle 38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40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471" name="Rectangle 41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43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474" name="Rectangle 44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477" name="Rectangle 47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49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480" name="Rectangle 50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52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483" name="Rectangle 53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55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86" name="Rectangle 56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8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89" name="Rectangle 59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61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92" name="Rectangle 62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64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95" name="Rectangle 65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67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98" name="Rectangle 68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70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501" name="Rectangle 71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73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504" name="Rectangle 74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76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507" name="Rectangle 77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79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510" name="Rectangle 80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82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513" name="Rectangle 83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85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516" name="Rectangle 86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88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519" name="Rectangle 89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91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522" name="Rectangle 92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94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525" name="Rectangle 95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97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528" name="Rectangle 98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13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531" name="Text Box 102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03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1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534" name="Line 105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4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12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537" name="Line 107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06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6088-8A98-43FD-B664-B52FC3EB3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4F9-5F45-46A8-93A9-9E3FCA183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543" name="Text Box 4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4BCC-D387-4357-A957-A1A971719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E6C-DD5D-49AF-AF36-D3CE8405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42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45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Group 102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647" name="Rectangle 103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Rectangle 104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9" name="Group 109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650" name="Text Box 106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8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A973-9997-4454-BF1D-F9D17A953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BF2-A35B-4900-ABE9-4F638D74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65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65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66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66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66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67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67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67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68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68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68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69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69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69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0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0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0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1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1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1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1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72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72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72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73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73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73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74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74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74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Group 103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749" name="Line 100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7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DA04-334E-4A8E-AFCD-3AB3389FB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F67-DE93-4437-B9D7-080F975EA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54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755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761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764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767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770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773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776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779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782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785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788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791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794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97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800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803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06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09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812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815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18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21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824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827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830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833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836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839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842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Group 102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845" name="Group 98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846" name="Line 99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00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Line 101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CABF-86C2-4AE2-B830-7C6ED64D05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FE2-816A-4EF9-9C6B-CD062651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852" name="Group 4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853" name="Rectangle 5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6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7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856" name="Rectangle 8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9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10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859" name="Rectangle 11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13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862" name="Rectangle 14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5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6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865" name="Rectangle 17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8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9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868" name="Rectangle 20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21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22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871" name="Rectangle 23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4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25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874" name="Rectangle 26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27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8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877" name="Rectangle 29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30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31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880" name="Rectangle 32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33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882" name="Rectangle 34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5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4" name="Group 36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885" name="Group 37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886" name="Rectangle 38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39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0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889" name="Rectangle 41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42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43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892" name="Rectangle 44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45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6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895" name="Rectangle 47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8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49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898" name="Rectangle 50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1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52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901" name="Rectangle 53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54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55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904" name="Rectangle 56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57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58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907" name="Rectangle 59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60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61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910" name="Rectangle 62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63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64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913" name="Rectangle 65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66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67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916" name="Rectangle 68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9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0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919" name="Rectangle 71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72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73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922" name="Rectangle 74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75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76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925" name="Rectangle 77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78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79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928" name="Rectangle 80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81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82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931" name="Rectangle 83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84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85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934" name="Rectangle 86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87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88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937" name="Rectangle 89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90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91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940" name="Rectangle 92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93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94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943" name="Rectangle 95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96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97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946" name="Rectangle 98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99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0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949" name="Rectangle 101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02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11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952" name="Text Box 103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04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0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955" name="Text Box 107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08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114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958" name="Text Box 112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13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63CB-9ACA-47ED-8F79-D2C807F2C9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344-5625-4BCC-93A7-7548F06ED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963" name="Group 4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964" name="Rectangle 5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6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7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967" name="Rectangle 8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9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0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970" name="Rectangle 11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2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13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973" name="Rectangle 14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5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Rectangle 16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40DA-318B-4105-B81B-F1271165FF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48F-2976-40DC-9FE5-7E0DCA54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89C2-9BA8-4679-8B1E-58E6212BCE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2A8-9A2E-4861-96A2-603D5F9DF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0B91-4B9E-45E5-92F4-225DACE93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437B-98CA-4C44-94EE-38EFAA3AC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FDF-5367-4355-A721-C5DB5649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Functions /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 of a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are not member of the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defined outside of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” and “not transitiv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Frien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/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lass grantorClass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retType friendFunc (...);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class friendClass;       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cla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9DC1-9112-4C72-A44C-4896D3624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985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1059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AEF0C-AF20-4553-800C-D74EAB4CB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6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unt++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" name=""/>
          <p:cNvGrpSpPr/>
          <p:nvPr/>
        </p:nvGrpSpPr>
        <p:grpSpPr>
          <a:xfrm>
            <a:off x="1332000" y="471600"/>
            <a:ext cx="5409720" cy="2438280"/>
            <a:chOff x="1332000" y="471600"/>
            <a:chExt cx="5409720" cy="2438280"/>
          </a:xfrm>
        </p:grpSpPr>
        <p:sp>
          <p:nvSpPr>
            <p:cNvPr id="1161" name=""/>
            <p:cNvSpPr/>
            <p:nvPr/>
          </p:nvSpPr>
          <p:spPr>
            <a:xfrm>
              <a:off x="3718080" y="47160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332000" y="1004760"/>
              <a:ext cx="2386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354400" y="153828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1165" name=""/>
            <p:cNvSpPr/>
            <p:nvPr/>
          </p:nvSpPr>
          <p:spPr>
            <a:xfrm>
              <a:off x="4724280" y="3828960"/>
              <a:ext cx="381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1547640" y="3808440"/>
            <a:ext cx="7239240" cy="1276200"/>
            <a:chOff x="1547640" y="3808440"/>
            <a:chExt cx="7239240" cy="1276200"/>
          </a:xfrm>
        </p:grpSpPr>
        <p:sp>
          <p:nvSpPr>
            <p:cNvPr id="1169" name=""/>
            <p:cNvSpPr/>
            <p:nvPr/>
          </p:nvSpPr>
          <p:spPr>
            <a:xfrm>
              <a:off x="5357880" y="380844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547640" y="409392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146CF-D496-4841-A91B-6EA4A2A309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73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1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2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.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1267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1270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1273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.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1276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1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2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1279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1282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B10C2-DF51-446C-89E8-AAAA8AB5EE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1CC-E45C-4E23-AD92-500B90B8D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0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7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0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3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6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12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15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8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21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24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27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30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33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36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39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42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45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48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51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54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57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60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63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66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69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72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75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78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4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281" name="Text Box 95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01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284" name="Text Box 94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2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7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287" name="Group 103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288" name="Line 99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96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Line 106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5752-B174-4956-A785-A135F1A354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3ED-BC94-4603-BD0F-936A4E1C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294" name="Group 4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295" name="Rectangle 5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7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298" name="Rectangle 8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10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301" name="Rectangle 11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3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304" name="Rectangle 14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16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307" name="Rectangle 17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Rectangle 19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2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311" name="Text Box 20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20A6-8D7A-4D7B-95CE-EC084524A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0AD-A1F5-4CE7-83E8-748D1DBD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6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26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29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32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35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38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41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344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347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350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353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356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359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362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365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368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371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374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377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380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383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386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389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392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395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398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01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04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07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06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410" name="Text Box 98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1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05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413" name="Text Box 99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04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B950-9204-42D3-A086-7F45AF722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0F6-B974-449D-AE70-7881CBD0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421" name="Text Box 5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031E-66D0-48A4-BC85-F9ACDACFB5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635-9860-46F6-AD74-743B03D4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65C4-D94B-426B-903C-E601834ADD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8A8C-ABE3-4B6C-81B3-A535BD7B8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B27-6958-4E1D-9AE6-4C2A4C435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16A6-1F46-496D-87F9-222BB4C869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0:38:17Z</dcterms:modified>
  <cp:revision>491</cp:revision>
  <dc:subject/>
  <dc:title>Chapter 1 – Introduction to Computers and C++ Programming</dc:title>
</cp:coreProperties>
</file>