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83CB-8FDE-42C8-98AA-652FF6EF9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F2CA-472B-41D2-BD1C-E2F811548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7242-43C1-4D90-9FAD-4A4AFDB1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C9ED-8B3F-45D6-8EBA-352D1F39B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4C7A-4F4D-4BCD-9501-A9CDF902F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70C3-1441-4B4A-B9B4-44CD0194EB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DBAB-84F4-4239-94D1-FFE96D43E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0AC8-C991-4BEC-AFFA-A547D0FBFF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008C-8019-4D15-9A5A-1B2A4E5718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5B68-EE0F-43CE-860C-700850B8C3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F0B9-EDEC-46E3-86DB-E9828B0EF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1C4D-692E-43AE-94F5-02F239E8C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B13D-2F0D-4C84-89DD-63B69CA278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2C04-C13F-4EBA-8136-1751540F8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F878-71D1-463D-876F-8842AE668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BE66-2C05-467D-9ED6-CB161EF488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AEE8-BB89-492F-94F0-AF714E083B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AA8-8992-4AE4-8E2D-EE379A7013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135-911C-4871-AED8-A596839843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BE7-A3C3-48B8-B5C3-C6A32CB78D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F88-DCBF-42A8-B49A-9E336CB034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21B-A697-4100-A8F0-B6525C15F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3372-62C0-4772-A935-F17BFFAB61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732-9D7E-4A2E-8433-562B6F2DA7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5F2-4809-436E-979B-49121AC239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BF9-6542-4C9D-9A42-B04A460980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5E3-E020-466F-A2AD-2F561CC427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DD3-6104-4037-8E6E-4E89A98050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195-5802-482D-8C83-6D21FC6FA5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C8A-2FE2-43CB-B420-63A3CEA797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EC623-FF10-44D2-B6A8-CE3E8F7C0E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64C3C-57DD-4EA5-9880-936B0FF397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60389-F729-4269-8764-BBC7265F0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C9F9-CE15-4FE3-903A-57225C0F26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96BE-50E1-4FF6-A581-7CAB530EBD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F4284-ED01-40BF-B70B-658F970360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66EE-ED95-48B8-9EE4-65F541F37F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2051C-F897-4B91-951D-F26C135D4E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90078-2FD5-4B98-9F5D-B8B486F8F8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A58B1-8267-4F20-BCE6-BE3E785398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8D30C-8DD8-4CFB-B72B-AAB44FEC52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717D0-417B-4424-9A60-5A626A8692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716A9-AEBE-460D-BA61-0198F6DD6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92C5-4A02-4707-B1E8-BD98767BE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90C2-841F-4A9A-8066-97D7956CC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B40B-FD6A-4B95-AC8A-E070A636F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A939-D747-412E-BA32-E48DBA664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725D-33A4-42FA-A93C-B83E2C563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132-B97E-4BDB-B257-4A3376DB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770B-5F32-457B-A68C-763B4E00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236-50E6-4682-8AEE-AE6DD4196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34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11F6-6A0C-4733-AE6A-C0B879A4B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40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FD2-8415-4E31-9468-61BF2410A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12952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friend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Functions /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thi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static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4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6102-BC54-4036-B534-37F948F815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C4AA-5719-4BFF-B0B7-72E66C8EB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34" name="Group 4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7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438" name="Rectangle 8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441" name="Rectangle 11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13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444" name="Rectangle 14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6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447" name="Rectangle 17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450" name="Rectangle 20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22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453" name="Rectangle 23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25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456" name="Rectangle 26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459" name="Rectangle 29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31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462" name="Rectangle 32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34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465" name="Rectangle 35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37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468" name="Rectangle 38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40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471" name="Rectangle 41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43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474" name="Rectangle 44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46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477" name="Rectangle 47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49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480" name="Rectangle 50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52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483" name="Rectangle 53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55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86" name="Rectangle 56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58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89" name="Rectangle 59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61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92" name="Rectangle 62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64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95" name="Rectangle 65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67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98" name="Rectangle 68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70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501" name="Rectangle 71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73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504" name="Rectangle 74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76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507" name="Rectangle 77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79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510" name="Rectangle 80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82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513" name="Rectangle 83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85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516" name="Rectangle 86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88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519" name="Rectangle 89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91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522" name="Rectangle 92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94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525" name="Rectangle 95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97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528" name="Rectangle 98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13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531" name="Text Box 102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03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11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534" name="Line 105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4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12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537" name="Line 107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06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207D-6AE0-4977-B557-C7F3C8B18E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326E-0016-40B7-A219-A30494FA0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543" name="Text Box 4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A533-1DAF-415B-9E7E-E12B20737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AD6-AA73-4D25-B629-2283561E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42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45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Group 102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647" name="Rectangle 103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Rectangle 104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9" name="Group 109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650" name="Text Box 106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8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2E70-60D2-4568-8204-D614FB729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8287-136D-4817-A4CA-9E56B79C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65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65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66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66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66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67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67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67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68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68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68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69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69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69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0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0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0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1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1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1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1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72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72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72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73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73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73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74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74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74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Group 103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749" name="Line 100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7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8795-951C-4760-BA4D-F09A29E9B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8D47-9D9B-497A-B174-1785F3394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54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755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761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764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767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770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773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776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779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782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785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788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791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794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797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800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803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06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09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812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815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18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21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824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827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830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833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836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839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842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4" name="Group 102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845" name="Group 98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846" name="Line 99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100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Line 101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0DB5-DDCF-45C8-9D9D-0E21E3DF7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62AD-5D95-4036-BC66-ABC6C3BC4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Group 3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852" name="Group 4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853" name="Rectangle 5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6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7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856" name="Rectangle 8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9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10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859" name="Rectangle 11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13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862" name="Rectangle 14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5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6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865" name="Rectangle 17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8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9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868" name="Rectangle 20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21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22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871" name="Rectangle 23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24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25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874" name="Rectangle 26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27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28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877" name="Rectangle 29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30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31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880" name="Rectangle 32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33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882" name="Rectangle 34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5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4" name="Group 36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885" name="Group 37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886" name="Rectangle 38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39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40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889" name="Rectangle 41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42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43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892" name="Rectangle 44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45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6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895" name="Rectangle 47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8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49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898" name="Rectangle 50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51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52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901" name="Rectangle 53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54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55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904" name="Rectangle 56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57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58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907" name="Rectangle 59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60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61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910" name="Rectangle 62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63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64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913" name="Rectangle 65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66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67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916" name="Rectangle 68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9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0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919" name="Rectangle 71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72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73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922" name="Rectangle 74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75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76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925" name="Rectangle 77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78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79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928" name="Rectangle 80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81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82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931" name="Rectangle 83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84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85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934" name="Rectangle 86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87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88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937" name="Rectangle 89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90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91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940" name="Rectangle 92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93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94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943" name="Rectangle 95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96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97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946" name="Rectangle 98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99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100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949" name="Rectangle 101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102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11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952" name="Text Box 103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04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0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955" name="Text Box 107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08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Group 114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958" name="Text Box 112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13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DBE5-0E11-4718-B238-D37C705233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E6E3-070A-4697-B709-5598CB818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963" name="Group 4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964" name="Rectangle 5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6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7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967" name="Rectangle 8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9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0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970" name="Rectangle 11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2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13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973" name="Rectangle 14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5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Rectangle 16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6348-E71C-4C88-A72A-053917C72B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E83-3D35-4295-AB32-E32F16C6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534C-5C96-42DE-B149-1E88D11554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C5A-0AB0-440F-B312-D969B64BD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BD4-AC01-49C5-8929-F9CA40C92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D396-CE5A-4C43-9DBC-4DFADA8FAB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032-570A-4D69-A5E7-F8149EF0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Functions /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 of a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are not member of the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re defined outside of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” and “not transitiv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Friend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/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lass grantorClass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retType friendFunc (...);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class friendClass;       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cla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E876-BAC5-4977-8F10-E72E21ABA1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985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1059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E212C-8ED9-4B9E-AEAE-DDBFFC0E3B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6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unt++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0" name=""/>
          <p:cNvGrpSpPr/>
          <p:nvPr/>
        </p:nvGrpSpPr>
        <p:grpSpPr>
          <a:xfrm>
            <a:off x="1332000" y="471600"/>
            <a:ext cx="5409720" cy="2438280"/>
            <a:chOff x="1332000" y="471600"/>
            <a:chExt cx="5409720" cy="2438280"/>
          </a:xfrm>
        </p:grpSpPr>
        <p:sp>
          <p:nvSpPr>
            <p:cNvPr id="1161" name=""/>
            <p:cNvSpPr/>
            <p:nvPr/>
          </p:nvSpPr>
          <p:spPr>
            <a:xfrm>
              <a:off x="3718080" y="47160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332000" y="1004760"/>
              <a:ext cx="2386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354400" y="153828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1165" name=""/>
            <p:cNvSpPr/>
            <p:nvPr/>
          </p:nvSpPr>
          <p:spPr>
            <a:xfrm>
              <a:off x="4724280" y="3828960"/>
              <a:ext cx="381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1547640" y="3808440"/>
            <a:ext cx="7239240" cy="1276200"/>
            <a:chOff x="1547640" y="3808440"/>
            <a:chExt cx="7239240" cy="1276200"/>
          </a:xfrm>
        </p:grpSpPr>
        <p:sp>
          <p:nvSpPr>
            <p:cNvPr id="1169" name=""/>
            <p:cNvSpPr/>
            <p:nvPr/>
          </p:nvSpPr>
          <p:spPr>
            <a:xfrm>
              <a:off x="5357880" y="380844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547640" y="409392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4B782-B1E1-4A7F-8B7A-E0003633DE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73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1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2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.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1267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1270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1273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.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1276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1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2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1279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1282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7825A-C174-49DA-BB12-065040D2AB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B2B8-3800-4990-8202-9FE55AA49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0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7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0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3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6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12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15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8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21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24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27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30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33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36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39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42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45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48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51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54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57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60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63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66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69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72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75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78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4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281" name="Text Box 95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01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05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284" name="Text Box 94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02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07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287" name="Group 103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288" name="Line 99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96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Line 106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D5B5-9827-455F-ABF2-0F0CCACF5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D72-BCF8-4B77-AF25-1F54B8AA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294" name="Group 4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295" name="Rectangle 5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7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298" name="Rectangle 8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9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10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301" name="Rectangle 11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3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304" name="Rectangle 14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5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16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307" name="Rectangle 17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Rectangle 19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22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311" name="Text Box 20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1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63B8-ABD9-47E6-B863-DEE521B643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C8CB-A7D2-4196-AB51-BF088B97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16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17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26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29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32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35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38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41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344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347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350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353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356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359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362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365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368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371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374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377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380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383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386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389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392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395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398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01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04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07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106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410" name="Text Box 98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1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105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413" name="Text Box 99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04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531B-5748-47F6-A49F-0E6C6F326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AC3-136F-47C5-B180-BDD0AFCFB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421" name="Text Box 5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7DAE-64C0-4BA8-81D5-D1B82C7462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8311-4008-4F0C-9C6D-BE5893620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09D6-7C81-4D29-BCA2-DE6F3EE212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8980-AE89-42F7-A218-ADF7F344C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A09-FC0F-4499-B2A8-73EB5AED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3C56-AA94-47F9-BBC3-C2CD038DB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0:38:17Z</dcterms:modified>
  <cp:revision>491</cp:revision>
  <dc:subject/>
  <dc:title>Chapter 1 – Introduction to Computers and C++ Programming</dc:title>
</cp:coreProperties>
</file>