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048E-B0F5-4AA8-A9A8-5F677EAF9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3C6C-250A-4254-A946-3E13894DF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E0CF-2A64-4E8B-8215-4A3FE1C74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CA86-AA8E-4547-BA36-3441A4080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7E4D-1353-4C66-BB95-4F224BCC4C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636C-12A5-479E-AA87-F5DC8D3487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D722-AE95-4C2A-9173-569D95F807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C8C3-7D55-4575-8CB8-EE115C3A5E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54E7-CB33-4606-B033-1CAD80F77B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63ABA-8688-496E-8987-98DEF69AC5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EE7A3-9D0D-427D-B324-02CC04577C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EF77-7F0F-4CFF-A0E9-9D131FCCA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E4DFC-CFC9-4EA6-9A62-146DD94FCC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43BBE-3CF7-4740-83B5-38EF85286F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6DA8-EEFC-446E-BC52-05F644B2CE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4514-3349-445F-A434-1E4A78ED2E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DB8B0-3689-4C8B-838D-A9FA741648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D4B-7A17-448A-9B91-DAA8D79B3F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89A4-CFBB-4192-982E-F2D2C69DB3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C7F6-E86D-41FC-88DD-DE1E8B13F1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D02-2AB2-4739-BEB2-1A38613DA3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1C0-D08F-48F6-90E4-FA578E4008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B76D-87E0-4631-825D-B1D64428DD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02C-511E-4060-8121-2BEA524213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41D-E8A4-41BB-A992-0CAC27186C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FEC-DA9F-4875-B1C9-8DEF8D541F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A08-4CCD-4446-A0BB-43188FA1A5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6E8-F7A8-4D19-8D1D-F6CA66202F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85A-EC6B-4E54-8EE7-E51EC29FC6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ACA-03E3-4FB0-890A-BEC7BC34D7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31BE0-8633-4C40-9905-849D4F98BF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F153B-E358-41C6-8677-65C956A18B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3DFAC-5B5C-490D-8A99-FF23CBF7A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1407-39AB-449F-BDCC-B22E907151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78908-CAC0-4E35-B3AA-E37EF8ACC9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2D6B0-530F-427B-80D6-EC6CDB66A7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18313-5AD9-4943-98C3-549D091A63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90D07-4529-4F33-9433-8C914829EE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67AA0-BF01-4147-BF1C-9180FC85A3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E0FAE-9AE9-497F-A1F2-485D2136D0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E8DA0-7E86-471B-9F5A-EE93FA790D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7A3A4-A4CA-4D69-B026-A4199C627E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977BD-3F11-49D8-B7FF-4B7E68775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BE5B-DD9A-4C94-84B6-548712481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4D15-F65E-41DD-9C26-820999F4C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A72A-D9D3-42C6-B0EE-4C176C9C1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9FB2-739D-498B-9378-D0A2FD23F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EFBF-79AA-4F44-8AF4-B5F5A3400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AF41-C5A0-40CE-ABD5-FC4E3A11C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9BFE-BE24-44B0-AB2A-77A8B6B78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A14C-09A7-45AA-8C29-20E8D172A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134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Num" idx="4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A9D1-C521-4544-9AD9-D4E499422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140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202F-AF73-4950-8D45-53E69A5E6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609480" y="1295280"/>
            <a:ext cx="7772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ＭＳ Ｐゴシック"/>
              </a:rPr>
              <a:t>friend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” Functions /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ＭＳ Ｐゴシック"/>
              </a:rPr>
              <a:t>thi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”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ＭＳ Ｐゴシック"/>
              </a:rPr>
              <a:t>static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” Class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 4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DC1A-F79B-4B80-B97A-9C56764027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EAF7-CDE0-46B2-927B-CAC8719FD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Initializ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434" name="Group 4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435" name="Rectangle 5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6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7: fig07_07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7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438" name="Rectangle 8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9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the this pointer to refer to object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441" name="Rectangle 11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12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13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444" name="Rectangle 14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15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16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447" name="Rectangle 17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18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450" name="Rectangle 20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21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22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453" name="Rectangle 23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24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25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456" name="Rectangle 26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Rectangle 27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459" name="Rectangle 29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30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31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462" name="Rectangle 32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33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es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Group 34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465" name="Rectangle 35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36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37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468" name="Rectangle 38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Rectangle 39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40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471" name="Rectangle 41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42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43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474" name="Rectangle 44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Rectangle 45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Group 46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477" name="Rectangle 47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Rectangle 48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Group 49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480" name="Rectangle 50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Rectangle 51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est::Tes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 ) { x = a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Group 52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483" name="Rectangle 53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Rectangle 54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55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486" name="Rectangle 56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57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( ) around *this requi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58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489" name="Rectangle 59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Rectangle 60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61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492" name="Rectangle 62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63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     x = " &lt;&lt;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64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495" name="Rectangle 65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66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this-&gt;x = " &lt;&lt; this-&gt;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Group 67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498" name="Rectangle 68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Rectangle 69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(*this).x = " &lt;&lt; ( *this ).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70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501" name="Rectangle 71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Rectangle 72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Group 73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504" name="Rectangle 74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75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76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507" name="Rectangle 77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78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79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510" name="Rectangle 80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81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82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513" name="Rectangle 83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84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est testObject( 1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85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516" name="Rectangle 86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Rectangle 87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Group 88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519" name="Rectangle 89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Rectangle 90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estObject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Group 91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522" name="Rectangle 92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93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94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525" name="Rectangle 95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96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97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528" name="Rectangle 98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Rectangle 99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Group 113"/>
          <p:cNvGrpSpPr/>
          <p:nvPr/>
        </p:nvGrpSpPr>
        <p:grpSpPr>
          <a:xfrm>
            <a:off x="2590560" y="2438280"/>
            <a:ext cx="2972160" cy="1676520"/>
            <a:chOff x="2590560" y="2438280"/>
            <a:chExt cx="2972160" cy="1676520"/>
          </a:xfrm>
        </p:grpSpPr>
        <p:sp>
          <p:nvSpPr>
            <p:cNvPr id="531" name="Text Box 102"/>
            <p:cNvSpPr/>
            <p:nvPr/>
          </p:nvSpPr>
          <p:spPr>
            <a:xfrm>
              <a:off x="3581280" y="243828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03"/>
            <p:cNvSpPr/>
            <p:nvPr/>
          </p:nvSpPr>
          <p:spPr>
            <a:xfrm flipH="1">
              <a:off x="2590560" y="2666880"/>
              <a:ext cx="9903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Group 111"/>
          <p:cNvGrpSpPr/>
          <p:nvPr/>
        </p:nvGrpSpPr>
        <p:grpSpPr>
          <a:xfrm>
            <a:off x="3505320" y="3352680"/>
            <a:ext cx="4343400" cy="990360"/>
            <a:chOff x="3505320" y="3352680"/>
            <a:chExt cx="4343400" cy="990360"/>
          </a:xfrm>
        </p:grpSpPr>
        <p:sp>
          <p:nvSpPr>
            <p:cNvPr id="534" name="Line 105"/>
            <p:cNvSpPr/>
            <p:nvPr/>
          </p:nvSpPr>
          <p:spPr>
            <a:xfrm flipH="1">
              <a:off x="3505320" y="3733560"/>
              <a:ext cx="1218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104"/>
            <p:cNvSpPr/>
            <p:nvPr/>
          </p:nvSpPr>
          <p:spPr>
            <a:xfrm>
              <a:off x="4648320" y="33526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the arr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-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of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12"/>
          <p:cNvGrpSpPr/>
          <p:nvPr/>
        </p:nvGrpSpPr>
        <p:grpSpPr>
          <a:xfrm>
            <a:off x="2743200" y="4724280"/>
            <a:ext cx="6019920" cy="1299240"/>
            <a:chOff x="2743200" y="4724280"/>
            <a:chExt cx="6019920" cy="1299240"/>
          </a:xfrm>
        </p:grpSpPr>
        <p:sp>
          <p:nvSpPr>
            <p:cNvPr id="537" name="Line 107"/>
            <p:cNvSpPr/>
            <p:nvPr/>
          </p:nvSpPr>
          <p:spPr>
            <a:xfrm flipH="1" flipV="1">
              <a:off x="2743200" y="472428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106"/>
            <p:cNvSpPr/>
            <p:nvPr/>
          </p:nvSpPr>
          <p:spPr>
            <a:xfrm>
              <a:off x="4191120" y="4956120"/>
              <a:ext cx="4572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the dot (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operator. Parenthesis required because dot operator has higher precedence th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Without, interpreted incorrectly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(this.x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DF132-9ACC-4AEA-80E8-77846CC83A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" dur="1" fill="hold"/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64CB-C9AA-456A-A9C5-4CED02818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0"/>
            <a:ext cx="662940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-&gt;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this).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7"/>
          <p:cNvGrpSpPr/>
          <p:nvPr/>
        </p:nvGrpSpPr>
        <p:grpSpPr>
          <a:xfrm>
            <a:off x="1523880" y="609120"/>
            <a:ext cx="4114800" cy="1724040"/>
            <a:chOff x="1523880" y="609120"/>
            <a:chExt cx="4114800" cy="1724040"/>
          </a:xfrm>
        </p:grpSpPr>
        <p:sp>
          <p:nvSpPr>
            <p:cNvPr id="543" name="Text Box 4"/>
            <p:cNvSpPr/>
            <p:nvPr/>
          </p:nvSpPr>
          <p:spPr>
            <a:xfrm>
              <a:off x="3429000" y="17524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l three methods have the same resul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6"/>
            <p:cNvSpPr/>
            <p:nvPr/>
          </p:nvSpPr>
          <p:spPr>
            <a:xfrm flipH="1" flipV="1">
              <a:off x="1523880" y="609120"/>
              <a:ext cx="1905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1F9C-D132-4637-BD96-0326AE96A4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59A0-DE05-4BC9-9042-7373B3642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48" name="Group 4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549" name="Rectangle 5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Rectangle 6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8: time6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7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552" name="Rectangle 8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9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scading member function call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10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555" name="Rectangle 11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12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13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558" name="Rectangle 14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15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16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561" name="Rectangle 17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18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time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19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564" name="Rectangle 20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21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6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22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567" name="Rectangle 23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le 24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6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25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570" name="Rectangle 26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573" name="Rectangle 29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30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31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576" name="Rectangle 32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33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34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579" name="Rectangle 35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36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 =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37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582" name="Rectangle 38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39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40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585" name="Rectangle 41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42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et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43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588" name="Rectangle 44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45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&amp;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46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591" name="Rectangle 47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48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&amp;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49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594" name="Rectangle 50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51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&amp;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52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597" name="Rectangle 53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54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&amp;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55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600" name="Rectangle 56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57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58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603" name="Rectangle 59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Rectangle 60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ge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61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606" name="Rectangle 62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63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turn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Group 64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609" name="Rectangle 65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66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turn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67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612" name="Rectangle 68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69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70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615" name="Rectangle 71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72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73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618" name="Rectangle 74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75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76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621" name="Rectangle 77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78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int military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79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624" name="Rectangle 80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81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int standard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82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627" name="Rectangle 83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84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85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630" name="Rectangle 86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87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88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633" name="Rectangle 89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90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91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636" name="Rectangle 92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93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94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639" name="Rectangle 95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96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97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642" name="Rectangle 98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99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100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645" name="Rectangle 101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" name="Group 102"/>
              <p:cNvGrpSpPr/>
              <p:nvPr/>
            </p:nvGrpSpPr>
            <p:grpSpPr>
              <a:xfrm>
                <a:off x="0" y="6650280"/>
                <a:ext cx="6780600" cy="207720"/>
                <a:chOff x="0" y="6650280"/>
                <a:chExt cx="6780600" cy="207720"/>
              </a:xfrm>
            </p:grpSpPr>
            <p:sp>
              <p:nvSpPr>
                <p:cNvPr id="647" name="Rectangle 103"/>
                <p:cNvSpPr/>
                <p:nvPr/>
              </p:nvSpPr>
              <p:spPr>
                <a:xfrm>
                  <a:off x="0" y="6650280"/>
                  <a:ext cx="678060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Rectangle 104"/>
                <p:cNvSpPr/>
                <p:nvPr/>
              </p:nvSpPr>
              <p:spPr>
                <a:xfrm>
                  <a:off x="0" y="6650280"/>
                  <a:ext cx="6780600" cy="20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9" name="Group 109"/>
          <p:cNvGrpSpPr/>
          <p:nvPr/>
        </p:nvGrpSpPr>
        <p:grpSpPr>
          <a:xfrm>
            <a:off x="1371240" y="2971440"/>
            <a:ext cx="5334480" cy="1296360"/>
            <a:chOff x="1371240" y="2971440"/>
            <a:chExt cx="5334480" cy="1296360"/>
          </a:xfrm>
        </p:grpSpPr>
        <p:sp>
          <p:nvSpPr>
            <p:cNvPr id="650" name="Text Box 106"/>
            <p:cNvSpPr/>
            <p:nvPr/>
          </p:nvSpPr>
          <p:spPr>
            <a:xfrm>
              <a:off x="3886200" y="320040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 &amp;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function returns a reference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 Specify object in function defin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08"/>
            <p:cNvSpPr/>
            <p:nvPr/>
          </p:nvSpPr>
          <p:spPr>
            <a:xfrm flipH="1" flipV="1">
              <a:off x="1371240" y="2971440"/>
              <a:ext cx="2514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4742-A01B-4794-BAF4-B37B03914D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FDA6-A6C4-4606-9EA5-8FCF4396B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55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656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8: time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659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662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665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668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671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674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ime6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677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680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683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s member function setTime to set variabl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686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689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692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695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698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701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 &amp;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704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707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Hour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710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Minute( 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713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Second( s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716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thi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719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722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725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728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 &amp;Time::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731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734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737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740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743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746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Group 103"/>
          <p:cNvGrpSpPr/>
          <p:nvPr/>
        </p:nvGrpSpPr>
        <p:grpSpPr>
          <a:xfrm>
            <a:off x="2133360" y="3429000"/>
            <a:ext cx="4343760" cy="990720"/>
            <a:chOff x="2133360" y="3429000"/>
            <a:chExt cx="4343760" cy="990720"/>
          </a:xfrm>
        </p:grpSpPr>
        <p:sp>
          <p:nvSpPr>
            <p:cNvPr id="749" name="Line 100"/>
            <p:cNvSpPr/>
            <p:nvPr/>
          </p:nvSpPr>
          <p:spPr>
            <a:xfrm flipH="1">
              <a:off x="2133360" y="3733920"/>
              <a:ext cx="2819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Text Box 97"/>
            <p:cNvSpPr/>
            <p:nvPr/>
          </p:nvSpPr>
          <p:spPr>
            <a:xfrm>
              <a:off x="3733920" y="34290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nables cascading function c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C0F55-7A9D-409E-A9A0-86319120C0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7" dur="1" fill="hold"/>
                                  <p:tgtEl>
                                    <p:spTgt spid="7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E6FE-009D-470C-86CF-7361A498F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754" name="Group 4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755" name="Rectangle 5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Rectangle 6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Group 7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758" name="Rectangle 8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9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 &amp;Time::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10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761" name="Rectangle 11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Rectangle 12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Group 13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764" name="Rectangle 14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Rectangle 15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Group 16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767" name="Rectangle 17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Rectangle 18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9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770" name="Rectangle 20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21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22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773" name="Rectangle 23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24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Group 25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776" name="Rectangle 26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Rectangle 27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Group 28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779" name="Rectangle 29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Rectangle 30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31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782" name="Rectangle 32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Rectangle 33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 &amp;Time::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34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785" name="Rectangle 35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Rectangle 36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37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788" name="Rectangle 38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Rectangle 39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Group 40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791" name="Rectangle 41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Rectangle 42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43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794" name="Rectangle 44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Rectangle 45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thi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46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797" name="Rectangle 47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Rectangle 48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49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800" name="Rectangle 50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Rectangle 51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52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803" name="Rectangle 53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Rectangle 54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55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806" name="Rectangle 56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Rectangle 57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58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809" name="Rectangle 59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Rectangle 60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61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812" name="Rectangle 62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Rectangle 63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64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815" name="Rectangle 65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Rectangle 66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67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818" name="Rectangle 68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Rectangle 69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70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821" name="Rectangle 71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Rectangle 72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73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824" name="Rectangle 74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Rectangle 75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76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827" name="Rectangle 77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Rectangle 78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79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830" name="Rectangle 80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Rectangle 81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military format time: HH: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82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833" name="Rectangle 83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Rectangle 84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85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836" name="Rectangle 86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Rectangle 87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88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839" name="Rectangle 89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Rectangle 90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91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842" name="Rectangle 92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Rectangle 93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4" name="Group 102"/>
          <p:cNvGrpSpPr/>
          <p:nvPr/>
        </p:nvGrpSpPr>
        <p:grpSpPr>
          <a:xfrm>
            <a:off x="3733560" y="1599840"/>
            <a:ext cx="4343760" cy="1295280"/>
            <a:chOff x="3733560" y="1599840"/>
            <a:chExt cx="4343760" cy="1295280"/>
          </a:xfrm>
        </p:grpSpPr>
        <p:grpSp>
          <p:nvGrpSpPr>
            <p:cNvPr id="845" name="Group 98"/>
            <p:cNvGrpSpPr/>
            <p:nvPr/>
          </p:nvGrpSpPr>
          <p:grpSpPr>
            <a:xfrm>
              <a:off x="3733560" y="1905120"/>
              <a:ext cx="4343760" cy="990000"/>
              <a:chOff x="3733560" y="1905120"/>
              <a:chExt cx="4343760" cy="990000"/>
            </a:xfrm>
          </p:grpSpPr>
          <p:sp>
            <p:nvSpPr>
              <p:cNvPr id="846" name="Line 99"/>
              <p:cNvSpPr/>
              <p:nvPr/>
            </p:nvSpPr>
            <p:spPr>
              <a:xfrm flipH="1">
                <a:off x="3733560" y="2209680"/>
                <a:ext cx="281916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Text Box 100"/>
              <p:cNvSpPr/>
              <p:nvPr/>
            </p:nvSpPr>
            <p:spPr>
              <a:xfrm>
                <a:off x="5334120" y="1905120"/>
                <a:ext cx="2743200" cy="580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turn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*thi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enables cascading function c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8" name="Line 101"/>
            <p:cNvSpPr/>
            <p:nvPr/>
          </p:nvSpPr>
          <p:spPr>
            <a:xfrm flipH="1" flipV="1">
              <a:off x="3962520" y="159984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9A305-2A60-4B86-840A-093734AFA0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5850-6100-437A-BF00-9A6503220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Prin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Group 3"/>
          <p:cNvGrpSpPr/>
          <p:nvPr/>
        </p:nvGrpSpPr>
        <p:grpSpPr>
          <a:xfrm>
            <a:off x="0" y="0"/>
            <a:ext cx="6780960" cy="2133360"/>
            <a:chOff x="0" y="0"/>
            <a:chExt cx="6780960" cy="2133360"/>
          </a:xfrm>
        </p:grpSpPr>
        <p:grpSp>
          <p:nvGrpSpPr>
            <p:cNvPr id="852" name="Group 4"/>
            <p:cNvGrpSpPr/>
            <p:nvPr/>
          </p:nvGrpSpPr>
          <p:grpSpPr>
            <a:xfrm>
              <a:off x="0" y="0"/>
              <a:ext cx="6780960" cy="213120"/>
              <a:chOff x="0" y="0"/>
              <a:chExt cx="6780960" cy="213120"/>
            </a:xfrm>
          </p:grpSpPr>
          <p:sp>
            <p:nvSpPr>
              <p:cNvPr id="853" name="Rectangle 5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Rectangle 6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Group 7"/>
            <p:cNvGrpSpPr/>
            <p:nvPr/>
          </p:nvGrpSpPr>
          <p:grpSpPr>
            <a:xfrm>
              <a:off x="0" y="213120"/>
              <a:ext cx="6780960" cy="213120"/>
              <a:chOff x="0" y="213120"/>
              <a:chExt cx="6780960" cy="213120"/>
            </a:xfrm>
          </p:grpSpPr>
          <p:sp>
            <p:nvSpPr>
              <p:cNvPr id="856" name="Rectangle 8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Rectangle 9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Group 10"/>
            <p:cNvGrpSpPr/>
            <p:nvPr/>
          </p:nvGrpSpPr>
          <p:grpSpPr>
            <a:xfrm>
              <a:off x="0" y="426600"/>
              <a:ext cx="6780960" cy="213480"/>
              <a:chOff x="0" y="426600"/>
              <a:chExt cx="6780960" cy="213480"/>
            </a:xfrm>
          </p:grpSpPr>
          <p:sp>
            <p:nvSpPr>
              <p:cNvPr id="859" name="Rectangle 11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Rectangle 12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standard format time: HH:MM:SS AM (or P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Group 13"/>
            <p:cNvGrpSpPr/>
            <p:nvPr/>
          </p:nvGrpSpPr>
          <p:grpSpPr>
            <a:xfrm>
              <a:off x="0" y="640080"/>
              <a:ext cx="6780960" cy="213120"/>
              <a:chOff x="0" y="640080"/>
              <a:chExt cx="6780960" cy="213120"/>
            </a:xfrm>
          </p:grpSpPr>
          <p:sp>
            <p:nvSpPr>
              <p:cNvPr id="862" name="Rectangle 14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Rectangle 15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Standar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16"/>
            <p:cNvGrpSpPr/>
            <p:nvPr/>
          </p:nvGrpSpPr>
          <p:grpSpPr>
            <a:xfrm>
              <a:off x="0" y="853560"/>
              <a:ext cx="6780960" cy="213120"/>
              <a:chOff x="0" y="853560"/>
              <a:chExt cx="6780960" cy="213120"/>
            </a:xfrm>
          </p:grpSpPr>
          <p:sp>
            <p:nvSpPr>
              <p:cNvPr id="865" name="Rectangle 17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18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19"/>
            <p:cNvGrpSpPr/>
            <p:nvPr/>
          </p:nvGrpSpPr>
          <p:grpSpPr>
            <a:xfrm>
              <a:off x="0" y="1066680"/>
              <a:ext cx="6780960" cy="213120"/>
              <a:chOff x="0" y="1066680"/>
              <a:chExt cx="6780960" cy="213120"/>
            </a:xfrm>
          </p:grpSpPr>
          <p:sp>
            <p:nvSpPr>
              <p:cNvPr id="868" name="Rectangle 20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21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( hour == 0 || hour == 12 ) ? 12 : hour % 1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22"/>
            <p:cNvGrpSpPr/>
            <p:nvPr/>
          </p:nvGrpSpPr>
          <p:grpSpPr>
            <a:xfrm>
              <a:off x="0" y="1280160"/>
              <a:ext cx="6780960" cy="213480"/>
              <a:chOff x="0" y="1280160"/>
              <a:chExt cx="6780960" cy="213480"/>
            </a:xfrm>
          </p:grpSpPr>
          <p:sp>
            <p:nvSpPr>
              <p:cNvPr id="871" name="Rectangle 23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24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minute &lt; 10 ? "0" : "" ) &lt;&lt; minu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Group 25"/>
            <p:cNvGrpSpPr/>
            <p:nvPr/>
          </p:nvGrpSpPr>
          <p:grpSpPr>
            <a:xfrm>
              <a:off x="0" y="1493640"/>
              <a:ext cx="6780960" cy="213120"/>
              <a:chOff x="0" y="1493640"/>
              <a:chExt cx="6780960" cy="213120"/>
            </a:xfrm>
          </p:grpSpPr>
          <p:sp>
            <p:nvSpPr>
              <p:cNvPr id="874" name="Rectangle 26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Rectangle 27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28"/>
            <p:cNvGrpSpPr/>
            <p:nvPr/>
          </p:nvGrpSpPr>
          <p:grpSpPr>
            <a:xfrm>
              <a:off x="0" y="1707120"/>
              <a:ext cx="6780960" cy="213120"/>
              <a:chOff x="0" y="1707120"/>
              <a:chExt cx="6780960" cy="213120"/>
            </a:xfrm>
          </p:grpSpPr>
          <p:sp>
            <p:nvSpPr>
              <p:cNvPr id="877" name="Rectangle 29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Rectangle 30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Group 31"/>
            <p:cNvGrpSpPr/>
            <p:nvPr/>
          </p:nvGrpSpPr>
          <p:grpSpPr>
            <a:xfrm>
              <a:off x="0" y="1920240"/>
              <a:ext cx="6780960" cy="213120"/>
              <a:chOff x="0" y="1920240"/>
              <a:chExt cx="6780960" cy="213120"/>
            </a:xfrm>
          </p:grpSpPr>
          <p:sp>
            <p:nvSpPr>
              <p:cNvPr id="880" name="Rectangle 32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Group 33"/>
              <p:cNvGrpSpPr/>
              <p:nvPr/>
            </p:nvGrpSpPr>
            <p:grpSpPr>
              <a:xfrm>
                <a:off x="0" y="1920240"/>
                <a:ext cx="6780600" cy="213120"/>
                <a:chOff x="0" y="1920240"/>
                <a:chExt cx="6780600" cy="213120"/>
              </a:xfrm>
            </p:grpSpPr>
            <p:sp>
              <p:nvSpPr>
                <p:cNvPr id="882" name="Rectangle 34"/>
                <p:cNvSpPr/>
                <p:nvPr/>
              </p:nvSpPr>
              <p:spPr>
                <a:xfrm>
                  <a:off x="0" y="1920240"/>
                  <a:ext cx="6780600" cy="2131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10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5"/>
                <p:cNvSpPr/>
                <p:nvPr/>
              </p:nvSpPr>
              <p:spPr>
                <a:xfrm>
                  <a:off x="0" y="1920240"/>
                  <a:ext cx="6780600" cy="21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84" name="Group 36"/>
          <p:cNvGrpSpPr/>
          <p:nvPr/>
        </p:nvGrpSpPr>
        <p:grpSpPr>
          <a:xfrm>
            <a:off x="0" y="2133720"/>
            <a:ext cx="6780960" cy="4724280"/>
            <a:chOff x="0" y="2133720"/>
            <a:chExt cx="6780960" cy="4724280"/>
          </a:xfrm>
        </p:grpSpPr>
        <p:grpSp>
          <p:nvGrpSpPr>
            <p:cNvPr id="885" name="Group 37"/>
            <p:cNvGrpSpPr/>
            <p:nvPr/>
          </p:nvGrpSpPr>
          <p:grpSpPr>
            <a:xfrm>
              <a:off x="0" y="2133720"/>
              <a:ext cx="6780960" cy="214560"/>
              <a:chOff x="0" y="2133720"/>
              <a:chExt cx="6780960" cy="214560"/>
            </a:xfrm>
          </p:grpSpPr>
          <p:sp>
            <p:nvSpPr>
              <p:cNvPr id="886" name="Rectangle 38"/>
              <p:cNvSpPr/>
              <p:nvPr/>
            </p:nvSpPr>
            <p:spPr>
              <a:xfrm>
                <a:off x="0" y="2133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39"/>
              <p:cNvSpPr/>
              <p:nvPr/>
            </p:nvSpPr>
            <p:spPr>
              <a:xfrm>
                <a:off x="0" y="2133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8: fig07_0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Group 40"/>
            <p:cNvGrpSpPr/>
            <p:nvPr/>
          </p:nvGrpSpPr>
          <p:grpSpPr>
            <a:xfrm>
              <a:off x="0" y="2348280"/>
              <a:ext cx="6780960" cy="214560"/>
              <a:chOff x="0" y="2348280"/>
              <a:chExt cx="6780960" cy="214560"/>
            </a:xfrm>
          </p:grpSpPr>
          <p:sp>
            <p:nvSpPr>
              <p:cNvPr id="889" name="Rectangle 41"/>
              <p:cNvSpPr/>
              <p:nvPr/>
            </p:nvSpPr>
            <p:spPr>
              <a:xfrm>
                <a:off x="0" y="23482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Rectangle 42"/>
              <p:cNvSpPr/>
              <p:nvPr/>
            </p:nvSpPr>
            <p:spPr>
              <a:xfrm>
                <a:off x="0" y="23482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scading member function calls togeth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Group 43"/>
            <p:cNvGrpSpPr/>
            <p:nvPr/>
          </p:nvGrpSpPr>
          <p:grpSpPr>
            <a:xfrm>
              <a:off x="0" y="2562840"/>
              <a:ext cx="6780960" cy="214560"/>
              <a:chOff x="0" y="2562840"/>
              <a:chExt cx="6780960" cy="214560"/>
            </a:xfrm>
          </p:grpSpPr>
          <p:sp>
            <p:nvSpPr>
              <p:cNvPr id="892" name="Rectangle 44"/>
              <p:cNvSpPr/>
              <p:nvPr/>
            </p:nvSpPr>
            <p:spPr>
              <a:xfrm>
                <a:off x="0" y="25628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45"/>
              <p:cNvSpPr/>
              <p:nvPr/>
            </p:nvSpPr>
            <p:spPr>
              <a:xfrm>
                <a:off x="0" y="25628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with the thi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46"/>
            <p:cNvGrpSpPr/>
            <p:nvPr/>
          </p:nvGrpSpPr>
          <p:grpSpPr>
            <a:xfrm>
              <a:off x="0" y="2777760"/>
              <a:ext cx="6780960" cy="214560"/>
              <a:chOff x="0" y="2777760"/>
              <a:chExt cx="6780960" cy="214560"/>
            </a:xfrm>
          </p:grpSpPr>
          <p:sp>
            <p:nvSpPr>
              <p:cNvPr id="895" name="Rectangle 47"/>
              <p:cNvSpPr/>
              <p:nvPr/>
            </p:nvSpPr>
            <p:spPr>
              <a:xfrm>
                <a:off x="0" y="27777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48"/>
              <p:cNvSpPr/>
              <p:nvPr/>
            </p:nvSpPr>
            <p:spPr>
              <a:xfrm>
                <a:off x="0" y="27777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49"/>
            <p:cNvGrpSpPr/>
            <p:nvPr/>
          </p:nvGrpSpPr>
          <p:grpSpPr>
            <a:xfrm>
              <a:off x="0" y="2992680"/>
              <a:ext cx="6780960" cy="214560"/>
              <a:chOff x="0" y="2992680"/>
              <a:chExt cx="6780960" cy="214560"/>
            </a:xfrm>
          </p:grpSpPr>
          <p:sp>
            <p:nvSpPr>
              <p:cNvPr id="898" name="Rectangle 50"/>
              <p:cNvSpPr/>
              <p:nvPr/>
            </p:nvSpPr>
            <p:spPr>
              <a:xfrm>
                <a:off x="0" y="29926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51"/>
              <p:cNvSpPr/>
              <p:nvPr/>
            </p:nvSpPr>
            <p:spPr>
              <a:xfrm>
                <a:off x="0" y="29926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Group 52"/>
            <p:cNvGrpSpPr/>
            <p:nvPr/>
          </p:nvGrpSpPr>
          <p:grpSpPr>
            <a:xfrm>
              <a:off x="0" y="3207240"/>
              <a:ext cx="6780960" cy="214560"/>
              <a:chOff x="0" y="3207240"/>
              <a:chExt cx="6780960" cy="214560"/>
            </a:xfrm>
          </p:grpSpPr>
          <p:sp>
            <p:nvSpPr>
              <p:cNvPr id="901" name="Rectangle 53"/>
              <p:cNvSpPr/>
              <p:nvPr/>
            </p:nvSpPr>
            <p:spPr>
              <a:xfrm>
                <a:off x="0" y="32072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54"/>
              <p:cNvSpPr/>
              <p:nvPr/>
            </p:nvSpPr>
            <p:spPr>
              <a:xfrm>
                <a:off x="0" y="32072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Group 55"/>
            <p:cNvGrpSpPr/>
            <p:nvPr/>
          </p:nvGrpSpPr>
          <p:grpSpPr>
            <a:xfrm>
              <a:off x="0" y="3422160"/>
              <a:ext cx="6780960" cy="214560"/>
              <a:chOff x="0" y="3422160"/>
              <a:chExt cx="6780960" cy="214560"/>
            </a:xfrm>
          </p:grpSpPr>
          <p:sp>
            <p:nvSpPr>
              <p:cNvPr id="904" name="Rectangle 56"/>
              <p:cNvSpPr/>
              <p:nvPr/>
            </p:nvSpPr>
            <p:spPr>
              <a:xfrm>
                <a:off x="0" y="3422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57"/>
              <p:cNvSpPr/>
              <p:nvPr/>
            </p:nvSpPr>
            <p:spPr>
              <a:xfrm>
                <a:off x="0" y="3422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Group 58"/>
            <p:cNvGrpSpPr/>
            <p:nvPr/>
          </p:nvGrpSpPr>
          <p:grpSpPr>
            <a:xfrm>
              <a:off x="0" y="3636720"/>
              <a:ext cx="6780960" cy="214560"/>
              <a:chOff x="0" y="3636720"/>
              <a:chExt cx="6780960" cy="214560"/>
            </a:xfrm>
          </p:grpSpPr>
          <p:sp>
            <p:nvSpPr>
              <p:cNvPr id="907" name="Rectangle 59"/>
              <p:cNvSpPr/>
              <p:nvPr/>
            </p:nvSpPr>
            <p:spPr>
              <a:xfrm>
                <a:off x="0" y="3636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60"/>
              <p:cNvSpPr/>
              <p:nvPr/>
            </p:nvSpPr>
            <p:spPr>
              <a:xfrm>
                <a:off x="0" y="3636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61"/>
            <p:cNvGrpSpPr/>
            <p:nvPr/>
          </p:nvGrpSpPr>
          <p:grpSpPr>
            <a:xfrm>
              <a:off x="0" y="3851640"/>
              <a:ext cx="6780960" cy="214560"/>
              <a:chOff x="0" y="3851640"/>
              <a:chExt cx="6780960" cy="214560"/>
            </a:xfrm>
          </p:grpSpPr>
          <p:sp>
            <p:nvSpPr>
              <p:cNvPr id="910" name="Rectangle 62"/>
              <p:cNvSpPr/>
              <p:nvPr/>
            </p:nvSpPr>
            <p:spPr>
              <a:xfrm>
                <a:off x="0" y="38516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63"/>
              <p:cNvSpPr/>
              <p:nvPr/>
            </p:nvSpPr>
            <p:spPr>
              <a:xfrm>
                <a:off x="0" y="38516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ime6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Group 64"/>
            <p:cNvGrpSpPr/>
            <p:nvPr/>
          </p:nvGrpSpPr>
          <p:grpSpPr>
            <a:xfrm>
              <a:off x="0" y="4066200"/>
              <a:ext cx="6780960" cy="214560"/>
              <a:chOff x="0" y="4066200"/>
              <a:chExt cx="6780960" cy="214560"/>
            </a:xfrm>
          </p:grpSpPr>
          <p:sp>
            <p:nvSpPr>
              <p:cNvPr id="913" name="Rectangle 65"/>
              <p:cNvSpPr/>
              <p:nvPr/>
            </p:nvSpPr>
            <p:spPr>
              <a:xfrm>
                <a:off x="0" y="40662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Rectangle 66"/>
              <p:cNvSpPr/>
              <p:nvPr/>
            </p:nvSpPr>
            <p:spPr>
              <a:xfrm>
                <a:off x="0" y="40662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Group 67"/>
            <p:cNvGrpSpPr/>
            <p:nvPr/>
          </p:nvGrpSpPr>
          <p:grpSpPr>
            <a:xfrm>
              <a:off x="0" y="4281120"/>
              <a:ext cx="6780960" cy="214560"/>
              <a:chOff x="0" y="4281120"/>
              <a:chExt cx="6780960" cy="214560"/>
            </a:xfrm>
          </p:grpSpPr>
          <p:sp>
            <p:nvSpPr>
              <p:cNvPr id="916" name="Rectangle 68"/>
              <p:cNvSpPr/>
              <p:nvPr/>
            </p:nvSpPr>
            <p:spPr>
              <a:xfrm>
                <a:off x="0" y="42811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69"/>
              <p:cNvSpPr/>
              <p:nvPr/>
            </p:nvSpPr>
            <p:spPr>
              <a:xfrm>
                <a:off x="0" y="42811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Group 70"/>
            <p:cNvGrpSpPr/>
            <p:nvPr/>
          </p:nvGrpSpPr>
          <p:grpSpPr>
            <a:xfrm>
              <a:off x="0" y="4496040"/>
              <a:ext cx="6780960" cy="214560"/>
              <a:chOff x="0" y="4496040"/>
              <a:chExt cx="6780960" cy="214560"/>
            </a:xfrm>
          </p:grpSpPr>
          <p:sp>
            <p:nvSpPr>
              <p:cNvPr id="919" name="Rectangle 71"/>
              <p:cNvSpPr/>
              <p:nvPr/>
            </p:nvSpPr>
            <p:spPr>
              <a:xfrm>
                <a:off x="0" y="4496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Rectangle 72"/>
              <p:cNvSpPr/>
              <p:nvPr/>
            </p:nvSpPr>
            <p:spPr>
              <a:xfrm>
                <a:off x="0" y="4496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Group 73"/>
            <p:cNvGrpSpPr/>
            <p:nvPr/>
          </p:nvGrpSpPr>
          <p:grpSpPr>
            <a:xfrm>
              <a:off x="0" y="4710600"/>
              <a:ext cx="6780960" cy="214560"/>
              <a:chOff x="0" y="4710600"/>
              <a:chExt cx="6780960" cy="214560"/>
            </a:xfrm>
          </p:grpSpPr>
          <p:sp>
            <p:nvSpPr>
              <p:cNvPr id="922" name="Rectangle 74"/>
              <p:cNvSpPr/>
              <p:nvPr/>
            </p:nvSpPr>
            <p:spPr>
              <a:xfrm>
                <a:off x="0" y="4710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Rectangle 75"/>
              <p:cNvSpPr/>
              <p:nvPr/>
            </p:nvSpPr>
            <p:spPr>
              <a:xfrm>
                <a:off x="0" y="4710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Group 76"/>
            <p:cNvGrpSpPr/>
            <p:nvPr/>
          </p:nvGrpSpPr>
          <p:grpSpPr>
            <a:xfrm>
              <a:off x="0" y="4925160"/>
              <a:ext cx="6780960" cy="214560"/>
              <a:chOff x="0" y="4925160"/>
              <a:chExt cx="6780960" cy="214560"/>
            </a:xfrm>
          </p:grpSpPr>
          <p:sp>
            <p:nvSpPr>
              <p:cNvPr id="925" name="Rectangle 77"/>
              <p:cNvSpPr/>
              <p:nvPr/>
            </p:nvSpPr>
            <p:spPr>
              <a:xfrm>
                <a:off x="0" y="4925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78"/>
              <p:cNvSpPr/>
              <p:nvPr/>
            </p:nvSpPr>
            <p:spPr>
              <a:xfrm>
                <a:off x="0" y="4925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Group 79"/>
            <p:cNvGrpSpPr/>
            <p:nvPr/>
          </p:nvGrpSpPr>
          <p:grpSpPr>
            <a:xfrm>
              <a:off x="0" y="5140080"/>
              <a:ext cx="6780960" cy="214560"/>
              <a:chOff x="0" y="5140080"/>
              <a:chExt cx="6780960" cy="214560"/>
            </a:xfrm>
          </p:grpSpPr>
          <p:sp>
            <p:nvSpPr>
              <p:cNvPr id="928" name="Rectangle 80"/>
              <p:cNvSpPr/>
              <p:nvPr/>
            </p:nvSpPr>
            <p:spPr>
              <a:xfrm>
                <a:off x="0" y="51400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Rectangle 81"/>
              <p:cNvSpPr/>
              <p:nvPr/>
            </p:nvSpPr>
            <p:spPr>
              <a:xfrm>
                <a:off x="0" y="51400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setHour( 18 ).setMinute( 30 ).setSecond(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Group 82"/>
            <p:cNvGrpSpPr/>
            <p:nvPr/>
          </p:nvGrpSpPr>
          <p:grpSpPr>
            <a:xfrm>
              <a:off x="0" y="5355000"/>
              <a:ext cx="6780960" cy="214560"/>
              <a:chOff x="0" y="5355000"/>
              <a:chExt cx="6780960" cy="214560"/>
            </a:xfrm>
          </p:grpSpPr>
          <p:sp>
            <p:nvSpPr>
              <p:cNvPr id="931" name="Rectangle 83"/>
              <p:cNvSpPr/>
              <p:nvPr/>
            </p:nvSpPr>
            <p:spPr>
              <a:xfrm>
                <a:off x="0" y="53550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Rectangle 84"/>
              <p:cNvSpPr/>
              <p:nvPr/>
            </p:nvSpPr>
            <p:spPr>
              <a:xfrm>
                <a:off x="0" y="53550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Military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Group 85"/>
            <p:cNvGrpSpPr/>
            <p:nvPr/>
          </p:nvGrpSpPr>
          <p:grpSpPr>
            <a:xfrm>
              <a:off x="0" y="5569560"/>
              <a:ext cx="6780960" cy="214560"/>
              <a:chOff x="0" y="5569560"/>
              <a:chExt cx="6780960" cy="214560"/>
            </a:xfrm>
          </p:grpSpPr>
          <p:sp>
            <p:nvSpPr>
              <p:cNvPr id="934" name="Rectangle 86"/>
              <p:cNvSpPr/>
              <p:nvPr/>
            </p:nvSpPr>
            <p:spPr>
              <a:xfrm>
                <a:off x="0" y="55695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Rectangle 87"/>
              <p:cNvSpPr/>
              <p:nvPr/>
            </p:nvSpPr>
            <p:spPr>
              <a:xfrm>
                <a:off x="0" y="55695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Group 88"/>
            <p:cNvGrpSpPr/>
            <p:nvPr/>
          </p:nvGrpSpPr>
          <p:grpSpPr>
            <a:xfrm>
              <a:off x="0" y="5784480"/>
              <a:ext cx="6780960" cy="214560"/>
              <a:chOff x="0" y="5784480"/>
              <a:chExt cx="6780960" cy="214560"/>
            </a:xfrm>
          </p:grpSpPr>
          <p:sp>
            <p:nvSpPr>
              <p:cNvPr id="937" name="Rectangle 89"/>
              <p:cNvSpPr/>
              <p:nvPr/>
            </p:nvSpPr>
            <p:spPr>
              <a:xfrm>
                <a:off x="0" y="57844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Rectangle 90"/>
              <p:cNvSpPr/>
              <p:nvPr/>
            </p:nvSpPr>
            <p:spPr>
              <a:xfrm>
                <a:off x="0" y="57844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Group 91"/>
            <p:cNvGrpSpPr/>
            <p:nvPr/>
          </p:nvGrpSpPr>
          <p:grpSpPr>
            <a:xfrm>
              <a:off x="0" y="5999040"/>
              <a:ext cx="6780960" cy="214560"/>
              <a:chOff x="0" y="5999040"/>
              <a:chExt cx="6780960" cy="214560"/>
            </a:xfrm>
          </p:grpSpPr>
          <p:sp>
            <p:nvSpPr>
              <p:cNvPr id="940" name="Rectangle 92"/>
              <p:cNvSpPr/>
              <p:nvPr/>
            </p:nvSpPr>
            <p:spPr>
              <a:xfrm>
                <a:off x="0" y="5999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Rectangle 93"/>
              <p:cNvSpPr/>
              <p:nvPr/>
            </p:nvSpPr>
            <p:spPr>
              <a:xfrm>
                <a:off x="0" y="5999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Group 94"/>
            <p:cNvGrpSpPr/>
            <p:nvPr/>
          </p:nvGrpSpPr>
          <p:grpSpPr>
            <a:xfrm>
              <a:off x="0" y="6213600"/>
              <a:ext cx="6780960" cy="214560"/>
              <a:chOff x="0" y="6213600"/>
              <a:chExt cx="6780960" cy="214560"/>
            </a:xfrm>
          </p:grpSpPr>
          <p:sp>
            <p:nvSpPr>
              <p:cNvPr id="943" name="Rectangle 95"/>
              <p:cNvSpPr/>
              <p:nvPr/>
            </p:nvSpPr>
            <p:spPr>
              <a:xfrm>
                <a:off x="0" y="6213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96"/>
              <p:cNvSpPr/>
              <p:nvPr/>
            </p:nvSpPr>
            <p:spPr>
              <a:xfrm>
                <a:off x="0" y="6213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Group 97"/>
            <p:cNvGrpSpPr/>
            <p:nvPr/>
          </p:nvGrpSpPr>
          <p:grpSpPr>
            <a:xfrm>
              <a:off x="0" y="6428520"/>
              <a:ext cx="6780960" cy="214560"/>
              <a:chOff x="0" y="6428520"/>
              <a:chExt cx="6780960" cy="214560"/>
            </a:xfrm>
          </p:grpSpPr>
          <p:sp>
            <p:nvSpPr>
              <p:cNvPr id="946" name="Rectangle 98"/>
              <p:cNvSpPr/>
              <p:nvPr/>
            </p:nvSpPr>
            <p:spPr>
              <a:xfrm>
                <a:off x="0" y="64285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Rectangle 99"/>
              <p:cNvSpPr/>
              <p:nvPr/>
            </p:nvSpPr>
            <p:spPr>
              <a:xfrm>
                <a:off x="0" y="64285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New 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Group 100"/>
            <p:cNvGrpSpPr/>
            <p:nvPr/>
          </p:nvGrpSpPr>
          <p:grpSpPr>
            <a:xfrm>
              <a:off x="0" y="6643440"/>
              <a:ext cx="6780960" cy="214560"/>
              <a:chOff x="0" y="6643440"/>
              <a:chExt cx="6780960" cy="214560"/>
            </a:xfrm>
          </p:grpSpPr>
          <p:sp>
            <p:nvSpPr>
              <p:cNvPr id="949" name="Rectangle 101"/>
              <p:cNvSpPr/>
              <p:nvPr/>
            </p:nvSpPr>
            <p:spPr>
              <a:xfrm>
                <a:off x="0" y="66434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102"/>
              <p:cNvSpPr/>
              <p:nvPr/>
            </p:nvSpPr>
            <p:spPr>
              <a:xfrm>
                <a:off x="0" y="66434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setTime( 20, 20, 20 )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Group 111"/>
          <p:cNvGrpSpPr/>
          <p:nvPr/>
        </p:nvGrpSpPr>
        <p:grpSpPr>
          <a:xfrm>
            <a:off x="2971440" y="3657600"/>
            <a:ext cx="5486760" cy="1523880"/>
            <a:chOff x="2971440" y="3657600"/>
            <a:chExt cx="5486760" cy="1523880"/>
          </a:xfrm>
        </p:grpSpPr>
        <p:sp>
          <p:nvSpPr>
            <p:cNvPr id="952" name="Text Box 103"/>
            <p:cNvSpPr/>
            <p:nvPr/>
          </p:nvSpPr>
          <p:spPr>
            <a:xfrm>
              <a:off x="5029200" y="365760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cascading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104"/>
            <p:cNvSpPr/>
            <p:nvPr/>
          </p:nvSpPr>
          <p:spPr>
            <a:xfrm flipH="1">
              <a:off x="2971440" y="3819600"/>
              <a:ext cx="2057400" cy="13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10"/>
          <p:cNvGrpSpPr/>
          <p:nvPr/>
        </p:nvGrpSpPr>
        <p:grpSpPr>
          <a:xfrm>
            <a:off x="3809520" y="4421160"/>
            <a:ext cx="5105880" cy="2055960"/>
            <a:chOff x="3809520" y="4421160"/>
            <a:chExt cx="5105880" cy="2055960"/>
          </a:xfrm>
        </p:grpSpPr>
        <p:sp>
          <p:nvSpPr>
            <p:cNvPr id="955" name="Text Box 107"/>
            <p:cNvSpPr/>
            <p:nvPr/>
          </p:nvSpPr>
          <p:spPr>
            <a:xfrm>
              <a:off x="4038480" y="4421160"/>
              <a:ext cx="4876920" cy="1437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cading function call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call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oes not return a reference to a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.printStandard().setTime();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ould cause a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108"/>
            <p:cNvSpPr/>
            <p:nvPr/>
          </p:nvSpPr>
          <p:spPr>
            <a:xfrm flipH="1">
              <a:off x="3809520" y="5867280"/>
              <a:ext cx="16002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Group 114"/>
          <p:cNvGrpSpPr/>
          <p:nvPr/>
        </p:nvGrpSpPr>
        <p:grpSpPr>
          <a:xfrm>
            <a:off x="990360" y="914400"/>
            <a:ext cx="5562720" cy="1893960"/>
            <a:chOff x="990360" y="914400"/>
            <a:chExt cx="5562720" cy="1893960"/>
          </a:xfrm>
        </p:grpSpPr>
        <p:sp>
          <p:nvSpPr>
            <p:cNvPr id="958" name="Text Box 112"/>
            <p:cNvSpPr/>
            <p:nvPr/>
          </p:nvSpPr>
          <p:spPr>
            <a:xfrm>
              <a:off x="4343400" y="19843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es not return a reference to a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113"/>
            <p:cNvSpPr/>
            <p:nvPr/>
          </p:nvSpPr>
          <p:spPr>
            <a:xfrm flipH="1" flipV="1">
              <a:off x="990360" y="914400"/>
              <a:ext cx="3276360" cy="15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39B0-E9E7-4C7B-923F-30E63BB4A8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5" dur="1" fill="hold"/>
                                  <p:tgtEl>
                                    <p:spTgt spid="9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FA05-D3BF-4753-883C-544B62DE1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Group 3"/>
          <p:cNvGrpSpPr/>
          <p:nvPr/>
        </p:nvGrpSpPr>
        <p:grpSpPr>
          <a:xfrm>
            <a:off x="0" y="0"/>
            <a:ext cx="6705000" cy="1523880"/>
            <a:chOff x="0" y="0"/>
            <a:chExt cx="6705000" cy="1523880"/>
          </a:xfrm>
        </p:grpSpPr>
        <p:grpSp>
          <p:nvGrpSpPr>
            <p:cNvPr id="963" name="Group 4"/>
            <p:cNvGrpSpPr/>
            <p:nvPr/>
          </p:nvGrpSpPr>
          <p:grpSpPr>
            <a:xfrm>
              <a:off x="0" y="0"/>
              <a:ext cx="6705000" cy="380880"/>
              <a:chOff x="0" y="0"/>
              <a:chExt cx="6705000" cy="380880"/>
            </a:xfrm>
          </p:grpSpPr>
          <p:sp>
            <p:nvSpPr>
              <p:cNvPr id="964" name="Rectangle 5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Rectangle 6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Group 7"/>
            <p:cNvGrpSpPr/>
            <p:nvPr/>
          </p:nvGrpSpPr>
          <p:grpSpPr>
            <a:xfrm>
              <a:off x="0" y="380880"/>
              <a:ext cx="6705000" cy="380880"/>
              <a:chOff x="0" y="380880"/>
              <a:chExt cx="6705000" cy="380880"/>
            </a:xfrm>
          </p:grpSpPr>
          <p:sp>
            <p:nvSpPr>
              <p:cNvPr id="967" name="Rectangle 8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Rectangle 9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10"/>
            <p:cNvGrpSpPr/>
            <p:nvPr/>
          </p:nvGrpSpPr>
          <p:grpSpPr>
            <a:xfrm>
              <a:off x="0" y="761760"/>
              <a:ext cx="6705000" cy="380880"/>
              <a:chOff x="0" y="761760"/>
              <a:chExt cx="6705000" cy="380880"/>
            </a:xfrm>
          </p:grpSpPr>
          <p:sp>
            <p:nvSpPr>
              <p:cNvPr id="970" name="Rectangle 11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12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Group 13"/>
            <p:cNvGrpSpPr/>
            <p:nvPr/>
          </p:nvGrpSpPr>
          <p:grpSpPr>
            <a:xfrm>
              <a:off x="0" y="1143000"/>
              <a:ext cx="6705000" cy="380880"/>
              <a:chOff x="0" y="1143000"/>
              <a:chExt cx="6705000" cy="380880"/>
            </a:xfrm>
          </p:grpSpPr>
          <p:sp>
            <p:nvSpPr>
              <p:cNvPr id="973" name="Rectangle 14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15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5" name="Rectangle 16"/>
          <p:cNvSpPr/>
          <p:nvPr/>
        </p:nvSpPr>
        <p:spPr>
          <a:xfrm>
            <a:off x="0" y="1981080"/>
            <a:ext cx="662940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litary time: 18: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: 6:30:2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 standard time: 8:20:2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7A3C-A85C-4978-8EB0-4AD18C0B89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7567-5724-4F37-A136-A1B14D857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by all objects of a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ly, each object gets its own copy of each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hen a single copy of data is en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 has to be upd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eem like global variables, but have class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accessible to objects of sam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d at file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 even if no instances (objects) of the class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variables and functions can b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tec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CD3E-EE9C-4F88-A8BB-8868324A21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variables are accessible through any object of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accessed using scope resolution operat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no class member objects exist, can only be accessed via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all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combine the class name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erator and the functio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getCoun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96B1-7E77-450F-88A1-A526062579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1EA6-0E85-49B5-932F-5CF185374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not access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or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, they exist independent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BC6F-3A24-4C2D-9F04-AF4B6BECE4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2F44-2B94-4A42-893C-74C5BBF8A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frien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Functions /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cc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mbers of a “grantor”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s are not member of the “grantor”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are defined outside of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friend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ymmetric” and “not transitiv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sFriendOf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mayNotBeFriendOf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sFriend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Friend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mayNotBeFriendOf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clare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/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lass grantorClass 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riend retType friendFunc (...); </a:t>
            </a:r>
            <a:r>
              <a:rPr b="1" lang="en-US" sz="17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//for a fun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riend class friendClass;        </a:t>
            </a:r>
            <a:r>
              <a:rPr b="1" lang="en-US" sz="17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//for a cla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B7BD-A1B5-4037-944E-8A096EE929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985" name=""/>
            <p:cNvGrpSpPr/>
            <p:nvPr/>
          </p:nvGrpSpPr>
          <p:grpSpPr>
            <a:xfrm>
              <a:off x="0" y="0"/>
              <a:ext cx="6705000" cy="285480"/>
              <a:chOff x="0" y="0"/>
              <a:chExt cx="6705000" cy="28548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emplo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285480"/>
              <a:ext cx="6705000" cy="285480"/>
              <a:chOff x="0" y="285480"/>
              <a:chExt cx="6705000" cy="28548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n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571320"/>
              <a:ext cx="6705000" cy="285840"/>
              <a:chOff x="0" y="571320"/>
              <a:chExt cx="6705000" cy="28584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857160"/>
              <a:ext cx="6705000" cy="285480"/>
              <a:chOff x="0" y="857160"/>
              <a:chExt cx="6705000" cy="28548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1143000"/>
              <a:ext cx="6705000" cy="285480"/>
              <a:chOff x="0" y="1143000"/>
              <a:chExt cx="6705000" cy="28548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1428480"/>
              <a:ext cx="6705000" cy="285480"/>
              <a:chOff x="0" y="1428480"/>
              <a:chExt cx="6705000" cy="28548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1714320"/>
              <a:ext cx="6705000" cy="285840"/>
              <a:chOff x="0" y="1714320"/>
              <a:chExt cx="6705000" cy="28584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2000160"/>
              <a:ext cx="6705000" cy="285480"/>
              <a:chOff x="0" y="2000160"/>
              <a:chExt cx="6705000" cy="28548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(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...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2286000"/>
              <a:ext cx="6705000" cy="285480"/>
              <a:chOff x="0" y="2286000"/>
              <a:chExt cx="6705000" cy="28548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2571480"/>
              <a:ext cx="6705000" cy="285480"/>
              <a:chOff x="0" y="2571480"/>
              <a:chExt cx="6705000" cy="28548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2857320"/>
              <a:ext cx="6705000" cy="285840"/>
              <a:chOff x="0" y="2857320"/>
              <a:chExt cx="6705000" cy="28584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3143160"/>
              <a:ext cx="6705000" cy="285480"/>
              <a:chOff x="0" y="3143160"/>
              <a:chExt cx="6705000" cy="28548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3429000"/>
              <a:ext cx="6705000" cy="285480"/>
              <a:chOff x="0" y="3429000"/>
              <a:chExt cx="6705000" cy="28548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member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3714480"/>
              <a:ext cx="6705000" cy="285480"/>
              <a:chOff x="0" y="3714480"/>
              <a:chExt cx="6705000" cy="28548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Cou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#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0" y="4000320"/>
              <a:ext cx="6705000" cy="285840"/>
              <a:chOff x="0" y="4000320"/>
              <a:chExt cx="6705000" cy="285840"/>
            </a:xfrm>
          </p:grpSpPr>
          <p:sp>
            <p:nvSpPr>
              <p:cNvPr id="1028" name="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0" y="4286160"/>
              <a:ext cx="6705000" cy="285480"/>
              <a:chOff x="0" y="4286160"/>
              <a:chExt cx="6705000" cy="28548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4572000"/>
              <a:ext cx="6705000" cy="285480"/>
              <a:chOff x="0" y="4572000"/>
              <a:chExt cx="6705000" cy="28548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4857480"/>
              <a:ext cx="6705000" cy="285480"/>
              <a:chOff x="0" y="4857480"/>
              <a:chExt cx="6705000" cy="28548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5143320"/>
              <a:ext cx="6705000" cy="285480"/>
              <a:chOff x="0" y="5143320"/>
              <a:chExt cx="6705000" cy="28548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0" y="5429160"/>
              <a:ext cx="6705000" cy="285840"/>
              <a:chOff x="0" y="5429160"/>
              <a:chExt cx="6705000" cy="285840"/>
            </a:xfrm>
          </p:grpSpPr>
          <p:sp>
            <p:nvSpPr>
              <p:cNvPr id="1043" name="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0" y="5715000"/>
              <a:ext cx="6705000" cy="285480"/>
              <a:chOff x="0" y="5715000"/>
              <a:chExt cx="6705000" cy="285480"/>
            </a:xfrm>
          </p:grpSpPr>
          <p:sp>
            <p:nvSpPr>
              <p:cNvPr id="1046" name="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umber of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0" y="6000840"/>
              <a:ext cx="6705000" cy="285480"/>
              <a:chOff x="0" y="6000840"/>
              <a:chExt cx="6705000" cy="285480"/>
            </a:xfrm>
          </p:grpSpPr>
          <p:sp>
            <p:nvSpPr>
              <p:cNvPr id="1049" name="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0" y="6286320"/>
              <a:ext cx="6705000" cy="285480"/>
              <a:chOff x="0" y="6286320"/>
              <a:chExt cx="6705000" cy="285480"/>
            </a:xfrm>
          </p:grpSpPr>
          <p:sp>
            <p:nvSpPr>
              <p:cNvPr id="1052" name="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0" y="6572160"/>
              <a:ext cx="6705000" cy="285840"/>
              <a:chOff x="0" y="6572160"/>
              <a:chExt cx="6705000" cy="285840"/>
            </a:xfrm>
          </p:grpSpPr>
          <p:sp>
            <p:nvSpPr>
              <p:cNvPr id="1055" name="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2133720" y="4038120"/>
            <a:ext cx="4114800" cy="1676880"/>
            <a:chOff x="2133720" y="4038120"/>
            <a:chExt cx="4114800" cy="1676880"/>
          </a:xfrm>
        </p:grpSpPr>
        <p:sp>
          <p:nvSpPr>
            <p:cNvPr id="1059" name=""/>
            <p:cNvSpPr/>
            <p:nvPr/>
          </p:nvSpPr>
          <p:spPr>
            <a:xfrm>
              <a:off x="4267080" y="411480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and variabl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 flipV="1">
              <a:off x="2133720" y="4038120"/>
              <a:ext cx="2133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2133720" y="4419720"/>
              <a:ext cx="2133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2F2AD-60AC-43E9-98A2-DA4E7C3696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1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 memb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64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emplo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itialize the static data member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count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e the stat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s the number of employee objects instantia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getCoun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ount++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crement static count of employees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0" name=""/>
          <p:cNvGrpSpPr/>
          <p:nvPr/>
        </p:nvGrpSpPr>
        <p:grpSpPr>
          <a:xfrm>
            <a:off x="1332000" y="471600"/>
            <a:ext cx="5409720" cy="2438280"/>
            <a:chOff x="1332000" y="471600"/>
            <a:chExt cx="5409720" cy="2438280"/>
          </a:xfrm>
        </p:grpSpPr>
        <p:sp>
          <p:nvSpPr>
            <p:cNvPr id="1161" name=""/>
            <p:cNvSpPr/>
            <p:nvPr/>
          </p:nvSpPr>
          <p:spPr>
            <a:xfrm>
              <a:off x="3718080" y="471600"/>
              <a:ext cx="3023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( 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itialized at file scope (required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1332000" y="1004760"/>
              <a:ext cx="23860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2354400" y="1538280"/>
              <a:ext cx="1619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2895480" y="3828960"/>
            <a:ext cx="5639040" cy="2266920"/>
            <a:chOff x="2895480" y="3828960"/>
            <a:chExt cx="5639040" cy="2266920"/>
          </a:xfrm>
        </p:grpSpPr>
        <p:sp>
          <p:nvSpPr>
            <p:cNvPr id="1165" name=""/>
            <p:cNvSpPr/>
            <p:nvPr/>
          </p:nvSpPr>
          <p:spPr>
            <a:xfrm>
              <a:off x="4724280" y="3828960"/>
              <a:ext cx="3810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048120" y="4114800"/>
              <a:ext cx="1676160" cy="1066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2895480" y="4114800"/>
              <a:ext cx="1828800" cy="198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1547640" y="3808440"/>
            <a:ext cx="7239240" cy="1276200"/>
            <a:chOff x="1547640" y="3808440"/>
            <a:chExt cx="7239240" cy="1276200"/>
          </a:xfrm>
        </p:grpSpPr>
        <p:sp>
          <p:nvSpPr>
            <p:cNvPr id="1169" name=""/>
            <p:cNvSpPr/>
            <p:nvPr/>
          </p:nvSpPr>
          <p:spPr>
            <a:xfrm>
              <a:off x="5357880" y="380844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 is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1547640" y="4093920"/>
              <a:ext cx="3810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0C3B6-706B-4884-A1F5-78C05D79D3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3" dur="1" fill="hold"/>
                                  <p:tgtEl>
                                    <p:spTgt spid="1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73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174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fig07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177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to test the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180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183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186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189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192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195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198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201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204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207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before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210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mployee::getCount() &lt;&lt; end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 class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213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216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e1 Employee( …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219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e2 Employee( …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222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225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after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228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1.getCou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231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234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237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240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243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246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249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252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255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258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261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264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6" name=""/>
          <p:cNvGrpSpPr/>
          <p:nvPr/>
        </p:nvGrpSpPr>
        <p:grpSpPr>
          <a:xfrm>
            <a:off x="1905120" y="609480"/>
            <a:ext cx="5790600" cy="2057400"/>
            <a:chOff x="1905120" y="609480"/>
            <a:chExt cx="5790600" cy="2057400"/>
          </a:xfrm>
        </p:grpSpPr>
        <p:sp>
          <p:nvSpPr>
            <p:cNvPr id="1267" name=""/>
            <p:cNvSpPr/>
            <p:nvPr/>
          </p:nvSpPr>
          <p:spPr>
            <a:xfrm>
              <a:off x="4800240" y="6094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exi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accessed using the class name an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1905120" y="1143000"/>
              <a:ext cx="2895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3657240" y="1773360"/>
            <a:ext cx="4926240" cy="664920"/>
            <a:chOff x="3657240" y="1773360"/>
            <a:chExt cx="4926240" cy="664920"/>
          </a:xfrm>
        </p:grpSpPr>
        <p:sp>
          <p:nvSpPr>
            <p:cNvPr id="1270" name=""/>
            <p:cNvSpPr/>
            <p:nvPr/>
          </p:nvSpPr>
          <p:spPr>
            <a:xfrm>
              <a:off x="4287960" y="1773360"/>
              <a:ext cx="429552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umber of employees before instantiation is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3657240" y="1981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2133720" y="2438280"/>
            <a:ext cx="6705360" cy="1600200"/>
            <a:chOff x="2133720" y="2438280"/>
            <a:chExt cx="6705360" cy="1600200"/>
          </a:xfrm>
        </p:grpSpPr>
        <p:sp>
          <p:nvSpPr>
            <p:cNvPr id="1273" name=""/>
            <p:cNvSpPr/>
            <p:nvPr/>
          </p:nvSpPr>
          <p:spPr>
            <a:xfrm flipH="1">
              <a:off x="2133720" y="2743200"/>
              <a:ext cx="22860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191120" y="243828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2.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::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ould also wor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3200400" y="3580920"/>
            <a:ext cx="5562720" cy="1088280"/>
            <a:chOff x="3200400" y="3580920"/>
            <a:chExt cx="5562720" cy="1088280"/>
          </a:xfrm>
        </p:grpSpPr>
        <p:sp>
          <p:nvSpPr>
            <p:cNvPr id="1276" name=""/>
            <p:cNvSpPr/>
            <p:nvPr/>
          </p:nvSpPr>
          <p:spPr>
            <a:xfrm>
              <a:off x="4191120" y="41148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constructor for e1 is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constructor for e2 is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 flipV="1">
              <a:off x="3200400" y="358092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3809880" y="3373560"/>
            <a:ext cx="4627800" cy="360360"/>
            <a:chOff x="3809880" y="3373560"/>
            <a:chExt cx="4627800" cy="360360"/>
          </a:xfrm>
        </p:grpSpPr>
        <p:sp>
          <p:nvSpPr>
            <p:cNvPr id="1279" name=""/>
            <p:cNvSpPr/>
            <p:nvPr/>
          </p:nvSpPr>
          <p:spPr>
            <a:xfrm flipH="1">
              <a:off x="3809880" y="35812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233600" y="3373560"/>
              <a:ext cx="420408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umber of employees after instantiation i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685800" y="838080"/>
            <a:ext cx="2438280" cy="2210040"/>
            <a:chOff x="685800" y="838080"/>
            <a:chExt cx="2438280" cy="2210040"/>
          </a:xfrm>
        </p:grpSpPr>
        <p:sp>
          <p:nvSpPr>
            <p:cNvPr id="1282" name=""/>
            <p:cNvSpPr/>
            <p:nvPr/>
          </p:nvSpPr>
          <p:spPr>
            <a:xfrm>
              <a:off x="685800" y="8380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ed because of constructor calls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371600" y="167652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1E4AA-F22D-44E9-A010-5C61A4F872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7" dur="1" fill="hold"/>
                                  <p:tgtEl>
                                    <p:spTgt spid="1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8F59-0A81-4675-8EAF-C995EE22C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Declare function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Function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Initializ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90" name="Group 4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6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5: fig07_05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7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94" name="Rectangle 8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riends can access private members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10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97" name="Rectangle 11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2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13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200" name="Rectangle 14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15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16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203" name="Rectangle 17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18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19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206" name="Rectangle 20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21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22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209" name="Rectangle 23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24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25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212" name="Rectangle 26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27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28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215" name="Rectangle 29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30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31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218" name="Rectangle 32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33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X( Count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riend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34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221" name="Rectangle 35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36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37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224" name="Rectangle 38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39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() { x = 0; }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40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227" name="Rectangle 41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42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x &lt;&lt; endl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43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230" name="Rectangle 44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45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46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233" name="Rectangle 47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48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  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49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236" name="Rectangle 50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51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52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239" name="Rectangle 53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54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55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242" name="Rectangle 56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57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n modify private data of Count becau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58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245" name="Rectangle 59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60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X is declared as a friend function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61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248" name="Rectangle 62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63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64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51" name="Rectangle 65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Rectangle 66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67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54" name="Rectangle 68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69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legal: setX is a friend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70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257" name="Rectangle 71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Rectangle 72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73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260" name="Rectangle 74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75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76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263" name="Rectangle 77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78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79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266" name="Rectangle 80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81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Group 82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269" name="Rectangle 83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84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85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272" name="Rectangle 86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87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Group 88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275" name="Rectangle 89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90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ounter.x after instantia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Group 91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278" name="Rectangle 92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Rectangle 93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Group 104"/>
          <p:cNvGrpSpPr/>
          <p:nvPr/>
        </p:nvGrpSpPr>
        <p:grpSpPr>
          <a:xfrm>
            <a:off x="2590560" y="3505320"/>
            <a:ext cx="4190760" cy="838080"/>
            <a:chOff x="2590560" y="3505320"/>
            <a:chExt cx="4190760" cy="838080"/>
          </a:xfrm>
        </p:grpSpPr>
        <p:sp>
          <p:nvSpPr>
            <p:cNvPr id="281" name="Text Box 95"/>
            <p:cNvSpPr/>
            <p:nvPr/>
          </p:nvSpPr>
          <p:spPr>
            <a:xfrm>
              <a:off x="4419360" y="350532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fined normally and is not a member func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01"/>
            <p:cNvSpPr/>
            <p:nvPr/>
          </p:nvSpPr>
          <p:spPr>
            <a:xfrm flipH="1">
              <a:off x="2590560" y="4038480"/>
              <a:ext cx="182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05"/>
          <p:cNvGrpSpPr/>
          <p:nvPr/>
        </p:nvGrpSpPr>
        <p:grpSpPr>
          <a:xfrm>
            <a:off x="2666520" y="533520"/>
            <a:ext cx="3657960" cy="1600200"/>
            <a:chOff x="2666520" y="533520"/>
            <a:chExt cx="3657960" cy="1600200"/>
          </a:xfrm>
        </p:grpSpPr>
        <p:sp>
          <p:nvSpPr>
            <p:cNvPr id="284" name="Text Box 94"/>
            <p:cNvSpPr/>
            <p:nvPr/>
          </p:nvSpPr>
          <p:spPr>
            <a:xfrm>
              <a:off x="3809880" y="5335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can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02"/>
            <p:cNvSpPr/>
            <p:nvPr/>
          </p:nvSpPr>
          <p:spPr>
            <a:xfrm flipH="1">
              <a:off x="2666520" y="1143000"/>
              <a:ext cx="1143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107"/>
          <p:cNvGrpSpPr/>
          <p:nvPr/>
        </p:nvGrpSpPr>
        <p:grpSpPr>
          <a:xfrm>
            <a:off x="1219320" y="3428640"/>
            <a:ext cx="5638680" cy="1448280"/>
            <a:chOff x="1219320" y="3428640"/>
            <a:chExt cx="5638680" cy="1448280"/>
          </a:xfrm>
        </p:grpSpPr>
        <p:grpSp>
          <p:nvGrpSpPr>
            <p:cNvPr id="287" name="Group 103"/>
            <p:cNvGrpSpPr/>
            <p:nvPr/>
          </p:nvGrpSpPr>
          <p:grpSpPr>
            <a:xfrm>
              <a:off x="1599840" y="4419720"/>
              <a:ext cx="5258160" cy="457200"/>
              <a:chOff x="1599840" y="4419720"/>
              <a:chExt cx="5258160" cy="457200"/>
            </a:xfrm>
          </p:grpSpPr>
          <p:sp>
            <p:nvSpPr>
              <p:cNvPr id="288" name="Line 99"/>
              <p:cNvSpPr/>
              <p:nvPr/>
            </p:nvSpPr>
            <p:spPr>
              <a:xfrm flipH="1">
                <a:off x="1599840" y="4648320"/>
                <a:ext cx="2057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Text Box 96"/>
              <p:cNvSpPr/>
              <p:nvPr/>
            </p:nvSpPr>
            <p:spPr>
              <a:xfrm>
                <a:off x="3352680" y="4419720"/>
                <a:ext cx="3505320" cy="337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hang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vat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variables allowe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Line 106"/>
            <p:cNvSpPr/>
            <p:nvPr/>
          </p:nvSpPr>
          <p:spPr>
            <a:xfrm flipH="1" flipV="1">
              <a:off x="1219320" y="3428640"/>
              <a:ext cx="2133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51F5-8465-44B0-870A-C1CA613B76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" dur="1" fill="hold"/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5BF4-1D63-4C96-B6B1-56CE33055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Modify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3"/>
          <p:cNvGrpSpPr/>
          <p:nvPr/>
        </p:nvGrpSpPr>
        <p:grpSpPr>
          <a:xfrm>
            <a:off x="0" y="0"/>
            <a:ext cx="6705000" cy="1980720"/>
            <a:chOff x="0" y="0"/>
            <a:chExt cx="6705000" cy="1980720"/>
          </a:xfrm>
        </p:grpSpPr>
        <p:grpSp>
          <p:nvGrpSpPr>
            <p:cNvPr id="294" name="Group 4"/>
            <p:cNvGrpSpPr/>
            <p:nvPr/>
          </p:nvGrpSpPr>
          <p:grpSpPr>
            <a:xfrm>
              <a:off x="0" y="0"/>
              <a:ext cx="6705000" cy="396000"/>
              <a:chOff x="0" y="0"/>
              <a:chExt cx="6705000" cy="396000"/>
            </a:xfrm>
          </p:grpSpPr>
          <p:sp>
            <p:nvSpPr>
              <p:cNvPr id="295" name="Rectangle 5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6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ounter.x after call to setX friend func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7"/>
            <p:cNvGrpSpPr/>
            <p:nvPr/>
          </p:nvGrpSpPr>
          <p:grpSpPr>
            <a:xfrm>
              <a:off x="0" y="396000"/>
              <a:ext cx="6705000" cy="396000"/>
              <a:chOff x="0" y="396000"/>
              <a:chExt cx="6705000" cy="396000"/>
            </a:xfrm>
          </p:grpSpPr>
          <p:sp>
            <p:nvSpPr>
              <p:cNvPr id="298" name="Rectangle 8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9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X( counter, 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x with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Group 10"/>
            <p:cNvGrpSpPr/>
            <p:nvPr/>
          </p:nvGrpSpPr>
          <p:grpSpPr>
            <a:xfrm>
              <a:off x="0" y="792360"/>
              <a:ext cx="6705000" cy="396360"/>
              <a:chOff x="0" y="792360"/>
              <a:chExt cx="6705000" cy="396360"/>
            </a:xfrm>
          </p:grpSpPr>
          <p:sp>
            <p:nvSpPr>
              <p:cNvPr id="301" name="Rectangle 11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12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13"/>
            <p:cNvGrpSpPr/>
            <p:nvPr/>
          </p:nvGrpSpPr>
          <p:grpSpPr>
            <a:xfrm>
              <a:off x="0" y="1188720"/>
              <a:ext cx="6705000" cy="396000"/>
              <a:chOff x="0" y="1188720"/>
              <a:chExt cx="6705000" cy="396000"/>
            </a:xfrm>
          </p:grpSpPr>
          <p:sp>
            <p:nvSpPr>
              <p:cNvPr id="304" name="Rectangle 14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15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16"/>
            <p:cNvGrpSpPr/>
            <p:nvPr/>
          </p:nvGrpSpPr>
          <p:grpSpPr>
            <a:xfrm>
              <a:off x="0" y="1584720"/>
              <a:ext cx="6705000" cy="396000"/>
              <a:chOff x="0" y="1584720"/>
              <a:chExt cx="6705000" cy="396000"/>
            </a:xfrm>
          </p:grpSpPr>
          <p:sp>
            <p:nvSpPr>
              <p:cNvPr id="307" name="Rectangle 17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Rectangle 18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Rectangle 19"/>
          <p:cNvSpPr/>
          <p:nvPr/>
        </p:nvSpPr>
        <p:spPr>
          <a:xfrm>
            <a:off x="0" y="2362320"/>
            <a:ext cx="6705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er.x after instantiation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er.x after call to setX friend function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22"/>
          <p:cNvGrpSpPr/>
          <p:nvPr/>
        </p:nvGrpSpPr>
        <p:grpSpPr>
          <a:xfrm>
            <a:off x="3048120" y="2895480"/>
            <a:ext cx="3581280" cy="1099440"/>
            <a:chOff x="3048120" y="2895480"/>
            <a:chExt cx="3581280" cy="1099440"/>
          </a:xfrm>
        </p:grpSpPr>
        <p:sp>
          <p:nvSpPr>
            <p:cNvPr id="311" name="Text Box 20"/>
            <p:cNvSpPr/>
            <p:nvPr/>
          </p:nvSpPr>
          <p:spPr>
            <a:xfrm>
              <a:off x="3886200" y="365760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wa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1"/>
            <p:cNvSpPr/>
            <p:nvPr/>
          </p:nvSpPr>
          <p:spPr>
            <a:xfrm flipH="1" flipV="1">
              <a:off x="3048120" y="289548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B2B03-3D48-4EDD-8A9F-F8D840338B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" dur="1" fill="hold"/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B8A6-FB8B-4AD1-9F7F-975BE45B5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7816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Previous program withou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cl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16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317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6: fig07_0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320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n-friend/non-member functions cannot ac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vate data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326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329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332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335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338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341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344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347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350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() { x = 0; }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353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x &lt;&lt; endl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356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359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362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365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368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unction tries to modify private data of Coun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371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but cannot because it is not a friend of Coun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374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annot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377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380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ERROR: 'Count::x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383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386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389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392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395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398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401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annotSetX( counter, 3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nnotSetX is not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404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407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Group 106"/>
          <p:cNvGrpSpPr/>
          <p:nvPr/>
        </p:nvGrpSpPr>
        <p:grpSpPr>
          <a:xfrm>
            <a:off x="1523520" y="1295280"/>
            <a:ext cx="4725000" cy="2895840"/>
            <a:chOff x="1523520" y="1295280"/>
            <a:chExt cx="4725000" cy="2895840"/>
          </a:xfrm>
        </p:grpSpPr>
        <p:sp>
          <p:nvSpPr>
            <p:cNvPr id="410" name="Text Box 98"/>
            <p:cNvSpPr/>
            <p:nvPr/>
          </p:nvSpPr>
          <p:spPr>
            <a:xfrm>
              <a:off x="3200400" y="12952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nnot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 It cannot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01"/>
            <p:cNvSpPr/>
            <p:nvPr/>
          </p:nvSpPr>
          <p:spPr>
            <a:xfrm flipH="1">
              <a:off x="1523520" y="1676520"/>
              <a:ext cx="167652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Group 105"/>
          <p:cNvGrpSpPr/>
          <p:nvPr/>
        </p:nvGrpSpPr>
        <p:grpSpPr>
          <a:xfrm>
            <a:off x="990360" y="3352320"/>
            <a:ext cx="5486760" cy="2819880"/>
            <a:chOff x="990360" y="3352320"/>
            <a:chExt cx="5486760" cy="2819880"/>
          </a:xfrm>
        </p:grpSpPr>
        <p:sp>
          <p:nvSpPr>
            <p:cNvPr id="413" name="Text Box 99"/>
            <p:cNvSpPr/>
            <p:nvPr/>
          </p:nvSpPr>
          <p:spPr>
            <a:xfrm>
              <a:off x="3962520" y="51814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nnot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ries to modify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02"/>
            <p:cNvSpPr/>
            <p:nvPr/>
          </p:nvSpPr>
          <p:spPr>
            <a:xfrm flipH="1">
              <a:off x="2285640" y="5562720"/>
              <a:ext cx="1676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03"/>
            <p:cNvSpPr/>
            <p:nvPr/>
          </p:nvSpPr>
          <p:spPr>
            <a:xfrm flipH="1" flipV="1">
              <a:off x="1371240" y="4952880"/>
              <a:ext cx="2590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04"/>
            <p:cNvSpPr/>
            <p:nvPr/>
          </p:nvSpPr>
          <p:spPr>
            <a:xfrm flipH="1" flipV="1">
              <a:off x="990360" y="3352320"/>
              <a:ext cx="29718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D133-6F04-420E-9429-5DD4C2CC13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" dur="1" fill="hold"/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94B8-8611-4A96-9C64-620213D1A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0" y="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g07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books\2000\cpphtp3\examples\Ch07\Fig07_06\Fig07_06.cpp(22)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 C2248: 'x' : cannot access private member declared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'Coun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books\2000\cpphtp3\examples\Ch07\Fig07_06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g07_06.cpp(15) : see declaration of 'x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.exe - 1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7"/>
          <p:cNvGrpSpPr/>
          <p:nvPr/>
        </p:nvGrpSpPr>
        <p:grpSpPr>
          <a:xfrm>
            <a:off x="2362320" y="990360"/>
            <a:ext cx="3886200" cy="1800000"/>
            <a:chOff x="2362320" y="990360"/>
            <a:chExt cx="3886200" cy="1800000"/>
          </a:xfrm>
        </p:grpSpPr>
        <p:sp>
          <p:nvSpPr>
            <p:cNvPr id="421" name="Text Box 5"/>
            <p:cNvSpPr/>
            <p:nvPr/>
          </p:nvSpPr>
          <p:spPr>
            <a:xfrm>
              <a:off x="3200400" y="220968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ected compiler error - cannot acces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v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6"/>
            <p:cNvSpPr/>
            <p:nvPr/>
          </p:nvSpPr>
          <p:spPr>
            <a:xfrm flipH="1" flipV="1">
              <a:off x="2362320" y="99036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1E12-0AA6-4AB6-A452-5E2C5D655B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15E7-E56C-499A-A62F-F6CA46118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objects to access their own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part of the object itsel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first argument on non-static member function call to the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reference member data 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ype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er depends upon the type of the object and whether the member function us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non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* con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is has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 Employee * con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1C18-6088-4FEC-B31E-6A02B3B076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member function print data me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-&gt;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*this )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returns a reference pointer to the sam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return *this;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functions can operate on tha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do not return references must be called 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5A45-9EBE-4910-944D-F46A6065AE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D7E3-64C5-4BF6-8EBC-BDC212D26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Minu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Seco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ll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ference to an obje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obj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Hour(1)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Hour(1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ference to object) and the expression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Minute(2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reference and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Second(3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reference and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no eff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E192-E1FE-4B59-A88E-0C6E13E6F3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28T20:38:17Z</dcterms:modified>
  <cp:revision>491</cp:revision>
  <dc:subject/>
  <dc:title>Chapter 1 – Introduction to Computers and C++ Programming</dc:title>
</cp:coreProperties>
</file>