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012A-0DC1-484A-A6AB-74487FF65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D9AF-A9E6-456C-A7FF-B38AE6AB5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E6D9-C9D5-47C3-BFF4-5747007FE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8C54-DDDB-4AEF-8727-5A40B8FC1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4502-E303-45D3-BB3B-BAAA04B0B8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F17F-AF4E-475C-AE90-7E4D77F228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EDE1-A05C-412E-8663-2019BFA881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6678-4A78-4B5D-9339-0A0B88EA43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6A01-840D-494A-ACFF-74B48BF32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7AA5-AD59-4251-A166-A02E5E0F1C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3A722-7DE1-47CC-B096-6FA0870CD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5B56-CBF3-4093-9C71-FD5595FAD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308D-3D96-4D5B-8274-ABB8EE7C22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AC06-D613-4745-A70B-194B1D7492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4D48-23D8-4BF7-894E-B77DD0D958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68BF-A6EC-43D5-8C0E-2401AFB461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4346-C0F5-4092-A43F-0019D60DE6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D011-7AA2-41B2-BF3A-650217A5D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6B7C-E50B-424B-BAE4-2C3F50D63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A5EC-2D1D-4471-AC15-ED60BF1AB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4D91-0F7C-4C95-928C-99FA0CDB6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49A5-D90F-4B04-BF17-673EE1958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8BF6-8C4C-431B-899A-1C3CB3B84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7AC8-B480-4615-89BE-1836B54AE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CB6B-2178-4E1E-A93C-0FC28CF36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8C40-5443-4B32-8249-FF7ABDF2C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8168-0EA2-49B1-BF9A-155932D83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 6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5800" y="1347840"/>
            <a:ext cx="807732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perator Functions as Class Members vs. as frie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Unary Operators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Binary Operators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Stream-Insertion and Stream-Extraction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++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--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Case Study: A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 Clas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4D33-54A2-44F6-B0D7-AC6798C00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Get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ssign to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15" name="Group 4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216" name="Rectangle 5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6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"(" &lt;&lt; num.areaCode &lt;&lt; ")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7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219" name="Rectangle 8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9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num.exchange &lt;&lt; "-" &lt;&lt; num.li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0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222" name="Rectangle 11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12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out &lt;&lt; a &lt;&lt; b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13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225" name="Rectangle 14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5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16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228" name="Rectangle 17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18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19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231" name="Rectangle 20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21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22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234" name="Rectangle 23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24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5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237" name="Rectangle 26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27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28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240" name="Rectangle 29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30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areaCod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area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31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243" name="Rectangle 32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33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 2 )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skip ) an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4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246" name="Rectangle 35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36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exchang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exch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37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249" name="Rectangle 38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9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dash (-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40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252" name="Rectangle 41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42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5 ) &gt;&gt; num.lin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43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255" name="Rectangle 44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45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Group 46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258" name="Rectangle 47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48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49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261" name="Rectangle 50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51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52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264" name="Rectangle 53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54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55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267" name="Rectangle 56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57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58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270" name="Rectangle 59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60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honeNumber phon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object 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61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273" name="Rectangle 62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63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64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276" name="Rectangle 65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66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phone number in the form (123) 456-7890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67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279" name="Rectangle 68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69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70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282" name="Rectangle 71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72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in &gt;&gt; phone invokes operator&gt;&gt; function b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73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285" name="Rectangle 74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75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gt;&gt;( cin, phone 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76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288" name="Rectangle 77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78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pho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79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291" name="Rectangle 80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81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82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294" name="Rectangle 83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84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ut &lt;&lt; phone invokes operator&lt;&lt; function 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85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297" name="Rectangle 86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87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lt;&lt;( cout, phone )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88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300" name="Rectangle 89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90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phone number entered was: " &lt;&lt; phon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91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303" name="Rectangle 92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93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94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306" name="Rectangle 95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96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Group 100"/>
          <p:cNvGrpSpPr/>
          <p:nvPr/>
        </p:nvGrpSpPr>
        <p:grpSpPr>
          <a:xfrm>
            <a:off x="1905120" y="1371600"/>
            <a:ext cx="6324480" cy="4038480"/>
            <a:chOff x="1905120" y="1371600"/>
            <a:chExt cx="6324480" cy="4038480"/>
          </a:xfrm>
        </p:grpSpPr>
        <p:sp>
          <p:nvSpPr>
            <p:cNvPr id="309" name="Text Box 97"/>
            <p:cNvSpPr/>
            <p:nvPr/>
          </p:nvSpPr>
          <p:spPr>
            <a:xfrm>
              <a:off x="5029200" y="2362320"/>
              <a:ext cx="3200400" cy="2062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 &gt;&g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&gt;&gt;(cin, phone)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98"/>
            <p:cNvSpPr/>
            <p:nvPr/>
          </p:nvSpPr>
          <p:spPr>
            <a:xfrm flipH="1" flipV="1">
              <a:off x="2895120" y="1371600"/>
              <a:ext cx="21337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99"/>
            <p:cNvSpPr/>
            <p:nvPr/>
          </p:nvSpPr>
          <p:spPr>
            <a:xfrm flipH="1">
              <a:off x="1905120" y="2743200"/>
              <a:ext cx="312408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9F4F-67B6-4D58-AACA-053541EE9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/post incrementing/decrement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ed to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inguishing between pre and po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 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;      // for ++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 for postincrementing ex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;   // for d1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ummy value to make the argument list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rator+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able from the argument list 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+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vantGarde"/>
              </a:rPr>
              <a:t>Date Class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operator&lt;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operator+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unary operator 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st 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5F48-E6E6-45DC-A7FE-8FCD4F2CE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4AB9-C8D3-41E8-9047-DA8B9E108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21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322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325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328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331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334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337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343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346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349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352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355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358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361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364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&amp;operator++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367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post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370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days, modif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373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376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end of mont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379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382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385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388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391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394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397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s[]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 of days per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400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helpIncreme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403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406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409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3C70-2A2C-497F-97F9-046E3699B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ys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reinc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14" name="Group 4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415" name="Rectangle 5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Rectangle 6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7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418" name="Rectangle 8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Rectangle 9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421" name="Rectangle 11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Rectangle 12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13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424" name="Rectangle 14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15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16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427" name="Rectangle 17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18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19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430" name="Rectangle 20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21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member at file scop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22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433" name="Rectangle 23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24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ne class-wide cop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25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436" name="Rectangle 26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27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days[] = { 0, 31, 28, 31, 30, 31, 3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439" name="Rectangle 29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30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31, 31, 30, 31, 30, 31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31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442" name="Rectangle 32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33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34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445" name="Rectangle 35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36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at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7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448" name="Rectangle 38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9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{ setDate( m, d, y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40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451" name="Rectangle 41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42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43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454" name="Rectangle 44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45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46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457" name="Rectangle 47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48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49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460" name="Rectangle 50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51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52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463" name="Rectangle 53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54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month = ( mm &gt;= 1 &amp;&amp; mm &lt;= 12 ) ? mm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55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466" name="Rectangle 56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57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year = ( yy &gt;= 1900 &amp;&amp; yy &lt;= 2100 ) ? yy : 19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58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469" name="Rectangle 59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60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61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472" name="Rectangle 62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63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for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64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475" name="Rectangle 65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66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67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478" name="Rectangle 68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69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29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70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481" name="Rectangle 71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72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73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484" name="Rectangle 74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5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days[ month ]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76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487" name="Rectangle 77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8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9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490" name="Rectangle 80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81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82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493" name="Rectangle 83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84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85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496" name="Rectangle 86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87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&amp;Date::operator++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8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499" name="Rectangle 89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90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91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502" name="Rectangle 92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93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94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505" name="Rectangle 95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96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to create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97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508" name="Rectangle 98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99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00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511" name="Rectangle 101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02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921A-042A-4BC1-8302-AE1BEF70D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+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ostinc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eap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Of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1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51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st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52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e that the dummy integer parameter does not hav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52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arameter na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52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Date::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52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53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temp =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53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53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54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non-incremented, saved, temporar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54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value return; not a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54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55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55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a specific number of days to a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55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ate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dditionalDay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55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56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dditionalDay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56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56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57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57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57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58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f the year is a leap year, return tru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58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therwise, return fa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58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58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59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y % 400 == 0 || ( y % 100 != 0 &amp;&amp; y % 4 == 0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59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ru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59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60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60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60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61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he day is the end of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61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61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108"/>
          <p:cNvGrpSpPr/>
          <p:nvPr/>
        </p:nvGrpSpPr>
        <p:grpSpPr>
          <a:xfrm>
            <a:off x="2819160" y="838080"/>
            <a:ext cx="3504960" cy="657000"/>
            <a:chOff x="2819160" y="838080"/>
            <a:chExt cx="3504960" cy="657000"/>
          </a:xfrm>
        </p:grpSpPr>
        <p:sp>
          <p:nvSpPr>
            <p:cNvPr id="619" name="Line 107"/>
            <p:cNvSpPr/>
            <p:nvPr/>
          </p:nvSpPr>
          <p:spPr>
            <a:xfrm flipH="1" flipV="1">
              <a:off x="2819160" y="838080"/>
              <a:ext cx="1353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106"/>
            <p:cNvSpPr/>
            <p:nvPr/>
          </p:nvSpPr>
          <p:spPr>
            <a:xfrm>
              <a:off x="4014360" y="914400"/>
              <a:ext cx="2309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tincrement operator has a dumm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2856-52E6-496F-B035-28C9277D9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lpInc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operator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24" name="Group 4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625" name="Rectangle 5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6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7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628" name="Rectangle 8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9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29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ast day of Feb. in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10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631" name="Rectangle 11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2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13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634" name="Rectangle 14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5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days[ month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6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637" name="Rectangle 17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8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19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640" name="Rectangle 20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21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22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643" name="Rectangle 23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4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unction to help incremen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25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646" name="Rectangle 26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27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helpIncremen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28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649" name="Rectangle 29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30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31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652" name="Rectangle 32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33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&amp;&amp; month == 12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4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655" name="Rectangle 35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36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37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658" name="Rectangle 38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39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0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661" name="Rectangle 41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42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43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664" name="Rectangle 44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45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6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667" name="Rectangle 47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48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) {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end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49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670" name="Rectangle 50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51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2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673" name="Rectangle 53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54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5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676" name="Rectangle 56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7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8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60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ot end of month or year; increment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61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682" name="Rectangle 62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63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64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685" name="Rectangle 65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66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67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688" name="Rectangle 68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Rectangle 69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Group 70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691" name="Rectangle 71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72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Group 73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694" name="Rectangle 74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Rectangle 75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Group 76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697" name="Rectangle 77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Rectangle 78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79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700" name="Rectangle 80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Rectangle 81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monthName[ 13 ] = { "", "Jan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Group 82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703" name="Rectangle 83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84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February", "March", "April", "May", "Jun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85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706" name="Rectangle 86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Rectangle 87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July", "August", "September", "Octo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Group 88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709" name="Rectangle 89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Rectangle 90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91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712" name="Rectangle 92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Rectangle 93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Group 94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715" name="Rectangle 95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Rectangle 96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monthName[ d.month ] &lt;&lt; ' 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Group 97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718" name="Rectangle 98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Rectangle 99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d.day &lt;&lt; ", " &lt;&lt; d.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100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721" name="Rectangle 101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102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Group 103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724" name="Rectangle 104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Rectangle 105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Group 106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727" name="Rectangle 107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Rectangle 108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7A6E-8AD3-4F63-A836-9DDD4D0AE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32" name="Group 4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733" name="Rectangle 5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Rectangle 6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fig08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7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736" name="Rectangle 8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9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10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739" name="Rectangle 11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12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13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742" name="Rectangle 14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Rectangle 15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6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745" name="Rectangle 17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18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748" name="Rectangle 20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21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Group 22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751" name="Rectangle 23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24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25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754" name="Rectangle 26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27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28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757" name="Rectangle 29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30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31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760" name="Rectangle 32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Rectangle 33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34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763" name="Rectangle 35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36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37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766" name="Rectangle 38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39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1, d2( 12, 27, 1992 ), d3( 0, 99, 804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40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769" name="Rectangle 41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2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1 is " &lt;&lt; 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43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772" name="Rectangle 44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Rectangle 45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2 is " &lt;&lt; 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46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775" name="Rectangle 47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8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3 is " &lt;&lt; 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49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778" name="Rectangle 50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Rectangle 51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52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781" name="Rectangle 53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Rectangle 54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2 += 7 is " &lt;&lt; ( d2 += 7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5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784" name="Rectangle 56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7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58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787" name="Rectangle 59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Rectangle 60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3.setDate( 2, 28, 199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61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790" name="Rectangle 62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63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3 is " &lt;&lt; d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64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793" name="Rectangle 65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66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++d3 is " &lt;&lt; ++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67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796" name="Rectangle 68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69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70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799" name="Rectangle 71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2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4( 3, 18, 196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73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802" name="Rectangle 74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75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76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805" name="Rectangle 77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78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re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79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808" name="Rectangle 80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81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82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811" name="Rectangle 83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84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++d4 is " &lt;&lt; ++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Group 85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814" name="Rectangle 86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Rectangle 87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Group 88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817" name="Rectangle 89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Rectangle 90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Group 91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820" name="Rectangle 92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93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ost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94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823" name="Rectangle 95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96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Group 97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826" name="Rectangle 98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Rectangle 99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4++ is " &lt;&lt; d4++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100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829" name="Rectangle 101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Rectangle 102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03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832" name="Rectangle 104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Rectangle 105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106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835" name="Rectangle 107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108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09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838" name="Rectangle 110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111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Rectangle 112"/>
          <p:cNvSpPr/>
          <p:nvPr/>
        </p:nvSpPr>
        <p:spPr>
          <a:xfrm>
            <a:off x="3352680" y="1143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13"/>
          <p:cNvSpPr/>
          <p:nvPr/>
        </p:nvSpPr>
        <p:spPr>
          <a:xfrm>
            <a:off x="5199480" y="297180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14"/>
          <p:cNvSpPr/>
          <p:nvPr/>
        </p:nvSpPr>
        <p:spPr>
          <a:xfrm>
            <a:off x="4419720" y="3429000"/>
            <a:ext cx="35049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15"/>
          <p:cNvSpPr/>
          <p:nvPr/>
        </p:nvSpPr>
        <p:spPr>
          <a:xfrm>
            <a:off x="5029200" y="4114800"/>
            <a:ext cx="39625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16"/>
          <p:cNvSpPr/>
          <p:nvPr/>
        </p:nvSpPr>
        <p:spPr>
          <a:xfrm>
            <a:off x="5257800" y="5486400"/>
            <a:ext cx="3429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21A1-DD44-4647-B894-D13EDAC3C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20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8CE0-43E8-47FD-A682-0BE498239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ing C++’s operators to work with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equires great care =&gt; programs difficult to und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generates the appropriate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a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the symbol for the operator being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to overload the addi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o use an operator it must be overload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ssignment op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=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address op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&amp;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fault behavior, and may not be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2D27-B3F7-4AA8-87D2-8694C8652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Operator Overloading 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not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487692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-304920" y="1752480"/>
          <a:ext cx="9677520" cy="228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04920" y="1752480"/>
                    <a:ext cx="967752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7DE6-0070-4E9C-A3B6-9BA8A1DC1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Restrictions on Operator Overloadi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y (number of operands)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operators remain unary, and binary operators remain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have unary and binary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and binary versions can be overload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w operators can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nly existing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oading operators for built-i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ange how two integers are ad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e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D962-6256-44CC-847C-1523EA0F9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Members vs friend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vs non-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functions can be member or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ny of the assignment operator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use a 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most operand must be an object of the class (or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non-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f left operand of a different type, operator function must be a non-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if needs to access private or protected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the operator to be commut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EB33-8AFE-407A-BFE4-AC7FAFFA0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Unary Operator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overloaded with no arguments or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ould usually be implemented as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=&gt; violate the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member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non-member function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 be avoid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riend bool operator!( const String &amp;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7672-0C4D-4C00-90BA-82A5A52C1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or as a member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-static member function,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operator+=(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or as a non-member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5D7-3AD1-46CD-A4B1-BD1B54BB0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-Insertion and Stream-Extr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 case of bin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&lt;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operator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to perform input/output for user-defin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be a non-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left operand is not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ccess private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946F-7D40-4017-8B5D-3D8A333A7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9" name="Group 4"/>
            <p:cNvGrpSpPr/>
            <p:nvPr/>
          </p:nvGrpSpPr>
          <p:grpSpPr>
            <a:xfrm>
              <a:off x="0" y="0"/>
              <a:ext cx="6780960" cy="245520"/>
              <a:chOff x="0" y="0"/>
              <a:chExt cx="6780960" cy="24552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6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8.3: fig08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7"/>
            <p:cNvGrpSpPr/>
            <p:nvPr/>
          </p:nvGrpSpPr>
          <p:grpSpPr>
            <a:xfrm>
              <a:off x="0" y="245520"/>
              <a:ext cx="6780960" cy="227880"/>
              <a:chOff x="0" y="245520"/>
              <a:chExt cx="6780960" cy="227880"/>
            </a:xfrm>
          </p:grpSpPr>
          <p:sp>
            <p:nvSpPr>
              <p:cNvPr id="123" name="Rectangle 8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9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ing the stream-insertion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0"/>
            <p:cNvGrpSpPr/>
            <p:nvPr/>
          </p:nvGrpSpPr>
          <p:grpSpPr>
            <a:xfrm>
              <a:off x="0" y="473400"/>
              <a:ext cx="6780960" cy="227880"/>
              <a:chOff x="0" y="473400"/>
              <a:chExt cx="6780960" cy="227880"/>
            </a:xfrm>
          </p:grpSpPr>
          <p:sp>
            <p:nvSpPr>
              <p:cNvPr id="126" name="Rectangle 11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2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ream-extraction oper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13"/>
            <p:cNvGrpSpPr/>
            <p:nvPr/>
          </p:nvGrpSpPr>
          <p:grpSpPr>
            <a:xfrm>
              <a:off x="0" y="701640"/>
              <a:ext cx="6780960" cy="227880"/>
              <a:chOff x="0" y="701640"/>
              <a:chExt cx="6780960" cy="227880"/>
            </a:xfrm>
          </p:grpSpPr>
          <p:sp>
            <p:nvSpPr>
              <p:cNvPr id="129" name="Rectangle 14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16"/>
            <p:cNvGrpSpPr/>
            <p:nvPr/>
          </p:nvGrpSpPr>
          <p:grpSpPr>
            <a:xfrm>
              <a:off x="0" y="929520"/>
              <a:ext cx="6780960" cy="227880"/>
              <a:chOff x="0" y="929520"/>
              <a:chExt cx="6780960" cy="227880"/>
            </a:xfrm>
          </p:grpSpPr>
          <p:sp>
            <p:nvSpPr>
              <p:cNvPr id="132" name="Rectangle 17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8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19"/>
            <p:cNvGrpSpPr/>
            <p:nvPr/>
          </p:nvGrpSpPr>
          <p:grpSpPr>
            <a:xfrm>
              <a:off x="0" y="1157760"/>
              <a:ext cx="6780960" cy="227880"/>
              <a:chOff x="0" y="1157760"/>
              <a:chExt cx="6780960" cy="227880"/>
            </a:xfrm>
          </p:grpSpPr>
          <p:sp>
            <p:nvSpPr>
              <p:cNvPr id="135" name="Rectangle 20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1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22"/>
            <p:cNvGrpSpPr/>
            <p:nvPr/>
          </p:nvGrpSpPr>
          <p:grpSpPr>
            <a:xfrm>
              <a:off x="0" y="1385640"/>
              <a:ext cx="6780960" cy="227880"/>
              <a:chOff x="0" y="1385640"/>
              <a:chExt cx="6780960" cy="227880"/>
            </a:xfrm>
          </p:grpSpPr>
          <p:sp>
            <p:nvSpPr>
              <p:cNvPr id="138" name="Rectangle 23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24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5"/>
            <p:cNvGrpSpPr/>
            <p:nvPr/>
          </p:nvGrpSpPr>
          <p:grpSpPr>
            <a:xfrm>
              <a:off x="0" y="1613520"/>
              <a:ext cx="6780960" cy="227880"/>
              <a:chOff x="0" y="1613520"/>
              <a:chExt cx="6780960" cy="227880"/>
            </a:xfrm>
          </p:grpSpPr>
          <p:sp>
            <p:nvSpPr>
              <p:cNvPr id="141" name="Rectangle 26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27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28"/>
            <p:cNvGrpSpPr/>
            <p:nvPr/>
          </p:nvGrpSpPr>
          <p:grpSpPr>
            <a:xfrm>
              <a:off x="0" y="1841760"/>
              <a:ext cx="6780960" cy="227880"/>
              <a:chOff x="0" y="1841760"/>
              <a:chExt cx="6780960" cy="227880"/>
            </a:xfrm>
          </p:grpSpPr>
          <p:sp>
            <p:nvSpPr>
              <p:cNvPr id="144" name="Rectangle 29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30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31"/>
            <p:cNvGrpSpPr/>
            <p:nvPr/>
          </p:nvGrpSpPr>
          <p:grpSpPr>
            <a:xfrm>
              <a:off x="0" y="2069640"/>
              <a:ext cx="6780960" cy="227880"/>
              <a:chOff x="0" y="2069640"/>
              <a:chExt cx="6780960" cy="227880"/>
            </a:xfrm>
          </p:grpSpPr>
          <p:sp>
            <p:nvSpPr>
              <p:cNvPr id="147" name="Rectangle 32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33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34"/>
            <p:cNvGrpSpPr/>
            <p:nvPr/>
          </p:nvGrpSpPr>
          <p:grpSpPr>
            <a:xfrm>
              <a:off x="0" y="2297520"/>
              <a:ext cx="6780960" cy="227880"/>
              <a:chOff x="0" y="2297520"/>
              <a:chExt cx="6780960" cy="227880"/>
            </a:xfrm>
          </p:grpSpPr>
          <p:sp>
            <p:nvSpPr>
              <p:cNvPr id="150" name="Rectangle 35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36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37"/>
            <p:cNvGrpSpPr/>
            <p:nvPr/>
          </p:nvGrpSpPr>
          <p:grpSpPr>
            <a:xfrm>
              <a:off x="0" y="2525760"/>
              <a:ext cx="6780960" cy="227880"/>
              <a:chOff x="0" y="2525760"/>
              <a:chExt cx="6780960" cy="227880"/>
            </a:xfrm>
          </p:grpSpPr>
          <p:sp>
            <p:nvSpPr>
              <p:cNvPr id="153" name="Rectangle 38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39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40"/>
            <p:cNvGrpSpPr/>
            <p:nvPr/>
          </p:nvGrpSpPr>
          <p:grpSpPr>
            <a:xfrm>
              <a:off x="0" y="2753640"/>
              <a:ext cx="6780960" cy="227880"/>
              <a:chOff x="0" y="2753640"/>
              <a:chExt cx="6780960" cy="227880"/>
            </a:xfrm>
          </p:grpSpPr>
          <p:sp>
            <p:nvSpPr>
              <p:cNvPr id="156" name="Rectangle 41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42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43"/>
            <p:cNvGrpSpPr/>
            <p:nvPr/>
          </p:nvGrpSpPr>
          <p:grpSpPr>
            <a:xfrm>
              <a:off x="0" y="2981880"/>
              <a:ext cx="6780960" cy="227880"/>
              <a:chOff x="0" y="2981880"/>
              <a:chExt cx="6780960" cy="227880"/>
            </a:xfrm>
          </p:grpSpPr>
          <p:sp>
            <p:nvSpPr>
              <p:cNvPr id="159" name="Rectangle 44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45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46"/>
            <p:cNvGrpSpPr/>
            <p:nvPr/>
          </p:nvGrpSpPr>
          <p:grpSpPr>
            <a:xfrm>
              <a:off x="0" y="3209760"/>
              <a:ext cx="6780960" cy="227880"/>
              <a:chOff x="0" y="3209760"/>
              <a:chExt cx="6780960" cy="227880"/>
            </a:xfrm>
          </p:grpSpPr>
          <p:sp>
            <p:nvSpPr>
              <p:cNvPr id="162" name="Rectangle 47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48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49"/>
            <p:cNvGrpSpPr/>
            <p:nvPr/>
          </p:nvGrpSpPr>
          <p:grpSpPr>
            <a:xfrm>
              <a:off x="0" y="3437640"/>
              <a:ext cx="6780960" cy="227880"/>
              <a:chOff x="0" y="3437640"/>
              <a:chExt cx="6780960" cy="227880"/>
            </a:xfrm>
          </p:grpSpPr>
          <p:sp>
            <p:nvSpPr>
              <p:cNvPr id="165" name="Rectangle 50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51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52"/>
            <p:cNvGrpSpPr/>
            <p:nvPr/>
          </p:nvGrpSpPr>
          <p:grpSpPr>
            <a:xfrm>
              <a:off x="0" y="3665880"/>
              <a:ext cx="6780960" cy="227880"/>
              <a:chOff x="0" y="3665880"/>
              <a:chExt cx="6780960" cy="227880"/>
            </a:xfrm>
          </p:grpSpPr>
          <p:sp>
            <p:nvSpPr>
              <p:cNvPr id="168" name="Rectangle 53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54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55"/>
            <p:cNvGrpSpPr/>
            <p:nvPr/>
          </p:nvGrpSpPr>
          <p:grpSpPr>
            <a:xfrm>
              <a:off x="0" y="3893760"/>
              <a:ext cx="6780960" cy="227880"/>
              <a:chOff x="0" y="3893760"/>
              <a:chExt cx="6780960" cy="227880"/>
            </a:xfrm>
          </p:grpSpPr>
          <p:sp>
            <p:nvSpPr>
              <p:cNvPr id="171" name="Rectangle 56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Rectangle 57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&amp;,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58"/>
            <p:cNvGrpSpPr/>
            <p:nvPr/>
          </p:nvGrpSpPr>
          <p:grpSpPr>
            <a:xfrm>
              <a:off x="0" y="4121640"/>
              <a:ext cx="6780960" cy="227880"/>
              <a:chOff x="0" y="4121640"/>
              <a:chExt cx="6780960" cy="227880"/>
            </a:xfrm>
          </p:grpSpPr>
          <p:sp>
            <p:nvSpPr>
              <p:cNvPr id="174" name="Rectangle 59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60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61"/>
            <p:cNvGrpSpPr/>
            <p:nvPr/>
          </p:nvGrpSpPr>
          <p:grpSpPr>
            <a:xfrm>
              <a:off x="0" y="4349880"/>
              <a:ext cx="6780960" cy="227880"/>
              <a:chOff x="0" y="4349880"/>
              <a:chExt cx="6780960" cy="227880"/>
            </a:xfrm>
          </p:grpSpPr>
          <p:sp>
            <p:nvSpPr>
              <p:cNvPr id="177" name="Rectangle 62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63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64"/>
            <p:cNvGrpSpPr/>
            <p:nvPr/>
          </p:nvGrpSpPr>
          <p:grpSpPr>
            <a:xfrm>
              <a:off x="0" y="4577760"/>
              <a:ext cx="6780960" cy="227880"/>
              <a:chOff x="0" y="4577760"/>
              <a:chExt cx="6780960" cy="227880"/>
            </a:xfrm>
          </p:grpSpPr>
          <p:sp>
            <p:nvSpPr>
              <p:cNvPr id="180" name="Rectangle 65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66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eaCod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area cod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67"/>
            <p:cNvGrpSpPr/>
            <p:nvPr/>
          </p:nvGrpSpPr>
          <p:grpSpPr>
            <a:xfrm>
              <a:off x="0" y="4806000"/>
              <a:ext cx="6780960" cy="227880"/>
              <a:chOff x="0" y="4806000"/>
              <a:chExt cx="6780960" cy="227880"/>
            </a:xfrm>
          </p:grpSpPr>
          <p:sp>
            <p:nvSpPr>
              <p:cNvPr id="183" name="Rectangle 68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69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xchang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exchang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Group 70"/>
            <p:cNvGrpSpPr/>
            <p:nvPr/>
          </p:nvGrpSpPr>
          <p:grpSpPr>
            <a:xfrm>
              <a:off x="0" y="5033880"/>
              <a:ext cx="6780960" cy="227880"/>
              <a:chOff x="0" y="5033880"/>
              <a:chExt cx="6780960" cy="227880"/>
            </a:xfrm>
          </p:grpSpPr>
          <p:sp>
            <p:nvSpPr>
              <p:cNvPr id="186" name="Rectangle 71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2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ine[ 5 ]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-digit lin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73"/>
            <p:cNvGrpSpPr/>
            <p:nvPr/>
          </p:nvGrpSpPr>
          <p:grpSpPr>
            <a:xfrm>
              <a:off x="0" y="5261760"/>
              <a:ext cx="6780960" cy="227880"/>
              <a:chOff x="0" y="5261760"/>
              <a:chExt cx="6780960" cy="227880"/>
            </a:xfrm>
          </p:grpSpPr>
          <p:sp>
            <p:nvSpPr>
              <p:cNvPr id="189" name="Rectangle 74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75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76"/>
            <p:cNvGrpSpPr/>
            <p:nvPr/>
          </p:nvGrpSpPr>
          <p:grpSpPr>
            <a:xfrm>
              <a:off x="0" y="5490000"/>
              <a:ext cx="6780960" cy="227880"/>
              <a:chOff x="0" y="5490000"/>
              <a:chExt cx="6780960" cy="227880"/>
            </a:xfrm>
          </p:grpSpPr>
          <p:sp>
            <p:nvSpPr>
              <p:cNvPr id="192" name="Rectangle 77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78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79"/>
            <p:cNvGrpSpPr/>
            <p:nvPr/>
          </p:nvGrpSpPr>
          <p:grpSpPr>
            <a:xfrm>
              <a:off x="0" y="5717880"/>
              <a:ext cx="6780960" cy="227880"/>
              <a:chOff x="0" y="5717880"/>
              <a:chExt cx="6780960" cy="227880"/>
            </a:xfrm>
          </p:grpSpPr>
          <p:sp>
            <p:nvSpPr>
              <p:cNvPr id="195" name="Rectangle 80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81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tream-insertion operator (cannot b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82"/>
            <p:cNvGrpSpPr/>
            <p:nvPr/>
          </p:nvGrpSpPr>
          <p:grpSpPr>
            <a:xfrm>
              <a:off x="0" y="5946120"/>
              <a:ext cx="6780960" cy="227880"/>
              <a:chOff x="0" y="5946120"/>
              <a:chExt cx="6780960" cy="227880"/>
            </a:xfrm>
          </p:grpSpPr>
          <p:sp>
            <p:nvSpPr>
              <p:cNvPr id="198" name="Rectangle 83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84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member function if we would like to invoke i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85"/>
            <p:cNvGrpSpPr/>
            <p:nvPr/>
          </p:nvGrpSpPr>
          <p:grpSpPr>
            <a:xfrm>
              <a:off x="0" y="6174000"/>
              <a:ext cx="6780960" cy="227880"/>
              <a:chOff x="0" y="6174000"/>
              <a:chExt cx="6780960" cy="227880"/>
            </a:xfrm>
          </p:grpSpPr>
          <p:sp>
            <p:nvSpPr>
              <p:cNvPr id="201" name="Rectangle 86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87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t &lt;&lt; somePhoneNumber;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88"/>
            <p:cNvGrpSpPr/>
            <p:nvPr/>
          </p:nvGrpSpPr>
          <p:grpSpPr>
            <a:xfrm>
              <a:off x="0" y="6401880"/>
              <a:ext cx="6780960" cy="227880"/>
              <a:chOff x="0" y="6401880"/>
              <a:chExt cx="6780960" cy="227880"/>
            </a:xfrm>
          </p:grpSpPr>
          <p:sp>
            <p:nvSpPr>
              <p:cNvPr id="204" name="Rectangle 89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91"/>
            <p:cNvGrpSpPr/>
            <p:nvPr/>
          </p:nvGrpSpPr>
          <p:grpSpPr>
            <a:xfrm>
              <a:off x="0" y="6630120"/>
              <a:ext cx="6780960" cy="227880"/>
              <a:chOff x="0" y="6630120"/>
              <a:chExt cx="6780960" cy="227880"/>
            </a:xfrm>
          </p:grpSpPr>
          <p:sp>
            <p:nvSpPr>
              <p:cNvPr id="207" name="Rectangle 92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96"/>
          <p:cNvGrpSpPr/>
          <p:nvPr/>
        </p:nvGrpSpPr>
        <p:grpSpPr>
          <a:xfrm>
            <a:off x="3809880" y="2362320"/>
            <a:ext cx="4419720" cy="1295280"/>
            <a:chOff x="3809880" y="2362320"/>
            <a:chExt cx="4419720" cy="1295280"/>
          </a:xfrm>
        </p:grpSpPr>
        <p:sp>
          <p:nvSpPr>
            <p:cNvPr id="210" name="Text Box 94"/>
            <p:cNvSpPr/>
            <p:nvPr/>
          </p:nvSpPr>
          <p:spPr>
            <a:xfrm>
              <a:off x="4876920" y="2362320"/>
              <a:ext cx="3352680" cy="951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y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95"/>
            <p:cNvSpPr/>
            <p:nvPr/>
          </p:nvSpPr>
          <p:spPr>
            <a:xfrm flipH="1">
              <a:off x="3809880" y="274320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7:07:17Z</dcterms:created>
  <dc:creator>jason</dc:creator>
  <dc:description/>
  <dc:language>en-US</dc:language>
  <cp:lastModifiedBy>Marcoma'</cp:lastModifiedBy>
  <dcterms:modified xsi:type="dcterms:W3CDTF">2008-05-09T09:29:56Z</dcterms:modified>
  <cp:revision>454</cp:revision>
  <dc:subject/>
  <dc:title>Chapter 1 – Introduction to Computers and C++ Programming</dc:title>
</cp:coreProperties>
</file>