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03AAF-349B-4227-9D8D-9ADECB346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8F51E-15E1-4F1B-8D27-152890132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4034-6CBF-499B-BCFA-DFE065669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5CE3-75DC-4F9C-A630-161FE2262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3FF6D-1F16-456D-9E46-8B0F06F306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5D2F0-31E1-4096-9DFA-90EB1BC20B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A3558-CD32-499B-9E50-F6D6451D09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69D30-BC0D-4822-9A97-1FCFC5D2C0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A6424-89EE-4370-85D5-6CB1108D66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2083F-4CB2-4E4A-A638-9FCFECA809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46B8D-0E8A-45C9-943A-82AEE1DBCC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0F0F3-F9E8-41CD-97E2-C17127CD4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B2EAC-2667-4166-9956-48579B034A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71BF1-8655-4529-B350-F6F8DB2198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59D2D-44AA-4B19-B723-7BC7826688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0D9DE-D6BD-4B88-88C7-6E10B6A6D0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2F044-23FB-433C-BDFE-1FF440C784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2BA2-2E40-4EFD-976F-80D99BF50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F7827-03C4-4922-9403-3D46AF3C1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93BD-B037-48F5-B4D6-1CDEC36B5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E32E-FB27-4B8B-A9FD-F2FF017BE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E3A37-A25C-40FE-9278-361DDB9A5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D3FA-8040-4425-8DC5-B300F0FA8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1F72-72D8-4692-B9EC-A870B9323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F8D4-4304-4718-A7E9-25C8DA224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34D4-D0B3-4B38-B868-0E9F05ECC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sson 7 - Templat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Rectangle 42"/>
          <p:cNvSpPr/>
          <p:nvPr/>
        </p:nvSpPr>
        <p:spPr>
          <a:xfrm>
            <a:off x="457200" y="1143000"/>
            <a:ext cx="8077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emplates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verloading Template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lass Templat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lass Templates and Non-type Paramet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emplates and friend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emplates and static Memb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Group 81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338" name="Group 30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339" name="Rectangle 29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Rectangle 4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Group 32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342" name="Rectangle 31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Rectangle 5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ush an element onto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Group 34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345" name="Rectangle 33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Rectangle 6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1 if successful, 0 otherwi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Group 36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348" name="Rectangle 35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Rectangle 7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Group 38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351" name="Rectangle 37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Rectangle 8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ack&lt; T &gt;::push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amp;pushValu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Group 40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354" name="Rectangle 39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Rectangle 9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42"/>
            <p:cNvGrpSpPr/>
            <p:nvPr/>
          </p:nvGrpSpPr>
          <p:grpSpPr>
            <a:xfrm>
              <a:off x="0" y="1645560"/>
              <a:ext cx="6780960" cy="274320"/>
              <a:chOff x="0" y="1645560"/>
              <a:chExt cx="6780960" cy="274320"/>
            </a:xfrm>
          </p:grpSpPr>
          <p:sp>
            <p:nvSpPr>
              <p:cNvPr id="357" name="Rectangle 41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Rectangle 10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!isFull()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Group 44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360" name="Rectangle 43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11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stackPtr[ ++top ] = pushValue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place item in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46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363" name="Rectangle 45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Rectangle 12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ru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ush successfu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48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366" name="Rectangle 47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Rectangle 13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50"/>
            <p:cNvGrpSpPr/>
            <p:nvPr/>
          </p:nvGrpSpPr>
          <p:grpSpPr>
            <a:xfrm>
              <a:off x="0" y="2743200"/>
              <a:ext cx="6780960" cy="274320"/>
              <a:chOff x="0" y="2743200"/>
              <a:chExt cx="6780960" cy="274320"/>
            </a:xfrm>
          </p:grpSpPr>
          <p:sp>
            <p:nvSpPr>
              <p:cNvPr id="369" name="Rectangle 49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Rectangle 14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a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ush unsuccessfu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52"/>
            <p:cNvGrpSpPr/>
            <p:nvPr/>
          </p:nvGrpSpPr>
          <p:grpSpPr>
            <a:xfrm>
              <a:off x="0" y="3017520"/>
              <a:ext cx="6780960" cy="273960"/>
              <a:chOff x="0" y="3017520"/>
              <a:chExt cx="6780960" cy="273960"/>
            </a:xfrm>
          </p:grpSpPr>
          <p:sp>
            <p:nvSpPr>
              <p:cNvPr id="372" name="Rectangle 51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Rectangle 15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54"/>
            <p:cNvGrpSpPr/>
            <p:nvPr/>
          </p:nvGrpSpPr>
          <p:grpSpPr>
            <a:xfrm>
              <a:off x="0" y="3291840"/>
              <a:ext cx="6780960" cy="273960"/>
              <a:chOff x="0" y="3291840"/>
              <a:chExt cx="6780960" cy="273960"/>
            </a:xfrm>
          </p:grpSpPr>
          <p:sp>
            <p:nvSpPr>
              <p:cNvPr id="375" name="Rectangle 53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Rectangle 16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56"/>
            <p:cNvGrpSpPr/>
            <p:nvPr/>
          </p:nvGrpSpPr>
          <p:grpSpPr>
            <a:xfrm>
              <a:off x="0" y="3566160"/>
              <a:ext cx="6780960" cy="273960"/>
              <a:chOff x="0" y="3566160"/>
              <a:chExt cx="6780960" cy="273960"/>
            </a:xfrm>
          </p:grpSpPr>
          <p:sp>
            <p:nvSpPr>
              <p:cNvPr id="378" name="Rectangle 55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17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op an element off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58"/>
            <p:cNvGrpSpPr/>
            <p:nvPr/>
          </p:nvGrpSpPr>
          <p:grpSpPr>
            <a:xfrm>
              <a:off x="0" y="3840480"/>
              <a:ext cx="6780960" cy="274320"/>
              <a:chOff x="0" y="3840480"/>
              <a:chExt cx="6780960" cy="274320"/>
            </a:xfrm>
          </p:grpSpPr>
          <p:sp>
            <p:nvSpPr>
              <p:cNvPr id="381" name="Rectangle 57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18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gt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Group 60"/>
            <p:cNvGrpSpPr/>
            <p:nvPr/>
          </p:nvGrpSpPr>
          <p:grpSpPr>
            <a:xfrm>
              <a:off x="0" y="4114800"/>
              <a:ext cx="6780960" cy="273960"/>
              <a:chOff x="0" y="4114800"/>
              <a:chExt cx="6780960" cy="273960"/>
            </a:xfrm>
          </p:grpSpPr>
          <p:sp>
            <p:nvSpPr>
              <p:cNvPr id="384" name="Rectangle 59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9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ack&lt; T &gt;::pop( T &amp;popValu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62"/>
            <p:cNvGrpSpPr/>
            <p:nvPr/>
          </p:nvGrpSpPr>
          <p:grpSpPr>
            <a:xfrm>
              <a:off x="0" y="4389120"/>
              <a:ext cx="6780960" cy="273960"/>
              <a:chOff x="0" y="4389120"/>
              <a:chExt cx="6780960" cy="273960"/>
            </a:xfrm>
          </p:grpSpPr>
          <p:sp>
            <p:nvSpPr>
              <p:cNvPr id="387" name="Rectangle 61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20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Group 64"/>
            <p:cNvGrpSpPr/>
            <p:nvPr/>
          </p:nvGrpSpPr>
          <p:grpSpPr>
            <a:xfrm>
              <a:off x="0" y="4663440"/>
              <a:ext cx="6780960" cy="273960"/>
              <a:chOff x="0" y="4663440"/>
              <a:chExt cx="6780960" cy="273960"/>
            </a:xfrm>
          </p:grpSpPr>
          <p:sp>
            <p:nvSpPr>
              <p:cNvPr id="390" name="Rectangle 63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21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!isEmpty()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Group 66"/>
            <p:cNvGrpSpPr/>
            <p:nvPr/>
          </p:nvGrpSpPr>
          <p:grpSpPr>
            <a:xfrm>
              <a:off x="0" y="4937760"/>
              <a:ext cx="6780960" cy="273960"/>
              <a:chOff x="0" y="4937760"/>
              <a:chExt cx="6780960" cy="273960"/>
            </a:xfrm>
          </p:grpSpPr>
          <p:sp>
            <p:nvSpPr>
              <p:cNvPr id="393" name="Rectangle 65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22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popValue = stackPtr[ top-- ]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move item from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68"/>
            <p:cNvGrpSpPr/>
            <p:nvPr/>
          </p:nvGrpSpPr>
          <p:grpSpPr>
            <a:xfrm>
              <a:off x="0" y="5212080"/>
              <a:ext cx="6780960" cy="274320"/>
              <a:chOff x="0" y="5212080"/>
              <a:chExt cx="6780960" cy="274320"/>
            </a:xfrm>
          </p:grpSpPr>
          <p:sp>
            <p:nvSpPr>
              <p:cNvPr id="396" name="Rectangle 67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23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ru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op successfu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Group 70"/>
            <p:cNvGrpSpPr/>
            <p:nvPr/>
          </p:nvGrpSpPr>
          <p:grpSpPr>
            <a:xfrm>
              <a:off x="0" y="5486400"/>
              <a:ext cx="6780960" cy="273960"/>
              <a:chOff x="0" y="5486400"/>
              <a:chExt cx="6780960" cy="273960"/>
            </a:xfrm>
          </p:grpSpPr>
          <p:sp>
            <p:nvSpPr>
              <p:cNvPr id="399" name="Rectangle 69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24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Group 72"/>
            <p:cNvGrpSpPr/>
            <p:nvPr/>
          </p:nvGrpSpPr>
          <p:grpSpPr>
            <a:xfrm>
              <a:off x="0" y="5760720"/>
              <a:ext cx="6780960" cy="273960"/>
              <a:chOff x="0" y="5760720"/>
              <a:chExt cx="6780960" cy="273960"/>
            </a:xfrm>
          </p:grpSpPr>
          <p:sp>
            <p:nvSpPr>
              <p:cNvPr id="402" name="Rectangle 71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25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a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pop unsuccessfu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Group 74"/>
            <p:cNvGrpSpPr/>
            <p:nvPr/>
          </p:nvGrpSpPr>
          <p:grpSpPr>
            <a:xfrm>
              <a:off x="0" y="6035040"/>
              <a:ext cx="6780960" cy="273960"/>
              <a:chOff x="0" y="6035040"/>
              <a:chExt cx="6780960" cy="273960"/>
            </a:xfrm>
          </p:grpSpPr>
          <p:sp>
            <p:nvSpPr>
              <p:cNvPr id="405" name="Rectangle 73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26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Group 76"/>
            <p:cNvGrpSpPr/>
            <p:nvPr/>
          </p:nvGrpSpPr>
          <p:grpSpPr>
            <a:xfrm>
              <a:off x="0" y="6309360"/>
              <a:ext cx="6780960" cy="274320"/>
              <a:chOff x="0" y="6309360"/>
              <a:chExt cx="6780960" cy="274320"/>
            </a:xfrm>
          </p:grpSpPr>
          <p:sp>
            <p:nvSpPr>
              <p:cNvPr id="408" name="Rectangle 75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Rectangle 27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Group 80"/>
            <p:cNvGrpSpPr/>
            <p:nvPr/>
          </p:nvGrpSpPr>
          <p:grpSpPr>
            <a:xfrm>
              <a:off x="0" y="6583680"/>
              <a:ext cx="6780960" cy="273960"/>
              <a:chOff x="0" y="6583680"/>
              <a:chExt cx="6780960" cy="273960"/>
            </a:xfrm>
          </p:grpSpPr>
          <p:sp>
            <p:nvSpPr>
              <p:cNvPr id="411" name="Rectangle 79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2" name="Group 78"/>
              <p:cNvGrpSpPr/>
              <p:nvPr/>
            </p:nvGrpSpPr>
            <p:grpSpPr>
              <a:xfrm>
                <a:off x="0" y="6583680"/>
                <a:ext cx="6780600" cy="273960"/>
                <a:chOff x="0" y="6583680"/>
                <a:chExt cx="6780600" cy="273960"/>
              </a:xfrm>
            </p:grpSpPr>
            <p:sp>
              <p:nvSpPr>
                <p:cNvPr id="413" name="Rectangle 28"/>
                <p:cNvSpPr/>
                <p:nvPr/>
              </p:nvSpPr>
              <p:spPr>
                <a:xfrm>
                  <a:off x="0" y="6583680"/>
                  <a:ext cx="678060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Rectangle 77"/>
                <p:cNvSpPr/>
                <p:nvPr/>
              </p:nvSpPr>
              <p:spPr>
                <a:xfrm>
                  <a:off x="0" y="6583680"/>
                  <a:ext cx="678060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5" name="Group 84"/>
          <p:cNvGrpSpPr/>
          <p:nvPr/>
        </p:nvGrpSpPr>
        <p:grpSpPr>
          <a:xfrm>
            <a:off x="1980720" y="1904760"/>
            <a:ext cx="5943960" cy="1038240"/>
            <a:chOff x="1980720" y="1904760"/>
            <a:chExt cx="5943960" cy="1038240"/>
          </a:xfrm>
        </p:grpSpPr>
        <p:sp>
          <p:nvSpPr>
            <p:cNvPr id="416" name="Text Box 82"/>
            <p:cNvSpPr/>
            <p:nvPr/>
          </p:nvSpPr>
          <p:spPr>
            <a:xfrm>
              <a:off x="5029200" y="236232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st if the stack is full.  If not, push el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83"/>
            <p:cNvSpPr/>
            <p:nvPr/>
          </p:nvSpPr>
          <p:spPr>
            <a:xfrm flipH="1" flipV="1">
              <a:off x="1980720" y="1904760"/>
              <a:ext cx="3048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87"/>
          <p:cNvGrpSpPr/>
          <p:nvPr/>
        </p:nvGrpSpPr>
        <p:grpSpPr>
          <a:xfrm>
            <a:off x="2057040" y="3962520"/>
            <a:ext cx="5715360" cy="838080"/>
            <a:chOff x="2057040" y="3962520"/>
            <a:chExt cx="5715360" cy="838080"/>
          </a:xfrm>
        </p:grpSpPr>
        <p:sp>
          <p:nvSpPr>
            <p:cNvPr id="419" name="Text Box 85"/>
            <p:cNvSpPr/>
            <p:nvPr/>
          </p:nvSpPr>
          <p:spPr>
            <a:xfrm>
              <a:off x="5029200" y="396252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st if the stack is empty.  If not, pop an el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86"/>
            <p:cNvSpPr/>
            <p:nvPr/>
          </p:nvSpPr>
          <p:spPr>
            <a:xfrm flipH="1">
              <a:off x="2057040" y="4267080"/>
              <a:ext cx="297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" dur="1" fill="hold"/>
                                  <p:tgtEl>
                                    <p:spTgt spid="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Initializ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423" name="Group 4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424" name="Rectangle 5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Rectangle 6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2.3: fig12_0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Group 7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427" name="Rectangle 8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Rectangle 9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est driver for Stack templ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Group 10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430" name="Rectangle 11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Rectangle 12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Group 13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433" name="Rectangle 14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Rectangle 15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16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436" name="Rectangle 17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Rectangle 18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Group 19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439" name="Rectangle 20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Rectangle 21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2"/>
            <p:cNvGrpSpPr/>
            <p:nvPr/>
          </p:nvGrpSpPr>
          <p:grpSpPr>
            <a:xfrm>
              <a:off x="0" y="1645560"/>
              <a:ext cx="6780960" cy="274320"/>
              <a:chOff x="0" y="1645560"/>
              <a:chExt cx="6780960" cy="274320"/>
            </a:xfrm>
          </p:grpSpPr>
          <p:sp>
            <p:nvSpPr>
              <p:cNvPr id="442" name="Rectangle 23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Rectangle 24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25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445" name="Rectangle 26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Rectangle 27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28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448" name="Rectangle 29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30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tstack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31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451" name="Rectangle 32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Rectangle 33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34"/>
            <p:cNvGrpSpPr/>
            <p:nvPr/>
          </p:nvGrpSpPr>
          <p:grpSpPr>
            <a:xfrm>
              <a:off x="0" y="2743200"/>
              <a:ext cx="6780960" cy="274320"/>
              <a:chOff x="0" y="2743200"/>
              <a:chExt cx="6780960" cy="274320"/>
            </a:xfrm>
          </p:grpSpPr>
          <p:sp>
            <p:nvSpPr>
              <p:cNvPr id="454" name="Rectangle 35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Rectangle 36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37"/>
            <p:cNvGrpSpPr/>
            <p:nvPr/>
          </p:nvGrpSpPr>
          <p:grpSpPr>
            <a:xfrm>
              <a:off x="0" y="3017520"/>
              <a:ext cx="6780960" cy="273960"/>
              <a:chOff x="0" y="3017520"/>
              <a:chExt cx="6780960" cy="273960"/>
            </a:xfrm>
          </p:grpSpPr>
          <p:sp>
            <p:nvSpPr>
              <p:cNvPr id="457" name="Rectangle 38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Rectangle 39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40"/>
            <p:cNvGrpSpPr/>
            <p:nvPr/>
          </p:nvGrpSpPr>
          <p:grpSpPr>
            <a:xfrm>
              <a:off x="0" y="3291840"/>
              <a:ext cx="6780960" cy="273960"/>
              <a:chOff x="0" y="3291840"/>
              <a:chExt cx="6780960" cy="273960"/>
            </a:xfrm>
          </p:grpSpPr>
          <p:sp>
            <p:nvSpPr>
              <p:cNvPr id="460" name="Rectangle 41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42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ack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gt; doubleStack(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43"/>
            <p:cNvGrpSpPr/>
            <p:nvPr/>
          </p:nvGrpSpPr>
          <p:grpSpPr>
            <a:xfrm>
              <a:off x="0" y="3566160"/>
              <a:ext cx="6780960" cy="273960"/>
              <a:chOff x="0" y="3566160"/>
              <a:chExt cx="6780960" cy="273960"/>
            </a:xfrm>
          </p:grpSpPr>
          <p:sp>
            <p:nvSpPr>
              <p:cNvPr id="463" name="Rectangle 44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45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f = 1.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46"/>
            <p:cNvGrpSpPr/>
            <p:nvPr/>
          </p:nvGrpSpPr>
          <p:grpSpPr>
            <a:xfrm>
              <a:off x="0" y="3840480"/>
              <a:ext cx="6780960" cy="274320"/>
              <a:chOff x="0" y="3840480"/>
              <a:chExt cx="6780960" cy="274320"/>
            </a:xfrm>
          </p:grpSpPr>
          <p:sp>
            <p:nvSpPr>
              <p:cNvPr id="466" name="Rectangle 47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Rectangle 48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u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&lt; "Pushing elements onto doubleStack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Group 49"/>
            <p:cNvGrpSpPr/>
            <p:nvPr/>
          </p:nvGrpSpPr>
          <p:grpSpPr>
            <a:xfrm>
              <a:off x="0" y="4114800"/>
              <a:ext cx="6780960" cy="273960"/>
              <a:chOff x="0" y="4114800"/>
              <a:chExt cx="6780960" cy="273960"/>
            </a:xfrm>
          </p:grpSpPr>
          <p:sp>
            <p:nvSpPr>
              <p:cNvPr id="469" name="Rectangle 50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Rectangle 51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52"/>
            <p:cNvGrpSpPr/>
            <p:nvPr/>
          </p:nvGrpSpPr>
          <p:grpSpPr>
            <a:xfrm>
              <a:off x="0" y="4389120"/>
              <a:ext cx="6780960" cy="273960"/>
              <a:chOff x="0" y="4389120"/>
              <a:chExt cx="6780960" cy="273960"/>
            </a:xfrm>
          </p:grpSpPr>
          <p:sp>
            <p:nvSpPr>
              <p:cNvPr id="472" name="Rectangle 53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54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doubleStack.push( f ) ) {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uccess true retur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55"/>
            <p:cNvGrpSpPr/>
            <p:nvPr/>
          </p:nvGrpSpPr>
          <p:grpSpPr>
            <a:xfrm>
              <a:off x="0" y="4663440"/>
              <a:ext cx="6780960" cy="273960"/>
              <a:chOff x="0" y="4663440"/>
              <a:chExt cx="6780960" cy="273960"/>
            </a:xfrm>
          </p:grpSpPr>
          <p:sp>
            <p:nvSpPr>
              <p:cNvPr id="475" name="Rectangle 56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Rectangle 57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cout &lt;&lt; f &lt;&lt; ' 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8"/>
            <p:cNvGrpSpPr/>
            <p:nvPr/>
          </p:nvGrpSpPr>
          <p:grpSpPr>
            <a:xfrm>
              <a:off x="0" y="4937760"/>
              <a:ext cx="6780960" cy="273960"/>
              <a:chOff x="0" y="4937760"/>
              <a:chExt cx="6780960" cy="273960"/>
            </a:xfrm>
          </p:grpSpPr>
          <p:sp>
            <p:nvSpPr>
              <p:cNvPr id="478" name="Rectangle 59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Rectangle 60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f += 1.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61"/>
            <p:cNvGrpSpPr/>
            <p:nvPr/>
          </p:nvGrpSpPr>
          <p:grpSpPr>
            <a:xfrm>
              <a:off x="0" y="5212080"/>
              <a:ext cx="6780960" cy="274320"/>
              <a:chOff x="0" y="5212080"/>
              <a:chExt cx="6780960" cy="274320"/>
            </a:xfrm>
          </p:grpSpPr>
          <p:sp>
            <p:nvSpPr>
              <p:cNvPr id="481" name="Rectangle 62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Rectangle 63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64"/>
            <p:cNvGrpSpPr/>
            <p:nvPr/>
          </p:nvGrpSpPr>
          <p:grpSpPr>
            <a:xfrm>
              <a:off x="0" y="5486400"/>
              <a:ext cx="6780960" cy="273960"/>
              <a:chOff x="0" y="5486400"/>
              <a:chExt cx="6780960" cy="273960"/>
            </a:xfrm>
          </p:grpSpPr>
          <p:sp>
            <p:nvSpPr>
              <p:cNvPr id="484" name="Rectangle 65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66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Group 67"/>
            <p:cNvGrpSpPr/>
            <p:nvPr/>
          </p:nvGrpSpPr>
          <p:grpSpPr>
            <a:xfrm>
              <a:off x="0" y="5760720"/>
              <a:ext cx="6780960" cy="273960"/>
              <a:chOff x="0" y="5760720"/>
              <a:chExt cx="6780960" cy="273960"/>
            </a:xfrm>
          </p:grpSpPr>
          <p:sp>
            <p:nvSpPr>
              <p:cNvPr id="487" name="Rectangle 68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69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Stack is full. Cannot push " &lt;&lt; 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70"/>
            <p:cNvGrpSpPr/>
            <p:nvPr/>
          </p:nvGrpSpPr>
          <p:grpSpPr>
            <a:xfrm>
              <a:off x="0" y="6035040"/>
              <a:ext cx="6780960" cy="273960"/>
              <a:chOff x="0" y="6035040"/>
              <a:chExt cx="6780960" cy="273960"/>
            </a:xfrm>
          </p:grpSpPr>
          <p:sp>
            <p:nvSpPr>
              <p:cNvPr id="490" name="Rectangle 71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72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\nPopping elements from doubleStack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Group 73"/>
            <p:cNvGrpSpPr/>
            <p:nvPr/>
          </p:nvGrpSpPr>
          <p:grpSpPr>
            <a:xfrm>
              <a:off x="0" y="6309360"/>
              <a:ext cx="6780960" cy="274320"/>
              <a:chOff x="0" y="6309360"/>
              <a:chExt cx="6780960" cy="274320"/>
            </a:xfrm>
          </p:grpSpPr>
          <p:sp>
            <p:nvSpPr>
              <p:cNvPr id="493" name="Rectangle 74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Rectangle 75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Group 76"/>
            <p:cNvGrpSpPr/>
            <p:nvPr/>
          </p:nvGrpSpPr>
          <p:grpSpPr>
            <a:xfrm>
              <a:off x="0" y="6583680"/>
              <a:ext cx="6780960" cy="273960"/>
              <a:chOff x="0" y="6583680"/>
              <a:chExt cx="6780960" cy="273960"/>
            </a:xfrm>
          </p:grpSpPr>
          <p:sp>
            <p:nvSpPr>
              <p:cNvPr id="496" name="Rectangle 77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78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doubleStack.pop( f )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uccess true retur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8" name="Rectangle 79"/>
          <p:cNvSpPr/>
          <p:nvPr/>
        </p:nvSpPr>
        <p:spPr>
          <a:xfrm>
            <a:off x="5243040" y="3830760"/>
            <a:ext cx="31982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shing elements onto 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80"/>
          <p:cNvSpPr/>
          <p:nvPr/>
        </p:nvSpPr>
        <p:spPr>
          <a:xfrm>
            <a:off x="6070320" y="4821120"/>
            <a:ext cx="19180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1 2.2 3.3 4.4 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81"/>
          <p:cNvSpPr/>
          <p:nvPr/>
        </p:nvSpPr>
        <p:spPr>
          <a:xfrm>
            <a:off x="5349960" y="5659560"/>
            <a:ext cx="29239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full. Cannot push 6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82"/>
          <p:cNvSpPr/>
          <p:nvPr/>
        </p:nvSpPr>
        <p:spPr>
          <a:xfrm>
            <a:off x="5351040" y="6095880"/>
            <a:ext cx="31982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pping elements from 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1" dur="1" fill="hold"/>
                                  <p:tgtEl>
                                    <p:spTgt spid="5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504" name="Group 4"/>
            <p:cNvGrpSpPr/>
            <p:nvPr/>
          </p:nvGrpSpPr>
          <p:grpSpPr>
            <a:xfrm>
              <a:off x="0" y="0"/>
              <a:ext cx="6780960" cy="311400"/>
              <a:chOff x="0" y="0"/>
              <a:chExt cx="6780960" cy="311400"/>
            </a:xfrm>
          </p:grpSpPr>
          <p:sp>
            <p:nvSpPr>
              <p:cNvPr id="505" name="Rectangle 5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6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cout &lt;&lt; f &lt;&lt; ' 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Group 7"/>
            <p:cNvGrpSpPr/>
            <p:nvPr/>
          </p:nvGrpSpPr>
          <p:grpSpPr>
            <a:xfrm>
              <a:off x="0" y="311400"/>
              <a:ext cx="6780960" cy="311400"/>
              <a:chOff x="0" y="311400"/>
              <a:chExt cx="6780960" cy="311400"/>
            </a:xfrm>
          </p:grpSpPr>
          <p:sp>
            <p:nvSpPr>
              <p:cNvPr id="508" name="Rectangle 8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9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10"/>
            <p:cNvGrpSpPr/>
            <p:nvPr/>
          </p:nvGrpSpPr>
          <p:grpSpPr>
            <a:xfrm>
              <a:off x="0" y="623160"/>
              <a:ext cx="6780960" cy="311760"/>
              <a:chOff x="0" y="623160"/>
              <a:chExt cx="6780960" cy="311760"/>
            </a:xfrm>
          </p:grpSpPr>
          <p:sp>
            <p:nvSpPr>
              <p:cNvPr id="511" name="Rectangle 11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12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Stack is empty. Cannot pop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13"/>
            <p:cNvGrpSpPr/>
            <p:nvPr/>
          </p:nvGrpSpPr>
          <p:grpSpPr>
            <a:xfrm>
              <a:off x="0" y="934920"/>
              <a:ext cx="6780960" cy="311400"/>
              <a:chOff x="0" y="934920"/>
              <a:chExt cx="6780960" cy="311400"/>
            </a:xfrm>
          </p:grpSpPr>
          <p:sp>
            <p:nvSpPr>
              <p:cNvPr id="514" name="Rectangle 14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Rectangle 15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16"/>
            <p:cNvGrpSpPr/>
            <p:nvPr/>
          </p:nvGrpSpPr>
          <p:grpSpPr>
            <a:xfrm>
              <a:off x="0" y="1246680"/>
              <a:ext cx="6780960" cy="311400"/>
              <a:chOff x="0" y="1246680"/>
              <a:chExt cx="6780960" cy="311400"/>
            </a:xfrm>
          </p:grpSpPr>
          <p:sp>
            <p:nvSpPr>
              <p:cNvPr id="517" name="Rectangle 17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18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ack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gt; intStack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Group 19"/>
            <p:cNvGrpSpPr/>
            <p:nvPr/>
          </p:nvGrpSpPr>
          <p:grpSpPr>
            <a:xfrm>
              <a:off x="0" y="1558440"/>
              <a:ext cx="6780960" cy="311400"/>
              <a:chOff x="0" y="1558440"/>
              <a:chExt cx="6780960" cy="311400"/>
            </a:xfrm>
          </p:grpSpPr>
          <p:sp>
            <p:nvSpPr>
              <p:cNvPr id="520" name="Rectangle 20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21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i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22"/>
            <p:cNvGrpSpPr/>
            <p:nvPr/>
          </p:nvGrpSpPr>
          <p:grpSpPr>
            <a:xfrm>
              <a:off x="0" y="1870200"/>
              <a:ext cx="6780960" cy="311760"/>
              <a:chOff x="0" y="1870200"/>
              <a:chExt cx="6780960" cy="311760"/>
            </a:xfrm>
          </p:grpSpPr>
          <p:sp>
            <p:nvSpPr>
              <p:cNvPr id="523" name="Rectangle 23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24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Pushing elements onto intStack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25"/>
            <p:cNvGrpSpPr/>
            <p:nvPr/>
          </p:nvGrpSpPr>
          <p:grpSpPr>
            <a:xfrm>
              <a:off x="0" y="2181960"/>
              <a:ext cx="6780960" cy="311400"/>
              <a:chOff x="0" y="2181960"/>
              <a:chExt cx="6780960" cy="311400"/>
            </a:xfrm>
          </p:grpSpPr>
          <p:sp>
            <p:nvSpPr>
              <p:cNvPr id="526" name="Rectangle 26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27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28"/>
            <p:cNvGrpSpPr/>
            <p:nvPr/>
          </p:nvGrpSpPr>
          <p:grpSpPr>
            <a:xfrm>
              <a:off x="0" y="2493720"/>
              <a:ext cx="6780960" cy="311400"/>
              <a:chOff x="0" y="2493720"/>
              <a:chExt cx="6780960" cy="311400"/>
            </a:xfrm>
          </p:grpSpPr>
          <p:sp>
            <p:nvSpPr>
              <p:cNvPr id="529" name="Rectangle 29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30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intStack.push( i ) ) {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uccess true retur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31"/>
            <p:cNvGrpSpPr/>
            <p:nvPr/>
          </p:nvGrpSpPr>
          <p:grpSpPr>
            <a:xfrm>
              <a:off x="0" y="2805480"/>
              <a:ext cx="6780960" cy="311400"/>
              <a:chOff x="0" y="2805480"/>
              <a:chExt cx="6780960" cy="311400"/>
            </a:xfrm>
          </p:grpSpPr>
          <p:sp>
            <p:nvSpPr>
              <p:cNvPr id="532" name="Rectangle 32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33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cout &lt;&lt; i &lt;&lt; ' 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34"/>
            <p:cNvGrpSpPr/>
            <p:nvPr/>
          </p:nvGrpSpPr>
          <p:grpSpPr>
            <a:xfrm>
              <a:off x="0" y="3117240"/>
              <a:ext cx="6780960" cy="311760"/>
              <a:chOff x="0" y="3117240"/>
              <a:chExt cx="6780960" cy="311760"/>
            </a:xfrm>
          </p:grpSpPr>
          <p:sp>
            <p:nvSpPr>
              <p:cNvPr id="535" name="Rectangle 35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Rectangle 36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++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37"/>
            <p:cNvGrpSpPr/>
            <p:nvPr/>
          </p:nvGrpSpPr>
          <p:grpSpPr>
            <a:xfrm>
              <a:off x="0" y="3429000"/>
              <a:ext cx="6780960" cy="311400"/>
              <a:chOff x="0" y="3429000"/>
              <a:chExt cx="6780960" cy="311400"/>
            </a:xfrm>
          </p:grpSpPr>
          <p:sp>
            <p:nvSpPr>
              <p:cNvPr id="538" name="Rectangle 38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Rectangle 39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40"/>
            <p:cNvGrpSpPr/>
            <p:nvPr/>
          </p:nvGrpSpPr>
          <p:grpSpPr>
            <a:xfrm>
              <a:off x="0" y="3740760"/>
              <a:ext cx="6780960" cy="311400"/>
              <a:chOff x="0" y="3740760"/>
              <a:chExt cx="6780960" cy="311400"/>
            </a:xfrm>
          </p:grpSpPr>
          <p:sp>
            <p:nvSpPr>
              <p:cNvPr id="541" name="Rectangle 41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42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43"/>
            <p:cNvGrpSpPr/>
            <p:nvPr/>
          </p:nvGrpSpPr>
          <p:grpSpPr>
            <a:xfrm>
              <a:off x="0" y="4052520"/>
              <a:ext cx="6780960" cy="311400"/>
              <a:chOff x="0" y="4052520"/>
              <a:chExt cx="6780960" cy="311400"/>
            </a:xfrm>
          </p:grpSpPr>
          <p:sp>
            <p:nvSpPr>
              <p:cNvPr id="544" name="Rectangle 44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45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Stack is full. Cannot push " &lt;&lt; i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Group 46"/>
            <p:cNvGrpSpPr/>
            <p:nvPr/>
          </p:nvGrpSpPr>
          <p:grpSpPr>
            <a:xfrm>
              <a:off x="0" y="4363920"/>
              <a:ext cx="6780960" cy="311760"/>
              <a:chOff x="0" y="4363920"/>
              <a:chExt cx="6780960" cy="311760"/>
            </a:xfrm>
          </p:grpSpPr>
          <p:sp>
            <p:nvSpPr>
              <p:cNvPr id="547" name="Rectangle 47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48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\nPopping elements from intStack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Group 49"/>
            <p:cNvGrpSpPr/>
            <p:nvPr/>
          </p:nvGrpSpPr>
          <p:grpSpPr>
            <a:xfrm>
              <a:off x="0" y="4676040"/>
              <a:ext cx="6780960" cy="311400"/>
              <a:chOff x="0" y="4676040"/>
              <a:chExt cx="6780960" cy="311400"/>
            </a:xfrm>
          </p:grpSpPr>
          <p:sp>
            <p:nvSpPr>
              <p:cNvPr id="550" name="Rectangle 50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51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Group 52"/>
            <p:cNvGrpSpPr/>
            <p:nvPr/>
          </p:nvGrpSpPr>
          <p:grpSpPr>
            <a:xfrm>
              <a:off x="0" y="4987800"/>
              <a:ext cx="6780960" cy="311400"/>
              <a:chOff x="0" y="4987800"/>
              <a:chExt cx="6780960" cy="311400"/>
            </a:xfrm>
          </p:grpSpPr>
          <p:sp>
            <p:nvSpPr>
              <p:cNvPr id="553" name="Rectangle 53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54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intStack.pop( i )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uccess true retur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Group 55"/>
            <p:cNvGrpSpPr/>
            <p:nvPr/>
          </p:nvGrpSpPr>
          <p:grpSpPr>
            <a:xfrm>
              <a:off x="0" y="5299200"/>
              <a:ext cx="6780960" cy="311400"/>
              <a:chOff x="0" y="5299200"/>
              <a:chExt cx="6780960" cy="311400"/>
            </a:xfrm>
          </p:grpSpPr>
          <p:sp>
            <p:nvSpPr>
              <p:cNvPr id="556" name="Rectangle 56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57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cout &lt;&lt; i &lt;&lt; ' 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Group 58"/>
            <p:cNvGrpSpPr/>
            <p:nvPr/>
          </p:nvGrpSpPr>
          <p:grpSpPr>
            <a:xfrm>
              <a:off x="0" y="5610960"/>
              <a:ext cx="6780960" cy="311400"/>
              <a:chOff x="0" y="5610960"/>
              <a:chExt cx="6780960" cy="311400"/>
            </a:xfrm>
          </p:grpSpPr>
          <p:sp>
            <p:nvSpPr>
              <p:cNvPr id="559" name="Rectangle 59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60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61"/>
            <p:cNvGrpSpPr/>
            <p:nvPr/>
          </p:nvGrpSpPr>
          <p:grpSpPr>
            <a:xfrm>
              <a:off x="0" y="5922720"/>
              <a:ext cx="6780960" cy="311760"/>
              <a:chOff x="0" y="5922720"/>
              <a:chExt cx="6780960" cy="311760"/>
            </a:xfrm>
          </p:grpSpPr>
          <p:sp>
            <p:nvSpPr>
              <p:cNvPr id="562" name="Rectangle 62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63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Stack is empty. Cannot pop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64"/>
            <p:cNvGrpSpPr/>
            <p:nvPr/>
          </p:nvGrpSpPr>
          <p:grpSpPr>
            <a:xfrm>
              <a:off x="0" y="6234480"/>
              <a:ext cx="6780960" cy="311400"/>
              <a:chOff x="0" y="6234480"/>
              <a:chExt cx="6780960" cy="311400"/>
            </a:xfrm>
          </p:grpSpPr>
          <p:sp>
            <p:nvSpPr>
              <p:cNvPr id="565" name="Rectangle 65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66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67"/>
            <p:cNvGrpSpPr/>
            <p:nvPr/>
          </p:nvGrpSpPr>
          <p:grpSpPr>
            <a:xfrm>
              <a:off x="0" y="6546240"/>
              <a:ext cx="6780960" cy="311400"/>
              <a:chOff x="0" y="6546240"/>
              <a:chExt cx="6780960" cy="311400"/>
            </a:xfrm>
          </p:grpSpPr>
          <p:sp>
            <p:nvSpPr>
              <p:cNvPr id="568" name="Rectangle 68"/>
              <p:cNvSpPr/>
              <p:nvPr/>
            </p:nvSpPr>
            <p:spPr>
              <a:xfrm>
                <a:off x="0" y="65462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69"/>
              <p:cNvSpPr/>
              <p:nvPr/>
            </p:nvSpPr>
            <p:spPr>
              <a:xfrm>
                <a:off x="0" y="65462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0" name="Rectangle 70"/>
          <p:cNvSpPr/>
          <p:nvPr/>
        </p:nvSpPr>
        <p:spPr>
          <a:xfrm>
            <a:off x="2908080" y="76320"/>
            <a:ext cx="19180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5 4.4 3.3 2.2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71"/>
          <p:cNvSpPr/>
          <p:nvPr/>
        </p:nvSpPr>
        <p:spPr>
          <a:xfrm>
            <a:off x="4510440" y="609480"/>
            <a:ext cx="2558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empty. Cannot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72"/>
          <p:cNvSpPr/>
          <p:nvPr/>
        </p:nvSpPr>
        <p:spPr>
          <a:xfrm>
            <a:off x="4876920" y="1905120"/>
            <a:ext cx="29718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shing elements onto int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73"/>
          <p:cNvSpPr/>
          <p:nvPr/>
        </p:nvSpPr>
        <p:spPr>
          <a:xfrm>
            <a:off x="4343400" y="4724280"/>
            <a:ext cx="32767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pping elements from int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74"/>
          <p:cNvSpPr/>
          <p:nvPr/>
        </p:nvSpPr>
        <p:spPr>
          <a:xfrm>
            <a:off x="3517920" y="2895480"/>
            <a:ext cx="20095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 2 3 4 5 6 7 8 9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75"/>
          <p:cNvSpPr/>
          <p:nvPr/>
        </p:nvSpPr>
        <p:spPr>
          <a:xfrm>
            <a:off x="4968360" y="3983040"/>
            <a:ext cx="28324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full. Cannot push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76"/>
          <p:cNvSpPr/>
          <p:nvPr/>
        </p:nvSpPr>
        <p:spPr>
          <a:xfrm>
            <a:off x="3083040" y="5354640"/>
            <a:ext cx="20095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0 9 8 7 6 5 4 3 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77"/>
          <p:cNvSpPr/>
          <p:nvPr/>
        </p:nvSpPr>
        <p:spPr>
          <a:xfrm>
            <a:off x="4742280" y="5964120"/>
            <a:ext cx="2558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empty. Cannot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0" y="0"/>
            <a:ext cx="6781680" cy="3561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shing elements onto 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1 2.2 3.3 4.4 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full. Cannot push 6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pping elements from 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5 4.4 3.3 2.2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empty. Cannot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shing elements onto int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 2 3 4 5 6 7 8 9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full. Cannot push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pping elements from int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0 9 8 7 6 5 4 3 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empty. Cannot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Templates and Non-type Parame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type parameters in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ated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&lt; class T, int elements 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ck&lt; double, 100 &gt; mostRecentSalesFigures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s object of 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ck&lt; double, 100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ay appear in the class defin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 stackHolder[ elements ]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rray to hold stac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array at compile time, rather than dynamic allocation at execut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late classes can be overrid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mplate remains for unoverriden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frien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endships allowed between a class template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 fun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ber function of another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ir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ide definition of class templa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f1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(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late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f2( X&lt; T &gt;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2( X&lt; int &gt; &amp;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&lt; int 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ame applies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A::f3(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ber func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all template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friends (II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C&lt; T &gt;::f4( X&lt; T &gt;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&lt;float&gt;::f4( X&lt; float&gt; &amp;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X&lt;floa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lass Y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 member funct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friend with every template class made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lass Z&lt;T&gt;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&lt;floa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&lt;float&gt;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static Memb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templat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members shared between all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class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) has its own copy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bles initialized at file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template class gets its own copy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asily create a large range of related functions o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lueprint of the relate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identical operations on different data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type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statemen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specifies typ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mpl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class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class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definition follows template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n example of template fun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92" name="Group 30"/>
          <p:cNvGrpSpPr/>
          <p:nvPr/>
        </p:nvGrpSpPr>
        <p:grpSpPr>
          <a:xfrm>
            <a:off x="380880" y="1066680"/>
            <a:ext cx="4876920" cy="3200400"/>
            <a:chOff x="380880" y="1066680"/>
            <a:chExt cx="4876920" cy="3200400"/>
          </a:xfrm>
        </p:grpSpPr>
        <p:grpSp>
          <p:nvGrpSpPr>
            <p:cNvPr id="93" name="Group 13"/>
            <p:cNvGrpSpPr/>
            <p:nvPr/>
          </p:nvGrpSpPr>
          <p:grpSpPr>
            <a:xfrm>
              <a:off x="380880" y="1066680"/>
              <a:ext cx="4876920" cy="399960"/>
              <a:chOff x="380880" y="1066680"/>
              <a:chExt cx="4876920" cy="399960"/>
            </a:xfrm>
          </p:grpSpPr>
          <p:sp>
            <p:nvSpPr>
              <p:cNvPr id="94" name="Rectangle 12"/>
              <p:cNvSpPr/>
              <p:nvPr/>
            </p:nvSpPr>
            <p:spPr>
              <a:xfrm>
                <a:off x="380880" y="106668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4"/>
              <p:cNvSpPr/>
              <p:nvPr/>
            </p:nvSpPr>
            <p:spPr>
              <a:xfrm>
                <a:off x="380880" y="106668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Group 15"/>
            <p:cNvGrpSpPr/>
            <p:nvPr/>
          </p:nvGrpSpPr>
          <p:grpSpPr>
            <a:xfrm>
              <a:off x="380880" y="1466640"/>
              <a:ext cx="4876920" cy="399960"/>
              <a:chOff x="380880" y="1466640"/>
              <a:chExt cx="4876920" cy="399960"/>
            </a:xfrm>
          </p:grpSpPr>
          <p:sp>
            <p:nvSpPr>
              <p:cNvPr id="97" name="Rectangle 14"/>
              <p:cNvSpPr/>
              <p:nvPr/>
            </p:nvSpPr>
            <p:spPr>
              <a:xfrm>
                <a:off x="380880" y="146664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5"/>
              <p:cNvSpPr/>
              <p:nvPr/>
            </p:nvSpPr>
            <p:spPr>
              <a:xfrm>
                <a:off x="380880" y="146664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*arr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Group 17"/>
            <p:cNvGrpSpPr/>
            <p:nvPr/>
          </p:nvGrpSpPr>
          <p:grpSpPr>
            <a:xfrm>
              <a:off x="380880" y="1866600"/>
              <a:ext cx="4876920" cy="399960"/>
              <a:chOff x="380880" y="1866600"/>
              <a:chExt cx="4876920" cy="399960"/>
            </a:xfrm>
          </p:grpSpPr>
          <p:sp>
            <p:nvSpPr>
              <p:cNvPr id="100" name="Rectangle 16"/>
              <p:cNvSpPr/>
              <p:nvPr/>
            </p:nvSpPr>
            <p:spPr>
              <a:xfrm>
                <a:off x="380880" y="186660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6"/>
              <p:cNvSpPr/>
              <p:nvPr/>
            </p:nvSpPr>
            <p:spPr>
              <a:xfrm>
                <a:off x="380880" y="186660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19"/>
            <p:cNvGrpSpPr/>
            <p:nvPr/>
          </p:nvGrpSpPr>
          <p:grpSpPr>
            <a:xfrm>
              <a:off x="380880" y="2266920"/>
              <a:ext cx="4876920" cy="399960"/>
              <a:chOff x="380880" y="2266920"/>
              <a:chExt cx="4876920" cy="399960"/>
            </a:xfrm>
          </p:grpSpPr>
          <p:sp>
            <p:nvSpPr>
              <p:cNvPr id="103" name="Rectangle 18"/>
              <p:cNvSpPr/>
              <p:nvPr/>
            </p:nvSpPr>
            <p:spPr>
              <a:xfrm>
                <a:off x="380880" y="226692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7"/>
              <p:cNvSpPr/>
              <p:nvPr/>
            </p:nvSpPr>
            <p:spPr>
              <a:xfrm>
                <a:off x="380880" y="226692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i = 0; i &lt; count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Group 21"/>
            <p:cNvGrpSpPr/>
            <p:nvPr/>
          </p:nvGrpSpPr>
          <p:grpSpPr>
            <a:xfrm>
              <a:off x="380880" y="2666880"/>
              <a:ext cx="4876920" cy="399960"/>
              <a:chOff x="380880" y="2666880"/>
              <a:chExt cx="4876920" cy="399960"/>
            </a:xfrm>
          </p:grpSpPr>
          <p:sp>
            <p:nvSpPr>
              <p:cNvPr id="106" name="Rectangle 20"/>
              <p:cNvSpPr/>
              <p:nvPr/>
            </p:nvSpPr>
            <p:spPr>
              <a:xfrm>
                <a:off x="380880" y="266688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8"/>
              <p:cNvSpPr/>
              <p:nvPr/>
            </p:nvSpPr>
            <p:spPr>
              <a:xfrm>
                <a:off x="380880" y="266688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cout &lt;&lt; array[ i ] &lt;&lt; "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Group 23"/>
            <p:cNvGrpSpPr/>
            <p:nvPr/>
          </p:nvGrpSpPr>
          <p:grpSpPr>
            <a:xfrm>
              <a:off x="380880" y="3066840"/>
              <a:ext cx="4876920" cy="399960"/>
              <a:chOff x="380880" y="3066840"/>
              <a:chExt cx="4876920" cy="399960"/>
            </a:xfrm>
          </p:grpSpPr>
          <p:sp>
            <p:nvSpPr>
              <p:cNvPr id="109" name="Rectangle 22"/>
              <p:cNvSpPr/>
              <p:nvPr/>
            </p:nvSpPr>
            <p:spPr>
              <a:xfrm>
                <a:off x="380880" y="306684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9"/>
              <p:cNvSpPr/>
              <p:nvPr/>
            </p:nvSpPr>
            <p:spPr>
              <a:xfrm>
                <a:off x="380880" y="306684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25"/>
            <p:cNvGrpSpPr/>
            <p:nvPr/>
          </p:nvGrpSpPr>
          <p:grpSpPr>
            <a:xfrm>
              <a:off x="380880" y="3466800"/>
              <a:ext cx="4876920" cy="399960"/>
              <a:chOff x="380880" y="3466800"/>
              <a:chExt cx="4876920" cy="399960"/>
            </a:xfrm>
          </p:grpSpPr>
          <p:sp>
            <p:nvSpPr>
              <p:cNvPr id="112" name="Rectangle 24"/>
              <p:cNvSpPr/>
              <p:nvPr/>
            </p:nvSpPr>
            <p:spPr>
              <a:xfrm>
                <a:off x="380880" y="346680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10"/>
              <p:cNvSpPr/>
              <p:nvPr/>
            </p:nvSpPr>
            <p:spPr>
              <a:xfrm>
                <a:off x="380880" y="346680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29"/>
            <p:cNvGrpSpPr/>
            <p:nvPr/>
          </p:nvGrpSpPr>
          <p:grpSpPr>
            <a:xfrm>
              <a:off x="380880" y="3867120"/>
              <a:ext cx="4876920" cy="399960"/>
              <a:chOff x="380880" y="3867120"/>
              <a:chExt cx="4876920" cy="399960"/>
            </a:xfrm>
          </p:grpSpPr>
          <p:sp>
            <p:nvSpPr>
              <p:cNvPr id="115" name="Rectangle 28"/>
              <p:cNvSpPr/>
              <p:nvPr/>
            </p:nvSpPr>
            <p:spPr>
              <a:xfrm>
                <a:off x="380880" y="386712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Group 27"/>
              <p:cNvGrpSpPr/>
              <p:nvPr/>
            </p:nvGrpSpPr>
            <p:grpSpPr>
              <a:xfrm>
                <a:off x="380880" y="3867120"/>
                <a:ext cx="4876920" cy="399960"/>
                <a:chOff x="380880" y="3867120"/>
                <a:chExt cx="4876920" cy="399960"/>
              </a:xfrm>
            </p:grpSpPr>
            <p:sp>
              <p:nvSpPr>
                <p:cNvPr id="117" name="Rectangle 11"/>
                <p:cNvSpPr/>
                <p:nvPr/>
              </p:nvSpPr>
              <p:spPr>
                <a:xfrm>
                  <a:off x="380880" y="3867120"/>
                  <a:ext cx="4876920" cy="399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26"/>
                <p:cNvSpPr/>
                <p:nvPr/>
              </p:nvSpPr>
              <p:spPr>
                <a:xfrm>
                  <a:off x="380880" y="3867120"/>
                  <a:ext cx="4876920" cy="39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9" name="Text Box 32"/>
          <p:cNvSpPr/>
          <p:nvPr/>
        </p:nvSpPr>
        <p:spPr>
          <a:xfrm>
            <a:off x="228600" y="45720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Arr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228600" y="5029200"/>
            <a:ext cx="5029200" cy="140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id printArray( const int *array, const int count 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for ( int i = 0; i &lt; count; i++ 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cout &lt;&lt; array[ i ] &lt;&lt; " "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cout &lt;&lt; endl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35"/>
          <p:cNvGrpSpPr/>
          <p:nvPr/>
        </p:nvGrpSpPr>
        <p:grpSpPr>
          <a:xfrm>
            <a:off x="2971440" y="1295280"/>
            <a:ext cx="5715360" cy="1608480"/>
            <a:chOff x="2971440" y="1295280"/>
            <a:chExt cx="5715360" cy="1608480"/>
          </a:xfrm>
        </p:grpSpPr>
        <p:sp>
          <p:nvSpPr>
            <p:cNvPr id="122" name="Text Box 31"/>
            <p:cNvSpPr/>
            <p:nvPr/>
          </p:nvSpPr>
          <p:spPr>
            <a:xfrm>
              <a:off x="5486400" y="1295280"/>
              <a:ext cx="3200400" cy="1608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is the type parameter.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's type is detected and substituted inside the functio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e newly created function is compile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34"/>
            <p:cNvSpPr/>
            <p:nvPr/>
          </p:nvSpPr>
          <p:spPr>
            <a:xfrm flipH="1" flipV="1">
              <a:off x="2971440" y="1676160"/>
              <a:ext cx="25146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Function template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Call template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26" name="Group 4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27" name="Rectangle 5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6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 12.2: fig12_0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7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30" name="Rectangle 8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9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ing template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10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33" name="Rectangle 11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12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Group 13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36" name="Rectangle 14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15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Group 16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39" name="Rectangle 17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18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19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42" name="Rectangle 20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21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22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45" name="Rectangle 23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24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Group 25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48" name="Rectangle 26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27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Group 28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51" name="Rectangle 29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30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*arr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Group 31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54" name="Rectangle 32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Rectangle 33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Group 34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57" name="Rectangle 35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Rectangle 36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i = 0; i &lt; count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Group 37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60" name="Rectangle 38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Rectangle 39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cout &lt;&lt; array[ i ] &lt;&lt; "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Group 40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63" name="Rectangle 41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Rectangle 42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Group 43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66" name="Rectangle 44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Rectangle 45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Group 46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69" name="Rectangle 47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Rectangle 48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49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72" name="Rectangle 50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Rectangle 51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Group 52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75" name="Rectangle 53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Rectangle 54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55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78" name="Rectangle 56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Rectangle 57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Group 58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81" name="Rectangle 59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60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Count = 5, bCount = 7, cCount = 6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Group 61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84" name="Rectangle 62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ectangle 63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[ aCount ] = { 1, 2, 3, 4, 5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Group 64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87" name="Rectangle 65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Rectangle 66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[ bCount ] = { 1.1, 2.2, 3.3, 4.4, 5.5, 6.6, 7.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Group 67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90" name="Rectangle 68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69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[ cCount ] = "HELLO"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6th position for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70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93" name="Rectangle 71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Rectangle 72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Group 73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96" name="Rectangle 74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Rectangle 75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Array a contains: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76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99" name="Rectangle 77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78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rintArray( a, aCount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teger template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Group 79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202" name="Rectangle 80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Rectangle 81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Group 82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205" name="Rectangle 83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Rectangle 84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Array b contains: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Group 85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208" name="Rectangle 86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Rectangle 87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rintArray( b, bCount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ouble template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Group 88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211" name="Rectangle 89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Rectangle 90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Group 91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214" name="Rectangle 92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Rectangle 93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Array c contains: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Group 94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217" name="Rectangle 95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Rectangle 96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rintArray( c, cCount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haracter template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Group 97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220" name="Rectangle 98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Rectangle 99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Group 100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223" name="Rectangle 101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Rectangle 102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Group 103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226" name="Rectangle 104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Rectangle 105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08"/>
          <p:cNvGrpSpPr/>
          <p:nvPr/>
        </p:nvGrpSpPr>
        <p:grpSpPr>
          <a:xfrm>
            <a:off x="2514600" y="1904760"/>
            <a:ext cx="3809880" cy="1437120"/>
            <a:chOff x="2514600" y="1904760"/>
            <a:chExt cx="3809880" cy="1437120"/>
          </a:xfrm>
        </p:grpSpPr>
        <p:sp>
          <p:nvSpPr>
            <p:cNvPr id="229" name="Line 107"/>
            <p:cNvSpPr/>
            <p:nvPr/>
          </p:nvSpPr>
          <p:spPr>
            <a:xfrm flipH="1" flipV="1">
              <a:off x="2514600" y="1904760"/>
              <a:ext cx="9144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106"/>
            <p:cNvSpPr/>
            <p:nvPr/>
          </p:nvSpPr>
          <p:spPr>
            <a:xfrm>
              <a:off x="3352680" y="251784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how type parame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used in plac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etc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113"/>
          <p:cNvGrpSpPr/>
          <p:nvPr/>
        </p:nvGrpSpPr>
        <p:grpSpPr>
          <a:xfrm>
            <a:off x="2895480" y="5028840"/>
            <a:ext cx="5943600" cy="1143360"/>
            <a:chOff x="2895480" y="5028840"/>
            <a:chExt cx="5943600" cy="1143360"/>
          </a:xfrm>
        </p:grpSpPr>
        <p:sp>
          <p:nvSpPr>
            <p:cNvPr id="232" name="Line 110"/>
            <p:cNvSpPr/>
            <p:nvPr/>
          </p:nvSpPr>
          <p:spPr>
            <a:xfrm flipH="1" flipV="1">
              <a:off x="2895480" y="5028840"/>
              <a:ext cx="2819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11"/>
            <p:cNvSpPr/>
            <p:nvPr/>
          </p:nvSpPr>
          <p:spPr>
            <a:xfrm flipH="1">
              <a:off x="2895480" y="5334120"/>
              <a:ext cx="2819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12"/>
            <p:cNvSpPr/>
            <p:nvPr/>
          </p:nvSpPr>
          <p:spPr>
            <a:xfrm flipH="1">
              <a:off x="2971800" y="5334120"/>
              <a:ext cx="27432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09"/>
            <p:cNvSpPr/>
            <p:nvPr/>
          </p:nvSpPr>
          <p:spPr>
            <a:xfrm>
              <a:off x="5638680" y="50482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ach type array gets operated on by a different template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0" y="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ray a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 2 3 4 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ray b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1 2.2 3.3 4.4 5.5 6.6 7.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ray c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 E L L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loading Template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functions can be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d template functions have sam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uses overloading resolution to call the right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r tries to match function call with function name and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precise match, looks for function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found, compiler generates and uses template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matches or multiple matches are found, compiler gives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Templates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templ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type-specific versions of generic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 &lt;class 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Class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not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T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y identifier will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reate an object of the class,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lass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gt; myObjec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ck&lt; double &gt; doubleStac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Templates (II)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class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d normally, but precede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class 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ic data in class listed as 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late class function defin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or definition - creates an array of 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class 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Class&lt; T &gt;::MyClass(int 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Array = new T[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template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91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46" name="Group 34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247" name="Rectangle 33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4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2.3: tstack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Group 36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250" name="Rectangle 35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Rectangle 5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lass templat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Group 38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253" name="Rectangle 37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Rectangle 6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STACK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Group 40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256" name="Rectangle 39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Rectangle 7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STACK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 42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259" name="Rectangle 41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Rectangle 8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44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262" name="Rectangle 43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9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Group 46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265" name="Rectangle 45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10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ack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48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268" name="Rectangle 47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11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50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271" name="Rectangle 49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Rectangle 12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ack( int = 1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default constructor (stack size 10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52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274" name="Rectangle 51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Rectangle 13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~Stack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[] stackPtr; }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54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277" name="Rectangle 53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Rectangle 14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ush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&amp;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ush an element onto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56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280" name="Rectangle 55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Rectangle 15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p( T&amp;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op an element off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58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283" name="Rectangle 57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Rectangle 16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Group 60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286" name="Rectangle 59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Rectangle 17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ize;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# of elements in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Group 62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289" name="Rectangle 61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Rectangle 18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op;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location of the top el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Group 64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292" name="Rectangle 63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Rectangle 19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 *stackPtr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ointer to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Group 66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295" name="Rectangle 65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Rectangle 20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Group 68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298" name="Rectangle 67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Rectangle 21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sEmpty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op == -1; }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til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Group 70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301" name="Rectangle 69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Rectangle 22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sFul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op == size - 1; }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Group 72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304" name="Rectangle 71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Rectangle 23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Group 74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307" name="Rectangle 73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Rectangle 24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Group 76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310" name="Rectangle 75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Rectangle 25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with default size 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78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313" name="Rectangle 77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Rectangle 26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Group 80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316" name="Rectangle 79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Rectangle 27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tack&lt; T &gt;::Stack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Group 82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319" name="Rectangle 81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Rectangle 28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Group 84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322" name="Rectangle 83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29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ize = s &gt; 0 ? s : 10;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Group 86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325" name="Rectangle 85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Rectangle 30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op = -1;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ck is initially 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Group 88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328" name="Rectangle 87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Rectangle 31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ack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[ size ]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llocate space for ele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331" name="Rectangle 89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Rectangle 32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" name="Group 94"/>
          <p:cNvGrpSpPr/>
          <p:nvPr/>
        </p:nvGrpSpPr>
        <p:grpSpPr>
          <a:xfrm>
            <a:off x="2285640" y="4971960"/>
            <a:ext cx="5715360" cy="580680"/>
            <a:chOff x="2285640" y="4971960"/>
            <a:chExt cx="5715360" cy="580680"/>
          </a:xfrm>
        </p:grpSpPr>
        <p:sp>
          <p:nvSpPr>
            <p:cNvPr id="334" name="Text Box 92"/>
            <p:cNvSpPr/>
            <p:nvPr/>
          </p:nvSpPr>
          <p:spPr>
            <a:xfrm>
              <a:off x="4267080" y="4971960"/>
              <a:ext cx="3733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how a  member function of the class template is def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93"/>
            <p:cNvSpPr/>
            <p:nvPr/>
          </p:nvSpPr>
          <p:spPr>
            <a:xfrm flipH="1">
              <a:off x="2285640" y="53341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08:05:58Z</dcterms:created>
  <dc:creator>jason</dc:creator>
  <dc:description/>
  <dc:language>en-US</dc:language>
  <cp:lastModifiedBy>Marcoma'</cp:lastModifiedBy>
  <dcterms:modified xsi:type="dcterms:W3CDTF">2008-05-09T09:30:56Z</dcterms:modified>
  <cp:revision>450</cp:revision>
  <dc:subject/>
  <dc:title>Chapter 1 – Introduction to Computers and C++ Programming</dc:title>
</cp:coreProperties>
</file>