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48C6-16CF-4A36-8184-2DF8FF74D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D888-6994-4313-A6CF-23AA70695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B6C9-9F40-4924-A3FD-832F22E48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C5C2-53E6-47B1-A1F8-C77E69348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3AB9-453D-47EA-8C54-57E78F220F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F8DA-D5C8-45D3-8F1B-7B26DB27D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479F-8E32-4540-9344-F4AD90B482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81ED-762E-4986-A63D-666CEAFF06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B8AE-EB52-4C9A-B765-983ABD9F0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FEC6-4815-40DE-ACC9-C78F85DEB6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CB04-80D7-46A1-A382-7CE788B7A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095E-900C-4B64-8B7C-2E0811E2D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BC95-1855-47D3-828C-F9E5262F74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8B17-8B26-4617-B6A5-809CFDA85D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7A02-5A1D-4BB3-93B6-DE77D01464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68F1-2D29-4F69-BF2B-FD0CCCB797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78F3-0F02-42ED-8C3D-109B71A39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9F37-A30D-48AF-AB06-1A8F50DF9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7602-89B9-4BDA-BE57-65BA4A3A5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58E2-059D-4E61-9D1D-314869C91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43E4-2E5E-485C-A8CD-22A247535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03D0-D87A-4564-8EB1-4CE7586DD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3055-B160-42C2-8EE4-BB3F7186C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85ED-7C14-4CD9-A21D-1EB979D50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4D46-8C7E-446F-9088-9334DABF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2860-A585-4FCA-B329-12CF450E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7 - Templat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457200" y="1143000"/>
            <a:ext cx="8077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Template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 and Non-type Parame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friend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static Me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8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38" name="Group 30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39" name="Rectangle 29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4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2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5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34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45" name="Rectangle 33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1 if successful, 0 other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36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48" name="Rectangle 3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7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8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51" name="Rectangle 3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amp;push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0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54" name="Rectangle 3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4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57" name="Rectangle 41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10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Full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44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60" name="Rectangle 43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11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stackPtr[ ++top ] = pushValue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lace item in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46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63" name="Rectangle 45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12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48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66" name="Rectangle 47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0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69" name="Rectangle 49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14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52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72" name="Rectangle 51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5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54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75" name="Rectangle 53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16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6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78" name="Rectangle 5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7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58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81" name="Rectangle 5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60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84" name="Rectangle 5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op( T &amp;pop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6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87" name="Rectangle 61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20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64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90" name="Rectangle 63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21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Empty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66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93" name="Rectangle 65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22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pValue = stackPtr[ top--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move item from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68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96" name="Rectangle 67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2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70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99" name="Rectangle 69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24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72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02" name="Rectangle 71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25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op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74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05" name="Rectangle 73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6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76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08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7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80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11" name="Rectangle 79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78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413" name="Rectangle 28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77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5" name="Group 84"/>
          <p:cNvGrpSpPr/>
          <p:nvPr/>
        </p:nvGrpSpPr>
        <p:grpSpPr>
          <a:xfrm>
            <a:off x="1980720" y="1904760"/>
            <a:ext cx="5943960" cy="1038240"/>
            <a:chOff x="1980720" y="1904760"/>
            <a:chExt cx="5943960" cy="1038240"/>
          </a:xfrm>
        </p:grpSpPr>
        <p:sp>
          <p:nvSpPr>
            <p:cNvPr id="416" name="Text Box 82"/>
            <p:cNvSpPr/>
            <p:nvPr/>
          </p:nvSpPr>
          <p:spPr>
            <a:xfrm>
              <a:off x="5029200" y="23623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full.  If not, push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83"/>
            <p:cNvSpPr/>
            <p:nvPr/>
          </p:nvSpPr>
          <p:spPr>
            <a:xfrm flipH="1" flipV="1">
              <a:off x="1980720" y="1904760"/>
              <a:ext cx="3048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87"/>
          <p:cNvGrpSpPr/>
          <p:nvPr/>
        </p:nvGrpSpPr>
        <p:grpSpPr>
          <a:xfrm>
            <a:off x="2057040" y="3962520"/>
            <a:ext cx="5715360" cy="838080"/>
            <a:chOff x="2057040" y="3962520"/>
            <a:chExt cx="5715360" cy="838080"/>
          </a:xfrm>
        </p:grpSpPr>
        <p:sp>
          <p:nvSpPr>
            <p:cNvPr id="419" name="Text Box 85"/>
            <p:cNvSpPr/>
            <p:nvPr/>
          </p:nvSpPr>
          <p:spPr>
            <a:xfrm>
              <a:off x="5029200" y="3962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empty.  If not, pop an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6"/>
            <p:cNvSpPr/>
            <p:nvPr/>
          </p:nvSpPr>
          <p:spPr>
            <a:xfrm flipH="1">
              <a:off x="2057040" y="4267080"/>
              <a:ext cx="297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23" name="Group 4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24" name="Rectangle 5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6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fig12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7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27" name="Rectangle 8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9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driver for Stack tem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0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430" name="Rectangle 11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12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13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433" name="Rectangle 14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1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436" name="Rectangle 1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1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9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439" name="Rectangle 20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24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5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27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8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448" name="Rectangle 29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0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stack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1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451" name="Rectangle 32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3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34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454" name="Rectangle 35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36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37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457" name="Rectangle 38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39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0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460" name="Rectangle 41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42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doubleStack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43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463" name="Rectangle 44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4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46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466" name="Rectangle 4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4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u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&lt; "Pushing elements onto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49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469" name="Rectangle 50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51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5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472" name="Rectangle 53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54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ush( f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55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475" name="Rectangle 56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57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8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478" name="Rectangle 59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0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f +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1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481" name="Rectangle 62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6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4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484" name="Rectangle 65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66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67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87" name="Rectangle 68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9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0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72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73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93" name="Rectangle 74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76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96" name="Rectangle 77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78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op( f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Rectangle 79"/>
          <p:cNvSpPr/>
          <p:nvPr/>
        </p:nvSpPr>
        <p:spPr>
          <a:xfrm>
            <a:off x="5243040" y="3830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0"/>
          <p:cNvSpPr/>
          <p:nvPr/>
        </p:nvSpPr>
        <p:spPr>
          <a:xfrm>
            <a:off x="6070320" y="48211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"/>
          <p:cNvSpPr/>
          <p:nvPr/>
        </p:nvSpPr>
        <p:spPr>
          <a:xfrm>
            <a:off x="5349960" y="565956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2"/>
          <p:cNvSpPr/>
          <p:nvPr/>
        </p:nvSpPr>
        <p:spPr>
          <a:xfrm>
            <a:off x="5351040" y="609588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04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505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508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511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514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517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intStack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520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523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Pushing elements onto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526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529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ush( i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532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535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++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538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541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544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547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550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553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op( i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556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559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562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565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568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Rectangle 70"/>
          <p:cNvSpPr/>
          <p:nvPr/>
        </p:nvSpPr>
        <p:spPr>
          <a:xfrm>
            <a:off x="2908080" y="763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1"/>
          <p:cNvSpPr/>
          <p:nvPr/>
        </p:nvSpPr>
        <p:spPr>
          <a:xfrm>
            <a:off x="4510440" y="60948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2"/>
          <p:cNvSpPr/>
          <p:nvPr/>
        </p:nvSpPr>
        <p:spPr>
          <a:xfrm>
            <a:off x="4876920" y="1905120"/>
            <a:ext cx="2971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73"/>
          <p:cNvSpPr/>
          <p:nvPr/>
        </p:nvSpPr>
        <p:spPr>
          <a:xfrm>
            <a:off x="4343400" y="4724280"/>
            <a:ext cx="32767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74"/>
          <p:cNvSpPr/>
          <p:nvPr/>
        </p:nvSpPr>
        <p:spPr>
          <a:xfrm>
            <a:off x="3517920" y="289548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5"/>
          <p:cNvSpPr/>
          <p:nvPr/>
        </p:nvSpPr>
        <p:spPr>
          <a:xfrm>
            <a:off x="4968360" y="3983040"/>
            <a:ext cx="28324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6"/>
          <p:cNvSpPr/>
          <p:nvPr/>
        </p:nvSpPr>
        <p:spPr>
          <a:xfrm>
            <a:off x="3083040" y="535464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7"/>
          <p:cNvSpPr/>
          <p:nvPr/>
        </p:nvSpPr>
        <p:spPr>
          <a:xfrm>
            <a:off x="4742280" y="596412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-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ype parameters i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&lt; class T, int elements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&lt; double, 1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appear in the class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tackHolder[ elements 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rray to hold sta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rray at compile time, rather than dynamic allocation at execu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 classes can be overr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mplate remains for unoverride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allowed between a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definition of class templ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ame applie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3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4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&lt;float&gt;::f4( X&lt; float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friend with every template class mad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static Memb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las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 ha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emplate class get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asily create a large range of related functions o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lueprint of the relat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identical operations on different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statemen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pecifies typ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 follows templat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 example of template fun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2" name="Group 30"/>
          <p:cNvGrpSpPr/>
          <p:nvPr/>
        </p:nvGrpSpPr>
        <p:grpSpPr>
          <a:xfrm>
            <a:off x="380880" y="1066680"/>
            <a:ext cx="4876920" cy="3200400"/>
            <a:chOff x="380880" y="1066680"/>
            <a:chExt cx="4876920" cy="3200400"/>
          </a:xfrm>
        </p:grpSpPr>
        <p:grpSp>
          <p:nvGrpSpPr>
            <p:cNvPr id="93" name="Group 13"/>
            <p:cNvGrpSpPr/>
            <p:nvPr/>
          </p:nvGrpSpPr>
          <p:grpSpPr>
            <a:xfrm>
              <a:off x="380880" y="1066680"/>
              <a:ext cx="4876920" cy="399960"/>
              <a:chOff x="380880" y="1066680"/>
              <a:chExt cx="4876920" cy="399960"/>
            </a:xfrm>
          </p:grpSpPr>
          <p:sp>
            <p:nvSpPr>
              <p:cNvPr id="94" name="Rectangle 12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4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5"/>
            <p:cNvGrpSpPr/>
            <p:nvPr/>
          </p:nvGrpSpPr>
          <p:grpSpPr>
            <a:xfrm>
              <a:off x="380880" y="1466640"/>
              <a:ext cx="4876920" cy="399960"/>
              <a:chOff x="380880" y="1466640"/>
              <a:chExt cx="4876920" cy="399960"/>
            </a:xfrm>
          </p:grpSpPr>
          <p:sp>
            <p:nvSpPr>
              <p:cNvPr id="97" name="Rectangle 14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5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17"/>
            <p:cNvGrpSpPr/>
            <p:nvPr/>
          </p:nvGrpSpPr>
          <p:grpSpPr>
            <a:xfrm>
              <a:off x="380880" y="1866600"/>
              <a:ext cx="4876920" cy="399960"/>
              <a:chOff x="380880" y="1866600"/>
              <a:chExt cx="4876920" cy="399960"/>
            </a:xfrm>
          </p:grpSpPr>
          <p:sp>
            <p:nvSpPr>
              <p:cNvPr id="100" name="Rectangle 1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9"/>
            <p:cNvGrpSpPr/>
            <p:nvPr/>
          </p:nvGrpSpPr>
          <p:grpSpPr>
            <a:xfrm>
              <a:off x="380880" y="2266920"/>
              <a:ext cx="4876920" cy="399960"/>
              <a:chOff x="380880" y="2266920"/>
              <a:chExt cx="4876920" cy="399960"/>
            </a:xfrm>
          </p:grpSpPr>
          <p:sp>
            <p:nvSpPr>
              <p:cNvPr id="103" name="Rectangle 18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7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21"/>
            <p:cNvGrpSpPr/>
            <p:nvPr/>
          </p:nvGrpSpPr>
          <p:grpSpPr>
            <a:xfrm>
              <a:off x="380880" y="2666880"/>
              <a:ext cx="4876920" cy="399960"/>
              <a:chOff x="380880" y="2666880"/>
              <a:chExt cx="4876920" cy="399960"/>
            </a:xfrm>
          </p:grpSpPr>
          <p:sp>
            <p:nvSpPr>
              <p:cNvPr id="106" name="Rectangle 20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380880" y="3066840"/>
              <a:ext cx="4876920" cy="399960"/>
              <a:chOff x="380880" y="3066840"/>
              <a:chExt cx="4876920" cy="399960"/>
            </a:xfrm>
          </p:grpSpPr>
          <p:sp>
            <p:nvSpPr>
              <p:cNvPr id="109" name="Rectangle 22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5"/>
            <p:cNvGrpSpPr/>
            <p:nvPr/>
          </p:nvGrpSpPr>
          <p:grpSpPr>
            <a:xfrm>
              <a:off x="380880" y="3466800"/>
              <a:ext cx="4876920" cy="399960"/>
              <a:chOff x="380880" y="3466800"/>
              <a:chExt cx="4876920" cy="399960"/>
            </a:xfrm>
          </p:grpSpPr>
          <p:sp>
            <p:nvSpPr>
              <p:cNvPr id="112" name="Rectangle 24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29"/>
            <p:cNvGrpSpPr/>
            <p:nvPr/>
          </p:nvGrpSpPr>
          <p:grpSpPr>
            <a:xfrm>
              <a:off x="380880" y="3867120"/>
              <a:ext cx="4876920" cy="399960"/>
              <a:chOff x="380880" y="3867120"/>
              <a:chExt cx="4876920" cy="399960"/>
            </a:xfrm>
          </p:grpSpPr>
          <p:sp>
            <p:nvSpPr>
              <p:cNvPr id="115" name="Rectangle 28"/>
              <p:cNvSpPr/>
              <p:nvPr/>
            </p:nvSpPr>
            <p:spPr>
              <a:xfrm>
                <a:off x="380880" y="38671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27"/>
              <p:cNvGrpSpPr/>
              <p:nvPr/>
            </p:nvGrpSpPr>
            <p:grpSpPr>
              <a:xfrm>
                <a:off x="380880" y="3867120"/>
                <a:ext cx="4876920" cy="399960"/>
                <a:chOff x="380880" y="3867120"/>
                <a:chExt cx="4876920" cy="399960"/>
              </a:xfrm>
            </p:grpSpPr>
            <p:sp>
              <p:nvSpPr>
                <p:cNvPr id="117" name="Rectangle 11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6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" name="Text Box 32"/>
          <p:cNvSpPr/>
          <p:nvPr/>
        </p:nvSpPr>
        <p:spPr>
          <a:xfrm>
            <a:off x="228600" y="45720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228600" y="5029200"/>
            <a:ext cx="5029200" cy="14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printArray( const int *array, const int count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for ( int i = 0; i &lt; count; i++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cout &lt;&lt; array[ i ] &lt;&lt; " "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cout &lt;&lt; endl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5"/>
          <p:cNvGrpSpPr/>
          <p:nvPr/>
        </p:nvGrpSpPr>
        <p:grpSpPr>
          <a:xfrm>
            <a:off x="2971440" y="1295280"/>
            <a:ext cx="5715360" cy="1608480"/>
            <a:chOff x="2971440" y="1295280"/>
            <a:chExt cx="5715360" cy="1608480"/>
          </a:xfrm>
        </p:grpSpPr>
        <p:sp>
          <p:nvSpPr>
            <p:cNvPr id="122" name="Text Box 31"/>
            <p:cNvSpPr/>
            <p:nvPr/>
          </p:nvSpPr>
          <p:spPr>
            <a:xfrm>
              <a:off x="5486400" y="1295280"/>
              <a:ext cx="3200400" cy="160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s the type parameter.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's type is detected and substituted inside the funct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newly created function is compil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4"/>
            <p:cNvSpPr/>
            <p:nvPr/>
          </p:nvSpPr>
          <p:spPr>
            <a:xfrm flipH="1" flipV="1">
              <a:off x="2971440" y="1676160"/>
              <a:ext cx="2514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Function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all templat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 12.2: fig12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3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emplate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3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3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3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4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4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4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5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5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5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6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6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6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6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7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7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7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8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Count = 5, bCount = 7, cCount =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8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[ aCount ] = { 1, 2, 3, 4, 5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8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[ bCount ] = { 1.1, 2.2, 3.3, 4.4, 5.5, 6.6, 7.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[ cCount ] = "HELLO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6th position for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a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a, a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teg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0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0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b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0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b, b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ouble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1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1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c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1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c, c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haract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2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2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2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08"/>
          <p:cNvGrpSpPr/>
          <p:nvPr/>
        </p:nvGrpSpPr>
        <p:grpSpPr>
          <a:xfrm>
            <a:off x="2514600" y="1904760"/>
            <a:ext cx="3809880" cy="1437120"/>
            <a:chOff x="2514600" y="1904760"/>
            <a:chExt cx="3809880" cy="1437120"/>
          </a:xfrm>
        </p:grpSpPr>
        <p:sp>
          <p:nvSpPr>
            <p:cNvPr id="229" name="Line 107"/>
            <p:cNvSpPr/>
            <p:nvPr/>
          </p:nvSpPr>
          <p:spPr>
            <a:xfrm flipH="1" flipV="1">
              <a:off x="2514600" y="1904760"/>
              <a:ext cx="914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06"/>
            <p:cNvSpPr/>
            <p:nvPr/>
          </p:nvSpPr>
          <p:spPr>
            <a:xfrm>
              <a:off x="3352680" y="251784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used in pla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13"/>
          <p:cNvGrpSpPr/>
          <p:nvPr/>
        </p:nvGrpSpPr>
        <p:grpSpPr>
          <a:xfrm>
            <a:off x="2895480" y="5028840"/>
            <a:ext cx="5943600" cy="1143360"/>
            <a:chOff x="2895480" y="5028840"/>
            <a:chExt cx="5943600" cy="1143360"/>
          </a:xfrm>
        </p:grpSpPr>
        <p:sp>
          <p:nvSpPr>
            <p:cNvPr id="232" name="Line 110"/>
            <p:cNvSpPr/>
            <p:nvPr/>
          </p:nvSpPr>
          <p:spPr>
            <a:xfrm flipH="1" flipV="1">
              <a:off x="2895480" y="5028840"/>
              <a:ext cx="2819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11"/>
            <p:cNvSpPr/>
            <p:nvPr/>
          </p:nvSpPr>
          <p:spPr>
            <a:xfrm flipH="1">
              <a:off x="2895480" y="533412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12"/>
            <p:cNvSpPr/>
            <p:nvPr/>
          </p:nvSpPr>
          <p:spPr>
            <a:xfrm flipH="1">
              <a:off x="2971800" y="5334120"/>
              <a:ext cx="2743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09"/>
            <p:cNvSpPr/>
            <p:nvPr/>
          </p:nvSpPr>
          <p:spPr>
            <a:xfrm>
              <a:off x="5638680" y="5048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ach type array gets operated on by a different templat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a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b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 6.6 7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c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Templat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function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emplate functions have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uses overloading resolution to call the righ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tries to match function call with function name an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precise match, looks for function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found, compiler generates and uses templat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matches or multiple matches are found, compiler give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ype-specific versions of generi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y identifier wil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reate an object of the class,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 my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 double &gt; double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(II)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d normally, but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ic data in class listed as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 class function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or definition - creates an array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&lt; T &gt;::MyClass(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 = new 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9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46" name="Group 3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247" name="Rectangle 33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4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tstack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36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250" name="Rectangle 3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templat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253" name="Rectangle 37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6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40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256" name="Rectangle 39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7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42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259" name="Rectangle 41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4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9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6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265" name="Rectangle 45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0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268" name="Rectangle 4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1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0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271" name="Rectangle 4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2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( int =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 (stack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2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274" name="Rectangle 51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1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Stack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stackPtr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277" name="Rectangle 53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14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56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280" name="Rectangle 5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p( T&amp;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58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283" name="Rectangle 57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16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60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286" name="Rectangle 59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17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ize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# of elements in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62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289" name="Rectangle 61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1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tion of the top el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64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292" name="Rectangle 63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19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 *stack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inter 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66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295" name="Rectangle 65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20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68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298" name="Rectangle 6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Empt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-1; }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t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70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301" name="Rectangle 6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22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F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size - 1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72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304" name="Rectangle 71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2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7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307" name="Rectangle 73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24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76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310" name="Rectangle 7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2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with default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8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313" name="Rectangle 77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80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316" name="Rectangle 79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7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tack&lt; T &gt;::Stack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82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319" name="Rectangle 81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2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84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322" name="Rectangle 83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29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ize = s &gt; 0 ? s : 10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6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325" name="Rectangle 85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30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op = -1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ck is initially 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88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32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31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ocate space for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331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32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94"/>
          <p:cNvGrpSpPr/>
          <p:nvPr/>
        </p:nvGrpSpPr>
        <p:grpSpPr>
          <a:xfrm>
            <a:off x="2285640" y="4971960"/>
            <a:ext cx="5715360" cy="580680"/>
            <a:chOff x="2285640" y="4971960"/>
            <a:chExt cx="5715360" cy="580680"/>
          </a:xfrm>
        </p:grpSpPr>
        <p:sp>
          <p:nvSpPr>
            <p:cNvPr id="334" name="Text Box 92"/>
            <p:cNvSpPr/>
            <p:nvPr/>
          </p:nvSpPr>
          <p:spPr>
            <a:xfrm>
              <a:off x="4267080" y="497196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a  member function of the class template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3"/>
            <p:cNvSpPr/>
            <p:nvPr/>
          </p:nvSpPr>
          <p:spPr>
            <a:xfrm flipH="1">
              <a:off x="2285640" y="53341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8:05:58Z</dcterms:created>
  <dc:creator>jason</dc:creator>
  <dc:description/>
  <dc:language>en-US</dc:language>
  <cp:lastModifiedBy>Marcoma'</cp:lastModifiedBy>
  <dcterms:modified xsi:type="dcterms:W3CDTF">2008-05-09T09:30:56Z</dcterms:modified>
  <cp:revision>450</cp:revision>
  <dc:subject/>
  <dc:title>Chapter 1 – Introduction to Computers and C++ Programming</dc:title>
</cp:coreProperties>
</file>