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D29A3-907C-4310-B749-474BFC09F4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63F98-ADFA-470B-966D-578553925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24422-54C8-4667-AE38-4A81180CF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83875-6821-46FD-95AD-2F0246BAD3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A1E24-3850-4240-813F-24A7488746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F532D-50A2-4C34-A138-B950F4FE60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D8745-2C4D-4FFC-97B7-164235BB98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DBF6B-4CAF-48BA-8FD2-16C7461D4A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B602E-E447-4F84-8321-694C88B9F7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690D2-EE4B-43FB-A5FF-C42CDB01E3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68572-51FF-46D9-A72B-E83C4ED0A2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4D549-01BD-4CC4-AF91-04011345D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9F56F-0F61-4D6B-9B3D-3010B59F1E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D1C8B-9F4C-4B20-AACB-D0F726FB94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C8B40-BE2A-4222-9B7D-EE5BD397AF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F0DA2-B50E-4742-8BC8-EBE48ADDEC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ABA25-AD0C-4969-88D7-459C21B181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3BB41-F675-488B-B494-428C651A8D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152A-B0D5-465B-827B-5EAA3482F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ED7DE-4DD3-48CA-BB63-DE18F75A9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7DDDB-0281-4549-9501-BDD9B46FF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6CD53-48C1-47B9-9A84-9313AEAFDF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0D296-9AB8-40C7-A8CF-DF4806711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E503E-3F17-4393-A29A-B0DDDC11C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7B2B-A6E0-4799-A6E4-C2058CA2E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F1FA-2428-4622-BC10-2E8D52DC8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BA4B-772F-4E24-9465-DCC205FF3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 9 -Virtual Function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Polymorphism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09480" y="1295280"/>
            <a:ext cx="868680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vantGarde"/>
              </a:rPr>
              <a:t>Outline</a:t>
            </a: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Virtual Functions</a:t>
            </a: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Polymorphism</a:t>
            </a: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Abstract and Concrete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Case Study: A Payroll System Using Polymorphism</a:t>
            </a: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Dynamic Binding</a:t>
            </a: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Virtual Destructors</a:t>
            </a: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Case Study: Inheriting Interface and Implementation</a:t>
            </a: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DC0A-305A-4155-AE43-51429CB85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oss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derived cl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346" name="Group 4"/>
            <p:cNvGrpSpPr/>
            <p:nvPr/>
          </p:nvGrpSpPr>
          <p:grpSpPr>
            <a:xfrm>
              <a:off x="0" y="0"/>
              <a:ext cx="6780960" cy="403200"/>
              <a:chOff x="0" y="0"/>
              <a:chExt cx="6780960" cy="403200"/>
            </a:xfrm>
          </p:grpSpPr>
          <p:sp>
            <p:nvSpPr>
              <p:cNvPr id="347" name="Rectangle 5"/>
              <p:cNvSpPr/>
              <p:nvPr/>
            </p:nvSpPr>
            <p:spPr>
              <a:xfrm>
                <a:off x="0" y="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Rectangle 6"/>
              <p:cNvSpPr/>
              <p:nvPr/>
            </p:nvSpPr>
            <p:spPr>
              <a:xfrm>
                <a:off x="0" y="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boss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Group 7"/>
            <p:cNvGrpSpPr/>
            <p:nvPr/>
          </p:nvGrpSpPr>
          <p:grpSpPr>
            <a:xfrm>
              <a:off x="0" y="403200"/>
              <a:ext cx="6780960" cy="403200"/>
              <a:chOff x="0" y="403200"/>
              <a:chExt cx="6780960" cy="403200"/>
            </a:xfrm>
          </p:grpSpPr>
          <p:sp>
            <p:nvSpPr>
              <p:cNvPr id="350" name="Rectangle 8"/>
              <p:cNvSpPr/>
              <p:nvPr/>
            </p:nvSpPr>
            <p:spPr>
              <a:xfrm>
                <a:off x="0" y="40320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Rectangle 9"/>
              <p:cNvSpPr/>
              <p:nvPr/>
            </p:nvSpPr>
            <p:spPr>
              <a:xfrm>
                <a:off x="0" y="40320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Boss class derived from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Group 10"/>
            <p:cNvGrpSpPr/>
            <p:nvPr/>
          </p:nvGrpSpPr>
          <p:grpSpPr>
            <a:xfrm>
              <a:off x="0" y="806400"/>
              <a:ext cx="6780960" cy="403560"/>
              <a:chOff x="0" y="806400"/>
              <a:chExt cx="6780960" cy="403560"/>
            </a:xfrm>
          </p:grpSpPr>
          <p:sp>
            <p:nvSpPr>
              <p:cNvPr id="353" name="Rectangle 11"/>
              <p:cNvSpPr/>
              <p:nvPr/>
            </p:nvSpPr>
            <p:spPr>
              <a:xfrm>
                <a:off x="0" y="80640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Rectangle 12"/>
              <p:cNvSpPr/>
              <p:nvPr/>
            </p:nvSpPr>
            <p:spPr>
              <a:xfrm>
                <a:off x="0" y="80640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OSS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Group 13"/>
            <p:cNvGrpSpPr/>
            <p:nvPr/>
          </p:nvGrpSpPr>
          <p:grpSpPr>
            <a:xfrm>
              <a:off x="0" y="1210320"/>
              <a:ext cx="6780960" cy="403200"/>
              <a:chOff x="0" y="1210320"/>
              <a:chExt cx="6780960" cy="403200"/>
            </a:xfrm>
          </p:grpSpPr>
          <p:sp>
            <p:nvSpPr>
              <p:cNvPr id="356" name="Rectangle 14"/>
              <p:cNvSpPr/>
              <p:nvPr/>
            </p:nvSpPr>
            <p:spPr>
              <a:xfrm>
                <a:off x="0" y="12103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Rectangle 15"/>
              <p:cNvSpPr/>
              <p:nvPr/>
            </p:nvSpPr>
            <p:spPr>
              <a:xfrm>
                <a:off x="0" y="12103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OSS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Group 16"/>
            <p:cNvGrpSpPr/>
            <p:nvPr/>
          </p:nvGrpSpPr>
          <p:grpSpPr>
            <a:xfrm>
              <a:off x="0" y="1613520"/>
              <a:ext cx="6780960" cy="403200"/>
              <a:chOff x="0" y="1613520"/>
              <a:chExt cx="6780960" cy="403200"/>
            </a:xfrm>
          </p:grpSpPr>
          <p:sp>
            <p:nvSpPr>
              <p:cNvPr id="359" name="Rectangle 17"/>
              <p:cNvSpPr/>
              <p:nvPr/>
            </p:nvSpPr>
            <p:spPr>
              <a:xfrm>
                <a:off x="0" y="16135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Rectangle 18"/>
              <p:cNvSpPr/>
              <p:nvPr/>
            </p:nvSpPr>
            <p:spPr>
              <a:xfrm>
                <a:off x="0" y="16135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Group 19"/>
            <p:cNvGrpSpPr/>
            <p:nvPr/>
          </p:nvGrpSpPr>
          <p:grpSpPr>
            <a:xfrm>
              <a:off x="0" y="2016720"/>
              <a:ext cx="6780960" cy="403200"/>
              <a:chOff x="0" y="2016720"/>
              <a:chExt cx="6780960" cy="403200"/>
            </a:xfrm>
          </p:grpSpPr>
          <p:sp>
            <p:nvSpPr>
              <p:cNvPr id="362" name="Rectangle 20"/>
              <p:cNvSpPr/>
              <p:nvPr/>
            </p:nvSpPr>
            <p:spPr>
              <a:xfrm>
                <a:off x="0" y="20167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Rectangle 21"/>
              <p:cNvSpPr/>
              <p:nvPr/>
            </p:nvSpPr>
            <p:spPr>
              <a:xfrm>
                <a:off x="0" y="20167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Group 22"/>
            <p:cNvGrpSpPr/>
            <p:nvPr/>
          </p:nvGrpSpPr>
          <p:grpSpPr>
            <a:xfrm>
              <a:off x="0" y="2420280"/>
              <a:ext cx="6780960" cy="403560"/>
              <a:chOff x="0" y="2420280"/>
              <a:chExt cx="6780960" cy="403560"/>
            </a:xfrm>
          </p:grpSpPr>
          <p:sp>
            <p:nvSpPr>
              <p:cNvPr id="365" name="Rectangle 23"/>
              <p:cNvSpPr/>
              <p:nvPr/>
            </p:nvSpPr>
            <p:spPr>
              <a:xfrm>
                <a:off x="0" y="242028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Rectangle 24"/>
              <p:cNvSpPr/>
              <p:nvPr/>
            </p:nvSpPr>
            <p:spPr>
              <a:xfrm>
                <a:off x="0" y="242028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oss : public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Group 25"/>
            <p:cNvGrpSpPr/>
            <p:nvPr/>
          </p:nvGrpSpPr>
          <p:grpSpPr>
            <a:xfrm>
              <a:off x="0" y="2823840"/>
              <a:ext cx="6780960" cy="403200"/>
              <a:chOff x="0" y="2823840"/>
              <a:chExt cx="6780960" cy="403200"/>
            </a:xfrm>
          </p:grpSpPr>
          <p:sp>
            <p:nvSpPr>
              <p:cNvPr id="368" name="Rectangle 26"/>
              <p:cNvSpPr/>
              <p:nvPr/>
            </p:nvSpPr>
            <p:spPr>
              <a:xfrm>
                <a:off x="0" y="28238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Rectangle 27"/>
              <p:cNvSpPr/>
              <p:nvPr/>
            </p:nvSpPr>
            <p:spPr>
              <a:xfrm>
                <a:off x="0" y="28238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Group 28"/>
            <p:cNvGrpSpPr/>
            <p:nvPr/>
          </p:nvGrpSpPr>
          <p:grpSpPr>
            <a:xfrm>
              <a:off x="0" y="3227040"/>
              <a:ext cx="6780960" cy="403200"/>
              <a:chOff x="0" y="3227040"/>
              <a:chExt cx="6780960" cy="403200"/>
            </a:xfrm>
          </p:grpSpPr>
          <p:sp>
            <p:nvSpPr>
              <p:cNvPr id="371" name="Rectangle 29"/>
              <p:cNvSpPr/>
              <p:nvPr/>
            </p:nvSpPr>
            <p:spPr>
              <a:xfrm>
                <a:off x="0" y="32270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Rectangle 30"/>
              <p:cNvSpPr/>
              <p:nvPr/>
            </p:nvSpPr>
            <p:spPr>
              <a:xfrm>
                <a:off x="0" y="32270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os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.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Group 31"/>
            <p:cNvGrpSpPr/>
            <p:nvPr/>
          </p:nvGrpSpPr>
          <p:grpSpPr>
            <a:xfrm>
              <a:off x="0" y="3630600"/>
              <a:ext cx="6780960" cy="403200"/>
              <a:chOff x="0" y="3630600"/>
              <a:chExt cx="6780960" cy="403200"/>
            </a:xfrm>
          </p:grpSpPr>
          <p:sp>
            <p:nvSpPr>
              <p:cNvPr id="374" name="Rectangle 32"/>
              <p:cNvSpPr/>
              <p:nvPr/>
            </p:nvSpPr>
            <p:spPr>
              <a:xfrm>
                <a:off x="0" y="363060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Rectangle 33"/>
              <p:cNvSpPr/>
              <p:nvPr/>
            </p:nvSpPr>
            <p:spPr>
              <a:xfrm>
                <a:off x="0" y="363060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WeeklySalary( doubl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Group 34"/>
            <p:cNvGrpSpPr/>
            <p:nvPr/>
          </p:nvGrpSpPr>
          <p:grpSpPr>
            <a:xfrm>
              <a:off x="0" y="4033800"/>
              <a:ext cx="6780960" cy="403560"/>
              <a:chOff x="0" y="4033800"/>
              <a:chExt cx="6780960" cy="403560"/>
            </a:xfrm>
          </p:grpSpPr>
          <p:sp>
            <p:nvSpPr>
              <p:cNvPr id="377" name="Rectangle 35"/>
              <p:cNvSpPr/>
              <p:nvPr/>
            </p:nvSpPr>
            <p:spPr>
              <a:xfrm>
                <a:off x="0" y="403380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Rectangle 36"/>
              <p:cNvSpPr/>
              <p:nvPr/>
            </p:nvSpPr>
            <p:spPr>
              <a:xfrm>
                <a:off x="0" y="403380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Group 37"/>
            <p:cNvGrpSpPr/>
            <p:nvPr/>
          </p:nvGrpSpPr>
          <p:grpSpPr>
            <a:xfrm>
              <a:off x="0" y="4437360"/>
              <a:ext cx="6780960" cy="403200"/>
              <a:chOff x="0" y="4437360"/>
              <a:chExt cx="6780960" cy="403200"/>
            </a:xfrm>
          </p:grpSpPr>
          <p:sp>
            <p:nvSpPr>
              <p:cNvPr id="380" name="Rectangle 38"/>
              <p:cNvSpPr/>
              <p:nvPr/>
            </p:nvSpPr>
            <p:spPr>
              <a:xfrm>
                <a:off x="0" y="443736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39"/>
              <p:cNvSpPr/>
              <p:nvPr/>
            </p:nvSpPr>
            <p:spPr>
              <a:xfrm>
                <a:off x="0" y="443736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Group 40"/>
            <p:cNvGrpSpPr/>
            <p:nvPr/>
          </p:nvGrpSpPr>
          <p:grpSpPr>
            <a:xfrm>
              <a:off x="0" y="4840920"/>
              <a:ext cx="6780960" cy="403200"/>
              <a:chOff x="0" y="4840920"/>
              <a:chExt cx="6780960" cy="403200"/>
            </a:xfrm>
          </p:grpSpPr>
          <p:sp>
            <p:nvSpPr>
              <p:cNvPr id="383" name="Rectangle 41"/>
              <p:cNvSpPr/>
              <p:nvPr/>
            </p:nvSpPr>
            <p:spPr>
              <a:xfrm>
                <a:off x="0" y="48409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42"/>
              <p:cNvSpPr/>
              <p:nvPr/>
            </p:nvSpPr>
            <p:spPr>
              <a:xfrm>
                <a:off x="0" y="48409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Group 43"/>
            <p:cNvGrpSpPr/>
            <p:nvPr/>
          </p:nvGrpSpPr>
          <p:grpSpPr>
            <a:xfrm>
              <a:off x="0" y="5244120"/>
              <a:ext cx="6780960" cy="403200"/>
              <a:chOff x="0" y="5244120"/>
              <a:chExt cx="6780960" cy="403200"/>
            </a:xfrm>
          </p:grpSpPr>
          <p:sp>
            <p:nvSpPr>
              <p:cNvPr id="386" name="Rectangle 44"/>
              <p:cNvSpPr/>
              <p:nvPr/>
            </p:nvSpPr>
            <p:spPr>
              <a:xfrm>
                <a:off x="0" y="52441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45"/>
              <p:cNvSpPr/>
              <p:nvPr/>
            </p:nvSpPr>
            <p:spPr>
              <a:xfrm>
                <a:off x="0" y="52441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eeklySalary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Group 46"/>
            <p:cNvGrpSpPr/>
            <p:nvPr/>
          </p:nvGrpSpPr>
          <p:grpSpPr>
            <a:xfrm>
              <a:off x="0" y="5647680"/>
              <a:ext cx="6780960" cy="403560"/>
              <a:chOff x="0" y="5647680"/>
              <a:chExt cx="6780960" cy="403560"/>
            </a:xfrm>
          </p:grpSpPr>
          <p:sp>
            <p:nvSpPr>
              <p:cNvPr id="389" name="Rectangle 47"/>
              <p:cNvSpPr/>
              <p:nvPr/>
            </p:nvSpPr>
            <p:spPr>
              <a:xfrm>
                <a:off x="0" y="564768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Rectangle 48"/>
              <p:cNvSpPr/>
              <p:nvPr/>
            </p:nvSpPr>
            <p:spPr>
              <a:xfrm>
                <a:off x="0" y="564768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Group 49"/>
            <p:cNvGrpSpPr/>
            <p:nvPr/>
          </p:nvGrpSpPr>
          <p:grpSpPr>
            <a:xfrm>
              <a:off x="0" y="6051240"/>
              <a:ext cx="6780960" cy="403200"/>
              <a:chOff x="0" y="6051240"/>
              <a:chExt cx="6780960" cy="403200"/>
            </a:xfrm>
          </p:grpSpPr>
          <p:sp>
            <p:nvSpPr>
              <p:cNvPr id="392" name="Rectangle 50"/>
              <p:cNvSpPr/>
              <p:nvPr/>
            </p:nvSpPr>
            <p:spPr>
              <a:xfrm>
                <a:off x="0" y="60512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Rectangle 51"/>
              <p:cNvSpPr/>
              <p:nvPr/>
            </p:nvSpPr>
            <p:spPr>
              <a:xfrm>
                <a:off x="0" y="60512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Group 52"/>
            <p:cNvGrpSpPr/>
            <p:nvPr/>
          </p:nvGrpSpPr>
          <p:grpSpPr>
            <a:xfrm>
              <a:off x="0" y="6454440"/>
              <a:ext cx="6780960" cy="403200"/>
              <a:chOff x="0" y="6454440"/>
              <a:chExt cx="6780960" cy="403200"/>
            </a:xfrm>
          </p:grpSpPr>
          <p:sp>
            <p:nvSpPr>
              <p:cNvPr id="395" name="Rectangle 53"/>
              <p:cNvSpPr/>
              <p:nvPr/>
            </p:nvSpPr>
            <p:spPr>
              <a:xfrm>
                <a:off x="0" y="64544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Rectangle 54"/>
              <p:cNvSpPr/>
              <p:nvPr/>
            </p:nvSpPr>
            <p:spPr>
              <a:xfrm>
                <a:off x="0" y="64544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A83C-7272-4EE8-9BBC-154344776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400" name="Group 4"/>
            <p:cNvGrpSpPr/>
            <p:nvPr/>
          </p:nvGrpSpPr>
          <p:grpSpPr>
            <a:xfrm>
              <a:off x="0" y="0"/>
              <a:ext cx="6780960" cy="263520"/>
              <a:chOff x="0" y="0"/>
              <a:chExt cx="6780960" cy="263520"/>
            </a:xfrm>
          </p:grpSpPr>
          <p:sp>
            <p:nvSpPr>
              <p:cNvPr id="401" name="Rectangle 5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6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boss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7"/>
            <p:cNvGrpSpPr/>
            <p:nvPr/>
          </p:nvGrpSpPr>
          <p:grpSpPr>
            <a:xfrm>
              <a:off x="0" y="263520"/>
              <a:ext cx="6780960" cy="263520"/>
              <a:chOff x="0" y="263520"/>
              <a:chExt cx="6780960" cy="263520"/>
            </a:xfrm>
          </p:grpSpPr>
          <p:sp>
            <p:nvSpPr>
              <p:cNvPr id="404" name="Rectangle 8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9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B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Group 10"/>
            <p:cNvGrpSpPr/>
            <p:nvPr/>
          </p:nvGrpSpPr>
          <p:grpSpPr>
            <a:xfrm>
              <a:off x="0" y="527400"/>
              <a:ext cx="6780960" cy="263880"/>
              <a:chOff x="0" y="527400"/>
              <a:chExt cx="6780960" cy="263880"/>
            </a:xfrm>
          </p:grpSpPr>
          <p:sp>
            <p:nvSpPr>
              <p:cNvPr id="407" name="Rectangle 11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Rectangle 12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Group 13"/>
            <p:cNvGrpSpPr/>
            <p:nvPr/>
          </p:nvGrpSpPr>
          <p:grpSpPr>
            <a:xfrm>
              <a:off x="0" y="791280"/>
              <a:ext cx="6780960" cy="263520"/>
              <a:chOff x="0" y="791280"/>
              <a:chExt cx="6780960" cy="263520"/>
            </a:xfrm>
          </p:grpSpPr>
          <p:sp>
            <p:nvSpPr>
              <p:cNvPr id="410" name="Rectangle 14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Rectangle 15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16"/>
            <p:cNvGrpSpPr/>
            <p:nvPr/>
          </p:nvGrpSpPr>
          <p:grpSpPr>
            <a:xfrm>
              <a:off x="0" y="1054800"/>
              <a:ext cx="6780960" cy="263520"/>
              <a:chOff x="0" y="1054800"/>
              <a:chExt cx="6780960" cy="263520"/>
            </a:xfrm>
          </p:grpSpPr>
          <p:sp>
            <p:nvSpPr>
              <p:cNvPr id="413" name="Rectangle 17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Rectangle 18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9"/>
            <p:cNvGrpSpPr/>
            <p:nvPr/>
          </p:nvGrpSpPr>
          <p:grpSpPr>
            <a:xfrm>
              <a:off x="0" y="1318680"/>
              <a:ext cx="6780960" cy="263520"/>
              <a:chOff x="0" y="1318680"/>
              <a:chExt cx="6780960" cy="263520"/>
            </a:xfrm>
          </p:grpSpPr>
          <p:sp>
            <p:nvSpPr>
              <p:cNvPr id="416" name="Rectangle 20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Rectangle 21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22"/>
            <p:cNvGrpSpPr/>
            <p:nvPr/>
          </p:nvGrpSpPr>
          <p:grpSpPr>
            <a:xfrm>
              <a:off x="0" y="1582560"/>
              <a:ext cx="6780960" cy="263880"/>
              <a:chOff x="0" y="1582560"/>
              <a:chExt cx="6780960" cy="263880"/>
            </a:xfrm>
          </p:grpSpPr>
          <p:sp>
            <p:nvSpPr>
              <p:cNvPr id="419" name="Rectangle 23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Rectangle 24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boss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25"/>
            <p:cNvGrpSpPr/>
            <p:nvPr/>
          </p:nvGrpSpPr>
          <p:grpSpPr>
            <a:xfrm>
              <a:off x="0" y="1846440"/>
              <a:ext cx="6780960" cy="263520"/>
              <a:chOff x="0" y="1846440"/>
              <a:chExt cx="6780960" cy="263520"/>
            </a:xfrm>
          </p:grpSpPr>
          <p:sp>
            <p:nvSpPr>
              <p:cNvPr id="422" name="Rectangle 26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Rectangle 27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28"/>
            <p:cNvGrpSpPr/>
            <p:nvPr/>
          </p:nvGrpSpPr>
          <p:grpSpPr>
            <a:xfrm>
              <a:off x="0" y="2109960"/>
              <a:ext cx="6780960" cy="263520"/>
              <a:chOff x="0" y="2109960"/>
              <a:chExt cx="6780960" cy="263520"/>
            </a:xfrm>
          </p:grpSpPr>
          <p:sp>
            <p:nvSpPr>
              <p:cNvPr id="425" name="Rectangle 29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Rectangle 30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unction for class B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31"/>
            <p:cNvGrpSpPr/>
            <p:nvPr/>
          </p:nvGrpSpPr>
          <p:grpSpPr>
            <a:xfrm>
              <a:off x="0" y="2373840"/>
              <a:ext cx="6780960" cy="263520"/>
              <a:chOff x="0" y="2373840"/>
              <a:chExt cx="6780960" cy="263520"/>
            </a:xfrm>
          </p:grpSpPr>
          <p:sp>
            <p:nvSpPr>
              <p:cNvPr id="428" name="Rectangle 32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Rectangle 33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oss::Bos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a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Group 34"/>
            <p:cNvGrpSpPr/>
            <p:nvPr/>
          </p:nvGrpSpPr>
          <p:grpSpPr>
            <a:xfrm>
              <a:off x="0" y="2637720"/>
              <a:ext cx="6780960" cy="263880"/>
              <a:chOff x="0" y="2637720"/>
              <a:chExt cx="6780960" cy="263880"/>
            </a:xfrm>
          </p:grpSpPr>
          <p:sp>
            <p:nvSpPr>
              <p:cNvPr id="431" name="Rectangle 35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Rectangle 36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Employee( first, last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Group 37"/>
            <p:cNvGrpSpPr/>
            <p:nvPr/>
          </p:nvGrpSpPr>
          <p:grpSpPr>
            <a:xfrm>
              <a:off x="0" y="2901600"/>
              <a:ext cx="6780960" cy="263520"/>
              <a:chOff x="0" y="2901600"/>
              <a:chExt cx="6780960" cy="263520"/>
            </a:xfrm>
          </p:grpSpPr>
          <p:sp>
            <p:nvSpPr>
              <p:cNvPr id="434" name="Rectangle 38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Rectangle 39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 setWeeklySalary( s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Group 40"/>
            <p:cNvGrpSpPr/>
            <p:nvPr/>
          </p:nvGrpSpPr>
          <p:grpSpPr>
            <a:xfrm>
              <a:off x="0" y="3165120"/>
              <a:ext cx="6780960" cy="263520"/>
              <a:chOff x="0" y="3165120"/>
              <a:chExt cx="6780960" cy="263520"/>
            </a:xfrm>
          </p:grpSpPr>
          <p:sp>
            <p:nvSpPr>
              <p:cNvPr id="437" name="Rectangle 41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Rectangle 42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Group 43"/>
            <p:cNvGrpSpPr/>
            <p:nvPr/>
          </p:nvGrpSpPr>
          <p:grpSpPr>
            <a:xfrm>
              <a:off x="0" y="3429000"/>
              <a:ext cx="6780960" cy="263520"/>
              <a:chOff x="0" y="3429000"/>
              <a:chExt cx="6780960" cy="263520"/>
            </a:xfrm>
          </p:grpSpPr>
          <p:sp>
            <p:nvSpPr>
              <p:cNvPr id="440" name="Rectangle 44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Rectangle 45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Boss's sala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Group 46"/>
            <p:cNvGrpSpPr/>
            <p:nvPr/>
          </p:nvGrpSpPr>
          <p:grpSpPr>
            <a:xfrm>
              <a:off x="0" y="3692520"/>
              <a:ext cx="6780960" cy="263880"/>
              <a:chOff x="0" y="3692520"/>
              <a:chExt cx="6780960" cy="263880"/>
            </a:xfrm>
          </p:grpSpPr>
          <p:sp>
            <p:nvSpPr>
              <p:cNvPr id="443" name="Rectangle 47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Rectangle 48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oss::setWeeklySalar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Group 49"/>
            <p:cNvGrpSpPr/>
            <p:nvPr/>
          </p:nvGrpSpPr>
          <p:grpSpPr>
            <a:xfrm>
              <a:off x="0" y="3956400"/>
              <a:ext cx="6780960" cy="263520"/>
              <a:chOff x="0" y="3956400"/>
              <a:chExt cx="6780960" cy="263520"/>
            </a:xfrm>
          </p:grpSpPr>
          <p:sp>
            <p:nvSpPr>
              <p:cNvPr id="446" name="Rectangle 50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Rectangle 51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weeklySalary = s &gt; 0 ? s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Group 52"/>
            <p:cNvGrpSpPr/>
            <p:nvPr/>
          </p:nvGrpSpPr>
          <p:grpSpPr>
            <a:xfrm>
              <a:off x="0" y="4220280"/>
              <a:ext cx="6780960" cy="263520"/>
              <a:chOff x="0" y="4220280"/>
              <a:chExt cx="6780960" cy="263520"/>
            </a:xfrm>
          </p:grpSpPr>
          <p:sp>
            <p:nvSpPr>
              <p:cNvPr id="449" name="Rectangle 53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Rectangle 54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Group 55"/>
            <p:cNvGrpSpPr/>
            <p:nvPr/>
          </p:nvGrpSpPr>
          <p:grpSpPr>
            <a:xfrm>
              <a:off x="0" y="4484160"/>
              <a:ext cx="6780960" cy="263520"/>
              <a:chOff x="0" y="4484160"/>
              <a:chExt cx="6780960" cy="263520"/>
            </a:xfrm>
          </p:grpSpPr>
          <p:sp>
            <p:nvSpPr>
              <p:cNvPr id="452" name="Rectangle 56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Rectangle 57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Boss's p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Group 58"/>
            <p:cNvGrpSpPr/>
            <p:nvPr/>
          </p:nvGrpSpPr>
          <p:grpSpPr>
            <a:xfrm>
              <a:off x="0" y="4747680"/>
              <a:ext cx="6780960" cy="263520"/>
              <a:chOff x="0" y="4747680"/>
              <a:chExt cx="6780960" cy="263520"/>
            </a:xfrm>
          </p:grpSpPr>
          <p:sp>
            <p:nvSpPr>
              <p:cNvPr id="455" name="Rectangle 59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Rectangle 60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oss::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eeklySalary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Group 61"/>
            <p:cNvGrpSpPr/>
            <p:nvPr/>
          </p:nvGrpSpPr>
          <p:grpSpPr>
            <a:xfrm>
              <a:off x="0" y="5011560"/>
              <a:ext cx="6780960" cy="263880"/>
              <a:chOff x="0" y="5011560"/>
              <a:chExt cx="6780960" cy="263880"/>
            </a:xfrm>
          </p:grpSpPr>
          <p:sp>
            <p:nvSpPr>
              <p:cNvPr id="458" name="Rectangle 62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Rectangle 63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Group 64"/>
            <p:cNvGrpSpPr/>
            <p:nvPr/>
          </p:nvGrpSpPr>
          <p:grpSpPr>
            <a:xfrm>
              <a:off x="0" y="5275440"/>
              <a:ext cx="6780960" cy="263520"/>
              <a:chOff x="0" y="5275440"/>
              <a:chExt cx="6780960" cy="263520"/>
            </a:xfrm>
          </p:grpSpPr>
          <p:sp>
            <p:nvSpPr>
              <p:cNvPr id="461" name="Rectangle 65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Rectangle 66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the Boss's na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Group 67"/>
            <p:cNvGrpSpPr/>
            <p:nvPr/>
          </p:nvGrpSpPr>
          <p:grpSpPr>
            <a:xfrm>
              <a:off x="0" y="5539320"/>
              <a:ext cx="6780960" cy="263520"/>
              <a:chOff x="0" y="5539320"/>
              <a:chExt cx="6780960" cy="263520"/>
            </a:xfrm>
          </p:grpSpPr>
          <p:sp>
            <p:nvSpPr>
              <p:cNvPr id="464" name="Rectangle 68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Rectangle 69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oss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Group 70"/>
            <p:cNvGrpSpPr/>
            <p:nvPr/>
          </p:nvGrpSpPr>
          <p:grpSpPr>
            <a:xfrm>
              <a:off x="0" y="5802840"/>
              <a:ext cx="6780960" cy="263520"/>
              <a:chOff x="0" y="5802840"/>
              <a:chExt cx="6780960" cy="263520"/>
            </a:xfrm>
          </p:grpSpPr>
          <p:sp>
            <p:nvSpPr>
              <p:cNvPr id="467" name="Rectangle 71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Rectangle 72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Group 73"/>
            <p:cNvGrpSpPr/>
            <p:nvPr/>
          </p:nvGrpSpPr>
          <p:grpSpPr>
            <a:xfrm>
              <a:off x="0" y="6066720"/>
              <a:ext cx="6780960" cy="263880"/>
              <a:chOff x="0" y="6066720"/>
              <a:chExt cx="6780960" cy="263880"/>
            </a:xfrm>
          </p:grpSpPr>
          <p:sp>
            <p:nvSpPr>
              <p:cNvPr id="470" name="Rectangle 74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Rectangle 75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             Boss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Group 76"/>
            <p:cNvGrpSpPr/>
            <p:nvPr/>
          </p:nvGrpSpPr>
          <p:grpSpPr>
            <a:xfrm>
              <a:off x="0" y="6330600"/>
              <a:ext cx="6780960" cy="263520"/>
              <a:chOff x="0" y="6330600"/>
              <a:chExt cx="6780960" cy="263520"/>
            </a:xfrm>
          </p:grpSpPr>
          <p:sp>
            <p:nvSpPr>
              <p:cNvPr id="473" name="Rectangle 77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Rectangle 78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Group 79"/>
            <p:cNvGrpSpPr/>
            <p:nvPr/>
          </p:nvGrpSpPr>
          <p:grpSpPr>
            <a:xfrm>
              <a:off x="0" y="6594120"/>
              <a:ext cx="6780960" cy="263520"/>
              <a:chOff x="0" y="6594120"/>
              <a:chExt cx="6780960" cy="263520"/>
            </a:xfrm>
          </p:grpSpPr>
          <p:sp>
            <p:nvSpPr>
              <p:cNvPr id="476" name="Rectangle 80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Rectangle 81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8" name="Group 86"/>
          <p:cNvGrpSpPr/>
          <p:nvPr/>
        </p:nvGrpSpPr>
        <p:grpSpPr>
          <a:xfrm>
            <a:off x="2361960" y="3733920"/>
            <a:ext cx="5029560" cy="2361960"/>
            <a:chOff x="2361960" y="3733920"/>
            <a:chExt cx="5029560" cy="2361960"/>
          </a:xfrm>
        </p:grpSpPr>
        <p:grpSp>
          <p:nvGrpSpPr>
            <p:cNvPr id="479" name="Group 84"/>
            <p:cNvGrpSpPr/>
            <p:nvPr/>
          </p:nvGrpSpPr>
          <p:grpSpPr>
            <a:xfrm>
              <a:off x="2819160" y="3733920"/>
              <a:ext cx="4572360" cy="1681200"/>
              <a:chOff x="2819160" y="3733920"/>
              <a:chExt cx="4572360" cy="1681200"/>
            </a:xfrm>
          </p:grpSpPr>
          <p:sp>
            <p:nvSpPr>
              <p:cNvPr id="480" name="Text Box 82"/>
              <p:cNvSpPr/>
              <p:nvPr/>
            </p:nvSpPr>
            <p:spPr>
              <a:xfrm>
                <a:off x="5334120" y="3733920"/>
                <a:ext cx="2057400" cy="1681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otice the override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earning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an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pri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function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hey were declare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virtua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in the base clas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Line 83"/>
              <p:cNvSpPr/>
              <p:nvPr/>
            </p:nvSpPr>
            <p:spPr>
              <a:xfrm flipH="1">
                <a:off x="2819160" y="4038480"/>
                <a:ext cx="25146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" name="Line 85"/>
            <p:cNvSpPr/>
            <p:nvPr/>
          </p:nvSpPr>
          <p:spPr>
            <a:xfrm flipH="1">
              <a:off x="2361960" y="4038480"/>
              <a:ext cx="29718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4BAB-671E-4F7C-9D6F-7DE34616F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issionWorker 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Definition (derived cl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486" name="Group 4"/>
            <p:cNvGrpSpPr/>
            <p:nvPr/>
          </p:nvGrpSpPr>
          <p:grpSpPr>
            <a:xfrm>
              <a:off x="0" y="0"/>
              <a:ext cx="6780960" cy="298080"/>
              <a:chOff x="0" y="0"/>
              <a:chExt cx="6780960" cy="298080"/>
            </a:xfrm>
          </p:grpSpPr>
          <p:sp>
            <p:nvSpPr>
              <p:cNvPr id="487" name="Rectangle 5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6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commis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Group 7"/>
            <p:cNvGrpSpPr/>
            <p:nvPr/>
          </p:nvGrpSpPr>
          <p:grpSpPr>
            <a:xfrm>
              <a:off x="0" y="298080"/>
              <a:ext cx="6780960" cy="298080"/>
              <a:chOff x="0" y="298080"/>
              <a:chExt cx="6780960" cy="298080"/>
            </a:xfrm>
          </p:grpSpPr>
          <p:sp>
            <p:nvSpPr>
              <p:cNvPr id="490" name="Rectangle 8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Rectangle 9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mmissionWorker class derived from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Group 10"/>
            <p:cNvGrpSpPr/>
            <p:nvPr/>
          </p:nvGrpSpPr>
          <p:grpSpPr>
            <a:xfrm>
              <a:off x="0" y="596160"/>
              <a:ext cx="6780960" cy="298080"/>
              <a:chOff x="0" y="596160"/>
              <a:chExt cx="6780960" cy="298080"/>
            </a:xfrm>
          </p:grpSpPr>
          <p:sp>
            <p:nvSpPr>
              <p:cNvPr id="493" name="Rectangle 11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Rectangle 12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Group 13"/>
            <p:cNvGrpSpPr/>
            <p:nvPr/>
          </p:nvGrpSpPr>
          <p:grpSpPr>
            <a:xfrm>
              <a:off x="0" y="894600"/>
              <a:ext cx="6780960" cy="298080"/>
              <a:chOff x="0" y="894600"/>
              <a:chExt cx="6780960" cy="298080"/>
            </a:xfrm>
          </p:grpSpPr>
          <p:sp>
            <p:nvSpPr>
              <p:cNvPr id="496" name="Rectangle 14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Rectangle 15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16"/>
            <p:cNvGrpSpPr/>
            <p:nvPr/>
          </p:nvGrpSpPr>
          <p:grpSpPr>
            <a:xfrm>
              <a:off x="0" y="1192680"/>
              <a:ext cx="6780960" cy="298080"/>
              <a:chOff x="0" y="1192680"/>
              <a:chExt cx="6780960" cy="298080"/>
            </a:xfrm>
          </p:grpSpPr>
          <p:sp>
            <p:nvSpPr>
              <p:cNvPr id="499" name="Rectangle 17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Rectangle 18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Group 19"/>
            <p:cNvGrpSpPr/>
            <p:nvPr/>
          </p:nvGrpSpPr>
          <p:grpSpPr>
            <a:xfrm>
              <a:off x="0" y="1490760"/>
              <a:ext cx="6780960" cy="298080"/>
              <a:chOff x="0" y="1490760"/>
              <a:chExt cx="6780960" cy="298080"/>
            </a:xfrm>
          </p:grpSpPr>
          <p:sp>
            <p:nvSpPr>
              <p:cNvPr id="502" name="Rectangle 20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Rectangle 21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Group 22"/>
            <p:cNvGrpSpPr/>
            <p:nvPr/>
          </p:nvGrpSpPr>
          <p:grpSpPr>
            <a:xfrm>
              <a:off x="0" y="1788840"/>
              <a:ext cx="6780960" cy="298080"/>
              <a:chOff x="0" y="1788840"/>
              <a:chExt cx="6780960" cy="298080"/>
            </a:xfrm>
          </p:grpSpPr>
          <p:sp>
            <p:nvSpPr>
              <p:cNvPr id="505" name="Rectangle 23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Rectangle 24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sionWork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Group 25"/>
            <p:cNvGrpSpPr/>
            <p:nvPr/>
          </p:nvGrpSpPr>
          <p:grpSpPr>
            <a:xfrm>
              <a:off x="0" y="2087280"/>
              <a:ext cx="6780960" cy="298080"/>
              <a:chOff x="0" y="2087280"/>
              <a:chExt cx="6780960" cy="298080"/>
            </a:xfrm>
          </p:grpSpPr>
          <p:sp>
            <p:nvSpPr>
              <p:cNvPr id="508" name="Rectangle 26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Rectangle 27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28"/>
            <p:cNvGrpSpPr/>
            <p:nvPr/>
          </p:nvGrpSpPr>
          <p:grpSpPr>
            <a:xfrm>
              <a:off x="0" y="2385360"/>
              <a:ext cx="6780960" cy="298080"/>
              <a:chOff x="0" y="2385360"/>
              <a:chExt cx="6780960" cy="298080"/>
            </a:xfrm>
          </p:grpSpPr>
          <p:sp>
            <p:nvSpPr>
              <p:cNvPr id="511" name="Rectangle 29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Rectangle 30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mmission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Group 31"/>
            <p:cNvGrpSpPr/>
            <p:nvPr/>
          </p:nvGrpSpPr>
          <p:grpSpPr>
            <a:xfrm>
              <a:off x="0" y="2683440"/>
              <a:ext cx="6780960" cy="298080"/>
              <a:chOff x="0" y="2683440"/>
              <a:chExt cx="6780960" cy="298080"/>
            </a:xfrm>
          </p:grpSpPr>
          <p:sp>
            <p:nvSpPr>
              <p:cNvPr id="514" name="Rectangle 32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Rectangle 33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.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Group 34"/>
            <p:cNvGrpSpPr/>
            <p:nvPr/>
          </p:nvGrpSpPr>
          <p:grpSpPr>
            <a:xfrm>
              <a:off x="0" y="2981520"/>
              <a:ext cx="6780960" cy="298080"/>
              <a:chOff x="0" y="2981520"/>
              <a:chExt cx="6780960" cy="298080"/>
            </a:xfrm>
          </p:grpSpPr>
          <p:sp>
            <p:nvSpPr>
              <p:cNvPr id="517" name="Rectangle 35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Rectangle 36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Group 37"/>
            <p:cNvGrpSpPr/>
            <p:nvPr/>
          </p:nvGrpSpPr>
          <p:grpSpPr>
            <a:xfrm>
              <a:off x="0" y="3279960"/>
              <a:ext cx="6780960" cy="298080"/>
              <a:chOff x="0" y="3279960"/>
              <a:chExt cx="6780960" cy="298080"/>
            </a:xfrm>
          </p:grpSpPr>
          <p:sp>
            <p:nvSpPr>
              <p:cNvPr id="520" name="Rectangle 38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Rectangle 39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Salar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40"/>
            <p:cNvGrpSpPr/>
            <p:nvPr/>
          </p:nvGrpSpPr>
          <p:grpSpPr>
            <a:xfrm>
              <a:off x="0" y="3578040"/>
              <a:ext cx="6780960" cy="298080"/>
              <a:chOff x="0" y="3578040"/>
              <a:chExt cx="6780960" cy="298080"/>
            </a:xfrm>
          </p:grpSpPr>
          <p:sp>
            <p:nvSpPr>
              <p:cNvPr id="523" name="Rectangle 41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Rectangle 42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Commissio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43"/>
            <p:cNvGrpSpPr/>
            <p:nvPr/>
          </p:nvGrpSpPr>
          <p:grpSpPr>
            <a:xfrm>
              <a:off x="0" y="3876120"/>
              <a:ext cx="6780960" cy="298080"/>
              <a:chOff x="0" y="3876120"/>
              <a:chExt cx="6780960" cy="298080"/>
            </a:xfrm>
          </p:grpSpPr>
          <p:sp>
            <p:nvSpPr>
              <p:cNvPr id="526" name="Rectangle 44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Rectangle 45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Quantit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46"/>
            <p:cNvGrpSpPr/>
            <p:nvPr/>
          </p:nvGrpSpPr>
          <p:grpSpPr>
            <a:xfrm>
              <a:off x="0" y="4174200"/>
              <a:ext cx="6780960" cy="298080"/>
              <a:chOff x="0" y="4174200"/>
              <a:chExt cx="6780960" cy="298080"/>
            </a:xfrm>
          </p:grpSpPr>
          <p:sp>
            <p:nvSpPr>
              <p:cNvPr id="529" name="Rectangle 47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Rectangle 48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49"/>
            <p:cNvGrpSpPr/>
            <p:nvPr/>
          </p:nvGrpSpPr>
          <p:grpSpPr>
            <a:xfrm>
              <a:off x="0" y="4472640"/>
              <a:ext cx="6780960" cy="298080"/>
              <a:chOff x="0" y="4472640"/>
              <a:chExt cx="6780960" cy="298080"/>
            </a:xfrm>
          </p:grpSpPr>
          <p:sp>
            <p:nvSpPr>
              <p:cNvPr id="532" name="Rectangle 50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51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Group 52"/>
            <p:cNvGrpSpPr/>
            <p:nvPr/>
          </p:nvGrpSpPr>
          <p:grpSpPr>
            <a:xfrm>
              <a:off x="0" y="4770720"/>
              <a:ext cx="6780960" cy="298080"/>
              <a:chOff x="0" y="4770720"/>
              <a:chExt cx="6780960" cy="298080"/>
            </a:xfrm>
          </p:grpSpPr>
          <p:sp>
            <p:nvSpPr>
              <p:cNvPr id="535" name="Rectangle 53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Rectangle 54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Group 55"/>
            <p:cNvGrpSpPr/>
            <p:nvPr/>
          </p:nvGrpSpPr>
          <p:grpSpPr>
            <a:xfrm>
              <a:off x="0" y="5068800"/>
              <a:ext cx="6780960" cy="298080"/>
              <a:chOff x="0" y="5068800"/>
              <a:chExt cx="6780960" cy="298080"/>
            </a:xfrm>
          </p:grpSpPr>
          <p:sp>
            <p:nvSpPr>
              <p:cNvPr id="538" name="Rectangle 56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Rectangle 57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alary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base salary pe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58"/>
            <p:cNvGrpSpPr/>
            <p:nvPr/>
          </p:nvGrpSpPr>
          <p:grpSpPr>
            <a:xfrm>
              <a:off x="0" y="5367240"/>
              <a:ext cx="6780960" cy="298080"/>
              <a:chOff x="0" y="5367240"/>
              <a:chExt cx="6780960" cy="298080"/>
            </a:xfrm>
          </p:grpSpPr>
          <p:sp>
            <p:nvSpPr>
              <p:cNvPr id="541" name="Rectangle 59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60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sion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amount per item sol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61"/>
            <p:cNvGrpSpPr/>
            <p:nvPr/>
          </p:nvGrpSpPr>
          <p:grpSpPr>
            <a:xfrm>
              <a:off x="0" y="5665320"/>
              <a:ext cx="6780960" cy="298080"/>
              <a:chOff x="0" y="5665320"/>
              <a:chExt cx="6780960" cy="298080"/>
            </a:xfrm>
          </p:grpSpPr>
          <p:sp>
            <p:nvSpPr>
              <p:cNvPr id="544" name="Rectangle 62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Rectangle 63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quantity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otal items sold fo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Group 64"/>
            <p:cNvGrpSpPr/>
            <p:nvPr/>
          </p:nvGrpSpPr>
          <p:grpSpPr>
            <a:xfrm>
              <a:off x="0" y="5963400"/>
              <a:ext cx="6780960" cy="298080"/>
              <a:chOff x="0" y="5963400"/>
              <a:chExt cx="6780960" cy="298080"/>
            </a:xfrm>
          </p:grpSpPr>
          <p:sp>
            <p:nvSpPr>
              <p:cNvPr id="547" name="Rectangle 65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66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Group 67"/>
            <p:cNvGrpSpPr/>
            <p:nvPr/>
          </p:nvGrpSpPr>
          <p:grpSpPr>
            <a:xfrm>
              <a:off x="0" y="6261840"/>
              <a:ext cx="6780960" cy="298080"/>
              <a:chOff x="0" y="6261840"/>
              <a:chExt cx="6780960" cy="298080"/>
            </a:xfrm>
          </p:grpSpPr>
          <p:sp>
            <p:nvSpPr>
              <p:cNvPr id="550" name="Rectangle 68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69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Group 70"/>
            <p:cNvGrpSpPr/>
            <p:nvPr/>
          </p:nvGrpSpPr>
          <p:grpSpPr>
            <a:xfrm>
              <a:off x="0" y="6559920"/>
              <a:ext cx="6780960" cy="298080"/>
              <a:chOff x="0" y="6559920"/>
              <a:chExt cx="6780960" cy="298080"/>
            </a:xfrm>
          </p:grpSpPr>
          <p:sp>
            <p:nvSpPr>
              <p:cNvPr id="553" name="Rectangle 71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72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6CC7-99B9-4202-97B6-43AB9B1B9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58" name="Group 4"/>
            <p:cNvGrpSpPr/>
            <p:nvPr/>
          </p:nvGrpSpPr>
          <p:grpSpPr>
            <a:xfrm>
              <a:off x="0" y="0"/>
              <a:ext cx="6780960" cy="326520"/>
              <a:chOff x="0" y="0"/>
              <a:chExt cx="6780960" cy="326520"/>
            </a:xfrm>
          </p:grpSpPr>
          <p:sp>
            <p:nvSpPr>
              <p:cNvPr id="559" name="Rectangle 5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6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commis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Group 7"/>
            <p:cNvGrpSpPr/>
            <p:nvPr/>
          </p:nvGrpSpPr>
          <p:grpSpPr>
            <a:xfrm>
              <a:off x="0" y="326520"/>
              <a:ext cx="6780960" cy="326520"/>
              <a:chOff x="0" y="326520"/>
              <a:chExt cx="6780960" cy="326520"/>
            </a:xfrm>
          </p:grpSpPr>
          <p:sp>
            <p:nvSpPr>
              <p:cNvPr id="562" name="Rectangle 8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9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Commission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Group 10"/>
            <p:cNvGrpSpPr/>
            <p:nvPr/>
          </p:nvGrpSpPr>
          <p:grpSpPr>
            <a:xfrm>
              <a:off x="0" y="653040"/>
              <a:ext cx="6780960" cy="326520"/>
              <a:chOff x="0" y="653040"/>
              <a:chExt cx="6780960" cy="326520"/>
            </a:xfrm>
          </p:grpSpPr>
          <p:sp>
            <p:nvSpPr>
              <p:cNvPr id="565" name="Rectangle 11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12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13"/>
            <p:cNvGrpSpPr/>
            <p:nvPr/>
          </p:nvGrpSpPr>
          <p:grpSpPr>
            <a:xfrm>
              <a:off x="0" y="979560"/>
              <a:ext cx="6780960" cy="326520"/>
              <a:chOff x="0" y="979560"/>
              <a:chExt cx="6780960" cy="326520"/>
            </a:xfrm>
          </p:grpSpPr>
          <p:sp>
            <p:nvSpPr>
              <p:cNvPr id="568" name="Rectangle 14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15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Group 16"/>
            <p:cNvGrpSpPr/>
            <p:nvPr/>
          </p:nvGrpSpPr>
          <p:grpSpPr>
            <a:xfrm>
              <a:off x="0" y="1306080"/>
              <a:ext cx="6780960" cy="326520"/>
              <a:chOff x="0" y="1306080"/>
              <a:chExt cx="6780960" cy="326520"/>
            </a:xfrm>
          </p:grpSpPr>
          <p:sp>
            <p:nvSpPr>
              <p:cNvPr id="571" name="Rectangle 17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Rectangle 18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Group 19"/>
            <p:cNvGrpSpPr/>
            <p:nvPr/>
          </p:nvGrpSpPr>
          <p:grpSpPr>
            <a:xfrm>
              <a:off x="0" y="1632600"/>
              <a:ext cx="6780960" cy="326520"/>
              <a:chOff x="0" y="1632600"/>
              <a:chExt cx="6780960" cy="326520"/>
            </a:xfrm>
          </p:grpSpPr>
          <p:sp>
            <p:nvSpPr>
              <p:cNvPr id="574" name="Rectangle 20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Rectangle 21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22"/>
            <p:cNvGrpSpPr/>
            <p:nvPr/>
          </p:nvGrpSpPr>
          <p:grpSpPr>
            <a:xfrm>
              <a:off x="0" y="1959120"/>
              <a:ext cx="6780960" cy="326520"/>
              <a:chOff x="0" y="1959120"/>
              <a:chExt cx="6780960" cy="326520"/>
            </a:xfrm>
          </p:grpSpPr>
          <p:sp>
            <p:nvSpPr>
              <p:cNvPr id="577" name="Rectangle 23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24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ommis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Group 25"/>
            <p:cNvGrpSpPr/>
            <p:nvPr/>
          </p:nvGrpSpPr>
          <p:grpSpPr>
            <a:xfrm>
              <a:off x="0" y="2286000"/>
              <a:ext cx="6780960" cy="326520"/>
              <a:chOff x="0" y="2286000"/>
              <a:chExt cx="6780960" cy="326520"/>
            </a:xfrm>
          </p:grpSpPr>
          <p:sp>
            <p:nvSpPr>
              <p:cNvPr id="580" name="Rectangle 26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Rectangle 27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Group 28"/>
            <p:cNvGrpSpPr/>
            <p:nvPr/>
          </p:nvGrpSpPr>
          <p:grpSpPr>
            <a:xfrm>
              <a:off x="0" y="2612520"/>
              <a:ext cx="6780960" cy="326520"/>
              <a:chOff x="0" y="2612520"/>
              <a:chExt cx="6780960" cy="326520"/>
            </a:xfrm>
          </p:grpSpPr>
          <p:sp>
            <p:nvSpPr>
              <p:cNvPr id="583" name="Rectangle 29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Rectangle 30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or class Commission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Group 31"/>
            <p:cNvGrpSpPr/>
            <p:nvPr/>
          </p:nvGrpSpPr>
          <p:grpSpPr>
            <a:xfrm>
              <a:off x="0" y="2939040"/>
              <a:ext cx="6780960" cy="326520"/>
              <a:chOff x="0" y="2939040"/>
              <a:chExt cx="6780960" cy="326520"/>
            </a:xfrm>
          </p:grpSpPr>
          <p:sp>
            <p:nvSpPr>
              <p:cNvPr id="586" name="Rectangle 32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33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ommissionWorker::Commission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irs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Group 34"/>
            <p:cNvGrpSpPr/>
            <p:nvPr/>
          </p:nvGrpSpPr>
          <p:grpSpPr>
            <a:xfrm>
              <a:off x="0" y="3265560"/>
              <a:ext cx="6780960" cy="326520"/>
              <a:chOff x="0" y="3265560"/>
              <a:chExt cx="6780960" cy="326520"/>
            </a:xfrm>
          </p:grpSpPr>
          <p:sp>
            <p:nvSpPr>
              <p:cNvPr id="589" name="Rectangle 35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Rectangle 36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a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q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Group 37"/>
            <p:cNvGrpSpPr/>
            <p:nvPr/>
          </p:nvGrpSpPr>
          <p:grpSpPr>
            <a:xfrm>
              <a:off x="0" y="3592440"/>
              <a:ext cx="6780960" cy="326520"/>
              <a:chOff x="0" y="3592440"/>
              <a:chExt cx="6780960" cy="326520"/>
            </a:xfrm>
          </p:grpSpPr>
          <p:sp>
            <p:nvSpPr>
              <p:cNvPr id="592" name="Rectangle 38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Rectangle 39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Employee( first, last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Group 40"/>
            <p:cNvGrpSpPr/>
            <p:nvPr/>
          </p:nvGrpSpPr>
          <p:grpSpPr>
            <a:xfrm>
              <a:off x="0" y="3918960"/>
              <a:ext cx="6780960" cy="326520"/>
              <a:chOff x="0" y="3918960"/>
              <a:chExt cx="6780960" cy="326520"/>
            </a:xfrm>
          </p:grpSpPr>
          <p:sp>
            <p:nvSpPr>
              <p:cNvPr id="595" name="Rectangle 41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Rectangle 42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Group 43"/>
            <p:cNvGrpSpPr/>
            <p:nvPr/>
          </p:nvGrpSpPr>
          <p:grpSpPr>
            <a:xfrm>
              <a:off x="0" y="4245480"/>
              <a:ext cx="6780960" cy="326520"/>
              <a:chOff x="0" y="4245480"/>
              <a:chExt cx="6780960" cy="326520"/>
            </a:xfrm>
          </p:grpSpPr>
          <p:sp>
            <p:nvSpPr>
              <p:cNvPr id="598" name="Rectangle 44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Rectangle 45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Salary( 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Group 46"/>
            <p:cNvGrpSpPr/>
            <p:nvPr/>
          </p:nvGrpSpPr>
          <p:grpSpPr>
            <a:xfrm>
              <a:off x="0" y="4572000"/>
              <a:ext cx="6780960" cy="326520"/>
              <a:chOff x="0" y="4572000"/>
              <a:chExt cx="6780960" cy="326520"/>
            </a:xfrm>
          </p:grpSpPr>
          <p:sp>
            <p:nvSpPr>
              <p:cNvPr id="601" name="Rectangle 47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Rectangle 48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Commission( c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Group 49"/>
            <p:cNvGrpSpPr/>
            <p:nvPr/>
          </p:nvGrpSpPr>
          <p:grpSpPr>
            <a:xfrm>
              <a:off x="0" y="4898520"/>
              <a:ext cx="6780960" cy="326520"/>
              <a:chOff x="0" y="4898520"/>
              <a:chExt cx="6780960" cy="326520"/>
            </a:xfrm>
          </p:grpSpPr>
          <p:sp>
            <p:nvSpPr>
              <p:cNvPr id="604" name="Rectangle 50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Rectangle 51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Quantity( q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Group 52"/>
            <p:cNvGrpSpPr/>
            <p:nvPr/>
          </p:nvGrpSpPr>
          <p:grpSpPr>
            <a:xfrm>
              <a:off x="0" y="5225040"/>
              <a:ext cx="6780960" cy="326520"/>
              <a:chOff x="0" y="5225040"/>
              <a:chExt cx="6780960" cy="326520"/>
            </a:xfrm>
          </p:grpSpPr>
          <p:sp>
            <p:nvSpPr>
              <p:cNvPr id="607" name="Rectangle 53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Rectangle 54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Group 55"/>
            <p:cNvGrpSpPr/>
            <p:nvPr/>
          </p:nvGrpSpPr>
          <p:grpSpPr>
            <a:xfrm>
              <a:off x="0" y="5551560"/>
              <a:ext cx="6780960" cy="326520"/>
              <a:chOff x="0" y="5551560"/>
              <a:chExt cx="6780960" cy="326520"/>
            </a:xfrm>
          </p:grpSpPr>
          <p:sp>
            <p:nvSpPr>
              <p:cNvPr id="610" name="Rectangle 56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Rectangle 57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Group 58"/>
            <p:cNvGrpSpPr/>
            <p:nvPr/>
          </p:nvGrpSpPr>
          <p:grpSpPr>
            <a:xfrm>
              <a:off x="0" y="5878080"/>
              <a:ext cx="6780960" cy="326520"/>
              <a:chOff x="0" y="5878080"/>
              <a:chExt cx="6780960" cy="326520"/>
            </a:xfrm>
          </p:grpSpPr>
          <p:sp>
            <p:nvSpPr>
              <p:cNvPr id="613" name="Rectangle 59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Rectangle 60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CommissionWorker's weekly base sala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Group 61"/>
            <p:cNvGrpSpPr/>
            <p:nvPr/>
          </p:nvGrpSpPr>
          <p:grpSpPr>
            <a:xfrm>
              <a:off x="0" y="6204600"/>
              <a:ext cx="6780960" cy="326520"/>
              <a:chOff x="0" y="6204600"/>
              <a:chExt cx="6780960" cy="326520"/>
            </a:xfrm>
          </p:grpSpPr>
          <p:sp>
            <p:nvSpPr>
              <p:cNvPr id="616" name="Rectangle 62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Rectangle 63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sionWorker::setSalar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Group 64"/>
            <p:cNvGrpSpPr/>
            <p:nvPr/>
          </p:nvGrpSpPr>
          <p:grpSpPr>
            <a:xfrm>
              <a:off x="0" y="6531480"/>
              <a:ext cx="6780960" cy="326520"/>
              <a:chOff x="0" y="6531480"/>
              <a:chExt cx="6780960" cy="326520"/>
            </a:xfrm>
          </p:grpSpPr>
          <p:sp>
            <p:nvSpPr>
              <p:cNvPr id="619" name="Rectangle 65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Rectangle 66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salary = s &gt; 0 ? s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07C8-696A-480B-BB80-EC55955C0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624" name="Group 4"/>
            <p:cNvGrpSpPr/>
            <p:nvPr/>
          </p:nvGrpSpPr>
          <p:grpSpPr>
            <a:xfrm>
              <a:off x="0" y="0"/>
              <a:ext cx="6780960" cy="360720"/>
              <a:chOff x="0" y="0"/>
              <a:chExt cx="6780960" cy="360720"/>
            </a:xfrm>
          </p:grpSpPr>
          <p:sp>
            <p:nvSpPr>
              <p:cNvPr id="625" name="Rectangle 5"/>
              <p:cNvSpPr/>
              <p:nvPr/>
            </p:nvSpPr>
            <p:spPr>
              <a:xfrm>
                <a:off x="0" y="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Rectangle 6"/>
              <p:cNvSpPr/>
              <p:nvPr/>
            </p:nvSpPr>
            <p:spPr>
              <a:xfrm>
                <a:off x="0" y="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Group 7"/>
            <p:cNvGrpSpPr/>
            <p:nvPr/>
          </p:nvGrpSpPr>
          <p:grpSpPr>
            <a:xfrm>
              <a:off x="0" y="360720"/>
              <a:ext cx="6780960" cy="360720"/>
              <a:chOff x="0" y="360720"/>
              <a:chExt cx="6780960" cy="360720"/>
            </a:xfrm>
          </p:grpSpPr>
          <p:sp>
            <p:nvSpPr>
              <p:cNvPr id="628" name="Rectangle 8"/>
              <p:cNvSpPr/>
              <p:nvPr/>
            </p:nvSpPr>
            <p:spPr>
              <a:xfrm>
                <a:off x="0" y="3607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Rectangle 9"/>
              <p:cNvSpPr/>
              <p:nvPr/>
            </p:nvSpPr>
            <p:spPr>
              <a:xfrm>
                <a:off x="0" y="3607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CommissionWorker's commiss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Group 10"/>
            <p:cNvGrpSpPr/>
            <p:nvPr/>
          </p:nvGrpSpPr>
          <p:grpSpPr>
            <a:xfrm>
              <a:off x="0" y="721800"/>
              <a:ext cx="6780960" cy="361080"/>
              <a:chOff x="0" y="721800"/>
              <a:chExt cx="6780960" cy="361080"/>
            </a:xfrm>
          </p:grpSpPr>
          <p:sp>
            <p:nvSpPr>
              <p:cNvPr id="631" name="Rectangle 11"/>
              <p:cNvSpPr/>
              <p:nvPr/>
            </p:nvSpPr>
            <p:spPr>
              <a:xfrm>
                <a:off x="0" y="72180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12"/>
              <p:cNvSpPr/>
              <p:nvPr/>
            </p:nvSpPr>
            <p:spPr>
              <a:xfrm>
                <a:off x="0" y="72180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sionWorker::setCommissio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Group 13"/>
            <p:cNvGrpSpPr/>
            <p:nvPr/>
          </p:nvGrpSpPr>
          <p:grpSpPr>
            <a:xfrm>
              <a:off x="0" y="1082880"/>
              <a:ext cx="6780960" cy="360720"/>
              <a:chOff x="0" y="1082880"/>
              <a:chExt cx="6780960" cy="360720"/>
            </a:xfrm>
          </p:grpSpPr>
          <p:sp>
            <p:nvSpPr>
              <p:cNvPr id="634" name="Rectangle 14"/>
              <p:cNvSpPr/>
              <p:nvPr/>
            </p:nvSpPr>
            <p:spPr>
              <a:xfrm>
                <a:off x="0" y="10828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15"/>
              <p:cNvSpPr/>
              <p:nvPr/>
            </p:nvSpPr>
            <p:spPr>
              <a:xfrm>
                <a:off x="0" y="10828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commission = c &gt; 0 ? c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Group 16"/>
            <p:cNvGrpSpPr/>
            <p:nvPr/>
          </p:nvGrpSpPr>
          <p:grpSpPr>
            <a:xfrm>
              <a:off x="0" y="1443600"/>
              <a:ext cx="6780960" cy="360720"/>
              <a:chOff x="0" y="1443600"/>
              <a:chExt cx="6780960" cy="360720"/>
            </a:xfrm>
          </p:grpSpPr>
          <p:sp>
            <p:nvSpPr>
              <p:cNvPr id="637" name="Rectangle 17"/>
              <p:cNvSpPr/>
              <p:nvPr/>
            </p:nvSpPr>
            <p:spPr>
              <a:xfrm>
                <a:off x="0" y="14436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18"/>
              <p:cNvSpPr/>
              <p:nvPr/>
            </p:nvSpPr>
            <p:spPr>
              <a:xfrm>
                <a:off x="0" y="14436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Group 19"/>
            <p:cNvGrpSpPr/>
            <p:nvPr/>
          </p:nvGrpSpPr>
          <p:grpSpPr>
            <a:xfrm>
              <a:off x="0" y="1804680"/>
              <a:ext cx="6780960" cy="360720"/>
              <a:chOff x="0" y="1804680"/>
              <a:chExt cx="6780960" cy="360720"/>
            </a:xfrm>
          </p:grpSpPr>
          <p:sp>
            <p:nvSpPr>
              <p:cNvPr id="640" name="Rectangle 20"/>
              <p:cNvSpPr/>
              <p:nvPr/>
            </p:nvSpPr>
            <p:spPr>
              <a:xfrm>
                <a:off x="0" y="18046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21"/>
              <p:cNvSpPr/>
              <p:nvPr/>
            </p:nvSpPr>
            <p:spPr>
              <a:xfrm>
                <a:off x="0" y="18046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CommissionWorker's quantity sol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Group 22"/>
            <p:cNvGrpSpPr/>
            <p:nvPr/>
          </p:nvGrpSpPr>
          <p:grpSpPr>
            <a:xfrm>
              <a:off x="0" y="2165400"/>
              <a:ext cx="6780960" cy="361080"/>
              <a:chOff x="0" y="2165400"/>
              <a:chExt cx="6780960" cy="361080"/>
            </a:xfrm>
          </p:grpSpPr>
          <p:sp>
            <p:nvSpPr>
              <p:cNvPr id="643" name="Rectangle 23"/>
              <p:cNvSpPr/>
              <p:nvPr/>
            </p:nvSpPr>
            <p:spPr>
              <a:xfrm>
                <a:off x="0" y="216540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Rectangle 24"/>
              <p:cNvSpPr/>
              <p:nvPr/>
            </p:nvSpPr>
            <p:spPr>
              <a:xfrm>
                <a:off x="0" y="216540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sionWorker::setQuantit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q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Group 25"/>
            <p:cNvGrpSpPr/>
            <p:nvPr/>
          </p:nvGrpSpPr>
          <p:grpSpPr>
            <a:xfrm>
              <a:off x="0" y="2526480"/>
              <a:ext cx="6780960" cy="360720"/>
              <a:chOff x="0" y="2526480"/>
              <a:chExt cx="6780960" cy="360720"/>
            </a:xfrm>
          </p:grpSpPr>
          <p:sp>
            <p:nvSpPr>
              <p:cNvPr id="646" name="Rectangle 26"/>
              <p:cNvSpPr/>
              <p:nvPr/>
            </p:nvSpPr>
            <p:spPr>
              <a:xfrm>
                <a:off x="0" y="25264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Rectangle 27"/>
              <p:cNvSpPr/>
              <p:nvPr/>
            </p:nvSpPr>
            <p:spPr>
              <a:xfrm>
                <a:off x="0" y="25264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quantity = q &gt; 0 ? q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Group 28"/>
            <p:cNvGrpSpPr/>
            <p:nvPr/>
          </p:nvGrpSpPr>
          <p:grpSpPr>
            <a:xfrm>
              <a:off x="0" y="2887560"/>
              <a:ext cx="6780960" cy="360720"/>
              <a:chOff x="0" y="2887560"/>
              <a:chExt cx="6780960" cy="360720"/>
            </a:xfrm>
          </p:grpSpPr>
          <p:sp>
            <p:nvSpPr>
              <p:cNvPr id="649" name="Rectangle 29"/>
              <p:cNvSpPr/>
              <p:nvPr/>
            </p:nvSpPr>
            <p:spPr>
              <a:xfrm>
                <a:off x="0" y="288756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Rectangle 30"/>
              <p:cNvSpPr/>
              <p:nvPr/>
            </p:nvSpPr>
            <p:spPr>
              <a:xfrm>
                <a:off x="0" y="288756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Group 31"/>
            <p:cNvGrpSpPr/>
            <p:nvPr/>
          </p:nvGrpSpPr>
          <p:grpSpPr>
            <a:xfrm>
              <a:off x="0" y="3248280"/>
              <a:ext cx="6780960" cy="360720"/>
              <a:chOff x="0" y="3248280"/>
              <a:chExt cx="6780960" cy="360720"/>
            </a:xfrm>
          </p:grpSpPr>
          <p:sp>
            <p:nvSpPr>
              <p:cNvPr id="652" name="Rectangle 32"/>
              <p:cNvSpPr/>
              <p:nvPr/>
            </p:nvSpPr>
            <p:spPr>
              <a:xfrm>
                <a:off x="0" y="32482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Rectangle 33"/>
              <p:cNvSpPr/>
              <p:nvPr/>
            </p:nvSpPr>
            <p:spPr>
              <a:xfrm>
                <a:off x="0" y="32482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termine CommissionWorker's earn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Group 34"/>
            <p:cNvGrpSpPr/>
            <p:nvPr/>
          </p:nvGrpSpPr>
          <p:grpSpPr>
            <a:xfrm>
              <a:off x="0" y="3609360"/>
              <a:ext cx="6780960" cy="361080"/>
              <a:chOff x="0" y="3609360"/>
              <a:chExt cx="6780960" cy="361080"/>
            </a:xfrm>
          </p:grpSpPr>
          <p:sp>
            <p:nvSpPr>
              <p:cNvPr id="655" name="Rectangle 35"/>
              <p:cNvSpPr/>
              <p:nvPr/>
            </p:nvSpPr>
            <p:spPr>
              <a:xfrm>
                <a:off x="0" y="360936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Rectangle 36"/>
              <p:cNvSpPr/>
              <p:nvPr/>
            </p:nvSpPr>
            <p:spPr>
              <a:xfrm>
                <a:off x="0" y="360936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sionWorker::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Group 37"/>
            <p:cNvGrpSpPr/>
            <p:nvPr/>
          </p:nvGrpSpPr>
          <p:grpSpPr>
            <a:xfrm>
              <a:off x="0" y="3970440"/>
              <a:ext cx="6780960" cy="360720"/>
              <a:chOff x="0" y="3970440"/>
              <a:chExt cx="6780960" cy="360720"/>
            </a:xfrm>
          </p:grpSpPr>
          <p:sp>
            <p:nvSpPr>
              <p:cNvPr id="658" name="Rectangle 38"/>
              <p:cNvSpPr/>
              <p:nvPr/>
            </p:nvSpPr>
            <p:spPr>
              <a:xfrm>
                <a:off x="0" y="397044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Rectangle 39"/>
              <p:cNvSpPr/>
              <p:nvPr/>
            </p:nvSpPr>
            <p:spPr>
              <a:xfrm>
                <a:off x="0" y="397044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alary + commission * quantity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Group 40"/>
            <p:cNvGrpSpPr/>
            <p:nvPr/>
          </p:nvGrpSpPr>
          <p:grpSpPr>
            <a:xfrm>
              <a:off x="0" y="4331520"/>
              <a:ext cx="6780960" cy="360720"/>
              <a:chOff x="0" y="4331520"/>
              <a:chExt cx="6780960" cy="360720"/>
            </a:xfrm>
          </p:grpSpPr>
          <p:sp>
            <p:nvSpPr>
              <p:cNvPr id="661" name="Rectangle 41"/>
              <p:cNvSpPr/>
              <p:nvPr/>
            </p:nvSpPr>
            <p:spPr>
              <a:xfrm>
                <a:off x="0" y="43315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Rectangle 42"/>
              <p:cNvSpPr/>
              <p:nvPr/>
            </p:nvSpPr>
            <p:spPr>
              <a:xfrm>
                <a:off x="0" y="43315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Group 43"/>
            <p:cNvGrpSpPr/>
            <p:nvPr/>
          </p:nvGrpSpPr>
          <p:grpSpPr>
            <a:xfrm>
              <a:off x="0" y="4692240"/>
              <a:ext cx="6780960" cy="360720"/>
              <a:chOff x="0" y="4692240"/>
              <a:chExt cx="6780960" cy="360720"/>
            </a:xfrm>
          </p:grpSpPr>
          <p:sp>
            <p:nvSpPr>
              <p:cNvPr id="664" name="Rectangle 44"/>
              <p:cNvSpPr/>
              <p:nvPr/>
            </p:nvSpPr>
            <p:spPr>
              <a:xfrm>
                <a:off x="0" y="469224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Rectangle 45"/>
              <p:cNvSpPr/>
              <p:nvPr/>
            </p:nvSpPr>
            <p:spPr>
              <a:xfrm>
                <a:off x="0" y="469224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the CommissionWorker's na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Group 46"/>
            <p:cNvGrpSpPr/>
            <p:nvPr/>
          </p:nvGrpSpPr>
          <p:grpSpPr>
            <a:xfrm>
              <a:off x="0" y="5053320"/>
              <a:ext cx="6780960" cy="361080"/>
              <a:chOff x="0" y="5053320"/>
              <a:chExt cx="6780960" cy="361080"/>
            </a:xfrm>
          </p:grpSpPr>
          <p:sp>
            <p:nvSpPr>
              <p:cNvPr id="667" name="Rectangle 47"/>
              <p:cNvSpPr/>
              <p:nvPr/>
            </p:nvSpPr>
            <p:spPr>
              <a:xfrm>
                <a:off x="0" y="505332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Rectangle 48"/>
              <p:cNvSpPr/>
              <p:nvPr/>
            </p:nvSpPr>
            <p:spPr>
              <a:xfrm>
                <a:off x="0" y="505332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sionWork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Group 49"/>
            <p:cNvGrpSpPr/>
            <p:nvPr/>
          </p:nvGrpSpPr>
          <p:grpSpPr>
            <a:xfrm>
              <a:off x="0" y="5414400"/>
              <a:ext cx="6780960" cy="360720"/>
              <a:chOff x="0" y="5414400"/>
              <a:chExt cx="6780960" cy="360720"/>
            </a:xfrm>
          </p:grpSpPr>
          <p:sp>
            <p:nvSpPr>
              <p:cNvPr id="670" name="Rectangle 50"/>
              <p:cNvSpPr/>
              <p:nvPr/>
            </p:nvSpPr>
            <p:spPr>
              <a:xfrm>
                <a:off x="0" y="54144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Rectangle 51"/>
              <p:cNvSpPr/>
              <p:nvPr/>
            </p:nvSpPr>
            <p:spPr>
              <a:xfrm>
                <a:off x="0" y="54144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Group 52"/>
            <p:cNvGrpSpPr/>
            <p:nvPr/>
          </p:nvGrpSpPr>
          <p:grpSpPr>
            <a:xfrm>
              <a:off x="0" y="5775120"/>
              <a:ext cx="6780960" cy="360720"/>
              <a:chOff x="0" y="5775120"/>
              <a:chExt cx="6780960" cy="360720"/>
            </a:xfrm>
          </p:grpSpPr>
          <p:sp>
            <p:nvSpPr>
              <p:cNvPr id="673" name="Rectangle 53"/>
              <p:cNvSpPr/>
              <p:nvPr/>
            </p:nvSpPr>
            <p:spPr>
              <a:xfrm>
                <a:off x="0" y="57751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Rectangle 54"/>
              <p:cNvSpPr/>
              <p:nvPr/>
            </p:nvSpPr>
            <p:spPr>
              <a:xfrm>
                <a:off x="0" y="57751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Commission work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55"/>
            <p:cNvGrpSpPr/>
            <p:nvPr/>
          </p:nvGrpSpPr>
          <p:grpSpPr>
            <a:xfrm>
              <a:off x="0" y="6136200"/>
              <a:ext cx="6780960" cy="360720"/>
              <a:chOff x="0" y="6136200"/>
              <a:chExt cx="6780960" cy="360720"/>
            </a:xfrm>
          </p:grpSpPr>
          <p:sp>
            <p:nvSpPr>
              <p:cNvPr id="676" name="Rectangle 56"/>
              <p:cNvSpPr/>
              <p:nvPr/>
            </p:nvSpPr>
            <p:spPr>
              <a:xfrm>
                <a:off x="0" y="61362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Rectangle 57"/>
              <p:cNvSpPr/>
              <p:nvPr/>
            </p:nvSpPr>
            <p:spPr>
              <a:xfrm>
                <a:off x="0" y="61362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Group 58"/>
            <p:cNvGrpSpPr/>
            <p:nvPr/>
          </p:nvGrpSpPr>
          <p:grpSpPr>
            <a:xfrm>
              <a:off x="0" y="6496920"/>
              <a:ext cx="6780960" cy="360720"/>
              <a:chOff x="0" y="6496920"/>
              <a:chExt cx="6780960" cy="360720"/>
            </a:xfrm>
          </p:grpSpPr>
          <p:sp>
            <p:nvSpPr>
              <p:cNvPr id="679" name="Rectangle 59"/>
              <p:cNvSpPr/>
              <p:nvPr/>
            </p:nvSpPr>
            <p:spPr>
              <a:xfrm>
                <a:off x="0" y="64969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Rectangle 60"/>
              <p:cNvSpPr/>
              <p:nvPr/>
            </p:nvSpPr>
            <p:spPr>
              <a:xfrm>
                <a:off x="0" y="64969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1" name="Group 61"/>
          <p:cNvGrpSpPr/>
          <p:nvPr/>
        </p:nvGrpSpPr>
        <p:grpSpPr>
          <a:xfrm>
            <a:off x="3276360" y="2666880"/>
            <a:ext cx="5029560" cy="2361960"/>
            <a:chOff x="3276360" y="2666880"/>
            <a:chExt cx="5029560" cy="2361960"/>
          </a:xfrm>
        </p:grpSpPr>
        <p:grpSp>
          <p:nvGrpSpPr>
            <p:cNvPr id="682" name="Group 62"/>
            <p:cNvGrpSpPr/>
            <p:nvPr/>
          </p:nvGrpSpPr>
          <p:grpSpPr>
            <a:xfrm>
              <a:off x="3733560" y="2666880"/>
              <a:ext cx="4572360" cy="1681200"/>
              <a:chOff x="3733560" y="2666880"/>
              <a:chExt cx="4572360" cy="1681200"/>
            </a:xfrm>
          </p:grpSpPr>
          <p:sp>
            <p:nvSpPr>
              <p:cNvPr id="683" name="Text Box 63"/>
              <p:cNvSpPr/>
              <p:nvPr/>
            </p:nvSpPr>
            <p:spPr>
              <a:xfrm>
                <a:off x="6248520" y="2666880"/>
                <a:ext cx="2057400" cy="1681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otice the override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earning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an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pri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function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hey were declare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virtua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in the base clas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64"/>
              <p:cNvSpPr/>
              <p:nvPr/>
            </p:nvSpPr>
            <p:spPr>
              <a:xfrm flipH="1">
                <a:off x="3733560" y="2971440"/>
                <a:ext cx="25146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5" name="Line 65"/>
            <p:cNvSpPr/>
            <p:nvPr/>
          </p:nvSpPr>
          <p:spPr>
            <a:xfrm flipH="1">
              <a:off x="3276360" y="2971440"/>
              <a:ext cx="29718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6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E450-D666-45BE-AFC0-4D81E6C77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eceWorker 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Definition (derived cl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689" name="Group 4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690" name="Rectangle 5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Rectangle 6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piec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Group 7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693" name="Rectangle 8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Rectangle 9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ieceWorker class derived from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Group 10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696" name="Rectangle 11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Rectangle 12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IEC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Group 13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699" name="Rectangle 14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Rectangle 15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IEC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Group 16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702" name="Rectangle 17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Rectangle 18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19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705" name="Rectangle 20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Rectangle 21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Group 22"/>
            <p:cNvGrpSpPr/>
            <p:nvPr/>
          </p:nvGrpSpPr>
          <p:grpSpPr>
            <a:xfrm>
              <a:off x="0" y="2057040"/>
              <a:ext cx="6780960" cy="342720"/>
              <a:chOff x="0" y="2057040"/>
              <a:chExt cx="6780960" cy="342720"/>
            </a:xfrm>
          </p:grpSpPr>
          <p:sp>
            <p:nvSpPr>
              <p:cNvPr id="708" name="Rectangle 23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Rectangle 24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ieceWork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Group 25"/>
            <p:cNvGrpSpPr/>
            <p:nvPr/>
          </p:nvGrpSpPr>
          <p:grpSpPr>
            <a:xfrm>
              <a:off x="0" y="2400120"/>
              <a:ext cx="6780960" cy="342720"/>
              <a:chOff x="0" y="2400120"/>
              <a:chExt cx="6780960" cy="342720"/>
            </a:xfrm>
          </p:grpSpPr>
          <p:sp>
            <p:nvSpPr>
              <p:cNvPr id="711" name="Rectangle 26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Rectangle 27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28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714" name="Rectangle 29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Rectangle 30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iece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Group 31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717" name="Rectangle 32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Rectangle 33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Group 34"/>
            <p:cNvGrpSpPr/>
            <p:nvPr/>
          </p:nvGrpSpPr>
          <p:grpSpPr>
            <a:xfrm>
              <a:off x="0" y="3428640"/>
              <a:ext cx="6780960" cy="342720"/>
              <a:chOff x="0" y="3428640"/>
              <a:chExt cx="6780960" cy="342720"/>
            </a:xfrm>
          </p:grpSpPr>
          <p:sp>
            <p:nvSpPr>
              <p:cNvPr id="720" name="Rectangle 35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Rectangle 36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W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Group 37"/>
            <p:cNvGrpSpPr/>
            <p:nvPr/>
          </p:nvGrpSpPr>
          <p:grpSpPr>
            <a:xfrm>
              <a:off x="0" y="3771720"/>
              <a:ext cx="6780960" cy="342720"/>
              <a:chOff x="0" y="3771720"/>
              <a:chExt cx="6780960" cy="342720"/>
            </a:xfrm>
          </p:grpSpPr>
          <p:sp>
            <p:nvSpPr>
              <p:cNvPr id="723" name="Rectangle 38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Rectangle 39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Quantit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Group 40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726" name="Rectangle 41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Rectangle 42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Group 43"/>
            <p:cNvGrpSpPr/>
            <p:nvPr/>
          </p:nvGrpSpPr>
          <p:grpSpPr>
            <a:xfrm>
              <a:off x="0" y="4457520"/>
              <a:ext cx="6780960" cy="342720"/>
              <a:chOff x="0" y="4457520"/>
              <a:chExt cx="6780960" cy="342720"/>
            </a:xfrm>
          </p:grpSpPr>
          <p:sp>
            <p:nvSpPr>
              <p:cNvPr id="729" name="Rectangle 44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Rectangle 45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Group 46"/>
            <p:cNvGrpSpPr/>
            <p:nvPr/>
          </p:nvGrpSpPr>
          <p:grpSpPr>
            <a:xfrm>
              <a:off x="0" y="4800600"/>
              <a:ext cx="6780960" cy="342720"/>
              <a:chOff x="0" y="4800600"/>
              <a:chExt cx="6780960" cy="342720"/>
            </a:xfrm>
          </p:grpSpPr>
          <p:sp>
            <p:nvSpPr>
              <p:cNvPr id="732" name="Rectangle 47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Rectangle 48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Group 49"/>
            <p:cNvGrpSpPr/>
            <p:nvPr/>
          </p:nvGrpSpPr>
          <p:grpSpPr>
            <a:xfrm>
              <a:off x="0" y="5143320"/>
              <a:ext cx="6780960" cy="342720"/>
              <a:chOff x="0" y="5143320"/>
              <a:chExt cx="6780960" cy="342720"/>
            </a:xfrm>
          </p:grpSpPr>
          <p:sp>
            <p:nvSpPr>
              <p:cNvPr id="735" name="Rectangle 50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Rectangle 51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agePerPiec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wage for each piece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Group 52"/>
            <p:cNvGrpSpPr/>
            <p:nvPr/>
          </p:nvGrpSpPr>
          <p:grpSpPr>
            <a:xfrm>
              <a:off x="0" y="5486400"/>
              <a:ext cx="6780960" cy="342720"/>
              <a:chOff x="0" y="5486400"/>
              <a:chExt cx="6780960" cy="342720"/>
            </a:xfrm>
          </p:grpSpPr>
          <p:sp>
            <p:nvSpPr>
              <p:cNvPr id="738" name="Rectangle 53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Rectangle 54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quantity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output fo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Group 55"/>
            <p:cNvGrpSpPr/>
            <p:nvPr/>
          </p:nvGrpSpPr>
          <p:grpSpPr>
            <a:xfrm>
              <a:off x="0" y="5829120"/>
              <a:ext cx="6780960" cy="342720"/>
              <a:chOff x="0" y="5829120"/>
              <a:chExt cx="6780960" cy="342720"/>
            </a:xfrm>
          </p:grpSpPr>
          <p:sp>
            <p:nvSpPr>
              <p:cNvPr id="741" name="Rectangle 56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Rectangle 57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Group 58"/>
            <p:cNvGrpSpPr/>
            <p:nvPr/>
          </p:nvGrpSpPr>
          <p:grpSpPr>
            <a:xfrm>
              <a:off x="0" y="6172200"/>
              <a:ext cx="6780960" cy="342720"/>
              <a:chOff x="0" y="6172200"/>
              <a:chExt cx="6780960" cy="342720"/>
            </a:xfrm>
          </p:grpSpPr>
          <p:sp>
            <p:nvSpPr>
              <p:cNvPr id="744" name="Rectangle 59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Rectangle 60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Group 61"/>
            <p:cNvGrpSpPr/>
            <p:nvPr/>
          </p:nvGrpSpPr>
          <p:grpSpPr>
            <a:xfrm>
              <a:off x="0" y="6514920"/>
              <a:ext cx="6780960" cy="342720"/>
              <a:chOff x="0" y="6514920"/>
              <a:chExt cx="6780960" cy="342720"/>
            </a:xfrm>
          </p:grpSpPr>
          <p:sp>
            <p:nvSpPr>
              <p:cNvPr id="747" name="Rectangle 62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Rectangle 63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C0F7-1355-4A5F-857B-54E0AD9DF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752" name="Group 4"/>
            <p:cNvGrpSpPr/>
            <p:nvPr/>
          </p:nvGrpSpPr>
          <p:grpSpPr>
            <a:xfrm>
              <a:off x="0" y="0"/>
              <a:ext cx="6780960" cy="195840"/>
              <a:chOff x="0" y="0"/>
              <a:chExt cx="6780960" cy="195840"/>
            </a:xfrm>
          </p:grpSpPr>
          <p:sp>
            <p:nvSpPr>
              <p:cNvPr id="753" name="Rectangle 5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Rectangle 6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piec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Group 7"/>
            <p:cNvGrpSpPr/>
            <p:nvPr/>
          </p:nvGrpSpPr>
          <p:grpSpPr>
            <a:xfrm>
              <a:off x="0" y="195840"/>
              <a:ext cx="6780960" cy="195840"/>
              <a:chOff x="0" y="195840"/>
              <a:chExt cx="6780960" cy="195840"/>
            </a:xfrm>
          </p:grpSpPr>
          <p:sp>
            <p:nvSpPr>
              <p:cNvPr id="756" name="Rectangle 8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Rectangle 9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Piece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Group 10"/>
            <p:cNvGrpSpPr/>
            <p:nvPr/>
          </p:nvGrpSpPr>
          <p:grpSpPr>
            <a:xfrm>
              <a:off x="0" y="391680"/>
              <a:ext cx="6780960" cy="195840"/>
              <a:chOff x="0" y="391680"/>
              <a:chExt cx="6780960" cy="195840"/>
            </a:xfrm>
          </p:grpSpPr>
          <p:sp>
            <p:nvSpPr>
              <p:cNvPr id="759" name="Rectangle 11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Rectangle 12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Group 13"/>
            <p:cNvGrpSpPr/>
            <p:nvPr/>
          </p:nvGrpSpPr>
          <p:grpSpPr>
            <a:xfrm>
              <a:off x="0" y="587880"/>
              <a:ext cx="6780960" cy="195840"/>
              <a:chOff x="0" y="587880"/>
              <a:chExt cx="6780960" cy="195840"/>
            </a:xfrm>
          </p:grpSpPr>
          <p:sp>
            <p:nvSpPr>
              <p:cNvPr id="762" name="Rectangle 14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Rectangle 15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Group 16"/>
            <p:cNvGrpSpPr/>
            <p:nvPr/>
          </p:nvGrpSpPr>
          <p:grpSpPr>
            <a:xfrm>
              <a:off x="0" y="783720"/>
              <a:ext cx="6780960" cy="195840"/>
              <a:chOff x="0" y="783720"/>
              <a:chExt cx="6780960" cy="195840"/>
            </a:xfrm>
          </p:grpSpPr>
          <p:sp>
            <p:nvSpPr>
              <p:cNvPr id="765" name="Rectangle 17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Rectangle 18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Group 19"/>
            <p:cNvGrpSpPr/>
            <p:nvPr/>
          </p:nvGrpSpPr>
          <p:grpSpPr>
            <a:xfrm>
              <a:off x="0" y="979560"/>
              <a:ext cx="6780960" cy="195840"/>
              <a:chOff x="0" y="979560"/>
              <a:chExt cx="6780960" cy="195840"/>
            </a:xfrm>
          </p:grpSpPr>
          <p:sp>
            <p:nvSpPr>
              <p:cNvPr id="768" name="Rectangle 20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Rectangle 21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Group 22"/>
            <p:cNvGrpSpPr/>
            <p:nvPr/>
          </p:nvGrpSpPr>
          <p:grpSpPr>
            <a:xfrm>
              <a:off x="0" y="1175400"/>
              <a:ext cx="6780960" cy="195840"/>
              <a:chOff x="0" y="1175400"/>
              <a:chExt cx="6780960" cy="195840"/>
            </a:xfrm>
          </p:grpSpPr>
          <p:sp>
            <p:nvSpPr>
              <p:cNvPr id="771" name="Rectangle 23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Rectangle 24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iec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Group 25"/>
            <p:cNvGrpSpPr/>
            <p:nvPr/>
          </p:nvGrpSpPr>
          <p:grpSpPr>
            <a:xfrm>
              <a:off x="0" y="1371600"/>
              <a:ext cx="6780960" cy="195840"/>
              <a:chOff x="0" y="1371600"/>
              <a:chExt cx="6780960" cy="195840"/>
            </a:xfrm>
          </p:grpSpPr>
          <p:sp>
            <p:nvSpPr>
              <p:cNvPr id="774" name="Rectangle 26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27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Group 28"/>
            <p:cNvGrpSpPr/>
            <p:nvPr/>
          </p:nvGrpSpPr>
          <p:grpSpPr>
            <a:xfrm>
              <a:off x="0" y="1567440"/>
              <a:ext cx="6780960" cy="195840"/>
              <a:chOff x="0" y="1567440"/>
              <a:chExt cx="6780960" cy="195840"/>
            </a:xfrm>
          </p:grpSpPr>
          <p:sp>
            <p:nvSpPr>
              <p:cNvPr id="777" name="Rectangle 29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30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or class Piece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31"/>
            <p:cNvGrpSpPr/>
            <p:nvPr/>
          </p:nvGrpSpPr>
          <p:grpSpPr>
            <a:xfrm>
              <a:off x="0" y="1763280"/>
              <a:ext cx="6780960" cy="195840"/>
              <a:chOff x="0" y="1763280"/>
              <a:chExt cx="6780960" cy="195840"/>
            </a:xfrm>
          </p:grpSpPr>
          <p:sp>
            <p:nvSpPr>
              <p:cNvPr id="780" name="Rectangle 32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33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ieceWorker::Piece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ast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34"/>
            <p:cNvGrpSpPr/>
            <p:nvPr/>
          </p:nvGrpSpPr>
          <p:grpSpPr>
            <a:xfrm>
              <a:off x="0" y="1959120"/>
              <a:ext cx="6780960" cy="195840"/>
              <a:chOff x="0" y="1959120"/>
              <a:chExt cx="6780960" cy="195840"/>
            </a:xfrm>
          </p:grpSpPr>
          <p:sp>
            <p:nvSpPr>
              <p:cNvPr id="783" name="Rectangle 35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Rectangle 36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q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Group 37"/>
            <p:cNvGrpSpPr/>
            <p:nvPr/>
          </p:nvGrpSpPr>
          <p:grpSpPr>
            <a:xfrm>
              <a:off x="0" y="2155320"/>
              <a:ext cx="6780960" cy="195840"/>
              <a:chOff x="0" y="2155320"/>
              <a:chExt cx="6780960" cy="195840"/>
            </a:xfrm>
          </p:grpSpPr>
          <p:sp>
            <p:nvSpPr>
              <p:cNvPr id="786" name="Rectangle 38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Rectangle 39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Employee( first, last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Group 40"/>
            <p:cNvGrpSpPr/>
            <p:nvPr/>
          </p:nvGrpSpPr>
          <p:grpSpPr>
            <a:xfrm>
              <a:off x="0" y="2351160"/>
              <a:ext cx="6780960" cy="195840"/>
              <a:chOff x="0" y="2351160"/>
              <a:chExt cx="6780960" cy="195840"/>
            </a:xfrm>
          </p:grpSpPr>
          <p:sp>
            <p:nvSpPr>
              <p:cNvPr id="789" name="Rectangle 41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Rectangle 42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Group 43"/>
            <p:cNvGrpSpPr/>
            <p:nvPr/>
          </p:nvGrpSpPr>
          <p:grpSpPr>
            <a:xfrm>
              <a:off x="0" y="2547000"/>
              <a:ext cx="6780960" cy="195840"/>
              <a:chOff x="0" y="2547000"/>
              <a:chExt cx="6780960" cy="195840"/>
            </a:xfrm>
          </p:grpSpPr>
          <p:sp>
            <p:nvSpPr>
              <p:cNvPr id="792" name="Rectangle 44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Rectangle 45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Wage( w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Group 46"/>
            <p:cNvGrpSpPr/>
            <p:nvPr/>
          </p:nvGrpSpPr>
          <p:grpSpPr>
            <a:xfrm>
              <a:off x="0" y="2743200"/>
              <a:ext cx="6780960" cy="195840"/>
              <a:chOff x="0" y="2743200"/>
              <a:chExt cx="6780960" cy="195840"/>
            </a:xfrm>
          </p:grpSpPr>
          <p:sp>
            <p:nvSpPr>
              <p:cNvPr id="795" name="Rectangle 47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Rectangle 48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Quantity( q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Group 49"/>
            <p:cNvGrpSpPr/>
            <p:nvPr/>
          </p:nvGrpSpPr>
          <p:grpSpPr>
            <a:xfrm>
              <a:off x="0" y="2939040"/>
              <a:ext cx="6780960" cy="195840"/>
              <a:chOff x="0" y="2939040"/>
              <a:chExt cx="6780960" cy="195840"/>
            </a:xfrm>
          </p:grpSpPr>
          <p:sp>
            <p:nvSpPr>
              <p:cNvPr id="798" name="Rectangle 50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Rectangle 51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Group 52"/>
            <p:cNvGrpSpPr/>
            <p:nvPr/>
          </p:nvGrpSpPr>
          <p:grpSpPr>
            <a:xfrm>
              <a:off x="0" y="3134880"/>
              <a:ext cx="6780960" cy="195840"/>
              <a:chOff x="0" y="3134880"/>
              <a:chExt cx="6780960" cy="195840"/>
            </a:xfrm>
          </p:grpSpPr>
          <p:sp>
            <p:nvSpPr>
              <p:cNvPr id="801" name="Rectangle 53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Rectangle 54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Group 55"/>
            <p:cNvGrpSpPr/>
            <p:nvPr/>
          </p:nvGrpSpPr>
          <p:grpSpPr>
            <a:xfrm>
              <a:off x="0" y="3331080"/>
              <a:ext cx="6780960" cy="195840"/>
              <a:chOff x="0" y="3331080"/>
              <a:chExt cx="6780960" cy="195840"/>
            </a:xfrm>
          </p:grpSpPr>
          <p:sp>
            <p:nvSpPr>
              <p:cNvPr id="804" name="Rectangle 56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Rectangle 57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w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Group 58"/>
            <p:cNvGrpSpPr/>
            <p:nvPr/>
          </p:nvGrpSpPr>
          <p:grpSpPr>
            <a:xfrm>
              <a:off x="0" y="3526920"/>
              <a:ext cx="6780960" cy="195840"/>
              <a:chOff x="0" y="3526920"/>
              <a:chExt cx="6780960" cy="195840"/>
            </a:xfrm>
          </p:grpSpPr>
          <p:sp>
            <p:nvSpPr>
              <p:cNvPr id="807" name="Rectangle 59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Rectangle 60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ieceWorker::setW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Group 61"/>
            <p:cNvGrpSpPr/>
            <p:nvPr/>
          </p:nvGrpSpPr>
          <p:grpSpPr>
            <a:xfrm>
              <a:off x="0" y="3722760"/>
              <a:ext cx="6780960" cy="195840"/>
              <a:chOff x="0" y="3722760"/>
              <a:chExt cx="6780960" cy="195840"/>
            </a:xfrm>
          </p:grpSpPr>
          <p:sp>
            <p:nvSpPr>
              <p:cNvPr id="810" name="Rectangle 62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Rectangle 63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wagePerPiece = w &gt; 0 ? w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Group 64"/>
            <p:cNvGrpSpPr/>
            <p:nvPr/>
          </p:nvGrpSpPr>
          <p:grpSpPr>
            <a:xfrm>
              <a:off x="0" y="3918960"/>
              <a:ext cx="6780960" cy="195840"/>
              <a:chOff x="0" y="3918960"/>
              <a:chExt cx="6780960" cy="195840"/>
            </a:xfrm>
          </p:grpSpPr>
          <p:sp>
            <p:nvSpPr>
              <p:cNvPr id="813" name="Rectangle 65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Rectangle 66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Group 67"/>
            <p:cNvGrpSpPr/>
            <p:nvPr/>
          </p:nvGrpSpPr>
          <p:grpSpPr>
            <a:xfrm>
              <a:off x="0" y="4114800"/>
              <a:ext cx="6780960" cy="195840"/>
              <a:chOff x="0" y="4114800"/>
              <a:chExt cx="6780960" cy="195840"/>
            </a:xfrm>
          </p:grpSpPr>
          <p:sp>
            <p:nvSpPr>
              <p:cNvPr id="816" name="Rectangle 68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Rectangle 69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number of items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Group 70"/>
            <p:cNvGrpSpPr/>
            <p:nvPr/>
          </p:nvGrpSpPr>
          <p:grpSpPr>
            <a:xfrm>
              <a:off x="0" y="4310640"/>
              <a:ext cx="6780960" cy="195840"/>
              <a:chOff x="0" y="4310640"/>
              <a:chExt cx="6780960" cy="195840"/>
            </a:xfrm>
          </p:grpSpPr>
          <p:sp>
            <p:nvSpPr>
              <p:cNvPr id="819" name="Rectangle 71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Rectangle 72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ieceWorker::setQuantit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q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Group 73"/>
            <p:cNvGrpSpPr/>
            <p:nvPr/>
          </p:nvGrpSpPr>
          <p:grpSpPr>
            <a:xfrm>
              <a:off x="0" y="4506480"/>
              <a:ext cx="6780960" cy="195840"/>
              <a:chOff x="0" y="4506480"/>
              <a:chExt cx="6780960" cy="195840"/>
            </a:xfrm>
          </p:grpSpPr>
          <p:sp>
            <p:nvSpPr>
              <p:cNvPr id="822" name="Rectangle 74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Rectangle 75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quantity = q &gt; 0 ? q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Group 76"/>
            <p:cNvGrpSpPr/>
            <p:nvPr/>
          </p:nvGrpSpPr>
          <p:grpSpPr>
            <a:xfrm>
              <a:off x="0" y="4702680"/>
              <a:ext cx="6780960" cy="195840"/>
              <a:chOff x="0" y="4702680"/>
              <a:chExt cx="6780960" cy="195840"/>
            </a:xfrm>
          </p:grpSpPr>
          <p:sp>
            <p:nvSpPr>
              <p:cNvPr id="825" name="Rectangle 77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Rectangle 78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Group 79"/>
            <p:cNvGrpSpPr/>
            <p:nvPr/>
          </p:nvGrpSpPr>
          <p:grpSpPr>
            <a:xfrm>
              <a:off x="0" y="4898520"/>
              <a:ext cx="6780960" cy="195840"/>
              <a:chOff x="0" y="4898520"/>
              <a:chExt cx="6780960" cy="195840"/>
            </a:xfrm>
          </p:grpSpPr>
          <p:sp>
            <p:nvSpPr>
              <p:cNvPr id="828" name="Rectangle 80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Rectangle 81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termine the PieceWorker's earn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Group 82"/>
            <p:cNvGrpSpPr/>
            <p:nvPr/>
          </p:nvGrpSpPr>
          <p:grpSpPr>
            <a:xfrm>
              <a:off x="0" y="5094360"/>
              <a:ext cx="6780960" cy="195840"/>
              <a:chOff x="0" y="5094360"/>
              <a:chExt cx="6780960" cy="195840"/>
            </a:xfrm>
          </p:grpSpPr>
          <p:sp>
            <p:nvSpPr>
              <p:cNvPr id="831" name="Rectangle 83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Rectangle 84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ieceWorker::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Group 85"/>
            <p:cNvGrpSpPr/>
            <p:nvPr/>
          </p:nvGrpSpPr>
          <p:grpSpPr>
            <a:xfrm>
              <a:off x="0" y="5290560"/>
              <a:ext cx="6780960" cy="195840"/>
              <a:chOff x="0" y="5290560"/>
              <a:chExt cx="6780960" cy="195840"/>
            </a:xfrm>
          </p:grpSpPr>
          <p:sp>
            <p:nvSpPr>
              <p:cNvPr id="834" name="Rectangle 86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Rectangle 87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quantity * wagePerPiec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Group 88"/>
            <p:cNvGrpSpPr/>
            <p:nvPr/>
          </p:nvGrpSpPr>
          <p:grpSpPr>
            <a:xfrm>
              <a:off x="0" y="5486400"/>
              <a:ext cx="6780960" cy="195840"/>
              <a:chOff x="0" y="5486400"/>
              <a:chExt cx="6780960" cy="195840"/>
            </a:xfrm>
          </p:grpSpPr>
          <p:sp>
            <p:nvSpPr>
              <p:cNvPr id="837" name="Rectangle 89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Rectangle 90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Group 91"/>
            <p:cNvGrpSpPr/>
            <p:nvPr/>
          </p:nvGrpSpPr>
          <p:grpSpPr>
            <a:xfrm>
              <a:off x="0" y="5682240"/>
              <a:ext cx="6780960" cy="195840"/>
              <a:chOff x="0" y="5682240"/>
              <a:chExt cx="6780960" cy="195840"/>
            </a:xfrm>
          </p:grpSpPr>
          <p:sp>
            <p:nvSpPr>
              <p:cNvPr id="840" name="Rectangle 92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Rectangle 93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the PieceWorker's na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Group 94"/>
            <p:cNvGrpSpPr/>
            <p:nvPr/>
          </p:nvGrpSpPr>
          <p:grpSpPr>
            <a:xfrm>
              <a:off x="0" y="5878440"/>
              <a:ext cx="6780960" cy="195840"/>
              <a:chOff x="0" y="5878440"/>
              <a:chExt cx="6780960" cy="195840"/>
            </a:xfrm>
          </p:grpSpPr>
          <p:sp>
            <p:nvSpPr>
              <p:cNvPr id="843" name="Rectangle 95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Rectangle 96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ieceWork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Group 97"/>
            <p:cNvGrpSpPr/>
            <p:nvPr/>
          </p:nvGrpSpPr>
          <p:grpSpPr>
            <a:xfrm>
              <a:off x="0" y="6074280"/>
              <a:ext cx="6780960" cy="195840"/>
              <a:chOff x="0" y="6074280"/>
              <a:chExt cx="6780960" cy="195840"/>
            </a:xfrm>
          </p:grpSpPr>
          <p:sp>
            <p:nvSpPr>
              <p:cNvPr id="846" name="Rectangle 98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Rectangle 99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Group 100"/>
            <p:cNvGrpSpPr/>
            <p:nvPr/>
          </p:nvGrpSpPr>
          <p:grpSpPr>
            <a:xfrm>
              <a:off x="0" y="6270120"/>
              <a:ext cx="6780960" cy="195840"/>
              <a:chOff x="0" y="6270120"/>
              <a:chExt cx="6780960" cy="195840"/>
            </a:xfrm>
          </p:grpSpPr>
          <p:sp>
            <p:nvSpPr>
              <p:cNvPr id="849" name="Rectangle 101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Rectangle 102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     Piece work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Group 103"/>
            <p:cNvGrpSpPr/>
            <p:nvPr/>
          </p:nvGrpSpPr>
          <p:grpSpPr>
            <a:xfrm>
              <a:off x="0" y="6466320"/>
              <a:ext cx="6780960" cy="195840"/>
              <a:chOff x="0" y="6466320"/>
              <a:chExt cx="6780960" cy="195840"/>
            </a:xfrm>
          </p:grpSpPr>
          <p:sp>
            <p:nvSpPr>
              <p:cNvPr id="852" name="Rectangle 104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Rectangle 105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06"/>
            <p:cNvGrpSpPr/>
            <p:nvPr/>
          </p:nvGrpSpPr>
          <p:grpSpPr>
            <a:xfrm>
              <a:off x="0" y="6662160"/>
              <a:ext cx="6780960" cy="195840"/>
              <a:chOff x="0" y="6662160"/>
              <a:chExt cx="6780960" cy="195840"/>
            </a:xfrm>
          </p:grpSpPr>
          <p:sp>
            <p:nvSpPr>
              <p:cNvPr id="855" name="Rectangle 107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Rectangle 108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Group 114"/>
          <p:cNvGrpSpPr/>
          <p:nvPr/>
        </p:nvGrpSpPr>
        <p:grpSpPr>
          <a:xfrm>
            <a:off x="3352320" y="4191120"/>
            <a:ext cx="5029560" cy="1924560"/>
            <a:chOff x="3352320" y="4191120"/>
            <a:chExt cx="5029560" cy="1924560"/>
          </a:xfrm>
        </p:grpSpPr>
        <p:grpSp>
          <p:nvGrpSpPr>
            <p:cNvPr id="858" name="Group 110"/>
            <p:cNvGrpSpPr/>
            <p:nvPr/>
          </p:nvGrpSpPr>
          <p:grpSpPr>
            <a:xfrm>
              <a:off x="3809520" y="4191120"/>
              <a:ext cx="4572360" cy="1924560"/>
              <a:chOff x="3809520" y="4191120"/>
              <a:chExt cx="4572360" cy="1924560"/>
            </a:xfrm>
          </p:grpSpPr>
          <p:sp>
            <p:nvSpPr>
              <p:cNvPr id="859" name="Text Box 111"/>
              <p:cNvSpPr/>
              <p:nvPr/>
            </p:nvSpPr>
            <p:spPr>
              <a:xfrm>
                <a:off x="6324480" y="4191120"/>
                <a:ext cx="2057400" cy="192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gain, notice the overridde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earning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an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pri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function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hey were declare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virtua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in the base clas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Line 112"/>
              <p:cNvSpPr/>
              <p:nvPr/>
            </p:nvSpPr>
            <p:spPr>
              <a:xfrm flipH="1">
                <a:off x="3809520" y="4495680"/>
                <a:ext cx="25146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" name="Line 113"/>
            <p:cNvSpPr/>
            <p:nvPr/>
          </p:nvSpPr>
          <p:spPr>
            <a:xfrm flipH="1">
              <a:off x="3352320" y="4495680"/>
              <a:ext cx="29718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" dur="1" fill="hold"/>
                                  <p:tgtEl>
                                    <p:spTgt spid="8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54B0-F204-4E14-9B97-BE8ABBE7C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lyWorker 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Definition (derived cl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865" name="Group 4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866" name="Rectangle 5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Rectangle 6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hourly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Group 7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869" name="Rectangle 8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Rectangle 9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Group 10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872" name="Rectangle 11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Rectangle 12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L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Group 13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875" name="Rectangle 14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Rectangle 15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L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Group 16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878" name="Rectangle 17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Rectangle 18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19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881" name="Rectangle 20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Rectangle 21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Group 22"/>
            <p:cNvGrpSpPr/>
            <p:nvPr/>
          </p:nvGrpSpPr>
          <p:grpSpPr>
            <a:xfrm>
              <a:off x="0" y="2057040"/>
              <a:ext cx="6780960" cy="342720"/>
              <a:chOff x="0" y="2057040"/>
              <a:chExt cx="6780960" cy="342720"/>
            </a:xfrm>
          </p:grpSpPr>
          <p:sp>
            <p:nvSpPr>
              <p:cNvPr id="884" name="Rectangle 23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Rectangle 24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lyWork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Group 25"/>
            <p:cNvGrpSpPr/>
            <p:nvPr/>
          </p:nvGrpSpPr>
          <p:grpSpPr>
            <a:xfrm>
              <a:off x="0" y="2400120"/>
              <a:ext cx="6780960" cy="342720"/>
              <a:chOff x="0" y="2400120"/>
              <a:chExt cx="6780960" cy="342720"/>
            </a:xfrm>
          </p:grpSpPr>
          <p:sp>
            <p:nvSpPr>
              <p:cNvPr id="887" name="Rectangle 26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Rectangle 27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Group 28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890" name="Rectangle 29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Rectangle 30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ourly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Group 31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893" name="Rectangle 32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Rectangle 33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.0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Group 34"/>
            <p:cNvGrpSpPr/>
            <p:nvPr/>
          </p:nvGrpSpPr>
          <p:grpSpPr>
            <a:xfrm>
              <a:off x="0" y="3428640"/>
              <a:ext cx="6780960" cy="342720"/>
              <a:chOff x="0" y="3428640"/>
              <a:chExt cx="6780960" cy="342720"/>
            </a:xfrm>
          </p:grpSpPr>
          <p:sp>
            <p:nvSpPr>
              <p:cNvPr id="896" name="Rectangle 35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Rectangle 36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W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Group 37"/>
            <p:cNvGrpSpPr/>
            <p:nvPr/>
          </p:nvGrpSpPr>
          <p:grpSpPr>
            <a:xfrm>
              <a:off x="0" y="3771720"/>
              <a:ext cx="6780960" cy="342720"/>
              <a:chOff x="0" y="3771720"/>
              <a:chExt cx="6780960" cy="342720"/>
            </a:xfrm>
          </p:grpSpPr>
          <p:sp>
            <p:nvSpPr>
              <p:cNvPr id="899" name="Rectangle 38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Rectangle 39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Hour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Group 40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902" name="Rectangle 41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Rectangle 42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Group 43"/>
            <p:cNvGrpSpPr/>
            <p:nvPr/>
          </p:nvGrpSpPr>
          <p:grpSpPr>
            <a:xfrm>
              <a:off x="0" y="4457520"/>
              <a:ext cx="6780960" cy="342720"/>
              <a:chOff x="0" y="4457520"/>
              <a:chExt cx="6780960" cy="342720"/>
            </a:xfrm>
          </p:grpSpPr>
          <p:sp>
            <p:nvSpPr>
              <p:cNvPr id="905" name="Rectangle 44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Rectangle 45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Group 46"/>
            <p:cNvGrpSpPr/>
            <p:nvPr/>
          </p:nvGrpSpPr>
          <p:grpSpPr>
            <a:xfrm>
              <a:off x="0" y="4800600"/>
              <a:ext cx="6780960" cy="342720"/>
              <a:chOff x="0" y="4800600"/>
              <a:chExt cx="6780960" cy="342720"/>
            </a:xfrm>
          </p:grpSpPr>
          <p:sp>
            <p:nvSpPr>
              <p:cNvPr id="908" name="Rectangle 47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Rectangle 48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Group 49"/>
            <p:cNvGrpSpPr/>
            <p:nvPr/>
          </p:nvGrpSpPr>
          <p:grpSpPr>
            <a:xfrm>
              <a:off x="0" y="5143320"/>
              <a:ext cx="6780960" cy="342720"/>
              <a:chOff x="0" y="5143320"/>
              <a:chExt cx="6780960" cy="342720"/>
            </a:xfrm>
          </p:grpSpPr>
          <p:sp>
            <p:nvSpPr>
              <p:cNvPr id="911" name="Rectangle 50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Rectangle 51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ag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wage per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Group 52"/>
            <p:cNvGrpSpPr/>
            <p:nvPr/>
          </p:nvGrpSpPr>
          <p:grpSpPr>
            <a:xfrm>
              <a:off x="0" y="5486400"/>
              <a:ext cx="6780960" cy="342720"/>
              <a:chOff x="0" y="5486400"/>
              <a:chExt cx="6780960" cy="342720"/>
            </a:xfrm>
          </p:grpSpPr>
          <p:sp>
            <p:nvSpPr>
              <p:cNvPr id="914" name="Rectangle 53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Rectangle 54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s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hours worked fo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Group 55"/>
            <p:cNvGrpSpPr/>
            <p:nvPr/>
          </p:nvGrpSpPr>
          <p:grpSpPr>
            <a:xfrm>
              <a:off x="0" y="5829120"/>
              <a:ext cx="6780960" cy="342720"/>
              <a:chOff x="0" y="5829120"/>
              <a:chExt cx="6780960" cy="342720"/>
            </a:xfrm>
          </p:grpSpPr>
          <p:sp>
            <p:nvSpPr>
              <p:cNvPr id="917" name="Rectangle 56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Rectangle 57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Group 58"/>
            <p:cNvGrpSpPr/>
            <p:nvPr/>
          </p:nvGrpSpPr>
          <p:grpSpPr>
            <a:xfrm>
              <a:off x="0" y="6172200"/>
              <a:ext cx="6780960" cy="342720"/>
              <a:chOff x="0" y="6172200"/>
              <a:chExt cx="6780960" cy="342720"/>
            </a:xfrm>
          </p:grpSpPr>
          <p:sp>
            <p:nvSpPr>
              <p:cNvPr id="920" name="Rectangle 59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Rectangle 60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61"/>
            <p:cNvGrpSpPr/>
            <p:nvPr/>
          </p:nvGrpSpPr>
          <p:grpSpPr>
            <a:xfrm>
              <a:off x="0" y="6514920"/>
              <a:ext cx="6780960" cy="342720"/>
              <a:chOff x="0" y="6514920"/>
              <a:chExt cx="6780960" cy="342720"/>
            </a:xfrm>
          </p:grpSpPr>
          <p:sp>
            <p:nvSpPr>
              <p:cNvPr id="923" name="Rectangle 62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Rectangle 63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8315-7507-4F83-9E57-67BAB873E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28" name="Group 4"/>
            <p:cNvGrpSpPr/>
            <p:nvPr/>
          </p:nvGrpSpPr>
          <p:grpSpPr>
            <a:xfrm>
              <a:off x="0" y="0"/>
              <a:ext cx="6780960" cy="326520"/>
              <a:chOff x="0" y="0"/>
              <a:chExt cx="6780960" cy="326520"/>
            </a:xfrm>
          </p:grpSpPr>
          <p:sp>
            <p:nvSpPr>
              <p:cNvPr id="929" name="Rectangle 5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Rectangle 6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hourl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7"/>
            <p:cNvGrpSpPr/>
            <p:nvPr/>
          </p:nvGrpSpPr>
          <p:grpSpPr>
            <a:xfrm>
              <a:off x="0" y="326520"/>
              <a:ext cx="6780960" cy="326520"/>
              <a:chOff x="0" y="326520"/>
              <a:chExt cx="6780960" cy="326520"/>
            </a:xfrm>
          </p:grpSpPr>
          <p:sp>
            <p:nvSpPr>
              <p:cNvPr id="932" name="Rectangle 8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Rectangle 9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10"/>
            <p:cNvGrpSpPr/>
            <p:nvPr/>
          </p:nvGrpSpPr>
          <p:grpSpPr>
            <a:xfrm>
              <a:off x="0" y="653040"/>
              <a:ext cx="6780960" cy="326520"/>
              <a:chOff x="0" y="653040"/>
              <a:chExt cx="6780960" cy="326520"/>
            </a:xfrm>
          </p:grpSpPr>
          <p:sp>
            <p:nvSpPr>
              <p:cNvPr id="935" name="Rectangle 11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Rectangle 12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Group 13"/>
            <p:cNvGrpSpPr/>
            <p:nvPr/>
          </p:nvGrpSpPr>
          <p:grpSpPr>
            <a:xfrm>
              <a:off x="0" y="979560"/>
              <a:ext cx="6780960" cy="326520"/>
              <a:chOff x="0" y="979560"/>
              <a:chExt cx="6780960" cy="326520"/>
            </a:xfrm>
          </p:grpSpPr>
          <p:sp>
            <p:nvSpPr>
              <p:cNvPr id="938" name="Rectangle 14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Rectangle 15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Group 16"/>
            <p:cNvGrpSpPr/>
            <p:nvPr/>
          </p:nvGrpSpPr>
          <p:grpSpPr>
            <a:xfrm>
              <a:off x="0" y="1306080"/>
              <a:ext cx="6780960" cy="326520"/>
              <a:chOff x="0" y="1306080"/>
              <a:chExt cx="6780960" cy="326520"/>
            </a:xfrm>
          </p:grpSpPr>
          <p:sp>
            <p:nvSpPr>
              <p:cNvPr id="941" name="Rectangle 17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Rectangle 18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Group 19"/>
            <p:cNvGrpSpPr/>
            <p:nvPr/>
          </p:nvGrpSpPr>
          <p:grpSpPr>
            <a:xfrm>
              <a:off x="0" y="1632600"/>
              <a:ext cx="6780960" cy="326520"/>
              <a:chOff x="0" y="1632600"/>
              <a:chExt cx="6780960" cy="326520"/>
            </a:xfrm>
          </p:grpSpPr>
          <p:sp>
            <p:nvSpPr>
              <p:cNvPr id="944" name="Rectangle 20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Rectangle 21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Group 22"/>
            <p:cNvGrpSpPr/>
            <p:nvPr/>
          </p:nvGrpSpPr>
          <p:grpSpPr>
            <a:xfrm>
              <a:off x="0" y="1959120"/>
              <a:ext cx="6780960" cy="326520"/>
              <a:chOff x="0" y="1959120"/>
              <a:chExt cx="6780960" cy="326520"/>
            </a:xfrm>
          </p:grpSpPr>
          <p:sp>
            <p:nvSpPr>
              <p:cNvPr id="947" name="Rectangle 23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Rectangle 24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hourl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Group 25"/>
            <p:cNvGrpSpPr/>
            <p:nvPr/>
          </p:nvGrpSpPr>
          <p:grpSpPr>
            <a:xfrm>
              <a:off x="0" y="2286000"/>
              <a:ext cx="6780960" cy="326520"/>
              <a:chOff x="0" y="2286000"/>
              <a:chExt cx="6780960" cy="326520"/>
            </a:xfrm>
          </p:grpSpPr>
          <p:sp>
            <p:nvSpPr>
              <p:cNvPr id="950" name="Rectangle 26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Rectangle 27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28"/>
            <p:cNvGrpSpPr/>
            <p:nvPr/>
          </p:nvGrpSpPr>
          <p:grpSpPr>
            <a:xfrm>
              <a:off x="0" y="2612520"/>
              <a:ext cx="6780960" cy="326520"/>
              <a:chOff x="0" y="2612520"/>
              <a:chExt cx="6780960" cy="326520"/>
            </a:xfrm>
          </p:grpSpPr>
          <p:sp>
            <p:nvSpPr>
              <p:cNvPr id="953" name="Rectangle 29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Rectangle 30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or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Group 31"/>
            <p:cNvGrpSpPr/>
            <p:nvPr/>
          </p:nvGrpSpPr>
          <p:grpSpPr>
            <a:xfrm>
              <a:off x="0" y="2939040"/>
              <a:ext cx="6780960" cy="326520"/>
              <a:chOff x="0" y="2939040"/>
              <a:chExt cx="6780960" cy="326520"/>
            </a:xfrm>
          </p:grpSpPr>
          <p:sp>
            <p:nvSpPr>
              <p:cNvPr id="956" name="Rectangle 32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Rectangle 33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ourlyWorker::Hourly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irst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Group 34"/>
            <p:cNvGrpSpPr/>
            <p:nvPr/>
          </p:nvGrpSpPr>
          <p:grpSpPr>
            <a:xfrm>
              <a:off x="0" y="3265560"/>
              <a:ext cx="6780960" cy="326520"/>
              <a:chOff x="0" y="3265560"/>
              <a:chExt cx="6780960" cy="326520"/>
            </a:xfrm>
          </p:grpSpPr>
          <p:sp>
            <p:nvSpPr>
              <p:cNvPr id="959" name="Rectangle 35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Rectangle 36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as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Group 37"/>
            <p:cNvGrpSpPr/>
            <p:nvPr/>
          </p:nvGrpSpPr>
          <p:grpSpPr>
            <a:xfrm>
              <a:off x="0" y="3592440"/>
              <a:ext cx="6780960" cy="326520"/>
              <a:chOff x="0" y="3592440"/>
              <a:chExt cx="6780960" cy="326520"/>
            </a:xfrm>
          </p:grpSpPr>
          <p:sp>
            <p:nvSpPr>
              <p:cNvPr id="962" name="Rectangle 38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Rectangle 39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Group 40"/>
            <p:cNvGrpSpPr/>
            <p:nvPr/>
          </p:nvGrpSpPr>
          <p:grpSpPr>
            <a:xfrm>
              <a:off x="0" y="3918960"/>
              <a:ext cx="6780960" cy="326520"/>
              <a:chOff x="0" y="3918960"/>
              <a:chExt cx="6780960" cy="326520"/>
            </a:xfrm>
          </p:grpSpPr>
          <p:sp>
            <p:nvSpPr>
              <p:cNvPr id="965" name="Rectangle 41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Rectangle 42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Employee( first, last )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43"/>
            <p:cNvGrpSpPr/>
            <p:nvPr/>
          </p:nvGrpSpPr>
          <p:grpSpPr>
            <a:xfrm>
              <a:off x="0" y="4245480"/>
              <a:ext cx="6780960" cy="326520"/>
              <a:chOff x="0" y="4245480"/>
              <a:chExt cx="6780960" cy="326520"/>
            </a:xfrm>
          </p:grpSpPr>
          <p:sp>
            <p:nvSpPr>
              <p:cNvPr id="968" name="Rectangle 44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Rectangle 45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Group 46"/>
            <p:cNvGrpSpPr/>
            <p:nvPr/>
          </p:nvGrpSpPr>
          <p:grpSpPr>
            <a:xfrm>
              <a:off x="0" y="4572000"/>
              <a:ext cx="6780960" cy="326520"/>
              <a:chOff x="0" y="4572000"/>
              <a:chExt cx="6780960" cy="326520"/>
            </a:xfrm>
          </p:grpSpPr>
          <p:sp>
            <p:nvSpPr>
              <p:cNvPr id="971" name="Rectangle 47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Rectangle 48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Wage( w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Group 49"/>
            <p:cNvGrpSpPr/>
            <p:nvPr/>
          </p:nvGrpSpPr>
          <p:grpSpPr>
            <a:xfrm>
              <a:off x="0" y="4898520"/>
              <a:ext cx="6780960" cy="326520"/>
              <a:chOff x="0" y="4898520"/>
              <a:chExt cx="6780960" cy="326520"/>
            </a:xfrm>
          </p:grpSpPr>
          <p:sp>
            <p:nvSpPr>
              <p:cNvPr id="974" name="Rectangle 50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Rectangle 51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Hours( 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Group 52"/>
            <p:cNvGrpSpPr/>
            <p:nvPr/>
          </p:nvGrpSpPr>
          <p:grpSpPr>
            <a:xfrm>
              <a:off x="0" y="5225040"/>
              <a:ext cx="6780960" cy="326520"/>
              <a:chOff x="0" y="5225040"/>
              <a:chExt cx="6780960" cy="326520"/>
            </a:xfrm>
          </p:grpSpPr>
          <p:sp>
            <p:nvSpPr>
              <p:cNvPr id="977" name="Rectangle 53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Rectangle 54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Group 55"/>
            <p:cNvGrpSpPr/>
            <p:nvPr/>
          </p:nvGrpSpPr>
          <p:grpSpPr>
            <a:xfrm>
              <a:off x="0" y="5551560"/>
              <a:ext cx="6780960" cy="326520"/>
              <a:chOff x="0" y="5551560"/>
              <a:chExt cx="6780960" cy="326520"/>
            </a:xfrm>
          </p:grpSpPr>
          <p:sp>
            <p:nvSpPr>
              <p:cNvPr id="980" name="Rectangle 56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Rectangle 57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Group 58"/>
            <p:cNvGrpSpPr/>
            <p:nvPr/>
          </p:nvGrpSpPr>
          <p:grpSpPr>
            <a:xfrm>
              <a:off x="0" y="5878080"/>
              <a:ext cx="6780960" cy="326520"/>
              <a:chOff x="0" y="5878080"/>
              <a:chExt cx="6780960" cy="326520"/>
            </a:xfrm>
          </p:grpSpPr>
          <p:sp>
            <p:nvSpPr>
              <p:cNvPr id="983" name="Rectangle 59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Rectangle 60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w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Group 61"/>
            <p:cNvGrpSpPr/>
            <p:nvPr/>
          </p:nvGrpSpPr>
          <p:grpSpPr>
            <a:xfrm>
              <a:off x="0" y="6204600"/>
              <a:ext cx="6780960" cy="326520"/>
              <a:chOff x="0" y="6204600"/>
              <a:chExt cx="6780960" cy="326520"/>
            </a:xfrm>
          </p:grpSpPr>
          <p:sp>
            <p:nvSpPr>
              <p:cNvPr id="986" name="Rectangle 62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Rectangle 63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lyWorker::setW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Group 64"/>
            <p:cNvGrpSpPr/>
            <p:nvPr/>
          </p:nvGrpSpPr>
          <p:grpSpPr>
            <a:xfrm>
              <a:off x="0" y="6531480"/>
              <a:ext cx="6780960" cy="326520"/>
              <a:chOff x="0" y="6531480"/>
              <a:chExt cx="6780960" cy="326520"/>
            </a:xfrm>
          </p:grpSpPr>
          <p:sp>
            <p:nvSpPr>
              <p:cNvPr id="989" name="Rectangle 65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Rectangle 66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wage = w &gt; 0 ? w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BA7A-BCD5-4908-95F6-9A8CD72DD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994" name="Group 4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995" name="Rectangle 5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Rectangle 6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Group 7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998" name="Rectangle 8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Rectangle 9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hours work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Group 10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1001" name="Rectangle 11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Rectangle 12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lyWorker::setHour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Group 13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1004" name="Rectangle 14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Rectangle 15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hours = h &gt;= 0 &amp;&amp; h &lt; 168 ? h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Group 16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1007" name="Rectangle 17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Rectangle 18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Group 19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1010" name="Rectangle 20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Rectangle 21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HourlyWorker's p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Group 22"/>
            <p:cNvGrpSpPr/>
            <p:nvPr/>
          </p:nvGrpSpPr>
          <p:grpSpPr>
            <a:xfrm>
              <a:off x="0" y="2057040"/>
              <a:ext cx="6780960" cy="342720"/>
              <a:chOff x="0" y="2057040"/>
              <a:chExt cx="6780960" cy="342720"/>
            </a:xfrm>
          </p:grpSpPr>
          <p:sp>
            <p:nvSpPr>
              <p:cNvPr id="1013" name="Rectangle 23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Rectangle 24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lyWorker::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Group 25"/>
            <p:cNvGrpSpPr/>
            <p:nvPr/>
          </p:nvGrpSpPr>
          <p:grpSpPr>
            <a:xfrm>
              <a:off x="0" y="2400120"/>
              <a:ext cx="6780960" cy="342720"/>
              <a:chOff x="0" y="2400120"/>
              <a:chExt cx="6780960" cy="342720"/>
            </a:xfrm>
          </p:grpSpPr>
          <p:sp>
            <p:nvSpPr>
              <p:cNvPr id="1016" name="Rectangle 26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Rectangle 27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Group 28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1019" name="Rectangle 29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Rectangle 30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hours &lt;= 40 )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o over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Group 31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1022" name="Rectangle 32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Rectangle 33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age * hour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Group 34"/>
            <p:cNvGrpSpPr/>
            <p:nvPr/>
          </p:nvGrpSpPr>
          <p:grpSpPr>
            <a:xfrm>
              <a:off x="0" y="3428640"/>
              <a:ext cx="6780960" cy="342720"/>
              <a:chOff x="0" y="3428640"/>
              <a:chExt cx="6780960" cy="342720"/>
            </a:xfrm>
          </p:grpSpPr>
          <p:sp>
            <p:nvSpPr>
              <p:cNvPr id="1025" name="Rectangle 35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Rectangle 36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overtime is paid at wage * 1.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Group 37"/>
            <p:cNvGrpSpPr/>
            <p:nvPr/>
          </p:nvGrpSpPr>
          <p:grpSpPr>
            <a:xfrm>
              <a:off x="0" y="3771720"/>
              <a:ext cx="6780960" cy="342720"/>
              <a:chOff x="0" y="3771720"/>
              <a:chExt cx="6780960" cy="342720"/>
            </a:xfrm>
          </p:grpSpPr>
          <p:sp>
            <p:nvSpPr>
              <p:cNvPr id="1028" name="Rectangle 38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Rectangle 39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40 * wage + ( hours - 40 ) * wage * 1.5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Group 40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1031" name="Rectangle 41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Rectangle 42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Group 43"/>
            <p:cNvGrpSpPr/>
            <p:nvPr/>
          </p:nvGrpSpPr>
          <p:grpSpPr>
            <a:xfrm>
              <a:off x="0" y="4457520"/>
              <a:ext cx="6780960" cy="342720"/>
              <a:chOff x="0" y="4457520"/>
              <a:chExt cx="6780960" cy="342720"/>
            </a:xfrm>
          </p:grpSpPr>
          <p:sp>
            <p:nvSpPr>
              <p:cNvPr id="1034" name="Rectangle 44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Rectangle 45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Group 46"/>
            <p:cNvGrpSpPr/>
            <p:nvPr/>
          </p:nvGrpSpPr>
          <p:grpSpPr>
            <a:xfrm>
              <a:off x="0" y="4800600"/>
              <a:ext cx="6780960" cy="342720"/>
              <a:chOff x="0" y="4800600"/>
              <a:chExt cx="6780960" cy="342720"/>
            </a:xfrm>
          </p:grpSpPr>
          <p:sp>
            <p:nvSpPr>
              <p:cNvPr id="1037" name="Rectangle 47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Rectangle 48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the HourlyWorker's na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Group 49"/>
            <p:cNvGrpSpPr/>
            <p:nvPr/>
          </p:nvGrpSpPr>
          <p:grpSpPr>
            <a:xfrm>
              <a:off x="0" y="5143320"/>
              <a:ext cx="6780960" cy="342720"/>
              <a:chOff x="0" y="5143320"/>
              <a:chExt cx="6780960" cy="342720"/>
            </a:xfrm>
          </p:grpSpPr>
          <p:sp>
            <p:nvSpPr>
              <p:cNvPr id="1040" name="Rectangle 50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Rectangle 51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lyWork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Group 52"/>
            <p:cNvGrpSpPr/>
            <p:nvPr/>
          </p:nvGrpSpPr>
          <p:grpSpPr>
            <a:xfrm>
              <a:off x="0" y="5486400"/>
              <a:ext cx="6780960" cy="342720"/>
              <a:chOff x="0" y="5486400"/>
              <a:chExt cx="6780960" cy="342720"/>
            </a:xfrm>
          </p:grpSpPr>
          <p:sp>
            <p:nvSpPr>
              <p:cNvPr id="1043" name="Rectangle 53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Rectangle 54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Group 55"/>
            <p:cNvGrpSpPr/>
            <p:nvPr/>
          </p:nvGrpSpPr>
          <p:grpSpPr>
            <a:xfrm>
              <a:off x="0" y="5829120"/>
              <a:ext cx="6780960" cy="342720"/>
              <a:chOff x="0" y="5829120"/>
              <a:chExt cx="6780960" cy="342720"/>
            </a:xfrm>
          </p:grpSpPr>
          <p:sp>
            <p:nvSpPr>
              <p:cNvPr id="1046" name="Rectangle 56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Rectangle 57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    Hourly work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Group 58"/>
            <p:cNvGrpSpPr/>
            <p:nvPr/>
          </p:nvGrpSpPr>
          <p:grpSpPr>
            <a:xfrm>
              <a:off x="0" y="6172200"/>
              <a:ext cx="6780960" cy="342720"/>
              <a:chOff x="0" y="6172200"/>
              <a:chExt cx="6780960" cy="342720"/>
            </a:xfrm>
          </p:grpSpPr>
          <p:sp>
            <p:nvSpPr>
              <p:cNvPr id="1049" name="Rectangle 59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Rectangle 60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Group 61"/>
            <p:cNvGrpSpPr/>
            <p:nvPr/>
          </p:nvGrpSpPr>
          <p:grpSpPr>
            <a:xfrm>
              <a:off x="0" y="6514920"/>
              <a:ext cx="6780960" cy="342720"/>
              <a:chOff x="0" y="6514920"/>
              <a:chExt cx="6780960" cy="342720"/>
            </a:xfrm>
          </p:grpSpPr>
          <p:sp>
            <p:nvSpPr>
              <p:cNvPr id="1052" name="Rectangle 62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Rectangle 63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4" name="Group 67"/>
          <p:cNvGrpSpPr/>
          <p:nvPr/>
        </p:nvGrpSpPr>
        <p:grpSpPr>
          <a:xfrm>
            <a:off x="2971440" y="2362320"/>
            <a:ext cx="4572360" cy="2361960"/>
            <a:chOff x="2971440" y="2362320"/>
            <a:chExt cx="4572360" cy="2361960"/>
          </a:xfrm>
        </p:grpSpPr>
        <p:sp>
          <p:nvSpPr>
            <p:cNvPr id="1055" name="Text Box 64"/>
            <p:cNvSpPr/>
            <p:nvPr/>
          </p:nvSpPr>
          <p:spPr>
            <a:xfrm>
              <a:off x="5105520" y="2666880"/>
              <a:ext cx="2438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verridden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Line 65"/>
            <p:cNvSpPr/>
            <p:nvPr/>
          </p:nvSpPr>
          <p:spPr>
            <a:xfrm flipH="1" flipV="1">
              <a:off x="3428640" y="2362320"/>
              <a:ext cx="1676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Line 66"/>
            <p:cNvSpPr/>
            <p:nvPr/>
          </p:nvSpPr>
          <p:spPr>
            <a:xfrm flipH="1">
              <a:off x="2971440" y="2819520"/>
              <a:ext cx="21337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10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A3CE-5595-4759-89DB-31AFCB58A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virtua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a set of shape classes such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iang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 shape has own unique draw function but possible to call them by calling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of 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determines dynamically (i.e., at run time) which to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base-class decl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ri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each of the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clar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fore function prototype in base-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 void draw() 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base-class pointer to a derived class object will call the correc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-&gt;dra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 derived class does not defin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, the function is inherited from the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40DA-3099-47C3-B8BA-3D49AF6EC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061" name="Group 4"/>
            <p:cNvGrpSpPr/>
            <p:nvPr/>
          </p:nvGrpSpPr>
          <p:grpSpPr>
            <a:xfrm>
              <a:off x="0" y="0"/>
              <a:ext cx="6780960" cy="244800"/>
              <a:chOff x="0" y="0"/>
              <a:chExt cx="6780960" cy="244800"/>
            </a:xfrm>
          </p:grpSpPr>
          <p:sp>
            <p:nvSpPr>
              <p:cNvPr id="1062" name="Rectangle 5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6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fig10_0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Group 7"/>
            <p:cNvGrpSpPr/>
            <p:nvPr/>
          </p:nvGrpSpPr>
          <p:grpSpPr>
            <a:xfrm>
              <a:off x="0" y="244800"/>
              <a:ext cx="6780960" cy="244800"/>
              <a:chOff x="0" y="244800"/>
              <a:chExt cx="6780960" cy="244800"/>
            </a:xfrm>
          </p:grpSpPr>
          <p:sp>
            <p:nvSpPr>
              <p:cNvPr id="1065" name="Rectangle 8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9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river for Employee hierarch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Group 10"/>
            <p:cNvGrpSpPr/>
            <p:nvPr/>
          </p:nvGrpSpPr>
          <p:grpSpPr>
            <a:xfrm>
              <a:off x="0" y="489600"/>
              <a:ext cx="6780960" cy="244800"/>
              <a:chOff x="0" y="489600"/>
              <a:chExt cx="6780960" cy="244800"/>
            </a:xfrm>
          </p:grpSpPr>
          <p:sp>
            <p:nvSpPr>
              <p:cNvPr id="1068" name="Rectangle 11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12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Group 13"/>
            <p:cNvGrpSpPr/>
            <p:nvPr/>
          </p:nvGrpSpPr>
          <p:grpSpPr>
            <a:xfrm>
              <a:off x="0" y="734760"/>
              <a:ext cx="6780960" cy="244800"/>
              <a:chOff x="0" y="734760"/>
              <a:chExt cx="6780960" cy="244800"/>
            </a:xfrm>
          </p:grpSpPr>
          <p:sp>
            <p:nvSpPr>
              <p:cNvPr id="1071" name="Rectangle 14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Rectangle 15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Group 16"/>
            <p:cNvGrpSpPr/>
            <p:nvPr/>
          </p:nvGrpSpPr>
          <p:grpSpPr>
            <a:xfrm>
              <a:off x="0" y="979560"/>
              <a:ext cx="6780960" cy="244800"/>
              <a:chOff x="0" y="979560"/>
              <a:chExt cx="6780960" cy="244800"/>
            </a:xfrm>
          </p:grpSpPr>
          <p:sp>
            <p:nvSpPr>
              <p:cNvPr id="1074" name="Rectangle 17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Rectangle 18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Group 19"/>
            <p:cNvGrpSpPr/>
            <p:nvPr/>
          </p:nvGrpSpPr>
          <p:grpSpPr>
            <a:xfrm>
              <a:off x="0" y="1224360"/>
              <a:ext cx="6780960" cy="244800"/>
              <a:chOff x="0" y="1224360"/>
              <a:chExt cx="6780960" cy="244800"/>
            </a:xfrm>
          </p:grpSpPr>
          <p:sp>
            <p:nvSpPr>
              <p:cNvPr id="1077" name="Rectangle 20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Rectangle 21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Group 22"/>
            <p:cNvGrpSpPr/>
            <p:nvPr/>
          </p:nvGrpSpPr>
          <p:grpSpPr>
            <a:xfrm>
              <a:off x="0" y="1469520"/>
              <a:ext cx="6780960" cy="244800"/>
              <a:chOff x="0" y="1469520"/>
              <a:chExt cx="6780960" cy="244800"/>
            </a:xfrm>
          </p:grpSpPr>
          <p:sp>
            <p:nvSpPr>
              <p:cNvPr id="1080" name="Rectangle 23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Rectangle 24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Group 25"/>
            <p:cNvGrpSpPr/>
            <p:nvPr/>
          </p:nvGrpSpPr>
          <p:grpSpPr>
            <a:xfrm>
              <a:off x="0" y="1714320"/>
              <a:ext cx="6780960" cy="244800"/>
              <a:chOff x="0" y="1714320"/>
              <a:chExt cx="6780960" cy="244800"/>
            </a:xfrm>
          </p:grpSpPr>
          <p:sp>
            <p:nvSpPr>
              <p:cNvPr id="1083" name="Rectangle 26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27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Group 28"/>
            <p:cNvGrpSpPr/>
            <p:nvPr/>
          </p:nvGrpSpPr>
          <p:grpSpPr>
            <a:xfrm>
              <a:off x="0" y="1959480"/>
              <a:ext cx="6780960" cy="244800"/>
              <a:chOff x="0" y="1959480"/>
              <a:chExt cx="6780960" cy="244800"/>
            </a:xfrm>
          </p:grpSpPr>
          <p:sp>
            <p:nvSpPr>
              <p:cNvPr id="1086" name="Rectangle 29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Rectangle 30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Group 31"/>
            <p:cNvGrpSpPr/>
            <p:nvPr/>
          </p:nvGrpSpPr>
          <p:grpSpPr>
            <a:xfrm>
              <a:off x="0" y="2204280"/>
              <a:ext cx="6780960" cy="244800"/>
              <a:chOff x="0" y="2204280"/>
              <a:chExt cx="6780960" cy="244800"/>
            </a:xfrm>
          </p:grpSpPr>
          <p:sp>
            <p:nvSpPr>
              <p:cNvPr id="1089" name="Rectangle 32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33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Group 34"/>
            <p:cNvGrpSpPr/>
            <p:nvPr/>
          </p:nvGrpSpPr>
          <p:grpSpPr>
            <a:xfrm>
              <a:off x="0" y="2449080"/>
              <a:ext cx="6780960" cy="244800"/>
              <a:chOff x="0" y="2449080"/>
              <a:chExt cx="6780960" cy="244800"/>
            </a:xfrm>
          </p:grpSpPr>
          <p:sp>
            <p:nvSpPr>
              <p:cNvPr id="1092" name="Rectangle 35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36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Group 37"/>
            <p:cNvGrpSpPr/>
            <p:nvPr/>
          </p:nvGrpSpPr>
          <p:grpSpPr>
            <a:xfrm>
              <a:off x="0" y="2694240"/>
              <a:ext cx="6780960" cy="244800"/>
              <a:chOff x="0" y="2694240"/>
              <a:chExt cx="6780960" cy="244800"/>
            </a:xfrm>
          </p:grpSpPr>
          <p:sp>
            <p:nvSpPr>
              <p:cNvPr id="1095" name="Rectangle 38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39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Group 40"/>
            <p:cNvGrpSpPr/>
            <p:nvPr/>
          </p:nvGrpSpPr>
          <p:grpSpPr>
            <a:xfrm>
              <a:off x="0" y="2939040"/>
              <a:ext cx="6780960" cy="244800"/>
              <a:chOff x="0" y="2939040"/>
              <a:chExt cx="6780960" cy="244800"/>
            </a:xfrm>
          </p:grpSpPr>
          <p:sp>
            <p:nvSpPr>
              <p:cNvPr id="1098" name="Rectangle 41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42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Group 43"/>
            <p:cNvGrpSpPr/>
            <p:nvPr/>
          </p:nvGrpSpPr>
          <p:grpSpPr>
            <a:xfrm>
              <a:off x="0" y="3183840"/>
              <a:ext cx="6780960" cy="244800"/>
              <a:chOff x="0" y="3183840"/>
              <a:chExt cx="6780960" cy="244800"/>
            </a:xfrm>
          </p:grpSpPr>
          <p:sp>
            <p:nvSpPr>
              <p:cNvPr id="1101" name="Rectangle 44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45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Group 46"/>
            <p:cNvGrpSpPr/>
            <p:nvPr/>
          </p:nvGrpSpPr>
          <p:grpSpPr>
            <a:xfrm>
              <a:off x="0" y="3429000"/>
              <a:ext cx="6780960" cy="244800"/>
              <a:chOff x="0" y="3429000"/>
              <a:chExt cx="6780960" cy="244800"/>
            </a:xfrm>
          </p:grpSpPr>
          <p:sp>
            <p:nvSpPr>
              <p:cNvPr id="1104" name="Rectangle 47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Rectangle 48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boss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Group 49"/>
            <p:cNvGrpSpPr/>
            <p:nvPr/>
          </p:nvGrpSpPr>
          <p:grpSpPr>
            <a:xfrm>
              <a:off x="0" y="3673800"/>
              <a:ext cx="6780960" cy="244800"/>
              <a:chOff x="0" y="3673800"/>
              <a:chExt cx="6780960" cy="244800"/>
            </a:xfrm>
          </p:grpSpPr>
          <p:sp>
            <p:nvSpPr>
              <p:cNvPr id="1107" name="Rectangle 50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Rectangle 51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ommis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Group 52"/>
            <p:cNvGrpSpPr/>
            <p:nvPr/>
          </p:nvGrpSpPr>
          <p:grpSpPr>
            <a:xfrm>
              <a:off x="0" y="3918960"/>
              <a:ext cx="6780960" cy="244800"/>
              <a:chOff x="0" y="3918960"/>
              <a:chExt cx="6780960" cy="244800"/>
            </a:xfrm>
          </p:grpSpPr>
          <p:sp>
            <p:nvSpPr>
              <p:cNvPr id="1110" name="Rectangle 53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Rectangle 54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iec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Group 55"/>
            <p:cNvGrpSpPr/>
            <p:nvPr/>
          </p:nvGrpSpPr>
          <p:grpSpPr>
            <a:xfrm>
              <a:off x="0" y="4163760"/>
              <a:ext cx="6780960" cy="244800"/>
              <a:chOff x="0" y="4163760"/>
              <a:chExt cx="6780960" cy="244800"/>
            </a:xfrm>
          </p:grpSpPr>
          <p:sp>
            <p:nvSpPr>
              <p:cNvPr id="1113" name="Rectangle 56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Rectangle 57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hourl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Group 58"/>
            <p:cNvGrpSpPr/>
            <p:nvPr/>
          </p:nvGrpSpPr>
          <p:grpSpPr>
            <a:xfrm>
              <a:off x="0" y="4408560"/>
              <a:ext cx="6780960" cy="244800"/>
              <a:chOff x="0" y="4408560"/>
              <a:chExt cx="6780960" cy="244800"/>
            </a:xfrm>
          </p:grpSpPr>
          <p:sp>
            <p:nvSpPr>
              <p:cNvPr id="1116" name="Rectangle 59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Rectangle 60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Group 61"/>
            <p:cNvGrpSpPr/>
            <p:nvPr/>
          </p:nvGrpSpPr>
          <p:grpSpPr>
            <a:xfrm>
              <a:off x="0" y="4653360"/>
              <a:ext cx="6780960" cy="244800"/>
              <a:chOff x="0" y="4653360"/>
              <a:chExt cx="6780960" cy="244800"/>
            </a:xfrm>
          </p:grpSpPr>
          <p:sp>
            <p:nvSpPr>
              <p:cNvPr id="1119" name="Rectangle 62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Rectangle 63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irtualViaPoint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Group 64"/>
            <p:cNvGrpSpPr/>
            <p:nvPr/>
          </p:nvGrpSpPr>
          <p:grpSpPr>
            <a:xfrm>
              <a:off x="0" y="4898520"/>
              <a:ext cx="6780960" cy="244800"/>
              <a:chOff x="0" y="4898520"/>
              <a:chExt cx="6780960" cy="244800"/>
            </a:xfrm>
          </p:grpSpPr>
          <p:sp>
            <p:nvSpPr>
              <p:cNvPr id="1122" name="Rectangle 65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Rectangle 66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irtualVia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Group 67"/>
            <p:cNvGrpSpPr/>
            <p:nvPr/>
          </p:nvGrpSpPr>
          <p:grpSpPr>
            <a:xfrm>
              <a:off x="0" y="5143320"/>
              <a:ext cx="6780960" cy="244800"/>
              <a:chOff x="0" y="5143320"/>
              <a:chExt cx="6780960" cy="244800"/>
            </a:xfrm>
          </p:grpSpPr>
          <p:sp>
            <p:nvSpPr>
              <p:cNvPr id="1125" name="Rectangle 68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Rectangle 69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Group 70"/>
            <p:cNvGrpSpPr/>
            <p:nvPr/>
          </p:nvGrpSpPr>
          <p:grpSpPr>
            <a:xfrm>
              <a:off x="0" y="5388480"/>
              <a:ext cx="6780960" cy="244800"/>
              <a:chOff x="0" y="5388480"/>
              <a:chExt cx="6780960" cy="244800"/>
            </a:xfrm>
          </p:grpSpPr>
          <p:sp>
            <p:nvSpPr>
              <p:cNvPr id="1128" name="Rectangle 71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Rectangle 72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Group 73"/>
            <p:cNvGrpSpPr/>
            <p:nvPr/>
          </p:nvGrpSpPr>
          <p:grpSpPr>
            <a:xfrm>
              <a:off x="0" y="5633280"/>
              <a:ext cx="6780960" cy="244800"/>
              <a:chOff x="0" y="5633280"/>
              <a:chExt cx="6780960" cy="244800"/>
            </a:xfrm>
          </p:grpSpPr>
          <p:sp>
            <p:nvSpPr>
              <p:cNvPr id="1131" name="Rectangle 74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Rectangle 75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Group 76"/>
            <p:cNvGrpSpPr/>
            <p:nvPr/>
          </p:nvGrpSpPr>
          <p:grpSpPr>
            <a:xfrm>
              <a:off x="0" y="5878440"/>
              <a:ext cx="6780960" cy="244800"/>
              <a:chOff x="0" y="5878440"/>
              <a:chExt cx="6780960" cy="244800"/>
            </a:xfrm>
          </p:grpSpPr>
          <p:sp>
            <p:nvSpPr>
              <p:cNvPr id="1134" name="Rectangle 77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Rectangle 78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et output formatt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Group 79"/>
            <p:cNvGrpSpPr/>
            <p:nvPr/>
          </p:nvGrpSpPr>
          <p:grpSpPr>
            <a:xfrm>
              <a:off x="0" y="6123240"/>
              <a:ext cx="6780960" cy="244800"/>
              <a:chOff x="0" y="6123240"/>
              <a:chExt cx="6780960" cy="244800"/>
            </a:xfrm>
          </p:grpSpPr>
          <p:sp>
            <p:nvSpPr>
              <p:cNvPr id="1137" name="Rectangle 80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Rectangle 81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setiosflags( ios::fixed | ios::showpoint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Group 82"/>
            <p:cNvGrpSpPr/>
            <p:nvPr/>
          </p:nvGrpSpPr>
          <p:grpSpPr>
            <a:xfrm>
              <a:off x="0" y="6368040"/>
              <a:ext cx="6780960" cy="244800"/>
              <a:chOff x="0" y="6368040"/>
              <a:chExt cx="6780960" cy="244800"/>
            </a:xfrm>
          </p:grpSpPr>
          <p:sp>
            <p:nvSpPr>
              <p:cNvPr id="1140" name="Rectangle 83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Rectangle 84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setprecision(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Group 85"/>
            <p:cNvGrpSpPr/>
            <p:nvPr/>
          </p:nvGrpSpPr>
          <p:grpSpPr>
            <a:xfrm>
              <a:off x="0" y="6612840"/>
              <a:ext cx="6780960" cy="244800"/>
              <a:chOff x="0" y="6612840"/>
              <a:chExt cx="6780960" cy="244800"/>
            </a:xfrm>
          </p:grpSpPr>
          <p:sp>
            <p:nvSpPr>
              <p:cNvPr id="1143" name="Rectangle 86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Rectangle 87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70BE-8183-408E-9659-F75AD7CEE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7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48" name="Group 4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1149" name="Rectangle 5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Rectangle 6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oss b( "John", "Smith", 800.0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Group 7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1152" name="Rectangle 8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Rectangle 9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.print();  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Group 10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1155" name="Rectangle 11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Rectangle 12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earned $" &lt;&lt; b.earnings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7" name="Group 13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1158" name="Rectangle 14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Rectangle 15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irtualViaPointer( &amp;b 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Group 16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1161" name="Rectangle 17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Rectangle 18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irtualViaReference( b 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Group 19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1164" name="Rectangle 20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Rectangle 21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Group 22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1167" name="Rectangle 23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Rectangle 24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mmissionWorker c( "Sue", "Jones", 200.0, 3.0, 15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Group 25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1170" name="Rectangle 26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Rectangle 27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.print();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Group 28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1173" name="Rectangle 29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Rectangle 30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earned $" &lt;&lt; c.earnings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Group 31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1176" name="Rectangle 32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Rectangle 33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irtualViaPointer( &amp;c 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Group 34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1179" name="Rectangle 35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Rectangle 36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irtualViaReference( c 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Group 37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1182" name="Rectangle 38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Rectangle 39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Group 40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1185" name="Rectangle 41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Rectangle 42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ieceWorker p( "Bob", "Lewis", 2.5, 20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Group 43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1188" name="Rectangle 44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Rectangle 45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.print();  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Group 46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1191" name="Rectangle 47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Rectangle 48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earned $" &lt;&lt; p.earnings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Group 49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1194" name="Rectangle 50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Rectangle 51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irtualViaPointer( &amp;p 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Group 52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1197" name="Rectangle 53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Rectangle 54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irtualViaReference( p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Group 55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1200" name="Rectangle 56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Rectangle 57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Group 58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1203" name="Rectangle 59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Rectangle 60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ourlyWorker h( "Karen", "Price", 13.75, 4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Group 61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1206" name="Rectangle 62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Rectangle 63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.print(); 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Group 64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1209" name="Rectangle 65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Rectangle 66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earned $" &lt;&lt; h.earnings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1" name="Group 67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1212" name="Rectangle 68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Rectangle 69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irtualViaPointer( &amp;h 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4" name="Group 70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1215" name="Rectangle 71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Rectangle 72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irtualViaReference( h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Group 73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1218" name="Rectangle 74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Rectangle 75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0" name="Group 76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1221" name="Rectangle 77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Rectangle 78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return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3" name="Group 79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1224" name="Rectangle 80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Rectangle 81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6" name="Group 82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1227" name="Rectangle 83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Rectangle 84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Group 85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1230" name="Rectangle 86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Rectangle 87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ake virtual function calls off a base-class poi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Group 88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1233" name="Rectangle 89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Rectangle 90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5" name="Group 91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1236" name="Rectangle 92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Rectangle 93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irtualViaPoint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*baseClass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8" name="Group 94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1239" name="Rectangle 95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Rectangle 96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1" name="Group 97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1242" name="Rectangle 98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Rectangle 99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ClassPtr-&gt;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Group 100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1245" name="Rectangle 101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Rectangle 102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earned $" &lt;&lt; baseClassPtr-&gt;earnings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Group 103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1248" name="Rectangle 104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Rectangle 105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0" name="Rectangle 106"/>
          <p:cNvSpPr/>
          <p:nvPr/>
        </p:nvSpPr>
        <p:spPr>
          <a:xfrm>
            <a:off x="3826080" y="96840"/>
            <a:ext cx="30153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Group 109"/>
          <p:cNvGrpSpPr/>
          <p:nvPr/>
        </p:nvGrpSpPr>
        <p:grpSpPr>
          <a:xfrm>
            <a:off x="3429000" y="609120"/>
            <a:ext cx="4647960" cy="871200"/>
            <a:chOff x="3429000" y="609120"/>
            <a:chExt cx="4647960" cy="871200"/>
          </a:xfrm>
        </p:grpSpPr>
        <p:sp>
          <p:nvSpPr>
            <p:cNvPr id="1252" name="Text Box 107"/>
            <p:cNvSpPr/>
            <p:nvPr/>
          </p:nvSpPr>
          <p:spPr>
            <a:xfrm>
              <a:off x="4280760" y="1143000"/>
              <a:ext cx="3796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sing the object itself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Line 108"/>
            <p:cNvSpPr/>
            <p:nvPr/>
          </p:nvSpPr>
          <p:spPr>
            <a:xfrm flipH="1" flipV="1">
              <a:off x="3429000" y="609120"/>
              <a:ext cx="8517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4" name="Group 112"/>
          <p:cNvGrpSpPr/>
          <p:nvPr/>
        </p:nvGrpSpPr>
        <p:grpSpPr>
          <a:xfrm>
            <a:off x="2590920" y="838080"/>
            <a:ext cx="5029200" cy="2032920"/>
            <a:chOff x="2590920" y="838080"/>
            <a:chExt cx="5029200" cy="2032920"/>
          </a:xfrm>
        </p:grpSpPr>
        <p:sp>
          <p:nvSpPr>
            <p:cNvPr id="1255" name="Text Box 110"/>
            <p:cNvSpPr/>
            <p:nvPr/>
          </p:nvSpPr>
          <p:spPr>
            <a:xfrm>
              <a:off x="4267080" y="1676520"/>
              <a:ext cx="3353040" cy="1194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func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using a base-class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and dynamic bind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Line 111"/>
            <p:cNvSpPr/>
            <p:nvPr/>
          </p:nvSpPr>
          <p:spPr>
            <a:xfrm flipH="1" flipV="1">
              <a:off x="2590920" y="838080"/>
              <a:ext cx="16761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7" name="Group 116"/>
          <p:cNvGrpSpPr/>
          <p:nvPr/>
        </p:nvGrpSpPr>
        <p:grpSpPr>
          <a:xfrm>
            <a:off x="1905120" y="1066320"/>
            <a:ext cx="5638680" cy="3117600"/>
            <a:chOff x="1905120" y="1066320"/>
            <a:chExt cx="5638680" cy="3117600"/>
          </a:xfrm>
        </p:grpSpPr>
        <p:sp>
          <p:nvSpPr>
            <p:cNvPr id="1258" name="Text Box 114"/>
            <p:cNvSpPr/>
            <p:nvPr/>
          </p:nvSpPr>
          <p:spPr>
            <a:xfrm>
              <a:off x="4191120" y="2989440"/>
              <a:ext cx="3352680" cy="1194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func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using a base-class refere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and dynamic bind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Line 115"/>
            <p:cNvSpPr/>
            <p:nvPr/>
          </p:nvSpPr>
          <p:spPr>
            <a:xfrm flipH="1" flipV="1">
              <a:off x="1905120" y="1066320"/>
              <a:ext cx="22860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0" name="Rectangle 117"/>
          <p:cNvSpPr/>
          <p:nvPr/>
        </p:nvSpPr>
        <p:spPr>
          <a:xfrm>
            <a:off x="3978720" y="609480"/>
            <a:ext cx="30153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118"/>
          <p:cNvSpPr/>
          <p:nvPr/>
        </p:nvSpPr>
        <p:spPr>
          <a:xfrm>
            <a:off x="3978720" y="1011240"/>
            <a:ext cx="30153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119"/>
          <p:cNvSpPr/>
          <p:nvPr/>
        </p:nvSpPr>
        <p:spPr>
          <a:xfrm>
            <a:off x="4114800" y="167652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120"/>
          <p:cNvSpPr/>
          <p:nvPr/>
        </p:nvSpPr>
        <p:spPr>
          <a:xfrm>
            <a:off x="4114800" y="274320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121"/>
          <p:cNvSpPr/>
          <p:nvPr/>
        </p:nvSpPr>
        <p:spPr>
          <a:xfrm>
            <a:off x="3505320" y="441972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5" name="Group 125"/>
          <p:cNvGrpSpPr/>
          <p:nvPr/>
        </p:nvGrpSpPr>
        <p:grpSpPr>
          <a:xfrm>
            <a:off x="2743200" y="6019920"/>
            <a:ext cx="5866920" cy="580680"/>
            <a:chOff x="2743200" y="6019920"/>
            <a:chExt cx="5866920" cy="580680"/>
          </a:xfrm>
        </p:grpSpPr>
        <p:sp>
          <p:nvSpPr>
            <p:cNvPr id="1266" name="Text Box 122"/>
            <p:cNvSpPr/>
            <p:nvPr/>
          </p:nvSpPr>
          <p:spPr>
            <a:xfrm>
              <a:off x="5595120" y="6019920"/>
              <a:ext cx="3015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ake in a baseclass pointer, 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Line 123"/>
            <p:cNvSpPr/>
            <p:nvPr/>
          </p:nvSpPr>
          <p:spPr>
            <a:xfrm flipH="1" flipV="1">
              <a:off x="5024520" y="6076440"/>
              <a:ext cx="569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Line 124"/>
            <p:cNvSpPr/>
            <p:nvPr/>
          </p:nvSpPr>
          <p:spPr>
            <a:xfrm flipH="1">
              <a:off x="2743200" y="6305400"/>
              <a:ext cx="2851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1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F9E7-6976-4681-B36A-1BC17B642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1" name="Group 3"/>
          <p:cNvGrpSpPr/>
          <p:nvPr/>
        </p:nvGrpSpPr>
        <p:grpSpPr>
          <a:xfrm>
            <a:off x="0" y="0"/>
            <a:ext cx="6780960" cy="2590560"/>
            <a:chOff x="0" y="0"/>
            <a:chExt cx="6780960" cy="2590560"/>
          </a:xfrm>
        </p:grpSpPr>
        <p:grpSp>
          <p:nvGrpSpPr>
            <p:cNvPr id="1272" name="Group 4"/>
            <p:cNvGrpSpPr/>
            <p:nvPr/>
          </p:nvGrpSpPr>
          <p:grpSpPr>
            <a:xfrm>
              <a:off x="0" y="0"/>
              <a:ext cx="6780960" cy="323640"/>
              <a:chOff x="0" y="0"/>
              <a:chExt cx="6780960" cy="323640"/>
            </a:xfrm>
          </p:grpSpPr>
          <p:sp>
            <p:nvSpPr>
              <p:cNvPr id="1273" name="Rectangle 5"/>
              <p:cNvSpPr/>
              <p:nvPr/>
            </p:nvSpPr>
            <p:spPr>
              <a:xfrm>
                <a:off x="0" y="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Rectangle 6"/>
              <p:cNvSpPr/>
              <p:nvPr/>
            </p:nvSpPr>
            <p:spPr>
              <a:xfrm>
                <a:off x="0" y="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5" name="Group 7"/>
            <p:cNvGrpSpPr/>
            <p:nvPr/>
          </p:nvGrpSpPr>
          <p:grpSpPr>
            <a:xfrm>
              <a:off x="0" y="323640"/>
              <a:ext cx="6780960" cy="323640"/>
              <a:chOff x="0" y="323640"/>
              <a:chExt cx="6780960" cy="323640"/>
            </a:xfrm>
          </p:grpSpPr>
          <p:sp>
            <p:nvSpPr>
              <p:cNvPr id="1276" name="Rectangle 8"/>
              <p:cNvSpPr/>
              <p:nvPr/>
            </p:nvSpPr>
            <p:spPr>
              <a:xfrm>
                <a:off x="0" y="32364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Rectangle 9"/>
              <p:cNvSpPr/>
              <p:nvPr/>
            </p:nvSpPr>
            <p:spPr>
              <a:xfrm>
                <a:off x="0" y="32364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ake virtual function calls off a base-class 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8" name="Group 10"/>
            <p:cNvGrpSpPr/>
            <p:nvPr/>
          </p:nvGrpSpPr>
          <p:grpSpPr>
            <a:xfrm>
              <a:off x="0" y="647640"/>
              <a:ext cx="6780960" cy="324000"/>
              <a:chOff x="0" y="647640"/>
              <a:chExt cx="6780960" cy="324000"/>
            </a:xfrm>
          </p:grpSpPr>
          <p:sp>
            <p:nvSpPr>
              <p:cNvPr id="1279" name="Rectangle 11"/>
              <p:cNvSpPr/>
              <p:nvPr/>
            </p:nvSpPr>
            <p:spPr>
              <a:xfrm>
                <a:off x="0" y="647640"/>
                <a:ext cx="6780960" cy="32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Rectangle 12"/>
              <p:cNvSpPr/>
              <p:nvPr/>
            </p:nvSpPr>
            <p:spPr>
              <a:xfrm>
                <a:off x="0" y="647640"/>
                <a:ext cx="6780960" cy="32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Group 13"/>
            <p:cNvGrpSpPr/>
            <p:nvPr/>
          </p:nvGrpSpPr>
          <p:grpSpPr>
            <a:xfrm>
              <a:off x="0" y="971640"/>
              <a:ext cx="6780960" cy="323640"/>
              <a:chOff x="0" y="971640"/>
              <a:chExt cx="6780960" cy="323640"/>
            </a:xfrm>
          </p:grpSpPr>
          <p:sp>
            <p:nvSpPr>
              <p:cNvPr id="1282" name="Rectangle 14"/>
              <p:cNvSpPr/>
              <p:nvPr/>
            </p:nvSpPr>
            <p:spPr>
              <a:xfrm>
                <a:off x="0" y="97164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Rectangle 15"/>
              <p:cNvSpPr/>
              <p:nvPr/>
            </p:nvSpPr>
            <p:spPr>
              <a:xfrm>
                <a:off x="0" y="97164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irtualVia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&amp;baseClassRe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4" name="Group 16"/>
            <p:cNvGrpSpPr/>
            <p:nvPr/>
          </p:nvGrpSpPr>
          <p:grpSpPr>
            <a:xfrm>
              <a:off x="0" y="1295280"/>
              <a:ext cx="6780960" cy="323640"/>
              <a:chOff x="0" y="1295280"/>
              <a:chExt cx="6780960" cy="323640"/>
            </a:xfrm>
          </p:grpSpPr>
          <p:sp>
            <p:nvSpPr>
              <p:cNvPr id="1285" name="Rectangle 17"/>
              <p:cNvSpPr/>
              <p:nvPr/>
            </p:nvSpPr>
            <p:spPr>
              <a:xfrm>
                <a:off x="0" y="129528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Rectangle 18"/>
              <p:cNvSpPr/>
              <p:nvPr/>
            </p:nvSpPr>
            <p:spPr>
              <a:xfrm>
                <a:off x="0" y="129528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7" name="Group 19"/>
            <p:cNvGrpSpPr/>
            <p:nvPr/>
          </p:nvGrpSpPr>
          <p:grpSpPr>
            <a:xfrm>
              <a:off x="0" y="1619280"/>
              <a:ext cx="6780960" cy="323640"/>
              <a:chOff x="0" y="1619280"/>
              <a:chExt cx="6780960" cy="323640"/>
            </a:xfrm>
          </p:grpSpPr>
          <p:sp>
            <p:nvSpPr>
              <p:cNvPr id="1288" name="Rectangle 20"/>
              <p:cNvSpPr/>
              <p:nvPr/>
            </p:nvSpPr>
            <p:spPr>
              <a:xfrm>
                <a:off x="0" y="161928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Rectangle 21"/>
              <p:cNvSpPr/>
              <p:nvPr/>
            </p:nvSpPr>
            <p:spPr>
              <a:xfrm>
                <a:off x="0" y="161928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ClassRef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Group 22"/>
            <p:cNvGrpSpPr/>
            <p:nvPr/>
          </p:nvGrpSpPr>
          <p:grpSpPr>
            <a:xfrm>
              <a:off x="0" y="1942920"/>
              <a:ext cx="6780960" cy="324000"/>
              <a:chOff x="0" y="1942920"/>
              <a:chExt cx="6780960" cy="324000"/>
            </a:xfrm>
          </p:grpSpPr>
          <p:sp>
            <p:nvSpPr>
              <p:cNvPr id="1291" name="Rectangle 23"/>
              <p:cNvSpPr/>
              <p:nvPr/>
            </p:nvSpPr>
            <p:spPr>
              <a:xfrm>
                <a:off x="0" y="1942920"/>
                <a:ext cx="6780960" cy="32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Rectangle 24"/>
              <p:cNvSpPr/>
              <p:nvPr/>
            </p:nvSpPr>
            <p:spPr>
              <a:xfrm>
                <a:off x="0" y="1942920"/>
                <a:ext cx="6780960" cy="32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earned $" &lt;&lt; baseClassRef.earnings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Group 25"/>
            <p:cNvGrpSpPr/>
            <p:nvPr/>
          </p:nvGrpSpPr>
          <p:grpSpPr>
            <a:xfrm>
              <a:off x="0" y="2266920"/>
              <a:ext cx="6780960" cy="323640"/>
              <a:chOff x="0" y="2266920"/>
              <a:chExt cx="6780960" cy="323640"/>
            </a:xfrm>
          </p:grpSpPr>
          <p:sp>
            <p:nvSpPr>
              <p:cNvPr id="1294" name="Rectangle 26"/>
              <p:cNvSpPr/>
              <p:nvPr/>
            </p:nvSpPr>
            <p:spPr>
              <a:xfrm>
                <a:off x="0" y="226692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Rectangle 27"/>
              <p:cNvSpPr/>
              <p:nvPr/>
            </p:nvSpPr>
            <p:spPr>
              <a:xfrm>
                <a:off x="0" y="226692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6" name="Rectangle 28"/>
          <p:cNvSpPr/>
          <p:nvPr/>
        </p:nvSpPr>
        <p:spPr>
          <a:xfrm>
            <a:off x="0" y="2895480"/>
            <a:ext cx="678168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ly worker: Karen Price earned $550.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7" name="Group 32"/>
          <p:cNvGrpSpPr/>
          <p:nvPr/>
        </p:nvGrpSpPr>
        <p:grpSpPr>
          <a:xfrm>
            <a:off x="2666880" y="1219320"/>
            <a:ext cx="5410440" cy="656640"/>
            <a:chOff x="2666880" y="1219320"/>
            <a:chExt cx="5410440" cy="656640"/>
          </a:xfrm>
        </p:grpSpPr>
        <p:sp>
          <p:nvSpPr>
            <p:cNvPr id="1298" name="Text Box 29"/>
            <p:cNvSpPr/>
            <p:nvPr/>
          </p:nvSpPr>
          <p:spPr>
            <a:xfrm>
              <a:off x="4952880" y="1295280"/>
              <a:ext cx="3124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ake in base class reference, 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Line 30"/>
            <p:cNvSpPr/>
            <p:nvPr/>
          </p:nvSpPr>
          <p:spPr>
            <a:xfrm flipH="1" flipV="1">
              <a:off x="4648320" y="121932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Line 31"/>
            <p:cNvSpPr/>
            <p:nvPr/>
          </p:nvSpPr>
          <p:spPr>
            <a:xfrm flipH="1">
              <a:off x="2666880" y="1523880"/>
              <a:ext cx="2286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" dur="1" fill="hold"/>
                                  <p:tgtEl>
                                    <p:spTgt spid="1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7199-7149-4A9A-890D-F14593AA6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ynamic Bin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 and virtual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rk well when all classes are not known in adv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dynamic binding to accommodate new classes being added to a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binding (late bin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's type need not be know at compile time for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call is matched at run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0ABB-8AA2-4444-BF50-19FFC4E13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Virtual Destruc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 base-class pointer to a derived object is deleted, the base-class destructor will act on the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ase-class destructor to ensure that the appropriate destructor will be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62A3-5112-4304-8E0A-3F526EA98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Inheriting Interface and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 of point, circle, cylinder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abstract 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head the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ure virtual functio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ha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other virtual functio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lu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deriv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inherits these implemen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4162-84BA-49D5-B2F7-F6CE99A51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abstract bas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derive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2" name="Group 3"/>
          <p:cNvGrpSpPr/>
          <p:nvPr/>
        </p:nvGrpSpPr>
        <p:grpSpPr>
          <a:xfrm>
            <a:off x="0" y="0"/>
            <a:ext cx="6705000" cy="3276360"/>
            <a:chOff x="0" y="0"/>
            <a:chExt cx="6705000" cy="3276360"/>
          </a:xfrm>
        </p:grpSpPr>
        <p:grpSp>
          <p:nvGrpSpPr>
            <p:cNvPr id="1313" name="Group 4"/>
            <p:cNvGrpSpPr/>
            <p:nvPr/>
          </p:nvGrpSpPr>
          <p:grpSpPr>
            <a:xfrm>
              <a:off x="0" y="0"/>
              <a:ext cx="6705000" cy="204480"/>
              <a:chOff x="0" y="0"/>
              <a:chExt cx="6705000" cy="204480"/>
            </a:xfrm>
          </p:grpSpPr>
          <p:sp>
            <p:nvSpPr>
              <p:cNvPr id="1314" name="Rectangle 5"/>
              <p:cNvSpPr/>
              <p:nvPr/>
            </p:nvSpPr>
            <p:spPr>
              <a:xfrm>
                <a:off x="0" y="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Rectangle 6"/>
              <p:cNvSpPr/>
              <p:nvPr/>
            </p:nvSpPr>
            <p:spPr>
              <a:xfrm>
                <a:off x="0" y="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2: shape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6" name="Group 7"/>
            <p:cNvGrpSpPr/>
            <p:nvPr/>
          </p:nvGrpSpPr>
          <p:grpSpPr>
            <a:xfrm>
              <a:off x="0" y="204480"/>
              <a:ext cx="6705000" cy="204480"/>
              <a:chOff x="0" y="204480"/>
              <a:chExt cx="6705000" cy="204480"/>
            </a:xfrm>
          </p:grpSpPr>
          <p:sp>
            <p:nvSpPr>
              <p:cNvPr id="1317" name="Rectangle 8"/>
              <p:cNvSpPr/>
              <p:nvPr/>
            </p:nvSpPr>
            <p:spPr>
              <a:xfrm>
                <a:off x="0" y="2044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Rectangle 9"/>
              <p:cNvSpPr/>
              <p:nvPr/>
            </p:nvSpPr>
            <p:spPr>
              <a:xfrm>
                <a:off x="0" y="2044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abstract base class Sha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9" name="Group 10"/>
            <p:cNvGrpSpPr/>
            <p:nvPr/>
          </p:nvGrpSpPr>
          <p:grpSpPr>
            <a:xfrm>
              <a:off x="0" y="409320"/>
              <a:ext cx="6705000" cy="204840"/>
              <a:chOff x="0" y="409320"/>
              <a:chExt cx="6705000" cy="204840"/>
            </a:xfrm>
          </p:grpSpPr>
          <p:sp>
            <p:nvSpPr>
              <p:cNvPr id="1320" name="Rectangle 11"/>
              <p:cNvSpPr/>
              <p:nvPr/>
            </p:nvSpPr>
            <p:spPr>
              <a:xfrm>
                <a:off x="0" y="40932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Rectangle 12"/>
              <p:cNvSpPr/>
              <p:nvPr/>
            </p:nvSpPr>
            <p:spPr>
              <a:xfrm>
                <a:off x="0" y="40932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HAP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2" name="Group 13"/>
            <p:cNvGrpSpPr/>
            <p:nvPr/>
          </p:nvGrpSpPr>
          <p:grpSpPr>
            <a:xfrm>
              <a:off x="0" y="614160"/>
              <a:ext cx="6705000" cy="204480"/>
              <a:chOff x="0" y="614160"/>
              <a:chExt cx="6705000" cy="204480"/>
            </a:xfrm>
          </p:grpSpPr>
          <p:sp>
            <p:nvSpPr>
              <p:cNvPr id="1323" name="Rectangle 14"/>
              <p:cNvSpPr/>
              <p:nvPr/>
            </p:nvSpPr>
            <p:spPr>
              <a:xfrm>
                <a:off x="0" y="6141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Rectangle 15"/>
              <p:cNvSpPr/>
              <p:nvPr/>
            </p:nvSpPr>
            <p:spPr>
              <a:xfrm>
                <a:off x="0" y="6141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HAP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5" name="Group 16"/>
            <p:cNvGrpSpPr/>
            <p:nvPr/>
          </p:nvGrpSpPr>
          <p:grpSpPr>
            <a:xfrm>
              <a:off x="0" y="819000"/>
              <a:ext cx="6705000" cy="204480"/>
              <a:chOff x="0" y="819000"/>
              <a:chExt cx="6705000" cy="204480"/>
            </a:xfrm>
          </p:grpSpPr>
          <p:sp>
            <p:nvSpPr>
              <p:cNvPr id="1326" name="Rectangle 17"/>
              <p:cNvSpPr/>
              <p:nvPr/>
            </p:nvSpPr>
            <p:spPr>
              <a:xfrm>
                <a:off x="0" y="8190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Rectangle 18"/>
              <p:cNvSpPr/>
              <p:nvPr/>
            </p:nvSpPr>
            <p:spPr>
              <a:xfrm>
                <a:off x="0" y="8190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8" name="Group 19"/>
            <p:cNvGrpSpPr/>
            <p:nvPr/>
          </p:nvGrpSpPr>
          <p:grpSpPr>
            <a:xfrm>
              <a:off x="0" y="1023840"/>
              <a:ext cx="6705000" cy="204480"/>
              <a:chOff x="0" y="1023840"/>
              <a:chExt cx="6705000" cy="204480"/>
            </a:xfrm>
          </p:grpSpPr>
          <p:sp>
            <p:nvSpPr>
              <p:cNvPr id="1329" name="Rectangle 20"/>
              <p:cNvSpPr/>
              <p:nvPr/>
            </p:nvSpPr>
            <p:spPr>
              <a:xfrm>
                <a:off x="0" y="102384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Rectangle 21"/>
              <p:cNvSpPr/>
              <p:nvPr/>
            </p:nvSpPr>
            <p:spPr>
              <a:xfrm>
                <a:off x="0" y="102384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lass Shap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1" name="Group 22"/>
            <p:cNvGrpSpPr/>
            <p:nvPr/>
          </p:nvGrpSpPr>
          <p:grpSpPr>
            <a:xfrm>
              <a:off x="0" y="1228680"/>
              <a:ext cx="6705000" cy="204840"/>
              <a:chOff x="0" y="1228680"/>
              <a:chExt cx="6705000" cy="204840"/>
            </a:xfrm>
          </p:grpSpPr>
          <p:sp>
            <p:nvSpPr>
              <p:cNvPr id="1332" name="Rectangle 23"/>
              <p:cNvSpPr/>
              <p:nvPr/>
            </p:nvSpPr>
            <p:spPr>
              <a:xfrm>
                <a:off x="0" y="122868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Rectangle 24"/>
              <p:cNvSpPr/>
              <p:nvPr/>
            </p:nvSpPr>
            <p:spPr>
              <a:xfrm>
                <a:off x="0" y="122868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Group 25"/>
            <p:cNvGrpSpPr/>
            <p:nvPr/>
          </p:nvGrpSpPr>
          <p:grpSpPr>
            <a:xfrm>
              <a:off x="0" y="1433520"/>
              <a:ext cx="6705000" cy="204480"/>
              <a:chOff x="0" y="1433520"/>
              <a:chExt cx="6705000" cy="204480"/>
            </a:xfrm>
          </p:grpSpPr>
          <p:sp>
            <p:nvSpPr>
              <p:cNvPr id="1335" name="Rectangle 26"/>
              <p:cNvSpPr/>
              <p:nvPr/>
            </p:nvSpPr>
            <p:spPr>
              <a:xfrm>
                <a:off x="0" y="143352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Rectangle 27"/>
              <p:cNvSpPr/>
              <p:nvPr/>
            </p:nvSpPr>
            <p:spPr>
              <a:xfrm>
                <a:off x="0" y="143352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.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7" name="Group 28"/>
            <p:cNvGrpSpPr/>
            <p:nvPr/>
          </p:nvGrpSpPr>
          <p:grpSpPr>
            <a:xfrm>
              <a:off x="0" y="1638360"/>
              <a:ext cx="6705000" cy="204480"/>
              <a:chOff x="0" y="1638360"/>
              <a:chExt cx="6705000" cy="204480"/>
            </a:xfrm>
          </p:grpSpPr>
          <p:sp>
            <p:nvSpPr>
              <p:cNvPr id="1338" name="Rectangle 29"/>
              <p:cNvSpPr/>
              <p:nvPr/>
            </p:nvSpPr>
            <p:spPr>
              <a:xfrm>
                <a:off x="0" y="16383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Rectangle 30"/>
              <p:cNvSpPr/>
              <p:nvPr/>
            </p:nvSpPr>
            <p:spPr>
              <a:xfrm>
                <a:off x="0" y="16383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.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0" name="Group 31"/>
            <p:cNvGrpSpPr/>
            <p:nvPr/>
          </p:nvGrpSpPr>
          <p:grpSpPr>
            <a:xfrm>
              <a:off x="0" y="1843200"/>
              <a:ext cx="6705000" cy="204480"/>
              <a:chOff x="0" y="1843200"/>
              <a:chExt cx="6705000" cy="204480"/>
            </a:xfrm>
          </p:grpSpPr>
          <p:sp>
            <p:nvSpPr>
              <p:cNvPr id="1341" name="Rectangle 32"/>
              <p:cNvSpPr/>
              <p:nvPr/>
            </p:nvSpPr>
            <p:spPr>
              <a:xfrm>
                <a:off x="0" y="18432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Rectangle 33"/>
              <p:cNvSpPr/>
              <p:nvPr/>
            </p:nvSpPr>
            <p:spPr>
              <a:xfrm>
                <a:off x="0" y="18432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3" name="Group 34"/>
            <p:cNvGrpSpPr/>
            <p:nvPr/>
          </p:nvGrpSpPr>
          <p:grpSpPr>
            <a:xfrm>
              <a:off x="0" y="2047680"/>
              <a:ext cx="6705000" cy="204840"/>
              <a:chOff x="0" y="2047680"/>
              <a:chExt cx="6705000" cy="204840"/>
            </a:xfrm>
          </p:grpSpPr>
          <p:sp>
            <p:nvSpPr>
              <p:cNvPr id="1344" name="Rectangle 35"/>
              <p:cNvSpPr/>
              <p:nvPr/>
            </p:nvSpPr>
            <p:spPr>
              <a:xfrm>
                <a:off x="0" y="204768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Rectangle 36"/>
              <p:cNvSpPr/>
              <p:nvPr/>
            </p:nvSpPr>
            <p:spPr>
              <a:xfrm>
                <a:off x="0" y="204768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ure virtual functions overridden in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6" name="Group 37"/>
            <p:cNvGrpSpPr/>
            <p:nvPr/>
          </p:nvGrpSpPr>
          <p:grpSpPr>
            <a:xfrm>
              <a:off x="0" y="2252880"/>
              <a:ext cx="6705000" cy="204480"/>
              <a:chOff x="0" y="2252880"/>
              <a:chExt cx="6705000" cy="204480"/>
            </a:xfrm>
          </p:grpSpPr>
          <p:sp>
            <p:nvSpPr>
              <p:cNvPr id="1347" name="Rectangle 38"/>
              <p:cNvSpPr/>
              <p:nvPr/>
            </p:nvSpPr>
            <p:spPr>
              <a:xfrm>
                <a:off x="0" y="22528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Rectangle 39"/>
              <p:cNvSpPr/>
              <p:nvPr/>
            </p:nvSpPr>
            <p:spPr>
              <a:xfrm>
                <a:off x="0" y="22528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hape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9" name="Group 40"/>
            <p:cNvGrpSpPr/>
            <p:nvPr/>
          </p:nvGrpSpPr>
          <p:grpSpPr>
            <a:xfrm>
              <a:off x="0" y="2457360"/>
              <a:ext cx="6705000" cy="204480"/>
              <a:chOff x="0" y="2457360"/>
              <a:chExt cx="6705000" cy="204480"/>
            </a:xfrm>
          </p:grpSpPr>
          <p:sp>
            <p:nvSpPr>
              <p:cNvPr id="1350" name="Rectangle 41"/>
              <p:cNvSpPr/>
              <p:nvPr/>
            </p:nvSpPr>
            <p:spPr>
              <a:xfrm>
                <a:off x="0" y="24573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Rectangle 42"/>
              <p:cNvSpPr/>
              <p:nvPr/>
            </p:nvSpPr>
            <p:spPr>
              <a:xfrm>
                <a:off x="0" y="24573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2" name="Group 43"/>
            <p:cNvGrpSpPr/>
            <p:nvPr/>
          </p:nvGrpSpPr>
          <p:grpSpPr>
            <a:xfrm>
              <a:off x="0" y="2662200"/>
              <a:ext cx="6705000" cy="204480"/>
              <a:chOff x="0" y="2662200"/>
              <a:chExt cx="6705000" cy="204480"/>
            </a:xfrm>
          </p:grpSpPr>
          <p:sp>
            <p:nvSpPr>
              <p:cNvPr id="1353" name="Rectangle 44"/>
              <p:cNvSpPr/>
              <p:nvPr/>
            </p:nvSpPr>
            <p:spPr>
              <a:xfrm>
                <a:off x="0" y="26622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Rectangle 45"/>
              <p:cNvSpPr/>
              <p:nvPr/>
            </p:nvSpPr>
            <p:spPr>
              <a:xfrm>
                <a:off x="0" y="26622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5" name="Group 46"/>
            <p:cNvGrpSpPr/>
            <p:nvPr/>
          </p:nvGrpSpPr>
          <p:grpSpPr>
            <a:xfrm>
              <a:off x="0" y="2867040"/>
              <a:ext cx="6705000" cy="204840"/>
              <a:chOff x="0" y="2867040"/>
              <a:chExt cx="6705000" cy="204840"/>
            </a:xfrm>
          </p:grpSpPr>
          <p:sp>
            <p:nvSpPr>
              <p:cNvPr id="1356" name="Rectangle 47"/>
              <p:cNvSpPr/>
              <p:nvPr/>
            </p:nvSpPr>
            <p:spPr>
              <a:xfrm>
                <a:off x="0" y="286704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Rectangle 48"/>
              <p:cNvSpPr/>
              <p:nvPr/>
            </p:nvSpPr>
            <p:spPr>
              <a:xfrm>
                <a:off x="0" y="286704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8" name="Group 49"/>
            <p:cNvGrpSpPr/>
            <p:nvPr/>
          </p:nvGrpSpPr>
          <p:grpSpPr>
            <a:xfrm>
              <a:off x="0" y="3071880"/>
              <a:ext cx="6705000" cy="204480"/>
              <a:chOff x="0" y="3071880"/>
              <a:chExt cx="6705000" cy="204480"/>
            </a:xfrm>
          </p:grpSpPr>
          <p:sp>
            <p:nvSpPr>
              <p:cNvPr id="1359" name="Rectangle 50"/>
              <p:cNvSpPr/>
              <p:nvPr/>
            </p:nvSpPr>
            <p:spPr>
              <a:xfrm>
                <a:off x="0" y="30718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Rectangle 51"/>
              <p:cNvSpPr/>
              <p:nvPr/>
            </p:nvSpPr>
            <p:spPr>
              <a:xfrm>
                <a:off x="0" y="30718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1" name="Group 52"/>
          <p:cNvGrpSpPr/>
          <p:nvPr/>
        </p:nvGrpSpPr>
        <p:grpSpPr>
          <a:xfrm>
            <a:off x="0" y="3276720"/>
            <a:ext cx="6705000" cy="3581280"/>
            <a:chOff x="0" y="3276720"/>
            <a:chExt cx="6705000" cy="3581280"/>
          </a:xfrm>
        </p:grpSpPr>
        <p:grpSp>
          <p:nvGrpSpPr>
            <p:cNvPr id="1362" name="Group 53"/>
            <p:cNvGrpSpPr/>
            <p:nvPr/>
          </p:nvGrpSpPr>
          <p:grpSpPr>
            <a:xfrm>
              <a:off x="0" y="3276720"/>
              <a:ext cx="6705000" cy="198720"/>
              <a:chOff x="0" y="3276720"/>
              <a:chExt cx="6705000" cy="198720"/>
            </a:xfrm>
          </p:grpSpPr>
          <p:sp>
            <p:nvSpPr>
              <p:cNvPr id="1363" name="Rectangle 54"/>
              <p:cNvSpPr/>
              <p:nvPr/>
            </p:nvSpPr>
            <p:spPr>
              <a:xfrm>
                <a:off x="0" y="32767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Rectangle 55"/>
              <p:cNvSpPr/>
              <p:nvPr/>
            </p:nvSpPr>
            <p:spPr>
              <a:xfrm>
                <a:off x="0" y="32767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2: point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5" name="Group 56"/>
            <p:cNvGrpSpPr/>
            <p:nvPr/>
          </p:nvGrpSpPr>
          <p:grpSpPr>
            <a:xfrm>
              <a:off x="0" y="3475440"/>
              <a:ext cx="6705000" cy="198720"/>
              <a:chOff x="0" y="3475440"/>
              <a:chExt cx="6705000" cy="198720"/>
            </a:xfrm>
          </p:grpSpPr>
          <p:sp>
            <p:nvSpPr>
              <p:cNvPr id="1366" name="Rectangle 57"/>
              <p:cNvSpPr/>
              <p:nvPr/>
            </p:nvSpPr>
            <p:spPr>
              <a:xfrm>
                <a:off x="0" y="34754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Rectangle 58"/>
              <p:cNvSpPr/>
              <p:nvPr/>
            </p:nvSpPr>
            <p:spPr>
              <a:xfrm>
                <a:off x="0" y="34754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Group 59"/>
            <p:cNvGrpSpPr/>
            <p:nvPr/>
          </p:nvGrpSpPr>
          <p:grpSpPr>
            <a:xfrm>
              <a:off x="0" y="3674520"/>
              <a:ext cx="6705000" cy="198720"/>
              <a:chOff x="0" y="3674520"/>
              <a:chExt cx="6705000" cy="198720"/>
            </a:xfrm>
          </p:grpSpPr>
          <p:sp>
            <p:nvSpPr>
              <p:cNvPr id="1369" name="Rectangle 60"/>
              <p:cNvSpPr/>
              <p:nvPr/>
            </p:nvSpPr>
            <p:spPr>
              <a:xfrm>
                <a:off x="0" y="36745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Rectangle 61"/>
              <p:cNvSpPr/>
              <p:nvPr/>
            </p:nvSpPr>
            <p:spPr>
              <a:xfrm>
                <a:off x="0" y="36745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1" name="Group 62"/>
            <p:cNvGrpSpPr/>
            <p:nvPr/>
          </p:nvGrpSpPr>
          <p:grpSpPr>
            <a:xfrm>
              <a:off x="0" y="3873600"/>
              <a:ext cx="6705000" cy="198720"/>
              <a:chOff x="0" y="3873600"/>
              <a:chExt cx="6705000" cy="198720"/>
            </a:xfrm>
          </p:grpSpPr>
          <p:sp>
            <p:nvSpPr>
              <p:cNvPr id="1372" name="Rectangle 63"/>
              <p:cNvSpPr/>
              <p:nvPr/>
            </p:nvSpPr>
            <p:spPr>
              <a:xfrm>
                <a:off x="0" y="38736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Rectangle 64"/>
              <p:cNvSpPr/>
              <p:nvPr/>
            </p:nvSpPr>
            <p:spPr>
              <a:xfrm>
                <a:off x="0" y="38736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Group 65"/>
            <p:cNvGrpSpPr/>
            <p:nvPr/>
          </p:nvGrpSpPr>
          <p:grpSpPr>
            <a:xfrm>
              <a:off x="0" y="4072320"/>
              <a:ext cx="6705000" cy="198720"/>
              <a:chOff x="0" y="4072320"/>
              <a:chExt cx="6705000" cy="198720"/>
            </a:xfrm>
          </p:grpSpPr>
          <p:sp>
            <p:nvSpPr>
              <p:cNvPr id="1375" name="Rectangle 66"/>
              <p:cNvSpPr/>
              <p:nvPr/>
            </p:nvSpPr>
            <p:spPr>
              <a:xfrm>
                <a:off x="0" y="40723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Rectangle 67"/>
              <p:cNvSpPr/>
              <p:nvPr/>
            </p:nvSpPr>
            <p:spPr>
              <a:xfrm>
                <a:off x="0" y="40723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Group 68"/>
            <p:cNvGrpSpPr/>
            <p:nvPr/>
          </p:nvGrpSpPr>
          <p:grpSpPr>
            <a:xfrm>
              <a:off x="0" y="4271400"/>
              <a:ext cx="6705000" cy="198720"/>
              <a:chOff x="0" y="4271400"/>
              <a:chExt cx="6705000" cy="198720"/>
            </a:xfrm>
          </p:grpSpPr>
          <p:sp>
            <p:nvSpPr>
              <p:cNvPr id="1378" name="Rectangle 69"/>
              <p:cNvSpPr/>
              <p:nvPr/>
            </p:nvSpPr>
            <p:spPr>
              <a:xfrm>
                <a:off x="0" y="42714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Rectangle 70"/>
              <p:cNvSpPr/>
              <p:nvPr/>
            </p:nvSpPr>
            <p:spPr>
              <a:xfrm>
                <a:off x="0" y="42714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0" name="Group 71"/>
            <p:cNvGrpSpPr/>
            <p:nvPr/>
          </p:nvGrpSpPr>
          <p:grpSpPr>
            <a:xfrm>
              <a:off x="0" y="4470480"/>
              <a:ext cx="6705000" cy="198720"/>
              <a:chOff x="0" y="4470480"/>
              <a:chExt cx="6705000" cy="198720"/>
            </a:xfrm>
          </p:grpSpPr>
          <p:sp>
            <p:nvSpPr>
              <p:cNvPr id="1381" name="Rectangle 72"/>
              <p:cNvSpPr/>
              <p:nvPr/>
            </p:nvSpPr>
            <p:spPr>
              <a:xfrm>
                <a:off x="0" y="44704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Rectangle 73"/>
              <p:cNvSpPr/>
              <p:nvPr/>
            </p:nvSpPr>
            <p:spPr>
              <a:xfrm>
                <a:off x="0" y="44704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3" name="Group 74"/>
            <p:cNvGrpSpPr/>
            <p:nvPr/>
          </p:nvGrpSpPr>
          <p:grpSpPr>
            <a:xfrm>
              <a:off x="0" y="4669560"/>
              <a:ext cx="6705000" cy="198720"/>
              <a:chOff x="0" y="4669560"/>
              <a:chExt cx="6705000" cy="198720"/>
            </a:xfrm>
          </p:grpSpPr>
          <p:sp>
            <p:nvSpPr>
              <p:cNvPr id="1384" name="Rectangle 75"/>
              <p:cNvSpPr/>
              <p:nvPr/>
            </p:nvSpPr>
            <p:spPr>
              <a:xfrm>
                <a:off x="0" y="46695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Rectangle 76"/>
              <p:cNvSpPr/>
              <p:nvPr/>
            </p:nvSpPr>
            <p:spPr>
              <a:xfrm>
                <a:off x="0" y="46695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6" name="Group 77"/>
            <p:cNvGrpSpPr/>
            <p:nvPr/>
          </p:nvGrpSpPr>
          <p:grpSpPr>
            <a:xfrm>
              <a:off x="0" y="4868280"/>
              <a:ext cx="6705000" cy="198720"/>
              <a:chOff x="0" y="4868280"/>
              <a:chExt cx="6705000" cy="198720"/>
            </a:xfrm>
          </p:grpSpPr>
          <p:sp>
            <p:nvSpPr>
              <p:cNvPr id="1387" name="Rectangle 78"/>
              <p:cNvSpPr/>
              <p:nvPr/>
            </p:nvSpPr>
            <p:spPr>
              <a:xfrm>
                <a:off x="0" y="48682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Rectangle 79"/>
              <p:cNvSpPr/>
              <p:nvPr/>
            </p:nvSpPr>
            <p:spPr>
              <a:xfrm>
                <a:off x="0" y="48682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9" name="Group 80"/>
            <p:cNvGrpSpPr/>
            <p:nvPr/>
          </p:nvGrpSpPr>
          <p:grpSpPr>
            <a:xfrm>
              <a:off x="0" y="5067360"/>
              <a:ext cx="6705000" cy="198720"/>
              <a:chOff x="0" y="5067360"/>
              <a:chExt cx="6705000" cy="198720"/>
            </a:xfrm>
          </p:grpSpPr>
          <p:sp>
            <p:nvSpPr>
              <p:cNvPr id="1390" name="Rectangle 81"/>
              <p:cNvSpPr/>
              <p:nvPr/>
            </p:nvSpPr>
            <p:spPr>
              <a:xfrm>
                <a:off x="0" y="50673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Rectangle 82"/>
              <p:cNvSpPr/>
              <p:nvPr/>
            </p:nvSpPr>
            <p:spPr>
              <a:xfrm>
                <a:off x="0" y="50673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shap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2" name="Group 83"/>
            <p:cNvGrpSpPr/>
            <p:nvPr/>
          </p:nvGrpSpPr>
          <p:grpSpPr>
            <a:xfrm>
              <a:off x="0" y="5266080"/>
              <a:ext cx="6705000" cy="198720"/>
              <a:chOff x="0" y="5266080"/>
              <a:chExt cx="6705000" cy="198720"/>
            </a:xfrm>
          </p:grpSpPr>
          <p:sp>
            <p:nvSpPr>
              <p:cNvPr id="1393" name="Rectangle 84"/>
              <p:cNvSpPr/>
              <p:nvPr/>
            </p:nvSpPr>
            <p:spPr>
              <a:xfrm>
                <a:off x="0" y="52660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Rectangle 85"/>
              <p:cNvSpPr/>
              <p:nvPr/>
            </p:nvSpPr>
            <p:spPr>
              <a:xfrm>
                <a:off x="0" y="52660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5" name="Group 86"/>
            <p:cNvGrpSpPr/>
            <p:nvPr/>
          </p:nvGrpSpPr>
          <p:grpSpPr>
            <a:xfrm>
              <a:off x="0" y="5465160"/>
              <a:ext cx="6705000" cy="198720"/>
              <a:chOff x="0" y="5465160"/>
              <a:chExt cx="6705000" cy="198720"/>
            </a:xfrm>
          </p:grpSpPr>
          <p:sp>
            <p:nvSpPr>
              <p:cNvPr id="1396" name="Rectangle 87"/>
              <p:cNvSpPr/>
              <p:nvPr/>
            </p:nvSpPr>
            <p:spPr>
              <a:xfrm>
                <a:off x="0" y="54651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Rectangle 88"/>
              <p:cNvSpPr/>
              <p:nvPr/>
            </p:nvSpPr>
            <p:spPr>
              <a:xfrm>
                <a:off x="0" y="54651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hap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Group 89"/>
            <p:cNvGrpSpPr/>
            <p:nvPr/>
          </p:nvGrpSpPr>
          <p:grpSpPr>
            <a:xfrm>
              <a:off x="0" y="5664240"/>
              <a:ext cx="6705000" cy="198720"/>
              <a:chOff x="0" y="5664240"/>
              <a:chExt cx="6705000" cy="198720"/>
            </a:xfrm>
          </p:grpSpPr>
          <p:sp>
            <p:nvSpPr>
              <p:cNvPr id="1399" name="Rectangle 90"/>
              <p:cNvSpPr/>
              <p:nvPr/>
            </p:nvSpPr>
            <p:spPr>
              <a:xfrm>
                <a:off x="0" y="56642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Rectangle 91"/>
              <p:cNvSpPr/>
              <p:nvPr/>
            </p:nvSpPr>
            <p:spPr>
              <a:xfrm>
                <a:off x="0" y="56642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1" name="Group 92"/>
            <p:cNvGrpSpPr/>
            <p:nvPr/>
          </p:nvGrpSpPr>
          <p:grpSpPr>
            <a:xfrm>
              <a:off x="0" y="5863320"/>
              <a:ext cx="6705000" cy="198720"/>
              <a:chOff x="0" y="5863320"/>
              <a:chExt cx="6705000" cy="198720"/>
            </a:xfrm>
          </p:grpSpPr>
          <p:sp>
            <p:nvSpPr>
              <p:cNvPr id="1402" name="Rectangle 93"/>
              <p:cNvSpPr/>
              <p:nvPr/>
            </p:nvSpPr>
            <p:spPr>
              <a:xfrm>
                <a:off x="0" y="58633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Rectangle 94"/>
              <p:cNvSpPr/>
              <p:nvPr/>
            </p:nvSpPr>
            <p:spPr>
              <a:xfrm>
                <a:off x="0" y="58633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4" name="Group 95"/>
            <p:cNvGrpSpPr/>
            <p:nvPr/>
          </p:nvGrpSpPr>
          <p:grpSpPr>
            <a:xfrm>
              <a:off x="0" y="6062040"/>
              <a:ext cx="6705000" cy="198720"/>
              <a:chOff x="0" y="6062040"/>
              <a:chExt cx="6705000" cy="198720"/>
            </a:xfrm>
          </p:grpSpPr>
          <p:sp>
            <p:nvSpPr>
              <p:cNvPr id="1405" name="Rectangle 96"/>
              <p:cNvSpPr/>
              <p:nvPr/>
            </p:nvSpPr>
            <p:spPr>
              <a:xfrm>
                <a:off x="0" y="60620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Rectangle 97"/>
              <p:cNvSpPr/>
              <p:nvPr/>
            </p:nvSpPr>
            <p:spPr>
              <a:xfrm>
                <a:off x="0" y="60620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7" name="Group 98"/>
            <p:cNvGrpSpPr/>
            <p:nvPr/>
          </p:nvGrpSpPr>
          <p:grpSpPr>
            <a:xfrm>
              <a:off x="0" y="6261120"/>
              <a:ext cx="6705000" cy="198720"/>
              <a:chOff x="0" y="6261120"/>
              <a:chExt cx="6705000" cy="198720"/>
            </a:xfrm>
          </p:grpSpPr>
          <p:sp>
            <p:nvSpPr>
              <p:cNvPr id="1408" name="Rectangle 99"/>
              <p:cNvSpPr/>
              <p:nvPr/>
            </p:nvSpPr>
            <p:spPr>
              <a:xfrm>
                <a:off x="0" y="62611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Rectangle 100"/>
              <p:cNvSpPr/>
              <p:nvPr/>
            </p:nvSpPr>
            <p:spPr>
              <a:xfrm>
                <a:off x="0" y="62611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X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0" name="Group 101"/>
            <p:cNvGrpSpPr/>
            <p:nvPr/>
          </p:nvGrpSpPr>
          <p:grpSpPr>
            <a:xfrm>
              <a:off x="0" y="6460200"/>
              <a:ext cx="6705000" cy="198720"/>
              <a:chOff x="0" y="6460200"/>
              <a:chExt cx="6705000" cy="198720"/>
            </a:xfrm>
          </p:grpSpPr>
          <p:sp>
            <p:nvSpPr>
              <p:cNvPr id="1411" name="Rectangle 102"/>
              <p:cNvSpPr/>
              <p:nvPr/>
            </p:nvSpPr>
            <p:spPr>
              <a:xfrm>
                <a:off x="0" y="64602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Rectangle 103"/>
              <p:cNvSpPr/>
              <p:nvPr/>
            </p:nvSpPr>
            <p:spPr>
              <a:xfrm>
                <a:off x="0" y="64602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Group 104"/>
            <p:cNvGrpSpPr/>
            <p:nvPr/>
          </p:nvGrpSpPr>
          <p:grpSpPr>
            <a:xfrm>
              <a:off x="0" y="6659280"/>
              <a:ext cx="6705000" cy="198720"/>
              <a:chOff x="0" y="6659280"/>
              <a:chExt cx="6705000" cy="198720"/>
            </a:xfrm>
          </p:grpSpPr>
          <p:sp>
            <p:nvSpPr>
              <p:cNvPr id="1414" name="Rectangle 105"/>
              <p:cNvSpPr/>
              <p:nvPr/>
            </p:nvSpPr>
            <p:spPr>
              <a:xfrm>
                <a:off x="0" y="66592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Rectangle 106"/>
              <p:cNvSpPr/>
              <p:nvPr/>
            </p:nvSpPr>
            <p:spPr>
              <a:xfrm>
                <a:off x="0" y="66592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6" name="Group 110"/>
          <p:cNvGrpSpPr/>
          <p:nvPr/>
        </p:nvGrpSpPr>
        <p:grpSpPr>
          <a:xfrm>
            <a:off x="3200400" y="5257800"/>
            <a:ext cx="4343400" cy="580680"/>
            <a:chOff x="3200400" y="5257800"/>
            <a:chExt cx="4343400" cy="580680"/>
          </a:xfrm>
        </p:grpSpPr>
        <p:sp>
          <p:nvSpPr>
            <p:cNvPr id="1417" name="Text Box 107"/>
            <p:cNvSpPr/>
            <p:nvPr/>
          </p:nvSpPr>
          <p:spPr>
            <a:xfrm>
              <a:off x="4952880" y="525780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s from the abstract base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Line 108"/>
            <p:cNvSpPr/>
            <p:nvPr/>
          </p:nvSpPr>
          <p:spPr>
            <a:xfrm flipH="1">
              <a:off x="3200400" y="55623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9" name="Group 113"/>
          <p:cNvGrpSpPr/>
          <p:nvPr/>
        </p:nvGrpSpPr>
        <p:grpSpPr>
          <a:xfrm>
            <a:off x="3123720" y="2819520"/>
            <a:ext cx="3200760" cy="900000"/>
            <a:chOff x="3123720" y="2819520"/>
            <a:chExt cx="3200760" cy="900000"/>
          </a:xfrm>
        </p:grpSpPr>
        <p:sp>
          <p:nvSpPr>
            <p:cNvPr id="1420" name="Text Box 111"/>
            <p:cNvSpPr/>
            <p:nvPr/>
          </p:nvSpPr>
          <p:spPr>
            <a:xfrm>
              <a:off x="3886200" y="289548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which will be overridden by each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Line 112"/>
            <p:cNvSpPr/>
            <p:nvPr/>
          </p:nvSpPr>
          <p:spPr>
            <a:xfrm flipH="1" flipV="1">
              <a:off x="3123720" y="281952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2" dur="1" fill="hold"/>
                                  <p:tgtEl>
                                    <p:spTgt spid="14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D761-EFFA-48F9-A665-2A374B23C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derive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4" name="Group 3"/>
          <p:cNvGrpSpPr/>
          <p:nvPr/>
        </p:nvGrpSpPr>
        <p:grpSpPr>
          <a:xfrm>
            <a:off x="0" y="0"/>
            <a:ext cx="6780960" cy="1600200"/>
            <a:chOff x="0" y="0"/>
            <a:chExt cx="6780960" cy="1600200"/>
          </a:xfrm>
        </p:grpSpPr>
        <p:grpSp>
          <p:nvGrpSpPr>
            <p:cNvPr id="1425" name="Group 4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426" name="Rectangle 5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Rectangle 6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hape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cout &lt;&lt; "Point: "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8" name="Group 7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429" name="Rectangle 8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Rectangle 9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1" name="Group 10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432" name="Rectangle 11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Rectangle 12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4" name="Group 13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435" name="Rectangle 14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Rectangle 15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, y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x and y coordinates of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" name="Group 16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438" name="Rectangle 17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Rectangle 18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0" name="Group 19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441" name="Rectangle 20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Rectangle 21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3" name="Group 22"/>
            <p:cNvGrpSpPr/>
            <p:nvPr/>
          </p:nvGrpSpPr>
          <p:grpSpPr>
            <a:xfrm>
              <a:off x="0" y="1371600"/>
              <a:ext cx="6780960" cy="228600"/>
              <a:chOff x="0" y="1371600"/>
              <a:chExt cx="6780960" cy="228600"/>
            </a:xfrm>
          </p:grpSpPr>
          <p:sp>
            <p:nvSpPr>
              <p:cNvPr id="1444" name="Rectangle 23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Rectangle 24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6" name="Group 25"/>
          <p:cNvGrpSpPr/>
          <p:nvPr/>
        </p:nvGrpSpPr>
        <p:grpSpPr>
          <a:xfrm>
            <a:off x="0" y="1600200"/>
            <a:ext cx="6780960" cy="3962520"/>
            <a:chOff x="0" y="1600200"/>
            <a:chExt cx="6780960" cy="3962520"/>
          </a:xfrm>
        </p:grpSpPr>
        <p:grpSp>
          <p:nvGrpSpPr>
            <p:cNvPr id="1447" name="Group 26"/>
            <p:cNvGrpSpPr/>
            <p:nvPr/>
          </p:nvGrpSpPr>
          <p:grpSpPr>
            <a:xfrm>
              <a:off x="0" y="1600200"/>
              <a:ext cx="6780960" cy="282960"/>
              <a:chOff x="0" y="1600200"/>
              <a:chExt cx="6780960" cy="282960"/>
            </a:xfrm>
          </p:grpSpPr>
          <p:sp>
            <p:nvSpPr>
              <p:cNvPr id="1448" name="Rectangle 27"/>
              <p:cNvSpPr/>
              <p:nvPr/>
            </p:nvSpPr>
            <p:spPr>
              <a:xfrm>
                <a:off x="0" y="16002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Rectangle 28"/>
              <p:cNvSpPr/>
              <p:nvPr/>
            </p:nvSpPr>
            <p:spPr>
              <a:xfrm>
                <a:off x="0" y="16002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2: point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0" name="Group 29"/>
            <p:cNvGrpSpPr/>
            <p:nvPr/>
          </p:nvGrpSpPr>
          <p:grpSpPr>
            <a:xfrm>
              <a:off x="0" y="1883160"/>
              <a:ext cx="6780960" cy="282960"/>
              <a:chOff x="0" y="1883160"/>
              <a:chExt cx="6780960" cy="282960"/>
            </a:xfrm>
          </p:grpSpPr>
          <p:sp>
            <p:nvSpPr>
              <p:cNvPr id="1451" name="Rectangle 30"/>
              <p:cNvSpPr/>
              <p:nvPr/>
            </p:nvSpPr>
            <p:spPr>
              <a:xfrm>
                <a:off x="0" y="18831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Rectangle 31"/>
              <p:cNvSpPr/>
              <p:nvPr/>
            </p:nvSpPr>
            <p:spPr>
              <a:xfrm>
                <a:off x="0" y="18831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3" name="Group 32"/>
            <p:cNvGrpSpPr/>
            <p:nvPr/>
          </p:nvGrpSpPr>
          <p:grpSpPr>
            <a:xfrm>
              <a:off x="0" y="2166120"/>
              <a:ext cx="6780960" cy="282960"/>
              <a:chOff x="0" y="2166120"/>
              <a:chExt cx="6780960" cy="282960"/>
            </a:xfrm>
          </p:grpSpPr>
          <p:sp>
            <p:nvSpPr>
              <p:cNvPr id="1454" name="Rectangle 33"/>
              <p:cNvSpPr/>
              <p:nvPr/>
            </p:nvSpPr>
            <p:spPr>
              <a:xfrm>
                <a:off x="0" y="21661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Rectangle 34"/>
              <p:cNvSpPr/>
              <p:nvPr/>
            </p:nvSpPr>
            <p:spPr>
              <a:xfrm>
                <a:off x="0" y="21661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oint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6" name="Group 35"/>
            <p:cNvGrpSpPr/>
            <p:nvPr/>
          </p:nvGrpSpPr>
          <p:grpSpPr>
            <a:xfrm>
              <a:off x="0" y="2449080"/>
              <a:ext cx="6780960" cy="282960"/>
              <a:chOff x="0" y="2449080"/>
              <a:chExt cx="6780960" cy="282960"/>
            </a:xfrm>
          </p:grpSpPr>
          <p:sp>
            <p:nvSpPr>
              <p:cNvPr id="1457" name="Rectangle 36"/>
              <p:cNvSpPr/>
              <p:nvPr/>
            </p:nvSpPr>
            <p:spPr>
              <a:xfrm>
                <a:off x="0" y="244908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Rectangle 37"/>
              <p:cNvSpPr/>
              <p:nvPr/>
            </p:nvSpPr>
            <p:spPr>
              <a:xfrm>
                <a:off x="0" y="244908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9" name="Group 38"/>
            <p:cNvGrpSpPr/>
            <p:nvPr/>
          </p:nvGrpSpPr>
          <p:grpSpPr>
            <a:xfrm>
              <a:off x="0" y="2732400"/>
              <a:ext cx="6780960" cy="282960"/>
              <a:chOff x="0" y="2732400"/>
              <a:chExt cx="6780960" cy="282960"/>
            </a:xfrm>
          </p:grpSpPr>
          <p:sp>
            <p:nvSpPr>
              <p:cNvPr id="1460" name="Rectangle 39"/>
              <p:cNvSpPr/>
              <p:nvPr/>
            </p:nvSpPr>
            <p:spPr>
              <a:xfrm>
                <a:off x="0" y="27324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Rectangle 40"/>
              <p:cNvSpPr/>
              <p:nvPr/>
            </p:nvSpPr>
            <p:spPr>
              <a:xfrm>
                <a:off x="0" y="27324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oint::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 ) { setPoint( a, b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2" name="Group 41"/>
            <p:cNvGrpSpPr/>
            <p:nvPr/>
          </p:nvGrpSpPr>
          <p:grpSpPr>
            <a:xfrm>
              <a:off x="0" y="3015360"/>
              <a:ext cx="6780960" cy="282960"/>
              <a:chOff x="0" y="3015360"/>
              <a:chExt cx="6780960" cy="282960"/>
            </a:xfrm>
          </p:grpSpPr>
          <p:sp>
            <p:nvSpPr>
              <p:cNvPr id="1463" name="Rectangle 42"/>
              <p:cNvSpPr/>
              <p:nvPr/>
            </p:nvSpPr>
            <p:spPr>
              <a:xfrm>
                <a:off x="0" y="30153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Rectangle 43"/>
              <p:cNvSpPr/>
              <p:nvPr/>
            </p:nvSpPr>
            <p:spPr>
              <a:xfrm>
                <a:off x="0" y="30153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5" name="Group 44"/>
            <p:cNvGrpSpPr/>
            <p:nvPr/>
          </p:nvGrpSpPr>
          <p:grpSpPr>
            <a:xfrm>
              <a:off x="0" y="3298320"/>
              <a:ext cx="6780960" cy="282960"/>
              <a:chOff x="0" y="3298320"/>
              <a:chExt cx="6780960" cy="282960"/>
            </a:xfrm>
          </p:grpSpPr>
          <p:sp>
            <p:nvSpPr>
              <p:cNvPr id="1466" name="Rectangle 45"/>
              <p:cNvSpPr/>
              <p:nvPr/>
            </p:nvSpPr>
            <p:spPr>
              <a:xfrm>
                <a:off x="0" y="32983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Rectangle 46"/>
              <p:cNvSpPr/>
              <p:nvPr/>
            </p:nvSpPr>
            <p:spPr>
              <a:xfrm>
                <a:off x="0" y="32983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::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8" name="Group 47"/>
            <p:cNvGrpSpPr/>
            <p:nvPr/>
          </p:nvGrpSpPr>
          <p:grpSpPr>
            <a:xfrm>
              <a:off x="0" y="3581640"/>
              <a:ext cx="6780960" cy="282960"/>
              <a:chOff x="0" y="3581640"/>
              <a:chExt cx="6780960" cy="282960"/>
            </a:xfrm>
          </p:grpSpPr>
          <p:sp>
            <p:nvSpPr>
              <p:cNvPr id="1469" name="Rectangle 48"/>
              <p:cNvSpPr/>
              <p:nvPr/>
            </p:nvSpPr>
            <p:spPr>
              <a:xfrm>
                <a:off x="0" y="358164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Rectangle 49"/>
              <p:cNvSpPr/>
              <p:nvPr/>
            </p:nvSpPr>
            <p:spPr>
              <a:xfrm>
                <a:off x="0" y="358164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1" name="Group 50"/>
            <p:cNvGrpSpPr/>
            <p:nvPr/>
          </p:nvGrpSpPr>
          <p:grpSpPr>
            <a:xfrm>
              <a:off x="0" y="3864600"/>
              <a:ext cx="6780960" cy="282960"/>
              <a:chOff x="0" y="3864600"/>
              <a:chExt cx="6780960" cy="282960"/>
            </a:xfrm>
          </p:grpSpPr>
          <p:sp>
            <p:nvSpPr>
              <p:cNvPr id="1472" name="Rectangle 51"/>
              <p:cNvSpPr/>
              <p:nvPr/>
            </p:nvSpPr>
            <p:spPr>
              <a:xfrm>
                <a:off x="0" y="38646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Rectangle 52"/>
              <p:cNvSpPr/>
              <p:nvPr/>
            </p:nvSpPr>
            <p:spPr>
              <a:xfrm>
                <a:off x="0" y="38646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x = 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Group 53"/>
            <p:cNvGrpSpPr/>
            <p:nvPr/>
          </p:nvGrpSpPr>
          <p:grpSpPr>
            <a:xfrm>
              <a:off x="0" y="4147560"/>
              <a:ext cx="6780960" cy="282960"/>
              <a:chOff x="0" y="4147560"/>
              <a:chExt cx="6780960" cy="282960"/>
            </a:xfrm>
          </p:grpSpPr>
          <p:sp>
            <p:nvSpPr>
              <p:cNvPr id="1475" name="Rectangle 54"/>
              <p:cNvSpPr/>
              <p:nvPr/>
            </p:nvSpPr>
            <p:spPr>
              <a:xfrm>
                <a:off x="0" y="41475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Rectangle 55"/>
              <p:cNvSpPr/>
              <p:nvPr/>
            </p:nvSpPr>
            <p:spPr>
              <a:xfrm>
                <a:off x="0" y="41475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y = b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7" name="Group 56"/>
            <p:cNvGrpSpPr/>
            <p:nvPr/>
          </p:nvGrpSpPr>
          <p:grpSpPr>
            <a:xfrm>
              <a:off x="0" y="4430520"/>
              <a:ext cx="6780960" cy="282960"/>
              <a:chOff x="0" y="4430520"/>
              <a:chExt cx="6780960" cy="282960"/>
            </a:xfrm>
          </p:grpSpPr>
          <p:sp>
            <p:nvSpPr>
              <p:cNvPr id="1478" name="Rectangle 57"/>
              <p:cNvSpPr/>
              <p:nvPr/>
            </p:nvSpPr>
            <p:spPr>
              <a:xfrm>
                <a:off x="0" y="44305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Rectangle 58"/>
              <p:cNvSpPr/>
              <p:nvPr/>
            </p:nvSpPr>
            <p:spPr>
              <a:xfrm>
                <a:off x="0" y="44305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Group 59"/>
            <p:cNvGrpSpPr/>
            <p:nvPr/>
          </p:nvGrpSpPr>
          <p:grpSpPr>
            <a:xfrm>
              <a:off x="0" y="4713840"/>
              <a:ext cx="6780960" cy="282960"/>
              <a:chOff x="0" y="4713840"/>
              <a:chExt cx="6780960" cy="282960"/>
            </a:xfrm>
          </p:grpSpPr>
          <p:sp>
            <p:nvSpPr>
              <p:cNvPr id="1481" name="Rectangle 60"/>
              <p:cNvSpPr/>
              <p:nvPr/>
            </p:nvSpPr>
            <p:spPr>
              <a:xfrm>
                <a:off x="0" y="471384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Rectangle 61"/>
              <p:cNvSpPr/>
              <p:nvPr/>
            </p:nvSpPr>
            <p:spPr>
              <a:xfrm>
                <a:off x="0" y="471384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3" name="Group 62"/>
            <p:cNvGrpSpPr/>
            <p:nvPr/>
          </p:nvGrpSpPr>
          <p:grpSpPr>
            <a:xfrm>
              <a:off x="0" y="4996800"/>
              <a:ext cx="6780960" cy="282960"/>
              <a:chOff x="0" y="4996800"/>
              <a:chExt cx="6780960" cy="282960"/>
            </a:xfrm>
          </p:grpSpPr>
          <p:sp>
            <p:nvSpPr>
              <p:cNvPr id="1484" name="Rectangle 63"/>
              <p:cNvSpPr/>
              <p:nvPr/>
            </p:nvSpPr>
            <p:spPr>
              <a:xfrm>
                <a:off x="0" y="49968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Rectangle 64"/>
              <p:cNvSpPr/>
              <p:nvPr/>
            </p:nvSpPr>
            <p:spPr>
              <a:xfrm>
                <a:off x="0" y="49968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6" name="Group 65"/>
            <p:cNvGrpSpPr/>
            <p:nvPr/>
          </p:nvGrpSpPr>
          <p:grpSpPr>
            <a:xfrm>
              <a:off x="0" y="5279760"/>
              <a:ext cx="6780960" cy="282960"/>
              <a:chOff x="0" y="5279760"/>
              <a:chExt cx="6780960" cy="282960"/>
            </a:xfrm>
          </p:grpSpPr>
          <p:sp>
            <p:nvSpPr>
              <p:cNvPr id="1487" name="Rectangle 66"/>
              <p:cNvSpPr/>
              <p:nvPr/>
            </p:nvSpPr>
            <p:spPr>
              <a:xfrm>
                <a:off x="0" y="52797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Rectangle 67"/>
              <p:cNvSpPr/>
              <p:nvPr/>
            </p:nvSpPr>
            <p:spPr>
              <a:xfrm>
                <a:off x="0" y="52797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cout &lt;&lt; '[' &lt;&lt; x &lt;&lt; ", " &lt;&lt; y &lt;&lt; ']'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E78E-7C0C-4A03-AE76-4D869530E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ircle Definition (derived cl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1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492" name="Group 4"/>
            <p:cNvGrpSpPr/>
            <p:nvPr/>
          </p:nvGrpSpPr>
          <p:grpSpPr>
            <a:xfrm>
              <a:off x="0" y="0"/>
              <a:ext cx="6780960" cy="326520"/>
              <a:chOff x="0" y="0"/>
              <a:chExt cx="6780960" cy="326520"/>
            </a:xfrm>
          </p:grpSpPr>
          <p:sp>
            <p:nvSpPr>
              <p:cNvPr id="1493" name="Rectangle 5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Rectangle 6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2: circl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5" name="Group 7"/>
            <p:cNvGrpSpPr/>
            <p:nvPr/>
          </p:nvGrpSpPr>
          <p:grpSpPr>
            <a:xfrm>
              <a:off x="0" y="326520"/>
              <a:ext cx="6780960" cy="326520"/>
              <a:chOff x="0" y="326520"/>
              <a:chExt cx="6780960" cy="326520"/>
            </a:xfrm>
          </p:grpSpPr>
          <p:sp>
            <p:nvSpPr>
              <p:cNvPr id="1496" name="Rectangle 8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Rectangle 9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8" name="Group 10"/>
            <p:cNvGrpSpPr/>
            <p:nvPr/>
          </p:nvGrpSpPr>
          <p:grpSpPr>
            <a:xfrm>
              <a:off x="0" y="653040"/>
              <a:ext cx="6780960" cy="326520"/>
              <a:chOff x="0" y="653040"/>
              <a:chExt cx="6780960" cy="326520"/>
            </a:xfrm>
          </p:grpSpPr>
          <p:sp>
            <p:nvSpPr>
              <p:cNvPr id="1499" name="Rectangle 11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Rectangle 12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1" name="Group 13"/>
            <p:cNvGrpSpPr/>
            <p:nvPr/>
          </p:nvGrpSpPr>
          <p:grpSpPr>
            <a:xfrm>
              <a:off x="0" y="979560"/>
              <a:ext cx="6780960" cy="326520"/>
              <a:chOff x="0" y="979560"/>
              <a:chExt cx="6780960" cy="326520"/>
            </a:xfrm>
          </p:grpSpPr>
          <p:sp>
            <p:nvSpPr>
              <p:cNvPr id="1502" name="Rectangle 14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Rectangle 15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4" name="Group 16"/>
            <p:cNvGrpSpPr/>
            <p:nvPr/>
          </p:nvGrpSpPr>
          <p:grpSpPr>
            <a:xfrm>
              <a:off x="0" y="1306080"/>
              <a:ext cx="6780960" cy="326520"/>
              <a:chOff x="0" y="1306080"/>
              <a:chExt cx="6780960" cy="326520"/>
            </a:xfrm>
          </p:grpSpPr>
          <p:sp>
            <p:nvSpPr>
              <p:cNvPr id="1505" name="Rectangle 17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Rectangle 18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oint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7" name="Group 19"/>
            <p:cNvGrpSpPr/>
            <p:nvPr/>
          </p:nvGrpSpPr>
          <p:grpSpPr>
            <a:xfrm>
              <a:off x="0" y="1632600"/>
              <a:ext cx="6780960" cy="326520"/>
              <a:chOff x="0" y="1632600"/>
              <a:chExt cx="6780960" cy="326520"/>
            </a:xfrm>
          </p:grpSpPr>
          <p:sp>
            <p:nvSpPr>
              <p:cNvPr id="1508" name="Rectangle 20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Rectangle 21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0" name="Group 22"/>
            <p:cNvGrpSpPr/>
            <p:nvPr/>
          </p:nvGrpSpPr>
          <p:grpSpPr>
            <a:xfrm>
              <a:off x="0" y="1959120"/>
              <a:ext cx="6780960" cy="326520"/>
              <a:chOff x="0" y="1959120"/>
              <a:chExt cx="6780960" cy="326520"/>
            </a:xfrm>
          </p:grpSpPr>
          <p:sp>
            <p:nvSpPr>
              <p:cNvPr id="1511" name="Rectangle 23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Rectangle 24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3" name="Group 25"/>
            <p:cNvGrpSpPr/>
            <p:nvPr/>
          </p:nvGrpSpPr>
          <p:grpSpPr>
            <a:xfrm>
              <a:off x="0" y="2286000"/>
              <a:ext cx="6780960" cy="326520"/>
              <a:chOff x="0" y="2286000"/>
              <a:chExt cx="6780960" cy="326520"/>
            </a:xfrm>
          </p:grpSpPr>
          <p:sp>
            <p:nvSpPr>
              <p:cNvPr id="1514" name="Rectangle 26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Rectangle 27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6" name="Group 28"/>
            <p:cNvGrpSpPr/>
            <p:nvPr/>
          </p:nvGrpSpPr>
          <p:grpSpPr>
            <a:xfrm>
              <a:off x="0" y="2612520"/>
              <a:ext cx="6780960" cy="326520"/>
              <a:chOff x="0" y="2612520"/>
              <a:chExt cx="6780960" cy="326520"/>
            </a:xfrm>
          </p:grpSpPr>
          <p:sp>
            <p:nvSpPr>
              <p:cNvPr id="1517" name="Rectangle 29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Rectangle 30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9" name="Group 31"/>
            <p:cNvGrpSpPr/>
            <p:nvPr/>
          </p:nvGrpSpPr>
          <p:grpSpPr>
            <a:xfrm>
              <a:off x="0" y="2939040"/>
              <a:ext cx="6780960" cy="326520"/>
              <a:chOff x="0" y="2939040"/>
              <a:chExt cx="6780960" cy="326520"/>
            </a:xfrm>
          </p:grpSpPr>
          <p:sp>
            <p:nvSpPr>
              <p:cNvPr id="1520" name="Rectangle 32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Rectangle 33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2" name="Group 34"/>
            <p:cNvGrpSpPr/>
            <p:nvPr/>
          </p:nvGrpSpPr>
          <p:grpSpPr>
            <a:xfrm>
              <a:off x="0" y="3265560"/>
              <a:ext cx="6780960" cy="326520"/>
              <a:chOff x="0" y="3265560"/>
              <a:chExt cx="6780960" cy="326520"/>
            </a:xfrm>
          </p:grpSpPr>
          <p:sp>
            <p:nvSpPr>
              <p:cNvPr id="1523" name="Rectangle 35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Rectangle 36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5" name="Group 37"/>
            <p:cNvGrpSpPr/>
            <p:nvPr/>
          </p:nvGrpSpPr>
          <p:grpSpPr>
            <a:xfrm>
              <a:off x="0" y="3592440"/>
              <a:ext cx="6780960" cy="326520"/>
              <a:chOff x="0" y="3592440"/>
              <a:chExt cx="6780960" cy="326520"/>
            </a:xfrm>
          </p:grpSpPr>
          <p:sp>
            <p:nvSpPr>
              <p:cNvPr id="1526" name="Rectangle 38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Rectangle 39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8" name="Group 40"/>
            <p:cNvGrpSpPr/>
            <p:nvPr/>
          </p:nvGrpSpPr>
          <p:grpSpPr>
            <a:xfrm>
              <a:off x="0" y="3918960"/>
              <a:ext cx="6780960" cy="326520"/>
              <a:chOff x="0" y="3918960"/>
              <a:chExt cx="6780960" cy="326520"/>
            </a:xfrm>
          </p:grpSpPr>
          <p:sp>
            <p:nvSpPr>
              <p:cNvPr id="1529" name="Rectangle 41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Rectangle 42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1" name="Group 43"/>
            <p:cNvGrpSpPr/>
            <p:nvPr/>
          </p:nvGrpSpPr>
          <p:grpSpPr>
            <a:xfrm>
              <a:off x="0" y="4245480"/>
              <a:ext cx="6780960" cy="326520"/>
              <a:chOff x="0" y="4245480"/>
              <a:chExt cx="6780960" cy="326520"/>
            </a:xfrm>
          </p:grpSpPr>
          <p:sp>
            <p:nvSpPr>
              <p:cNvPr id="1532" name="Rectangle 44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Rectangle 45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4" name="Group 46"/>
            <p:cNvGrpSpPr/>
            <p:nvPr/>
          </p:nvGrpSpPr>
          <p:grpSpPr>
            <a:xfrm>
              <a:off x="0" y="4572000"/>
              <a:ext cx="6780960" cy="326520"/>
              <a:chOff x="0" y="4572000"/>
              <a:chExt cx="6780960" cy="326520"/>
            </a:xfrm>
          </p:grpSpPr>
          <p:sp>
            <p:nvSpPr>
              <p:cNvPr id="1535" name="Rectangle 47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Rectangle 48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hape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cout &lt;&lt; "Circle: "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Group 49"/>
            <p:cNvGrpSpPr/>
            <p:nvPr/>
          </p:nvGrpSpPr>
          <p:grpSpPr>
            <a:xfrm>
              <a:off x="0" y="4898520"/>
              <a:ext cx="6780960" cy="326520"/>
              <a:chOff x="0" y="4898520"/>
              <a:chExt cx="6780960" cy="326520"/>
            </a:xfrm>
          </p:grpSpPr>
          <p:sp>
            <p:nvSpPr>
              <p:cNvPr id="1538" name="Rectangle 50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Rectangle 51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0" name="Group 52"/>
            <p:cNvGrpSpPr/>
            <p:nvPr/>
          </p:nvGrpSpPr>
          <p:grpSpPr>
            <a:xfrm>
              <a:off x="0" y="5225040"/>
              <a:ext cx="6780960" cy="326520"/>
              <a:chOff x="0" y="5225040"/>
              <a:chExt cx="6780960" cy="326520"/>
            </a:xfrm>
          </p:grpSpPr>
          <p:sp>
            <p:nvSpPr>
              <p:cNvPr id="1541" name="Rectangle 53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Rectangle 54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3" name="Group 55"/>
            <p:cNvGrpSpPr/>
            <p:nvPr/>
          </p:nvGrpSpPr>
          <p:grpSpPr>
            <a:xfrm>
              <a:off x="0" y="5551560"/>
              <a:ext cx="6780960" cy="326520"/>
              <a:chOff x="0" y="5551560"/>
              <a:chExt cx="6780960" cy="326520"/>
            </a:xfrm>
          </p:grpSpPr>
          <p:sp>
            <p:nvSpPr>
              <p:cNvPr id="1544" name="Rectangle 56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Rectangle 57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adiu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adius of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6" name="Group 58"/>
            <p:cNvGrpSpPr/>
            <p:nvPr/>
          </p:nvGrpSpPr>
          <p:grpSpPr>
            <a:xfrm>
              <a:off x="0" y="5878080"/>
              <a:ext cx="6780960" cy="326520"/>
              <a:chOff x="0" y="5878080"/>
              <a:chExt cx="6780960" cy="326520"/>
            </a:xfrm>
          </p:grpSpPr>
          <p:sp>
            <p:nvSpPr>
              <p:cNvPr id="1547" name="Rectangle 59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Rectangle 60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Group 61"/>
            <p:cNvGrpSpPr/>
            <p:nvPr/>
          </p:nvGrpSpPr>
          <p:grpSpPr>
            <a:xfrm>
              <a:off x="0" y="6204600"/>
              <a:ext cx="6780960" cy="326520"/>
              <a:chOff x="0" y="6204600"/>
              <a:chExt cx="6780960" cy="326520"/>
            </a:xfrm>
          </p:grpSpPr>
          <p:sp>
            <p:nvSpPr>
              <p:cNvPr id="1550" name="Rectangle 62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Rectangle 63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2" name="Group 64"/>
            <p:cNvGrpSpPr/>
            <p:nvPr/>
          </p:nvGrpSpPr>
          <p:grpSpPr>
            <a:xfrm>
              <a:off x="0" y="6531480"/>
              <a:ext cx="6780960" cy="326520"/>
              <a:chOff x="0" y="6531480"/>
              <a:chExt cx="6780960" cy="326520"/>
            </a:xfrm>
          </p:grpSpPr>
          <p:sp>
            <p:nvSpPr>
              <p:cNvPr id="1553" name="Rectangle 65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Rectangle 66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5" name="Group 69"/>
          <p:cNvGrpSpPr/>
          <p:nvPr/>
        </p:nvGrpSpPr>
        <p:grpSpPr>
          <a:xfrm>
            <a:off x="3429000" y="1828800"/>
            <a:ext cx="3505320" cy="580680"/>
            <a:chOff x="3429000" y="1828800"/>
            <a:chExt cx="3505320" cy="580680"/>
          </a:xfrm>
        </p:grpSpPr>
        <p:sp>
          <p:nvSpPr>
            <p:cNvPr id="1556" name="Text Box 67"/>
            <p:cNvSpPr/>
            <p:nvPr/>
          </p:nvSpPr>
          <p:spPr>
            <a:xfrm>
              <a:off x="5181480" y="1828800"/>
              <a:ext cx="1752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Line 68"/>
            <p:cNvSpPr/>
            <p:nvPr/>
          </p:nvSpPr>
          <p:spPr>
            <a:xfrm flipH="1">
              <a:off x="3429000" y="21337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1" dur="1" fill="hold"/>
                                  <p:tgtEl>
                                    <p:spTgt spid="15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E5BB-E7CB-4A48-9B25-012B2BE38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0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561" name="Group 4"/>
            <p:cNvGrpSpPr/>
            <p:nvPr/>
          </p:nvGrpSpPr>
          <p:grpSpPr>
            <a:xfrm>
              <a:off x="0" y="0"/>
              <a:ext cx="6780960" cy="285480"/>
              <a:chOff x="0" y="0"/>
              <a:chExt cx="6780960" cy="285480"/>
            </a:xfrm>
          </p:grpSpPr>
          <p:sp>
            <p:nvSpPr>
              <p:cNvPr id="1562" name="Rectangle 5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Rectangle 6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2: circl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4" name="Group 7"/>
            <p:cNvGrpSpPr/>
            <p:nvPr/>
          </p:nvGrpSpPr>
          <p:grpSpPr>
            <a:xfrm>
              <a:off x="0" y="285480"/>
              <a:ext cx="6780960" cy="285480"/>
              <a:chOff x="0" y="285480"/>
              <a:chExt cx="6780960" cy="285480"/>
            </a:xfrm>
          </p:grpSpPr>
          <p:sp>
            <p:nvSpPr>
              <p:cNvPr id="1565" name="Rectangle 8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Rectangle 9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7" name="Group 10"/>
            <p:cNvGrpSpPr/>
            <p:nvPr/>
          </p:nvGrpSpPr>
          <p:grpSpPr>
            <a:xfrm>
              <a:off x="0" y="571320"/>
              <a:ext cx="6780960" cy="285840"/>
              <a:chOff x="0" y="571320"/>
              <a:chExt cx="6780960" cy="285840"/>
            </a:xfrm>
          </p:grpSpPr>
          <p:sp>
            <p:nvSpPr>
              <p:cNvPr id="1568" name="Rectangle 11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Rectangle 12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0" name="Group 13"/>
            <p:cNvGrpSpPr/>
            <p:nvPr/>
          </p:nvGrpSpPr>
          <p:grpSpPr>
            <a:xfrm>
              <a:off x="0" y="857160"/>
              <a:ext cx="6780960" cy="285480"/>
              <a:chOff x="0" y="857160"/>
              <a:chExt cx="6780960" cy="285480"/>
            </a:xfrm>
          </p:grpSpPr>
          <p:sp>
            <p:nvSpPr>
              <p:cNvPr id="1571" name="Rectangle 14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Rectangle 15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3" name="Group 16"/>
            <p:cNvGrpSpPr/>
            <p:nvPr/>
          </p:nvGrpSpPr>
          <p:grpSpPr>
            <a:xfrm>
              <a:off x="0" y="1143000"/>
              <a:ext cx="6780960" cy="285480"/>
              <a:chOff x="0" y="1143000"/>
              <a:chExt cx="6780960" cy="285480"/>
            </a:xfrm>
          </p:grpSpPr>
          <p:sp>
            <p:nvSpPr>
              <p:cNvPr id="1574" name="Rectangle 17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Rectangle 18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6" name="Group 19"/>
            <p:cNvGrpSpPr/>
            <p:nvPr/>
          </p:nvGrpSpPr>
          <p:grpSpPr>
            <a:xfrm>
              <a:off x="0" y="1428480"/>
              <a:ext cx="6780960" cy="285480"/>
              <a:chOff x="0" y="1428480"/>
              <a:chExt cx="6780960" cy="285480"/>
            </a:xfrm>
          </p:grpSpPr>
          <p:sp>
            <p:nvSpPr>
              <p:cNvPr id="1577" name="Rectangle 20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Rectangle 21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9" name="Group 22"/>
            <p:cNvGrpSpPr/>
            <p:nvPr/>
          </p:nvGrpSpPr>
          <p:grpSpPr>
            <a:xfrm>
              <a:off x="0" y="1714320"/>
              <a:ext cx="6780960" cy="285840"/>
              <a:chOff x="0" y="1714320"/>
              <a:chExt cx="6780960" cy="285840"/>
            </a:xfrm>
          </p:grpSpPr>
          <p:sp>
            <p:nvSpPr>
              <p:cNvPr id="1580" name="Rectangle 23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Rectangle 24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ircl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2" name="Group 25"/>
            <p:cNvGrpSpPr/>
            <p:nvPr/>
          </p:nvGrpSpPr>
          <p:grpSpPr>
            <a:xfrm>
              <a:off x="0" y="2000160"/>
              <a:ext cx="6780960" cy="285480"/>
              <a:chOff x="0" y="2000160"/>
              <a:chExt cx="6780960" cy="285480"/>
            </a:xfrm>
          </p:grpSpPr>
          <p:sp>
            <p:nvSpPr>
              <p:cNvPr id="1583" name="Rectangle 26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Rectangle 27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Group 28"/>
            <p:cNvGrpSpPr/>
            <p:nvPr/>
          </p:nvGrpSpPr>
          <p:grpSpPr>
            <a:xfrm>
              <a:off x="0" y="2286000"/>
              <a:ext cx="6780960" cy="285480"/>
              <a:chOff x="0" y="2286000"/>
              <a:chExt cx="6780960" cy="285480"/>
            </a:xfrm>
          </p:grpSpPr>
          <p:sp>
            <p:nvSpPr>
              <p:cNvPr id="1586" name="Rectangle 29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Rectangle 30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ircle::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8" name="Group 31"/>
            <p:cNvGrpSpPr/>
            <p:nvPr/>
          </p:nvGrpSpPr>
          <p:grpSpPr>
            <a:xfrm>
              <a:off x="0" y="2571480"/>
              <a:ext cx="6780960" cy="285480"/>
              <a:chOff x="0" y="2571480"/>
              <a:chExt cx="6780960" cy="285480"/>
            </a:xfrm>
          </p:grpSpPr>
          <p:sp>
            <p:nvSpPr>
              <p:cNvPr id="1589" name="Rectangle 32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Rectangle 33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Point( a, b )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1" name="Group 34"/>
            <p:cNvGrpSpPr/>
            <p:nvPr/>
          </p:nvGrpSpPr>
          <p:grpSpPr>
            <a:xfrm>
              <a:off x="0" y="2857320"/>
              <a:ext cx="6780960" cy="285840"/>
              <a:chOff x="0" y="2857320"/>
              <a:chExt cx="6780960" cy="285840"/>
            </a:xfrm>
          </p:grpSpPr>
          <p:sp>
            <p:nvSpPr>
              <p:cNvPr id="1592" name="Rectangle 35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Rectangle 36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 setRadius( r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4" name="Group 37"/>
            <p:cNvGrpSpPr/>
            <p:nvPr/>
          </p:nvGrpSpPr>
          <p:grpSpPr>
            <a:xfrm>
              <a:off x="0" y="3143160"/>
              <a:ext cx="6780960" cy="285480"/>
              <a:chOff x="0" y="3143160"/>
              <a:chExt cx="6780960" cy="285480"/>
            </a:xfrm>
          </p:grpSpPr>
          <p:sp>
            <p:nvSpPr>
              <p:cNvPr id="1595" name="Rectangle 38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Rectangle 39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7" name="Group 40"/>
            <p:cNvGrpSpPr/>
            <p:nvPr/>
          </p:nvGrpSpPr>
          <p:grpSpPr>
            <a:xfrm>
              <a:off x="0" y="3429000"/>
              <a:ext cx="6780960" cy="285480"/>
              <a:chOff x="0" y="3429000"/>
              <a:chExt cx="6780960" cy="285480"/>
            </a:xfrm>
          </p:grpSpPr>
          <p:sp>
            <p:nvSpPr>
              <p:cNvPr id="1598" name="Rectangle 41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Rectangle 42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 ) { radius = r &gt; 0 ? r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0" name="Group 43"/>
            <p:cNvGrpSpPr/>
            <p:nvPr/>
          </p:nvGrpSpPr>
          <p:grpSpPr>
            <a:xfrm>
              <a:off x="0" y="3714480"/>
              <a:ext cx="6780960" cy="285480"/>
              <a:chOff x="0" y="3714480"/>
              <a:chExt cx="6780960" cy="285480"/>
            </a:xfrm>
          </p:grpSpPr>
          <p:sp>
            <p:nvSpPr>
              <p:cNvPr id="1601" name="Rectangle 44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Rectangle 45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3" name="Group 46"/>
            <p:cNvGrpSpPr/>
            <p:nvPr/>
          </p:nvGrpSpPr>
          <p:grpSpPr>
            <a:xfrm>
              <a:off x="0" y="4000320"/>
              <a:ext cx="6780960" cy="285840"/>
              <a:chOff x="0" y="4000320"/>
              <a:chExt cx="6780960" cy="285840"/>
            </a:xfrm>
          </p:grpSpPr>
          <p:sp>
            <p:nvSpPr>
              <p:cNvPr id="1604" name="Rectangle 47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Rectangle 48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6" name="Group 49"/>
            <p:cNvGrpSpPr/>
            <p:nvPr/>
          </p:nvGrpSpPr>
          <p:grpSpPr>
            <a:xfrm>
              <a:off x="0" y="4286160"/>
              <a:ext cx="6780960" cy="285480"/>
              <a:chOff x="0" y="4286160"/>
              <a:chExt cx="6780960" cy="285480"/>
            </a:xfrm>
          </p:grpSpPr>
          <p:sp>
            <p:nvSpPr>
              <p:cNvPr id="1607" name="Rectangle 50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Rectangle 51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Group 52"/>
            <p:cNvGrpSpPr/>
            <p:nvPr/>
          </p:nvGrpSpPr>
          <p:grpSpPr>
            <a:xfrm>
              <a:off x="0" y="4572000"/>
              <a:ext cx="6780960" cy="285480"/>
              <a:chOff x="0" y="4572000"/>
              <a:chExt cx="6780960" cy="285480"/>
            </a:xfrm>
          </p:grpSpPr>
          <p:sp>
            <p:nvSpPr>
              <p:cNvPr id="1610" name="Rectangle 53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Rectangle 54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Group 55"/>
            <p:cNvGrpSpPr/>
            <p:nvPr/>
          </p:nvGrpSpPr>
          <p:grpSpPr>
            <a:xfrm>
              <a:off x="0" y="4857480"/>
              <a:ext cx="6780960" cy="285480"/>
              <a:chOff x="0" y="4857480"/>
              <a:chExt cx="6780960" cy="285480"/>
            </a:xfrm>
          </p:grpSpPr>
          <p:sp>
            <p:nvSpPr>
              <p:cNvPr id="1613" name="Rectangle 56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Rectangle 57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3.14159 * radius *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Group 58"/>
            <p:cNvGrpSpPr/>
            <p:nvPr/>
          </p:nvGrpSpPr>
          <p:grpSpPr>
            <a:xfrm>
              <a:off x="0" y="5143320"/>
              <a:ext cx="6780960" cy="285480"/>
              <a:chOff x="0" y="5143320"/>
              <a:chExt cx="6780960" cy="285480"/>
            </a:xfrm>
          </p:grpSpPr>
          <p:sp>
            <p:nvSpPr>
              <p:cNvPr id="1616" name="Rectangle 59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Rectangle 60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Group 61"/>
            <p:cNvGrpSpPr/>
            <p:nvPr/>
          </p:nvGrpSpPr>
          <p:grpSpPr>
            <a:xfrm>
              <a:off x="0" y="5429160"/>
              <a:ext cx="6780960" cy="285840"/>
              <a:chOff x="0" y="5429160"/>
              <a:chExt cx="6780960" cy="285840"/>
            </a:xfrm>
          </p:grpSpPr>
          <p:sp>
            <p:nvSpPr>
              <p:cNvPr id="1619" name="Rectangle 62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Rectangle 63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Group 64"/>
            <p:cNvGrpSpPr/>
            <p:nvPr/>
          </p:nvGrpSpPr>
          <p:grpSpPr>
            <a:xfrm>
              <a:off x="0" y="5715000"/>
              <a:ext cx="6780960" cy="285480"/>
              <a:chOff x="0" y="5715000"/>
              <a:chExt cx="6780960" cy="285480"/>
            </a:xfrm>
          </p:grpSpPr>
          <p:sp>
            <p:nvSpPr>
              <p:cNvPr id="1622" name="Rectangle 65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Rectangle 66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4" name="Group 67"/>
            <p:cNvGrpSpPr/>
            <p:nvPr/>
          </p:nvGrpSpPr>
          <p:grpSpPr>
            <a:xfrm>
              <a:off x="0" y="6000840"/>
              <a:ext cx="6780960" cy="285480"/>
              <a:chOff x="0" y="6000840"/>
              <a:chExt cx="6780960" cy="285480"/>
            </a:xfrm>
          </p:grpSpPr>
          <p:sp>
            <p:nvSpPr>
              <p:cNvPr id="1625" name="Rectangle 68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Rectangle 69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oint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7" name="Group 70"/>
            <p:cNvGrpSpPr/>
            <p:nvPr/>
          </p:nvGrpSpPr>
          <p:grpSpPr>
            <a:xfrm>
              <a:off x="0" y="6286320"/>
              <a:ext cx="6780960" cy="285480"/>
              <a:chOff x="0" y="6286320"/>
              <a:chExt cx="6780960" cy="285480"/>
            </a:xfrm>
          </p:grpSpPr>
          <p:sp>
            <p:nvSpPr>
              <p:cNvPr id="1628" name="Rectangle 71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Rectangle 72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; Radius = " &lt;&lt; radiu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Group 73"/>
            <p:cNvGrpSpPr/>
            <p:nvPr/>
          </p:nvGrpSpPr>
          <p:grpSpPr>
            <a:xfrm>
              <a:off x="0" y="6572160"/>
              <a:ext cx="6780960" cy="285840"/>
              <a:chOff x="0" y="6572160"/>
              <a:chExt cx="6780960" cy="285840"/>
            </a:xfrm>
          </p:grpSpPr>
          <p:sp>
            <p:nvSpPr>
              <p:cNvPr id="1631" name="Rectangle 74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Rectangle 75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9F7E-4DA1-436D-A11B-FFB7004A8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Virtual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Ptr-&gt;Dra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implements dynamic binding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determined during execution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Object.Dra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implements static bin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determined during compile-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3745-49C9-44EA-A664-D5ADBD501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 (derive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5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636" name="Group 4"/>
            <p:cNvGrpSpPr/>
            <p:nvPr/>
          </p:nvGrpSpPr>
          <p:grpSpPr>
            <a:xfrm>
              <a:off x="0" y="0"/>
              <a:ext cx="6780960" cy="298080"/>
              <a:chOff x="0" y="0"/>
              <a:chExt cx="6780960" cy="298080"/>
            </a:xfrm>
          </p:grpSpPr>
          <p:sp>
            <p:nvSpPr>
              <p:cNvPr id="1637" name="Rectangle 5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Rectangle 6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2: cylindr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9" name="Group 7"/>
            <p:cNvGrpSpPr/>
            <p:nvPr/>
          </p:nvGrpSpPr>
          <p:grpSpPr>
            <a:xfrm>
              <a:off x="0" y="298080"/>
              <a:ext cx="6780960" cy="298080"/>
              <a:chOff x="0" y="298080"/>
              <a:chExt cx="6780960" cy="298080"/>
            </a:xfrm>
          </p:grpSpPr>
          <p:sp>
            <p:nvSpPr>
              <p:cNvPr id="1640" name="Rectangle 8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Rectangle 9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2" name="Group 10"/>
            <p:cNvGrpSpPr/>
            <p:nvPr/>
          </p:nvGrpSpPr>
          <p:grpSpPr>
            <a:xfrm>
              <a:off x="0" y="596160"/>
              <a:ext cx="6780960" cy="298080"/>
              <a:chOff x="0" y="596160"/>
              <a:chExt cx="6780960" cy="298080"/>
            </a:xfrm>
          </p:grpSpPr>
          <p:sp>
            <p:nvSpPr>
              <p:cNvPr id="1643" name="Rectangle 11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Rectangle 12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R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5" name="Group 13"/>
            <p:cNvGrpSpPr/>
            <p:nvPr/>
          </p:nvGrpSpPr>
          <p:grpSpPr>
            <a:xfrm>
              <a:off x="0" y="894600"/>
              <a:ext cx="6780960" cy="298080"/>
              <a:chOff x="0" y="894600"/>
              <a:chExt cx="6780960" cy="298080"/>
            </a:xfrm>
          </p:grpSpPr>
          <p:sp>
            <p:nvSpPr>
              <p:cNvPr id="1646" name="Rectangle 14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Rectangle 15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R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8" name="Group 16"/>
            <p:cNvGrpSpPr/>
            <p:nvPr/>
          </p:nvGrpSpPr>
          <p:grpSpPr>
            <a:xfrm>
              <a:off x="0" y="1192680"/>
              <a:ext cx="6780960" cy="298080"/>
              <a:chOff x="0" y="1192680"/>
              <a:chExt cx="6780960" cy="298080"/>
            </a:xfrm>
          </p:grpSpPr>
          <p:sp>
            <p:nvSpPr>
              <p:cNvPr id="1649" name="Rectangle 17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Rectangle 18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ircl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1" name="Group 19"/>
            <p:cNvGrpSpPr/>
            <p:nvPr/>
          </p:nvGrpSpPr>
          <p:grpSpPr>
            <a:xfrm>
              <a:off x="0" y="1490760"/>
              <a:ext cx="6780960" cy="298080"/>
              <a:chOff x="0" y="1490760"/>
              <a:chExt cx="6780960" cy="298080"/>
            </a:xfrm>
          </p:grpSpPr>
          <p:sp>
            <p:nvSpPr>
              <p:cNvPr id="1652" name="Rectangle 20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Rectangle 21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4" name="Group 22"/>
            <p:cNvGrpSpPr/>
            <p:nvPr/>
          </p:nvGrpSpPr>
          <p:grpSpPr>
            <a:xfrm>
              <a:off x="0" y="1788840"/>
              <a:ext cx="6780960" cy="298080"/>
              <a:chOff x="0" y="1788840"/>
              <a:chExt cx="6780960" cy="298080"/>
            </a:xfrm>
          </p:grpSpPr>
          <p:sp>
            <p:nvSpPr>
              <p:cNvPr id="1655" name="Rectangle 23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Rectangle 24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7" name="Group 25"/>
            <p:cNvGrpSpPr/>
            <p:nvPr/>
          </p:nvGrpSpPr>
          <p:grpSpPr>
            <a:xfrm>
              <a:off x="0" y="2087280"/>
              <a:ext cx="6780960" cy="298080"/>
              <a:chOff x="0" y="2087280"/>
              <a:chExt cx="6780960" cy="298080"/>
            </a:xfrm>
          </p:grpSpPr>
          <p:sp>
            <p:nvSpPr>
              <p:cNvPr id="1658" name="Rectangle 26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Rectangle 27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0" name="Group 28"/>
            <p:cNvGrpSpPr/>
            <p:nvPr/>
          </p:nvGrpSpPr>
          <p:grpSpPr>
            <a:xfrm>
              <a:off x="0" y="2385360"/>
              <a:ext cx="6780960" cy="298080"/>
              <a:chOff x="0" y="2385360"/>
              <a:chExt cx="6780960" cy="298080"/>
            </a:xfrm>
          </p:grpSpPr>
          <p:sp>
            <p:nvSpPr>
              <p:cNvPr id="1661" name="Rectangle 29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Rectangle 30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3" name="Group 31"/>
            <p:cNvGrpSpPr/>
            <p:nvPr/>
          </p:nvGrpSpPr>
          <p:grpSpPr>
            <a:xfrm>
              <a:off x="0" y="2683440"/>
              <a:ext cx="6780960" cy="298080"/>
              <a:chOff x="0" y="2683440"/>
              <a:chExt cx="6780960" cy="298080"/>
            </a:xfrm>
          </p:grpSpPr>
          <p:sp>
            <p:nvSpPr>
              <p:cNvPr id="1664" name="Rectangle 32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Rectangle 33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 = 0.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6" name="Group 34"/>
            <p:cNvGrpSpPr/>
            <p:nvPr/>
          </p:nvGrpSpPr>
          <p:grpSpPr>
            <a:xfrm>
              <a:off x="0" y="2981520"/>
              <a:ext cx="6780960" cy="298080"/>
              <a:chOff x="0" y="2981520"/>
              <a:chExt cx="6780960" cy="298080"/>
            </a:xfrm>
          </p:grpSpPr>
          <p:sp>
            <p:nvSpPr>
              <p:cNvPr id="1667" name="Rectangle 35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Rectangle 36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9" name="Group 37"/>
            <p:cNvGrpSpPr/>
            <p:nvPr/>
          </p:nvGrpSpPr>
          <p:grpSpPr>
            <a:xfrm>
              <a:off x="0" y="3279960"/>
              <a:ext cx="6780960" cy="298080"/>
              <a:chOff x="0" y="3279960"/>
              <a:chExt cx="6780960" cy="298080"/>
            </a:xfrm>
          </p:grpSpPr>
          <p:sp>
            <p:nvSpPr>
              <p:cNvPr id="1670" name="Rectangle 38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Rectangle 39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2" name="Group 40"/>
            <p:cNvGrpSpPr/>
            <p:nvPr/>
          </p:nvGrpSpPr>
          <p:grpSpPr>
            <a:xfrm>
              <a:off x="0" y="3578040"/>
              <a:ext cx="6780960" cy="298080"/>
              <a:chOff x="0" y="3578040"/>
              <a:chExt cx="6780960" cy="298080"/>
            </a:xfrm>
          </p:grpSpPr>
          <p:sp>
            <p:nvSpPr>
              <p:cNvPr id="1673" name="Rectangle 41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Rectangle 42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5" name="Group 43"/>
            <p:cNvGrpSpPr/>
            <p:nvPr/>
          </p:nvGrpSpPr>
          <p:grpSpPr>
            <a:xfrm>
              <a:off x="0" y="3876120"/>
              <a:ext cx="6780960" cy="298080"/>
              <a:chOff x="0" y="3876120"/>
              <a:chExt cx="6780960" cy="298080"/>
            </a:xfrm>
          </p:grpSpPr>
          <p:sp>
            <p:nvSpPr>
              <p:cNvPr id="1676" name="Rectangle 44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Rectangle 45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Heigh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8" name="Group 46"/>
            <p:cNvGrpSpPr/>
            <p:nvPr/>
          </p:nvGrpSpPr>
          <p:grpSpPr>
            <a:xfrm>
              <a:off x="0" y="4174200"/>
              <a:ext cx="6780960" cy="298080"/>
              <a:chOff x="0" y="4174200"/>
              <a:chExt cx="6780960" cy="298080"/>
            </a:xfrm>
          </p:grpSpPr>
          <p:sp>
            <p:nvSpPr>
              <p:cNvPr id="1679" name="Rectangle 47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Rectangle 48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1" name="Group 49"/>
            <p:cNvGrpSpPr/>
            <p:nvPr/>
          </p:nvGrpSpPr>
          <p:grpSpPr>
            <a:xfrm>
              <a:off x="0" y="4472640"/>
              <a:ext cx="6780960" cy="298080"/>
              <a:chOff x="0" y="4472640"/>
              <a:chExt cx="6780960" cy="298080"/>
            </a:xfrm>
          </p:grpSpPr>
          <p:sp>
            <p:nvSpPr>
              <p:cNvPr id="1682" name="Rectangle 50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Rectangle 51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4" name="Group 52"/>
            <p:cNvGrpSpPr/>
            <p:nvPr/>
          </p:nvGrpSpPr>
          <p:grpSpPr>
            <a:xfrm>
              <a:off x="0" y="4770720"/>
              <a:ext cx="6780960" cy="298080"/>
              <a:chOff x="0" y="4770720"/>
              <a:chExt cx="6780960" cy="298080"/>
            </a:xfrm>
          </p:grpSpPr>
          <p:sp>
            <p:nvSpPr>
              <p:cNvPr id="1685" name="Rectangle 53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Rectangle 54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hape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cout &lt;&lt; "Cylinder: "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7" name="Group 55"/>
            <p:cNvGrpSpPr/>
            <p:nvPr/>
          </p:nvGrpSpPr>
          <p:grpSpPr>
            <a:xfrm>
              <a:off x="0" y="5068800"/>
              <a:ext cx="6780960" cy="298080"/>
              <a:chOff x="0" y="5068800"/>
              <a:chExt cx="6780960" cy="298080"/>
            </a:xfrm>
          </p:grpSpPr>
          <p:sp>
            <p:nvSpPr>
              <p:cNvPr id="1688" name="Rectangle 56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Rectangle 57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0" name="Group 58"/>
            <p:cNvGrpSpPr/>
            <p:nvPr/>
          </p:nvGrpSpPr>
          <p:grpSpPr>
            <a:xfrm>
              <a:off x="0" y="5367240"/>
              <a:ext cx="6780960" cy="298080"/>
              <a:chOff x="0" y="5367240"/>
              <a:chExt cx="6780960" cy="298080"/>
            </a:xfrm>
          </p:grpSpPr>
          <p:sp>
            <p:nvSpPr>
              <p:cNvPr id="1691" name="Rectangle 59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Rectangle 60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Group 61"/>
            <p:cNvGrpSpPr/>
            <p:nvPr/>
          </p:nvGrpSpPr>
          <p:grpSpPr>
            <a:xfrm>
              <a:off x="0" y="5665320"/>
              <a:ext cx="6780960" cy="298080"/>
              <a:chOff x="0" y="5665320"/>
              <a:chExt cx="6780960" cy="298080"/>
            </a:xfrm>
          </p:grpSpPr>
          <p:sp>
            <p:nvSpPr>
              <p:cNvPr id="1694" name="Rectangle 62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Rectangle 63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eigh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height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6" name="Group 64"/>
            <p:cNvGrpSpPr/>
            <p:nvPr/>
          </p:nvGrpSpPr>
          <p:grpSpPr>
            <a:xfrm>
              <a:off x="0" y="5963400"/>
              <a:ext cx="6780960" cy="298080"/>
              <a:chOff x="0" y="5963400"/>
              <a:chExt cx="6780960" cy="298080"/>
            </a:xfrm>
          </p:grpSpPr>
          <p:sp>
            <p:nvSpPr>
              <p:cNvPr id="1697" name="Rectangle 65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Rectangle 66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9" name="Group 67"/>
            <p:cNvGrpSpPr/>
            <p:nvPr/>
          </p:nvGrpSpPr>
          <p:grpSpPr>
            <a:xfrm>
              <a:off x="0" y="6261840"/>
              <a:ext cx="6780960" cy="298080"/>
              <a:chOff x="0" y="6261840"/>
              <a:chExt cx="6780960" cy="298080"/>
            </a:xfrm>
          </p:grpSpPr>
          <p:sp>
            <p:nvSpPr>
              <p:cNvPr id="1700" name="Rectangle 68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Rectangle 69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2" name="Group 70"/>
            <p:cNvGrpSpPr/>
            <p:nvPr/>
          </p:nvGrpSpPr>
          <p:grpSpPr>
            <a:xfrm>
              <a:off x="0" y="6559920"/>
              <a:ext cx="6780960" cy="298080"/>
              <a:chOff x="0" y="6559920"/>
              <a:chExt cx="6780960" cy="298080"/>
            </a:xfrm>
          </p:grpSpPr>
          <p:sp>
            <p:nvSpPr>
              <p:cNvPr id="1703" name="Rectangle 71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Rectangle 72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5" name="Group 73"/>
          <p:cNvGrpSpPr/>
          <p:nvPr/>
        </p:nvGrpSpPr>
        <p:grpSpPr>
          <a:xfrm>
            <a:off x="3504960" y="1600200"/>
            <a:ext cx="3504960" cy="824040"/>
            <a:chOff x="3504960" y="1600200"/>
            <a:chExt cx="3504960" cy="824040"/>
          </a:xfrm>
        </p:grpSpPr>
        <p:sp>
          <p:nvSpPr>
            <p:cNvPr id="1706" name="Text Box 74"/>
            <p:cNvSpPr/>
            <p:nvPr/>
          </p:nvSpPr>
          <p:spPr>
            <a:xfrm>
              <a:off x="5257440" y="1600200"/>
              <a:ext cx="1752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ylinde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herits from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Line 75"/>
            <p:cNvSpPr/>
            <p:nvPr/>
          </p:nvSpPr>
          <p:spPr>
            <a:xfrm flipH="1">
              <a:off x="3504960" y="1905120"/>
              <a:ext cx="175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0" dur="1" fill="hold"/>
                                  <p:tgtEl>
                                    <p:spTgt spid="17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030C-C599-4E75-A670-396ECC19C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0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711" name="Group 4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712" name="Rectangle 5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Rectangle 6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2: cylindr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4" name="Group 7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715" name="Rectangle 8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Rectangle 9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and friend function definitions for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Group 10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718" name="Rectangle 11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Rectangle 12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0" name="Group 13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721" name="Rectangle 14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Rectangle 15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3" name="Group 16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724" name="Rectangle 17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Rectangle 18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6" name="Group 19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727" name="Rectangle 20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Rectangle 21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Group 22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730" name="Rectangle 23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Rectangle 24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ylindr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2" name="Group 25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733" name="Rectangle 26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Rectangle 27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5" name="Group 28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736" name="Rectangle 29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Rectangle 30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ylinder::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8" name="Group 31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739" name="Rectangle 32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Rectangle 33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Circle( r, x, y )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1" name="Group 34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742" name="Rectangle 35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Rectangle 36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 setHeight( h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4" name="Group 37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745" name="Rectangle 38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Rectangle 39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7" name="Group 40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748" name="Rectangle 41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Rectangle 42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0" name="Group 43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751" name="Rectangle 44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Rectangle 45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height = h &gt; 0 ? h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3" name="Group 46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754" name="Rectangle 47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Rectangle 48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6" name="Group 49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757" name="Rectangle 50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Rectangle 51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getHeight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Group 52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760" name="Rectangle 53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Rectangle 54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Group 55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763" name="Rectangle 56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Rectangle 57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5" name="Group 58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766" name="Rectangle 59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Rectangle 60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8" name="Group 61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769" name="Rectangle 62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Rectangle 63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urface area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1" name="Group 64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772" name="Rectangle 65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Rectangle 66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2 * Circle::area() 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4" name="Group 67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775" name="Rectangle 68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Rectangle 69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2 * 3.14159 * getRadius() * 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7" name="Group 70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778" name="Rectangle 71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Rectangle 72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0" name="Group 73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781" name="Rectangle 74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Rectangle 75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3" name="Group 76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784" name="Rectangle 77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Rectangle 78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6" name="Group 79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787" name="Rectangle 80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Rectangle 81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area() *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9" name="Group 82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790" name="Rectangle 83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Rectangle 84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2" name="Group 85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793" name="Rectangle 86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Rectangle 87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5" name="Group 88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796" name="Rectangle 89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Rectangle 90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8" name="Group 91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799" name="Rectangle 92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Rectangle 93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1" name="Group 94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802" name="Rectangle 95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Rectangle 96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; Height = " &lt;&lt; 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4" name="Group 97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805" name="Rectangle 98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Rectangle 99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3353-C8FA-4869-80D0-FD31043E1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prot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Initializ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9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810" name="Group 4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811" name="Rectangle 5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Rectangle 6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2: fig10_0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3" name="Group 7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814" name="Rectangle 8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Rectangle 9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river for shape, point, circle, cylinder hierarch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6" name="Group 10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817" name="Rectangle 11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Rectangle 12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9" name="Group 13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820" name="Rectangle 14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Rectangle 15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Group 16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823" name="Rectangle 17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Rectangle 18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Group 19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826" name="Rectangle 20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Rectangle 21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8" name="Group 22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829" name="Rectangle 23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Rectangle 24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1" name="Group 25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832" name="Rectangle 26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Rectangle 27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4" name="Group 28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835" name="Rectangle 29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Rectangle 30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7" name="Group 31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838" name="Rectangle 32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Rectangle 33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0" name="Group 34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841" name="Rectangle 35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Rectangle 36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3" name="Group 37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844" name="Rectangle 38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Rectangle 39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6" name="Group 40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847" name="Rectangle 41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Rectangle 42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9" name="Group 43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850" name="Rectangle 44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Rectangle 45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shap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2" name="Group 46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853" name="Rectangle 47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Rectangle 48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oint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5" name="Group 49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856" name="Rectangle 50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Rectangle 51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ircl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Group 52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859" name="Rectangle 53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Rectangle 54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ylindr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Group 55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862" name="Rectangle 56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Rectangle 57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4" name="Group 58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865" name="Rectangle 59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Rectangle 60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irtualViaPoint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hape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7" name="Group 61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868" name="Rectangle 62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Rectangle 63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irtualVia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hap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0" name="Group 64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871" name="Rectangle 65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Rectangle 66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3" name="Group 67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874" name="Rectangle 68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Rectangle 69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6" name="Group 70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877" name="Rectangle 71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Rectangle 72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9" name="Group 73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880" name="Rectangle 74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Rectangle 75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2" name="Group 76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883" name="Rectangle 77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Rectangle 78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setprecision(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5" name="Group 79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886" name="Rectangle 80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Rectangle 81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8" name="Group 82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889" name="Rectangle 83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Rectangle 84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oint point( 7, 11 );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reate a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1" name="Group 85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892" name="Rectangle 86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Rectangle 87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 circle( 3.5, 22, 8 )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reate a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4" name="Group 88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895" name="Rectangle 89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Rectangle 90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inder cylinder( 10, 3.3, 10, 1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reate a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7" name="Group 91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898" name="Rectangle 92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Rectangle 93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0" name="Group 94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901" name="Rectangle 95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Rectangle 96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oint.printShapeName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399B-5314-4567-8ABF-5ACA33E55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5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906" name="Group 4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1907" name="Rectangle 5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Rectangle 6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oint.print()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9" name="Group 7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1910" name="Rectangle 8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Rectangle 9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2" name="Group 10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1913" name="Rectangle 11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Rectangle 12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5" name="Group 13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1916" name="Rectangle 14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Rectangle 15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.printShapeName(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8" name="Group 16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1919" name="Rectangle 17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Rectangle 18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.print()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1" name="Group 19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1922" name="Rectangle 20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Rectangle 21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4" name="Group 22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1925" name="Rectangle 23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Rectangle 24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7" name="Group 25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1928" name="Rectangle 26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Rectangle 27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inder.printShapeName(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0" name="Group 28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1931" name="Rectangle 29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Rectangle 30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inder.print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3" name="Group 31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1934" name="Rectangle 32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Rectangle 33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6" name="Group 34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1937" name="Rectangle 35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Rectangle 36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9" name="Group 37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1940" name="Rectangle 38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Rectangle 39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hape *arrayOfShapes[ 3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rray of base-class point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2" name="Group 40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1943" name="Rectangle 41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Rectangle 42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5" name="Group 43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1946" name="Rectangle 44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Rectangle 45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aim arrayOfShapes[0] at derived-class Point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8" name="Group 46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1949" name="Rectangle 47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Rectangle 48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arrayOfShapes[ 0 ] = &amp;poi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1" name="Group 49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1952" name="Rectangle 50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Rectangle 51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4" name="Group 52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1955" name="Rectangle 53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Rectangle 54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aim arrayOfShapes[1] at derived-class Circle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7" name="Group 55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1958" name="Rectangle 56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Rectangle 57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arrayOfShapes[ 1 ] = &amp;circl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0" name="Group 58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1961" name="Rectangle 59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Rectangle 60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3" name="Group 61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1964" name="Rectangle 62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Rectangle 63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aim arrayOfShapes[2] at derived-class Cylinder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6" name="Group 64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1967" name="Rectangle 65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Rectangle 66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arrayOfShapes[ 2 ] = &amp;cylind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9" name="Group 67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1970" name="Rectangle 68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Rectangle 69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2" name="Group 70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1973" name="Rectangle 71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Rectangle 72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Loop through arrayOfShapes and call virtualViaPoi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5" name="Group 73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1976" name="Rectangle 74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Rectangle 75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to print the shape name, attributes, area, and volu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8" name="Group 76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1979" name="Rectangle 77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Rectangle 78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of each object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1" name="Group 79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1982" name="Rectangle 80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Rectangle 81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Virtual function calls made off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4" name="Group 82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1985" name="Rectangle 83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Rectangle 84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base-class pointers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7" name="Group 85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1988" name="Rectangle 86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Rectangle 87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0" name="Group 88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1991" name="Rectangle 89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Rectangle 90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i = 0; i &lt; 3; i++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3" name="Group 91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1994" name="Rectangle 92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Rectangle 93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virtualViaPointer( arrayOfShapes[ i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6" name="Group 94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1997" name="Rectangle 95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Rectangle 96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9" name="Group 97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2000" name="Rectangle 98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Rectangle 99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Loop through arrayOfShapes and call virtualVia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2" name="Group 100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2003" name="Rectangle 101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Rectangle 102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to print the shape name, attributes, area, and volu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5" name="Group 103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2006" name="Rectangle 104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Rectangle 105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of each object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08" name="Rectangle 106"/>
          <p:cNvSpPr/>
          <p:nvPr/>
        </p:nvSpPr>
        <p:spPr>
          <a:xfrm>
            <a:off x="2296800" y="228600"/>
            <a:ext cx="14608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9" name="Group 109"/>
          <p:cNvGrpSpPr/>
          <p:nvPr/>
        </p:nvGrpSpPr>
        <p:grpSpPr>
          <a:xfrm>
            <a:off x="1523520" y="228600"/>
            <a:ext cx="3886560" cy="946800"/>
            <a:chOff x="1523520" y="228600"/>
            <a:chExt cx="3886560" cy="946800"/>
          </a:xfrm>
        </p:grpSpPr>
        <p:sp>
          <p:nvSpPr>
            <p:cNvPr id="2010" name="Text Box 107"/>
            <p:cNvSpPr/>
            <p:nvPr/>
          </p:nvSpPr>
          <p:spPr>
            <a:xfrm>
              <a:off x="2819520" y="838080"/>
              <a:ext cx="2590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 using the object itself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Line 108"/>
            <p:cNvSpPr/>
            <p:nvPr/>
          </p:nvSpPr>
          <p:spPr>
            <a:xfrm flipH="1" flipV="1">
              <a:off x="1523520" y="228600"/>
              <a:ext cx="12956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2" name="Rectangle 110"/>
          <p:cNvSpPr/>
          <p:nvPr/>
        </p:nvSpPr>
        <p:spPr>
          <a:xfrm>
            <a:off x="3308400" y="838080"/>
            <a:ext cx="29239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Rectangle 111"/>
          <p:cNvSpPr/>
          <p:nvPr/>
        </p:nvSpPr>
        <p:spPr>
          <a:xfrm>
            <a:off x="2403360" y="1752480"/>
            <a:ext cx="46612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4" name="Group 114"/>
          <p:cNvGrpSpPr/>
          <p:nvPr/>
        </p:nvGrpSpPr>
        <p:grpSpPr>
          <a:xfrm>
            <a:off x="2437920" y="2514600"/>
            <a:ext cx="4725000" cy="2102400"/>
            <a:chOff x="2437920" y="2514600"/>
            <a:chExt cx="4725000" cy="2102400"/>
          </a:xfrm>
        </p:grpSpPr>
        <p:sp>
          <p:nvSpPr>
            <p:cNvPr id="2015" name="Text Box 112"/>
            <p:cNvSpPr/>
            <p:nvPr/>
          </p:nvSpPr>
          <p:spPr>
            <a:xfrm>
              <a:off x="4572000" y="2819520"/>
              <a:ext cx="259092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n array of base class pointers.  Assign these to the objects, then 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functions again, using the base class pointers.  The appropr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will be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Line 113"/>
            <p:cNvSpPr/>
            <p:nvPr/>
          </p:nvSpPr>
          <p:spPr>
            <a:xfrm flipH="1" flipV="1">
              <a:off x="2437920" y="2514600"/>
              <a:ext cx="21337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7" name="Rectangle 115"/>
          <p:cNvSpPr/>
          <p:nvPr/>
        </p:nvSpPr>
        <p:spPr>
          <a:xfrm>
            <a:off x="4724280" y="5562720"/>
            <a:ext cx="4191120" cy="1014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275.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342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Rectangle 116"/>
          <p:cNvSpPr/>
          <p:nvPr/>
        </p:nvSpPr>
        <p:spPr>
          <a:xfrm>
            <a:off x="3896280" y="4516560"/>
            <a:ext cx="48441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rtual function calls made off base-class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Rectangle 117"/>
          <p:cNvSpPr/>
          <p:nvPr/>
        </p:nvSpPr>
        <p:spPr>
          <a:xfrm>
            <a:off x="4800600" y="5029200"/>
            <a:ext cx="20574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Rectangle 118"/>
          <p:cNvSpPr/>
          <p:nvPr/>
        </p:nvSpPr>
        <p:spPr>
          <a:xfrm>
            <a:off x="5257800" y="5257800"/>
            <a:ext cx="304812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38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9" dur="1" fill="hold"/>
                                  <p:tgtEl>
                                    <p:spTgt spid="20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F54A-B817-4E6F-AE9B-16460CED8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3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2024" name="Group 4"/>
            <p:cNvGrpSpPr/>
            <p:nvPr/>
          </p:nvGrpSpPr>
          <p:grpSpPr>
            <a:xfrm>
              <a:off x="0" y="0"/>
              <a:ext cx="6780960" cy="244800"/>
              <a:chOff x="0" y="0"/>
              <a:chExt cx="6780960" cy="244800"/>
            </a:xfrm>
          </p:grpSpPr>
          <p:sp>
            <p:nvSpPr>
              <p:cNvPr id="2025" name="Rectangle 5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Rectangle 6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Virtual function calls made off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7" name="Group 7"/>
            <p:cNvGrpSpPr/>
            <p:nvPr/>
          </p:nvGrpSpPr>
          <p:grpSpPr>
            <a:xfrm>
              <a:off x="0" y="244800"/>
              <a:ext cx="6780960" cy="244800"/>
              <a:chOff x="0" y="244800"/>
              <a:chExt cx="6780960" cy="244800"/>
            </a:xfrm>
          </p:grpSpPr>
          <p:sp>
            <p:nvSpPr>
              <p:cNvPr id="2028" name="Rectangle 8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Rectangle 9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base-class references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0" name="Group 10"/>
            <p:cNvGrpSpPr/>
            <p:nvPr/>
          </p:nvGrpSpPr>
          <p:grpSpPr>
            <a:xfrm>
              <a:off x="0" y="489600"/>
              <a:ext cx="6780960" cy="244800"/>
              <a:chOff x="0" y="489600"/>
              <a:chExt cx="6780960" cy="244800"/>
            </a:xfrm>
          </p:grpSpPr>
          <p:sp>
            <p:nvSpPr>
              <p:cNvPr id="2031" name="Rectangle 11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Rectangle 12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3" name="Group 13"/>
            <p:cNvGrpSpPr/>
            <p:nvPr/>
          </p:nvGrpSpPr>
          <p:grpSpPr>
            <a:xfrm>
              <a:off x="0" y="734760"/>
              <a:ext cx="6780960" cy="244800"/>
              <a:chOff x="0" y="734760"/>
              <a:chExt cx="6780960" cy="244800"/>
            </a:xfrm>
          </p:grpSpPr>
          <p:sp>
            <p:nvSpPr>
              <p:cNvPr id="2034" name="Rectangle 14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Rectangle 15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j = 0; j &lt; 3; j++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6" name="Group 16"/>
            <p:cNvGrpSpPr/>
            <p:nvPr/>
          </p:nvGrpSpPr>
          <p:grpSpPr>
            <a:xfrm>
              <a:off x="0" y="979560"/>
              <a:ext cx="6780960" cy="244800"/>
              <a:chOff x="0" y="979560"/>
              <a:chExt cx="6780960" cy="244800"/>
            </a:xfrm>
          </p:grpSpPr>
          <p:sp>
            <p:nvSpPr>
              <p:cNvPr id="2037" name="Rectangle 17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Rectangle 18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virtualViaReference( *arrayOfShapes[ j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9" name="Group 19"/>
            <p:cNvGrpSpPr/>
            <p:nvPr/>
          </p:nvGrpSpPr>
          <p:grpSpPr>
            <a:xfrm>
              <a:off x="0" y="1224360"/>
              <a:ext cx="6780960" cy="244800"/>
              <a:chOff x="0" y="1224360"/>
              <a:chExt cx="6780960" cy="244800"/>
            </a:xfrm>
          </p:grpSpPr>
          <p:sp>
            <p:nvSpPr>
              <p:cNvPr id="2040" name="Rectangle 20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Rectangle 21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2" name="Group 22"/>
            <p:cNvGrpSpPr/>
            <p:nvPr/>
          </p:nvGrpSpPr>
          <p:grpSpPr>
            <a:xfrm>
              <a:off x="0" y="1469520"/>
              <a:ext cx="6780960" cy="244800"/>
              <a:chOff x="0" y="1469520"/>
              <a:chExt cx="6780960" cy="244800"/>
            </a:xfrm>
          </p:grpSpPr>
          <p:sp>
            <p:nvSpPr>
              <p:cNvPr id="2043" name="Rectangle 23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Rectangle 24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5" name="Group 25"/>
            <p:cNvGrpSpPr/>
            <p:nvPr/>
          </p:nvGrpSpPr>
          <p:grpSpPr>
            <a:xfrm>
              <a:off x="0" y="1714320"/>
              <a:ext cx="6780960" cy="244800"/>
              <a:chOff x="0" y="1714320"/>
              <a:chExt cx="6780960" cy="244800"/>
            </a:xfrm>
          </p:grpSpPr>
          <p:sp>
            <p:nvSpPr>
              <p:cNvPr id="2046" name="Rectangle 26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Rectangle 27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8" name="Group 28"/>
            <p:cNvGrpSpPr/>
            <p:nvPr/>
          </p:nvGrpSpPr>
          <p:grpSpPr>
            <a:xfrm>
              <a:off x="0" y="1959480"/>
              <a:ext cx="6780960" cy="244800"/>
              <a:chOff x="0" y="1959480"/>
              <a:chExt cx="6780960" cy="244800"/>
            </a:xfrm>
          </p:grpSpPr>
          <p:sp>
            <p:nvSpPr>
              <p:cNvPr id="2049" name="Rectangle 29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Rectangle 30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1" name="Group 31"/>
            <p:cNvGrpSpPr/>
            <p:nvPr/>
          </p:nvGrpSpPr>
          <p:grpSpPr>
            <a:xfrm>
              <a:off x="0" y="2204280"/>
              <a:ext cx="6780960" cy="244800"/>
              <a:chOff x="0" y="2204280"/>
              <a:chExt cx="6780960" cy="244800"/>
            </a:xfrm>
          </p:grpSpPr>
          <p:sp>
            <p:nvSpPr>
              <p:cNvPr id="2052" name="Rectangle 32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Rectangle 33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ake virtual function calls off a base-class poi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Group 34"/>
            <p:cNvGrpSpPr/>
            <p:nvPr/>
          </p:nvGrpSpPr>
          <p:grpSpPr>
            <a:xfrm>
              <a:off x="0" y="2449080"/>
              <a:ext cx="6780960" cy="244800"/>
              <a:chOff x="0" y="2449080"/>
              <a:chExt cx="6780960" cy="244800"/>
            </a:xfrm>
          </p:grpSpPr>
          <p:sp>
            <p:nvSpPr>
              <p:cNvPr id="2055" name="Rectangle 35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Rectangle 36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Group 37"/>
            <p:cNvGrpSpPr/>
            <p:nvPr/>
          </p:nvGrpSpPr>
          <p:grpSpPr>
            <a:xfrm>
              <a:off x="0" y="2694240"/>
              <a:ext cx="6780960" cy="244800"/>
              <a:chOff x="0" y="2694240"/>
              <a:chExt cx="6780960" cy="244800"/>
            </a:xfrm>
          </p:grpSpPr>
          <p:sp>
            <p:nvSpPr>
              <p:cNvPr id="2058" name="Rectangle 38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Rectangle 39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irtualViaPoint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hape *baseClass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0" name="Group 40"/>
            <p:cNvGrpSpPr/>
            <p:nvPr/>
          </p:nvGrpSpPr>
          <p:grpSpPr>
            <a:xfrm>
              <a:off x="0" y="2939040"/>
              <a:ext cx="6780960" cy="244800"/>
              <a:chOff x="0" y="2939040"/>
              <a:chExt cx="6780960" cy="244800"/>
            </a:xfrm>
          </p:grpSpPr>
          <p:sp>
            <p:nvSpPr>
              <p:cNvPr id="2061" name="Rectangle 41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Rectangle 42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Group 43"/>
            <p:cNvGrpSpPr/>
            <p:nvPr/>
          </p:nvGrpSpPr>
          <p:grpSpPr>
            <a:xfrm>
              <a:off x="0" y="3183840"/>
              <a:ext cx="6780960" cy="244800"/>
              <a:chOff x="0" y="3183840"/>
              <a:chExt cx="6780960" cy="244800"/>
            </a:xfrm>
          </p:grpSpPr>
          <p:sp>
            <p:nvSpPr>
              <p:cNvPr id="2064" name="Rectangle 44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Rectangle 45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ClassPtr-&gt;printShapeName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Group 46"/>
            <p:cNvGrpSpPr/>
            <p:nvPr/>
          </p:nvGrpSpPr>
          <p:grpSpPr>
            <a:xfrm>
              <a:off x="0" y="3429000"/>
              <a:ext cx="6780960" cy="244800"/>
              <a:chOff x="0" y="3429000"/>
              <a:chExt cx="6780960" cy="244800"/>
            </a:xfrm>
          </p:grpSpPr>
          <p:sp>
            <p:nvSpPr>
              <p:cNvPr id="2067" name="Rectangle 47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Rectangle 48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ClassPtr-&gt;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Group 49"/>
            <p:cNvGrpSpPr/>
            <p:nvPr/>
          </p:nvGrpSpPr>
          <p:grpSpPr>
            <a:xfrm>
              <a:off x="0" y="3673800"/>
              <a:ext cx="6780960" cy="244800"/>
              <a:chOff x="0" y="3673800"/>
              <a:chExt cx="6780960" cy="244800"/>
            </a:xfrm>
          </p:grpSpPr>
          <p:sp>
            <p:nvSpPr>
              <p:cNvPr id="2070" name="Rectangle 50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Rectangle 51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Area = " &lt;&lt; baseClassPtr-&gt;are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2" name="Group 52"/>
            <p:cNvGrpSpPr/>
            <p:nvPr/>
          </p:nvGrpSpPr>
          <p:grpSpPr>
            <a:xfrm>
              <a:off x="0" y="3918960"/>
              <a:ext cx="6780960" cy="244800"/>
              <a:chOff x="0" y="3918960"/>
              <a:chExt cx="6780960" cy="244800"/>
            </a:xfrm>
          </p:grpSpPr>
          <p:sp>
            <p:nvSpPr>
              <p:cNvPr id="2073" name="Rectangle 53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Rectangle 54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Volume = " &lt;&lt; baseClassPtr-&gt;volume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5" name="Group 55"/>
            <p:cNvGrpSpPr/>
            <p:nvPr/>
          </p:nvGrpSpPr>
          <p:grpSpPr>
            <a:xfrm>
              <a:off x="0" y="4163760"/>
              <a:ext cx="6780960" cy="244800"/>
              <a:chOff x="0" y="4163760"/>
              <a:chExt cx="6780960" cy="244800"/>
            </a:xfrm>
          </p:grpSpPr>
          <p:sp>
            <p:nvSpPr>
              <p:cNvPr id="2076" name="Rectangle 56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Rectangle 57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8" name="Group 58"/>
            <p:cNvGrpSpPr/>
            <p:nvPr/>
          </p:nvGrpSpPr>
          <p:grpSpPr>
            <a:xfrm>
              <a:off x="0" y="4408560"/>
              <a:ext cx="6780960" cy="244800"/>
              <a:chOff x="0" y="4408560"/>
              <a:chExt cx="6780960" cy="244800"/>
            </a:xfrm>
          </p:grpSpPr>
          <p:sp>
            <p:nvSpPr>
              <p:cNvPr id="2079" name="Rectangle 59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Rectangle 60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1" name="Group 61"/>
            <p:cNvGrpSpPr/>
            <p:nvPr/>
          </p:nvGrpSpPr>
          <p:grpSpPr>
            <a:xfrm>
              <a:off x="0" y="4653360"/>
              <a:ext cx="6780960" cy="244800"/>
              <a:chOff x="0" y="4653360"/>
              <a:chExt cx="6780960" cy="244800"/>
            </a:xfrm>
          </p:grpSpPr>
          <p:sp>
            <p:nvSpPr>
              <p:cNvPr id="2082" name="Rectangle 62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Rectangle 63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ake virtual function calls off a base-class 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4" name="Group 64"/>
            <p:cNvGrpSpPr/>
            <p:nvPr/>
          </p:nvGrpSpPr>
          <p:grpSpPr>
            <a:xfrm>
              <a:off x="0" y="4898520"/>
              <a:ext cx="6780960" cy="244800"/>
              <a:chOff x="0" y="4898520"/>
              <a:chExt cx="6780960" cy="244800"/>
            </a:xfrm>
          </p:grpSpPr>
          <p:sp>
            <p:nvSpPr>
              <p:cNvPr id="2085" name="Rectangle 65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Rectangle 66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7" name="Group 67"/>
            <p:cNvGrpSpPr/>
            <p:nvPr/>
          </p:nvGrpSpPr>
          <p:grpSpPr>
            <a:xfrm>
              <a:off x="0" y="5143320"/>
              <a:ext cx="6780960" cy="244800"/>
              <a:chOff x="0" y="5143320"/>
              <a:chExt cx="6780960" cy="244800"/>
            </a:xfrm>
          </p:grpSpPr>
          <p:sp>
            <p:nvSpPr>
              <p:cNvPr id="2088" name="Rectangle 68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Rectangle 69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irtualVia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hape &amp;baseClassRe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0" name="Group 70"/>
            <p:cNvGrpSpPr/>
            <p:nvPr/>
          </p:nvGrpSpPr>
          <p:grpSpPr>
            <a:xfrm>
              <a:off x="0" y="5388480"/>
              <a:ext cx="6780960" cy="244800"/>
              <a:chOff x="0" y="5388480"/>
              <a:chExt cx="6780960" cy="244800"/>
            </a:xfrm>
          </p:grpSpPr>
          <p:sp>
            <p:nvSpPr>
              <p:cNvPr id="2091" name="Rectangle 71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Rectangle 72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3" name="Group 73"/>
            <p:cNvGrpSpPr/>
            <p:nvPr/>
          </p:nvGrpSpPr>
          <p:grpSpPr>
            <a:xfrm>
              <a:off x="0" y="5633280"/>
              <a:ext cx="6780960" cy="244800"/>
              <a:chOff x="0" y="5633280"/>
              <a:chExt cx="6780960" cy="244800"/>
            </a:xfrm>
          </p:grpSpPr>
          <p:sp>
            <p:nvSpPr>
              <p:cNvPr id="2094" name="Rectangle 74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Rectangle 75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ClassRef.printShapeName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6" name="Group 76"/>
            <p:cNvGrpSpPr/>
            <p:nvPr/>
          </p:nvGrpSpPr>
          <p:grpSpPr>
            <a:xfrm>
              <a:off x="0" y="5878440"/>
              <a:ext cx="6780960" cy="244800"/>
              <a:chOff x="0" y="5878440"/>
              <a:chExt cx="6780960" cy="244800"/>
            </a:xfrm>
          </p:grpSpPr>
          <p:sp>
            <p:nvSpPr>
              <p:cNvPr id="2097" name="Rectangle 77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Rectangle 78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ClassRef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9" name="Group 79"/>
            <p:cNvGrpSpPr/>
            <p:nvPr/>
          </p:nvGrpSpPr>
          <p:grpSpPr>
            <a:xfrm>
              <a:off x="0" y="6123240"/>
              <a:ext cx="6780960" cy="244800"/>
              <a:chOff x="0" y="6123240"/>
              <a:chExt cx="6780960" cy="244800"/>
            </a:xfrm>
          </p:grpSpPr>
          <p:sp>
            <p:nvSpPr>
              <p:cNvPr id="2100" name="Rectangle 80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Rectangle 81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Area = " &lt;&lt; baseClassRef.are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2" name="Group 82"/>
            <p:cNvGrpSpPr/>
            <p:nvPr/>
          </p:nvGrpSpPr>
          <p:grpSpPr>
            <a:xfrm>
              <a:off x="0" y="6368040"/>
              <a:ext cx="6780960" cy="244800"/>
              <a:chOff x="0" y="6368040"/>
              <a:chExt cx="6780960" cy="244800"/>
            </a:xfrm>
          </p:grpSpPr>
          <p:sp>
            <p:nvSpPr>
              <p:cNvPr id="2103" name="Rectangle 83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Rectangle 84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Volume = " &lt;&lt; baseClassRef.volume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5" name="Group 85"/>
            <p:cNvGrpSpPr/>
            <p:nvPr/>
          </p:nvGrpSpPr>
          <p:grpSpPr>
            <a:xfrm>
              <a:off x="0" y="6612840"/>
              <a:ext cx="6780960" cy="244800"/>
              <a:chOff x="0" y="6612840"/>
              <a:chExt cx="6780960" cy="244800"/>
            </a:xfrm>
          </p:grpSpPr>
          <p:sp>
            <p:nvSpPr>
              <p:cNvPr id="2106" name="Rectangle 86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Rectangle 87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8" name="Group 90"/>
          <p:cNvGrpSpPr/>
          <p:nvPr/>
        </p:nvGrpSpPr>
        <p:grpSpPr>
          <a:xfrm>
            <a:off x="4038480" y="1294920"/>
            <a:ext cx="3886200" cy="657360"/>
            <a:chOff x="4038480" y="1294920"/>
            <a:chExt cx="3886200" cy="657360"/>
          </a:xfrm>
        </p:grpSpPr>
        <p:sp>
          <p:nvSpPr>
            <p:cNvPr id="2109" name="Text Box 88"/>
            <p:cNvSpPr/>
            <p:nvPr/>
          </p:nvSpPr>
          <p:spPr>
            <a:xfrm>
              <a:off x="5029200" y="137160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peat process using base-class referenc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Line 89"/>
            <p:cNvSpPr/>
            <p:nvPr/>
          </p:nvSpPr>
          <p:spPr>
            <a:xfrm flipH="1" flipV="1">
              <a:off x="4038480" y="1294920"/>
              <a:ext cx="9907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1" name="Rectangle 91"/>
          <p:cNvSpPr/>
          <p:nvPr/>
        </p:nvSpPr>
        <p:spPr>
          <a:xfrm>
            <a:off x="3200400" y="1603440"/>
            <a:ext cx="4572000" cy="3142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rtual function calls made off base-class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38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275.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342.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3" dur="1" fill="hold"/>
                                  <p:tgtEl>
                                    <p:spTgt spid="2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2FF5-DA09-433B-9EA2-37C691C18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Rectangle 3"/>
          <p:cNvSpPr/>
          <p:nvPr/>
        </p:nvSpPr>
        <p:spPr>
          <a:xfrm>
            <a:off x="0" y="0"/>
            <a:ext cx="6781680" cy="4291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rtual function calls made off base-class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38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275.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342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rtual function calls made off base-class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38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275.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342.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DE6F-7BA9-414D-92DD-DA6886404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lymorphis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erent classes to respond differently to the same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ed throug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-class pointer (or reference) call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 chooses the correct overridden function i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alled from base-class pointer then the base-class version i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alled from derived-class pointer then derived-class version i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mployee e, *ePtr = &amp;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urlyWorker h, *hPtr = &amp;h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Ptr-&gt;print();    // call base-class print fun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Ptr-&gt;print();    // call derived-class prin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Ptr=&amp;h;          // allowable implicit convers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Ptr-&gt;print();    // still calls base-class pri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OTE: Intelligent /extensible replacement for “switch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B103-D46E-4EB4-BBC5-68D868CCB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bstract and Concret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class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le purpose is to provide a base class for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objects of an abstract base class can be instantiat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 generic to define real objects (i.e.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woDimensionalSha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pointers and 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rete cla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that can instantiate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specifics to make real objects (i.e.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qua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bstract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one or mo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as “pure” by initializing the function to z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of a pu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 double earnings() const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A037-9DA9-4BD1-9106-2FAE4887E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A Payroll System Using Polymorphis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example is a payroll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and polymorphism to perform payroll calculations based on the type of an employ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ch better than a field type + switch!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53CB-6979-428E-8248-9080F3B1E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base cl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08" name="Group 4"/>
            <p:cNvGrpSpPr/>
            <p:nvPr/>
          </p:nvGrpSpPr>
          <p:grpSpPr>
            <a:xfrm>
              <a:off x="0" y="0"/>
              <a:ext cx="6780960" cy="350280"/>
              <a:chOff x="0" y="0"/>
              <a:chExt cx="6780960" cy="350280"/>
            </a:xfrm>
          </p:grpSpPr>
          <p:sp>
            <p:nvSpPr>
              <p:cNvPr id="109" name="Rectangle 5"/>
              <p:cNvSpPr/>
              <p:nvPr/>
            </p:nvSpPr>
            <p:spPr>
              <a:xfrm>
                <a:off x="0" y="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6"/>
              <p:cNvSpPr/>
              <p:nvPr/>
            </p:nvSpPr>
            <p:spPr>
              <a:xfrm>
                <a:off x="0" y="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employ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7"/>
            <p:cNvGrpSpPr/>
            <p:nvPr/>
          </p:nvGrpSpPr>
          <p:grpSpPr>
            <a:xfrm>
              <a:off x="0" y="350280"/>
              <a:ext cx="6780960" cy="325080"/>
              <a:chOff x="0" y="350280"/>
              <a:chExt cx="6780960" cy="325080"/>
            </a:xfrm>
          </p:grpSpPr>
          <p:sp>
            <p:nvSpPr>
              <p:cNvPr id="112" name="Rectangle 8"/>
              <p:cNvSpPr/>
              <p:nvPr/>
            </p:nvSpPr>
            <p:spPr>
              <a:xfrm>
                <a:off x="0" y="3502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9"/>
              <p:cNvSpPr/>
              <p:nvPr/>
            </p:nvSpPr>
            <p:spPr>
              <a:xfrm>
                <a:off x="0" y="3502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bstract base class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Group 10"/>
            <p:cNvGrpSpPr/>
            <p:nvPr/>
          </p:nvGrpSpPr>
          <p:grpSpPr>
            <a:xfrm>
              <a:off x="0" y="675720"/>
              <a:ext cx="6780960" cy="325440"/>
              <a:chOff x="0" y="675720"/>
              <a:chExt cx="6780960" cy="325440"/>
            </a:xfrm>
          </p:grpSpPr>
          <p:sp>
            <p:nvSpPr>
              <p:cNvPr id="115" name="Rectangle 11"/>
              <p:cNvSpPr/>
              <p:nvPr/>
            </p:nvSpPr>
            <p:spPr>
              <a:xfrm>
                <a:off x="0" y="6757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12"/>
              <p:cNvSpPr/>
              <p:nvPr/>
            </p:nvSpPr>
            <p:spPr>
              <a:xfrm>
                <a:off x="0" y="6757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Group 13"/>
            <p:cNvGrpSpPr/>
            <p:nvPr/>
          </p:nvGrpSpPr>
          <p:grpSpPr>
            <a:xfrm>
              <a:off x="0" y="1001160"/>
              <a:ext cx="6780960" cy="325080"/>
              <a:chOff x="0" y="1001160"/>
              <a:chExt cx="6780960" cy="325080"/>
            </a:xfrm>
          </p:grpSpPr>
          <p:sp>
            <p:nvSpPr>
              <p:cNvPr id="118" name="Rectangle 14"/>
              <p:cNvSpPr/>
              <p:nvPr/>
            </p:nvSpPr>
            <p:spPr>
              <a:xfrm>
                <a:off x="0" y="10011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Rectangle 15"/>
              <p:cNvSpPr/>
              <p:nvPr/>
            </p:nvSpPr>
            <p:spPr>
              <a:xfrm>
                <a:off x="0" y="10011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0" y="1326600"/>
              <a:ext cx="6780960" cy="325080"/>
              <a:chOff x="0" y="1326600"/>
              <a:chExt cx="6780960" cy="325080"/>
            </a:xfrm>
          </p:grpSpPr>
          <p:sp>
            <p:nvSpPr>
              <p:cNvPr id="121" name="Rectangle 17"/>
              <p:cNvSpPr/>
              <p:nvPr/>
            </p:nvSpPr>
            <p:spPr>
              <a:xfrm>
                <a:off x="0" y="13266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18"/>
              <p:cNvSpPr/>
              <p:nvPr/>
            </p:nvSpPr>
            <p:spPr>
              <a:xfrm>
                <a:off x="0" y="13266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Group 19"/>
            <p:cNvGrpSpPr/>
            <p:nvPr/>
          </p:nvGrpSpPr>
          <p:grpSpPr>
            <a:xfrm>
              <a:off x="0" y="1652040"/>
              <a:ext cx="6780960" cy="325080"/>
              <a:chOff x="0" y="1652040"/>
              <a:chExt cx="6780960" cy="325080"/>
            </a:xfrm>
          </p:grpSpPr>
          <p:sp>
            <p:nvSpPr>
              <p:cNvPr id="124" name="Rectangle 20"/>
              <p:cNvSpPr/>
              <p:nvPr/>
            </p:nvSpPr>
            <p:spPr>
              <a:xfrm>
                <a:off x="0" y="16520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Rectangle 21"/>
              <p:cNvSpPr/>
              <p:nvPr/>
            </p:nvSpPr>
            <p:spPr>
              <a:xfrm>
                <a:off x="0" y="16520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Group 22"/>
            <p:cNvGrpSpPr/>
            <p:nvPr/>
          </p:nvGrpSpPr>
          <p:grpSpPr>
            <a:xfrm>
              <a:off x="0" y="1977120"/>
              <a:ext cx="6780960" cy="325440"/>
              <a:chOff x="0" y="1977120"/>
              <a:chExt cx="6780960" cy="325440"/>
            </a:xfrm>
          </p:grpSpPr>
          <p:sp>
            <p:nvSpPr>
              <p:cNvPr id="127" name="Rectangle 23"/>
              <p:cNvSpPr/>
              <p:nvPr/>
            </p:nvSpPr>
            <p:spPr>
              <a:xfrm>
                <a:off x="0" y="19771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24"/>
              <p:cNvSpPr/>
              <p:nvPr/>
            </p:nvSpPr>
            <p:spPr>
              <a:xfrm>
                <a:off x="0" y="19771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Group 25"/>
            <p:cNvGrpSpPr/>
            <p:nvPr/>
          </p:nvGrpSpPr>
          <p:grpSpPr>
            <a:xfrm>
              <a:off x="0" y="2302920"/>
              <a:ext cx="6780960" cy="325080"/>
              <a:chOff x="0" y="2302920"/>
              <a:chExt cx="6780960" cy="325080"/>
            </a:xfrm>
          </p:grpSpPr>
          <p:sp>
            <p:nvSpPr>
              <p:cNvPr id="130" name="Rectangle 26"/>
              <p:cNvSpPr/>
              <p:nvPr/>
            </p:nvSpPr>
            <p:spPr>
              <a:xfrm>
                <a:off x="0" y="230292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Rectangle 27"/>
              <p:cNvSpPr/>
              <p:nvPr/>
            </p:nvSpPr>
            <p:spPr>
              <a:xfrm>
                <a:off x="0" y="230292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Group 28"/>
            <p:cNvGrpSpPr/>
            <p:nvPr/>
          </p:nvGrpSpPr>
          <p:grpSpPr>
            <a:xfrm>
              <a:off x="0" y="2628000"/>
              <a:ext cx="6780960" cy="325080"/>
              <a:chOff x="0" y="2628000"/>
              <a:chExt cx="6780960" cy="325080"/>
            </a:xfrm>
          </p:grpSpPr>
          <p:sp>
            <p:nvSpPr>
              <p:cNvPr id="133" name="Rectangle 29"/>
              <p:cNvSpPr/>
              <p:nvPr/>
            </p:nvSpPr>
            <p:spPr>
              <a:xfrm>
                <a:off x="0" y="26280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Rectangle 30"/>
              <p:cNvSpPr/>
              <p:nvPr/>
            </p:nvSpPr>
            <p:spPr>
              <a:xfrm>
                <a:off x="0" y="26280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~Employee();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// destructor reclaims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Group 31"/>
            <p:cNvGrpSpPr/>
            <p:nvPr/>
          </p:nvGrpSpPr>
          <p:grpSpPr>
            <a:xfrm>
              <a:off x="0" y="2953440"/>
              <a:ext cx="6780960" cy="325080"/>
              <a:chOff x="0" y="2953440"/>
              <a:chExt cx="6780960" cy="325080"/>
            </a:xfrm>
          </p:grpSpPr>
          <p:sp>
            <p:nvSpPr>
              <p:cNvPr id="136" name="Rectangle 32"/>
              <p:cNvSpPr/>
              <p:nvPr/>
            </p:nvSpPr>
            <p:spPr>
              <a:xfrm>
                <a:off x="0" y="29534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33"/>
              <p:cNvSpPr/>
              <p:nvPr/>
            </p:nvSpPr>
            <p:spPr>
              <a:xfrm>
                <a:off x="0" y="29534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getFir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Group 34"/>
            <p:cNvGrpSpPr/>
            <p:nvPr/>
          </p:nvGrpSpPr>
          <p:grpSpPr>
            <a:xfrm>
              <a:off x="0" y="3278880"/>
              <a:ext cx="6780960" cy="325080"/>
              <a:chOff x="0" y="3278880"/>
              <a:chExt cx="6780960" cy="325080"/>
            </a:xfrm>
          </p:grpSpPr>
          <p:sp>
            <p:nvSpPr>
              <p:cNvPr id="139" name="Rectangle 35"/>
              <p:cNvSpPr/>
              <p:nvPr/>
            </p:nvSpPr>
            <p:spPr>
              <a:xfrm>
                <a:off x="0" y="32788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Rectangle 36"/>
              <p:cNvSpPr/>
              <p:nvPr/>
            </p:nvSpPr>
            <p:spPr>
              <a:xfrm>
                <a:off x="0" y="32788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getLa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Group 37"/>
            <p:cNvGrpSpPr/>
            <p:nvPr/>
          </p:nvGrpSpPr>
          <p:grpSpPr>
            <a:xfrm>
              <a:off x="0" y="3603960"/>
              <a:ext cx="6780960" cy="325440"/>
              <a:chOff x="0" y="3603960"/>
              <a:chExt cx="6780960" cy="325440"/>
            </a:xfrm>
          </p:grpSpPr>
          <p:sp>
            <p:nvSpPr>
              <p:cNvPr id="142" name="Rectangle 38"/>
              <p:cNvSpPr/>
              <p:nvPr/>
            </p:nvSpPr>
            <p:spPr>
              <a:xfrm>
                <a:off x="0" y="360396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39"/>
              <p:cNvSpPr/>
              <p:nvPr/>
            </p:nvSpPr>
            <p:spPr>
              <a:xfrm>
                <a:off x="0" y="360396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Group 40"/>
            <p:cNvGrpSpPr/>
            <p:nvPr/>
          </p:nvGrpSpPr>
          <p:grpSpPr>
            <a:xfrm>
              <a:off x="0" y="3929760"/>
              <a:ext cx="6780960" cy="325080"/>
              <a:chOff x="0" y="3929760"/>
              <a:chExt cx="6780960" cy="325080"/>
            </a:xfrm>
          </p:grpSpPr>
          <p:sp>
            <p:nvSpPr>
              <p:cNvPr id="145" name="Rectangle 41"/>
              <p:cNvSpPr/>
              <p:nvPr/>
            </p:nvSpPr>
            <p:spPr>
              <a:xfrm>
                <a:off x="0" y="39297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Rectangle 42"/>
              <p:cNvSpPr/>
              <p:nvPr/>
            </p:nvSpPr>
            <p:spPr>
              <a:xfrm>
                <a:off x="0" y="39297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ure virtual function makes Employee abstract bas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Group 43"/>
            <p:cNvGrpSpPr/>
            <p:nvPr/>
          </p:nvGrpSpPr>
          <p:grpSpPr>
            <a:xfrm>
              <a:off x="0" y="4254840"/>
              <a:ext cx="6780960" cy="325080"/>
              <a:chOff x="0" y="4254840"/>
              <a:chExt cx="6780960" cy="325080"/>
            </a:xfrm>
          </p:grpSpPr>
          <p:sp>
            <p:nvSpPr>
              <p:cNvPr id="148" name="Rectangle 44"/>
              <p:cNvSpPr/>
              <p:nvPr/>
            </p:nvSpPr>
            <p:spPr>
              <a:xfrm>
                <a:off x="0" y="42548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Rectangle 45"/>
              <p:cNvSpPr/>
              <p:nvPr/>
            </p:nvSpPr>
            <p:spPr>
              <a:xfrm>
                <a:off x="0" y="42548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ure virt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Group 46"/>
            <p:cNvGrpSpPr/>
            <p:nvPr/>
          </p:nvGrpSpPr>
          <p:grpSpPr>
            <a:xfrm>
              <a:off x="0" y="4580280"/>
              <a:ext cx="6780960" cy="325080"/>
              <a:chOff x="0" y="4580280"/>
              <a:chExt cx="6780960" cy="325080"/>
            </a:xfrm>
          </p:grpSpPr>
          <p:sp>
            <p:nvSpPr>
              <p:cNvPr id="151" name="Rectangle 47"/>
              <p:cNvSpPr/>
              <p:nvPr/>
            </p:nvSpPr>
            <p:spPr>
              <a:xfrm>
                <a:off x="0" y="45802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Rectangle 48"/>
              <p:cNvSpPr/>
              <p:nvPr/>
            </p:nvSpPr>
            <p:spPr>
              <a:xfrm>
                <a:off x="0" y="45802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virt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Group 49"/>
            <p:cNvGrpSpPr/>
            <p:nvPr/>
          </p:nvGrpSpPr>
          <p:grpSpPr>
            <a:xfrm>
              <a:off x="0" y="4905720"/>
              <a:ext cx="6780960" cy="325440"/>
              <a:chOff x="0" y="4905720"/>
              <a:chExt cx="6780960" cy="325440"/>
            </a:xfrm>
          </p:grpSpPr>
          <p:sp>
            <p:nvSpPr>
              <p:cNvPr id="154" name="Rectangle 50"/>
              <p:cNvSpPr/>
              <p:nvPr/>
            </p:nvSpPr>
            <p:spPr>
              <a:xfrm>
                <a:off x="0" y="49057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Rectangle 51"/>
              <p:cNvSpPr/>
              <p:nvPr/>
            </p:nvSpPr>
            <p:spPr>
              <a:xfrm>
                <a:off x="0" y="49057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Group 52"/>
            <p:cNvGrpSpPr/>
            <p:nvPr/>
          </p:nvGrpSpPr>
          <p:grpSpPr>
            <a:xfrm>
              <a:off x="0" y="5231160"/>
              <a:ext cx="6780960" cy="325080"/>
              <a:chOff x="0" y="5231160"/>
              <a:chExt cx="6780960" cy="325080"/>
            </a:xfrm>
          </p:grpSpPr>
          <p:sp>
            <p:nvSpPr>
              <p:cNvPr id="157" name="Rectangle 53"/>
              <p:cNvSpPr/>
              <p:nvPr/>
            </p:nvSpPr>
            <p:spPr>
              <a:xfrm>
                <a:off x="0" y="52311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Rectangle 54"/>
              <p:cNvSpPr/>
              <p:nvPr/>
            </p:nvSpPr>
            <p:spPr>
              <a:xfrm>
                <a:off x="0" y="52311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ir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Group 55"/>
            <p:cNvGrpSpPr/>
            <p:nvPr/>
          </p:nvGrpSpPr>
          <p:grpSpPr>
            <a:xfrm>
              <a:off x="0" y="5556600"/>
              <a:ext cx="6780960" cy="325080"/>
              <a:chOff x="0" y="5556600"/>
              <a:chExt cx="6780960" cy="325080"/>
            </a:xfrm>
          </p:grpSpPr>
          <p:sp>
            <p:nvSpPr>
              <p:cNvPr id="160" name="Rectangle 56"/>
              <p:cNvSpPr/>
              <p:nvPr/>
            </p:nvSpPr>
            <p:spPr>
              <a:xfrm>
                <a:off x="0" y="55566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Rectangle 57"/>
              <p:cNvSpPr/>
              <p:nvPr/>
            </p:nvSpPr>
            <p:spPr>
              <a:xfrm>
                <a:off x="0" y="55566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a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Group 58"/>
            <p:cNvGrpSpPr/>
            <p:nvPr/>
          </p:nvGrpSpPr>
          <p:grpSpPr>
            <a:xfrm>
              <a:off x="0" y="5881680"/>
              <a:ext cx="6780960" cy="325080"/>
              <a:chOff x="0" y="5881680"/>
              <a:chExt cx="6780960" cy="325080"/>
            </a:xfrm>
          </p:grpSpPr>
          <p:sp>
            <p:nvSpPr>
              <p:cNvPr id="163" name="Rectangle 59"/>
              <p:cNvSpPr/>
              <p:nvPr/>
            </p:nvSpPr>
            <p:spPr>
              <a:xfrm>
                <a:off x="0" y="58816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Rectangle 60"/>
              <p:cNvSpPr/>
              <p:nvPr/>
            </p:nvSpPr>
            <p:spPr>
              <a:xfrm>
                <a:off x="0" y="58816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Group 61"/>
            <p:cNvGrpSpPr/>
            <p:nvPr/>
          </p:nvGrpSpPr>
          <p:grpSpPr>
            <a:xfrm>
              <a:off x="0" y="6207120"/>
              <a:ext cx="6780960" cy="325440"/>
              <a:chOff x="0" y="6207120"/>
              <a:chExt cx="6780960" cy="325440"/>
            </a:xfrm>
          </p:grpSpPr>
          <p:sp>
            <p:nvSpPr>
              <p:cNvPr id="166" name="Rectangle 62"/>
              <p:cNvSpPr/>
              <p:nvPr/>
            </p:nvSpPr>
            <p:spPr>
              <a:xfrm>
                <a:off x="0" y="62071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Rectangle 63"/>
              <p:cNvSpPr/>
              <p:nvPr/>
            </p:nvSpPr>
            <p:spPr>
              <a:xfrm>
                <a:off x="0" y="62071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Group 64"/>
            <p:cNvGrpSpPr/>
            <p:nvPr/>
          </p:nvGrpSpPr>
          <p:grpSpPr>
            <a:xfrm>
              <a:off x="0" y="6532560"/>
              <a:ext cx="6780960" cy="325080"/>
              <a:chOff x="0" y="6532560"/>
              <a:chExt cx="6780960" cy="325080"/>
            </a:xfrm>
          </p:grpSpPr>
          <p:sp>
            <p:nvSpPr>
              <p:cNvPr id="169" name="Rectangle 65"/>
              <p:cNvSpPr/>
              <p:nvPr/>
            </p:nvSpPr>
            <p:spPr>
              <a:xfrm>
                <a:off x="0" y="65325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Rectangle 66"/>
              <p:cNvSpPr/>
              <p:nvPr/>
            </p:nvSpPr>
            <p:spPr>
              <a:xfrm>
                <a:off x="0" y="65325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Text Box 67"/>
          <p:cNvSpPr/>
          <p:nvPr/>
        </p:nvSpPr>
        <p:spPr>
          <a:xfrm>
            <a:off x="6553080" y="350532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75"/>
          <p:cNvGrpSpPr/>
          <p:nvPr/>
        </p:nvGrpSpPr>
        <p:grpSpPr>
          <a:xfrm>
            <a:off x="4114800" y="3200400"/>
            <a:ext cx="4343040" cy="2411280"/>
            <a:chOff x="4114800" y="3200400"/>
            <a:chExt cx="4343040" cy="2411280"/>
          </a:xfrm>
        </p:grpSpPr>
        <p:sp>
          <p:nvSpPr>
            <p:cNvPr id="173" name="Line 73"/>
            <p:cNvSpPr/>
            <p:nvPr/>
          </p:nvSpPr>
          <p:spPr>
            <a:xfrm flipH="1">
              <a:off x="4114800" y="4267080"/>
              <a:ext cx="24321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2"/>
            <p:cNvSpPr/>
            <p:nvPr/>
          </p:nvSpPr>
          <p:spPr>
            <a:xfrm>
              <a:off x="6460200" y="3200400"/>
              <a:ext cx="1997640" cy="2411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arning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declared pu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cause the implementation will depend on which derived class it will be used 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n abstract base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D192-DED7-4A0A-8165-E3D15CEE3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78" name="Group 4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79" name="Rectangle 5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Rectangle 6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employ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7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82" name="Rectangle 8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9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10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85" name="Rectangle 11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12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bstract base class Employe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13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88" name="Rectangle 14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Rectangle 15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ote: No definitions given for pure virtual function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Group 16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91" name="Rectangle 17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Rectangle 18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19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94" name="Rectangle 20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21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Group 22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97" name="Rectangle 23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24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25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200" name="Rectangle 26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Rectangle 27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28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203" name="Rectangle 29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Rectangle 30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cstring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Group 31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206" name="Rectangle 32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Rectangle 33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casser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34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209" name="Rectangle 35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Rectangle 36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Group 37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212" name="Rectangle 38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ectangle 39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40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215" name="Rectangle 41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Rectangle 42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dynamically allocates space for th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43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218" name="Rectangle 44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Rectangle 45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rst and last name and uses strcpy to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46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221" name="Rectangle 47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Rectangle 48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he first and last names into the objec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Group 49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224" name="Rectangle 50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51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mployee::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as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Group 52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227" name="Rectangle 53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54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55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230" name="Rectangle 56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Rectangle 57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fir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[ strlen( fir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58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233" name="Rectangle 59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Rectangle 60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assert( firstName != 0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est that new work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61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236" name="Rectangle 62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Rectangle 63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rcpy( firstName, fir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64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239" name="Rectangle 65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Rectangle 66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67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242" name="Rectangle 68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69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la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[ strlen( la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 70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245" name="Rectangle 71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Rectangle 72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assert( lastName != 0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test that new work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Group 73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248" name="Rectangle 74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Rectangle 75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rcpy( lastName, la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Group 76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251" name="Rectangle 77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Rectangle 78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Group 79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254" name="Rectangle 80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Rectangle 81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Group 82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257" name="Rectangle 83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Rectangle 84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structor deallocates dynamically allocated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Group 85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260" name="Rectangle 86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Rectangle 87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mployee::~Employe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Group 88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263" name="Rectangle 89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Rectangle 90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 91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266" name="Rectangle 92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93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[] fir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Group 94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269" name="Rectangle 95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Rectangle 96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[] la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Group 97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272" name="Rectangle 98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Rectangle 99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B1C3-8D04-4F5F-9334-0161F19CD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705720" y="761760"/>
            <a:ext cx="25905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277" name="Group 4"/>
            <p:cNvGrpSpPr/>
            <p:nvPr/>
          </p:nvGrpSpPr>
          <p:grpSpPr>
            <a:xfrm>
              <a:off x="0" y="0"/>
              <a:ext cx="6780960" cy="311400"/>
              <a:chOff x="0" y="0"/>
              <a:chExt cx="6780960" cy="311400"/>
            </a:xfrm>
          </p:grpSpPr>
          <p:sp>
            <p:nvSpPr>
              <p:cNvPr id="278" name="Rectangle 5"/>
              <p:cNvSpPr/>
              <p:nvPr/>
            </p:nvSpPr>
            <p:spPr>
              <a:xfrm>
                <a:off x="0" y="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Rectangle 6"/>
              <p:cNvSpPr/>
              <p:nvPr/>
            </p:nvSpPr>
            <p:spPr>
              <a:xfrm>
                <a:off x="0" y="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Group 7"/>
            <p:cNvGrpSpPr/>
            <p:nvPr/>
          </p:nvGrpSpPr>
          <p:grpSpPr>
            <a:xfrm>
              <a:off x="0" y="311400"/>
              <a:ext cx="6780960" cy="311400"/>
              <a:chOff x="0" y="311400"/>
              <a:chExt cx="6780960" cy="311400"/>
            </a:xfrm>
          </p:grpSpPr>
          <p:sp>
            <p:nvSpPr>
              <p:cNvPr id="281" name="Rectangle 8"/>
              <p:cNvSpPr/>
              <p:nvPr/>
            </p:nvSpPr>
            <p:spPr>
              <a:xfrm>
                <a:off x="0" y="3114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Rectangle 9"/>
              <p:cNvSpPr/>
              <p:nvPr/>
            </p:nvSpPr>
            <p:spPr>
              <a:xfrm>
                <a:off x="0" y="3114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a pointer to the fir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Group 10"/>
            <p:cNvGrpSpPr/>
            <p:nvPr/>
          </p:nvGrpSpPr>
          <p:grpSpPr>
            <a:xfrm>
              <a:off x="0" y="623160"/>
              <a:ext cx="6780960" cy="311760"/>
              <a:chOff x="0" y="623160"/>
              <a:chExt cx="6780960" cy="311760"/>
            </a:xfrm>
          </p:grpSpPr>
          <p:sp>
            <p:nvSpPr>
              <p:cNvPr id="284" name="Rectangle 11"/>
              <p:cNvSpPr/>
              <p:nvPr/>
            </p:nvSpPr>
            <p:spPr>
              <a:xfrm>
                <a:off x="0" y="62316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Rectangle 12"/>
              <p:cNvSpPr/>
              <p:nvPr/>
            </p:nvSpPr>
            <p:spPr>
              <a:xfrm>
                <a:off x="0" y="62316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 return type prevents caller from modifying privat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Group 13"/>
            <p:cNvGrpSpPr/>
            <p:nvPr/>
          </p:nvGrpSpPr>
          <p:grpSpPr>
            <a:xfrm>
              <a:off x="0" y="934920"/>
              <a:ext cx="6780960" cy="311400"/>
              <a:chOff x="0" y="934920"/>
              <a:chExt cx="6780960" cy="311400"/>
            </a:xfrm>
          </p:grpSpPr>
          <p:sp>
            <p:nvSpPr>
              <p:cNvPr id="287" name="Rectangle 14"/>
              <p:cNvSpPr/>
              <p:nvPr/>
            </p:nvSpPr>
            <p:spPr>
              <a:xfrm>
                <a:off x="0" y="9349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Rectangle 15"/>
              <p:cNvSpPr/>
              <p:nvPr/>
            </p:nvSpPr>
            <p:spPr>
              <a:xfrm>
                <a:off x="0" y="9349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ata. Caller should copy returned string before destructo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Group 16"/>
            <p:cNvGrpSpPr/>
            <p:nvPr/>
          </p:nvGrpSpPr>
          <p:grpSpPr>
            <a:xfrm>
              <a:off x="0" y="1246680"/>
              <a:ext cx="6780960" cy="311400"/>
              <a:chOff x="0" y="1246680"/>
              <a:chExt cx="6780960" cy="311400"/>
            </a:xfrm>
          </p:grpSpPr>
          <p:sp>
            <p:nvSpPr>
              <p:cNvPr id="290" name="Rectangle 17"/>
              <p:cNvSpPr/>
              <p:nvPr/>
            </p:nvSpPr>
            <p:spPr>
              <a:xfrm>
                <a:off x="0" y="12466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Rectangle 18"/>
              <p:cNvSpPr/>
              <p:nvPr/>
            </p:nvSpPr>
            <p:spPr>
              <a:xfrm>
                <a:off x="0" y="12466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letes dynamic storage to prevent undefined poi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19"/>
            <p:cNvGrpSpPr/>
            <p:nvPr/>
          </p:nvGrpSpPr>
          <p:grpSpPr>
            <a:xfrm>
              <a:off x="0" y="1558440"/>
              <a:ext cx="6780960" cy="311400"/>
              <a:chOff x="0" y="1558440"/>
              <a:chExt cx="6780960" cy="311400"/>
            </a:xfrm>
          </p:grpSpPr>
          <p:sp>
            <p:nvSpPr>
              <p:cNvPr id="293" name="Rectangle 20"/>
              <p:cNvSpPr/>
              <p:nvPr/>
            </p:nvSpPr>
            <p:spPr>
              <a:xfrm>
                <a:off x="0" y="15584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Rectangle 21"/>
              <p:cNvSpPr/>
              <p:nvPr/>
            </p:nvSpPr>
            <p:spPr>
              <a:xfrm>
                <a:off x="0" y="15584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Employee::getFir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Group 22"/>
            <p:cNvGrpSpPr/>
            <p:nvPr/>
          </p:nvGrpSpPr>
          <p:grpSpPr>
            <a:xfrm>
              <a:off x="0" y="1870200"/>
              <a:ext cx="6780960" cy="311760"/>
              <a:chOff x="0" y="1870200"/>
              <a:chExt cx="6780960" cy="311760"/>
            </a:xfrm>
          </p:grpSpPr>
          <p:sp>
            <p:nvSpPr>
              <p:cNvPr id="296" name="Rectangle 23"/>
              <p:cNvSpPr/>
              <p:nvPr/>
            </p:nvSpPr>
            <p:spPr>
              <a:xfrm>
                <a:off x="0" y="187020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Rectangle 24"/>
              <p:cNvSpPr/>
              <p:nvPr/>
            </p:nvSpPr>
            <p:spPr>
              <a:xfrm>
                <a:off x="0" y="187020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Group 25"/>
            <p:cNvGrpSpPr/>
            <p:nvPr/>
          </p:nvGrpSpPr>
          <p:grpSpPr>
            <a:xfrm>
              <a:off x="0" y="2181960"/>
              <a:ext cx="6780960" cy="311400"/>
              <a:chOff x="0" y="2181960"/>
              <a:chExt cx="6780960" cy="311400"/>
            </a:xfrm>
          </p:grpSpPr>
          <p:sp>
            <p:nvSpPr>
              <p:cNvPr id="299" name="Rectangle 26"/>
              <p:cNvSpPr/>
              <p:nvPr/>
            </p:nvSpPr>
            <p:spPr>
              <a:xfrm>
                <a:off x="0" y="2181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Rectangle 27"/>
              <p:cNvSpPr/>
              <p:nvPr/>
            </p:nvSpPr>
            <p:spPr>
              <a:xfrm>
                <a:off x="0" y="2181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firstNam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er must delet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Group 28"/>
            <p:cNvGrpSpPr/>
            <p:nvPr/>
          </p:nvGrpSpPr>
          <p:grpSpPr>
            <a:xfrm>
              <a:off x="0" y="2493720"/>
              <a:ext cx="6780960" cy="311400"/>
              <a:chOff x="0" y="2493720"/>
              <a:chExt cx="6780960" cy="311400"/>
            </a:xfrm>
          </p:grpSpPr>
          <p:sp>
            <p:nvSpPr>
              <p:cNvPr id="302" name="Rectangle 29"/>
              <p:cNvSpPr/>
              <p:nvPr/>
            </p:nvSpPr>
            <p:spPr>
              <a:xfrm>
                <a:off x="0" y="24937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Rectangle 30"/>
              <p:cNvSpPr/>
              <p:nvPr/>
            </p:nvSpPr>
            <p:spPr>
              <a:xfrm>
                <a:off x="0" y="24937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Group 31"/>
            <p:cNvGrpSpPr/>
            <p:nvPr/>
          </p:nvGrpSpPr>
          <p:grpSpPr>
            <a:xfrm>
              <a:off x="0" y="2805480"/>
              <a:ext cx="6780960" cy="311400"/>
              <a:chOff x="0" y="2805480"/>
              <a:chExt cx="6780960" cy="311400"/>
            </a:xfrm>
          </p:grpSpPr>
          <p:sp>
            <p:nvSpPr>
              <p:cNvPr id="305" name="Rectangle 32"/>
              <p:cNvSpPr/>
              <p:nvPr/>
            </p:nvSpPr>
            <p:spPr>
              <a:xfrm>
                <a:off x="0" y="2805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Rectangle 33"/>
              <p:cNvSpPr/>
              <p:nvPr/>
            </p:nvSpPr>
            <p:spPr>
              <a:xfrm>
                <a:off x="0" y="2805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34"/>
            <p:cNvGrpSpPr/>
            <p:nvPr/>
          </p:nvGrpSpPr>
          <p:grpSpPr>
            <a:xfrm>
              <a:off x="0" y="3117240"/>
              <a:ext cx="6780960" cy="311760"/>
              <a:chOff x="0" y="3117240"/>
              <a:chExt cx="6780960" cy="311760"/>
            </a:xfrm>
          </p:grpSpPr>
          <p:sp>
            <p:nvSpPr>
              <p:cNvPr id="308" name="Rectangle 35"/>
              <p:cNvSpPr/>
              <p:nvPr/>
            </p:nvSpPr>
            <p:spPr>
              <a:xfrm>
                <a:off x="0" y="311724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Rectangle 36"/>
              <p:cNvSpPr/>
              <p:nvPr/>
            </p:nvSpPr>
            <p:spPr>
              <a:xfrm>
                <a:off x="0" y="311724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a pointer to the la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Group 37"/>
            <p:cNvGrpSpPr/>
            <p:nvPr/>
          </p:nvGrpSpPr>
          <p:grpSpPr>
            <a:xfrm>
              <a:off x="0" y="3429000"/>
              <a:ext cx="6780960" cy="311400"/>
              <a:chOff x="0" y="3429000"/>
              <a:chExt cx="6780960" cy="311400"/>
            </a:xfrm>
          </p:grpSpPr>
          <p:sp>
            <p:nvSpPr>
              <p:cNvPr id="311" name="Rectangle 38"/>
              <p:cNvSpPr/>
              <p:nvPr/>
            </p:nvSpPr>
            <p:spPr>
              <a:xfrm>
                <a:off x="0" y="34290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Rectangle 39"/>
              <p:cNvSpPr/>
              <p:nvPr/>
            </p:nvSpPr>
            <p:spPr>
              <a:xfrm>
                <a:off x="0" y="34290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 return type prevents caller from modifying privat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40"/>
            <p:cNvGrpSpPr/>
            <p:nvPr/>
          </p:nvGrpSpPr>
          <p:grpSpPr>
            <a:xfrm>
              <a:off x="0" y="3740760"/>
              <a:ext cx="6780960" cy="311400"/>
              <a:chOff x="0" y="3740760"/>
              <a:chExt cx="6780960" cy="311400"/>
            </a:xfrm>
          </p:grpSpPr>
          <p:sp>
            <p:nvSpPr>
              <p:cNvPr id="314" name="Rectangle 41"/>
              <p:cNvSpPr/>
              <p:nvPr/>
            </p:nvSpPr>
            <p:spPr>
              <a:xfrm>
                <a:off x="0" y="37407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42"/>
              <p:cNvSpPr/>
              <p:nvPr/>
            </p:nvSpPr>
            <p:spPr>
              <a:xfrm>
                <a:off x="0" y="37407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ata. Caller should copy returned string before destructo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Group 43"/>
            <p:cNvGrpSpPr/>
            <p:nvPr/>
          </p:nvGrpSpPr>
          <p:grpSpPr>
            <a:xfrm>
              <a:off x="0" y="4052520"/>
              <a:ext cx="6780960" cy="311400"/>
              <a:chOff x="0" y="4052520"/>
              <a:chExt cx="6780960" cy="311400"/>
            </a:xfrm>
          </p:grpSpPr>
          <p:sp>
            <p:nvSpPr>
              <p:cNvPr id="317" name="Rectangle 44"/>
              <p:cNvSpPr/>
              <p:nvPr/>
            </p:nvSpPr>
            <p:spPr>
              <a:xfrm>
                <a:off x="0" y="40525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Rectangle 45"/>
              <p:cNvSpPr/>
              <p:nvPr/>
            </p:nvSpPr>
            <p:spPr>
              <a:xfrm>
                <a:off x="0" y="40525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letes dynamic storage to prevent undefined poi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Group 46"/>
            <p:cNvGrpSpPr/>
            <p:nvPr/>
          </p:nvGrpSpPr>
          <p:grpSpPr>
            <a:xfrm>
              <a:off x="0" y="4363920"/>
              <a:ext cx="6780960" cy="311760"/>
              <a:chOff x="0" y="4363920"/>
              <a:chExt cx="6780960" cy="311760"/>
            </a:xfrm>
          </p:grpSpPr>
          <p:sp>
            <p:nvSpPr>
              <p:cNvPr id="320" name="Rectangle 47"/>
              <p:cNvSpPr/>
              <p:nvPr/>
            </p:nvSpPr>
            <p:spPr>
              <a:xfrm>
                <a:off x="0" y="43639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Rectangle 48"/>
              <p:cNvSpPr/>
              <p:nvPr/>
            </p:nvSpPr>
            <p:spPr>
              <a:xfrm>
                <a:off x="0" y="43639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Employee::getLa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Group 49"/>
            <p:cNvGrpSpPr/>
            <p:nvPr/>
          </p:nvGrpSpPr>
          <p:grpSpPr>
            <a:xfrm>
              <a:off x="0" y="4676040"/>
              <a:ext cx="6780960" cy="311400"/>
              <a:chOff x="0" y="4676040"/>
              <a:chExt cx="6780960" cy="311400"/>
            </a:xfrm>
          </p:grpSpPr>
          <p:sp>
            <p:nvSpPr>
              <p:cNvPr id="323" name="Rectangle 50"/>
              <p:cNvSpPr/>
              <p:nvPr/>
            </p:nvSpPr>
            <p:spPr>
              <a:xfrm>
                <a:off x="0" y="46760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51"/>
              <p:cNvSpPr/>
              <p:nvPr/>
            </p:nvSpPr>
            <p:spPr>
              <a:xfrm>
                <a:off x="0" y="46760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Group 52"/>
            <p:cNvGrpSpPr/>
            <p:nvPr/>
          </p:nvGrpSpPr>
          <p:grpSpPr>
            <a:xfrm>
              <a:off x="0" y="4987800"/>
              <a:ext cx="6780960" cy="311400"/>
              <a:chOff x="0" y="4987800"/>
              <a:chExt cx="6780960" cy="311400"/>
            </a:xfrm>
          </p:grpSpPr>
          <p:sp>
            <p:nvSpPr>
              <p:cNvPr id="326" name="Rectangle 53"/>
              <p:cNvSpPr/>
              <p:nvPr/>
            </p:nvSpPr>
            <p:spPr>
              <a:xfrm>
                <a:off x="0" y="49878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Rectangle 54"/>
              <p:cNvSpPr/>
              <p:nvPr/>
            </p:nvSpPr>
            <p:spPr>
              <a:xfrm>
                <a:off x="0" y="49878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lastNam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er must delet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Group 55"/>
            <p:cNvGrpSpPr/>
            <p:nvPr/>
          </p:nvGrpSpPr>
          <p:grpSpPr>
            <a:xfrm>
              <a:off x="0" y="5299200"/>
              <a:ext cx="6780960" cy="311400"/>
              <a:chOff x="0" y="5299200"/>
              <a:chExt cx="6780960" cy="311400"/>
            </a:xfrm>
          </p:grpSpPr>
          <p:sp>
            <p:nvSpPr>
              <p:cNvPr id="329" name="Rectangle 56"/>
              <p:cNvSpPr/>
              <p:nvPr/>
            </p:nvSpPr>
            <p:spPr>
              <a:xfrm>
                <a:off x="0" y="52992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Rectangle 57"/>
              <p:cNvSpPr/>
              <p:nvPr/>
            </p:nvSpPr>
            <p:spPr>
              <a:xfrm>
                <a:off x="0" y="52992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Group 58"/>
            <p:cNvGrpSpPr/>
            <p:nvPr/>
          </p:nvGrpSpPr>
          <p:grpSpPr>
            <a:xfrm>
              <a:off x="0" y="5610960"/>
              <a:ext cx="6780960" cy="311400"/>
              <a:chOff x="0" y="5610960"/>
              <a:chExt cx="6780960" cy="311400"/>
            </a:xfrm>
          </p:grpSpPr>
          <p:sp>
            <p:nvSpPr>
              <p:cNvPr id="332" name="Rectangle 59"/>
              <p:cNvSpPr/>
              <p:nvPr/>
            </p:nvSpPr>
            <p:spPr>
              <a:xfrm>
                <a:off x="0" y="5610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Rectangle 60"/>
              <p:cNvSpPr/>
              <p:nvPr/>
            </p:nvSpPr>
            <p:spPr>
              <a:xfrm>
                <a:off x="0" y="5610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Group 61"/>
            <p:cNvGrpSpPr/>
            <p:nvPr/>
          </p:nvGrpSpPr>
          <p:grpSpPr>
            <a:xfrm>
              <a:off x="0" y="5922720"/>
              <a:ext cx="6780960" cy="311760"/>
              <a:chOff x="0" y="5922720"/>
              <a:chExt cx="6780960" cy="311760"/>
            </a:xfrm>
          </p:grpSpPr>
          <p:sp>
            <p:nvSpPr>
              <p:cNvPr id="335" name="Rectangle 62"/>
              <p:cNvSpPr/>
              <p:nvPr/>
            </p:nvSpPr>
            <p:spPr>
              <a:xfrm>
                <a:off x="0" y="59227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63"/>
              <p:cNvSpPr/>
              <p:nvPr/>
            </p:nvSpPr>
            <p:spPr>
              <a:xfrm>
                <a:off x="0" y="59227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the name of the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Group 64"/>
            <p:cNvGrpSpPr/>
            <p:nvPr/>
          </p:nvGrpSpPr>
          <p:grpSpPr>
            <a:xfrm>
              <a:off x="0" y="6234480"/>
              <a:ext cx="6780960" cy="311400"/>
              <a:chOff x="0" y="6234480"/>
              <a:chExt cx="6780960" cy="311400"/>
            </a:xfrm>
          </p:grpSpPr>
          <p:sp>
            <p:nvSpPr>
              <p:cNvPr id="338" name="Rectangle 65"/>
              <p:cNvSpPr/>
              <p:nvPr/>
            </p:nvSpPr>
            <p:spPr>
              <a:xfrm>
                <a:off x="0" y="6234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Rectangle 66"/>
              <p:cNvSpPr/>
              <p:nvPr/>
            </p:nvSpPr>
            <p:spPr>
              <a:xfrm>
                <a:off x="0" y="6234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Group 67"/>
            <p:cNvGrpSpPr/>
            <p:nvPr/>
          </p:nvGrpSpPr>
          <p:grpSpPr>
            <a:xfrm>
              <a:off x="0" y="6546240"/>
              <a:ext cx="6780960" cy="311400"/>
              <a:chOff x="0" y="6546240"/>
              <a:chExt cx="6780960" cy="311400"/>
            </a:xfrm>
          </p:grpSpPr>
          <p:sp>
            <p:nvSpPr>
              <p:cNvPr id="341" name="Rectangle 68"/>
              <p:cNvSpPr/>
              <p:nvPr/>
            </p:nvSpPr>
            <p:spPr>
              <a:xfrm>
                <a:off x="0" y="65462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Rectangle 69"/>
              <p:cNvSpPr/>
              <p:nvPr/>
            </p:nvSpPr>
            <p:spPr>
              <a:xfrm>
                <a:off x="0" y="65462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cout &lt;&lt; firstName &lt;&lt; ' ' &lt;&lt; lastNam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7:03:25Z</dcterms:created>
  <dc:creator>jason</dc:creator>
  <dc:description/>
  <dc:language>en-US</dc:language>
  <cp:lastModifiedBy>Marcoma'</cp:lastModifiedBy>
  <dcterms:modified xsi:type="dcterms:W3CDTF">2008-06-03T08:49:55Z</dcterms:modified>
  <cp:revision>457</cp:revision>
  <dc:subject/>
  <dc:title>Chapter 1 – Introduction to Computers and C++ Programming</dc:title>
</cp:coreProperties>
</file>