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525E-5E3B-4D4A-B48F-73270524B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1276-4CB0-4B24-B95C-F0F4CA25F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6893-71C5-42C2-AF08-E15911F6D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2724-2270-4CD7-AE3D-9F8316356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4CA2-FA9A-4985-B28A-9EE6DA1E18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CDED-B006-4F6D-8284-D2139BC4FE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C6DB-B5B0-441E-8CF3-19321F8C81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1D0F-8F86-4D0F-9DB1-3FDA103B91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DDD5-E614-4AA9-9EDC-E1FABF6B76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5947-6E7F-49B9-95BF-BE0863822C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E1DB-D876-406D-964E-37B413AE8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3D18-4AAE-4BFB-9DD8-FFAA73599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C845-73B9-4230-91D6-7FB42E1FBB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7A63-3309-4066-903E-EEA9DE213D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299C-840F-4AB2-835B-3DE08C8998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0649-C318-42B6-8552-7773A9C108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EA47-2D3F-48B6-8CED-1ACF4AA7E5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17B4-F2F6-413F-8721-2252B8DAC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2CB0-D5A0-48A8-877E-97B195247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2222-220F-4A1C-8E66-F96FBEC9F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B35C-2E29-4932-961F-3122F3F95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2930-6D3B-4A8E-A9FB-1B1A6DAAF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054D-4928-46DD-88B5-7612AE801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30A2-A572-487E-8D92-3A04F5CE6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9BBA-EC3F-4B04-94A5-78B6F820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432D-EE54-4A9A-A6BD-0D43A0A7D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8CFE-5FB7-4C7E-9F59-3B2E39F8D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9 -Virtual Functio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1295280"/>
            <a:ext cx="86868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vantGarde"/>
              </a:rPr>
              <a:t>Outline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Virtual Functions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Polymorphism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Abstract and Concret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Case Study: A Payroll System Using Polymorphism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Dynamic Binding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768D-B70E-408D-BB97-9B7E6A249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46" name="Group 4"/>
            <p:cNvGrpSpPr/>
            <p:nvPr/>
          </p:nvGrpSpPr>
          <p:grpSpPr>
            <a:xfrm>
              <a:off x="0" y="0"/>
              <a:ext cx="6780960" cy="403200"/>
              <a:chOff x="0" y="0"/>
              <a:chExt cx="6780960" cy="403200"/>
            </a:xfrm>
          </p:grpSpPr>
          <p:sp>
            <p:nvSpPr>
              <p:cNvPr id="347" name="Rectangle 5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6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bos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"/>
            <p:cNvGrpSpPr/>
            <p:nvPr/>
          </p:nvGrpSpPr>
          <p:grpSpPr>
            <a:xfrm>
              <a:off x="0" y="403200"/>
              <a:ext cx="6780960" cy="403200"/>
              <a:chOff x="0" y="403200"/>
              <a:chExt cx="6780960" cy="403200"/>
            </a:xfrm>
          </p:grpSpPr>
          <p:sp>
            <p:nvSpPr>
              <p:cNvPr id="350" name="Rectangle 8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9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oss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10"/>
            <p:cNvGrpSpPr/>
            <p:nvPr/>
          </p:nvGrpSpPr>
          <p:grpSpPr>
            <a:xfrm>
              <a:off x="0" y="806400"/>
              <a:ext cx="6780960" cy="403560"/>
              <a:chOff x="0" y="806400"/>
              <a:chExt cx="6780960" cy="403560"/>
            </a:xfrm>
          </p:grpSpPr>
          <p:sp>
            <p:nvSpPr>
              <p:cNvPr id="353" name="Rectangle 11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12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13"/>
            <p:cNvGrpSpPr/>
            <p:nvPr/>
          </p:nvGrpSpPr>
          <p:grpSpPr>
            <a:xfrm>
              <a:off x="0" y="1210320"/>
              <a:ext cx="6780960" cy="403200"/>
              <a:chOff x="0" y="1210320"/>
              <a:chExt cx="6780960" cy="403200"/>
            </a:xfrm>
          </p:grpSpPr>
          <p:sp>
            <p:nvSpPr>
              <p:cNvPr id="356" name="Rectangle 14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5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16"/>
            <p:cNvGrpSpPr/>
            <p:nvPr/>
          </p:nvGrpSpPr>
          <p:grpSpPr>
            <a:xfrm>
              <a:off x="0" y="1613520"/>
              <a:ext cx="6780960" cy="403200"/>
              <a:chOff x="0" y="1613520"/>
              <a:chExt cx="6780960" cy="403200"/>
            </a:xfrm>
          </p:grpSpPr>
          <p:sp>
            <p:nvSpPr>
              <p:cNvPr id="359" name="Rectangle 17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18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19"/>
            <p:cNvGrpSpPr/>
            <p:nvPr/>
          </p:nvGrpSpPr>
          <p:grpSpPr>
            <a:xfrm>
              <a:off x="0" y="2016720"/>
              <a:ext cx="6780960" cy="403200"/>
              <a:chOff x="0" y="2016720"/>
              <a:chExt cx="6780960" cy="403200"/>
            </a:xfrm>
          </p:grpSpPr>
          <p:sp>
            <p:nvSpPr>
              <p:cNvPr id="362" name="Rectangle 20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21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22"/>
            <p:cNvGrpSpPr/>
            <p:nvPr/>
          </p:nvGrpSpPr>
          <p:grpSpPr>
            <a:xfrm>
              <a:off x="0" y="2420280"/>
              <a:ext cx="6780960" cy="403560"/>
              <a:chOff x="0" y="2420280"/>
              <a:chExt cx="6780960" cy="403560"/>
            </a:xfrm>
          </p:grpSpPr>
          <p:sp>
            <p:nvSpPr>
              <p:cNvPr id="365" name="Rectangle 23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24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 : public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25"/>
            <p:cNvGrpSpPr/>
            <p:nvPr/>
          </p:nvGrpSpPr>
          <p:grpSpPr>
            <a:xfrm>
              <a:off x="0" y="2823840"/>
              <a:ext cx="6780960" cy="403200"/>
              <a:chOff x="0" y="2823840"/>
              <a:chExt cx="6780960" cy="403200"/>
            </a:xfrm>
          </p:grpSpPr>
          <p:sp>
            <p:nvSpPr>
              <p:cNvPr id="368" name="Rectangle 26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27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28"/>
            <p:cNvGrpSpPr/>
            <p:nvPr/>
          </p:nvGrpSpPr>
          <p:grpSpPr>
            <a:xfrm>
              <a:off x="0" y="3227040"/>
              <a:ext cx="6780960" cy="403200"/>
              <a:chOff x="0" y="3227040"/>
              <a:chExt cx="6780960" cy="403200"/>
            </a:xfrm>
          </p:grpSpPr>
          <p:sp>
            <p:nvSpPr>
              <p:cNvPr id="371" name="Rectangle 29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30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31"/>
            <p:cNvGrpSpPr/>
            <p:nvPr/>
          </p:nvGrpSpPr>
          <p:grpSpPr>
            <a:xfrm>
              <a:off x="0" y="3630600"/>
              <a:ext cx="6780960" cy="403200"/>
              <a:chOff x="0" y="3630600"/>
              <a:chExt cx="6780960" cy="403200"/>
            </a:xfrm>
          </p:grpSpPr>
          <p:sp>
            <p:nvSpPr>
              <p:cNvPr id="374" name="Rectangle 32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33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eeklySalary( doubl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34"/>
            <p:cNvGrpSpPr/>
            <p:nvPr/>
          </p:nvGrpSpPr>
          <p:grpSpPr>
            <a:xfrm>
              <a:off x="0" y="4033800"/>
              <a:ext cx="6780960" cy="403560"/>
              <a:chOff x="0" y="4033800"/>
              <a:chExt cx="6780960" cy="403560"/>
            </a:xfrm>
          </p:grpSpPr>
          <p:sp>
            <p:nvSpPr>
              <p:cNvPr id="377" name="Rectangle 35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36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37"/>
            <p:cNvGrpSpPr/>
            <p:nvPr/>
          </p:nvGrpSpPr>
          <p:grpSpPr>
            <a:xfrm>
              <a:off x="0" y="4437360"/>
              <a:ext cx="6780960" cy="403200"/>
              <a:chOff x="0" y="4437360"/>
              <a:chExt cx="6780960" cy="403200"/>
            </a:xfrm>
          </p:grpSpPr>
          <p:sp>
            <p:nvSpPr>
              <p:cNvPr id="380" name="Rectangle 38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39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40"/>
            <p:cNvGrpSpPr/>
            <p:nvPr/>
          </p:nvGrpSpPr>
          <p:grpSpPr>
            <a:xfrm>
              <a:off x="0" y="4840920"/>
              <a:ext cx="6780960" cy="403200"/>
              <a:chOff x="0" y="4840920"/>
              <a:chExt cx="6780960" cy="403200"/>
            </a:xfrm>
          </p:grpSpPr>
          <p:sp>
            <p:nvSpPr>
              <p:cNvPr id="383" name="Rectangle 41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42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43"/>
            <p:cNvGrpSpPr/>
            <p:nvPr/>
          </p:nvGrpSpPr>
          <p:grpSpPr>
            <a:xfrm>
              <a:off x="0" y="5244120"/>
              <a:ext cx="6780960" cy="403200"/>
              <a:chOff x="0" y="5244120"/>
              <a:chExt cx="6780960" cy="403200"/>
            </a:xfrm>
          </p:grpSpPr>
          <p:sp>
            <p:nvSpPr>
              <p:cNvPr id="386" name="Rectangle 44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45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eeklySalary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46"/>
            <p:cNvGrpSpPr/>
            <p:nvPr/>
          </p:nvGrpSpPr>
          <p:grpSpPr>
            <a:xfrm>
              <a:off x="0" y="5647680"/>
              <a:ext cx="6780960" cy="403560"/>
              <a:chOff x="0" y="5647680"/>
              <a:chExt cx="6780960" cy="403560"/>
            </a:xfrm>
          </p:grpSpPr>
          <p:sp>
            <p:nvSpPr>
              <p:cNvPr id="389" name="Rectangle 47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48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49"/>
            <p:cNvGrpSpPr/>
            <p:nvPr/>
          </p:nvGrpSpPr>
          <p:grpSpPr>
            <a:xfrm>
              <a:off x="0" y="6051240"/>
              <a:ext cx="6780960" cy="403200"/>
              <a:chOff x="0" y="6051240"/>
              <a:chExt cx="6780960" cy="403200"/>
            </a:xfrm>
          </p:grpSpPr>
          <p:sp>
            <p:nvSpPr>
              <p:cNvPr id="392" name="Rectangle 50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51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52"/>
            <p:cNvGrpSpPr/>
            <p:nvPr/>
          </p:nvGrpSpPr>
          <p:grpSpPr>
            <a:xfrm>
              <a:off x="0" y="6454440"/>
              <a:ext cx="6780960" cy="403200"/>
              <a:chOff x="0" y="6454440"/>
              <a:chExt cx="6780960" cy="403200"/>
            </a:xfrm>
          </p:grpSpPr>
          <p:sp>
            <p:nvSpPr>
              <p:cNvPr id="395" name="Rectangle 53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54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7153-E218-4429-AF31-99579B340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00" name="Group 4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401" name="Rectangle 5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6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bos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7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404" name="Rectangle 8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9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407" name="Rectangle 11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2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410" name="Rectangle 14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15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413" name="Rectangle 17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8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416" name="Rectangle 20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Rectangle 21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2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419" name="Rectangle 23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24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422" name="Rectangle 26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27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8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425" name="Rectangle 29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30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31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428" name="Rectangle 32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33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oss::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431" name="Rectangle 35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36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37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434" name="Rectangle 38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39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WeeklySalary( s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Group 40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437" name="Rectangle 41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Rectangle 42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43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440" name="Rectangle 44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45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Boss's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46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443" name="Rectangle 47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48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setWeekly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49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446" name="Rectangle 50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Rectangle 51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eekly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52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449" name="Rectangle 53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54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Group 55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452" name="Rectangle 56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57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Boss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Group 58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455" name="Rectangle 59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60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eeklySalar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61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458" name="Rectangle 62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63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64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461" name="Rectangle 65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66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Boss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Group 67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464" name="Rectangle 68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69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oss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Group 70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467" name="Rectangle 71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72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73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470" name="Rectangle 74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75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         Bos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76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473" name="Rectangle 77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78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9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476" name="Rectangle 80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Rectangle 81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Group 86"/>
          <p:cNvGrpSpPr/>
          <p:nvPr/>
        </p:nvGrpSpPr>
        <p:grpSpPr>
          <a:xfrm>
            <a:off x="2361960" y="3733920"/>
            <a:ext cx="5029560" cy="2361960"/>
            <a:chOff x="2361960" y="3733920"/>
            <a:chExt cx="5029560" cy="2361960"/>
          </a:xfrm>
        </p:grpSpPr>
        <p:grpSp>
          <p:nvGrpSpPr>
            <p:cNvPr id="479" name="Group 84"/>
            <p:cNvGrpSpPr/>
            <p:nvPr/>
          </p:nvGrpSpPr>
          <p:grpSpPr>
            <a:xfrm>
              <a:off x="2819160" y="3733920"/>
              <a:ext cx="4572360" cy="1681200"/>
              <a:chOff x="2819160" y="3733920"/>
              <a:chExt cx="4572360" cy="1681200"/>
            </a:xfrm>
          </p:grpSpPr>
          <p:sp>
            <p:nvSpPr>
              <p:cNvPr id="480" name="Text Box 82"/>
              <p:cNvSpPr/>
              <p:nvPr/>
            </p:nvSpPr>
            <p:spPr>
              <a:xfrm>
                <a:off x="5334120" y="373392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Line 83"/>
              <p:cNvSpPr/>
              <p:nvPr/>
            </p:nvSpPr>
            <p:spPr>
              <a:xfrm flipH="1">
                <a:off x="2819160" y="40384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Line 85"/>
            <p:cNvSpPr/>
            <p:nvPr/>
          </p:nvSpPr>
          <p:spPr>
            <a:xfrm flipH="1">
              <a:off x="2361960" y="403848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0F4B-1234-4F30-8FB1-DC29232A6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6" name="Group 4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7" name="Rectangle 5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6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commi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90" name="Rectangle 8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9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mmission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10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93" name="Rectangle 11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12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13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6" name="Rectangle 14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15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6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9" name="Rectangle 17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18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19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502" name="Rectangle 20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21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22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5" name="Rectangle 23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24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5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8" name="Rectangle 26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27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8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11" name="Rectangle 29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30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31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4" name="Rectangle 32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33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34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7" name="Rectangle 35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36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37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20" name="Rectangle 38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39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40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23" name="Rectangle 41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42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43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6" name="Rectangle 44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45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46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9" name="Rectangle 47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48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49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32" name="Rectangle 50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51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52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5" name="Rectangle 53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54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55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8" name="Rectangle 56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57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alar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ase salary pe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58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41" name="Rectangle 59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60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mount per item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61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4" name="Rectangle 62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63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tal items sol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64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7" name="Rectangle 65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66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67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50" name="Rectangle 68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69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70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53" name="Rectangle 71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72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7D6E-A8CB-4EE2-AA4C-209BDE2F8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58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559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commi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562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565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568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571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574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577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580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583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586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ommissionWorker::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589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592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595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598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alary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601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Commission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604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607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610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613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weekly base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616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619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F27D-77AF-40E5-A212-42B428D8D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24" name="Group 4"/>
            <p:cNvGrpSpPr/>
            <p:nvPr/>
          </p:nvGrpSpPr>
          <p:grpSpPr>
            <a:xfrm>
              <a:off x="0" y="0"/>
              <a:ext cx="6780960" cy="360720"/>
              <a:chOff x="0" y="0"/>
              <a:chExt cx="6780960" cy="360720"/>
            </a:xfrm>
          </p:grpSpPr>
          <p:sp>
            <p:nvSpPr>
              <p:cNvPr id="625" name="Rectangle 5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7"/>
            <p:cNvGrpSpPr/>
            <p:nvPr/>
          </p:nvGrpSpPr>
          <p:grpSpPr>
            <a:xfrm>
              <a:off x="0" y="360720"/>
              <a:ext cx="6780960" cy="360720"/>
              <a:chOff x="0" y="360720"/>
              <a:chExt cx="6780960" cy="360720"/>
            </a:xfrm>
          </p:grpSpPr>
          <p:sp>
            <p:nvSpPr>
              <p:cNvPr id="628" name="Rectangle 8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commi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10"/>
            <p:cNvGrpSpPr/>
            <p:nvPr/>
          </p:nvGrpSpPr>
          <p:grpSpPr>
            <a:xfrm>
              <a:off x="0" y="721800"/>
              <a:ext cx="6780960" cy="361080"/>
              <a:chOff x="0" y="721800"/>
              <a:chExt cx="6780960" cy="361080"/>
            </a:xfrm>
          </p:grpSpPr>
          <p:sp>
            <p:nvSpPr>
              <p:cNvPr id="631" name="Rectangle 11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2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13"/>
            <p:cNvGrpSpPr/>
            <p:nvPr/>
          </p:nvGrpSpPr>
          <p:grpSpPr>
            <a:xfrm>
              <a:off x="0" y="1082880"/>
              <a:ext cx="6780960" cy="360720"/>
              <a:chOff x="0" y="1082880"/>
              <a:chExt cx="6780960" cy="360720"/>
            </a:xfrm>
          </p:grpSpPr>
          <p:sp>
            <p:nvSpPr>
              <p:cNvPr id="634" name="Rectangle 14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5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mmission = c &gt; 0 ? c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6"/>
            <p:cNvGrpSpPr/>
            <p:nvPr/>
          </p:nvGrpSpPr>
          <p:grpSpPr>
            <a:xfrm>
              <a:off x="0" y="1443600"/>
              <a:ext cx="6780960" cy="360720"/>
              <a:chOff x="0" y="1443600"/>
              <a:chExt cx="6780960" cy="360720"/>
            </a:xfrm>
          </p:grpSpPr>
          <p:sp>
            <p:nvSpPr>
              <p:cNvPr id="637" name="Rectangle 17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8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19"/>
            <p:cNvGrpSpPr/>
            <p:nvPr/>
          </p:nvGrpSpPr>
          <p:grpSpPr>
            <a:xfrm>
              <a:off x="0" y="1804680"/>
              <a:ext cx="6780960" cy="360720"/>
              <a:chOff x="0" y="1804680"/>
              <a:chExt cx="6780960" cy="360720"/>
            </a:xfrm>
          </p:grpSpPr>
          <p:sp>
            <p:nvSpPr>
              <p:cNvPr id="640" name="Rectangle 20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1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mmissionWorker's quantity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2"/>
            <p:cNvGrpSpPr/>
            <p:nvPr/>
          </p:nvGrpSpPr>
          <p:grpSpPr>
            <a:xfrm>
              <a:off x="0" y="2165400"/>
              <a:ext cx="6780960" cy="361080"/>
              <a:chOff x="0" y="2165400"/>
              <a:chExt cx="6780960" cy="361080"/>
            </a:xfrm>
          </p:grpSpPr>
          <p:sp>
            <p:nvSpPr>
              <p:cNvPr id="643" name="Rectangle 23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4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25"/>
            <p:cNvGrpSpPr/>
            <p:nvPr/>
          </p:nvGrpSpPr>
          <p:grpSpPr>
            <a:xfrm>
              <a:off x="0" y="2526480"/>
              <a:ext cx="6780960" cy="360720"/>
              <a:chOff x="0" y="2526480"/>
              <a:chExt cx="6780960" cy="360720"/>
            </a:xfrm>
          </p:grpSpPr>
          <p:sp>
            <p:nvSpPr>
              <p:cNvPr id="646" name="Rectangle 26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27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8"/>
            <p:cNvGrpSpPr/>
            <p:nvPr/>
          </p:nvGrpSpPr>
          <p:grpSpPr>
            <a:xfrm>
              <a:off x="0" y="2887560"/>
              <a:ext cx="6780960" cy="360720"/>
              <a:chOff x="0" y="2887560"/>
              <a:chExt cx="6780960" cy="360720"/>
            </a:xfrm>
          </p:grpSpPr>
          <p:sp>
            <p:nvSpPr>
              <p:cNvPr id="649" name="Rectangle 29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30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31"/>
            <p:cNvGrpSpPr/>
            <p:nvPr/>
          </p:nvGrpSpPr>
          <p:grpSpPr>
            <a:xfrm>
              <a:off x="0" y="3248280"/>
              <a:ext cx="6780960" cy="360720"/>
              <a:chOff x="0" y="3248280"/>
              <a:chExt cx="6780960" cy="360720"/>
            </a:xfrm>
          </p:grpSpPr>
          <p:sp>
            <p:nvSpPr>
              <p:cNvPr id="652" name="Rectangle 32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33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termine Commission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4"/>
            <p:cNvGrpSpPr/>
            <p:nvPr/>
          </p:nvGrpSpPr>
          <p:grpSpPr>
            <a:xfrm>
              <a:off x="0" y="3609360"/>
              <a:ext cx="6780960" cy="361080"/>
              <a:chOff x="0" y="3609360"/>
              <a:chExt cx="6780960" cy="361080"/>
            </a:xfrm>
          </p:grpSpPr>
          <p:sp>
            <p:nvSpPr>
              <p:cNvPr id="655" name="Rectangle 35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36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37"/>
            <p:cNvGrpSpPr/>
            <p:nvPr/>
          </p:nvGrpSpPr>
          <p:grpSpPr>
            <a:xfrm>
              <a:off x="0" y="3970440"/>
              <a:ext cx="6780960" cy="360720"/>
              <a:chOff x="0" y="3970440"/>
              <a:chExt cx="6780960" cy="360720"/>
            </a:xfrm>
          </p:grpSpPr>
          <p:sp>
            <p:nvSpPr>
              <p:cNvPr id="658" name="Rectangle 38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39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alary + commission * quantit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0"/>
            <p:cNvGrpSpPr/>
            <p:nvPr/>
          </p:nvGrpSpPr>
          <p:grpSpPr>
            <a:xfrm>
              <a:off x="0" y="4331520"/>
              <a:ext cx="6780960" cy="360720"/>
              <a:chOff x="0" y="4331520"/>
              <a:chExt cx="6780960" cy="360720"/>
            </a:xfrm>
          </p:grpSpPr>
          <p:sp>
            <p:nvSpPr>
              <p:cNvPr id="661" name="Rectangle 41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42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43"/>
            <p:cNvGrpSpPr/>
            <p:nvPr/>
          </p:nvGrpSpPr>
          <p:grpSpPr>
            <a:xfrm>
              <a:off x="0" y="4692240"/>
              <a:ext cx="6780960" cy="360720"/>
              <a:chOff x="0" y="4692240"/>
              <a:chExt cx="6780960" cy="360720"/>
            </a:xfrm>
          </p:grpSpPr>
          <p:sp>
            <p:nvSpPr>
              <p:cNvPr id="664" name="Rectangle 44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45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Commission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6"/>
            <p:cNvGrpSpPr/>
            <p:nvPr/>
          </p:nvGrpSpPr>
          <p:grpSpPr>
            <a:xfrm>
              <a:off x="0" y="5053320"/>
              <a:ext cx="6780960" cy="361080"/>
              <a:chOff x="0" y="5053320"/>
              <a:chExt cx="6780960" cy="361080"/>
            </a:xfrm>
          </p:grpSpPr>
          <p:sp>
            <p:nvSpPr>
              <p:cNvPr id="667" name="Rectangle 47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48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mmission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49"/>
            <p:cNvGrpSpPr/>
            <p:nvPr/>
          </p:nvGrpSpPr>
          <p:grpSpPr>
            <a:xfrm>
              <a:off x="0" y="5414400"/>
              <a:ext cx="6780960" cy="360720"/>
              <a:chOff x="0" y="5414400"/>
              <a:chExt cx="6780960" cy="360720"/>
            </a:xfrm>
          </p:grpSpPr>
          <p:sp>
            <p:nvSpPr>
              <p:cNvPr id="670" name="Rectangle 50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51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2"/>
            <p:cNvGrpSpPr/>
            <p:nvPr/>
          </p:nvGrpSpPr>
          <p:grpSpPr>
            <a:xfrm>
              <a:off x="0" y="5775120"/>
              <a:ext cx="6780960" cy="360720"/>
              <a:chOff x="0" y="5775120"/>
              <a:chExt cx="6780960" cy="360720"/>
            </a:xfrm>
          </p:grpSpPr>
          <p:sp>
            <p:nvSpPr>
              <p:cNvPr id="673" name="Rectangle 53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54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Commission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5"/>
            <p:cNvGrpSpPr/>
            <p:nvPr/>
          </p:nvGrpSpPr>
          <p:grpSpPr>
            <a:xfrm>
              <a:off x="0" y="6136200"/>
              <a:ext cx="6780960" cy="360720"/>
              <a:chOff x="0" y="6136200"/>
              <a:chExt cx="6780960" cy="360720"/>
            </a:xfrm>
          </p:grpSpPr>
          <p:sp>
            <p:nvSpPr>
              <p:cNvPr id="676" name="Rectangle 56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7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8"/>
            <p:cNvGrpSpPr/>
            <p:nvPr/>
          </p:nvGrpSpPr>
          <p:grpSpPr>
            <a:xfrm>
              <a:off x="0" y="6496920"/>
              <a:ext cx="6780960" cy="360720"/>
              <a:chOff x="0" y="6496920"/>
              <a:chExt cx="6780960" cy="36072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60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1" name="Group 61"/>
          <p:cNvGrpSpPr/>
          <p:nvPr/>
        </p:nvGrpSpPr>
        <p:grpSpPr>
          <a:xfrm>
            <a:off x="3276360" y="2666880"/>
            <a:ext cx="5029560" cy="2361960"/>
            <a:chOff x="3276360" y="2666880"/>
            <a:chExt cx="5029560" cy="2361960"/>
          </a:xfrm>
        </p:grpSpPr>
        <p:grpSp>
          <p:nvGrpSpPr>
            <p:cNvPr id="682" name="Group 62"/>
            <p:cNvGrpSpPr/>
            <p:nvPr/>
          </p:nvGrpSpPr>
          <p:grpSpPr>
            <a:xfrm>
              <a:off x="3733560" y="2666880"/>
              <a:ext cx="4572360" cy="1681200"/>
              <a:chOff x="3733560" y="2666880"/>
              <a:chExt cx="4572360" cy="1681200"/>
            </a:xfrm>
          </p:grpSpPr>
          <p:sp>
            <p:nvSpPr>
              <p:cNvPr id="683" name="Text Box 63"/>
              <p:cNvSpPr/>
              <p:nvPr/>
            </p:nvSpPr>
            <p:spPr>
              <a:xfrm>
                <a:off x="6248520" y="266688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64"/>
              <p:cNvSpPr/>
              <p:nvPr/>
            </p:nvSpPr>
            <p:spPr>
              <a:xfrm flipH="1">
                <a:off x="3733560" y="297144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Line 65"/>
            <p:cNvSpPr/>
            <p:nvPr/>
          </p:nvSpPr>
          <p:spPr>
            <a:xfrm flipH="1">
              <a:off x="3276360" y="297144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C325-35D3-4665-B6E3-05A033F1B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89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690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piec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693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iece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696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699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702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05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08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11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14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17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20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723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726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729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732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735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PerPiec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age for each piece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738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741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744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747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10EE-C40A-4042-AA41-BBDA78333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52" name="Group 4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753" name="Rectangle 5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6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piec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7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756" name="Rectangle 8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9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10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759" name="Rectangle 11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12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13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762" name="Rectangle 14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15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16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765" name="Rectangle 17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18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19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768" name="Rectangle 20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21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22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771" name="Rectangle 23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24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25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774" name="Rectangle 26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27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28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777" name="Rectangle 29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30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31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780" name="Rectangle 32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33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ieceWorker::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34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783" name="Rectangle 35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36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37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786" name="Rectangle 38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39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40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789" name="Rectangle 41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42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43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792" name="Rectangle 44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45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46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795" name="Rectangle 47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48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49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798" name="Rectangle 50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51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52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801" name="Rectangle 53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54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55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804" name="Rectangle 56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57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58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807" name="Rectangle 59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60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61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810" name="Rectangle 62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63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agePerPiec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64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813" name="Rectangle 65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66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67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816" name="Rectangle 68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69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number of items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70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819" name="Rectangle 71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72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73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822" name="Rectangle 74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75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76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825" name="Rectangle 77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78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79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828" name="Rectangle 80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81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termine the Piece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Group 82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831" name="Rectangle 83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84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Group 85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834" name="Rectangle 86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Rectangle 87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quantity * wagePerPiec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Group 88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837" name="Rectangle 89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Rectangle 90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91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840" name="Rectangle 92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93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Piece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94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843" name="Rectangle 95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96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iece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Group 97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846" name="Rectangle 98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99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Group 100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849" name="Rectangle 101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Rectangle 102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 Piece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Group 103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852" name="Rectangle 104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Rectangle 105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06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855" name="Rectangle 107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108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Group 114"/>
          <p:cNvGrpSpPr/>
          <p:nvPr/>
        </p:nvGrpSpPr>
        <p:grpSpPr>
          <a:xfrm>
            <a:off x="3352320" y="4191120"/>
            <a:ext cx="5029560" cy="1924560"/>
            <a:chOff x="3352320" y="4191120"/>
            <a:chExt cx="5029560" cy="1924560"/>
          </a:xfrm>
        </p:grpSpPr>
        <p:grpSp>
          <p:nvGrpSpPr>
            <p:cNvPr id="858" name="Group 110"/>
            <p:cNvGrpSpPr/>
            <p:nvPr/>
          </p:nvGrpSpPr>
          <p:grpSpPr>
            <a:xfrm>
              <a:off x="3809520" y="4191120"/>
              <a:ext cx="4572360" cy="1924560"/>
              <a:chOff x="3809520" y="4191120"/>
              <a:chExt cx="4572360" cy="1924560"/>
            </a:xfrm>
          </p:grpSpPr>
          <p:sp>
            <p:nvSpPr>
              <p:cNvPr id="859" name="Text Box 111"/>
              <p:cNvSpPr/>
              <p:nvPr/>
            </p:nvSpPr>
            <p:spPr>
              <a:xfrm>
                <a:off x="6324480" y="4191120"/>
                <a:ext cx="205740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gain, notice the overrid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Line 112"/>
              <p:cNvSpPr/>
              <p:nvPr/>
            </p:nvSpPr>
            <p:spPr>
              <a:xfrm flipH="1">
                <a:off x="3809520" y="44956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Line 113"/>
            <p:cNvSpPr/>
            <p:nvPr/>
          </p:nvSpPr>
          <p:spPr>
            <a:xfrm flipH="1">
              <a:off x="3352320" y="449568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" dur="1" fill="hold"/>
                                  <p:tgtEl>
                                    <p:spTgt spid="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2D16-DB11-4F93-BACB-916062882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Worker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65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866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hour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869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872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875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878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881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884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887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890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893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.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896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99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902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905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911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914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s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917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920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923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A072-D680-48FE-A788-61D1AF0D6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8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29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hour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32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35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38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41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44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47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50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53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56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59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62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965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968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971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974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s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977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980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983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986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989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wag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13CE-C51F-432B-8AE3-AC4BC6079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94" name="Group 4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995" name="Rectangle 5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6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7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998" name="Rectangle 8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9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s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Group 10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1001" name="Rectangle 11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Rectangle 12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Group 13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1004" name="Rectangle 14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15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ours = h &gt;= 0 &amp;&amp; h &lt; 168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Group 16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1007" name="Rectangle 17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Rectangle 18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19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010" name="Rectangle 20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21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22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1013" name="Rectangle 23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Rectangle 24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Group 25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1016" name="Rectangle 26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27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28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1019" name="Rectangle 29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Rectangle 30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hours &lt;= 4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 over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Group 31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1022" name="Rectangle 32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33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wage * hour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Group 34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1025" name="Rectangle 35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36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vertime is paid at wage * 1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Group 37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1028" name="Rectangle 38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39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40 * wage + ( hours - 40 ) * wage * 1.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Group 40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1031" name="Rectangle 41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42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43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1034" name="Rectangle 44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45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46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1037" name="Rectangle 47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48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Hourly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49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1040" name="Rectangle 50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51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52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1043" name="Rectangle 53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54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55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1046" name="Rectangle 56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57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    Hourly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58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1049" name="Rectangle 59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60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61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1052" name="Rectangle 62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63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4" name="Group 67"/>
          <p:cNvGrpSpPr/>
          <p:nvPr/>
        </p:nvGrpSpPr>
        <p:grpSpPr>
          <a:xfrm>
            <a:off x="2971440" y="2362320"/>
            <a:ext cx="4572360" cy="2361960"/>
            <a:chOff x="2971440" y="2362320"/>
            <a:chExt cx="4572360" cy="2361960"/>
          </a:xfrm>
        </p:grpSpPr>
        <p:sp>
          <p:nvSpPr>
            <p:cNvPr id="1055" name="Text Box 64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ridden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65"/>
            <p:cNvSpPr/>
            <p:nvPr/>
          </p:nvSpPr>
          <p:spPr>
            <a:xfrm flipH="1" flipV="1">
              <a:off x="3428640" y="23623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66"/>
            <p:cNvSpPr/>
            <p:nvPr/>
          </p:nvSpPr>
          <p:spPr>
            <a:xfrm flipH="1">
              <a:off x="2971440" y="2819520"/>
              <a:ext cx="21337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CD2E-40F3-4B2F-802D-1CC3C0FB4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a set of shape classe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shape has own unique draw function but possible to call them by call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f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ynamically (i.e., at run time) which to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base-class decl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of th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function prototype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ase-class pointer to a derived class object will call the corr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derived class does not defin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the function is inherited from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CF3D-C861-44D8-A78F-4989A37F4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61" name="Group 4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062" name="Rectangle 5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6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fig10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Group 7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065" name="Rectangle 8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9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Employee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10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068" name="Rectangle 11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12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Group 13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071" name="Rectangle 14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15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Group 16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074" name="Rectangle 17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Rectangle 18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Group 19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077" name="Rectangle 20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Rectangle 21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Group 22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080" name="Rectangle 23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Rectangle 24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Group 25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083" name="Rectangle 26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27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Group 28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086" name="Rectangle 29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Rectangle 30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Group 31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089" name="Rectangle 32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33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Group 34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092" name="Rectangle 35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36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37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095" name="Rectangle 38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39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Group 40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098" name="Rectangle 41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42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Group 43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101" name="Rectangle 44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45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Group 46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104" name="Rectangle 47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Rectangle 48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Group 49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107" name="Rectangle 50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Rectangle 51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Group 52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110" name="Rectangle 53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Rectangle 54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Group 55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113" name="Rectangle 56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57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58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116" name="Rectangle 59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60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Group 61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119" name="Rectangle 62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63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64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122" name="Rectangle 65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66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67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125" name="Rectangle 68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69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70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128" name="Rectangle 71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72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73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131" name="Rectangle 74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75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Group 76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134" name="Rectangle 77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78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output format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79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137" name="Rectangle 80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81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82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140" name="Rectangle 83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84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85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143" name="Rectangle 86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87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8CF7-90DC-474A-AAA1-802F41FC4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48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49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oss b( "John", "Smith", 80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52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55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58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61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64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67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mmissionWorker c( "Sue", "Jones", 200.0, 3.0, 1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70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print();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73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c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76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79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82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85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ieceWorker p( "Bob", "Lewis", 2.5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88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91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p.earning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94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p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97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p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200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203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lyWorker h( "Karen", "Price", 13.75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206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.print();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209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h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12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Pointer( &amp;h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15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irtualViaReference( h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18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21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return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24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27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30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33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36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39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42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45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aseClassPtr-&gt;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48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0" name="Rectangle 106"/>
          <p:cNvSpPr/>
          <p:nvPr/>
        </p:nvSpPr>
        <p:spPr>
          <a:xfrm>
            <a:off x="3826080" y="968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Group 109"/>
          <p:cNvGrpSpPr/>
          <p:nvPr/>
        </p:nvGrpSpPr>
        <p:grpSpPr>
          <a:xfrm>
            <a:off x="3429000" y="609120"/>
            <a:ext cx="4647960" cy="871200"/>
            <a:chOff x="3429000" y="609120"/>
            <a:chExt cx="4647960" cy="871200"/>
          </a:xfrm>
        </p:grpSpPr>
        <p:sp>
          <p:nvSpPr>
            <p:cNvPr id="1252" name="Text Box 107"/>
            <p:cNvSpPr/>
            <p:nvPr/>
          </p:nvSpPr>
          <p:spPr>
            <a:xfrm>
              <a:off x="4280760" y="1143000"/>
              <a:ext cx="379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Line 108"/>
            <p:cNvSpPr/>
            <p:nvPr/>
          </p:nvSpPr>
          <p:spPr>
            <a:xfrm flipH="1" flipV="1">
              <a:off x="3429000" y="609120"/>
              <a:ext cx="85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Group 112"/>
          <p:cNvGrpSpPr/>
          <p:nvPr/>
        </p:nvGrpSpPr>
        <p:grpSpPr>
          <a:xfrm>
            <a:off x="2590920" y="838080"/>
            <a:ext cx="5029200" cy="2032920"/>
            <a:chOff x="2590920" y="838080"/>
            <a:chExt cx="5029200" cy="2032920"/>
          </a:xfrm>
        </p:grpSpPr>
        <p:sp>
          <p:nvSpPr>
            <p:cNvPr id="1255" name="Text Box 110"/>
            <p:cNvSpPr/>
            <p:nvPr/>
          </p:nvSpPr>
          <p:spPr>
            <a:xfrm>
              <a:off x="4267080" y="1676520"/>
              <a:ext cx="335304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a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111"/>
            <p:cNvSpPr/>
            <p:nvPr/>
          </p:nvSpPr>
          <p:spPr>
            <a:xfrm flipH="1" flipV="1">
              <a:off x="25909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Group 116"/>
          <p:cNvGrpSpPr/>
          <p:nvPr/>
        </p:nvGrpSpPr>
        <p:grpSpPr>
          <a:xfrm>
            <a:off x="1905120" y="1066320"/>
            <a:ext cx="5638680" cy="3117600"/>
            <a:chOff x="1905120" y="1066320"/>
            <a:chExt cx="5638680" cy="3117600"/>
          </a:xfrm>
        </p:grpSpPr>
        <p:sp>
          <p:nvSpPr>
            <p:cNvPr id="1258" name="Text Box 114"/>
            <p:cNvSpPr/>
            <p:nvPr/>
          </p:nvSpPr>
          <p:spPr>
            <a:xfrm>
              <a:off x="4191120" y="2989440"/>
              <a:ext cx="335268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using a base-class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115"/>
            <p:cNvSpPr/>
            <p:nvPr/>
          </p:nvSpPr>
          <p:spPr>
            <a:xfrm flipH="1" flipV="1">
              <a:off x="1905120" y="1066320"/>
              <a:ext cx="22860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Rectangle 117"/>
          <p:cNvSpPr/>
          <p:nvPr/>
        </p:nvSpPr>
        <p:spPr>
          <a:xfrm>
            <a:off x="3978720" y="60948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18"/>
          <p:cNvSpPr/>
          <p:nvPr/>
        </p:nvSpPr>
        <p:spPr>
          <a:xfrm>
            <a:off x="3978720" y="10112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119"/>
          <p:cNvSpPr/>
          <p:nvPr/>
        </p:nvSpPr>
        <p:spPr>
          <a:xfrm>
            <a:off x="4114800" y="16765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120"/>
          <p:cNvSpPr/>
          <p:nvPr/>
        </p:nvSpPr>
        <p:spPr>
          <a:xfrm>
            <a:off x="4114800" y="27432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121"/>
          <p:cNvSpPr/>
          <p:nvPr/>
        </p:nvSpPr>
        <p:spPr>
          <a:xfrm>
            <a:off x="3505320" y="44197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Group 125"/>
          <p:cNvGrpSpPr/>
          <p:nvPr/>
        </p:nvGrpSpPr>
        <p:grpSpPr>
          <a:xfrm>
            <a:off x="2743200" y="6019920"/>
            <a:ext cx="5866920" cy="580680"/>
            <a:chOff x="2743200" y="6019920"/>
            <a:chExt cx="5866920" cy="580680"/>
          </a:xfrm>
        </p:grpSpPr>
        <p:sp>
          <p:nvSpPr>
            <p:cNvPr id="1266" name="Text Box 122"/>
            <p:cNvSpPr/>
            <p:nvPr/>
          </p:nvSpPr>
          <p:spPr>
            <a:xfrm>
              <a:off x="5595120" y="6019920"/>
              <a:ext cx="3015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 in a baseclass pointer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123"/>
            <p:cNvSpPr/>
            <p:nvPr/>
          </p:nvSpPr>
          <p:spPr>
            <a:xfrm flipH="1" flipV="1">
              <a:off x="5024520" y="6076440"/>
              <a:ext cx="569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124"/>
            <p:cNvSpPr/>
            <p:nvPr/>
          </p:nvSpPr>
          <p:spPr>
            <a:xfrm flipH="1">
              <a:off x="2743200" y="6305400"/>
              <a:ext cx="2851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1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0606-CBB1-410B-943B-EA5EB3069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3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1272" name="Group 4"/>
            <p:cNvGrpSpPr/>
            <p:nvPr/>
          </p:nvGrpSpPr>
          <p:grpSpPr>
            <a:xfrm>
              <a:off x="0" y="0"/>
              <a:ext cx="6780960" cy="323640"/>
              <a:chOff x="0" y="0"/>
              <a:chExt cx="6780960" cy="323640"/>
            </a:xfrm>
          </p:grpSpPr>
          <p:sp>
            <p:nvSpPr>
              <p:cNvPr id="1273" name="Rectangle 5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Rectangle 6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Group 7"/>
            <p:cNvGrpSpPr/>
            <p:nvPr/>
          </p:nvGrpSpPr>
          <p:grpSpPr>
            <a:xfrm>
              <a:off x="0" y="323640"/>
              <a:ext cx="6780960" cy="323640"/>
              <a:chOff x="0" y="323640"/>
              <a:chExt cx="6780960" cy="323640"/>
            </a:xfrm>
          </p:grpSpPr>
          <p:sp>
            <p:nvSpPr>
              <p:cNvPr id="1276" name="Rectangle 8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Rectangle 9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Group 10"/>
            <p:cNvGrpSpPr/>
            <p:nvPr/>
          </p:nvGrpSpPr>
          <p:grpSpPr>
            <a:xfrm>
              <a:off x="0" y="647640"/>
              <a:ext cx="6780960" cy="324000"/>
              <a:chOff x="0" y="647640"/>
              <a:chExt cx="6780960" cy="324000"/>
            </a:xfrm>
          </p:grpSpPr>
          <p:sp>
            <p:nvSpPr>
              <p:cNvPr id="1279" name="Rectangle 11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Rectangle 12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Group 13"/>
            <p:cNvGrpSpPr/>
            <p:nvPr/>
          </p:nvGrpSpPr>
          <p:grpSpPr>
            <a:xfrm>
              <a:off x="0" y="971640"/>
              <a:ext cx="6780960" cy="323640"/>
              <a:chOff x="0" y="971640"/>
              <a:chExt cx="6780960" cy="323640"/>
            </a:xfrm>
          </p:grpSpPr>
          <p:sp>
            <p:nvSpPr>
              <p:cNvPr id="1282" name="Rectangle 14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Rectangle 15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Group 16"/>
            <p:cNvGrpSpPr/>
            <p:nvPr/>
          </p:nvGrpSpPr>
          <p:grpSpPr>
            <a:xfrm>
              <a:off x="0" y="1295280"/>
              <a:ext cx="6780960" cy="323640"/>
              <a:chOff x="0" y="1295280"/>
              <a:chExt cx="6780960" cy="323640"/>
            </a:xfrm>
          </p:grpSpPr>
          <p:sp>
            <p:nvSpPr>
              <p:cNvPr id="1285" name="Rectangle 17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Rectangle 18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Group 19"/>
            <p:cNvGrpSpPr/>
            <p:nvPr/>
          </p:nvGrpSpPr>
          <p:grpSpPr>
            <a:xfrm>
              <a:off x="0" y="1619280"/>
              <a:ext cx="6780960" cy="323640"/>
              <a:chOff x="0" y="1619280"/>
              <a:chExt cx="6780960" cy="323640"/>
            </a:xfrm>
          </p:grpSpPr>
          <p:sp>
            <p:nvSpPr>
              <p:cNvPr id="1288" name="Rectangle 20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Rectangle 21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22"/>
            <p:cNvGrpSpPr/>
            <p:nvPr/>
          </p:nvGrpSpPr>
          <p:grpSpPr>
            <a:xfrm>
              <a:off x="0" y="1942920"/>
              <a:ext cx="6780960" cy="324000"/>
              <a:chOff x="0" y="1942920"/>
              <a:chExt cx="6780960" cy="324000"/>
            </a:xfrm>
          </p:grpSpPr>
          <p:sp>
            <p:nvSpPr>
              <p:cNvPr id="1291" name="Rectangle 23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Rectangle 24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earned $" &lt;&lt; baseClassRef.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5"/>
            <p:cNvGrpSpPr/>
            <p:nvPr/>
          </p:nvGrpSpPr>
          <p:grpSpPr>
            <a:xfrm>
              <a:off x="0" y="2266920"/>
              <a:ext cx="6780960" cy="323640"/>
              <a:chOff x="0" y="2266920"/>
              <a:chExt cx="6780960" cy="323640"/>
            </a:xfrm>
          </p:grpSpPr>
          <p:sp>
            <p:nvSpPr>
              <p:cNvPr id="1294" name="Rectangle 26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Rectangle 27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6" name="Rectangle 28"/>
          <p:cNvSpPr/>
          <p:nvPr/>
        </p:nvSpPr>
        <p:spPr>
          <a:xfrm>
            <a:off x="0" y="289548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ourly worker: Karen Price earned $550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Group 32"/>
          <p:cNvGrpSpPr/>
          <p:nvPr/>
        </p:nvGrpSpPr>
        <p:grpSpPr>
          <a:xfrm>
            <a:off x="2666880" y="1219320"/>
            <a:ext cx="5410440" cy="656640"/>
            <a:chOff x="2666880" y="1219320"/>
            <a:chExt cx="5410440" cy="656640"/>
          </a:xfrm>
        </p:grpSpPr>
        <p:sp>
          <p:nvSpPr>
            <p:cNvPr id="1298" name="Text Box 29"/>
            <p:cNvSpPr/>
            <p:nvPr/>
          </p:nvSpPr>
          <p:spPr>
            <a:xfrm>
              <a:off x="4952880" y="1295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 in base class reference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30"/>
            <p:cNvSpPr/>
            <p:nvPr/>
          </p:nvSpPr>
          <p:spPr>
            <a:xfrm flipH="1" flipV="1">
              <a:off x="4648320" y="12193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31"/>
            <p:cNvSpPr/>
            <p:nvPr/>
          </p:nvSpPr>
          <p:spPr>
            <a:xfrm flipH="1">
              <a:off x="2666880" y="152388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1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4E98-A219-443C-95E7-6C16D4EDF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B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nd virtu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well when all classes are not known in ad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binding to accommodate new classes being added to a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 (late bin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's type need not be know at compile time 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 is matched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4837-AEAF-44F2-8BC6-96B2C46FF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ase-class pointer to a derived object is deleted, the base-class destructor will act on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se-class destructor to ensure that the appropriate destructor will be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A249-E860-4B90-8408-D0F438D50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ead th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ure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ha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ther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nherits these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3775-9795-4FC7-8DB9-0A436EFD3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abstract bas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3"/>
          <p:cNvGrpSpPr/>
          <p:nvPr/>
        </p:nvGrpSpPr>
        <p:grpSpPr>
          <a:xfrm>
            <a:off x="0" y="0"/>
            <a:ext cx="6705000" cy="3276360"/>
            <a:chOff x="0" y="0"/>
            <a:chExt cx="6705000" cy="3276360"/>
          </a:xfrm>
        </p:grpSpPr>
        <p:grpSp>
          <p:nvGrpSpPr>
            <p:cNvPr id="1313" name="Group 4"/>
            <p:cNvGrpSpPr/>
            <p:nvPr/>
          </p:nvGrpSpPr>
          <p:grpSpPr>
            <a:xfrm>
              <a:off x="0" y="0"/>
              <a:ext cx="6705000" cy="204480"/>
              <a:chOff x="0" y="0"/>
              <a:chExt cx="6705000" cy="204480"/>
            </a:xfrm>
          </p:grpSpPr>
          <p:sp>
            <p:nvSpPr>
              <p:cNvPr id="1314" name="Rectangle 5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Rectangle 6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shap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Group 7"/>
            <p:cNvGrpSpPr/>
            <p:nvPr/>
          </p:nvGrpSpPr>
          <p:grpSpPr>
            <a:xfrm>
              <a:off x="0" y="204480"/>
              <a:ext cx="6705000" cy="204480"/>
              <a:chOff x="0" y="204480"/>
              <a:chExt cx="6705000" cy="204480"/>
            </a:xfrm>
          </p:grpSpPr>
          <p:sp>
            <p:nvSpPr>
              <p:cNvPr id="1317" name="Rectangle 8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Rectangle 9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abstract base class Sh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10"/>
            <p:cNvGrpSpPr/>
            <p:nvPr/>
          </p:nvGrpSpPr>
          <p:grpSpPr>
            <a:xfrm>
              <a:off x="0" y="409320"/>
              <a:ext cx="6705000" cy="204840"/>
              <a:chOff x="0" y="409320"/>
              <a:chExt cx="6705000" cy="204840"/>
            </a:xfrm>
          </p:grpSpPr>
          <p:sp>
            <p:nvSpPr>
              <p:cNvPr id="1320" name="Rectangle 11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Rectangle 12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13"/>
            <p:cNvGrpSpPr/>
            <p:nvPr/>
          </p:nvGrpSpPr>
          <p:grpSpPr>
            <a:xfrm>
              <a:off x="0" y="614160"/>
              <a:ext cx="6705000" cy="204480"/>
              <a:chOff x="0" y="614160"/>
              <a:chExt cx="6705000" cy="204480"/>
            </a:xfrm>
          </p:grpSpPr>
          <p:sp>
            <p:nvSpPr>
              <p:cNvPr id="1323" name="Rectangle 14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Rectangle 15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Group 16"/>
            <p:cNvGrpSpPr/>
            <p:nvPr/>
          </p:nvGrpSpPr>
          <p:grpSpPr>
            <a:xfrm>
              <a:off x="0" y="819000"/>
              <a:ext cx="6705000" cy="204480"/>
              <a:chOff x="0" y="819000"/>
              <a:chExt cx="6705000" cy="204480"/>
            </a:xfrm>
          </p:grpSpPr>
          <p:sp>
            <p:nvSpPr>
              <p:cNvPr id="1326" name="Rectangle 17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Rectangle 18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19"/>
            <p:cNvGrpSpPr/>
            <p:nvPr/>
          </p:nvGrpSpPr>
          <p:grpSpPr>
            <a:xfrm>
              <a:off x="0" y="1023840"/>
              <a:ext cx="6705000" cy="204480"/>
              <a:chOff x="0" y="1023840"/>
              <a:chExt cx="6705000" cy="204480"/>
            </a:xfrm>
          </p:grpSpPr>
          <p:sp>
            <p:nvSpPr>
              <p:cNvPr id="1329" name="Rectangle 20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Rectangle 21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lass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Group 22"/>
            <p:cNvGrpSpPr/>
            <p:nvPr/>
          </p:nvGrpSpPr>
          <p:grpSpPr>
            <a:xfrm>
              <a:off x="0" y="1228680"/>
              <a:ext cx="6705000" cy="204840"/>
              <a:chOff x="0" y="1228680"/>
              <a:chExt cx="6705000" cy="204840"/>
            </a:xfrm>
          </p:grpSpPr>
          <p:sp>
            <p:nvSpPr>
              <p:cNvPr id="1332" name="Rectangle 23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Rectangle 24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25"/>
            <p:cNvGrpSpPr/>
            <p:nvPr/>
          </p:nvGrpSpPr>
          <p:grpSpPr>
            <a:xfrm>
              <a:off x="0" y="1433520"/>
              <a:ext cx="6705000" cy="204480"/>
              <a:chOff x="0" y="1433520"/>
              <a:chExt cx="6705000" cy="204480"/>
            </a:xfrm>
          </p:grpSpPr>
          <p:sp>
            <p:nvSpPr>
              <p:cNvPr id="1335" name="Rectangle 26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Rectangle 27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28"/>
            <p:cNvGrpSpPr/>
            <p:nvPr/>
          </p:nvGrpSpPr>
          <p:grpSpPr>
            <a:xfrm>
              <a:off x="0" y="1638360"/>
              <a:ext cx="6705000" cy="204480"/>
              <a:chOff x="0" y="1638360"/>
              <a:chExt cx="6705000" cy="204480"/>
            </a:xfrm>
          </p:grpSpPr>
          <p:sp>
            <p:nvSpPr>
              <p:cNvPr id="1338" name="Rectangle 29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Rectangle 30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Group 31"/>
            <p:cNvGrpSpPr/>
            <p:nvPr/>
          </p:nvGrpSpPr>
          <p:grpSpPr>
            <a:xfrm>
              <a:off x="0" y="1843200"/>
              <a:ext cx="6705000" cy="204480"/>
              <a:chOff x="0" y="1843200"/>
              <a:chExt cx="6705000" cy="204480"/>
            </a:xfrm>
          </p:grpSpPr>
          <p:sp>
            <p:nvSpPr>
              <p:cNvPr id="1341" name="Rectangle 32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Rectangle 33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34"/>
            <p:cNvGrpSpPr/>
            <p:nvPr/>
          </p:nvGrpSpPr>
          <p:grpSpPr>
            <a:xfrm>
              <a:off x="0" y="2047680"/>
              <a:ext cx="6705000" cy="204840"/>
              <a:chOff x="0" y="2047680"/>
              <a:chExt cx="6705000" cy="204840"/>
            </a:xfrm>
          </p:grpSpPr>
          <p:sp>
            <p:nvSpPr>
              <p:cNvPr id="1344" name="Rectangle 35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Rectangle 36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ure virtual functions overridden in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37"/>
            <p:cNvGrpSpPr/>
            <p:nvPr/>
          </p:nvGrpSpPr>
          <p:grpSpPr>
            <a:xfrm>
              <a:off x="0" y="2252880"/>
              <a:ext cx="6705000" cy="204480"/>
              <a:chOff x="0" y="2252880"/>
              <a:chExt cx="6705000" cy="204480"/>
            </a:xfrm>
          </p:grpSpPr>
          <p:sp>
            <p:nvSpPr>
              <p:cNvPr id="1347" name="Rectangle 38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Rectangle 39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Group 40"/>
            <p:cNvGrpSpPr/>
            <p:nvPr/>
          </p:nvGrpSpPr>
          <p:grpSpPr>
            <a:xfrm>
              <a:off x="0" y="2457360"/>
              <a:ext cx="6705000" cy="204480"/>
              <a:chOff x="0" y="2457360"/>
              <a:chExt cx="6705000" cy="204480"/>
            </a:xfrm>
          </p:grpSpPr>
          <p:sp>
            <p:nvSpPr>
              <p:cNvPr id="1350" name="Rectangle 41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42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Group 43"/>
            <p:cNvGrpSpPr/>
            <p:nvPr/>
          </p:nvGrpSpPr>
          <p:grpSpPr>
            <a:xfrm>
              <a:off x="0" y="2662200"/>
              <a:ext cx="6705000" cy="204480"/>
              <a:chOff x="0" y="2662200"/>
              <a:chExt cx="6705000" cy="204480"/>
            </a:xfrm>
          </p:grpSpPr>
          <p:sp>
            <p:nvSpPr>
              <p:cNvPr id="1353" name="Rectangle 44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Rectangle 45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Group 46"/>
            <p:cNvGrpSpPr/>
            <p:nvPr/>
          </p:nvGrpSpPr>
          <p:grpSpPr>
            <a:xfrm>
              <a:off x="0" y="2867040"/>
              <a:ext cx="6705000" cy="204840"/>
              <a:chOff x="0" y="2867040"/>
              <a:chExt cx="6705000" cy="204840"/>
            </a:xfrm>
          </p:grpSpPr>
          <p:sp>
            <p:nvSpPr>
              <p:cNvPr id="1356" name="Rectangle 47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Rectangle 48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Group 49"/>
            <p:cNvGrpSpPr/>
            <p:nvPr/>
          </p:nvGrpSpPr>
          <p:grpSpPr>
            <a:xfrm>
              <a:off x="0" y="3071880"/>
              <a:ext cx="6705000" cy="204480"/>
              <a:chOff x="0" y="3071880"/>
              <a:chExt cx="6705000" cy="204480"/>
            </a:xfrm>
          </p:grpSpPr>
          <p:sp>
            <p:nvSpPr>
              <p:cNvPr id="1359" name="Rectangle 50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51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1" name="Group 52"/>
          <p:cNvGrpSpPr/>
          <p:nvPr/>
        </p:nvGrpSpPr>
        <p:grpSpPr>
          <a:xfrm>
            <a:off x="0" y="3276720"/>
            <a:ext cx="6705000" cy="3581280"/>
            <a:chOff x="0" y="3276720"/>
            <a:chExt cx="6705000" cy="3581280"/>
          </a:xfrm>
        </p:grpSpPr>
        <p:grpSp>
          <p:nvGrpSpPr>
            <p:cNvPr id="1362" name="Group 53"/>
            <p:cNvGrpSpPr/>
            <p:nvPr/>
          </p:nvGrpSpPr>
          <p:grpSpPr>
            <a:xfrm>
              <a:off x="0" y="3276720"/>
              <a:ext cx="6705000" cy="198720"/>
              <a:chOff x="0" y="3276720"/>
              <a:chExt cx="6705000" cy="198720"/>
            </a:xfrm>
          </p:grpSpPr>
          <p:sp>
            <p:nvSpPr>
              <p:cNvPr id="1363" name="Rectangle 54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Rectangle 55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point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Group 56"/>
            <p:cNvGrpSpPr/>
            <p:nvPr/>
          </p:nvGrpSpPr>
          <p:grpSpPr>
            <a:xfrm>
              <a:off x="0" y="3475440"/>
              <a:ext cx="6705000" cy="198720"/>
              <a:chOff x="0" y="3475440"/>
              <a:chExt cx="6705000" cy="198720"/>
            </a:xfrm>
          </p:grpSpPr>
          <p:sp>
            <p:nvSpPr>
              <p:cNvPr id="1366" name="Rectangle 57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Rectangle 58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Group 59"/>
            <p:cNvGrpSpPr/>
            <p:nvPr/>
          </p:nvGrpSpPr>
          <p:grpSpPr>
            <a:xfrm>
              <a:off x="0" y="3674520"/>
              <a:ext cx="6705000" cy="198720"/>
              <a:chOff x="0" y="3674520"/>
              <a:chExt cx="6705000" cy="198720"/>
            </a:xfrm>
          </p:grpSpPr>
          <p:sp>
            <p:nvSpPr>
              <p:cNvPr id="1369" name="Rectangle 60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Rectangle 61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Group 62"/>
            <p:cNvGrpSpPr/>
            <p:nvPr/>
          </p:nvGrpSpPr>
          <p:grpSpPr>
            <a:xfrm>
              <a:off x="0" y="3873600"/>
              <a:ext cx="6705000" cy="198720"/>
              <a:chOff x="0" y="3873600"/>
              <a:chExt cx="6705000" cy="198720"/>
            </a:xfrm>
          </p:grpSpPr>
          <p:sp>
            <p:nvSpPr>
              <p:cNvPr id="1372" name="Rectangle 63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Rectangle 64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Group 65"/>
            <p:cNvGrpSpPr/>
            <p:nvPr/>
          </p:nvGrpSpPr>
          <p:grpSpPr>
            <a:xfrm>
              <a:off x="0" y="4072320"/>
              <a:ext cx="6705000" cy="198720"/>
              <a:chOff x="0" y="4072320"/>
              <a:chExt cx="6705000" cy="198720"/>
            </a:xfrm>
          </p:grpSpPr>
          <p:sp>
            <p:nvSpPr>
              <p:cNvPr id="1375" name="Rectangle 66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Rectangle 67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Group 68"/>
            <p:cNvGrpSpPr/>
            <p:nvPr/>
          </p:nvGrpSpPr>
          <p:grpSpPr>
            <a:xfrm>
              <a:off x="0" y="4271400"/>
              <a:ext cx="6705000" cy="198720"/>
              <a:chOff x="0" y="4271400"/>
              <a:chExt cx="6705000" cy="198720"/>
            </a:xfrm>
          </p:grpSpPr>
          <p:sp>
            <p:nvSpPr>
              <p:cNvPr id="1378" name="Rectangle 69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Rectangle 70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Group 71"/>
            <p:cNvGrpSpPr/>
            <p:nvPr/>
          </p:nvGrpSpPr>
          <p:grpSpPr>
            <a:xfrm>
              <a:off x="0" y="4470480"/>
              <a:ext cx="6705000" cy="198720"/>
              <a:chOff x="0" y="4470480"/>
              <a:chExt cx="6705000" cy="198720"/>
            </a:xfrm>
          </p:grpSpPr>
          <p:sp>
            <p:nvSpPr>
              <p:cNvPr id="1381" name="Rectangle 72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Rectangle 73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Group 74"/>
            <p:cNvGrpSpPr/>
            <p:nvPr/>
          </p:nvGrpSpPr>
          <p:grpSpPr>
            <a:xfrm>
              <a:off x="0" y="4669560"/>
              <a:ext cx="6705000" cy="198720"/>
              <a:chOff x="0" y="4669560"/>
              <a:chExt cx="6705000" cy="198720"/>
            </a:xfrm>
          </p:grpSpPr>
          <p:sp>
            <p:nvSpPr>
              <p:cNvPr id="1384" name="Rectangle 75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Rectangle 76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Group 77"/>
            <p:cNvGrpSpPr/>
            <p:nvPr/>
          </p:nvGrpSpPr>
          <p:grpSpPr>
            <a:xfrm>
              <a:off x="0" y="4868280"/>
              <a:ext cx="6705000" cy="198720"/>
              <a:chOff x="0" y="4868280"/>
              <a:chExt cx="6705000" cy="198720"/>
            </a:xfrm>
          </p:grpSpPr>
          <p:sp>
            <p:nvSpPr>
              <p:cNvPr id="1387" name="Rectangle 78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Rectangle 79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Group 80"/>
            <p:cNvGrpSpPr/>
            <p:nvPr/>
          </p:nvGrpSpPr>
          <p:grpSpPr>
            <a:xfrm>
              <a:off x="0" y="5067360"/>
              <a:ext cx="6705000" cy="198720"/>
              <a:chOff x="0" y="5067360"/>
              <a:chExt cx="6705000" cy="198720"/>
            </a:xfrm>
          </p:grpSpPr>
          <p:sp>
            <p:nvSpPr>
              <p:cNvPr id="1390" name="Rectangle 81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Rectangle 82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Group 83"/>
            <p:cNvGrpSpPr/>
            <p:nvPr/>
          </p:nvGrpSpPr>
          <p:grpSpPr>
            <a:xfrm>
              <a:off x="0" y="5266080"/>
              <a:ext cx="6705000" cy="198720"/>
              <a:chOff x="0" y="5266080"/>
              <a:chExt cx="6705000" cy="198720"/>
            </a:xfrm>
          </p:grpSpPr>
          <p:sp>
            <p:nvSpPr>
              <p:cNvPr id="1393" name="Rectangle 84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Rectangle 85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Group 86"/>
            <p:cNvGrpSpPr/>
            <p:nvPr/>
          </p:nvGrpSpPr>
          <p:grpSpPr>
            <a:xfrm>
              <a:off x="0" y="5465160"/>
              <a:ext cx="6705000" cy="198720"/>
              <a:chOff x="0" y="5465160"/>
              <a:chExt cx="6705000" cy="198720"/>
            </a:xfrm>
          </p:grpSpPr>
          <p:sp>
            <p:nvSpPr>
              <p:cNvPr id="1396" name="Rectangle 87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Rectangle 88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89"/>
            <p:cNvGrpSpPr/>
            <p:nvPr/>
          </p:nvGrpSpPr>
          <p:grpSpPr>
            <a:xfrm>
              <a:off x="0" y="5664240"/>
              <a:ext cx="6705000" cy="198720"/>
              <a:chOff x="0" y="5664240"/>
              <a:chExt cx="6705000" cy="198720"/>
            </a:xfrm>
          </p:grpSpPr>
          <p:sp>
            <p:nvSpPr>
              <p:cNvPr id="1399" name="Rectangle 90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Rectangle 91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Group 92"/>
            <p:cNvGrpSpPr/>
            <p:nvPr/>
          </p:nvGrpSpPr>
          <p:grpSpPr>
            <a:xfrm>
              <a:off x="0" y="5863320"/>
              <a:ext cx="6705000" cy="198720"/>
              <a:chOff x="0" y="5863320"/>
              <a:chExt cx="6705000" cy="198720"/>
            </a:xfrm>
          </p:grpSpPr>
          <p:sp>
            <p:nvSpPr>
              <p:cNvPr id="1402" name="Rectangle 93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Rectangle 94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Group 95"/>
            <p:cNvGrpSpPr/>
            <p:nvPr/>
          </p:nvGrpSpPr>
          <p:grpSpPr>
            <a:xfrm>
              <a:off x="0" y="6062040"/>
              <a:ext cx="6705000" cy="198720"/>
              <a:chOff x="0" y="6062040"/>
              <a:chExt cx="6705000" cy="198720"/>
            </a:xfrm>
          </p:grpSpPr>
          <p:sp>
            <p:nvSpPr>
              <p:cNvPr id="1405" name="Rectangle 96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Rectangle 97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Group 98"/>
            <p:cNvGrpSpPr/>
            <p:nvPr/>
          </p:nvGrpSpPr>
          <p:grpSpPr>
            <a:xfrm>
              <a:off x="0" y="6261120"/>
              <a:ext cx="6705000" cy="198720"/>
              <a:chOff x="0" y="6261120"/>
              <a:chExt cx="6705000" cy="198720"/>
            </a:xfrm>
          </p:grpSpPr>
          <p:sp>
            <p:nvSpPr>
              <p:cNvPr id="1408" name="Rectangle 99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Rectangle 100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Group 101"/>
            <p:cNvGrpSpPr/>
            <p:nvPr/>
          </p:nvGrpSpPr>
          <p:grpSpPr>
            <a:xfrm>
              <a:off x="0" y="6460200"/>
              <a:ext cx="6705000" cy="198720"/>
              <a:chOff x="0" y="6460200"/>
              <a:chExt cx="6705000" cy="198720"/>
            </a:xfrm>
          </p:grpSpPr>
          <p:sp>
            <p:nvSpPr>
              <p:cNvPr id="1411" name="Rectangle 102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Rectangle 103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Group 104"/>
            <p:cNvGrpSpPr/>
            <p:nvPr/>
          </p:nvGrpSpPr>
          <p:grpSpPr>
            <a:xfrm>
              <a:off x="0" y="6659280"/>
              <a:ext cx="6705000" cy="198720"/>
              <a:chOff x="0" y="6659280"/>
              <a:chExt cx="6705000" cy="198720"/>
            </a:xfrm>
          </p:grpSpPr>
          <p:sp>
            <p:nvSpPr>
              <p:cNvPr id="1414" name="Rectangle 105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Rectangle 106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6" name="Group 110"/>
          <p:cNvGrpSpPr/>
          <p:nvPr/>
        </p:nvGrpSpPr>
        <p:grpSpPr>
          <a:xfrm>
            <a:off x="3200400" y="5257800"/>
            <a:ext cx="4343400" cy="580680"/>
            <a:chOff x="3200400" y="5257800"/>
            <a:chExt cx="4343400" cy="580680"/>
          </a:xfrm>
        </p:grpSpPr>
        <p:sp>
          <p:nvSpPr>
            <p:cNvPr id="1417" name="Text Box 107"/>
            <p:cNvSpPr/>
            <p:nvPr/>
          </p:nvSpPr>
          <p:spPr>
            <a:xfrm>
              <a:off x="4952880" y="5257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the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108"/>
            <p:cNvSpPr/>
            <p:nvPr/>
          </p:nvSpPr>
          <p:spPr>
            <a:xfrm flipH="1">
              <a:off x="32004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Group 113"/>
          <p:cNvGrpSpPr/>
          <p:nvPr/>
        </p:nvGrpSpPr>
        <p:grpSpPr>
          <a:xfrm>
            <a:off x="3123720" y="2819520"/>
            <a:ext cx="3200760" cy="900000"/>
            <a:chOff x="3123720" y="2819520"/>
            <a:chExt cx="3200760" cy="900000"/>
          </a:xfrm>
        </p:grpSpPr>
        <p:sp>
          <p:nvSpPr>
            <p:cNvPr id="1420" name="Text Box 111"/>
            <p:cNvSpPr/>
            <p:nvPr/>
          </p:nvSpPr>
          <p:spPr>
            <a:xfrm>
              <a:off x="3886200" y="2895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which will be overridden by each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112"/>
            <p:cNvSpPr/>
            <p:nvPr/>
          </p:nvSpPr>
          <p:spPr>
            <a:xfrm flipH="1" flipV="1">
              <a:off x="3123720" y="28195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E283-036F-4837-85E6-344B34F78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Group 3"/>
          <p:cNvGrpSpPr/>
          <p:nvPr/>
        </p:nvGrpSpPr>
        <p:grpSpPr>
          <a:xfrm>
            <a:off x="0" y="0"/>
            <a:ext cx="6780960" cy="1600200"/>
            <a:chOff x="0" y="0"/>
            <a:chExt cx="6780960" cy="1600200"/>
          </a:xfrm>
        </p:grpSpPr>
        <p:grpSp>
          <p:nvGrpSpPr>
            <p:cNvPr id="1425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26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Point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29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32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35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38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41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Group 22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444" name="Rectangle 23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Rectangle 24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6" name="Group 25"/>
          <p:cNvGrpSpPr/>
          <p:nvPr/>
        </p:nvGrpSpPr>
        <p:grpSpPr>
          <a:xfrm>
            <a:off x="0" y="1600200"/>
            <a:ext cx="6780960" cy="3962520"/>
            <a:chOff x="0" y="1600200"/>
            <a:chExt cx="6780960" cy="3962520"/>
          </a:xfrm>
        </p:grpSpPr>
        <p:grpSp>
          <p:nvGrpSpPr>
            <p:cNvPr id="1447" name="Group 26"/>
            <p:cNvGrpSpPr/>
            <p:nvPr/>
          </p:nvGrpSpPr>
          <p:grpSpPr>
            <a:xfrm>
              <a:off x="0" y="1600200"/>
              <a:ext cx="6780960" cy="282960"/>
              <a:chOff x="0" y="1600200"/>
              <a:chExt cx="6780960" cy="282960"/>
            </a:xfrm>
          </p:grpSpPr>
          <p:sp>
            <p:nvSpPr>
              <p:cNvPr id="1448" name="Rectangle 27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28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point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Group 29"/>
            <p:cNvGrpSpPr/>
            <p:nvPr/>
          </p:nvGrpSpPr>
          <p:grpSpPr>
            <a:xfrm>
              <a:off x="0" y="1883160"/>
              <a:ext cx="6780960" cy="282960"/>
              <a:chOff x="0" y="1883160"/>
              <a:chExt cx="6780960" cy="282960"/>
            </a:xfrm>
          </p:grpSpPr>
          <p:sp>
            <p:nvSpPr>
              <p:cNvPr id="1451" name="Rectangle 30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Rectangle 31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Group 32"/>
            <p:cNvGrpSpPr/>
            <p:nvPr/>
          </p:nvGrpSpPr>
          <p:grpSpPr>
            <a:xfrm>
              <a:off x="0" y="2166120"/>
              <a:ext cx="6780960" cy="282960"/>
              <a:chOff x="0" y="2166120"/>
              <a:chExt cx="6780960" cy="282960"/>
            </a:xfrm>
          </p:grpSpPr>
          <p:sp>
            <p:nvSpPr>
              <p:cNvPr id="1454" name="Rectangle 33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Rectangle 34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Group 35"/>
            <p:cNvGrpSpPr/>
            <p:nvPr/>
          </p:nvGrpSpPr>
          <p:grpSpPr>
            <a:xfrm>
              <a:off x="0" y="2449080"/>
              <a:ext cx="6780960" cy="282960"/>
              <a:chOff x="0" y="2449080"/>
              <a:chExt cx="6780960" cy="282960"/>
            </a:xfrm>
          </p:grpSpPr>
          <p:sp>
            <p:nvSpPr>
              <p:cNvPr id="1457" name="Rectangle 36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Rectangle 37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Group 38"/>
            <p:cNvGrpSpPr/>
            <p:nvPr/>
          </p:nvGrpSpPr>
          <p:grpSpPr>
            <a:xfrm>
              <a:off x="0" y="2732400"/>
              <a:ext cx="6780960" cy="282960"/>
              <a:chOff x="0" y="2732400"/>
              <a:chExt cx="6780960" cy="282960"/>
            </a:xfrm>
          </p:grpSpPr>
          <p:sp>
            <p:nvSpPr>
              <p:cNvPr id="1460" name="Rectangle 39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Rectangle 40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41"/>
            <p:cNvGrpSpPr/>
            <p:nvPr/>
          </p:nvGrpSpPr>
          <p:grpSpPr>
            <a:xfrm>
              <a:off x="0" y="3015360"/>
              <a:ext cx="6780960" cy="282960"/>
              <a:chOff x="0" y="3015360"/>
              <a:chExt cx="6780960" cy="282960"/>
            </a:xfrm>
          </p:grpSpPr>
          <p:sp>
            <p:nvSpPr>
              <p:cNvPr id="1463" name="Rectangle 42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Rectangle 43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Group 44"/>
            <p:cNvGrpSpPr/>
            <p:nvPr/>
          </p:nvGrpSpPr>
          <p:grpSpPr>
            <a:xfrm>
              <a:off x="0" y="3298320"/>
              <a:ext cx="6780960" cy="282960"/>
              <a:chOff x="0" y="3298320"/>
              <a:chExt cx="6780960" cy="282960"/>
            </a:xfrm>
          </p:grpSpPr>
          <p:sp>
            <p:nvSpPr>
              <p:cNvPr id="1466" name="Rectangle 45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Rectangle 46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47"/>
            <p:cNvGrpSpPr/>
            <p:nvPr/>
          </p:nvGrpSpPr>
          <p:grpSpPr>
            <a:xfrm>
              <a:off x="0" y="3581640"/>
              <a:ext cx="6780960" cy="282960"/>
              <a:chOff x="0" y="3581640"/>
              <a:chExt cx="6780960" cy="282960"/>
            </a:xfrm>
          </p:grpSpPr>
          <p:sp>
            <p:nvSpPr>
              <p:cNvPr id="1469" name="Rectangle 48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Rectangle 49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50"/>
            <p:cNvGrpSpPr/>
            <p:nvPr/>
          </p:nvGrpSpPr>
          <p:grpSpPr>
            <a:xfrm>
              <a:off x="0" y="3864600"/>
              <a:ext cx="6780960" cy="282960"/>
              <a:chOff x="0" y="3864600"/>
              <a:chExt cx="6780960" cy="282960"/>
            </a:xfrm>
          </p:grpSpPr>
          <p:sp>
            <p:nvSpPr>
              <p:cNvPr id="1472" name="Rectangle 51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Rectangle 52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53"/>
            <p:cNvGrpSpPr/>
            <p:nvPr/>
          </p:nvGrpSpPr>
          <p:grpSpPr>
            <a:xfrm>
              <a:off x="0" y="4147560"/>
              <a:ext cx="6780960" cy="282960"/>
              <a:chOff x="0" y="4147560"/>
              <a:chExt cx="6780960" cy="282960"/>
            </a:xfrm>
          </p:grpSpPr>
          <p:sp>
            <p:nvSpPr>
              <p:cNvPr id="1475" name="Rectangle 54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Rectangle 55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56"/>
            <p:cNvGrpSpPr/>
            <p:nvPr/>
          </p:nvGrpSpPr>
          <p:grpSpPr>
            <a:xfrm>
              <a:off x="0" y="4430520"/>
              <a:ext cx="6780960" cy="282960"/>
              <a:chOff x="0" y="4430520"/>
              <a:chExt cx="6780960" cy="282960"/>
            </a:xfrm>
          </p:grpSpPr>
          <p:sp>
            <p:nvSpPr>
              <p:cNvPr id="1478" name="Rectangle 57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58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Group 59"/>
            <p:cNvGrpSpPr/>
            <p:nvPr/>
          </p:nvGrpSpPr>
          <p:grpSpPr>
            <a:xfrm>
              <a:off x="0" y="4713840"/>
              <a:ext cx="6780960" cy="282960"/>
              <a:chOff x="0" y="4713840"/>
              <a:chExt cx="6780960" cy="282960"/>
            </a:xfrm>
          </p:grpSpPr>
          <p:sp>
            <p:nvSpPr>
              <p:cNvPr id="1481" name="Rectangle 60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Rectangle 61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Group 62"/>
            <p:cNvGrpSpPr/>
            <p:nvPr/>
          </p:nvGrpSpPr>
          <p:grpSpPr>
            <a:xfrm>
              <a:off x="0" y="4996800"/>
              <a:ext cx="6780960" cy="282960"/>
              <a:chOff x="0" y="4996800"/>
              <a:chExt cx="6780960" cy="282960"/>
            </a:xfrm>
          </p:grpSpPr>
          <p:sp>
            <p:nvSpPr>
              <p:cNvPr id="1484" name="Rectangle 63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Rectangle 64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Group 65"/>
            <p:cNvGrpSpPr/>
            <p:nvPr/>
          </p:nvGrpSpPr>
          <p:grpSpPr>
            <a:xfrm>
              <a:off x="0" y="5279760"/>
              <a:ext cx="6780960" cy="282960"/>
              <a:chOff x="0" y="5279760"/>
              <a:chExt cx="6780960" cy="282960"/>
            </a:xfrm>
          </p:grpSpPr>
          <p:sp>
            <p:nvSpPr>
              <p:cNvPr id="1487" name="Rectangle 66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67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'[' &lt;&lt; x &lt;&lt; ", " &lt;&lt; y &lt;&lt; ']'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E12E-3208-4474-A07C-1B10143D6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ircle Definition (derived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92" name="Group 4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1493" name="Rectangle 5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Rectangle 6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ircl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Group 7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1496" name="Rectangle 8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Rectangle 9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Group 10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1499" name="Rectangle 11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Rectangle 12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Group 13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1502" name="Rectangle 14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Rectangle 15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16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1505" name="Rectangle 17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Rectangle 18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Group 19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1508" name="Rectangle 20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Rectangle 21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Group 22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1511" name="Rectangle 23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Rectangle 24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Group 25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1514" name="Rectangle 26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Rectangle 27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Group 28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1517" name="Rectangle 29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Rectangle 30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Group 31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1520" name="Rectangle 32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Rectangle 33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Group 34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1523" name="Rectangle 35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Rectangle 36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Group 37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1526" name="Rectangle 38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Rectangle 39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40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529" name="Rectangle 41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Rectangle 42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Group 43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532" name="Rectangle 44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Rectangle 45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Group 46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535" name="Rectangle 47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Rectangle 48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Circle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Group 49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538" name="Rectangle 50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Rectangle 51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Group 52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541" name="Rectangle 53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Rectangle 54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Group 55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544" name="Rectangle 56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Rectangle 57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58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547" name="Rectangle 59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Rectangle 60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Group 61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550" name="Rectangle 62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Rectangle 63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Group 64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553" name="Rectangle 65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Rectangle 66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5" name="Group 69"/>
          <p:cNvGrpSpPr/>
          <p:nvPr/>
        </p:nvGrpSpPr>
        <p:grpSpPr>
          <a:xfrm>
            <a:off x="3429000" y="1828800"/>
            <a:ext cx="3505320" cy="580680"/>
            <a:chOff x="3429000" y="1828800"/>
            <a:chExt cx="3505320" cy="580680"/>
          </a:xfrm>
        </p:grpSpPr>
        <p:sp>
          <p:nvSpPr>
            <p:cNvPr id="1556" name="Text Box 67"/>
            <p:cNvSpPr/>
            <p:nvPr/>
          </p:nvSpPr>
          <p:spPr>
            <a:xfrm>
              <a:off x="5181480" y="1828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Line 68"/>
            <p:cNvSpPr/>
            <p:nvPr/>
          </p:nvSpPr>
          <p:spPr>
            <a:xfrm flipH="1">
              <a:off x="3429000" y="2133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CEE5-A14C-44B0-B8CA-7397DEBE3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61" name="Group 4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562" name="Rectangle 5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Rectangle 6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ircl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Group 7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565" name="Rectangle 8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Rectangle 9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Group 10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568" name="Rectangle 11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Rectangle 12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Group 13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571" name="Rectangle 14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Rectangle 15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Group 16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574" name="Rectangle 17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Rectangle 18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Group 19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577" name="Rectangle 20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Rectangle 21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Group 22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580" name="Rectangle 23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Rectangle 24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Group 25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583" name="Rectangle 26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Rectangle 27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Group 28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586" name="Rectangle 29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Rectangle 30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Group 31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589" name="Rectangle 32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Rectangle 33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Group 34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592" name="Rectangle 35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Rectangle 36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Group 37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595" name="Rectangle 38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Rectangle 39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Group 40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598" name="Rectangle 41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Rectangle 42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) { radius = r &gt; 0 ? r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Group 43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601" name="Rectangle 44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Rectangle 45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Group 46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604" name="Rectangle 47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Rectangle 48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Group 49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607" name="Rectangle 50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Rectangle 51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Group 52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610" name="Rectangle 53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Rectangle 54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Group 55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613" name="Rectangle 56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Rectangle 57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Group 58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616" name="Rectangle 59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Rectangle 60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Group 61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619" name="Rectangle 62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Rectangle 63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Group 64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622" name="Rectangle 65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Rectangle 66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Group 67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625" name="Rectangle 68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Rectangle 69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Group 70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628" name="Rectangle 71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Rectangle 72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; Radius = " &lt;&lt;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Group 73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631" name="Rectangle 74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Rectangle 75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4860-0BA8-424E-9640-8A975E2EC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Ptr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dynamic bin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Object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static bin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compile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BAB9-99F2-4FE9-882C-C9B5C47F5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 (deriv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36" name="Group 4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1637" name="Rectangle 5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Rectangle 6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ylindr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Group 7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1640" name="Rectangle 8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Rectangle 9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Group 10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1643" name="Rectangle 11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Rectangle 12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Group 13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1646" name="Rectangle 14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Rectangle 15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Group 16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1649" name="Rectangle 17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Rectangle 18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Group 19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1652" name="Rectangle 20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Rectangle 21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Group 22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1655" name="Rectangle 23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Rectangle 24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Group 25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1658" name="Rectangle 26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Rectangle 27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Group 28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1661" name="Rectangle 29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Rectangle 30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Group 31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1664" name="Rectangle 32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Rectangle 33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Group 34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1667" name="Rectangle 35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Rectangle 36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Group 37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1670" name="Rectangle 38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Rectangle 39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Group 40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1673" name="Rectangle 41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Rectangle 42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Group 43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1676" name="Rectangle 44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Rectangle 45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eigh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Group 46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1679" name="Rectangle 47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Rectangle 48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Group 49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1682" name="Rectangle 50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Rectangle 51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52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1685" name="Rectangle 53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Rectangle 54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"Cylinder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Group 55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1688" name="Rectangle 56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Rectangle 57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Group 58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1691" name="Rectangle 59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Rectangle 60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Group 61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1694" name="Rectangle 62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Rectangle 63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6" name="Group 64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1697" name="Rectangle 65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Rectangle 66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Group 67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1700" name="Rectangle 68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Rectangle 69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70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1703" name="Rectangle 71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Rectangle 72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5" name="Group 73"/>
          <p:cNvGrpSpPr/>
          <p:nvPr/>
        </p:nvGrpSpPr>
        <p:grpSpPr>
          <a:xfrm>
            <a:off x="3504960" y="1600200"/>
            <a:ext cx="3504960" cy="824040"/>
            <a:chOff x="3504960" y="1600200"/>
            <a:chExt cx="3504960" cy="824040"/>
          </a:xfrm>
        </p:grpSpPr>
        <p:sp>
          <p:nvSpPr>
            <p:cNvPr id="1706" name="Text Box 74"/>
            <p:cNvSpPr/>
            <p:nvPr/>
          </p:nvSpPr>
          <p:spPr>
            <a:xfrm>
              <a:off x="525744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75"/>
            <p:cNvSpPr/>
            <p:nvPr/>
          </p:nvSpPr>
          <p:spPr>
            <a:xfrm flipH="1">
              <a:off x="3504960" y="19051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1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298E-CF92-4AA6-94EB-9BA82184C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0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11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712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cylindr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715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and friend function definitions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718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721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724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727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730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733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736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739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Circle( r, x, y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742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745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748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751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eight = h &gt; 0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754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757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getHeigh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760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763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766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769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urface area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72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75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2 * 3.14159 * getRadius()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78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81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84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87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90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93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96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99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802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; Height = " &lt;&lt;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805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C3EE-8608-4A50-A1A5-48BD0A49B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10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811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2: fig10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814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shape, point, circle, cylinder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817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820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23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26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29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832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835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38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41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44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47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50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53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56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59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62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65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68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71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74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77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80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2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83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5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86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89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 point( 7, 11 );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92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( 3.5, 22, 8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4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95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 cylinder( 10, 3.3, 10,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a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98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901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.printShapeName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8ED4-7862-4B1A-8388-E86F01058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90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90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91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91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91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.printShapeName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91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92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92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92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.printShapeNam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93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.pri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93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93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94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hape *arrayOfShapes[ 3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rray of base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94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94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0] at derived-class Poi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94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0 ] = &amp;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95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95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1] at derived-class Circl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95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1 ] = &amp;circl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96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96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aim arrayOfShapes[2] at derived-class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96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rrayOfShapes[ 2 ] = &amp;cylin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7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7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Loop through arrayOfShapes and call virtualVia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7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7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98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98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se-class pointer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98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99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3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99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virtualViaPointer( arrayOfShapes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99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00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Loop through arrayOfShapes and call virtualVia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00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00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8" name="Rectangle 106"/>
          <p:cNvSpPr/>
          <p:nvPr/>
        </p:nvSpPr>
        <p:spPr>
          <a:xfrm>
            <a:off x="2296800" y="228600"/>
            <a:ext cx="14608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9" name="Group 109"/>
          <p:cNvGrpSpPr/>
          <p:nvPr/>
        </p:nvGrpSpPr>
        <p:grpSpPr>
          <a:xfrm>
            <a:off x="1523520" y="228600"/>
            <a:ext cx="3886560" cy="946800"/>
            <a:chOff x="1523520" y="228600"/>
            <a:chExt cx="3886560" cy="946800"/>
          </a:xfrm>
        </p:grpSpPr>
        <p:sp>
          <p:nvSpPr>
            <p:cNvPr id="2010" name="Text Box 107"/>
            <p:cNvSpPr/>
            <p:nvPr/>
          </p:nvSpPr>
          <p:spPr>
            <a:xfrm>
              <a:off x="2819520" y="83808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Line 108"/>
            <p:cNvSpPr/>
            <p:nvPr/>
          </p:nvSpPr>
          <p:spPr>
            <a:xfrm flipH="1" flipV="1">
              <a:off x="1523520" y="2286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Rectangle 110"/>
          <p:cNvSpPr/>
          <p:nvPr/>
        </p:nvSpPr>
        <p:spPr>
          <a:xfrm>
            <a:off x="3308400" y="83808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Rectangle 111"/>
          <p:cNvSpPr/>
          <p:nvPr/>
        </p:nvSpPr>
        <p:spPr>
          <a:xfrm>
            <a:off x="2403360" y="1752480"/>
            <a:ext cx="4661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4" name="Group 114"/>
          <p:cNvGrpSpPr/>
          <p:nvPr/>
        </p:nvGrpSpPr>
        <p:grpSpPr>
          <a:xfrm>
            <a:off x="2437920" y="2514600"/>
            <a:ext cx="4725000" cy="2102400"/>
            <a:chOff x="2437920" y="2514600"/>
            <a:chExt cx="4725000" cy="2102400"/>
          </a:xfrm>
        </p:grpSpPr>
        <p:sp>
          <p:nvSpPr>
            <p:cNvPr id="2015" name="Text Box 112"/>
            <p:cNvSpPr/>
            <p:nvPr/>
          </p:nvSpPr>
          <p:spPr>
            <a:xfrm>
              <a:off x="4572000" y="281952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n array of base class pointers.  Assign these to the objects, then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functions again, using the base class pointers. 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Line 113"/>
            <p:cNvSpPr/>
            <p:nvPr/>
          </p:nvSpPr>
          <p:spPr>
            <a:xfrm flipH="1" flipV="1">
              <a:off x="2437920" y="2514600"/>
              <a:ext cx="2133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Rectangle 115"/>
          <p:cNvSpPr/>
          <p:nvPr/>
        </p:nvSpPr>
        <p:spPr>
          <a:xfrm>
            <a:off x="4724280" y="5562720"/>
            <a:ext cx="4191120" cy="1014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Rectangle 116"/>
          <p:cNvSpPr/>
          <p:nvPr/>
        </p:nvSpPr>
        <p:spPr>
          <a:xfrm>
            <a:off x="3896280" y="4516560"/>
            <a:ext cx="4844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117"/>
          <p:cNvSpPr/>
          <p:nvPr/>
        </p:nvSpPr>
        <p:spPr>
          <a:xfrm>
            <a:off x="4800600" y="5029200"/>
            <a:ext cx="2057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Rectangle 118"/>
          <p:cNvSpPr/>
          <p:nvPr/>
        </p:nvSpPr>
        <p:spPr>
          <a:xfrm>
            <a:off x="5257800" y="5257800"/>
            <a:ext cx="3048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2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95BC-BE12-432D-BBF6-480FE4544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24" name="Group 4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2025" name="Rectangle 5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Rectangle 6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Group 7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2028" name="Rectangle 8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Rectangle 9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base-class reference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0" name="Group 10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2031" name="Rectangle 11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Rectangle 12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Group 13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2034" name="Rectangle 14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Rectangle 15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j = 0; j &lt; 3; j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6" name="Group 16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2037" name="Rectangle 17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Rectangle 18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virtualViaReference( *arrayOfShapes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9" name="Group 19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2040" name="Rectangle 20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Rectangle 21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Group 22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2043" name="Rectangle 23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Rectangle 24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5" name="Group 25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2046" name="Rectangle 26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Rectangle 27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Group 28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2049" name="Rectangle 29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Rectangle 30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Group 31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2052" name="Rectangle 32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Rectangle 33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Group 34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2055" name="Rectangle 35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Rectangle 36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Group 37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2058" name="Rectangle 38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Rectangle 39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Group 40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2061" name="Rectangle 41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Rectangle 42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Group 43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2064" name="Rectangle 44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Rectangle 45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Group 46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2067" name="Rectangle 47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Rectangle 48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Group 49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2070" name="Rectangle 50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Rectangle 51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rea = " &lt;&lt; baseClassPtr-&gt;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Group 52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2073" name="Rectangle 53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Rectangle 54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Volume = " &lt;&lt; baseClassPtr-&gt;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Group 55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2076" name="Rectangle 56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Rectangle 57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Group 58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2079" name="Rectangle 59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Rectangle 60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Group 61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2082" name="Rectangle 62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Rectangle 63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Group 64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2085" name="Rectangle 65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Rectangle 66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Group 67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2088" name="Rectangle 68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Rectangle 69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hap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Group 70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2091" name="Rectangle 71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Rectangle 72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Group 73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2094" name="Rectangle 74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Rectangle 75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Group 76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2097" name="Rectangle 77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Rectangle 78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Group 79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2100" name="Rectangle 80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Rectangle 81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Area = " &lt;&lt; baseClassRef.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Group 82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2103" name="Rectangle 83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Rectangle 84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Volume = " &lt;&lt; baseClassRef.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Group 85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2106" name="Rectangle 86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Rectangle 87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8" name="Group 90"/>
          <p:cNvGrpSpPr/>
          <p:nvPr/>
        </p:nvGrpSpPr>
        <p:grpSpPr>
          <a:xfrm>
            <a:off x="4038480" y="1294920"/>
            <a:ext cx="3886200" cy="657360"/>
            <a:chOff x="4038480" y="1294920"/>
            <a:chExt cx="3886200" cy="657360"/>
          </a:xfrm>
        </p:grpSpPr>
        <p:sp>
          <p:nvSpPr>
            <p:cNvPr id="2109" name="Text Box 88"/>
            <p:cNvSpPr/>
            <p:nvPr/>
          </p:nvSpPr>
          <p:spPr>
            <a:xfrm>
              <a:off x="5029200" y="1371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eat process using base-class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Line 89"/>
            <p:cNvSpPr/>
            <p:nvPr/>
          </p:nvSpPr>
          <p:spPr>
            <a:xfrm flipH="1" flipV="1">
              <a:off x="4038480" y="12949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1" name="Rectangle 91"/>
          <p:cNvSpPr/>
          <p:nvPr/>
        </p:nvSpPr>
        <p:spPr>
          <a:xfrm>
            <a:off x="3200400" y="1603440"/>
            <a:ext cx="4572000" cy="31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2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3A72-C332-4A62-9B2A-44E52D93A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Rectangle 3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8E10-C981-4327-8CB4-0A47723DB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to respond differently to the same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throug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pointer (or reference) call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chooses the correct overridden function i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base-class pointer then the base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derived-class pointer then derived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, *ePtr = &amp;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Worker h, *hPtr = &amp;h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call base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Ptr-&gt;print();    // call derived-class pri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=&amp;h;          // allowable implicit conver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still calls base-class pr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TE: Intelligent /extensible replacement for “switch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F2ED-1042-4110-A80F-D6E41FD61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bstract and Concret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 is to provide a base class for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bjects of an abstract base class can be instanti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generic to define real object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that 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 to make real objects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s “pure” by initializing the function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double earnings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A248-A06C-4C33-B5EE-61984DFC0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is a payro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sm to perform payroll calculations based on the type of an 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ch better than a field type + switch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4FB2-DD7E-45BA-BA27-993E3AE51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base cl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8" name="Group 4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09" name="Rectangle 5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employ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7"/>
            <p:cNvGrpSpPr/>
            <p:nvPr/>
          </p:nvGrpSpPr>
          <p:grpSpPr>
            <a:xfrm>
              <a:off x="0" y="350280"/>
              <a:ext cx="6780960" cy="325080"/>
              <a:chOff x="0" y="350280"/>
              <a:chExt cx="6780960" cy="325080"/>
            </a:xfrm>
          </p:grpSpPr>
          <p:sp>
            <p:nvSpPr>
              <p:cNvPr id="112" name="Rectangle 8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bstract base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10"/>
            <p:cNvGrpSpPr/>
            <p:nvPr/>
          </p:nvGrpSpPr>
          <p:grpSpPr>
            <a:xfrm>
              <a:off x="0" y="675720"/>
              <a:ext cx="6780960" cy="325440"/>
              <a:chOff x="0" y="675720"/>
              <a:chExt cx="6780960" cy="325440"/>
            </a:xfrm>
          </p:grpSpPr>
          <p:sp>
            <p:nvSpPr>
              <p:cNvPr id="115" name="Rectangle 11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3"/>
            <p:cNvGrpSpPr/>
            <p:nvPr/>
          </p:nvGrpSpPr>
          <p:grpSpPr>
            <a:xfrm>
              <a:off x="0" y="1001160"/>
              <a:ext cx="6780960" cy="325080"/>
              <a:chOff x="0" y="1001160"/>
              <a:chExt cx="6780960" cy="325080"/>
            </a:xfrm>
          </p:grpSpPr>
          <p:sp>
            <p:nvSpPr>
              <p:cNvPr id="118" name="Rectangle 14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0" y="1326600"/>
              <a:ext cx="6780960" cy="325080"/>
              <a:chOff x="0" y="1326600"/>
              <a:chExt cx="6780960" cy="325080"/>
            </a:xfrm>
          </p:grpSpPr>
          <p:sp>
            <p:nvSpPr>
              <p:cNvPr id="121" name="Rectangle 17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19"/>
            <p:cNvGrpSpPr/>
            <p:nvPr/>
          </p:nvGrpSpPr>
          <p:grpSpPr>
            <a:xfrm>
              <a:off x="0" y="1652040"/>
              <a:ext cx="6780960" cy="325080"/>
              <a:chOff x="0" y="1652040"/>
              <a:chExt cx="6780960" cy="325080"/>
            </a:xfrm>
          </p:grpSpPr>
          <p:sp>
            <p:nvSpPr>
              <p:cNvPr id="124" name="Rectangle 20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22"/>
            <p:cNvGrpSpPr/>
            <p:nvPr/>
          </p:nvGrpSpPr>
          <p:grpSpPr>
            <a:xfrm>
              <a:off x="0" y="1977120"/>
              <a:ext cx="6780960" cy="325440"/>
              <a:chOff x="0" y="1977120"/>
              <a:chExt cx="6780960" cy="325440"/>
            </a:xfrm>
          </p:grpSpPr>
          <p:sp>
            <p:nvSpPr>
              <p:cNvPr id="127" name="Rectangle 23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25"/>
            <p:cNvGrpSpPr/>
            <p:nvPr/>
          </p:nvGrpSpPr>
          <p:grpSpPr>
            <a:xfrm>
              <a:off x="0" y="2302920"/>
              <a:ext cx="6780960" cy="325080"/>
              <a:chOff x="0" y="2302920"/>
              <a:chExt cx="6780960" cy="325080"/>
            </a:xfrm>
          </p:grpSpPr>
          <p:sp>
            <p:nvSpPr>
              <p:cNvPr id="130" name="Rectangle 26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28"/>
            <p:cNvGrpSpPr/>
            <p:nvPr/>
          </p:nvGrpSpPr>
          <p:grpSpPr>
            <a:xfrm>
              <a:off x="0" y="2628000"/>
              <a:ext cx="6780960" cy="325080"/>
              <a:chOff x="0" y="2628000"/>
              <a:chExt cx="6780960" cy="325080"/>
            </a:xfrm>
          </p:grpSpPr>
          <p:sp>
            <p:nvSpPr>
              <p:cNvPr id="133" name="Rectangle 29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Employee();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// destructor reclaims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31"/>
            <p:cNvGrpSpPr/>
            <p:nvPr/>
          </p:nvGrpSpPr>
          <p:grpSpPr>
            <a:xfrm>
              <a:off x="0" y="2953440"/>
              <a:ext cx="6780960" cy="325080"/>
              <a:chOff x="0" y="2953440"/>
              <a:chExt cx="6780960" cy="325080"/>
            </a:xfrm>
          </p:grpSpPr>
          <p:sp>
            <p:nvSpPr>
              <p:cNvPr id="136" name="Rectangle 32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0" y="3278880"/>
              <a:ext cx="6780960" cy="325080"/>
              <a:chOff x="0" y="3278880"/>
              <a:chExt cx="6780960" cy="325080"/>
            </a:xfrm>
          </p:grpSpPr>
          <p:sp>
            <p:nvSpPr>
              <p:cNvPr id="139" name="Rectangle 35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37"/>
            <p:cNvGrpSpPr/>
            <p:nvPr/>
          </p:nvGrpSpPr>
          <p:grpSpPr>
            <a:xfrm>
              <a:off x="0" y="3603960"/>
              <a:ext cx="6780960" cy="325440"/>
              <a:chOff x="0" y="3603960"/>
              <a:chExt cx="6780960" cy="325440"/>
            </a:xfrm>
          </p:grpSpPr>
          <p:sp>
            <p:nvSpPr>
              <p:cNvPr id="142" name="Rectangle 38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40"/>
            <p:cNvGrpSpPr/>
            <p:nvPr/>
          </p:nvGrpSpPr>
          <p:grpSpPr>
            <a:xfrm>
              <a:off x="0" y="3929760"/>
              <a:ext cx="6780960" cy="325080"/>
              <a:chOff x="0" y="3929760"/>
              <a:chExt cx="6780960" cy="325080"/>
            </a:xfrm>
          </p:grpSpPr>
          <p:sp>
            <p:nvSpPr>
              <p:cNvPr id="145" name="Rectangle 41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ure virtual function makes Employee abstract bas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43"/>
            <p:cNvGrpSpPr/>
            <p:nvPr/>
          </p:nvGrpSpPr>
          <p:grpSpPr>
            <a:xfrm>
              <a:off x="0" y="4254840"/>
              <a:ext cx="6780960" cy="325080"/>
              <a:chOff x="0" y="4254840"/>
              <a:chExt cx="6780960" cy="325080"/>
            </a:xfrm>
          </p:grpSpPr>
          <p:sp>
            <p:nvSpPr>
              <p:cNvPr id="148" name="Rectangle 44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re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46"/>
            <p:cNvGrpSpPr/>
            <p:nvPr/>
          </p:nvGrpSpPr>
          <p:grpSpPr>
            <a:xfrm>
              <a:off x="0" y="4580280"/>
              <a:ext cx="6780960" cy="325080"/>
              <a:chOff x="0" y="4580280"/>
              <a:chExt cx="6780960" cy="325080"/>
            </a:xfrm>
          </p:grpSpPr>
          <p:sp>
            <p:nvSpPr>
              <p:cNvPr id="151" name="Rectangle 47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49"/>
            <p:cNvGrpSpPr/>
            <p:nvPr/>
          </p:nvGrpSpPr>
          <p:grpSpPr>
            <a:xfrm>
              <a:off x="0" y="4905720"/>
              <a:ext cx="6780960" cy="325440"/>
              <a:chOff x="0" y="4905720"/>
              <a:chExt cx="6780960" cy="325440"/>
            </a:xfrm>
          </p:grpSpPr>
          <p:sp>
            <p:nvSpPr>
              <p:cNvPr id="154" name="Rectangle 50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52"/>
            <p:cNvGrpSpPr/>
            <p:nvPr/>
          </p:nvGrpSpPr>
          <p:grpSpPr>
            <a:xfrm>
              <a:off x="0" y="5231160"/>
              <a:ext cx="6780960" cy="325080"/>
              <a:chOff x="0" y="5231160"/>
              <a:chExt cx="6780960" cy="325080"/>
            </a:xfrm>
          </p:grpSpPr>
          <p:sp>
            <p:nvSpPr>
              <p:cNvPr id="157" name="Rectangle 53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55"/>
            <p:cNvGrpSpPr/>
            <p:nvPr/>
          </p:nvGrpSpPr>
          <p:grpSpPr>
            <a:xfrm>
              <a:off x="0" y="5556600"/>
              <a:ext cx="6780960" cy="325080"/>
              <a:chOff x="0" y="5556600"/>
              <a:chExt cx="6780960" cy="325080"/>
            </a:xfrm>
          </p:grpSpPr>
          <p:sp>
            <p:nvSpPr>
              <p:cNvPr id="160" name="Rectangle 56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58"/>
            <p:cNvGrpSpPr/>
            <p:nvPr/>
          </p:nvGrpSpPr>
          <p:grpSpPr>
            <a:xfrm>
              <a:off x="0" y="5881680"/>
              <a:ext cx="6780960" cy="325080"/>
              <a:chOff x="0" y="5881680"/>
              <a:chExt cx="6780960" cy="325080"/>
            </a:xfrm>
          </p:grpSpPr>
          <p:sp>
            <p:nvSpPr>
              <p:cNvPr id="163" name="Rectangle 59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61"/>
            <p:cNvGrpSpPr/>
            <p:nvPr/>
          </p:nvGrpSpPr>
          <p:grpSpPr>
            <a:xfrm>
              <a:off x="0" y="6207120"/>
              <a:ext cx="6780960" cy="325440"/>
              <a:chOff x="0" y="6207120"/>
              <a:chExt cx="6780960" cy="325440"/>
            </a:xfrm>
          </p:grpSpPr>
          <p:sp>
            <p:nvSpPr>
              <p:cNvPr id="166" name="Rectangle 62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64"/>
            <p:cNvGrpSpPr/>
            <p:nvPr/>
          </p:nvGrpSpPr>
          <p:grpSpPr>
            <a:xfrm>
              <a:off x="0" y="6532560"/>
              <a:ext cx="6780960" cy="325080"/>
              <a:chOff x="0" y="6532560"/>
              <a:chExt cx="6780960" cy="325080"/>
            </a:xfrm>
          </p:grpSpPr>
          <p:sp>
            <p:nvSpPr>
              <p:cNvPr id="169" name="Rectangle 65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66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Text Box 67"/>
          <p:cNvSpPr/>
          <p:nvPr/>
        </p:nvSpPr>
        <p:spPr>
          <a:xfrm>
            <a:off x="6553080" y="350532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5"/>
          <p:cNvGrpSpPr/>
          <p:nvPr/>
        </p:nvGrpSpPr>
        <p:grpSpPr>
          <a:xfrm>
            <a:off x="4114800" y="3200400"/>
            <a:ext cx="4343040" cy="2411280"/>
            <a:chOff x="4114800" y="3200400"/>
            <a:chExt cx="4343040" cy="2411280"/>
          </a:xfrm>
        </p:grpSpPr>
        <p:sp>
          <p:nvSpPr>
            <p:cNvPr id="173" name="Line 73"/>
            <p:cNvSpPr/>
            <p:nvPr/>
          </p:nvSpPr>
          <p:spPr>
            <a:xfrm flipH="1">
              <a:off x="4114800" y="4267080"/>
              <a:ext cx="24321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2"/>
            <p:cNvSpPr/>
            <p:nvPr/>
          </p:nvSpPr>
          <p:spPr>
            <a:xfrm>
              <a:off x="6460200" y="3200400"/>
              <a:ext cx="1997640" cy="2411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clared p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the implementation will depend on which derived class it will be us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12E-73B3-4EBB-A29E-90836C8F0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8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79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0.1: employ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82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bstract base class Employe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88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te: No definitions given for pure virtual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91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94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97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0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3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6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09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12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15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18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21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24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27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30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33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fir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36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39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42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45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48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51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54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57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60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63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66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69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72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5F9B-4ACD-4429-ADB8-15A1C0B86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05720" y="761760"/>
            <a:ext cx="25905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77" name="Group 4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278" name="Rectangle 5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6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7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281" name="Rectangle 8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Rectangle 9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a pointer to the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10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284" name="Rectangle 11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3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287" name="Rectangle 14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Rectangle 15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6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290" name="Rectangle 17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Rectangle 18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9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293" name="Rectangle 20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21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22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296" name="Rectangle 23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24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25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299" name="Rectangle 26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27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28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302" name="Rectangle 29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30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31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305" name="Rectangle 32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33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34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308" name="Rectangle 35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36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a pointer to the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7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311" name="Rectangle 38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39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40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314" name="Rectangle 41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42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3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317" name="Rectangle 44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45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46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320" name="Rectangle 47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48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9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323" name="Rectangle 50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51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52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326" name="Rectangle 53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54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55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329" name="Rectangle 56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57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58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332" name="Rectangle 59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60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61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335" name="Rectangle 62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63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name of the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64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338" name="Rectangle 65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66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67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341" name="Rectangle 68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69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7:03:25Z</dcterms:created>
  <dc:creator>jason</dc:creator>
  <dc:description/>
  <dc:language>en-US</dc:language>
  <cp:lastModifiedBy>Marcoma'</cp:lastModifiedBy>
  <dcterms:modified xsi:type="dcterms:W3CDTF">2008-06-03T08:49:55Z</dcterms:modified>
  <cp:revision>457</cp:revision>
  <dc:subject/>
  <dc:title>Chapter 1 – Introduction to Computers and C++ Programming</dc:title>
</cp:coreProperties>
</file>