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9B2D-0DAA-4CCD-B700-015F5BB19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71AD-6B0C-4667-A2CB-FEA779471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516B-D37C-462D-8386-30FF6AAEB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294B-E3FC-4D5E-AD0B-B33BD224D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0457-BC56-4F2D-8655-D6C6D0E4D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D919-5AF0-49D2-84D3-C209B61F8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6F94-2C74-4D8D-97B7-737A0C556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2A30-4AB0-428F-A4DC-E451DAEAD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DB12-A262-4DA2-B3B0-72140EFA9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6499-2ADA-45A3-BADE-8A31C480F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8AEC-AED8-4BF2-9E6D-B6D6C78ED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C8CA-9D29-47FB-A957-45311D6A7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C9B-0A54-42E2-99CA-D0646507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1 – Complexity of Algorith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609480" y="1295280"/>
            <a:ext cx="82836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3300"/>
                </a:solidFill>
                <a:uFillTx/>
                <a:latin typeface="AvantGarde"/>
              </a:rPr>
              <a:t>Sommario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esatta di compless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asinto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Notazione </a:t>
            </a:r>
            <a:r>
              <a:rPr b="1" i="1" lang="it-IT" sz="20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Caso peggiore/caso migl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005360"/>
            <a:ext cx="28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1; // 2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(N+1)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*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 (at 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8N</a:t>
            </a:r>
            <a:r>
              <a:rPr b="1" lang="it-IT" sz="20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+ 12N +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 algoritmo più “furbo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63760" y="2990880"/>
          <a:ext cx="628488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2990880"/>
                    <a:ext cx="628488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5750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sa si analizza/valuta di un algoritm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tt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strazione formale (matema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ezione infor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za/Utilizzo delle riso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i esecu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lla mem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lic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e da capire e da manuten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13372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 (at 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16N + 1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7880" y="3276720"/>
          <a:ext cx="8315280" cy="231768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3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2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66920" y="1111320"/>
          <a:ext cx="6408720" cy="193680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3800" y="5739480"/>
            <a:ext cx="88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ZIONE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ifferenza diventa molto rilevante al crescere dell’Inpu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sideriamo l’Analisi Asintot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nalisi asintotica: notazione </a:t>
            </a:r>
            <a:r>
              <a:rPr b="1" i="1" lang="it-IT" sz="28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066680"/>
            <a:ext cx="7772400" cy="15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 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otazion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O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dichiamo che un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f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imitata superiormente (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dominat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da un’altr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ù formalmen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2880" y="4365720"/>
            <a:ext cx="805356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n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non cresce più velocemente di una funzione line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significat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f </a:t>
            </a:r>
            <a:r>
              <a:rPr b="0" lang="it-IT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  <a:ea typeface="ＭＳ Ｐゴシック"/>
              </a:rPr>
              <a:t>O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simile a quell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p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Arial"/>
              </a:rPr>
              <a:t>≤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ra numer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2838600"/>
          <a:ext cx="60706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38600"/>
                    <a:ext cx="60706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Esem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2440" y="2111400"/>
          <a:ext cx="842472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111400"/>
                    <a:ext cx="842472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lessità algoritmic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imes New Roman"/>
              </a:rPr>
              <a:t>La complessità di un algoritm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ò essere espressa mediante notazione asintotica: “come varia asintoticamente il numero di Operazioni Elementari al variare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1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b-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pprossimativamente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u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i="1" lang="it-IT" sz="22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on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algoritmi per risolvere i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blema dell’ordin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 ……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61920" y="1916280"/>
          <a:ext cx="7256520" cy="3168360"/>
        </p:xfrm>
        <a:graphic>
          <a:graphicData uri="http://schemas.openxmlformats.org/drawingml/2006/table">
            <a:tbl>
              <a:tblPr/>
              <a:tblGrid>
                <a:gridCol w="2159280"/>
                <a:gridCol w="2501640"/>
                <a:gridCol w="2595600"/>
              </a:tblGrid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2, -4, 8, 3, -5, 4, 6, -7, 2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16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j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9600" y="30463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463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Tempo di </a:t>
            </a: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mpo di esecuzione di un programm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pend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ila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oter confrontare l’efficienza di programmi diversi, è necessario prescindere (astrarre) dalle specificità di particolari computer e compil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odello di Computazio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4922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9280" y="3187800"/>
            <a:ext cx="3133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6N+5)/2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149720"/>
            <a:ext cx="313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j; // 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+</a:t>
            </a:r>
            <a:br>
              <a:rPr sz="1600"/>
            </a:b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         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78560" y="5734080"/>
          <a:ext cx="32414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8560" y="5734080"/>
                    <a:ext cx="3241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3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3N+2)/6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8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13N + 6  OE   ovvero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’idea più “furba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ssiamo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ciamo variare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mmiamo i prim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lementi incrementando la somma parziale calcolata al passo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 -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frontiamo la nuova somma parziale con il massim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79600" y="28051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8051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Modello computaziona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ello RAM (Random-Access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moria principale infin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gni cella di memoria può contenere una quantità di dati fin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iega lo stesso tempo per accedere ad ogni cella di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ngolo process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t delle istruzioni element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erazioni Elementari (OE) eseguibili in una unità di tempo (per semplic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chiarazione di varia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dizione/moltiplicazione/divisione/modulo/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ssegn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ettura/scrittura di un intero/caratt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2492280"/>
            <a:ext cx="23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6560" y="3511440"/>
            <a:ext cx="313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 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52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4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 + 17N + 6  OE quindi </a:t>
            </a:r>
            <a:r>
              <a:rPr b="1" i="1" lang="pt-BR" sz="22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07880" y="3860640"/>
          <a:ext cx="8315280" cy="231804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1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95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29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7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7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66920" y="1111320"/>
          <a:ext cx="6408720" cy="231768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7640" y="2205000"/>
          <a:ext cx="7256520" cy="3168720"/>
        </p:xfrm>
        <a:graphic>
          <a:graphicData uri="http://schemas.openxmlformats.org/drawingml/2006/table">
            <a:tbl>
              <a:tblPr/>
              <a:tblGrid>
                <a:gridCol w="2158920"/>
                <a:gridCol w="2502000"/>
                <a:gridCol w="259560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1, 2, -1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19280" y="2970360"/>
          <a:ext cx="597204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70360"/>
                    <a:ext cx="597204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Caso Migliore e Caso Peggi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mero di istruzioni da eseguire può variare significativamente, anche su input della stessa dimensione, a seconda della “forma” dell’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caso de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ubble So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ambia molto se il vettore in input è già ordinato oppure molto “disordinato” (ordinato al contra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zziamo Caso Migliore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o Pe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Bubble sort algorith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[i-1] &gt; L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ero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1 so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076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5N + 11 OE 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N-1 vol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+ N - 2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4221000"/>
            <a:ext cx="360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*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(N-1)/2 + 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*N(N-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6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 + 5N – 6 OE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nclusion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meno di essere particolarmente “fortunati” …  non ci imbatteremo quasi  mai nel caso migli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nalisi del caso peggiore ci garantisce un tempo massimo entro cui il programma comunque 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ò motiva l’assunzione di considerare solo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nalisi asintotica del caso pegg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picamente Bubblesort è usato per non più di 100 ele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7194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10-06-03T08:40:06Z</dcterms:modified>
  <cp:revision>871</cp:revision>
  <dc:subject/>
  <dc:title>Chapter 1 – Introduction to Computers and C++ Programming</dc:title>
</cp:coreProperties>
</file>