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24E6-9F85-4A69-B817-DE8BE7A25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FBE0-20BA-4614-BFDD-3CD46B2D3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6154-5B39-4033-A00E-582F055E5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DD18-563B-4259-B7D2-52B2FD1E3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8CD7-0788-40CB-A46F-A0191869D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B30E-71C9-471E-B560-5175C65CA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EEC2-B9A4-429C-94D9-ACE05113C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E4AB-5E90-4A56-AF52-57DF318F2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9B89-C44E-4C57-9214-BA5A814BE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824F-5965-4433-A7BC-447976549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5AC4-07DA-4337-8523-D92304B9A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9142-CBFC-4781-801A-1A94140F6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A7EB-8CDF-4FD5-9BF9-FC00170D8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11 – Complexity of Algorithm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609480" y="1295280"/>
            <a:ext cx="82836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3300"/>
                </a:solidFill>
                <a:uFillTx/>
                <a:latin typeface="AvantGarde"/>
              </a:rPr>
              <a:t>Sommario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Intro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Analisi esatta di compless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Analisi asinto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Notazione </a:t>
            </a:r>
            <a:r>
              <a:rPr b="1" i="1" lang="it-IT" sz="2000" spc="-1" strike="noStrike">
                <a:solidFill>
                  <a:srgbClr val="ff3300"/>
                </a:solidFill>
                <a:latin typeface="AvantGarde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Caso peggiore/caso migli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N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4005360"/>
            <a:ext cx="288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j=1; // 2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&lt;=N; // (N+1)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++; // 2N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5N * 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 (at most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TOTALE: 8N</a:t>
            </a:r>
            <a:r>
              <a:rPr b="1" lang="it-IT" sz="2000" spc="-1" strike="noStrike" baseline="30000">
                <a:solidFill>
                  <a:srgbClr val="33cc33"/>
                </a:solidFill>
                <a:latin typeface="Courier New"/>
              </a:rPr>
              <a:t>2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+ 12N +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Un algoritmo più “furbo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63760" y="2990880"/>
          <a:ext cx="628488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2990880"/>
                    <a:ext cx="628488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57508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sa si analizza/valuta di un algoritm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tt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ostrazione formale (matemati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ezione infor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za/Utilizzo delle riso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 di esecu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lla mem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plic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e da capire e da manuten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13372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5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N OE (at m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TOTALE: 16N + 1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7880" y="3276720"/>
          <a:ext cx="8315280" cy="2317680"/>
        </p:xfrm>
        <a:graphic>
          <a:graphicData uri="http://schemas.openxmlformats.org/drawingml/2006/table">
            <a:tbl>
              <a:tblPr/>
              <a:tblGrid>
                <a:gridCol w="1704960"/>
                <a:gridCol w="796680"/>
                <a:gridCol w="797040"/>
                <a:gridCol w="797040"/>
                <a:gridCol w="642960"/>
                <a:gridCol w="820800"/>
                <a:gridCol w="831600"/>
                <a:gridCol w="943200"/>
                <a:gridCol w="981000"/>
              </a:tblGrid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5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3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2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366920" y="1111320"/>
          <a:ext cx="6408720" cy="1936800"/>
        </p:xfrm>
        <a:graphic>
          <a:graphicData uri="http://schemas.openxmlformats.org/drawingml/2006/table">
            <a:tbl>
              <a:tblPr/>
              <a:tblGrid>
                <a:gridCol w="2158920"/>
                <a:gridCol w="42498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 Esecuzione (n° O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2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6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63800" y="5739480"/>
            <a:ext cx="887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SSERVAZIONE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differenza diventa molto rilevante al crescere dell’Inpu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sideriamo l’Analisi Asintotic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nalisi asintotica: notazione </a:t>
            </a:r>
            <a:r>
              <a:rPr b="1" i="1" lang="it-IT" sz="2800" spc="-1" strike="noStrike">
                <a:solidFill>
                  <a:srgbClr val="ff3300"/>
                </a:solidFill>
                <a:latin typeface="AvantGarde"/>
              </a:rPr>
              <a:t>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1120" y="1066680"/>
            <a:ext cx="7772400" cy="15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 l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notazion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O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dichiamo che una funzion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f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imitata superiormente (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dominata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da un’altra funzion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iù formalment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2880" y="4365720"/>
            <a:ext cx="8053560" cy="19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in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 </a:t>
            </a:r>
            <a:r>
              <a:rPr b="0" lang="it-IT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1800" spc="-1" strike="noStrike">
                <a:solidFill>
                  <a:srgbClr val="3333cc"/>
                </a:solidFill>
                <a:latin typeface="Harrington"/>
                <a:ea typeface="ＭＳ Ｐゴシック"/>
              </a:rPr>
              <a:t>O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(1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gnifica che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è limit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 </a:t>
            </a:r>
            <a:r>
              <a:rPr b="0" lang="it-IT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1800" spc="-1" strike="noStrike">
                <a:solidFill>
                  <a:srgbClr val="3333cc"/>
                </a:solidFill>
                <a:latin typeface="Harrington"/>
                <a:ea typeface="ＭＳ Ｐゴシック"/>
              </a:rPr>
              <a:t>O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(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n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gnifica che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non cresce più velocemente di una funzione line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l significato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f </a:t>
            </a:r>
            <a:r>
              <a:rPr b="0" lang="it-IT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  <a:ea typeface="ＭＳ Ｐゴシック"/>
              </a:rPr>
              <a:t>O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è simile a quello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p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Arial"/>
              </a:rPr>
              <a:t>≤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ra numer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47640" y="2838600"/>
          <a:ext cx="60706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38600"/>
                    <a:ext cx="60706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Esem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52440" y="2111400"/>
          <a:ext cx="842472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111400"/>
                    <a:ext cx="842472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lessità algoritmic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2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imes New Roman"/>
              </a:rPr>
              <a:t>La complessità di un algoritm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uò essere espressa mediante notazione asintotica: “come varia asintoticamente il numero di Operazioni Elementari al variare d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1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Euclid"/>
              </a:rPr>
              <a:t>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ub-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Euclid"/>
              </a:rPr>
              <a:t> 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pprossimativamente 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uadr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u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i="1" lang="it-IT" sz="2200" spc="-1" strike="noStrike" baseline="30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spon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ue algoritmi per risolvere i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roblema dell’ordinam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ubblesor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ergesor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it-IT" sz="20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lo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 …….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61920" y="1916280"/>
          <a:ext cx="7256520" cy="3168360"/>
        </p:xfrm>
        <a:graphic>
          <a:graphicData uri="http://schemas.openxmlformats.org/drawingml/2006/table">
            <a:tbl>
              <a:tblPr/>
              <a:tblGrid>
                <a:gridCol w="2159280"/>
                <a:gridCol w="2501640"/>
                <a:gridCol w="2595600"/>
              </a:tblGrid>
              <a:tr h="87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Esecuzione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n° 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ompless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2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6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Problem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2, -4, 8, 3, -5, 4, 6, -7, 2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dov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S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16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ttenuto quando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3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j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79600" y="3046320"/>
          <a:ext cx="52531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3046320"/>
                    <a:ext cx="52531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Tempo di </a:t>
            </a: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empo di esecuzione di un programma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pende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mpila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poter confrontare l’efficienza di programmi diversi, è necessario prescindere (astrarre) dalle specificità di particolari computer e compil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Modello di Computazio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249228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59280" y="3187800"/>
            <a:ext cx="3133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j=i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&lt;=N; // N(N+1)/2 +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++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N(N+1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1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1)/2 OE (at most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N(N</a:t>
            </a:r>
            <a:r>
              <a:rPr b="1" lang="it-IT" sz="21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+6N+5)/2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4149720"/>
            <a:ext cx="3133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k=i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&lt;=j; // N(N</a:t>
            </a:r>
            <a:r>
              <a:rPr b="1" lang="it-IT" sz="1600" spc="-1" strike="noStrike" baseline="30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+3N+2)/6 +</a:t>
            </a:r>
            <a:br>
              <a:rPr sz="1600"/>
            </a:b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         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++; // 2N(N</a:t>
            </a:r>
            <a:r>
              <a:rPr b="1" lang="it-IT" sz="1600" spc="-1" strike="noStrike" baseline="30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+3N+2)/6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578560" y="5734080"/>
          <a:ext cx="324144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8560" y="5734080"/>
                    <a:ext cx="32414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3N(N</a:t>
            </a:r>
            <a:r>
              <a:rPr b="1" lang="it-IT" sz="21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+3N+2)/6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TOTALE: 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3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 + 8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 + 13N + 6  OE   ovvero 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3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Un’idea più “furba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ssiamo l’indice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cciamo variare l’indice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a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mmiamo i prim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lementi incrementando la somma parziale calcolata al passo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 -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frontiamo la nuova somma parziale con il massimo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79600" y="2805120"/>
          <a:ext cx="52531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805120"/>
                    <a:ext cx="52531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Modello computaziona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odello RAM (Random-Access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Memoria principale infin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gni cella di memoria può contenere una quantità di dati fin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iega lo stesso tempo per accedere ad ogni cella di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ngolo process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t delle istruzioni element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perazioni Elementari (OE) eseguibili in una unità di tempo (per semplicità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ichiarazione di varia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dizione/moltiplicazione/divisione/modulo/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ssegn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fro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ettura/scrittura di un intero/caratt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2492280"/>
            <a:ext cx="237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6560" y="3511440"/>
            <a:ext cx="3133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k=i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&lt;=N; // N(N+1)/2 +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++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3)/2 OE  (at most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52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TOTALE: 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4N</a:t>
            </a:r>
            <a:r>
              <a:rPr b="1" lang="pt-BR" sz="22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 + 17N + 6  OE quindi </a:t>
            </a:r>
            <a:r>
              <a:rPr b="1" i="1" lang="pt-BR" sz="22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pt-BR" sz="22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07880" y="3860640"/>
          <a:ext cx="8315280" cy="2318040"/>
        </p:xfrm>
        <a:graphic>
          <a:graphicData uri="http://schemas.openxmlformats.org/drawingml/2006/table">
            <a:tbl>
              <a:tblPr/>
              <a:tblGrid>
                <a:gridCol w="1704960"/>
                <a:gridCol w="796680"/>
                <a:gridCol w="797040"/>
                <a:gridCol w="797040"/>
                <a:gridCol w="642960"/>
                <a:gridCol w="820800"/>
                <a:gridCol w="831600"/>
                <a:gridCol w="943200"/>
                <a:gridCol w="98100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13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95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229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6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7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7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366920" y="1111320"/>
          <a:ext cx="6408720" cy="2317680"/>
        </p:xfrm>
        <a:graphic>
          <a:graphicData uri="http://schemas.openxmlformats.org/drawingml/2006/table">
            <a:tbl>
              <a:tblPr/>
              <a:tblGrid>
                <a:gridCol w="2158920"/>
                <a:gridCol w="424980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 Esecuzione (n° O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7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7640" y="2205000"/>
          <a:ext cx="7256520" cy="3168720"/>
        </p:xfrm>
        <a:graphic>
          <a:graphicData uri="http://schemas.openxmlformats.org/drawingml/2006/table">
            <a:tbl>
              <a:tblPr/>
              <a:tblGrid>
                <a:gridCol w="2158920"/>
                <a:gridCol w="2502000"/>
                <a:gridCol w="2595600"/>
              </a:tblGrid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Esecuzione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n° 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ompless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N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7N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Problem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1, 2, -1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dov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M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5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ttenuto quando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19280" y="2970360"/>
          <a:ext cx="597204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70360"/>
                    <a:ext cx="597204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Caso Migliore e Caso Peggi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numero di istruzioni da eseguire può variare significativamente, anche su input della stessa dimensione, a seconda della “forma” dell’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 caso del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ubble Sor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cambia molto se il vettore in input è già ordinato oppure molto “disordinato” (ordinato al contrar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alizziamo Caso Migliore 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so Pegg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Bubble sort algorith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[i-1] &gt; L[i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ero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 </a:t>
            </a:r>
            <a:r>
              <a:rPr b="1" lang="en-US" sz="1800" spc="-1" strike="noStrike">
                <a:solidFill>
                  <a:srgbClr val="33cc33"/>
                </a:solidFill>
                <a:latin typeface="Courier New"/>
              </a:rPr>
              <a:t>(entriamo 1 sola vol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N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40766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k; //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TOTALE: 5N + 11 OE    ovvero </a:t>
            </a:r>
            <a:r>
              <a:rPr b="1" i="1" lang="it-IT" sz="18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 OE </a:t>
            </a:r>
            <a:r>
              <a:rPr b="1" lang="en-US" sz="1800" spc="-1" strike="noStrike">
                <a:solidFill>
                  <a:srgbClr val="33cc33"/>
                </a:solidFill>
                <a:latin typeface="Courier New"/>
              </a:rPr>
              <a:t>(entriamo N-1 vol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(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+ N - 2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4221000"/>
            <a:ext cx="3600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*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k; // N(N-1)/2 + 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*N(N-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713040" y="5950080"/>
          <a:ext cx="47880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3040" y="5950080"/>
                    <a:ext cx="4788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713040" y="5950080"/>
          <a:ext cx="47880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3040" y="5950080"/>
                    <a:ext cx="4788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TOTALE: 6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 + 5N – 6 OE   ovvero </a:t>
            </a:r>
            <a:r>
              <a:rPr b="1" i="1" lang="it-IT" sz="18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nclusion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meno di essere particolarmente “fortunati” …  non ci imbatteremo quasi  mai nel caso migli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nalisi del caso peggiore ci garantisce un tempo massimo entro cui il programma comunque ter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ò motiva l’assunzione di considerare solo 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nalisi asintotica del caso peggi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d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Bubblesor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(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Mergesor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(N log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picamente Bubblesort è usato per non più di 100 elem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7194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7:03:25Z</dcterms:created>
  <dc:creator>jason</dc:creator>
  <dc:description/>
  <dc:language>en-US</dc:language>
  <cp:lastModifiedBy>Marcoma'</cp:lastModifiedBy>
  <dcterms:modified xsi:type="dcterms:W3CDTF">2010-06-03T08:40:06Z</dcterms:modified>
  <cp:revision>871</cp:revision>
  <dc:subject/>
  <dc:title>Chapter 1 – Introduction to Computers and C++ Programming</dc:title>
</cp:coreProperties>
</file>