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7834-1C72-4618-B8C0-5DA739CA8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332E-5EEE-40B2-B6BC-2D524B71D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673B-5EE3-47E5-9A4A-0A8E54D47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5A46-00AA-4CE3-A71D-B5B606069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4CEA-E679-41EC-B981-1297B5CFC9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8DF9-6575-4330-90A4-0114516067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B189-DA75-4C2A-A075-5E17928273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35873-0307-4BC1-9043-405BF09DA6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CDBA-C60D-4840-BB73-43AC5D76D3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7669-6D52-47C3-9D6C-5BF8A96CB5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66811-B1D1-4CFC-878E-06790D27FE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8156-2ACC-4382-8D45-9AA10D6D4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3C64-3654-4308-9346-E8DAF32116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965C-830F-4EEA-BB68-9FCA4361B3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FDFC-8F63-432D-A52E-6E009B2AB0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1F11-8674-429F-9F0A-EBEEBA9DEF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9740-CE89-434B-912F-712ABD69C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D19D-BAC3-4D96-ABD2-E5142D2B1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CCE3-983C-47DD-A77C-209B22BCB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03EF-265F-406B-9DCF-50FB25DE4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828E-389F-4B7C-A0DE-E1C476B6B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60A4-27EA-4B64-AA9E-E1BC9A03F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06C2-2B6D-49B1-84AC-00B0C86E9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50CF-1E3D-4E57-8C89-F8266CE7F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3ED1-9934-48DE-BC37-ED976DBEF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309B-2653-4CDD-82A4-248A683E5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6: Classe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 Defini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ing Members of Structure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a User-Defined Type Time with a Struc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a Time Abstract Data Type with a Clas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Scope and Accessing Class Members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parating Interface from Implementa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rolling Access to Members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 Functions and Utility Func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itializing Class Objects: Con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fault Arguments with Con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en Constructors and Destructors Are Called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ata Members and Member Func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ubtle Trap: Returning a Reference to 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ivate Data 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ssignment by Default Memberwise Cop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ftware Reus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7EC9-5E2E-4D77-B204-443F02D617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an limit the access to their member functions 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hree types of access a class can grant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the program has access to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private and discuss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 that initializes the data members of a 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235A-6C76-4B55-93C4-226086EEEE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efinition and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a class has been defined, it can be used as a type in object, array and pointer 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28954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sunset,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arrayOfTimes[ 5 ],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*pointerToTime,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212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419112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he class name becomes the new type specif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CEF2-0F63-4E27-A32A-18F60D226F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48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3: fig06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(ADT)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–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onstructor initializes each data member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s all Time objects start in a consistent sta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) { hour = minute = second 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a new Time value using military time. Perform validit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ecks on the data values. Set invalid values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4647960" y="4495680"/>
            <a:ext cx="4038480" cy="580680"/>
            <a:chOff x="4647960" y="4495680"/>
            <a:chExt cx="4038480" cy="580680"/>
          </a:xfrm>
        </p:grpSpPr>
        <p:sp>
          <p:nvSpPr>
            <p:cNvPr id="445" name=""/>
            <p:cNvSpPr/>
            <p:nvPr/>
          </p:nvSpPr>
          <p:spPr>
            <a:xfrm>
              <a:off x="6553080" y="44956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eceding the function na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647960" y="48769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default values for the ti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13BC-2819-49B1-8A20-7650E82DA4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449" name=""/>
            <p:cNvGrpSpPr/>
            <p:nvPr/>
          </p:nvGrpSpPr>
          <p:grpSpPr>
            <a:xfrm>
              <a:off x="0" y="0"/>
              <a:ext cx="6705000" cy="234000"/>
              <a:chOff x="0" y="0"/>
              <a:chExt cx="6705000" cy="23400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34000"/>
              <a:ext cx="6705000" cy="234000"/>
              <a:chOff x="0" y="234000"/>
              <a:chExt cx="6705000" cy="2340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68360"/>
              <a:ext cx="6705000" cy="234000"/>
              <a:chOff x="0" y="468360"/>
              <a:chExt cx="6705000" cy="23400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702720"/>
              <a:ext cx="6705000" cy="234000"/>
              <a:chOff x="0" y="702720"/>
              <a:chExt cx="6705000" cy="23400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936720"/>
              <a:ext cx="6705000" cy="234000"/>
              <a:chOff x="0" y="936720"/>
              <a:chExt cx="6705000" cy="23400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1171080"/>
              <a:ext cx="6705000" cy="234000"/>
              <a:chOff x="0" y="1171080"/>
              <a:chExt cx="6705000" cy="2340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1405440"/>
              <a:ext cx="6705000" cy="234000"/>
              <a:chOff x="0" y="1405440"/>
              <a:chExt cx="6705000" cy="23400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1639440"/>
              <a:ext cx="6705000" cy="234000"/>
              <a:chOff x="0" y="1639440"/>
              <a:chExt cx="6705000" cy="23400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1873800"/>
              <a:ext cx="6705000" cy="234000"/>
              <a:chOff x="0" y="1873800"/>
              <a:chExt cx="6705000" cy="23400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2108160"/>
              <a:ext cx="6705000" cy="234000"/>
              <a:chOff x="0" y="2108160"/>
              <a:chExt cx="6705000" cy="23400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2342160"/>
              <a:ext cx="6705000" cy="234000"/>
              <a:chOff x="0" y="2342160"/>
              <a:chExt cx="6705000" cy="23400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576520"/>
              <a:ext cx="6705000" cy="234000"/>
              <a:chOff x="0" y="2576520"/>
              <a:chExt cx="6705000" cy="23400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810880"/>
              <a:ext cx="6705000" cy="234000"/>
              <a:chOff x="0" y="2810880"/>
              <a:chExt cx="6705000" cy="2340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3045240"/>
              <a:ext cx="6705000" cy="234000"/>
              <a:chOff x="0" y="3045240"/>
              <a:chExt cx="6705000" cy="23400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3279240"/>
              <a:ext cx="6705000" cy="234000"/>
              <a:chOff x="0" y="3279240"/>
              <a:chExt cx="6705000" cy="23400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3513600"/>
              <a:ext cx="6705000" cy="234000"/>
              <a:chOff x="0" y="3513600"/>
              <a:chExt cx="6705000" cy="23400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3747960"/>
              <a:ext cx="6705000" cy="234000"/>
              <a:chOff x="0" y="3747960"/>
              <a:chExt cx="6705000" cy="2340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3981960"/>
              <a:ext cx="6705000" cy="234000"/>
              <a:chOff x="0" y="3981960"/>
              <a:chExt cx="6705000" cy="23400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to test simple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4216320"/>
              <a:ext cx="6705000" cy="234000"/>
              <a:chOff x="0" y="4216320"/>
              <a:chExt cx="6705000" cy="23400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4450680"/>
              <a:ext cx="6705000" cy="234000"/>
              <a:chOff x="0" y="4450680"/>
              <a:chExt cx="6705000" cy="23400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4685040"/>
              <a:ext cx="6705000" cy="234000"/>
              <a:chOff x="0" y="4685040"/>
              <a:chExt cx="6705000" cy="2340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stantiate object t of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4919040"/>
              <a:ext cx="6705000" cy="234000"/>
              <a:chOff x="0" y="4919040"/>
              <a:chExt cx="6705000" cy="23400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5153400"/>
              <a:ext cx="6705000" cy="234000"/>
              <a:chOff x="0" y="5153400"/>
              <a:chExt cx="6705000" cy="23400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initial military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5387400"/>
              <a:ext cx="6705000" cy="234000"/>
              <a:chOff x="0" y="5387400"/>
              <a:chExt cx="6705000" cy="23400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5621760"/>
              <a:ext cx="6705000" cy="234000"/>
              <a:chOff x="0" y="5621760"/>
              <a:chExt cx="6705000" cy="2340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initial standard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5856120"/>
              <a:ext cx="6705000" cy="234000"/>
              <a:chOff x="0" y="5856120"/>
              <a:chExt cx="6705000" cy="23400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6090480"/>
              <a:ext cx="6705000" cy="234000"/>
              <a:chOff x="0" y="6090480"/>
              <a:chExt cx="6705000" cy="23400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2590560" y="5334120"/>
            <a:ext cx="6019920" cy="824040"/>
            <a:chOff x="2590560" y="5334120"/>
            <a:chExt cx="6019920" cy="824040"/>
          </a:xfrm>
        </p:grpSpPr>
        <p:sp>
          <p:nvSpPr>
            <p:cNvPr id="531" name=""/>
            <p:cNvSpPr/>
            <p:nvPr/>
          </p:nvSpPr>
          <p:spPr>
            <a:xfrm>
              <a:off x="6324480" y="53341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s are called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590560" y="5715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fine the two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Print the initial (default) time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34" name=""/>
          <p:cNvSpPr/>
          <p:nvPr/>
        </p:nvSpPr>
        <p:spPr>
          <a:xfrm>
            <a:off x="4419720" y="4622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DC64-E827-42E8-8DBD-E1CE3DEFF5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0" y="0"/>
            <a:ext cx="6705000" cy="3571560"/>
            <a:chOff x="0" y="0"/>
            <a:chExt cx="6705000" cy="3571560"/>
          </a:xfrm>
        </p:grpSpPr>
        <p:grpSp>
          <p:nvGrpSpPr>
            <p:cNvPr id="536" name=""/>
            <p:cNvGrpSpPr/>
            <p:nvPr/>
          </p:nvGrpSpPr>
          <p:grpSpPr>
            <a:xfrm>
              <a:off x="0" y="0"/>
              <a:ext cx="6705000" cy="237960"/>
              <a:chOff x="0" y="0"/>
              <a:chExt cx="6705000" cy="23796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13, 27,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237960"/>
              <a:ext cx="6705000" cy="237960"/>
              <a:chOff x="0" y="237960"/>
              <a:chExt cx="6705000" cy="23796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Military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475920"/>
              <a:ext cx="6705000" cy="237960"/>
              <a:chOff x="0" y="475920"/>
              <a:chExt cx="6705000" cy="23796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714240"/>
              <a:ext cx="6705000" cy="237960"/>
              <a:chOff x="0" y="714240"/>
              <a:chExt cx="6705000" cy="23796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952200"/>
              <a:ext cx="6705000" cy="237960"/>
              <a:chOff x="0" y="952200"/>
              <a:chExt cx="6705000" cy="23796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1190520"/>
              <a:ext cx="6705000" cy="237960"/>
              <a:chOff x="0" y="1190520"/>
              <a:chExt cx="6705000" cy="23796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1428480"/>
              <a:ext cx="6705000" cy="237960"/>
              <a:chOff x="0" y="1428480"/>
              <a:chExt cx="6705000" cy="23796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99, 99, 99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ttempt invalid set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1666800"/>
              <a:ext cx="6705000" cy="237960"/>
              <a:chOff x="0" y="1666800"/>
              <a:chExt cx="6705000" cy="23796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After attempting invalid settings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1904760"/>
              <a:ext cx="6705000" cy="237960"/>
              <a:chOff x="0" y="1904760"/>
              <a:chExt cx="6705000" cy="23796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2143080"/>
              <a:ext cx="6705000" cy="237960"/>
              <a:chOff x="0" y="2143080"/>
              <a:chExt cx="6705000" cy="23796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2381040"/>
              <a:ext cx="6705000" cy="237960"/>
              <a:chOff x="0" y="2381040"/>
              <a:chExt cx="6705000" cy="23796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2619360"/>
              <a:ext cx="6705000" cy="237960"/>
              <a:chOff x="0" y="2619360"/>
              <a:chExt cx="6705000" cy="23796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2857320"/>
              <a:ext cx="6705000" cy="237960"/>
              <a:chOff x="0" y="2857320"/>
              <a:chExt cx="6705000" cy="23796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3095640"/>
              <a:ext cx="6705000" cy="237960"/>
              <a:chOff x="0" y="3095640"/>
              <a:chExt cx="6705000" cy="23796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3333600"/>
              <a:ext cx="6705000" cy="237960"/>
              <a:chOff x="0" y="3333600"/>
              <a:chExt cx="6705000" cy="23796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"/>
          <p:cNvSpPr/>
          <p:nvPr/>
        </p:nvSpPr>
        <p:spPr>
          <a:xfrm>
            <a:off x="0" y="3886200"/>
            <a:ext cx="670572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nd print the 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Set the time to an invalid hou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Print the tim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3" name=""/>
          <p:cNvSpPr/>
          <p:nvPr/>
        </p:nvSpPr>
        <p:spPr>
          <a:xfrm>
            <a:off x="3352680" y="10414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81280" y="26668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D170-682B-4C05-9C9E-91A6A80C06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the same name as the class but preceded with a tilde charact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take arguments and 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the class name with the member 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ClassName::MemberFunctionName(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57F0-81BF-4553-8B4F-4674AE03DC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mber function is defined insid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 resolution operator and class name are not neede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a function outside a class does not change it be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encourage software r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 allows new classes to be derived from old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77F4-844E-44A7-B96B-1371E9504E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 and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de a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accessible by all membe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b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a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are referenced through hand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name, a reference to an object or a pointer to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4ABB-F8C0-42CB-896B-07B81F7BF8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objects and arrow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23D4-A3C9-4F5F-892E-FA258A25D8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596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4: fig06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class member access operators . and -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UTION: IN FUTURE EXAMPLES WE AVOID PUBLIC DATA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Simple class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{ cout &lt;&lt; x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,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reate counter obj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*counterPtr = &amp;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inter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amp;counterRef = counte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ference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7 to x and print using the object's na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sign 7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8 to x and print using a referenc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Ref.x = 8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ssign 8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Ref.pri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1066320" y="914400"/>
            <a:ext cx="5182200" cy="2284200"/>
            <a:chOff x="1066320" y="914400"/>
            <a:chExt cx="5182200" cy="2284200"/>
          </a:xfrm>
        </p:grpSpPr>
        <p:sp>
          <p:nvSpPr>
            <p:cNvPr id="687" name=""/>
            <p:cNvSpPr/>
            <p:nvPr/>
          </p:nvSpPr>
          <p:spPr>
            <a:xfrm flipH="1">
              <a:off x="1066320" y="2057400"/>
              <a:ext cx="3581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914400"/>
              <a:ext cx="182880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is rare to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s.  Usually only member function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this keeps as much information hidden as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DA5F-60B2-42F9-8CB5-D6FE4B7FF8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 (OO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data (attributes) and functions (behavior) into packages call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details are hidden within the classe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are the standard unit of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lass is like a blueprint –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are instantiated (created) from the clas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, a house is an instance of a “blueprint clas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7467-EA76-41C2-8EB2-D64EE67FD0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 Set a new value and print it using a pointer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6705000" cy="1523520"/>
            <a:chOff x="0" y="0"/>
            <a:chExt cx="6705000" cy="1523520"/>
          </a:xfrm>
        </p:grpSpPr>
        <p:grpSp>
          <p:nvGrpSpPr>
            <p:cNvPr id="691" name=""/>
            <p:cNvGrpSpPr/>
            <p:nvPr/>
          </p:nvGrpSpPr>
          <p:grpSpPr>
            <a:xfrm>
              <a:off x="0" y="0"/>
              <a:ext cx="6705000" cy="304560"/>
              <a:chOff x="0" y="0"/>
              <a:chExt cx="6705000" cy="30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10 to x and print using a poin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304560"/>
              <a:ext cx="6705000" cy="304560"/>
              <a:chOff x="0" y="304560"/>
              <a:chExt cx="6705000" cy="30456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Ptr-&gt;x = 1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sign 10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609480"/>
              <a:ext cx="6705000" cy="304920"/>
              <a:chOff x="0" y="609480"/>
              <a:chExt cx="6705000" cy="30492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Ptr-&gt;print()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914400"/>
              <a:ext cx="6705000" cy="304560"/>
              <a:chOff x="0" y="914400"/>
              <a:chExt cx="6705000" cy="30456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1218960"/>
              <a:ext cx="6705000" cy="304560"/>
              <a:chOff x="0" y="1218960"/>
              <a:chExt cx="6705000" cy="30456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0" y="220968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7 to x and print using the object's name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8 to x and print using a reference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10 to x and print using a point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7BBC-B82F-4524-8156-0A17694683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ing interface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t easier to modify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class definitions and 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-cod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member function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81D3-D099-4ECA-8C1A-5B2831252D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0" y="0"/>
            <a:ext cx="6705000" cy="6400800"/>
            <a:chOff x="0" y="0"/>
            <a:chExt cx="6705000" cy="6400800"/>
          </a:xfrm>
        </p:grpSpPr>
        <p:grpSp>
          <p:nvGrpSpPr>
            <p:cNvPr id="710" name=""/>
            <p:cNvGrpSpPr/>
            <p:nvPr/>
          </p:nvGrpSpPr>
          <p:grpSpPr>
            <a:xfrm>
              <a:off x="0" y="0"/>
              <a:ext cx="6705000" cy="290880"/>
              <a:chOff x="0" y="0"/>
              <a:chExt cx="6705000" cy="29088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5: tim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290880"/>
              <a:ext cx="6705000" cy="290880"/>
              <a:chOff x="0" y="290880"/>
              <a:chExt cx="6705000" cy="29088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581760"/>
              <a:ext cx="6705000" cy="290880"/>
              <a:chOff x="0" y="581760"/>
              <a:chExt cx="6705000" cy="29088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are defined in tim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872640"/>
              <a:ext cx="6705000" cy="290880"/>
              <a:chOff x="0" y="872640"/>
              <a:chExt cx="6705000" cy="29088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163520"/>
              <a:ext cx="6705000" cy="290880"/>
              <a:chOff x="0" y="1163520"/>
              <a:chExt cx="6705000" cy="29088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1454400"/>
              <a:ext cx="6705000" cy="290880"/>
              <a:chOff x="0" y="1454400"/>
              <a:chExt cx="6705000" cy="29088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1745640"/>
              <a:ext cx="6705000" cy="290880"/>
              <a:chOff x="0" y="1745640"/>
              <a:chExt cx="6705000" cy="29088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036520"/>
              <a:ext cx="6705000" cy="290880"/>
              <a:chOff x="0" y="2036520"/>
              <a:chExt cx="6705000" cy="29088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327400"/>
              <a:ext cx="6705000" cy="290880"/>
              <a:chOff x="0" y="2327400"/>
              <a:chExt cx="6705000" cy="29088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618280"/>
              <a:ext cx="6705000" cy="290880"/>
              <a:chOff x="0" y="2618280"/>
              <a:chExt cx="6705000" cy="29088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2909160"/>
              <a:ext cx="6705000" cy="290880"/>
              <a:chOff x="0" y="2909160"/>
              <a:chExt cx="6705000" cy="29088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3200400"/>
              <a:ext cx="6705000" cy="290880"/>
              <a:chOff x="0" y="3200400"/>
              <a:chExt cx="6705000" cy="29088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491280"/>
              <a:ext cx="6705000" cy="290880"/>
              <a:chOff x="0" y="3491280"/>
              <a:chExt cx="6705000" cy="29088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782160"/>
              <a:ext cx="6705000" cy="290880"/>
              <a:chOff x="0" y="3782160"/>
              <a:chExt cx="6705000" cy="29088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4073040"/>
              <a:ext cx="6705000" cy="290880"/>
              <a:chOff x="0" y="4073040"/>
              <a:chExt cx="6705000" cy="29088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4364280"/>
              <a:ext cx="6705000" cy="290880"/>
              <a:chOff x="0" y="4364280"/>
              <a:chExt cx="6705000" cy="29088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4655160"/>
              <a:ext cx="6705000" cy="290880"/>
              <a:chOff x="0" y="4655160"/>
              <a:chExt cx="6705000" cy="29088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4946040"/>
              <a:ext cx="6705000" cy="290880"/>
              <a:chOff x="0" y="4946040"/>
              <a:chExt cx="6705000" cy="29088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5236920"/>
              <a:ext cx="6705000" cy="290880"/>
              <a:chOff x="0" y="5236920"/>
              <a:chExt cx="6705000" cy="29088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5527800"/>
              <a:ext cx="6705000" cy="290880"/>
              <a:chOff x="0" y="5527800"/>
              <a:chExt cx="6705000" cy="29088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5819040"/>
              <a:ext cx="6705000" cy="290880"/>
              <a:chOff x="0" y="5819040"/>
              <a:chExt cx="6705000" cy="29088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6109920"/>
              <a:ext cx="6705000" cy="290880"/>
              <a:chOff x="0" y="6109920"/>
              <a:chExt cx="6705000" cy="29088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6" name=""/>
          <p:cNvGrpSpPr/>
          <p:nvPr/>
        </p:nvGrpSpPr>
        <p:grpSpPr>
          <a:xfrm>
            <a:off x="1295280" y="2057400"/>
            <a:ext cx="7508880" cy="2000880"/>
            <a:chOff x="1295280" y="2057400"/>
            <a:chExt cx="7508880" cy="2000880"/>
          </a:xfrm>
        </p:grpSpPr>
        <p:sp>
          <p:nvSpPr>
            <p:cNvPr id="777" name=""/>
            <p:cNvSpPr/>
            <p:nvPr/>
          </p:nvSpPr>
          <p:spPr>
            <a:xfrm flipH="1" flipV="1">
              <a:off x="1295280" y="2057400"/>
              <a:ext cx="5181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2133720"/>
              <a:ext cx="369864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not defin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fn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hen it is load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def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ready defined, then everything up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endi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prevents loading a header file multiple ti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Using the s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s before, create a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057400" y="1371600"/>
            <a:ext cx="6629400" cy="580680"/>
            <a:chOff x="2057400" y="1371600"/>
            <a:chExt cx="6629400" cy="580680"/>
          </a:xfrm>
        </p:grpSpPr>
        <p:sp>
          <p:nvSpPr>
            <p:cNvPr id="781" name=""/>
            <p:cNvSpPr/>
            <p:nvPr/>
          </p:nvSpPr>
          <p:spPr>
            <a:xfrm>
              <a:off x="4776840" y="1371600"/>
              <a:ext cx="39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t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replaced with underscore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in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057400" y="1828440"/>
              <a:ext cx="27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1276-F564-494E-9A77-AB7021FB75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Create a source code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 Load the header file to get the class definition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.  Define the member functions of the cla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85" name=""/>
            <p:cNvGrpSpPr/>
            <p:nvPr/>
          </p:nvGrpSpPr>
          <p:grpSpPr>
            <a:xfrm>
              <a:off x="0" y="0"/>
              <a:ext cx="6705000" cy="190440"/>
              <a:chOff x="0" y="0"/>
              <a:chExt cx="6705000" cy="1904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5: time1.cp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190440"/>
              <a:ext cx="6705000" cy="190440"/>
              <a:chOff x="0" y="190440"/>
              <a:chExt cx="6705000" cy="1904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380880"/>
              <a:ext cx="6705000" cy="190440"/>
              <a:chOff x="0" y="380880"/>
              <a:chExt cx="6705000" cy="1904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571320"/>
              <a:ext cx="6705000" cy="190440"/>
              <a:chOff x="0" y="571320"/>
              <a:chExt cx="6705000" cy="1904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761760"/>
              <a:ext cx="6705000" cy="190440"/>
              <a:chOff x="0" y="761760"/>
              <a:chExt cx="6705000" cy="1904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952200"/>
              <a:ext cx="6705000" cy="190440"/>
              <a:chOff x="0" y="952200"/>
              <a:chExt cx="6705000" cy="1904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1142640"/>
              <a:ext cx="6705000" cy="190440"/>
              <a:chOff x="0" y="1142640"/>
              <a:chExt cx="6705000" cy="1904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1.h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333440"/>
              <a:ext cx="6705000" cy="190440"/>
              <a:chOff x="0" y="1333440"/>
              <a:chExt cx="6705000" cy="1904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1523880"/>
              <a:ext cx="6705000" cy="190440"/>
              <a:chOff x="0" y="1523880"/>
              <a:chExt cx="6705000" cy="1904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onstructor initializes each data member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1714320"/>
              <a:ext cx="6705000" cy="190440"/>
              <a:chOff x="0" y="1714320"/>
              <a:chExt cx="6705000" cy="1904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s all Time objects start in a consistent state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1904760"/>
              <a:ext cx="6705000" cy="190440"/>
              <a:chOff x="0" y="1904760"/>
              <a:chExt cx="6705000" cy="1904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) { hour = minute = second = 0; 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2095560"/>
              <a:ext cx="6705000" cy="190440"/>
              <a:chOff x="0" y="2095560"/>
              <a:chExt cx="6705000" cy="1904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286000"/>
              <a:ext cx="6705000" cy="190440"/>
              <a:chOff x="0" y="2286000"/>
              <a:chExt cx="6705000" cy="1904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a new Time value using military time. Perform validity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2476440"/>
              <a:ext cx="6705000" cy="190440"/>
              <a:chOff x="0" y="2476440"/>
              <a:chExt cx="6705000" cy="1904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ecks on the data values. Set invalid values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2666880"/>
              <a:ext cx="6705000" cy="190440"/>
              <a:chOff x="0" y="2666880"/>
              <a:chExt cx="6705000" cy="19044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int h, int m, int s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2857320"/>
              <a:ext cx="6705000" cy="190440"/>
              <a:chOff x="0" y="2857320"/>
              <a:chExt cx="6705000" cy="19044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3047760"/>
              <a:ext cx="6705000" cy="190440"/>
              <a:chOff x="0" y="3047760"/>
              <a:chExt cx="6705000" cy="19044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  = ( h &gt;= 0 &amp;&amp; h &lt; 24 ) ? h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3238560"/>
              <a:ext cx="6705000" cy="190440"/>
              <a:chOff x="0" y="3238560"/>
              <a:chExt cx="6705000" cy="19044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3429000"/>
              <a:ext cx="6705000" cy="190440"/>
              <a:chOff x="0" y="3429000"/>
              <a:chExt cx="6705000" cy="19044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3619440"/>
              <a:ext cx="6705000" cy="190440"/>
              <a:chOff x="0" y="3619440"/>
              <a:chExt cx="6705000" cy="19044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3809880"/>
              <a:ext cx="6705000" cy="190440"/>
              <a:chOff x="0" y="3809880"/>
              <a:chExt cx="6705000" cy="19044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4000320"/>
              <a:ext cx="6705000" cy="190440"/>
              <a:chOff x="0" y="4000320"/>
              <a:chExt cx="6705000" cy="19044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military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4190760"/>
              <a:ext cx="6705000" cy="190440"/>
              <a:chOff x="0" y="4190760"/>
              <a:chExt cx="6705000" cy="19044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4381560"/>
              <a:ext cx="6705000" cy="190440"/>
              <a:chOff x="0" y="4381560"/>
              <a:chExt cx="6705000" cy="19044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4572000"/>
              <a:ext cx="6705000" cy="190440"/>
              <a:chOff x="0" y="4572000"/>
              <a:chExt cx="6705000" cy="19044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4762440"/>
              <a:ext cx="6705000" cy="190440"/>
              <a:chOff x="0" y="4762440"/>
              <a:chExt cx="6705000" cy="19044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4952880"/>
              <a:ext cx="6705000" cy="190440"/>
              <a:chOff x="0" y="4952880"/>
              <a:chExt cx="6705000" cy="19044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5143320"/>
              <a:ext cx="6705000" cy="190440"/>
              <a:chOff x="0" y="5143320"/>
              <a:chExt cx="6705000" cy="19044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5334120"/>
              <a:ext cx="6705000" cy="190440"/>
              <a:chOff x="0" y="5334120"/>
              <a:chExt cx="6705000" cy="19044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standard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5524560"/>
              <a:ext cx="6705000" cy="190440"/>
              <a:chOff x="0" y="5524560"/>
              <a:chExt cx="6705000" cy="19044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5715000"/>
              <a:ext cx="6705000" cy="190440"/>
              <a:chOff x="0" y="5715000"/>
              <a:chExt cx="6705000" cy="19044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5905440"/>
              <a:ext cx="6705000" cy="190440"/>
              <a:chOff x="0" y="5905440"/>
              <a:chExt cx="6705000" cy="19044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6095880"/>
              <a:ext cx="6705000" cy="190440"/>
              <a:chOff x="0" y="6095880"/>
              <a:chExt cx="6705000" cy="19044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6286680"/>
              <a:ext cx="6705000" cy="190440"/>
              <a:chOff x="0" y="6286680"/>
              <a:chExt cx="6705000" cy="19044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6477120"/>
              <a:ext cx="6705000" cy="190440"/>
              <a:chOff x="0" y="6477120"/>
              <a:chExt cx="6705000" cy="19044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6667560"/>
              <a:ext cx="6705000" cy="190440"/>
              <a:chOff x="0" y="6667560"/>
              <a:chExt cx="6705000" cy="19044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2133720" y="920880"/>
            <a:ext cx="4495680" cy="580680"/>
            <a:chOff x="2133720" y="920880"/>
            <a:chExt cx="4495680" cy="580680"/>
          </a:xfrm>
        </p:grpSpPr>
        <p:sp>
          <p:nvSpPr>
            <p:cNvPr id="894" name=""/>
            <p:cNvSpPr/>
            <p:nvPr/>
          </p:nvSpPr>
          <p:spPr>
            <a:xfrm>
              <a:off x="3962520" y="92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 file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ad the heade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13372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505320" y="2895120"/>
            <a:ext cx="4724280" cy="2819880"/>
            <a:chOff x="3505320" y="2895120"/>
            <a:chExt cx="4724280" cy="2819880"/>
          </a:xfrm>
        </p:grpSpPr>
        <p:sp>
          <p:nvSpPr>
            <p:cNvPr id="897" name=""/>
            <p:cNvSpPr/>
            <p:nvPr/>
          </p:nvSpPr>
          <p:spPr>
            <a:xfrm>
              <a:off x="6095880" y="3429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 file contains function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4114440" y="289512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505320" y="373392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886200" y="3733920"/>
              <a:ext cx="22096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B36B-C88E-4D31-A37C-9CE826C59D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clients with a view of the services the class provides (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and member functions are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only accessible to member functions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nly accessible throug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nterfac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A10E-4C00-4C2C-89A4-CC3F998234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0" y="0"/>
            <a:ext cx="6705000" cy="4343400"/>
            <a:chOff x="0" y="0"/>
            <a:chExt cx="6705000" cy="4343400"/>
          </a:xfrm>
        </p:grpSpPr>
        <p:grpSp>
          <p:nvGrpSpPr>
            <p:cNvPr id="904" name=""/>
            <p:cNvGrpSpPr/>
            <p:nvPr/>
          </p:nvGrpSpPr>
          <p:grpSpPr>
            <a:xfrm>
              <a:off x="0" y="0"/>
              <a:ext cx="6705000" cy="206640"/>
              <a:chOff x="0" y="0"/>
              <a:chExt cx="6705000" cy="20664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6: fig06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206640"/>
              <a:ext cx="6705000" cy="206640"/>
              <a:chOff x="0" y="206640"/>
              <a:chExt cx="6705000" cy="20664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errors resulting from attem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413280"/>
              <a:ext cx="6705000" cy="206640"/>
              <a:chOff x="0" y="413280"/>
              <a:chExt cx="6705000" cy="20664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 access private class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620280"/>
              <a:ext cx="6705000" cy="206640"/>
              <a:chOff x="0" y="620280"/>
              <a:chExt cx="6705000" cy="20664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827280"/>
              <a:ext cx="6705000" cy="206640"/>
              <a:chOff x="0" y="827280"/>
              <a:chExt cx="6705000" cy="20664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1033920"/>
              <a:ext cx="6705000" cy="206640"/>
              <a:chOff x="0" y="1033920"/>
              <a:chExt cx="6705000" cy="20664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1240920"/>
              <a:ext cx="6705000" cy="206640"/>
              <a:chOff x="0" y="1240920"/>
              <a:chExt cx="6705000" cy="20664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447920"/>
              <a:ext cx="6705000" cy="206640"/>
              <a:chOff x="0" y="1447920"/>
              <a:chExt cx="6705000" cy="20664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654560"/>
              <a:ext cx="6705000" cy="206640"/>
              <a:chOff x="0" y="1654560"/>
              <a:chExt cx="6705000" cy="20664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861200"/>
              <a:ext cx="6705000" cy="206640"/>
              <a:chOff x="0" y="1861200"/>
              <a:chExt cx="6705000" cy="20664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2068200"/>
              <a:ext cx="6705000" cy="206640"/>
              <a:chOff x="0" y="2068200"/>
              <a:chExt cx="6705000" cy="20664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275200"/>
              <a:ext cx="6705000" cy="206640"/>
              <a:chOff x="0" y="2275200"/>
              <a:chExt cx="6705000" cy="20664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481840"/>
              <a:ext cx="6705000" cy="206640"/>
              <a:chOff x="0" y="2481840"/>
              <a:chExt cx="6705000" cy="20664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688840"/>
              <a:ext cx="6705000" cy="206640"/>
              <a:chOff x="0" y="2688840"/>
              <a:chExt cx="6705000" cy="20664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hour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895480"/>
              <a:ext cx="6705000" cy="206640"/>
              <a:chOff x="0" y="2895480"/>
              <a:chExt cx="6705000" cy="20664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hou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102480"/>
              <a:ext cx="6705000" cy="206640"/>
              <a:chOff x="0" y="3102480"/>
              <a:chExt cx="6705000" cy="20664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309120"/>
              <a:ext cx="6705000" cy="206640"/>
              <a:chOff x="0" y="3309120"/>
              <a:chExt cx="6705000" cy="20664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minute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516120"/>
              <a:ext cx="6705000" cy="206640"/>
              <a:chOff x="0" y="3516120"/>
              <a:chExt cx="6705000" cy="20664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inute = "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722760"/>
              <a:ext cx="6705000" cy="206640"/>
              <a:chOff x="0" y="3722760"/>
              <a:chExt cx="6705000" cy="20664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3929760"/>
              <a:ext cx="6705000" cy="206640"/>
              <a:chOff x="0" y="3929760"/>
              <a:chExt cx="6705000" cy="20664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136760"/>
              <a:ext cx="6705000" cy="206640"/>
              <a:chOff x="0" y="4136760"/>
              <a:chExt cx="6705000" cy="20664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7" name=""/>
          <p:cNvSpPr/>
          <p:nvPr/>
        </p:nvSpPr>
        <p:spPr>
          <a:xfrm>
            <a:off x="0" y="4672080"/>
            <a:ext cx="670572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3657600" y="3657600"/>
            <a:ext cx="5257800" cy="1981080"/>
            <a:chOff x="3657600" y="3657600"/>
            <a:chExt cx="5257800" cy="1981080"/>
          </a:xfrm>
        </p:grpSpPr>
        <p:sp>
          <p:nvSpPr>
            <p:cNvPr id="969" name=""/>
            <p:cNvSpPr/>
            <p:nvPr/>
          </p:nvSpPr>
          <p:spPr>
            <a:xfrm>
              <a:off x="5562720" y="36576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365760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6324120" y="426708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ttempt to set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Attempt to acces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981080" y="2819520"/>
            <a:ext cx="6172200" cy="2286000"/>
            <a:chOff x="1981080" y="2819520"/>
            <a:chExt cx="6172200" cy="2286000"/>
          </a:xfrm>
        </p:grpSpPr>
        <p:sp>
          <p:nvSpPr>
            <p:cNvPr id="974" name=""/>
            <p:cNvSpPr/>
            <p:nvPr/>
          </p:nvSpPr>
          <p:spPr>
            <a:xfrm>
              <a:off x="4724280" y="2819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1981080" y="3048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495680" y="3429000"/>
              <a:ext cx="457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A942-9BA7-44E7-9931-FF1403ABBF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 Access Functions and Utility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support the operation of public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to be used directly by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read/display data or check condi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o 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take in monthly sales and output the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not shown, only access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411F-9961-4E8C-A398-6253FA9D55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980" name=""/>
            <p:cNvGrpSpPr/>
            <p:nvPr/>
          </p:nvGrpSpPr>
          <p:grpSpPr>
            <a:xfrm>
              <a:off x="0" y="0"/>
              <a:ext cx="6705000" cy="240120"/>
              <a:chOff x="0" y="0"/>
              <a:chExt cx="6705000" cy="240120"/>
            </a:xfrm>
          </p:grpSpPr>
          <p:sp>
            <p:nvSpPr>
              <p:cNvPr id="981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7: fig06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0" y="240120"/>
              <a:ext cx="6705000" cy="240120"/>
              <a:chOff x="0" y="240120"/>
              <a:chExt cx="6705000" cy="240120"/>
            </a:xfrm>
          </p:grpSpPr>
          <p:sp>
            <p:nvSpPr>
              <p:cNvPr id="984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0" y="480240"/>
              <a:ext cx="6705000" cy="240120"/>
              <a:chOff x="0" y="480240"/>
              <a:chExt cx="6705000" cy="2401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ile with salesp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720720"/>
              <a:ext cx="6705000" cy="240120"/>
              <a:chOff x="0" y="720720"/>
              <a:chExt cx="6705000" cy="2401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salesp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961200"/>
              <a:ext cx="6705000" cy="240120"/>
              <a:chOff x="0" y="961200"/>
              <a:chExt cx="6705000" cy="2401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1201320"/>
              <a:ext cx="6705000" cy="240120"/>
              <a:chOff x="0" y="1201320"/>
              <a:chExt cx="6705000" cy="2401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1441800"/>
              <a:ext cx="6705000" cy="240120"/>
              <a:chOff x="0" y="1441800"/>
              <a:chExt cx="6705000" cy="2401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682280"/>
              <a:ext cx="6705000" cy="240120"/>
              <a:chOff x="0" y="1682280"/>
              <a:chExt cx="6705000" cy="2401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alesPerson s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SalesPerson object 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1922400"/>
              <a:ext cx="6705000" cy="240120"/>
              <a:chOff x="0" y="1922400"/>
              <a:chExt cx="6705000" cy="2401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162880"/>
              <a:ext cx="6705000" cy="240120"/>
              <a:chOff x="0" y="2162880"/>
              <a:chExt cx="6705000" cy="2401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getSalesFromUser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e simple sequential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2403000"/>
              <a:ext cx="6705000" cy="240120"/>
              <a:chOff x="0" y="2403000"/>
              <a:chExt cx="6705000" cy="2401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printAnnualSale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 control structures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2643480"/>
              <a:ext cx="6705000" cy="240120"/>
              <a:chOff x="0" y="2643480"/>
              <a:chExt cx="6705000" cy="2401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2883960"/>
              <a:ext cx="6705000" cy="240120"/>
              <a:chOff x="0" y="2883960"/>
              <a:chExt cx="6705000" cy="2401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"/>
          <p:cNvSpPr/>
          <p:nvPr/>
        </p:nvSpPr>
        <p:spPr>
          <a:xfrm>
            <a:off x="0" y="3352680"/>
            <a:ext cx="670572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: 5314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2: 4292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3: 4589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4: 5534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5: 4376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6: 569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7: 4439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8: 5893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9: 4909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0: 512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1: 402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2: 5923.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tal annual sales are: $60120.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980720" y="762120"/>
            <a:ext cx="4267800" cy="990360"/>
            <a:chOff x="1980720" y="762120"/>
            <a:chExt cx="4267800" cy="990360"/>
          </a:xfrm>
        </p:grpSpPr>
        <p:sp>
          <p:nvSpPr>
            <p:cNvPr id="1021" name=""/>
            <p:cNvSpPr/>
            <p:nvPr/>
          </p:nvSpPr>
          <p:spPr>
            <a:xfrm>
              <a:off x="3733920" y="7621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les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1980720" y="1143000"/>
              <a:ext cx="1752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 Load header file and compile with the file that contains the function definition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Create an objec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 Use the object’s member functions to get and print sale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361960" y="2666520"/>
            <a:ext cx="6629760" cy="3522960"/>
            <a:chOff x="2361960" y="2666520"/>
            <a:chExt cx="6629760" cy="3522960"/>
          </a:xfrm>
        </p:grpSpPr>
        <p:sp>
          <p:nvSpPr>
            <p:cNvPr id="1025" name=""/>
            <p:cNvSpPr/>
            <p:nvPr/>
          </p:nvSpPr>
          <p:spPr>
            <a:xfrm>
              <a:off x="6095880" y="3048120"/>
              <a:ext cx="2895840" cy="3141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ccess functions to gather and print data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alesFromU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 Utility functions actually calculate the total sales, but the user is not aware of these function call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sim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– there are no control structures, only function calls. This hides the implementation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flipV="1">
              <a:off x="2361960" y="2666520"/>
              <a:ext cx="3733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A2B7-3C51-4525-9F02-E00CB7D3D5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0 Initializing Class Objects: 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variables can be initialized by the constructor or set after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guments to a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an object of a class is declared, initializers can be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of declaration with initializ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ass-type ObjectName( value1,value2,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rguments may also be specified in the constructor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1940-09FA-434A-B084-5DDCCF3C5B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0" y="0"/>
            <a:ext cx="6705000" cy="6324120"/>
            <a:chOff x="0" y="0"/>
            <a:chExt cx="6705000" cy="6324120"/>
          </a:xfrm>
        </p:grpSpPr>
        <p:grpSp>
          <p:nvGrpSpPr>
            <p:cNvPr id="1030" name=""/>
            <p:cNvGrpSpPr/>
            <p:nvPr/>
          </p:nvGrpSpPr>
          <p:grpSpPr>
            <a:xfrm>
              <a:off x="0" y="0"/>
              <a:ext cx="6705000" cy="274680"/>
              <a:chOff x="0" y="0"/>
              <a:chExt cx="6705000" cy="27468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8: tim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274680"/>
              <a:ext cx="6705000" cy="274680"/>
              <a:chOff x="0" y="274680"/>
              <a:chExt cx="6705000" cy="27468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549720"/>
              <a:ext cx="6705000" cy="275040"/>
              <a:chOff x="0" y="549720"/>
              <a:chExt cx="6705000" cy="27504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are defined in tim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824760"/>
              <a:ext cx="6705000" cy="274680"/>
              <a:chOff x="0" y="824760"/>
              <a:chExt cx="6705000" cy="27468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1099800"/>
              <a:ext cx="6705000" cy="274680"/>
              <a:chOff x="0" y="1099800"/>
              <a:chExt cx="6705000" cy="274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1374840"/>
              <a:ext cx="6705000" cy="274680"/>
              <a:chOff x="0" y="1374840"/>
              <a:chExt cx="6705000" cy="27468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1649520"/>
              <a:ext cx="6705000" cy="275040"/>
              <a:chOff x="0" y="1649520"/>
              <a:chExt cx="6705000" cy="27504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1924920"/>
              <a:ext cx="6705000" cy="274680"/>
              <a:chOff x="0" y="1924920"/>
              <a:chExt cx="6705000" cy="27468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2199600"/>
              <a:ext cx="6705000" cy="274680"/>
              <a:chOff x="0" y="2199600"/>
              <a:chExt cx="6705000" cy="27468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0" y="2474640"/>
              <a:ext cx="6705000" cy="274680"/>
              <a:chOff x="0" y="2474640"/>
              <a:chExt cx="6705000" cy="274680"/>
            </a:xfrm>
          </p:grpSpPr>
          <p:sp>
            <p:nvSpPr>
              <p:cNvPr id="1058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0" y="2749680"/>
              <a:ext cx="6705000" cy="275040"/>
              <a:chOff x="0" y="2749680"/>
              <a:chExt cx="6705000" cy="275040"/>
            </a:xfrm>
          </p:grpSpPr>
          <p:sp>
            <p:nvSpPr>
              <p:cNvPr id="1061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0" y="3024720"/>
              <a:ext cx="6705000" cy="274680"/>
              <a:chOff x="0" y="3024720"/>
              <a:chExt cx="6705000" cy="274680"/>
            </a:xfrm>
          </p:grpSpPr>
          <p:sp>
            <p:nvSpPr>
              <p:cNvPr id="1064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0" y="3299760"/>
              <a:ext cx="6705000" cy="274680"/>
              <a:chOff x="0" y="3299760"/>
              <a:chExt cx="6705000" cy="274680"/>
            </a:xfrm>
          </p:grpSpPr>
          <p:sp>
            <p:nvSpPr>
              <p:cNvPr id="1067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0" y="3574800"/>
              <a:ext cx="6705000" cy="274680"/>
              <a:chOff x="0" y="3574800"/>
              <a:chExt cx="6705000" cy="274680"/>
            </a:xfrm>
          </p:grpSpPr>
          <p:sp>
            <p:nvSpPr>
              <p:cNvPr id="1070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0" y="3849480"/>
              <a:ext cx="6705000" cy="275040"/>
              <a:chOff x="0" y="3849480"/>
              <a:chExt cx="6705000" cy="27504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0" y="4124880"/>
              <a:ext cx="6705000" cy="274680"/>
              <a:chOff x="0" y="4124880"/>
              <a:chExt cx="6705000" cy="274680"/>
            </a:xfrm>
          </p:grpSpPr>
          <p:sp>
            <p:nvSpPr>
              <p:cNvPr id="1076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0" y="4399560"/>
              <a:ext cx="6705000" cy="274680"/>
              <a:chOff x="0" y="4399560"/>
              <a:chExt cx="6705000" cy="274680"/>
            </a:xfrm>
          </p:grpSpPr>
          <p:sp>
            <p:nvSpPr>
              <p:cNvPr id="1079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0" y="4674600"/>
              <a:ext cx="6705000" cy="274680"/>
              <a:chOff x="0" y="4674600"/>
              <a:chExt cx="6705000" cy="274680"/>
            </a:xfrm>
          </p:grpSpPr>
          <p:sp>
            <p:nvSpPr>
              <p:cNvPr id="1082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0" y="4949640"/>
              <a:ext cx="6705000" cy="274680"/>
              <a:chOff x="0" y="4949640"/>
              <a:chExt cx="6705000" cy="274680"/>
            </a:xfrm>
          </p:grpSpPr>
          <p:sp>
            <p:nvSpPr>
              <p:cNvPr id="1085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0" y="5224680"/>
              <a:ext cx="6705000" cy="275040"/>
              <a:chOff x="0" y="5224680"/>
              <a:chExt cx="6705000" cy="275040"/>
            </a:xfrm>
          </p:grpSpPr>
          <p:sp>
            <p:nvSpPr>
              <p:cNvPr id="1088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0" y="5499720"/>
              <a:ext cx="6705000" cy="274680"/>
              <a:chOff x="0" y="5499720"/>
              <a:chExt cx="6705000" cy="274680"/>
            </a:xfrm>
          </p:grpSpPr>
          <p:sp>
            <p:nvSpPr>
              <p:cNvPr id="1091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0" y="5774760"/>
              <a:ext cx="6705000" cy="274680"/>
              <a:chOff x="0" y="5774760"/>
              <a:chExt cx="6705000" cy="274680"/>
            </a:xfrm>
          </p:grpSpPr>
          <p:sp>
            <p:nvSpPr>
              <p:cNvPr id="1094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0" y="6049440"/>
              <a:ext cx="6705000" cy="274680"/>
              <a:chOff x="0" y="6049440"/>
              <a:chExt cx="6705000" cy="274680"/>
            </a:xfrm>
          </p:grpSpPr>
          <p:sp>
            <p:nvSpPr>
              <p:cNvPr id="1097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3733560" y="2971800"/>
            <a:ext cx="5334120" cy="2040840"/>
            <a:chOff x="3733560" y="2971800"/>
            <a:chExt cx="5334120" cy="2040840"/>
          </a:xfrm>
        </p:grpSpPr>
        <p:sp>
          <p:nvSpPr>
            <p:cNvPr id="1100" name=""/>
            <p:cNvSpPr/>
            <p:nvPr/>
          </p:nvSpPr>
          <p:spPr>
            <a:xfrm flipH="1">
              <a:off x="3733560" y="3124080"/>
              <a:ext cx="2819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77120" y="2971800"/>
              <a:ext cx="259056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at default settings for the three member variables are set in constructor prototype.  No names are needed; the defaults are applied in the order the member variables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its defaul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BC35-5457-4C2C-AFAA-BAC2A33105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gregate data types built using elements of other typ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i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ou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inu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co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the same structure must have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different structures may contain members of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structure definition must end with a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038120" y="2362320"/>
            <a:ext cx="4724640" cy="1218960"/>
            <a:chOff x="4038120" y="2362320"/>
            <a:chExt cx="4724640" cy="1218960"/>
          </a:xfrm>
        </p:grpSpPr>
        <p:sp>
          <p:nvSpPr>
            <p:cNvPr id="101" name=""/>
            <p:cNvSpPr/>
            <p:nvPr/>
          </p:nvSpPr>
          <p:spPr>
            <a:xfrm flipH="1">
              <a:off x="4038120" y="2514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8680" y="2362320"/>
              <a:ext cx="175248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876560" y="3276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2895480"/>
              <a:ext cx="198108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me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76560" y="2743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CB84-390F-46D7-88A6-77827C399A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104" name="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1105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8: fig06_0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1108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1111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for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1114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1,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arguments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2(2),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inute and second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3(21, 34),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cond defaul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1150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4(12, 25, 42)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1153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5(27, 74, 99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bad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1156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1159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nstructed with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1162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ll arguments defaulted: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1165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1171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specified; minute and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and minute specified;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reate objects using default argument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th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1905120" y="762120"/>
            <a:ext cx="4876560" cy="1828800"/>
            <a:chOff x="1905120" y="762120"/>
            <a:chExt cx="4876560" cy="1828800"/>
          </a:xfrm>
        </p:grpSpPr>
        <p:sp>
          <p:nvSpPr>
            <p:cNvPr id="1205" name=""/>
            <p:cNvSpPr/>
            <p:nvPr/>
          </p:nvSpPr>
          <p:spPr>
            <a:xfrm>
              <a:off x="2514600" y="762120"/>
              <a:ext cx="4267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objects are initialized: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1,value2…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not enough values are specified, the rightmost values are set to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905120" y="182880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739C-DE17-45CC-B8F3-4E7F390887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(continued)  Print the objects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3657600"/>
            <a:ext cx="670572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ructed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arguments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specified; minute and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nd minute specified;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: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:34:0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, minute, and second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:4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invalid values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4343040" y="3689280"/>
            <a:ext cx="3200760" cy="1554120"/>
            <a:chOff x="4343040" y="3689280"/>
            <a:chExt cx="3200760" cy="1554120"/>
          </a:xfrm>
        </p:grpSpPr>
        <p:sp>
          <p:nvSpPr>
            <p:cNvPr id="1210" name=""/>
            <p:cNvSpPr/>
            <p:nvPr/>
          </p:nvSpPr>
          <p:spPr>
            <a:xfrm>
              <a:off x="5867280" y="3689280"/>
              <a:ext cx="16765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specified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o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 set to their default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4343040" y="41911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0" y="0"/>
            <a:ext cx="6705000" cy="3657600"/>
            <a:chOff x="0" y="0"/>
            <a:chExt cx="6705000" cy="3657600"/>
          </a:xfrm>
        </p:grpSpPr>
        <p:grpSp>
          <p:nvGrpSpPr>
            <p:cNvPr id="1213" name=""/>
            <p:cNvGrpSpPr/>
            <p:nvPr/>
          </p:nvGrpSpPr>
          <p:grpSpPr>
            <a:xfrm>
              <a:off x="0" y="0"/>
              <a:ext cx="6705000" cy="203040"/>
              <a:chOff x="0" y="0"/>
              <a:chExt cx="6705000" cy="20304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203040"/>
              <a:ext cx="6705000" cy="203040"/>
              <a:chOff x="0" y="203040"/>
              <a:chExt cx="6705000" cy="20304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406080"/>
              <a:ext cx="6705000" cy="203040"/>
              <a:chOff x="0" y="406080"/>
              <a:chExt cx="6705000" cy="20304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609480"/>
              <a:ext cx="6705000" cy="203040"/>
              <a:chOff x="0" y="609480"/>
              <a:chExt cx="6705000" cy="20304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, minute, and second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812520"/>
              <a:ext cx="6705000" cy="203040"/>
              <a:chOff x="0" y="812520"/>
              <a:chExt cx="6705000" cy="20304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1015920"/>
              <a:ext cx="6705000" cy="203040"/>
              <a:chOff x="0" y="1015920"/>
              <a:chExt cx="6705000" cy="20304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1218960"/>
              <a:ext cx="6705000" cy="203040"/>
              <a:chOff x="0" y="1218960"/>
              <a:chExt cx="6705000" cy="20304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1422360"/>
              <a:ext cx="6705000" cy="203040"/>
              <a:chOff x="0" y="1422360"/>
              <a:chExt cx="6705000" cy="20304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1625400"/>
              <a:ext cx="6705000" cy="203040"/>
              <a:chOff x="0" y="1625400"/>
              <a:chExt cx="6705000" cy="20304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0" y="1828800"/>
              <a:ext cx="6705000" cy="203040"/>
              <a:chOff x="0" y="1828800"/>
              <a:chExt cx="6705000" cy="203040"/>
            </a:xfrm>
          </p:grpSpPr>
          <p:sp>
            <p:nvSpPr>
              <p:cNvPr id="1241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ll invalid values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0" y="2031840"/>
              <a:ext cx="6705000" cy="203040"/>
              <a:chOff x="0" y="2031840"/>
              <a:chExt cx="6705000" cy="203040"/>
            </a:xfrm>
          </p:grpSpPr>
          <p:sp>
            <p:nvSpPr>
              <p:cNvPr id="1244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0" y="2235240"/>
              <a:ext cx="6705000" cy="203040"/>
              <a:chOff x="0" y="2235240"/>
              <a:chExt cx="6705000" cy="203040"/>
            </a:xfrm>
          </p:grpSpPr>
          <p:sp>
            <p:nvSpPr>
              <p:cNvPr id="1247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0" y="2438280"/>
              <a:ext cx="6705000" cy="203040"/>
              <a:chOff x="0" y="2438280"/>
              <a:chExt cx="6705000" cy="20304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2641680"/>
              <a:ext cx="6705000" cy="203040"/>
              <a:chOff x="0" y="2641680"/>
              <a:chExt cx="6705000" cy="20304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0" y="2844720"/>
              <a:ext cx="6705000" cy="203040"/>
              <a:chOff x="0" y="2844720"/>
              <a:chExt cx="6705000" cy="203040"/>
            </a:xfrm>
          </p:grpSpPr>
          <p:sp>
            <p:nvSpPr>
              <p:cNvPr id="1256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0" y="3048120"/>
              <a:ext cx="6705000" cy="203040"/>
              <a:chOff x="0" y="3048120"/>
              <a:chExt cx="6705000" cy="203040"/>
            </a:xfrm>
          </p:grpSpPr>
          <p:sp>
            <p:nvSpPr>
              <p:cNvPr id="1259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0" y="3251160"/>
              <a:ext cx="6705000" cy="203040"/>
              <a:chOff x="0" y="3251160"/>
              <a:chExt cx="6705000" cy="20304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3454560"/>
              <a:ext cx="6705000" cy="203040"/>
              <a:chOff x="0" y="3454560"/>
              <a:chExt cx="6705000" cy="20304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33B3-7484-4198-8190-D38366EA60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2 Using 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member function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termination housekeeping before the system reclaims the object’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ment of the constru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is tild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llowed by the class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all that the constructor’s name is the 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s no parameters,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destructor p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verloading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255F-7F7C-4F84-A9DE-40D6C6DEB2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 called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depends on scop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before any other function (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program terminat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objects leav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when the block in which they are defined is ex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3377-D033-4697-A49C-D7029D5E42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execution reaches the point where the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is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1129-946C-481C-A0CF-1A30D9D354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0" y="0"/>
            <a:ext cx="6705000" cy="3886200"/>
            <a:chOff x="0" y="0"/>
            <a:chExt cx="6705000" cy="3886200"/>
          </a:xfrm>
        </p:grpSpPr>
        <p:grpSp>
          <p:nvGrpSpPr>
            <p:cNvPr id="1274" name=""/>
            <p:cNvGrpSpPr/>
            <p:nvPr/>
          </p:nvGrpSpPr>
          <p:grpSpPr>
            <a:xfrm>
              <a:off x="0" y="0"/>
              <a:ext cx="6705000" cy="258840"/>
              <a:chOff x="0" y="0"/>
              <a:chExt cx="6705000" cy="25884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creat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258840"/>
              <a:ext cx="6705000" cy="258840"/>
              <a:chOff x="0" y="258840"/>
              <a:chExt cx="6705000" cy="25884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reateAndDestro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0" y="518040"/>
              <a:ext cx="6705000" cy="259200"/>
              <a:chOff x="0" y="518040"/>
              <a:chExt cx="6705000" cy="259200"/>
            </a:xfrm>
          </p:grpSpPr>
          <p:sp>
            <p:nvSpPr>
              <p:cNvPr id="1281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create.cp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0" y="777240"/>
              <a:ext cx="6705000" cy="258840"/>
              <a:chOff x="0" y="777240"/>
              <a:chExt cx="6705000" cy="258840"/>
            </a:xfrm>
          </p:grpSpPr>
          <p:sp>
            <p:nvSpPr>
              <p:cNvPr id="1284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0" y="1036080"/>
              <a:ext cx="6705000" cy="258840"/>
              <a:chOff x="0" y="1036080"/>
              <a:chExt cx="6705000" cy="258840"/>
            </a:xfrm>
          </p:grpSpPr>
          <p:sp>
            <p:nvSpPr>
              <p:cNvPr id="1287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0" y="1295280"/>
              <a:ext cx="6705000" cy="258840"/>
              <a:chOff x="0" y="1295280"/>
              <a:chExt cx="6705000" cy="258840"/>
            </a:xfrm>
          </p:grpSpPr>
          <p:sp>
            <p:nvSpPr>
              <p:cNvPr id="1290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0" y="1554120"/>
              <a:ext cx="6705000" cy="259200"/>
              <a:chOff x="0" y="1554120"/>
              <a:chExt cx="6705000" cy="259200"/>
            </a:xfrm>
          </p:grpSpPr>
          <p:sp>
            <p:nvSpPr>
              <p:cNvPr id="1293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AndDestro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0" y="1813320"/>
              <a:ext cx="6705000" cy="258840"/>
              <a:chOff x="0" y="1813320"/>
              <a:chExt cx="6705000" cy="258840"/>
            </a:xfrm>
          </p:grpSpPr>
          <p:sp>
            <p:nvSpPr>
              <p:cNvPr id="1296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0" y="2072520"/>
              <a:ext cx="6705000" cy="258840"/>
              <a:chOff x="0" y="2072520"/>
              <a:chExt cx="6705000" cy="25884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( i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2331720"/>
              <a:ext cx="6705000" cy="258840"/>
              <a:chOff x="0" y="2331720"/>
              <a:chExt cx="6705000" cy="25884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CreateAndDestroy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2590560"/>
              <a:ext cx="6705000" cy="259200"/>
              <a:chOff x="0" y="2590560"/>
              <a:chExt cx="6705000" cy="25920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2849760"/>
              <a:ext cx="6705000" cy="258840"/>
              <a:chOff x="0" y="2849760"/>
              <a:chExt cx="6705000" cy="25884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3108960"/>
              <a:ext cx="6705000" cy="258840"/>
              <a:chOff x="0" y="3108960"/>
              <a:chExt cx="6705000" cy="25884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3367800"/>
              <a:ext cx="6705000" cy="258840"/>
              <a:chOff x="0" y="3367800"/>
              <a:chExt cx="6705000" cy="25884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3627000"/>
              <a:ext cx="6705000" cy="259200"/>
              <a:chOff x="0" y="3627000"/>
              <a:chExt cx="6705000" cy="25920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Create a header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clude function prototypes for the destructor and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3D52-F89F-4390-91ED-172E8947CB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"/>
          <p:cNvGrpSpPr/>
          <p:nvPr/>
        </p:nvGrpSpPr>
        <p:grpSpPr>
          <a:xfrm>
            <a:off x="0" y="0"/>
            <a:ext cx="6705000" cy="6477120"/>
            <a:chOff x="0" y="0"/>
            <a:chExt cx="6705000" cy="6477120"/>
          </a:xfrm>
        </p:grpSpPr>
        <p:grpSp>
          <p:nvGrpSpPr>
            <p:cNvPr id="1321" name="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creat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325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reateAnd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328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331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0" y="1523880"/>
              <a:ext cx="6705000" cy="380880"/>
              <a:chOff x="0" y="1523880"/>
              <a:chExt cx="6705000" cy="380880"/>
            </a:xfrm>
          </p:grpSpPr>
          <p:sp>
            <p:nvSpPr>
              <p:cNvPr id="1334" name="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0" y="1904760"/>
              <a:ext cx="6705000" cy="380880"/>
              <a:chOff x="0" y="1904760"/>
              <a:chExt cx="6705000" cy="380880"/>
            </a:xfrm>
          </p:grpSpPr>
          <p:sp>
            <p:nvSpPr>
              <p:cNvPr id="1337" name="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0" y="2285640"/>
              <a:ext cx="6705000" cy="380880"/>
              <a:chOff x="0" y="2285640"/>
              <a:chExt cx="6705000" cy="38088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666880"/>
              <a:ext cx="6705000" cy="380880"/>
              <a:chOff x="0" y="2666880"/>
              <a:chExt cx="6705000" cy="38088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3048120"/>
              <a:ext cx="6705000" cy="380880"/>
              <a:chOff x="0" y="3048120"/>
              <a:chExt cx="6705000" cy="38088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3429000"/>
              <a:ext cx="6705000" cy="380880"/>
              <a:chOff x="0" y="3429000"/>
              <a:chExt cx="6705000" cy="38088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CreateAndDestro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3809880"/>
              <a:ext cx="6705000" cy="380880"/>
              <a:chOff x="0" y="3809880"/>
              <a:chExt cx="6705000" cy="38088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4191120"/>
              <a:ext cx="6705000" cy="380880"/>
              <a:chOff x="0" y="4191120"/>
              <a:chExt cx="6705000" cy="38088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a =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4572000"/>
              <a:ext cx="6705000" cy="380880"/>
              <a:chOff x="0" y="4572000"/>
              <a:chExt cx="6705000" cy="38088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Object " &lt;&lt; data &lt;&lt; "   construct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4952880"/>
              <a:ext cx="6705000" cy="380880"/>
              <a:chOff x="0" y="4952880"/>
              <a:chExt cx="6705000" cy="380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5334120"/>
              <a:ext cx="6705000" cy="380880"/>
              <a:chOff x="0" y="5334120"/>
              <a:chExt cx="6705000" cy="38088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5715000"/>
              <a:ext cx="6705000" cy="380880"/>
              <a:chOff x="0" y="5715000"/>
              <a:chExt cx="6705000" cy="38088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~CreateAndDestro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6096240"/>
              <a:ext cx="6705000" cy="380880"/>
              <a:chOff x="0" y="6096240"/>
              <a:chExt cx="6705000" cy="38088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"Object " &lt;&lt; data &lt;&lt; "   destructor "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2" name=""/>
          <p:cNvGrpSpPr/>
          <p:nvPr/>
        </p:nvGrpSpPr>
        <p:grpSpPr>
          <a:xfrm>
            <a:off x="4952520" y="3809880"/>
            <a:ext cx="3962880" cy="2362320"/>
            <a:chOff x="4952520" y="3809880"/>
            <a:chExt cx="3962880" cy="2362320"/>
          </a:xfrm>
        </p:grpSpPr>
        <p:sp>
          <p:nvSpPr>
            <p:cNvPr id="1373" name=""/>
            <p:cNvSpPr/>
            <p:nvPr/>
          </p:nvSpPr>
          <p:spPr>
            <a:xfrm>
              <a:off x="5486400" y="3809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and Destructor changed to print when they ar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4952520" y="47242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952880" y="4343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ad the header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the constructor and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7861-27CA-427F-8027-09C5F7223F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Create multiple objects of varying 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1379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380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fig06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383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order in which constructor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386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389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392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395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1398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401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404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407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 first( 1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428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global created before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1431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1434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cond( 2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1437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1440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1443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third( 3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1446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1449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1452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1455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1458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ourth( 4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1461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1464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1467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A3C5-5EE3-49CB-9015-539ABFC893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9" name=""/>
          <p:cNvGrpSpPr/>
          <p:nvPr/>
        </p:nvGrpSpPr>
        <p:grpSpPr>
          <a:xfrm>
            <a:off x="0" y="0"/>
            <a:ext cx="6705000" cy="2971440"/>
            <a:chOff x="0" y="0"/>
            <a:chExt cx="6705000" cy="2971440"/>
          </a:xfrm>
        </p:grpSpPr>
        <p:grpSp>
          <p:nvGrpSpPr>
            <p:cNvPr id="1470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if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49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sixth(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49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49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50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venth( 7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50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50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0" y="32767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constructor   (global created before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constructor   (local st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constructor   (local st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5105160" y="4343040"/>
            <a:ext cx="3657960" cy="1692000"/>
            <a:chOff x="5105160" y="4343040"/>
            <a:chExt cx="3657960" cy="1692000"/>
          </a:xfrm>
        </p:grpSpPr>
        <p:sp>
          <p:nvSpPr>
            <p:cNvPr id="1511" name=""/>
            <p:cNvSpPr/>
            <p:nvPr/>
          </p:nvSpPr>
          <p:spPr>
            <a:xfrm>
              <a:off x="5638680" y="472428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order of the constructor and destructor call depends on the types of variables (automatic, global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hey are associated wi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5105160" y="43430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70EE-C9CC-4830-A13A-31D934909C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4 Using Data Members and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clients of the class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write)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read) the values of privat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justing a customer’s bank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modified through the use of 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mber function that sets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member function that return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does not ma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t function should ensure that the new value is val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6996-2FD0-4A14-8B31-E5A8A8E802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 member that is a pointer to the sam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linked lists, queues, stacks and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new data type that is used to decla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variables are declared like variables of other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Object, timeArray[ 10 ]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timePtr, &amp;timeRef =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8AE5-5017-44D3-AA4B-DEDBCF33BA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5 A Subtle Trap: Returning a Reference to a Private Data Memb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the name of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used on the left side of an assignmen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can receive a value, which changes the original object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voided, break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14CA-DE90-4265-A97E-071B825661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"/>
          <p:cNvGrpSpPr/>
          <p:nvPr/>
        </p:nvGrpSpPr>
        <p:grpSpPr>
          <a:xfrm>
            <a:off x="0" y="0"/>
            <a:ext cx="6705000" cy="5866920"/>
            <a:chOff x="0" y="0"/>
            <a:chExt cx="6705000" cy="5866920"/>
          </a:xfrm>
        </p:grpSpPr>
        <p:grpSp>
          <p:nvGrpSpPr>
            <p:cNvPr id="1519" name=""/>
            <p:cNvGrpSpPr/>
            <p:nvPr/>
          </p:nvGrpSpPr>
          <p:grpSpPr>
            <a:xfrm>
              <a:off x="0" y="0"/>
              <a:ext cx="6705000" cy="266400"/>
              <a:chOff x="0" y="0"/>
              <a:chExt cx="6705000" cy="266400"/>
            </a:xfrm>
          </p:grpSpPr>
          <p:sp>
            <p:nvSpPr>
              <p:cNvPr id="1520" name="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time4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0" y="266400"/>
              <a:ext cx="6705000" cy="266400"/>
              <a:chOff x="0" y="266400"/>
              <a:chExt cx="6705000" cy="266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0" y="533160"/>
              <a:ext cx="6705000" cy="266760"/>
              <a:chOff x="0" y="533160"/>
              <a:chExt cx="6705000" cy="266760"/>
            </a:xfrm>
          </p:grpSpPr>
          <p:sp>
            <p:nvSpPr>
              <p:cNvPr id="1526" name="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0" y="799920"/>
              <a:ext cx="6705000" cy="266400"/>
              <a:chOff x="0" y="799920"/>
              <a:chExt cx="6705000" cy="266400"/>
            </a:xfrm>
          </p:grpSpPr>
          <p:sp>
            <p:nvSpPr>
              <p:cNvPr id="1529" name="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0" y="1066680"/>
              <a:ext cx="6705000" cy="266400"/>
              <a:chOff x="0" y="1066680"/>
              <a:chExt cx="6705000" cy="266400"/>
            </a:xfrm>
          </p:grpSpPr>
          <p:sp>
            <p:nvSpPr>
              <p:cNvPr id="1532" name="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0" y="1333440"/>
              <a:ext cx="6705000" cy="266400"/>
              <a:chOff x="0" y="1333440"/>
              <a:chExt cx="6705000" cy="26640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1599840"/>
              <a:ext cx="6705000" cy="266760"/>
              <a:chOff x="0" y="1599840"/>
              <a:chExt cx="6705000" cy="26676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4_H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0" y="1866960"/>
              <a:ext cx="6705000" cy="266400"/>
              <a:chOff x="0" y="1866960"/>
              <a:chExt cx="6705000" cy="266400"/>
            </a:xfrm>
          </p:grpSpPr>
          <p:sp>
            <p:nvSpPr>
              <p:cNvPr id="1541" name="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4_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0" y="2133360"/>
              <a:ext cx="6705000" cy="266400"/>
              <a:chOff x="0" y="2133360"/>
              <a:chExt cx="6705000" cy="26640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2400120"/>
              <a:ext cx="6705000" cy="266400"/>
              <a:chOff x="0" y="2400120"/>
              <a:chExt cx="6705000" cy="26640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2666880"/>
              <a:ext cx="6705000" cy="266760"/>
              <a:chOff x="0" y="2666880"/>
              <a:chExt cx="6705000" cy="26676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2933640"/>
              <a:ext cx="6705000" cy="266400"/>
              <a:chOff x="0" y="2933640"/>
              <a:chExt cx="6705000" cy="26640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3200400"/>
              <a:ext cx="6705000" cy="266400"/>
              <a:chOff x="0" y="3200400"/>
              <a:chExt cx="6705000" cy="26640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3466800"/>
              <a:ext cx="6705000" cy="266400"/>
              <a:chOff x="0" y="3466800"/>
              <a:chExt cx="6705000" cy="26640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3733560"/>
              <a:ext cx="6705000" cy="266760"/>
              <a:chOff x="0" y="3733560"/>
              <a:chExt cx="6705000" cy="26676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4000320"/>
              <a:ext cx="6705000" cy="266400"/>
              <a:chOff x="0" y="4000320"/>
              <a:chExt cx="6705000" cy="26640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4267080"/>
              <a:ext cx="6705000" cy="266400"/>
              <a:chOff x="0" y="4267080"/>
              <a:chExt cx="6705000" cy="26640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4533840"/>
              <a:ext cx="6705000" cy="266400"/>
              <a:chOff x="0" y="4533840"/>
              <a:chExt cx="6705000" cy="26640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4800600"/>
              <a:ext cx="6705000" cy="266400"/>
              <a:chOff x="0" y="4800600"/>
              <a:chExt cx="6705000" cy="26640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5067000"/>
              <a:ext cx="6705000" cy="266760"/>
              <a:chOff x="0" y="5067000"/>
              <a:chExt cx="6705000" cy="26676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5334120"/>
              <a:ext cx="6705000" cy="266400"/>
              <a:chOff x="0" y="5334120"/>
              <a:chExt cx="6705000" cy="26640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5600520"/>
              <a:ext cx="6705000" cy="266400"/>
              <a:chOff x="0" y="5600520"/>
              <a:chExt cx="6705000" cy="26640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5" name=""/>
          <p:cNvGrpSpPr/>
          <p:nvPr/>
        </p:nvGrpSpPr>
        <p:grpSpPr>
          <a:xfrm>
            <a:off x="1219320" y="1905120"/>
            <a:ext cx="4419360" cy="1885680"/>
            <a:chOff x="1219320" y="1905120"/>
            <a:chExt cx="4419360" cy="1885680"/>
          </a:xfrm>
        </p:grpSpPr>
        <p:sp>
          <p:nvSpPr>
            <p:cNvPr id="1586" name=""/>
            <p:cNvSpPr/>
            <p:nvPr/>
          </p:nvSpPr>
          <p:spPr>
            <a:xfrm flipH="1">
              <a:off x="1219320" y="2743200"/>
              <a:ext cx="3124080" cy="10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86000" y="19051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 referenc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return typ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prototype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608F-E9A1-4706-842B-C0C6835504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Load heade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0" y="0"/>
            <a:ext cx="6705000" cy="6629040"/>
            <a:chOff x="0" y="0"/>
            <a:chExt cx="6705000" cy="6629040"/>
          </a:xfrm>
        </p:grpSpPr>
        <p:grpSp>
          <p:nvGrpSpPr>
            <p:cNvPr id="1591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622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625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628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631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 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634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640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1643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1646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1649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1652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1655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OR PROGRAMMING PRACTIC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1658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ing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1661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Time::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1664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1667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h &gt;= 0 &amp;&amp; hh &lt; 24 ) ? h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1670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1673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1676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8" name=""/>
          <p:cNvGrpSpPr/>
          <p:nvPr/>
        </p:nvGrpSpPr>
        <p:grpSpPr>
          <a:xfrm>
            <a:off x="4495680" y="4419720"/>
            <a:ext cx="3353040" cy="1676160"/>
            <a:chOff x="4495680" y="4419720"/>
            <a:chExt cx="3353040" cy="1676160"/>
          </a:xfrm>
        </p:grpSpPr>
        <p:sp>
          <p:nvSpPr>
            <p:cNvPr id="1679" name=""/>
            <p:cNvSpPr/>
            <p:nvPr/>
          </p:nvSpPr>
          <p:spPr>
            <a:xfrm>
              <a:off x="5486400" y="44197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this reference will al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we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4495680" y="54864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09CA-2A32-42A0-A8D3-1E1BAAC722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 Declare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hange data using a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1684" name=""/>
            <p:cNvGrpSpPr/>
            <p:nvPr/>
          </p:nvGrpSpPr>
          <p:grpSpPr>
            <a:xfrm>
              <a:off x="0" y="0"/>
              <a:ext cx="6705000" cy="203760"/>
              <a:chOff x="0" y="0"/>
              <a:chExt cx="6705000" cy="203760"/>
            </a:xfrm>
          </p:grpSpPr>
          <p:sp>
            <p:nvSpPr>
              <p:cNvPr id="1685" name="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fig06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0" y="203760"/>
              <a:ext cx="6705000" cy="203760"/>
              <a:chOff x="0" y="203760"/>
              <a:chExt cx="6705000" cy="203760"/>
            </a:xfrm>
          </p:grpSpPr>
          <p:sp>
            <p:nvSpPr>
              <p:cNvPr id="1688" name="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publ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"/>
            <p:cNvGrpSpPr/>
            <p:nvPr/>
          </p:nvGrpSpPr>
          <p:grpSpPr>
            <a:xfrm>
              <a:off x="0" y="407880"/>
              <a:ext cx="6705000" cy="203760"/>
              <a:chOff x="0" y="407880"/>
              <a:chExt cx="6705000" cy="203760"/>
            </a:xfrm>
          </p:grpSpPr>
          <p:sp>
            <p:nvSpPr>
              <p:cNvPr id="1691" name="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s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0" y="612000"/>
              <a:ext cx="6705000" cy="203760"/>
              <a:chOff x="0" y="612000"/>
              <a:chExt cx="6705000" cy="203760"/>
            </a:xfrm>
          </p:grpSpPr>
          <p:sp>
            <p:nvSpPr>
              <p:cNvPr id="1694" name="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lass has been trimmed for this examp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0" y="815760"/>
              <a:ext cx="6705000" cy="203760"/>
              <a:chOff x="0" y="815760"/>
              <a:chExt cx="6705000" cy="203760"/>
            </a:xfrm>
          </p:grpSpPr>
          <p:sp>
            <p:nvSpPr>
              <p:cNvPr id="1697" name="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0" y="1019880"/>
              <a:ext cx="6705000" cy="203760"/>
              <a:chOff x="0" y="1019880"/>
              <a:chExt cx="6705000" cy="203760"/>
            </a:xfrm>
          </p:grpSpPr>
          <p:sp>
            <p:nvSpPr>
              <p:cNvPr id="1700" name="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0" y="1224000"/>
              <a:ext cx="6705000" cy="203760"/>
              <a:chOff x="0" y="1224000"/>
              <a:chExt cx="6705000" cy="203760"/>
            </a:xfrm>
          </p:grpSpPr>
          <p:sp>
            <p:nvSpPr>
              <p:cNvPr id="1703" name="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0" y="1428120"/>
              <a:ext cx="6705000" cy="203760"/>
              <a:chOff x="0" y="1428120"/>
              <a:chExt cx="6705000" cy="203760"/>
            </a:xfrm>
          </p:grpSpPr>
          <p:sp>
            <p:nvSpPr>
              <p:cNvPr id="1706" name="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0" y="1631880"/>
              <a:ext cx="6705000" cy="203760"/>
              <a:chOff x="0" y="1631880"/>
              <a:chExt cx="6705000" cy="203760"/>
            </a:xfrm>
          </p:grpSpPr>
          <p:sp>
            <p:nvSpPr>
              <p:cNvPr id="1709" name="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0" y="1836000"/>
              <a:ext cx="6705000" cy="203760"/>
              <a:chOff x="0" y="1836000"/>
              <a:chExt cx="6705000" cy="203760"/>
            </a:xfrm>
          </p:grpSpPr>
          <p:sp>
            <p:nvSpPr>
              <p:cNvPr id="1712" name="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0" y="2040120"/>
              <a:ext cx="6705000" cy="203760"/>
              <a:chOff x="0" y="2040120"/>
              <a:chExt cx="6705000" cy="203760"/>
            </a:xfrm>
          </p:grpSpPr>
          <p:sp>
            <p:nvSpPr>
              <p:cNvPr id="1715" name="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0" y="2244240"/>
              <a:ext cx="6705000" cy="203760"/>
              <a:chOff x="0" y="2244240"/>
              <a:chExt cx="6705000" cy="203760"/>
            </a:xfrm>
          </p:grpSpPr>
          <p:sp>
            <p:nvSpPr>
              <p:cNvPr id="1718" name="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0" y="2448000"/>
              <a:ext cx="6705000" cy="203760"/>
              <a:chOff x="0" y="2448000"/>
              <a:chExt cx="6705000" cy="203760"/>
            </a:xfrm>
          </p:grpSpPr>
          <p:sp>
            <p:nvSpPr>
              <p:cNvPr id="1721" name="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0" y="2652120"/>
              <a:ext cx="6705000" cy="203760"/>
              <a:chOff x="0" y="2652120"/>
              <a:chExt cx="6705000" cy="203760"/>
            </a:xfrm>
          </p:grpSpPr>
          <p:sp>
            <p:nvSpPr>
              <p:cNvPr id="1724" name="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0" y="2856240"/>
              <a:ext cx="6705000" cy="203760"/>
              <a:chOff x="0" y="2856240"/>
              <a:chExt cx="6705000" cy="203760"/>
            </a:xfrm>
          </p:grpSpPr>
          <p:sp>
            <p:nvSpPr>
              <p:cNvPr id="1727" name="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hourRef = t.badSetHour(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0" y="3060360"/>
              <a:ext cx="6705000" cy="203760"/>
              <a:chOff x="0" y="3060360"/>
              <a:chExt cx="6705000" cy="203760"/>
            </a:xfrm>
          </p:grpSpPr>
          <p:sp>
            <p:nvSpPr>
              <p:cNvPr id="1730" name="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0" y="3264120"/>
              <a:ext cx="6705000" cy="203760"/>
              <a:chOff x="0" y="3264120"/>
              <a:chExt cx="6705000" cy="203760"/>
            </a:xfrm>
          </p:grpSpPr>
          <p:sp>
            <p:nvSpPr>
              <p:cNvPr id="1733" name="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Hour before modification: " &lt;&lt; hourRef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0" y="3468240"/>
              <a:ext cx="6705000" cy="203760"/>
              <a:chOff x="0" y="3468240"/>
              <a:chExt cx="6705000" cy="203760"/>
            </a:xfrm>
          </p:grpSpPr>
          <p:sp>
            <p:nvSpPr>
              <p:cNvPr id="1736" name="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Ref = 3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cation with invali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0" y="3672360"/>
              <a:ext cx="6705000" cy="203760"/>
              <a:chOff x="0" y="3672360"/>
              <a:chExt cx="6705000" cy="20376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after modification: " &lt;&lt; t.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3876120"/>
              <a:ext cx="6705000" cy="203760"/>
              <a:chOff x="0" y="3876120"/>
              <a:chExt cx="6705000" cy="20376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080240"/>
              <a:ext cx="6705000" cy="203760"/>
              <a:chOff x="0" y="4080240"/>
              <a:chExt cx="6705000" cy="203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angerous: Function call that retur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4284360"/>
              <a:ext cx="6705000" cy="203760"/>
              <a:chOff x="0" y="4284360"/>
              <a:chExt cx="6705000" cy="20376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 reference can be used as an lvalue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4488480"/>
              <a:ext cx="6705000" cy="203760"/>
              <a:chOff x="0" y="4488480"/>
              <a:chExt cx="6705000" cy="20376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badSetHour(12) = 7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4692240"/>
              <a:ext cx="6705000" cy="203760"/>
              <a:chOff x="0" y="4692240"/>
              <a:chExt cx="6705000" cy="20376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*************************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4896360"/>
              <a:ext cx="6705000" cy="203760"/>
              <a:chOff x="0" y="4896360"/>
              <a:chExt cx="6705000" cy="20376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POOR PROGRAMMING PRACTICE!!!!!!!!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5100480"/>
              <a:ext cx="6705000" cy="203760"/>
              <a:chOff x="0" y="5100480"/>
              <a:chExt cx="6705000" cy="20376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dSetHour as an lvalue, Hou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5304600"/>
              <a:ext cx="6705000" cy="203760"/>
              <a:chOff x="0" y="5304600"/>
              <a:chExt cx="6705000" cy="20376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t.getHou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5508360"/>
              <a:ext cx="6705000" cy="203760"/>
              <a:chOff x="0" y="5508360"/>
              <a:chExt cx="6705000" cy="20376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*********************************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5712480"/>
              <a:ext cx="6705000" cy="203760"/>
              <a:chOff x="0" y="5712480"/>
              <a:chExt cx="6705000" cy="20376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5916600"/>
              <a:ext cx="6705000" cy="203760"/>
              <a:chOff x="0" y="5916600"/>
              <a:chExt cx="6705000" cy="20376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6120720"/>
              <a:ext cx="6705000" cy="203760"/>
              <a:chOff x="0" y="6120720"/>
              <a:chExt cx="6705000" cy="20376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7" name=""/>
          <p:cNvGrpSpPr/>
          <p:nvPr/>
        </p:nvGrpSpPr>
        <p:grpSpPr>
          <a:xfrm>
            <a:off x="1599840" y="1371600"/>
            <a:ext cx="4953240" cy="1523880"/>
            <a:chOff x="1599840" y="1371600"/>
            <a:chExt cx="4953240" cy="1523880"/>
          </a:xfrm>
        </p:grpSpPr>
        <p:sp>
          <p:nvSpPr>
            <p:cNvPr id="1778" name=""/>
            <p:cNvSpPr/>
            <p:nvPr/>
          </p:nvSpPr>
          <p:spPr>
            <a:xfrm flipH="1">
              <a:off x="1599840" y="2057400"/>
              <a:ext cx="224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429000" y="13716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at is assigned the reference returned by the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.badSetHour(2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5486400" y="3352680"/>
            <a:ext cx="3123720" cy="824040"/>
            <a:chOff x="5486400" y="3352680"/>
            <a:chExt cx="3123720" cy="824040"/>
          </a:xfrm>
        </p:grpSpPr>
        <p:sp>
          <p:nvSpPr>
            <p:cNvPr id="1781" name=""/>
            <p:cNvSpPr/>
            <p:nvPr/>
          </p:nvSpPr>
          <p:spPr>
            <a:xfrm>
              <a:off x="6248160" y="33526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ias used to 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30 (an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54864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819160" y="4495680"/>
            <a:ext cx="5867640" cy="824040"/>
            <a:chOff x="2819160" y="4495680"/>
            <a:chExt cx="5867640" cy="824040"/>
          </a:xfrm>
        </p:grpSpPr>
        <p:sp>
          <p:nvSpPr>
            <p:cNvPr id="1784" name=""/>
            <p:cNvSpPr/>
            <p:nvPr/>
          </p:nvSpPr>
          <p:spPr>
            <a:xfrm>
              <a:off x="5791320" y="4495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call used as a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ssigned the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nother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2819160" y="4572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5349240" y="30481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63080" y="4038480"/>
            <a:ext cx="26496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638680" y="5597640"/>
            <a:ext cx="33530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9124-8CA2-4E6C-AFF8-F78DA6BCC3E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990720" y="1523880"/>
            <a:ext cx="2895480" cy="2715120"/>
            <a:chOff x="990720" y="1523880"/>
            <a:chExt cx="2895480" cy="2715120"/>
          </a:xfrm>
        </p:grpSpPr>
        <p:sp>
          <p:nvSpPr>
            <p:cNvPr id="1791" name=""/>
            <p:cNvSpPr/>
            <p:nvPr/>
          </p:nvSpPr>
          <p:spPr>
            <a:xfrm>
              <a:off x="990720" y="2441520"/>
              <a:ext cx="28954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n invalid value.  Normally, th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ould not have allowed this. However, because it returned a referen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s change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167652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0" y="228600"/>
            <a:ext cx="670572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5D7F0-6C77-47D9-9781-A983C8C38B8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6 Assignment by Default Memberwise Cop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bject can be assigned to another object of the same type using the 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by member cop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 (call-by-value 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79A9-2AF9-4DC8-878E-838F57BE63F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1797" name=""/>
            <p:cNvGrpSpPr/>
            <p:nvPr/>
          </p:nvGrpSpPr>
          <p:grpSpPr>
            <a:xfrm>
              <a:off x="0" y="0"/>
              <a:ext cx="6705000" cy="210600"/>
              <a:chOff x="0" y="0"/>
              <a:chExt cx="6705000" cy="210600"/>
            </a:xfrm>
          </p:grpSpPr>
          <p:sp>
            <p:nvSpPr>
              <p:cNvPr id="1798" name="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2: fig06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0" y="210600"/>
              <a:ext cx="6705000" cy="210600"/>
              <a:chOff x="0" y="210600"/>
              <a:chExt cx="6705000" cy="210600"/>
            </a:xfrm>
          </p:grpSpPr>
          <p:sp>
            <p:nvSpPr>
              <p:cNvPr id="1801" name="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at class objects can be assig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0" y="421560"/>
              <a:ext cx="6705000" cy="210600"/>
              <a:chOff x="0" y="421560"/>
              <a:chExt cx="6705000" cy="210600"/>
            </a:xfrm>
          </p:grpSpPr>
          <p:sp>
            <p:nvSpPr>
              <p:cNvPr id="1804" name="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 each other using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6" name=""/>
            <p:cNvGrpSpPr/>
            <p:nvPr/>
          </p:nvGrpSpPr>
          <p:grpSpPr>
            <a:xfrm>
              <a:off x="0" y="632160"/>
              <a:ext cx="6705000" cy="210600"/>
              <a:chOff x="0" y="632160"/>
              <a:chExt cx="6705000" cy="210600"/>
            </a:xfrm>
          </p:grpSpPr>
          <p:sp>
            <p:nvSpPr>
              <p:cNvPr id="1807" name="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0" y="843120"/>
              <a:ext cx="6705000" cy="210600"/>
              <a:chOff x="0" y="843120"/>
              <a:chExt cx="6705000" cy="210600"/>
            </a:xfrm>
          </p:grpSpPr>
          <p:sp>
            <p:nvSpPr>
              <p:cNvPr id="1810" name="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0" y="1054080"/>
              <a:ext cx="6705000" cy="210600"/>
              <a:chOff x="0" y="1054080"/>
              <a:chExt cx="6705000" cy="210600"/>
            </a:xfrm>
          </p:grpSpPr>
          <p:sp>
            <p:nvSpPr>
              <p:cNvPr id="1813" name="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0" y="1264680"/>
              <a:ext cx="6705000" cy="210600"/>
              <a:chOff x="0" y="1264680"/>
              <a:chExt cx="6705000" cy="210600"/>
            </a:xfrm>
          </p:grpSpPr>
          <p:sp>
            <p:nvSpPr>
              <p:cNvPr id="1816" name="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0" y="1475640"/>
              <a:ext cx="6705000" cy="210600"/>
              <a:chOff x="0" y="1475640"/>
              <a:chExt cx="6705000" cy="210600"/>
            </a:xfrm>
          </p:grpSpPr>
          <p:sp>
            <p:nvSpPr>
              <p:cNvPr id="1819" name="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0" y="1686600"/>
              <a:ext cx="6705000" cy="210600"/>
              <a:chOff x="0" y="1686600"/>
              <a:chExt cx="6705000" cy="210600"/>
            </a:xfrm>
          </p:grpSpPr>
          <p:sp>
            <p:nvSpPr>
              <p:cNvPr id="1822" name="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imple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0" y="1897200"/>
              <a:ext cx="6705000" cy="210600"/>
              <a:chOff x="0" y="1897200"/>
              <a:chExt cx="6705000" cy="210600"/>
            </a:xfrm>
          </p:grpSpPr>
          <p:sp>
            <p:nvSpPr>
              <p:cNvPr id="1825" name="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0" y="2108160"/>
              <a:ext cx="6705000" cy="210600"/>
              <a:chOff x="0" y="2108160"/>
              <a:chExt cx="6705000" cy="210600"/>
            </a:xfrm>
          </p:grpSpPr>
          <p:sp>
            <p:nvSpPr>
              <p:cNvPr id="1828" name="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0" y="2318760"/>
              <a:ext cx="6705000" cy="210600"/>
              <a:chOff x="0" y="2318760"/>
              <a:chExt cx="6705000" cy="210600"/>
            </a:xfrm>
          </p:grpSpPr>
          <p:sp>
            <p:nvSpPr>
              <p:cNvPr id="1831" name="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99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0" y="2529720"/>
              <a:ext cx="6705000" cy="210600"/>
              <a:chOff x="0" y="2529720"/>
              <a:chExt cx="6705000" cy="210600"/>
            </a:xfrm>
          </p:grpSpPr>
          <p:sp>
            <p:nvSpPr>
              <p:cNvPr id="1834" name="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6" name=""/>
            <p:cNvGrpSpPr/>
            <p:nvPr/>
          </p:nvGrpSpPr>
          <p:grpSpPr>
            <a:xfrm>
              <a:off x="0" y="2740680"/>
              <a:ext cx="6705000" cy="210600"/>
              <a:chOff x="0" y="2740680"/>
              <a:chExt cx="6705000" cy="210600"/>
            </a:xfrm>
          </p:grpSpPr>
          <p:sp>
            <p:nvSpPr>
              <p:cNvPr id="1837" name="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0" y="2951280"/>
              <a:ext cx="6705000" cy="210600"/>
              <a:chOff x="0" y="2951280"/>
              <a:chExt cx="6705000" cy="210600"/>
            </a:xfrm>
          </p:grpSpPr>
          <p:sp>
            <p:nvSpPr>
              <p:cNvPr id="1840" name="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0" y="3162240"/>
              <a:ext cx="6705000" cy="210600"/>
              <a:chOff x="0" y="3162240"/>
              <a:chExt cx="6705000" cy="210600"/>
            </a:xfrm>
          </p:grpSpPr>
          <p:sp>
            <p:nvSpPr>
              <p:cNvPr id="1843" name="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0" y="3373200"/>
              <a:ext cx="6705000" cy="210600"/>
              <a:chOff x="0" y="3373200"/>
              <a:chExt cx="6705000" cy="210600"/>
            </a:xfrm>
          </p:grpSpPr>
          <p:sp>
            <p:nvSpPr>
              <p:cNvPr id="1846" name="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0" y="3583800"/>
              <a:ext cx="6705000" cy="210600"/>
              <a:chOff x="0" y="3583800"/>
              <a:chExt cx="6705000" cy="210600"/>
            </a:xfrm>
          </p:grpSpPr>
          <p:sp>
            <p:nvSpPr>
              <p:cNvPr id="1849" name="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0" y="3794760"/>
              <a:ext cx="6705000" cy="210600"/>
              <a:chOff x="0" y="3794760"/>
              <a:chExt cx="6705000" cy="210600"/>
            </a:xfrm>
          </p:grpSpPr>
          <p:sp>
            <p:nvSpPr>
              <p:cNvPr id="1852" name="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0" y="4005360"/>
              <a:ext cx="6705000" cy="210600"/>
              <a:chOff x="0" y="4005360"/>
              <a:chExt cx="6705000" cy="210600"/>
            </a:xfrm>
          </p:grpSpPr>
          <p:sp>
            <p:nvSpPr>
              <p:cNvPr id="1855" name="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imple Date constructor with no range chec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0" y="4216320"/>
              <a:ext cx="6705000" cy="210600"/>
              <a:chOff x="0" y="4216320"/>
              <a:chExt cx="6705000" cy="210600"/>
            </a:xfrm>
          </p:grpSpPr>
          <p:sp>
            <p:nvSpPr>
              <p:cNvPr id="1858" name="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0" y="4427280"/>
              <a:ext cx="6705000" cy="210600"/>
              <a:chOff x="0" y="4427280"/>
              <a:chExt cx="6705000" cy="210600"/>
            </a:xfrm>
          </p:grpSpPr>
          <p:sp>
            <p:nvSpPr>
              <p:cNvPr id="1861" name="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0" y="4637880"/>
              <a:ext cx="6705000" cy="210600"/>
              <a:chOff x="0" y="4637880"/>
              <a:chExt cx="6705000" cy="210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nth = 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0" y="4848840"/>
              <a:ext cx="6705000" cy="210600"/>
              <a:chOff x="0" y="4848840"/>
              <a:chExt cx="6705000" cy="210600"/>
            </a:xfrm>
          </p:grpSpPr>
          <p:sp>
            <p:nvSpPr>
              <p:cNvPr id="1867" name="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y = 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0" y="5059800"/>
              <a:ext cx="6705000" cy="210600"/>
              <a:chOff x="0" y="5059800"/>
              <a:chExt cx="6705000" cy="210600"/>
            </a:xfrm>
          </p:grpSpPr>
          <p:sp>
            <p:nvSpPr>
              <p:cNvPr id="1870" name="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ear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0" y="5270400"/>
              <a:ext cx="6705000" cy="210600"/>
              <a:chOff x="0" y="5270400"/>
              <a:chExt cx="6705000" cy="21060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5481360"/>
              <a:ext cx="6705000" cy="210600"/>
              <a:chOff x="0" y="5481360"/>
              <a:chExt cx="6705000" cy="21060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5691960"/>
              <a:ext cx="6705000" cy="210600"/>
              <a:chOff x="0" y="5691960"/>
              <a:chExt cx="6705000" cy="21060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Date in the form mm-dd-yyy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5902920"/>
              <a:ext cx="6705000" cy="210600"/>
              <a:chOff x="0" y="5902920"/>
              <a:chExt cx="6705000" cy="21060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print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6113880"/>
              <a:ext cx="6705000" cy="210600"/>
              <a:chOff x="0" y="6113880"/>
              <a:chExt cx="6705000" cy="210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month &lt;&lt; '-' &lt;&lt; day &lt;&lt; '-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Define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D64C-A097-4B92-AC11-64159CBF7E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889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890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893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896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899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 date1( 7, 4, 1993 ), date2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2 defaults to 1/1/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902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905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1908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1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911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914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917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920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 = date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ssignment by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923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After default memberwise copy, 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926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929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935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938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0" name=""/>
          <p:cNvSpPr/>
          <p:nvPr/>
        </p:nvSpPr>
        <p:spPr>
          <a:xfrm>
            <a:off x="0" y="426708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1 = 7-4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default memberwise copy, date2 = 7-4-199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1142640" y="2437920"/>
            <a:ext cx="4800960" cy="2514960"/>
            <a:chOff x="1142640" y="2437920"/>
            <a:chExt cx="4800960" cy="2514960"/>
          </a:xfrm>
        </p:grpSpPr>
        <p:sp>
          <p:nvSpPr>
            <p:cNvPr id="1942" name=""/>
            <p:cNvSpPr/>
            <p:nvPr/>
          </p:nvSpPr>
          <p:spPr>
            <a:xfrm flipH="1" flipV="1">
              <a:off x="1905120" y="243792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809880" y="3657600"/>
              <a:ext cx="76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142640" y="3581280"/>
              <a:ext cx="3048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29000" y="2743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 equa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ll member variables are cop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Memberwise cop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Print value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8A1A-2038-4AE4-8EDD-5C89FD3FF9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7    Software Reusabilit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s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useful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 exist to promot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construction of programs from existing, well-defined, carefully tested, well-documented, portable, widely availabl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s development of powerful, high-quality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E3C7-0B27-4C5F-89C0-0B5CBB3BBA4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Accessing Members of Structure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s an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timeObject.hour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&amp;timeObjec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timePtr-&gt;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*timePtr ).ho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required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lower precedence th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699B-8607-48A7-990A-C905D02EE4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 Create a struct data type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prototypes for th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et and print the ti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13" name="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: fig06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structure, set its members, and print i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ructur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-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-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-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dinnerTi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riable of new type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members to valid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hour = 18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minute = 3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second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nner will be held at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Military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military time,\nwhich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Standard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standard time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438280" y="2057400"/>
            <a:ext cx="4267080" cy="1067400"/>
            <a:chOff x="2438280" y="2057400"/>
            <a:chExt cx="4267080" cy="1067400"/>
          </a:xfrm>
        </p:grpSpPr>
        <p:sp>
          <p:nvSpPr>
            <p:cNvPr id="207" name=""/>
            <p:cNvSpPr/>
            <p:nvPr/>
          </p:nvSpPr>
          <p:spPr>
            <a:xfrm>
              <a:off x="3657240" y="205740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user-defined structure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ree integer members: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438280" y="220932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343400" y="5765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nner will be held at 18:30 military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57F9-FB42-4FDA-B6FE-F8CE1897FF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the time to an invalid hour, then print i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Define the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6705000" cy="263520"/>
              <a:chOff x="0" y="0"/>
              <a:chExt cx="6705000" cy="26352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embers to invalid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263520"/>
              <a:ext cx="6705000" cy="263520"/>
              <a:chOff x="0" y="263520"/>
              <a:chExt cx="6705000" cy="26352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2635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635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hour = 2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527400"/>
              <a:ext cx="6705000" cy="263880"/>
              <a:chOff x="0" y="527400"/>
              <a:chExt cx="6705000" cy="26388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52740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52740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minute = 7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791280"/>
              <a:ext cx="6705000" cy="263520"/>
              <a:chOff x="0" y="791280"/>
              <a:chExt cx="6705000" cy="26352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791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791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1054800"/>
              <a:ext cx="6705000" cy="263520"/>
              <a:chOff x="0" y="1054800"/>
              <a:chExt cx="6705000" cy="26352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10548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0548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ime with invalid value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1318680"/>
              <a:ext cx="6705000" cy="263520"/>
              <a:chOff x="0" y="1318680"/>
              <a:chExt cx="6705000" cy="26352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1318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318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Military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1582560"/>
              <a:ext cx="6705000" cy="263880"/>
              <a:chOff x="0" y="1582560"/>
              <a:chExt cx="6705000" cy="26388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1582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582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1846440"/>
              <a:ext cx="6705000" cy="263520"/>
              <a:chOff x="0" y="1846440"/>
              <a:chExt cx="6705000" cy="2635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846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846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2109960"/>
              <a:ext cx="6705000" cy="263520"/>
              <a:chOff x="0" y="2109960"/>
              <a:chExt cx="6705000" cy="26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21099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21099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2373840"/>
              <a:ext cx="6705000" cy="263520"/>
              <a:chOff x="0" y="2373840"/>
              <a:chExt cx="6705000" cy="2635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2373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373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2637720"/>
              <a:ext cx="6705000" cy="263880"/>
              <a:chOff x="0" y="2637720"/>
              <a:chExt cx="6705000" cy="2638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637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637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901600"/>
              <a:ext cx="6705000" cy="263520"/>
              <a:chOff x="0" y="2901600"/>
              <a:chExt cx="6705000" cy="26352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901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901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3165120"/>
              <a:ext cx="6705000" cy="263520"/>
              <a:chOff x="0" y="3165120"/>
              <a:chExt cx="6705000" cy="26352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3165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3165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429000"/>
              <a:ext cx="6705000" cy="263520"/>
              <a:chOff x="0" y="3429000"/>
              <a:chExt cx="6705000" cy="26352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4290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4290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t.hour &lt; 10 ? "0" : "" ) &lt;&lt; t.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3692520"/>
              <a:ext cx="6705000" cy="263880"/>
              <a:chOff x="0" y="3692520"/>
              <a:chExt cx="6705000" cy="26388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36925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36925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t.minute &lt; 10 ? "0" : "" )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3956400"/>
              <a:ext cx="6705000" cy="263520"/>
              <a:chOff x="0" y="3956400"/>
              <a:chExt cx="6705000" cy="2635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39564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9564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4220280"/>
              <a:ext cx="6705000" cy="263520"/>
              <a:chOff x="0" y="4220280"/>
              <a:chExt cx="6705000" cy="26352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4220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4220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4484160"/>
              <a:ext cx="6705000" cy="263520"/>
              <a:chOff x="0" y="4484160"/>
              <a:chExt cx="6705000" cy="26352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44841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44841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4747680"/>
              <a:ext cx="6705000" cy="263520"/>
              <a:chOff x="0" y="4747680"/>
              <a:chExt cx="6705000" cy="26352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4747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4747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5011560"/>
              <a:ext cx="6705000" cy="263880"/>
              <a:chOff x="0" y="5011560"/>
              <a:chExt cx="6705000" cy="26388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5011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5011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5275440"/>
              <a:ext cx="6705000" cy="263520"/>
              <a:chOff x="0" y="5275440"/>
              <a:chExt cx="6705000" cy="26352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5275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5275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t.hour == 0 || t.hour == 12 ) ?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5539320"/>
              <a:ext cx="6705000" cy="263520"/>
              <a:chOff x="0" y="5539320"/>
              <a:chExt cx="6705000" cy="26352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55393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55393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12 : t.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5802840"/>
              <a:ext cx="6705000" cy="263520"/>
              <a:chOff x="0" y="5802840"/>
              <a:chExt cx="6705000" cy="26352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5802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5802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t.minute &lt; 10 ? "0" : "" ) &lt;&lt; t.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066720"/>
              <a:ext cx="6705000" cy="263880"/>
              <a:chOff x="0" y="6066720"/>
              <a:chExt cx="6705000" cy="26388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066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6066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t.second &lt; 10 ? "0" : "" ) &lt;&lt; t.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6330600"/>
              <a:ext cx="6705000" cy="263520"/>
              <a:chOff x="0" y="6330600"/>
              <a:chExt cx="6705000" cy="26352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6330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6330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t.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6594120"/>
              <a:ext cx="6705000" cy="263520"/>
              <a:chOff x="0" y="6594120"/>
              <a:chExt cx="6705000" cy="2635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6594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6594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3368880" y="144792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with invalid values: 29: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A2CF-7F72-4D45-AC64-B94A89BAD2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6629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nner will be held at 18:30 military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with invalid values: 29: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7EC8-F5E8-4605-9937-98CC130BAD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143000" y="3981600"/>
            <a:ext cx="4876920" cy="2286000"/>
            <a:chOff x="1143000" y="3981600"/>
            <a:chExt cx="4876920" cy="2286000"/>
          </a:xfrm>
        </p:grpSpPr>
        <p:grpSp>
          <p:nvGrpSpPr>
            <p:cNvPr id="294" name=""/>
            <p:cNvGrpSpPr/>
            <p:nvPr/>
          </p:nvGrpSpPr>
          <p:grpSpPr>
            <a:xfrm>
              <a:off x="1143000" y="3981600"/>
              <a:ext cx="4876920" cy="207720"/>
              <a:chOff x="1143000" y="3981600"/>
              <a:chExt cx="4876920" cy="207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143000" y="4189320"/>
              <a:ext cx="4876920" cy="207720"/>
              <a:chOff x="1143000" y="4189320"/>
              <a:chExt cx="4876920" cy="207720"/>
            </a:xfrm>
          </p:grpSpPr>
          <p:sp>
            <p:nvSpPr>
              <p:cNvPr id="298" name="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4397040"/>
              <a:ext cx="4876920" cy="207720"/>
              <a:chOff x="1143000" y="4397040"/>
              <a:chExt cx="4876920" cy="20772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143000" y="4605120"/>
              <a:ext cx="4876920" cy="207720"/>
              <a:chOff x="1143000" y="4605120"/>
              <a:chExt cx="4876920" cy="207720"/>
            </a:xfrm>
          </p:grpSpPr>
          <p:sp>
            <p:nvSpPr>
              <p:cNvPr id="304" name="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setTime( int, int, 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143000" y="4812840"/>
              <a:ext cx="4876920" cy="207720"/>
              <a:chOff x="1143000" y="4812840"/>
              <a:chExt cx="4876920" cy="207720"/>
            </a:xfrm>
          </p:grpSpPr>
          <p:sp>
            <p:nvSpPr>
              <p:cNvPr id="307" name="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143000" y="5020560"/>
              <a:ext cx="4876920" cy="207720"/>
              <a:chOff x="1143000" y="5020560"/>
              <a:chExt cx="4876920" cy="207720"/>
            </a:xfrm>
          </p:grpSpPr>
          <p:sp>
            <p:nvSpPr>
              <p:cNvPr id="310" name="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143000" y="5228280"/>
              <a:ext cx="4876920" cy="207720"/>
              <a:chOff x="1143000" y="5228280"/>
              <a:chExt cx="4876920" cy="207720"/>
            </a:xfrm>
          </p:grpSpPr>
          <p:sp>
            <p:nvSpPr>
              <p:cNvPr id="313" name="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143000" y="5436360"/>
              <a:ext cx="4876920" cy="207720"/>
              <a:chOff x="1143000" y="5436360"/>
              <a:chExt cx="4876920" cy="207720"/>
            </a:xfrm>
          </p:grpSpPr>
          <p:sp>
            <p:nvSpPr>
              <p:cNvPr id="316" name="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143000" y="5644080"/>
              <a:ext cx="4876920" cy="207720"/>
              <a:chOff x="1143000" y="5644080"/>
              <a:chExt cx="4876920" cy="207720"/>
            </a:xfrm>
          </p:grpSpPr>
          <p:sp>
            <p:nvSpPr>
              <p:cNvPr id="319" name="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143000" y="5851800"/>
              <a:ext cx="4876920" cy="207720"/>
              <a:chOff x="1143000" y="5851800"/>
              <a:chExt cx="4876920" cy="207720"/>
            </a:xfrm>
          </p:grpSpPr>
          <p:sp>
            <p:nvSpPr>
              <p:cNvPr id="322" name="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143000" y="6059880"/>
              <a:ext cx="4876920" cy="207720"/>
              <a:chOff x="1143000" y="6059880"/>
              <a:chExt cx="4876920" cy="207720"/>
            </a:xfrm>
          </p:grpSpPr>
          <p:sp>
            <p:nvSpPr>
              <p:cNvPr id="325" name="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s that have attributes (data members) and behaviors (member func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using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a body delineated with brac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definitions terminate with a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4057560"/>
            <a:ext cx="7632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09680" y="436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495320" y="48193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4038120" y="581040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405756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ember-access specif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743360"/>
            <a:ext cx="35049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Milit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Stand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588636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co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emb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63FC-6B2B-4B5F-A767-41B09696B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5:47:53Z</dcterms:created>
  <dc:creator>Llama</dc:creator>
  <dc:description/>
  <dc:language>en-US</dc:language>
  <cp:lastModifiedBy>Antonella Esposito</cp:lastModifiedBy>
  <dcterms:modified xsi:type="dcterms:W3CDTF">2001-01-12T10:42:44Z</dcterms:modified>
  <cp:revision>1004</cp:revision>
  <dc:subject/>
  <dc:title>Classes and Data Abstraction </dc:title>
</cp:coreProperties>
</file>