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3EBC-08A2-4143-B8F8-CADF94962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3E3B-B17D-4FE1-931A-B01FBFE58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01F2-D29E-4715-95CA-218D5B89A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D58B-30F9-4A07-906B-3C117B52B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B4B00-80E0-4AEC-8646-CF229C6060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584D-B0D8-4239-987A-9A06FF0514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A4D8-F7D2-4CA6-8394-44D87E1FA7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0B45-284C-4177-A2BF-9E79B28C26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2DE9-B399-4266-98A0-AE85A5607E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4F4D-8928-4DA6-8237-F130B06053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C1D3-D22B-4945-8B27-C98528C7C3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9F2E-5975-4F47-BB31-A5E9FABFC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1D52-AB6D-4243-A9C2-BF3B3067AA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1500-356E-48DD-87C2-3C04B205AC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915F-D30A-408C-9972-991421C58C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D531-954E-4546-8BA3-8BEE0525F5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CC77-EAC3-48EC-9746-1E544A7203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103C-C92E-4002-8C23-F72D264E3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317B-7CDE-4291-A4AA-28703F93F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2ED9-67DB-4CB8-AAC6-DF069B102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D54B-277D-4C0A-8FC5-D364DD06B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84B6-AAC2-4C49-A551-994E5CACE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1129-CBCF-4B8F-B764-42747092E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1121-9FEF-4E04-A381-EA1B41F6B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4C8E-C248-468B-880B-38C981B41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B023-E451-4ABA-B90A-A80E63C3F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303200"/>
            <a:ext cx="79250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What is a Computer?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omputer Organization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volution of Operating System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ersonal Computing, Distributed Comput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d Client/Server Comput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Machine Languages, Assembly Languages,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d High-level Language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istory of C and C++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++ Standard Librar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Java and Java How to Program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Other High-level Language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Structured Programm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The Key Software Trend: Object Technolog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Basics of a Typical C++ Environment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ardware Trend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istory of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7719-794D-44DD-B7E9-D98C9AC48C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evolved fro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evolved from two other programming languages, BCPL and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tablished worldwide standards for C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“spruces up”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are reusable software components that model things in the rea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programs are easy to understand, correct and mod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A2D2-EFD7-46A4-ABF6-43901A06DA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8 C++ Standard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t from pieces called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rich collections of existing classes and functions for all programmers to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DD38-8816-4896-A9A9-754F29F5D0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9 Java and Java How to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us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web pages with dynamic and interactive con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large-scale enterprise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hance the functionality of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pplications for consumer devices (such as cell phones, pagers and personal digital assi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how to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ly followed the development of Java by s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aches first-year programming students the essentials of graphics, images, animation, audio, video, database, networking, multithreading and collaborative compu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93D8-0B35-4BB1-9B17-F5EA19C872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0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igh-level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TR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scientific and engineer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B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manipulate large amount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cal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teach structur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27F9-205B-4478-8601-0DBCDE1B98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Structured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iplined approach to writing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, easy to test and debug, and easy to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t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activities to run in parall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4555-7100-4252-AB94-BDB28894FA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2 The Key Software Trend: Object Technolog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able software components that model real world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ingful software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objects, time objects, paycheck objects, invoice objects, audio objects, video objects, file objects, record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oun can be represented as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understandable, better organized and easier to maintain than procedur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vor modul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D36E-0CD7-4EC7-B14B-F6E7486358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3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97360" y="1209600"/>
            <a:ext cx="4117680" cy="5572440"/>
            <a:chOff x="4797360" y="1209600"/>
            <a:chExt cx="4117680" cy="5572440"/>
          </a:xfrm>
        </p:grpSpPr>
        <p:sp>
          <p:nvSpPr>
            <p:cNvPr id="120" name=""/>
            <p:cNvSpPr/>
            <p:nvPr/>
          </p:nvSpPr>
          <p:spPr>
            <a:xfrm>
              <a:off x="4797360" y="377964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97360" y="245232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97360" y="377964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23880" y="3924000"/>
              <a:ext cx="542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00840" y="144756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00840" y="207144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00840" y="400824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14920" y="36669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00840" y="560844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287120" y="3656160"/>
              <a:ext cx="341280" cy="1525680"/>
              <a:chOff x="7287120" y="3656160"/>
              <a:chExt cx="341280" cy="1525680"/>
            </a:xfrm>
          </p:grpSpPr>
          <p:sp>
            <p:nvSpPr>
              <p:cNvPr id="130" name=""/>
              <p:cNvSpPr/>
              <p:nvPr/>
            </p:nvSpPr>
            <p:spPr>
              <a:xfrm>
                <a:off x="7287120" y="365724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287120" y="441756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457760" y="44190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7457760" y="36558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287120" y="5256360"/>
              <a:ext cx="341280" cy="1525680"/>
              <a:chOff x="7287120" y="5256360"/>
              <a:chExt cx="341280" cy="1525680"/>
            </a:xfrm>
          </p:grpSpPr>
          <p:sp>
            <p:nvSpPr>
              <p:cNvPr id="135" name=""/>
              <p:cNvSpPr/>
              <p:nvPr/>
            </p:nvSpPr>
            <p:spPr>
              <a:xfrm>
                <a:off x="7287120" y="525744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7287120" y="601776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7457760" y="60192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7457760" y="52560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87120" y="1217880"/>
              <a:ext cx="341280" cy="458640"/>
              <a:chOff x="7287120" y="1217880"/>
              <a:chExt cx="341280" cy="458640"/>
            </a:xfrm>
          </p:grpSpPr>
          <p:sp>
            <p:nvSpPr>
              <p:cNvPr id="140" name=""/>
              <p:cNvSpPr/>
              <p:nvPr/>
            </p:nvSpPr>
            <p:spPr>
              <a:xfrm>
                <a:off x="7287120" y="121896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287120" y="144576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457760" y="144720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7457760" y="121752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287480" y="1833480"/>
              <a:ext cx="16992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287480" y="2061000"/>
              <a:ext cx="16992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457760" y="206208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457760" y="18324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3720" y="124920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 is created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ditor and stor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3720" y="1933200"/>
              <a:ext cx="1285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rocessor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es the cod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9480" y="4290840"/>
              <a:ext cx="12855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er puts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memory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3720" y="5584680"/>
              <a:ext cx="128556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PU takes ea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ruction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 it, possib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ing new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s as the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97360" y="245232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38200" y="2595240"/>
              <a:ext cx="714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00840" y="268092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287120" y="2440440"/>
              <a:ext cx="341280" cy="458640"/>
              <a:chOff x="7287120" y="2440440"/>
              <a:chExt cx="341280" cy="458640"/>
            </a:xfrm>
          </p:grpSpPr>
          <p:sp>
            <p:nvSpPr>
              <p:cNvPr id="156" name=""/>
              <p:cNvSpPr/>
              <p:nvPr/>
            </p:nvSpPr>
            <p:spPr>
              <a:xfrm>
                <a:off x="7287120" y="244152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7287120" y="266832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7457760" y="266976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7457760" y="244008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7623720" y="246528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er crea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 code and sto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0840" y="328896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7480" y="3049200"/>
              <a:ext cx="16992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287480" y="3277440"/>
              <a:ext cx="16992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457760" y="32778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7457760" y="304884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3720" y="2998440"/>
              <a:ext cx="1285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ker links the obj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de with the libraries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s it on 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797360" y="1209600"/>
              <a:ext cx="1199880" cy="457200"/>
              <a:chOff x="4797360" y="1209600"/>
              <a:chExt cx="1199880" cy="457200"/>
            </a:xfrm>
          </p:grpSpPr>
          <p:sp>
            <p:nvSpPr>
              <p:cNvPr id="168" name=""/>
              <p:cNvSpPr/>
              <p:nvPr/>
            </p:nvSpPr>
            <p:spPr>
              <a:xfrm>
                <a:off x="4797360" y="120960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97360" y="120960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24960" y="135360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797360" y="1842840"/>
              <a:ext cx="1199880" cy="457200"/>
              <a:chOff x="4797360" y="1842840"/>
              <a:chExt cx="1199880" cy="457200"/>
            </a:xfrm>
          </p:grpSpPr>
          <p:sp>
            <p:nvSpPr>
              <p:cNvPr id="172" name=""/>
              <p:cNvSpPr/>
              <p:nvPr/>
            </p:nvSpPr>
            <p:spPr>
              <a:xfrm>
                <a:off x="4797360" y="184284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4797360" y="1842840"/>
                <a:ext cx="1199880" cy="457200"/>
                <a:chOff x="4797360" y="1842840"/>
                <a:chExt cx="1199880" cy="457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797360" y="18428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867920" y="197676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4797360" y="3060360"/>
              <a:ext cx="1199880" cy="457200"/>
              <a:chOff x="4797360" y="3060360"/>
              <a:chExt cx="1199880" cy="457200"/>
            </a:xfrm>
          </p:grpSpPr>
          <p:sp>
            <p:nvSpPr>
              <p:cNvPr id="177" name=""/>
              <p:cNvSpPr/>
              <p:nvPr/>
            </p:nvSpPr>
            <p:spPr>
              <a:xfrm>
                <a:off x="4797360" y="306036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4797360" y="3060360"/>
                <a:ext cx="1199880" cy="457200"/>
                <a:chOff x="4797360" y="3060360"/>
                <a:chExt cx="119988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797360" y="306036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124960" y="319500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4797360" y="5379840"/>
              <a:ext cx="1199880" cy="457200"/>
              <a:chOff x="4797360" y="5379840"/>
              <a:chExt cx="1199880" cy="4572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82360" y="565920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253840" y="5532120"/>
                  <a:ext cx="2862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" name=""/>
            <p:cNvSpPr/>
            <p:nvPr/>
          </p:nvSpPr>
          <p:spPr>
            <a:xfrm>
              <a:off x="6514920" y="52545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6514920" y="5519520"/>
              <a:ext cx="772920" cy="1212840"/>
              <a:chOff x="6514920" y="5519520"/>
              <a:chExt cx="772920" cy="1212840"/>
            </a:xfrm>
          </p:grpSpPr>
          <p:sp>
            <p:nvSpPr>
              <p:cNvPr id="190" name=""/>
              <p:cNvSpPr/>
              <p:nvPr/>
            </p:nvSpPr>
            <p:spPr>
              <a:xfrm>
                <a:off x="6837120" y="628308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14920" y="5519520"/>
                <a:ext cx="76680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16000" y="552060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16000" y="5673240"/>
                <a:ext cx="77184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16000" y="582300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516000" y="597492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516000" y="612612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16000" y="6278040"/>
                <a:ext cx="771840" cy="30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16000" y="658116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58360" y="627804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514920" y="3931920"/>
              <a:ext cx="772920" cy="1214640"/>
              <a:chOff x="6514920" y="3931920"/>
              <a:chExt cx="772920" cy="1214640"/>
            </a:xfrm>
          </p:grpSpPr>
          <p:sp>
            <p:nvSpPr>
              <p:cNvPr id="201" name=""/>
              <p:cNvSpPr/>
              <p:nvPr/>
            </p:nvSpPr>
            <p:spPr>
              <a:xfrm>
                <a:off x="6514920" y="3931920"/>
                <a:ext cx="76680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16000" y="393300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16000" y="4085640"/>
                <a:ext cx="77184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6516000" y="4237920"/>
                <a:ext cx="771840" cy="908640"/>
                <a:chOff x="6516000" y="4237920"/>
                <a:chExt cx="771840" cy="908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836760" y="469728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516000" y="423792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516000" y="438912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516000" y="454032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516000" y="4692240"/>
                  <a:ext cx="771840" cy="3031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516000" y="499536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858360" y="469224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514920" y="1293480"/>
              <a:ext cx="771120" cy="309600"/>
              <a:chOff x="6514920" y="1293480"/>
              <a:chExt cx="771120" cy="3096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6514920" y="1294560"/>
                <a:ext cx="771120" cy="308520"/>
                <a:chOff x="6514920" y="1294560"/>
                <a:chExt cx="771120" cy="3085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514920" y="15260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515640" y="133380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514920" y="12945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6514920" y="15256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15640" y="1332720"/>
                <a:ext cx="7704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22480" y="152496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14720" y="13946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20320" y="132624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14920" y="12934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514920" y="1915920"/>
              <a:ext cx="771120" cy="309600"/>
              <a:chOff x="6514920" y="1915920"/>
              <a:chExt cx="771120" cy="3096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6514920" y="1917000"/>
                <a:ext cx="771120" cy="308520"/>
                <a:chOff x="6514920" y="1917000"/>
                <a:chExt cx="771120" cy="3085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514920" y="214848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515640" y="195624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14920" y="191700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6514920" y="21481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515640" y="1955160"/>
                <a:ext cx="7704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22480" y="214740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14720" y="201708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20320" y="194868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14920" y="19159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514920" y="2531880"/>
              <a:ext cx="771120" cy="309600"/>
              <a:chOff x="6514920" y="2531880"/>
              <a:chExt cx="771120" cy="3096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6514920" y="2532960"/>
                <a:ext cx="771120" cy="308520"/>
                <a:chOff x="6514920" y="2532960"/>
                <a:chExt cx="771120" cy="3085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514920" y="27644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515640" y="257220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14920" y="25329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6514920" y="2764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15640" y="2571120"/>
                <a:ext cx="7704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22480" y="276336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14720" y="2633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20320" y="256464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14920" y="25318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514920" y="3135240"/>
              <a:ext cx="771120" cy="309240"/>
              <a:chOff x="6514920" y="3135240"/>
              <a:chExt cx="771120" cy="309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6514920" y="3136320"/>
                <a:ext cx="771120" cy="308160"/>
                <a:chOff x="6514920" y="3136320"/>
                <a:chExt cx="771120" cy="308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14920" y="336780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15640" y="317556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14920" y="313632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6514920" y="3367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15640" y="3174480"/>
                <a:ext cx="77040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22480" y="336636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14720" y="3236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20320" y="316800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14920" y="313524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015160" y="4509720"/>
              <a:ext cx="772920" cy="309600"/>
              <a:chOff x="5015160" y="4509720"/>
              <a:chExt cx="772920" cy="30960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5015520" y="4510080"/>
                <a:ext cx="772560" cy="309240"/>
                <a:chOff x="5015520" y="4510080"/>
                <a:chExt cx="772560" cy="3092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015520" y="47422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15880" y="4549320"/>
                  <a:ext cx="77220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015520" y="45100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5015160" y="474120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15520" y="4548960"/>
                <a:ext cx="77184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22720" y="4741200"/>
                <a:ext cx="75744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14960" y="461016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021280" y="4542120"/>
                <a:ext cx="76320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15160" y="450972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400720" y="4236840"/>
              <a:ext cx="36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0" y="-1201680"/>
            <a:ext cx="5486400" cy="8439120"/>
            <a:chOff x="0" y="-1201680"/>
            <a:chExt cx="5486400" cy="8439120"/>
          </a:xfrm>
        </p:grpSpPr>
        <p:sp>
          <p:nvSpPr>
            <p:cNvPr id="269" name=""/>
            <p:cNvSpPr/>
            <p:nvPr/>
          </p:nvSpPr>
          <p:spPr>
            <a:xfrm>
              <a:off x="0" y="311400"/>
              <a:ext cx="5486400" cy="69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-12016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0" y="7237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09F4-FC84-4186-AEDB-4FA7692184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Hardware Tr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year or two computers approximately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mount of memory they con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used to execut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mount of secondary storage they con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storage (such as disk storage) is used to to hold programs and data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ir processor sp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peed at which computers execute thei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0ED0-7818-4816-9F97-6F1B790E7A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5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net e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ick and easy communication via e-m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ational networking of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s digital data via small p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multiple users to send and receive data simultaneous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entraliz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one part of the Internet fails, other parts can still 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rying capacity of communications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0F94-31F5-48C5-BA77-9555A43A06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World Wide We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users to locate and view multimedia-based documents on almost any su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nformation instantly and conveniently accessible 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t possible for individuals and small businesses to get worldwide expo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changing the way business is d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6C54-DEAE-448F-9920-9FC0C8E4EE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471240" y="1371600"/>
            <a:ext cx="78494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istory of the World Wide Web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General Notes About C++ and This Book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Introduction to C++ Programm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 Simple Program: Printing a Line of Text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other Simple Program: Adding Two Integer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Memory Concept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rithmetic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Decision Making: Equality and Relational Operator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Thinking About Objects: Introduction to Object Technolog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d the Unified Modeling Language</a:t>
            </a:r>
            <a:r>
              <a:rPr b="1" lang="en-US" sz="13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BAA2-F525-4B3B-AEC6-6BED92D4B1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7 General Notes About C++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This Boo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 is geared toward novice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clarity is st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C++ are portable langu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written in C and C++ can run on many different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0654-F836-408A-A46A-8E24722073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8 Introduction to C++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ilitates a structured and disciplined approach to computer program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are several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examples illustrate many important features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xample is analyzed one statement at a tim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9BB5-65D2-4AB9-A463-6E27827AE0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ommen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Pr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Welcome to C++\n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2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0" y="0"/>
            <a:ext cx="6780960" cy="3657600"/>
            <a:chOff x="0" y="0"/>
            <a:chExt cx="6780960" cy="3657600"/>
          </a:xfrm>
        </p:grpSpPr>
        <p:grpSp>
          <p:nvGrpSpPr>
            <p:cNvPr id="284" name=""/>
            <p:cNvGrpSpPr/>
            <p:nvPr/>
          </p:nvGrpSpPr>
          <p:grpSpPr>
            <a:xfrm>
              <a:off x="0" y="0"/>
              <a:ext cx="6780960" cy="390960"/>
              <a:chOff x="0" y="0"/>
              <a:chExt cx="6780960" cy="39096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0"/>
                <a:ext cx="6780960" cy="390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0"/>
                <a:ext cx="6780960" cy="390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2: fig01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390960"/>
              <a:ext cx="6780960" cy="362880"/>
              <a:chOff x="0" y="390960"/>
              <a:chExt cx="6780960" cy="36288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390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390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first program in C+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753840"/>
              <a:ext cx="6780960" cy="362880"/>
              <a:chOff x="0" y="753840"/>
              <a:chExt cx="6780960" cy="36288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753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753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1117080"/>
              <a:ext cx="6780960" cy="362880"/>
              <a:chOff x="0" y="1117080"/>
              <a:chExt cx="6780960" cy="36288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111708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11708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1479960"/>
              <a:ext cx="6780960" cy="362880"/>
              <a:chOff x="0" y="1479960"/>
              <a:chExt cx="6780960" cy="36288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1479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1479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1842840"/>
              <a:ext cx="6780960" cy="362880"/>
              <a:chOff x="0" y="1842840"/>
              <a:chExt cx="6780960" cy="36288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1842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1842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2205720"/>
              <a:ext cx="6780960" cy="362880"/>
              <a:chOff x="0" y="2205720"/>
              <a:chExt cx="6780960" cy="36288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2205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2205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Welcome to C++!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2568960"/>
              <a:ext cx="6780960" cy="362880"/>
              <a:chOff x="0" y="2568960"/>
              <a:chExt cx="6780960" cy="36288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2568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2568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0" y="2931840"/>
              <a:ext cx="6780960" cy="362880"/>
              <a:chOff x="0" y="2931840"/>
              <a:chExt cx="6780960" cy="36288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2931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931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0" y="3294720"/>
              <a:ext cx="6780960" cy="362880"/>
              <a:chOff x="0" y="3294720"/>
              <a:chExt cx="6780960" cy="36288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3294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3294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"/>
          <p:cNvSpPr/>
          <p:nvPr/>
        </p:nvSpPr>
        <p:spPr>
          <a:xfrm>
            <a:off x="0" y="3962520"/>
            <a:ext cx="678168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 to C++!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28800" y="944280"/>
            <a:ext cx="6781680" cy="3169440"/>
            <a:chOff x="1828800" y="944280"/>
            <a:chExt cx="6781680" cy="3169440"/>
          </a:xfrm>
        </p:grpSpPr>
        <p:sp>
          <p:nvSpPr>
            <p:cNvPr id="316" name=""/>
            <p:cNvSpPr/>
            <p:nvPr/>
          </p:nvSpPr>
          <p:spPr>
            <a:xfrm>
              <a:off x="4038480" y="1935000"/>
              <a:ext cx="4572000" cy="217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preprocessor directiv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 to the C++ preprocess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es beginning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preprocessor directiv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include 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ells the preprocessor to include the contents of the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ncludes input/output operations (such as printing to the scree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1828800" y="944280"/>
              <a:ext cx="220968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742840" y="428760"/>
            <a:ext cx="5715360" cy="1321560"/>
            <a:chOff x="2742840" y="428760"/>
            <a:chExt cx="5715360" cy="1321560"/>
          </a:xfrm>
        </p:grpSpPr>
        <p:sp>
          <p:nvSpPr>
            <p:cNvPr id="319" name=""/>
            <p:cNvSpPr/>
            <p:nvPr/>
          </p:nvSpPr>
          <p:spPr>
            <a:xfrm flipH="1" flipV="1">
              <a:off x="2742840" y="53316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428760"/>
              <a:ext cx="4572000" cy="1321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ten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/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/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follow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//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rove program readability and do not cause the computer to perform any a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42640" y="1707840"/>
            <a:ext cx="7391520" cy="3165480"/>
            <a:chOff x="1142640" y="1707840"/>
            <a:chExt cx="7391520" cy="3165480"/>
          </a:xfrm>
        </p:grpSpPr>
        <p:sp>
          <p:nvSpPr>
            <p:cNvPr id="322" name=""/>
            <p:cNvSpPr/>
            <p:nvPr/>
          </p:nvSpPr>
          <p:spPr>
            <a:xfrm>
              <a:off x="3962160" y="3308400"/>
              <a:ext cx="4572000" cy="156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++ programs contain one or more functions, one of which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hesis are used to indicate a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an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"returns" an integer value.  More in Chapter 3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1142640" y="1707840"/>
              <a:ext cx="2819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57200" y="2057400"/>
            <a:ext cx="7696080" cy="3476160"/>
            <a:chOff x="457200" y="2057400"/>
            <a:chExt cx="7696080" cy="3476160"/>
          </a:xfrm>
        </p:grpSpPr>
        <p:sp>
          <p:nvSpPr>
            <p:cNvPr id="325" name=""/>
            <p:cNvSpPr/>
            <p:nvPr/>
          </p:nvSpPr>
          <p:spPr>
            <a:xfrm>
              <a:off x="4038480" y="495288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lef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{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ins the body of every function and a righ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d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457200" y="2057400"/>
              <a:ext cx="358128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209680" y="2361960"/>
            <a:ext cx="4724640" cy="3945960"/>
            <a:chOff x="2209680" y="2361960"/>
            <a:chExt cx="4724640" cy="3945960"/>
          </a:xfrm>
        </p:grpSpPr>
        <p:sp>
          <p:nvSpPr>
            <p:cNvPr id="328" name=""/>
            <p:cNvSpPr/>
            <p:nvPr/>
          </p:nvSpPr>
          <p:spPr>
            <a:xfrm>
              <a:off x="2209680" y="4267080"/>
              <a:ext cx="472464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s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haracters contained between the quotation mark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ntire line, inclu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&lt;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to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"Welcom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++!\n"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micol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, is called 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statements must end with a semicol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2286000" y="2361960"/>
              <a:ext cx="129528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3200040"/>
            <a:ext cx="3276720" cy="2642760"/>
            <a:chOff x="380880" y="3200040"/>
            <a:chExt cx="3276720" cy="2642760"/>
          </a:xfrm>
        </p:grpSpPr>
        <p:sp>
          <p:nvSpPr>
            <p:cNvPr id="331" name=""/>
            <p:cNvSpPr/>
            <p:nvPr/>
          </p:nvSpPr>
          <p:spPr>
            <a:xfrm flipH="1" flipV="1">
              <a:off x="1142640" y="3200040"/>
              <a:ext cx="1522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880" y="4648320"/>
              <a:ext cx="327672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way to exit a function from a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in this case, means that the program terminated norma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9123-FF51-49F7-9423-934D79F515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9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output stream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” to the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ifies the "namespace" whi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removed through the us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insertion opera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to the right of the operator (right operand) inserted into output stream (which is connected to the sc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 &lt;&lt; “Welcome to C++!\n”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cape charac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that a “special” character is to be out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B8A6-6355-4F71-9948-FC3AA3BC14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9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ultiple ways to print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llowing are more examp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531800" y="1143000"/>
          <a:ext cx="5938920" cy="39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1143000"/>
                    <a:ext cx="59389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D8A5-B48C-4874-8BB3-0DB32E4A76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Welcome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to C++!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038480"/>
            <a:ext cx="67816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 to C++!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0"/>
            <a:ext cx="6780960" cy="3657600"/>
            <a:chOff x="0" y="0"/>
            <a:chExt cx="6780960" cy="3657600"/>
          </a:xfrm>
        </p:grpSpPr>
        <p:grpSp>
          <p:nvGrpSpPr>
            <p:cNvPr id="342" name=""/>
            <p:cNvGrpSpPr/>
            <p:nvPr/>
          </p:nvGrpSpPr>
          <p:grpSpPr>
            <a:xfrm>
              <a:off x="0" y="0"/>
              <a:ext cx="6780960" cy="332280"/>
              <a:chOff x="0" y="0"/>
              <a:chExt cx="6780960" cy="33228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4: fig01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332280"/>
              <a:ext cx="6780960" cy="332280"/>
              <a:chOff x="0" y="332280"/>
              <a:chExt cx="6780960" cy="33228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3322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3322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ing a line with multiple stat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664920"/>
              <a:ext cx="6780960" cy="332640"/>
              <a:chOff x="0" y="664920"/>
              <a:chExt cx="6780960" cy="33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66492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66492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997560"/>
              <a:ext cx="6780960" cy="332280"/>
              <a:chOff x="0" y="997560"/>
              <a:chExt cx="6780960" cy="33228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99756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99756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1329840"/>
              <a:ext cx="6780960" cy="332280"/>
              <a:chOff x="0" y="1329840"/>
              <a:chExt cx="6780960" cy="33228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13298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13298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1662480"/>
              <a:ext cx="6780960" cy="332280"/>
              <a:chOff x="0" y="1662480"/>
              <a:chExt cx="6780960" cy="33228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16624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16624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1994760"/>
              <a:ext cx="6780960" cy="332640"/>
              <a:chOff x="0" y="1994760"/>
              <a:chExt cx="6780960" cy="33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19947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19947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Welcom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2327400"/>
              <a:ext cx="6780960" cy="332280"/>
              <a:chOff x="0" y="2327400"/>
              <a:chExt cx="6780960" cy="33228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232740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232740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to C++!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2660040"/>
              <a:ext cx="6780960" cy="332280"/>
              <a:chOff x="0" y="2660040"/>
              <a:chExt cx="6780960" cy="33228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26600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6600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2992320"/>
              <a:ext cx="6780960" cy="332280"/>
              <a:chOff x="0" y="2992320"/>
              <a:chExt cx="6780960" cy="33228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299232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99232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3324960"/>
              <a:ext cx="6780960" cy="332640"/>
              <a:chOff x="0" y="3324960"/>
              <a:chExt cx="6780960" cy="33264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33249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3249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914400" y="2666880"/>
            <a:ext cx="6095880" cy="2562120"/>
            <a:chOff x="914400" y="2666880"/>
            <a:chExt cx="6095880" cy="2562120"/>
          </a:xfrm>
        </p:grpSpPr>
        <p:sp>
          <p:nvSpPr>
            <p:cNvPr id="376" name=""/>
            <p:cNvSpPr/>
            <p:nvPr/>
          </p:nvSpPr>
          <p:spPr>
            <a:xfrm>
              <a:off x="2362320" y="464832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less new l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'\n'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specified, the text continues on the same 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914400" y="4419360"/>
              <a:ext cx="1447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2133360" y="2666880"/>
              <a:ext cx="10666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1668-B2BE-4ACB-929F-B61191520A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Welcome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to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5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6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C++!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7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8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381" name=""/>
            <p:cNvGrpSpPr/>
            <p:nvPr/>
          </p:nvGrpSpPr>
          <p:grpSpPr>
            <a:xfrm>
              <a:off x="0" y="0"/>
              <a:ext cx="6780960" cy="365400"/>
              <a:chOff x="0" y="0"/>
              <a:chExt cx="6780960" cy="3654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5: fig01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365400"/>
              <a:ext cx="6780960" cy="365400"/>
              <a:chOff x="0" y="365400"/>
              <a:chExt cx="6780960" cy="3654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3654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3654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ing multiple lines with a single stat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731160"/>
              <a:ext cx="6780960" cy="365760"/>
              <a:chOff x="0" y="731160"/>
              <a:chExt cx="6780960" cy="36576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7311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7311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1097280"/>
              <a:ext cx="6780960" cy="365400"/>
              <a:chOff x="0" y="1097280"/>
              <a:chExt cx="6780960" cy="3654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10972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10972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1463040"/>
              <a:ext cx="6780960" cy="365400"/>
              <a:chOff x="0" y="1463040"/>
              <a:chExt cx="6780960" cy="3654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14630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14630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828800"/>
              <a:ext cx="6780960" cy="365400"/>
              <a:chOff x="0" y="1828800"/>
              <a:chExt cx="6780960" cy="3654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8288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8288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2194560"/>
              <a:ext cx="6780960" cy="365760"/>
              <a:chOff x="0" y="2194560"/>
              <a:chExt cx="6780960" cy="36576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21945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21945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Welcome\nto\n\nC++!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2560320"/>
              <a:ext cx="6780960" cy="365400"/>
              <a:chOff x="0" y="2560320"/>
              <a:chExt cx="6780960" cy="3654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256032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256032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2926080"/>
              <a:ext cx="6780960" cy="365400"/>
              <a:chOff x="0" y="2926080"/>
              <a:chExt cx="6780960" cy="3654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29260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29260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3291840"/>
              <a:ext cx="6780960" cy="365400"/>
              <a:chOff x="0" y="3291840"/>
              <a:chExt cx="6780960" cy="3654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32918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32918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0" y="403848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++!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09480" y="2514240"/>
            <a:ext cx="5943600" cy="3114720"/>
            <a:chOff x="609480" y="2514240"/>
            <a:chExt cx="5943600" cy="3114720"/>
          </a:xfrm>
        </p:grpSpPr>
        <p:sp>
          <p:nvSpPr>
            <p:cNvPr id="413" name=""/>
            <p:cNvSpPr/>
            <p:nvPr/>
          </p:nvSpPr>
          <p:spPr>
            <a:xfrm>
              <a:off x="2895480" y="50482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ltiple lines can be printed with one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609480" y="4495680"/>
              <a:ext cx="2286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2666880" y="2514240"/>
              <a:ext cx="9144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F98F-C66A-4B60-9FE5-D61E521188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0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in memory where a value can be stored for use by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declared with a name and a data type before they can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common data types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nteger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floating poin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myvariabl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variable nam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variable1, variable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two variables, each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6507-84AA-4748-9F8E-141C3BFC2D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0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tream extraction operat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u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aits for the user to input a value and stores the value in the variable to the right of the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ser types a value, then presse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turn) key to send the data to the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Varia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in &gt;&gt; myVaria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s for user input, then stores inpu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signment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s value to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nary operator (has two operan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variable1 + variable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24A5-AA02-4491-9D2B-E48342ADE5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Initialize variabl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2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Enter first integer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.1 Get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Enter second integer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.1 Get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Add variables and put result in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5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um is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5.1 Out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6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0" y="0"/>
            <a:ext cx="6780960" cy="4343040"/>
            <a:chOff x="0" y="0"/>
            <a:chExt cx="6780960" cy="4343040"/>
          </a:xfrm>
        </p:grpSpPr>
        <p:grpSp>
          <p:nvGrpSpPr>
            <p:cNvPr id="422" name=""/>
            <p:cNvGrpSpPr/>
            <p:nvPr/>
          </p:nvGrpSpPr>
          <p:grpSpPr>
            <a:xfrm>
              <a:off x="0" y="0"/>
              <a:ext cx="6780960" cy="255240"/>
              <a:chOff x="0" y="0"/>
              <a:chExt cx="6780960" cy="25524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6: fig01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255240"/>
              <a:ext cx="6780960" cy="255240"/>
              <a:chOff x="0" y="255240"/>
              <a:chExt cx="6780960" cy="25524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2552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2552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ddition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510840"/>
              <a:ext cx="6780960" cy="255600"/>
              <a:chOff x="0" y="510840"/>
              <a:chExt cx="6780960" cy="25560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51084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51084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766440"/>
              <a:ext cx="6780960" cy="255240"/>
              <a:chOff x="0" y="766440"/>
              <a:chExt cx="6780960" cy="25524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7664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7664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1021680"/>
              <a:ext cx="6780960" cy="255240"/>
              <a:chOff x="0" y="1021680"/>
              <a:chExt cx="6780960" cy="25524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10216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10216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1277280"/>
              <a:ext cx="6780960" cy="255240"/>
              <a:chOff x="0" y="1277280"/>
              <a:chExt cx="6780960" cy="25524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12772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12772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1532880"/>
              <a:ext cx="6780960" cy="255600"/>
              <a:chOff x="0" y="1532880"/>
              <a:chExt cx="6780960" cy="25560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153288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153288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teger1, integer2, sum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1788480"/>
              <a:ext cx="6780960" cy="255240"/>
              <a:chOff x="0" y="1788480"/>
              <a:chExt cx="6780960" cy="25524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17884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17884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2043720"/>
              <a:ext cx="6780960" cy="255240"/>
              <a:chOff x="0" y="2043720"/>
              <a:chExt cx="6780960" cy="25524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20437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20437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Enter first integer\n"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m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2299320"/>
              <a:ext cx="6780960" cy="255240"/>
              <a:chOff x="0" y="2299320"/>
              <a:chExt cx="6780960" cy="25524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22993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22993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in &gt;&gt; integer1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2554920"/>
              <a:ext cx="6780960" cy="255600"/>
              <a:chOff x="0" y="2554920"/>
              <a:chExt cx="6780960" cy="25560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255492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55492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Enter second integer\n"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m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2810520"/>
              <a:ext cx="6780960" cy="255240"/>
              <a:chOff x="0" y="2810520"/>
              <a:chExt cx="6780960" cy="25524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28105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28105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in &gt;&gt; integer2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3065760"/>
              <a:ext cx="6780960" cy="255240"/>
              <a:chOff x="0" y="3065760"/>
              <a:chExt cx="6780960" cy="25524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30657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30657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um = integer1 + integer2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assignment of s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3321360"/>
              <a:ext cx="6780960" cy="255240"/>
              <a:chOff x="0" y="3321360"/>
              <a:chExt cx="6780960" cy="25524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33213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33213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Sum is " &lt;&lt; sum &lt;&lt; std::end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3576960"/>
              <a:ext cx="6780960" cy="255600"/>
              <a:chOff x="0" y="3576960"/>
              <a:chExt cx="6780960" cy="25560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357696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357696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3832560"/>
              <a:ext cx="6780960" cy="255240"/>
              <a:chOff x="0" y="3832560"/>
              <a:chExt cx="6780960" cy="2552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38325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325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4087800"/>
              <a:ext cx="6780960" cy="255240"/>
              <a:chOff x="0" y="4087800"/>
              <a:chExt cx="6780960" cy="2552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408780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408780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0" y="464832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first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econd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666880" y="2133720"/>
            <a:ext cx="6019920" cy="580680"/>
            <a:chOff x="2666880" y="2133720"/>
            <a:chExt cx="6019920" cy="580680"/>
          </a:xfrm>
        </p:grpSpPr>
        <p:sp>
          <p:nvSpPr>
            <p:cNvPr id="475" name=""/>
            <p:cNvSpPr/>
            <p:nvPr/>
          </p:nvSpPr>
          <p:spPr>
            <a:xfrm>
              <a:off x="4572000" y="213372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used to get user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2666880" y="2438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666880" y="3580920"/>
            <a:ext cx="6019920" cy="1480680"/>
            <a:chOff x="2666880" y="3580920"/>
            <a:chExt cx="6019920" cy="1480680"/>
          </a:xfrm>
        </p:grpSpPr>
        <p:sp>
          <p:nvSpPr>
            <p:cNvPr id="478" name=""/>
            <p:cNvSpPr/>
            <p:nvPr/>
          </p:nvSpPr>
          <p:spPr>
            <a:xfrm>
              <a:off x="2666880" y="4724280"/>
              <a:ext cx="6019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s can be output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cout &lt;&lt; variabl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3124080" y="358092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419720" y="3581280"/>
            <a:ext cx="4343400" cy="809280"/>
            <a:chOff x="4419720" y="3581280"/>
            <a:chExt cx="4343400" cy="809280"/>
          </a:xfrm>
        </p:grpSpPr>
        <p:sp>
          <p:nvSpPr>
            <p:cNvPr id="481" name=""/>
            <p:cNvSpPr/>
            <p:nvPr/>
          </p:nvSpPr>
          <p:spPr>
            <a:xfrm>
              <a:off x="5257800" y="38098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end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lushes the buffer and prints a new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4419720" y="35812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6B0E-5FAC-4E73-B528-683FCE0F54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ourse you will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d programming and object 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0FC6-1D34-4CA2-A981-D680BB1D26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respond to locations in the computer'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variable has a name, a type, a size and a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ever a new value is placed into a variable, it replaces the previous value - it is destroy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ing variables from memory does not change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sual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-838440" y="4267080"/>
            <a:ext cx="9360000" cy="1588320"/>
            <a:chOff x="-838440" y="4267080"/>
            <a:chExt cx="9360000" cy="1588320"/>
          </a:xfrm>
        </p:grpSpPr>
        <p:sp>
          <p:nvSpPr>
            <p:cNvPr id="486" name=""/>
            <p:cNvSpPr/>
            <p:nvPr/>
          </p:nvSpPr>
          <p:spPr>
            <a:xfrm>
              <a:off x="-838440" y="541332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600" y="4267080"/>
              <a:ext cx="8508960" cy="11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240" y="427824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10000"/>
                  </a:solidFill>
                  <a:latin typeface="Courier New"/>
                  <a:ea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03840" y="4363920"/>
              <a:ext cx="1701720" cy="927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50960" y="4651200"/>
              <a:ext cx="10749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53120" y="4646520"/>
              <a:ext cx="1341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1920" y="464652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05480" y="4651200"/>
              <a:ext cx="306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05480" y="4646520"/>
              <a:ext cx="33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4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59280" y="464652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FCFF-468C-413E-AEBD-601772620F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multiplication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di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division truncates rema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/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operator returns the remain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%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arithmetic operators act before others (i.e., multiplication before addi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sure to use parenthesis whe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Find the average of three variables a, b and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use: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+ c /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 + b + c ) /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9B1A-4BE3-4FC8-810E-267DFEC822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of operator preced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765000" y="1606680"/>
          <a:ext cx="6742440" cy="21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606680"/>
                    <a:ext cx="674244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411120" y="4108320"/>
          <a:ext cx="7824960" cy="3605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4108320"/>
                    <a:ext cx="78249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F85C-3418-48F8-9B73-AD68C02D71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conditions truth or falsity. If condition met execute, otherwise ign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 and 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er precedence than arithmetic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of relational operators on next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35B1-BD7A-43D5-96D3-3D00C836A7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-1295280" y="1447920"/>
          <a:ext cx="11734560" cy="44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95280" y="1447920"/>
                    <a:ext cx="117345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2DA4-E2A0-4B3B-B9CC-52AE0B284D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iminate the need to 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us to write cout 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se the following functions without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, write the following at the top of th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std::cou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std::c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std::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5572-D2AF-4600-99F8-0C2F93EE21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2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.1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statemen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13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14: fig01_1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if statements, relat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perators, and equality opera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gram uses c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gram uses c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gram uses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1, num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two integers, and I will tell you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the relationships they satisfy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num1 &gt;&gt; num2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ad two integ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=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equal to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57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57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!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not equal to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58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58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lt;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less than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58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59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gt;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greater than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59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lt;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less than or equal to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2514240" y="3733920"/>
            <a:ext cx="6248880" cy="2243880"/>
            <a:chOff x="2514240" y="3733920"/>
            <a:chExt cx="6248880" cy="2243880"/>
          </a:xfrm>
        </p:grpSpPr>
        <p:sp>
          <p:nvSpPr>
            <p:cNvPr id="613" name=""/>
            <p:cNvSpPr/>
            <p:nvPr/>
          </p:nvSpPr>
          <p:spPr>
            <a:xfrm>
              <a:off x="5943600" y="3809880"/>
              <a:ext cx="2819520" cy="2167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s test the truth of the condition.  If it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bod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is executed.  If not, body is skipp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include multiple statements in a body, delineate them with brac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{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2514240" y="3733920"/>
              <a:ext cx="34290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505320" y="315432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3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18040" y="4419720"/>
            <a:ext cx="1918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not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55120" y="5049720"/>
            <a:ext cx="16437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58720" y="626904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904760" y="1219320"/>
            <a:ext cx="5410440" cy="337320"/>
            <a:chOff x="1904760" y="1219320"/>
            <a:chExt cx="5410440" cy="337320"/>
          </a:xfrm>
        </p:grpSpPr>
        <p:sp>
          <p:nvSpPr>
            <p:cNvPr id="620" name=""/>
            <p:cNvSpPr/>
            <p:nvPr/>
          </p:nvSpPr>
          <p:spPr>
            <a:xfrm>
              <a:off x="4419720" y="121932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904760" y="14479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D6A5-ED00-4AF7-BCBA-0D78123EF5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0" y="0"/>
            <a:ext cx="6780960" cy="1904760"/>
            <a:chOff x="0" y="0"/>
            <a:chExt cx="6780960" cy="1904760"/>
          </a:xfrm>
        </p:grpSpPr>
        <p:grpSp>
          <p:nvGrpSpPr>
            <p:cNvPr id="624" name=""/>
            <p:cNvGrpSpPr/>
            <p:nvPr/>
          </p:nvGrpSpPr>
          <p:grpSpPr>
            <a:xfrm>
              <a:off x="0" y="0"/>
              <a:ext cx="6780960" cy="317160"/>
              <a:chOff x="0" y="0"/>
              <a:chExt cx="6780960" cy="31716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gt;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317160"/>
              <a:ext cx="6780960" cy="317160"/>
              <a:chOff x="0" y="317160"/>
              <a:chExt cx="6780960" cy="31716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3171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3171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greater than or equal to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634680"/>
              <a:ext cx="6780960" cy="317520"/>
              <a:chOff x="0" y="634680"/>
              <a:chExt cx="6780960" cy="31752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634680"/>
                <a:ext cx="6780960" cy="31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634680"/>
                <a:ext cx="6780960" cy="31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952560"/>
              <a:ext cx="6780960" cy="317160"/>
              <a:chOff x="0" y="952560"/>
              <a:chExt cx="6780960" cy="31716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9525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9525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1270080"/>
              <a:ext cx="6780960" cy="317160"/>
              <a:chOff x="0" y="1270080"/>
              <a:chExt cx="6780960" cy="31716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127008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127008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1587600"/>
              <a:ext cx="6780960" cy="317160"/>
              <a:chOff x="0" y="1587600"/>
              <a:chExt cx="6780960" cy="31716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158760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158760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"/>
          <p:cNvSpPr/>
          <p:nvPr/>
        </p:nvSpPr>
        <p:spPr>
          <a:xfrm>
            <a:off x="0" y="220968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3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not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65760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22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not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greater than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greater than or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502920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7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less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greater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C055-AFC8-450F-BA68-A49094F9F1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Thinking About Objects: Introduction to Object Technology and the Unified Modeling Language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ori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tural way to think about the world and to write computer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s - propertie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, shape, color, weigh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haviors - 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l rolls, bounces, inflates and def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can perform actions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of objects absorb characteristics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usually do not know how other objects ar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C3BA-282A-4F67-A127-1BEA5FDE53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ion - view the big pictur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e a photograph rather than a group of colored do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nk in terms of houses, not bri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- unit of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serve as a “Blueprint"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are created from a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ontain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implement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ontai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implement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are 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8CAD-E63B-476B-95E9-FA8398A521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    What is a Computer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evice capable of performing computations and making logical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of instructions that control a computer’s processing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ous devices comprising a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keyboard, screen, mouse, disks, memory, CD-ROM, and processing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that run a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0578-CA19-44B3-B8FF-10DA3FAF52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model object-oriented systems and aid with their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, feature-rich graphical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A61B-110B-4BB4-955B-5EB9FD39246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in every compu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s information from input devices (keyboard, mo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information (to screen, to printer, to control other de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ccess, low capacity, stores inpu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hmetic and logic unit (ALU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calculations and logic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processing unit (CPU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es and coordinates the other sections of the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storage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ap, long-term, high-capacity storage, stores inactiv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869F-50B2-4617-9452-6F6F10C957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ch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only one job or task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 transitions between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d through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work computers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jobs or tasks sharing a computer’s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a small portion of one user’s job then moves on to service the next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2A22-E08B-43D4-B00F-E31FBB6A42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conomical enough for individ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compu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ganizations computing is distributed over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ing of information,  across computer networks, between file servers and clients (personal computer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4465-3E39-438C-953A-CA042AD71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of numbers giving machine specific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30004277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40059341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2002740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embly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-like abbreviations representing elementary computer operations (translated via assemb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 BASE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OVER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GROSS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08A3-5943-455C-BC8F-D13B9B5E6E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everyday English, use mathematical notations (translated via compi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 = basePay + overTim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3C78-7692-4149-A5F1-87E182DF01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ntonella Esposito</cp:lastModifiedBy>
  <dcterms:modified xsi:type="dcterms:W3CDTF">2001-02-07T14:29:10Z</dcterms:modified>
  <cp:revision>418</cp:revision>
  <dc:subject/>
  <dc:title>Chapter 1 – Introduction to Computers and C++ Programming</dc:title>
</cp:coreProperties>
</file>