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EF1F-3294-4128-8DAC-A83FC2DA4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65DD-89E1-49E5-8F23-5176D6130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758C-206C-439F-91D4-92088B68F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D29F-9183-4758-B8D7-B28D743D4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1EA3-635D-45EB-82CE-C3AC00CAE4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EE0A-58DC-4905-928F-3368089798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4130-6C69-4B11-975C-DBC92C5FE1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39F6-7B3B-4F1B-8BFF-06072A30B8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D2CA-2C6F-4B42-9FA2-2C269E6806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4866-AC4B-4374-AE5F-8882810B14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EFAC-D8E1-42FF-AAE8-A638422C06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292B-6142-4D4B-BC0F-42EAFC3CE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D9AC-A070-4268-B305-3FBCE88A55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FED8-53CD-4A8C-8B5E-408A79936E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0184-143D-4CBD-B816-112DFF4598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E8E8-C358-4ED5-8C08-957218AC7D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4AC3-4738-40F3-A130-E1FCE713B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57E8-8663-4065-A22E-69F3C5B33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5054-2A3C-4F06-840E-7E95FE3CC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C8D4-5565-42D3-86E4-855F4078F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7728-6ADE-4648-A30D-F507B10D7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62D8-BDDB-488E-BE64-692BE91D6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07CA-2F40-407D-85FE-0710C8D53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70E3-2E0A-4A98-9E9E-79222A8ED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88AA-F1DC-4F82-BCBE-ED756E838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4148-4665-4616-9FDD-58EC0E741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303200"/>
            <a:ext cx="79250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What is a Computer?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mputer Organiza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volution of Operating System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ersonal Computing, Distributed Compu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Client/Server Compu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Machine Languages, Assembly Languages,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C and C++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++ Standard Librar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Java and Java How to Program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Other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Structured Programm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he Key Software Trend: Object Technolog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Basics of a Typical C++ Environment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ardware Trend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28AA-3F31-43CF-ACF7-82BAB5623F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volv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evolved from two other programming languages, 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tablished worldwide standards for 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“spruces up”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re reusable software components that model things in the rea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programs are easy to understand, correct and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3010-1A4E-449E-BA03-1E041C5249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C++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pieces called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rich collections of existing classes and functions for all programmers to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6363-901F-4543-B0EB-EC8CE0886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Java and Java How to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web pages with dynamic and interactive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th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(such as cell phones, pagers and personal digital assi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ow to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ly followed the development of Java by s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aches first-year programming students the essentials of graphics, images, animation, audio, video, database, networking, multithreading and collaborative compu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EEBC-B8B7-415C-80B2-E9660AA300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0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igh-leve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B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manipulate large amount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teach structur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CB24-8E3C-4CE8-912F-A52305F1CF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,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activities to run in parall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42EC-9BA0-4B7B-A007-44AB49733F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real world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CE14-396A-4F81-A017-A3C2C954CA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7360" y="1209600"/>
            <a:ext cx="4117680" cy="5572440"/>
            <a:chOff x="4797360" y="1209600"/>
            <a:chExt cx="4117680" cy="5572440"/>
          </a:xfrm>
        </p:grpSpPr>
        <p:sp>
          <p:nvSpPr>
            <p:cNvPr id="120" name=""/>
            <p:cNvSpPr/>
            <p:nvPr/>
          </p:nvSpPr>
          <p:spPr>
            <a:xfrm>
              <a:off x="4797360" y="377964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97360" y="245232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97360" y="377964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3880" y="3924000"/>
              <a:ext cx="542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0840" y="144756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00840" y="20714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0840" y="40082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14920" y="36669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00840" y="56084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287120" y="3656160"/>
              <a:ext cx="341280" cy="1525680"/>
              <a:chOff x="7287120" y="3656160"/>
              <a:chExt cx="341280" cy="1525680"/>
            </a:xfrm>
          </p:grpSpPr>
          <p:sp>
            <p:nvSpPr>
              <p:cNvPr id="130" name=""/>
              <p:cNvSpPr/>
              <p:nvPr/>
            </p:nvSpPr>
            <p:spPr>
              <a:xfrm>
                <a:off x="7287120" y="365724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287120" y="441756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457760" y="44190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7457760" y="36558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287120" y="5256360"/>
              <a:ext cx="341280" cy="1525680"/>
              <a:chOff x="7287120" y="5256360"/>
              <a:chExt cx="341280" cy="1525680"/>
            </a:xfrm>
          </p:grpSpPr>
          <p:sp>
            <p:nvSpPr>
              <p:cNvPr id="135" name=""/>
              <p:cNvSpPr/>
              <p:nvPr/>
            </p:nvSpPr>
            <p:spPr>
              <a:xfrm>
                <a:off x="7287120" y="525744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7287120" y="601776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7457760" y="60192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7457760" y="52560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87120" y="1217880"/>
              <a:ext cx="341280" cy="458640"/>
              <a:chOff x="7287120" y="1217880"/>
              <a:chExt cx="341280" cy="458640"/>
            </a:xfrm>
          </p:grpSpPr>
          <p:sp>
            <p:nvSpPr>
              <p:cNvPr id="140" name=""/>
              <p:cNvSpPr/>
              <p:nvPr/>
            </p:nvSpPr>
            <p:spPr>
              <a:xfrm>
                <a:off x="7287120" y="12189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287120" y="14457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457760" y="144720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7457760" y="12175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287480" y="1833480"/>
              <a:ext cx="1699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287480" y="2061000"/>
              <a:ext cx="16992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457760" y="206208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457760" y="18324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3720" y="124920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 is created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ditor and stor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3720" y="1933200"/>
              <a:ext cx="1285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rocessor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es the cod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9480" y="4290840"/>
              <a:ext cx="1285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er puts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memor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3720" y="5584680"/>
              <a:ext cx="128556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U takes ea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ruction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 it, possib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ing new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s as the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97360" y="245232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38200" y="2595240"/>
              <a:ext cx="71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0840" y="268092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287120" y="2440440"/>
              <a:ext cx="341280" cy="458640"/>
              <a:chOff x="7287120" y="2440440"/>
              <a:chExt cx="341280" cy="458640"/>
            </a:xfrm>
          </p:grpSpPr>
          <p:sp>
            <p:nvSpPr>
              <p:cNvPr id="156" name=""/>
              <p:cNvSpPr/>
              <p:nvPr/>
            </p:nvSpPr>
            <p:spPr>
              <a:xfrm>
                <a:off x="7287120" y="24415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7287120" y="26683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457760" y="26697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7457760" y="244008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7623720" y="246528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cre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 code and sto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328896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7480" y="3049200"/>
              <a:ext cx="16992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287480" y="3277440"/>
              <a:ext cx="1699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457760" y="3277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7457760" y="304884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3720" y="2998440"/>
              <a:ext cx="1285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er links the obj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de with the libraries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s it on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797360" y="1209600"/>
              <a:ext cx="1199880" cy="457200"/>
              <a:chOff x="4797360" y="1209600"/>
              <a:chExt cx="1199880" cy="457200"/>
            </a:xfrm>
          </p:grpSpPr>
          <p:sp>
            <p:nvSpPr>
              <p:cNvPr id="168" name=""/>
              <p:cNvSpPr/>
              <p:nvPr/>
            </p:nvSpPr>
            <p:spPr>
              <a:xfrm>
                <a:off x="4797360" y="120960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97360" y="120960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24960" y="135360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797360" y="1842840"/>
              <a:ext cx="1199880" cy="457200"/>
              <a:chOff x="4797360" y="1842840"/>
              <a:chExt cx="1199880" cy="457200"/>
            </a:xfrm>
          </p:grpSpPr>
          <p:sp>
            <p:nvSpPr>
              <p:cNvPr id="172" name=""/>
              <p:cNvSpPr/>
              <p:nvPr/>
            </p:nvSpPr>
            <p:spPr>
              <a:xfrm>
                <a:off x="4797360" y="184284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797360" y="1842840"/>
                <a:ext cx="1199880" cy="457200"/>
                <a:chOff x="4797360" y="1842840"/>
                <a:chExt cx="1199880" cy="457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797360" y="1842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67920" y="197676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4797360" y="3060360"/>
              <a:ext cx="1199880" cy="457200"/>
              <a:chOff x="4797360" y="3060360"/>
              <a:chExt cx="1199880" cy="457200"/>
            </a:xfrm>
          </p:grpSpPr>
          <p:sp>
            <p:nvSpPr>
              <p:cNvPr id="177" name=""/>
              <p:cNvSpPr/>
              <p:nvPr/>
            </p:nvSpPr>
            <p:spPr>
              <a:xfrm>
                <a:off x="4797360" y="306036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4797360" y="3060360"/>
                <a:ext cx="1199880" cy="457200"/>
                <a:chOff x="4797360" y="3060360"/>
                <a:chExt cx="119988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797360" y="30603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24960" y="319500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797360" y="5379840"/>
              <a:ext cx="1199880" cy="457200"/>
              <a:chOff x="4797360" y="5379840"/>
              <a:chExt cx="1199880" cy="4572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82360" y="565920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253840" y="5532120"/>
                  <a:ext cx="2862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6514920" y="52545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514920" y="5519520"/>
              <a:ext cx="772920" cy="1212840"/>
              <a:chOff x="6514920" y="5519520"/>
              <a:chExt cx="772920" cy="1212840"/>
            </a:xfrm>
          </p:grpSpPr>
          <p:sp>
            <p:nvSpPr>
              <p:cNvPr id="190" name=""/>
              <p:cNvSpPr/>
              <p:nvPr/>
            </p:nvSpPr>
            <p:spPr>
              <a:xfrm>
                <a:off x="6837120" y="628308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14920" y="5519520"/>
                <a:ext cx="76680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16000" y="55206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16000" y="5673240"/>
                <a:ext cx="77184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16000" y="58230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516000" y="597492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16000" y="612612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16000" y="6278040"/>
                <a:ext cx="77184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16000" y="658116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58360" y="627804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514920" y="3931920"/>
              <a:ext cx="772920" cy="1214640"/>
              <a:chOff x="6514920" y="3931920"/>
              <a:chExt cx="772920" cy="1214640"/>
            </a:xfrm>
          </p:grpSpPr>
          <p:sp>
            <p:nvSpPr>
              <p:cNvPr id="201" name=""/>
              <p:cNvSpPr/>
              <p:nvPr/>
            </p:nvSpPr>
            <p:spPr>
              <a:xfrm>
                <a:off x="6514920" y="3931920"/>
                <a:ext cx="76680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16000" y="39330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16000" y="4085640"/>
                <a:ext cx="77184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16000" y="4237920"/>
                <a:ext cx="771840" cy="908640"/>
                <a:chOff x="6516000" y="4237920"/>
                <a:chExt cx="771840" cy="908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836760" y="469728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516000" y="42379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516000" y="43891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516000" y="45403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16000" y="4692240"/>
                  <a:ext cx="771840" cy="303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16000" y="499536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858360" y="469224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514920" y="1293480"/>
              <a:ext cx="771120" cy="309600"/>
              <a:chOff x="6514920" y="1293480"/>
              <a:chExt cx="771120" cy="3096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514920" y="1294560"/>
                <a:ext cx="771120" cy="308520"/>
                <a:chOff x="6514920" y="1294560"/>
                <a:chExt cx="771120" cy="308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514920" y="15260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515640" y="133380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514920" y="12945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6514920" y="15256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15640" y="133272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22480" y="15249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14720" y="13946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20320" y="132624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14920" y="12934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514920" y="1915920"/>
              <a:ext cx="771120" cy="309600"/>
              <a:chOff x="6514920" y="1915920"/>
              <a:chExt cx="771120" cy="3096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6514920" y="1917000"/>
                <a:ext cx="771120" cy="308520"/>
                <a:chOff x="6514920" y="1917000"/>
                <a:chExt cx="771120" cy="308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514920" y="214848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515640" y="195624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14920" y="191700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514920" y="21481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515640" y="195516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22480" y="214740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14720" y="201708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20320" y="194868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14920" y="19159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514920" y="2531880"/>
              <a:ext cx="771120" cy="309600"/>
              <a:chOff x="6514920" y="2531880"/>
              <a:chExt cx="77112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514920" y="2532960"/>
                <a:ext cx="771120" cy="308520"/>
                <a:chOff x="6514920" y="2532960"/>
                <a:chExt cx="77112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514920" y="27644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515640" y="257220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14920" y="25329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6514920" y="2764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15640" y="257112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22480" y="27633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14720" y="2633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20320" y="256464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14920" y="25318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514920" y="3135240"/>
              <a:ext cx="771120" cy="309240"/>
              <a:chOff x="6514920" y="3135240"/>
              <a:chExt cx="771120" cy="309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6514920" y="3136320"/>
                <a:ext cx="771120" cy="308160"/>
                <a:chOff x="6514920" y="3136320"/>
                <a:chExt cx="771120" cy="308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14920" y="336780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15640" y="317556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14920" y="313632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6514920" y="3367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15640" y="3174480"/>
                <a:ext cx="77040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480" y="33663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14720" y="3236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20320" y="316800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14920" y="313524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015160" y="4509720"/>
              <a:ext cx="772920" cy="309600"/>
              <a:chOff x="5015160" y="4509720"/>
              <a:chExt cx="772920" cy="3096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015520" y="4510080"/>
                <a:ext cx="772560" cy="309240"/>
                <a:chOff x="5015520" y="4510080"/>
                <a:chExt cx="772560" cy="3092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015520" y="47422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15880" y="4549320"/>
                  <a:ext cx="77220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15520" y="45100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015160" y="474120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15520" y="4548960"/>
                <a:ext cx="77184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2720" y="4741200"/>
                <a:ext cx="75744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14960" y="461016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21280" y="4542120"/>
                <a:ext cx="76320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15160" y="450972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400720" y="4236840"/>
              <a:ext cx="36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0" y="-1201680"/>
            <a:ext cx="5486400" cy="8439120"/>
            <a:chOff x="0" y="-1201680"/>
            <a:chExt cx="5486400" cy="8439120"/>
          </a:xfrm>
        </p:grpSpPr>
        <p:sp>
          <p:nvSpPr>
            <p:cNvPr id="269" name=""/>
            <p:cNvSpPr/>
            <p:nvPr/>
          </p:nvSpPr>
          <p:spPr>
            <a:xfrm>
              <a:off x="0" y="311400"/>
              <a:ext cx="5486400" cy="69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-12016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0" y="723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3426-61BD-46D2-A097-12A96E6D7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year or two computers approximately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mount of memory they con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used to execut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mount of secondary storage they con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storage (such as disk storage) is used to to hold programs and data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ed at which computers execute thei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F5E9-DFF8-404E-B9CE-DE79451276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net e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and easy communication via e-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 networking of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s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multiple users to send and receive data simultaneous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the Internet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4B71-95D1-4090-A09D-5C5DB08140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ers to locate and view multimedia-based documents on almost any su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t possible for individuals and small businesses to get worldwide expo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changing the way business i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F77A-9136-4BF2-A046-BD0CDF4715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471240" y="1371600"/>
            <a:ext cx="78494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the World Wide Web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General Notes About C++ and This Book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 to C++ Programm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 Simple Program: Printing a Line of Text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other Simple Program: Adding Two Integer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Memory Concept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rithmetic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Decision Making: Equality and Relational Operator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hinking About Objects: Introduction to Object Technolog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the Unified Modeling Language</a:t>
            </a:r>
            <a:r>
              <a:rPr b="1" lang="en-US" sz="13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9066-D5D2-4C5E-A037-6FA3E1A645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General Notes About C++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is geared toward novic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clarity is st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C++ are portable langu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ritten in C and C++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1CBB-880C-4AAA-B078-D8A5EAD52F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8 Introduction to C++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a structured and disciplined approach to computer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are sever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xamples illustrate many important features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xample is analyzed one statement at a tim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5373-27E9-48B1-8099-4A2BDD30AA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om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 to C++\n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0"/>
            <a:ext cx="6780960" cy="3657600"/>
            <a:chOff x="0" y="0"/>
            <a:chExt cx="6780960" cy="3657600"/>
          </a:xfrm>
        </p:grpSpPr>
        <p:grpSp>
          <p:nvGrpSpPr>
            <p:cNvPr id="284" name=""/>
            <p:cNvGrpSpPr/>
            <p:nvPr/>
          </p:nvGrpSpPr>
          <p:grpSpPr>
            <a:xfrm>
              <a:off x="0" y="0"/>
              <a:ext cx="6780960" cy="390960"/>
              <a:chOff x="0" y="0"/>
              <a:chExt cx="6780960" cy="3909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0"/>
                <a:ext cx="6780960" cy="390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0"/>
                <a:ext cx="6780960" cy="390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2: fig01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390960"/>
              <a:ext cx="6780960" cy="362880"/>
              <a:chOff x="0" y="390960"/>
              <a:chExt cx="6780960" cy="36288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390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90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first program in C+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753840"/>
              <a:ext cx="6780960" cy="362880"/>
              <a:chOff x="0" y="753840"/>
              <a:chExt cx="6780960" cy="36288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753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753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1117080"/>
              <a:ext cx="6780960" cy="362880"/>
              <a:chOff x="0" y="1117080"/>
              <a:chExt cx="6780960" cy="36288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111708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11708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1479960"/>
              <a:ext cx="6780960" cy="362880"/>
              <a:chOff x="0" y="1479960"/>
              <a:chExt cx="6780960" cy="3628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1479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1479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1842840"/>
              <a:ext cx="6780960" cy="362880"/>
              <a:chOff x="0" y="1842840"/>
              <a:chExt cx="6780960" cy="36288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1842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1842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2205720"/>
              <a:ext cx="6780960" cy="362880"/>
              <a:chOff x="0" y="2205720"/>
              <a:chExt cx="6780960" cy="36288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2205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2205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 to 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2568960"/>
              <a:ext cx="6780960" cy="362880"/>
              <a:chOff x="0" y="2568960"/>
              <a:chExt cx="6780960" cy="36288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2568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2568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2931840"/>
              <a:ext cx="6780960" cy="362880"/>
              <a:chOff x="0" y="2931840"/>
              <a:chExt cx="6780960" cy="36288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2931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931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3294720"/>
              <a:ext cx="6780960" cy="362880"/>
              <a:chOff x="0" y="3294720"/>
              <a:chExt cx="6780960" cy="36288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3294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3294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0" y="3962520"/>
            <a:ext cx="678168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++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28800" y="944280"/>
            <a:ext cx="6781680" cy="3169440"/>
            <a:chOff x="1828800" y="944280"/>
            <a:chExt cx="6781680" cy="3169440"/>
          </a:xfrm>
        </p:grpSpPr>
        <p:sp>
          <p:nvSpPr>
            <p:cNvPr id="316" name=""/>
            <p:cNvSpPr/>
            <p:nvPr/>
          </p:nvSpPr>
          <p:spPr>
            <a:xfrm>
              <a:off x="4038480" y="1935000"/>
              <a:ext cx="4572000" cy="217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reprocessor directiv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 to the C++ preprocess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es beginning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preprocessor directiv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nclude 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lls the preprocessor to include the contents of the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ncludes input/output operations (such as printing to the scree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1828800" y="944280"/>
              <a:ext cx="220968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742840" y="428760"/>
            <a:ext cx="5715360" cy="1321560"/>
            <a:chOff x="2742840" y="428760"/>
            <a:chExt cx="5715360" cy="1321560"/>
          </a:xfrm>
        </p:grpSpPr>
        <p:sp>
          <p:nvSpPr>
            <p:cNvPr id="319" name=""/>
            <p:cNvSpPr/>
            <p:nvPr/>
          </p:nvSpPr>
          <p:spPr>
            <a:xfrm flipH="1" flipV="1">
              <a:off x="2742840" y="53316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428760"/>
              <a:ext cx="4572000" cy="1321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ten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/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/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follow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//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rove program readability and do not cause the computer to perform any a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42640" y="1707840"/>
            <a:ext cx="7391520" cy="3165480"/>
            <a:chOff x="1142640" y="1707840"/>
            <a:chExt cx="7391520" cy="3165480"/>
          </a:xfrm>
        </p:grpSpPr>
        <p:sp>
          <p:nvSpPr>
            <p:cNvPr id="322" name=""/>
            <p:cNvSpPr/>
            <p:nvPr/>
          </p:nvSpPr>
          <p:spPr>
            <a:xfrm>
              <a:off x="3962160" y="3308400"/>
              <a:ext cx="4572000" cy="156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++ programs contain one or more functions, one of which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hesis are used to indicate a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an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returns" an integer value.  More in Chapter 3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1142640" y="1707840"/>
              <a:ext cx="2819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57200" y="2057400"/>
            <a:ext cx="7696080" cy="3476160"/>
            <a:chOff x="457200" y="2057400"/>
            <a:chExt cx="7696080" cy="3476160"/>
          </a:xfrm>
        </p:grpSpPr>
        <p:sp>
          <p:nvSpPr>
            <p:cNvPr id="325" name=""/>
            <p:cNvSpPr/>
            <p:nvPr/>
          </p:nvSpPr>
          <p:spPr>
            <a:xfrm>
              <a:off x="4038480" y="495288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s the body of every function and a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d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457200" y="2057400"/>
              <a:ext cx="358128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209680" y="2361960"/>
            <a:ext cx="4724640" cy="3945960"/>
            <a:chOff x="2209680" y="2361960"/>
            <a:chExt cx="4724640" cy="3945960"/>
          </a:xfrm>
        </p:grpSpPr>
        <p:sp>
          <p:nvSpPr>
            <p:cNvPr id="328" name=""/>
            <p:cNvSpPr/>
            <p:nvPr/>
          </p:nvSpPr>
          <p:spPr>
            <a:xfrm>
              <a:off x="2209680" y="4267080"/>
              <a:ext cx="472464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haracters contained between the quotation mark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ntire line, inclu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&lt;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o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"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++!\n"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col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, is called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statements must end with a semi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2286000" y="2361960"/>
              <a:ext cx="129528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3200040"/>
            <a:ext cx="3276720" cy="2642760"/>
            <a:chOff x="380880" y="3200040"/>
            <a:chExt cx="3276720" cy="2642760"/>
          </a:xfrm>
        </p:grpSpPr>
        <p:sp>
          <p:nvSpPr>
            <p:cNvPr id="331" name=""/>
            <p:cNvSpPr/>
            <p:nvPr/>
          </p:nvSpPr>
          <p:spPr>
            <a:xfrm flipH="1" flipV="1">
              <a:off x="1142640" y="3200040"/>
              <a:ext cx="1522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4648320"/>
              <a:ext cx="327672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way to exit a function from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in this case, means that the program terminated norma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561B-7DA0-4256-8133-3E3987D02D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the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the "namespace"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removed through the us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to the right of the operator (right operand) inserted into output stream (which is connected to the sc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 &lt;&lt; “Welcome to C++!\n”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cape charac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that a “special” character is to be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FCC3-792A-4BD1-940B-68D0A8A59A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ultiple ways to print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ing are more examp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531800" y="1143000"/>
          <a:ext cx="5938920" cy="39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1143000"/>
                    <a:ext cx="59389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47E1-5C37-4AD9-9C74-4E320FD426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to C++!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038480"/>
            <a:ext cx="67816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++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0"/>
            <a:ext cx="6780960" cy="3657600"/>
            <a:chOff x="0" y="0"/>
            <a:chExt cx="6780960" cy="3657600"/>
          </a:xfrm>
        </p:grpSpPr>
        <p:grpSp>
          <p:nvGrpSpPr>
            <p:cNvPr id="342" name=""/>
            <p:cNvGrpSpPr/>
            <p:nvPr/>
          </p:nvGrpSpPr>
          <p:grpSpPr>
            <a:xfrm>
              <a:off x="0" y="0"/>
              <a:ext cx="6780960" cy="332280"/>
              <a:chOff x="0" y="0"/>
              <a:chExt cx="6780960" cy="33228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4: fig01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332280"/>
              <a:ext cx="6780960" cy="332280"/>
              <a:chOff x="0" y="332280"/>
              <a:chExt cx="6780960" cy="33228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3322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3322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a line with multiple stat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664920"/>
              <a:ext cx="6780960" cy="332640"/>
              <a:chOff x="0" y="664920"/>
              <a:chExt cx="6780960" cy="33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66492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66492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997560"/>
              <a:ext cx="6780960" cy="332280"/>
              <a:chOff x="0" y="997560"/>
              <a:chExt cx="6780960" cy="33228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99756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99756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1329840"/>
              <a:ext cx="6780960" cy="332280"/>
              <a:chOff x="0" y="1329840"/>
              <a:chExt cx="6780960" cy="33228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13298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13298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1662480"/>
              <a:ext cx="6780960" cy="332280"/>
              <a:chOff x="0" y="1662480"/>
              <a:chExt cx="6780960" cy="3322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6624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16624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1994760"/>
              <a:ext cx="6780960" cy="332640"/>
              <a:chOff x="0" y="1994760"/>
              <a:chExt cx="6780960" cy="33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19947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19947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327400"/>
              <a:ext cx="6780960" cy="332280"/>
              <a:chOff x="0" y="2327400"/>
              <a:chExt cx="6780960" cy="33228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32740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32740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to 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2660040"/>
              <a:ext cx="6780960" cy="332280"/>
              <a:chOff x="0" y="2660040"/>
              <a:chExt cx="6780960" cy="33228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26600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6600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2992320"/>
              <a:ext cx="6780960" cy="332280"/>
              <a:chOff x="0" y="2992320"/>
              <a:chExt cx="6780960" cy="33228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299232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99232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324960"/>
              <a:ext cx="6780960" cy="332640"/>
              <a:chOff x="0" y="3324960"/>
              <a:chExt cx="6780960" cy="33264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3249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3249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914400" y="2666880"/>
            <a:ext cx="6095880" cy="2562120"/>
            <a:chOff x="914400" y="2666880"/>
            <a:chExt cx="6095880" cy="2562120"/>
          </a:xfrm>
        </p:grpSpPr>
        <p:sp>
          <p:nvSpPr>
            <p:cNvPr id="376" name=""/>
            <p:cNvSpPr/>
            <p:nvPr/>
          </p:nvSpPr>
          <p:spPr>
            <a:xfrm>
              <a:off x="2362320" y="464832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less new l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'\n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pecified, the text continues on the same 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914400" y="441936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2133360" y="2666880"/>
              <a:ext cx="10666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DBE8-3E56-4E9F-9873-6BE1FA9836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to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6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++!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7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8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381" name=""/>
            <p:cNvGrpSpPr/>
            <p:nvPr/>
          </p:nvGrpSpPr>
          <p:grpSpPr>
            <a:xfrm>
              <a:off x="0" y="0"/>
              <a:ext cx="6780960" cy="365400"/>
              <a:chOff x="0" y="0"/>
              <a:chExt cx="6780960" cy="3654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5: fig01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365400"/>
              <a:ext cx="6780960" cy="365400"/>
              <a:chOff x="0" y="365400"/>
              <a:chExt cx="6780960" cy="3654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3654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3654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multiple lines with a single stat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731160"/>
              <a:ext cx="6780960" cy="365760"/>
              <a:chOff x="0" y="731160"/>
              <a:chExt cx="6780960" cy="36576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7311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7311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1097280"/>
              <a:ext cx="6780960" cy="365400"/>
              <a:chOff x="0" y="1097280"/>
              <a:chExt cx="6780960" cy="3654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10972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10972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1463040"/>
              <a:ext cx="6780960" cy="365400"/>
              <a:chOff x="0" y="1463040"/>
              <a:chExt cx="6780960" cy="3654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14630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14630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828800"/>
              <a:ext cx="6780960" cy="365400"/>
              <a:chOff x="0" y="1828800"/>
              <a:chExt cx="6780960" cy="3654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8288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8288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2194560"/>
              <a:ext cx="6780960" cy="365760"/>
              <a:chOff x="0" y="2194560"/>
              <a:chExt cx="6780960" cy="36576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21945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21945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\nto\n\n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2560320"/>
              <a:ext cx="6780960" cy="365400"/>
              <a:chOff x="0" y="2560320"/>
              <a:chExt cx="6780960" cy="3654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256032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256032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2926080"/>
              <a:ext cx="6780960" cy="365400"/>
              <a:chOff x="0" y="2926080"/>
              <a:chExt cx="6780960" cy="3654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29260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29260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3291840"/>
              <a:ext cx="6780960" cy="365400"/>
              <a:chOff x="0" y="3291840"/>
              <a:chExt cx="6780960" cy="3654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32918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32918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0" y="403848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++!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09480" y="2514240"/>
            <a:ext cx="5943600" cy="3114720"/>
            <a:chOff x="609480" y="2514240"/>
            <a:chExt cx="5943600" cy="3114720"/>
          </a:xfrm>
        </p:grpSpPr>
        <p:sp>
          <p:nvSpPr>
            <p:cNvPr id="413" name=""/>
            <p:cNvSpPr/>
            <p:nvPr/>
          </p:nvSpPr>
          <p:spPr>
            <a:xfrm>
              <a:off x="2895480" y="50482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ple lines can be printed with one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609480" y="449568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666880" y="2514240"/>
              <a:ext cx="9144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3CC0-5F76-4078-854D-7B3CD18F9A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a value can be stored for use by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with a name and a data type before they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common data types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myvariabl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variable nam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variable1, variable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two variables, each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F8D3-C306-4A27-88BE-E1AE1E4FBC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u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aits for the user to input a value and stores the value in the variable to the right of the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ser types a value, then presse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turn) key to send the data to the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Vari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in &gt;&gt; myVari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input, then stores inpu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s value to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operator (has two opera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C68C-D466-439F-AF55-8C0E4AAF4B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itialize variabl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2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Enter first integer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.1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Enter second integer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.1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Add variables and put result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um is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.1 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6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0" y="0"/>
            <a:ext cx="6780960" cy="4343040"/>
            <a:chOff x="0" y="0"/>
            <a:chExt cx="6780960" cy="4343040"/>
          </a:xfrm>
        </p:grpSpPr>
        <p:grpSp>
          <p:nvGrpSpPr>
            <p:cNvPr id="422" name=""/>
            <p:cNvGrpSpPr/>
            <p:nvPr/>
          </p:nvGrpSpPr>
          <p:grpSpPr>
            <a:xfrm>
              <a:off x="0" y="0"/>
              <a:ext cx="6780960" cy="255240"/>
              <a:chOff x="0" y="0"/>
              <a:chExt cx="6780960" cy="25524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6: fig01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255240"/>
              <a:ext cx="6780960" cy="255240"/>
              <a:chOff x="0" y="255240"/>
              <a:chExt cx="6780960" cy="25524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ition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510840"/>
              <a:ext cx="6780960" cy="255600"/>
              <a:chOff x="0" y="510840"/>
              <a:chExt cx="6780960" cy="25560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766440"/>
              <a:ext cx="6780960" cy="255240"/>
              <a:chOff x="0" y="766440"/>
              <a:chExt cx="6780960" cy="25524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1021680"/>
              <a:ext cx="6780960" cy="255240"/>
              <a:chOff x="0" y="1021680"/>
              <a:chExt cx="6780960" cy="25524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1277280"/>
              <a:ext cx="6780960" cy="255240"/>
              <a:chOff x="0" y="1277280"/>
              <a:chExt cx="6780960" cy="25524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1532880"/>
              <a:ext cx="6780960" cy="255600"/>
              <a:chOff x="0" y="1532880"/>
              <a:chExt cx="6780960" cy="25560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teger1, integer2, sum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1788480"/>
              <a:ext cx="6780960" cy="255240"/>
              <a:chOff x="0" y="1788480"/>
              <a:chExt cx="6780960" cy="25524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2043720"/>
              <a:ext cx="6780960" cy="255240"/>
              <a:chOff x="0" y="2043720"/>
              <a:chExt cx="6780960" cy="25524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first integer\n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2299320"/>
              <a:ext cx="6780960" cy="255240"/>
              <a:chOff x="0" y="2299320"/>
              <a:chExt cx="6780960" cy="25524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1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554920"/>
              <a:ext cx="6780960" cy="255600"/>
              <a:chOff x="0" y="2554920"/>
              <a:chExt cx="6780960" cy="2556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second integer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2810520"/>
              <a:ext cx="6780960" cy="255240"/>
              <a:chOff x="0" y="2810520"/>
              <a:chExt cx="6780960" cy="25524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2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3065760"/>
              <a:ext cx="6780960" cy="255240"/>
              <a:chOff x="0" y="3065760"/>
              <a:chExt cx="6780960" cy="2552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integer1 + integer2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assignment of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3321360"/>
              <a:ext cx="6780960" cy="255240"/>
              <a:chOff x="0" y="3321360"/>
              <a:chExt cx="6780960" cy="2552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Sum is " &lt;&lt; sum &lt;&lt; std::end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3576960"/>
              <a:ext cx="6780960" cy="255600"/>
              <a:chOff x="0" y="3576960"/>
              <a:chExt cx="6780960" cy="2556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3832560"/>
              <a:ext cx="6780960" cy="255240"/>
              <a:chOff x="0" y="3832560"/>
              <a:chExt cx="6780960" cy="2552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4087800"/>
              <a:ext cx="6780960" cy="255240"/>
              <a:chOff x="0" y="4087800"/>
              <a:chExt cx="6780960" cy="2552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0" y="46483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firs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cond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666880" y="2133720"/>
            <a:ext cx="6019920" cy="580680"/>
            <a:chOff x="2666880" y="2133720"/>
            <a:chExt cx="6019920" cy="580680"/>
          </a:xfrm>
        </p:grpSpPr>
        <p:sp>
          <p:nvSpPr>
            <p:cNvPr id="475" name=""/>
            <p:cNvSpPr/>
            <p:nvPr/>
          </p:nvSpPr>
          <p:spPr>
            <a:xfrm>
              <a:off x="4572000" y="213372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to get use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666880" y="2438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666880" y="3580920"/>
            <a:ext cx="6019920" cy="1480680"/>
            <a:chOff x="2666880" y="3580920"/>
            <a:chExt cx="6019920" cy="1480680"/>
          </a:xfrm>
        </p:grpSpPr>
        <p:sp>
          <p:nvSpPr>
            <p:cNvPr id="478" name=""/>
            <p:cNvSpPr/>
            <p:nvPr/>
          </p:nvSpPr>
          <p:spPr>
            <a:xfrm>
              <a:off x="2666880" y="4724280"/>
              <a:ext cx="6019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s can be output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out &lt;&lt; variab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3124080" y="358092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419720" y="3581280"/>
            <a:ext cx="4343400" cy="809280"/>
            <a:chOff x="4419720" y="3581280"/>
            <a:chExt cx="4343400" cy="809280"/>
          </a:xfrm>
        </p:grpSpPr>
        <p:sp>
          <p:nvSpPr>
            <p:cNvPr id="481" name=""/>
            <p:cNvSpPr/>
            <p:nvPr/>
          </p:nvSpPr>
          <p:spPr>
            <a:xfrm>
              <a:off x="5257800" y="38098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end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lushes the buffer and prints a new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4419720" y="35812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DF71-2EC6-4059-93ED-705B36BADB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ourse you will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programming and object 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88F1-9567-420A-B9F3-B5BC299E6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locations in the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a name, a type, a size and a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ever a new value is placed into a variable, it replaces the previous value - it is destroy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does not change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sual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-838440" y="4267080"/>
            <a:ext cx="9360000" cy="1588320"/>
            <a:chOff x="-838440" y="4267080"/>
            <a:chExt cx="9360000" cy="1588320"/>
          </a:xfrm>
        </p:grpSpPr>
        <p:sp>
          <p:nvSpPr>
            <p:cNvPr id="486" name=""/>
            <p:cNvSpPr/>
            <p:nvPr/>
          </p:nvSpPr>
          <p:spPr>
            <a:xfrm>
              <a:off x="-838440" y="54133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600" y="4267080"/>
              <a:ext cx="8508960" cy="11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240" y="427824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1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03840" y="4363920"/>
              <a:ext cx="1701720" cy="927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0960" y="4651200"/>
              <a:ext cx="10749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53120" y="4646520"/>
              <a:ext cx="1341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1920" y="464652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05480" y="4651200"/>
              <a:ext cx="306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05480" y="4646520"/>
              <a:ext cx="33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59280" y="464652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5B99-5870-481B-8BC3-3BD555A3E7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multiplication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di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/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operator returns the remain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%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arithmetic operators act before others (i.e., multiplication before addi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sure to use parenthesis whe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Find the average of three variables a, b and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use: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/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 + b + c ) /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AEFA-96A0-496A-810A-7741D1DFD8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765000" y="1606680"/>
          <a:ext cx="6742440" cy="21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606680"/>
                    <a:ext cx="674244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411120" y="4108320"/>
          <a:ext cx="7824960" cy="3605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4108320"/>
                    <a:ext cx="7824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E79E-1B13-48C2-9BB0-61347CC03A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conditions truth or falsity. If condition met execute, otherwise ign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and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er precedence than arithmetic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relational operators on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B12B-E1F8-4FBA-BBFE-773F82BB06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-1295280" y="1447920"/>
          <a:ext cx="11734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447920"/>
                    <a:ext cx="11734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5755-521F-4F81-9505-9F9CDF38A7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iminate the need to 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us to write cout 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the following functions without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, write the following at the top of th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c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698E-8BEF-4586-A6F1-B2E2FD2B6B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.1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tate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1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14: fig01_1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if statements, rela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perators, and equality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c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c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1, num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wo integers, and I will tell you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the relationships they satisfy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num1 &gt;&gt; num2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ad two inte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=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equal to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!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not equal to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less than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greater than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less than or equal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2514240" y="3733920"/>
            <a:ext cx="6248880" cy="2243880"/>
            <a:chOff x="2514240" y="3733920"/>
            <a:chExt cx="6248880" cy="2243880"/>
          </a:xfrm>
        </p:grpSpPr>
        <p:sp>
          <p:nvSpPr>
            <p:cNvPr id="613" name=""/>
            <p:cNvSpPr/>
            <p:nvPr/>
          </p:nvSpPr>
          <p:spPr>
            <a:xfrm>
              <a:off x="5943600" y="3809880"/>
              <a:ext cx="2819520" cy="2167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s test the truth of the condition.  If it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bod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is executed.  If not, body is ski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clude multiple statements in a body, delineate them with bra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2514240" y="3733920"/>
              <a:ext cx="34290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505320" y="315432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3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18040" y="44197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not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55120" y="5049720"/>
            <a:ext cx="16437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58720" y="626904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904760" y="1219320"/>
            <a:ext cx="5410440" cy="337320"/>
            <a:chOff x="1904760" y="1219320"/>
            <a:chExt cx="5410440" cy="337320"/>
          </a:xfrm>
        </p:grpSpPr>
        <p:sp>
          <p:nvSpPr>
            <p:cNvPr id="620" name=""/>
            <p:cNvSpPr/>
            <p:nvPr/>
          </p:nvSpPr>
          <p:spPr>
            <a:xfrm>
              <a:off x="4419720" y="12193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904760" y="14479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D9EA-6AA1-4164-9AA8-C955F4A8E3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0" y="0"/>
            <a:ext cx="6780960" cy="1904760"/>
            <a:chOff x="0" y="0"/>
            <a:chExt cx="6780960" cy="1904760"/>
          </a:xfrm>
        </p:grpSpPr>
        <p:grpSp>
          <p:nvGrpSpPr>
            <p:cNvPr id="624" name=""/>
            <p:cNvGrpSpPr/>
            <p:nvPr/>
          </p:nvGrpSpPr>
          <p:grpSpPr>
            <a:xfrm>
              <a:off x="0" y="0"/>
              <a:ext cx="6780960" cy="317160"/>
              <a:chOff x="0" y="0"/>
              <a:chExt cx="6780960" cy="31716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317160"/>
              <a:ext cx="6780960" cy="317160"/>
              <a:chOff x="0" y="317160"/>
              <a:chExt cx="6780960" cy="31716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3171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3171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greater than or equal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634680"/>
              <a:ext cx="6780960" cy="317520"/>
              <a:chOff x="0" y="634680"/>
              <a:chExt cx="6780960" cy="3175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634680"/>
                <a:ext cx="6780960" cy="31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634680"/>
                <a:ext cx="6780960" cy="31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952560"/>
              <a:ext cx="6780960" cy="317160"/>
              <a:chOff x="0" y="952560"/>
              <a:chExt cx="6780960" cy="3171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9525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9525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1270080"/>
              <a:ext cx="6780960" cy="317160"/>
              <a:chOff x="0" y="1270080"/>
              <a:chExt cx="6780960" cy="31716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127008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27008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1587600"/>
              <a:ext cx="6780960" cy="317160"/>
              <a:chOff x="0" y="1587600"/>
              <a:chExt cx="6780960" cy="31716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158760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158760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"/>
          <p:cNvSpPr/>
          <p:nvPr/>
        </p:nvSpPr>
        <p:spPr>
          <a:xfrm>
            <a:off x="0" y="220968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3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not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6576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or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50292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greater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B5AD-CE78-44DC-8E0B-95E4D92E7E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tural way to think about the world and to write computer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- properti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haviors -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can perform action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usually do not know how other objects ar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B072-9A9F-4D2A-93CF-A6F23DBDF7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- view the big pictur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 a photograph rather than a group of colored do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k in terms of houses, not bri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- unit of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serve as a “Blueprint"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re created from a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ontain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implement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ontai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implement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are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AE78-64E4-453F-A602-C8DAB42B7E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of instructions that control a computer’s processing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keyboard, screen, mouse, disks, memory, CD-ROM, and processing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EE5A-9786-433A-A142-1838DBAA6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model object-oriented systems and aid with their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, feature-rich graphical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16F1-7D5C-46BE-AAA5-DECDA012B7D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in every compu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(keyboard, mo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information (to screen, to printer, to control other de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low capacity, stores inpu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the other sections of the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ap, long-term, high-capacity storage, stores inactiv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E5FF-DD59-466E-B3C9-326CF19A79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only one job or task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jobs or tasks sharing a computer’s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a small portion of one user’s job then moves on to service th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EF42-0303-4980-BEC1-D6DF283ADE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s computing is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ing of information,  across computer networks, between file servers and clients (personal comput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1363-453F-4200-B11E-60E09B8390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of numbers giving machine specific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(translated via 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 BASE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OVER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E511-D533-4CBB-91CC-4349F26084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everyday English, use mathematical notations (translated via 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188A-B12B-468A-9D5B-CFF2F80045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ntonella Esposito</cp:lastModifiedBy>
  <dcterms:modified xsi:type="dcterms:W3CDTF">2001-02-07T14:29:10Z</dcterms:modified>
  <cp:revision>418</cp:revision>
  <dc:subject/>
  <dc:title>Chapter 1 – Introduction to Computers and C++ Programming</dc:title>
</cp:coreProperties>
</file>