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BE8F4-551B-4909-827B-C1923D838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5774E-3CF5-4FCD-87A8-B5CCE456B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FCB1-1C73-4246-9390-094C1F51E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6A8B-C942-43FB-9CD5-864B548A8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A039F-C9C5-4D67-B4A1-9CE085BD3C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0B99B-FBE2-4E6F-B763-F3E0705D15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7BB91-0511-48A8-BB0F-1AAF031BF8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2A60F-4985-4C33-B4EE-CC803B50B1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FDFD-59AE-4CE3-B19D-54E512B445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B64BD-517B-41FF-9C4A-ADF7739C21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CB250-6EC1-4FEB-91D8-C501255205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FDF6-C690-49B2-B177-C3C071559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56156-96BE-4665-81B4-AF2349427D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5E556-4D4D-4D71-8724-05BDEE685D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7693A-16CD-4845-84DB-6128976B74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00CC7-27C4-4695-87E8-B65D76EE60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458AF-7BCB-4E0C-8B48-A8B6062139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10AA-ED64-4F89-9BB3-95309C49D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FB225-74BA-4C34-8DF6-D51AA884F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D6CE-107E-4251-A789-8413B8B92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0C09-B765-46C3-82C3-8DD4E435B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9FAB-929B-41F1-99D6-CED7D7497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682EB-56E5-4F93-A538-1D770349C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CE00-D855-4B5A-A724-4B5DE3691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2AC9-4F10-448D-B82D-FB16C77DF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C3D1-6DAD-4DC6-8E76-7C61CDC9A2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8 - Operator Overload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695600"/>
            <a:ext cx="91440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347840"/>
            <a:ext cx="8077320" cy="38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damentals of Operator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strictions on Operator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perator Functions as Class Members vs. as friend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Stream-Insertion and Stream-Extraction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Unary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Binary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n Array Clas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verting between Typ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r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s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++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--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at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s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276A-AF7B-4F85-BC58-0EA7FE3845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457200"/>
            <a:ext cx="670572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phone number in the form (123) 456-789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800) 555-1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phone number entered was: (800) 555-12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6F241-CB33-473E-AC33-DC4B07442D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  Overloading Unary Operators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u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overloaded with no arguments or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usually be implemented as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and classes because they violate the encapsulation of a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declaration as a member func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bool operator!() cons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49311-EF63-4962-982F-C3F41C94EA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  Overloading U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declaration as a non-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riend bool operator!( const String &amp;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4D24-7FAF-4988-877D-9CA956D5D0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  Overloading Bi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Bi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static member function,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String &amp;operator+=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String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 += 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.operator+=( z 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7D15-CD14-4FAF-9B0B-368816E744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  Overloading Bi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member function, tw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onst String &amp;operator+=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&amp;, const String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 += 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+=( y, z 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D847-27B5-46A9-ADF0-5D3F2E69CE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8  Case Study: An Array class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a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nge che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assig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that know their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ting/inputting entire array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&g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comparison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!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7109-83EA-45CC-BE06-9CCA8FB586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21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4: arra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imple class Array (for integer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i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stream &amp;operator&gt;&gt;( istream &amp;, Array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= 10 );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 );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~Array();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  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getSiz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si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operator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ssign array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=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mpare eq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Determine if two arrays are not equal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return true, otherwise return false (uses operator==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!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! ( *this == right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ubscrip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ubscrip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getArrayCount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count of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arrays instantiat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iz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ize of th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ptr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ointer to first element of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# of Array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3" name=""/>
          <p:cNvSpPr/>
          <p:nvPr/>
        </p:nvSpPr>
        <p:spPr>
          <a:xfrm>
            <a:off x="9372600" y="259092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200400" y="2666880"/>
            <a:ext cx="5486400" cy="2057400"/>
            <a:chOff x="3200400" y="2666880"/>
            <a:chExt cx="5486400" cy="2057400"/>
          </a:xfrm>
        </p:grpSpPr>
        <p:sp>
          <p:nvSpPr>
            <p:cNvPr id="425" name=""/>
            <p:cNvSpPr/>
            <p:nvPr/>
          </p:nvSpPr>
          <p:spPr>
            <a:xfrm>
              <a:off x="5410080" y="3048120"/>
              <a:ext cx="3276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all the overloaded operators used to implement the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3200400" y="2666880"/>
              <a:ext cx="2286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343040" y="335268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4266720" y="350532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038480" y="3581280"/>
              <a:ext cx="1371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B26C-5E58-479B-9EBB-16EB9040CF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-48895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0" y="0"/>
            <a:ext cx="6780960" cy="609120"/>
            <a:chOff x="0" y="0"/>
            <a:chExt cx="6780960" cy="609120"/>
          </a:xfrm>
        </p:grpSpPr>
        <p:grpSp>
          <p:nvGrpSpPr>
            <p:cNvPr id="433" name=""/>
            <p:cNvGrpSpPr/>
            <p:nvPr/>
          </p:nvGrpSpPr>
          <p:grpSpPr>
            <a:xfrm>
              <a:off x="0" y="0"/>
              <a:ext cx="6780960" cy="203040"/>
              <a:chOff x="0" y="0"/>
              <a:chExt cx="6780960" cy="20304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0" y="203040"/>
              <a:ext cx="6780960" cy="203040"/>
              <a:chOff x="0" y="203040"/>
              <a:chExt cx="6780960" cy="203040"/>
            </a:xfrm>
          </p:grpSpPr>
          <p:sp>
            <p:nvSpPr>
              <p:cNvPr id="437" name=""/>
              <p:cNvSpPr/>
              <p:nvPr/>
            </p:nvSpPr>
            <p:spPr>
              <a:xfrm>
                <a:off x="0" y="2030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2030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0" y="406080"/>
              <a:ext cx="6780960" cy="203040"/>
              <a:chOff x="0" y="406080"/>
              <a:chExt cx="6780960" cy="203040"/>
            </a:xfrm>
          </p:grpSpPr>
          <p:sp>
            <p:nvSpPr>
              <p:cNvPr id="440" name=""/>
              <p:cNvSpPr/>
              <p:nvPr/>
            </p:nvSpPr>
            <p:spPr>
              <a:xfrm>
                <a:off x="0" y="4060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4060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0" y="609480"/>
            <a:ext cx="6780960" cy="6248520"/>
            <a:chOff x="0" y="609480"/>
            <a:chExt cx="6780960" cy="6248520"/>
          </a:xfrm>
        </p:grpSpPr>
        <p:grpSp>
          <p:nvGrpSpPr>
            <p:cNvPr id="443" name=""/>
            <p:cNvGrpSpPr/>
            <p:nvPr/>
          </p:nvGrpSpPr>
          <p:grpSpPr>
            <a:xfrm>
              <a:off x="0" y="609480"/>
              <a:ext cx="6780960" cy="215280"/>
              <a:chOff x="0" y="609480"/>
              <a:chExt cx="6780960" cy="215280"/>
            </a:xfrm>
          </p:grpSpPr>
          <p:sp>
            <p:nvSpPr>
              <p:cNvPr id="444" name=""/>
              <p:cNvSpPr/>
              <p:nvPr/>
            </p:nvSpPr>
            <p:spPr>
              <a:xfrm>
                <a:off x="0" y="6094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6094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 8.4: arra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0" y="824760"/>
              <a:ext cx="6780960" cy="215280"/>
              <a:chOff x="0" y="824760"/>
              <a:chExt cx="6780960" cy="21528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8247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8247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Member function definitions for class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0" y="1040040"/>
              <a:ext cx="6780960" cy="215280"/>
              <a:chOff x="0" y="1040040"/>
              <a:chExt cx="6780960" cy="21528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10400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10400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1255680"/>
              <a:ext cx="6780960" cy="215280"/>
              <a:chOff x="0" y="1255680"/>
              <a:chExt cx="6780960" cy="21528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12556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12556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1471320"/>
              <a:ext cx="6780960" cy="215280"/>
              <a:chOff x="0" y="1471320"/>
              <a:chExt cx="6780960" cy="21528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1471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1471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1686600"/>
              <a:ext cx="6780960" cy="215280"/>
              <a:chOff x="0" y="1686600"/>
              <a:chExt cx="6780960" cy="21528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1686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1686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1902240"/>
              <a:ext cx="6780960" cy="215280"/>
              <a:chOff x="0" y="1902240"/>
              <a:chExt cx="6780960" cy="21528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19022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19022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2117520"/>
              <a:ext cx="6780960" cy="215280"/>
              <a:chOff x="0" y="2117520"/>
              <a:chExt cx="6780960" cy="21528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21175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21175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2333160"/>
              <a:ext cx="6780960" cy="215280"/>
              <a:chOff x="0" y="2333160"/>
              <a:chExt cx="6780960" cy="21528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23331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23331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2548440"/>
              <a:ext cx="6780960" cy="215280"/>
              <a:chOff x="0" y="2548440"/>
              <a:chExt cx="6780960" cy="21528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25484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25484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0" y="2764080"/>
              <a:ext cx="6780960" cy="215280"/>
              <a:chOff x="0" y="2764080"/>
              <a:chExt cx="6780960" cy="21528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27640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7640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0" y="2979720"/>
              <a:ext cx="6780960" cy="215280"/>
              <a:chOff x="0" y="2979720"/>
              <a:chExt cx="6780960" cy="21528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29797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29797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0" y="3195000"/>
              <a:ext cx="6780960" cy="215280"/>
              <a:chOff x="0" y="3195000"/>
              <a:chExt cx="6780960" cy="21528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31950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31950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stdlib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3410280"/>
              <a:ext cx="6780960" cy="215280"/>
              <a:chOff x="0" y="3410280"/>
              <a:chExt cx="6780960" cy="21528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34102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34102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3625920"/>
              <a:ext cx="6780960" cy="215280"/>
              <a:chOff x="0" y="3625920"/>
              <a:chExt cx="6780960" cy="21528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36259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36259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arra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3841560"/>
              <a:ext cx="6780960" cy="215280"/>
              <a:chOff x="0" y="3841560"/>
              <a:chExt cx="6780960" cy="21528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38415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38415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4056840"/>
              <a:ext cx="6780960" cy="215280"/>
              <a:chOff x="0" y="4056840"/>
              <a:chExt cx="6780960" cy="21528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40568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40568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itialize static data member at file sco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4272480"/>
              <a:ext cx="6780960" cy="215280"/>
              <a:chOff x="0" y="4272480"/>
              <a:chExt cx="6780960" cy="21528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42724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42724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::arrayCount =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 objects y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4487760"/>
              <a:ext cx="6780960" cy="215280"/>
              <a:chOff x="0" y="4487760"/>
              <a:chExt cx="6780960" cy="21528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44877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44877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4703400"/>
              <a:ext cx="6780960" cy="215280"/>
              <a:chOff x="0" y="4703400"/>
              <a:chExt cx="6780960" cy="21528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47034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47034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fault constructor for class Array (default size 10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4918680"/>
              <a:ext cx="6780960" cy="215280"/>
              <a:chOff x="0" y="4918680"/>
              <a:chExt cx="6780960" cy="21528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49186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49186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rray::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5134320"/>
              <a:ext cx="6780960" cy="215280"/>
              <a:chOff x="0" y="5134320"/>
              <a:chExt cx="6780960" cy="21528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5134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5134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5349600"/>
              <a:ext cx="6780960" cy="215280"/>
              <a:chOff x="0" y="5349600"/>
              <a:chExt cx="6780960" cy="21528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5349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5349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ize = ( arraySize &gt; 0 ? arraySize : 10 )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5565240"/>
              <a:ext cx="6780960" cy="215280"/>
              <a:chOff x="0" y="5565240"/>
              <a:chExt cx="6780960" cy="21528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55652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55652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 size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reate space for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5780880"/>
              <a:ext cx="6780960" cy="215280"/>
              <a:chOff x="0" y="5780880"/>
              <a:chExt cx="6780960" cy="21528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57808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57808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ptr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rminate if memory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5996160"/>
              <a:ext cx="6780960" cy="215280"/>
              <a:chOff x="0" y="5996160"/>
              <a:chExt cx="6780960" cy="21528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59961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59961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++arrayCount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unt one mor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6211440"/>
              <a:ext cx="6780960" cy="215280"/>
              <a:chOff x="0" y="6211440"/>
              <a:chExt cx="6780960" cy="21528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62114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62114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6427080"/>
              <a:ext cx="6780960" cy="215280"/>
              <a:chOff x="0" y="6427080"/>
              <a:chExt cx="6780960" cy="21528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64270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64270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6642720"/>
              <a:ext cx="6780960" cy="215280"/>
              <a:chOff x="0" y="6642720"/>
              <a:chExt cx="6780960" cy="21528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66427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66427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ptr[ i ] = 0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initializ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2441E-3107-47D1-9DD5-119EFAB56A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assignmen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32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533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536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539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constructor for class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must receive a reference to prevent infinite recur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545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rray::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init ) : size( init.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551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 size ]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reate space for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554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ptr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rminate if memory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557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++arrayCount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// count one mor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566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ptr[ i ] = init.ptr[ i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init into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569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572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575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structor for class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578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rray::~Arra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581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584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ptr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reclaim space for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587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--arrayCount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   // one fewer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590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593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Get the size of th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599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::getSiz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iz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602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605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assign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608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st return avoids: ( a1 = a2 ) = a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611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Array::operator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righ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614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617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&amp;right !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{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heck for self-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620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623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   // for arrays of different sizes, deallocate orig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626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   // left side array, then allocate new left side arra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629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size != right.size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632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ptr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claim sp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3689-E1D5-4781-821C-6A9C2902EC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=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equality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subscript for non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rray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636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size = right.siz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resize this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new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 size ]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reate space for array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643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assert( ptr != 0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terminate if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646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649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652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ptr[ i ] = right.ptr[ i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array into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658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661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664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x = y = z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667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670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673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termine if two arrays are equal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676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true, otherwise return fals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679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::operator=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682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685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size != right.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688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fals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rrays of different siz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691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694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697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ptr[ i ] != right.ptr[ i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700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a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rrays are not eq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703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706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 tru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arrays are eq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709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712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715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subscript operator for non-const Array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718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ference return creates an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721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Array::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ubscrip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724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727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heck for subscript out of range err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730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0 &lt;= subscript &amp;&amp; subscript &lt;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A004-E70B-4220-8FA5-54DF3C6CA5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 Introduction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perator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ing C++’s operators to work with class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traditional operators with user-defined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sz="2200" spc="-1" strike="noStrike">
                <a:solidFill>
                  <a:srgbClr val="000000"/>
                </a:solidFill>
                <a:latin typeface="Times New Roman"/>
              </a:rPr>
              <a:t>equires great ca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sz="2200" spc="-1" strike="noStrike">
                <a:solidFill>
                  <a:srgbClr val="000000"/>
                </a:solidFill>
                <a:latin typeface="Times New Roman"/>
              </a:rPr>
              <a:t>when overloading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sz="2200" spc="-1" strike="noStrike">
                <a:solidFill>
                  <a:srgbClr val="000000"/>
                </a:solidFill>
                <a:latin typeface="Times New Roman"/>
              </a:rPr>
              <a:t>misused, program difficult to und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 of already overloaded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both the stream-insertion operator and the bitwise left-shift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erform arithmetic on multiple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generates the appropriate code based on the manner in which the operator is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CD34D-8B2E-470C-AF6E-D657E0603A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subscript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rray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ArrayCou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gt;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input array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9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lt;&l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output array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34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738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tr[ subscript ]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subscript operator for const Array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st reference return creates an r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Array::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ubscrip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756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759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heck for subscript out of range err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0 &lt;= subscript &amp;&amp; subscript &lt;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765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tr[ subscript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st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771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777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the number of Array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780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tatic functions cannot be cons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783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::getArrayCoun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Coun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786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789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input operator for class Arr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792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s values for entire arra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795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stream &amp;operator&gt;&gt;( istream &amp;input, Array &amp;a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801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a.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input &gt;&gt; a.ptr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n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in &gt;&gt; x &gt;&gt;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output operator for class Arra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a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95AA3-F36E-4129-9D69-5A3B800FD8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0" y="0"/>
            <a:ext cx="6780960" cy="3200040"/>
            <a:chOff x="0" y="0"/>
            <a:chExt cx="6780960" cy="3200040"/>
          </a:xfrm>
        </p:grpSpPr>
        <p:grpSp>
          <p:nvGrpSpPr>
            <p:cNvPr id="829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83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83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83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i = 0; i &lt; a.size; i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83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output &lt;&lt; setw( 12 ) &lt;&lt; a.ptr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84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84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( i + 1 ) % 4 == 0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4 numbers per row of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0" y="1371600"/>
              <a:ext cx="6780960" cy="228600"/>
              <a:chOff x="0" y="1371600"/>
              <a:chExt cx="6780960" cy="228600"/>
            </a:xfrm>
          </p:grpSpPr>
          <p:sp>
            <p:nvSpPr>
              <p:cNvPr id="848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outp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851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i % 4 !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outp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out &lt;&lt; x &lt;&lt;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1" name=""/>
          <p:cNvGrpSpPr/>
          <p:nvPr/>
        </p:nvGrpSpPr>
        <p:grpSpPr>
          <a:xfrm>
            <a:off x="0" y="3200400"/>
            <a:ext cx="6780960" cy="3657240"/>
            <a:chOff x="0" y="3200400"/>
            <a:chExt cx="6780960" cy="3657240"/>
          </a:xfrm>
        </p:grpSpPr>
        <p:grpSp>
          <p:nvGrpSpPr>
            <p:cNvPr id="872" name=""/>
            <p:cNvGrpSpPr/>
            <p:nvPr/>
          </p:nvGrpSpPr>
          <p:grpSpPr>
            <a:xfrm>
              <a:off x="0" y="3200400"/>
              <a:ext cx="6780960" cy="228240"/>
              <a:chOff x="0" y="3200400"/>
              <a:chExt cx="6780960" cy="228240"/>
            </a:xfrm>
          </p:grpSpPr>
          <p:sp>
            <p:nvSpPr>
              <p:cNvPr id="873" name=""/>
              <p:cNvSpPr/>
              <p:nvPr/>
            </p:nvSpPr>
            <p:spPr>
              <a:xfrm>
                <a:off x="0" y="3200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0" y="3200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4: fig08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0" y="3428640"/>
              <a:ext cx="6780960" cy="228240"/>
              <a:chOff x="0" y="3428640"/>
              <a:chExt cx="6780960" cy="228240"/>
            </a:xfrm>
          </p:grpSpPr>
          <p:sp>
            <p:nvSpPr>
              <p:cNvPr id="876" name=""/>
              <p:cNvSpPr/>
              <p:nvPr/>
            </p:nvSpPr>
            <p:spPr>
              <a:xfrm>
                <a:off x="0" y="34286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34286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river for simple class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0" y="3657240"/>
              <a:ext cx="6780960" cy="228600"/>
              <a:chOff x="0" y="3657240"/>
              <a:chExt cx="6780960" cy="228600"/>
            </a:xfrm>
          </p:grpSpPr>
          <p:sp>
            <p:nvSpPr>
              <p:cNvPr id="879" name=""/>
              <p:cNvSpPr/>
              <p:nvPr/>
            </p:nvSpPr>
            <p:spPr>
              <a:xfrm>
                <a:off x="0" y="3657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0" y="3657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882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885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0" y="4343400"/>
              <a:ext cx="6780960" cy="228240"/>
              <a:chOff x="0" y="4343400"/>
              <a:chExt cx="6780960" cy="228240"/>
            </a:xfrm>
          </p:grpSpPr>
          <p:sp>
            <p:nvSpPr>
              <p:cNvPr id="888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0" y="4572000"/>
              <a:ext cx="6780960" cy="228600"/>
              <a:chOff x="0" y="4572000"/>
              <a:chExt cx="6780960" cy="228600"/>
            </a:xfrm>
          </p:grpSpPr>
          <p:sp>
            <p:nvSpPr>
              <p:cNvPr id="891" name=""/>
              <p:cNvSpPr/>
              <p:nvPr/>
            </p:nvSpPr>
            <p:spPr>
              <a:xfrm>
                <a:off x="0" y="4572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0" y="4572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894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897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arra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0" y="5257800"/>
              <a:ext cx="6780960" cy="228240"/>
              <a:chOff x="0" y="5257800"/>
              <a:chExt cx="6780960" cy="228240"/>
            </a:xfrm>
          </p:grpSpPr>
          <p:sp>
            <p:nvSpPr>
              <p:cNvPr id="900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0" y="5486400"/>
              <a:ext cx="6780960" cy="228600"/>
              <a:chOff x="0" y="5486400"/>
              <a:chExt cx="6780960" cy="228600"/>
            </a:xfrm>
          </p:grpSpPr>
          <p:sp>
            <p:nvSpPr>
              <p:cNvPr id="903" name=""/>
              <p:cNvSpPr/>
              <p:nvPr/>
            </p:nvSpPr>
            <p:spPr>
              <a:xfrm>
                <a:off x="0" y="5486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0" y="5486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906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no objects y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0" y="6172200"/>
              <a:ext cx="6780960" cy="228240"/>
              <a:chOff x="0" y="6172200"/>
              <a:chExt cx="6780960" cy="228240"/>
            </a:xfrm>
          </p:grpSpPr>
          <p:sp>
            <p:nvSpPr>
              <p:cNvPr id="912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# of arrays instantiated =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0" y="6400800"/>
              <a:ext cx="6780960" cy="228600"/>
              <a:chOff x="0" y="6400800"/>
              <a:chExt cx="6780960" cy="228600"/>
            </a:xfrm>
          </p:grpSpPr>
          <p:sp>
            <p:nvSpPr>
              <p:cNvPr id="915" name=""/>
              <p:cNvSpPr/>
              <p:nvPr/>
            </p:nvSpPr>
            <p:spPr>
              <a:xfrm>
                <a:off x="0" y="6400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0" y="6400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Array::getArrayCount(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918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0" name=""/>
          <p:cNvSpPr/>
          <p:nvPr/>
        </p:nvSpPr>
        <p:spPr>
          <a:xfrm>
            <a:off x="4739760" y="609588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of arrays instantiated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E68DD-B060-42DD-9428-B4C1531702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23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924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reate two arrays and print Array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927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rray integers1( 7 ), integers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930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# of arrays instantiated =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933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Array::getArrayCount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936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939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print integers1 size and cont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942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Size of array integers1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1.getSiz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948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Array after initializatio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951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1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954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957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print integers2 size and cont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960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Size of array integers2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963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2.getSiz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966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Array after initializatio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969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2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972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975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nput and print integers1 and integer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978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Input 17 integer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981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in &gt;&gt; integers1 &gt;&gt; integers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984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fter input, the arrays contai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987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integers1:\n" &lt;&lt; integers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990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integers2:\n" &lt;&lt; integers2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993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996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use overloaded inequality (!=)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999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Evaluating: integers1 != integers2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002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integers1 != integers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005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They are not equal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008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011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reate array integers3 using integers1 as a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014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nitializer; print size and cont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017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rray integers3( integers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020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2" name=""/>
          <p:cNvSpPr/>
          <p:nvPr/>
        </p:nvSpPr>
        <p:spPr>
          <a:xfrm>
            <a:off x="4282560" y="30492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of arrays instantiated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517280" y="1371600"/>
            <a:ext cx="4569840" cy="824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1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17280" y="2490840"/>
            <a:ext cx="4569840" cy="100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2 i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724280" y="3581280"/>
            <a:ext cx="4724640" cy="1919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 17 integ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2 3 4 5 6 7 8 9 10 11 12 13 14 15 16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put, the arrays cont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2           3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 6     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s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      9          10 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          13          14   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6        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665600" y="5638680"/>
            <a:ext cx="3289680" cy="459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valuating: integers1 != integer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y are no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05BF7-FB74-4694-B54D-68244E1C76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28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029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Size of array integers3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032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3.getSiz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035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Array after initializatio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038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3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041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044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use overloaded assignment (=)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047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ssigning integers2 to integers1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050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tegers1 = integers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053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integers1:\n" &lt;&lt; integers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056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integers2:\n" &lt;&lt; integers2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059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use overloaded equality (==)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Evaluating: integers1 == integers2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integers1 == integers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They are equal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use overloaded subscript operator to create r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integers1[5] is " &lt;&lt; integers1[ 5 ]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use overloaded subscript operator to create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ssigning 1000 to integers1[5]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tegers1[ 5 ] = 10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integers1:\n" &lt;&lt; integers1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101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attempt to use out of range subscrip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ttempt to assign 1000 to integers1[15]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tegers1[ 15 ] = 100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RROR: out of 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1110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113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116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8" name=""/>
          <p:cNvSpPr/>
          <p:nvPr/>
        </p:nvSpPr>
        <p:spPr>
          <a:xfrm>
            <a:off x="3809880" y="2438280"/>
            <a:ext cx="4953240" cy="249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integers2 to integer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20" name=""/>
          <p:cNvSpPr/>
          <p:nvPr/>
        </p:nvSpPr>
        <p:spPr>
          <a:xfrm>
            <a:off x="3429000" y="914400"/>
            <a:ext cx="487692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3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2           3  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 6     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650920" y="3678120"/>
            <a:ext cx="18266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[5] is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181480" y="3124080"/>
            <a:ext cx="38862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uating: integers1 == integer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y are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657600" y="5322960"/>
            <a:ext cx="5334120" cy="1388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1000 to integers1[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1000          14     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2520" y="4648320"/>
            <a:ext cx="4572000" cy="919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 to assign 1000 to integers1[1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ertion failed: 0 &lt;= subscript &amp;&amp; subscript &lt; size, file Array1.cpp, line 95 abnormal program termin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CA01D-C97E-4B25-846F-5F35F9EDD3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26" name=""/>
          <p:cNvSpPr/>
          <p:nvPr/>
        </p:nvSpPr>
        <p:spPr>
          <a:xfrm>
            <a:off x="0" y="0"/>
            <a:ext cx="6781680" cy="6117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of arrays instantiated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of arrays instantiated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1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2 i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 17 integ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2 3 4 5 6 7 8 9 10 11 12 13 14 15 16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put, the arrays cont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2           3  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 6     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s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      9          10   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          13          14     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6        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valuating: integers1 != integer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y are no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3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2           3  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 6     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F378F-EE70-4A15-B48A-545574DEEC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0" y="0"/>
            <a:ext cx="6705720" cy="4344840"/>
            <a:chOff x="0" y="0"/>
            <a:chExt cx="6705720" cy="4344840"/>
          </a:xfrm>
        </p:grpSpPr>
        <p:sp>
          <p:nvSpPr>
            <p:cNvPr id="1129" name=""/>
            <p:cNvSpPr/>
            <p:nvPr/>
          </p:nvSpPr>
          <p:spPr>
            <a:xfrm>
              <a:off x="0" y="1878120"/>
              <a:ext cx="6705720" cy="2466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valuating: integers1 == integer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hey are equ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egers1[5] is 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ssigning 1000 to integers1[5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egers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           9          10         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        1000          14          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6          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ttempt to assign 1000 to integers1[15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sertion failed: 0 &lt;= subscript &amp;&amp; subscript &lt; size, file Array1.cpp, line 95 abnormal program terminatio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0" y="0"/>
              <a:ext cx="6705720" cy="1919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ssigning integers2 to integers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egers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           9          10         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          13          14          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6          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egers2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           9          10         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          13          14          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6          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B388A-6C06-4E66-BC78-D0574D48E1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 Converting between 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s conversions among built-in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ies conversions between user defined and built-in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sion operator must be a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not specify retur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ype is the type to which the object is being conv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user-defined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:operator char *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n overloaded cast operator function for creating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ut of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9D31-F117-4C1B-9DDD-DE8E7FD103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 Converting between 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:operator int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n overloaded cast operator function for converting an objec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o an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:operator otherClass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n overloaded cast operator function for converting an objec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o an objec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th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r and 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sting can prevent the need for overlo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f an object s of user-defined class String appears in a program where an ordinar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is expected, such 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iler calls the overloaded cast operator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vert the object in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uses the result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1C207-2D8D-4F1C-B80A-EA5A864038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0  Case Study: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ring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a class to handle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standard library (more Chapter 1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argument constructors that turn objects of other types into class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97B6-F025-435F-B0FA-4C7ECD5B20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Member functions, some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39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1140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5: string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finition of a String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1149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1152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1155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1158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1161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1164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i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1167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1170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1173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1176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stream &amp;operator&gt;&gt;( istream &amp;, String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1179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1182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= ""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version/default 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opy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~String();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operator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caten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!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is String empty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=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st s1 ==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206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&lt;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st s1 &lt;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209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1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212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s1 !=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215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!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218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!(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== right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221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224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s1 &gt;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227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&gt;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230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right &lt;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233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236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s1 &lt;=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1B35B-B4F9-42CA-AD11-12C730A508F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2  Fundamentals of Operator Overloading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an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function definition as nor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is 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llowed by the symbol for the operator being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to overload the addition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use an operator on a class object it must be overloaded unless the assignment operato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=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 the address operato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&amp;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operator by default performs memberwise assig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 operator (&amp;) by default returns the address of an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A93C-3B02-4BAC-B1F5-E9EDA01D29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240" name=""/>
            <p:cNvGrpSpPr/>
            <p:nvPr/>
          </p:nvGrpSpPr>
          <p:grpSpPr>
            <a:xfrm>
              <a:off x="0" y="0"/>
              <a:ext cx="6780960" cy="4572000"/>
              <a:chOff x="0" y="0"/>
              <a:chExt cx="6780960" cy="4572000"/>
            </a:xfrm>
          </p:grpSpPr>
          <p:grpSp>
            <p:nvGrpSpPr>
              <p:cNvPr id="1241" name=""/>
              <p:cNvGrpSpPr/>
              <p:nvPr/>
            </p:nvGrpSpPr>
            <p:grpSpPr>
              <a:xfrm>
                <a:off x="0" y="0"/>
                <a:ext cx="6780960" cy="228240"/>
                <a:chOff x="0" y="0"/>
                <a:chExt cx="6780960" cy="22824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0" y="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0" y="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bool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operator&lt;=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tring &amp;right 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0" y="228240"/>
                <a:ext cx="6780960" cy="228240"/>
                <a:chOff x="0" y="228240"/>
                <a:chExt cx="6780960" cy="22824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0" y="22824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0" y="22824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   {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!( right &lt; *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thi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)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0" y="456840"/>
                <a:ext cx="6780960" cy="228600"/>
                <a:chOff x="0" y="456840"/>
                <a:chExt cx="6780960" cy="22860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0" y="45684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0" y="45684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0" y="685800"/>
                <a:ext cx="6780960" cy="228240"/>
                <a:chOff x="0" y="685800"/>
                <a:chExt cx="6780960" cy="22824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0" y="685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0" y="685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   // test s1 &gt;= s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0" y="914400"/>
                <a:ext cx="6780960" cy="228240"/>
                <a:chOff x="0" y="914400"/>
                <a:chExt cx="6780960" cy="22824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0" y="9144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0" y="9144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bool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operator&gt;=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tring &amp;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righ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) con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0" y="1143000"/>
                <a:ext cx="6780960" cy="228240"/>
                <a:chOff x="0" y="1143000"/>
                <a:chExt cx="6780960" cy="22824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0" y="11430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0" y="11430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   {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!( *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thi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&lt; right )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0" y="1371240"/>
                <a:ext cx="6780960" cy="228600"/>
                <a:chOff x="0" y="1371240"/>
                <a:chExt cx="6780960" cy="22860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0" y="137124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0" y="137124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0" y="1600200"/>
                <a:ext cx="6780960" cy="228240"/>
                <a:chOff x="0" y="1600200"/>
                <a:chExt cx="6780960" cy="22824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0" y="1600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0" y="1600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har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&amp;operator[]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);      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subscript opera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0" y="1828800"/>
                <a:ext cx="6780960" cy="228240"/>
                <a:chOff x="0" y="1828800"/>
                <a:chExt cx="6780960" cy="22824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0" y="1828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0" y="1828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 char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&amp;operator[]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;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subscript opera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0" y="2057400"/>
                <a:ext cx="6780960" cy="228240"/>
                <a:chOff x="0" y="2057400"/>
                <a:chExt cx="6780960" cy="22824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0" y="20574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0" y="20574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String operator()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);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return a substr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0" y="2286000"/>
                <a:ext cx="6780960" cy="228600"/>
                <a:chOff x="0" y="2286000"/>
                <a:chExt cx="6780960" cy="228600"/>
              </a:xfrm>
            </p:grpSpPr>
            <p:sp>
              <p:nvSpPr>
                <p:cNvPr id="1272" name=""/>
                <p:cNvSpPr/>
                <p:nvPr/>
              </p:nvSpPr>
              <p:spPr>
                <a:xfrm>
                  <a:off x="0" y="228600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0" y="228600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getLength(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;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        // return string lengt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4" name=""/>
              <p:cNvGrpSpPr/>
              <p:nvPr/>
            </p:nvGrpSpPr>
            <p:grpSpPr>
              <a:xfrm>
                <a:off x="0" y="2514600"/>
                <a:ext cx="6780960" cy="228240"/>
                <a:chOff x="0" y="2514600"/>
                <a:chExt cx="6780960" cy="22824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0" y="25146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0" y="25146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0" y="2743200"/>
                <a:ext cx="6780960" cy="228240"/>
                <a:chOff x="0" y="2743200"/>
                <a:chExt cx="6780960" cy="22824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0" y="2743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0" y="2743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priva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0" y="2971800"/>
                <a:ext cx="6780960" cy="228240"/>
                <a:chOff x="0" y="2971800"/>
                <a:chExt cx="6780960" cy="22824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0" y="2971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0" y="2971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length;            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string length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3" name=""/>
              <p:cNvGrpSpPr/>
              <p:nvPr/>
            </p:nvGrpSpPr>
            <p:grpSpPr>
              <a:xfrm>
                <a:off x="0" y="3200400"/>
                <a:ext cx="6780960" cy="228600"/>
                <a:chOff x="0" y="3200400"/>
                <a:chExt cx="6780960" cy="228600"/>
              </a:xfrm>
            </p:grpSpPr>
            <p:sp>
              <p:nvSpPr>
                <p:cNvPr id="1284" name=""/>
                <p:cNvSpPr/>
                <p:nvPr/>
              </p:nvSpPr>
              <p:spPr>
                <a:xfrm>
                  <a:off x="0" y="320040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0" y="320040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har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*sPtr;           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 // pointer to start of str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6" name=""/>
              <p:cNvGrpSpPr/>
              <p:nvPr/>
            </p:nvGrpSpPr>
            <p:grpSpPr>
              <a:xfrm>
                <a:off x="0" y="3429000"/>
                <a:ext cx="6780960" cy="228240"/>
                <a:chOff x="0" y="3429000"/>
                <a:chExt cx="6780960" cy="22824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0" y="34290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0" y="34290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9" name=""/>
              <p:cNvGrpSpPr/>
              <p:nvPr/>
            </p:nvGrpSpPr>
            <p:grpSpPr>
              <a:xfrm>
                <a:off x="0" y="3657600"/>
                <a:ext cx="6780960" cy="228240"/>
                <a:chOff x="0" y="3657600"/>
                <a:chExt cx="6780960" cy="228240"/>
              </a:xfrm>
            </p:grpSpPr>
            <p:sp>
              <p:nvSpPr>
                <p:cNvPr id="1290" name=""/>
                <p:cNvSpPr/>
                <p:nvPr/>
              </p:nvSpPr>
              <p:spPr>
                <a:xfrm>
                  <a:off x="0" y="36576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0" y="36576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vo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etString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 char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* );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utility fun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0" y="3886200"/>
                <a:ext cx="6780960" cy="228240"/>
                <a:chOff x="0" y="3886200"/>
                <a:chExt cx="6780960" cy="22824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0" y="3886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0" y="3886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0" y="4114800"/>
                <a:ext cx="6780960" cy="228240"/>
                <a:chOff x="0" y="4114800"/>
                <a:chExt cx="6780960" cy="22824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0" y="4114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0" y="4114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8" name=""/>
              <p:cNvGrpSpPr/>
              <p:nvPr/>
            </p:nvGrpSpPr>
            <p:grpSpPr>
              <a:xfrm>
                <a:off x="0" y="4343400"/>
                <a:ext cx="6780960" cy="228600"/>
                <a:chOff x="0" y="4343400"/>
                <a:chExt cx="6780960" cy="228600"/>
              </a:xfrm>
            </p:grpSpPr>
            <p:sp>
              <p:nvSpPr>
                <p:cNvPr id="1299" name=""/>
                <p:cNvSpPr/>
                <p:nvPr/>
              </p:nvSpPr>
              <p:spPr>
                <a:xfrm>
                  <a:off x="0" y="434340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0" name=""/>
                <p:cNvGrpSpPr/>
                <p:nvPr/>
              </p:nvGrpSpPr>
              <p:grpSpPr>
                <a:xfrm>
                  <a:off x="0" y="4343400"/>
                  <a:ext cx="6780600" cy="228600"/>
                  <a:chOff x="0" y="4343400"/>
                  <a:chExt cx="6780600" cy="228600"/>
                </a:xfrm>
              </p:grpSpPr>
              <p:sp>
                <p:nvSpPr>
                  <p:cNvPr id="1301" name=""/>
                  <p:cNvSpPr/>
                  <p:nvPr/>
                </p:nvSpPr>
                <p:spPr>
                  <a:xfrm>
                    <a:off x="0" y="4343400"/>
                    <a:ext cx="6780600" cy="228600"/>
                  </a:xfrm>
                  <a:prstGeom prst="rect">
                    <a:avLst/>
                  </a:prstGeom>
                  <a:solidFill>
                    <a:srgbClr val="ffe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53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275aff"/>
                        </a:solidFill>
                        <a:latin typeface="Courier New"/>
                        <a:ea typeface="Courier New"/>
                      </a:rPr>
                      <a:t>#endif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0" y="4343400"/>
                    <a:ext cx="6780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03" name=""/>
            <p:cNvGrpSpPr/>
            <p:nvPr/>
          </p:nvGrpSpPr>
          <p:grpSpPr>
            <a:xfrm>
              <a:off x="0" y="4572000"/>
              <a:ext cx="6780960" cy="2286000"/>
              <a:chOff x="0" y="4572000"/>
              <a:chExt cx="6780960" cy="2286000"/>
            </a:xfrm>
          </p:grpSpPr>
          <p:grpSp>
            <p:nvGrpSpPr>
              <p:cNvPr id="1304" name=""/>
              <p:cNvGrpSpPr/>
              <p:nvPr/>
            </p:nvGrpSpPr>
            <p:grpSpPr>
              <a:xfrm>
                <a:off x="0" y="4572000"/>
                <a:ext cx="6780960" cy="207720"/>
                <a:chOff x="0" y="4572000"/>
                <a:chExt cx="6780960" cy="207720"/>
              </a:xfrm>
            </p:grpSpPr>
            <p:sp>
              <p:nvSpPr>
                <p:cNvPr id="1305" name=""/>
                <p:cNvSpPr/>
                <p:nvPr/>
              </p:nvSpPr>
              <p:spPr>
                <a:xfrm>
                  <a:off x="0" y="457200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0" y="457200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Fig. 8.5: string1.cp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7" name=""/>
              <p:cNvGrpSpPr/>
              <p:nvPr/>
            </p:nvGrpSpPr>
            <p:grpSpPr>
              <a:xfrm>
                <a:off x="0" y="4779720"/>
                <a:ext cx="6780960" cy="207720"/>
                <a:chOff x="0" y="4779720"/>
                <a:chExt cx="6780960" cy="20772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0" y="477972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0" y="477972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Member function definitions for class Str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0" name=""/>
              <p:cNvGrpSpPr/>
              <p:nvPr/>
            </p:nvGrpSpPr>
            <p:grpSpPr>
              <a:xfrm>
                <a:off x="0" y="4987440"/>
                <a:ext cx="6780960" cy="207720"/>
                <a:chOff x="0" y="4987440"/>
                <a:chExt cx="6780960" cy="20772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0" y="498744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0" y="498744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&lt;iostream&g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3" name=""/>
              <p:cNvGrpSpPr/>
              <p:nvPr/>
            </p:nvGrpSpPr>
            <p:grpSpPr>
              <a:xfrm>
                <a:off x="0" y="5195520"/>
                <a:ext cx="6780960" cy="207720"/>
                <a:chOff x="0" y="5195520"/>
                <a:chExt cx="6780960" cy="20772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0" y="519552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0" y="519552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6" name=""/>
              <p:cNvGrpSpPr/>
              <p:nvPr/>
            </p:nvGrpSpPr>
            <p:grpSpPr>
              <a:xfrm>
                <a:off x="0" y="5403240"/>
                <a:ext cx="6780960" cy="207720"/>
                <a:chOff x="0" y="5403240"/>
                <a:chExt cx="6780960" cy="20772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0" y="540324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0" y="540324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td::cou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0" y="5610960"/>
                <a:ext cx="6780960" cy="207720"/>
                <a:chOff x="0" y="5610960"/>
                <a:chExt cx="6780960" cy="20772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0" y="561096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0" y="561096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td::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2" name=""/>
              <p:cNvGrpSpPr/>
              <p:nvPr/>
            </p:nvGrpSpPr>
            <p:grpSpPr>
              <a:xfrm>
                <a:off x="0" y="5818680"/>
                <a:ext cx="6780960" cy="207720"/>
                <a:chOff x="0" y="5818680"/>
                <a:chExt cx="6780960" cy="207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0" y="58186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0" y="58186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0" y="6026760"/>
                <a:ext cx="6780960" cy="207720"/>
                <a:chOff x="0" y="6026760"/>
                <a:chExt cx="6780960" cy="20772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0" y="602676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0" y="602676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&lt;iomanip&g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0" y="6234480"/>
                <a:ext cx="6780960" cy="207720"/>
                <a:chOff x="0" y="6234480"/>
                <a:chExt cx="6780960" cy="20772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0" y="62344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0" y="62344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1" name=""/>
              <p:cNvGrpSpPr/>
              <p:nvPr/>
            </p:nvGrpSpPr>
            <p:grpSpPr>
              <a:xfrm>
                <a:off x="0" y="6442200"/>
                <a:ext cx="6780960" cy="207720"/>
                <a:chOff x="0" y="6442200"/>
                <a:chExt cx="6780960" cy="20772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0" y="644220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0" y="644220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td::setw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0" y="6650280"/>
                <a:ext cx="6780960" cy="207720"/>
                <a:chOff x="0" y="6650280"/>
                <a:chExt cx="6780960" cy="2077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0" y="66502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0" y="66502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60688-D2EB-4C02-91ED-93ACF09D19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Conversion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Copy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De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assignmen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339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34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34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346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string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349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352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version constructor: Convert char * to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355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ring::Str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s ) : length( strlen( s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358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361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Conversion constructor: " &lt;&lt; s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364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etString( s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all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367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370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373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376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ring::Str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copy ) : length( copy.lengt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379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382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Copy constructor: " &lt;&lt; copy.sPtr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385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etString( copy.sPtr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all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388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391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394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397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ring::~String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400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403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estructor: " &lt;&lt; sPtr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406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sPtr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reclaim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409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412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415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= operator; avoids self 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418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String::operator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righ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421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424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operator= called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427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430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&amp;right !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{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void self 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2" name=""/>
          <p:cNvGrpSpPr/>
          <p:nvPr/>
        </p:nvGrpSpPr>
        <p:grpSpPr>
          <a:xfrm>
            <a:off x="1752480" y="1371240"/>
            <a:ext cx="5410440" cy="1023480"/>
            <a:chOff x="1752480" y="1371240"/>
            <a:chExt cx="5410440" cy="1023480"/>
          </a:xfrm>
        </p:grpSpPr>
        <p:grpSp>
          <p:nvGrpSpPr>
            <p:cNvPr id="1433" name=""/>
            <p:cNvGrpSpPr/>
            <p:nvPr/>
          </p:nvGrpSpPr>
          <p:grpSpPr>
            <a:xfrm>
              <a:off x="2666520" y="1371240"/>
              <a:ext cx="4496400" cy="1023480"/>
              <a:chOff x="2666520" y="1371240"/>
              <a:chExt cx="4496400" cy="1023480"/>
            </a:xfrm>
          </p:grpSpPr>
          <p:sp>
            <p:nvSpPr>
              <p:cNvPr id="1434" name=""/>
              <p:cNvSpPr/>
              <p:nvPr/>
            </p:nvSpPr>
            <p:spPr>
              <a:xfrm>
                <a:off x="2666880" y="2057400"/>
                <a:ext cx="4496040" cy="3373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version constructor: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har *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to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String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 flipV="1">
                <a:off x="2666520" y="1371240"/>
                <a:ext cx="1219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6" name=""/>
            <p:cNvSpPr/>
            <p:nvPr/>
          </p:nvSpPr>
          <p:spPr>
            <a:xfrm flipH="1" flipV="1">
              <a:off x="1752480" y="20570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2437920" y="1828440"/>
            <a:ext cx="5258160" cy="3324240"/>
            <a:chOff x="2437920" y="1828440"/>
            <a:chExt cx="5258160" cy="3324240"/>
          </a:xfrm>
        </p:grpSpPr>
        <p:sp>
          <p:nvSpPr>
            <p:cNvPr id="1438" name=""/>
            <p:cNvSpPr/>
            <p:nvPr/>
          </p:nvSpPr>
          <p:spPr>
            <a:xfrm>
              <a:off x="5105520" y="4572000"/>
              <a:ext cx="2590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s and destructors will print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 flipV="1">
              <a:off x="4266720" y="4800600"/>
              <a:ext cx="838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 flipV="1">
              <a:off x="2971440" y="3352680"/>
              <a:ext cx="213372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>
              <a:off x="2437920" y="1828440"/>
              <a:ext cx="26672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8978D-B342-45C0-A39D-7AF91F12D5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+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concatenation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!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string empty?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=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equality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444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445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sPtr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prevents memory lea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448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length = right.length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new String leng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451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setString( right.sPtr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all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454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457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460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Attempted assignment of a String to itself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463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466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ed assign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469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472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475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catenate right operand to this object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478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tore in this objec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481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String::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righ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484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487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tempPtr = sPtr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hold to be able to dele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9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490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length += right.length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ew String leng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493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 length + 1 ]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reate sp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496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sPtr != 0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rminate if memory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499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cpy( sPtr, tempPtr )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left part of new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502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cat( sPtr, right.sPtr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ight part of new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4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505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tempPtr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claim old sp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508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this;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511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3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514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6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517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String empty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520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::operator!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ength ==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523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526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String equal to right String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529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::operator=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532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cmp( sPtr, right.sPtr ) ==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535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538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String less than right String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00DAB-7946-4B64-BCBA-7F732EE11C8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9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l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less than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subscrip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ubscrip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(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return substring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4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542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543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::operator&lt;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546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cmp( sPtr, right.sPtr ) &lt;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549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552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a reference to a character in a String as an lvalu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555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String::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ubscrip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558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561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First test for subscript out of 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564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subscript &gt;= 0 &amp;&amp; subscript &lt; lengt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567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570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Ptr[ subscript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reates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573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576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579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a reference to a character in a String as an rvalu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582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String::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ubscrip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4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585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588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First test for subscript out of 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0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591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subscript &gt;= 0 &amp;&amp; subscript &lt; lengt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3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594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6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597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Ptr[ subscript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reates r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9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600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2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603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606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a substring beginning at index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609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f length subLeng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612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ring String::operator()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nde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ubLengt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615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618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ensure index is in range and substring length &gt;=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0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621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index &gt;= 0 &amp;&amp; index &lt; length &amp;&amp; subLength &gt;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3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624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627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determine length of sub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630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e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2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633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5" name=""/>
          <p:cNvGrpSpPr/>
          <p:nvPr/>
        </p:nvGrpSpPr>
        <p:grpSpPr>
          <a:xfrm>
            <a:off x="2514600" y="3962520"/>
            <a:ext cx="3886200" cy="1066680"/>
            <a:chOff x="2514600" y="3962520"/>
            <a:chExt cx="3886200" cy="1066680"/>
          </a:xfrm>
        </p:grpSpPr>
        <p:sp>
          <p:nvSpPr>
            <p:cNvPr id="1636" name=""/>
            <p:cNvSpPr/>
            <p:nvPr/>
          </p:nvSpPr>
          <p:spPr>
            <a:xfrm>
              <a:off x="3809880" y="39625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overloaded function call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>
              <a:off x="2514600" y="434340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191BF-7470-407C-876D-43B5749ED83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Length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Str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40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641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( subLength == 0 ) || ( index + subLength &gt; length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3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644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len = length - inde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6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647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650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len = subLeng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2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653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5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656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allocate temporary array for substring an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659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rminating null charac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1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662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tempPtr = new char[ len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4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665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tempPtr != 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sure space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7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668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0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671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opy substring into char array and terminate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3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ncpy( tempPtr, &amp;sPtr[ index ], len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677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tempPtr[ len ] = '\0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9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680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2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683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reate temporary String object containing the sub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5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686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ing tempString( temp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689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tempPt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lete the temporary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1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692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695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empString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copy of the temporary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698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701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704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string leng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6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707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::getLength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ength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710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713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Utility function to be called by constructors an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5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716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ssignment operato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719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::setStr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string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722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725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Ptr = new char[ length + 1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llocate stor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728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sPtr !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rminate if memory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731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cpy( sPtr, string2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literal to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734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64167-0A39-4031-AD28-831B8C66179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lt;&l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outp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gt;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inp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737" name=""/>
          <p:cNvGrpSpPr/>
          <p:nvPr/>
        </p:nvGrpSpPr>
        <p:grpSpPr>
          <a:xfrm>
            <a:off x="0" y="0"/>
            <a:ext cx="6780960" cy="3809880"/>
            <a:chOff x="0" y="0"/>
            <a:chExt cx="6780960" cy="3809880"/>
          </a:xfrm>
        </p:grpSpPr>
        <p:grpSp>
          <p:nvGrpSpPr>
            <p:cNvPr id="1738" name=""/>
            <p:cNvGrpSpPr/>
            <p:nvPr/>
          </p:nvGrpSpPr>
          <p:grpSpPr>
            <a:xfrm>
              <a:off x="0" y="0"/>
              <a:ext cx="6780960" cy="223920"/>
              <a:chOff x="0" y="0"/>
              <a:chExt cx="6780960" cy="223920"/>
            </a:xfrm>
          </p:grpSpPr>
          <p:sp>
            <p:nvSpPr>
              <p:cNvPr id="1739" name=""/>
              <p:cNvSpPr/>
              <p:nvPr/>
            </p:nvSpPr>
            <p:spPr>
              <a:xfrm>
                <a:off x="0" y="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0" y="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0" y="223920"/>
              <a:ext cx="6780960" cy="223920"/>
              <a:chOff x="0" y="223920"/>
              <a:chExt cx="6780960" cy="223920"/>
            </a:xfrm>
          </p:grpSpPr>
          <p:sp>
            <p:nvSpPr>
              <p:cNvPr id="1742" name=""/>
              <p:cNvSpPr/>
              <p:nvPr/>
            </p:nvSpPr>
            <p:spPr>
              <a:xfrm>
                <a:off x="0" y="2239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0" y="2239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outpu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4" name=""/>
            <p:cNvGrpSpPr/>
            <p:nvPr/>
          </p:nvGrpSpPr>
          <p:grpSpPr>
            <a:xfrm>
              <a:off x="0" y="447840"/>
              <a:ext cx="6780960" cy="223920"/>
              <a:chOff x="0" y="447840"/>
              <a:chExt cx="6780960" cy="223920"/>
            </a:xfrm>
          </p:grpSpPr>
          <p:sp>
            <p:nvSpPr>
              <p:cNvPr id="1745" name=""/>
              <p:cNvSpPr/>
              <p:nvPr/>
            </p:nvSpPr>
            <p:spPr>
              <a:xfrm>
                <a:off x="0" y="44784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0" y="44784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7" name=""/>
            <p:cNvGrpSpPr/>
            <p:nvPr/>
          </p:nvGrpSpPr>
          <p:grpSpPr>
            <a:xfrm>
              <a:off x="0" y="672120"/>
              <a:ext cx="6780960" cy="223920"/>
              <a:chOff x="0" y="672120"/>
              <a:chExt cx="6780960" cy="223920"/>
            </a:xfrm>
          </p:grpSpPr>
          <p:sp>
            <p:nvSpPr>
              <p:cNvPr id="1748" name=""/>
              <p:cNvSpPr/>
              <p:nvPr/>
            </p:nvSpPr>
            <p:spPr>
              <a:xfrm>
                <a:off x="0" y="6721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0" y="6721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"/>
            <p:cNvGrpSpPr/>
            <p:nvPr/>
          </p:nvGrpSpPr>
          <p:grpSpPr>
            <a:xfrm>
              <a:off x="0" y="896400"/>
              <a:ext cx="6780960" cy="223920"/>
              <a:chOff x="0" y="896400"/>
              <a:chExt cx="6780960" cy="223920"/>
            </a:xfrm>
          </p:grpSpPr>
          <p:sp>
            <p:nvSpPr>
              <p:cNvPr id="1751" name=""/>
              <p:cNvSpPr/>
              <p:nvPr/>
            </p:nvSpPr>
            <p:spPr>
              <a:xfrm>
                <a:off x="0" y="8964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0" y="8964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output &lt;&lt; s.s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"/>
            <p:cNvGrpSpPr/>
            <p:nvPr/>
          </p:nvGrpSpPr>
          <p:grpSpPr>
            <a:xfrm>
              <a:off x="0" y="1120320"/>
              <a:ext cx="6780960" cy="223920"/>
              <a:chOff x="0" y="1120320"/>
              <a:chExt cx="6780960" cy="223920"/>
            </a:xfrm>
          </p:grpSpPr>
          <p:sp>
            <p:nvSpPr>
              <p:cNvPr id="1754" name=""/>
              <p:cNvSpPr/>
              <p:nvPr/>
            </p:nvSpPr>
            <p:spPr>
              <a:xfrm>
                <a:off x="0" y="11203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0" y="11203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"/>
            <p:cNvGrpSpPr/>
            <p:nvPr/>
          </p:nvGrpSpPr>
          <p:grpSpPr>
            <a:xfrm>
              <a:off x="0" y="1344600"/>
              <a:ext cx="6780960" cy="223920"/>
              <a:chOff x="0" y="1344600"/>
              <a:chExt cx="6780960" cy="223920"/>
            </a:xfrm>
          </p:grpSpPr>
          <p:sp>
            <p:nvSpPr>
              <p:cNvPr id="1757" name=""/>
              <p:cNvSpPr/>
              <p:nvPr/>
            </p:nvSpPr>
            <p:spPr>
              <a:xfrm>
                <a:off x="0" y="13446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0" y="13446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0" y="1568880"/>
              <a:ext cx="6780960" cy="223920"/>
              <a:chOff x="0" y="1568880"/>
              <a:chExt cx="6780960" cy="223920"/>
            </a:xfrm>
          </p:grpSpPr>
          <p:sp>
            <p:nvSpPr>
              <p:cNvPr id="1760" name=""/>
              <p:cNvSpPr/>
              <p:nvPr/>
            </p:nvSpPr>
            <p:spPr>
              <a:xfrm>
                <a:off x="0" y="15688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0" y="15688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0" y="1792800"/>
              <a:ext cx="6780960" cy="223920"/>
              <a:chOff x="0" y="1792800"/>
              <a:chExt cx="6780960" cy="223920"/>
            </a:xfrm>
          </p:grpSpPr>
          <p:sp>
            <p:nvSpPr>
              <p:cNvPr id="1763" name=""/>
              <p:cNvSpPr/>
              <p:nvPr/>
            </p:nvSpPr>
            <p:spPr>
              <a:xfrm>
                <a:off x="0" y="17928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0" y="17928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inpu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"/>
            <p:cNvGrpSpPr/>
            <p:nvPr/>
          </p:nvGrpSpPr>
          <p:grpSpPr>
            <a:xfrm>
              <a:off x="0" y="2017080"/>
              <a:ext cx="6780960" cy="223920"/>
              <a:chOff x="0" y="2017080"/>
              <a:chExt cx="6780960" cy="223920"/>
            </a:xfrm>
          </p:grpSpPr>
          <p:sp>
            <p:nvSpPr>
              <p:cNvPr id="1766" name=""/>
              <p:cNvSpPr/>
              <p:nvPr/>
            </p:nvSpPr>
            <p:spPr>
              <a:xfrm>
                <a:off x="0" y="20170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0" y="20170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stream &amp;operator&gt;&gt;( istream &amp;input, String &amp;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"/>
            <p:cNvGrpSpPr/>
            <p:nvPr/>
          </p:nvGrpSpPr>
          <p:grpSpPr>
            <a:xfrm>
              <a:off x="0" y="2241000"/>
              <a:ext cx="6780960" cy="223920"/>
              <a:chOff x="0" y="2241000"/>
              <a:chExt cx="6780960" cy="223920"/>
            </a:xfrm>
          </p:grpSpPr>
          <p:sp>
            <p:nvSpPr>
              <p:cNvPr id="1769" name=""/>
              <p:cNvSpPr/>
              <p:nvPr/>
            </p:nvSpPr>
            <p:spPr>
              <a:xfrm>
                <a:off x="0" y="22410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0" y="22410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1" name=""/>
            <p:cNvGrpSpPr/>
            <p:nvPr/>
          </p:nvGrpSpPr>
          <p:grpSpPr>
            <a:xfrm>
              <a:off x="0" y="2465280"/>
              <a:ext cx="6780960" cy="223920"/>
              <a:chOff x="0" y="2465280"/>
              <a:chExt cx="6780960" cy="223920"/>
            </a:xfrm>
          </p:grpSpPr>
          <p:sp>
            <p:nvSpPr>
              <p:cNvPr id="1772" name=""/>
              <p:cNvSpPr/>
              <p:nvPr/>
            </p:nvSpPr>
            <p:spPr>
              <a:xfrm>
                <a:off x="0" y="24652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0" y="24652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emp[ 100 ]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buffer to store in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4" name=""/>
            <p:cNvGrpSpPr/>
            <p:nvPr/>
          </p:nvGrpSpPr>
          <p:grpSpPr>
            <a:xfrm>
              <a:off x="0" y="2689200"/>
              <a:ext cx="6780960" cy="223920"/>
              <a:chOff x="0" y="2689200"/>
              <a:chExt cx="6780960" cy="223920"/>
            </a:xfrm>
          </p:grpSpPr>
          <p:sp>
            <p:nvSpPr>
              <p:cNvPr id="1775" name=""/>
              <p:cNvSpPr/>
              <p:nvPr/>
            </p:nvSpPr>
            <p:spPr>
              <a:xfrm>
                <a:off x="0" y="26892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0" y="26892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7" name=""/>
            <p:cNvGrpSpPr/>
            <p:nvPr/>
          </p:nvGrpSpPr>
          <p:grpSpPr>
            <a:xfrm>
              <a:off x="0" y="2913480"/>
              <a:ext cx="6780960" cy="223920"/>
              <a:chOff x="0" y="2913480"/>
              <a:chExt cx="6780960" cy="223920"/>
            </a:xfrm>
          </p:grpSpPr>
          <p:sp>
            <p:nvSpPr>
              <p:cNvPr id="1778" name=""/>
              <p:cNvSpPr/>
              <p:nvPr/>
            </p:nvSpPr>
            <p:spPr>
              <a:xfrm>
                <a:off x="0" y="29134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0" y="29134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100 ) &gt;&gt;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0" name=""/>
            <p:cNvGrpSpPr/>
            <p:nvPr/>
          </p:nvGrpSpPr>
          <p:grpSpPr>
            <a:xfrm>
              <a:off x="0" y="3137400"/>
              <a:ext cx="6780960" cy="223920"/>
              <a:chOff x="0" y="3137400"/>
              <a:chExt cx="6780960" cy="223920"/>
            </a:xfrm>
          </p:grpSpPr>
          <p:sp>
            <p:nvSpPr>
              <p:cNvPr id="1781" name=""/>
              <p:cNvSpPr/>
              <p:nvPr/>
            </p:nvSpPr>
            <p:spPr>
              <a:xfrm>
                <a:off x="0" y="31374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0" y="31374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 = temp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use String class assign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3" name=""/>
            <p:cNvGrpSpPr/>
            <p:nvPr/>
          </p:nvGrpSpPr>
          <p:grpSpPr>
            <a:xfrm>
              <a:off x="0" y="3361680"/>
              <a:ext cx="6780960" cy="223920"/>
              <a:chOff x="0" y="3361680"/>
              <a:chExt cx="6780960" cy="223920"/>
            </a:xfrm>
          </p:grpSpPr>
          <p:sp>
            <p:nvSpPr>
              <p:cNvPr id="1784" name=""/>
              <p:cNvSpPr/>
              <p:nvPr/>
            </p:nvSpPr>
            <p:spPr>
              <a:xfrm>
                <a:off x="0" y="33616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0" y="33616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n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0" y="3585960"/>
              <a:ext cx="6780960" cy="223920"/>
              <a:chOff x="0" y="3585960"/>
              <a:chExt cx="6780960" cy="223920"/>
            </a:xfrm>
          </p:grpSpPr>
          <p:sp>
            <p:nvSpPr>
              <p:cNvPr id="1787" name=""/>
              <p:cNvSpPr/>
              <p:nvPr/>
            </p:nvSpPr>
            <p:spPr>
              <a:xfrm>
                <a:off x="0" y="358596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8" name=""/>
              <p:cNvGrpSpPr/>
              <p:nvPr/>
            </p:nvGrpSpPr>
            <p:grpSpPr>
              <a:xfrm>
                <a:off x="0" y="3585960"/>
                <a:ext cx="6780600" cy="223920"/>
                <a:chOff x="0" y="3585960"/>
                <a:chExt cx="6780600" cy="223920"/>
              </a:xfrm>
            </p:grpSpPr>
            <p:sp>
              <p:nvSpPr>
                <p:cNvPr id="1789" name=""/>
                <p:cNvSpPr/>
                <p:nvPr/>
              </p:nvSpPr>
              <p:spPr>
                <a:xfrm>
                  <a:off x="0" y="3585960"/>
                  <a:ext cx="6780600" cy="2239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0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0" y="3585960"/>
                  <a:ext cx="6780600" cy="22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91" name=""/>
          <p:cNvGrpSpPr/>
          <p:nvPr/>
        </p:nvGrpSpPr>
        <p:grpSpPr>
          <a:xfrm>
            <a:off x="0" y="3809880"/>
            <a:ext cx="6780960" cy="3048120"/>
            <a:chOff x="0" y="3809880"/>
            <a:chExt cx="6780960" cy="3048120"/>
          </a:xfrm>
        </p:grpSpPr>
        <p:grpSp>
          <p:nvGrpSpPr>
            <p:cNvPr id="1792" name=""/>
            <p:cNvGrpSpPr/>
            <p:nvPr/>
          </p:nvGrpSpPr>
          <p:grpSpPr>
            <a:xfrm>
              <a:off x="0" y="3809880"/>
              <a:ext cx="6780960" cy="234360"/>
              <a:chOff x="0" y="3809880"/>
              <a:chExt cx="6780960" cy="234360"/>
            </a:xfrm>
          </p:grpSpPr>
          <p:sp>
            <p:nvSpPr>
              <p:cNvPr id="1793" name=""/>
              <p:cNvSpPr/>
              <p:nvPr/>
            </p:nvSpPr>
            <p:spPr>
              <a:xfrm>
                <a:off x="0" y="38098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0" y="38098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5: fig08_0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0" y="4044240"/>
              <a:ext cx="6780960" cy="234360"/>
              <a:chOff x="0" y="4044240"/>
              <a:chExt cx="6780960" cy="234360"/>
            </a:xfrm>
          </p:grpSpPr>
          <p:sp>
            <p:nvSpPr>
              <p:cNvPr id="1796" name=""/>
              <p:cNvSpPr/>
              <p:nvPr/>
            </p:nvSpPr>
            <p:spPr>
              <a:xfrm>
                <a:off x="0" y="40442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0" y="40442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river for class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0" y="4278600"/>
              <a:ext cx="6780960" cy="234360"/>
              <a:chOff x="0" y="4278600"/>
              <a:chExt cx="6780960" cy="234360"/>
            </a:xfrm>
          </p:grpSpPr>
          <p:sp>
            <p:nvSpPr>
              <p:cNvPr id="1799" name=""/>
              <p:cNvSpPr/>
              <p:nvPr/>
            </p:nvSpPr>
            <p:spPr>
              <a:xfrm>
                <a:off x="0" y="42786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0" y="42786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0" y="4513320"/>
              <a:ext cx="6780960" cy="234360"/>
              <a:chOff x="0" y="4513320"/>
              <a:chExt cx="6780960" cy="234360"/>
            </a:xfrm>
          </p:grpSpPr>
          <p:sp>
            <p:nvSpPr>
              <p:cNvPr id="1802" name=""/>
              <p:cNvSpPr/>
              <p:nvPr/>
            </p:nvSpPr>
            <p:spPr>
              <a:xfrm>
                <a:off x="0" y="451332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0" y="451332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0" y="4747680"/>
              <a:ext cx="6780960" cy="234360"/>
              <a:chOff x="0" y="4747680"/>
              <a:chExt cx="6780960" cy="234360"/>
            </a:xfrm>
          </p:grpSpPr>
          <p:sp>
            <p:nvSpPr>
              <p:cNvPr id="1805" name=""/>
              <p:cNvSpPr/>
              <p:nvPr/>
            </p:nvSpPr>
            <p:spPr>
              <a:xfrm>
                <a:off x="0" y="47476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0" y="47476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0" y="4982040"/>
              <a:ext cx="6780960" cy="234360"/>
              <a:chOff x="0" y="4982040"/>
              <a:chExt cx="6780960" cy="234360"/>
            </a:xfrm>
          </p:grpSpPr>
          <p:sp>
            <p:nvSpPr>
              <p:cNvPr id="1808" name=""/>
              <p:cNvSpPr/>
              <p:nvPr/>
            </p:nvSpPr>
            <p:spPr>
              <a:xfrm>
                <a:off x="0" y="49820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0" y="49820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0" y="5216400"/>
              <a:ext cx="6780960" cy="234360"/>
              <a:chOff x="0" y="5216400"/>
              <a:chExt cx="6780960" cy="234360"/>
            </a:xfrm>
          </p:grpSpPr>
          <p:sp>
            <p:nvSpPr>
              <p:cNvPr id="1811" name=""/>
              <p:cNvSpPr/>
              <p:nvPr/>
            </p:nvSpPr>
            <p:spPr>
              <a:xfrm>
                <a:off x="0" y="52164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0" y="52164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0" y="5451120"/>
              <a:ext cx="6780960" cy="234360"/>
              <a:chOff x="0" y="5451120"/>
              <a:chExt cx="6780960" cy="234360"/>
            </a:xfrm>
          </p:grpSpPr>
          <p:sp>
            <p:nvSpPr>
              <p:cNvPr id="1814" name=""/>
              <p:cNvSpPr/>
              <p:nvPr/>
            </p:nvSpPr>
            <p:spPr>
              <a:xfrm>
                <a:off x="0" y="545112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0" y="545112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string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0" y="5685480"/>
              <a:ext cx="6780960" cy="234360"/>
              <a:chOff x="0" y="5685480"/>
              <a:chExt cx="6780960" cy="234360"/>
            </a:xfrm>
          </p:grpSpPr>
          <p:sp>
            <p:nvSpPr>
              <p:cNvPr id="1817" name=""/>
              <p:cNvSpPr/>
              <p:nvPr/>
            </p:nvSpPr>
            <p:spPr>
              <a:xfrm>
                <a:off x="0" y="56854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0" y="56854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0" y="5920200"/>
              <a:ext cx="6780960" cy="234360"/>
              <a:chOff x="0" y="5920200"/>
              <a:chExt cx="6780960" cy="234360"/>
            </a:xfrm>
          </p:grpSpPr>
          <p:sp>
            <p:nvSpPr>
              <p:cNvPr id="1820" name=""/>
              <p:cNvSpPr/>
              <p:nvPr/>
            </p:nvSpPr>
            <p:spPr>
              <a:xfrm>
                <a:off x="0" y="59202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0" y="59202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0" y="6154560"/>
              <a:ext cx="6780960" cy="234360"/>
              <a:chOff x="0" y="6154560"/>
              <a:chExt cx="6780960" cy="234360"/>
            </a:xfrm>
          </p:grpSpPr>
          <p:sp>
            <p:nvSpPr>
              <p:cNvPr id="1823" name=""/>
              <p:cNvSpPr/>
              <p:nvPr/>
            </p:nvSpPr>
            <p:spPr>
              <a:xfrm>
                <a:off x="0" y="615456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0" y="615456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0" y="6389280"/>
              <a:ext cx="6780960" cy="234360"/>
              <a:chOff x="0" y="6389280"/>
              <a:chExt cx="6780960" cy="234360"/>
            </a:xfrm>
          </p:grpSpPr>
          <p:sp>
            <p:nvSpPr>
              <p:cNvPr id="1826" name=""/>
              <p:cNvSpPr/>
              <p:nvPr/>
            </p:nvSpPr>
            <p:spPr>
              <a:xfrm>
                <a:off x="0" y="63892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0" y="63892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ing s1( "happy" ), s2( " birthday" ), s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0" y="6623640"/>
              <a:ext cx="6780960" cy="234360"/>
              <a:chOff x="0" y="6623640"/>
              <a:chExt cx="6780960" cy="234360"/>
            </a:xfrm>
          </p:grpSpPr>
          <p:sp>
            <p:nvSpPr>
              <p:cNvPr id="1829" name=""/>
              <p:cNvSpPr/>
              <p:nvPr/>
            </p:nvSpPr>
            <p:spPr>
              <a:xfrm>
                <a:off x="0" y="66236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0" y="66236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1" name=""/>
          <p:cNvGrpSpPr/>
          <p:nvPr/>
        </p:nvGrpSpPr>
        <p:grpSpPr>
          <a:xfrm>
            <a:off x="2895480" y="5334120"/>
            <a:ext cx="5105520" cy="990360"/>
            <a:chOff x="2895480" y="5334120"/>
            <a:chExt cx="5105520" cy="990360"/>
          </a:xfrm>
        </p:grpSpPr>
        <p:sp>
          <p:nvSpPr>
            <p:cNvPr id="1832" name=""/>
            <p:cNvSpPr/>
            <p:nvPr/>
          </p:nvSpPr>
          <p:spPr>
            <a:xfrm>
              <a:off x="3429000" y="5334120"/>
              <a:ext cx="4572000" cy="832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happ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 birth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2895480" y="57913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9FF55-792B-42C7-941B-1B078627478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3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836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1837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overloaded equality and relational operat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9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1840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s1 is \"" &lt;&lt; s1 &lt;&lt; "\"; s2 is \"" &lt;&lt;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2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1843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"; s3 is \"" &lt;&lt; s3 &lt;&lt; '\"'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1846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The results of comparing s2 and s1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1849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== s1 yield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1852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== s1 ? "true" : "false"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4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1855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!= s1 yield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7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1858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!= s1 ? "true" : "false"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0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1861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&gt;  s1 yield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1864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&gt; s1 ? "true" : "false"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6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1867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&lt;  s1 yield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9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1870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&lt; s1 ? "true" : "false"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2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1873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&gt;= s1 yield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5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1876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&gt;= s1 ? "true" : "false"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1879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&lt;= s1 yield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1882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&lt;= s1 ? "true" : "false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4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1885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7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1888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overloaded String empty (!)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0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1891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\nTesting !s3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3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1894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!s3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6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1897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s3 is empty; assigning s1 to s3;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9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1900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s3 = s1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test overloaded 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2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903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s3 is \"" &lt;&lt; s3 &lt;&lt; "\"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5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906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909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912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overloaded String concatenation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4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915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\ns1 += s2 yields s1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918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1 += s2;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test overloaded concaten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921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s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924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927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conversion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9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930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\ns1 += \" to you\" yields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2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933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1 += " to you"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st conversion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5" name=""/>
          <p:cNvSpPr/>
          <p:nvPr/>
        </p:nvSpPr>
        <p:spPr>
          <a:xfrm>
            <a:off x="4495680" y="1219320"/>
            <a:ext cx="4572000" cy="2221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is "happy"; s2 is " birthday"; s3 is "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s of comparing s2 and 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== s1 yields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!= s1 yield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gt;  s1 yields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lt;  s1 yield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gt;= s1 yields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lt;= s1 yield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5334120" y="3505320"/>
            <a:ext cx="350496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!s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is empty; assigning s1 to s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=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3 is "happ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5440320" y="5029200"/>
            <a:ext cx="33811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+= s2 yields s1 =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572000" y="5715000"/>
            <a:ext cx="43434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+= " to you"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33480-A612-4659-AF4F-E1C513F8CD5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40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941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942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s1 = " &lt;&lt; s1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4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945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7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948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overloaded function call operator () for sub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0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951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substring of s1 starting at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3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954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location 0 for 14 characters, s1(0, 14), is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6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957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s1( 0, 14 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960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2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963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substring "to-end-of-String" op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5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966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substring of s1 starting at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8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969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location 15, s1(15, 0),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1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972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s1( 15, 0 ) &lt;&lt; "\n\n"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0 is "to end of string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4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975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7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978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copy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0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981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ing *s4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( s1 );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3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984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*s4Ptr = " &lt;&lt; *s4Ptr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6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987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9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990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assignment (=) operator with self-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2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993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ssigning *s4Ptr to *s4Pt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5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996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*s4Ptr = *s4Ptr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st overloaded 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8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999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*s4Ptr = " &lt;&lt; *s4Ptr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1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2002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4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2005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7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2008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4Ptr;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2011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3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2014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using subscript operator to create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6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2017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1[ 0 ] = 'H';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9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2020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1[ 6 ] = 'B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2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2023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s1 after s1[0] = 'H' and s1[6] = 'B'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5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2026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s1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8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2029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1" name=""/>
          <p:cNvSpPr/>
          <p:nvPr/>
        </p:nvSpPr>
        <p:spPr>
          <a:xfrm>
            <a:off x="3809880" y="76320"/>
            <a:ext cx="28958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419720" y="1162080"/>
            <a:ext cx="457200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0 for 14 characters, s1(0, 14),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343400" y="2514600"/>
            <a:ext cx="457200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15, s1(15, 0), is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4343400" y="289548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4343400" y="3616200"/>
            <a:ext cx="4572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*s4Ptr to *s4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=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ed assignment of a String to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404600" y="4973760"/>
            <a:ext cx="31982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39120" y="5735520"/>
            <a:ext cx="58500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after s1[0] = 'H' and s1[6] = 'B' is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B2BAC-E8B6-4D0D-8A6B-159DED53D05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0" y="0"/>
            <a:ext cx="6780960" cy="1599840"/>
            <a:chOff x="0" y="0"/>
            <a:chExt cx="6780960" cy="1599840"/>
          </a:xfrm>
        </p:grpSpPr>
        <p:grpSp>
          <p:nvGrpSpPr>
            <p:cNvPr id="2040" name=""/>
            <p:cNvGrpSpPr/>
            <p:nvPr/>
          </p:nvGrpSpPr>
          <p:grpSpPr>
            <a:xfrm>
              <a:off x="0" y="0"/>
              <a:ext cx="6780960" cy="266400"/>
              <a:chOff x="0" y="0"/>
              <a:chExt cx="6780960" cy="266400"/>
            </a:xfrm>
          </p:grpSpPr>
          <p:sp>
            <p:nvSpPr>
              <p:cNvPr id="2041" name=""/>
              <p:cNvSpPr/>
              <p:nvPr/>
            </p:nvSpPr>
            <p:spPr>
              <a:xfrm>
                <a:off x="0" y="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0" y="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subscript out of 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0" y="266400"/>
              <a:ext cx="6780960" cy="266400"/>
              <a:chOff x="0" y="266400"/>
              <a:chExt cx="6780960" cy="266400"/>
            </a:xfrm>
          </p:grpSpPr>
          <p:sp>
            <p:nvSpPr>
              <p:cNvPr id="2044" name=""/>
              <p:cNvSpPr/>
              <p:nvPr/>
            </p:nvSpPr>
            <p:spPr>
              <a:xfrm>
                <a:off x="0" y="26640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0" y="26640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ttempt to assign 'd' to s1[30] yields: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0" y="533160"/>
              <a:ext cx="6780960" cy="266760"/>
              <a:chOff x="0" y="533160"/>
              <a:chExt cx="6780960" cy="266760"/>
            </a:xfrm>
          </p:grpSpPr>
          <p:sp>
            <p:nvSpPr>
              <p:cNvPr id="2047" name=""/>
              <p:cNvSpPr/>
              <p:nvPr/>
            </p:nvSpPr>
            <p:spPr>
              <a:xfrm>
                <a:off x="0" y="533160"/>
                <a:ext cx="678096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0" y="533160"/>
                <a:ext cx="678096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1[ 30 ] = 'd'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RROR: subscript out of 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9" name=""/>
            <p:cNvGrpSpPr/>
            <p:nvPr/>
          </p:nvGrpSpPr>
          <p:grpSpPr>
            <a:xfrm>
              <a:off x="0" y="800280"/>
              <a:ext cx="6780960" cy="266400"/>
              <a:chOff x="0" y="800280"/>
              <a:chExt cx="6780960" cy="266400"/>
            </a:xfrm>
          </p:grpSpPr>
          <p:sp>
            <p:nvSpPr>
              <p:cNvPr id="2050" name=""/>
              <p:cNvSpPr/>
              <p:nvPr/>
            </p:nvSpPr>
            <p:spPr>
              <a:xfrm>
                <a:off x="0" y="80028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0" y="80028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2" name=""/>
            <p:cNvGrpSpPr/>
            <p:nvPr/>
          </p:nvGrpSpPr>
          <p:grpSpPr>
            <a:xfrm>
              <a:off x="0" y="1066680"/>
              <a:ext cx="6780960" cy="266400"/>
              <a:chOff x="0" y="1066680"/>
              <a:chExt cx="6780960" cy="266400"/>
            </a:xfrm>
          </p:grpSpPr>
          <p:sp>
            <p:nvSpPr>
              <p:cNvPr id="2053" name=""/>
              <p:cNvSpPr/>
              <p:nvPr/>
            </p:nvSpPr>
            <p:spPr>
              <a:xfrm>
                <a:off x="0" y="106668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0" y="106668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5" name=""/>
            <p:cNvGrpSpPr/>
            <p:nvPr/>
          </p:nvGrpSpPr>
          <p:grpSpPr>
            <a:xfrm>
              <a:off x="0" y="1333440"/>
              <a:ext cx="6780960" cy="266400"/>
              <a:chOff x="0" y="1333440"/>
              <a:chExt cx="6780960" cy="266400"/>
            </a:xfrm>
          </p:grpSpPr>
          <p:sp>
            <p:nvSpPr>
              <p:cNvPr id="2056" name=""/>
              <p:cNvSpPr/>
              <p:nvPr/>
            </p:nvSpPr>
            <p:spPr>
              <a:xfrm>
                <a:off x="0" y="133344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0" y="133344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8" name=""/>
          <p:cNvGrpSpPr/>
          <p:nvPr/>
        </p:nvGrpSpPr>
        <p:grpSpPr>
          <a:xfrm>
            <a:off x="0" y="1676520"/>
            <a:ext cx="6781680" cy="4637880"/>
            <a:chOff x="0" y="1676520"/>
            <a:chExt cx="6781680" cy="4637880"/>
          </a:xfrm>
        </p:grpSpPr>
        <p:sp>
          <p:nvSpPr>
            <p:cNvPr id="2059" name=""/>
            <p:cNvSpPr/>
            <p:nvPr/>
          </p:nvSpPr>
          <p:spPr>
            <a:xfrm>
              <a:off x="0" y="1676520"/>
              <a:ext cx="6781680" cy="3014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happ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 birth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1 is "happy"; s2 is " birthday"; s3 is "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he results of comparing s2 and s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== s1 yields fal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!= s1 yields tr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&gt;  s1 yields fal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&lt;  s1 yields tr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&gt;= s1 yields fal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&lt;= s1 yields tr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esting !s3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3 is empty; assigning s1 to s3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perator= cal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3 is "happy"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0" y="4648320"/>
              <a:ext cx="6781680" cy="1666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1 += s2 yields s1 = happy birth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1 += " to you" yiel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 to yo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structor:  to yo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1 = happy birthday to yo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2666880" y="533160"/>
            <a:ext cx="5639040" cy="2256840"/>
            <a:chOff x="2666880" y="533160"/>
            <a:chExt cx="5639040" cy="2256840"/>
          </a:xfrm>
        </p:grpSpPr>
        <p:sp>
          <p:nvSpPr>
            <p:cNvPr id="2062" name=""/>
            <p:cNvSpPr/>
            <p:nvPr/>
          </p:nvSpPr>
          <p:spPr>
            <a:xfrm>
              <a:off x="3733920" y="1219320"/>
              <a:ext cx="4572000" cy="1570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ttempt to assign 'd' to s1[30] yield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ssertion failed: subscript &gt;= 0 &amp;&amp; subscript &lt; length, file string1.cpp, line 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bnormal program termin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 flipV="1">
              <a:off x="2666880" y="533160"/>
              <a:ext cx="10670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BF79F-4DC7-418F-842F-4A1F7E8382A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65" name=""/>
          <p:cNvSpPr/>
          <p:nvPr/>
        </p:nvSpPr>
        <p:spPr>
          <a:xfrm>
            <a:off x="0" y="0"/>
            <a:ext cx="6705720" cy="6117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0 for 14 characters, s1(0, 14),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15, s1(15, 0), is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*s4Ptr to *s4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=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ed assignment of a String to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after s1[0] = 'H' and s1[6] = 'B' is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 to assign 'd' to s1[30] yiel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ertion failed: subscript &gt;= 0 &amp;&amp; subscript &lt; length, file string1.cpp, line 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bnormal program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3BD41-0469-4ECE-8989-8B31BEA00EF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8.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strictions on Operator Overloading 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operators that can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Operators that cannot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520" y="4876920"/>
          <a:ext cx="8076960" cy="99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07696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-304920" y="1752480"/>
          <a:ext cx="9677520" cy="228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304920" y="1752480"/>
                    <a:ext cx="967752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4458-13C8-44B7-BE9A-7950EB10C9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1  Overload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++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--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/post incrementing/decrementing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ed to be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inguishing between pre and post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fix versions are overloaded the same as other prefix unary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operator++();      // for ++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ntion adopted that when compiler sees postincrementing expression, it will generate the member-function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operator++( 0 );   // for d1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dummy value to make the argument list o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perator+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inguishable from the argument list 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+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261C-2224-4C11-A3A7-1002B3CE308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2  Case Study: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at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example creates a Date class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overloaded increment operator to change the day, month and y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function to test for leap y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function to determine if a day is last day of a mon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BFEE-BF80-40CC-9FED-C5DB0410266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Member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072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2073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dat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5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2076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finition of class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2079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1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2082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4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2085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7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2088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0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2091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2094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6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2097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9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2100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2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2103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5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2106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8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2109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= 190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1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2112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et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e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4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2115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&amp;operator++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reincre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7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2118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operator++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// postincre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0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2121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dd days, modify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3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2124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eapYea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a leap year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6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2127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ndOfMont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end of month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9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2130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2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2133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5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2136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8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2139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1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2142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4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2145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7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2148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ys[]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rray of days per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0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2151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helpIncrement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3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2154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6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2157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9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2160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8F6CF-ECBB-4919-926D-2391D741DE3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ys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Function definitions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++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preincremen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164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2165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dat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2168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Member function definitions for Dat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2171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2174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2177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2180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itialize static member at file scope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2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2183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ne class-wide cop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5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2186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days[] = { 0, 31, 28, 31, 30, 31, 3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8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2189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   31, 31, 30, 31, 30, 31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1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2192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4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2195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ate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7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2198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::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) { setDate( m, d, y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0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2201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3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2204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e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6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2207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set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9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2210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2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2213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month = ( mm &gt;= 1 &amp;&amp; mm &lt;= 12 ) ? mm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5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2216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year = ( yy &gt;= 1900 &amp;&amp; yy &lt;= 2100 ) ? yy : 19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8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2219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1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2222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for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4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2225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month == 2 &amp;&amp; leapYear( year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7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2228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( dd &gt;= 1 &amp;&amp; dd &lt;= 29 ) ? dd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0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2231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3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2234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( dd &gt;= 1 &amp;&amp; dd &lt;= days[ month ] ) ? dd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6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2237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9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2240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2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2243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reincrement operator overloaded as a member func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2246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 &amp;Date::operator++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8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2249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1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2252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4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2255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ference return to create an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7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2258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0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2261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81ED3-5391-4FC4-BA5D-07FBD5EF8EA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++(in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postincremen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+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pYea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OfMonth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26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265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2266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ostincrement operator overloaded as a member func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2269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te that the dummy integer parameter does not hav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1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2272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arameter na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4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2275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 Date::operator++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7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2278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0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2281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temp =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3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2284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6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2287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9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2290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return non-incremented, saved, temporary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2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2293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emp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value return; not a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5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2296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8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2299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1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2302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dd a specific number of days to a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4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2305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Date::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dditionalDay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7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2308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0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2311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additionalDays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3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2314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6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2317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9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2320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2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2323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5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2326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8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2329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f the year is a leap year, return true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1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2332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therwise, return fa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4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2335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leapYea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7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2338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0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2341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y % 400 == 0 || ( y % 100 != 0 &amp;&amp; y % 4 == 0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3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2344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ru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6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2347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2350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fals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t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2353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5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2356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8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2359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termine if the day is the end of the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1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2362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endOfMont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4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2365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7" name=""/>
          <p:cNvGrpSpPr/>
          <p:nvPr/>
        </p:nvGrpSpPr>
        <p:grpSpPr>
          <a:xfrm>
            <a:off x="2819160" y="838080"/>
            <a:ext cx="3504960" cy="657000"/>
            <a:chOff x="2819160" y="838080"/>
            <a:chExt cx="3504960" cy="657000"/>
          </a:xfrm>
        </p:grpSpPr>
        <p:sp>
          <p:nvSpPr>
            <p:cNvPr id="2368" name=""/>
            <p:cNvSpPr/>
            <p:nvPr/>
          </p:nvSpPr>
          <p:spPr>
            <a:xfrm flipH="1" flipV="1">
              <a:off x="2819160" y="838080"/>
              <a:ext cx="1353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014360" y="914400"/>
              <a:ext cx="2309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tincrement operator has a dumm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AC376-82A2-405F-AFFA-A78EC08EE37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9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Increme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perator&lt;&l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outp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7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372" name=""/>
            <p:cNvGrpSpPr/>
            <p:nvPr/>
          </p:nvGrpSpPr>
          <p:grpSpPr>
            <a:xfrm>
              <a:off x="0" y="0"/>
              <a:ext cx="6780960" cy="195840"/>
              <a:chOff x="0" y="0"/>
              <a:chExt cx="6780960" cy="195840"/>
            </a:xfrm>
          </p:grpSpPr>
          <p:sp>
            <p:nvSpPr>
              <p:cNvPr id="2373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month == 2 &amp;&amp; leapYear( year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5" name=""/>
            <p:cNvGrpSpPr/>
            <p:nvPr/>
          </p:nvGrpSpPr>
          <p:grpSpPr>
            <a:xfrm>
              <a:off x="0" y="195840"/>
              <a:ext cx="6780960" cy="195840"/>
              <a:chOff x="0" y="195840"/>
              <a:chExt cx="6780960" cy="195840"/>
            </a:xfrm>
          </p:grpSpPr>
          <p:sp>
            <p:nvSpPr>
              <p:cNvPr id="2376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= 29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last day of Feb. in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8" name=""/>
            <p:cNvGrpSpPr/>
            <p:nvPr/>
          </p:nvGrpSpPr>
          <p:grpSpPr>
            <a:xfrm>
              <a:off x="0" y="391680"/>
              <a:ext cx="6780960" cy="195840"/>
              <a:chOff x="0" y="391680"/>
              <a:chExt cx="6780960" cy="195840"/>
            </a:xfrm>
          </p:grpSpPr>
          <p:sp>
            <p:nvSpPr>
              <p:cNvPr id="2379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1" name=""/>
            <p:cNvGrpSpPr/>
            <p:nvPr/>
          </p:nvGrpSpPr>
          <p:grpSpPr>
            <a:xfrm>
              <a:off x="0" y="587880"/>
              <a:ext cx="6780960" cy="195840"/>
              <a:chOff x="0" y="587880"/>
              <a:chExt cx="6780960" cy="195840"/>
            </a:xfrm>
          </p:grpSpPr>
          <p:sp>
            <p:nvSpPr>
              <p:cNvPr id="2382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= days[ month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4" name=""/>
            <p:cNvGrpSpPr/>
            <p:nvPr/>
          </p:nvGrpSpPr>
          <p:grpSpPr>
            <a:xfrm>
              <a:off x="0" y="783720"/>
              <a:ext cx="6780960" cy="195840"/>
              <a:chOff x="0" y="783720"/>
              <a:chExt cx="6780960" cy="195840"/>
            </a:xfrm>
          </p:grpSpPr>
          <p:sp>
            <p:nvSpPr>
              <p:cNvPr id="2385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7" name=""/>
            <p:cNvGrpSpPr/>
            <p:nvPr/>
          </p:nvGrpSpPr>
          <p:grpSpPr>
            <a:xfrm>
              <a:off x="0" y="979560"/>
              <a:ext cx="6780960" cy="195840"/>
              <a:chOff x="0" y="979560"/>
              <a:chExt cx="6780960" cy="195840"/>
            </a:xfrm>
          </p:grpSpPr>
          <p:sp>
            <p:nvSpPr>
              <p:cNvPr id="2388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0" name=""/>
            <p:cNvGrpSpPr/>
            <p:nvPr/>
          </p:nvGrpSpPr>
          <p:grpSpPr>
            <a:xfrm>
              <a:off x="0" y="1175400"/>
              <a:ext cx="6780960" cy="195840"/>
              <a:chOff x="0" y="1175400"/>
              <a:chExt cx="6780960" cy="195840"/>
            </a:xfrm>
          </p:grpSpPr>
          <p:sp>
            <p:nvSpPr>
              <p:cNvPr id="2391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unction to help incremen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3" name=""/>
            <p:cNvGrpSpPr/>
            <p:nvPr/>
          </p:nvGrpSpPr>
          <p:grpSpPr>
            <a:xfrm>
              <a:off x="0" y="1371600"/>
              <a:ext cx="6780960" cy="195840"/>
              <a:chOff x="0" y="1371600"/>
              <a:chExt cx="6780960" cy="195840"/>
            </a:xfrm>
          </p:grpSpPr>
          <p:sp>
            <p:nvSpPr>
              <p:cNvPr id="2394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helpIncrement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6" name=""/>
            <p:cNvGrpSpPr/>
            <p:nvPr/>
          </p:nvGrpSpPr>
          <p:grpSpPr>
            <a:xfrm>
              <a:off x="0" y="1567440"/>
              <a:ext cx="6780960" cy="195840"/>
              <a:chOff x="0" y="1567440"/>
              <a:chExt cx="6780960" cy="195840"/>
            </a:xfrm>
          </p:grpSpPr>
          <p:sp>
            <p:nvSpPr>
              <p:cNvPr id="2397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9" name=""/>
            <p:cNvGrpSpPr/>
            <p:nvPr/>
          </p:nvGrpSpPr>
          <p:grpSpPr>
            <a:xfrm>
              <a:off x="0" y="1763280"/>
              <a:ext cx="6780960" cy="195840"/>
              <a:chOff x="0" y="1763280"/>
              <a:chExt cx="6780960" cy="195840"/>
            </a:xfrm>
          </p:grpSpPr>
          <p:sp>
            <p:nvSpPr>
              <p:cNvPr id="2400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endOfMonth( day ) &amp;&amp; month == 12 ) {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d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2" name=""/>
            <p:cNvGrpSpPr/>
            <p:nvPr/>
          </p:nvGrpSpPr>
          <p:grpSpPr>
            <a:xfrm>
              <a:off x="0" y="1959120"/>
              <a:ext cx="6780960" cy="195840"/>
              <a:chOff x="0" y="1959120"/>
              <a:chExt cx="6780960" cy="195840"/>
            </a:xfrm>
          </p:grpSpPr>
          <p:sp>
            <p:nvSpPr>
              <p:cNvPr id="2403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5" name=""/>
            <p:cNvGrpSpPr/>
            <p:nvPr/>
          </p:nvGrpSpPr>
          <p:grpSpPr>
            <a:xfrm>
              <a:off x="0" y="2155320"/>
              <a:ext cx="6780960" cy="195840"/>
              <a:chOff x="0" y="2155320"/>
              <a:chExt cx="6780960" cy="195840"/>
            </a:xfrm>
          </p:grpSpPr>
          <p:sp>
            <p:nvSpPr>
              <p:cNvPr id="2406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month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8" name=""/>
            <p:cNvGrpSpPr/>
            <p:nvPr/>
          </p:nvGrpSpPr>
          <p:grpSpPr>
            <a:xfrm>
              <a:off x="0" y="2351160"/>
              <a:ext cx="6780960" cy="195840"/>
              <a:chOff x="0" y="2351160"/>
              <a:chExt cx="6780960" cy="195840"/>
            </a:xfrm>
          </p:grpSpPr>
          <p:sp>
            <p:nvSpPr>
              <p:cNvPr id="2409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1" name=""/>
            <p:cNvGrpSpPr/>
            <p:nvPr/>
          </p:nvGrpSpPr>
          <p:grpSpPr>
            <a:xfrm>
              <a:off x="0" y="2547000"/>
              <a:ext cx="6780960" cy="195840"/>
              <a:chOff x="0" y="2547000"/>
              <a:chExt cx="6780960" cy="195840"/>
            </a:xfrm>
          </p:grpSpPr>
          <p:sp>
            <p:nvSpPr>
              <p:cNvPr id="2412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4" name=""/>
            <p:cNvGrpSpPr/>
            <p:nvPr/>
          </p:nvGrpSpPr>
          <p:grpSpPr>
            <a:xfrm>
              <a:off x="0" y="2743200"/>
              <a:ext cx="6780960" cy="195840"/>
              <a:chOff x="0" y="2743200"/>
              <a:chExt cx="6780960" cy="195840"/>
            </a:xfrm>
          </p:grpSpPr>
          <p:sp>
            <p:nvSpPr>
              <p:cNvPr id="2415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endOfMonth( day ) ) {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// end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7" name=""/>
            <p:cNvGrpSpPr/>
            <p:nvPr/>
          </p:nvGrpSpPr>
          <p:grpSpPr>
            <a:xfrm>
              <a:off x="0" y="2939040"/>
              <a:ext cx="6780960" cy="195840"/>
              <a:chOff x="0" y="2939040"/>
              <a:chExt cx="6780960" cy="195840"/>
            </a:xfrm>
          </p:grpSpPr>
          <p:sp>
            <p:nvSpPr>
              <p:cNvPr id="2418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0" name=""/>
            <p:cNvGrpSpPr/>
            <p:nvPr/>
          </p:nvGrpSpPr>
          <p:grpSpPr>
            <a:xfrm>
              <a:off x="0" y="3134880"/>
              <a:ext cx="6780960" cy="195840"/>
              <a:chOff x="0" y="3134880"/>
              <a:chExt cx="6780960" cy="195840"/>
            </a:xfrm>
          </p:grpSpPr>
          <p:sp>
            <p:nvSpPr>
              <p:cNvPr id="2421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3" name=""/>
            <p:cNvGrpSpPr/>
            <p:nvPr/>
          </p:nvGrpSpPr>
          <p:grpSpPr>
            <a:xfrm>
              <a:off x="0" y="3331080"/>
              <a:ext cx="6780960" cy="195840"/>
              <a:chOff x="0" y="3331080"/>
              <a:chExt cx="6780960" cy="195840"/>
            </a:xfrm>
          </p:grpSpPr>
          <p:sp>
            <p:nvSpPr>
              <p:cNvPr id="2424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6" name=""/>
            <p:cNvGrpSpPr/>
            <p:nvPr/>
          </p:nvGrpSpPr>
          <p:grpSpPr>
            <a:xfrm>
              <a:off x="0" y="3526920"/>
              <a:ext cx="6780960" cy="195840"/>
              <a:chOff x="0" y="3526920"/>
              <a:chExt cx="6780960" cy="195840"/>
            </a:xfrm>
          </p:grpSpPr>
          <p:sp>
            <p:nvSpPr>
              <p:cNvPr id="2427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not end of month or year; increment d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9" name=""/>
            <p:cNvGrpSpPr/>
            <p:nvPr/>
          </p:nvGrpSpPr>
          <p:grpSpPr>
            <a:xfrm>
              <a:off x="0" y="3722760"/>
              <a:ext cx="6780960" cy="195840"/>
              <a:chOff x="0" y="3722760"/>
              <a:chExt cx="6780960" cy="195840"/>
            </a:xfrm>
          </p:grpSpPr>
          <p:sp>
            <p:nvSpPr>
              <p:cNvPr id="2430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2" name=""/>
            <p:cNvGrpSpPr/>
            <p:nvPr/>
          </p:nvGrpSpPr>
          <p:grpSpPr>
            <a:xfrm>
              <a:off x="0" y="3918960"/>
              <a:ext cx="6780960" cy="195840"/>
              <a:chOff x="0" y="3918960"/>
              <a:chExt cx="6780960" cy="195840"/>
            </a:xfrm>
          </p:grpSpPr>
          <p:sp>
            <p:nvSpPr>
              <p:cNvPr id="2433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5" name=""/>
            <p:cNvGrpSpPr/>
            <p:nvPr/>
          </p:nvGrpSpPr>
          <p:grpSpPr>
            <a:xfrm>
              <a:off x="0" y="4114800"/>
              <a:ext cx="6780960" cy="195840"/>
              <a:chOff x="0" y="4114800"/>
              <a:chExt cx="6780960" cy="195840"/>
            </a:xfrm>
          </p:grpSpPr>
          <p:sp>
            <p:nvSpPr>
              <p:cNvPr id="2436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8" name=""/>
            <p:cNvGrpSpPr/>
            <p:nvPr/>
          </p:nvGrpSpPr>
          <p:grpSpPr>
            <a:xfrm>
              <a:off x="0" y="4310640"/>
              <a:ext cx="6780960" cy="195840"/>
              <a:chOff x="0" y="4310640"/>
              <a:chExt cx="6780960" cy="195840"/>
            </a:xfrm>
          </p:grpSpPr>
          <p:sp>
            <p:nvSpPr>
              <p:cNvPr id="2439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outpu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1" name=""/>
            <p:cNvGrpSpPr/>
            <p:nvPr/>
          </p:nvGrpSpPr>
          <p:grpSpPr>
            <a:xfrm>
              <a:off x="0" y="4506480"/>
              <a:ext cx="6780960" cy="195840"/>
              <a:chOff x="0" y="4506480"/>
              <a:chExt cx="6780960" cy="195840"/>
            </a:xfrm>
          </p:grpSpPr>
          <p:sp>
            <p:nvSpPr>
              <p:cNvPr id="2442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4" name=""/>
            <p:cNvGrpSpPr/>
            <p:nvPr/>
          </p:nvGrpSpPr>
          <p:grpSpPr>
            <a:xfrm>
              <a:off x="0" y="4702680"/>
              <a:ext cx="6780960" cy="195840"/>
              <a:chOff x="0" y="4702680"/>
              <a:chExt cx="6780960" cy="195840"/>
            </a:xfrm>
          </p:grpSpPr>
          <p:sp>
            <p:nvSpPr>
              <p:cNvPr id="2445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7" name=""/>
            <p:cNvGrpSpPr/>
            <p:nvPr/>
          </p:nvGrpSpPr>
          <p:grpSpPr>
            <a:xfrm>
              <a:off x="0" y="4898520"/>
              <a:ext cx="6780960" cy="195840"/>
              <a:chOff x="0" y="4898520"/>
              <a:chExt cx="6780960" cy="195840"/>
            </a:xfrm>
          </p:grpSpPr>
          <p:sp>
            <p:nvSpPr>
              <p:cNvPr id="2448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monthName[ 13 ] = { "", "January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0" name=""/>
            <p:cNvGrpSpPr/>
            <p:nvPr/>
          </p:nvGrpSpPr>
          <p:grpSpPr>
            <a:xfrm>
              <a:off x="0" y="5094360"/>
              <a:ext cx="6780960" cy="195840"/>
              <a:chOff x="0" y="5094360"/>
              <a:chExt cx="6780960" cy="195840"/>
            </a:xfrm>
          </p:grpSpPr>
          <p:sp>
            <p:nvSpPr>
              <p:cNvPr id="2451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February", "March", "April", "May", "June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3" name=""/>
            <p:cNvGrpSpPr/>
            <p:nvPr/>
          </p:nvGrpSpPr>
          <p:grpSpPr>
            <a:xfrm>
              <a:off x="0" y="5290560"/>
              <a:ext cx="6780960" cy="195840"/>
              <a:chOff x="0" y="5290560"/>
              <a:chExt cx="6780960" cy="195840"/>
            </a:xfrm>
          </p:grpSpPr>
          <p:sp>
            <p:nvSpPr>
              <p:cNvPr id="2454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July", "August", "September", "Octob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6" name=""/>
            <p:cNvGrpSpPr/>
            <p:nvPr/>
          </p:nvGrpSpPr>
          <p:grpSpPr>
            <a:xfrm>
              <a:off x="0" y="5486400"/>
              <a:ext cx="6780960" cy="195840"/>
              <a:chOff x="0" y="5486400"/>
              <a:chExt cx="6780960" cy="195840"/>
            </a:xfrm>
          </p:grpSpPr>
          <p:sp>
            <p:nvSpPr>
              <p:cNvPr id="2457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November", "December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9" name=""/>
            <p:cNvGrpSpPr/>
            <p:nvPr/>
          </p:nvGrpSpPr>
          <p:grpSpPr>
            <a:xfrm>
              <a:off x="0" y="5682240"/>
              <a:ext cx="6780960" cy="195840"/>
              <a:chOff x="0" y="5682240"/>
              <a:chExt cx="6780960" cy="195840"/>
            </a:xfrm>
          </p:grpSpPr>
          <p:sp>
            <p:nvSpPr>
              <p:cNvPr id="2460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2" name=""/>
            <p:cNvGrpSpPr/>
            <p:nvPr/>
          </p:nvGrpSpPr>
          <p:grpSpPr>
            <a:xfrm>
              <a:off x="0" y="5878440"/>
              <a:ext cx="6780960" cy="195840"/>
              <a:chOff x="0" y="5878440"/>
              <a:chExt cx="6780960" cy="195840"/>
            </a:xfrm>
          </p:grpSpPr>
          <p:sp>
            <p:nvSpPr>
              <p:cNvPr id="2463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output &lt;&lt; monthName[ d.month ] &lt;&lt; ' 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5" name=""/>
            <p:cNvGrpSpPr/>
            <p:nvPr/>
          </p:nvGrpSpPr>
          <p:grpSpPr>
            <a:xfrm>
              <a:off x="0" y="6074280"/>
              <a:ext cx="6780960" cy="195840"/>
              <a:chOff x="0" y="6074280"/>
              <a:chExt cx="6780960" cy="195840"/>
            </a:xfrm>
          </p:grpSpPr>
          <p:sp>
            <p:nvSpPr>
              <p:cNvPr id="2466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&lt;&lt; d.day &lt;&lt; ", " &lt;&lt; d.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8" name=""/>
            <p:cNvGrpSpPr/>
            <p:nvPr/>
          </p:nvGrpSpPr>
          <p:grpSpPr>
            <a:xfrm>
              <a:off x="0" y="6270120"/>
              <a:ext cx="6780960" cy="195840"/>
              <a:chOff x="0" y="6270120"/>
              <a:chExt cx="6780960" cy="195840"/>
            </a:xfrm>
          </p:grpSpPr>
          <p:sp>
            <p:nvSpPr>
              <p:cNvPr id="2469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1" name=""/>
            <p:cNvGrpSpPr/>
            <p:nvPr/>
          </p:nvGrpSpPr>
          <p:grpSpPr>
            <a:xfrm>
              <a:off x="0" y="6466320"/>
              <a:ext cx="6780960" cy="195840"/>
              <a:chOff x="0" y="6466320"/>
              <a:chExt cx="6780960" cy="195840"/>
            </a:xfrm>
          </p:grpSpPr>
          <p:sp>
            <p:nvSpPr>
              <p:cNvPr id="2472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4" name=""/>
            <p:cNvGrpSpPr/>
            <p:nvPr/>
          </p:nvGrpSpPr>
          <p:grpSpPr>
            <a:xfrm>
              <a:off x="0" y="6662160"/>
              <a:ext cx="6780960" cy="195840"/>
              <a:chOff x="0" y="6662160"/>
              <a:chExt cx="6780960" cy="195840"/>
            </a:xfrm>
          </p:grpSpPr>
          <p:sp>
            <p:nvSpPr>
              <p:cNvPr id="2475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9085E-44A9-4AFA-859C-E6B670EC840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47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479" name=""/>
            <p:cNvGrpSpPr/>
            <p:nvPr/>
          </p:nvGrpSpPr>
          <p:grpSpPr>
            <a:xfrm>
              <a:off x="0" y="0"/>
              <a:ext cx="6780960" cy="190440"/>
              <a:chOff x="0" y="0"/>
              <a:chExt cx="6780960" cy="190440"/>
            </a:xfrm>
          </p:grpSpPr>
          <p:sp>
            <p:nvSpPr>
              <p:cNvPr id="2480" name="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fig08_0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2" name=""/>
            <p:cNvGrpSpPr/>
            <p:nvPr/>
          </p:nvGrpSpPr>
          <p:grpSpPr>
            <a:xfrm>
              <a:off x="0" y="190440"/>
              <a:ext cx="6780960" cy="190440"/>
              <a:chOff x="0" y="190440"/>
              <a:chExt cx="6780960" cy="190440"/>
            </a:xfrm>
          </p:grpSpPr>
          <p:sp>
            <p:nvSpPr>
              <p:cNvPr id="2483" name="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river for class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5" name=""/>
            <p:cNvGrpSpPr/>
            <p:nvPr/>
          </p:nvGrpSpPr>
          <p:grpSpPr>
            <a:xfrm>
              <a:off x="0" y="380880"/>
              <a:ext cx="6780960" cy="190440"/>
              <a:chOff x="0" y="380880"/>
              <a:chExt cx="6780960" cy="190440"/>
            </a:xfrm>
          </p:grpSpPr>
          <p:sp>
            <p:nvSpPr>
              <p:cNvPr id="2486" name="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8" name=""/>
            <p:cNvGrpSpPr/>
            <p:nvPr/>
          </p:nvGrpSpPr>
          <p:grpSpPr>
            <a:xfrm>
              <a:off x="0" y="571320"/>
              <a:ext cx="6780960" cy="190440"/>
              <a:chOff x="0" y="571320"/>
              <a:chExt cx="6780960" cy="190440"/>
            </a:xfrm>
          </p:grpSpPr>
          <p:sp>
            <p:nvSpPr>
              <p:cNvPr id="2489" name="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1" name=""/>
            <p:cNvGrpSpPr/>
            <p:nvPr/>
          </p:nvGrpSpPr>
          <p:grpSpPr>
            <a:xfrm>
              <a:off x="0" y="761760"/>
              <a:ext cx="6780960" cy="190440"/>
              <a:chOff x="0" y="761760"/>
              <a:chExt cx="6780960" cy="190440"/>
            </a:xfrm>
          </p:grpSpPr>
          <p:sp>
            <p:nvSpPr>
              <p:cNvPr id="2492" name="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4" name=""/>
            <p:cNvGrpSpPr/>
            <p:nvPr/>
          </p:nvGrpSpPr>
          <p:grpSpPr>
            <a:xfrm>
              <a:off x="0" y="952200"/>
              <a:ext cx="6780960" cy="190440"/>
              <a:chOff x="0" y="952200"/>
              <a:chExt cx="6780960" cy="190440"/>
            </a:xfrm>
          </p:grpSpPr>
          <p:sp>
            <p:nvSpPr>
              <p:cNvPr id="2495" name="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7" name=""/>
            <p:cNvGrpSpPr/>
            <p:nvPr/>
          </p:nvGrpSpPr>
          <p:grpSpPr>
            <a:xfrm>
              <a:off x="0" y="1142640"/>
              <a:ext cx="6780960" cy="190440"/>
              <a:chOff x="0" y="1142640"/>
              <a:chExt cx="6780960" cy="190440"/>
            </a:xfrm>
          </p:grpSpPr>
          <p:sp>
            <p:nvSpPr>
              <p:cNvPr id="2498" name="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0" name=""/>
            <p:cNvGrpSpPr/>
            <p:nvPr/>
          </p:nvGrpSpPr>
          <p:grpSpPr>
            <a:xfrm>
              <a:off x="0" y="1333440"/>
              <a:ext cx="6780960" cy="190440"/>
              <a:chOff x="0" y="1333440"/>
              <a:chExt cx="6780960" cy="190440"/>
            </a:xfrm>
          </p:grpSpPr>
          <p:sp>
            <p:nvSpPr>
              <p:cNvPr id="2501" name="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3" name=""/>
            <p:cNvGrpSpPr/>
            <p:nvPr/>
          </p:nvGrpSpPr>
          <p:grpSpPr>
            <a:xfrm>
              <a:off x="0" y="1523880"/>
              <a:ext cx="6780960" cy="190440"/>
              <a:chOff x="0" y="1523880"/>
              <a:chExt cx="6780960" cy="190440"/>
            </a:xfrm>
          </p:grpSpPr>
          <p:sp>
            <p:nvSpPr>
              <p:cNvPr id="2504" name="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6" name=""/>
            <p:cNvGrpSpPr/>
            <p:nvPr/>
          </p:nvGrpSpPr>
          <p:grpSpPr>
            <a:xfrm>
              <a:off x="0" y="1714320"/>
              <a:ext cx="6780960" cy="190440"/>
              <a:chOff x="0" y="1714320"/>
              <a:chExt cx="6780960" cy="190440"/>
            </a:xfrm>
          </p:grpSpPr>
          <p:sp>
            <p:nvSpPr>
              <p:cNvPr id="2507" name="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9" name=""/>
            <p:cNvGrpSpPr/>
            <p:nvPr/>
          </p:nvGrpSpPr>
          <p:grpSpPr>
            <a:xfrm>
              <a:off x="0" y="1904760"/>
              <a:ext cx="6780960" cy="190440"/>
              <a:chOff x="0" y="1904760"/>
              <a:chExt cx="6780960" cy="190440"/>
            </a:xfrm>
          </p:grpSpPr>
          <p:sp>
            <p:nvSpPr>
              <p:cNvPr id="2510" name="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2" name=""/>
            <p:cNvGrpSpPr/>
            <p:nvPr/>
          </p:nvGrpSpPr>
          <p:grpSpPr>
            <a:xfrm>
              <a:off x="0" y="2095560"/>
              <a:ext cx="6780960" cy="190440"/>
              <a:chOff x="0" y="2095560"/>
              <a:chExt cx="6780960" cy="190440"/>
            </a:xfrm>
          </p:grpSpPr>
          <p:sp>
            <p:nvSpPr>
              <p:cNvPr id="2513" name="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d1, d2( 12, 27, 1992 ), d3( 0, 99, 804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5" name=""/>
            <p:cNvGrpSpPr/>
            <p:nvPr/>
          </p:nvGrpSpPr>
          <p:grpSpPr>
            <a:xfrm>
              <a:off x="0" y="2286000"/>
              <a:ext cx="6780960" cy="190440"/>
              <a:chOff x="0" y="2286000"/>
              <a:chExt cx="6780960" cy="190440"/>
            </a:xfrm>
          </p:grpSpPr>
          <p:sp>
            <p:nvSpPr>
              <p:cNvPr id="2516" name="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1 is " &lt;&lt; 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8" name=""/>
            <p:cNvGrpSpPr/>
            <p:nvPr/>
          </p:nvGrpSpPr>
          <p:grpSpPr>
            <a:xfrm>
              <a:off x="0" y="2476440"/>
              <a:ext cx="6780960" cy="190440"/>
              <a:chOff x="0" y="2476440"/>
              <a:chExt cx="6780960" cy="190440"/>
            </a:xfrm>
          </p:grpSpPr>
          <p:sp>
            <p:nvSpPr>
              <p:cNvPr id="2519" name="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d2 is " &lt;&lt; d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1" name=""/>
            <p:cNvGrpSpPr/>
            <p:nvPr/>
          </p:nvGrpSpPr>
          <p:grpSpPr>
            <a:xfrm>
              <a:off x="0" y="2666880"/>
              <a:ext cx="6780960" cy="190440"/>
              <a:chOff x="0" y="2666880"/>
              <a:chExt cx="6780960" cy="190440"/>
            </a:xfrm>
          </p:grpSpPr>
          <p:sp>
            <p:nvSpPr>
              <p:cNvPr id="2522" name="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d3 is " &lt;&lt; d3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4" name=""/>
            <p:cNvGrpSpPr/>
            <p:nvPr/>
          </p:nvGrpSpPr>
          <p:grpSpPr>
            <a:xfrm>
              <a:off x="0" y="2857320"/>
              <a:ext cx="6780960" cy="190440"/>
              <a:chOff x="0" y="2857320"/>
              <a:chExt cx="6780960" cy="190440"/>
            </a:xfrm>
          </p:grpSpPr>
          <p:sp>
            <p:nvSpPr>
              <p:cNvPr id="2525" name="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7" name=""/>
            <p:cNvGrpSpPr/>
            <p:nvPr/>
          </p:nvGrpSpPr>
          <p:grpSpPr>
            <a:xfrm>
              <a:off x="0" y="3047760"/>
              <a:ext cx="6780960" cy="190440"/>
              <a:chOff x="0" y="3047760"/>
              <a:chExt cx="6780960" cy="190440"/>
            </a:xfrm>
          </p:grpSpPr>
          <p:sp>
            <p:nvSpPr>
              <p:cNvPr id="2528" name="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2 += 7 is " &lt;&lt; ( d2 += 7 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0" name=""/>
            <p:cNvGrpSpPr/>
            <p:nvPr/>
          </p:nvGrpSpPr>
          <p:grpSpPr>
            <a:xfrm>
              <a:off x="0" y="3238560"/>
              <a:ext cx="6780960" cy="190440"/>
              <a:chOff x="0" y="3238560"/>
              <a:chExt cx="6780960" cy="190440"/>
            </a:xfrm>
          </p:grpSpPr>
          <p:sp>
            <p:nvSpPr>
              <p:cNvPr id="2531" name="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3" name=""/>
            <p:cNvGrpSpPr/>
            <p:nvPr/>
          </p:nvGrpSpPr>
          <p:grpSpPr>
            <a:xfrm>
              <a:off x="0" y="3429000"/>
              <a:ext cx="6780960" cy="190440"/>
              <a:chOff x="0" y="3429000"/>
              <a:chExt cx="6780960" cy="190440"/>
            </a:xfrm>
          </p:grpSpPr>
          <p:sp>
            <p:nvSpPr>
              <p:cNvPr id="2534" name="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3.setDate( 2, 28, 199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6" name=""/>
            <p:cNvGrpSpPr/>
            <p:nvPr/>
          </p:nvGrpSpPr>
          <p:grpSpPr>
            <a:xfrm>
              <a:off x="0" y="3619440"/>
              <a:ext cx="6780960" cy="190440"/>
              <a:chOff x="0" y="3619440"/>
              <a:chExt cx="6780960" cy="190440"/>
            </a:xfrm>
          </p:grpSpPr>
          <p:sp>
            <p:nvSpPr>
              <p:cNvPr id="2537" name="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3 is " &lt;&lt; d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9" name=""/>
            <p:cNvGrpSpPr/>
            <p:nvPr/>
          </p:nvGrpSpPr>
          <p:grpSpPr>
            <a:xfrm>
              <a:off x="0" y="3809880"/>
              <a:ext cx="6780960" cy="190440"/>
              <a:chOff x="0" y="3809880"/>
              <a:chExt cx="6780960" cy="190440"/>
            </a:xfrm>
          </p:grpSpPr>
          <p:sp>
            <p:nvSpPr>
              <p:cNvPr id="2540" name="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++d3 is " &lt;&lt; ++d3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2" name=""/>
            <p:cNvGrpSpPr/>
            <p:nvPr/>
          </p:nvGrpSpPr>
          <p:grpSpPr>
            <a:xfrm>
              <a:off x="0" y="4000320"/>
              <a:ext cx="6780960" cy="190440"/>
              <a:chOff x="0" y="4000320"/>
              <a:chExt cx="6780960" cy="190440"/>
            </a:xfrm>
          </p:grpSpPr>
          <p:sp>
            <p:nvSpPr>
              <p:cNvPr id="2543" name="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5" name=""/>
            <p:cNvGrpSpPr/>
            <p:nvPr/>
          </p:nvGrpSpPr>
          <p:grpSpPr>
            <a:xfrm>
              <a:off x="0" y="4190760"/>
              <a:ext cx="6780960" cy="190440"/>
              <a:chOff x="0" y="4190760"/>
              <a:chExt cx="6780960" cy="190440"/>
            </a:xfrm>
          </p:grpSpPr>
          <p:sp>
            <p:nvSpPr>
              <p:cNvPr id="2546" name="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d4( 3, 18, 1969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8" name=""/>
            <p:cNvGrpSpPr/>
            <p:nvPr/>
          </p:nvGrpSpPr>
          <p:grpSpPr>
            <a:xfrm>
              <a:off x="0" y="4381560"/>
              <a:ext cx="6780960" cy="190440"/>
              <a:chOff x="0" y="4381560"/>
              <a:chExt cx="6780960" cy="190440"/>
            </a:xfrm>
          </p:grpSpPr>
          <p:sp>
            <p:nvSpPr>
              <p:cNvPr id="2549" name="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1" name=""/>
            <p:cNvGrpSpPr/>
            <p:nvPr/>
          </p:nvGrpSpPr>
          <p:grpSpPr>
            <a:xfrm>
              <a:off x="0" y="4572000"/>
              <a:ext cx="6780960" cy="190440"/>
              <a:chOff x="0" y="4572000"/>
              <a:chExt cx="6780960" cy="190440"/>
            </a:xfrm>
          </p:grpSpPr>
          <p:sp>
            <p:nvSpPr>
              <p:cNvPr id="2552" name="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esting the preincrement operator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4" name=""/>
            <p:cNvGrpSpPr/>
            <p:nvPr/>
          </p:nvGrpSpPr>
          <p:grpSpPr>
            <a:xfrm>
              <a:off x="0" y="4762440"/>
              <a:ext cx="6780960" cy="190440"/>
              <a:chOff x="0" y="4762440"/>
              <a:chExt cx="6780960" cy="190440"/>
            </a:xfrm>
          </p:grpSpPr>
          <p:sp>
            <p:nvSpPr>
              <p:cNvPr id="2555" name="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  d4 is " &lt;&lt; 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7" name=""/>
            <p:cNvGrpSpPr/>
            <p:nvPr/>
          </p:nvGrpSpPr>
          <p:grpSpPr>
            <a:xfrm>
              <a:off x="0" y="4952880"/>
              <a:ext cx="6780960" cy="190440"/>
              <a:chOff x="0" y="4952880"/>
              <a:chExt cx="6780960" cy="190440"/>
            </a:xfrm>
          </p:grpSpPr>
          <p:sp>
            <p:nvSpPr>
              <p:cNvPr id="2558" name="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++d4 is " &lt;&lt; ++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0" name=""/>
            <p:cNvGrpSpPr/>
            <p:nvPr/>
          </p:nvGrpSpPr>
          <p:grpSpPr>
            <a:xfrm>
              <a:off x="0" y="5143320"/>
              <a:ext cx="6780960" cy="190440"/>
              <a:chOff x="0" y="5143320"/>
              <a:chExt cx="6780960" cy="190440"/>
            </a:xfrm>
          </p:grpSpPr>
          <p:sp>
            <p:nvSpPr>
              <p:cNvPr id="2561" name="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4 is " &lt;&lt; d4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3" name=""/>
            <p:cNvGrpSpPr/>
            <p:nvPr/>
          </p:nvGrpSpPr>
          <p:grpSpPr>
            <a:xfrm>
              <a:off x="0" y="5334120"/>
              <a:ext cx="6780960" cy="190440"/>
              <a:chOff x="0" y="5334120"/>
              <a:chExt cx="6780960" cy="190440"/>
            </a:xfrm>
          </p:grpSpPr>
          <p:sp>
            <p:nvSpPr>
              <p:cNvPr id="2564" name="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6" name=""/>
            <p:cNvGrpSpPr/>
            <p:nvPr/>
          </p:nvGrpSpPr>
          <p:grpSpPr>
            <a:xfrm>
              <a:off x="0" y="5524560"/>
              <a:ext cx="6780960" cy="190440"/>
              <a:chOff x="0" y="5524560"/>
              <a:chExt cx="6780960" cy="190440"/>
            </a:xfrm>
          </p:grpSpPr>
          <p:sp>
            <p:nvSpPr>
              <p:cNvPr id="2567" name="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esting the postincrement operator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9" name=""/>
            <p:cNvGrpSpPr/>
            <p:nvPr/>
          </p:nvGrpSpPr>
          <p:grpSpPr>
            <a:xfrm>
              <a:off x="0" y="5715000"/>
              <a:ext cx="6780960" cy="190440"/>
              <a:chOff x="0" y="5715000"/>
              <a:chExt cx="6780960" cy="190440"/>
            </a:xfrm>
          </p:grpSpPr>
          <p:sp>
            <p:nvSpPr>
              <p:cNvPr id="2570" name="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  d4 is " &lt;&lt; 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2" name=""/>
            <p:cNvGrpSpPr/>
            <p:nvPr/>
          </p:nvGrpSpPr>
          <p:grpSpPr>
            <a:xfrm>
              <a:off x="0" y="5905440"/>
              <a:ext cx="6780960" cy="190440"/>
              <a:chOff x="0" y="5905440"/>
              <a:chExt cx="6780960" cy="190440"/>
            </a:xfrm>
          </p:grpSpPr>
          <p:sp>
            <p:nvSpPr>
              <p:cNvPr id="2573" name="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4++ is " &lt;&lt; d4++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5" name=""/>
            <p:cNvGrpSpPr/>
            <p:nvPr/>
          </p:nvGrpSpPr>
          <p:grpSpPr>
            <a:xfrm>
              <a:off x="0" y="6095880"/>
              <a:ext cx="6780960" cy="190440"/>
              <a:chOff x="0" y="6095880"/>
              <a:chExt cx="6780960" cy="190440"/>
            </a:xfrm>
          </p:grpSpPr>
          <p:sp>
            <p:nvSpPr>
              <p:cNvPr id="2576" name="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4 is " &lt;&lt; d4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8" name=""/>
            <p:cNvGrpSpPr/>
            <p:nvPr/>
          </p:nvGrpSpPr>
          <p:grpSpPr>
            <a:xfrm>
              <a:off x="0" y="6286680"/>
              <a:ext cx="6780960" cy="190440"/>
              <a:chOff x="0" y="6286680"/>
              <a:chExt cx="6780960" cy="190440"/>
            </a:xfrm>
          </p:grpSpPr>
          <p:sp>
            <p:nvSpPr>
              <p:cNvPr id="2579" name="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1" name=""/>
            <p:cNvGrpSpPr/>
            <p:nvPr/>
          </p:nvGrpSpPr>
          <p:grpSpPr>
            <a:xfrm>
              <a:off x="0" y="6477120"/>
              <a:ext cx="6780960" cy="190440"/>
              <a:chOff x="0" y="6477120"/>
              <a:chExt cx="6780960" cy="190440"/>
            </a:xfrm>
          </p:grpSpPr>
          <p:sp>
            <p:nvSpPr>
              <p:cNvPr id="2582" name="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4" name=""/>
            <p:cNvGrpSpPr/>
            <p:nvPr/>
          </p:nvGrpSpPr>
          <p:grpSpPr>
            <a:xfrm>
              <a:off x="0" y="6667560"/>
              <a:ext cx="6780960" cy="190440"/>
              <a:chOff x="0" y="6667560"/>
              <a:chExt cx="6780960" cy="190440"/>
            </a:xfrm>
          </p:grpSpPr>
          <p:sp>
            <p:nvSpPr>
              <p:cNvPr id="2585" name="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7" name=""/>
          <p:cNvSpPr/>
          <p:nvPr/>
        </p:nvSpPr>
        <p:spPr>
          <a:xfrm>
            <a:off x="3352680" y="11430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1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is December 27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5199480" y="2971800"/>
            <a:ext cx="2558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+= 7 is January 3,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419720" y="3429000"/>
            <a:ext cx="350496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February 28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3 is February 29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5029200" y="4114800"/>
            <a:ext cx="396252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5257800" y="5486400"/>
            <a:ext cx="3429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6F69F-3A66-4A73-AF5D-280B2FDCD28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93" name=""/>
          <p:cNvSpPr/>
          <p:nvPr/>
        </p:nvSpPr>
        <p:spPr>
          <a:xfrm>
            <a:off x="0" y="0"/>
            <a:ext cx="6781680" cy="3561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1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is December 27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+= 7 is January 3,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February 28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3 is February 29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ost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++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20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15472-E04B-4103-869E-18FA4E091F2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8.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strictions on Operator Overloadi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edence of an operator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ivity of an operator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ity (number of operands)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ry operators remain unary, and binary operators remain 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ach have unary and binary 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ry and binary versions can be overloaded sepa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w operators can be cr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nly existing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verloading operators for built-in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change how two integers are ad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duces a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79CD-00B7-4FE0-8A96-A1ACE9D28B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  Operator Functions as Class Members vs. as friend Function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vs non-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functions can be member or non-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overloa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any of the assignment operators, must use a member function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functions as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ftmost operand must be an object (or reference to an object) of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eft operand of a different type, operator function must be a non-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functions as non-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if needs to access private or protected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the operator to be commut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96A6-C58D-44A9-9A15-BDA8CFF440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5  Overloading Stream-Insertion and Stream-Extraction Opera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to perform input/output for user-defined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ft operand of typ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a non-member function because left operand is not an object of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to access private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11DBA-11B9-4EF0-B5BD-6B4BFE1CC4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6780960" cy="245520"/>
              <a:chOff x="0" y="0"/>
              <a:chExt cx="6780960" cy="24552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0"/>
                <a:ext cx="678096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0"/>
                <a:ext cx="678096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8.3: fig08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245520"/>
              <a:ext cx="6780960" cy="227880"/>
              <a:chOff x="0" y="245520"/>
              <a:chExt cx="6780960" cy="2278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45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45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ing the stream-insertion an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473400"/>
              <a:ext cx="6780960" cy="227880"/>
              <a:chOff x="0" y="473400"/>
              <a:chExt cx="6780960" cy="2278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4734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4734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tream-extraction operato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701640"/>
              <a:ext cx="6780960" cy="227880"/>
              <a:chOff x="0" y="701640"/>
              <a:chExt cx="6780960" cy="22788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70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70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0" y="929520"/>
              <a:ext cx="6780960" cy="227880"/>
              <a:chOff x="0" y="929520"/>
              <a:chExt cx="6780960" cy="22788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929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929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0" y="1157760"/>
              <a:ext cx="6780960" cy="227880"/>
              <a:chOff x="0" y="1157760"/>
              <a:chExt cx="6780960" cy="22788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115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0" y="1385640"/>
              <a:ext cx="6780960" cy="227880"/>
              <a:chOff x="0" y="1385640"/>
              <a:chExt cx="6780960" cy="22788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1385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1385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0" y="1613520"/>
              <a:ext cx="6780960" cy="227880"/>
              <a:chOff x="0" y="1613520"/>
              <a:chExt cx="6780960" cy="22788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1613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1613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0" y="1841760"/>
              <a:ext cx="6780960" cy="227880"/>
              <a:chOff x="0" y="1841760"/>
              <a:chExt cx="6780960" cy="22788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184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4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0" y="2069640"/>
              <a:ext cx="6780960" cy="227880"/>
              <a:chOff x="0" y="2069640"/>
              <a:chExt cx="6780960" cy="22788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2069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069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i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2297520"/>
              <a:ext cx="6780960" cy="227880"/>
              <a:chOff x="0" y="2297520"/>
              <a:chExt cx="6780960" cy="22788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2297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2297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0" y="2525760"/>
              <a:ext cx="6780960" cy="227880"/>
              <a:chOff x="0" y="2525760"/>
              <a:chExt cx="6780960" cy="2278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2525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2525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2753640"/>
              <a:ext cx="6780960" cy="227880"/>
              <a:chOff x="0" y="2753640"/>
              <a:chExt cx="6780960" cy="22788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2753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2753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2981880"/>
              <a:ext cx="6780960" cy="227880"/>
              <a:chOff x="0" y="2981880"/>
              <a:chExt cx="6780960" cy="22788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298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298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3209760"/>
              <a:ext cx="6780960" cy="227880"/>
              <a:chOff x="0" y="3209760"/>
              <a:chExt cx="6780960" cy="22788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3209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3209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0" y="3437640"/>
              <a:ext cx="6780960" cy="227880"/>
              <a:chOff x="0" y="3437640"/>
              <a:chExt cx="6780960" cy="227880"/>
            </a:xfrm>
          </p:grpSpPr>
          <p:sp>
            <p:nvSpPr>
              <p:cNvPr id="161" name=""/>
              <p:cNvSpPr/>
              <p:nvPr/>
            </p:nvSpPr>
            <p:spPr>
              <a:xfrm>
                <a:off x="0" y="3437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3437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0" y="3665880"/>
              <a:ext cx="6780960" cy="227880"/>
              <a:chOff x="0" y="3665880"/>
              <a:chExt cx="6780960" cy="227880"/>
            </a:xfrm>
          </p:grpSpPr>
          <p:sp>
            <p:nvSpPr>
              <p:cNvPr id="164" name=""/>
              <p:cNvSpPr/>
              <p:nvPr/>
            </p:nvSpPr>
            <p:spPr>
              <a:xfrm>
                <a:off x="0" y="3665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3665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0" y="3893760"/>
              <a:ext cx="6780960" cy="227880"/>
              <a:chOff x="0" y="3893760"/>
              <a:chExt cx="6780960" cy="22788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3893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3893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stream &amp;operator&gt;&gt;( istream&amp;, PhoneNumb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4121640"/>
              <a:ext cx="6780960" cy="227880"/>
              <a:chOff x="0" y="4121640"/>
              <a:chExt cx="6780960" cy="22788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412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12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4349880"/>
              <a:ext cx="6780960" cy="227880"/>
              <a:chOff x="0" y="4349880"/>
              <a:chExt cx="6780960" cy="22788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4349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4349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0" y="4577760"/>
              <a:ext cx="6780960" cy="227880"/>
              <a:chOff x="0" y="4577760"/>
              <a:chExt cx="6780960" cy="22788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457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57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eaCode[ 4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3-digit area cod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0" y="4806000"/>
              <a:ext cx="6780960" cy="227880"/>
              <a:chOff x="0" y="4806000"/>
              <a:chExt cx="6780960" cy="22788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4806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806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xchange[ 4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3-digit exchang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5033880"/>
              <a:ext cx="6780960" cy="227880"/>
              <a:chOff x="0" y="5033880"/>
              <a:chExt cx="6780960" cy="22788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5033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5033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ine[ 5 ]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4-digit lin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5261760"/>
              <a:ext cx="6780960" cy="227880"/>
              <a:chOff x="0" y="5261760"/>
              <a:chExt cx="6780960" cy="22788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526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526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5490000"/>
              <a:ext cx="6780960" cy="227880"/>
              <a:chOff x="0" y="5490000"/>
              <a:chExt cx="6780960" cy="22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5490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5490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5717880"/>
              <a:ext cx="6780960" cy="227880"/>
              <a:chOff x="0" y="5717880"/>
              <a:chExt cx="6780960" cy="22788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5717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5717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stream-insertion operator (cannot b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5946120"/>
              <a:ext cx="6780960" cy="227880"/>
              <a:chOff x="0" y="5946120"/>
              <a:chExt cx="6780960" cy="22788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5946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5946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 member function if we would like to invoke it wi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6174000"/>
              <a:ext cx="6780960" cy="227880"/>
              <a:chOff x="0" y="6174000"/>
              <a:chExt cx="6780960" cy="227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6174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6174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ut &lt;&lt; somePhoneNumber;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6401880"/>
              <a:ext cx="6780960" cy="227880"/>
              <a:chOff x="0" y="6401880"/>
              <a:chExt cx="6780960" cy="22788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640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640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&amp;nu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6630120"/>
              <a:ext cx="6780960" cy="227880"/>
              <a:chOff x="0" y="6630120"/>
              <a:chExt cx="6780960" cy="22788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6630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6630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3809880" y="2362320"/>
            <a:ext cx="4419720" cy="1295280"/>
            <a:chOff x="3809880" y="2362320"/>
            <a:chExt cx="4419720" cy="1295280"/>
          </a:xfrm>
        </p:grpSpPr>
        <p:sp>
          <p:nvSpPr>
            <p:cNvPr id="206" name=""/>
            <p:cNvSpPr/>
            <p:nvPr/>
          </p:nvSpPr>
          <p:spPr>
            <a:xfrm>
              <a:off x="4876920" y="2362320"/>
              <a:ext cx="3352680" cy="951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function prototypes for overloaded operato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gt;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lt;&l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y must b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809880" y="2743200"/>
              <a:ext cx="1067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7D66B-6548-4C14-9714-7F6A45D8B2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Get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Assign to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Out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210" name=""/>
            <p:cNvGrpSpPr/>
            <p:nvPr/>
          </p:nvGrpSpPr>
          <p:grpSpPr>
            <a:xfrm>
              <a:off x="0" y="0"/>
              <a:ext cx="6705000" cy="221040"/>
              <a:chOff x="0" y="0"/>
              <a:chExt cx="6705000" cy="22104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output &lt;&lt; "(" &lt;&lt; num.areaCode &lt;&lt; ")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221040"/>
              <a:ext cx="6705000" cy="221040"/>
              <a:chOff x="0" y="221040"/>
              <a:chExt cx="6705000" cy="22104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&lt;&lt; num.exchange &lt;&lt; "-" &lt;&lt; num.lin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442080"/>
              <a:ext cx="6705000" cy="221040"/>
              <a:chOff x="0" y="442080"/>
              <a:chExt cx="6705000" cy="22104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ables cout &lt;&lt; a &lt;&lt; b &lt;&l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663480"/>
              <a:ext cx="6705000" cy="221040"/>
              <a:chOff x="0" y="663480"/>
              <a:chExt cx="6705000" cy="22104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884880"/>
              <a:ext cx="6705000" cy="221040"/>
              <a:chOff x="0" y="884880"/>
              <a:chExt cx="6705000" cy="22104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1105920"/>
              <a:ext cx="6705000" cy="221040"/>
              <a:chOff x="0" y="1105920"/>
              <a:chExt cx="6705000" cy="22104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stream &amp;operator&gt;&gt;( istream &amp;input, PhoneNumber &amp;nu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0" y="1327320"/>
              <a:ext cx="6705000" cy="221040"/>
              <a:chOff x="0" y="1327320"/>
              <a:chExt cx="6705000" cy="221040"/>
            </a:xfrm>
          </p:grpSpPr>
          <p:sp>
            <p:nvSpPr>
              <p:cNvPr id="229" name="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0" y="1548360"/>
              <a:ext cx="6705000" cy="221040"/>
              <a:chOff x="0" y="1548360"/>
              <a:chExt cx="6705000" cy="22104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kip 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1769760"/>
              <a:ext cx="6705000" cy="221040"/>
              <a:chOff x="0" y="1769760"/>
              <a:chExt cx="6705000" cy="22104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4 ) &gt;&gt; num.areaCod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area c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1990800"/>
              <a:ext cx="6705000" cy="221040"/>
              <a:chOff x="0" y="1990800"/>
              <a:chExt cx="6705000" cy="22104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 2 )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skip ) and sp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2212200"/>
              <a:ext cx="6705000" cy="221040"/>
              <a:chOff x="0" y="2212200"/>
              <a:chExt cx="6705000" cy="22104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4 ) &gt;&gt; num.exchang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exch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2433600"/>
              <a:ext cx="6705000" cy="221040"/>
              <a:chOff x="0" y="2433600"/>
              <a:chExt cx="6705000" cy="22104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kip dash (-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2654640"/>
              <a:ext cx="6705000" cy="221040"/>
              <a:chOff x="0" y="2654640"/>
              <a:chExt cx="6705000" cy="22104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5 ) &gt;&gt; num.line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2875680"/>
              <a:ext cx="6705000" cy="221040"/>
              <a:chOff x="0" y="2875680"/>
              <a:chExt cx="6705000" cy="22104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nput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in &gt;&gt; a &gt;&gt; b &gt;&g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3097080"/>
              <a:ext cx="6705000" cy="221040"/>
              <a:chOff x="0" y="3097080"/>
              <a:chExt cx="6705000" cy="22104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3318480"/>
              <a:ext cx="6705000" cy="221040"/>
              <a:chOff x="0" y="3318480"/>
              <a:chExt cx="6705000" cy="22104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3539520"/>
              <a:ext cx="6705000" cy="221040"/>
              <a:chOff x="0" y="3539520"/>
              <a:chExt cx="6705000" cy="22104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3760920"/>
              <a:ext cx="6705000" cy="221040"/>
              <a:chOff x="0" y="3760920"/>
              <a:chExt cx="6705000" cy="22104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0" y="3981960"/>
              <a:ext cx="6705000" cy="221040"/>
              <a:chOff x="0" y="3981960"/>
              <a:chExt cx="6705000" cy="22104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PhoneNumber phon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reate object pho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0" y="4203360"/>
              <a:ext cx="6705000" cy="221040"/>
              <a:chOff x="0" y="4203360"/>
              <a:chExt cx="6705000" cy="22104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0" y="4424400"/>
              <a:ext cx="6705000" cy="221040"/>
              <a:chOff x="0" y="4424400"/>
              <a:chExt cx="6705000" cy="221040"/>
            </a:xfrm>
          </p:grpSpPr>
          <p:sp>
            <p:nvSpPr>
              <p:cNvPr id="271" name="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Enter phone number in the form (123) 456-7890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0" y="4645800"/>
              <a:ext cx="6705000" cy="221040"/>
              <a:chOff x="0" y="4645800"/>
              <a:chExt cx="6705000" cy="22104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0" y="4866840"/>
              <a:ext cx="6705000" cy="221040"/>
              <a:chOff x="0" y="4866840"/>
              <a:chExt cx="6705000" cy="22104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in &gt;&gt; phone invokes operator&gt;&gt; function b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0" y="5088240"/>
              <a:ext cx="6705000" cy="221040"/>
              <a:chOff x="0" y="5088240"/>
              <a:chExt cx="6705000" cy="22104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ssuing the call operator&gt;&gt;( cin, phone 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0" y="5309640"/>
              <a:ext cx="6705000" cy="221040"/>
              <a:chOff x="0" y="5309640"/>
              <a:chExt cx="6705000" cy="22104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in &gt;&gt; phon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0" y="5530680"/>
              <a:ext cx="6705000" cy="221040"/>
              <a:chOff x="0" y="5530680"/>
              <a:chExt cx="6705000" cy="22104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5751720"/>
              <a:ext cx="6705000" cy="221040"/>
              <a:chOff x="0" y="5751720"/>
              <a:chExt cx="6705000" cy="22104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out &lt;&lt; phone invokes operator&lt;&lt; function 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5973120"/>
              <a:ext cx="6705000" cy="221040"/>
              <a:chOff x="0" y="5973120"/>
              <a:chExt cx="6705000" cy="22104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ssuing the call operator&lt;&lt;( cout, phone )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6194520"/>
              <a:ext cx="6705000" cy="221040"/>
              <a:chOff x="0" y="6194520"/>
              <a:chExt cx="6705000" cy="22104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phone number entered was: " &lt;&lt; phon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6415560"/>
              <a:ext cx="6705000" cy="221040"/>
              <a:chOff x="0" y="6415560"/>
              <a:chExt cx="6705000" cy="22104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6636960"/>
              <a:ext cx="6705000" cy="221040"/>
              <a:chOff x="0" y="6636960"/>
              <a:chExt cx="6705000" cy="22104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1905120" y="1371600"/>
            <a:ext cx="6324480" cy="4038480"/>
            <a:chOff x="1905120" y="1371600"/>
            <a:chExt cx="6324480" cy="4038480"/>
          </a:xfrm>
        </p:grpSpPr>
        <p:sp>
          <p:nvSpPr>
            <p:cNvPr id="304" name=""/>
            <p:cNvSpPr/>
            <p:nvPr/>
          </p:nvSpPr>
          <p:spPr>
            <a:xfrm>
              <a:off x="5029200" y="2362320"/>
              <a:ext cx="3200400" cy="2062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function c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n &gt;&gt; phone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preted 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perator&gt;&gt;(cin, phone)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n alia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n alia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ho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2895120" y="1371600"/>
              <a:ext cx="21337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905120" y="2743200"/>
              <a:ext cx="312408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00A2A-B47F-499E-BFB7-4CDF6B3EF7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9T15:46:59Z</dcterms:created>
  <dc:creator>aftab bukhari</dc:creator>
  <dc:description/>
  <dc:language>en-US</dc:language>
  <cp:lastModifiedBy>Jason Rosenfeld</cp:lastModifiedBy>
  <dcterms:modified xsi:type="dcterms:W3CDTF">2000-08-30T20:56:30Z</dcterms:modified>
  <cp:revision>271</cp:revision>
  <dc:subject/>
  <dc:title>PowerPoint Presentation</dc:title>
</cp:coreProperties>
</file>