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67913-6B45-451A-B871-2B2B999A3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AAF3-EE6B-434D-93BA-E0223EE6F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DBA2-5E8E-48CC-AB9E-3D19D1A65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06CC-DE33-44FB-B095-4FACC3EFC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1848-7F2F-4D5F-986A-2C45D9441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9D9E-28C2-4A4B-8797-2B91DBE45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724A-51A8-4D12-8EB8-3FE1D7C9B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55091-0520-44C3-8F1B-E2AFEE968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4969-AFEB-492F-ABDA-DC74C5809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B824-41CC-4E60-AFED-38B98FCD9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F557-496D-43FD-9209-DD20AB71B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0F16-DE95-4084-81B8-DA87626F6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4828-A398-41F8-A751-EB1981469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11- C++ Stream Input/Outpu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1143000"/>
            <a:ext cx="731520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4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ostream Library Header File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Input/Output Classes and Object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Output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-Insertion Operator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cading Stream-Insertion/Extraction Operator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utput of char * Variable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haracter Output with Member Function put; Cascading put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Input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-Extraction Operator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get and getline Member Function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stream Member Functions peek, putback and ignore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ype-Safe I/O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5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nformatted I/O with read, gcount and write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Manipulator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gral Stream Base: dec, oct, hex and setbase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loating-Point Precision (precision, setprecision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ield Width (setw, width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er-Defined Manipulator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Format State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ormat State Flag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railing Zeros and Decimal Points (ios::showpoint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ustification (ios::left, ios::right, ios::internal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adding (fill, setfill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5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gral Stream Base (ios::dec, ios::oct, ios::hex, ios::showbase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6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loating-Point Numbers; Scientific Notation (ios::scientific, ios::fixed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7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ppercase/Lowercase Control (ios::uppercase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8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tting and Resetting the Format Flags (flags, setiosflags, resetiosflags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8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Error State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9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ying an Output Stream to an Input Stream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.2    Cascading Stream-Insertion/Extraction Operators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 Associates from left to right, and returns a reference to its left-operand object (i.e.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nables casc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How" &lt;&lt; " are" &lt;&lt; " you?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sure to use parenthe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1 + 2 = " &lt;&lt; (1 + 2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1 + 2 = " &lt;&lt; 1 +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.3   Output of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har *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Variabl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output a variable of 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utput the address of the first character of that string, cast the variable as 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id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rint 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cast in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Print value of pointer (address of string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6780960" cy="3657240"/>
            <a:chOff x="0" y="0"/>
            <a:chExt cx="6780960" cy="3657240"/>
          </a:xfrm>
        </p:grpSpPr>
        <p:grpSp>
          <p:nvGrpSpPr>
            <p:cNvPr id="112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13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8: fig11_08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ing the address stored in a char* vari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string = "test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Value of string is: " &lt;&lt;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Value of static_cast&lt; void * &gt;( string )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tatic_cast&lt; void * &gt;( string 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0" y="396252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of string is: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of static_cast&lt; void *&gt;( string ) is: 0046C0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haracter Output with Member Function put; Cascading put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one character to specified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ut( 'A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reference to the object that called it, so may be casc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ut( 'A' ).put( '\n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e called with an ASCII-valued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ut(6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   Stream Input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tream-extrac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perform stream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ignores whitespaces (spaces, tabs, newli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zero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ncountered, otherwise returns reference to the object from which it was invoked (i.e.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nables cascaded in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x &gt;&gt;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ols the state bits of the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if wrong type of data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if the operation f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1   Stream-Extraction Operator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relatively high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al and arithmetic expressions must be contained in paren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way to perform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cin &gt;&gt; gra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on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countered, and loop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erform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0"/>
            <a:ext cx="6780960" cy="5105520"/>
            <a:chOff x="0" y="0"/>
            <a:chExt cx="6780960" cy="5105520"/>
          </a:xfrm>
        </p:grpSpPr>
        <p:grpSp>
          <p:nvGrpSpPr>
            <p:cNvPr id="169" name=""/>
            <p:cNvGrpSpPr/>
            <p:nvPr/>
          </p:nvGrpSpPr>
          <p:grpSpPr>
            <a:xfrm>
              <a:off x="0" y="0"/>
              <a:ext cx="6780960" cy="221760"/>
              <a:chOff x="0" y="0"/>
              <a:chExt cx="6780960" cy="22176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1: fig11_11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221760"/>
              <a:ext cx="6780960" cy="221760"/>
              <a:chOff x="0" y="221760"/>
              <a:chExt cx="6780960" cy="22176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221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221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ream-extraction operator returning false on end-of-file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443880"/>
              <a:ext cx="6780960" cy="221760"/>
              <a:chOff x="0" y="443880"/>
              <a:chExt cx="6780960" cy="22176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443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43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666000"/>
              <a:ext cx="6780960" cy="221760"/>
              <a:chOff x="0" y="666000"/>
              <a:chExt cx="6780960" cy="22176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666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666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887760"/>
              <a:ext cx="6780960" cy="221760"/>
              <a:chOff x="0" y="887760"/>
              <a:chExt cx="6780960" cy="22176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887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887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1109880"/>
              <a:ext cx="6780960" cy="221760"/>
              <a:chOff x="0" y="1109880"/>
              <a:chExt cx="6780960" cy="22176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1109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1109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1331640"/>
              <a:ext cx="6780960" cy="221760"/>
              <a:chOff x="0" y="1331640"/>
              <a:chExt cx="6780960" cy="22176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1331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1331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1553760"/>
              <a:ext cx="6780960" cy="221760"/>
              <a:chOff x="0" y="1553760"/>
              <a:chExt cx="6780960" cy="22176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1553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1553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1775880"/>
              <a:ext cx="6780960" cy="221760"/>
              <a:chOff x="0" y="1775880"/>
              <a:chExt cx="6780960" cy="22176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1775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1775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1997640"/>
              <a:ext cx="6780960" cy="221760"/>
              <a:chOff x="0" y="1997640"/>
              <a:chExt cx="6780960" cy="2217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997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1997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2219760"/>
              <a:ext cx="6780960" cy="221760"/>
              <a:chOff x="0" y="2219760"/>
              <a:chExt cx="6780960" cy="22176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2219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219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, highestGrade = -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2441880"/>
              <a:ext cx="6780960" cy="221760"/>
              <a:chOff x="0" y="2441880"/>
              <a:chExt cx="6780960" cy="22176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2441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41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2663640"/>
              <a:ext cx="6780960" cy="221760"/>
              <a:chOff x="0" y="2663640"/>
              <a:chExt cx="6780960" cy="22176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2663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663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grade (enter end-of-file to end)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2885760"/>
              <a:ext cx="6780960" cy="221760"/>
              <a:chOff x="0" y="2885760"/>
              <a:chExt cx="6780960" cy="22176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2885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885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in &gt;&gt; grade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3107520"/>
              <a:ext cx="6780960" cy="221760"/>
              <a:chOff x="0" y="3107520"/>
              <a:chExt cx="6780960" cy="22176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3107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3107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 &gt; highestGrad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3329640"/>
              <a:ext cx="6780960" cy="221760"/>
              <a:chOff x="0" y="3329640"/>
              <a:chExt cx="6780960" cy="22176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3329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3329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highestGrade = grad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3551760"/>
              <a:ext cx="6780960" cy="221760"/>
              <a:chOff x="0" y="3551760"/>
              <a:chExt cx="6780960" cy="22176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3551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3551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3773520"/>
              <a:ext cx="6780960" cy="221760"/>
              <a:chOff x="0" y="3773520"/>
              <a:chExt cx="6780960" cy="22176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3773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3773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Enter grade (enter end-of-file to end)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3995640"/>
              <a:ext cx="6780960" cy="221760"/>
              <a:chOff x="0" y="3995640"/>
              <a:chExt cx="6780960" cy="22176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3995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3995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4217760"/>
              <a:ext cx="6780960" cy="221760"/>
              <a:chOff x="0" y="4217760"/>
              <a:chExt cx="6780960" cy="22176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4217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4217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4439520"/>
              <a:ext cx="6780960" cy="221760"/>
              <a:chOff x="0" y="4439520"/>
              <a:chExt cx="6780960" cy="22176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4439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4439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Highest grade is: " &lt;&lt; highestGrad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4661640"/>
              <a:ext cx="6780960" cy="221760"/>
              <a:chOff x="0" y="4661640"/>
              <a:chExt cx="6780960" cy="22176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4661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4661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0" y="4883760"/>
              <a:ext cx="6780960" cy="221760"/>
              <a:chOff x="0" y="4883760"/>
              <a:chExt cx="6780960" cy="221760"/>
            </a:xfrm>
          </p:grpSpPr>
          <p:sp>
            <p:nvSpPr>
              <p:cNvPr id="236" name=""/>
              <p:cNvSpPr/>
              <p:nvPr/>
            </p:nvSpPr>
            <p:spPr>
              <a:xfrm>
                <a:off x="0" y="4883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883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0" y="530532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^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ighest grade is: 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lin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(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puts a character from stream (even white spaces) and return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( c 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puts a character from stream and stores it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lin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 Function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(array, size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s 3 arguments: array of characters, the size limit, and a delimiter ( defaul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‘\n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the array as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delimiter is encountered, it remains in the input str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 character is inserted in th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ess delimiter flushed from stream, it will stay t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line(array, siz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es 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get(buffer, siz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t it discards the delimiter from the stream and does not store it i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 character inserted into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Function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0" y="0"/>
            <a:ext cx="6780960" cy="4343400"/>
            <a:chOff x="0" y="0"/>
            <a:chExt cx="6780960" cy="4343400"/>
          </a:xfrm>
        </p:grpSpPr>
        <p:grpSp>
          <p:nvGrpSpPr>
            <p:cNvPr id="245" name=""/>
            <p:cNvGrpSpPr/>
            <p:nvPr/>
          </p:nvGrpSpPr>
          <p:grpSpPr>
            <a:xfrm>
              <a:off x="0" y="0"/>
              <a:ext cx="6780960" cy="197280"/>
              <a:chOff x="0" y="0"/>
              <a:chExt cx="6780960" cy="19728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2: fig11_1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0" y="197280"/>
              <a:ext cx="6780960" cy="197280"/>
              <a:chOff x="0" y="197280"/>
              <a:chExt cx="6780960" cy="1972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1972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1972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member functions get, put and eof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0" y="394560"/>
              <a:ext cx="6780960" cy="197280"/>
              <a:chOff x="0" y="394560"/>
              <a:chExt cx="6780960" cy="197280"/>
            </a:xfrm>
          </p:grpSpPr>
          <p:sp>
            <p:nvSpPr>
              <p:cNvPr id="252" name=""/>
              <p:cNvSpPr/>
              <p:nvPr/>
            </p:nvSpPr>
            <p:spPr>
              <a:xfrm>
                <a:off x="0" y="3945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3945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0" y="592200"/>
              <a:ext cx="6780960" cy="197280"/>
              <a:chOff x="0" y="592200"/>
              <a:chExt cx="6780960" cy="197280"/>
            </a:xfrm>
          </p:grpSpPr>
          <p:sp>
            <p:nvSpPr>
              <p:cNvPr id="255" name=""/>
              <p:cNvSpPr/>
              <p:nvPr/>
            </p:nvSpPr>
            <p:spPr>
              <a:xfrm>
                <a:off x="0" y="5922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5922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789480"/>
              <a:ext cx="6780960" cy="197280"/>
              <a:chOff x="0" y="789480"/>
              <a:chExt cx="6780960" cy="19728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7894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7894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0" y="987120"/>
              <a:ext cx="6780960" cy="197280"/>
              <a:chOff x="0" y="987120"/>
              <a:chExt cx="6780960" cy="197280"/>
            </a:xfrm>
          </p:grpSpPr>
          <p:sp>
            <p:nvSpPr>
              <p:cNvPr id="261" name=""/>
              <p:cNvSpPr/>
              <p:nvPr/>
            </p:nvSpPr>
            <p:spPr>
              <a:xfrm>
                <a:off x="0" y="9871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9871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0" y="1184400"/>
              <a:ext cx="6780960" cy="197280"/>
              <a:chOff x="0" y="1184400"/>
              <a:chExt cx="6780960" cy="197280"/>
            </a:xfrm>
          </p:grpSpPr>
          <p:sp>
            <p:nvSpPr>
              <p:cNvPr id="264" name=""/>
              <p:cNvSpPr/>
              <p:nvPr/>
            </p:nvSpPr>
            <p:spPr>
              <a:xfrm>
                <a:off x="0" y="11844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11844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0" y="1382040"/>
              <a:ext cx="6780960" cy="197280"/>
              <a:chOff x="0" y="1382040"/>
              <a:chExt cx="6780960" cy="197280"/>
            </a:xfrm>
          </p:grpSpPr>
          <p:sp>
            <p:nvSpPr>
              <p:cNvPr id="267" name=""/>
              <p:cNvSpPr/>
              <p:nvPr/>
            </p:nvSpPr>
            <p:spPr>
              <a:xfrm>
                <a:off x="0" y="13820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13820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0" y="1579320"/>
              <a:ext cx="6780960" cy="197280"/>
              <a:chOff x="0" y="1579320"/>
              <a:chExt cx="6780960" cy="197280"/>
            </a:xfrm>
          </p:grpSpPr>
          <p:sp>
            <p:nvSpPr>
              <p:cNvPr id="270" name=""/>
              <p:cNvSpPr/>
              <p:nvPr/>
            </p:nvSpPr>
            <p:spPr>
              <a:xfrm>
                <a:off x="0" y="15793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15793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0" y="1776600"/>
              <a:ext cx="6780960" cy="197280"/>
              <a:chOff x="0" y="1776600"/>
              <a:chExt cx="6780960" cy="197280"/>
            </a:xfrm>
          </p:grpSpPr>
          <p:sp>
            <p:nvSpPr>
              <p:cNvPr id="273" name=""/>
              <p:cNvSpPr/>
              <p:nvPr/>
            </p:nvSpPr>
            <p:spPr>
              <a:xfrm>
                <a:off x="0" y="17766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17766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0" y="1974240"/>
              <a:ext cx="6780960" cy="197280"/>
              <a:chOff x="0" y="1974240"/>
              <a:chExt cx="6780960" cy="19728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19742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19742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har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0" y="2171880"/>
              <a:ext cx="6780960" cy="197280"/>
              <a:chOff x="0" y="2171880"/>
              <a:chExt cx="6780960" cy="19728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21718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21718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2369160"/>
              <a:ext cx="6780960" cy="197280"/>
              <a:chOff x="0" y="2369160"/>
              <a:chExt cx="6780960" cy="19728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23691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23691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efore input, cin.eof() is " &lt;&lt; cin.eof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0" y="2566440"/>
              <a:ext cx="6780960" cy="197280"/>
              <a:chOff x="0" y="2566440"/>
              <a:chExt cx="6780960" cy="19728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25664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25664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Enter a sentence followed by end-of-fil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0" y="2764080"/>
              <a:ext cx="6780960" cy="197280"/>
              <a:chOff x="0" y="2764080"/>
              <a:chExt cx="6780960" cy="19728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27640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27640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0" y="2961360"/>
              <a:ext cx="6780960" cy="197280"/>
              <a:chOff x="0" y="2961360"/>
              <a:chExt cx="6780960" cy="19728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29613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29613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 = cin.get() ) != EO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0" y="3159000"/>
              <a:ext cx="6780960" cy="197280"/>
              <a:chOff x="0" y="3159000"/>
              <a:chExt cx="6780960" cy="197280"/>
            </a:xfrm>
          </p:grpSpPr>
          <p:sp>
            <p:nvSpPr>
              <p:cNvPr id="294" name=""/>
              <p:cNvSpPr/>
              <p:nvPr/>
            </p:nvSpPr>
            <p:spPr>
              <a:xfrm>
                <a:off x="0" y="31590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31590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.put( 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0" y="3356280"/>
              <a:ext cx="6780960" cy="197280"/>
              <a:chOff x="0" y="3356280"/>
              <a:chExt cx="6780960" cy="19728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33562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33562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0" y="3553560"/>
              <a:ext cx="6780960" cy="197280"/>
              <a:chOff x="0" y="3553560"/>
              <a:chExt cx="6780960" cy="197280"/>
            </a:xfrm>
          </p:grpSpPr>
          <p:sp>
            <p:nvSpPr>
              <p:cNvPr id="300" name=""/>
              <p:cNvSpPr/>
              <p:nvPr/>
            </p:nvSpPr>
            <p:spPr>
              <a:xfrm>
                <a:off x="0" y="35535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35535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EOF in this system is: " &lt;&l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0" y="3751200"/>
              <a:ext cx="6780960" cy="197280"/>
              <a:chOff x="0" y="3751200"/>
              <a:chExt cx="6780960" cy="197280"/>
            </a:xfrm>
          </p:grpSpPr>
          <p:sp>
            <p:nvSpPr>
              <p:cNvPr id="303" name=""/>
              <p:cNvSpPr/>
              <p:nvPr/>
            </p:nvSpPr>
            <p:spPr>
              <a:xfrm>
                <a:off x="0" y="37512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37512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fter input, cin.eof() is " &lt;&lt; cin.eof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0" y="3948480"/>
              <a:ext cx="6780960" cy="197280"/>
              <a:chOff x="0" y="3948480"/>
              <a:chExt cx="6780960" cy="197280"/>
            </a:xfrm>
          </p:grpSpPr>
          <p:sp>
            <p:nvSpPr>
              <p:cNvPr id="306" name=""/>
              <p:cNvSpPr/>
              <p:nvPr/>
            </p:nvSpPr>
            <p:spPr>
              <a:xfrm>
                <a:off x="0" y="39484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39484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0" y="4146120"/>
              <a:ext cx="6780960" cy="197280"/>
              <a:chOff x="0" y="4146120"/>
              <a:chExt cx="6780960" cy="19728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41461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41461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>
            <a:off x="0" y="472428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fore input, cin.eof()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entence followed by end-of-fi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ing the get and put member functions^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ing the get and put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 in this system is: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put cin.eof() i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743200" y="2590560"/>
            <a:ext cx="4952880" cy="2210040"/>
            <a:chOff x="2743200" y="2590560"/>
            <a:chExt cx="4952880" cy="2210040"/>
          </a:xfrm>
        </p:grpSpPr>
        <p:sp>
          <p:nvSpPr>
            <p:cNvPr id="313" name=""/>
            <p:cNvSpPr/>
            <p:nvPr/>
          </p:nvSpPr>
          <p:spPr>
            <a:xfrm flipH="1" flipV="1">
              <a:off x="4952880" y="259056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743200" y="3581280"/>
              <a:ext cx="22096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67080" y="320040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n.eof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 (0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 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514240" y="3200400"/>
            <a:ext cx="5791680" cy="1571400"/>
            <a:chOff x="2514240" y="3200400"/>
            <a:chExt cx="5791680" cy="1571400"/>
          </a:xfrm>
        </p:grpSpPr>
        <p:sp>
          <p:nvSpPr>
            <p:cNvPr id="317" name=""/>
            <p:cNvSpPr/>
            <p:nvPr/>
          </p:nvSpPr>
          <p:spPr>
            <a:xfrm>
              <a:off x="4495680" y="4191120"/>
              <a:ext cx="3810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n.get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the next character from input stream, including whitesp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2514240" y="3200400"/>
              <a:ext cx="1981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 Introduc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C++ I/O features are object-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references, function overloading and operator overload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 us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safe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/O operation is automatically performed in a manner sensitive to the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may specify I/O of user-defined types as well as standar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Function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0"/>
            <a:ext cx="6780960" cy="4266720"/>
            <a:chOff x="0" y="0"/>
            <a:chExt cx="6780960" cy="4266720"/>
          </a:xfrm>
        </p:grpSpPr>
        <p:grpSp>
          <p:nvGrpSpPr>
            <p:cNvPr id="321" name=""/>
            <p:cNvGrpSpPr/>
            <p:nvPr/>
          </p:nvGrpSpPr>
          <p:grpSpPr>
            <a:xfrm>
              <a:off x="0" y="0"/>
              <a:ext cx="6780960" cy="224280"/>
              <a:chOff x="0" y="0"/>
              <a:chExt cx="6780960" cy="22428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4: fig11_14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224280"/>
              <a:ext cx="6780960" cy="224280"/>
              <a:chOff x="0" y="224280"/>
              <a:chExt cx="6780960" cy="22428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2242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242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haracter input with member function getlin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448920"/>
              <a:ext cx="6780960" cy="224640"/>
              <a:chOff x="0" y="448920"/>
              <a:chExt cx="6780960" cy="22464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4489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4489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673560"/>
              <a:ext cx="6780960" cy="224280"/>
              <a:chOff x="0" y="673560"/>
              <a:chExt cx="6780960" cy="22428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6735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6735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898200"/>
              <a:ext cx="6780960" cy="224280"/>
              <a:chOff x="0" y="898200"/>
              <a:chExt cx="6780960" cy="22428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8982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8982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1122840"/>
              <a:ext cx="6780960" cy="224280"/>
              <a:chOff x="0" y="1122840"/>
              <a:chExt cx="6780960" cy="22428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11228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11228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1347480"/>
              <a:ext cx="6780960" cy="224640"/>
              <a:chOff x="0" y="1347480"/>
              <a:chExt cx="6780960" cy="22464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13474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13474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1572120"/>
              <a:ext cx="6780960" cy="224280"/>
              <a:chOff x="0" y="1572120"/>
              <a:chExt cx="6780960" cy="22428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15721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15721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1796760"/>
              <a:ext cx="6780960" cy="224280"/>
              <a:chOff x="0" y="1796760"/>
              <a:chExt cx="6780960" cy="22428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17967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17967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2021040"/>
              <a:ext cx="6780960" cy="224280"/>
              <a:chOff x="0" y="2021040"/>
              <a:chExt cx="6780960" cy="22428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20210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20210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2245680"/>
              <a:ext cx="6780960" cy="224640"/>
              <a:chOff x="0" y="2245680"/>
              <a:chExt cx="6780960" cy="22464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2456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2456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= 8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2470320"/>
              <a:ext cx="6780960" cy="224280"/>
              <a:chOff x="0" y="2470320"/>
              <a:chExt cx="6780960" cy="22428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24703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24703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ffer[ SIZE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2694960"/>
              <a:ext cx="6780960" cy="224280"/>
              <a:chOff x="0" y="2694960"/>
              <a:chExt cx="6780960" cy="22428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26949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26949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2919600"/>
              <a:ext cx="6780960" cy="224280"/>
              <a:chOff x="0" y="2919600"/>
              <a:chExt cx="6780960" cy="22428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29196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29196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sentenc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3144240"/>
              <a:ext cx="6780960" cy="224640"/>
              <a:chOff x="0" y="3144240"/>
              <a:chExt cx="6780960" cy="22464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314424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14424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.getline( buffer,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3368880"/>
              <a:ext cx="6780960" cy="224280"/>
              <a:chOff x="0" y="3368880"/>
              <a:chExt cx="6780960" cy="22428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33688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33688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3593520"/>
              <a:ext cx="6780960" cy="224280"/>
              <a:chOff x="0" y="3593520"/>
              <a:chExt cx="6780960" cy="22428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35935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35935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he sentence entered is:\n" &lt;&lt; buffer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3818160"/>
              <a:ext cx="6780960" cy="224280"/>
              <a:chOff x="0" y="3818160"/>
              <a:chExt cx="6780960" cy="22428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38181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38181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4042440"/>
              <a:ext cx="6780960" cy="224280"/>
              <a:chOff x="0" y="4042440"/>
              <a:chExt cx="6780960" cy="22428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40424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0424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"/>
          <p:cNvSpPr/>
          <p:nvPr/>
        </p:nvSpPr>
        <p:spPr>
          <a:xfrm>
            <a:off x="0" y="464832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ent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getline memb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entence entered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getline memb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stream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 Functions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eek, putback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gnore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gn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s over a designated number of characters (default of on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s upon encountering a designated delimiter (defaul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ips to the end of the f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tb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s the previous character obtain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ck in to the str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next character from the stream without removing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4    Type-Safe I/O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oaded to accept data of different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nexpected data encountered, error flags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stays i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5   Unformatted I/O with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read, gcount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d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 write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formatted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/output raw bytes to or from a character array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data is unformatted, the functions will not terminate at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aracter for exampl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ead, lik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y continue to process a designated number of charac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fewer than the designated number of characters are read, then the failbit is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total number of characters read in the last input 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0"/>
            <a:ext cx="6780960" cy="4191120"/>
            <a:chOff x="0" y="0"/>
            <a:chExt cx="6780960" cy="4191120"/>
          </a:xfrm>
        </p:grpSpPr>
        <p:grpSp>
          <p:nvGrpSpPr>
            <p:cNvPr id="387" name=""/>
            <p:cNvGrpSpPr/>
            <p:nvPr/>
          </p:nvGrpSpPr>
          <p:grpSpPr>
            <a:xfrm>
              <a:off x="0" y="0"/>
              <a:ext cx="6780960" cy="209520"/>
              <a:chOff x="0" y="0"/>
              <a:chExt cx="6780960" cy="20952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5: fig11_15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209520"/>
              <a:ext cx="6780960" cy="209520"/>
              <a:chOff x="0" y="209520"/>
              <a:chExt cx="6780960" cy="20952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209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209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nformatted I/O with read, gcount and writ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419040"/>
              <a:ext cx="6780960" cy="209520"/>
              <a:chOff x="0" y="419040"/>
              <a:chExt cx="6780960" cy="20952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419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419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628560"/>
              <a:ext cx="6780960" cy="209520"/>
              <a:chOff x="0" y="628560"/>
              <a:chExt cx="6780960" cy="20952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628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628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838080"/>
              <a:ext cx="6780960" cy="209520"/>
              <a:chOff x="0" y="838080"/>
              <a:chExt cx="6780960" cy="20952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838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838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1047600"/>
              <a:ext cx="6780960" cy="209520"/>
              <a:chOff x="0" y="1047600"/>
              <a:chExt cx="6780960" cy="20952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1047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1047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1257120"/>
              <a:ext cx="6780960" cy="209520"/>
              <a:chOff x="0" y="1257120"/>
              <a:chExt cx="6780960" cy="20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12571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12571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1467000"/>
              <a:ext cx="6780960" cy="209520"/>
              <a:chOff x="0" y="1467000"/>
              <a:chExt cx="6780960" cy="20952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14670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14670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1676520"/>
              <a:ext cx="6780960" cy="209520"/>
              <a:chOff x="0" y="1676520"/>
              <a:chExt cx="6780960" cy="20952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1676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76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1886040"/>
              <a:ext cx="6780960" cy="209520"/>
              <a:chOff x="0" y="1886040"/>
              <a:chExt cx="6780960" cy="20952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1886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1886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2095560"/>
              <a:ext cx="6780960" cy="209520"/>
              <a:chOff x="0" y="2095560"/>
              <a:chExt cx="6780960" cy="20952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2095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2095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= 8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2305080"/>
              <a:ext cx="6780960" cy="209520"/>
              <a:chOff x="0" y="2305080"/>
              <a:chExt cx="6780960" cy="20952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2305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2305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ffer[ SIZE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2514600"/>
              <a:ext cx="6780960" cy="209520"/>
              <a:chOff x="0" y="2514600"/>
              <a:chExt cx="6780960" cy="20952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2514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2514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2724120"/>
              <a:ext cx="6780960" cy="209520"/>
              <a:chOff x="0" y="2724120"/>
              <a:chExt cx="6780960" cy="20952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27241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27241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sentenc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2933640"/>
              <a:ext cx="6780960" cy="209520"/>
              <a:chOff x="0" y="2933640"/>
              <a:chExt cx="6780960" cy="20952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29336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29336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.read( buffer, 2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3143520"/>
              <a:ext cx="6780960" cy="209520"/>
              <a:chOff x="0" y="3143520"/>
              <a:chExt cx="6780960" cy="20952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3143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3143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he sentence entered wa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3353040"/>
              <a:ext cx="6780960" cy="209520"/>
              <a:chOff x="0" y="3353040"/>
              <a:chExt cx="6780960" cy="20952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3353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3353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write( buffer, cin.gcount(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3562560"/>
              <a:ext cx="6780960" cy="209520"/>
              <a:chOff x="0" y="3562560"/>
              <a:chExt cx="6780960" cy="2095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3562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3562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3772080"/>
              <a:ext cx="6780960" cy="209520"/>
              <a:chOff x="0" y="3772080"/>
              <a:chExt cx="6780960" cy="20952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3772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3772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3981600"/>
              <a:ext cx="6780960" cy="209520"/>
              <a:chOff x="0" y="3981600"/>
              <a:chExt cx="6780960" cy="20952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3981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3981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0" y="457200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ent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read, write, and gcount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entence entered w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read, w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819160" y="2778120"/>
            <a:ext cx="5410440" cy="337320"/>
            <a:chOff x="2819160" y="2778120"/>
            <a:chExt cx="5410440" cy="337320"/>
          </a:xfrm>
        </p:grpSpPr>
        <p:sp>
          <p:nvSpPr>
            <p:cNvPr id="449" name=""/>
            <p:cNvSpPr/>
            <p:nvPr/>
          </p:nvSpPr>
          <p:spPr>
            <a:xfrm flipH="1">
              <a:off x="2819160" y="2971800"/>
              <a:ext cx="2057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00600" y="277812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 reads fir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harac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057040" y="3508200"/>
            <a:ext cx="6401160" cy="1749600"/>
            <a:chOff x="2057040" y="3508200"/>
            <a:chExt cx="6401160" cy="1749600"/>
          </a:xfrm>
        </p:grpSpPr>
        <p:sp>
          <p:nvSpPr>
            <p:cNvPr id="452" name=""/>
            <p:cNvSpPr/>
            <p:nvPr/>
          </p:nvSpPr>
          <p:spPr>
            <a:xfrm>
              <a:off x="5029200" y="350820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.count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cause that was the number of characters read by the last input ope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3504960" y="365724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057040" y="3962520"/>
              <a:ext cx="2971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  Stream Manipulato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am manipulator capabilit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field width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pr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and unsetting format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fill character in fiel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shing strea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ing a newline in the output stream and flushing the stream inserting a null character in the output stream and skipping whitespace in the input stre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.1  Integral Stream Base: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ec, oct, hex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 setbase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ct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ex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base of which integers are interpreted from the strea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 = 1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hex &lt;&lt;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F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base of integer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s an integer argumen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setbase(16) &lt;&lt;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ized stream manipulator - takes an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 numb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in hex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Output in octa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2 Output in decima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61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6: fig11_16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hex, oct, dec and setbase stream manipulato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he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de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c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bas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decimal numb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n &lt;&lt; " in hexadecimal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hex &lt;&lt; n &lt;&lt; '\n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dec &lt;&lt; n &lt;&lt; " in octal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oct &lt;&lt; n &lt;&lt; '\n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base( 10 ) &lt;&lt; n &lt;&lt; " in decimal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n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552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4053240" y="428796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decimal number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87440" y="4876920"/>
            <a:ext cx="23752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hexadecimal is: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57000" y="5354640"/>
            <a:ext cx="18266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octal is: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277240" y="5791320"/>
            <a:ext cx="21009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decimal is: 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decimal number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hexadecimal is: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octal is: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decimal is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.2   Floating-Point Precision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(precision, setprecision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eci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number of digits to the right of decim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recision(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recision(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current precision se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ized stream manip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all parameterized stream manipulators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preci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setprecision(2) &lt;&lt;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both methods, changes last until a different value is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Stream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ransfer of information in the form of a sequence of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Op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 A stream that flows from an input device ( i.e.: keyboard, disk drive, network connection) to 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A stream that flows from main memory to an output device ( i.e.: screen, printer, disk drive, network connectio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.3     Field Width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(setw,width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 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field width (number of character positions a value should be output or number of characters that should be 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previous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values processed are smaller than width, fill characters inserted as pad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s are not truncated - full number pri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width(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eam manip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 &gt;&gt; setw(5) &gt;&gt; str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to reserve one space for the null 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 sent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Set width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Loop and change width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566" name=""/>
            <p:cNvGrpSpPr/>
            <p:nvPr/>
          </p:nvGrpSpPr>
          <p:grpSpPr>
            <a:xfrm>
              <a:off x="0" y="0"/>
              <a:ext cx="6780960" cy="306720"/>
              <a:chOff x="0" y="0"/>
              <a:chExt cx="6780960" cy="306720"/>
            </a:xfrm>
          </p:grpSpPr>
          <p:sp>
            <p:nvSpPr>
              <p:cNvPr id="567" name=""/>
              <p:cNvSpPr/>
              <p:nvPr/>
            </p:nvSpPr>
            <p:spPr>
              <a:xfrm>
                <a:off x="0" y="0"/>
                <a:ext cx="6780960" cy="30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0"/>
                <a:ext cx="6780960" cy="30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11_18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0" y="306720"/>
              <a:ext cx="6780960" cy="284760"/>
              <a:chOff x="0" y="306720"/>
              <a:chExt cx="6780960" cy="284760"/>
            </a:xfrm>
          </p:grpSpPr>
          <p:sp>
            <p:nvSpPr>
              <p:cNvPr id="570" name=""/>
              <p:cNvSpPr/>
              <p:nvPr/>
            </p:nvSpPr>
            <p:spPr>
              <a:xfrm>
                <a:off x="0" y="3067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3067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e width member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0" y="591480"/>
              <a:ext cx="6780960" cy="284760"/>
              <a:chOff x="0" y="591480"/>
              <a:chExt cx="6780960" cy="28476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5914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5914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0" y="876600"/>
              <a:ext cx="6780960" cy="284760"/>
              <a:chOff x="0" y="876600"/>
              <a:chExt cx="6780960" cy="28476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8766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8766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0" y="1161360"/>
              <a:ext cx="6780960" cy="284760"/>
              <a:chOff x="0" y="1161360"/>
              <a:chExt cx="6780960" cy="28476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11613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11613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0" y="1446120"/>
              <a:ext cx="6780960" cy="284760"/>
              <a:chOff x="0" y="1446120"/>
              <a:chExt cx="6780960" cy="284760"/>
            </a:xfrm>
          </p:grpSpPr>
          <p:sp>
            <p:nvSpPr>
              <p:cNvPr id="582" name=""/>
              <p:cNvSpPr/>
              <p:nvPr/>
            </p:nvSpPr>
            <p:spPr>
              <a:xfrm>
                <a:off x="0" y="14461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14461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0" y="1730880"/>
              <a:ext cx="6780960" cy="284760"/>
              <a:chOff x="0" y="1730880"/>
              <a:chExt cx="6780960" cy="284760"/>
            </a:xfrm>
          </p:grpSpPr>
          <p:sp>
            <p:nvSpPr>
              <p:cNvPr id="585" name=""/>
              <p:cNvSpPr/>
              <p:nvPr/>
            </p:nvSpPr>
            <p:spPr>
              <a:xfrm>
                <a:off x="0" y="17308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17308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0" y="2016000"/>
              <a:ext cx="6780960" cy="284760"/>
              <a:chOff x="0" y="2016000"/>
              <a:chExt cx="6780960" cy="284760"/>
            </a:xfrm>
          </p:grpSpPr>
          <p:sp>
            <p:nvSpPr>
              <p:cNvPr id="588" name=""/>
              <p:cNvSpPr/>
              <p:nvPr/>
            </p:nvSpPr>
            <p:spPr>
              <a:xfrm>
                <a:off x="0" y="20160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20160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0" y="2300760"/>
              <a:ext cx="6780960" cy="284760"/>
              <a:chOff x="0" y="2300760"/>
              <a:chExt cx="6780960" cy="28476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23007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23007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0" y="2585520"/>
              <a:ext cx="6780960" cy="284760"/>
              <a:chOff x="0" y="2585520"/>
              <a:chExt cx="6780960" cy="284760"/>
            </a:xfrm>
          </p:grpSpPr>
          <p:sp>
            <p:nvSpPr>
              <p:cNvPr id="594" name=""/>
              <p:cNvSpPr/>
              <p:nvPr/>
            </p:nvSpPr>
            <p:spPr>
              <a:xfrm>
                <a:off x="0" y="25855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25855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0" y="2870280"/>
              <a:ext cx="6780960" cy="284760"/>
              <a:chOff x="0" y="2870280"/>
              <a:chExt cx="6780960" cy="28476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28702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28702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 = 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3155040"/>
              <a:ext cx="6780960" cy="284760"/>
              <a:chOff x="0" y="3155040"/>
              <a:chExt cx="6780960" cy="28476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31550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31550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ring[ 1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3439800"/>
              <a:ext cx="6780960" cy="284760"/>
              <a:chOff x="0" y="3439800"/>
              <a:chExt cx="6780960" cy="28476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34398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34398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3724920"/>
              <a:ext cx="6780960" cy="284760"/>
              <a:chOff x="0" y="3724920"/>
              <a:chExt cx="6780960" cy="28476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37249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37249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sentenc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4009680"/>
              <a:ext cx="6780960" cy="284760"/>
              <a:chOff x="0" y="4009680"/>
              <a:chExt cx="6780960" cy="28476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40096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40096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.width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0" y="4294440"/>
              <a:ext cx="6780960" cy="284760"/>
              <a:chOff x="0" y="4294440"/>
              <a:chExt cx="6780960" cy="284760"/>
            </a:xfrm>
          </p:grpSpPr>
          <p:sp>
            <p:nvSpPr>
              <p:cNvPr id="612" name=""/>
              <p:cNvSpPr/>
              <p:nvPr/>
            </p:nvSpPr>
            <p:spPr>
              <a:xfrm>
                <a:off x="0" y="42944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42944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0" y="4579200"/>
              <a:ext cx="6780960" cy="284760"/>
              <a:chOff x="0" y="4579200"/>
              <a:chExt cx="6780960" cy="28476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45792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45792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in &gt;&gt; string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0" y="4863960"/>
              <a:ext cx="6780960" cy="284760"/>
              <a:chOff x="0" y="4863960"/>
              <a:chExt cx="6780960" cy="28476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48639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48639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.width( w++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0" y="5149080"/>
              <a:ext cx="6780960" cy="284760"/>
              <a:chOff x="0" y="5149080"/>
              <a:chExt cx="6780960" cy="284760"/>
            </a:xfrm>
          </p:grpSpPr>
          <p:sp>
            <p:nvSpPr>
              <p:cNvPr id="621" name=""/>
              <p:cNvSpPr/>
              <p:nvPr/>
            </p:nvSpPr>
            <p:spPr>
              <a:xfrm>
                <a:off x="0" y="51490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51490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tring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0" y="5433840"/>
              <a:ext cx="6780960" cy="284760"/>
              <a:chOff x="0" y="5433840"/>
              <a:chExt cx="6780960" cy="284760"/>
            </a:xfrm>
          </p:grpSpPr>
          <p:sp>
            <p:nvSpPr>
              <p:cNvPr id="624" name=""/>
              <p:cNvSpPr/>
              <p:nvPr/>
            </p:nvSpPr>
            <p:spPr>
              <a:xfrm>
                <a:off x="0" y="54338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54338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in.width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0" y="5718600"/>
              <a:ext cx="6780960" cy="284760"/>
              <a:chOff x="0" y="5718600"/>
              <a:chExt cx="6780960" cy="28476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57186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57186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0" y="6003360"/>
              <a:ext cx="6780960" cy="284760"/>
              <a:chOff x="0" y="6003360"/>
              <a:chExt cx="6780960" cy="28476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60033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60033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0" y="6288120"/>
              <a:ext cx="6780960" cy="284760"/>
              <a:chOff x="0" y="6288120"/>
              <a:chExt cx="6780960" cy="28476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62881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62881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6572880"/>
              <a:ext cx="6780960" cy="284760"/>
              <a:chOff x="0" y="6572880"/>
              <a:chExt cx="6780960" cy="28476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65728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65728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0"/>
            <a:ext cx="678168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ent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 is a test of the width memb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.4  User-Defined Manipulato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create our own 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arriage retur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ized 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ult installation man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   Stream Format Stat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fla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 formatting to be performed during stream I/O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a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s that control the flag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1  Format State Flag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State Fla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as an enumeration in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ontrolled by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ags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es a value representing the settings of all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containing prior 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argument, "ors" flags with existing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etf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sets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iosfla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ized stream manipulator used to se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etiosfla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arameterized stream manipulator, has same functi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e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gs can be combined using bitwise or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2   Trailing Zeros and Decimal Points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os::showpoin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::show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ces a float with an integer value to be printed with its decimal point and trailing z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t.setf(ios::show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t &lt;&lt; 7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print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9.00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zeros determined by precision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3   Justification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os::left, ios::right, ios::intern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 to left-justified with padding characters to th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se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 right-justified with padding characters to the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used for padding set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meterized stream manipu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character i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3    Justification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os::left, ios::right, ios::intern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a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’s sign left-justifi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’s magnitude right-justifi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ing spaces padded with the fi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memb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a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st be the second argum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setting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stification fla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 ios::left, ios::adjustfiel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Use parameterized stream manipulato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54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2: fig11_2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eft-justification and right-justification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67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68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68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69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re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69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69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70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70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1234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70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70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efault is right justified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71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w(10) &lt;&lt; x &lt;&lt; "\n\nUSING MEMBER FUNCTIONS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71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Use setf to set ios::left:\n" &lt;&lt; setw(1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71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72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left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72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x &lt;&lt; "\nUse unsetf to restore default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72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unsetf( ios::lef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73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73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USING PARAMETERIZED STREAM MANIPULATORS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73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Use setiosflags to set ios::lef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73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w( 10 ) &lt;&lt; setiosflags( ios::left )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74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Use resetiosflags to restore defaul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74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w( 10 ) &lt;&lt; resetiosflags( ios::left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74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75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75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6" name=""/>
          <p:cNvSpPr/>
          <p:nvPr/>
        </p:nvSpPr>
        <p:spPr>
          <a:xfrm>
            <a:off x="5715000" y="3048120"/>
            <a:ext cx="29718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ault is right just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91320" y="3657600"/>
            <a:ext cx="27432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setf to set ios::lef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715000" y="4394160"/>
            <a:ext cx="32004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unsetf to restore 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57800" y="4419720"/>
            <a:ext cx="380988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PARAMETERIZED STREAM MANIP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setiosflags to set ios::lef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34120" y="5867280"/>
            <a:ext cx="373356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resetiosflags to restore 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operations are a 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ime for a stream to flow is many times larger than the time it takes the CPU to process the data in the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-level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forma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 byte unit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speed, high volume, but inconvenient for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-level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s grouped into meaningful units: integers, characte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for all I/O except high-volume fil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0"/>
            <a:ext cx="678168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ault is right just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setf to set ios::lef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unsetf to restore 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PARAMETERIZED STREAM MANIP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setiosflags to set ios::lef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resetiosflags to restore 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4   Padding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fill, setfil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the fi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ce is defaul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prior padding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fill( '*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i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nipul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sets fi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 &lt;&lt; setfill ('*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767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4: fig11_24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the fill member function and the setfi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nipulator to change the padding character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777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elds larger than the values being prin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780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783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786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789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he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de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fil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100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Set fill charact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0" y="0"/>
            <a:ext cx="6780960" cy="4647960"/>
            <a:chOff x="0" y="0"/>
            <a:chExt cx="6780960" cy="4647960"/>
          </a:xfrm>
        </p:grpSpPr>
        <p:grpSp>
          <p:nvGrpSpPr>
            <p:cNvPr id="829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83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x &lt;&lt; " printed as int right and left justified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442440"/>
              <a:ext cx="6780960" cy="221400"/>
              <a:chOff x="0" y="442440"/>
              <a:chExt cx="6780960" cy="22140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4424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4424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and as hex with internal justification.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663840"/>
              <a:ext cx="6780960" cy="221040"/>
              <a:chOff x="0" y="663840"/>
              <a:chExt cx="6780960" cy="22104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66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66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Using the default pad character (space)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885240"/>
              <a:ext cx="6780960" cy="221040"/>
              <a:chOff x="0" y="885240"/>
              <a:chExt cx="6780960" cy="22104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885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885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showbas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1106640"/>
              <a:ext cx="6780960" cy="221040"/>
              <a:chOff x="0" y="1106640"/>
              <a:chExt cx="6780960" cy="22104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1106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1106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x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1328040"/>
              <a:ext cx="6780960" cy="221400"/>
              <a:chOff x="0" y="1328040"/>
              <a:chExt cx="6780960" cy="22140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1328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1328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left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1549440"/>
              <a:ext cx="6780960" cy="221040"/>
              <a:chOff x="0" y="1549440"/>
              <a:chExt cx="6780960" cy="22104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1549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1549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x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1770840"/>
              <a:ext cx="6780960" cy="221040"/>
              <a:chOff x="0" y="1770840"/>
              <a:chExt cx="6780960" cy="22104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1770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1770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internal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1991880"/>
              <a:ext cx="6780960" cy="221040"/>
              <a:chOff x="0" y="1991880"/>
              <a:chExt cx="6780960" cy="22104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1991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1991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hex &lt;&lt;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2213280"/>
              <a:ext cx="6780960" cy="221400"/>
              <a:chOff x="0" y="2213280"/>
              <a:chExt cx="6780960" cy="22140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22132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22132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2434680"/>
              <a:ext cx="6780960" cy="221040"/>
              <a:chOff x="0" y="2434680"/>
              <a:chExt cx="6780960" cy="22104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2434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2434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Using various padding character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2656080"/>
              <a:ext cx="6780960" cy="221040"/>
              <a:chOff x="0" y="2656080"/>
              <a:chExt cx="6780960" cy="22104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2656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2656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right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2877480"/>
              <a:ext cx="6780960" cy="221040"/>
              <a:chOff x="0" y="2877480"/>
              <a:chExt cx="6780960" cy="22104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2877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2877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fill( '*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3098880"/>
              <a:ext cx="6780960" cy="221400"/>
              <a:chOff x="0" y="3098880"/>
              <a:chExt cx="6780960" cy="22140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30988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30988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dec &lt;&lt; x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0" y="3320280"/>
              <a:ext cx="6780960" cy="221040"/>
              <a:chOff x="0" y="3320280"/>
              <a:chExt cx="6780960" cy="221040"/>
            </a:xfrm>
          </p:grpSpPr>
          <p:sp>
            <p:nvSpPr>
              <p:cNvPr id="875" name=""/>
              <p:cNvSpPr/>
              <p:nvPr/>
            </p:nvSpPr>
            <p:spPr>
              <a:xfrm>
                <a:off x="0" y="3320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3320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left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0" y="3541680"/>
              <a:ext cx="6780960" cy="221040"/>
              <a:chOff x="0" y="3541680"/>
              <a:chExt cx="6780960" cy="221040"/>
            </a:xfrm>
          </p:grpSpPr>
          <p:sp>
            <p:nvSpPr>
              <p:cNvPr id="878" name=""/>
              <p:cNvSpPr/>
              <p:nvPr/>
            </p:nvSpPr>
            <p:spPr>
              <a:xfrm>
                <a:off x="0" y="3541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3541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setfill( '%' ) &lt;&lt; x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0" y="3763080"/>
              <a:ext cx="6780960" cy="221040"/>
              <a:chOff x="0" y="3763080"/>
              <a:chExt cx="6780960" cy="221040"/>
            </a:xfrm>
          </p:grpSpPr>
          <p:sp>
            <p:nvSpPr>
              <p:cNvPr id="881" name=""/>
              <p:cNvSpPr/>
              <p:nvPr/>
            </p:nvSpPr>
            <p:spPr>
              <a:xfrm>
                <a:off x="0" y="3763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3763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internal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0" y="3984120"/>
              <a:ext cx="6780960" cy="221040"/>
              <a:chOff x="0" y="3984120"/>
              <a:chExt cx="6780960" cy="221040"/>
            </a:xfrm>
          </p:grpSpPr>
          <p:sp>
            <p:nvSpPr>
              <p:cNvPr id="884" name=""/>
              <p:cNvSpPr/>
              <p:nvPr/>
            </p:nvSpPr>
            <p:spPr>
              <a:xfrm>
                <a:off x="0" y="3984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3984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setfill( '^' ) &lt;&lt; hex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0" y="4205520"/>
              <a:ext cx="6780960" cy="221400"/>
              <a:chOff x="0" y="4205520"/>
              <a:chExt cx="6780960" cy="221400"/>
            </a:xfrm>
          </p:grpSpPr>
          <p:sp>
            <p:nvSpPr>
              <p:cNvPr id="887" name=""/>
              <p:cNvSpPr/>
              <p:nvPr/>
            </p:nvSpPr>
            <p:spPr>
              <a:xfrm>
                <a:off x="0" y="42055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2055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0" y="4426920"/>
              <a:ext cx="6780960" cy="221040"/>
              <a:chOff x="0" y="4426920"/>
              <a:chExt cx="6780960" cy="221040"/>
            </a:xfrm>
          </p:grpSpPr>
          <p:sp>
            <p:nvSpPr>
              <p:cNvPr id="890" name=""/>
              <p:cNvSpPr/>
              <p:nvPr/>
            </p:nvSpPr>
            <p:spPr>
              <a:xfrm>
                <a:off x="0" y="4426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4426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2" name=""/>
          <p:cNvSpPr/>
          <p:nvPr/>
        </p:nvSpPr>
        <p:spPr>
          <a:xfrm>
            <a:off x="0" y="4757760"/>
            <a:ext cx="678168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0 printed as int right and left just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d as hex with internal jus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default pad character (spac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0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x    27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various padding charac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1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0%%%%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x^^^^27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5- Integral Stream Base (ios::dec, ios::oct, ios::hex, ios::showbase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basefie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ic memb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similarly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o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h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de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ag b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 that integers are to be treated as octal, hexadecimal and decimal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is dec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for stream extractions depends on form inpu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s starting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reated as oc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s starting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reated as hexadec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a base specified, settings stay until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6  Floating-Point Numbers; Scientific Notation (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ios::scientific,ios::fixed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scient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 output of a floating point number in scientific 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946000e+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f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 floating point numbers to display a specific number of digits to the right of the decimal (specif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6  Floating-Point Numbers; Scientific Notation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memb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floatfie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scienti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similarly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basefiel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ios::scientific, ios::floatfiel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0, ios::floatfiel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tores default format for outputting floating-poin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Set fla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0" y="0"/>
            <a:ext cx="6780960" cy="5029200"/>
            <a:chOff x="0" y="0"/>
            <a:chExt cx="6780960" cy="5029200"/>
          </a:xfrm>
        </p:grpSpPr>
        <p:grpSp>
          <p:nvGrpSpPr>
            <p:cNvPr id="901" name=""/>
            <p:cNvGrpSpPr/>
            <p:nvPr/>
          </p:nvGrpSpPr>
          <p:grpSpPr>
            <a:xfrm>
              <a:off x="0" y="0"/>
              <a:ext cx="6780960" cy="193320"/>
              <a:chOff x="0" y="0"/>
              <a:chExt cx="6780960" cy="193320"/>
            </a:xfrm>
          </p:grpSpPr>
          <p:sp>
            <p:nvSpPr>
              <p:cNvPr id="902" name=""/>
              <p:cNvSpPr/>
              <p:nvPr/>
            </p:nvSpPr>
            <p:spPr>
              <a:xfrm>
                <a:off x="0" y="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6: fig11_26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0" y="193320"/>
              <a:ext cx="6780960" cy="193320"/>
              <a:chOff x="0" y="193320"/>
              <a:chExt cx="6780960" cy="19332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1933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1933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ing floating-point values in system defaul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386640"/>
              <a:ext cx="6780960" cy="193320"/>
              <a:chOff x="0" y="386640"/>
              <a:chExt cx="6780960" cy="19332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3866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3866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cientific, and fixed format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580320"/>
              <a:ext cx="6780960" cy="193320"/>
              <a:chOff x="0" y="580320"/>
              <a:chExt cx="6780960" cy="19332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5803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5803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773640"/>
              <a:ext cx="6780960" cy="193320"/>
              <a:chOff x="0" y="773640"/>
              <a:chExt cx="6780960" cy="19332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7736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7736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966960"/>
              <a:ext cx="6780960" cy="193320"/>
              <a:chOff x="0" y="966960"/>
              <a:chExt cx="6780960" cy="19332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9669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9669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0" y="1160280"/>
              <a:ext cx="6780960" cy="193320"/>
              <a:chOff x="0" y="1160280"/>
              <a:chExt cx="6780960" cy="193320"/>
            </a:xfrm>
          </p:grpSpPr>
          <p:sp>
            <p:nvSpPr>
              <p:cNvPr id="920" name=""/>
              <p:cNvSpPr/>
              <p:nvPr/>
            </p:nvSpPr>
            <p:spPr>
              <a:xfrm>
                <a:off x="0" y="1160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1160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0" y="1353960"/>
              <a:ext cx="6780960" cy="193320"/>
              <a:chOff x="0" y="1353960"/>
              <a:chExt cx="6780960" cy="19332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13539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13539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1547280"/>
              <a:ext cx="6780960" cy="193320"/>
              <a:chOff x="0" y="1547280"/>
              <a:chExt cx="6780960" cy="19332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1547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1547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1740600"/>
              <a:ext cx="6780960" cy="193320"/>
              <a:chOff x="0" y="1740600"/>
              <a:chExt cx="6780960" cy="19332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1740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1740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0" y="1934280"/>
              <a:ext cx="6780960" cy="193320"/>
              <a:chOff x="0" y="1934280"/>
              <a:chExt cx="6780960" cy="193320"/>
            </a:xfrm>
          </p:grpSpPr>
          <p:sp>
            <p:nvSpPr>
              <p:cNvPr id="932" name=""/>
              <p:cNvSpPr/>
              <p:nvPr/>
            </p:nvSpPr>
            <p:spPr>
              <a:xfrm>
                <a:off x="0" y="1934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1934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0" y="2127600"/>
              <a:ext cx="6780960" cy="193320"/>
              <a:chOff x="0" y="2127600"/>
              <a:chExt cx="6780960" cy="193320"/>
            </a:xfrm>
          </p:grpSpPr>
          <p:sp>
            <p:nvSpPr>
              <p:cNvPr id="935" name=""/>
              <p:cNvSpPr/>
              <p:nvPr/>
            </p:nvSpPr>
            <p:spPr>
              <a:xfrm>
                <a:off x="0" y="2127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2127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.001234567, y = 1.946e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0" y="2321280"/>
              <a:ext cx="6780960" cy="193320"/>
              <a:chOff x="0" y="2321280"/>
              <a:chExt cx="6780960" cy="193320"/>
            </a:xfrm>
          </p:grpSpPr>
          <p:sp>
            <p:nvSpPr>
              <p:cNvPr id="938" name=""/>
              <p:cNvSpPr/>
              <p:nvPr/>
            </p:nvSpPr>
            <p:spPr>
              <a:xfrm>
                <a:off x="0" y="2321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2321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0" y="2514600"/>
              <a:ext cx="6780960" cy="193320"/>
              <a:chOff x="0" y="2514600"/>
              <a:chExt cx="6780960" cy="193320"/>
            </a:xfrm>
          </p:grpSpPr>
          <p:sp>
            <p:nvSpPr>
              <p:cNvPr id="941" name=""/>
              <p:cNvSpPr/>
              <p:nvPr/>
            </p:nvSpPr>
            <p:spPr>
              <a:xfrm>
                <a:off x="0" y="2514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2514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splayed in default forma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0" y="2707920"/>
              <a:ext cx="6780960" cy="193320"/>
              <a:chOff x="0" y="2707920"/>
              <a:chExt cx="6780960" cy="193320"/>
            </a:xfrm>
          </p:grpSpPr>
          <p:sp>
            <p:nvSpPr>
              <p:cNvPr id="944" name=""/>
              <p:cNvSpPr/>
              <p:nvPr/>
            </p:nvSpPr>
            <p:spPr>
              <a:xfrm>
                <a:off x="0" y="27079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27079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'\t' &lt;&lt; y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0" y="2901600"/>
              <a:ext cx="6780960" cy="193320"/>
              <a:chOff x="0" y="2901600"/>
              <a:chExt cx="6780960" cy="19332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2901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2901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scientific, ios::floa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3094920"/>
              <a:ext cx="6780960" cy="193320"/>
              <a:chOff x="0" y="3094920"/>
              <a:chExt cx="6780960" cy="19332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30949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30949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splayed in scientific forma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3288240"/>
              <a:ext cx="6780960" cy="193320"/>
              <a:chOff x="0" y="3288240"/>
              <a:chExt cx="6780960" cy="19332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3288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3288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'\t' &lt;&lt; y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3481560"/>
              <a:ext cx="6780960" cy="193320"/>
              <a:chOff x="0" y="3481560"/>
              <a:chExt cx="6780960" cy="19332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3481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3481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unsetf( ios::scientifi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3675240"/>
              <a:ext cx="6780960" cy="193320"/>
              <a:chOff x="0" y="3675240"/>
              <a:chExt cx="6780960" cy="19332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3675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3675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splayed in default format after unsetf:\n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3868560"/>
              <a:ext cx="6780960" cy="193320"/>
              <a:chOff x="0" y="3868560"/>
              <a:chExt cx="6780960" cy="19332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3868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3868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'\t' &lt;&lt; y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4062240"/>
              <a:ext cx="6780960" cy="193320"/>
              <a:chOff x="0" y="4062240"/>
              <a:chExt cx="6780960" cy="19332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4062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4062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fixed, ios::floa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4255560"/>
              <a:ext cx="6780960" cy="193320"/>
              <a:chOff x="0" y="4255560"/>
              <a:chExt cx="6780960" cy="19332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4255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4255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splayed in fixed forma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4448880"/>
              <a:ext cx="6780960" cy="193320"/>
              <a:chOff x="0" y="4448880"/>
              <a:chExt cx="6780960" cy="19332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44488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44488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'\t' &lt;&lt; y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4642560"/>
              <a:ext cx="6780960" cy="193320"/>
              <a:chOff x="0" y="4642560"/>
              <a:chExt cx="6780960" cy="19332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4642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4642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4835880"/>
              <a:ext cx="6780960" cy="193320"/>
              <a:chOff x="0" y="4835880"/>
              <a:chExt cx="6780960" cy="19332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48358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48358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9" name=""/>
          <p:cNvSpPr/>
          <p:nvPr/>
        </p:nvSpPr>
        <p:spPr>
          <a:xfrm>
            <a:off x="0" y="5122800"/>
            <a:ext cx="6781680" cy="173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ed in default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.00123457      1.946e+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ed in scientific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234567e-003   1.946000e+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ed in default format after unset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.00123457      1.946e+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ed in fixed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.001235        1946000000.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7 Uppercase/Lowercase Control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os::uppercas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upper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 upper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output with scientific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.32E+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 upper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output with hexadecimal numbers, and causes all letters to be upper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5B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1.7.8  Setting and Resetting the Format Flags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flags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setiosflags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resetiosflag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)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a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argument, returns the current settings of the format flags (a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gument, sets the format flags as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prior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the format flags provided in its argu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previous flag settings a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 previousFlagSettings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 ios::showpoint | ios::showpos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.1 Iostream Library Header Fil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trea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iostream.h&gt;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n, cout, cerr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iomanip.h&gt;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ized stream manip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fstream.h&gt;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information important to user-controlled file processing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w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 ios::left, ios::adjustfield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s the bit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n se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os::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version of setf can be used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basefield (ios::dec, ios::oct, ios::h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floatfield (ios::scientific, ios::fix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 (ios::left, ios::right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internal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s specified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previous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80880" y="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1.7.8  Setting and Resetting the Format Flags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flags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setiosflags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resetiosflag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)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Set fla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88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8: fig11_28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e flags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019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022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10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025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 = 0.0947628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028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 of the flags variable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034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out.flag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Print int and double in original forma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040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i &lt;&lt; '\t' &lt;&lt; d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043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riginalFormat =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046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cout.flags( ios::oct | ios::scientifi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049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 of the flags variable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052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out.flag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055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Print int and double in a new forma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058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specified using the flags member functio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061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i &lt;&lt; '\t' &lt;&lt; d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064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flags( originalForma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067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 of the flags variable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070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out.flags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073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Print values in original format agai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076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i &lt;&lt; '\t' &lt;&lt; d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079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082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4" name=""/>
          <p:cNvSpPr/>
          <p:nvPr/>
        </p:nvSpPr>
        <p:spPr>
          <a:xfrm>
            <a:off x="5180760" y="3048120"/>
            <a:ext cx="35640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952880" y="3632040"/>
            <a:ext cx="396252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int and double in original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    0.09476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3352320" y="5276880"/>
            <a:ext cx="5715360" cy="580680"/>
            <a:chOff x="3352320" y="5276880"/>
            <a:chExt cx="5715360" cy="580680"/>
          </a:xfrm>
        </p:grpSpPr>
        <p:sp>
          <p:nvSpPr>
            <p:cNvPr id="1087" name=""/>
            <p:cNvSpPr/>
            <p:nvPr/>
          </p:nvSpPr>
          <p:spPr>
            <a:xfrm>
              <a:off x="5029200" y="5276880"/>
              <a:ext cx="4038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iginalForm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is the arg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flipV="1">
              <a:off x="3352320" y="5486400"/>
              <a:ext cx="16765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5124600" y="4267080"/>
            <a:ext cx="38383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4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495680" y="38149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int and double in a new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ed using the flags member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750    9.476280e-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180760" y="5583240"/>
            <a:ext cx="35640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962520" y="622296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values in original format ag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    0.09476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94" name=""/>
          <p:cNvSpPr/>
          <p:nvPr/>
        </p:nvSpPr>
        <p:spPr>
          <a:xfrm>
            <a:off x="0" y="0"/>
            <a:ext cx="678168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int and double in original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    0.09476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4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int and double in a new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ed using the flags member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750    9.476280e-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values in original format ag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    0.09476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8   Stream Error Stat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b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for an input stream after end-of-file encoun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end-of-file has been encountered 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for a stream when a format error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a stream operation has f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possible to recover from thes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8   Stream Error State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b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when an error occurs that results in data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stream operation fail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nonrecove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oodb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for a stream if neith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s would all return fal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/O operations should only be performed on “good” 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dsta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state of the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am can be tested with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 that examines all of the state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to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determin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8   Stream Error States (I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store a stream’s state to “goo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clear(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e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oo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stream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clear( ios::failbit 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l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ht do this when encountering a problem with a user-defined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ator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b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ator void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b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for fil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03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9: fig11_29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sting error stat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119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122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125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128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137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efore a bad input operation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in.rdstate(): " &lt;&lt; cin.rdstate()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cin.eof(): " &lt;&lt; cin.eof()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cin.fail(): " &lt;&lt; cin.fail()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cin.bad(): " &lt;&lt; cin.bad()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cin.good(): " &lt;&lt; cin.good()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Expects an integer, but enter a charact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161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164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fter a bad input operation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167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in.rdstate(): " &lt;&lt; cin.rdstate()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cin.eof(): " &lt;&lt; cin.eof()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cin.fail(): " &lt;&lt; cin.fail()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cin.bad(): " &lt;&lt; cin.bad()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cin.good(): " &lt;&lt; cin.good() &lt;&lt; "\n\n"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.clea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After cin.clear()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in.fail(): " &lt;&lt; cin.fail()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in.good(): " &lt;&lt; cin.good() &lt;&lt; endl;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5" name=""/>
          <p:cNvSpPr/>
          <p:nvPr/>
        </p:nvSpPr>
        <p:spPr>
          <a:xfrm>
            <a:off x="5791320" y="1905120"/>
            <a:ext cx="297180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fore a bad input ope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rdstate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690800" y="3754440"/>
            <a:ext cx="42040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ects an integer, but enter a 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943600" y="3676680"/>
            <a:ext cx="281952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a bad input ope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rdstate()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943600" y="5719680"/>
            <a:ext cx="190512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cin.clea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10" name=""/>
          <p:cNvSpPr/>
          <p:nvPr/>
        </p:nvSpPr>
        <p:spPr>
          <a:xfrm>
            <a:off x="0" y="0"/>
            <a:ext cx="6781680" cy="4109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fore a bad input ope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rdstate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ects an integer, but enter a 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a bad input ope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rdstate()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cin.clea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9  Tying an Output Stream to an Input Stream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operation of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s appear before subsequent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ally done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Stream.tie( &amp;outputStream );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tie( &amp;cout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ne 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Stream.tie( 0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an out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.2   Stream Input/Output Classes and Object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herit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eft-shift operator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am insertio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ight-shift operator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am extractio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with user-defined stream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.2    Stream Input/Output Classes and Object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strea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n &gt;&gt; some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nows what type of data is to be assigned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me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ased on the typ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me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strea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&lt; someVari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nows the type of data to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e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&lt; some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uffered.  Pri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me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mmediat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&lt; some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ed.  Pri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me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soon as output buffer is full or flus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    Stream Output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erforms formatted and unformatted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characters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unformatted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of numbers in decimal, octal and hexadec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ing precision for floating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ed text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.1   Stream-Insertion Operator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verloaded to output built-in 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be used to output user-defined typ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‘\n’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s newline 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stream manipulator that issues a newline character and flushes the output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flus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u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lushes the output buff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5:43:23Z</dcterms:created>
  <dc:creator>aftab bukhari</dc:creator>
  <dc:description/>
  <dc:language>en-US</dc:language>
  <cp:lastModifiedBy>Antonella Esposito</cp:lastModifiedBy>
  <dcterms:modified xsi:type="dcterms:W3CDTF">2001-01-12T10:46:45Z</dcterms:modified>
  <cp:revision>567</cp:revision>
  <dc:subject/>
  <dc:title>Chapter 11- C++ Stream Input/Output</dc:title>
</cp:coreProperties>
</file>