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EB11-5320-4AD0-9718-DDEDC39C6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019F-697A-4158-9230-BE3368D0E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589E-9BD6-4AE9-A9F8-FE0F8801F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4EE82-A36A-4CF5-88C1-CB0F529E5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5B99E-2EA2-4848-97D6-BA9CF75356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616A6-1C7A-4BAD-8606-E7A5982C9E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E03D6-0C2D-492F-AFD1-2C2530A7A0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3D2AE-2208-40B1-B547-5AB5FF912B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BC9FF-3C8B-4274-9DC3-F7A05F2988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33FD1-EC6D-42CF-AC6B-66DD574519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1F91C-AE54-40EB-A66E-77E3E599E3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DA82-7D5C-44AF-AA75-849FB27CD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AFBE7-F109-4ADA-ABF4-CE4D63E520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F4F96-AB9E-481B-8C3E-23AF06A441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5B463-E88C-48E0-A321-6F93F4B54B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B6CE9-0609-48BD-BEF0-5BEBC65002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5E22-F048-49C7-A3B6-F1549DB451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53A9-72C1-48E9-820D-34EDE5CEB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E916-386E-4DA2-A029-9A27E5307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62B3-709D-4286-B63A-1A0C79852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BA9F-EF26-4397-BBEB-6C9A0F867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8074-5596-4DD2-90BC-1B71185BF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6F77-DAB8-4B5B-93F6-A280E2144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3BF7-5344-4B1B-A733-97C1D5875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58F4-7BD0-4940-A380-1F94B2351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8A0F-7CFF-4267-8217-E521F6DD62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1295280"/>
            <a:ext cx="7772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(Constant) Objects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Member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position: Objects as Members of Class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riend Functions and friend Class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hi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Pointe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ynamic Memory Allocation with Operators new and 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tati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Class Memb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ata Abstraction and Information Hi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Array Abstract Data Typ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String Abstract Data Typ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Queue Abstract Data Typ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tainer Classes and It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xy Clas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olo 7: Classes Part II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5DF3-FB3D-435A-84A0-DB36172943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68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469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2: fig07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472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a member initializer to initializ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475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ant of a built-in data typ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478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481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484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487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490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493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creme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496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499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Incr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502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ddIncrement() { count += increme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505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508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511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514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517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cremen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520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523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526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or class Incr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529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Increment::Incr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532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increment( i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itializer for const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535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count = c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541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cremen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547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550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unt = " &lt;&lt;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553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, increment = " &lt;&lt; incremen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556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565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2209680" y="4419720"/>
            <a:ext cx="6019920" cy="1586880"/>
            <a:chOff x="2209680" y="4419720"/>
            <a:chExt cx="6019920" cy="1586880"/>
          </a:xfrm>
        </p:grpSpPr>
        <p:sp>
          <p:nvSpPr>
            <p:cNvPr id="568" name=""/>
            <p:cNvSpPr/>
            <p:nvPr/>
          </p:nvSpPr>
          <p:spPr>
            <a:xfrm flipH="1" flipV="1">
              <a:off x="2209680" y="4419720"/>
              <a:ext cx="3200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81480" y="4695840"/>
              <a:ext cx="30481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we try to initializ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ith an assignment statement (such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crement = 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) instead of a member initializer we get a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01480-78E2-45DA-839A-DB0F57EB26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0" y="0"/>
            <a:ext cx="6780960" cy="3276720"/>
            <a:chOff x="0" y="0"/>
            <a:chExt cx="6780960" cy="3276720"/>
          </a:xfrm>
        </p:grpSpPr>
        <p:grpSp>
          <p:nvGrpSpPr>
            <p:cNvPr id="572" name=""/>
            <p:cNvGrpSpPr/>
            <p:nvPr/>
          </p:nvGrpSpPr>
          <p:grpSpPr>
            <a:xfrm>
              <a:off x="0" y="0"/>
              <a:ext cx="6780960" cy="252000"/>
              <a:chOff x="0" y="0"/>
              <a:chExt cx="6780960" cy="25200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Increment value( 10,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0" y="252000"/>
              <a:ext cx="6780960" cy="252000"/>
              <a:chOff x="0" y="252000"/>
              <a:chExt cx="6780960" cy="25200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252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252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0" y="504000"/>
              <a:ext cx="6780960" cy="252000"/>
              <a:chOff x="0" y="504000"/>
              <a:chExt cx="6780960" cy="25200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504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504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Before incrementing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0" y="756000"/>
              <a:ext cx="6780960" cy="252000"/>
              <a:chOff x="0" y="756000"/>
              <a:chExt cx="6780960" cy="252000"/>
            </a:xfrm>
          </p:grpSpPr>
          <p:sp>
            <p:nvSpPr>
              <p:cNvPr id="582" name=""/>
              <p:cNvSpPr/>
              <p:nvPr/>
            </p:nvSpPr>
            <p:spPr>
              <a:xfrm>
                <a:off x="0" y="756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756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alu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0" y="1008000"/>
              <a:ext cx="6780960" cy="252000"/>
              <a:chOff x="0" y="1008000"/>
              <a:chExt cx="6780960" cy="252000"/>
            </a:xfrm>
          </p:grpSpPr>
          <p:sp>
            <p:nvSpPr>
              <p:cNvPr id="585" name=""/>
              <p:cNvSpPr/>
              <p:nvPr/>
            </p:nvSpPr>
            <p:spPr>
              <a:xfrm>
                <a:off x="0" y="1008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1008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0" y="1260000"/>
              <a:ext cx="6780960" cy="252000"/>
              <a:chOff x="0" y="1260000"/>
              <a:chExt cx="6780960" cy="252000"/>
            </a:xfrm>
          </p:grpSpPr>
          <p:sp>
            <p:nvSpPr>
              <p:cNvPr id="588" name=""/>
              <p:cNvSpPr/>
              <p:nvPr/>
            </p:nvSpPr>
            <p:spPr>
              <a:xfrm>
                <a:off x="0" y="1260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126000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3; j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0" y="1512360"/>
              <a:ext cx="6780960" cy="252000"/>
              <a:chOff x="0" y="1512360"/>
              <a:chExt cx="6780960" cy="25200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1512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1512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alue.add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0" y="1764360"/>
              <a:ext cx="6780960" cy="252000"/>
              <a:chOff x="0" y="1764360"/>
              <a:chExt cx="6780960" cy="252000"/>
            </a:xfrm>
          </p:grpSpPr>
          <p:sp>
            <p:nvSpPr>
              <p:cNvPr id="594" name=""/>
              <p:cNvSpPr/>
              <p:nvPr/>
            </p:nvSpPr>
            <p:spPr>
              <a:xfrm>
                <a:off x="0" y="1764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1764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After increment " &lt;&lt; j + 1 &lt;&lt; "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0" y="2016360"/>
              <a:ext cx="6780960" cy="252000"/>
              <a:chOff x="0" y="2016360"/>
              <a:chExt cx="6780960" cy="25200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2016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2016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alu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2268360"/>
              <a:ext cx="6780960" cy="252000"/>
              <a:chOff x="0" y="2268360"/>
              <a:chExt cx="6780960" cy="25200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2268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2268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2520360"/>
              <a:ext cx="6780960" cy="252000"/>
              <a:chOff x="0" y="2520360"/>
              <a:chExt cx="6780960" cy="25200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2520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252036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2772720"/>
              <a:ext cx="6780960" cy="252000"/>
              <a:chOff x="0" y="2772720"/>
              <a:chExt cx="6780960" cy="25200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277272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277272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3024720"/>
              <a:ext cx="6780960" cy="252000"/>
              <a:chOff x="0" y="3024720"/>
              <a:chExt cx="6780960" cy="25200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302472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3024720"/>
                <a:ext cx="6780960" cy="252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1" name=""/>
          <p:cNvSpPr/>
          <p:nvPr/>
        </p:nvSpPr>
        <p:spPr>
          <a:xfrm>
            <a:off x="0" y="358128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fore incrementing: count = 10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crement 1: count = 15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crement 2: count = 20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increment 3: count = 25, increment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3334-E630-425B-A804-511E059903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osition: Objects as Members of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i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has objects of other classes a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objects constructed in order decl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in order of constructor’s member initializer l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ed before their enclosing class objects (host object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560D-A1ED-4830-AFDE-B6B9EF7B62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Member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616" name=""/>
            <p:cNvGrpSpPr/>
            <p:nvPr/>
          </p:nvGrpSpPr>
          <p:grpSpPr>
            <a:xfrm>
              <a:off x="0" y="0"/>
              <a:ext cx="6705000" cy="326520"/>
              <a:chOff x="0" y="0"/>
              <a:chExt cx="6705000" cy="326520"/>
            </a:xfrm>
          </p:grpSpPr>
          <p:sp>
            <p:nvSpPr>
              <p:cNvPr id="617" name=""/>
              <p:cNvSpPr/>
              <p:nvPr/>
            </p:nvSpPr>
            <p:spPr>
              <a:xfrm>
                <a:off x="0" y="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date1.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0" y="326520"/>
              <a:ext cx="6705000" cy="326520"/>
              <a:chOff x="0" y="326520"/>
              <a:chExt cx="6705000" cy="326520"/>
            </a:xfrm>
          </p:grpSpPr>
          <p:sp>
            <p:nvSpPr>
              <p:cNvPr id="620" name=""/>
              <p:cNvSpPr/>
              <p:nvPr/>
            </p:nvSpPr>
            <p:spPr>
              <a:xfrm>
                <a:off x="0" y="326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0" y="326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Dat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0" y="653040"/>
              <a:ext cx="6705000" cy="326520"/>
              <a:chOff x="0" y="653040"/>
              <a:chExt cx="6705000" cy="326520"/>
            </a:xfrm>
          </p:grpSpPr>
          <p:sp>
            <p:nvSpPr>
              <p:cNvPr id="623" name=""/>
              <p:cNvSpPr/>
              <p:nvPr/>
            </p:nvSpPr>
            <p:spPr>
              <a:xfrm>
                <a:off x="0" y="653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0" y="653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0" y="979560"/>
              <a:ext cx="6705000" cy="326520"/>
              <a:chOff x="0" y="979560"/>
              <a:chExt cx="6705000" cy="326520"/>
            </a:xfrm>
          </p:grpSpPr>
          <p:sp>
            <p:nvSpPr>
              <p:cNvPr id="626" name=""/>
              <p:cNvSpPr/>
              <p:nvPr/>
            </p:nvSpPr>
            <p:spPr>
              <a:xfrm>
                <a:off x="0" y="979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979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0" y="1306080"/>
              <a:ext cx="6705000" cy="326520"/>
              <a:chOff x="0" y="1306080"/>
              <a:chExt cx="6705000" cy="326520"/>
            </a:xfrm>
          </p:grpSpPr>
          <p:sp>
            <p:nvSpPr>
              <p:cNvPr id="629" name=""/>
              <p:cNvSpPr/>
              <p:nvPr/>
            </p:nvSpPr>
            <p:spPr>
              <a:xfrm>
                <a:off x="0" y="1306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0" y="1306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0" y="1632600"/>
              <a:ext cx="6705000" cy="326520"/>
              <a:chOff x="0" y="1632600"/>
              <a:chExt cx="6705000" cy="326520"/>
            </a:xfrm>
          </p:grpSpPr>
          <p:sp>
            <p:nvSpPr>
              <p:cNvPr id="632" name=""/>
              <p:cNvSpPr/>
              <p:nvPr/>
            </p:nvSpPr>
            <p:spPr>
              <a:xfrm>
                <a:off x="0" y="1632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1632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0" y="1959120"/>
              <a:ext cx="6705000" cy="326520"/>
              <a:chOff x="0" y="1959120"/>
              <a:chExt cx="6705000" cy="326520"/>
            </a:xfrm>
          </p:grpSpPr>
          <p:sp>
            <p:nvSpPr>
              <p:cNvPr id="635" name=""/>
              <p:cNvSpPr/>
              <p:nvPr/>
            </p:nvSpPr>
            <p:spPr>
              <a:xfrm>
                <a:off x="0" y="19591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19591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0" y="2286000"/>
              <a:ext cx="6705000" cy="326520"/>
              <a:chOff x="0" y="2286000"/>
              <a:chExt cx="6705000" cy="326520"/>
            </a:xfrm>
          </p:grpSpPr>
          <p:sp>
            <p:nvSpPr>
              <p:cNvPr id="638" name=""/>
              <p:cNvSpPr/>
              <p:nvPr/>
            </p:nvSpPr>
            <p:spPr>
              <a:xfrm>
                <a:off x="0" y="2286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2286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0" y="2612520"/>
              <a:ext cx="6705000" cy="326520"/>
              <a:chOff x="0" y="2612520"/>
              <a:chExt cx="6705000" cy="326520"/>
            </a:xfrm>
          </p:grpSpPr>
          <p:sp>
            <p:nvSpPr>
              <p:cNvPr id="641" name=""/>
              <p:cNvSpPr/>
              <p:nvPr/>
            </p:nvSpPr>
            <p:spPr>
              <a:xfrm>
                <a:off x="0" y="2612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2612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90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0" y="2939040"/>
              <a:ext cx="6705000" cy="326520"/>
              <a:chOff x="0" y="2939040"/>
              <a:chExt cx="6705000" cy="326520"/>
            </a:xfrm>
          </p:grpSpPr>
          <p:sp>
            <p:nvSpPr>
              <p:cNvPr id="644" name=""/>
              <p:cNvSpPr/>
              <p:nvPr/>
            </p:nvSpPr>
            <p:spPr>
              <a:xfrm>
                <a:off x="0" y="2939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2939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oid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int date in month/day/year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0" y="3265560"/>
              <a:ext cx="6705000" cy="326520"/>
              <a:chOff x="0" y="3265560"/>
              <a:chExt cx="6705000" cy="326520"/>
            </a:xfrm>
          </p:grpSpPr>
          <p:sp>
            <p:nvSpPr>
              <p:cNvPr id="647" name=""/>
              <p:cNvSpPr/>
              <p:nvPr/>
            </p:nvSpPr>
            <p:spPr>
              <a:xfrm>
                <a:off x="0" y="3265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3265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Date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vided to confirm destruction 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0" y="3592440"/>
              <a:ext cx="6705000" cy="326520"/>
              <a:chOff x="0" y="3592440"/>
              <a:chExt cx="6705000" cy="326520"/>
            </a:xfrm>
          </p:grpSpPr>
          <p:sp>
            <p:nvSpPr>
              <p:cNvPr id="650" name=""/>
              <p:cNvSpPr/>
              <p:nvPr/>
            </p:nvSpPr>
            <p:spPr>
              <a:xfrm>
                <a:off x="0" y="35924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0" y="35924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0" y="3918960"/>
              <a:ext cx="6705000" cy="326520"/>
              <a:chOff x="0" y="3918960"/>
              <a:chExt cx="6705000" cy="326520"/>
            </a:xfrm>
          </p:grpSpPr>
          <p:sp>
            <p:nvSpPr>
              <p:cNvPr id="653" name=""/>
              <p:cNvSpPr/>
              <p:nvPr/>
            </p:nvSpPr>
            <p:spPr>
              <a:xfrm>
                <a:off x="0" y="39189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39189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nth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1-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0" y="4245480"/>
              <a:ext cx="6705000" cy="326520"/>
              <a:chOff x="0" y="4245480"/>
              <a:chExt cx="6705000" cy="326520"/>
            </a:xfrm>
          </p:grpSpPr>
          <p:sp>
            <p:nvSpPr>
              <p:cNvPr id="656" name=""/>
              <p:cNvSpPr/>
              <p:nvPr/>
            </p:nvSpPr>
            <p:spPr>
              <a:xfrm>
                <a:off x="0" y="4245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0" y="4245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y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1-31 based on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0" y="4572000"/>
              <a:ext cx="6705000" cy="326520"/>
              <a:chOff x="0" y="4572000"/>
              <a:chExt cx="6705000" cy="326520"/>
            </a:xfrm>
          </p:grpSpPr>
          <p:sp>
            <p:nvSpPr>
              <p:cNvPr id="659" name=""/>
              <p:cNvSpPr/>
              <p:nvPr/>
            </p:nvSpPr>
            <p:spPr>
              <a:xfrm>
                <a:off x="0" y="4572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0" y="4572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ear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ny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0" y="4898520"/>
              <a:ext cx="6705000" cy="326520"/>
              <a:chOff x="0" y="4898520"/>
              <a:chExt cx="6705000" cy="326520"/>
            </a:xfrm>
          </p:grpSpPr>
          <p:sp>
            <p:nvSpPr>
              <p:cNvPr id="662" name=""/>
              <p:cNvSpPr/>
              <p:nvPr/>
            </p:nvSpPr>
            <p:spPr>
              <a:xfrm>
                <a:off x="0" y="4898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0" y="4898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0" y="5225040"/>
              <a:ext cx="6705000" cy="326520"/>
              <a:chOff x="0" y="5225040"/>
              <a:chExt cx="6705000" cy="326520"/>
            </a:xfrm>
          </p:grpSpPr>
          <p:sp>
            <p:nvSpPr>
              <p:cNvPr id="665" name=""/>
              <p:cNvSpPr/>
              <p:nvPr/>
            </p:nvSpPr>
            <p:spPr>
              <a:xfrm>
                <a:off x="0" y="5225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0" y="5225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utility function to test proper day for month and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0" y="5551560"/>
              <a:ext cx="6705000" cy="326520"/>
              <a:chOff x="0" y="5551560"/>
              <a:chExt cx="6705000" cy="326520"/>
            </a:xfrm>
          </p:grpSpPr>
          <p:sp>
            <p:nvSpPr>
              <p:cNvPr id="668" name=""/>
              <p:cNvSpPr/>
              <p:nvPr/>
            </p:nvSpPr>
            <p:spPr>
              <a:xfrm>
                <a:off x="0" y="5551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0" y="5551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heckD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0" y="5878080"/>
              <a:ext cx="6705000" cy="326520"/>
              <a:chOff x="0" y="5878080"/>
              <a:chExt cx="6705000" cy="326520"/>
            </a:xfrm>
          </p:grpSpPr>
          <p:sp>
            <p:nvSpPr>
              <p:cNvPr id="671" name=""/>
              <p:cNvSpPr/>
              <p:nvPr/>
            </p:nvSpPr>
            <p:spPr>
              <a:xfrm>
                <a:off x="0" y="5878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0" y="5878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0" y="6204600"/>
              <a:ext cx="6705000" cy="326520"/>
              <a:chOff x="0" y="6204600"/>
              <a:chExt cx="6705000" cy="326520"/>
            </a:xfrm>
          </p:grpSpPr>
          <p:sp>
            <p:nvSpPr>
              <p:cNvPr id="674" name=""/>
              <p:cNvSpPr/>
              <p:nvPr/>
            </p:nvSpPr>
            <p:spPr>
              <a:xfrm>
                <a:off x="0" y="6204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0" y="6204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0" y="6531480"/>
              <a:ext cx="6705000" cy="326520"/>
              <a:chOff x="0" y="6531480"/>
              <a:chExt cx="6705000" cy="326520"/>
            </a:xfrm>
          </p:grpSpPr>
          <p:sp>
            <p:nvSpPr>
              <p:cNvPr id="677" name=""/>
              <p:cNvSpPr/>
              <p:nvPr/>
            </p:nvSpPr>
            <p:spPr>
              <a:xfrm>
                <a:off x="0" y="6531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0" y="6531480"/>
                <a:ext cx="6704640" cy="326520"/>
                <a:chOff x="0" y="6531480"/>
                <a:chExt cx="6704640" cy="32652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0" y="6531480"/>
                  <a:ext cx="6704640" cy="326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0" y="6531480"/>
                  <a:ext cx="670464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339B6-2777-48FA-A863-E0D68F7428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0" y="3240"/>
            <a:ext cx="6705000" cy="6854760"/>
            <a:chOff x="0" y="3240"/>
            <a:chExt cx="6705000" cy="6854760"/>
          </a:xfrm>
        </p:grpSpPr>
        <p:grpSp>
          <p:nvGrpSpPr>
            <p:cNvPr id="683" name=""/>
            <p:cNvGrpSpPr/>
            <p:nvPr/>
          </p:nvGrpSpPr>
          <p:grpSpPr>
            <a:xfrm>
              <a:off x="0" y="3240"/>
              <a:ext cx="6705000" cy="236160"/>
              <a:chOff x="0" y="3240"/>
              <a:chExt cx="6705000" cy="23616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3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3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0" y="239400"/>
              <a:ext cx="6705000" cy="236160"/>
              <a:chOff x="0" y="239400"/>
              <a:chExt cx="6705000" cy="236160"/>
            </a:xfrm>
          </p:grpSpPr>
          <p:sp>
            <p:nvSpPr>
              <p:cNvPr id="687" name=""/>
              <p:cNvSpPr/>
              <p:nvPr/>
            </p:nvSpPr>
            <p:spPr>
              <a:xfrm>
                <a:off x="0" y="2394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0" y="2394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Dat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0" y="475920"/>
              <a:ext cx="6705000" cy="236160"/>
              <a:chOff x="0" y="475920"/>
              <a:chExt cx="6705000" cy="236160"/>
            </a:xfrm>
          </p:grpSpPr>
          <p:sp>
            <p:nvSpPr>
              <p:cNvPr id="690" name=""/>
              <p:cNvSpPr/>
              <p:nvPr/>
            </p:nvSpPr>
            <p:spPr>
              <a:xfrm>
                <a:off x="0" y="475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0" y="475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0" y="712080"/>
              <a:ext cx="6705000" cy="236160"/>
              <a:chOff x="0" y="712080"/>
              <a:chExt cx="6705000" cy="236160"/>
            </a:xfrm>
          </p:grpSpPr>
          <p:sp>
            <p:nvSpPr>
              <p:cNvPr id="693" name=""/>
              <p:cNvSpPr/>
              <p:nvPr/>
            </p:nvSpPr>
            <p:spPr>
              <a:xfrm>
                <a:off x="0" y="7120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0" y="7120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0" y="948600"/>
              <a:ext cx="6705000" cy="236160"/>
              <a:chOff x="0" y="948600"/>
              <a:chExt cx="6705000" cy="236160"/>
            </a:xfrm>
          </p:grpSpPr>
          <p:sp>
            <p:nvSpPr>
              <p:cNvPr id="696" name=""/>
              <p:cNvSpPr/>
              <p:nvPr/>
            </p:nvSpPr>
            <p:spPr>
              <a:xfrm>
                <a:off x="0" y="948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948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0" y="1184760"/>
              <a:ext cx="6705000" cy="236160"/>
              <a:chOff x="0" y="1184760"/>
              <a:chExt cx="6705000" cy="236160"/>
            </a:xfrm>
          </p:grpSpPr>
          <p:sp>
            <p:nvSpPr>
              <p:cNvPr id="699" name=""/>
              <p:cNvSpPr/>
              <p:nvPr/>
            </p:nvSpPr>
            <p:spPr>
              <a:xfrm>
                <a:off x="0" y="1184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0" y="1184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0" y="1421280"/>
              <a:ext cx="6705000" cy="236160"/>
              <a:chOff x="0" y="1421280"/>
              <a:chExt cx="6705000" cy="236160"/>
            </a:xfrm>
          </p:grpSpPr>
          <p:sp>
            <p:nvSpPr>
              <p:cNvPr id="702" name=""/>
              <p:cNvSpPr/>
              <p:nvPr/>
            </p:nvSpPr>
            <p:spPr>
              <a:xfrm>
                <a:off x="0" y="14212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0" y="14212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0" y="1657800"/>
              <a:ext cx="6705000" cy="236160"/>
              <a:chOff x="0" y="1657800"/>
              <a:chExt cx="6705000" cy="236160"/>
            </a:xfrm>
          </p:grpSpPr>
          <p:sp>
            <p:nvSpPr>
              <p:cNvPr id="705" name=""/>
              <p:cNvSpPr/>
              <p:nvPr/>
            </p:nvSpPr>
            <p:spPr>
              <a:xfrm>
                <a:off x="0" y="1657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0" y="1657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0" y="1893960"/>
              <a:ext cx="6705000" cy="236160"/>
              <a:chOff x="0" y="1893960"/>
              <a:chExt cx="6705000" cy="236160"/>
            </a:xfrm>
          </p:grpSpPr>
          <p:sp>
            <p:nvSpPr>
              <p:cNvPr id="708" name=""/>
              <p:cNvSpPr/>
              <p:nvPr/>
            </p:nvSpPr>
            <p:spPr>
              <a:xfrm>
                <a:off x="0" y="18939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0" y="18939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0" y="2130480"/>
              <a:ext cx="6705000" cy="236160"/>
              <a:chOff x="0" y="2130480"/>
              <a:chExt cx="6705000" cy="236160"/>
            </a:xfrm>
          </p:grpSpPr>
          <p:sp>
            <p:nvSpPr>
              <p:cNvPr id="711" name=""/>
              <p:cNvSpPr/>
              <p:nvPr/>
            </p:nvSpPr>
            <p:spPr>
              <a:xfrm>
                <a:off x="0" y="21304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21304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: Confirm proper value for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0" y="2366640"/>
              <a:ext cx="6705000" cy="236160"/>
              <a:chOff x="0" y="2366640"/>
              <a:chExt cx="6705000" cy="236160"/>
            </a:xfrm>
          </p:grpSpPr>
          <p:sp>
            <p:nvSpPr>
              <p:cNvPr id="714" name=""/>
              <p:cNvSpPr/>
              <p:nvPr/>
            </p:nvSpPr>
            <p:spPr>
              <a:xfrm>
                <a:off x="0" y="2366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2366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utility function checkDay to confirm prop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0" y="2603160"/>
              <a:ext cx="6705000" cy="236160"/>
              <a:chOff x="0" y="2603160"/>
              <a:chExt cx="6705000" cy="236160"/>
            </a:xfrm>
          </p:grpSpPr>
          <p:sp>
            <p:nvSpPr>
              <p:cNvPr id="717" name=""/>
              <p:cNvSpPr/>
              <p:nvPr/>
            </p:nvSpPr>
            <p:spPr>
              <a:xfrm>
                <a:off x="0" y="26031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26031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value for da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0" y="2839680"/>
              <a:ext cx="6705000" cy="236160"/>
              <a:chOff x="0" y="2839680"/>
              <a:chExt cx="6705000" cy="236160"/>
            </a:xfrm>
          </p:grpSpPr>
          <p:sp>
            <p:nvSpPr>
              <p:cNvPr id="720" name=""/>
              <p:cNvSpPr/>
              <p:nvPr/>
            </p:nvSpPr>
            <p:spPr>
              <a:xfrm>
                <a:off x="0" y="28396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28396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0" y="3075840"/>
              <a:ext cx="6705000" cy="236160"/>
              <a:chOff x="0" y="3075840"/>
              <a:chExt cx="6705000" cy="236160"/>
            </a:xfrm>
          </p:grpSpPr>
          <p:sp>
            <p:nvSpPr>
              <p:cNvPr id="723" name=""/>
              <p:cNvSpPr/>
              <p:nvPr/>
            </p:nvSpPr>
            <p:spPr>
              <a:xfrm>
                <a:off x="0" y="3075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3075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0" y="3312360"/>
              <a:ext cx="6705000" cy="236160"/>
              <a:chOff x="0" y="3312360"/>
              <a:chExt cx="6705000" cy="236160"/>
            </a:xfrm>
          </p:grpSpPr>
          <p:sp>
            <p:nvSpPr>
              <p:cNvPr id="726" name=""/>
              <p:cNvSpPr/>
              <p:nvPr/>
            </p:nvSpPr>
            <p:spPr>
              <a:xfrm>
                <a:off x="0" y="33123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33123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mn &gt; 0 &amp;&amp; mn &lt;= 12 )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validate the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0" y="3548880"/>
              <a:ext cx="6705000" cy="236160"/>
              <a:chOff x="0" y="3548880"/>
              <a:chExt cx="6705000" cy="236160"/>
            </a:xfrm>
          </p:grpSpPr>
          <p:sp>
            <p:nvSpPr>
              <p:cNvPr id="729" name=""/>
              <p:cNvSpPr/>
              <p:nvPr/>
            </p:nvSpPr>
            <p:spPr>
              <a:xfrm>
                <a:off x="0" y="35488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35488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onth = m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0" y="3785040"/>
              <a:ext cx="6705000" cy="236160"/>
              <a:chOff x="0" y="3785040"/>
              <a:chExt cx="6705000" cy="23616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37850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37850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0" y="4021560"/>
              <a:ext cx="6705000" cy="236160"/>
              <a:chOff x="0" y="4021560"/>
              <a:chExt cx="6705000" cy="23616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40215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40215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onth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4257720"/>
              <a:ext cx="6705000" cy="236160"/>
              <a:chOff x="0" y="4257720"/>
              <a:chExt cx="6705000" cy="23616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42577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42577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Month " &lt;&lt; mn &lt;&lt; " invalid. Set to month 1.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4494240"/>
              <a:ext cx="6705000" cy="236160"/>
              <a:chOff x="0" y="4494240"/>
              <a:chExt cx="6705000" cy="23616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4494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4494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4730760"/>
              <a:ext cx="6705000" cy="236160"/>
              <a:chOff x="0" y="4730760"/>
              <a:chExt cx="6705000" cy="23616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4730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4730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4966920"/>
              <a:ext cx="6705000" cy="236160"/>
              <a:chOff x="0" y="4966920"/>
              <a:chExt cx="6705000" cy="23616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4966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4966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ear = yr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hould validate y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5203440"/>
              <a:ext cx="6705000" cy="236160"/>
              <a:chOff x="0" y="5203440"/>
              <a:chExt cx="6705000" cy="23616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52034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52034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y = checkDay( dy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validate the d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5439600"/>
              <a:ext cx="6705000" cy="236160"/>
              <a:chOff x="0" y="5439600"/>
              <a:chExt cx="6705000" cy="23616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5439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5439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0" y="5676120"/>
              <a:ext cx="6705000" cy="236160"/>
              <a:chOff x="0" y="5676120"/>
              <a:chExt cx="6705000" cy="236160"/>
            </a:xfrm>
          </p:grpSpPr>
          <p:sp>
            <p:nvSpPr>
              <p:cNvPr id="756" name=""/>
              <p:cNvSpPr/>
              <p:nvPr/>
            </p:nvSpPr>
            <p:spPr>
              <a:xfrm>
                <a:off x="0" y="56761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56761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e object constructor for date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0" y="5912640"/>
              <a:ext cx="6705000" cy="236160"/>
              <a:chOff x="0" y="5912640"/>
              <a:chExt cx="6705000" cy="23616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5912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5912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teresting: a print with no argu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6148800"/>
              <a:ext cx="6705000" cy="236160"/>
              <a:chOff x="0" y="6148800"/>
              <a:chExt cx="6705000" cy="23616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6148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6148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6385320"/>
              <a:ext cx="6705000" cy="236160"/>
              <a:chOff x="0" y="6385320"/>
              <a:chExt cx="6705000" cy="23616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63853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63853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6621840"/>
              <a:ext cx="6705000" cy="236160"/>
              <a:chOff x="0" y="6621840"/>
              <a:chExt cx="6705000" cy="23616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6621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6621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0" name=""/>
          <p:cNvGrpSpPr/>
          <p:nvPr/>
        </p:nvGrpSpPr>
        <p:grpSpPr>
          <a:xfrm>
            <a:off x="3657600" y="4876920"/>
            <a:ext cx="4037760" cy="838080"/>
            <a:chOff x="3657600" y="4876920"/>
            <a:chExt cx="4037760" cy="838080"/>
          </a:xfrm>
        </p:grpSpPr>
        <p:sp>
          <p:nvSpPr>
            <p:cNvPr id="771" name=""/>
            <p:cNvSpPr/>
            <p:nvPr/>
          </p:nvSpPr>
          <p:spPr>
            <a:xfrm flipH="1">
              <a:off x="3657600" y="5257800"/>
              <a:ext cx="2147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33640" y="4876920"/>
              <a:ext cx="2061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2C063-2E88-40DB-B745-A96E8A3B3F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eckDa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775" name=""/>
            <p:cNvGrpSpPr/>
            <p:nvPr/>
          </p:nvGrpSpPr>
          <p:grpSpPr>
            <a:xfrm>
              <a:off x="0" y="0"/>
              <a:ext cx="6705000" cy="207720"/>
              <a:chOff x="0" y="0"/>
              <a:chExt cx="6705000" cy="207720"/>
            </a:xfrm>
          </p:grpSpPr>
          <p:sp>
            <p:nvSpPr>
              <p:cNvPr id="776" name="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Date object in form  month/day/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0" y="207720"/>
              <a:ext cx="6705000" cy="207720"/>
              <a:chOff x="0" y="207720"/>
              <a:chExt cx="6705000" cy="207720"/>
            </a:xfrm>
          </p:grpSpPr>
          <p:sp>
            <p:nvSpPr>
              <p:cNvPr id="779" name="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0" y="415440"/>
              <a:ext cx="6705000" cy="207720"/>
              <a:chOff x="0" y="415440"/>
              <a:chExt cx="6705000" cy="207720"/>
            </a:xfrm>
          </p:grpSpPr>
          <p:sp>
            <p:nvSpPr>
              <p:cNvPr id="782" name="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month &lt;&lt; '/' &lt;&lt; day &lt;&lt; '/' &lt;&lt; yea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0" y="623160"/>
              <a:ext cx="6705000" cy="207720"/>
              <a:chOff x="0" y="623160"/>
              <a:chExt cx="6705000" cy="207720"/>
            </a:xfrm>
          </p:grpSpPr>
          <p:sp>
            <p:nvSpPr>
              <p:cNvPr id="785" name="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0" y="831240"/>
              <a:ext cx="6705000" cy="207720"/>
              <a:chOff x="0" y="831240"/>
              <a:chExt cx="6705000" cy="207720"/>
            </a:xfrm>
          </p:grpSpPr>
          <p:sp>
            <p:nvSpPr>
              <p:cNvPr id="788" name="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: provided to confirm destruction 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0" y="1038960"/>
              <a:ext cx="6705000" cy="207720"/>
              <a:chOff x="0" y="1038960"/>
              <a:chExt cx="6705000" cy="207720"/>
            </a:xfrm>
          </p:grpSpPr>
          <p:sp>
            <p:nvSpPr>
              <p:cNvPr id="791" name="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ate::~Dat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0" y="1246680"/>
              <a:ext cx="6705000" cy="207720"/>
              <a:chOff x="0" y="1246680"/>
              <a:chExt cx="6705000" cy="207720"/>
            </a:xfrm>
          </p:grpSpPr>
          <p:sp>
            <p:nvSpPr>
              <p:cNvPr id="794" name="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0" y="1454760"/>
              <a:ext cx="6705000" cy="207720"/>
              <a:chOff x="0" y="1454760"/>
              <a:chExt cx="6705000" cy="207720"/>
            </a:xfrm>
          </p:grpSpPr>
          <p:sp>
            <p:nvSpPr>
              <p:cNvPr id="797" name="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e object destructor for date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0" y="1662480"/>
              <a:ext cx="6705000" cy="207720"/>
              <a:chOff x="0" y="1662480"/>
              <a:chExt cx="6705000" cy="207720"/>
            </a:xfrm>
          </p:grpSpPr>
          <p:sp>
            <p:nvSpPr>
              <p:cNvPr id="800" name="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0" y="1870200"/>
              <a:ext cx="6705000" cy="207720"/>
              <a:chOff x="0" y="1870200"/>
              <a:chExt cx="6705000" cy="207720"/>
            </a:xfrm>
          </p:grpSpPr>
          <p:sp>
            <p:nvSpPr>
              <p:cNvPr id="803" name="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0" y="2077920"/>
              <a:ext cx="6705000" cy="207720"/>
              <a:chOff x="0" y="2077920"/>
              <a:chExt cx="6705000" cy="207720"/>
            </a:xfrm>
          </p:grpSpPr>
          <p:sp>
            <p:nvSpPr>
              <p:cNvPr id="806" name="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0" y="2286000"/>
              <a:ext cx="6705000" cy="207720"/>
              <a:chOff x="0" y="2286000"/>
              <a:chExt cx="6705000" cy="207720"/>
            </a:xfrm>
          </p:grpSpPr>
          <p:sp>
            <p:nvSpPr>
              <p:cNvPr id="809" name="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0" y="2493720"/>
              <a:ext cx="6705000" cy="207720"/>
              <a:chOff x="0" y="2493720"/>
              <a:chExt cx="6705000" cy="207720"/>
            </a:xfrm>
          </p:grpSpPr>
          <p:sp>
            <p:nvSpPr>
              <p:cNvPr id="812" name="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tility function to confirm proper day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0" y="2701440"/>
              <a:ext cx="6705000" cy="207720"/>
              <a:chOff x="0" y="2701440"/>
              <a:chExt cx="6705000" cy="207720"/>
            </a:xfrm>
          </p:grpSpPr>
          <p:sp>
            <p:nvSpPr>
              <p:cNvPr id="815" name="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ased on month and yea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0" y="2909160"/>
              <a:ext cx="6705000" cy="207720"/>
              <a:chOff x="0" y="2909160"/>
              <a:chExt cx="6705000" cy="207720"/>
            </a:xfrm>
          </p:grpSpPr>
          <p:sp>
            <p:nvSpPr>
              <p:cNvPr id="818" name="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s the year 2000 a leap year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0" y="3117240"/>
              <a:ext cx="6705000" cy="207720"/>
              <a:chOff x="0" y="3117240"/>
              <a:chExt cx="6705000" cy="207720"/>
            </a:xfrm>
          </p:grpSpPr>
          <p:sp>
            <p:nvSpPr>
              <p:cNvPr id="821" name="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::checkD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Da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0" y="3324960"/>
              <a:ext cx="6705000" cy="207720"/>
              <a:chOff x="0" y="3324960"/>
              <a:chExt cx="6705000" cy="207720"/>
            </a:xfrm>
          </p:grpSpPr>
          <p:sp>
            <p:nvSpPr>
              <p:cNvPr id="824" name="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0" y="3532680"/>
              <a:ext cx="6705000" cy="207720"/>
              <a:chOff x="0" y="3532680"/>
              <a:chExt cx="6705000" cy="207720"/>
            </a:xfrm>
          </p:grpSpPr>
          <p:sp>
            <p:nvSpPr>
              <p:cNvPr id="827" name="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 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ysPerMonth[ 13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0" y="3740760"/>
              <a:ext cx="6705000" cy="207720"/>
              <a:chOff x="0" y="3740760"/>
              <a:chExt cx="6705000" cy="207720"/>
            </a:xfrm>
          </p:grpSpPr>
          <p:sp>
            <p:nvSpPr>
              <p:cNvPr id="830" name="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{0, 31, 28, 31, 30, 31, 30, 31, 31, 30, 31, 30, 31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0" y="3948480"/>
              <a:ext cx="6705000" cy="207720"/>
              <a:chOff x="0" y="3948480"/>
              <a:chExt cx="6705000" cy="20772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4156200"/>
              <a:ext cx="6705000" cy="207720"/>
              <a:chOff x="0" y="4156200"/>
              <a:chExt cx="6705000" cy="20772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testDay &gt; 0 &amp;&amp; testDay &lt;= daysPerMonth[ month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4364280"/>
              <a:ext cx="6705000" cy="207720"/>
              <a:chOff x="0" y="4364280"/>
              <a:chExt cx="6705000" cy="20772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4572000"/>
              <a:ext cx="6705000" cy="207720"/>
              <a:chOff x="0" y="4572000"/>
              <a:chExt cx="6705000" cy="20772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4779720"/>
              <a:ext cx="6705000" cy="207720"/>
              <a:chOff x="0" y="4779720"/>
              <a:chExt cx="6705000" cy="20772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month == 2 &amp;&amp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ebruary: Check for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4987800"/>
              <a:ext cx="6705000" cy="207720"/>
              <a:chOff x="0" y="4987800"/>
              <a:chExt cx="6705000" cy="20772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estDay == 29 &amp;&a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5195520"/>
              <a:ext cx="6705000" cy="207720"/>
              <a:chOff x="0" y="5195520"/>
              <a:chExt cx="6705000" cy="20772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( year % 400 == 0 ||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5403240"/>
              <a:ext cx="6705000" cy="207720"/>
              <a:chOff x="0" y="5403240"/>
              <a:chExt cx="6705000" cy="20772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( year % 4 == 0 &amp;&amp; year % 100 != 0 ) )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5610960"/>
              <a:ext cx="6705000" cy="207720"/>
              <a:chOff x="0" y="5610960"/>
              <a:chExt cx="6705000" cy="20772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5819040"/>
              <a:ext cx="6705000" cy="207720"/>
              <a:chOff x="0" y="5819040"/>
              <a:chExt cx="6705000" cy="20772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6026760"/>
              <a:ext cx="6705000" cy="207720"/>
              <a:chOff x="0" y="6026760"/>
              <a:chExt cx="6705000" cy="2077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y " &lt;&lt; testDay &lt;&lt; " invalid. Set to day 1.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6234480"/>
              <a:ext cx="6705000" cy="207720"/>
              <a:chOff x="0" y="6234480"/>
              <a:chExt cx="6705000" cy="20772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6442200"/>
              <a:ext cx="6705000" cy="207720"/>
              <a:chOff x="0" y="6442200"/>
              <a:chExt cx="6705000" cy="20772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leave object in consistent state if ba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6650280"/>
              <a:ext cx="6705000" cy="207720"/>
              <a:chOff x="0" y="6650280"/>
              <a:chExt cx="6705000" cy="20772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4" name=""/>
          <p:cNvGrpSpPr/>
          <p:nvPr/>
        </p:nvGrpSpPr>
        <p:grpSpPr>
          <a:xfrm>
            <a:off x="2286000" y="609480"/>
            <a:ext cx="3733200" cy="838080"/>
            <a:chOff x="2286000" y="609480"/>
            <a:chExt cx="3733200" cy="838080"/>
          </a:xfrm>
        </p:grpSpPr>
        <p:sp>
          <p:nvSpPr>
            <p:cNvPr id="875" name=""/>
            <p:cNvSpPr/>
            <p:nvPr/>
          </p:nvSpPr>
          <p:spPr>
            <a:xfrm flipH="1">
              <a:off x="2286000" y="990360"/>
              <a:ext cx="1985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113000" y="609480"/>
              <a:ext cx="1906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F3074-824A-45C2-B354-24777CB6DB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.1 Includ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variables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0" y="0"/>
            <a:ext cx="6628680" cy="5105520"/>
            <a:chOff x="0" y="0"/>
            <a:chExt cx="6628680" cy="5105520"/>
          </a:xfrm>
        </p:grpSpPr>
        <p:grpSp>
          <p:nvGrpSpPr>
            <p:cNvPr id="879" name=""/>
            <p:cNvGrpSpPr/>
            <p:nvPr/>
          </p:nvGrpSpPr>
          <p:grpSpPr>
            <a:xfrm>
              <a:off x="0" y="0"/>
              <a:ext cx="6628680" cy="243000"/>
              <a:chOff x="0" y="0"/>
              <a:chExt cx="6628680" cy="243000"/>
            </a:xfrm>
          </p:grpSpPr>
          <p:sp>
            <p:nvSpPr>
              <p:cNvPr id="880" name=""/>
              <p:cNvSpPr/>
              <p:nvPr/>
            </p:nvSpPr>
            <p:spPr>
              <a:xfrm>
                <a:off x="0" y="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0" y="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empl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0" y="243000"/>
              <a:ext cx="6628680" cy="243000"/>
              <a:chOff x="0" y="243000"/>
              <a:chExt cx="6628680" cy="243000"/>
            </a:xfrm>
          </p:grpSpPr>
          <p:sp>
            <p:nvSpPr>
              <p:cNvPr id="883" name=""/>
              <p:cNvSpPr/>
              <p:nvPr/>
            </p:nvSpPr>
            <p:spPr>
              <a:xfrm>
                <a:off x="0" y="243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0" y="243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Employe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0" y="486000"/>
              <a:ext cx="6628680" cy="243000"/>
              <a:chOff x="0" y="486000"/>
              <a:chExt cx="6628680" cy="243000"/>
            </a:xfrm>
          </p:grpSpPr>
          <p:sp>
            <p:nvSpPr>
              <p:cNvPr id="886" name=""/>
              <p:cNvSpPr/>
              <p:nvPr/>
            </p:nvSpPr>
            <p:spPr>
              <a:xfrm>
                <a:off x="0" y="486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0" y="486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emp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0" y="729360"/>
              <a:ext cx="6628680" cy="243000"/>
              <a:chOff x="0" y="729360"/>
              <a:chExt cx="6628680" cy="243000"/>
            </a:xfrm>
          </p:grpSpPr>
          <p:sp>
            <p:nvSpPr>
              <p:cNvPr id="889" name=""/>
              <p:cNvSpPr/>
              <p:nvPr/>
            </p:nvSpPr>
            <p:spPr>
              <a:xfrm>
                <a:off x="0" y="729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0" y="729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0" y="972360"/>
              <a:ext cx="6628680" cy="243000"/>
              <a:chOff x="0" y="972360"/>
              <a:chExt cx="6628680" cy="243000"/>
            </a:xfrm>
          </p:grpSpPr>
          <p:sp>
            <p:nvSpPr>
              <p:cNvPr id="892" name=""/>
              <p:cNvSpPr/>
              <p:nvPr/>
            </p:nvSpPr>
            <p:spPr>
              <a:xfrm>
                <a:off x="0" y="972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972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0" y="1215360"/>
              <a:ext cx="6628680" cy="243000"/>
              <a:chOff x="0" y="1215360"/>
              <a:chExt cx="6628680" cy="243000"/>
            </a:xfrm>
          </p:grpSpPr>
          <p:sp>
            <p:nvSpPr>
              <p:cNvPr id="895" name=""/>
              <p:cNvSpPr/>
              <p:nvPr/>
            </p:nvSpPr>
            <p:spPr>
              <a:xfrm>
                <a:off x="0" y="1215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1215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0" y="1458360"/>
              <a:ext cx="6628680" cy="243000"/>
              <a:chOff x="0" y="1458360"/>
              <a:chExt cx="6628680" cy="243000"/>
            </a:xfrm>
          </p:grpSpPr>
          <p:sp>
            <p:nvSpPr>
              <p:cNvPr id="898" name=""/>
              <p:cNvSpPr/>
              <p:nvPr/>
            </p:nvSpPr>
            <p:spPr>
              <a:xfrm>
                <a:off x="0" y="1458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1458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0" y="1701720"/>
              <a:ext cx="6628680" cy="243000"/>
              <a:chOff x="0" y="1701720"/>
              <a:chExt cx="6628680" cy="243000"/>
            </a:xfrm>
          </p:grpSpPr>
          <p:sp>
            <p:nvSpPr>
              <p:cNvPr id="901" name=""/>
              <p:cNvSpPr/>
              <p:nvPr/>
            </p:nvSpPr>
            <p:spPr>
              <a:xfrm>
                <a:off x="0" y="1701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0" y="1701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1944720"/>
              <a:ext cx="6628680" cy="243000"/>
              <a:chOff x="0" y="1944720"/>
              <a:chExt cx="6628680" cy="24300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1944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0" y="1944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0" y="2188080"/>
              <a:ext cx="6628680" cy="243000"/>
              <a:chOff x="0" y="2188080"/>
              <a:chExt cx="6628680" cy="243000"/>
            </a:xfrm>
          </p:grpSpPr>
          <p:sp>
            <p:nvSpPr>
              <p:cNvPr id="907" name=""/>
              <p:cNvSpPr/>
              <p:nvPr/>
            </p:nvSpPr>
            <p:spPr>
              <a:xfrm>
                <a:off x="0" y="2188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0" y="2188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0" y="2431080"/>
              <a:ext cx="6628680" cy="243000"/>
              <a:chOff x="0" y="2431080"/>
              <a:chExt cx="6628680" cy="243000"/>
            </a:xfrm>
          </p:grpSpPr>
          <p:sp>
            <p:nvSpPr>
              <p:cNvPr id="910" name=""/>
              <p:cNvSpPr/>
              <p:nvPr/>
            </p:nvSpPr>
            <p:spPr>
              <a:xfrm>
                <a:off x="0" y="2431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0" y="2431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0" y="2674440"/>
              <a:ext cx="6628680" cy="243000"/>
              <a:chOff x="0" y="2674440"/>
              <a:chExt cx="6628680" cy="243000"/>
            </a:xfrm>
          </p:grpSpPr>
          <p:sp>
            <p:nvSpPr>
              <p:cNvPr id="913" name=""/>
              <p:cNvSpPr/>
              <p:nvPr/>
            </p:nvSpPr>
            <p:spPr>
              <a:xfrm>
                <a:off x="0" y="2674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2674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0" y="2917440"/>
              <a:ext cx="6628680" cy="243000"/>
              <a:chOff x="0" y="2917440"/>
              <a:chExt cx="6628680" cy="243000"/>
            </a:xfrm>
          </p:grpSpPr>
          <p:sp>
            <p:nvSpPr>
              <p:cNvPr id="916" name=""/>
              <p:cNvSpPr/>
              <p:nvPr/>
            </p:nvSpPr>
            <p:spPr>
              <a:xfrm>
                <a:off x="0" y="2917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0" y="2917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Employee(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ovided to confirm destruction 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0" y="3160440"/>
              <a:ext cx="6628680" cy="243000"/>
              <a:chOff x="0" y="3160440"/>
              <a:chExt cx="6628680" cy="243000"/>
            </a:xfrm>
          </p:grpSpPr>
          <p:sp>
            <p:nvSpPr>
              <p:cNvPr id="919" name=""/>
              <p:cNvSpPr/>
              <p:nvPr/>
            </p:nvSpPr>
            <p:spPr>
              <a:xfrm>
                <a:off x="0" y="3160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0" y="3160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0" y="3403440"/>
              <a:ext cx="6628680" cy="243000"/>
              <a:chOff x="0" y="3403440"/>
              <a:chExt cx="6628680" cy="243000"/>
            </a:xfrm>
          </p:grpSpPr>
          <p:sp>
            <p:nvSpPr>
              <p:cNvPr id="922" name=""/>
              <p:cNvSpPr/>
              <p:nvPr/>
            </p:nvSpPr>
            <p:spPr>
              <a:xfrm>
                <a:off x="0" y="3403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0" y="3403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[ 2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0" y="3646800"/>
              <a:ext cx="6628680" cy="243000"/>
              <a:chOff x="0" y="3646800"/>
              <a:chExt cx="6628680" cy="243000"/>
            </a:xfrm>
          </p:grpSpPr>
          <p:sp>
            <p:nvSpPr>
              <p:cNvPr id="925" name=""/>
              <p:cNvSpPr/>
              <p:nvPr/>
            </p:nvSpPr>
            <p:spPr>
              <a:xfrm>
                <a:off x="0" y="3646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0" y="3646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[ 2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0" y="3889800"/>
              <a:ext cx="6628680" cy="243000"/>
              <a:chOff x="0" y="3889800"/>
              <a:chExt cx="6628680" cy="243000"/>
            </a:xfrm>
          </p:grpSpPr>
          <p:sp>
            <p:nvSpPr>
              <p:cNvPr id="928" name=""/>
              <p:cNvSpPr/>
              <p:nvPr/>
            </p:nvSpPr>
            <p:spPr>
              <a:xfrm>
                <a:off x="0" y="3889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3889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D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irthDa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0" y="4133160"/>
              <a:ext cx="6628680" cy="243000"/>
              <a:chOff x="0" y="4133160"/>
              <a:chExt cx="6628680" cy="243000"/>
            </a:xfrm>
          </p:grpSpPr>
          <p:sp>
            <p:nvSpPr>
              <p:cNvPr id="931" name=""/>
              <p:cNvSpPr/>
              <p:nvPr/>
            </p:nvSpPr>
            <p:spPr>
              <a:xfrm>
                <a:off x="0" y="4133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0" y="4133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D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ireDa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0" y="4376160"/>
              <a:ext cx="6628680" cy="243000"/>
              <a:chOff x="0" y="4376160"/>
              <a:chExt cx="6628680" cy="243000"/>
            </a:xfrm>
          </p:grpSpPr>
          <p:sp>
            <p:nvSpPr>
              <p:cNvPr id="934" name=""/>
              <p:cNvSpPr/>
              <p:nvPr/>
            </p:nvSpPr>
            <p:spPr>
              <a:xfrm>
                <a:off x="0" y="4376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4376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0" y="4619160"/>
              <a:ext cx="6628680" cy="243000"/>
              <a:chOff x="0" y="4619160"/>
              <a:chExt cx="6628680" cy="24300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4619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4619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4862520"/>
              <a:ext cx="6628680" cy="243000"/>
              <a:chOff x="0" y="4862520"/>
              <a:chExt cx="6628680" cy="24300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48625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" name=""/>
              <p:cNvGrpSpPr/>
              <p:nvPr/>
            </p:nvGrpSpPr>
            <p:grpSpPr>
              <a:xfrm>
                <a:off x="0" y="4862520"/>
                <a:ext cx="6628320" cy="243000"/>
                <a:chOff x="0" y="4862520"/>
                <a:chExt cx="6628320" cy="24300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0" y="4862520"/>
                  <a:ext cx="6628320" cy="243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0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0" y="4862520"/>
                  <a:ext cx="662832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44" name=""/>
          <p:cNvGrpSpPr/>
          <p:nvPr/>
        </p:nvGrpSpPr>
        <p:grpSpPr>
          <a:xfrm>
            <a:off x="2666520" y="4191120"/>
            <a:ext cx="3200760" cy="809280"/>
            <a:chOff x="2666520" y="4191120"/>
            <a:chExt cx="3200760" cy="809280"/>
          </a:xfrm>
        </p:grpSpPr>
        <p:sp>
          <p:nvSpPr>
            <p:cNvPr id="945" name=""/>
            <p:cNvSpPr/>
            <p:nvPr/>
          </p:nvSpPr>
          <p:spPr>
            <a:xfrm>
              <a:off x="3429000" y="44197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osition - including objects of other class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 flipV="1">
              <a:off x="2666520" y="41911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A9A34-0183-434B-925D-06C01F49B3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.1 Use member-initializer syntax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 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memb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0" y="0"/>
            <a:ext cx="6628680" cy="6858000"/>
            <a:chOff x="0" y="0"/>
            <a:chExt cx="6628680" cy="6858000"/>
          </a:xfrm>
        </p:grpSpPr>
        <p:grpSp>
          <p:nvGrpSpPr>
            <p:cNvPr id="949" name=""/>
            <p:cNvGrpSpPr/>
            <p:nvPr/>
          </p:nvGrpSpPr>
          <p:grpSpPr>
            <a:xfrm>
              <a:off x="0" y="0"/>
              <a:ext cx="6628680" cy="214200"/>
              <a:chOff x="0" y="0"/>
              <a:chExt cx="6628680" cy="21420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emp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214200"/>
              <a:ext cx="6628680" cy="214200"/>
              <a:chOff x="0" y="214200"/>
              <a:chExt cx="6628680" cy="21420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214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214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Employe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428400"/>
              <a:ext cx="6628680" cy="214200"/>
              <a:chOff x="0" y="428400"/>
              <a:chExt cx="6628680" cy="21420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428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428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642960"/>
              <a:ext cx="6628680" cy="214200"/>
              <a:chOff x="0" y="642960"/>
              <a:chExt cx="6628680" cy="21420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642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42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857160"/>
              <a:ext cx="6628680" cy="214200"/>
              <a:chOff x="0" y="857160"/>
              <a:chExt cx="6628680" cy="21420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857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857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1071360"/>
              <a:ext cx="6628680" cy="214200"/>
              <a:chOff x="0" y="1071360"/>
              <a:chExt cx="6628680" cy="21420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1071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1071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1285560"/>
              <a:ext cx="6628680" cy="214200"/>
              <a:chOff x="0" y="1285560"/>
              <a:chExt cx="6628680" cy="21420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12855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12855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1500120"/>
              <a:ext cx="6628680" cy="214200"/>
              <a:chOff x="0" y="1500120"/>
              <a:chExt cx="6628680" cy="21420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1500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1500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1714320"/>
              <a:ext cx="6628680" cy="214200"/>
              <a:chOff x="0" y="1714320"/>
              <a:chExt cx="6628680" cy="21420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1714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1714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1928520"/>
              <a:ext cx="6628680" cy="214200"/>
              <a:chOff x="0" y="1928520"/>
              <a:chExt cx="6628680" cy="21420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19285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19285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0" y="2143080"/>
              <a:ext cx="6628680" cy="214200"/>
              <a:chOff x="0" y="2143080"/>
              <a:chExt cx="6628680" cy="214200"/>
            </a:xfrm>
          </p:grpSpPr>
          <p:sp>
            <p:nvSpPr>
              <p:cNvPr id="980" name=""/>
              <p:cNvSpPr/>
              <p:nvPr/>
            </p:nvSpPr>
            <p:spPr>
              <a:xfrm>
                <a:off x="0" y="2143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0" y="2143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0" y="2357280"/>
              <a:ext cx="6628680" cy="214200"/>
              <a:chOff x="0" y="2357280"/>
              <a:chExt cx="6628680" cy="21420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2357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2357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name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name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0" y="2571480"/>
              <a:ext cx="6628680" cy="214200"/>
              <a:chOff x="0" y="2571480"/>
              <a:chExt cx="6628680" cy="21420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25714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25714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mon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d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year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0" y="2786040"/>
              <a:ext cx="6628680" cy="214200"/>
              <a:chOff x="0" y="2786040"/>
              <a:chExt cx="6628680" cy="21420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2786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2786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mon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d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yea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3000240"/>
              <a:ext cx="6628680" cy="214200"/>
              <a:chOff x="0" y="3000240"/>
              <a:chExt cx="6628680" cy="21420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3000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3000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: birthDate( bmonth, bday, byear )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3214800"/>
              <a:ext cx="6628680" cy="214200"/>
              <a:chOff x="0" y="3214800"/>
              <a:chExt cx="6628680" cy="21420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3214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3214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hireDate( hmonth, hday, hyea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3429000"/>
              <a:ext cx="6628680" cy="214200"/>
              <a:chOff x="0" y="3429000"/>
              <a:chExt cx="6628680" cy="21420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34290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34290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3643200"/>
              <a:ext cx="6628680" cy="214200"/>
              <a:chOff x="0" y="3643200"/>
              <a:chExt cx="6628680" cy="21420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3643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3643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opy fname into firstName and be sure that it f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3857400"/>
              <a:ext cx="6628680" cy="214200"/>
              <a:chOff x="0" y="3857400"/>
              <a:chExt cx="6628680" cy="21420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3857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3857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ngth = strlen( fna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4071960"/>
              <a:ext cx="6628680" cy="214200"/>
              <a:chOff x="0" y="4071960"/>
              <a:chExt cx="6628680" cy="21420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4071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4071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ength = ( length &lt; 25 ? length : 24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4286160"/>
              <a:ext cx="6628680" cy="214200"/>
              <a:chOff x="0" y="4286160"/>
              <a:chExt cx="6628680" cy="214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4286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4286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ncpy( firstName, fname,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4500360"/>
              <a:ext cx="6628680" cy="214200"/>
              <a:chOff x="0" y="4500360"/>
              <a:chExt cx="6628680" cy="21420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4500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4500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rstName[ length ] = '\0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4714920"/>
              <a:ext cx="6628680" cy="214200"/>
              <a:chOff x="0" y="4714920"/>
              <a:chExt cx="6628680" cy="21420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47149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47149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0" y="4929120"/>
              <a:ext cx="6628680" cy="214200"/>
              <a:chOff x="0" y="4929120"/>
              <a:chExt cx="6628680" cy="214200"/>
            </a:xfrm>
          </p:grpSpPr>
          <p:sp>
            <p:nvSpPr>
              <p:cNvPr id="1019" name=""/>
              <p:cNvSpPr/>
              <p:nvPr/>
            </p:nvSpPr>
            <p:spPr>
              <a:xfrm>
                <a:off x="0" y="4929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4929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opy lname into lastName and be sure that it f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0" y="5143320"/>
              <a:ext cx="6628680" cy="214200"/>
              <a:chOff x="0" y="5143320"/>
              <a:chExt cx="6628680" cy="214200"/>
            </a:xfrm>
          </p:grpSpPr>
          <p:sp>
            <p:nvSpPr>
              <p:cNvPr id="1022" name=""/>
              <p:cNvSpPr/>
              <p:nvPr/>
            </p:nvSpPr>
            <p:spPr>
              <a:xfrm>
                <a:off x="0" y="5143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5143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ength = strlen( lna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0" y="5357880"/>
              <a:ext cx="6628680" cy="214200"/>
              <a:chOff x="0" y="5357880"/>
              <a:chExt cx="6628680" cy="214200"/>
            </a:xfrm>
          </p:grpSpPr>
          <p:sp>
            <p:nvSpPr>
              <p:cNvPr id="1025" name=""/>
              <p:cNvSpPr/>
              <p:nvPr/>
            </p:nvSpPr>
            <p:spPr>
              <a:xfrm>
                <a:off x="0" y="53578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53578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ength = ( length &lt; 25 ? length : 24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0" y="5572080"/>
              <a:ext cx="6628680" cy="214200"/>
              <a:chOff x="0" y="5572080"/>
              <a:chExt cx="6628680" cy="214200"/>
            </a:xfrm>
          </p:grpSpPr>
          <p:sp>
            <p:nvSpPr>
              <p:cNvPr id="1028" name=""/>
              <p:cNvSpPr/>
              <p:nvPr/>
            </p:nvSpPr>
            <p:spPr>
              <a:xfrm>
                <a:off x="0" y="5572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5572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ncpy( lastName, lname,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0" y="5786280"/>
              <a:ext cx="6628680" cy="214200"/>
              <a:chOff x="0" y="5786280"/>
              <a:chExt cx="6628680" cy="21420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5786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5786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astName[ length ] = '\0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0" y="6000840"/>
              <a:ext cx="6628680" cy="214200"/>
              <a:chOff x="0" y="6000840"/>
              <a:chExt cx="6628680" cy="214200"/>
            </a:xfrm>
          </p:grpSpPr>
          <p:sp>
            <p:nvSpPr>
              <p:cNvPr id="1034" name=""/>
              <p:cNvSpPr/>
              <p:nvPr/>
            </p:nvSpPr>
            <p:spPr>
              <a:xfrm>
                <a:off x="0" y="60008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60008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0" y="6215040"/>
              <a:ext cx="6628680" cy="214200"/>
              <a:chOff x="0" y="6215040"/>
              <a:chExt cx="6628680" cy="21420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6215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6215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mployee object constructo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0" y="6429240"/>
              <a:ext cx="6628680" cy="214200"/>
              <a:chOff x="0" y="6429240"/>
              <a:chExt cx="6628680" cy="214200"/>
            </a:xfrm>
          </p:grpSpPr>
          <p:sp>
            <p:nvSpPr>
              <p:cNvPr id="1040" name=""/>
              <p:cNvSpPr/>
              <p:nvPr/>
            </p:nvSpPr>
            <p:spPr>
              <a:xfrm>
                <a:off x="0" y="6429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6429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firstName &lt;&lt; ' ' &lt;&lt; lastNam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0" y="6643800"/>
              <a:ext cx="6628680" cy="214200"/>
              <a:chOff x="0" y="6643800"/>
              <a:chExt cx="6628680" cy="214200"/>
            </a:xfrm>
          </p:grpSpPr>
          <p:sp>
            <p:nvSpPr>
              <p:cNvPr id="1043" name=""/>
              <p:cNvSpPr/>
              <p:nvPr/>
            </p:nvSpPr>
            <p:spPr>
              <a:xfrm>
                <a:off x="0" y="6643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6643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5" name=""/>
          <p:cNvGrpSpPr/>
          <p:nvPr/>
        </p:nvGrpSpPr>
        <p:grpSpPr>
          <a:xfrm>
            <a:off x="3657240" y="5334120"/>
            <a:ext cx="3581280" cy="838080"/>
            <a:chOff x="3657240" y="5334120"/>
            <a:chExt cx="3581280" cy="838080"/>
          </a:xfrm>
        </p:grpSpPr>
        <p:sp>
          <p:nvSpPr>
            <p:cNvPr id="1046" name=""/>
            <p:cNvSpPr/>
            <p:nvPr/>
          </p:nvSpPr>
          <p:spPr>
            <a:xfrm flipH="1">
              <a:off x="3657240" y="5715000"/>
              <a:ext cx="1904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410080" y="5334120"/>
              <a:ext cx="1828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D3B21-195C-428F-BC32-A392CB9D38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0" y="0"/>
            <a:ext cx="6628680" cy="6857640"/>
            <a:chOff x="0" y="0"/>
            <a:chExt cx="6628680" cy="6857640"/>
          </a:xfrm>
        </p:grpSpPr>
        <p:grpSp>
          <p:nvGrpSpPr>
            <p:cNvPr id="1050" name=""/>
            <p:cNvGrpSpPr/>
            <p:nvPr/>
          </p:nvGrpSpPr>
          <p:grpSpPr>
            <a:xfrm>
              <a:off x="0" y="0"/>
              <a:ext cx="6628680" cy="428400"/>
              <a:chOff x="0" y="0"/>
              <a:chExt cx="6628680" cy="428400"/>
            </a:xfrm>
          </p:grpSpPr>
          <p:sp>
            <p:nvSpPr>
              <p:cNvPr id="1051" name=""/>
              <p:cNvSpPr/>
              <p:nvPr/>
            </p:nvSpPr>
            <p:spPr>
              <a:xfrm>
                <a:off x="0" y="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0" y="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0" y="428400"/>
              <a:ext cx="6628680" cy="428400"/>
              <a:chOff x="0" y="428400"/>
              <a:chExt cx="6628680" cy="428400"/>
            </a:xfrm>
          </p:grpSpPr>
          <p:sp>
            <p:nvSpPr>
              <p:cNvPr id="1054" name=""/>
              <p:cNvSpPr/>
              <p:nvPr/>
            </p:nvSpPr>
            <p:spPr>
              <a:xfrm>
                <a:off x="0" y="428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0" y="428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0" y="856800"/>
              <a:ext cx="6628680" cy="428760"/>
              <a:chOff x="0" y="856800"/>
              <a:chExt cx="6628680" cy="428760"/>
            </a:xfrm>
          </p:grpSpPr>
          <p:sp>
            <p:nvSpPr>
              <p:cNvPr id="1057" name=""/>
              <p:cNvSpPr/>
              <p:nvPr/>
            </p:nvSpPr>
            <p:spPr>
              <a:xfrm>
                <a:off x="0" y="85680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0" y="85680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0" y="1285920"/>
              <a:ext cx="6628680" cy="428400"/>
              <a:chOff x="0" y="1285920"/>
              <a:chExt cx="6628680" cy="428400"/>
            </a:xfrm>
          </p:grpSpPr>
          <p:sp>
            <p:nvSpPr>
              <p:cNvPr id="1060" name=""/>
              <p:cNvSpPr/>
              <p:nvPr/>
            </p:nvSpPr>
            <p:spPr>
              <a:xfrm>
                <a:off x="0" y="1285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0" y="1285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lastName &lt;&lt; ", " &lt;&lt; firstName &lt;&lt; "\nHired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0" y="1714320"/>
              <a:ext cx="6628680" cy="428400"/>
              <a:chOff x="0" y="1714320"/>
              <a:chExt cx="6628680" cy="428400"/>
            </a:xfrm>
          </p:grpSpPr>
          <p:sp>
            <p:nvSpPr>
              <p:cNvPr id="1063" name=""/>
              <p:cNvSpPr/>
              <p:nvPr/>
            </p:nvSpPr>
            <p:spPr>
              <a:xfrm>
                <a:off x="0" y="1714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0" y="1714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ireDat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0" y="2143080"/>
              <a:ext cx="6628680" cy="428400"/>
              <a:chOff x="0" y="2143080"/>
              <a:chExt cx="6628680" cy="428400"/>
            </a:xfrm>
          </p:grpSpPr>
          <p:sp>
            <p:nvSpPr>
              <p:cNvPr id="1066" name=""/>
              <p:cNvSpPr/>
              <p:nvPr/>
            </p:nvSpPr>
            <p:spPr>
              <a:xfrm>
                <a:off x="0" y="2143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0" y="2143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Birth dat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0" y="2571480"/>
              <a:ext cx="6628680" cy="428760"/>
              <a:chOff x="0" y="2571480"/>
              <a:chExt cx="6628680" cy="428760"/>
            </a:xfrm>
          </p:grpSpPr>
          <p:sp>
            <p:nvSpPr>
              <p:cNvPr id="1069" name=""/>
              <p:cNvSpPr/>
              <p:nvPr/>
            </p:nvSpPr>
            <p:spPr>
              <a:xfrm>
                <a:off x="0" y="2571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0" y="2571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irthDat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0" y="3000240"/>
              <a:ext cx="6628680" cy="428400"/>
              <a:chOff x="0" y="3000240"/>
              <a:chExt cx="6628680" cy="428400"/>
            </a:xfrm>
          </p:grpSpPr>
          <p:sp>
            <p:nvSpPr>
              <p:cNvPr id="1072" name=""/>
              <p:cNvSpPr/>
              <p:nvPr/>
            </p:nvSpPr>
            <p:spPr>
              <a:xfrm>
                <a:off x="0" y="3000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0" y="3000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0" y="3429000"/>
              <a:ext cx="6628680" cy="428400"/>
              <a:chOff x="0" y="3429000"/>
              <a:chExt cx="6628680" cy="428400"/>
            </a:xfrm>
          </p:grpSpPr>
          <p:sp>
            <p:nvSpPr>
              <p:cNvPr id="1075" name=""/>
              <p:cNvSpPr/>
              <p:nvPr/>
            </p:nvSpPr>
            <p:spPr>
              <a:xfrm>
                <a:off x="0" y="34290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0" y="34290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0" y="3857400"/>
              <a:ext cx="6628680" cy="428400"/>
              <a:chOff x="0" y="3857400"/>
              <a:chExt cx="6628680" cy="428400"/>
            </a:xfrm>
          </p:grpSpPr>
          <p:sp>
            <p:nvSpPr>
              <p:cNvPr id="1078" name=""/>
              <p:cNvSpPr/>
              <p:nvPr/>
            </p:nvSpPr>
            <p:spPr>
              <a:xfrm>
                <a:off x="0" y="3857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3857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0" y="4286160"/>
              <a:ext cx="6628680" cy="428760"/>
              <a:chOff x="0" y="4286160"/>
              <a:chExt cx="6628680" cy="428760"/>
            </a:xfrm>
          </p:grpSpPr>
          <p:sp>
            <p:nvSpPr>
              <p:cNvPr id="1081" name=""/>
              <p:cNvSpPr/>
              <p:nvPr/>
            </p:nvSpPr>
            <p:spPr>
              <a:xfrm>
                <a:off x="0" y="428616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0" y="428616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: provided to confirm destruction 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0" y="4714920"/>
              <a:ext cx="6628680" cy="428400"/>
              <a:chOff x="0" y="4714920"/>
              <a:chExt cx="6628680" cy="428400"/>
            </a:xfrm>
          </p:grpSpPr>
          <p:sp>
            <p:nvSpPr>
              <p:cNvPr id="1084" name=""/>
              <p:cNvSpPr/>
              <p:nvPr/>
            </p:nvSpPr>
            <p:spPr>
              <a:xfrm>
                <a:off x="0" y="4714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0" y="4714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0" y="5143320"/>
              <a:ext cx="6628680" cy="428400"/>
              <a:chOff x="0" y="5143320"/>
              <a:chExt cx="6628680" cy="428400"/>
            </a:xfrm>
          </p:grpSpPr>
          <p:sp>
            <p:nvSpPr>
              <p:cNvPr id="1087" name=""/>
              <p:cNvSpPr/>
              <p:nvPr/>
            </p:nvSpPr>
            <p:spPr>
              <a:xfrm>
                <a:off x="0" y="5143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0" y="5143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0" y="5572080"/>
              <a:ext cx="6628680" cy="428400"/>
              <a:chOff x="0" y="5572080"/>
              <a:chExt cx="6628680" cy="428400"/>
            </a:xfrm>
          </p:grpSpPr>
          <p:sp>
            <p:nvSpPr>
              <p:cNvPr id="1090" name=""/>
              <p:cNvSpPr/>
              <p:nvPr/>
            </p:nvSpPr>
            <p:spPr>
              <a:xfrm>
                <a:off x="0" y="5572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0" y="5572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mployee object destructor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0" y="6000480"/>
              <a:ext cx="6628680" cy="428760"/>
              <a:chOff x="0" y="6000480"/>
              <a:chExt cx="6628680" cy="428760"/>
            </a:xfrm>
          </p:grpSpPr>
          <p:sp>
            <p:nvSpPr>
              <p:cNvPr id="1093" name=""/>
              <p:cNvSpPr/>
              <p:nvPr/>
            </p:nvSpPr>
            <p:spPr>
              <a:xfrm>
                <a:off x="0" y="6000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0" y="6000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lastName &lt;&lt; ", " &lt;&lt; firstNam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0" y="6429240"/>
              <a:ext cx="6628680" cy="428400"/>
              <a:chOff x="0" y="6429240"/>
              <a:chExt cx="6628680" cy="428400"/>
            </a:xfrm>
          </p:grpSpPr>
          <p:sp>
            <p:nvSpPr>
              <p:cNvPr id="1096" name=""/>
              <p:cNvSpPr/>
              <p:nvPr/>
            </p:nvSpPr>
            <p:spPr>
              <a:xfrm>
                <a:off x="0" y="6429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0" y="6429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8" name=""/>
          <p:cNvGrpSpPr/>
          <p:nvPr/>
        </p:nvGrpSpPr>
        <p:grpSpPr>
          <a:xfrm>
            <a:off x="2438280" y="1905120"/>
            <a:ext cx="4572000" cy="2076840"/>
            <a:chOff x="2438280" y="1905120"/>
            <a:chExt cx="4572000" cy="2076840"/>
          </a:xfrm>
        </p:grpSpPr>
        <p:sp>
          <p:nvSpPr>
            <p:cNvPr id="1099" name=""/>
            <p:cNvSpPr/>
            <p:nvPr/>
          </p:nvSpPr>
          <p:spPr>
            <a:xfrm>
              <a:off x="3505320" y="2057400"/>
              <a:ext cx="3504960" cy="192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will print whenever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is created or destroyed.  It can pri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because it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quires no arguments, it is linked implicitly to the object that calls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 flipV="1">
              <a:off x="2438280" y="1905120"/>
              <a:ext cx="10670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657240" y="4724280"/>
            <a:ext cx="3581280" cy="838080"/>
            <a:chOff x="3657240" y="4724280"/>
            <a:chExt cx="3581280" cy="838080"/>
          </a:xfrm>
        </p:grpSpPr>
        <p:sp>
          <p:nvSpPr>
            <p:cNvPr id="1102" name=""/>
            <p:cNvSpPr/>
            <p:nvPr/>
          </p:nvSpPr>
          <p:spPr>
            <a:xfrm flipH="1">
              <a:off x="3657240" y="5105160"/>
              <a:ext cx="1904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10080" y="4724280"/>
              <a:ext cx="1828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341B5-1E3B-4D01-907F-65AA4AD175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"/>
          <p:cNvGrpSpPr/>
          <p:nvPr/>
        </p:nvGrpSpPr>
        <p:grpSpPr>
          <a:xfrm>
            <a:off x="0" y="0"/>
            <a:ext cx="6628680" cy="6858000"/>
            <a:chOff x="0" y="0"/>
            <a:chExt cx="6628680" cy="6858000"/>
          </a:xfrm>
        </p:grpSpPr>
        <p:grpSp>
          <p:nvGrpSpPr>
            <p:cNvPr id="1105" name=""/>
            <p:cNvGrpSpPr/>
            <p:nvPr/>
          </p:nvGrpSpPr>
          <p:grpSpPr>
            <a:xfrm>
              <a:off x="0" y="0"/>
              <a:ext cx="6628680" cy="326520"/>
              <a:chOff x="0" y="0"/>
              <a:chExt cx="6628680" cy="326520"/>
            </a:xfrm>
          </p:grpSpPr>
          <p:sp>
            <p:nvSpPr>
              <p:cNvPr id="1106" name=""/>
              <p:cNvSpPr/>
              <p:nvPr/>
            </p:nvSpPr>
            <p:spPr>
              <a:xfrm>
                <a:off x="0" y="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0" y="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4: fig07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0" y="326520"/>
              <a:ext cx="6628680" cy="326520"/>
              <a:chOff x="0" y="326520"/>
              <a:chExt cx="6628680" cy="326520"/>
            </a:xfrm>
          </p:grpSpPr>
          <p:sp>
            <p:nvSpPr>
              <p:cNvPr id="1109" name=""/>
              <p:cNvSpPr/>
              <p:nvPr/>
            </p:nvSpPr>
            <p:spPr>
              <a:xfrm>
                <a:off x="0" y="326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0" y="326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composition: an object with member object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0" y="653040"/>
              <a:ext cx="6628680" cy="326520"/>
              <a:chOff x="0" y="653040"/>
              <a:chExt cx="6628680" cy="326520"/>
            </a:xfrm>
          </p:grpSpPr>
          <p:sp>
            <p:nvSpPr>
              <p:cNvPr id="1112" name=""/>
              <p:cNvSpPr/>
              <p:nvPr/>
            </p:nvSpPr>
            <p:spPr>
              <a:xfrm>
                <a:off x="0" y="653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0" y="653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0" y="979560"/>
              <a:ext cx="6628680" cy="326520"/>
              <a:chOff x="0" y="979560"/>
              <a:chExt cx="6628680" cy="326520"/>
            </a:xfrm>
          </p:grpSpPr>
          <p:sp>
            <p:nvSpPr>
              <p:cNvPr id="1115" name=""/>
              <p:cNvSpPr/>
              <p:nvPr/>
            </p:nvSpPr>
            <p:spPr>
              <a:xfrm>
                <a:off x="0" y="979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0" y="979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0" y="1306080"/>
              <a:ext cx="6628680" cy="326520"/>
              <a:chOff x="0" y="1306080"/>
              <a:chExt cx="6628680" cy="326520"/>
            </a:xfrm>
          </p:grpSpPr>
          <p:sp>
            <p:nvSpPr>
              <p:cNvPr id="1118" name=""/>
              <p:cNvSpPr/>
              <p:nvPr/>
            </p:nvSpPr>
            <p:spPr>
              <a:xfrm>
                <a:off x="0" y="1306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0" y="1306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0" y="1632600"/>
              <a:ext cx="6628680" cy="326520"/>
              <a:chOff x="0" y="1632600"/>
              <a:chExt cx="6628680" cy="326520"/>
            </a:xfrm>
          </p:grpSpPr>
          <p:sp>
            <p:nvSpPr>
              <p:cNvPr id="1121" name=""/>
              <p:cNvSpPr/>
              <p:nvPr/>
            </p:nvSpPr>
            <p:spPr>
              <a:xfrm>
                <a:off x="0" y="1632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0" y="1632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0" y="1959120"/>
              <a:ext cx="6628680" cy="326520"/>
              <a:chOff x="0" y="1959120"/>
              <a:chExt cx="6628680" cy="326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0" y="19591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0" y="19591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0" y="2286000"/>
              <a:ext cx="6628680" cy="326520"/>
              <a:chOff x="0" y="2286000"/>
              <a:chExt cx="6628680" cy="326520"/>
            </a:xfrm>
          </p:grpSpPr>
          <p:sp>
            <p:nvSpPr>
              <p:cNvPr id="1127" name=""/>
              <p:cNvSpPr/>
              <p:nvPr/>
            </p:nvSpPr>
            <p:spPr>
              <a:xfrm>
                <a:off x="0" y="2286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0" y="2286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0" y="2612520"/>
              <a:ext cx="6628680" cy="326520"/>
              <a:chOff x="0" y="2612520"/>
              <a:chExt cx="6628680" cy="326520"/>
            </a:xfrm>
          </p:grpSpPr>
          <p:sp>
            <p:nvSpPr>
              <p:cNvPr id="1130" name=""/>
              <p:cNvSpPr/>
              <p:nvPr/>
            </p:nvSpPr>
            <p:spPr>
              <a:xfrm>
                <a:off x="0" y="2612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0" y="2612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0" y="2939040"/>
              <a:ext cx="6628680" cy="326520"/>
              <a:chOff x="0" y="2939040"/>
              <a:chExt cx="6628680" cy="326520"/>
            </a:xfrm>
          </p:grpSpPr>
          <p:sp>
            <p:nvSpPr>
              <p:cNvPr id="1133" name=""/>
              <p:cNvSpPr/>
              <p:nvPr/>
            </p:nvSpPr>
            <p:spPr>
              <a:xfrm>
                <a:off x="0" y="2939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0" y="2939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0" y="3265560"/>
              <a:ext cx="6628680" cy="326520"/>
              <a:chOff x="0" y="3265560"/>
              <a:chExt cx="6628680" cy="326520"/>
            </a:xfrm>
          </p:grpSpPr>
          <p:sp>
            <p:nvSpPr>
              <p:cNvPr id="1136" name=""/>
              <p:cNvSpPr/>
              <p:nvPr/>
            </p:nvSpPr>
            <p:spPr>
              <a:xfrm>
                <a:off x="0" y="3265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0" y="3265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0" y="3592440"/>
              <a:ext cx="6628680" cy="326520"/>
              <a:chOff x="0" y="3592440"/>
              <a:chExt cx="6628680" cy="326520"/>
            </a:xfrm>
          </p:grpSpPr>
          <p:sp>
            <p:nvSpPr>
              <p:cNvPr id="1139" name=""/>
              <p:cNvSpPr/>
              <p:nvPr/>
            </p:nvSpPr>
            <p:spPr>
              <a:xfrm>
                <a:off x="0" y="35924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0" y="35924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 e( "Bob", "Jones", 7, 24, 1949, 3, 12, 1988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0" y="3918960"/>
              <a:ext cx="6628680" cy="326520"/>
              <a:chOff x="0" y="3918960"/>
              <a:chExt cx="6628680" cy="326520"/>
            </a:xfrm>
          </p:grpSpPr>
          <p:sp>
            <p:nvSpPr>
              <p:cNvPr id="1142" name=""/>
              <p:cNvSpPr/>
              <p:nvPr/>
            </p:nvSpPr>
            <p:spPr>
              <a:xfrm>
                <a:off x="0" y="39189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0" y="39189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0" y="4245480"/>
              <a:ext cx="6628680" cy="326520"/>
              <a:chOff x="0" y="4245480"/>
              <a:chExt cx="6628680" cy="326520"/>
            </a:xfrm>
          </p:grpSpPr>
          <p:sp>
            <p:nvSpPr>
              <p:cNvPr id="1145" name=""/>
              <p:cNvSpPr/>
              <p:nvPr/>
            </p:nvSpPr>
            <p:spPr>
              <a:xfrm>
                <a:off x="0" y="4245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0" y="4245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0" y="4572000"/>
              <a:ext cx="6628680" cy="326520"/>
              <a:chOff x="0" y="4572000"/>
              <a:chExt cx="6628680" cy="326520"/>
            </a:xfrm>
          </p:grpSpPr>
          <p:sp>
            <p:nvSpPr>
              <p:cNvPr id="1148" name=""/>
              <p:cNvSpPr/>
              <p:nvPr/>
            </p:nvSpPr>
            <p:spPr>
              <a:xfrm>
                <a:off x="0" y="4572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0" y="4572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0" y="4898520"/>
              <a:ext cx="6628680" cy="326520"/>
              <a:chOff x="0" y="4898520"/>
              <a:chExt cx="6628680" cy="326520"/>
            </a:xfrm>
          </p:grpSpPr>
          <p:sp>
            <p:nvSpPr>
              <p:cNvPr id="1151" name=""/>
              <p:cNvSpPr/>
              <p:nvPr/>
            </p:nvSpPr>
            <p:spPr>
              <a:xfrm>
                <a:off x="0" y="4898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0" y="4898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0" y="5225040"/>
              <a:ext cx="6628680" cy="326520"/>
              <a:chOff x="0" y="5225040"/>
              <a:chExt cx="6628680" cy="326520"/>
            </a:xfrm>
          </p:grpSpPr>
          <p:sp>
            <p:nvSpPr>
              <p:cNvPr id="1154" name=""/>
              <p:cNvSpPr/>
              <p:nvPr/>
            </p:nvSpPr>
            <p:spPr>
              <a:xfrm>
                <a:off x="0" y="5225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5225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est Date constructor with invalid value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0" y="5551560"/>
              <a:ext cx="6628680" cy="326520"/>
              <a:chOff x="0" y="5551560"/>
              <a:chExt cx="6628680" cy="326520"/>
            </a:xfrm>
          </p:grpSpPr>
          <p:sp>
            <p:nvSpPr>
              <p:cNvPr id="1157" name=""/>
              <p:cNvSpPr/>
              <p:nvPr/>
            </p:nvSpPr>
            <p:spPr>
              <a:xfrm>
                <a:off x="0" y="5551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0" y="5551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 d( 14, 35, 1994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valid Date valu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0" y="5878080"/>
              <a:ext cx="6628680" cy="326520"/>
              <a:chOff x="0" y="5878080"/>
              <a:chExt cx="6628680" cy="326520"/>
            </a:xfrm>
          </p:grpSpPr>
          <p:sp>
            <p:nvSpPr>
              <p:cNvPr id="1160" name=""/>
              <p:cNvSpPr/>
              <p:nvPr/>
            </p:nvSpPr>
            <p:spPr>
              <a:xfrm>
                <a:off x="0" y="5878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5878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0" y="6204600"/>
              <a:ext cx="6628680" cy="326520"/>
              <a:chOff x="0" y="6204600"/>
              <a:chExt cx="6628680" cy="326520"/>
            </a:xfrm>
          </p:grpSpPr>
          <p:sp>
            <p:nvSpPr>
              <p:cNvPr id="1163" name=""/>
              <p:cNvSpPr/>
              <p:nvPr/>
            </p:nvSpPr>
            <p:spPr>
              <a:xfrm>
                <a:off x="0" y="6204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0" y="6204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0" y="6531480"/>
              <a:ext cx="6628680" cy="326520"/>
              <a:chOff x="0" y="6531480"/>
              <a:chExt cx="6628680" cy="326520"/>
            </a:xfrm>
          </p:grpSpPr>
          <p:sp>
            <p:nvSpPr>
              <p:cNvPr id="1166" name=""/>
              <p:cNvSpPr/>
              <p:nvPr/>
            </p:nvSpPr>
            <p:spPr>
              <a:xfrm>
                <a:off x="0" y="6531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0" y="6531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Attempt inval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sett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2209320" y="2286000"/>
            <a:ext cx="4115160" cy="824040"/>
            <a:chOff x="2209320" y="2286000"/>
            <a:chExt cx="4115160" cy="824040"/>
          </a:xfrm>
        </p:grpSpPr>
        <p:sp>
          <p:nvSpPr>
            <p:cNvPr id="1170" name=""/>
            <p:cNvSpPr/>
            <p:nvPr/>
          </p:nvSpPr>
          <p:spPr>
            <a:xfrm flipH="1" flipV="1">
              <a:off x="2209320" y="2514240"/>
              <a:ext cx="1752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352680" y="22860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y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as to be loaded; that file has the command to lo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2717-E7E6-41D2-84F6-6970EBAE83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s 6 through 8 discuss object-based programming (OB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s 9 and 10 discuss inheritance and polymorph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9C5F-F46B-4CED-AA12-95D25C423B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73" name=""/>
          <p:cNvSpPr/>
          <p:nvPr/>
        </p:nvSpPr>
        <p:spPr>
          <a:xfrm>
            <a:off x="0" y="0"/>
            <a:ext cx="662940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constructor for date 7/24/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constructor for date 3/12/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object constructor: Bob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ones, 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ired: 3/12/1988  Birth date: 7/24/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 Date constructor with invalid val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nth 14 invalid. Set to month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y 35 invalid. Set to day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constructor for date 1/1/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destructor for date 1/1/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object destructor: Jones, 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destructor for date 3/12/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 object destructor for date 7/24/194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2666520" y="456840"/>
            <a:ext cx="6096600" cy="3552840"/>
            <a:chOff x="2666520" y="456840"/>
            <a:chExt cx="6096600" cy="3552840"/>
          </a:xfrm>
        </p:grpSpPr>
        <p:sp>
          <p:nvSpPr>
            <p:cNvPr id="1175" name=""/>
            <p:cNvSpPr/>
            <p:nvPr/>
          </p:nvSpPr>
          <p:spPr>
            <a:xfrm>
              <a:off x="4267080" y="3429000"/>
              <a:ext cx="44960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inner objects are created first and destroyed la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 flipV="1">
              <a:off x="3809880" y="456840"/>
              <a:ext cx="243864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 flipV="1">
              <a:off x="2666520" y="3123720"/>
              <a:ext cx="1600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6B9A4-1784-415F-BEBF-1E039BDEFE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riend Functions and frien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acce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are not member functions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outside of class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friend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iendship is granted, not t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symmetric (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t necessarily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transitive (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t necessarily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3BE5-EB1E-4B20-BA1D-D6D2A6B807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riend Functions and frien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declar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the function prototype in the class that is giving friend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int myFunction( int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appear in the class giving friend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declar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the class that is giving friend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O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granting friendship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Tw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ClassTw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appear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O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's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2D44-54AD-4C2C-AD41-1FF6B532C7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clare function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ien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184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5: fig07_05.cpp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riends can access private members of a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odified Count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212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X( Count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riend decla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215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218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() { x = 0; }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221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x &lt;&lt; endl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224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227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 //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230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233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236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n modify private data of Count becau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239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X is declared as a friend function of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242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X( Count &amp;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245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248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.x = va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legal: setX is a friend of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1251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1254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257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260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1263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 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1266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269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unter.x after instantiation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272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4" name=""/>
          <p:cNvGrpSpPr/>
          <p:nvPr/>
        </p:nvGrpSpPr>
        <p:grpSpPr>
          <a:xfrm>
            <a:off x="2590560" y="3505320"/>
            <a:ext cx="4190760" cy="838080"/>
            <a:chOff x="2590560" y="3505320"/>
            <a:chExt cx="4190760" cy="838080"/>
          </a:xfrm>
        </p:grpSpPr>
        <p:sp>
          <p:nvSpPr>
            <p:cNvPr id="1275" name=""/>
            <p:cNvSpPr/>
            <p:nvPr/>
          </p:nvSpPr>
          <p:spPr>
            <a:xfrm>
              <a:off x="4419360" y="350532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defined normally and is not a member func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2590560" y="4038480"/>
              <a:ext cx="182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666520" y="533520"/>
            <a:ext cx="3657960" cy="1600200"/>
            <a:chOff x="2666520" y="533520"/>
            <a:chExt cx="3657960" cy="1600200"/>
          </a:xfrm>
        </p:grpSpPr>
        <p:sp>
          <p:nvSpPr>
            <p:cNvPr id="1278" name=""/>
            <p:cNvSpPr/>
            <p:nvPr/>
          </p:nvSpPr>
          <p:spPr>
            <a:xfrm>
              <a:off x="3809880" y="5335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can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2666520" y="1143000"/>
              <a:ext cx="1143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219320" y="3428640"/>
            <a:ext cx="5638680" cy="1448280"/>
            <a:chOff x="1219320" y="3428640"/>
            <a:chExt cx="5638680" cy="1448280"/>
          </a:xfrm>
        </p:grpSpPr>
        <p:grpSp>
          <p:nvGrpSpPr>
            <p:cNvPr id="1281" name=""/>
            <p:cNvGrpSpPr/>
            <p:nvPr/>
          </p:nvGrpSpPr>
          <p:grpSpPr>
            <a:xfrm>
              <a:off x="1599840" y="4419720"/>
              <a:ext cx="5258160" cy="457200"/>
              <a:chOff x="1599840" y="4419720"/>
              <a:chExt cx="5258160" cy="457200"/>
            </a:xfrm>
          </p:grpSpPr>
          <p:sp>
            <p:nvSpPr>
              <p:cNvPr id="1282" name=""/>
              <p:cNvSpPr/>
              <p:nvPr/>
            </p:nvSpPr>
            <p:spPr>
              <a:xfrm flipH="1">
                <a:off x="1599840" y="4648320"/>
                <a:ext cx="2057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352680" y="4419720"/>
                <a:ext cx="3505320" cy="337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hang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vat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variables allowe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 flipH="1" flipV="1">
              <a:off x="1219320" y="3428640"/>
              <a:ext cx="21333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CDCA8-849F-4A1C-888C-ABA1823DF8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Modify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0" y="0"/>
            <a:ext cx="6705000" cy="1980720"/>
            <a:chOff x="0" y="0"/>
            <a:chExt cx="6705000" cy="1980720"/>
          </a:xfrm>
        </p:grpSpPr>
        <p:grpSp>
          <p:nvGrpSpPr>
            <p:cNvPr id="1287" name=""/>
            <p:cNvGrpSpPr/>
            <p:nvPr/>
          </p:nvGrpSpPr>
          <p:grpSpPr>
            <a:xfrm>
              <a:off x="0" y="0"/>
              <a:ext cx="6705000" cy="396000"/>
              <a:chOff x="0" y="0"/>
              <a:chExt cx="6705000" cy="396000"/>
            </a:xfrm>
          </p:grpSpPr>
          <p:sp>
            <p:nvSpPr>
              <p:cNvPr id="1288" name=""/>
              <p:cNvSpPr/>
              <p:nvPr/>
            </p:nvSpPr>
            <p:spPr>
              <a:xfrm>
                <a:off x="0" y="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unter.x after call to setX friend function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0" y="396000"/>
              <a:ext cx="6705000" cy="396000"/>
              <a:chOff x="0" y="396000"/>
              <a:chExt cx="6705000" cy="396000"/>
            </a:xfrm>
          </p:grpSpPr>
          <p:sp>
            <p:nvSpPr>
              <p:cNvPr id="1291" name=""/>
              <p:cNvSpPr/>
              <p:nvPr/>
            </p:nvSpPr>
            <p:spPr>
              <a:xfrm>
                <a:off x="0" y="39600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0" y="39600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X( counter, 8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x with a fri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0" y="792360"/>
              <a:ext cx="6705000" cy="396360"/>
              <a:chOff x="0" y="792360"/>
              <a:chExt cx="6705000" cy="396360"/>
            </a:xfrm>
          </p:grpSpPr>
          <p:sp>
            <p:nvSpPr>
              <p:cNvPr id="1294" name=""/>
              <p:cNvSpPr/>
              <p:nvPr/>
            </p:nvSpPr>
            <p:spPr>
              <a:xfrm>
                <a:off x="0" y="792360"/>
                <a:ext cx="6705000" cy="396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0" y="792360"/>
                <a:ext cx="6705000" cy="396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0" y="1188720"/>
              <a:ext cx="6705000" cy="396000"/>
              <a:chOff x="0" y="1188720"/>
              <a:chExt cx="6705000" cy="396000"/>
            </a:xfrm>
          </p:grpSpPr>
          <p:sp>
            <p:nvSpPr>
              <p:cNvPr id="1297" name=""/>
              <p:cNvSpPr/>
              <p:nvPr/>
            </p:nvSpPr>
            <p:spPr>
              <a:xfrm>
                <a:off x="0" y="1188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0" y="1188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0" y="1584720"/>
              <a:ext cx="6705000" cy="396000"/>
              <a:chOff x="0" y="1584720"/>
              <a:chExt cx="6705000" cy="396000"/>
            </a:xfrm>
          </p:grpSpPr>
          <p:sp>
            <p:nvSpPr>
              <p:cNvPr id="1300" name=""/>
              <p:cNvSpPr/>
              <p:nvPr/>
            </p:nvSpPr>
            <p:spPr>
              <a:xfrm>
                <a:off x="0" y="1584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0" y="1584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2" name=""/>
          <p:cNvSpPr/>
          <p:nvPr/>
        </p:nvSpPr>
        <p:spPr>
          <a:xfrm>
            <a:off x="0" y="2362320"/>
            <a:ext cx="670572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er.x after instantiation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er.x after call to setX friend function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048120" y="2895480"/>
            <a:ext cx="3581280" cy="1099440"/>
            <a:chOff x="3048120" y="2895480"/>
            <a:chExt cx="3581280" cy="1099440"/>
          </a:xfrm>
        </p:grpSpPr>
        <p:sp>
          <p:nvSpPr>
            <p:cNvPr id="1304" name=""/>
            <p:cNvSpPr/>
            <p:nvPr/>
          </p:nvSpPr>
          <p:spPr>
            <a:xfrm>
              <a:off x="3886200" y="365760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 was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flipV="1">
              <a:off x="3048120" y="2895480"/>
              <a:ext cx="838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ED878-C1F7-4F74-BC5B-AACE49A1B0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67816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(Previous program witho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eclared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308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309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6: fig07_06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312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friend/non-member functions cannot ac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315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vate data of a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318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321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324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327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330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333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odified Count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5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336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339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342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() { x = 0; }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345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cout &lt;&lt; x &lt;&lt; endl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348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351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3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354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6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357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9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360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tries to modify private data of Coun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363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ut cannot because it is not a friend of Coun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366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nnotSetX( Count &amp;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369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372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.x = va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RROR: 'Count::x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375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378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381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384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387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 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390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2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393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annotSetX( counter, 3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nnotSetX is not a fri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5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396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399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1" name=""/>
          <p:cNvGrpSpPr/>
          <p:nvPr/>
        </p:nvGrpSpPr>
        <p:grpSpPr>
          <a:xfrm>
            <a:off x="1523520" y="1295280"/>
            <a:ext cx="4725000" cy="2895840"/>
            <a:chOff x="1523520" y="1295280"/>
            <a:chExt cx="4725000" cy="2895840"/>
          </a:xfrm>
        </p:grpSpPr>
        <p:sp>
          <p:nvSpPr>
            <p:cNvPr id="1402" name=""/>
            <p:cNvSpPr/>
            <p:nvPr/>
          </p:nvSpPr>
          <p:spPr>
            <a:xfrm>
              <a:off x="3200400" y="12952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nnot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 It cannot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1523520" y="1676520"/>
              <a:ext cx="167652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990360" y="3352320"/>
            <a:ext cx="5486760" cy="2819880"/>
            <a:chOff x="990360" y="3352320"/>
            <a:chExt cx="5486760" cy="2819880"/>
          </a:xfrm>
        </p:grpSpPr>
        <p:sp>
          <p:nvSpPr>
            <p:cNvPr id="1405" name=""/>
            <p:cNvSpPr/>
            <p:nvPr/>
          </p:nvSpPr>
          <p:spPr>
            <a:xfrm>
              <a:off x="3962520" y="51814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nnot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ries to modify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2285640" y="5562720"/>
              <a:ext cx="1676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 flipV="1">
              <a:off x="1371240" y="4952880"/>
              <a:ext cx="2590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 flipV="1">
              <a:off x="990360" y="3352320"/>
              <a:ext cx="29718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B4B5-8A58-414D-B3A5-3D75D5AD7C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10" name=""/>
          <p:cNvSpPr/>
          <p:nvPr/>
        </p:nvSpPr>
        <p:spPr>
          <a:xfrm>
            <a:off x="0" y="0"/>
            <a:ext cx="662940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7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books\2000\cpphtp3\examples\Ch07\Fig07_06\Fig07_06.cpp(22)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C2248: 'x' : cannot access private member declared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'Coun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books\2000\cpphtp3\examples\Ch07\Fig07_06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7_06.cpp(15) : see declaration of 'x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.exe - 1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2362320" y="990360"/>
            <a:ext cx="3886200" cy="1800000"/>
            <a:chOff x="2362320" y="990360"/>
            <a:chExt cx="3886200" cy="1800000"/>
          </a:xfrm>
        </p:grpSpPr>
        <p:sp>
          <p:nvSpPr>
            <p:cNvPr id="1412" name=""/>
            <p:cNvSpPr/>
            <p:nvPr/>
          </p:nvSpPr>
          <p:spPr>
            <a:xfrm>
              <a:off x="3200400" y="220968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ected compiler error - cannot acces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v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 flipV="1">
              <a:off x="2362320" y="99036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1F4D8-8754-4BA1-AB63-14DB30F936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objects to access their ow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part of the object itsel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icit first argument on non-static member function call to th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icitly reference member data and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ype of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depends upon the type of the object and whether the member function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* con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is has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 Employee * con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B3A2-BB66-4EBD-95E1-9B8FC53229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this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 member function print data me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i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-&gt;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*this )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returns a reference pointer to the sam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return *this; 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functions can operate on tha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hat do not return references must be called 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DC56-1AF2-4298-ACAC-00984591570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this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Minu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Seco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ll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ference to an obje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obj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ons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Hour(1).setMinute(2)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Hour(1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ference to object) and the expression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Minute(2)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Minute(2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reference and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Second(3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reference and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no eff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0261-844E-4DC3-9E05-8B25F4A7B4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 (Constant) Objects and const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 of least privi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give objects permissions they need, no mo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that an object is not modif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attempt to modify the object i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Time noon( 12, 0, 0 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nitializes it to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F382-B983-4753-8F78-AFC44ADE45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422" name=""/>
            <p:cNvGrpSpPr/>
            <p:nvPr/>
          </p:nvGrpSpPr>
          <p:grpSpPr>
            <a:xfrm>
              <a:off x="0" y="0"/>
              <a:ext cx="6705000" cy="214200"/>
              <a:chOff x="0" y="0"/>
              <a:chExt cx="6705000" cy="214200"/>
            </a:xfrm>
          </p:grpSpPr>
          <p:sp>
            <p:nvSpPr>
              <p:cNvPr id="1423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7: fig07_07.cpp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0" y="214200"/>
              <a:ext cx="6705000" cy="214200"/>
              <a:chOff x="0" y="214200"/>
              <a:chExt cx="6705000" cy="214200"/>
            </a:xfrm>
          </p:grpSpPr>
          <p:sp>
            <p:nvSpPr>
              <p:cNvPr id="1426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the this pointer to refer to object membe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0" y="428400"/>
              <a:ext cx="6705000" cy="214200"/>
              <a:chOff x="0" y="428400"/>
              <a:chExt cx="6705000" cy="214200"/>
            </a:xfrm>
          </p:grpSpPr>
          <p:sp>
            <p:nvSpPr>
              <p:cNvPr id="1429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0" y="642960"/>
              <a:ext cx="6705000" cy="214200"/>
              <a:chOff x="0" y="642960"/>
              <a:chExt cx="6705000" cy="214200"/>
            </a:xfrm>
          </p:grpSpPr>
          <p:sp>
            <p:nvSpPr>
              <p:cNvPr id="1432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0" y="857160"/>
              <a:ext cx="6705000" cy="214200"/>
              <a:chOff x="0" y="857160"/>
              <a:chExt cx="6705000" cy="214200"/>
            </a:xfrm>
          </p:grpSpPr>
          <p:sp>
            <p:nvSpPr>
              <p:cNvPr id="1435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0" y="1071360"/>
              <a:ext cx="6705000" cy="214200"/>
              <a:chOff x="0" y="1071360"/>
              <a:chExt cx="6705000" cy="214200"/>
            </a:xfrm>
          </p:grpSpPr>
          <p:sp>
            <p:nvSpPr>
              <p:cNvPr id="1438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0" y="1285560"/>
              <a:ext cx="6705000" cy="214200"/>
              <a:chOff x="0" y="1285560"/>
              <a:chExt cx="6705000" cy="214200"/>
            </a:xfrm>
          </p:grpSpPr>
          <p:sp>
            <p:nvSpPr>
              <p:cNvPr id="1441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0" y="1500120"/>
              <a:ext cx="6705000" cy="214200"/>
              <a:chOff x="0" y="1500120"/>
              <a:chExt cx="6705000" cy="214200"/>
            </a:xfrm>
          </p:grpSpPr>
          <p:sp>
            <p:nvSpPr>
              <p:cNvPr id="1444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0" y="1714320"/>
              <a:ext cx="6705000" cy="214200"/>
              <a:chOff x="0" y="1714320"/>
              <a:chExt cx="6705000" cy="214200"/>
            </a:xfrm>
          </p:grpSpPr>
          <p:sp>
            <p:nvSpPr>
              <p:cNvPr id="1447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0" y="1928520"/>
              <a:ext cx="6705000" cy="214200"/>
              <a:chOff x="0" y="1928520"/>
              <a:chExt cx="6705000" cy="214200"/>
            </a:xfrm>
          </p:grpSpPr>
          <p:sp>
            <p:nvSpPr>
              <p:cNvPr id="1450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es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0" y="2143080"/>
              <a:ext cx="6705000" cy="214200"/>
              <a:chOff x="0" y="2143080"/>
              <a:chExt cx="6705000" cy="214200"/>
            </a:xfrm>
          </p:grpSpPr>
          <p:sp>
            <p:nvSpPr>
              <p:cNvPr id="1453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0" y="2357280"/>
              <a:ext cx="6705000" cy="214200"/>
              <a:chOff x="0" y="2357280"/>
              <a:chExt cx="6705000" cy="214200"/>
            </a:xfrm>
          </p:grpSpPr>
          <p:sp>
            <p:nvSpPr>
              <p:cNvPr id="1456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0" y="2571480"/>
              <a:ext cx="6705000" cy="214200"/>
              <a:chOff x="0" y="2571480"/>
              <a:chExt cx="6705000" cy="214200"/>
            </a:xfrm>
          </p:grpSpPr>
          <p:sp>
            <p:nvSpPr>
              <p:cNvPr id="1459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0" y="2786040"/>
              <a:ext cx="6705000" cy="214200"/>
              <a:chOff x="0" y="2786040"/>
              <a:chExt cx="6705000" cy="214200"/>
            </a:xfrm>
          </p:grpSpPr>
          <p:sp>
            <p:nvSpPr>
              <p:cNvPr id="1462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0" y="3000240"/>
              <a:ext cx="6705000" cy="214200"/>
              <a:chOff x="0" y="3000240"/>
              <a:chExt cx="6705000" cy="214200"/>
            </a:xfrm>
          </p:grpSpPr>
          <p:sp>
            <p:nvSpPr>
              <p:cNvPr id="1465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0" y="3214800"/>
              <a:ext cx="6705000" cy="214200"/>
              <a:chOff x="0" y="3214800"/>
              <a:chExt cx="6705000" cy="214200"/>
            </a:xfrm>
          </p:grpSpPr>
          <p:sp>
            <p:nvSpPr>
              <p:cNvPr id="1468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est::Tes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 ) { x = a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0" y="3429000"/>
              <a:ext cx="6705000" cy="214200"/>
              <a:chOff x="0" y="3429000"/>
              <a:chExt cx="6705000" cy="214200"/>
            </a:xfrm>
          </p:grpSpPr>
          <p:sp>
            <p:nvSpPr>
              <p:cNvPr id="1471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0" y="3643200"/>
              <a:ext cx="6705000" cy="214200"/>
              <a:chOff x="0" y="3643200"/>
              <a:chExt cx="6705000" cy="214200"/>
            </a:xfrm>
          </p:grpSpPr>
          <p:sp>
            <p:nvSpPr>
              <p:cNvPr id="1474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( ) around *this requi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0" y="3857400"/>
              <a:ext cx="6705000" cy="214200"/>
              <a:chOff x="0" y="3857400"/>
              <a:chExt cx="6705000" cy="214200"/>
            </a:xfrm>
          </p:grpSpPr>
          <p:sp>
            <p:nvSpPr>
              <p:cNvPr id="1477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0" y="4071960"/>
              <a:ext cx="6705000" cy="214200"/>
              <a:chOff x="0" y="4071960"/>
              <a:chExt cx="6705000" cy="214200"/>
            </a:xfrm>
          </p:grpSpPr>
          <p:sp>
            <p:nvSpPr>
              <p:cNvPr id="1480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     x = " &lt;&lt;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0" y="4286160"/>
              <a:ext cx="6705000" cy="214200"/>
              <a:chOff x="0" y="4286160"/>
              <a:chExt cx="6705000" cy="214200"/>
            </a:xfrm>
          </p:grpSpPr>
          <p:sp>
            <p:nvSpPr>
              <p:cNvPr id="1483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this-&gt;x = " &lt;&lt; this-&gt;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0" y="4500360"/>
              <a:ext cx="6705000" cy="214200"/>
              <a:chOff x="0" y="4500360"/>
              <a:chExt cx="6705000" cy="214200"/>
            </a:xfrm>
          </p:grpSpPr>
          <p:sp>
            <p:nvSpPr>
              <p:cNvPr id="1486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(*this).x = " &lt;&lt; ( *this ).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0" y="4714920"/>
              <a:ext cx="6705000" cy="214200"/>
              <a:chOff x="0" y="4714920"/>
              <a:chExt cx="6705000" cy="214200"/>
            </a:xfrm>
          </p:grpSpPr>
          <p:sp>
            <p:nvSpPr>
              <p:cNvPr id="1489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0" y="4929120"/>
              <a:ext cx="6705000" cy="214200"/>
              <a:chOff x="0" y="4929120"/>
              <a:chExt cx="6705000" cy="214200"/>
            </a:xfrm>
          </p:grpSpPr>
          <p:sp>
            <p:nvSpPr>
              <p:cNvPr id="1492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0" y="5143320"/>
              <a:ext cx="6705000" cy="214200"/>
              <a:chOff x="0" y="5143320"/>
              <a:chExt cx="6705000" cy="214200"/>
            </a:xfrm>
          </p:grpSpPr>
          <p:sp>
            <p:nvSpPr>
              <p:cNvPr id="1495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0" y="5357880"/>
              <a:ext cx="6705000" cy="214200"/>
              <a:chOff x="0" y="5357880"/>
              <a:chExt cx="6705000" cy="214200"/>
            </a:xfrm>
          </p:grpSpPr>
          <p:sp>
            <p:nvSpPr>
              <p:cNvPr id="1498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0" y="5572080"/>
              <a:ext cx="6705000" cy="214200"/>
              <a:chOff x="0" y="5572080"/>
              <a:chExt cx="6705000" cy="214200"/>
            </a:xfrm>
          </p:grpSpPr>
          <p:sp>
            <p:nvSpPr>
              <p:cNvPr id="1501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est testObject( 1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0" y="5786280"/>
              <a:ext cx="6705000" cy="214200"/>
              <a:chOff x="0" y="5786280"/>
              <a:chExt cx="6705000" cy="214200"/>
            </a:xfrm>
          </p:grpSpPr>
          <p:sp>
            <p:nvSpPr>
              <p:cNvPr id="1504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0" y="6000840"/>
              <a:ext cx="6705000" cy="214200"/>
              <a:chOff x="0" y="6000840"/>
              <a:chExt cx="6705000" cy="214200"/>
            </a:xfrm>
          </p:grpSpPr>
          <p:sp>
            <p:nvSpPr>
              <p:cNvPr id="1507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estObject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0" y="6215040"/>
              <a:ext cx="6705000" cy="214200"/>
              <a:chOff x="0" y="6215040"/>
              <a:chExt cx="6705000" cy="214200"/>
            </a:xfrm>
          </p:grpSpPr>
          <p:sp>
            <p:nvSpPr>
              <p:cNvPr id="1510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0" y="6429240"/>
              <a:ext cx="6705000" cy="214200"/>
              <a:chOff x="0" y="6429240"/>
              <a:chExt cx="6705000" cy="214200"/>
            </a:xfrm>
          </p:grpSpPr>
          <p:sp>
            <p:nvSpPr>
              <p:cNvPr id="1513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0" y="6643800"/>
              <a:ext cx="6705000" cy="214200"/>
              <a:chOff x="0" y="6643800"/>
              <a:chExt cx="6705000" cy="214200"/>
            </a:xfrm>
          </p:grpSpPr>
          <p:sp>
            <p:nvSpPr>
              <p:cNvPr id="1516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8" name=""/>
          <p:cNvGrpSpPr/>
          <p:nvPr/>
        </p:nvGrpSpPr>
        <p:grpSpPr>
          <a:xfrm>
            <a:off x="2590560" y="2438280"/>
            <a:ext cx="2972160" cy="1676520"/>
            <a:chOff x="2590560" y="2438280"/>
            <a:chExt cx="2972160" cy="1676520"/>
          </a:xfrm>
        </p:grpSpPr>
        <p:sp>
          <p:nvSpPr>
            <p:cNvPr id="1519" name=""/>
            <p:cNvSpPr/>
            <p:nvPr/>
          </p:nvSpPr>
          <p:spPr>
            <a:xfrm>
              <a:off x="3581280" y="2438280"/>
              <a:ext cx="1981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2590560" y="2666880"/>
              <a:ext cx="9903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3505320" y="3352680"/>
            <a:ext cx="4343400" cy="990360"/>
            <a:chOff x="3505320" y="3352680"/>
            <a:chExt cx="4343400" cy="990360"/>
          </a:xfrm>
        </p:grpSpPr>
        <p:sp>
          <p:nvSpPr>
            <p:cNvPr id="1522" name=""/>
            <p:cNvSpPr/>
            <p:nvPr/>
          </p:nvSpPr>
          <p:spPr>
            <a:xfrm flipH="1">
              <a:off x="3505320" y="3733560"/>
              <a:ext cx="1218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48320" y="33526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the arr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-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of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2743200" y="4724280"/>
            <a:ext cx="6019920" cy="1299240"/>
            <a:chOff x="2743200" y="4724280"/>
            <a:chExt cx="6019920" cy="1299240"/>
          </a:xfrm>
        </p:grpSpPr>
        <p:sp>
          <p:nvSpPr>
            <p:cNvPr id="1525" name=""/>
            <p:cNvSpPr/>
            <p:nvPr/>
          </p:nvSpPr>
          <p:spPr>
            <a:xfrm flipH="1" flipV="1">
              <a:off x="2743200" y="472428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191120" y="4956120"/>
              <a:ext cx="4572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the dot (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operator. Parenthesis required because dot operator has higher precedence th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Without, interpreted incorrectly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(this.x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92DA8-80C6-4933-A2FE-45F0A50C99C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28" name=""/>
          <p:cNvSpPr/>
          <p:nvPr/>
        </p:nvSpPr>
        <p:spPr>
          <a:xfrm>
            <a:off x="0" y="0"/>
            <a:ext cx="662940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-&gt;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*this).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1523880" y="609120"/>
            <a:ext cx="4114800" cy="1724040"/>
            <a:chOff x="1523880" y="609120"/>
            <a:chExt cx="4114800" cy="1724040"/>
          </a:xfrm>
        </p:grpSpPr>
        <p:sp>
          <p:nvSpPr>
            <p:cNvPr id="1530" name=""/>
            <p:cNvSpPr/>
            <p:nvPr/>
          </p:nvSpPr>
          <p:spPr>
            <a:xfrm>
              <a:off x="3429000" y="17524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l three methods have the same resul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 flipV="1">
              <a:off x="1523880" y="609120"/>
              <a:ext cx="1905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65FB4-378E-41C9-A783-2B7125FAD4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534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53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8: time6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53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scading member function call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54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54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54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time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55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6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55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6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55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55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56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56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 =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56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57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et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57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&amp;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57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&amp;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58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&amp;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58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&amp;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58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58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ge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59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turn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59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turn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59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60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60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60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int military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61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int standard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61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61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61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62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62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62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63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2" name=""/>
              <p:cNvGrpSpPr/>
              <p:nvPr/>
            </p:nvGrpSpPr>
            <p:grpSpPr>
              <a:xfrm>
                <a:off x="0" y="6650280"/>
                <a:ext cx="6780600" cy="207720"/>
                <a:chOff x="0" y="6650280"/>
                <a:chExt cx="6780600" cy="207720"/>
              </a:xfrm>
            </p:grpSpPr>
            <p:sp>
              <p:nvSpPr>
                <p:cNvPr id="1633" name=""/>
                <p:cNvSpPr/>
                <p:nvPr/>
              </p:nvSpPr>
              <p:spPr>
                <a:xfrm>
                  <a:off x="0" y="6650280"/>
                  <a:ext cx="678060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0" y="6650280"/>
                  <a:ext cx="6780600" cy="20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5" name=""/>
          <p:cNvGrpSpPr/>
          <p:nvPr/>
        </p:nvGrpSpPr>
        <p:grpSpPr>
          <a:xfrm>
            <a:off x="1371240" y="2971440"/>
            <a:ext cx="5334480" cy="1296360"/>
            <a:chOff x="1371240" y="2971440"/>
            <a:chExt cx="5334480" cy="1296360"/>
          </a:xfrm>
        </p:grpSpPr>
        <p:sp>
          <p:nvSpPr>
            <p:cNvPr id="1636" name=""/>
            <p:cNvSpPr/>
            <p:nvPr/>
          </p:nvSpPr>
          <p:spPr>
            <a:xfrm>
              <a:off x="3886200" y="320040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 &amp;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 function returns a reference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 Specify object in function defin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 flipV="1">
              <a:off x="1371240" y="2971440"/>
              <a:ext cx="2514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1B76-0236-4228-B315-C59FAD9259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40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641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8: time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644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6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647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650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2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653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5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656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659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ime6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1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662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665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668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s member function setTime to set variabl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0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671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674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677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9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680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2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683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5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686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 &amp;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689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1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692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Hour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695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Minute( 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698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Second( s 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701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thi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704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707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710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713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 &amp;Time::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5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716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719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722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725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728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731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3" name=""/>
          <p:cNvGrpSpPr/>
          <p:nvPr/>
        </p:nvGrpSpPr>
        <p:grpSpPr>
          <a:xfrm>
            <a:off x="2133360" y="3429000"/>
            <a:ext cx="4343760" cy="990720"/>
            <a:chOff x="2133360" y="3429000"/>
            <a:chExt cx="4343760" cy="990720"/>
          </a:xfrm>
        </p:grpSpPr>
        <p:sp>
          <p:nvSpPr>
            <p:cNvPr id="1734" name=""/>
            <p:cNvSpPr/>
            <p:nvPr/>
          </p:nvSpPr>
          <p:spPr>
            <a:xfrm flipH="1">
              <a:off x="2133360" y="3733920"/>
              <a:ext cx="2819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733920" y="34290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nables cascading function c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0BC2A-694D-40EA-8619-B0DB595131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738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739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742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 &amp;Time::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4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745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7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748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751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754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757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760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763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766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 &amp;Time::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769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1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772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778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thi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781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784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787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9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790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793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796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799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1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802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1805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7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1808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811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814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military format time: HH:M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1817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1820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823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5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826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"/>
          <p:cNvGrpSpPr/>
          <p:nvPr/>
        </p:nvGrpSpPr>
        <p:grpSpPr>
          <a:xfrm>
            <a:off x="3733560" y="1599840"/>
            <a:ext cx="4343760" cy="1295280"/>
            <a:chOff x="3733560" y="1599840"/>
            <a:chExt cx="4343760" cy="1295280"/>
          </a:xfrm>
        </p:grpSpPr>
        <p:grpSp>
          <p:nvGrpSpPr>
            <p:cNvPr id="1829" name=""/>
            <p:cNvGrpSpPr/>
            <p:nvPr/>
          </p:nvGrpSpPr>
          <p:grpSpPr>
            <a:xfrm>
              <a:off x="3733560" y="1905120"/>
              <a:ext cx="4343760" cy="990000"/>
              <a:chOff x="3733560" y="1905120"/>
              <a:chExt cx="4343760" cy="990000"/>
            </a:xfrm>
          </p:grpSpPr>
          <p:sp>
            <p:nvSpPr>
              <p:cNvPr id="1830" name=""/>
              <p:cNvSpPr/>
              <p:nvPr/>
            </p:nvSpPr>
            <p:spPr>
              <a:xfrm flipH="1">
                <a:off x="3733560" y="2209680"/>
                <a:ext cx="281916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334120" y="1905120"/>
                <a:ext cx="2743200" cy="5806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turn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*thi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enables cascading function c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2" name=""/>
            <p:cNvSpPr/>
            <p:nvPr/>
          </p:nvSpPr>
          <p:spPr>
            <a:xfrm flipH="1" flipV="1">
              <a:off x="3962520" y="159984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CA11-CF43-43FC-9071-53D049FDF9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valu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34" name=""/>
          <p:cNvGrpSpPr/>
          <p:nvPr/>
        </p:nvGrpSpPr>
        <p:grpSpPr>
          <a:xfrm>
            <a:off x="0" y="0"/>
            <a:ext cx="6780960" cy="2133360"/>
            <a:chOff x="0" y="0"/>
            <a:chExt cx="6780960" cy="2133360"/>
          </a:xfrm>
        </p:grpSpPr>
        <p:grpSp>
          <p:nvGrpSpPr>
            <p:cNvPr id="1835" name=""/>
            <p:cNvGrpSpPr/>
            <p:nvPr/>
          </p:nvGrpSpPr>
          <p:grpSpPr>
            <a:xfrm>
              <a:off x="0" y="0"/>
              <a:ext cx="6780960" cy="213120"/>
              <a:chOff x="0" y="0"/>
              <a:chExt cx="6780960" cy="213120"/>
            </a:xfrm>
          </p:grpSpPr>
          <p:sp>
            <p:nvSpPr>
              <p:cNvPr id="1836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8" name=""/>
            <p:cNvGrpSpPr/>
            <p:nvPr/>
          </p:nvGrpSpPr>
          <p:grpSpPr>
            <a:xfrm>
              <a:off x="0" y="213120"/>
              <a:ext cx="6780960" cy="213120"/>
              <a:chOff x="0" y="213120"/>
              <a:chExt cx="6780960" cy="213120"/>
            </a:xfrm>
          </p:grpSpPr>
          <p:sp>
            <p:nvSpPr>
              <p:cNvPr id="1839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1" name=""/>
            <p:cNvGrpSpPr/>
            <p:nvPr/>
          </p:nvGrpSpPr>
          <p:grpSpPr>
            <a:xfrm>
              <a:off x="0" y="426600"/>
              <a:ext cx="6780960" cy="213480"/>
              <a:chOff x="0" y="426600"/>
              <a:chExt cx="6780960" cy="213480"/>
            </a:xfrm>
          </p:grpSpPr>
          <p:sp>
            <p:nvSpPr>
              <p:cNvPr id="1842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standard format time: HH:MM:SS AM (or P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4" name=""/>
            <p:cNvGrpSpPr/>
            <p:nvPr/>
          </p:nvGrpSpPr>
          <p:grpSpPr>
            <a:xfrm>
              <a:off x="0" y="640080"/>
              <a:ext cx="6780960" cy="213120"/>
              <a:chOff x="0" y="640080"/>
              <a:chExt cx="6780960" cy="213120"/>
            </a:xfrm>
          </p:grpSpPr>
          <p:sp>
            <p:nvSpPr>
              <p:cNvPr id="1845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Standar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0" y="853560"/>
              <a:ext cx="6780960" cy="213120"/>
              <a:chOff x="0" y="853560"/>
              <a:chExt cx="6780960" cy="213120"/>
            </a:xfrm>
          </p:grpSpPr>
          <p:sp>
            <p:nvSpPr>
              <p:cNvPr id="1848" name="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0" name=""/>
            <p:cNvGrpSpPr/>
            <p:nvPr/>
          </p:nvGrpSpPr>
          <p:grpSpPr>
            <a:xfrm>
              <a:off x="0" y="1066680"/>
              <a:ext cx="6780960" cy="213120"/>
              <a:chOff x="0" y="1066680"/>
              <a:chExt cx="6780960" cy="213120"/>
            </a:xfrm>
          </p:grpSpPr>
          <p:sp>
            <p:nvSpPr>
              <p:cNvPr id="1851" name="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hour == 0 || hour == 12 ) ? 12 : hour % 12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3" name=""/>
            <p:cNvGrpSpPr/>
            <p:nvPr/>
          </p:nvGrpSpPr>
          <p:grpSpPr>
            <a:xfrm>
              <a:off x="0" y="1280160"/>
              <a:ext cx="6780960" cy="213480"/>
              <a:chOff x="0" y="1280160"/>
              <a:chExt cx="6780960" cy="213480"/>
            </a:xfrm>
          </p:grpSpPr>
          <p:sp>
            <p:nvSpPr>
              <p:cNvPr id="1854" name="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minute &lt; 10 ? "0" : "" ) &lt;&lt; minu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6" name=""/>
            <p:cNvGrpSpPr/>
            <p:nvPr/>
          </p:nvGrpSpPr>
          <p:grpSpPr>
            <a:xfrm>
              <a:off x="0" y="1493640"/>
              <a:ext cx="6780960" cy="213120"/>
              <a:chOff x="0" y="1493640"/>
              <a:chExt cx="6780960" cy="213120"/>
            </a:xfrm>
          </p:grpSpPr>
          <p:sp>
            <p:nvSpPr>
              <p:cNvPr id="1857" name="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9" name=""/>
            <p:cNvGrpSpPr/>
            <p:nvPr/>
          </p:nvGrpSpPr>
          <p:grpSpPr>
            <a:xfrm>
              <a:off x="0" y="1707120"/>
              <a:ext cx="6780960" cy="213120"/>
              <a:chOff x="0" y="1707120"/>
              <a:chExt cx="6780960" cy="213120"/>
            </a:xfrm>
          </p:grpSpPr>
          <p:sp>
            <p:nvSpPr>
              <p:cNvPr id="1860" name="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2" name=""/>
            <p:cNvGrpSpPr/>
            <p:nvPr/>
          </p:nvGrpSpPr>
          <p:grpSpPr>
            <a:xfrm>
              <a:off x="0" y="1920240"/>
              <a:ext cx="6780960" cy="213120"/>
              <a:chOff x="0" y="1920240"/>
              <a:chExt cx="6780960" cy="213120"/>
            </a:xfrm>
          </p:grpSpPr>
          <p:sp>
            <p:nvSpPr>
              <p:cNvPr id="1863" name=""/>
              <p:cNvSpPr/>
              <p:nvPr/>
            </p:nvSpPr>
            <p:spPr>
              <a:xfrm>
                <a:off x="0" y="19202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4" name=""/>
              <p:cNvGrpSpPr/>
              <p:nvPr/>
            </p:nvGrpSpPr>
            <p:grpSpPr>
              <a:xfrm>
                <a:off x="0" y="1920240"/>
                <a:ext cx="6780600" cy="213120"/>
                <a:chOff x="0" y="1920240"/>
                <a:chExt cx="6780600" cy="21312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0" y="1920240"/>
                  <a:ext cx="6780600" cy="2131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0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0" y="1920240"/>
                  <a:ext cx="6780600" cy="21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67" name=""/>
          <p:cNvGrpSpPr/>
          <p:nvPr/>
        </p:nvGrpSpPr>
        <p:grpSpPr>
          <a:xfrm>
            <a:off x="0" y="2133720"/>
            <a:ext cx="6780960" cy="4724280"/>
            <a:chOff x="0" y="2133720"/>
            <a:chExt cx="6780960" cy="4724280"/>
          </a:xfrm>
        </p:grpSpPr>
        <p:grpSp>
          <p:nvGrpSpPr>
            <p:cNvPr id="1868" name=""/>
            <p:cNvGrpSpPr/>
            <p:nvPr/>
          </p:nvGrpSpPr>
          <p:grpSpPr>
            <a:xfrm>
              <a:off x="0" y="2133720"/>
              <a:ext cx="6780960" cy="214560"/>
              <a:chOff x="0" y="2133720"/>
              <a:chExt cx="6780960" cy="214560"/>
            </a:xfrm>
          </p:grpSpPr>
          <p:sp>
            <p:nvSpPr>
              <p:cNvPr id="1869" name=""/>
              <p:cNvSpPr/>
              <p:nvPr/>
            </p:nvSpPr>
            <p:spPr>
              <a:xfrm>
                <a:off x="0" y="2133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0" y="2133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8: fig07_08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"/>
            <p:cNvGrpSpPr/>
            <p:nvPr/>
          </p:nvGrpSpPr>
          <p:grpSpPr>
            <a:xfrm>
              <a:off x="0" y="2348280"/>
              <a:ext cx="6780960" cy="214560"/>
              <a:chOff x="0" y="2348280"/>
              <a:chExt cx="6780960" cy="214560"/>
            </a:xfrm>
          </p:grpSpPr>
          <p:sp>
            <p:nvSpPr>
              <p:cNvPr id="1872" name=""/>
              <p:cNvSpPr/>
              <p:nvPr/>
            </p:nvSpPr>
            <p:spPr>
              <a:xfrm>
                <a:off x="0" y="23482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0" y="23482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scading member function calls togeth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0" y="2562840"/>
              <a:ext cx="6780960" cy="214560"/>
              <a:chOff x="0" y="2562840"/>
              <a:chExt cx="6780960" cy="214560"/>
            </a:xfrm>
          </p:grpSpPr>
          <p:sp>
            <p:nvSpPr>
              <p:cNvPr id="1875" name=""/>
              <p:cNvSpPr/>
              <p:nvPr/>
            </p:nvSpPr>
            <p:spPr>
              <a:xfrm>
                <a:off x="0" y="25628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0" y="25628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th the thi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0" y="2777760"/>
              <a:ext cx="6780960" cy="214560"/>
              <a:chOff x="0" y="2777760"/>
              <a:chExt cx="6780960" cy="214560"/>
            </a:xfrm>
          </p:grpSpPr>
          <p:sp>
            <p:nvSpPr>
              <p:cNvPr id="1878" name=""/>
              <p:cNvSpPr/>
              <p:nvPr/>
            </p:nvSpPr>
            <p:spPr>
              <a:xfrm>
                <a:off x="0" y="27777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0" y="27777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0" y="2992680"/>
              <a:ext cx="6780960" cy="214560"/>
              <a:chOff x="0" y="2992680"/>
              <a:chExt cx="6780960" cy="214560"/>
            </a:xfrm>
          </p:grpSpPr>
          <p:sp>
            <p:nvSpPr>
              <p:cNvPr id="1881" name=""/>
              <p:cNvSpPr/>
              <p:nvPr/>
            </p:nvSpPr>
            <p:spPr>
              <a:xfrm>
                <a:off x="0" y="29926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0" y="29926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3" name=""/>
            <p:cNvGrpSpPr/>
            <p:nvPr/>
          </p:nvGrpSpPr>
          <p:grpSpPr>
            <a:xfrm>
              <a:off x="0" y="3207240"/>
              <a:ext cx="6780960" cy="214560"/>
              <a:chOff x="0" y="3207240"/>
              <a:chExt cx="6780960" cy="214560"/>
            </a:xfrm>
          </p:grpSpPr>
          <p:sp>
            <p:nvSpPr>
              <p:cNvPr id="1884" name=""/>
              <p:cNvSpPr/>
              <p:nvPr/>
            </p:nvSpPr>
            <p:spPr>
              <a:xfrm>
                <a:off x="0" y="32072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0" y="32072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0" y="3422160"/>
              <a:ext cx="6780960" cy="214560"/>
              <a:chOff x="0" y="3422160"/>
              <a:chExt cx="6780960" cy="214560"/>
            </a:xfrm>
          </p:grpSpPr>
          <p:sp>
            <p:nvSpPr>
              <p:cNvPr id="1887" name=""/>
              <p:cNvSpPr/>
              <p:nvPr/>
            </p:nvSpPr>
            <p:spPr>
              <a:xfrm>
                <a:off x="0" y="3422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0" y="3422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0" y="3636720"/>
              <a:ext cx="6780960" cy="214560"/>
              <a:chOff x="0" y="3636720"/>
              <a:chExt cx="6780960" cy="214560"/>
            </a:xfrm>
          </p:grpSpPr>
          <p:sp>
            <p:nvSpPr>
              <p:cNvPr id="1890" name=""/>
              <p:cNvSpPr/>
              <p:nvPr/>
            </p:nvSpPr>
            <p:spPr>
              <a:xfrm>
                <a:off x="0" y="3636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0" y="3636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0" y="3851640"/>
              <a:ext cx="6780960" cy="214560"/>
              <a:chOff x="0" y="3851640"/>
              <a:chExt cx="6780960" cy="214560"/>
            </a:xfrm>
          </p:grpSpPr>
          <p:sp>
            <p:nvSpPr>
              <p:cNvPr id="1893" name=""/>
              <p:cNvSpPr/>
              <p:nvPr/>
            </p:nvSpPr>
            <p:spPr>
              <a:xfrm>
                <a:off x="0" y="38516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0" y="38516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ime6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5" name=""/>
            <p:cNvGrpSpPr/>
            <p:nvPr/>
          </p:nvGrpSpPr>
          <p:grpSpPr>
            <a:xfrm>
              <a:off x="0" y="4066200"/>
              <a:ext cx="6780960" cy="214560"/>
              <a:chOff x="0" y="4066200"/>
              <a:chExt cx="6780960" cy="214560"/>
            </a:xfrm>
          </p:grpSpPr>
          <p:sp>
            <p:nvSpPr>
              <p:cNvPr id="1896" name=""/>
              <p:cNvSpPr/>
              <p:nvPr/>
            </p:nvSpPr>
            <p:spPr>
              <a:xfrm>
                <a:off x="0" y="40662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0" y="40662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"/>
            <p:cNvGrpSpPr/>
            <p:nvPr/>
          </p:nvGrpSpPr>
          <p:grpSpPr>
            <a:xfrm>
              <a:off x="0" y="4281120"/>
              <a:ext cx="6780960" cy="214560"/>
              <a:chOff x="0" y="4281120"/>
              <a:chExt cx="6780960" cy="214560"/>
            </a:xfrm>
          </p:grpSpPr>
          <p:sp>
            <p:nvSpPr>
              <p:cNvPr id="1899" name=""/>
              <p:cNvSpPr/>
              <p:nvPr/>
            </p:nvSpPr>
            <p:spPr>
              <a:xfrm>
                <a:off x="0" y="42811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0" y="42811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"/>
            <p:cNvGrpSpPr/>
            <p:nvPr/>
          </p:nvGrpSpPr>
          <p:grpSpPr>
            <a:xfrm>
              <a:off x="0" y="4496040"/>
              <a:ext cx="6780960" cy="214560"/>
              <a:chOff x="0" y="4496040"/>
              <a:chExt cx="6780960" cy="214560"/>
            </a:xfrm>
          </p:grpSpPr>
          <p:sp>
            <p:nvSpPr>
              <p:cNvPr id="1902" name=""/>
              <p:cNvSpPr/>
              <p:nvPr/>
            </p:nvSpPr>
            <p:spPr>
              <a:xfrm>
                <a:off x="0" y="4496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0" y="4496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0" y="4710600"/>
              <a:ext cx="6780960" cy="214560"/>
              <a:chOff x="0" y="4710600"/>
              <a:chExt cx="6780960" cy="214560"/>
            </a:xfrm>
          </p:grpSpPr>
          <p:sp>
            <p:nvSpPr>
              <p:cNvPr id="1905" name=""/>
              <p:cNvSpPr/>
              <p:nvPr/>
            </p:nvSpPr>
            <p:spPr>
              <a:xfrm>
                <a:off x="0" y="4710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0" y="4710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0" y="4925160"/>
              <a:ext cx="6780960" cy="214560"/>
              <a:chOff x="0" y="4925160"/>
              <a:chExt cx="6780960" cy="214560"/>
            </a:xfrm>
          </p:grpSpPr>
          <p:sp>
            <p:nvSpPr>
              <p:cNvPr id="1908" name=""/>
              <p:cNvSpPr/>
              <p:nvPr/>
            </p:nvSpPr>
            <p:spPr>
              <a:xfrm>
                <a:off x="0" y="4925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0" y="4925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0" name=""/>
            <p:cNvGrpSpPr/>
            <p:nvPr/>
          </p:nvGrpSpPr>
          <p:grpSpPr>
            <a:xfrm>
              <a:off x="0" y="5140080"/>
              <a:ext cx="6780960" cy="214560"/>
              <a:chOff x="0" y="5140080"/>
              <a:chExt cx="6780960" cy="214560"/>
            </a:xfrm>
          </p:grpSpPr>
          <p:sp>
            <p:nvSpPr>
              <p:cNvPr id="1911" name=""/>
              <p:cNvSpPr/>
              <p:nvPr/>
            </p:nvSpPr>
            <p:spPr>
              <a:xfrm>
                <a:off x="0" y="51400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0" y="51400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setHour( 18 ).setMinute( 30 ).setSecond( 2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3" name=""/>
            <p:cNvGrpSpPr/>
            <p:nvPr/>
          </p:nvGrpSpPr>
          <p:grpSpPr>
            <a:xfrm>
              <a:off x="0" y="5355000"/>
              <a:ext cx="6780960" cy="214560"/>
              <a:chOff x="0" y="5355000"/>
              <a:chExt cx="6780960" cy="214560"/>
            </a:xfrm>
          </p:grpSpPr>
          <p:sp>
            <p:nvSpPr>
              <p:cNvPr id="1914" name=""/>
              <p:cNvSpPr/>
              <p:nvPr/>
            </p:nvSpPr>
            <p:spPr>
              <a:xfrm>
                <a:off x="0" y="53550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0" y="53550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Military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0" y="5569560"/>
              <a:ext cx="6780960" cy="214560"/>
              <a:chOff x="0" y="5569560"/>
              <a:chExt cx="6780960" cy="214560"/>
            </a:xfrm>
          </p:grpSpPr>
          <p:sp>
            <p:nvSpPr>
              <p:cNvPr id="1917" name=""/>
              <p:cNvSpPr/>
              <p:nvPr/>
            </p:nvSpPr>
            <p:spPr>
              <a:xfrm>
                <a:off x="0" y="55695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0" y="55695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9" name=""/>
            <p:cNvGrpSpPr/>
            <p:nvPr/>
          </p:nvGrpSpPr>
          <p:grpSpPr>
            <a:xfrm>
              <a:off x="0" y="5784480"/>
              <a:ext cx="6780960" cy="214560"/>
              <a:chOff x="0" y="5784480"/>
              <a:chExt cx="6780960" cy="214560"/>
            </a:xfrm>
          </p:grpSpPr>
          <p:sp>
            <p:nvSpPr>
              <p:cNvPr id="1920" name=""/>
              <p:cNvSpPr/>
              <p:nvPr/>
            </p:nvSpPr>
            <p:spPr>
              <a:xfrm>
                <a:off x="0" y="57844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0" y="57844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2" name=""/>
            <p:cNvGrpSpPr/>
            <p:nvPr/>
          </p:nvGrpSpPr>
          <p:grpSpPr>
            <a:xfrm>
              <a:off x="0" y="5999040"/>
              <a:ext cx="6780960" cy="214560"/>
              <a:chOff x="0" y="5999040"/>
              <a:chExt cx="6780960" cy="214560"/>
            </a:xfrm>
          </p:grpSpPr>
          <p:sp>
            <p:nvSpPr>
              <p:cNvPr id="1923" name=""/>
              <p:cNvSpPr/>
              <p:nvPr/>
            </p:nvSpPr>
            <p:spPr>
              <a:xfrm>
                <a:off x="0" y="5999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0" y="5999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5" name=""/>
            <p:cNvGrpSpPr/>
            <p:nvPr/>
          </p:nvGrpSpPr>
          <p:grpSpPr>
            <a:xfrm>
              <a:off x="0" y="6213600"/>
              <a:ext cx="6780960" cy="214560"/>
              <a:chOff x="0" y="6213600"/>
              <a:chExt cx="6780960" cy="214560"/>
            </a:xfrm>
          </p:grpSpPr>
          <p:sp>
            <p:nvSpPr>
              <p:cNvPr id="1926" name=""/>
              <p:cNvSpPr/>
              <p:nvPr/>
            </p:nvSpPr>
            <p:spPr>
              <a:xfrm>
                <a:off x="0" y="6213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0" y="6213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8" name=""/>
            <p:cNvGrpSpPr/>
            <p:nvPr/>
          </p:nvGrpSpPr>
          <p:grpSpPr>
            <a:xfrm>
              <a:off x="0" y="6428520"/>
              <a:ext cx="6780960" cy="214560"/>
              <a:chOff x="0" y="6428520"/>
              <a:chExt cx="6780960" cy="214560"/>
            </a:xfrm>
          </p:grpSpPr>
          <p:sp>
            <p:nvSpPr>
              <p:cNvPr id="1929" name=""/>
              <p:cNvSpPr/>
              <p:nvPr/>
            </p:nvSpPr>
            <p:spPr>
              <a:xfrm>
                <a:off x="0" y="64285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0" y="64285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New 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0" y="6643440"/>
              <a:ext cx="6780960" cy="214560"/>
              <a:chOff x="0" y="6643440"/>
              <a:chExt cx="6780960" cy="214560"/>
            </a:xfrm>
          </p:grpSpPr>
          <p:sp>
            <p:nvSpPr>
              <p:cNvPr id="1932" name=""/>
              <p:cNvSpPr/>
              <p:nvPr/>
            </p:nvSpPr>
            <p:spPr>
              <a:xfrm>
                <a:off x="0" y="66434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0" y="66434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setTime( 20, 20, 20 )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4" name=""/>
          <p:cNvGrpSpPr/>
          <p:nvPr/>
        </p:nvGrpSpPr>
        <p:grpSpPr>
          <a:xfrm>
            <a:off x="2971440" y="3657600"/>
            <a:ext cx="5486760" cy="1523880"/>
            <a:chOff x="2971440" y="3657600"/>
            <a:chExt cx="5486760" cy="1523880"/>
          </a:xfrm>
        </p:grpSpPr>
        <p:sp>
          <p:nvSpPr>
            <p:cNvPr id="1935" name=""/>
            <p:cNvSpPr/>
            <p:nvPr/>
          </p:nvSpPr>
          <p:spPr>
            <a:xfrm>
              <a:off x="5029200" y="365760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cascading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2971440" y="3819600"/>
              <a:ext cx="2057400" cy="13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3809520" y="4421160"/>
            <a:ext cx="5105880" cy="2055960"/>
            <a:chOff x="3809520" y="4421160"/>
            <a:chExt cx="5105880" cy="2055960"/>
          </a:xfrm>
        </p:grpSpPr>
        <p:sp>
          <p:nvSpPr>
            <p:cNvPr id="1938" name=""/>
            <p:cNvSpPr/>
            <p:nvPr/>
          </p:nvSpPr>
          <p:spPr>
            <a:xfrm>
              <a:off x="4038480" y="4421160"/>
              <a:ext cx="4876920" cy="1437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cading function call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called af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oes not return a reference to a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.printStandard().setTime();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ould cause a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>
              <a:off x="3809520" y="5867280"/>
              <a:ext cx="16002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0" name=""/>
          <p:cNvGrpSpPr/>
          <p:nvPr/>
        </p:nvGrpSpPr>
        <p:grpSpPr>
          <a:xfrm>
            <a:off x="990360" y="914400"/>
            <a:ext cx="5562720" cy="1893960"/>
            <a:chOff x="990360" y="914400"/>
            <a:chExt cx="5562720" cy="1893960"/>
          </a:xfrm>
        </p:grpSpPr>
        <p:sp>
          <p:nvSpPr>
            <p:cNvPr id="1941" name=""/>
            <p:cNvSpPr/>
            <p:nvPr/>
          </p:nvSpPr>
          <p:spPr>
            <a:xfrm>
              <a:off x="4343400" y="198432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es not return a reference to a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H="1" flipV="1">
              <a:off x="990360" y="914400"/>
              <a:ext cx="3276360" cy="15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9852D-3C97-4E47-9E2D-9EFE0719C58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44" name=""/>
          <p:cNvGrpSpPr/>
          <p:nvPr/>
        </p:nvGrpSpPr>
        <p:grpSpPr>
          <a:xfrm>
            <a:off x="0" y="0"/>
            <a:ext cx="6705000" cy="1523880"/>
            <a:chOff x="0" y="0"/>
            <a:chExt cx="6705000" cy="1523880"/>
          </a:xfrm>
        </p:grpSpPr>
        <p:grpSp>
          <p:nvGrpSpPr>
            <p:cNvPr id="1945" name=""/>
            <p:cNvGrpSpPr/>
            <p:nvPr/>
          </p:nvGrpSpPr>
          <p:grpSpPr>
            <a:xfrm>
              <a:off x="0" y="0"/>
              <a:ext cx="6705000" cy="380880"/>
              <a:chOff x="0" y="0"/>
              <a:chExt cx="6705000" cy="380880"/>
            </a:xfrm>
          </p:grpSpPr>
          <p:sp>
            <p:nvSpPr>
              <p:cNvPr id="1946" name="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"/>
            <p:cNvGrpSpPr/>
            <p:nvPr/>
          </p:nvGrpSpPr>
          <p:grpSpPr>
            <a:xfrm>
              <a:off x="0" y="380880"/>
              <a:ext cx="6705000" cy="380880"/>
              <a:chOff x="0" y="380880"/>
              <a:chExt cx="6705000" cy="380880"/>
            </a:xfrm>
          </p:grpSpPr>
          <p:sp>
            <p:nvSpPr>
              <p:cNvPr id="1949" name="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0" y="761760"/>
              <a:ext cx="6705000" cy="380880"/>
              <a:chOff x="0" y="761760"/>
              <a:chExt cx="6705000" cy="380880"/>
            </a:xfrm>
          </p:grpSpPr>
          <p:sp>
            <p:nvSpPr>
              <p:cNvPr id="1952" name="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"/>
            <p:cNvGrpSpPr/>
            <p:nvPr/>
          </p:nvGrpSpPr>
          <p:grpSpPr>
            <a:xfrm>
              <a:off x="0" y="1143000"/>
              <a:ext cx="6705000" cy="380880"/>
              <a:chOff x="0" y="1143000"/>
              <a:chExt cx="6705000" cy="380880"/>
            </a:xfrm>
          </p:grpSpPr>
          <p:sp>
            <p:nvSpPr>
              <p:cNvPr id="1955" name="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7" name=""/>
          <p:cNvSpPr/>
          <p:nvPr/>
        </p:nvSpPr>
        <p:spPr>
          <a:xfrm>
            <a:off x="0" y="1981080"/>
            <a:ext cx="662940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: 18: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: 6:30:2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standard time: 8:20:2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2C1D-A1B2-449C-90F3-4BC314FEEE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ynamic Memory Allocation with Operators new and delet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dynamic memory al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ior to C’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n object of the proper size, calls its constructor and returns a pointer of the correct 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roys object and free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 *typeNam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pointer 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Ptr = new TypeName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reat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, returns pointer (whi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equal 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B500-12BF-4427-99AD-7AE473A8514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ynamic Memory Allocation with Operators new and delet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typeNam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destructor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and frees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[] array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dynamically delete a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*thingPtr = new double( 3.14159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s object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.1415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arrayPtr = new int[ 10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 ten 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ray and assigns i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P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3E7D-AB46-4594-88AC-AD8DB8FDE0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ed by all objects of a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, each object gets its own copy of each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fficient when a single copy of data is enoug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 has to be up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seem like global variables, but have clas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ccessible to objects of sam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d at file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ist even if no instances (objects) of the class ex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variables and functions can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DD13-32C3-4BF2-9149-8443DA07C60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 (Constant) Objects and const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 requi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declar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not modify their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ust be specified in function prototype and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turnType FunctionName(param1,param2…) cons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turnType FunctionName(param1,param2…) const { 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::getValue() const { retur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rivateDataMember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he value of a data member but doesn’t modify anything so is declar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/ Destructors cannot b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need to initialize variables, therefore modifying t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9695-3F64-483C-9797-2E2BF970E3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variables are accessible through any object of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be accessed using scope resolution operat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no class member objects exist, can only be accessed via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all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combine the class name,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erator and the functio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getCoun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71EC-F8EF-4793-BC19-AE5D09FD835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 cannot access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or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, they exist independent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AEE6-58BD-44E9-BE6D-F90E8214E51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8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969" name=""/>
            <p:cNvGrpSpPr/>
            <p:nvPr/>
          </p:nvGrpSpPr>
          <p:grpSpPr>
            <a:xfrm>
              <a:off x="0" y="0"/>
              <a:ext cx="6705000" cy="285480"/>
              <a:chOff x="0" y="0"/>
              <a:chExt cx="6705000" cy="285480"/>
            </a:xfrm>
          </p:grpSpPr>
          <p:sp>
            <p:nvSpPr>
              <p:cNvPr id="1970" name="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9: emplo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2" name=""/>
            <p:cNvGrpSpPr/>
            <p:nvPr/>
          </p:nvGrpSpPr>
          <p:grpSpPr>
            <a:xfrm>
              <a:off x="0" y="285480"/>
              <a:ext cx="6705000" cy="285480"/>
              <a:chOff x="0" y="285480"/>
              <a:chExt cx="6705000" cy="285480"/>
            </a:xfrm>
          </p:grpSpPr>
          <p:sp>
            <p:nvSpPr>
              <p:cNvPr id="1973" name="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n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5" name=""/>
            <p:cNvGrpSpPr/>
            <p:nvPr/>
          </p:nvGrpSpPr>
          <p:grpSpPr>
            <a:xfrm>
              <a:off x="0" y="571320"/>
              <a:ext cx="6705000" cy="285840"/>
              <a:chOff x="0" y="571320"/>
              <a:chExt cx="6705000" cy="285840"/>
            </a:xfrm>
          </p:grpSpPr>
          <p:sp>
            <p:nvSpPr>
              <p:cNvPr id="1976" name="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8" name=""/>
            <p:cNvGrpSpPr/>
            <p:nvPr/>
          </p:nvGrpSpPr>
          <p:grpSpPr>
            <a:xfrm>
              <a:off x="0" y="857160"/>
              <a:ext cx="6705000" cy="285480"/>
              <a:chOff x="0" y="857160"/>
              <a:chExt cx="6705000" cy="285480"/>
            </a:xfrm>
          </p:grpSpPr>
          <p:sp>
            <p:nvSpPr>
              <p:cNvPr id="1979" name="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1" name=""/>
            <p:cNvGrpSpPr/>
            <p:nvPr/>
          </p:nvGrpSpPr>
          <p:grpSpPr>
            <a:xfrm>
              <a:off x="0" y="1143000"/>
              <a:ext cx="6705000" cy="285480"/>
              <a:chOff x="0" y="1143000"/>
              <a:chExt cx="6705000" cy="285480"/>
            </a:xfrm>
          </p:grpSpPr>
          <p:sp>
            <p:nvSpPr>
              <p:cNvPr id="1982" name="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4" name=""/>
            <p:cNvGrpSpPr/>
            <p:nvPr/>
          </p:nvGrpSpPr>
          <p:grpSpPr>
            <a:xfrm>
              <a:off x="0" y="1428480"/>
              <a:ext cx="6705000" cy="285480"/>
              <a:chOff x="0" y="1428480"/>
              <a:chExt cx="6705000" cy="285480"/>
            </a:xfrm>
          </p:grpSpPr>
          <p:sp>
            <p:nvSpPr>
              <p:cNvPr id="1985" name="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7" name=""/>
            <p:cNvGrpSpPr/>
            <p:nvPr/>
          </p:nvGrpSpPr>
          <p:grpSpPr>
            <a:xfrm>
              <a:off x="0" y="1714320"/>
              <a:ext cx="6705000" cy="285840"/>
              <a:chOff x="0" y="1714320"/>
              <a:chExt cx="6705000" cy="285840"/>
            </a:xfrm>
          </p:grpSpPr>
          <p:sp>
            <p:nvSpPr>
              <p:cNvPr id="1988" name="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0" name=""/>
            <p:cNvGrpSpPr/>
            <p:nvPr/>
          </p:nvGrpSpPr>
          <p:grpSpPr>
            <a:xfrm>
              <a:off x="0" y="2000160"/>
              <a:ext cx="6705000" cy="285480"/>
              <a:chOff x="0" y="2000160"/>
              <a:chExt cx="6705000" cy="285480"/>
            </a:xfrm>
          </p:grpSpPr>
          <p:sp>
            <p:nvSpPr>
              <p:cNvPr id="1991" name="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*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3" name=""/>
            <p:cNvGrpSpPr/>
            <p:nvPr/>
          </p:nvGrpSpPr>
          <p:grpSpPr>
            <a:xfrm>
              <a:off x="0" y="2286000"/>
              <a:ext cx="6705000" cy="285480"/>
              <a:chOff x="0" y="2286000"/>
              <a:chExt cx="6705000" cy="285480"/>
            </a:xfrm>
          </p:grpSpPr>
          <p:sp>
            <p:nvSpPr>
              <p:cNvPr id="1994" name="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Employe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0" y="2571480"/>
              <a:ext cx="6705000" cy="285480"/>
              <a:chOff x="0" y="2571480"/>
              <a:chExt cx="6705000" cy="285480"/>
            </a:xfrm>
          </p:grpSpPr>
          <p:sp>
            <p:nvSpPr>
              <p:cNvPr id="1997" name="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fir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9" name=""/>
            <p:cNvGrpSpPr/>
            <p:nvPr/>
          </p:nvGrpSpPr>
          <p:grpSpPr>
            <a:xfrm>
              <a:off x="0" y="2857320"/>
              <a:ext cx="6705000" cy="285840"/>
              <a:chOff x="0" y="2857320"/>
              <a:chExt cx="6705000" cy="285840"/>
            </a:xfrm>
          </p:grpSpPr>
          <p:sp>
            <p:nvSpPr>
              <p:cNvPr id="2000" name="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last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2" name=""/>
            <p:cNvGrpSpPr/>
            <p:nvPr/>
          </p:nvGrpSpPr>
          <p:grpSpPr>
            <a:xfrm>
              <a:off x="0" y="3143160"/>
              <a:ext cx="6705000" cy="285480"/>
              <a:chOff x="0" y="3143160"/>
              <a:chExt cx="6705000" cy="285480"/>
            </a:xfrm>
          </p:grpSpPr>
          <p:sp>
            <p:nvSpPr>
              <p:cNvPr id="2003" name="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5" name=""/>
            <p:cNvGrpSpPr/>
            <p:nvPr/>
          </p:nvGrpSpPr>
          <p:grpSpPr>
            <a:xfrm>
              <a:off x="0" y="3429000"/>
              <a:ext cx="6705000" cy="285480"/>
              <a:chOff x="0" y="3429000"/>
              <a:chExt cx="6705000" cy="285480"/>
            </a:xfrm>
          </p:grpSpPr>
          <p:sp>
            <p:nvSpPr>
              <p:cNvPr id="2006" name="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tatic member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0" y="3714480"/>
              <a:ext cx="6705000" cy="285480"/>
              <a:chOff x="0" y="3714480"/>
              <a:chExt cx="6705000" cy="285480"/>
            </a:xfrm>
          </p:grpSpPr>
          <p:sp>
            <p:nvSpPr>
              <p:cNvPr id="2009" name="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Count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#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0" y="4000320"/>
              <a:ext cx="6705000" cy="285840"/>
              <a:chOff x="0" y="4000320"/>
              <a:chExt cx="6705000" cy="285840"/>
            </a:xfrm>
          </p:grpSpPr>
          <p:sp>
            <p:nvSpPr>
              <p:cNvPr id="2012" name="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0" y="4286160"/>
              <a:ext cx="6705000" cy="285480"/>
              <a:chOff x="0" y="4286160"/>
              <a:chExt cx="6705000" cy="285480"/>
            </a:xfrm>
          </p:grpSpPr>
          <p:sp>
            <p:nvSpPr>
              <p:cNvPr id="2015" name="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"/>
            <p:cNvGrpSpPr/>
            <p:nvPr/>
          </p:nvGrpSpPr>
          <p:grpSpPr>
            <a:xfrm>
              <a:off x="0" y="4572000"/>
              <a:ext cx="6705000" cy="285480"/>
              <a:chOff x="0" y="4572000"/>
              <a:chExt cx="6705000" cy="285480"/>
            </a:xfrm>
          </p:grpSpPr>
          <p:sp>
            <p:nvSpPr>
              <p:cNvPr id="2018" name="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0" y="4857480"/>
              <a:ext cx="6705000" cy="285480"/>
              <a:chOff x="0" y="4857480"/>
              <a:chExt cx="6705000" cy="285480"/>
            </a:xfrm>
          </p:grpSpPr>
          <p:sp>
            <p:nvSpPr>
              <p:cNvPr id="2021" name="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0" y="5143320"/>
              <a:ext cx="6705000" cy="285480"/>
              <a:chOff x="0" y="5143320"/>
              <a:chExt cx="6705000" cy="285480"/>
            </a:xfrm>
          </p:grpSpPr>
          <p:sp>
            <p:nvSpPr>
              <p:cNvPr id="2024" name="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0" y="5429160"/>
              <a:ext cx="6705000" cy="285840"/>
              <a:chOff x="0" y="5429160"/>
              <a:chExt cx="6705000" cy="285840"/>
            </a:xfrm>
          </p:grpSpPr>
          <p:sp>
            <p:nvSpPr>
              <p:cNvPr id="2027" name="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9" name=""/>
            <p:cNvGrpSpPr/>
            <p:nvPr/>
          </p:nvGrpSpPr>
          <p:grpSpPr>
            <a:xfrm>
              <a:off x="0" y="5715000"/>
              <a:ext cx="6705000" cy="285480"/>
              <a:chOff x="0" y="5715000"/>
              <a:chExt cx="6705000" cy="285480"/>
            </a:xfrm>
          </p:grpSpPr>
          <p:sp>
            <p:nvSpPr>
              <p:cNvPr id="2030" name="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2" name=""/>
            <p:cNvGrpSpPr/>
            <p:nvPr/>
          </p:nvGrpSpPr>
          <p:grpSpPr>
            <a:xfrm>
              <a:off x="0" y="6000840"/>
              <a:ext cx="6705000" cy="285480"/>
              <a:chOff x="0" y="6000840"/>
              <a:chExt cx="6705000" cy="285480"/>
            </a:xfrm>
          </p:grpSpPr>
          <p:sp>
            <p:nvSpPr>
              <p:cNvPr id="2033" name="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5" name=""/>
            <p:cNvGrpSpPr/>
            <p:nvPr/>
          </p:nvGrpSpPr>
          <p:grpSpPr>
            <a:xfrm>
              <a:off x="0" y="6286320"/>
              <a:ext cx="6705000" cy="285480"/>
              <a:chOff x="0" y="6286320"/>
              <a:chExt cx="6705000" cy="285480"/>
            </a:xfrm>
          </p:grpSpPr>
          <p:sp>
            <p:nvSpPr>
              <p:cNvPr id="2036" name="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8" name=""/>
            <p:cNvGrpSpPr/>
            <p:nvPr/>
          </p:nvGrpSpPr>
          <p:grpSpPr>
            <a:xfrm>
              <a:off x="0" y="6572160"/>
              <a:ext cx="6705000" cy="285840"/>
              <a:chOff x="0" y="6572160"/>
              <a:chExt cx="6705000" cy="285840"/>
            </a:xfrm>
          </p:grpSpPr>
          <p:sp>
            <p:nvSpPr>
              <p:cNvPr id="2039" name="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1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42" name=""/>
          <p:cNvGrpSpPr/>
          <p:nvPr/>
        </p:nvGrpSpPr>
        <p:grpSpPr>
          <a:xfrm>
            <a:off x="2133720" y="4038120"/>
            <a:ext cx="4114800" cy="1676880"/>
            <a:chOff x="2133720" y="4038120"/>
            <a:chExt cx="4114800" cy="1676880"/>
          </a:xfrm>
        </p:grpSpPr>
        <p:sp>
          <p:nvSpPr>
            <p:cNvPr id="2043" name=""/>
            <p:cNvSpPr/>
            <p:nvPr/>
          </p:nvSpPr>
          <p:spPr>
            <a:xfrm>
              <a:off x="4267080" y="411480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and variabl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 flipV="1">
              <a:off x="2133720" y="4038120"/>
              <a:ext cx="2133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>
              <a:off x="2133720" y="4419720"/>
              <a:ext cx="2133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A71D-EC45-485B-9925-D01E1FF2121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 memb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4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048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2049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9: emplo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1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2052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2055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2058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2061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2064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2067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2070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2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2073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asser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5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2076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2079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1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2082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itialize the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4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2085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count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2088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0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2091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e the stat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2094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s the number of employee objects instantia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6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2097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::getCoun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9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2100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2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2103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dynamically allocates space for th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5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2106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and last name and uses strcpy to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8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2109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e first and last names into the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1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2112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ir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las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4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2115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7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2118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r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fir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0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2121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firstName != 0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sure memory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3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2124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firstName, fir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6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2127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9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2130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lastNam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 strlen( last )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2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2133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ssert( lastName != 0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sure memory allo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5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2136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rcpy( lastName, la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8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2139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1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2142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++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crement static count of employ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4" name=""/>
          <p:cNvGrpSpPr/>
          <p:nvPr/>
        </p:nvGrpSpPr>
        <p:grpSpPr>
          <a:xfrm>
            <a:off x="1523520" y="990720"/>
            <a:ext cx="5410440" cy="2438280"/>
            <a:chOff x="1523520" y="990720"/>
            <a:chExt cx="5410440" cy="2438280"/>
          </a:xfrm>
        </p:grpSpPr>
        <p:sp>
          <p:nvSpPr>
            <p:cNvPr id="2145" name=""/>
            <p:cNvSpPr/>
            <p:nvPr/>
          </p:nvSpPr>
          <p:spPr>
            <a:xfrm>
              <a:off x="3910320" y="990720"/>
              <a:ext cx="3023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d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( 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itialized at file scope (required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1523520" y="1523880"/>
              <a:ext cx="2386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2546280" y="2057400"/>
              <a:ext cx="1619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2895480" y="3828960"/>
            <a:ext cx="5639040" cy="2266920"/>
            <a:chOff x="2895480" y="3828960"/>
            <a:chExt cx="5639040" cy="2266920"/>
          </a:xfrm>
        </p:grpSpPr>
        <p:sp>
          <p:nvSpPr>
            <p:cNvPr id="2149" name=""/>
            <p:cNvSpPr/>
            <p:nvPr/>
          </p:nvSpPr>
          <p:spPr>
            <a:xfrm>
              <a:off x="4724280" y="3828960"/>
              <a:ext cx="3810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 th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se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test for memory alloc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>
              <a:off x="3048120" y="4114800"/>
              <a:ext cx="1676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2895480" y="4114800"/>
              <a:ext cx="18288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2" name=""/>
          <p:cNvGrpSpPr/>
          <p:nvPr/>
        </p:nvGrpSpPr>
        <p:grpSpPr>
          <a:xfrm>
            <a:off x="1295280" y="5353200"/>
            <a:ext cx="7239240" cy="1276200"/>
            <a:chOff x="1295280" y="5353200"/>
            <a:chExt cx="7239240" cy="1276200"/>
          </a:xfrm>
        </p:grpSpPr>
        <p:sp>
          <p:nvSpPr>
            <p:cNvPr id="2153" name=""/>
            <p:cNvSpPr/>
            <p:nvPr/>
          </p:nvSpPr>
          <p:spPr>
            <a:xfrm>
              <a:off x="5105520" y="535320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/destructor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>
              <a:off x="1295280" y="5638680"/>
              <a:ext cx="3810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8B247-8F8D-4ADC-B877-55DEF3F75FF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5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157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2158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mployee constructor for " &lt;&lt; first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0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2161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' ' &lt;&lt; lastName &lt;&lt; " called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3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2164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6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2167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9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2170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 deallocates dynamically allocated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2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2173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mployee::~Employe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5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2176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8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2179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~Employee() called for " &lt;&lt; first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1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2182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' ' &lt;&lt; lastNam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4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2185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firstNam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7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2188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 lastNam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0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2191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--count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ecrement static count of employe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3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2194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6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2197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2200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first name of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2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2203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mployee::getFir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5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2206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8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2209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onst before return type prevents client from modify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1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2212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vate data. Client should copy returned string befo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4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2215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structor deletes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7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2218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0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2221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3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2224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6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2227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last name of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9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2230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mployee::getLastNa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2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2233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2236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Const before return type prevents client from modify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8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2239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vate data. Client should copy returned string befo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1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2242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estructor deletes storage to prevent undefined poin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4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2245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7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2248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0" name=""/>
          <p:cNvGrpSpPr/>
          <p:nvPr/>
        </p:nvGrpSpPr>
        <p:grpSpPr>
          <a:xfrm>
            <a:off x="2209320" y="5638680"/>
            <a:ext cx="4496400" cy="914400"/>
            <a:chOff x="2209320" y="5638680"/>
            <a:chExt cx="4496400" cy="914400"/>
          </a:xfrm>
        </p:grpSpPr>
        <p:sp>
          <p:nvSpPr>
            <p:cNvPr id="2251" name=""/>
            <p:cNvSpPr/>
            <p:nvPr/>
          </p:nvSpPr>
          <p:spPr>
            <a:xfrm>
              <a:off x="4724280" y="563868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remented because of destructor call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2209320" y="5943600"/>
              <a:ext cx="2514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1218960" y="1295280"/>
            <a:ext cx="7238880" cy="1276200"/>
            <a:chOff x="1218960" y="1295280"/>
            <a:chExt cx="7238880" cy="1276200"/>
          </a:xfrm>
        </p:grpSpPr>
        <p:sp>
          <p:nvSpPr>
            <p:cNvPr id="2254" name=""/>
            <p:cNvSpPr/>
            <p:nvPr/>
          </p:nvSpPr>
          <p:spPr>
            <a:xfrm>
              <a:off x="5029200" y="1295280"/>
              <a:ext cx="342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/destructor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H="1">
              <a:off x="1218960" y="1580760"/>
              <a:ext cx="3809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5DBA6-8ACF-481A-9AAD-96A0249E890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25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258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2259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9: fig07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2262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to test the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4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2265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2268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0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2271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3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2274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6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2277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9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2280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2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2283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5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2286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2289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2292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Number of employees before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4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2295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mployee::getCount() &lt;&lt; end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e class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7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2298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0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2301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 *e1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( "Susan", "Baker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3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2304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mployee *e2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mployee( "Robert", "Jones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6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2307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9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2310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Number of employees after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2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2313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1Ptr-&gt;getCou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5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2316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8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2319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Employee 1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1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2322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1Ptr-&gt;getFir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4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2325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" &lt;&lt; e1Ptr-&gt;getLa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7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2328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Employee 2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0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2331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2Ptr-&gt;getFirstNam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3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2334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" &lt;&lt; e2Ptr-&gt;getLastName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6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2337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9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2340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1Pt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2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2343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1Pt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5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2346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2Ptr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apture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8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2349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e2Pt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1" name=""/>
          <p:cNvGrpSpPr/>
          <p:nvPr/>
        </p:nvGrpSpPr>
        <p:grpSpPr>
          <a:xfrm>
            <a:off x="1905120" y="609480"/>
            <a:ext cx="5790600" cy="2057400"/>
            <a:chOff x="1905120" y="609480"/>
            <a:chExt cx="5790600" cy="2057400"/>
          </a:xfrm>
        </p:grpSpPr>
        <p:sp>
          <p:nvSpPr>
            <p:cNvPr id="2352" name=""/>
            <p:cNvSpPr/>
            <p:nvPr/>
          </p:nvSpPr>
          <p:spPr>
            <a:xfrm>
              <a:off x="4800240" y="6094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exi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accessed using the class name an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1905120" y="1143000"/>
              <a:ext cx="2895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4" name=""/>
          <p:cNvGrpSpPr/>
          <p:nvPr/>
        </p:nvGrpSpPr>
        <p:grpSpPr>
          <a:xfrm>
            <a:off x="3657240" y="1773360"/>
            <a:ext cx="4926240" cy="664920"/>
            <a:chOff x="3657240" y="1773360"/>
            <a:chExt cx="4926240" cy="664920"/>
          </a:xfrm>
        </p:grpSpPr>
        <p:sp>
          <p:nvSpPr>
            <p:cNvPr id="2355" name=""/>
            <p:cNvSpPr/>
            <p:nvPr/>
          </p:nvSpPr>
          <p:spPr>
            <a:xfrm>
              <a:off x="4287960" y="1773360"/>
              <a:ext cx="429552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 of employees before instantiation is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3657240" y="1981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2133720" y="2438280"/>
            <a:ext cx="6705360" cy="1600200"/>
            <a:chOff x="2133720" y="2438280"/>
            <a:chExt cx="6705360" cy="1600200"/>
          </a:xfrm>
        </p:grpSpPr>
        <p:sp>
          <p:nvSpPr>
            <p:cNvPr id="2358" name=""/>
            <p:cNvSpPr/>
            <p:nvPr/>
          </p:nvSpPr>
          <p:spPr>
            <a:xfrm flipH="1">
              <a:off x="2133720" y="2743200"/>
              <a:ext cx="22860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191120" y="2438280"/>
              <a:ext cx="4647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2Ptr-&gt;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::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ould also wor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0" name=""/>
          <p:cNvGrpSpPr/>
          <p:nvPr/>
        </p:nvGrpSpPr>
        <p:grpSpPr>
          <a:xfrm>
            <a:off x="3200400" y="3580920"/>
            <a:ext cx="5562720" cy="1088280"/>
            <a:chOff x="3200400" y="3580920"/>
            <a:chExt cx="5562720" cy="1088280"/>
          </a:xfrm>
        </p:grpSpPr>
        <p:sp>
          <p:nvSpPr>
            <p:cNvPr id="2361" name=""/>
            <p:cNvSpPr/>
            <p:nvPr/>
          </p:nvSpPr>
          <p:spPr>
            <a:xfrm>
              <a:off x="4191120" y="41148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 constructor for Susan Baker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 constructor for Robert Jones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 flipV="1">
              <a:off x="3200400" y="358092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3" name=""/>
          <p:cNvGrpSpPr/>
          <p:nvPr/>
        </p:nvGrpSpPr>
        <p:grpSpPr>
          <a:xfrm>
            <a:off x="3809880" y="3373560"/>
            <a:ext cx="4627800" cy="360360"/>
            <a:chOff x="3809880" y="3373560"/>
            <a:chExt cx="4627800" cy="360360"/>
          </a:xfrm>
        </p:grpSpPr>
        <p:sp>
          <p:nvSpPr>
            <p:cNvPr id="2364" name=""/>
            <p:cNvSpPr/>
            <p:nvPr/>
          </p:nvSpPr>
          <p:spPr>
            <a:xfrm flipH="1">
              <a:off x="3809880" y="35812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233600" y="3373560"/>
              <a:ext cx="420408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 of employees after instantiation i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6" name=""/>
          <p:cNvGrpSpPr/>
          <p:nvPr/>
        </p:nvGrpSpPr>
        <p:grpSpPr>
          <a:xfrm>
            <a:off x="3581280" y="4876920"/>
            <a:ext cx="5181840" cy="554400"/>
            <a:chOff x="3581280" y="4876920"/>
            <a:chExt cx="5181840" cy="554400"/>
          </a:xfrm>
        </p:grpSpPr>
        <p:sp>
          <p:nvSpPr>
            <p:cNvPr id="2367" name=""/>
            <p:cNvSpPr/>
            <p:nvPr/>
          </p:nvSpPr>
          <p:spPr>
            <a:xfrm>
              <a:off x="4191120" y="487692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 1: Susan B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mployee 2: Robert J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3581280" y="5257800"/>
              <a:ext cx="6098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3733560" y="5943600"/>
            <a:ext cx="5181840" cy="554400"/>
            <a:chOff x="3733560" y="5943600"/>
            <a:chExt cx="5181840" cy="554400"/>
          </a:xfrm>
        </p:grpSpPr>
        <p:sp>
          <p:nvSpPr>
            <p:cNvPr id="2370" name=""/>
            <p:cNvSpPr/>
            <p:nvPr/>
          </p:nvSpPr>
          <p:spPr>
            <a:xfrm>
              <a:off x="4343400" y="59436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~Employee() called for Susan Ba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~Employee() called for Robert J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3733560" y="6095880"/>
              <a:ext cx="6094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2" name=""/>
          <p:cNvGrpSpPr/>
          <p:nvPr/>
        </p:nvGrpSpPr>
        <p:grpSpPr>
          <a:xfrm>
            <a:off x="685800" y="838080"/>
            <a:ext cx="2438280" cy="2210040"/>
            <a:chOff x="685800" y="838080"/>
            <a:chExt cx="2438280" cy="2210040"/>
          </a:xfrm>
        </p:grpSpPr>
        <p:sp>
          <p:nvSpPr>
            <p:cNvPr id="2373" name=""/>
            <p:cNvSpPr/>
            <p:nvPr/>
          </p:nvSpPr>
          <p:spPr>
            <a:xfrm>
              <a:off x="685800" y="8380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ed because of constructor call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371600" y="167652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ADE9-C79C-4EBE-974E-BD7B1741BF4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76" name=""/>
          <p:cNvGrpSpPr/>
          <p:nvPr/>
        </p:nvGrpSpPr>
        <p:grpSpPr>
          <a:xfrm>
            <a:off x="0" y="0"/>
            <a:ext cx="6628680" cy="1981080"/>
            <a:chOff x="0" y="0"/>
            <a:chExt cx="6628680" cy="1981080"/>
          </a:xfrm>
        </p:grpSpPr>
        <p:grpSp>
          <p:nvGrpSpPr>
            <p:cNvPr id="2377" name=""/>
            <p:cNvGrpSpPr/>
            <p:nvPr/>
          </p:nvGrpSpPr>
          <p:grpSpPr>
            <a:xfrm>
              <a:off x="0" y="0"/>
              <a:ext cx="6628680" cy="330120"/>
              <a:chOff x="0" y="0"/>
              <a:chExt cx="6628680" cy="330120"/>
            </a:xfrm>
          </p:grpSpPr>
          <p:sp>
            <p:nvSpPr>
              <p:cNvPr id="2378" name=""/>
              <p:cNvSpPr/>
              <p:nvPr/>
            </p:nvSpPr>
            <p:spPr>
              <a:xfrm>
                <a:off x="0" y="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0" y="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"/>
            <p:cNvGrpSpPr/>
            <p:nvPr/>
          </p:nvGrpSpPr>
          <p:grpSpPr>
            <a:xfrm>
              <a:off x="0" y="330120"/>
              <a:ext cx="6628680" cy="330120"/>
              <a:chOff x="0" y="330120"/>
              <a:chExt cx="6628680" cy="330120"/>
            </a:xfrm>
          </p:grpSpPr>
          <p:sp>
            <p:nvSpPr>
              <p:cNvPr id="2381" name=""/>
              <p:cNvSpPr/>
              <p:nvPr/>
            </p:nvSpPr>
            <p:spPr>
              <a:xfrm>
                <a:off x="0" y="3301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0" y="3301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Number of employees after dele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0" y="660240"/>
              <a:ext cx="6628680" cy="330120"/>
              <a:chOff x="0" y="660240"/>
              <a:chExt cx="6628680" cy="330120"/>
            </a:xfrm>
          </p:grpSpPr>
          <p:sp>
            <p:nvSpPr>
              <p:cNvPr id="2384" name=""/>
              <p:cNvSpPr/>
              <p:nvPr/>
            </p:nvSpPr>
            <p:spPr>
              <a:xfrm>
                <a:off x="0" y="6602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0" y="6602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mployee::getCount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0" y="990720"/>
              <a:ext cx="6628680" cy="330120"/>
              <a:chOff x="0" y="990720"/>
              <a:chExt cx="6628680" cy="330120"/>
            </a:xfrm>
          </p:grpSpPr>
          <p:sp>
            <p:nvSpPr>
              <p:cNvPr id="2387" name=""/>
              <p:cNvSpPr/>
              <p:nvPr/>
            </p:nvSpPr>
            <p:spPr>
              <a:xfrm>
                <a:off x="0" y="9907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0" y="99072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0" y="1320840"/>
              <a:ext cx="6628680" cy="330120"/>
              <a:chOff x="0" y="1320840"/>
              <a:chExt cx="6628680" cy="330120"/>
            </a:xfrm>
          </p:grpSpPr>
          <p:sp>
            <p:nvSpPr>
              <p:cNvPr id="2390" name=""/>
              <p:cNvSpPr/>
              <p:nvPr/>
            </p:nvSpPr>
            <p:spPr>
              <a:xfrm>
                <a:off x="0" y="13208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0" y="132084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0" y="1650960"/>
              <a:ext cx="6628680" cy="330120"/>
              <a:chOff x="0" y="1650960"/>
              <a:chExt cx="6628680" cy="330120"/>
            </a:xfrm>
          </p:grpSpPr>
          <p:sp>
            <p:nvSpPr>
              <p:cNvPr id="2393" name=""/>
              <p:cNvSpPr/>
              <p:nvPr/>
            </p:nvSpPr>
            <p:spPr>
              <a:xfrm>
                <a:off x="0" y="165096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0" y="1650960"/>
                <a:ext cx="6628680" cy="33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5" name=""/>
          <p:cNvSpPr/>
          <p:nvPr/>
        </p:nvSpPr>
        <p:spPr>
          <a:xfrm>
            <a:off x="0" y="2209680"/>
            <a:ext cx="662940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ber of employees before instantiation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constructor for Susan Baker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constructor for Robert Jones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ber of employees after instantiation i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1: Susan B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mployee 2: Rober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~Employee() called for Susan B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~Employee() called for Rober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ber of employees after deletion is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6" name=""/>
          <p:cNvGrpSpPr/>
          <p:nvPr/>
        </p:nvGrpSpPr>
        <p:grpSpPr>
          <a:xfrm>
            <a:off x="3581280" y="914400"/>
            <a:ext cx="2895840" cy="3124080"/>
            <a:chOff x="3581280" y="914400"/>
            <a:chExt cx="2895840" cy="3124080"/>
          </a:xfrm>
        </p:grpSpPr>
        <p:sp>
          <p:nvSpPr>
            <p:cNvPr id="2397" name=""/>
            <p:cNvSpPr/>
            <p:nvPr/>
          </p:nvSpPr>
          <p:spPr>
            <a:xfrm flipH="1" flipV="1">
              <a:off x="3886200" y="91440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3581280" y="1752480"/>
              <a:ext cx="18288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733920" y="144792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ack to zer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BB52C-8ECB-4D89-A05E-39557DA2D03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ata Abstraction and Information Hi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hi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hide implementation details from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stack dat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elements added (pushed) onto the bottom and removed (popped) from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-in, first-out (LIFO) dat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does not care how stack is implemented, only wants LIFO dat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data types (AD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real world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models for a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is an extensible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data types cannot be changed, but new data types can be cre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A360-E3BD-4E0A-8B0C-E418CB5B2F0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1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Array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can make an ADT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uld incl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pt range chec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rbitrary range of subscripts instead of having to start with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assig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compari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input/out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 that know their siz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 that expand dynamically to accommodate more el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978D-1F41-4636-B0C8-6F1B0DCAB77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String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in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does not provide a built in string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es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mechanisms for creating and implementing a string abstract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available in ANSI/ISO standard (Chapter 1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64CD-74CF-4F22-BC53-36D17FAC209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6628680" cy="6857640"/>
            <a:chOff x="0" y="0"/>
            <a:chExt cx="6628680" cy="685764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6628680" cy="237600"/>
              <a:chOff x="0" y="0"/>
              <a:chExt cx="6628680" cy="237600"/>
            </a:xfrm>
          </p:grpSpPr>
          <p:sp>
            <p:nvSpPr>
              <p:cNvPr id="104" name=""/>
              <p:cNvSpPr/>
              <p:nvPr/>
            </p:nvSpPr>
            <p:spPr>
              <a:xfrm>
                <a:off x="0" y="0"/>
                <a:ext cx="662868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0"/>
                <a:ext cx="662868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1: time5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0" y="237600"/>
              <a:ext cx="6628680" cy="220320"/>
              <a:chOff x="0" y="237600"/>
              <a:chExt cx="6628680" cy="220320"/>
            </a:xfrm>
          </p:grpSpPr>
          <p:sp>
            <p:nvSpPr>
              <p:cNvPr id="107" name=""/>
              <p:cNvSpPr/>
              <p:nvPr/>
            </p:nvSpPr>
            <p:spPr>
              <a:xfrm>
                <a:off x="0" y="237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237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0" y="458280"/>
              <a:ext cx="6628680" cy="220680"/>
              <a:chOff x="0" y="458280"/>
              <a:chExt cx="6628680" cy="220680"/>
            </a:xfrm>
          </p:grpSpPr>
          <p:sp>
            <p:nvSpPr>
              <p:cNvPr id="110" name=""/>
              <p:cNvSpPr/>
              <p:nvPr/>
            </p:nvSpPr>
            <p:spPr>
              <a:xfrm>
                <a:off x="0" y="45828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45828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time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0" y="678960"/>
              <a:ext cx="6628680" cy="220320"/>
              <a:chOff x="0" y="678960"/>
              <a:chExt cx="6628680" cy="220320"/>
            </a:xfrm>
          </p:grpSpPr>
          <p:sp>
            <p:nvSpPr>
              <p:cNvPr id="113" name=""/>
              <p:cNvSpPr/>
              <p:nvPr/>
            </p:nvSpPr>
            <p:spPr>
              <a:xfrm>
                <a:off x="0" y="6789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6789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fndef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5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0" y="899640"/>
              <a:ext cx="6628680" cy="220320"/>
              <a:chOff x="0" y="899640"/>
              <a:chExt cx="6628680" cy="22032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899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899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5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1120320"/>
              <a:ext cx="6628680" cy="220320"/>
              <a:chOff x="0" y="1120320"/>
              <a:chExt cx="6628680" cy="22032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1120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120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1341000"/>
              <a:ext cx="6628680" cy="220680"/>
              <a:chOff x="0" y="1341000"/>
              <a:chExt cx="6628680" cy="2206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13410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3410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1561680"/>
              <a:ext cx="6628680" cy="220320"/>
              <a:chOff x="0" y="1561680"/>
              <a:chExt cx="6628680" cy="22032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15616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5616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1782360"/>
              <a:ext cx="6628680" cy="220320"/>
              <a:chOff x="0" y="1782360"/>
              <a:chExt cx="6628680" cy="22032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17823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7823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 =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2003040"/>
              <a:ext cx="6628680" cy="220320"/>
              <a:chOff x="0" y="2003040"/>
              <a:chExt cx="6628680" cy="22032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20030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20030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2223720"/>
              <a:ext cx="6628680" cy="220320"/>
              <a:chOff x="0" y="2223720"/>
              <a:chExt cx="6628680" cy="22032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22237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22237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set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2444400"/>
              <a:ext cx="6628680" cy="220680"/>
              <a:chOff x="0" y="2444400"/>
              <a:chExt cx="6628680" cy="22068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24444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444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2665080"/>
              <a:ext cx="6628680" cy="220320"/>
              <a:chOff x="0" y="2665080"/>
              <a:chExt cx="6628680" cy="22032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26650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6650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2885760"/>
              <a:ext cx="6628680" cy="220320"/>
              <a:chOff x="0" y="2885760"/>
              <a:chExt cx="6628680" cy="22032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28857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8857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3106440"/>
              <a:ext cx="6628680" cy="220320"/>
              <a:chOff x="0" y="3106440"/>
              <a:chExt cx="6628680" cy="22032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31064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31064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3327120"/>
              <a:ext cx="6628680" cy="220680"/>
              <a:chOff x="0" y="3327120"/>
              <a:chExt cx="6628680" cy="2206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332712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32712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3547800"/>
              <a:ext cx="6628680" cy="220320"/>
              <a:chOff x="0" y="3547800"/>
              <a:chExt cx="6628680" cy="22032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35478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35478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ge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3768480"/>
              <a:ext cx="6628680" cy="220320"/>
              <a:chOff x="0" y="3768480"/>
              <a:chExt cx="6628680" cy="22032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7684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37684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3989160"/>
              <a:ext cx="6628680" cy="220320"/>
              <a:chOff x="0" y="3989160"/>
              <a:chExt cx="6628680" cy="22032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39891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39891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4209840"/>
              <a:ext cx="6628680" cy="220680"/>
              <a:chOff x="0" y="4209840"/>
              <a:chExt cx="6628680" cy="22068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420984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420984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turn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4430520"/>
              <a:ext cx="6628680" cy="220320"/>
              <a:chOff x="0" y="4430520"/>
              <a:chExt cx="6628680" cy="22032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44305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44305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4651200"/>
              <a:ext cx="6628680" cy="220320"/>
              <a:chOff x="0" y="4651200"/>
              <a:chExt cx="6628680" cy="22032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46512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46512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4871880"/>
              <a:ext cx="6628680" cy="220320"/>
              <a:chOff x="0" y="4871880"/>
              <a:chExt cx="6628680" cy="22032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48718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8718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military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5092560"/>
              <a:ext cx="6628680" cy="220680"/>
              <a:chOff x="0" y="5092560"/>
              <a:chExt cx="6628680" cy="22068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50925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925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tandard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5313240"/>
              <a:ext cx="6628680" cy="220320"/>
              <a:chOff x="0" y="5313240"/>
              <a:chExt cx="6628680" cy="22032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53132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53132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5533920"/>
              <a:ext cx="6628680" cy="220320"/>
              <a:chOff x="0" y="5533920"/>
              <a:chExt cx="6628680" cy="22032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55339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5339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5754600"/>
              <a:ext cx="6628680" cy="220320"/>
              <a:chOff x="0" y="5754600"/>
              <a:chExt cx="6628680" cy="22032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5754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5754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5975280"/>
              <a:ext cx="6628680" cy="220320"/>
              <a:chOff x="0" y="5975280"/>
              <a:chExt cx="6628680" cy="22032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59752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59752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6195960"/>
              <a:ext cx="6628680" cy="220680"/>
              <a:chOff x="0" y="6195960"/>
              <a:chExt cx="6628680" cy="22068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61959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61959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6416640"/>
              <a:ext cx="6628680" cy="220320"/>
              <a:chOff x="0" y="6416640"/>
              <a:chExt cx="6628680" cy="22032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6416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6416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6637320"/>
              <a:ext cx="6628680" cy="220320"/>
              <a:chOff x="0" y="6637320"/>
              <a:chExt cx="6628680" cy="22032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6637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6637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505320" y="3276720"/>
            <a:ext cx="2971800" cy="1342440"/>
            <a:chOff x="3505320" y="3276720"/>
            <a:chExt cx="2971800" cy="1342440"/>
          </a:xfrm>
        </p:grpSpPr>
        <p:sp>
          <p:nvSpPr>
            <p:cNvPr id="198" name=""/>
            <p:cNvSpPr/>
            <p:nvPr/>
          </p:nvSpPr>
          <p:spPr>
            <a:xfrm>
              <a:off x="5257800" y="4038480"/>
              <a:ext cx="1219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14440" y="4114800"/>
              <a:ext cx="1143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505320" y="3276720"/>
              <a:ext cx="17524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352680" y="2286000"/>
            <a:ext cx="3124440" cy="3400200"/>
            <a:chOff x="3352680" y="2286000"/>
            <a:chExt cx="3124440" cy="3400200"/>
          </a:xfrm>
        </p:grpSpPr>
        <p:sp>
          <p:nvSpPr>
            <p:cNvPr id="202" name=""/>
            <p:cNvSpPr/>
            <p:nvPr/>
          </p:nvSpPr>
          <p:spPr>
            <a:xfrm>
              <a:off x="5257800" y="5105520"/>
              <a:ext cx="1219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4038120" y="449532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352680" y="2286000"/>
              <a:ext cx="1981440" cy="28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26A8C-9834-4C7C-B0F9-AA376179CD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.3 Example: Queue Abstract Data Typ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waiting in 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First in, first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items in a queue one at a time, from the 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items from a queue one at a time, from the 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hidden from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ue A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s may not manipulate data structure directl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queue member functions can access internal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BB74-F417-4385-B3EE-24286DBEA30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"/>
          <p:cNvSpPr/>
          <p:nvPr/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tainer Classes and It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classes (collection clas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designed to hold collections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services such as insertion, deletion, searching, sorting, or testing an i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stacks, queues, trees and linked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or objects (iter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that returns the next item of a collection (or performs some action on the next ite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have several iterators per contai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with multiple bookm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iterator maintains its own “position”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ussed further in chapter 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29A8-E7F0-46C2-A419-9A67D6FB191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xy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y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hide implementation details of a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that knows only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rface of the class being hid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clients to use class’s services without giving access to class’s imple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class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when class definition only uses a pointer to anoth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vents the need for including the head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a class before it is referen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lassToLo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395F-3AA6-4AAD-A158-D1C0F7B0522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atio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Forward class declara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14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2415" name=""/>
            <p:cNvGrpSpPr/>
            <p:nvPr/>
          </p:nvGrpSpPr>
          <p:grpSpPr>
            <a:xfrm>
              <a:off x="0" y="0"/>
              <a:ext cx="6705000" cy="3428640"/>
              <a:chOff x="0" y="0"/>
              <a:chExt cx="6705000" cy="3428640"/>
            </a:xfrm>
          </p:grpSpPr>
          <p:grpSp>
            <p:nvGrpSpPr>
              <p:cNvPr id="2416" name=""/>
              <p:cNvGrpSpPr/>
              <p:nvPr/>
            </p:nvGrpSpPr>
            <p:grpSpPr>
              <a:xfrm>
                <a:off x="0" y="0"/>
                <a:ext cx="6705000" cy="285480"/>
                <a:chOff x="0" y="0"/>
                <a:chExt cx="6705000" cy="285480"/>
              </a:xfrm>
            </p:grpSpPr>
            <p:sp>
              <p:nvSpPr>
                <p:cNvPr id="2417" name=""/>
                <p:cNvSpPr/>
                <p:nvPr/>
              </p:nvSpPr>
              <p:spPr>
                <a:xfrm>
                  <a:off x="0" y="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0" y="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7.10: implementation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9" name=""/>
              <p:cNvGrpSpPr/>
              <p:nvPr/>
            </p:nvGrpSpPr>
            <p:grpSpPr>
              <a:xfrm>
                <a:off x="0" y="285480"/>
                <a:ext cx="6705000" cy="285480"/>
                <a:chOff x="0" y="285480"/>
                <a:chExt cx="6705000" cy="285480"/>
              </a:xfrm>
            </p:grpSpPr>
            <p:sp>
              <p:nvSpPr>
                <p:cNvPr id="2420" name=""/>
                <p:cNvSpPr/>
                <p:nvPr/>
              </p:nvSpPr>
              <p:spPr>
                <a:xfrm>
                  <a:off x="0" y="28548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0" y="28548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Header file for class Implemen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2" name=""/>
              <p:cNvGrpSpPr/>
              <p:nvPr/>
            </p:nvGrpSpPr>
            <p:grpSpPr>
              <a:xfrm>
                <a:off x="0" y="571320"/>
                <a:ext cx="6705000" cy="285840"/>
                <a:chOff x="0" y="571320"/>
                <a:chExt cx="6705000" cy="285840"/>
              </a:xfrm>
            </p:grpSpPr>
            <p:sp>
              <p:nvSpPr>
                <p:cNvPr id="2423" name=""/>
                <p:cNvSpPr/>
                <p:nvPr/>
              </p:nvSpPr>
              <p:spPr>
                <a:xfrm>
                  <a:off x="0" y="571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0" y="571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5" name=""/>
              <p:cNvGrpSpPr/>
              <p:nvPr/>
            </p:nvGrpSpPr>
            <p:grpSpPr>
              <a:xfrm>
                <a:off x="0" y="857160"/>
                <a:ext cx="6705000" cy="285480"/>
                <a:chOff x="0" y="857160"/>
                <a:chExt cx="6705000" cy="285480"/>
              </a:xfrm>
            </p:grpSpPr>
            <p:sp>
              <p:nvSpPr>
                <p:cNvPr id="2426" name=""/>
                <p:cNvSpPr/>
                <p:nvPr/>
              </p:nvSpPr>
              <p:spPr>
                <a:xfrm>
                  <a:off x="0" y="857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0" y="857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mplementation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8" name=""/>
              <p:cNvGrpSpPr/>
              <p:nvPr/>
            </p:nvGrpSpPr>
            <p:grpSpPr>
              <a:xfrm>
                <a:off x="0" y="1143000"/>
                <a:ext cx="6705000" cy="285480"/>
                <a:chOff x="0" y="1143000"/>
                <a:chExt cx="6705000" cy="285480"/>
              </a:xfrm>
            </p:grpSpPr>
            <p:sp>
              <p:nvSpPr>
                <p:cNvPr id="2429" name=""/>
                <p:cNvSpPr/>
                <p:nvPr/>
              </p:nvSpPr>
              <p:spPr>
                <a:xfrm>
                  <a:off x="0" y="114300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0" y="114300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1" name=""/>
              <p:cNvGrpSpPr/>
              <p:nvPr/>
            </p:nvGrpSpPr>
            <p:grpSpPr>
              <a:xfrm>
                <a:off x="0" y="1428480"/>
                <a:ext cx="6705000" cy="285480"/>
                <a:chOff x="0" y="1428480"/>
                <a:chExt cx="6705000" cy="285480"/>
              </a:xfrm>
            </p:grpSpPr>
            <p:sp>
              <p:nvSpPr>
                <p:cNvPr id="2432" name=""/>
                <p:cNvSpPr/>
                <p:nvPr/>
              </p:nvSpPr>
              <p:spPr>
                <a:xfrm>
                  <a:off x="0" y="142848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0" y="142848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Implementation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 ) { value = v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4" name=""/>
              <p:cNvGrpSpPr/>
              <p:nvPr/>
            </p:nvGrpSpPr>
            <p:grpSpPr>
              <a:xfrm>
                <a:off x="0" y="1714320"/>
                <a:ext cx="6705000" cy="285840"/>
                <a:chOff x="0" y="1714320"/>
                <a:chExt cx="6705000" cy="285840"/>
              </a:xfrm>
            </p:grpSpPr>
            <p:sp>
              <p:nvSpPr>
                <p:cNvPr id="2435" name=""/>
                <p:cNvSpPr/>
                <p:nvPr/>
              </p:nvSpPr>
              <p:spPr>
                <a:xfrm>
                  <a:off x="0" y="1714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0" y="1714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etValu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 ) { value = v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7" name=""/>
              <p:cNvGrpSpPr/>
              <p:nvPr/>
            </p:nvGrpSpPr>
            <p:grpSpPr>
              <a:xfrm>
                <a:off x="0" y="2000160"/>
                <a:ext cx="6705000" cy="285480"/>
                <a:chOff x="0" y="2000160"/>
                <a:chExt cx="6705000" cy="285480"/>
              </a:xfrm>
            </p:grpSpPr>
            <p:sp>
              <p:nvSpPr>
                <p:cNvPr id="2438" name=""/>
                <p:cNvSpPr/>
                <p:nvPr/>
              </p:nvSpPr>
              <p:spPr>
                <a:xfrm>
                  <a:off x="0" y="2000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0" y="2000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getValue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{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alue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0" name=""/>
              <p:cNvGrpSpPr/>
              <p:nvPr/>
            </p:nvGrpSpPr>
            <p:grpSpPr>
              <a:xfrm>
                <a:off x="0" y="2286000"/>
                <a:ext cx="6705000" cy="285480"/>
                <a:chOff x="0" y="2286000"/>
                <a:chExt cx="6705000" cy="285480"/>
              </a:xfrm>
            </p:grpSpPr>
            <p:sp>
              <p:nvSpPr>
                <p:cNvPr id="2441" name=""/>
                <p:cNvSpPr/>
                <p:nvPr/>
              </p:nvSpPr>
              <p:spPr>
                <a:xfrm>
                  <a:off x="0" y="228600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0" y="228600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3" name=""/>
              <p:cNvGrpSpPr/>
              <p:nvPr/>
            </p:nvGrpSpPr>
            <p:grpSpPr>
              <a:xfrm>
                <a:off x="0" y="2571840"/>
                <a:ext cx="6705000" cy="285480"/>
                <a:chOff x="0" y="2571840"/>
                <a:chExt cx="6705000" cy="285480"/>
              </a:xfrm>
            </p:grpSpPr>
            <p:sp>
              <p:nvSpPr>
                <p:cNvPr id="2444" name=""/>
                <p:cNvSpPr/>
                <p:nvPr/>
              </p:nvSpPr>
              <p:spPr>
                <a:xfrm>
                  <a:off x="0" y="257184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0" y="257184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6" name=""/>
              <p:cNvGrpSpPr/>
              <p:nvPr/>
            </p:nvGrpSpPr>
            <p:grpSpPr>
              <a:xfrm>
                <a:off x="0" y="2857320"/>
                <a:ext cx="6705000" cy="285840"/>
                <a:chOff x="0" y="2857320"/>
                <a:chExt cx="6705000" cy="285840"/>
              </a:xfrm>
            </p:grpSpPr>
            <p:sp>
              <p:nvSpPr>
                <p:cNvPr id="2447" name=""/>
                <p:cNvSpPr/>
                <p:nvPr/>
              </p:nvSpPr>
              <p:spPr>
                <a:xfrm>
                  <a:off x="0" y="2857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0" y="2857320"/>
                  <a:ext cx="6705000" cy="2858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alue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9" name=""/>
              <p:cNvGrpSpPr/>
              <p:nvPr/>
            </p:nvGrpSpPr>
            <p:grpSpPr>
              <a:xfrm>
                <a:off x="0" y="3143160"/>
                <a:ext cx="6705000" cy="285480"/>
                <a:chOff x="0" y="3143160"/>
                <a:chExt cx="6705000" cy="285480"/>
              </a:xfrm>
            </p:grpSpPr>
            <p:sp>
              <p:nvSpPr>
                <p:cNvPr id="2450" name=""/>
                <p:cNvSpPr/>
                <p:nvPr/>
              </p:nvSpPr>
              <p:spPr>
                <a:xfrm>
                  <a:off x="0" y="3143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0" y="3143160"/>
                  <a:ext cx="6705000" cy="285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52" name=""/>
            <p:cNvGrpSpPr/>
            <p:nvPr/>
          </p:nvGrpSpPr>
          <p:grpSpPr>
            <a:xfrm>
              <a:off x="0" y="3429000"/>
              <a:ext cx="6705000" cy="3429000"/>
              <a:chOff x="0" y="3429000"/>
              <a:chExt cx="6705000" cy="3429000"/>
            </a:xfrm>
          </p:grpSpPr>
          <p:grpSp>
            <p:nvGrpSpPr>
              <p:cNvPr id="2453" name=""/>
              <p:cNvGrpSpPr/>
              <p:nvPr/>
            </p:nvGrpSpPr>
            <p:grpSpPr>
              <a:xfrm>
                <a:off x="0" y="3429000"/>
                <a:ext cx="6705000" cy="244800"/>
                <a:chOff x="0" y="3429000"/>
                <a:chExt cx="6705000" cy="244800"/>
              </a:xfrm>
            </p:grpSpPr>
            <p:sp>
              <p:nvSpPr>
                <p:cNvPr id="2454" name=""/>
                <p:cNvSpPr/>
                <p:nvPr/>
              </p:nvSpPr>
              <p:spPr>
                <a:xfrm>
                  <a:off x="0" y="34290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0" y="34290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7.10: interface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6" name=""/>
              <p:cNvGrpSpPr/>
              <p:nvPr/>
            </p:nvGrpSpPr>
            <p:grpSpPr>
              <a:xfrm>
                <a:off x="0" y="3673800"/>
                <a:ext cx="6705000" cy="244800"/>
                <a:chOff x="0" y="3673800"/>
                <a:chExt cx="6705000" cy="244800"/>
              </a:xfrm>
            </p:grpSpPr>
            <p:sp>
              <p:nvSpPr>
                <p:cNvPr id="2457" name=""/>
                <p:cNvSpPr/>
                <p:nvPr/>
              </p:nvSpPr>
              <p:spPr>
                <a:xfrm>
                  <a:off x="0" y="36738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0" y="36738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Header file for interface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9" name=""/>
              <p:cNvGrpSpPr/>
              <p:nvPr/>
            </p:nvGrpSpPr>
            <p:grpSpPr>
              <a:xfrm>
                <a:off x="0" y="3918600"/>
                <a:ext cx="6705000" cy="244800"/>
                <a:chOff x="0" y="3918600"/>
                <a:chExt cx="6705000" cy="244800"/>
              </a:xfrm>
            </p:grpSpPr>
            <p:sp>
              <p:nvSpPr>
                <p:cNvPr id="2460" name=""/>
                <p:cNvSpPr/>
                <p:nvPr/>
              </p:nvSpPr>
              <p:spPr>
                <a:xfrm>
                  <a:off x="0" y="39186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0" y="39186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mplementation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// forward class declar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2" name=""/>
              <p:cNvGrpSpPr/>
              <p:nvPr/>
            </p:nvGrpSpPr>
            <p:grpSpPr>
              <a:xfrm>
                <a:off x="0" y="4163760"/>
                <a:ext cx="6705000" cy="244800"/>
                <a:chOff x="0" y="4163760"/>
                <a:chExt cx="6705000" cy="244800"/>
              </a:xfrm>
            </p:grpSpPr>
            <p:sp>
              <p:nvSpPr>
                <p:cNvPr id="2463" name=""/>
                <p:cNvSpPr/>
                <p:nvPr/>
              </p:nvSpPr>
              <p:spPr>
                <a:xfrm>
                  <a:off x="0" y="41637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0" y="41637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5" name=""/>
              <p:cNvGrpSpPr/>
              <p:nvPr/>
            </p:nvGrpSpPr>
            <p:grpSpPr>
              <a:xfrm>
                <a:off x="0" y="4408560"/>
                <a:ext cx="6705000" cy="244800"/>
                <a:chOff x="0" y="4408560"/>
                <a:chExt cx="6705000" cy="244800"/>
              </a:xfrm>
            </p:grpSpPr>
            <p:sp>
              <p:nvSpPr>
                <p:cNvPr id="2466" name=""/>
                <p:cNvSpPr/>
                <p:nvPr/>
              </p:nvSpPr>
              <p:spPr>
                <a:xfrm>
                  <a:off x="0" y="44085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0" y="44085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nterface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8" name=""/>
              <p:cNvGrpSpPr/>
              <p:nvPr/>
            </p:nvGrpSpPr>
            <p:grpSpPr>
              <a:xfrm>
                <a:off x="0" y="4653360"/>
                <a:ext cx="6705000" cy="244800"/>
                <a:chOff x="0" y="4653360"/>
                <a:chExt cx="6705000" cy="244800"/>
              </a:xfrm>
            </p:grpSpPr>
            <p:sp>
              <p:nvSpPr>
                <p:cNvPr id="2469" name=""/>
                <p:cNvSpPr/>
                <p:nvPr/>
              </p:nvSpPr>
              <p:spPr>
                <a:xfrm>
                  <a:off x="0" y="46533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0" y="465336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1" name=""/>
              <p:cNvGrpSpPr/>
              <p:nvPr/>
            </p:nvGrpSpPr>
            <p:grpSpPr>
              <a:xfrm>
                <a:off x="0" y="4898520"/>
                <a:ext cx="6705000" cy="244800"/>
                <a:chOff x="0" y="4898520"/>
                <a:chExt cx="6705000" cy="244800"/>
              </a:xfrm>
            </p:grpSpPr>
            <p:sp>
              <p:nvSpPr>
                <p:cNvPr id="2472" name=""/>
                <p:cNvSpPr/>
                <p:nvPr/>
              </p:nvSpPr>
              <p:spPr>
                <a:xfrm>
                  <a:off x="0" y="489852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0" y="489852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Interfac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4" name=""/>
              <p:cNvGrpSpPr/>
              <p:nvPr/>
            </p:nvGrpSpPr>
            <p:grpSpPr>
              <a:xfrm>
                <a:off x="0" y="5143680"/>
                <a:ext cx="6705000" cy="244800"/>
                <a:chOff x="0" y="5143680"/>
                <a:chExt cx="6705000" cy="244800"/>
              </a:xfrm>
            </p:grpSpPr>
            <p:sp>
              <p:nvSpPr>
                <p:cNvPr id="2475" name=""/>
                <p:cNvSpPr/>
                <p:nvPr/>
              </p:nvSpPr>
              <p:spPr>
                <a:xfrm>
                  <a:off x="0" y="51436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0" y="51436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etValu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)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same public interface 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7" name=""/>
              <p:cNvGrpSpPr/>
              <p:nvPr/>
            </p:nvGrpSpPr>
            <p:grpSpPr>
              <a:xfrm>
                <a:off x="0" y="5388480"/>
                <a:ext cx="6705000" cy="244800"/>
                <a:chOff x="0" y="5388480"/>
                <a:chExt cx="6705000" cy="244800"/>
              </a:xfrm>
            </p:grpSpPr>
            <p:sp>
              <p:nvSpPr>
                <p:cNvPr id="2478" name=""/>
                <p:cNvSpPr/>
                <p:nvPr/>
              </p:nvSpPr>
              <p:spPr>
                <a:xfrm>
                  <a:off x="0" y="53884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0" y="53884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getValue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class Implemen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0" name=""/>
              <p:cNvGrpSpPr/>
              <p:nvPr/>
            </p:nvGrpSpPr>
            <p:grpSpPr>
              <a:xfrm>
                <a:off x="0" y="5633280"/>
                <a:ext cx="6705000" cy="244800"/>
                <a:chOff x="0" y="5633280"/>
                <a:chExt cx="6705000" cy="244800"/>
              </a:xfrm>
            </p:grpSpPr>
            <p:sp>
              <p:nvSpPr>
                <p:cNvPr id="2481" name=""/>
                <p:cNvSpPr/>
                <p:nvPr/>
              </p:nvSpPr>
              <p:spPr>
                <a:xfrm>
                  <a:off x="0" y="56332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0" y="56332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~Interface(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3" name=""/>
              <p:cNvGrpSpPr/>
              <p:nvPr/>
            </p:nvGrpSpPr>
            <p:grpSpPr>
              <a:xfrm>
                <a:off x="0" y="5878080"/>
                <a:ext cx="6705000" cy="244800"/>
                <a:chOff x="0" y="5878080"/>
                <a:chExt cx="6705000" cy="244800"/>
              </a:xfrm>
            </p:grpSpPr>
            <p:sp>
              <p:nvSpPr>
                <p:cNvPr id="2484" name=""/>
                <p:cNvSpPr/>
                <p:nvPr/>
              </p:nvSpPr>
              <p:spPr>
                <a:xfrm>
                  <a:off x="0" y="58780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0" y="587808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6" name=""/>
              <p:cNvGrpSpPr/>
              <p:nvPr/>
            </p:nvGrpSpPr>
            <p:grpSpPr>
              <a:xfrm>
                <a:off x="0" y="6123240"/>
                <a:ext cx="6705000" cy="244800"/>
                <a:chOff x="0" y="6123240"/>
                <a:chExt cx="6705000" cy="244800"/>
              </a:xfrm>
            </p:grpSpPr>
            <p:sp>
              <p:nvSpPr>
                <p:cNvPr id="2487" name=""/>
                <p:cNvSpPr/>
                <p:nvPr/>
              </p:nvSpPr>
              <p:spPr>
                <a:xfrm>
                  <a:off x="0" y="612324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0" y="612324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Implementation *ptr;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 // requires previou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9" name=""/>
              <p:cNvGrpSpPr/>
              <p:nvPr/>
            </p:nvGrpSpPr>
            <p:grpSpPr>
              <a:xfrm>
                <a:off x="0" y="6368040"/>
                <a:ext cx="6705000" cy="244800"/>
                <a:chOff x="0" y="6368040"/>
                <a:chExt cx="6705000" cy="244800"/>
              </a:xfrm>
            </p:grpSpPr>
            <p:sp>
              <p:nvSpPr>
                <p:cNvPr id="2490" name=""/>
                <p:cNvSpPr/>
                <p:nvPr/>
              </p:nvSpPr>
              <p:spPr>
                <a:xfrm>
                  <a:off x="0" y="636804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0" y="636804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                     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orward declar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2" name=""/>
              <p:cNvGrpSpPr/>
              <p:nvPr/>
            </p:nvGrpSpPr>
            <p:grpSpPr>
              <a:xfrm>
                <a:off x="0" y="6613200"/>
                <a:ext cx="6705000" cy="244800"/>
                <a:chOff x="0" y="6613200"/>
                <a:chExt cx="6705000" cy="244800"/>
              </a:xfrm>
            </p:grpSpPr>
            <p:sp>
              <p:nvSpPr>
                <p:cNvPr id="2493" name=""/>
                <p:cNvSpPr/>
                <p:nvPr/>
              </p:nvSpPr>
              <p:spPr>
                <a:xfrm>
                  <a:off x="0" y="66132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0" y="6613200"/>
                  <a:ext cx="6705000" cy="2448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95" name=""/>
          <p:cNvGrpSpPr/>
          <p:nvPr/>
        </p:nvGrpSpPr>
        <p:grpSpPr>
          <a:xfrm>
            <a:off x="1752120" y="1828800"/>
            <a:ext cx="3886560" cy="990360"/>
            <a:chOff x="1752120" y="1828800"/>
            <a:chExt cx="3886560" cy="990360"/>
          </a:xfrm>
        </p:grpSpPr>
        <p:sp>
          <p:nvSpPr>
            <p:cNvPr id="2496" name=""/>
            <p:cNvSpPr/>
            <p:nvPr/>
          </p:nvSpPr>
          <p:spPr>
            <a:xfrm flipH="1">
              <a:off x="1752120" y="2286000"/>
              <a:ext cx="11430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590560" y="182880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we want to hid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8" name=""/>
          <p:cNvGrpSpPr/>
          <p:nvPr/>
        </p:nvGrpSpPr>
        <p:grpSpPr>
          <a:xfrm>
            <a:off x="1523520" y="2819520"/>
            <a:ext cx="3734280" cy="1066680"/>
            <a:chOff x="1523520" y="2819520"/>
            <a:chExt cx="3734280" cy="1066680"/>
          </a:xfrm>
        </p:grpSpPr>
        <p:sp>
          <p:nvSpPr>
            <p:cNvPr id="2499" name=""/>
            <p:cNvSpPr/>
            <p:nvPr/>
          </p:nvSpPr>
          <p:spPr>
            <a:xfrm flipH="1">
              <a:off x="1523520" y="3124080"/>
              <a:ext cx="1600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819520" y="2819520"/>
              <a:ext cx="24382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ward class declar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1" name=""/>
          <p:cNvGrpSpPr/>
          <p:nvPr/>
        </p:nvGrpSpPr>
        <p:grpSpPr>
          <a:xfrm>
            <a:off x="1828440" y="4495680"/>
            <a:ext cx="4953240" cy="1681200"/>
            <a:chOff x="1828440" y="4495680"/>
            <a:chExt cx="4953240" cy="1681200"/>
          </a:xfrm>
        </p:grpSpPr>
        <p:sp>
          <p:nvSpPr>
            <p:cNvPr id="2502" name=""/>
            <p:cNvSpPr/>
            <p:nvPr/>
          </p:nvSpPr>
          <p:spPr>
            <a:xfrm flipH="1">
              <a:off x="1828440" y="5181480"/>
              <a:ext cx="15238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200400" y="4495680"/>
              <a:ext cx="3581280" cy="1681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xy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erfac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as same public interface a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ly uses a pointer to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 This allows us to hide the implementation detai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3C223-4D89-4AA4-8346-CC0DC338199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-------------------------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interface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505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2506" name=""/>
            <p:cNvGrpSpPr/>
            <p:nvPr/>
          </p:nvGrpSpPr>
          <p:grpSpPr>
            <a:xfrm>
              <a:off x="0" y="0"/>
              <a:ext cx="6705000" cy="2971800"/>
              <a:chOff x="0" y="0"/>
              <a:chExt cx="6705000" cy="2971800"/>
            </a:xfrm>
          </p:grpSpPr>
          <p:grpSp>
            <p:nvGrpSpPr>
              <p:cNvPr id="2507" name=""/>
              <p:cNvGrpSpPr/>
              <p:nvPr/>
            </p:nvGrpSpPr>
            <p:grpSpPr>
              <a:xfrm>
                <a:off x="0" y="0"/>
                <a:ext cx="6705000" cy="198000"/>
                <a:chOff x="0" y="0"/>
                <a:chExt cx="6705000" cy="198000"/>
              </a:xfrm>
            </p:grpSpPr>
            <p:sp>
              <p:nvSpPr>
                <p:cNvPr id="2508" name=""/>
                <p:cNvSpPr/>
                <p:nvPr/>
              </p:nvSpPr>
              <p:spPr>
                <a:xfrm>
                  <a:off x="0" y="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0" y="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7.10: interface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0" name=""/>
              <p:cNvGrpSpPr/>
              <p:nvPr/>
            </p:nvGrpSpPr>
            <p:grpSpPr>
              <a:xfrm>
                <a:off x="0" y="198000"/>
                <a:ext cx="6705000" cy="198000"/>
                <a:chOff x="0" y="198000"/>
                <a:chExt cx="6705000" cy="198000"/>
              </a:xfrm>
            </p:grpSpPr>
            <p:sp>
              <p:nvSpPr>
                <p:cNvPr id="2511" name=""/>
                <p:cNvSpPr/>
                <p:nvPr/>
              </p:nvSpPr>
              <p:spPr>
                <a:xfrm>
                  <a:off x="0" y="1980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0" y="1980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Definition of class Interfa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3" name=""/>
              <p:cNvGrpSpPr/>
              <p:nvPr/>
            </p:nvGrpSpPr>
            <p:grpSpPr>
              <a:xfrm>
                <a:off x="0" y="396000"/>
                <a:ext cx="6705000" cy="198000"/>
                <a:chOff x="0" y="396000"/>
                <a:chExt cx="6705000" cy="198000"/>
              </a:xfrm>
            </p:grpSpPr>
            <p:sp>
              <p:nvSpPr>
                <p:cNvPr id="2514" name=""/>
                <p:cNvSpPr/>
                <p:nvPr/>
              </p:nvSpPr>
              <p:spPr>
                <a:xfrm>
                  <a:off x="0" y="3960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0" y="3960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2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interface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6" name=""/>
              <p:cNvGrpSpPr/>
              <p:nvPr/>
            </p:nvGrpSpPr>
            <p:grpSpPr>
              <a:xfrm>
                <a:off x="0" y="594360"/>
                <a:ext cx="6705000" cy="198000"/>
                <a:chOff x="0" y="594360"/>
                <a:chExt cx="6705000" cy="198000"/>
              </a:xfrm>
            </p:grpSpPr>
            <p:sp>
              <p:nvSpPr>
                <p:cNvPr id="2517" name=""/>
                <p:cNvSpPr/>
                <p:nvPr/>
              </p:nvSpPr>
              <p:spPr>
                <a:xfrm>
                  <a:off x="0" y="594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0" y="594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implementation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9" name=""/>
              <p:cNvGrpSpPr/>
              <p:nvPr/>
            </p:nvGrpSpPr>
            <p:grpSpPr>
              <a:xfrm>
                <a:off x="0" y="792360"/>
                <a:ext cx="6705000" cy="198000"/>
                <a:chOff x="0" y="792360"/>
                <a:chExt cx="6705000" cy="198000"/>
              </a:xfrm>
            </p:grpSpPr>
            <p:sp>
              <p:nvSpPr>
                <p:cNvPr id="2520" name=""/>
                <p:cNvSpPr/>
                <p:nvPr/>
              </p:nvSpPr>
              <p:spPr>
                <a:xfrm>
                  <a:off x="0" y="792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0" y="792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2" name=""/>
              <p:cNvGrpSpPr/>
              <p:nvPr/>
            </p:nvGrpSpPr>
            <p:grpSpPr>
              <a:xfrm>
                <a:off x="0" y="990360"/>
                <a:ext cx="6705000" cy="198000"/>
                <a:chOff x="0" y="990360"/>
                <a:chExt cx="6705000" cy="198000"/>
              </a:xfrm>
            </p:grpSpPr>
            <p:sp>
              <p:nvSpPr>
                <p:cNvPr id="2523" name=""/>
                <p:cNvSpPr/>
                <p:nvPr/>
              </p:nvSpPr>
              <p:spPr>
                <a:xfrm>
                  <a:off x="0" y="990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0" y="99036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Interface::Interfac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 )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5" name=""/>
              <p:cNvGrpSpPr/>
              <p:nvPr/>
            </p:nvGrpSpPr>
            <p:grpSpPr>
              <a:xfrm>
                <a:off x="0" y="1188720"/>
                <a:ext cx="6705000" cy="198000"/>
                <a:chOff x="0" y="1188720"/>
                <a:chExt cx="6705000" cy="198000"/>
              </a:xfrm>
            </p:grpSpPr>
            <p:sp>
              <p:nvSpPr>
                <p:cNvPr id="2526" name=""/>
                <p:cNvSpPr/>
                <p:nvPr/>
              </p:nvSpPr>
              <p:spPr>
                <a:xfrm>
                  <a:off x="0" y="1188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0" y="1188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: ptr ( new Implementation( v ) ) {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8" name=""/>
              <p:cNvGrpSpPr/>
              <p:nvPr/>
            </p:nvGrpSpPr>
            <p:grpSpPr>
              <a:xfrm>
                <a:off x="0" y="1386720"/>
                <a:ext cx="6705000" cy="198000"/>
                <a:chOff x="0" y="1386720"/>
                <a:chExt cx="6705000" cy="198000"/>
              </a:xfrm>
            </p:grpSpPr>
            <p:sp>
              <p:nvSpPr>
                <p:cNvPr id="2529" name=""/>
                <p:cNvSpPr/>
                <p:nvPr/>
              </p:nvSpPr>
              <p:spPr>
                <a:xfrm>
                  <a:off x="0" y="1386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0" y="1386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1" name=""/>
              <p:cNvGrpSpPr/>
              <p:nvPr/>
            </p:nvGrpSpPr>
            <p:grpSpPr>
              <a:xfrm>
                <a:off x="0" y="1584720"/>
                <a:ext cx="6705000" cy="198000"/>
                <a:chOff x="0" y="1584720"/>
                <a:chExt cx="6705000" cy="198000"/>
              </a:xfrm>
            </p:grpSpPr>
            <p:sp>
              <p:nvSpPr>
                <p:cNvPr id="2532" name=""/>
                <p:cNvSpPr/>
                <p:nvPr/>
              </p:nvSpPr>
              <p:spPr>
                <a:xfrm>
                  <a:off x="0" y="1584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0" y="158472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call Implementation's setValue fun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4" name=""/>
              <p:cNvGrpSpPr/>
              <p:nvPr/>
            </p:nvGrpSpPr>
            <p:grpSpPr>
              <a:xfrm>
                <a:off x="0" y="1783080"/>
                <a:ext cx="6705000" cy="198000"/>
                <a:chOff x="0" y="1783080"/>
                <a:chExt cx="6705000" cy="198000"/>
              </a:xfrm>
            </p:grpSpPr>
            <p:sp>
              <p:nvSpPr>
                <p:cNvPr id="2535" name=""/>
                <p:cNvSpPr/>
                <p:nvPr/>
              </p:nvSpPr>
              <p:spPr>
                <a:xfrm>
                  <a:off x="0" y="178308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0" y="178308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void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nterface::setValu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v ) { ptr-&gt;setValue( v )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7" name=""/>
              <p:cNvGrpSpPr/>
              <p:nvPr/>
            </p:nvGrpSpPr>
            <p:grpSpPr>
              <a:xfrm>
                <a:off x="0" y="1981080"/>
                <a:ext cx="6705000" cy="198000"/>
                <a:chOff x="0" y="1981080"/>
                <a:chExt cx="6705000" cy="198000"/>
              </a:xfrm>
            </p:grpSpPr>
            <p:sp>
              <p:nvSpPr>
                <p:cNvPr id="2538" name=""/>
                <p:cNvSpPr/>
                <p:nvPr/>
              </p:nvSpPr>
              <p:spPr>
                <a:xfrm>
                  <a:off x="0" y="198108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0" y="198108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0" name=""/>
              <p:cNvGrpSpPr/>
              <p:nvPr/>
            </p:nvGrpSpPr>
            <p:grpSpPr>
              <a:xfrm>
                <a:off x="0" y="2179440"/>
                <a:ext cx="6705000" cy="198000"/>
                <a:chOff x="0" y="2179440"/>
                <a:chExt cx="6705000" cy="198000"/>
              </a:xfrm>
            </p:grpSpPr>
            <p:sp>
              <p:nvSpPr>
                <p:cNvPr id="2541" name=""/>
                <p:cNvSpPr/>
                <p:nvPr/>
              </p:nvSpPr>
              <p:spPr>
                <a:xfrm>
                  <a:off x="0" y="2179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0" y="2179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call Implementation's getValue func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3" name=""/>
              <p:cNvGrpSpPr/>
              <p:nvPr/>
            </p:nvGrpSpPr>
            <p:grpSpPr>
              <a:xfrm>
                <a:off x="0" y="2377440"/>
                <a:ext cx="6705000" cy="198000"/>
                <a:chOff x="0" y="2377440"/>
                <a:chExt cx="6705000" cy="198000"/>
              </a:xfrm>
            </p:grpSpPr>
            <p:sp>
              <p:nvSpPr>
                <p:cNvPr id="2544" name=""/>
                <p:cNvSpPr/>
                <p:nvPr/>
              </p:nvSpPr>
              <p:spPr>
                <a:xfrm>
                  <a:off x="0" y="2377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0" y="2377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Interface::getValue()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cons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{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ptr-&gt;getValue(); 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6" name=""/>
              <p:cNvGrpSpPr/>
              <p:nvPr/>
            </p:nvGrpSpPr>
            <p:grpSpPr>
              <a:xfrm>
                <a:off x="0" y="2575440"/>
                <a:ext cx="6705000" cy="198000"/>
                <a:chOff x="0" y="2575440"/>
                <a:chExt cx="6705000" cy="198000"/>
              </a:xfrm>
            </p:grpSpPr>
            <p:sp>
              <p:nvSpPr>
                <p:cNvPr id="2547" name=""/>
                <p:cNvSpPr/>
                <p:nvPr/>
              </p:nvSpPr>
              <p:spPr>
                <a:xfrm>
                  <a:off x="0" y="2575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0" y="257544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9" name=""/>
              <p:cNvGrpSpPr/>
              <p:nvPr/>
            </p:nvGrpSpPr>
            <p:grpSpPr>
              <a:xfrm>
                <a:off x="0" y="2773800"/>
                <a:ext cx="6705000" cy="198000"/>
                <a:chOff x="0" y="2773800"/>
                <a:chExt cx="6705000" cy="198000"/>
              </a:xfrm>
            </p:grpSpPr>
            <p:sp>
              <p:nvSpPr>
                <p:cNvPr id="2550" name=""/>
                <p:cNvSpPr/>
                <p:nvPr/>
              </p:nvSpPr>
              <p:spPr>
                <a:xfrm>
                  <a:off x="0" y="2773800"/>
                  <a:ext cx="6705000" cy="198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1" name=""/>
                <p:cNvGrpSpPr/>
                <p:nvPr/>
              </p:nvGrpSpPr>
              <p:grpSpPr>
                <a:xfrm>
                  <a:off x="0" y="2773800"/>
                  <a:ext cx="6704640" cy="198000"/>
                  <a:chOff x="0" y="2773800"/>
                  <a:chExt cx="6704640" cy="198000"/>
                </a:xfrm>
              </p:grpSpPr>
              <p:sp>
                <p:nvSpPr>
                  <p:cNvPr id="2552" name=""/>
                  <p:cNvSpPr/>
                  <p:nvPr/>
                </p:nvSpPr>
                <p:spPr>
                  <a:xfrm>
                    <a:off x="0" y="2773800"/>
                    <a:ext cx="6704640" cy="198000"/>
                  </a:xfrm>
                  <a:prstGeom prst="rect">
                    <a:avLst/>
                  </a:prstGeom>
                  <a:solidFill>
                    <a:srgbClr val="ffe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41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  <a:ea typeface="Times New Roman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  <a:ea typeface="Times New Roman"/>
                      </a:rPr>
                      <a:t>Interface::~Interface() { </a:t>
                    </a:r>
                    <a:r>
                      <a:rPr b="1" lang="en-US" sz="1200" spc="-1" strike="noStrike">
                        <a:solidFill>
                          <a:srgbClr val="275aff"/>
                        </a:solidFill>
                        <a:latin typeface="Courier New"/>
                        <a:ea typeface="Times New Roman"/>
                      </a:rPr>
                      <a:t>delete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  <a:ea typeface="Times New Roman"/>
                      </a:rPr>
                      <a:t> ptr; }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3" name=""/>
                  <p:cNvSpPr/>
                  <p:nvPr/>
                </p:nvSpPr>
                <p:spPr>
                  <a:xfrm>
                    <a:off x="0" y="2773800"/>
                    <a:ext cx="6704640" cy="198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54" name=""/>
            <p:cNvGrpSpPr/>
            <p:nvPr/>
          </p:nvGrpSpPr>
          <p:grpSpPr>
            <a:xfrm>
              <a:off x="0" y="2971800"/>
              <a:ext cx="6705000" cy="3886200"/>
              <a:chOff x="0" y="2971800"/>
              <a:chExt cx="6705000" cy="3886200"/>
            </a:xfrm>
          </p:grpSpPr>
          <p:grpSp>
            <p:nvGrpSpPr>
              <p:cNvPr id="2555" name=""/>
              <p:cNvGrpSpPr/>
              <p:nvPr/>
            </p:nvGrpSpPr>
            <p:grpSpPr>
              <a:xfrm>
                <a:off x="0" y="2971800"/>
                <a:ext cx="6705000" cy="194040"/>
                <a:chOff x="0" y="2971800"/>
                <a:chExt cx="6705000" cy="194040"/>
              </a:xfrm>
            </p:grpSpPr>
            <p:sp>
              <p:nvSpPr>
                <p:cNvPr id="2556" name=""/>
                <p:cNvSpPr/>
                <p:nvPr/>
              </p:nvSpPr>
              <p:spPr>
                <a:xfrm>
                  <a:off x="0" y="297180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0" y="297180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Fig. 7.10: fig07_10.cp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8" name=""/>
              <p:cNvGrpSpPr/>
              <p:nvPr/>
            </p:nvGrpSpPr>
            <p:grpSpPr>
              <a:xfrm>
                <a:off x="0" y="3165840"/>
                <a:ext cx="6705000" cy="194040"/>
                <a:chOff x="0" y="3165840"/>
                <a:chExt cx="6705000" cy="194040"/>
              </a:xfrm>
            </p:grpSpPr>
            <p:sp>
              <p:nvSpPr>
                <p:cNvPr id="2559" name=""/>
                <p:cNvSpPr/>
                <p:nvPr/>
              </p:nvSpPr>
              <p:spPr>
                <a:xfrm>
                  <a:off x="0" y="31658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0" y="31658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  <a:ea typeface="Times New Roman"/>
                    </a:rPr>
                    <a:t>// Hiding a class’s private data with a proxy clas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1" name=""/>
              <p:cNvGrpSpPr/>
              <p:nvPr/>
            </p:nvGrpSpPr>
            <p:grpSpPr>
              <a:xfrm>
                <a:off x="0" y="3360240"/>
                <a:ext cx="6705000" cy="194400"/>
                <a:chOff x="0" y="3360240"/>
                <a:chExt cx="6705000" cy="194400"/>
              </a:xfrm>
            </p:grpSpPr>
            <p:sp>
              <p:nvSpPr>
                <p:cNvPr id="2562" name=""/>
                <p:cNvSpPr/>
                <p:nvPr/>
              </p:nvSpPr>
              <p:spPr>
                <a:xfrm>
                  <a:off x="0" y="336024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0" y="336024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&lt;iostream&g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4" name=""/>
              <p:cNvGrpSpPr/>
              <p:nvPr/>
            </p:nvGrpSpPr>
            <p:grpSpPr>
              <a:xfrm>
                <a:off x="0" y="3554640"/>
                <a:ext cx="6705000" cy="194040"/>
                <a:chOff x="0" y="3554640"/>
                <a:chExt cx="6705000" cy="194040"/>
              </a:xfrm>
            </p:grpSpPr>
            <p:sp>
              <p:nvSpPr>
                <p:cNvPr id="2565" name=""/>
                <p:cNvSpPr/>
                <p:nvPr/>
              </p:nvSpPr>
              <p:spPr>
                <a:xfrm>
                  <a:off x="0" y="35546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0" y="35546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7" name=""/>
              <p:cNvGrpSpPr/>
              <p:nvPr/>
            </p:nvGrpSpPr>
            <p:grpSpPr>
              <a:xfrm>
                <a:off x="0" y="3749040"/>
                <a:ext cx="6705000" cy="194040"/>
                <a:chOff x="0" y="3749040"/>
                <a:chExt cx="6705000" cy="194040"/>
              </a:xfrm>
            </p:grpSpPr>
            <p:sp>
              <p:nvSpPr>
                <p:cNvPr id="2568" name=""/>
                <p:cNvSpPr/>
                <p:nvPr/>
              </p:nvSpPr>
              <p:spPr>
                <a:xfrm>
                  <a:off x="0" y="37490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0" y="374904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td::cout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0" name=""/>
              <p:cNvGrpSpPr/>
              <p:nvPr/>
            </p:nvGrpSpPr>
            <p:grpSpPr>
              <a:xfrm>
                <a:off x="0" y="3943080"/>
                <a:ext cx="6705000" cy="194040"/>
                <a:chOff x="0" y="3943080"/>
                <a:chExt cx="6705000" cy="194040"/>
              </a:xfrm>
            </p:grpSpPr>
            <p:sp>
              <p:nvSpPr>
                <p:cNvPr id="2571" name=""/>
                <p:cNvSpPr/>
                <p:nvPr/>
              </p:nvSpPr>
              <p:spPr>
                <a:xfrm>
                  <a:off x="0" y="39430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0" y="39430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using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std::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3" name=""/>
              <p:cNvGrpSpPr/>
              <p:nvPr/>
            </p:nvGrpSpPr>
            <p:grpSpPr>
              <a:xfrm>
                <a:off x="0" y="4137480"/>
                <a:ext cx="6705000" cy="194400"/>
                <a:chOff x="0" y="4137480"/>
                <a:chExt cx="6705000" cy="19440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0" y="413748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0" y="413748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6" name=""/>
              <p:cNvGrpSpPr/>
              <p:nvPr/>
            </p:nvGrpSpPr>
            <p:grpSpPr>
              <a:xfrm>
                <a:off x="0" y="4331880"/>
                <a:ext cx="6705000" cy="194040"/>
                <a:chOff x="0" y="4331880"/>
                <a:chExt cx="6705000" cy="194040"/>
              </a:xfrm>
            </p:grpSpPr>
            <p:sp>
              <p:nvSpPr>
                <p:cNvPr id="2577" name=""/>
                <p:cNvSpPr/>
                <p:nvPr/>
              </p:nvSpPr>
              <p:spPr>
                <a:xfrm>
                  <a:off x="0" y="43318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0" y="43318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"interface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9" name=""/>
              <p:cNvGrpSpPr/>
              <p:nvPr/>
            </p:nvGrpSpPr>
            <p:grpSpPr>
              <a:xfrm>
                <a:off x="0" y="4526280"/>
                <a:ext cx="6705000" cy="194040"/>
                <a:chOff x="0" y="4526280"/>
                <a:chExt cx="6705000" cy="194040"/>
              </a:xfrm>
            </p:grpSpPr>
            <p:sp>
              <p:nvSpPr>
                <p:cNvPr id="2580" name=""/>
                <p:cNvSpPr/>
                <p:nvPr/>
              </p:nvSpPr>
              <p:spPr>
                <a:xfrm>
                  <a:off x="0" y="45262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0" y="452628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2" name=""/>
              <p:cNvGrpSpPr/>
              <p:nvPr/>
            </p:nvGrpSpPr>
            <p:grpSpPr>
              <a:xfrm>
                <a:off x="0" y="4720320"/>
                <a:ext cx="6705000" cy="194040"/>
                <a:chOff x="0" y="4720320"/>
                <a:chExt cx="6705000" cy="194040"/>
              </a:xfrm>
            </p:grpSpPr>
            <p:sp>
              <p:nvSpPr>
                <p:cNvPr id="2583" name=""/>
                <p:cNvSpPr/>
                <p:nvPr/>
              </p:nvSpPr>
              <p:spPr>
                <a:xfrm>
                  <a:off x="0" y="47203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0" y="47203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main(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5" name=""/>
              <p:cNvGrpSpPr/>
              <p:nvPr/>
            </p:nvGrpSpPr>
            <p:grpSpPr>
              <a:xfrm>
                <a:off x="0" y="4914720"/>
                <a:ext cx="6705000" cy="194400"/>
                <a:chOff x="0" y="4914720"/>
                <a:chExt cx="6705000" cy="194400"/>
              </a:xfrm>
            </p:grpSpPr>
            <p:sp>
              <p:nvSpPr>
                <p:cNvPr id="2586" name=""/>
                <p:cNvSpPr/>
                <p:nvPr/>
              </p:nvSpPr>
              <p:spPr>
                <a:xfrm>
                  <a:off x="0" y="491472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0" y="491472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8" name=""/>
              <p:cNvGrpSpPr/>
              <p:nvPr/>
            </p:nvGrpSpPr>
            <p:grpSpPr>
              <a:xfrm>
                <a:off x="0" y="5109120"/>
                <a:ext cx="6705000" cy="194040"/>
                <a:chOff x="0" y="5109120"/>
                <a:chExt cx="6705000" cy="194040"/>
              </a:xfrm>
            </p:grpSpPr>
            <p:sp>
              <p:nvSpPr>
                <p:cNvPr id="2589" name=""/>
                <p:cNvSpPr/>
                <p:nvPr/>
              </p:nvSpPr>
              <p:spPr>
                <a:xfrm>
                  <a:off x="0" y="51091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0" y="51091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Interface i( 5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1" name=""/>
              <p:cNvGrpSpPr/>
              <p:nvPr/>
            </p:nvGrpSpPr>
            <p:grpSpPr>
              <a:xfrm>
                <a:off x="0" y="5303520"/>
                <a:ext cx="6705000" cy="194040"/>
                <a:chOff x="0" y="5303520"/>
                <a:chExt cx="6705000" cy="194040"/>
              </a:xfrm>
            </p:grpSpPr>
            <p:sp>
              <p:nvSpPr>
                <p:cNvPr id="2592" name=""/>
                <p:cNvSpPr/>
                <p:nvPr/>
              </p:nvSpPr>
              <p:spPr>
                <a:xfrm>
                  <a:off x="0" y="53035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0" y="53035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4" name=""/>
              <p:cNvGrpSpPr/>
              <p:nvPr/>
            </p:nvGrpSpPr>
            <p:grpSpPr>
              <a:xfrm>
                <a:off x="0" y="5497920"/>
                <a:ext cx="6705000" cy="194040"/>
                <a:chOff x="0" y="5497920"/>
                <a:chExt cx="6705000" cy="194040"/>
              </a:xfrm>
            </p:grpSpPr>
            <p:sp>
              <p:nvSpPr>
                <p:cNvPr id="2595" name=""/>
                <p:cNvSpPr/>
                <p:nvPr/>
              </p:nvSpPr>
              <p:spPr>
                <a:xfrm>
                  <a:off x="0" y="54979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0" y="549792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Interface contains: " &lt;&lt; i.getValue()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7" name=""/>
              <p:cNvGrpSpPr/>
              <p:nvPr/>
            </p:nvGrpSpPr>
            <p:grpSpPr>
              <a:xfrm>
                <a:off x="0" y="5691960"/>
                <a:ext cx="6705000" cy="194400"/>
                <a:chOff x="0" y="5691960"/>
                <a:chExt cx="6705000" cy="194400"/>
              </a:xfrm>
            </p:grpSpPr>
            <p:sp>
              <p:nvSpPr>
                <p:cNvPr id="2598" name=""/>
                <p:cNvSpPr/>
                <p:nvPr/>
              </p:nvSpPr>
              <p:spPr>
                <a:xfrm>
                  <a:off x="0" y="569196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0" y="569196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" before setValue"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0" name=""/>
              <p:cNvGrpSpPr/>
              <p:nvPr/>
            </p:nvGrpSpPr>
            <p:grpSpPr>
              <a:xfrm>
                <a:off x="0" y="5886360"/>
                <a:ext cx="6705000" cy="194040"/>
                <a:chOff x="0" y="5886360"/>
                <a:chExt cx="6705000" cy="194040"/>
              </a:xfrm>
            </p:grpSpPr>
            <p:sp>
              <p:nvSpPr>
                <p:cNvPr id="2601" name=""/>
                <p:cNvSpPr/>
                <p:nvPr/>
              </p:nvSpPr>
              <p:spPr>
                <a:xfrm>
                  <a:off x="0" y="58863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0" y="58863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i.setValue( 1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3" name=""/>
              <p:cNvGrpSpPr/>
              <p:nvPr/>
            </p:nvGrpSpPr>
            <p:grpSpPr>
              <a:xfrm>
                <a:off x="0" y="6080760"/>
                <a:ext cx="6705000" cy="194040"/>
                <a:chOff x="0" y="6080760"/>
                <a:chExt cx="6705000" cy="194040"/>
              </a:xfrm>
            </p:grpSpPr>
            <p:sp>
              <p:nvSpPr>
                <p:cNvPr id="2604" name=""/>
                <p:cNvSpPr/>
                <p:nvPr/>
              </p:nvSpPr>
              <p:spPr>
                <a:xfrm>
                  <a:off x="0" y="60807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0" y="60807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cout &lt;&lt; "Interface contains: " &lt;&lt; i.getValue()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0" y="6275160"/>
                <a:ext cx="6705000" cy="194040"/>
                <a:chOff x="0" y="6275160"/>
                <a:chExt cx="6705000" cy="194040"/>
              </a:xfrm>
            </p:grpSpPr>
            <p:sp>
              <p:nvSpPr>
                <p:cNvPr id="2607" name=""/>
                <p:cNvSpPr/>
                <p:nvPr/>
              </p:nvSpPr>
              <p:spPr>
                <a:xfrm>
                  <a:off x="0" y="62751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0" y="627516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     &lt;&lt; " after setValue"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9" name=""/>
              <p:cNvGrpSpPr/>
              <p:nvPr/>
            </p:nvGrpSpPr>
            <p:grpSpPr>
              <a:xfrm>
                <a:off x="0" y="6469200"/>
                <a:ext cx="6705000" cy="194040"/>
                <a:chOff x="0" y="6469200"/>
                <a:chExt cx="6705000" cy="194040"/>
              </a:xfrm>
            </p:grpSpPr>
            <p:sp>
              <p:nvSpPr>
                <p:cNvPr id="2610" name=""/>
                <p:cNvSpPr/>
                <p:nvPr/>
              </p:nvSpPr>
              <p:spPr>
                <a:xfrm>
                  <a:off x="0" y="646920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0" y="6469200"/>
                  <a:ext cx="6705000" cy="194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  <a:ea typeface="Times New Roman"/>
                    </a:rPr>
                    <a:t>return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 0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0" y="6663600"/>
                <a:ext cx="6705000" cy="194400"/>
                <a:chOff x="0" y="6663600"/>
                <a:chExt cx="6705000" cy="194400"/>
              </a:xfrm>
            </p:grpSpPr>
            <p:sp>
              <p:nvSpPr>
                <p:cNvPr id="2613" name=""/>
                <p:cNvSpPr/>
                <p:nvPr/>
              </p:nvSpPr>
              <p:spPr>
                <a:xfrm>
                  <a:off x="0" y="666360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0" y="6663600"/>
                  <a:ext cx="6705000" cy="194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6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15" name=""/>
          <p:cNvGrpSpPr/>
          <p:nvPr/>
        </p:nvGrpSpPr>
        <p:grpSpPr>
          <a:xfrm>
            <a:off x="1904760" y="837720"/>
            <a:ext cx="4952880" cy="2225520"/>
            <a:chOff x="1904760" y="837720"/>
            <a:chExt cx="4952880" cy="2225520"/>
          </a:xfrm>
        </p:grpSpPr>
        <p:sp>
          <p:nvSpPr>
            <p:cNvPr id="2616" name=""/>
            <p:cNvSpPr/>
            <p:nvPr/>
          </p:nvSpPr>
          <p:spPr>
            <a:xfrm>
              <a:off x="3162600" y="1752480"/>
              <a:ext cx="36950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lementation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.c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tains member functions for proxy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It is the only file that has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lementation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contains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H="1" flipV="1">
              <a:off x="1904760" y="837720"/>
              <a:ext cx="12574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8" name=""/>
          <p:cNvGrpSpPr/>
          <p:nvPr/>
        </p:nvGrpSpPr>
        <p:grpSpPr>
          <a:xfrm>
            <a:off x="2514600" y="3568680"/>
            <a:ext cx="5410080" cy="1067400"/>
            <a:chOff x="2514600" y="3568680"/>
            <a:chExt cx="5410080" cy="1067400"/>
          </a:xfrm>
        </p:grpSpPr>
        <p:sp>
          <p:nvSpPr>
            <p:cNvPr id="2619" name=""/>
            <p:cNvSpPr/>
            <p:nvPr/>
          </p:nvSpPr>
          <p:spPr>
            <a:xfrm>
              <a:off x="3886200" y="3568680"/>
              <a:ext cx="4038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.cp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precompiled and given with the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rfac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client cannot see the interactions between the proxy class and the proprietary cla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H="1">
              <a:off x="2514600" y="4254480"/>
              <a:ext cx="13716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1" name=""/>
          <p:cNvGrpSpPr/>
          <p:nvPr/>
        </p:nvGrpSpPr>
        <p:grpSpPr>
          <a:xfrm>
            <a:off x="2133360" y="5029200"/>
            <a:ext cx="5791320" cy="824040"/>
            <a:chOff x="2133360" y="5029200"/>
            <a:chExt cx="5791320" cy="824040"/>
          </a:xfrm>
        </p:grpSpPr>
        <p:sp>
          <p:nvSpPr>
            <p:cNvPr id="2622" name=""/>
            <p:cNvSpPr/>
            <p:nvPr/>
          </p:nvSpPr>
          <p:spPr>
            <a:xfrm>
              <a:off x="3124080" y="5029200"/>
              <a:ext cx="4800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 the header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fac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— no mention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mplement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The client never se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H="1">
              <a:off x="2133360" y="5410080"/>
              <a:ext cx="990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ABD8-1582-464C-84C7-55D5B61DA10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25" name=""/>
          <p:cNvSpPr/>
          <p:nvPr/>
        </p:nvSpPr>
        <p:spPr>
          <a:xfrm>
            <a:off x="0" y="0"/>
            <a:ext cx="670572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contains: 5 before set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contains: 10 after set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666B3-131D-4FCA-AB6B-C1A22F9D92E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Source Cod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07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1: time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ime5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Hour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Minute( 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Second( 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hour = ( h &gt;= 0 &amp;&amp; h &lt; 24 )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minute = ( m &gt;= 0 &amp;&amp; m &lt; 60 ) ? m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econd = ( s &gt;= 0 &amp;&amp; s &lt; 60 )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1905120" y="552600"/>
            <a:ext cx="4419360" cy="1199880"/>
            <a:chOff x="1905120" y="552600"/>
            <a:chExt cx="4419360" cy="1199880"/>
          </a:xfrm>
        </p:grpSpPr>
        <p:sp>
          <p:nvSpPr>
            <p:cNvPr id="304" name=""/>
            <p:cNvSpPr/>
            <p:nvPr/>
          </p:nvSpPr>
          <p:spPr>
            <a:xfrm flipH="1">
              <a:off x="1905120" y="106668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14600" y="55260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constructor is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ut it can be call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01BA3-7ACB-4F51-8048-D69105B071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 Purposely leave o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keyword for printStandar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08" name="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312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315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318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military format time: HH:M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isplay standard format time: HH:MM:SS AM (or P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Standard(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ould be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hour == 12 ) ? 12 : hour % 12 )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0" y="6583680"/>
                <a:ext cx="6780600" cy="273960"/>
                <a:chOff x="0" y="6583680"/>
                <a:chExt cx="6780600" cy="2739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5" name=""/>
          <p:cNvGrpSpPr/>
          <p:nvPr/>
        </p:nvGrpSpPr>
        <p:grpSpPr>
          <a:xfrm>
            <a:off x="2742840" y="762120"/>
            <a:ext cx="4953240" cy="656640"/>
            <a:chOff x="2742840" y="762120"/>
            <a:chExt cx="4953240" cy="656640"/>
          </a:xfrm>
        </p:grpSpPr>
        <p:sp>
          <p:nvSpPr>
            <p:cNvPr id="386" name=""/>
            <p:cNvSpPr/>
            <p:nvPr/>
          </p:nvSpPr>
          <p:spPr>
            <a:xfrm flipH="1" flipV="1">
              <a:off x="2742840" y="762120"/>
              <a:ext cx="2133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24280" y="8380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function definition and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895480" y="3048120"/>
            <a:ext cx="4724640" cy="1981080"/>
            <a:chOff x="2895480" y="3048120"/>
            <a:chExt cx="4724640" cy="1981080"/>
          </a:xfrm>
        </p:grpSpPr>
        <p:sp>
          <p:nvSpPr>
            <p:cNvPr id="389" name=""/>
            <p:cNvSpPr/>
            <p:nvPr/>
          </p:nvSpPr>
          <p:spPr>
            <a:xfrm flipH="1">
              <a:off x="2895480" y="3657600"/>
              <a:ext cx="19814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48320" y="304812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cannot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, even if they don’t modify them (such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E889D-DC13-4567-9E85-DDE451C165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Attempt to use non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functions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0"/>
            <a:ext cx="6780960" cy="4266720"/>
            <a:chOff x="0" y="0"/>
            <a:chExt cx="6780960" cy="4266720"/>
          </a:xfrm>
        </p:grpSpPr>
        <p:grpSp>
          <p:nvGrpSpPr>
            <p:cNvPr id="393" name=""/>
            <p:cNvGrpSpPr/>
            <p:nvPr/>
          </p:nvGrpSpPr>
          <p:grpSpPr>
            <a:xfrm>
              <a:off x="0" y="0"/>
              <a:ext cx="6780960" cy="193680"/>
              <a:chOff x="0" y="0"/>
              <a:chExt cx="6780960" cy="19368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7.1: fig07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193680"/>
              <a:ext cx="6780960" cy="193680"/>
              <a:chOff x="0" y="193680"/>
              <a:chExt cx="6780960" cy="19368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1936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1936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ttempting to access a const object 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387720"/>
              <a:ext cx="6780960" cy="194040"/>
              <a:chOff x="0" y="387720"/>
              <a:chExt cx="6780960" cy="19404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3877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3877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const member fun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581760"/>
              <a:ext cx="6780960" cy="193680"/>
              <a:chOff x="0" y="581760"/>
              <a:chExt cx="6780960" cy="19368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5817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5817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"time5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775800"/>
              <a:ext cx="6780960" cy="193680"/>
              <a:chOff x="0" y="775800"/>
              <a:chExt cx="6780960" cy="19368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7758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7758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969480"/>
              <a:ext cx="6780960" cy="193680"/>
              <a:chOff x="0" y="969480"/>
              <a:chExt cx="6780960" cy="19368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9694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9694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1163520"/>
              <a:ext cx="6780960" cy="194040"/>
              <a:chOff x="0" y="1163520"/>
              <a:chExt cx="6780960" cy="19404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11635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1635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1357560"/>
              <a:ext cx="6780960" cy="193680"/>
              <a:chOff x="0" y="1357560"/>
              <a:chExt cx="6780960" cy="19368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13575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13575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wakeUp( 6, 45, 0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non-consta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1551600"/>
              <a:ext cx="6780960" cy="193680"/>
              <a:chOff x="0" y="1551600"/>
              <a:chExt cx="6780960" cy="19368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15516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15516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nst Time noon( 12, 0,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onsta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1745640"/>
              <a:ext cx="6780960" cy="193680"/>
              <a:chOff x="0" y="1745640"/>
              <a:chExt cx="6780960" cy="19368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17456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17456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1939320"/>
              <a:ext cx="6780960" cy="194040"/>
              <a:chOff x="0" y="1939320"/>
              <a:chExt cx="6780960" cy="19404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1939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1939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MEMBER FUNCTION  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2133360"/>
              <a:ext cx="6780960" cy="193680"/>
              <a:chOff x="0" y="2133360"/>
              <a:chExt cx="6780960" cy="19368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2133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2133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akeUp.setHour( 18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const         non-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2327400"/>
              <a:ext cx="6780960" cy="193680"/>
              <a:chOff x="0" y="2327400"/>
              <a:chExt cx="6780960" cy="19368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23274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23274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2521440"/>
              <a:ext cx="6780960" cy="193680"/>
              <a:chOff x="0" y="2521440"/>
              <a:chExt cx="6780960" cy="19368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25214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25214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setHour( 12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non-const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2715480"/>
              <a:ext cx="6780960" cy="194040"/>
              <a:chOff x="0" y="2715480"/>
              <a:chExt cx="6780960" cy="19404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271548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271548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2909520"/>
              <a:ext cx="6780960" cy="193680"/>
              <a:chOff x="0" y="2909520"/>
              <a:chExt cx="6780960" cy="19368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290952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290952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akeUp.getHour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            non-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3103200"/>
              <a:ext cx="6780960" cy="193680"/>
              <a:chOff x="0" y="3103200"/>
              <a:chExt cx="6780960" cy="19368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31032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31032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3297240"/>
              <a:ext cx="6780960" cy="193680"/>
              <a:chOff x="0" y="3297240"/>
              <a:chExt cx="6780960" cy="19368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32972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32972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getMinute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   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0" y="3491280"/>
              <a:ext cx="6780960" cy="193680"/>
              <a:chOff x="0" y="3491280"/>
              <a:chExt cx="6780960" cy="193680"/>
            </a:xfrm>
          </p:grpSpPr>
          <p:sp>
            <p:nvSpPr>
              <p:cNvPr id="448" name=""/>
              <p:cNvSpPr/>
              <p:nvPr/>
            </p:nvSpPr>
            <p:spPr>
              <a:xfrm>
                <a:off x="0" y="34912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34912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printMilitary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    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0" y="3685320"/>
              <a:ext cx="6780960" cy="194040"/>
              <a:chOff x="0" y="3685320"/>
              <a:chExt cx="6780960" cy="19404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3685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3685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oon.printStandard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n-const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3879360"/>
              <a:ext cx="6780960" cy="193680"/>
              <a:chOff x="0" y="3879360"/>
              <a:chExt cx="6780960" cy="19368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3879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3879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4073040"/>
              <a:ext cx="6780960" cy="193680"/>
              <a:chOff x="0" y="4073040"/>
              <a:chExt cx="6780960" cy="19368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40730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40730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9" name=""/>
          <p:cNvSpPr/>
          <p:nvPr/>
        </p:nvSpPr>
        <p:spPr>
          <a:xfrm>
            <a:off x="0" y="4392720"/>
            <a:ext cx="67816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7_01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fig07_01.cpp(14) : error C2662: 'setHour' : cannot convert 'this' pointer from 'const class Time'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version loses qua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07_01.cpp(20) : error C2662: 'printStandard' : cannot convert 'this' pointer from 'const class Time'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version loses qua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5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.exe - 2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952880" y="2743200"/>
            <a:ext cx="3886200" cy="1556640"/>
            <a:chOff x="4952880" y="2743200"/>
            <a:chExt cx="3886200" cy="1556640"/>
          </a:xfrm>
        </p:grpSpPr>
        <p:sp>
          <p:nvSpPr>
            <p:cNvPr id="461" name=""/>
            <p:cNvSpPr/>
            <p:nvPr/>
          </p:nvSpPr>
          <p:spPr>
            <a:xfrm flipH="1" flipV="1">
              <a:off x="5257800" y="388584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4952880" y="2743200"/>
              <a:ext cx="1067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19920" y="3962520"/>
              <a:ext cx="2819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iler errors genera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90023-DE76-4D9D-9E7B-927EB04AB9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 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nst (Constant) Objects and const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initializer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 increment in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m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m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modified as follow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rement::Increment( int c, int i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: increment( i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count = c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 increment( i 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itializes increm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data members can be initialized using member initializer synta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and references must be initialized using member initializer synta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member initializ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omma-separated list after the co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692D-EFAD-452A-8248-7BA585EC1E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4:29:36Z</dcterms:created>
  <dc:creator>Deitel &amp; Associates, Inc.</dc:creator>
  <dc:description/>
  <dc:language>en-US</dc:language>
  <cp:lastModifiedBy>Antonella Esposito</cp:lastModifiedBy>
  <dcterms:modified xsi:type="dcterms:W3CDTF">2001-01-12T10:43:15Z</dcterms:modified>
  <cp:revision>494</cp:revision>
  <dc:subject/>
  <dc:title>PowerPoint Presentation</dc:title>
</cp:coreProperties>
</file>