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FCCB-CC15-406F-9471-47565840F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C7AC-72F1-4FE1-8349-B6971309E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1C86-8F60-41DA-A9EA-BAFC015E3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A25C-3CA7-4413-AF1C-33C4AECBF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CE46-4B7F-4564-B631-D2E44AEF2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B35F-1343-45BD-857B-59E2BA8D8F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1473-9901-4A2F-9F94-5FAAE1454C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30A5-DFF7-444D-94F0-BF04D6C80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2F26-9CB7-43EB-80AE-2851BFD7BC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F8D6-AB24-4FCD-B042-4A75DAC61F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ECCD-9167-476A-AC01-37C9E1EA40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D9EB-1F49-42FD-A5F3-0A4BDE275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160E-67C4-4BF3-889C-AF3D17141F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A2B8-59FB-4A01-9325-A1C745C1C1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A5EE-F554-4DE7-9104-851BB25EA1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A6C45-ADC9-4CC2-A29A-5A125CD657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297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5416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7053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75297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35416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DBAC-A048-4EA5-A7A0-0A1841208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A920-9E90-45C6-9D8C-99F6518C9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28D0-28CF-455F-92BB-CBED91ACC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7985-A805-4FA8-8916-CF5979943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12BA-C51B-4309-BFBF-E1532E8CB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9AE9-706E-41BA-91A0-48CC458B1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95492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9498-5037-4824-ACED-3848D7210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0536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95492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0536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BC45-AF7B-476C-9E09-EA5E22D6E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A8A6-A392-4C8C-B57C-532B113C1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668A-465F-4C0E-AC85-031095D36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4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arching Arrays: Linear Search and Binary Search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ultiple-Subscripte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4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inking About Objects: Identifying a Class's Behavi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FA26-64B4-427E-83E7-3B99EFAB33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string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characters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individuall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Inpu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string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0"/>
            <a:ext cx="6780960" cy="5410080"/>
            <a:chOff x="0" y="0"/>
            <a:chExt cx="6780960" cy="5410080"/>
          </a:xfrm>
        </p:grpSpPr>
        <p:grpSp>
          <p:nvGrpSpPr>
            <p:cNvPr id="277" name=""/>
            <p:cNvGrpSpPr/>
            <p:nvPr/>
          </p:nvGrpSpPr>
          <p:grpSpPr>
            <a:xfrm>
              <a:off x="0" y="0"/>
              <a:ext cx="6780960" cy="200160"/>
              <a:chOff x="0" y="0"/>
              <a:chExt cx="6780960" cy="20016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_12: fig04_1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200160"/>
              <a:ext cx="6780960" cy="200160"/>
              <a:chOff x="0" y="200160"/>
              <a:chExt cx="6780960" cy="20016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reating character arrays as str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400680"/>
              <a:ext cx="6780960" cy="200160"/>
              <a:chOff x="0" y="400680"/>
              <a:chExt cx="6780960" cy="2001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600840"/>
              <a:ext cx="6780960" cy="200160"/>
              <a:chOff x="0" y="600840"/>
              <a:chExt cx="6780960" cy="200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801360"/>
              <a:ext cx="6780960" cy="200160"/>
              <a:chOff x="0" y="801360"/>
              <a:chExt cx="6780960" cy="20016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1001880"/>
              <a:ext cx="6780960" cy="200160"/>
              <a:chOff x="0" y="1001880"/>
              <a:chExt cx="6780960" cy="20016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1202040"/>
              <a:ext cx="6780960" cy="200160"/>
              <a:chOff x="0" y="1202040"/>
              <a:chExt cx="6780960" cy="2001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1402560"/>
              <a:ext cx="6780960" cy="200160"/>
              <a:chOff x="0" y="1402560"/>
              <a:chExt cx="6780960" cy="20016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0" y="1603080"/>
              <a:ext cx="6780960" cy="200160"/>
              <a:chOff x="0" y="1603080"/>
              <a:chExt cx="6780960" cy="20016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0" y="1803240"/>
              <a:ext cx="6780960" cy="200160"/>
              <a:chOff x="0" y="1803240"/>
              <a:chExt cx="6780960" cy="20016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2003760"/>
              <a:ext cx="6780960" cy="200160"/>
              <a:chOff x="0" y="2003760"/>
              <a:chExt cx="6780960" cy="20016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1[ 20 ], string2[] = "string literal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2203920"/>
              <a:ext cx="6780960" cy="200160"/>
              <a:chOff x="0" y="2203920"/>
              <a:chExt cx="6780960" cy="20016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0" y="2404440"/>
              <a:ext cx="6780960" cy="200160"/>
              <a:chOff x="0" y="2404440"/>
              <a:chExt cx="6780960" cy="20016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a string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2604960"/>
              <a:ext cx="6780960" cy="200160"/>
              <a:chOff x="0" y="2604960"/>
              <a:chExt cx="6780960" cy="20016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tring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2805120"/>
              <a:ext cx="6780960" cy="200160"/>
              <a:chOff x="0" y="2805120"/>
              <a:chExt cx="6780960" cy="2001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string1 is: " &lt;&lt; string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3005640"/>
              <a:ext cx="6780960" cy="200160"/>
              <a:chOff x="0" y="3005640"/>
              <a:chExt cx="6780960" cy="20016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string2 is: " &lt;&lt; string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3206160"/>
              <a:ext cx="6780960" cy="200160"/>
              <a:chOff x="0" y="3206160"/>
              <a:chExt cx="6780960" cy="20016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string1 with spaces between characters i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3406320"/>
              <a:ext cx="6780960" cy="200160"/>
              <a:chOff x="0" y="3406320"/>
              <a:chExt cx="6780960" cy="20016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3606840"/>
              <a:ext cx="6780960" cy="200160"/>
              <a:chOff x="0" y="3606840"/>
              <a:chExt cx="6780960" cy="20016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string1[ i ] != '\0'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3807000"/>
              <a:ext cx="6780960" cy="200160"/>
              <a:chOff x="0" y="3807000"/>
              <a:chExt cx="6780960" cy="20016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tring1[ i ]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4007520"/>
              <a:ext cx="6780960" cy="200160"/>
              <a:chOff x="0" y="4007520"/>
              <a:chExt cx="6780960" cy="20016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4208040"/>
              <a:ext cx="6780960" cy="200160"/>
              <a:chOff x="0" y="4208040"/>
              <a:chExt cx="6780960" cy="20016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tring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s "ther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4408200"/>
              <a:ext cx="6780960" cy="200160"/>
              <a:chOff x="0" y="4408200"/>
              <a:chExt cx="6780960" cy="20016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string1 is: " &lt;&lt; string1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4608720"/>
              <a:ext cx="6780960" cy="200160"/>
              <a:chOff x="0" y="4608720"/>
              <a:chExt cx="6780960" cy="20016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4809240"/>
              <a:ext cx="6780960" cy="200160"/>
              <a:chOff x="0" y="4809240"/>
              <a:chExt cx="6780960" cy="20016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5009400"/>
              <a:ext cx="6780960" cy="200160"/>
              <a:chOff x="0" y="5009400"/>
              <a:chExt cx="6780960" cy="20016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5209920"/>
              <a:ext cx="6780960" cy="200160"/>
              <a:chOff x="0" y="5209920"/>
              <a:chExt cx="6780960" cy="20016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0" y="548784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string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is: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733920" y="3885840"/>
            <a:ext cx="4114800" cy="824400"/>
            <a:chOff x="3733920" y="3885840"/>
            <a:chExt cx="4114800" cy="824400"/>
          </a:xfrm>
        </p:grpSpPr>
        <p:sp>
          <p:nvSpPr>
            <p:cNvPr id="360" name=""/>
            <p:cNvSpPr/>
            <p:nvPr/>
          </p:nvSpPr>
          <p:spPr>
            <a:xfrm>
              <a:off x="5486400" y="388620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string elements are referenced like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3733920" y="388584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828800" y="609480"/>
            <a:ext cx="4876200" cy="3581640"/>
            <a:chOff x="1828800" y="609480"/>
            <a:chExt cx="4876200" cy="3581640"/>
          </a:xfrm>
        </p:grpSpPr>
        <p:sp>
          <p:nvSpPr>
            <p:cNvPr id="363" name=""/>
            <p:cNvSpPr/>
            <p:nvPr/>
          </p:nvSpPr>
          <p:spPr>
            <a:xfrm>
              <a:off x="4592160" y="609480"/>
              <a:ext cx="21128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ted strings are separated by whitespace characters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"there"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yed in the buff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990720"/>
              <a:ext cx="27633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828800" y="1066680"/>
              <a:ext cx="276336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7DB4-8060-45FC-B430-522A5C99E6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name without any br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lared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 24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 function call would resem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Array, 2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size is usually passed to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passed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name of array is address of the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s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elements passed by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subscripted name (i.e.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[ 3 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5C03-B9FB-4DB6-9F52-5F515464CA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names optional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rray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ld be simp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CB82-35C9-41BD-AD1E-1373E0A09B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fine function to take in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Modify the array (call by referenc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72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14: fig04_1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assing arrays and individual array elements to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ppears str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a[ arraySize ] = { 0, 1, 2, 3, 4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ffects of passing entire array call-by-reference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alues of the original array ar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3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a passe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Array( a, arraySize )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s of the modified array are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2285640" y="1447920"/>
            <a:ext cx="4420080" cy="1371600"/>
            <a:chOff x="2285640" y="1447920"/>
            <a:chExt cx="4420080" cy="1371600"/>
          </a:xfrm>
        </p:grpSpPr>
        <p:grpSp>
          <p:nvGrpSpPr>
            <p:cNvPr id="466" name=""/>
            <p:cNvGrpSpPr/>
            <p:nvPr/>
          </p:nvGrpSpPr>
          <p:grpSpPr>
            <a:xfrm>
              <a:off x="2285640" y="1447920"/>
              <a:ext cx="4420080" cy="1067400"/>
              <a:chOff x="2285640" y="1447920"/>
              <a:chExt cx="4420080" cy="1067400"/>
            </a:xfrm>
          </p:grpSpPr>
          <p:sp>
            <p:nvSpPr>
              <p:cNvPr id="467" name=""/>
              <p:cNvSpPr/>
              <p:nvPr/>
            </p:nvSpPr>
            <p:spPr>
              <a:xfrm>
                <a:off x="3962520" y="1447920"/>
                <a:ext cx="274320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unctions can modify entire arrays.  Individual array elements are not modified by default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285640" y="1676520"/>
                <a:ext cx="16765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 flipH="1">
              <a:off x="2742840" y="213372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971440" y="2743200"/>
            <a:ext cx="3353040" cy="809280"/>
            <a:chOff x="2971440" y="2743200"/>
            <a:chExt cx="3353040" cy="809280"/>
          </a:xfrm>
        </p:grpSpPr>
        <p:sp>
          <p:nvSpPr>
            <p:cNvPr id="471" name=""/>
            <p:cNvSpPr/>
            <p:nvPr/>
          </p:nvSpPr>
          <p:spPr>
            <a:xfrm>
              <a:off x="4038480" y="2971800"/>
              <a:ext cx="2286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parameter names in function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2971440" y="2743200"/>
              <a:ext cx="10666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733560" y="4724280"/>
            <a:ext cx="5105520" cy="1828800"/>
            <a:chOff x="3733560" y="4724280"/>
            <a:chExt cx="5105520" cy="1828800"/>
          </a:xfrm>
        </p:grpSpPr>
        <p:sp>
          <p:nvSpPr>
            <p:cNvPr id="474" name=""/>
            <p:cNvSpPr/>
            <p:nvPr/>
          </p:nvSpPr>
          <p:spPr>
            <a:xfrm flipH="1" flipV="1">
              <a:off x="3733560" y="4724280"/>
              <a:ext cx="609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733560" y="5486400"/>
              <a:ext cx="685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7080" y="4952880"/>
              <a:ext cx="4572000" cy="1110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e values of the original array a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  1  2  3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he values of the modified array ar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  2  4  6 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A014-F3BD-4A36-9689-866B4F3894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Modify an element (call by value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change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7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array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3 ) &lt;&lt; a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Effects of passing array element call-by-value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alue of a[3] is " &lt;&lt; a[ 3 ]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ifyElement( a[ 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value of a[3] is " &lt;&lt; a[ 3 ]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 function modifyArray, "b" points to the orig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"a" in memor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OfArr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OfArray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[ j ] *= 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 function modifyElement, "e" is a local copy o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552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rray element a[ 3 ] passed from mai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555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ifyEleme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558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561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Value in modifyElement i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564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( e *= 2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567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9" name=""/>
          <p:cNvGrpSpPr/>
          <p:nvPr/>
        </p:nvGrpSpPr>
        <p:grpSpPr>
          <a:xfrm>
            <a:off x="3733920" y="2514600"/>
            <a:ext cx="4800600" cy="1295280"/>
            <a:chOff x="3733920" y="2514600"/>
            <a:chExt cx="4800600" cy="1295280"/>
          </a:xfrm>
        </p:grpSpPr>
        <p:sp>
          <p:nvSpPr>
            <p:cNvPr id="570" name=""/>
            <p:cNvSpPr/>
            <p:nvPr/>
          </p:nvSpPr>
          <p:spPr>
            <a:xfrm flipH="1">
              <a:off x="3733920" y="2895480"/>
              <a:ext cx="1218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00600" y="251460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ameter names required in function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3809520" y="1676160"/>
            <a:ext cx="5105880" cy="4419720"/>
            <a:chOff x="3809520" y="1676160"/>
            <a:chExt cx="5105880" cy="4419720"/>
          </a:xfrm>
        </p:grpSpPr>
        <p:grpSp>
          <p:nvGrpSpPr>
            <p:cNvPr id="573" name=""/>
            <p:cNvGrpSpPr/>
            <p:nvPr/>
          </p:nvGrpSpPr>
          <p:grpSpPr>
            <a:xfrm>
              <a:off x="3962520" y="1676160"/>
              <a:ext cx="4952880" cy="3903120"/>
              <a:chOff x="3962520" y="1676160"/>
              <a:chExt cx="4952880" cy="3903120"/>
            </a:xfrm>
          </p:grpSpPr>
          <p:sp>
            <p:nvSpPr>
              <p:cNvPr id="574" name=""/>
              <p:cNvSpPr/>
              <p:nvPr/>
            </p:nvSpPr>
            <p:spPr>
              <a:xfrm>
                <a:off x="4343400" y="4191120"/>
                <a:ext cx="4572000" cy="1388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Effects of passing array element call-by-valu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e value of a[3] is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Value in modifyElement is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he value of a[3] is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962520" y="1676160"/>
                <a:ext cx="137160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 flipH="1">
              <a:off x="3809520" y="5562720"/>
              <a:ext cx="838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598B-7061-4270-B020-9E265BDC08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6781680" cy="30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entire array call-by-refer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original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1  2  3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s of the modified arra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2  4  6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ffects of passing array element call-by-val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in modifyElement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[3]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B5F3-DF49-4716-8DBB-1CF25C8BC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amoun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these steps for ever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6A67-4462-4E28-8F3D-54204A9E0E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2  4  6 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2  3  4  6  7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2057400"/>
            <a:ext cx="60984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0920" y="2438280"/>
            <a:ext cx="609480" cy="304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6FA4-8A06-429E-99E7-78B010DC83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in middle of sort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(3 is medi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that occurs most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(1 is m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C5EF-2B22-4DC5-9DFF-9996A33621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-6610320"/>
            <a:ext cx="914400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90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17: fig04_1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94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is program introduces the topic of survey data analysi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97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t computes the mean, median, and mode of th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603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606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609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0" y="1454400"/>
              <a:ext cx="6780960" cy="207720"/>
              <a:chOff x="0" y="1454400"/>
              <a:chExt cx="6780960" cy="207720"/>
            </a:xfrm>
          </p:grpSpPr>
          <p:sp>
            <p:nvSpPr>
              <p:cNvPr id="612" name=""/>
              <p:cNvSpPr/>
              <p:nvPr/>
            </p:nvSpPr>
            <p:spPr>
              <a:xfrm>
                <a:off x="0" y="14544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14544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618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621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0" y="2285640"/>
              <a:ext cx="6780960" cy="207720"/>
              <a:chOff x="0" y="2285640"/>
              <a:chExt cx="6780960" cy="207720"/>
            </a:xfrm>
          </p:grpSpPr>
          <p:sp>
            <p:nvSpPr>
              <p:cNvPr id="624" name=""/>
              <p:cNvSpPr/>
              <p:nvPr/>
            </p:nvSpPr>
            <p:spPr>
              <a:xfrm>
                <a:off x="0" y="22856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22856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627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responseSize = 9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0" y="4987440"/>
              <a:ext cx="6780960" cy="207720"/>
              <a:chOff x="0" y="4987440"/>
              <a:chExt cx="6780960" cy="207720"/>
            </a:xfrm>
          </p:grpSpPr>
          <p:sp>
            <p:nvSpPr>
              <p:cNvPr id="663" name=""/>
              <p:cNvSpPr/>
              <p:nvPr/>
            </p:nvSpPr>
            <p:spPr>
              <a:xfrm>
                <a:off x="0" y="4987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4987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uency[ 10 ] = { 0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666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response[ responseSize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669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{ 6, 7, 8, 9, 8, 7, 8, 9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672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5, 9, 8, 7, 8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0" y="5818680"/>
              <a:ext cx="6780960" cy="207720"/>
              <a:chOff x="0" y="5818680"/>
              <a:chExt cx="6780960" cy="207720"/>
            </a:xfrm>
          </p:grpSpPr>
          <p:sp>
            <p:nvSpPr>
              <p:cNvPr id="675" name=""/>
              <p:cNvSpPr/>
              <p:nvPr/>
            </p:nvSpPr>
            <p:spPr>
              <a:xfrm>
                <a:off x="0" y="5818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818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6, 7, 8, 9, 3, 9, 8, 7, 8, 7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78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8, 9, 8, 9, 7, 8, 9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6, 7, 8, 7, 8, 7, 9, 8, 9, 2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8, 9, 8, 9, 7, 5, 3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87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5, 6, 7, 2, 5, 3, 9, 4, 6, 4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0FCE-417F-4BB5-9A3B-70BC2E5352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- same size throughout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-like, pointer-based array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, arrays as obje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93AD-1BAD-4987-927D-D4FCE321E6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91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8, 9, 6, 8, 7, 8, 9, 7, 8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7, 4, 4, 2, 5, 3, 8, 7, 5, 6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4, 5, 6, 1, 6, 5, 7, 8, 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an(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edian(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ode( frequency, response, response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rray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73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73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3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********\n  Mean\n********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4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arraySize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4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answer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4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75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ean is the average value of the data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75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items. The mean is equal to the total of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75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all the data items divided by the number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76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of data items (" &lt;&lt; arraySiz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76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). The mean value for\nthis run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76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total &lt;&lt; " / " &lt;&lt; arraySize &lt;&lt; " =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77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precision( 4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arraySize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dian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********\n Median\n********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A326-D181-4F0F-803E-2DF3721C8E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1.1 Sor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.2 Print middle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2  Define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3.2.1 Increa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equency[]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Courier New"/>
              </a:rPr>
              <a:t> depending 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795" name=""/>
            <p:cNvGrpSpPr/>
            <p:nvPr/>
          </p:nvGrpSpPr>
          <p:grpSpPr>
            <a:xfrm>
              <a:off x="0" y="0"/>
              <a:ext cx="6705000" cy="244800"/>
              <a:chOff x="0" y="0"/>
              <a:chExt cx="6705000" cy="244800"/>
            </a:xfrm>
          </p:grpSpPr>
          <p:sp>
            <p:nvSpPr>
              <p:cNvPr id="796" name=""/>
              <p:cNvSpPr/>
              <p:nvPr/>
            </p:nvSpPr>
            <p:spPr>
              <a:xfrm>
                <a:off x="0" y="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The unsorted array of responses i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0" y="244800"/>
              <a:ext cx="6705000" cy="244800"/>
              <a:chOff x="0" y="244800"/>
              <a:chExt cx="6705000" cy="244800"/>
            </a:xfrm>
          </p:grpSpPr>
          <p:sp>
            <p:nvSpPr>
              <p:cNvPr id="799" name=""/>
              <p:cNvSpPr/>
              <p:nvPr/>
            </p:nvSpPr>
            <p:spPr>
              <a:xfrm>
                <a:off x="0" y="244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0" y="244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0" y="489600"/>
              <a:ext cx="6705000" cy="244800"/>
              <a:chOff x="0" y="489600"/>
              <a:chExt cx="6705000" cy="244800"/>
            </a:xfrm>
          </p:grpSpPr>
          <p:sp>
            <p:nvSpPr>
              <p:cNvPr id="802" name=""/>
              <p:cNvSpPr/>
              <p:nvPr/>
            </p:nvSpPr>
            <p:spPr>
              <a:xfrm>
                <a:off x="0" y="4896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4896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0" y="734760"/>
              <a:ext cx="6705000" cy="244800"/>
              <a:chOff x="0" y="734760"/>
              <a:chExt cx="6705000" cy="24480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734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734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0" y="979560"/>
              <a:ext cx="6705000" cy="244800"/>
              <a:chOff x="0" y="979560"/>
              <a:chExt cx="6705000" cy="244800"/>
            </a:xfrm>
          </p:grpSpPr>
          <p:sp>
            <p:nvSpPr>
              <p:cNvPr id="808" name=""/>
              <p:cNvSpPr/>
              <p:nvPr/>
            </p:nvSpPr>
            <p:spPr>
              <a:xfrm>
                <a:off x="0" y="979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0" y="979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he sorted array i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0" y="1224360"/>
              <a:ext cx="6705000" cy="244800"/>
              <a:chOff x="0" y="1224360"/>
              <a:chExt cx="6705000" cy="244800"/>
            </a:xfrm>
          </p:grpSpPr>
          <p:sp>
            <p:nvSpPr>
              <p:cNvPr id="811" name=""/>
              <p:cNvSpPr/>
              <p:nvPr/>
            </p:nvSpPr>
            <p:spPr>
              <a:xfrm>
                <a:off x="0" y="1224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0" y="1224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answer, siz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0" y="1469520"/>
              <a:ext cx="6705000" cy="244800"/>
              <a:chOff x="0" y="1469520"/>
              <a:chExt cx="6705000" cy="244800"/>
            </a:xfrm>
          </p:grpSpPr>
          <p:sp>
            <p:nvSpPr>
              <p:cNvPr id="814" name=""/>
              <p:cNvSpPr/>
              <p:nvPr/>
            </p:nvSpPr>
            <p:spPr>
              <a:xfrm>
                <a:off x="0" y="1469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0" y="1469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he median is element " &lt;&lt; size /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0" y="1714320"/>
              <a:ext cx="6705000" cy="244800"/>
              <a:chOff x="0" y="1714320"/>
              <a:chExt cx="6705000" cy="244800"/>
            </a:xfrm>
          </p:grpSpPr>
          <p:sp>
            <p:nvSpPr>
              <p:cNvPr id="817" name=""/>
              <p:cNvSpPr/>
              <p:nvPr/>
            </p:nvSpPr>
            <p:spPr>
              <a:xfrm>
                <a:off x="0" y="1714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1714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of\nthe sorted " &lt;&lt; siz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0" y="1959480"/>
              <a:ext cx="6705000" cy="244800"/>
              <a:chOff x="0" y="1959480"/>
              <a:chExt cx="6705000" cy="244800"/>
            </a:xfrm>
          </p:grpSpPr>
          <p:sp>
            <p:nvSpPr>
              <p:cNvPr id="820" name=""/>
              <p:cNvSpPr/>
              <p:nvPr/>
            </p:nvSpPr>
            <p:spPr>
              <a:xfrm>
                <a:off x="0" y="1959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0" y="1959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element array.\nFor this run the media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0" y="2204280"/>
              <a:ext cx="6705000" cy="244800"/>
              <a:chOff x="0" y="2204280"/>
              <a:chExt cx="6705000" cy="244800"/>
            </a:xfrm>
          </p:grpSpPr>
          <p:sp>
            <p:nvSpPr>
              <p:cNvPr id="823" name=""/>
              <p:cNvSpPr/>
              <p:nvPr/>
            </p:nvSpPr>
            <p:spPr>
              <a:xfrm>
                <a:off x="0" y="2204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2204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answer[ size / 2 ]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0" y="2449080"/>
              <a:ext cx="6705000" cy="244800"/>
              <a:chOff x="0" y="2449080"/>
              <a:chExt cx="6705000" cy="244800"/>
            </a:xfrm>
          </p:grpSpPr>
          <p:sp>
            <p:nvSpPr>
              <p:cNvPr id="826" name=""/>
              <p:cNvSpPr/>
              <p:nvPr/>
            </p:nvSpPr>
            <p:spPr>
              <a:xfrm>
                <a:off x="0" y="24490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4490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0" y="2694240"/>
              <a:ext cx="6705000" cy="244800"/>
              <a:chOff x="0" y="2694240"/>
              <a:chExt cx="6705000" cy="244800"/>
            </a:xfrm>
          </p:grpSpPr>
          <p:sp>
            <p:nvSpPr>
              <p:cNvPr id="829" name=""/>
              <p:cNvSpPr/>
              <p:nvPr/>
            </p:nvSpPr>
            <p:spPr>
              <a:xfrm>
                <a:off x="0" y="2694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2694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0" y="2939040"/>
              <a:ext cx="6705000" cy="244800"/>
              <a:chOff x="0" y="2939040"/>
              <a:chExt cx="6705000" cy="244800"/>
            </a:xfrm>
          </p:grpSpPr>
          <p:sp>
            <p:nvSpPr>
              <p:cNvPr id="832" name=""/>
              <p:cNvSpPr/>
              <p:nvPr/>
            </p:nvSpPr>
            <p:spPr>
              <a:xfrm>
                <a:off x="0" y="2939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2939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d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req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nswer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0" y="3183840"/>
              <a:ext cx="6705000" cy="244800"/>
              <a:chOff x="0" y="3183840"/>
              <a:chExt cx="6705000" cy="244800"/>
            </a:xfrm>
          </p:grpSpPr>
          <p:sp>
            <p:nvSpPr>
              <p:cNvPr id="835" name=""/>
              <p:cNvSpPr/>
              <p:nvPr/>
            </p:nvSpPr>
            <p:spPr>
              <a:xfrm>
                <a:off x="0" y="3183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3183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0" y="3429000"/>
              <a:ext cx="6705000" cy="244800"/>
              <a:chOff x="0" y="3429000"/>
              <a:chExt cx="6705000" cy="244800"/>
            </a:xfrm>
          </p:grpSpPr>
          <p:sp>
            <p:nvSpPr>
              <p:cNvPr id="838" name=""/>
              <p:cNvSpPr/>
              <p:nvPr/>
            </p:nvSpPr>
            <p:spPr>
              <a:xfrm>
                <a:off x="0" y="34290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34290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ating, largest = 0, modeValu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0" y="3673800"/>
              <a:ext cx="6705000" cy="244800"/>
              <a:chOff x="0" y="3673800"/>
              <a:chExt cx="6705000" cy="244800"/>
            </a:xfrm>
          </p:grpSpPr>
          <p:sp>
            <p:nvSpPr>
              <p:cNvPr id="841" name=""/>
              <p:cNvSpPr/>
              <p:nvPr/>
            </p:nvSpPr>
            <p:spPr>
              <a:xfrm>
                <a:off x="0" y="3673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67380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0" y="3918960"/>
              <a:ext cx="6705000" cy="244800"/>
              <a:chOff x="0" y="3918960"/>
              <a:chExt cx="6705000" cy="244800"/>
            </a:xfrm>
          </p:grpSpPr>
          <p:sp>
            <p:nvSpPr>
              <p:cNvPr id="844" name=""/>
              <p:cNvSpPr/>
              <p:nvPr/>
            </p:nvSpPr>
            <p:spPr>
              <a:xfrm>
                <a:off x="0" y="39189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39189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********\n  Mode\n********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0" y="4163760"/>
              <a:ext cx="6705000" cy="244800"/>
              <a:chOff x="0" y="4163760"/>
              <a:chExt cx="6705000" cy="244800"/>
            </a:xfrm>
          </p:grpSpPr>
          <p:sp>
            <p:nvSpPr>
              <p:cNvPr id="847" name=""/>
              <p:cNvSpPr/>
              <p:nvPr/>
            </p:nvSpPr>
            <p:spPr>
              <a:xfrm>
                <a:off x="0" y="4163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41637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0" y="4408560"/>
              <a:ext cx="6705000" cy="244800"/>
              <a:chOff x="0" y="4408560"/>
              <a:chExt cx="6705000" cy="244800"/>
            </a:xfrm>
          </p:grpSpPr>
          <p:sp>
            <p:nvSpPr>
              <p:cNvPr id="850" name=""/>
              <p:cNvSpPr/>
              <p:nvPr/>
            </p:nvSpPr>
            <p:spPr>
              <a:xfrm>
                <a:off x="0" y="4408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44085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0" y="4653360"/>
              <a:ext cx="6705000" cy="244800"/>
              <a:chOff x="0" y="4653360"/>
              <a:chExt cx="6705000" cy="244800"/>
            </a:xfrm>
          </p:grpSpPr>
          <p:sp>
            <p:nvSpPr>
              <p:cNvPr id="853" name=""/>
              <p:cNvSpPr/>
              <p:nvPr/>
            </p:nvSpPr>
            <p:spPr>
              <a:xfrm>
                <a:off x="0" y="4653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465336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req[ rating ]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0" y="4898520"/>
              <a:ext cx="6705000" cy="244800"/>
              <a:chOff x="0" y="4898520"/>
              <a:chExt cx="6705000" cy="244800"/>
            </a:xfrm>
          </p:grpSpPr>
          <p:sp>
            <p:nvSpPr>
              <p:cNvPr id="856" name=""/>
              <p:cNvSpPr/>
              <p:nvPr/>
            </p:nvSpPr>
            <p:spPr>
              <a:xfrm>
                <a:off x="0" y="4898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48985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0" y="5143320"/>
              <a:ext cx="6705000" cy="244800"/>
              <a:chOff x="0" y="5143320"/>
              <a:chExt cx="6705000" cy="244800"/>
            </a:xfrm>
          </p:grpSpPr>
          <p:sp>
            <p:nvSpPr>
              <p:cNvPr id="859" name=""/>
              <p:cNvSpPr/>
              <p:nvPr/>
            </p:nvSpPr>
            <p:spPr>
              <a:xfrm>
                <a:off x="0" y="5143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0" y="514332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0" y="5388480"/>
              <a:ext cx="6705000" cy="244800"/>
              <a:chOff x="0" y="5388480"/>
              <a:chExt cx="6705000" cy="244800"/>
            </a:xfrm>
          </p:grpSpPr>
          <p:sp>
            <p:nvSpPr>
              <p:cNvPr id="862" name=""/>
              <p:cNvSpPr/>
              <p:nvPr/>
            </p:nvSpPr>
            <p:spPr>
              <a:xfrm>
                <a:off x="0" y="5388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0" y="53884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++freq[ answer[ j ]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0" y="5633280"/>
              <a:ext cx="6705000" cy="244800"/>
              <a:chOff x="0" y="5633280"/>
              <a:chExt cx="6705000" cy="244800"/>
            </a:xfrm>
          </p:grpSpPr>
          <p:sp>
            <p:nvSpPr>
              <p:cNvPr id="865" name=""/>
              <p:cNvSpPr/>
              <p:nvPr/>
            </p:nvSpPr>
            <p:spPr>
              <a:xfrm>
                <a:off x="0" y="5633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563328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0" y="5878440"/>
              <a:ext cx="6705000" cy="244800"/>
              <a:chOff x="0" y="5878440"/>
              <a:chExt cx="6705000" cy="244800"/>
            </a:xfrm>
          </p:grpSpPr>
          <p:sp>
            <p:nvSpPr>
              <p:cNvPr id="868" name=""/>
              <p:cNvSpPr/>
              <p:nvPr/>
            </p:nvSpPr>
            <p:spPr>
              <a:xfrm>
                <a:off x="0" y="58784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0" y="58784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Response"&lt;&lt; setw( 11 ) &lt;&lt; "Frequency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0" y="6123240"/>
              <a:ext cx="6705000" cy="244800"/>
              <a:chOff x="0" y="6123240"/>
              <a:chExt cx="6705000" cy="24480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6123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61232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etw( 19 ) &lt;&lt; "Histogram\n\n" &lt;&lt; setw( 5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6368040"/>
              <a:ext cx="6705000" cy="244800"/>
              <a:chOff x="0" y="6368040"/>
              <a:chExt cx="6705000" cy="24480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6368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63680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1    1    2    2\n" &lt;&lt; setw( 56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6612840"/>
              <a:ext cx="6705000" cy="244800"/>
              <a:chOff x="0" y="6612840"/>
              <a:chExt cx="6705000" cy="24480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6612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6612840"/>
                <a:ext cx="670500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5    0    5    0    5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2438280" y="4803840"/>
            <a:ext cx="4724280" cy="1067400"/>
            <a:chOff x="2438280" y="4803840"/>
            <a:chExt cx="4724280" cy="1067400"/>
          </a:xfrm>
        </p:grpSpPr>
        <p:sp>
          <p:nvSpPr>
            <p:cNvPr id="880" name=""/>
            <p:cNvSpPr/>
            <p:nvPr/>
          </p:nvSpPr>
          <p:spPr>
            <a:xfrm>
              <a:off x="3733560" y="4803840"/>
              <a:ext cx="3429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subscript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the value of an element in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sponse[]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swer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438280" y="4956120"/>
              <a:ext cx="129528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C8C6-8C64-476D-9C25-FEAB3D34AD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84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ating = 1; rating &lt;= 9; rating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8 ) &lt;&lt; rating &lt;&lt; setw( 11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freq[ rating ] &lt;&lt; "        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freq[ rating ] &gt; largest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largest = freq[ rating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odeValue = rating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912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915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 = 1; h &lt;= freq[ rating ]; h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918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'*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921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924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927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930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933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mode is the most frequent value.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936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For this run the mode is " &lt;&lt; mode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939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which occurred " &lt;&lt; largest &lt;&lt; " times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942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948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954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957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2361960" y="3067200"/>
            <a:ext cx="4648320" cy="580680"/>
            <a:chOff x="2361960" y="3067200"/>
            <a:chExt cx="4648320" cy="580680"/>
          </a:xfrm>
        </p:grpSpPr>
        <p:sp>
          <p:nvSpPr>
            <p:cNvPr id="960" name=""/>
            <p:cNvSpPr/>
            <p:nvPr/>
          </p:nvSpPr>
          <p:spPr>
            <a:xfrm>
              <a:off x="3809880" y="306720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 stars depending on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requency[]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2361960" y="3123720"/>
              <a:ext cx="144756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EAA4-6BB1-4321-8347-83C6B0CB62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3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64" name=""/>
            <p:cNvGrpSpPr/>
            <p:nvPr/>
          </p:nvGrpSpPr>
          <p:grpSpPr>
            <a:xfrm>
              <a:off x="0" y="0"/>
              <a:ext cx="6780960" cy="326520"/>
              <a:chOff x="0" y="0"/>
              <a:chExt cx="6780960" cy="32652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326520"/>
              <a:ext cx="6780960" cy="326520"/>
              <a:chOff x="0" y="326520"/>
              <a:chExt cx="6780960" cy="32652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326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653040"/>
              <a:ext cx="6780960" cy="326520"/>
              <a:chOff x="0" y="653040"/>
              <a:chExt cx="6780960" cy="32652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653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979560"/>
              <a:ext cx="6780960" cy="326520"/>
              <a:chOff x="0" y="979560"/>
              <a:chExt cx="6780960" cy="3265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979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1306080"/>
              <a:ext cx="6780960" cy="326520"/>
              <a:chOff x="0" y="1306080"/>
              <a:chExt cx="6780960" cy="32652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1306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[ j ] &gt; a[ j + 1 ]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1632600"/>
              <a:ext cx="6780960" cy="326520"/>
              <a:chOff x="0" y="1632600"/>
              <a:chExt cx="6780960" cy="32652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1632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old =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1959120"/>
              <a:ext cx="6780960" cy="326520"/>
              <a:chOff x="0" y="1959120"/>
              <a:chExt cx="6780960" cy="32652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19591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] = a[ j + 1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2286000"/>
              <a:ext cx="6780960" cy="326520"/>
              <a:chOff x="0" y="2286000"/>
              <a:chExt cx="6780960" cy="32652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2286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a[ j + 1 ]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612520"/>
              <a:ext cx="6780960" cy="326520"/>
              <a:chOff x="0" y="2612520"/>
              <a:chExt cx="6780960" cy="32652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612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2939040"/>
              <a:ext cx="6780960" cy="326520"/>
              <a:chOff x="0" y="2939040"/>
              <a:chExt cx="6780960" cy="32652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2939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3265560"/>
              <a:ext cx="6780960" cy="326520"/>
              <a:chOff x="0" y="3265560"/>
              <a:chExt cx="6780960" cy="32652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3265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3592440"/>
              <a:ext cx="6780960" cy="326520"/>
              <a:chOff x="0" y="3592440"/>
              <a:chExt cx="6780960" cy="32652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35924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3918960"/>
              <a:ext cx="6780960" cy="326520"/>
              <a:chOff x="0" y="3918960"/>
              <a:chExt cx="6780960" cy="32652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39189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4245480"/>
              <a:ext cx="6780960" cy="326520"/>
              <a:chOff x="0" y="4245480"/>
              <a:chExt cx="6780960" cy="32652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4245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size; j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4572000"/>
              <a:ext cx="6780960" cy="326520"/>
              <a:chOff x="0" y="4572000"/>
              <a:chExt cx="6780960" cy="32652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45720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4898520"/>
              <a:ext cx="6780960" cy="326520"/>
              <a:chOff x="0" y="4898520"/>
              <a:chExt cx="6780960" cy="32652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489852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% 20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5225040"/>
              <a:ext cx="6780960" cy="326520"/>
              <a:chOff x="0" y="5225040"/>
              <a:chExt cx="6780960" cy="326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522504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5551560"/>
              <a:ext cx="6780960" cy="326520"/>
              <a:chOff x="0" y="5551560"/>
              <a:chExt cx="6780960" cy="32652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555156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5878080"/>
              <a:ext cx="6780960" cy="326520"/>
              <a:chOff x="0" y="5878080"/>
              <a:chExt cx="6780960" cy="32652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58780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2 ) &lt;&lt; a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6204600"/>
              <a:ext cx="6780960" cy="326520"/>
              <a:chOff x="0" y="6204600"/>
              <a:chExt cx="6780960" cy="32652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620460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6531480"/>
              <a:ext cx="6780960" cy="326520"/>
              <a:chOff x="0" y="6531480"/>
              <a:chExt cx="6780960" cy="326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6531480"/>
                <a:ext cx="678096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0" y="6531480"/>
                <a:ext cx="6780600" cy="326520"/>
                <a:chOff x="0" y="6531480"/>
                <a:chExt cx="6780600" cy="32652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0" y="6531480"/>
                  <a:ext cx="678060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0" y="6531480"/>
                  <a:ext cx="678060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9" name=""/>
          <p:cNvGrpSpPr/>
          <p:nvPr/>
        </p:nvGrpSpPr>
        <p:grpSpPr>
          <a:xfrm>
            <a:off x="2971800" y="1676160"/>
            <a:ext cx="4495680" cy="657000"/>
            <a:chOff x="2971800" y="1676160"/>
            <a:chExt cx="4495680" cy="657000"/>
          </a:xfrm>
        </p:grpSpPr>
        <p:sp>
          <p:nvSpPr>
            <p:cNvPr id="1030" name=""/>
            <p:cNvSpPr/>
            <p:nvPr/>
          </p:nvSpPr>
          <p:spPr>
            <a:xfrm>
              <a:off x="4267080" y="17524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bble sort: if elements out of order, swap them.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2971800" y="1676160"/>
              <a:ext cx="1295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81B7-6638-40B0-84B0-831E7AA643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4. 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0"/>
            <a:ext cx="6781680" cy="575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an is the average value of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tems. The mean is equal to the tota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l the data items divided by th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f data items (99). The mean valu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run is: 681 / 99 = 6.8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unsorted array of respons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8 7 8 9 8 9 7 8 9 5 9 8 7 8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9 3 9 8 7 8 7 7 8 9 8 9 8 9 7 8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7 8 7 8 7 9 8 9 2 7 8 9 8 9 8 9 7 5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7 2 5 3 9 4 6 4 7 8 9 6 8 7 8 9 7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4 4 2 5 3 8 7 5 6 4 5 6 1 6 5 7 8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arra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2 2 2 3 3 3 3 4 4 4 4 4 5 5 5 5 5 5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6 6 6 6 6 6 6 6 6 7 7 7 7 7 7 7 7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7 7 7 7 7 7 7 7 7 7 7 7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8 8 8 8 8 8 8 8 8 8 8 8 8 8 8 8 8 8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9 9 9 9 9 9 9 9 9 9 9 9 9 9 9 9 9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dian is element 49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orted 99 element ar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edia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26E6-C9AD-4347-8D45-CFDB40EBD8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6781680" cy="374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ponse  Frequency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1    2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0    5    0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1  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3  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4          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5  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8          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9  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23          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27          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19  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ode is the most frequent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this run the mode is 8 which occurred 27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E309-9E96-43A9-932A-B75A34548D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rray for a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on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middle element wi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lt; middle, repeat search through the first half of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gt; middle, repeat search through the last half of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; at mo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eps, where 2^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&gt; #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&gt;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5627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6019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C409-1A1B-4BFA-A234-0E88894971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s - tables with rows,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matrices: specify row, then colum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, 2 }, { 3, 4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 }, { 3, 4 }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914400" y="2057400"/>
            <a:ext cx="6124680" cy="973080"/>
            <a:chOff x="914400" y="2057400"/>
            <a:chExt cx="6124680" cy="973080"/>
          </a:xfrm>
        </p:grpSpPr>
        <p:sp>
          <p:nvSpPr>
            <p:cNvPr id="1043" name=""/>
            <p:cNvSpPr/>
            <p:nvPr/>
          </p:nvSpPr>
          <p:spPr>
            <a:xfrm>
              <a:off x="914400" y="230544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14400" y="257328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14400" y="284112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997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101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2052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31280" y="2057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lum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1797120" y="2227680"/>
              <a:ext cx="1310400" cy="802800"/>
              <a:chOff x="1797120" y="2227680"/>
              <a:chExt cx="1310400" cy="8028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1797120" y="2227680"/>
                <a:ext cx="1310400" cy="267480"/>
                <a:chOff x="1797120" y="2227680"/>
                <a:chExt cx="1310400" cy="2674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179712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85040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1797120" y="2495160"/>
                <a:ext cx="1310400" cy="267480"/>
                <a:chOff x="1797120" y="2495160"/>
                <a:chExt cx="1310400" cy="26748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179712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85040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1797120" y="2763000"/>
                <a:ext cx="1310400" cy="267480"/>
                <a:chOff x="1797120" y="2763000"/>
                <a:chExt cx="1310400" cy="2674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179712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85040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0" name=""/>
            <p:cNvGrpSpPr/>
            <p:nvPr/>
          </p:nvGrpSpPr>
          <p:grpSpPr>
            <a:xfrm>
              <a:off x="3107520" y="2227680"/>
              <a:ext cx="1310400" cy="802800"/>
              <a:chOff x="3107520" y="2227680"/>
              <a:chExt cx="1310400" cy="8028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107520" y="2227680"/>
                <a:ext cx="1310400" cy="267480"/>
                <a:chOff x="3107520" y="2227680"/>
                <a:chExt cx="1310400" cy="26748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10752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16080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107520" y="2495160"/>
                <a:ext cx="1310400" cy="267480"/>
                <a:chOff x="3107520" y="2495160"/>
                <a:chExt cx="1310400" cy="26748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10752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16080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107520" y="2763000"/>
                <a:ext cx="1310400" cy="267480"/>
                <a:chOff x="3107520" y="2763000"/>
                <a:chExt cx="1310400" cy="26748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10752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16080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0" name=""/>
            <p:cNvGrpSpPr/>
            <p:nvPr/>
          </p:nvGrpSpPr>
          <p:grpSpPr>
            <a:xfrm>
              <a:off x="4418280" y="2227680"/>
              <a:ext cx="1310400" cy="802800"/>
              <a:chOff x="4418280" y="2227680"/>
              <a:chExt cx="1310400" cy="80280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4418280" y="2227680"/>
                <a:ext cx="1310400" cy="267480"/>
                <a:chOff x="4418280" y="2227680"/>
                <a:chExt cx="1310400" cy="26748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441828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71560" y="226620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4418280" y="2495160"/>
                <a:ext cx="1310400" cy="267480"/>
                <a:chOff x="4418280" y="2495160"/>
                <a:chExt cx="1310400" cy="26748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41828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471560" y="253368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418280" y="2763000"/>
                <a:ext cx="1310400" cy="267480"/>
                <a:chOff x="4418280" y="2763000"/>
                <a:chExt cx="1310400" cy="2674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1828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471560" y="280152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0" name=""/>
            <p:cNvGrpSpPr/>
            <p:nvPr/>
          </p:nvGrpSpPr>
          <p:grpSpPr>
            <a:xfrm>
              <a:off x="5728680" y="2227680"/>
              <a:ext cx="1310400" cy="802800"/>
              <a:chOff x="5728680" y="2227680"/>
              <a:chExt cx="1310400" cy="80280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5728680" y="2227680"/>
                <a:ext cx="1310400" cy="267480"/>
                <a:chOff x="5728680" y="2227680"/>
                <a:chExt cx="1310400" cy="26748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5728680" y="2227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781960" y="2266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0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5728680" y="2495160"/>
                <a:ext cx="1310400" cy="267480"/>
                <a:chOff x="5728680" y="2495160"/>
                <a:chExt cx="1310400" cy="2674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5728680" y="2495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5781960" y="2533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1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7" name=""/>
              <p:cNvGrpSpPr/>
              <p:nvPr/>
            </p:nvGrpSpPr>
            <p:grpSpPr>
              <a:xfrm>
                <a:off x="5728680" y="2763000"/>
                <a:ext cx="1310400" cy="267480"/>
                <a:chOff x="5728680" y="2763000"/>
                <a:chExt cx="1310400" cy="267480"/>
              </a:xfrm>
            </p:grpSpPr>
            <p:sp>
              <p:nvSpPr>
                <p:cNvPr id="1088" name=""/>
                <p:cNvSpPr/>
                <p:nvPr/>
              </p:nvSpPr>
              <p:spPr>
                <a:xfrm>
                  <a:off x="5728680" y="2763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781960" y="2801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a[ 2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90" name=""/>
          <p:cNvSpPr/>
          <p:nvPr/>
        </p:nvSpPr>
        <p:spPr>
          <a:xfrm>
            <a:off x="3152880" y="3886200"/>
            <a:ext cx="1760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w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90760" y="3657600"/>
            <a:ext cx="136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a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00720" y="3305160"/>
            <a:ext cx="2152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28840" y="2971800"/>
            <a:ext cx="76320" cy="685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3304440" y="2987640"/>
            <a:ext cx="74520" cy="898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7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686040" y="2971800"/>
            <a:ext cx="74880" cy="457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62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3686040" y="3353760"/>
            <a:ext cx="762120" cy="74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2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1228680"/>
            <a:ext cx="548640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0" y="36511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086600" y="4419720"/>
            <a:ext cx="1676520" cy="631440"/>
            <a:chOff x="7086600" y="4419720"/>
            <a:chExt cx="1676520" cy="631440"/>
          </a:xfrm>
        </p:grpSpPr>
        <p:sp>
          <p:nvSpPr>
            <p:cNvPr id="1101" name=""/>
            <p:cNvSpPr/>
            <p:nvPr/>
          </p:nvSpPr>
          <p:spPr>
            <a:xfrm>
              <a:off x="7086600" y="4900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7848720" y="4419720"/>
              <a:ext cx="914400" cy="631440"/>
              <a:chOff x="7848720" y="4419720"/>
              <a:chExt cx="914400" cy="631440"/>
            </a:xfrm>
          </p:grpSpPr>
          <p:sp>
            <p:nvSpPr>
              <p:cNvPr id="1103" name=""/>
              <p:cNvSpPr/>
              <p:nvPr/>
            </p:nvSpPr>
            <p:spPr>
              <a:xfrm>
                <a:off x="7848720" y="441972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   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  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305920" y="44197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848720" y="47246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6" name=""/>
          <p:cNvGrpSpPr/>
          <p:nvPr/>
        </p:nvGrpSpPr>
        <p:grpSpPr>
          <a:xfrm>
            <a:off x="7086600" y="5638680"/>
            <a:ext cx="1676160" cy="631440"/>
            <a:chOff x="7086600" y="5638680"/>
            <a:chExt cx="1676160" cy="631440"/>
          </a:xfrm>
        </p:grpSpPr>
        <p:grpSp>
          <p:nvGrpSpPr>
            <p:cNvPr id="1107" name=""/>
            <p:cNvGrpSpPr/>
            <p:nvPr/>
          </p:nvGrpSpPr>
          <p:grpSpPr>
            <a:xfrm>
              <a:off x="7848360" y="5638680"/>
              <a:ext cx="914400" cy="631440"/>
              <a:chOff x="7848360" y="5638680"/>
              <a:chExt cx="914400" cy="631440"/>
            </a:xfrm>
          </p:grpSpPr>
          <p:sp>
            <p:nvSpPr>
              <p:cNvPr id="1108" name=""/>
              <p:cNvSpPr/>
              <p:nvPr/>
            </p:nvSpPr>
            <p:spPr>
              <a:xfrm>
                <a:off x="7848360" y="563868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1    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   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305560" y="563868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848360" y="59436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7086600" y="5891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ED99-CE8D-4C3A-8AB7-6978C72378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lik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 ][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output the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ference with com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( 0, 1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try to call 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using a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9EB7-9C4B-48CB-AE72-55A737461D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fine functions to take double scripted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]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16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117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23: fig04_2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120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ouble-subscripted array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123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126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129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132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135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138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141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144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147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150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153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156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159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s = 3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stud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162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xams = 4;     </a:t>
                </a:r>
                <a:r>
                  <a:rPr b="1" lang="en-US" sz="1200" spc="-1" strike="noStrike">
                    <a:solidFill>
                      <a:srgbClr val="66ff4d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exa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165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168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171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udentGrades[ students ][ exams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{ { 77, 68, 86, 73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 96, 87, 89, 78 }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{ 70, 90, 86, 81 }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204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array i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207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Array( studentGrades, students, exam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Lowest grad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inimum( studentGrades, students, exam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5" name=""/>
          <p:cNvGrpSpPr/>
          <p:nvPr/>
        </p:nvGrpSpPr>
        <p:grpSpPr>
          <a:xfrm>
            <a:off x="3352320" y="4038480"/>
            <a:ext cx="4572360" cy="990360"/>
            <a:chOff x="3352320" y="4038480"/>
            <a:chExt cx="4572360" cy="990360"/>
          </a:xfrm>
        </p:grpSpPr>
        <p:sp>
          <p:nvSpPr>
            <p:cNvPr id="1216" name=""/>
            <p:cNvSpPr/>
            <p:nvPr/>
          </p:nvSpPr>
          <p:spPr>
            <a:xfrm>
              <a:off x="4876560" y="40384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ach row is a particular student, each column is the grades on the exam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3352320" y="4267080"/>
              <a:ext cx="1523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5333-577C-43D1-A3CF-1EE12DE4FF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group of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and position num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[ position number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lement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1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n -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are like norm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[ 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ing operations in subscript.  If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[ 5 – 2 ] == c[ 3 ] == c[ x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0E86-228C-4A07-BDA3-B756BCAA4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20" name=""/>
            <p:cNvGrpSpPr/>
            <p:nvPr/>
          </p:nvGrpSpPr>
          <p:grpSpPr>
            <a:xfrm>
              <a:off x="0" y="0"/>
              <a:ext cx="6780960" cy="206280"/>
              <a:chOff x="0" y="0"/>
              <a:chExt cx="6780960" cy="206280"/>
            </a:xfrm>
          </p:grpSpPr>
          <p:sp>
            <p:nvSpPr>
              <p:cNvPr id="1221" name=""/>
              <p:cNvSpPr/>
              <p:nvPr/>
            </p:nvSpPr>
            <p:spPr>
              <a:xfrm>
                <a:off x="0" y="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0" y="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Highest grad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0" y="206280"/>
              <a:ext cx="6780960" cy="206280"/>
              <a:chOff x="0" y="206280"/>
              <a:chExt cx="6780960" cy="206280"/>
            </a:xfrm>
          </p:grpSpPr>
          <p:sp>
            <p:nvSpPr>
              <p:cNvPr id="1224" name=""/>
              <p:cNvSpPr/>
              <p:nvPr/>
            </p:nvSpPr>
            <p:spPr>
              <a:xfrm>
                <a:off x="0" y="206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0" y="206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maximum( studentGrades, students, exams 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0" y="412560"/>
              <a:ext cx="6780960" cy="206280"/>
              <a:chOff x="0" y="412560"/>
              <a:chExt cx="6780960" cy="206280"/>
            </a:xfrm>
          </p:grpSpPr>
          <p:sp>
            <p:nvSpPr>
              <p:cNvPr id="1227" name=""/>
              <p:cNvSpPr/>
              <p:nvPr/>
            </p:nvSpPr>
            <p:spPr>
              <a:xfrm>
                <a:off x="0" y="412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412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0" y="618840"/>
              <a:ext cx="6780960" cy="206280"/>
              <a:chOff x="0" y="618840"/>
              <a:chExt cx="6780960" cy="206280"/>
            </a:xfrm>
          </p:grpSpPr>
          <p:sp>
            <p:nvSpPr>
              <p:cNvPr id="1230" name=""/>
              <p:cNvSpPr/>
              <p:nvPr/>
            </p:nvSpPr>
            <p:spPr>
              <a:xfrm>
                <a:off x="0" y="618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18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erson = 0; person &lt; students; perso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0" y="825480"/>
              <a:ext cx="6780960" cy="253440"/>
              <a:chOff x="0" y="825480"/>
              <a:chExt cx="6780960" cy="253440"/>
            </a:xfrm>
          </p:grpSpPr>
          <p:sp>
            <p:nvSpPr>
              <p:cNvPr id="1233" name=""/>
              <p:cNvSpPr/>
              <p:nvPr/>
            </p:nvSpPr>
            <p:spPr>
              <a:xfrm>
                <a:off x="0" y="825480"/>
                <a:ext cx="6780960" cy="253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825480"/>
                <a:ext cx="6780960" cy="253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The average grade for student " &lt;&lt; person &lt;&lt; " is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0" y="1079280"/>
              <a:ext cx="6780960" cy="206280"/>
              <a:chOff x="0" y="1079280"/>
              <a:chExt cx="6780960" cy="206280"/>
            </a:xfrm>
          </p:grpSpPr>
          <p:sp>
            <p:nvSpPr>
              <p:cNvPr id="1236" name=""/>
              <p:cNvSpPr/>
              <p:nvPr/>
            </p:nvSpPr>
            <p:spPr>
              <a:xfrm>
                <a:off x="0" y="1079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10792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iosflags( ios::fixed | ios::showpoint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0" y="1285560"/>
              <a:ext cx="6780960" cy="206280"/>
              <a:chOff x="0" y="1285560"/>
              <a:chExt cx="6780960" cy="206280"/>
            </a:xfrm>
          </p:grpSpPr>
          <p:sp>
            <p:nvSpPr>
              <p:cNvPr id="1239" name=""/>
              <p:cNvSpPr/>
              <p:nvPr/>
            </p:nvSpPr>
            <p:spPr>
              <a:xfrm>
                <a:off x="0" y="1285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1285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precision( 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1491840"/>
              <a:ext cx="6780960" cy="206280"/>
              <a:chOff x="0" y="1491840"/>
              <a:chExt cx="6780960" cy="206280"/>
            </a:xfrm>
          </p:grpSpPr>
          <p:sp>
            <p:nvSpPr>
              <p:cNvPr id="1242" name=""/>
              <p:cNvSpPr/>
              <p:nvPr/>
            </p:nvSpPr>
            <p:spPr>
              <a:xfrm>
                <a:off x="0" y="1491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1491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average( studentGrades[ person ], exams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0" y="1698480"/>
              <a:ext cx="6780960" cy="206280"/>
              <a:chOff x="0" y="1698480"/>
              <a:chExt cx="6780960" cy="206280"/>
            </a:xfrm>
          </p:grpSpPr>
          <p:sp>
            <p:nvSpPr>
              <p:cNvPr id="1245" name=""/>
              <p:cNvSpPr/>
              <p:nvPr/>
            </p:nvSpPr>
            <p:spPr>
              <a:xfrm>
                <a:off x="0" y="16984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16984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0" y="1904760"/>
              <a:ext cx="6780960" cy="206280"/>
              <a:chOff x="0" y="1904760"/>
              <a:chExt cx="6780960" cy="206280"/>
            </a:xfrm>
          </p:grpSpPr>
          <p:sp>
            <p:nvSpPr>
              <p:cNvPr id="1248" name=""/>
              <p:cNvSpPr/>
              <p:nvPr/>
            </p:nvSpPr>
            <p:spPr>
              <a:xfrm>
                <a:off x="0" y="1904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1904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0" y="2111040"/>
              <a:ext cx="6780960" cy="206280"/>
              <a:chOff x="0" y="2111040"/>
              <a:chExt cx="6780960" cy="206280"/>
            </a:xfrm>
          </p:grpSpPr>
          <p:sp>
            <p:nvSpPr>
              <p:cNvPr id="1251" name=""/>
              <p:cNvSpPr/>
              <p:nvPr/>
            </p:nvSpPr>
            <p:spPr>
              <a:xfrm>
                <a:off x="0" y="2111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0" y="2111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0" y="2317680"/>
              <a:ext cx="6780960" cy="206280"/>
              <a:chOff x="0" y="2317680"/>
              <a:chExt cx="6780960" cy="206280"/>
            </a:xfrm>
          </p:grpSpPr>
          <p:sp>
            <p:nvSpPr>
              <p:cNvPr id="1254" name=""/>
              <p:cNvSpPr/>
              <p:nvPr/>
            </p:nvSpPr>
            <p:spPr>
              <a:xfrm>
                <a:off x="0" y="23176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0" y="23176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0" y="2523960"/>
              <a:ext cx="6780960" cy="206280"/>
              <a:chOff x="0" y="2523960"/>
              <a:chExt cx="6780960" cy="206280"/>
            </a:xfrm>
          </p:grpSpPr>
          <p:sp>
            <p:nvSpPr>
              <p:cNvPr id="1257" name=""/>
              <p:cNvSpPr/>
              <p:nvPr/>
            </p:nvSpPr>
            <p:spPr>
              <a:xfrm>
                <a:off x="0" y="2523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0" y="2523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 the minimum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0" y="2730240"/>
              <a:ext cx="6780960" cy="206280"/>
              <a:chOff x="0" y="2730240"/>
              <a:chExt cx="6780960" cy="206280"/>
            </a:xfrm>
          </p:grpSpPr>
          <p:sp>
            <p:nvSpPr>
              <p:cNvPr id="1260" name=""/>
              <p:cNvSpPr/>
              <p:nvPr/>
            </p:nvSpPr>
            <p:spPr>
              <a:xfrm>
                <a:off x="0" y="2730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0" y="2730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in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0" y="2936880"/>
              <a:ext cx="6780960" cy="206280"/>
              <a:chOff x="0" y="2936880"/>
              <a:chExt cx="6780960" cy="206280"/>
            </a:xfrm>
          </p:grpSpPr>
          <p:sp>
            <p:nvSpPr>
              <p:cNvPr id="1263" name=""/>
              <p:cNvSpPr/>
              <p:nvPr/>
            </p:nvSpPr>
            <p:spPr>
              <a:xfrm>
                <a:off x="0" y="29368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0" y="293688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0" y="3143160"/>
              <a:ext cx="6780960" cy="206280"/>
              <a:chOff x="0" y="3143160"/>
              <a:chExt cx="6780960" cy="206280"/>
            </a:xfrm>
          </p:grpSpPr>
          <p:sp>
            <p:nvSpPr>
              <p:cNvPr id="1266" name=""/>
              <p:cNvSpPr/>
              <p:nvPr/>
            </p:nvSpPr>
            <p:spPr>
              <a:xfrm>
                <a:off x="0" y="31431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0" y="31431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 = 1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0" y="3349440"/>
              <a:ext cx="6780960" cy="206280"/>
              <a:chOff x="0" y="3349440"/>
              <a:chExt cx="6780960" cy="206280"/>
            </a:xfrm>
          </p:grpSpPr>
          <p:sp>
            <p:nvSpPr>
              <p:cNvPr id="1269" name=""/>
              <p:cNvSpPr/>
              <p:nvPr/>
            </p:nvSpPr>
            <p:spPr>
              <a:xfrm>
                <a:off x="0" y="3349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0" y="3349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0" y="3555720"/>
              <a:ext cx="6780960" cy="206280"/>
              <a:chOff x="0" y="3555720"/>
              <a:chExt cx="6780960" cy="206280"/>
            </a:xfrm>
          </p:grpSpPr>
          <p:sp>
            <p:nvSpPr>
              <p:cNvPr id="1272" name=""/>
              <p:cNvSpPr/>
              <p:nvPr/>
            </p:nvSpPr>
            <p:spPr>
              <a:xfrm>
                <a:off x="0" y="3555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0" y="3555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0" y="3762360"/>
              <a:ext cx="6780960" cy="206280"/>
              <a:chOff x="0" y="3762360"/>
              <a:chExt cx="6780960" cy="206280"/>
            </a:xfrm>
          </p:grpSpPr>
          <p:sp>
            <p:nvSpPr>
              <p:cNvPr id="1275" name=""/>
              <p:cNvSpPr/>
              <p:nvPr/>
            </p:nvSpPr>
            <p:spPr>
              <a:xfrm>
                <a:off x="0" y="37623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0" y="37623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0" y="3968640"/>
              <a:ext cx="6780960" cy="206280"/>
              <a:chOff x="0" y="3968640"/>
              <a:chExt cx="6780960" cy="206280"/>
            </a:xfrm>
          </p:grpSpPr>
          <p:sp>
            <p:nvSpPr>
              <p:cNvPr id="1278" name=""/>
              <p:cNvSpPr/>
              <p:nvPr/>
            </p:nvSpPr>
            <p:spPr>
              <a:xfrm>
                <a:off x="0" y="39686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0" y="39686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0" y="4174920"/>
              <a:ext cx="6780960" cy="206280"/>
              <a:chOff x="0" y="4174920"/>
              <a:chExt cx="6780960" cy="206280"/>
            </a:xfrm>
          </p:grpSpPr>
          <p:sp>
            <p:nvSpPr>
              <p:cNvPr id="1281" name=""/>
              <p:cNvSpPr/>
              <p:nvPr/>
            </p:nvSpPr>
            <p:spPr>
              <a:xfrm>
                <a:off x="0" y="41749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41749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0" y="4381560"/>
              <a:ext cx="6780960" cy="206280"/>
              <a:chOff x="0" y="4381560"/>
              <a:chExt cx="6780960" cy="206280"/>
            </a:xfrm>
          </p:grpSpPr>
          <p:sp>
            <p:nvSpPr>
              <p:cNvPr id="1284" name=""/>
              <p:cNvSpPr/>
              <p:nvPr/>
            </p:nvSpPr>
            <p:spPr>
              <a:xfrm>
                <a:off x="0" y="4381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0" y="43815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lt; low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0" y="4587840"/>
              <a:ext cx="6780960" cy="206280"/>
              <a:chOff x="0" y="4587840"/>
              <a:chExt cx="6780960" cy="206280"/>
            </a:xfrm>
          </p:grpSpPr>
          <p:sp>
            <p:nvSpPr>
              <p:cNvPr id="1287" name=""/>
              <p:cNvSpPr/>
              <p:nvPr/>
            </p:nvSpPr>
            <p:spPr>
              <a:xfrm>
                <a:off x="0" y="4587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0" y="45878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low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0" y="4794120"/>
              <a:ext cx="6780960" cy="206280"/>
              <a:chOff x="0" y="4794120"/>
              <a:chExt cx="6780960" cy="206280"/>
            </a:xfrm>
          </p:grpSpPr>
          <p:sp>
            <p:nvSpPr>
              <p:cNvPr id="1290" name=""/>
              <p:cNvSpPr/>
              <p:nvPr/>
            </p:nvSpPr>
            <p:spPr>
              <a:xfrm>
                <a:off x="0" y="47941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0" y="47941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0" y="5000760"/>
              <a:ext cx="6780960" cy="206280"/>
              <a:chOff x="0" y="5000760"/>
              <a:chExt cx="6780960" cy="206280"/>
            </a:xfrm>
          </p:grpSpPr>
          <p:sp>
            <p:nvSpPr>
              <p:cNvPr id="1293" name=""/>
              <p:cNvSpPr/>
              <p:nvPr/>
            </p:nvSpPr>
            <p:spPr>
              <a:xfrm>
                <a:off x="0" y="5000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0" y="50007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ow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0" y="5207040"/>
              <a:ext cx="6780960" cy="206280"/>
              <a:chOff x="0" y="5207040"/>
              <a:chExt cx="6780960" cy="206280"/>
            </a:xfrm>
          </p:grpSpPr>
          <p:sp>
            <p:nvSpPr>
              <p:cNvPr id="1296" name=""/>
              <p:cNvSpPr/>
              <p:nvPr/>
            </p:nvSpPr>
            <p:spPr>
              <a:xfrm>
                <a:off x="0" y="5207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52070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0" y="5413320"/>
              <a:ext cx="6780960" cy="206280"/>
              <a:chOff x="0" y="5413320"/>
              <a:chExt cx="6780960" cy="206280"/>
            </a:xfrm>
          </p:grpSpPr>
          <p:sp>
            <p:nvSpPr>
              <p:cNvPr id="1299" name=""/>
              <p:cNvSpPr/>
              <p:nvPr/>
            </p:nvSpPr>
            <p:spPr>
              <a:xfrm>
                <a:off x="0" y="54133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54133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0" y="5619960"/>
              <a:ext cx="6780960" cy="206280"/>
              <a:chOff x="0" y="5619960"/>
              <a:chExt cx="6780960" cy="206280"/>
            </a:xfrm>
          </p:grpSpPr>
          <p:sp>
            <p:nvSpPr>
              <p:cNvPr id="1302" name=""/>
              <p:cNvSpPr/>
              <p:nvPr/>
            </p:nvSpPr>
            <p:spPr>
              <a:xfrm>
                <a:off x="0" y="5619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561996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 the maximum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0" y="5826240"/>
              <a:ext cx="6780960" cy="206280"/>
              <a:chOff x="0" y="5826240"/>
              <a:chExt cx="6780960" cy="206280"/>
            </a:xfrm>
          </p:grpSpPr>
          <p:sp>
            <p:nvSpPr>
              <p:cNvPr id="1305" name=""/>
              <p:cNvSpPr/>
              <p:nvPr/>
            </p:nvSpPr>
            <p:spPr>
              <a:xfrm>
                <a:off x="0" y="5826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58262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0" y="6032520"/>
              <a:ext cx="6780960" cy="206280"/>
              <a:chOff x="0" y="6032520"/>
              <a:chExt cx="6780960" cy="206280"/>
            </a:xfrm>
          </p:grpSpPr>
          <p:sp>
            <p:nvSpPr>
              <p:cNvPr id="1308" name=""/>
              <p:cNvSpPr/>
              <p:nvPr/>
            </p:nvSpPr>
            <p:spPr>
              <a:xfrm>
                <a:off x="0" y="60325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60325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0" y="6238800"/>
              <a:ext cx="6780960" cy="206280"/>
              <a:chOff x="0" y="6238800"/>
              <a:chExt cx="6780960" cy="206280"/>
            </a:xfrm>
          </p:grpSpPr>
          <p:sp>
            <p:nvSpPr>
              <p:cNvPr id="1311" name=""/>
              <p:cNvSpPr/>
              <p:nvPr/>
            </p:nvSpPr>
            <p:spPr>
              <a:xfrm>
                <a:off x="0" y="623880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623880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0" y="6445440"/>
              <a:ext cx="6780960" cy="206280"/>
              <a:chOff x="0" y="6445440"/>
              <a:chExt cx="6780960" cy="206280"/>
            </a:xfrm>
          </p:grpSpPr>
          <p:sp>
            <p:nvSpPr>
              <p:cNvPr id="1314" name=""/>
              <p:cNvSpPr/>
              <p:nvPr/>
            </p:nvSpPr>
            <p:spPr>
              <a:xfrm>
                <a:off x="0" y="6445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644544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0" y="6651720"/>
              <a:ext cx="6780960" cy="206280"/>
              <a:chOff x="0" y="6651720"/>
              <a:chExt cx="6780960" cy="206280"/>
            </a:xfrm>
          </p:grpSpPr>
          <p:sp>
            <p:nvSpPr>
              <p:cNvPr id="1317" name=""/>
              <p:cNvSpPr/>
              <p:nvPr/>
            </p:nvSpPr>
            <p:spPr>
              <a:xfrm>
                <a:off x="0" y="6651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6651720"/>
                <a:ext cx="6780960" cy="206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EC45-95AF-4714-B460-E802F01172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321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1322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1325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1328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1331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s[ i ][ j ] &gt; highGrad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1334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highGrade =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1337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ighGrad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termine the average grade for a particular stud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tOfGrades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test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+= setOfGrades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test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th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s[][ exams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upils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sts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                 [0]  [1]  [2]  [3]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pupils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\nstudentGrades[" &lt;&lt; i &lt;&lt; "]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j = 0; j &lt; tests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setiosflags( ios::left ) &lt;&lt; setw( 5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&lt;&lt; grades[ i ]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43761-6001-455D-80DD-C5641D8CD1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21" name=""/>
          <p:cNvSpPr/>
          <p:nvPr/>
        </p:nvSpPr>
        <p:spPr>
          <a:xfrm>
            <a:off x="0" y="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rray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0]  [1]  [2]  [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0] 77   68   86   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1] 96   87   89   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udentGrades[2] 70   90   86  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west grade: 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ighest grade: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0 is 76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1 is 87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verage grade for student 2 is 81.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28DA-568F-49C6-9AC3-B8BA6D7360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29000" y="1066680"/>
            <a:ext cx="2437920" cy="5029200"/>
            <a:chOff x="3429000" y="1066680"/>
            <a:chExt cx="2437920" cy="5029200"/>
          </a:xfrm>
        </p:grpSpPr>
        <p:grpSp>
          <p:nvGrpSpPr>
            <p:cNvPr id="96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97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536640" y="37893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6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47960" y="2138400"/>
              <a:ext cx="35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2160" y="2412720"/>
              <a:ext cx="142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2160" y="2689200"/>
              <a:ext cx="142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55960" y="296388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996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7960" y="3514680"/>
              <a:ext cx="356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62160" y="378936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5960" y="40640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5960" y="434016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62160" y="461484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39960" y="488952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64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55960" y="51656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65360" y="1066680"/>
              <a:ext cx="214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ame of array (Note that all elements of this array have the same name,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2560" y="1765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36640" y="213840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36640" y="2412720"/>
              <a:ext cx="46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6640" y="268920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6640" y="296388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16564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9000" y="488952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1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6640" y="46148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9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36640" y="43401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8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40640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36640" y="351468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65360" y="5767200"/>
              <a:ext cx="24015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sition number of the element within arra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0160" y="5343480"/>
              <a:ext cx="360" cy="36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0" y="57240"/>
            <a:ext cx="5486400" cy="5922360"/>
            <a:chOff x="0" y="57240"/>
            <a:chExt cx="5486400" cy="5922360"/>
          </a:xfrm>
        </p:grpSpPr>
        <p:sp>
          <p:nvSpPr>
            <p:cNvPr id="153" name=""/>
            <p:cNvSpPr/>
            <p:nvPr/>
          </p:nvSpPr>
          <p:spPr>
            <a:xfrm>
              <a:off x="0" y="950760"/>
              <a:ext cx="548640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5724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0" y="597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82F0-295F-4EF8-B6BC-187250A42D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arrays - speci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[ 10 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hi[ 3284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format as othe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100 ], x[ 27 ]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16C8-29E0-4EA0-9C16-BDB7369658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become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any initializers, a syntax error is gener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all the eleme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ize omitted, the initializers determin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 initializers, ther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5 element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CA35-B512-4212-8211-28C7DB3370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 using a decla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out each array eleme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0"/>
            <a:ext cx="6780960" cy="4495680"/>
            <a:chOff x="0" y="0"/>
            <a:chExt cx="6780960" cy="4495680"/>
          </a:xfrm>
        </p:grpSpPr>
        <p:grpSp>
          <p:nvGrpSpPr>
            <p:cNvPr id="162" name=""/>
            <p:cNvGrpSpPr/>
            <p:nvPr/>
          </p:nvGrpSpPr>
          <p:grpSpPr>
            <a:xfrm>
              <a:off x="0" y="0"/>
              <a:ext cx="6780960" cy="219240"/>
              <a:chOff x="0" y="0"/>
              <a:chExt cx="6780960" cy="21924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0"/>
                <a:ext cx="678096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0"/>
                <a:ext cx="678096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4: fig04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219240"/>
              <a:ext cx="6780960" cy="203400"/>
              <a:chOff x="0" y="219240"/>
              <a:chExt cx="6780960" cy="20340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219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19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ing an array with a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423000"/>
              <a:ext cx="6780960" cy="203400"/>
              <a:chOff x="0" y="423000"/>
              <a:chExt cx="6780960" cy="20340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423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23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626760"/>
              <a:ext cx="6780960" cy="203400"/>
              <a:chOff x="0" y="626760"/>
              <a:chExt cx="6780960" cy="20340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626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626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830160"/>
              <a:ext cx="6780960" cy="203400"/>
              <a:chOff x="0" y="830160"/>
              <a:chExt cx="6780960" cy="20340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8301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8301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1033920"/>
              <a:ext cx="6780960" cy="203400"/>
              <a:chOff x="0" y="1033920"/>
              <a:chExt cx="6780960" cy="20340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033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1033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1237320"/>
              <a:ext cx="6780960" cy="203400"/>
              <a:chOff x="0" y="1237320"/>
              <a:chExt cx="6780960" cy="20340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12373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2373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1441080"/>
              <a:ext cx="6780960" cy="203400"/>
              <a:chOff x="0" y="1441080"/>
              <a:chExt cx="6780960" cy="2034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1441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1441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1644840"/>
              <a:ext cx="6780960" cy="203400"/>
              <a:chOff x="0" y="1644840"/>
              <a:chExt cx="6780960" cy="20340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1644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644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1848240"/>
              <a:ext cx="6780960" cy="203400"/>
              <a:chOff x="0" y="1848240"/>
              <a:chExt cx="6780960" cy="20340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848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18482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2052000"/>
              <a:ext cx="6780960" cy="203400"/>
              <a:chOff x="0" y="2052000"/>
              <a:chExt cx="6780960" cy="20340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2052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2052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2255760"/>
              <a:ext cx="6780960" cy="203400"/>
              <a:chOff x="0" y="2255760"/>
              <a:chExt cx="6780960" cy="20340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255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255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2459520"/>
              <a:ext cx="6780960" cy="203400"/>
              <a:chOff x="0" y="2459520"/>
              <a:chExt cx="6780960" cy="20340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459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459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2662920"/>
              <a:ext cx="6780960" cy="203400"/>
              <a:chOff x="0" y="2662920"/>
              <a:chExt cx="6780960" cy="2034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2662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6629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[ 10 ] = { 32, 27, 64, 18, 95, 14, 90, 70, 60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2866680"/>
              <a:ext cx="6780960" cy="203400"/>
              <a:chOff x="0" y="2866680"/>
              <a:chExt cx="6780960" cy="20340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8666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666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3070080"/>
              <a:ext cx="6780960" cy="203400"/>
              <a:chOff x="0" y="3070080"/>
              <a:chExt cx="6780960" cy="2034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3070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0700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lement" &lt;&lt; setw( 13 ) &lt;&lt; "Valu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273840"/>
              <a:ext cx="6780960" cy="203400"/>
              <a:chOff x="0" y="3273840"/>
              <a:chExt cx="6780960" cy="2034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273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27384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3477600"/>
              <a:ext cx="6780960" cy="203400"/>
              <a:chOff x="0" y="3477600"/>
              <a:chExt cx="6780960" cy="2034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34776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4776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0; i &lt; 10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3681000"/>
              <a:ext cx="6780960" cy="203400"/>
              <a:chOff x="0" y="3681000"/>
              <a:chExt cx="6780960" cy="2034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3681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68100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7 ) &lt;&lt; i &lt;&lt; setw( 13 ) &lt;&lt; n[ i ]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3884760"/>
              <a:ext cx="6780960" cy="203400"/>
              <a:chOff x="0" y="3884760"/>
              <a:chExt cx="6780960" cy="2034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3884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88476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088520"/>
              <a:ext cx="6780960" cy="203400"/>
              <a:chOff x="0" y="4088520"/>
              <a:chExt cx="6780960" cy="2034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088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08852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4292280"/>
              <a:ext cx="6780960" cy="203400"/>
              <a:chOff x="0" y="4292280"/>
              <a:chExt cx="6780960" cy="20340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42922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4292280"/>
                <a:ext cx="6780960" cy="203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0" y="457524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      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 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    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   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   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  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160" y="1600200"/>
            <a:ext cx="4115160" cy="1066680"/>
            <a:chOff x="1676160" y="1600200"/>
            <a:chExt cx="4115160" cy="1066680"/>
          </a:xfrm>
        </p:grpSpPr>
        <p:sp>
          <p:nvSpPr>
            <p:cNvPr id="230" name=""/>
            <p:cNvSpPr/>
            <p:nvPr/>
          </p:nvSpPr>
          <p:spPr>
            <a:xfrm>
              <a:off x="3353040" y="160020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y array is declared and elements referenc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676160" y="1828800"/>
              <a:ext cx="1676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198A-B424-4CA5-ACF5-B386E679DE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Attempt to modify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0" y="0"/>
            <a:ext cx="6780960" cy="2971440"/>
            <a:chOff x="0" y="0"/>
            <a:chExt cx="6780960" cy="2971440"/>
          </a:xfrm>
        </p:grpSpPr>
        <p:grpSp>
          <p:nvGrpSpPr>
            <p:cNvPr id="234" name=""/>
            <p:cNvGrpSpPr/>
            <p:nvPr/>
          </p:nvGrpSpPr>
          <p:grpSpPr>
            <a:xfrm>
              <a:off x="0" y="0"/>
              <a:ext cx="6780960" cy="270000"/>
              <a:chOff x="0" y="0"/>
              <a:chExt cx="6780960" cy="27000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4.7: fig04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270000"/>
              <a:ext cx="6780960" cy="270000"/>
              <a:chOff x="0" y="270000"/>
              <a:chExt cx="6780960" cy="27000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7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const object must be initializ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540000"/>
              <a:ext cx="6780960" cy="270000"/>
              <a:chOff x="0" y="540000"/>
              <a:chExt cx="6780960" cy="27000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4000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810360"/>
              <a:ext cx="6780960" cy="270000"/>
              <a:chOff x="0" y="810360"/>
              <a:chExt cx="6780960" cy="27000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81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1080360"/>
              <a:ext cx="6780960" cy="270000"/>
              <a:chOff x="0" y="1080360"/>
              <a:chExt cx="6780960" cy="27000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108036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1350720"/>
              <a:ext cx="6780960" cy="270000"/>
              <a:chOff x="0" y="1350720"/>
              <a:chExt cx="6780960" cy="27000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135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Error: x must be initializ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1620720"/>
              <a:ext cx="6780960" cy="270000"/>
              <a:chOff x="0" y="1620720"/>
              <a:chExt cx="6780960" cy="27000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62072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1891080"/>
              <a:ext cx="6780960" cy="270000"/>
              <a:chOff x="0" y="1891080"/>
              <a:chExt cx="6780960" cy="27000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89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rror: cannot modify a const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2161080"/>
              <a:ext cx="6780960" cy="270000"/>
              <a:chOff x="0" y="2161080"/>
              <a:chExt cx="6780960" cy="27000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16108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0" y="2431440"/>
              <a:ext cx="6780960" cy="270000"/>
              <a:chOff x="0" y="2431440"/>
              <a:chExt cx="6780960" cy="2700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243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0" y="2701440"/>
              <a:ext cx="6780960" cy="270000"/>
              <a:chOff x="0" y="2701440"/>
              <a:chExt cx="6780960" cy="27000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2701440"/>
                <a:ext cx="6780960" cy="270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0" y="3276720"/>
            <a:ext cx="67816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4_07.cp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304 Fig04_07.cpp 6: Constant variable 'x' mus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lized in 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4_07.cpp 8: Cannot modify a const object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 2 errors in Compil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295280" y="1652760"/>
            <a:ext cx="5334120" cy="1852560"/>
            <a:chOff x="1295280" y="1652760"/>
            <a:chExt cx="5334120" cy="1852560"/>
          </a:xfrm>
        </p:grpSpPr>
        <p:grpSp>
          <p:nvGrpSpPr>
            <p:cNvPr id="269" name=""/>
            <p:cNvGrpSpPr/>
            <p:nvPr/>
          </p:nvGrpSpPr>
          <p:grpSpPr>
            <a:xfrm>
              <a:off x="1295280" y="1652760"/>
              <a:ext cx="5334120" cy="824040"/>
              <a:chOff x="1295280" y="1652760"/>
              <a:chExt cx="5334120" cy="824040"/>
            </a:xfrm>
          </p:grpSpPr>
          <p:sp>
            <p:nvSpPr>
              <p:cNvPr id="270" name=""/>
              <p:cNvSpPr/>
              <p:nvPr/>
            </p:nvSpPr>
            <p:spPr>
              <a:xfrm>
                <a:off x="2819520" y="1652760"/>
                <a:ext cx="380988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tice that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nst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ariables must be initialized because they cannot be modified la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1295280" y="1652760"/>
                <a:ext cx="15242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 flipH="1">
              <a:off x="403848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0ACD-8075-4C84-94A5-F7971D3204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tring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{ 'h', 'e', 'l', 'l', 'o'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'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pting is the same as for a normal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h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2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user 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de effect: if too much text entered, data written beyond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31A2-B899-4765-8231-E2482F0B8F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21:25:57Z</dcterms:created>
  <dc:creator>kalid</dc:creator>
  <dc:description/>
  <dc:language>en-US</dc:language>
  <cp:lastModifiedBy>Antonella Esposito</cp:lastModifiedBy>
  <dcterms:modified xsi:type="dcterms:W3CDTF">2001-01-12T10:41:19Z</dcterms:modified>
  <cp:revision>166</cp:revision>
  <dc:subject/>
  <dc:title>Chapter 4 - Arrays</dc:title>
</cp:coreProperties>
</file>