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7B90-701E-4DB5-876F-A06AC19D9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E77A-1D98-4C1F-A6BA-6F18539CB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7793-6DAA-4D56-A690-7DC618331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DADD-6AD1-47F2-9F47-E9F3D8F07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CC31-0500-4FFB-8430-00F2C0F333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973B-2F06-4538-B378-1786AC2AC6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0F48-0D9D-4DDD-829D-AA9490467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12E8-3FA9-4177-9026-3F69538812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81CF-657A-4070-9CA5-BA75AEDF4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0C16-0DA8-4DC0-92CA-305D76F3A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8A6E-FF66-482B-9CD6-37CD9D4EA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ADEB-504E-4F0C-94D5-9C661A919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DEDA-2A2B-4F69-BBF7-C46E82A594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C4F9-CE22-4F4A-8AE0-0C415B9F8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3E0E-BEDA-49C6-B3EE-6A6F6B2CA8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74F4-9AD6-4DED-B781-3A22BC915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4FCD-9DD9-40F5-9060-393CE5CB0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8427-480B-41D7-BB96-F9D0CED69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D36B-BCE1-41DF-B8E9-FE2C2467A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C691-124F-4B63-8A4B-CEC6F873B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A1D1-E48B-4BF9-814E-90531F87F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807C-D40A-453F-8480-77D038F7B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9375-D57B-4E40-9FEA-4A150E174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F09A-6BAB-4F5A-A0A1-D47FED4CE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7D99-C9D0-4DE3-9624-1BFDFC69B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4BD-84BA-4119-8B2A-500575536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2952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osition: Objects as Members of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riend Functions and friend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oint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Memory Allocation with Operators new and 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Memb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ata Abstraction and Information Hi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rray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String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Queue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ainer Classes and It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xy 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olo 7: Classes Part I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0268-A520-44DB-9E34-3D41591F63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8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2: fig07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a member initializer to initializ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ant of a built-in data typ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ddIncrement() { count += increme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Incr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ncrement::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increment( i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r for const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count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 = " &lt;&lt;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, increment = " &lt;&lt; increme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209680" y="4419720"/>
            <a:ext cx="6019920" cy="1586880"/>
            <a:chOff x="2209680" y="4419720"/>
            <a:chExt cx="6019920" cy="1586880"/>
          </a:xfrm>
        </p:grpSpPr>
        <p:sp>
          <p:nvSpPr>
            <p:cNvPr id="568" name=""/>
            <p:cNvSpPr/>
            <p:nvPr/>
          </p:nvSpPr>
          <p:spPr>
            <a:xfrm flipH="1" flipV="1">
              <a:off x="2209680" y="4419720"/>
              <a:ext cx="3200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81480" y="469584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we try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an assignment statement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 = 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stead of a member initializer we get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D267-E667-41DB-8787-35DC99F441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572" name=""/>
            <p:cNvGrpSpPr/>
            <p:nvPr/>
          </p:nvGrpSpPr>
          <p:grpSpPr>
            <a:xfrm>
              <a:off x="0" y="0"/>
              <a:ext cx="6780960" cy="252000"/>
              <a:chOff x="0" y="0"/>
              <a:chExt cx="6780960" cy="25200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 value( 10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52000"/>
              <a:ext cx="6780960" cy="252000"/>
              <a:chOff x="0" y="252000"/>
              <a:chExt cx="6780960" cy="25200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504000"/>
              <a:ext cx="6780960" cy="252000"/>
              <a:chOff x="0" y="504000"/>
              <a:chExt cx="6780960" cy="25200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crement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756000"/>
              <a:ext cx="6780960" cy="252000"/>
              <a:chOff x="0" y="756000"/>
              <a:chExt cx="6780960" cy="25200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008000"/>
              <a:ext cx="6780960" cy="252000"/>
              <a:chOff x="0" y="1008000"/>
              <a:chExt cx="6780960" cy="25200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1260000"/>
              <a:ext cx="6780960" cy="252000"/>
              <a:chOff x="0" y="1260000"/>
              <a:chExt cx="6780960" cy="25200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1512360"/>
              <a:ext cx="6780960" cy="252000"/>
              <a:chOff x="0" y="1512360"/>
              <a:chExt cx="6780960" cy="25200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add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1764360"/>
              <a:ext cx="6780960" cy="252000"/>
              <a:chOff x="0" y="1764360"/>
              <a:chExt cx="6780960" cy="25200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After increment " &lt;&lt; j + 1 &lt;&lt; "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016360"/>
              <a:ext cx="6780960" cy="252000"/>
              <a:chOff x="0" y="2016360"/>
              <a:chExt cx="6780960" cy="25200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68360"/>
              <a:ext cx="6780960" cy="252000"/>
              <a:chOff x="0" y="2268360"/>
              <a:chExt cx="6780960" cy="25200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2520360"/>
              <a:ext cx="6780960" cy="252000"/>
              <a:chOff x="0" y="2520360"/>
              <a:chExt cx="6780960" cy="2520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2772720"/>
              <a:ext cx="6780960" cy="252000"/>
              <a:chOff x="0" y="2772720"/>
              <a:chExt cx="6780960" cy="25200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3024720"/>
              <a:ext cx="6780960" cy="252000"/>
              <a:chOff x="0" y="3024720"/>
              <a:chExt cx="6780960" cy="25200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1" name=""/>
          <p:cNvSpPr/>
          <p:nvPr/>
        </p:nvSpPr>
        <p:spPr>
          <a:xfrm>
            <a:off x="0" y="358128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CDCA-5A71-4B22-9A10-43CD43A618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 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as objects of other classes a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ed before their enclosing class objects (host ob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4222-D0BE-494A-8C85-28F1B3AD9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616" name=""/>
            <p:cNvGrpSpPr/>
            <p:nvPr/>
          </p:nvGrpSpPr>
          <p:grpSpPr>
            <a:xfrm>
              <a:off x="0" y="0"/>
              <a:ext cx="6705000" cy="326520"/>
              <a:chOff x="0" y="0"/>
              <a:chExt cx="670500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326520"/>
              <a:ext cx="6705000" cy="326520"/>
              <a:chOff x="0" y="326520"/>
              <a:chExt cx="6705000" cy="32652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53040"/>
              <a:ext cx="6705000" cy="326520"/>
              <a:chOff x="0" y="653040"/>
              <a:chExt cx="6705000" cy="32652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979560"/>
              <a:ext cx="6705000" cy="326520"/>
              <a:chOff x="0" y="979560"/>
              <a:chExt cx="6705000" cy="32652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1306080"/>
              <a:ext cx="6705000" cy="326520"/>
              <a:chOff x="0" y="1306080"/>
              <a:chExt cx="6705000" cy="32652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1632600"/>
              <a:ext cx="6705000" cy="326520"/>
              <a:chOff x="0" y="1632600"/>
              <a:chExt cx="6705000" cy="32652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0" y="1959120"/>
              <a:ext cx="6705000" cy="326520"/>
              <a:chOff x="0" y="1959120"/>
              <a:chExt cx="6705000" cy="326520"/>
            </a:xfrm>
          </p:grpSpPr>
          <p:sp>
            <p:nvSpPr>
              <p:cNvPr id="635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0" y="2286000"/>
              <a:ext cx="6705000" cy="326520"/>
              <a:chOff x="0" y="2286000"/>
              <a:chExt cx="6705000" cy="32652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2612520"/>
              <a:ext cx="6705000" cy="326520"/>
              <a:chOff x="0" y="2612520"/>
              <a:chExt cx="6705000" cy="32652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2939040"/>
              <a:ext cx="6705000" cy="326520"/>
              <a:chOff x="0" y="2939040"/>
              <a:chExt cx="6705000" cy="32652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date in month/day/year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3265560"/>
              <a:ext cx="6705000" cy="326520"/>
              <a:chOff x="0" y="3265560"/>
              <a:chExt cx="6705000" cy="32652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D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3592440"/>
              <a:ext cx="6705000" cy="326520"/>
              <a:chOff x="0" y="3592440"/>
              <a:chExt cx="6705000" cy="32652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3918960"/>
              <a:ext cx="6705000" cy="326520"/>
              <a:chOff x="0" y="3918960"/>
              <a:chExt cx="6705000" cy="32652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4245480"/>
              <a:ext cx="6705000" cy="326520"/>
              <a:chOff x="0" y="4245480"/>
              <a:chExt cx="6705000" cy="32652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31 based on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4572000"/>
              <a:ext cx="6705000" cy="326520"/>
              <a:chOff x="0" y="4572000"/>
              <a:chExt cx="6705000" cy="32652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y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4898520"/>
              <a:ext cx="6705000" cy="326520"/>
              <a:chOff x="0" y="4898520"/>
              <a:chExt cx="6705000" cy="32652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5225040"/>
              <a:ext cx="6705000" cy="326520"/>
              <a:chOff x="0" y="5225040"/>
              <a:chExt cx="6705000" cy="32652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tility function to test proper day for month a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5551560"/>
              <a:ext cx="6705000" cy="326520"/>
              <a:chOff x="0" y="5551560"/>
              <a:chExt cx="6705000" cy="32652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5878080"/>
              <a:ext cx="6705000" cy="326520"/>
              <a:chOff x="0" y="5878080"/>
              <a:chExt cx="6705000" cy="32652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6204600"/>
              <a:ext cx="6705000" cy="326520"/>
              <a:chOff x="0" y="6204600"/>
              <a:chExt cx="6705000" cy="32652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6531480"/>
              <a:ext cx="6705000" cy="326520"/>
              <a:chOff x="0" y="6531480"/>
              <a:chExt cx="6705000" cy="32652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6531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0" y="6531480"/>
                <a:ext cx="6704640" cy="326520"/>
                <a:chOff x="0" y="6531480"/>
                <a:chExt cx="6704640" cy="3265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999D-3772-4804-A82C-C26BA78179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3240"/>
            <a:ext cx="6705000" cy="6854760"/>
            <a:chOff x="0" y="3240"/>
            <a:chExt cx="6705000" cy="6854760"/>
          </a:xfrm>
        </p:grpSpPr>
        <p:grpSp>
          <p:nvGrpSpPr>
            <p:cNvPr id="683" name=""/>
            <p:cNvGrpSpPr/>
            <p:nvPr/>
          </p:nvGrpSpPr>
          <p:grpSpPr>
            <a:xfrm>
              <a:off x="0" y="3240"/>
              <a:ext cx="6705000" cy="236160"/>
              <a:chOff x="0" y="3240"/>
              <a:chExt cx="6705000" cy="23616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239400"/>
              <a:ext cx="6705000" cy="236160"/>
              <a:chOff x="0" y="239400"/>
              <a:chExt cx="6705000" cy="23616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0" y="475920"/>
              <a:ext cx="6705000" cy="236160"/>
              <a:chOff x="0" y="475920"/>
              <a:chExt cx="6705000" cy="236160"/>
            </a:xfrm>
          </p:grpSpPr>
          <p:sp>
            <p:nvSpPr>
              <p:cNvPr id="690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0" y="712080"/>
              <a:ext cx="6705000" cy="236160"/>
              <a:chOff x="0" y="712080"/>
              <a:chExt cx="6705000" cy="23616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0" y="948600"/>
              <a:ext cx="6705000" cy="236160"/>
              <a:chOff x="0" y="948600"/>
              <a:chExt cx="6705000" cy="23616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1184760"/>
              <a:ext cx="6705000" cy="236160"/>
              <a:chOff x="0" y="1184760"/>
              <a:chExt cx="6705000" cy="23616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1421280"/>
              <a:ext cx="6705000" cy="236160"/>
              <a:chOff x="0" y="1421280"/>
              <a:chExt cx="6705000" cy="2361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1657800"/>
              <a:ext cx="6705000" cy="236160"/>
              <a:chOff x="0" y="1657800"/>
              <a:chExt cx="6705000" cy="2361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1893960"/>
              <a:ext cx="6705000" cy="236160"/>
              <a:chOff x="0" y="1893960"/>
              <a:chExt cx="6705000" cy="2361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2130480"/>
              <a:ext cx="6705000" cy="236160"/>
              <a:chOff x="0" y="2130480"/>
              <a:chExt cx="6705000" cy="2361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: Confirm proper value for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366640"/>
              <a:ext cx="6705000" cy="236160"/>
              <a:chOff x="0" y="2366640"/>
              <a:chExt cx="6705000" cy="23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utility function checkDay to confirm pro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2603160"/>
              <a:ext cx="6705000" cy="236160"/>
              <a:chOff x="0" y="2603160"/>
              <a:chExt cx="6705000" cy="2361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ue for d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2839680"/>
              <a:ext cx="6705000" cy="236160"/>
              <a:chOff x="0" y="2839680"/>
              <a:chExt cx="6705000" cy="2361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3075840"/>
              <a:ext cx="6705000" cy="236160"/>
              <a:chOff x="0" y="3075840"/>
              <a:chExt cx="6705000" cy="2361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3312360"/>
              <a:ext cx="6705000" cy="236160"/>
              <a:chOff x="0" y="3312360"/>
              <a:chExt cx="6705000" cy="2361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n &gt; 0 &amp;&amp; mn &lt;= 12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validate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3548880"/>
              <a:ext cx="6705000" cy="236160"/>
              <a:chOff x="0" y="3548880"/>
              <a:chExt cx="6705000" cy="2361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3785040"/>
              <a:ext cx="6705000" cy="236160"/>
              <a:chOff x="0" y="3785040"/>
              <a:chExt cx="6705000" cy="2361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4021560"/>
              <a:ext cx="6705000" cy="236160"/>
              <a:chOff x="0" y="4021560"/>
              <a:chExt cx="6705000" cy="2361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4257720"/>
              <a:ext cx="6705000" cy="236160"/>
              <a:chOff x="0" y="4257720"/>
              <a:chExt cx="6705000" cy="2361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Month " &lt;&lt; mn &lt;&lt; " invalid. Set to month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94240"/>
              <a:ext cx="6705000" cy="236160"/>
              <a:chOff x="0" y="4494240"/>
              <a:chExt cx="6705000" cy="2361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4730760"/>
              <a:ext cx="6705000" cy="236160"/>
              <a:chOff x="0" y="4730760"/>
              <a:chExt cx="6705000" cy="2361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966920"/>
              <a:ext cx="6705000" cy="236160"/>
              <a:chOff x="0" y="4966920"/>
              <a:chExt cx="6705000" cy="2361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r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hould validate y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5203440"/>
              <a:ext cx="6705000" cy="236160"/>
              <a:chOff x="0" y="5203440"/>
              <a:chExt cx="6705000" cy="2361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checkDay( dy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idate the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5439600"/>
              <a:ext cx="6705000" cy="236160"/>
              <a:chOff x="0" y="5439600"/>
              <a:chExt cx="6705000" cy="2361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5676120"/>
              <a:ext cx="6705000" cy="236160"/>
              <a:chOff x="0" y="5676120"/>
              <a:chExt cx="6705000" cy="23616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con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5912640"/>
              <a:ext cx="6705000" cy="236160"/>
              <a:chOff x="0" y="5912640"/>
              <a:chExt cx="6705000" cy="23616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resting: a print with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6148800"/>
              <a:ext cx="6705000" cy="236160"/>
              <a:chOff x="0" y="6148800"/>
              <a:chExt cx="6705000" cy="23616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6385320"/>
              <a:ext cx="6705000" cy="236160"/>
              <a:chOff x="0" y="6385320"/>
              <a:chExt cx="6705000" cy="23616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6621840"/>
              <a:ext cx="6705000" cy="236160"/>
              <a:chOff x="0" y="6621840"/>
              <a:chExt cx="6705000" cy="23616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0" name=""/>
          <p:cNvGrpSpPr/>
          <p:nvPr/>
        </p:nvGrpSpPr>
        <p:grpSpPr>
          <a:xfrm>
            <a:off x="3657600" y="4876920"/>
            <a:ext cx="4037760" cy="838080"/>
            <a:chOff x="3657600" y="4876920"/>
            <a:chExt cx="4037760" cy="838080"/>
          </a:xfrm>
        </p:grpSpPr>
        <p:sp>
          <p:nvSpPr>
            <p:cNvPr id="771" name=""/>
            <p:cNvSpPr/>
            <p:nvPr/>
          </p:nvSpPr>
          <p:spPr>
            <a:xfrm flipH="1">
              <a:off x="3657600" y="5257800"/>
              <a:ext cx="2147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3640" y="4876920"/>
              <a:ext cx="2061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1C5A-3041-4DEA-BCDE-3AC4E58DC7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D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75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Date object in form  month/day/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/' &lt;&lt; day &lt;&lt; '/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~Dat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de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tility function to confirm proper day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d on month and yea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s the year 2000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sPerMonth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0, 31, 28, 31, 30, 31, 30, 31, 31, 30, 31, 30, 31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testDay &gt; 0 &amp;&amp; testDay &lt;= daysPerMonth[ month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onth == 2 &amp;&amp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ebruary: Check for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estDay == 29 &amp;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( year % 400 == 0 ||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( year % 4 == 0 &amp;&amp; year % 100 != 0 ) )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y " &lt;&lt; testDay &lt;&lt; " invalid. Set to day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ave object in consistent state if ba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2286000" y="609480"/>
            <a:ext cx="3733200" cy="838080"/>
            <a:chOff x="2286000" y="609480"/>
            <a:chExt cx="3733200" cy="838080"/>
          </a:xfrm>
        </p:grpSpPr>
        <p:sp>
          <p:nvSpPr>
            <p:cNvPr id="875" name=""/>
            <p:cNvSpPr/>
            <p:nvPr/>
          </p:nvSpPr>
          <p:spPr>
            <a:xfrm flipH="1">
              <a:off x="2286000" y="990360"/>
              <a:ext cx="1985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13000" y="609480"/>
              <a:ext cx="190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04B2-15C8-4072-9A2E-9B53EB214B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.1 Includ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variabl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0" y="0"/>
            <a:ext cx="6628680" cy="5105520"/>
            <a:chOff x="0" y="0"/>
            <a:chExt cx="6628680" cy="5105520"/>
          </a:xfrm>
        </p:grpSpPr>
        <p:grpSp>
          <p:nvGrpSpPr>
            <p:cNvPr id="879" name=""/>
            <p:cNvGrpSpPr/>
            <p:nvPr/>
          </p:nvGrpSpPr>
          <p:grpSpPr>
            <a:xfrm>
              <a:off x="0" y="0"/>
              <a:ext cx="6628680" cy="243000"/>
              <a:chOff x="0" y="0"/>
              <a:chExt cx="6628680" cy="24300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243000"/>
              <a:ext cx="6628680" cy="243000"/>
              <a:chOff x="0" y="243000"/>
              <a:chExt cx="6628680" cy="24300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486000"/>
              <a:ext cx="6628680" cy="243000"/>
              <a:chOff x="0" y="486000"/>
              <a:chExt cx="6628680" cy="24300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729360"/>
              <a:ext cx="6628680" cy="243000"/>
              <a:chOff x="0" y="729360"/>
              <a:chExt cx="6628680" cy="24300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972360"/>
              <a:ext cx="6628680" cy="243000"/>
              <a:chOff x="0" y="972360"/>
              <a:chExt cx="6628680" cy="24300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215360"/>
              <a:ext cx="6628680" cy="243000"/>
              <a:chOff x="0" y="1215360"/>
              <a:chExt cx="6628680" cy="24300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458360"/>
              <a:ext cx="6628680" cy="243000"/>
              <a:chOff x="0" y="1458360"/>
              <a:chExt cx="6628680" cy="24300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701720"/>
              <a:ext cx="6628680" cy="243000"/>
              <a:chOff x="0" y="1701720"/>
              <a:chExt cx="6628680" cy="24300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1944720"/>
              <a:ext cx="6628680" cy="243000"/>
              <a:chOff x="0" y="1944720"/>
              <a:chExt cx="6628680" cy="24300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188080"/>
              <a:ext cx="6628680" cy="243000"/>
              <a:chOff x="0" y="2188080"/>
              <a:chExt cx="6628680" cy="24300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31080"/>
              <a:ext cx="6628680" cy="243000"/>
              <a:chOff x="0" y="2431080"/>
              <a:chExt cx="6628680" cy="24300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74440"/>
              <a:ext cx="6628680" cy="243000"/>
              <a:chOff x="0" y="2674440"/>
              <a:chExt cx="6628680" cy="24300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917440"/>
              <a:ext cx="6628680" cy="243000"/>
              <a:chOff x="0" y="2917440"/>
              <a:chExt cx="6628680" cy="24300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160440"/>
              <a:ext cx="6628680" cy="243000"/>
              <a:chOff x="0" y="3160440"/>
              <a:chExt cx="6628680" cy="24300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403440"/>
              <a:ext cx="6628680" cy="243000"/>
              <a:chOff x="0" y="3403440"/>
              <a:chExt cx="6628680" cy="24300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646800"/>
              <a:ext cx="6628680" cy="243000"/>
              <a:chOff x="0" y="3646800"/>
              <a:chExt cx="6628680" cy="24300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889800"/>
              <a:ext cx="6628680" cy="243000"/>
              <a:chOff x="0" y="3889800"/>
              <a:chExt cx="6628680" cy="24300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irth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4133160"/>
              <a:ext cx="6628680" cy="243000"/>
              <a:chOff x="0" y="4133160"/>
              <a:chExt cx="6628680" cy="24300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re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376160"/>
              <a:ext cx="6628680" cy="243000"/>
              <a:chOff x="0" y="4376160"/>
              <a:chExt cx="6628680" cy="24300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619160"/>
              <a:ext cx="6628680" cy="243000"/>
              <a:chOff x="0" y="4619160"/>
              <a:chExt cx="6628680" cy="24300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862520"/>
              <a:ext cx="6628680" cy="243000"/>
              <a:chOff x="0" y="4862520"/>
              <a:chExt cx="6628680" cy="24300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8625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0" y="4862520"/>
                <a:ext cx="6628320" cy="243000"/>
                <a:chOff x="0" y="4862520"/>
                <a:chExt cx="6628320" cy="2430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4" name=""/>
          <p:cNvGrpSpPr/>
          <p:nvPr/>
        </p:nvGrpSpPr>
        <p:grpSpPr>
          <a:xfrm>
            <a:off x="2666520" y="4191120"/>
            <a:ext cx="3200760" cy="809280"/>
            <a:chOff x="2666520" y="4191120"/>
            <a:chExt cx="3200760" cy="809280"/>
          </a:xfrm>
        </p:grpSpPr>
        <p:sp>
          <p:nvSpPr>
            <p:cNvPr id="945" name=""/>
            <p:cNvSpPr/>
            <p:nvPr/>
          </p:nvSpPr>
          <p:spPr>
            <a:xfrm>
              <a:off x="3429000" y="4419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sition - including objects of other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2666520" y="4191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7249-3C39-4B96-805F-2BBA6B441D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.1 Use member-initializer syntax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949" name=""/>
            <p:cNvGrpSpPr/>
            <p:nvPr/>
          </p:nvGrpSpPr>
          <p:grpSpPr>
            <a:xfrm>
              <a:off x="0" y="0"/>
              <a:ext cx="6628680" cy="214200"/>
              <a:chOff x="0" y="0"/>
              <a:chExt cx="662868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214200"/>
              <a:ext cx="6628680" cy="214200"/>
              <a:chOff x="0" y="214200"/>
              <a:chExt cx="662868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428400"/>
              <a:ext cx="6628680" cy="214200"/>
              <a:chOff x="0" y="428400"/>
              <a:chExt cx="662868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642960"/>
              <a:ext cx="6628680" cy="214200"/>
              <a:chOff x="0" y="642960"/>
              <a:chExt cx="662868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857160"/>
              <a:ext cx="6628680" cy="214200"/>
              <a:chOff x="0" y="857160"/>
              <a:chExt cx="662868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1071360"/>
              <a:ext cx="6628680" cy="214200"/>
              <a:chOff x="0" y="1071360"/>
              <a:chExt cx="662868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1285560"/>
              <a:ext cx="6628680" cy="214200"/>
              <a:chOff x="0" y="1285560"/>
              <a:chExt cx="662868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1500120"/>
              <a:ext cx="6628680" cy="214200"/>
              <a:chOff x="0" y="1500120"/>
              <a:chExt cx="662868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1714320"/>
              <a:ext cx="6628680" cy="214200"/>
              <a:chOff x="0" y="1714320"/>
              <a:chExt cx="662868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928520"/>
              <a:ext cx="6628680" cy="214200"/>
              <a:chOff x="0" y="1928520"/>
              <a:chExt cx="662868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2143080"/>
              <a:ext cx="6628680" cy="214200"/>
              <a:chOff x="0" y="2143080"/>
              <a:chExt cx="662868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2357280"/>
              <a:ext cx="6628680" cy="214200"/>
              <a:chOff x="0" y="2357280"/>
              <a:chExt cx="662868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name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571480"/>
              <a:ext cx="6628680" cy="214200"/>
              <a:chOff x="0" y="2571480"/>
              <a:chExt cx="662868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yea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786040"/>
              <a:ext cx="6628680" cy="214200"/>
              <a:chOff x="0" y="2786040"/>
              <a:chExt cx="662868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3000240"/>
              <a:ext cx="6628680" cy="214200"/>
              <a:chOff x="0" y="3000240"/>
              <a:chExt cx="662868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irthDate( bmonth, bday, byear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14800"/>
              <a:ext cx="6628680" cy="214200"/>
              <a:chOff x="0" y="3214800"/>
              <a:chExt cx="662868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hireDate( hmonth, hday,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429000"/>
              <a:ext cx="6628680" cy="214200"/>
              <a:chOff x="0" y="3429000"/>
              <a:chExt cx="662868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643200"/>
              <a:ext cx="6628680" cy="214200"/>
              <a:chOff x="0" y="3643200"/>
              <a:chExt cx="662868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fname into fir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3857400"/>
              <a:ext cx="6628680" cy="214200"/>
              <a:chOff x="0" y="3857400"/>
              <a:chExt cx="662868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strlen( f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071960"/>
              <a:ext cx="6628680" cy="214200"/>
              <a:chOff x="0" y="4071960"/>
              <a:chExt cx="662868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286160"/>
              <a:ext cx="6628680" cy="214200"/>
              <a:chOff x="0" y="4286160"/>
              <a:chExt cx="662868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firstName, f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4500360"/>
              <a:ext cx="6628680" cy="214200"/>
              <a:chOff x="0" y="4500360"/>
              <a:chExt cx="662868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4714920"/>
              <a:ext cx="6628680" cy="214200"/>
              <a:chOff x="0" y="4714920"/>
              <a:chExt cx="662868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4929120"/>
              <a:ext cx="6628680" cy="214200"/>
              <a:chOff x="0" y="4929120"/>
              <a:chExt cx="662868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lname into la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5143320"/>
              <a:ext cx="6628680" cy="214200"/>
              <a:chOff x="0" y="5143320"/>
              <a:chExt cx="662868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strlen( l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5357880"/>
              <a:ext cx="6628680" cy="214200"/>
              <a:chOff x="0" y="5357880"/>
              <a:chExt cx="662868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5572080"/>
              <a:ext cx="6628680" cy="214200"/>
              <a:chOff x="0" y="5572080"/>
              <a:chExt cx="662868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lastName, l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5786280"/>
              <a:ext cx="6628680" cy="214200"/>
              <a:chOff x="0" y="5786280"/>
              <a:chExt cx="662868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6000840"/>
              <a:ext cx="6628680" cy="214200"/>
              <a:chOff x="0" y="6000840"/>
              <a:chExt cx="662868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6215040"/>
              <a:ext cx="6628680" cy="214200"/>
              <a:chOff x="0" y="6215040"/>
              <a:chExt cx="662868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6429240"/>
              <a:ext cx="6628680" cy="214200"/>
              <a:chOff x="0" y="6429240"/>
              <a:chExt cx="662868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firstName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6643800"/>
              <a:ext cx="6628680" cy="214200"/>
              <a:chOff x="0" y="6643800"/>
              <a:chExt cx="662868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3657240" y="5334120"/>
            <a:ext cx="3581280" cy="838080"/>
            <a:chOff x="3657240" y="5334120"/>
            <a:chExt cx="3581280" cy="838080"/>
          </a:xfrm>
        </p:grpSpPr>
        <p:sp>
          <p:nvSpPr>
            <p:cNvPr id="1046" name=""/>
            <p:cNvSpPr/>
            <p:nvPr/>
          </p:nvSpPr>
          <p:spPr>
            <a:xfrm flipH="1">
              <a:off x="3657240" y="571500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410080" y="533412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A764-043A-470F-A87B-FB75CB1EF0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50" name=""/>
            <p:cNvGrpSpPr/>
            <p:nvPr/>
          </p:nvGrpSpPr>
          <p:grpSpPr>
            <a:xfrm>
              <a:off x="0" y="0"/>
              <a:ext cx="6628680" cy="428400"/>
              <a:chOff x="0" y="0"/>
              <a:chExt cx="6628680" cy="42840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28400"/>
              <a:ext cx="6628680" cy="428400"/>
              <a:chOff x="0" y="428400"/>
              <a:chExt cx="6628680" cy="42840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856800"/>
              <a:ext cx="6628680" cy="428760"/>
              <a:chOff x="0" y="856800"/>
              <a:chExt cx="6628680" cy="4287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1285920"/>
              <a:ext cx="6628680" cy="428400"/>
              <a:chOff x="0" y="1285920"/>
              <a:chExt cx="6628680" cy="42840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lastName &lt;&lt; ", " &lt;&lt; firstName &lt;&lt; "\nHir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1714320"/>
              <a:ext cx="6628680" cy="428400"/>
              <a:chOff x="0" y="1714320"/>
              <a:chExt cx="6628680" cy="42840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ire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2143080"/>
              <a:ext cx="6628680" cy="428400"/>
              <a:chOff x="0" y="2143080"/>
              <a:chExt cx="6628680" cy="42840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Birth dat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2571480"/>
              <a:ext cx="6628680" cy="428760"/>
              <a:chOff x="0" y="2571480"/>
              <a:chExt cx="6628680" cy="4287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irth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3000240"/>
              <a:ext cx="6628680" cy="428400"/>
              <a:chOff x="0" y="3000240"/>
              <a:chExt cx="6628680" cy="42840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3429000"/>
              <a:ext cx="6628680" cy="428400"/>
              <a:chOff x="0" y="3429000"/>
              <a:chExt cx="6628680" cy="42840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3857400"/>
              <a:ext cx="6628680" cy="428400"/>
              <a:chOff x="0" y="3857400"/>
              <a:chExt cx="6628680" cy="428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4286160"/>
              <a:ext cx="6628680" cy="428760"/>
              <a:chOff x="0" y="4286160"/>
              <a:chExt cx="6628680" cy="4287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0" y="4714920"/>
              <a:ext cx="6628680" cy="428400"/>
              <a:chOff x="0" y="4714920"/>
              <a:chExt cx="6628680" cy="428400"/>
            </a:xfrm>
          </p:grpSpPr>
          <p:sp>
            <p:nvSpPr>
              <p:cNvPr id="1084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0" y="5143320"/>
              <a:ext cx="6628680" cy="428400"/>
              <a:chOff x="0" y="5143320"/>
              <a:chExt cx="6628680" cy="428400"/>
            </a:xfrm>
          </p:grpSpPr>
          <p:sp>
            <p:nvSpPr>
              <p:cNvPr id="1087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0" y="5572080"/>
              <a:ext cx="6628680" cy="428400"/>
              <a:chOff x="0" y="5572080"/>
              <a:chExt cx="6628680" cy="428400"/>
            </a:xfrm>
          </p:grpSpPr>
          <p:sp>
            <p:nvSpPr>
              <p:cNvPr id="1090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destructor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0" y="6000480"/>
              <a:ext cx="6628680" cy="428760"/>
              <a:chOff x="0" y="6000480"/>
              <a:chExt cx="6628680" cy="428760"/>
            </a:xfrm>
          </p:grpSpPr>
          <p:sp>
            <p:nvSpPr>
              <p:cNvPr id="1093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lastName &lt;&lt; ", " &lt;&lt; fir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0" y="6429240"/>
              <a:ext cx="6628680" cy="428400"/>
              <a:chOff x="0" y="6429240"/>
              <a:chExt cx="6628680" cy="428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8" name=""/>
          <p:cNvGrpSpPr/>
          <p:nvPr/>
        </p:nvGrpSpPr>
        <p:grpSpPr>
          <a:xfrm>
            <a:off x="2438280" y="1905120"/>
            <a:ext cx="4572000" cy="2076840"/>
            <a:chOff x="2438280" y="1905120"/>
            <a:chExt cx="4572000" cy="2076840"/>
          </a:xfrm>
        </p:grpSpPr>
        <p:sp>
          <p:nvSpPr>
            <p:cNvPr id="1099" name=""/>
            <p:cNvSpPr/>
            <p:nvPr/>
          </p:nvSpPr>
          <p:spPr>
            <a:xfrm>
              <a:off x="3505320" y="2057400"/>
              <a:ext cx="350496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will print whenev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is created or destroyed.  It can 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because 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quires no arguments, it is linked implicitly to the object that call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2438280" y="190512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657240" y="4724280"/>
            <a:ext cx="3581280" cy="838080"/>
            <a:chOff x="3657240" y="4724280"/>
            <a:chExt cx="3581280" cy="838080"/>
          </a:xfrm>
        </p:grpSpPr>
        <p:sp>
          <p:nvSpPr>
            <p:cNvPr id="1102" name=""/>
            <p:cNvSpPr/>
            <p:nvPr/>
          </p:nvSpPr>
          <p:spPr>
            <a:xfrm flipH="1">
              <a:off x="3657240" y="510516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72428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FE3E-4F6A-4FF7-824E-0739ED6601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6628680" cy="326520"/>
              <a:chOff x="0" y="0"/>
              <a:chExt cx="6628680" cy="326520"/>
            </a:xfrm>
          </p:grpSpPr>
          <p:sp>
            <p:nvSpPr>
              <p:cNvPr id="1106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fig07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0" y="326520"/>
              <a:ext cx="6628680" cy="326520"/>
              <a:chOff x="0" y="326520"/>
              <a:chExt cx="6628680" cy="326520"/>
            </a:xfrm>
          </p:grpSpPr>
          <p:sp>
            <p:nvSpPr>
              <p:cNvPr id="1109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composition: an object with member objec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0" y="653040"/>
              <a:ext cx="6628680" cy="326520"/>
              <a:chOff x="0" y="653040"/>
              <a:chExt cx="6628680" cy="326520"/>
            </a:xfrm>
          </p:grpSpPr>
          <p:sp>
            <p:nvSpPr>
              <p:cNvPr id="1112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0" y="979560"/>
              <a:ext cx="6628680" cy="326520"/>
              <a:chOff x="0" y="979560"/>
              <a:chExt cx="6628680" cy="326520"/>
            </a:xfrm>
          </p:grpSpPr>
          <p:sp>
            <p:nvSpPr>
              <p:cNvPr id="1115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0" y="1306080"/>
              <a:ext cx="6628680" cy="326520"/>
              <a:chOff x="0" y="1306080"/>
              <a:chExt cx="6628680" cy="326520"/>
            </a:xfrm>
          </p:grpSpPr>
          <p:sp>
            <p:nvSpPr>
              <p:cNvPr id="1118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0" y="1632600"/>
              <a:ext cx="6628680" cy="326520"/>
              <a:chOff x="0" y="1632600"/>
              <a:chExt cx="6628680" cy="326520"/>
            </a:xfrm>
          </p:grpSpPr>
          <p:sp>
            <p:nvSpPr>
              <p:cNvPr id="1121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0" y="1959120"/>
              <a:ext cx="6628680" cy="326520"/>
              <a:chOff x="0" y="1959120"/>
              <a:chExt cx="6628680" cy="326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0" y="2286000"/>
              <a:ext cx="6628680" cy="326520"/>
              <a:chOff x="0" y="2286000"/>
              <a:chExt cx="6628680" cy="326520"/>
            </a:xfrm>
          </p:grpSpPr>
          <p:sp>
            <p:nvSpPr>
              <p:cNvPr id="1127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0" y="2612520"/>
              <a:ext cx="6628680" cy="326520"/>
              <a:chOff x="0" y="2612520"/>
              <a:chExt cx="6628680" cy="326520"/>
            </a:xfrm>
          </p:grpSpPr>
          <p:sp>
            <p:nvSpPr>
              <p:cNvPr id="1130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0" y="2939040"/>
              <a:ext cx="6628680" cy="326520"/>
              <a:chOff x="0" y="2939040"/>
              <a:chExt cx="6628680" cy="326520"/>
            </a:xfrm>
          </p:grpSpPr>
          <p:sp>
            <p:nvSpPr>
              <p:cNvPr id="1133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0" y="3265560"/>
              <a:ext cx="6628680" cy="326520"/>
              <a:chOff x="0" y="3265560"/>
              <a:chExt cx="6628680" cy="326520"/>
            </a:xfrm>
          </p:grpSpPr>
          <p:sp>
            <p:nvSpPr>
              <p:cNvPr id="1136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0" y="3592440"/>
              <a:ext cx="6628680" cy="326520"/>
              <a:chOff x="0" y="3592440"/>
              <a:chExt cx="6628680" cy="32652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e( "Bob", "Jones", 7, 24, 1949, 3, 12, 1988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3918960"/>
              <a:ext cx="6628680" cy="326520"/>
              <a:chOff x="0" y="3918960"/>
              <a:chExt cx="6628680" cy="32652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245480"/>
              <a:ext cx="6628680" cy="326520"/>
              <a:chOff x="0" y="4245480"/>
              <a:chExt cx="6628680" cy="32652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4572000"/>
              <a:ext cx="6628680" cy="326520"/>
              <a:chOff x="0" y="4572000"/>
              <a:chExt cx="6628680" cy="32652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4898520"/>
              <a:ext cx="6628680" cy="326520"/>
              <a:chOff x="0" y="4898520"/>
              <a:chExt cx="6628680" cy="32652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5225040"/>
              <a:ext cx="6628680" cy="326520"/>
              <a:chOff x="0" y="5225040"/>
              <a:chExt cx="6628680" cy="32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est Date constructor with invalid value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5551560"/>
              <a:ext cx="6628680" cy="326520"/>
              <a:chOff x="0" y="5551560"/>
              <a:chExt cx="6628680" cy="32652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( 14, 35, 1994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valid Date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5878080"/>
              <a:ext cx="6628680" cy="326520"/>
              <a:chOff x="0" y="5878080"/>
              <a:chExt cx="6628680" cy="32652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204600"/>
              <a:ext cx="6628680" cy="326520"/>
              <a:chOff x="0" y="6204600"/>
              <a:chExt cx="6628680" cy="32652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6531480"/>
              <a:ext cx="6628680" cy="326520"/>
              <a:chOff x="0" y="6531480"/>
              <a:chExt cx="6628680" cy="32652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inval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et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2209320" y="2286000"/>
            <a:ext cx="4115160" cy="824040"/>
            <a:chOff x="2209320" y="2286000"/>
            <a:chExt cx="4115160" cy="824040"/>
          </a:xfrm>
        </p:grpSpPr>
        <p:sp>
          <p:nvSpPr>
            <p:cNvPr id="1170" name=""/>
            <p:cNvSpPr/>
            <p:nvPr/>
          </p:nvSpPr>
          <p:spPr>
            <a:xfrm flipH="1" flipV="1">
              <a:off x="2209320" y="2514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52680" y="2286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to be loaded; that file has the command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45CB-71DA-4D84-9FEA-50E478A183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6 through 8 discuss object-based programming (OB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9 and 10 discuss inheritance and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6C5E-4054-400D-A8C0-0D6B8CFE9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662940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constructor: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red: 3/12/1988  Birth date: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 Date constructor with invalid val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nth 14 invalid. Set to month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y 35 invalid. Set to day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destructor: 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7/24/19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2666520" y="456840"/>
            <a:ext cx="6096600" cy="3552840"/>
            <a:chOff x="2666520" y="456840"/>
            <a:chExt cx="6096600" cy="3552840"/>
          </a:xfrm>
        </p:grpSpPr>
        <p:sp>
          <p:nvSpPr>
            <p:cNvPr id="1175" name=""/>
            <p:cNvSpPr/>
            <p:nvPr/>
          </p:nvSpPr>
          <p:spPr>
            <a:xfrm>
              <a:off x="4267080" y="3429000"/>
              <a:ext cx="449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inner objects are created first and destroyed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 flipV="1">
              <a:off x="3809880" y="456840"/>
              <a:ext cx="24386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666520" y="31237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FC3A-1798-4E58-B234-C66D228B24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re not member functions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outside of clas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iendship is granted, not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ransitive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6420-63A6-4860-B80B-0DA2B15AF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the function prototype in the class that i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int myFunction( int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appear in the clas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class that is giving friend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granting friendship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Tw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ClassTw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appear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s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6276-0C85-467F-8ECD-DDB7079CD0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84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4" name="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1275" name="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1278" name="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1281" name="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1282" name="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EC24-0D59-4000-819E-30B514801A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1287" name="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1304" name="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5311-6915-4D4C-A2BF-D95475B998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0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1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1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3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3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4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4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1402" name="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1405" name="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81E6-C003-4E73-9B2F-59C44B8238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1412" name="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7CE2-B358-4256-88E2-3D66026F87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99B6-AE71-474C-B0AB-3D8168D018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C26B-480A-4311-908C-A69277F476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5C30-32ED-45B7-ABE0-716ABEB770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give objects permissions they need, no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at an object is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ttempt to modify the object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nitializes it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3CA2-5B5E-4051-8742-02625D2BD8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422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8" name="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1519" name="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1522" name="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1525" name="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77FB-26D7-40C0-AA6E-D328468C59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1530" name="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5F8C-8CB4-47FD-B0CA-0379BFF20F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3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5" name="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1636" name="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9A94-2115-4EE2-9149-16E0CEF5D0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1734" name="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E637-25AE-4A7A-97C6-00D1F2B74B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1829" name="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7721-186E-48C3-8609-4853C1E204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1835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1836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1839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1842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1845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1848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1851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1854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1857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1860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1863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7" name="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1868" name="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1869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1872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1875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1878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1881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1884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1887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1935" name="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1938" name="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1941" name="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2761-3B0B-44BE-8B81-B962D783F0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1945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C6E7-0F42-4F97-90E3-DADF850597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dynamic memory al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ior to C’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, calls its constructor and 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oys object and free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 = new TypeNam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, returns pointer (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000B-1AE9-4475-84F0-198B086705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structor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delete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thing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94E6-5C15-4EA6-AC64-E56BAAF0EB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61D4-2A8B-4270-A0C9-D21651AA60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modify their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specified in function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::getValue() const { retur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vateDataMember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 of a data member but doesn’t modify anything so is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/ Destructors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need to initialize variables, therefore modifying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290B-0C98-4CF1-AA55-8D3E9C9650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D331-582B-4E6D-8992-26E0E2E2A70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C0D2-C15C-4829-841A-FA867E5F26F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2024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2027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2030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2033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2036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2039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2043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6A2B-888F-4346-A2DE-D679CA64F1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4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4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05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05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05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06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06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6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7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4" name="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2145" name="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2149" name="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2153" name="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E413-DBF7-4782-B86F-20D8A4FE63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57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203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5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206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209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1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212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215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218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221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224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227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9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230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233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236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239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242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4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245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248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0" name="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2251" name="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2254" name="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9D20-2EB6-4545-A2B7-90AEE460A4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5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2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1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2352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2355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2358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2361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2364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2367" name="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2370" name="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2373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A048-2B32-456E-952C-BB7FD6A2269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2377" name="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5" name="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6" name="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2397" name="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F713-7207-4CBF-A08E-EBF2C069878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hide implementation details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tack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added (pushed) onto the bottom and removed (popped) from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does not care how stack is implemented, only wants LIFO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 worl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models for 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s an extensibl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cannot be changed, but new data types can be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118D-8268-4ADD-8611-B462E4029E3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rray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can make an ADT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incl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rang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bitrary range of subscripts instead of having to start wi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mpari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put/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know their si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expand dynamically to accommodate more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CDD7-B0A8-4149-9E64-44CE88E9689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String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provide a built in string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chanisms for creating and implementing a string abstract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available in ANSI/ISO standard (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EB71-F2EF-41E3-811E-0EA2FAAB71F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6628680" cy="237600"/>
              <a:chOff x="0" y="0"/>
              <a:chExt cx="6628680" cy="2376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237600"/>
              <a:ext cx="6628680" cy="220320"/>
              <a:chOff x="0" y="237600"/>
              <a:chExt cx="6628680" cy="22032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458280"/>
              <a:ext cx="6628680" cy="220680"/>
              <a:chOff x="0" y="458280"/>
              <a:chExt cx="6628680" cy="22068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678960"/>
              <a:ext cx="6628680" cy="220320"/>
              <a:chOff x="0" y="678960"/>
              <a:chExt cx="6628680" cy="22032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899640"/>
              <a:ext cx="6628680" cy="220320"/>
              <a:chOff x="0" y="899640"/>
              <a:chExt cx="6628680" cy="2203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120320"/>
              <a:ext cx="6628680" cy="220320"/>
              <a:chOff x="0" y="1120320"/>
              <a:chExt cx="6628680" cy="22032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341000"/>
              <a:ext cx="6628680" cy="220680"/>
              <a:chOff x="0" y="1341000"/>
              <a:chExt cx="6628680" cy="2206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561680"/>
              <a:ext cx="6628680" cy="220320"/>
              <a:chOff x="0" y="1561680"/>
              <a:chExt cx="6628680" cy="2203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782360"/>
              <a:ext cx="6628680" cy="220320"/>
              <a:chOff x="0" y="1782360"/>
              <a:chExt cx="6628680" cy="22032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2003040"/>
              <a:ext cx="6628680" cy="220320"/>
              <a:chOff x="0" y="2003040"/>
              <a:chExt cx="6628680" cy="22032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223720"/>
              <a:ext cx="6628680" cy="220320"/>
              <a:chOff x="0" y="2223720"/>
              <a:chExt cx="6628680" cy="22032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444400"/>
              <a:ext cx="6628680" cy="220680"/>
              <a:chOff x="0" y="2444400"/>
              <a:chExt cx="6628680" cy="2206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665080"/>
              <a:ext cx="6628680" cy="220320"/>
              <a:chOff x="0" y="2665080"/>
              <a:chExt cx="6628680" cy="22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885760"/>
              <a:ext cx="6628680" cy="220320"/>
              <a:chOff x="0" y="2885760"/>
              <a:chExt cx="6628680" cy="22032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106440"/>
              <a:ext cx="6628680" cy="220320"/>
              <a:chOff x="0" y="3106440"/>
              <a:chExt cx="6628680" cy="22032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327120"/>
              <a:ext cx="6628680" cy="220680"/>
              <a:chOff x="0" y="3327120"/>
              <a:chExt cx="6628680" cy="22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547800"/>
              <a:ext cx="6628680" cy="220320"/>
              <a:chOff x="0" y="3547800"/>
              <a:chExt cx="6628680" cy="22032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768480"/>
              <a:ext cx="6628680" cy="220320"/>
              <a:chOff x="0" y="3768480"/>
              <a:chExt cx="6628680" cy="2203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989160"/>
              <a:ext cx="6628680" cy="220320"/>
              <a:chOff x="0" y="3989160"/>
              <a:chExt cx="6628680" cy="22032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4209840"/>
              <a:ext cx="6628680" cy="220680"/>
              <a:chOff x="0" y="4209840"/>
              <a:chExt cx="6628680" cy="2206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4430520"/>
              <a:ext cx="6628680" cy="220320"/>
              <a:chOff x="0" y="4430520"/>
              <a:chExt cx="6628680" cy="22032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651200"/>
              <a:ext cx="6628680" cy="220320"/>
              <a:chOff x="0" y="4651200"/>
              <a:chExt cx="6628680" cy="2203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871880"/>
              <a:ext cx="6628680" cy="220320"/>
              <a:chOff x="0" y="4871880"/>
              <a:chExt cx="6628680" cy="22032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5092560"/>
              <a:ext cx="6628680" cy="220680"/>
              <a:chOff x="0" y="5092560"/>
              <a:chExt cx="6628680" cy="2206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5313240"/>
              <a:ext cx="6628680" cy="220320"/>
              <a:chOff x="0" y="5313240"/>
              <a:chExt cx="6628680" cy="22032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5533920"/>
              <a:ext cx="6628680" cy="220320"/>
              <a:chOff x="0" y="5533920"/>
              <a:chExt cx="6628680" cy="2203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754600"/>
              <a:ext cx="6628680" cy="220320"/>
              <a:chOff x="0" y="5754600"/>
              <a:chExt cx="6628680" cy="2203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975280"/>
              <a:ext cx="6628680" cy="220320"/>
              <a:chOff x="0" y="5975280"/>
              <a:chExt cx="6628680" cy="2203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6195960"/>
              <a:ext cx="6628680" cy="220680"/>
              <a:chOff x="0" y="6195960"/>
              <a:chExt cx="6628680" cy="2206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16640"/>
              <a:ext cx="6628680" cy="220320"/>
              <a:chOff x="0" y="6416640"/>
              <a:chExt cx="6628680" cy="2203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6637320"/>
              <a:ext cx="6628680" cy="220320"/>
              <a:chOff x="0" y="6637320"/>
              <a:chExt cx="6628680" cy="2203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505320" y="3276720"/>
            <a:ext cx="2971800" cy="1342440"/>
            <a:chOff x="3505320" y="3276720"/>
            <a:chExt cx="2971800" cy="1342440"/>
          </a:xfrm>
        </p:grpSpPr>
        <p:sp>
          <p:nvSpPr>
            <p:cNvPr id="198" name=""/>
            <p:cNvSpPr/>
            <p:nvPr/>
          </p:nvSpPr>
          <p:spPr>
            <a:xfrm>
              <a:off x="5257800" y="403848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14440" y="41148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05320" y="327672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52680" y="2286000"/>
            <a:ext cx="3124440" cy="3400200"/>
            <a:chOff x="3352680" y="2286000"/>
            <a:chExt cx="3124440" cy="3400200"/>
          </a:xfrm>
        </p:grpSpPr>
        <p:sp>
          <p:nvSpPr>
            <p:cNvPr id="202" name=""/>
            <p:cNvSpPr/>
            <p:nvPr/>
          </p:nvSpPr>
          <p:spPr>
            <a:xfrm>
              <a:off x="5257800" y="510552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038120" y="44953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352680" y="2286000"/>
              <a:ext cx="19814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4D03-6B8A-444F-BC47-BA3D8351BF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3 Example: Queue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waiting in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First in, firs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tems in a queue one at a time, from the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items from a queue one at a time, from the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hidden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s may not manipulate data structure direct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queue member functions can access intern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1B4E-CE3A-4336-87F8-AA924A8914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Classes and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lasses (collection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designed to hold collection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ervices such as insertion, deletion, searching, sorting, or testing an i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stacks, queues, trees and link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 objects (it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that returns the next item of a collection (or performs some action on the next ite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several iterators per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with multiple book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terator maintains its own “position”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further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14F9-CA08-48E8-82B1-BB57228E627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xy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hide implementation detail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hat knows 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 of the class being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use class’s services without giving access to class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class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lass definition only uses a pointer to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the need for including the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class before it is referen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To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D61D-1351-4452-B19D-DFDD00FD04C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orward class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415" name=""/>
            <p:cNvGrpSpPr/>
            <p:nvPr/>
          </p:nvGrpSpPr>
          <p:grpSpPr>
            <a:xfrm>
              <a:off x="0" y="0"/>
              <a:ext cx="6705000" cy="3428640"/>
              <a:chOff x="0" y="0"/>
              <a:chExt cx="6705000" cy="3428640"/>
            </a:xfrm>
          </p:grpSpPr>
          <p:grpSp>
            <p:nvGrpSpPr>
              <p:cNvPr id="2416" name=""/>
              <p:cNvGrpSpPr/>
              <p:nvPr/>
            </p:nvGrpSpPr>
            <p:grpSpPr>
              <a:xfrm>
                <a:off x="0" y="0"/>
                <a:ext cx="6705000" cy="285480"/>
                <a:chOff x="0" y="0"/>
                <a:chExt cx="6705000" cy="28548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mplementation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0" y="285480"/>
                <a:ext cx="6705000" cy="285480"/>
                <a:chOff x="0" y="285480"/>
                <a:chExt cx="6705000" cy="2854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0" y="571320"/>
                <a:ext cx="6705000" cy="285840"/>
                <a:chOff x="0" y="571320"/>
                <a:chExt cx="6705000" cy="28584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0" y="857160"/>
                <a:ext cx="6705000" cy="285480"/>
                <a:chOff x="0" y="857160"/>
                <a:chExt cx="6705000" cy="2854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0" y="1143000"/>
                <a:ext cx="6705000" cy="285480"/>
                <a:chOff x="0" y="1143000"/>
                <a:chExt cx="6705000" cy="28548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0" y="1428480"/>
                <a:ext cx="6705000" cy="285480"/>
                <a:chOff x="0" y="1428480"/>
                <a:chExt cx="6705000" cy="28548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4" name=""/>
              <p:cNvGrpSpPr/>
              <p:nvPr/>
            </p:nvGrpSpPr>
            <p:grpSpPr>
              <a:xfrm>
                <a:off x="0" y="1714320"/>
                <a:ext cx="6705000" cy="285840"/>
                <a:chOff x="0" y="1714320"/>
                <a:chExt cx="6705000" cy="285840"/>
              </a:xfrm>
            </p:grpSpPr>
            <p:sp>
              <p:nvSpPr>
                <p:cNvPr id="2435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7" name=""/>
              <p:cNvGrpSpPr/>
              <p:nvPr/>
            </p:nvGrpSpPr>
            <p:grpSpPr>
              <a:xfrm>
                <a:off x="0" y="2000160"/>
                <a:ext cx="6705000" cy="285480"/>
                <a:chOff x="0" y="2000160"/>
                <a:chExt cx="6705000" cy="28548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0" name=""/>
              <p:cNvGrpSpPr/>
              <p:nvPr/>
            </p:nvGrpSpPr>
            <p:grpSpPr>
              <a:xfrm>
                <a:off x="0" y="2286000"/>
                <a:ext cx="6705000" cy="285480"/>
                <a:chOff x="0" y="2286000"/>
                <a:chExt cx="6705000" cy="285480"/>
              </a:xfrm>
            </p:grpSpPr>
            <p:sp>
              <p:nvSpPr>
                <p:cNvPr id="2441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0" y="2571840"/>
                <a:ext cx="6705000" cy="285480"/>
                <a:chOff x="0" y="2571840"/>
                <a:chExt cx="6705000" cy="28548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0" y="2857320"/>
                <a:ext cx="6705000" cy="285840"/>
                <a:chOff x="0" y="2857320"/>
                <a:chExt cx="6705000" cy="28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0" y="3143160"/>
                <a:ext cx="6705000" cy="285480"/>
                <a:chOff x="0" y="3143160"/>
                <a:chExt cx="6705000" cy="285480"/>
              </a:xfrm>
            </p:grpSpPr>
            <p:sp>
              <p:nvSpPr>
                <p:cNvPr id="2450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2" name=""/>
            <p:cNvGrpSpPr/>
            <p:nvPr/>
          </p:nvGrpSpPr>
          <p:grpSpPr>
            <a:xfrm>
              <a:off x="0" y="3429000"/>
              <a:ext cx="6705000" cy="3429000"/>
              <a:chOff x="0" y="3429000"/>
              <a:chExt cx="6705000" cy="3429000"/>
            </a:xfrm>
          </p:grpSpPr>
          <p:grpSp>
            <p:nvGrpSpPr>
              <p:cNvPr id="2453" name=""/>
              <p:cNvGrpSpPr/>
              <p:nvPr/>
            </p:nvGrpSpPr>
            <p:grpSpPr>
              <a:xfrm>
                <a:off x="0" y="3429000"/>
                <a:ext cx="6705000" cy="244800"/>
                <a:chOff x="0" y="3429000"/>
                <a:chExt cx="6705000" cy="24480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0" y="3673800"/>
                <a:ext cx="6705000" cy="244800"/>
                <a:chOff x="0" y="3673800"/>
                <a:chExt cx="6705000" cy="244800"/>
              </a:xfrm>
            </p:grpSpPr>
            <p:sp>
              <p:nvSpPr>
                <p:cNvPr id="2457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0" y="3918600"/>
                <a:ext cx="6705000" cy="244800"/>
                <a:chOff x="0" y="3918600"/>
                <a:chExt cx="6705000" cy="24480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forward class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0" y="4163760"/>
                <a:ext cx="6705000" cy="244800"/>
                <a:chOff x="0" y="4163760"/>
                <a:chExt cx="6705000" cy="24480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5" name=""/>
              <p:cNvGrpSpPr/>
              <p:nvPr/>
            </p:nvGrpSpPr>
            <p:grpSpPr>
              <a:xfrm>
                <a:off x="0" y="4408560"/>
                <a:ext cx="6705000" cy="244800"/>
                <a:chOff x="0" y="4408560"/>
                <a:chExt cx="6705000" cy="24480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0" y="4653360"/>
                <a:ext cx="6705000" cy="244800"/>
                <a:chOff x="0" y="4653360"/>
                <a:chExt cx="6705000" cy="2448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0" y="4898520"/>
                <a:ext cx="6705000" cy="244800"/>
                <a:chOff x="0" y="4898520"/>
                <a:chExt cx="6705000" cy="244800"/>
              </a:xfrm>
            </p:grpSpPr>
            <p:sp>
              <p:nvSpPr>
                <p:cNvPr id="2472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4" name=""/>
              <p:cNvGrpSpPr/>
              <p:nvPr/>
            </p:nvGrpSpPr>
            <p:grpSpPr>
              <a:xfrm>
                <a:off x="0" y="5143680"/>
                <a:ext cx="6705000" cy="244800"/>
                <a:chOff x="0" y="5143680"/>
                <a:chExt cx="6705000" cy="24480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ame public interface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0" y="5388480"/>
                <a:ext cx="6705000" cy="244800"/>
                <a:chOff x="0" y="5388480"/>
                <a:chExt cx="6705000" cy="24480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0" name=""/>
              <p:cNvGrpSpPr/>
              <p:nvPr/>
            </p:nvGrpSpPr>
            <p:grpSpPr>
              <a:xfrm>
                <a:off x="0" y="5633280"/>
                <a:ext cx="6705000" cy="244800"/>
                <a:chOff x="0" y="5633280"/>
                <a:chExt cx="6705000" cy="24480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~Interface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3" name=""/>
              <p:cNvGrpSpPr/>
              <p:nvPr/>
            </p:nvGrpSpPr>
            <p:grpSpPr>
              <a:xfrm>
                <a:off x="0" y="5878080"/>
                <a:ext cx="6705000" cy="244800"/>
                <a:chOff x="0" y="5878080"/>
                <a:chExt cx="6705000" cy="24480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6" name=""/>
              <p:cNvGrpSpPr/>
              <p:nvPr/>
            </p:nvGrpSpPr>
            <p:grpSpPr>
              <a:xfrm>
                <a:off x="0" y="6123240"/>
                <a:ext cx="6705000" cy="244800"/>
                <a:chOff x="0" y="6123240"/>
                <a:chExt cx="6705000" cy="244800"/>
              </a:xfrm>
            </p:grpSpPr>
            <p:sp>
              <p:nvSpPr>
                <p:cNvPr id="2487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 *ptr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requires previou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9" name=""/>
              <p:cNvGrpSpPr/>
              <p:nvPr/>
            </p:nvGrpSpPr>
            <p:grpSpPr>
              <a:xfrm>
                <a:off x="0" y="6368040"/>
                <a:ext cx="6705000" cy="244800"/>
                <a:chOff x="0" y="6368040"/>
                <a:chExt cx="6705000" cy="244800"/>
              </a:xfrm>
            </p:grpSpPr>
            <p:sp>
              <p:nvSpPr>
                <p:cNvPr id="2490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orward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2" name=""/>
              <p:cNvGrpSpPr/>
              <p:nvPr/>
            </p:nvGrpSpPr>
            <p:grpSpPr>
              <a:xfrm>
                <a:off x="0" y="6613200"/>
                <a:ext cx="6705000" cy="244800"/>
                <a:chOff x="0" y="6613200"/>
                <a:chExt cx="6705000" cy="244800"/>
              </a:xfrm>
            </p:grpSpPr>
            <p:sp>
              <p:nvSpPr>
                <p:cNvPr id="2493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95" name=""/>
          <p:cNvGrpSpPr/>
          <p:nvPr/>
        </p:nvGrpSpPr>
        <p:grpSpPr>
          <a:xfrm>
            <a:off x="1752120" y="1828800"/>
            <a:ext cx="3886560" cy="990360"/>
            <a:chOff x="1752120" y="1828800"/>
            <a:chExt cx="3886560" cy="990360"/>
          </a:xfrm>
        </p:grpSpPr>
        <p:sp>
          <p:nvSpPr>
            <p:cNvPr id="2496" name=""/>
            <p:cNvSpPr/>
            <p:nvPr/>
          </p:nvSpPr>
          <p:spPr>
            <a:xfrm flipH="1">
              <a:off x="1752120" y="228600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590560" y="18288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we want to hi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1523520" y="2819520"/>
            <a:ext cx="3734280" cy="1066680"/>
            <a:chOff x="1523520" y="2819520"/>
            <a:chExt cx="3734280" cy="1066680"/>
          </a:xfrm>
        </p:grpSpPr>
        <p:sp>
          <p:nvSpPr>
            <p:cNvPr id="2499" name=""/>
            <p:cNvSpPr/>
            <p:nvPr/>
          </p:nvSpPr>
          <p:spPr>
            <a:xfrm flipH="1">
              <a:off x="1523520" y="312408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819520" y="28195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ward class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1828440" y="4495680"/>
            <a:ext cx="4953240" cy="1681200"/>
            <a:chOff x="1828440" y="4495680"/>
            <a:chExt cx="4953240" cy="1681200"/>
          </a:xfrm>
        </p:grpSpPr>
        <p:sp>
          <p:nvSpPr>
            <p:cNvPr id="2502" name=""/>
            <p:cNvSpPr/>
            <p:nvPr/>
          </p:nvSpPr>
          <p:spPr>
            <a:xfrm flipH="1">
              <a:off x="1828440" y="5181480"/>
              <a:ext cx="1523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200400" y="4495680"/>
              <a:ext cx="3581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same public interface a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uses a pointer to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This allows us to hide the implementation det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CC92-ECBA-4531-B0CA-E2D0E95B256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interface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50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506" name=""/>
            <p:cNvGrpSpPr/>
            <p:nvPr/>
          </p:nvGrpSpPr>
          <p:grpSpPr>
            <a:xfrm>
              <a:off x="0" y="0"/>
              <a:ext cx="6705000" cy="2971800"/>
              <a:chOff x="0" y="0"/>
              <a:chExt cx="6705000" cy="2971800"/>
            </a:xfrm>
          </p:grpSpPr>
          <p:grpSp>
            <p:nvGrpSpPr>
              <p:cNvPr id="2507" name=""/>
              <p:cNvGrpSpPr/>
              <p:nvPr/>
            </p:nvGrpSpPr>
            <p:grpSpPr>
              <a:xfrm>
                <a:off x="0" y="0"/>
                <a:ext cx="6705000" cy="198000"/>
                <a:chOff x="0" y="0"/>
                <a:chExt cx="6705000" cy="19800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0" name=""/>
              <p:cNvGrpSpPr/>
              <p:nvPr/>
            </p:nvGrpSpPr>
            <p:grpSpPr>
              <a:xfrm>
                <a:off x="0" y="198000"/>
                <a:ext cx="6705000" cy="198000"/>
                <a:chOff x="0" y="198000"/>
                <a:chExt cx="6705000" cy="198000"/>
              </a:xfrm>
            </p:grpSpPr>
            <p:sp>
              <p:nvSpPr>
                <p:cNvPr id="2511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Interfa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3" name=""/>
              <p:cNvGrpSpPr/>
              <p:nvPr/>
            </p:nvGrpSpPr>
            <p:grpSpPr>
              <a:xfrm>
                <a:off x="0" y="396000"/>
                <a:ext cx="6705000" cy="198000"/>
                <a:chOff x="0" y="396000"/>
                <a:chExt cx="6705000" cy="19800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6" name=""/>
              <p:cNvGrpSpPr/>
              <p:nvPr/>
            </p:nvGrpSpPr>
            <p:grpSpPr>
              <a:xfrm>
                <a:off x="0" y="594360"/>
                <a:ext cx="6705000" cy="198000"/>
                <a:chOff x="0" y="594360"/>
                <a:chExt cx="6705000" cy="198000"/>
              </a:xfrm>
            </p:grpSpPr>
            <p:sp>
              <p:nvSpPr>
                <p:cNvPr id="2517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mplementation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0" y="792360"/>
                <a:ext cx="6705000" cy="198000"/>
                <a:chOff x="0" y="792360"/>
                <a:chExt cx="6705000" cy="19800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0" y="990360"/>
                <a:ext cx="6705000" cy="198000"/>
                <a:chOff x="0" y="990360"/>
                <a:chExt cx="6705000" cy="19800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nterface::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0" y="1188720"/>
                <a:ext cx="6705000" cy="198000"/>
                <a:chOff x="0" y="1188720"/>
                <a:chExt cx="6705000" cy="19800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: ptr ( new Implementation( v ) ) {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8" name=""/>
              <p:cNvGrpSpPr/>
              <p:nvPr/>
            </p:nvGrpSpPr>
            <p:grpSpPr>
              <a:xfrm>
                <a:off x="0" y="1386720"/>
                <a:ext cx="6705000" cy="198000"/>
                <a:chOff x="0" y="1386720"/>
                <a:chExt cx="6705000" cy="19800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0" y="1584720"/>
                <a:ext cx="6705000" cy="198000"/>
                <a:chOff x="0" y="1584720"/>
                <a:chExt cx="6705000" cy="19800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s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0" y="1783080"/>
                <a:ext cx="6705000" cy="198000"/>
                <a:chOff x="0" y="1783080"/>
                <a:chExt cx="6705000" cy="19800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ptr-&gt;setValue( v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0" y="1981080"/>
                <a:ext cx="6705000" cy="198000"/>
                <a:chOff x="0" y="1981080"/>
                <a:chExt cx="6705000" cy="19800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0" name=""/>
              <p:cNvGrpSpPr/>
              <p:nvPr/>
            </p:nvGrpSpPr>
            <p:grpSpPr>
              <a:xfrm>
                <a:off x="0" y="2179440"/>
                <a:ext cx="6705000" cy="198000"/>
                <a:chOff x="0" y="2179440"/>
                <a:chExt cx="6705000" cy="198000"/>
              </a:xfrm>
            </p:grpSpPr>
            <p:sp>
              <p:nvSpPr>
                <p:cNvPr id="2541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g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3" name=""/>
              <p:cNvGrpSpPr/>
              <p:nvPr/>
            </p:nvGrpSpPr>
            <p:grpSpPr>
              <a:xfrm>
                <a:off x="0" y="2377440"/>
                <a:ext cx="6705000" cy="198000"/>
                <a:chOff x="0" y="2377440"/>
                <a:chExt cx="6705000" cy="19800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tr-&gt;getValue(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0" y="2575440"/>
                <a:ext cx="6705000" cy="198000"/>
                <a:chOff x="0" y="2575440"/>
                <a:chExt cx="6705000" cy="19800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0" y="2773800"/>
                <a:ext cx="6705000" cy="198000"/>
                <a:chOff x="0" y="2773800"/>
                <a:chExt cx="6705000" cy="19800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0" y="27738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1" name=""/>
                <p:cNvGrpSpPr/>
                <p:nvPr/>
              </p:nvGrpSpPr>
              <p:grpSpPr>
                <a:xfrm>
                  <a:off x="0" y="2773800"/>
                  <a:ext cx="6704640" cy="198000"/>
                  <a:chOff x="0" y="2773800"/>
                  <a:chExt cx="6704640" cy="198000"/>
                </a:xfrm>
              </p:grpSpPr>
              <p:sp>
                <p:nvSpPr>
                  <p:cNvPr id="2552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41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Interface::~Interface() { 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Times New Roman"/>
                      </a:rPr>
                      <a:t>delete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 ptr; 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54" name=""/>
            <p:cNvGrpSpPr/>
            <p:nvPr/>
          </p:nvGrpSpPr>
          <p:grpSpPr>
            <a:xfrm>
              <a:off x="0" y="2971800"/>
              <a:ext cx="6705000" cy="3886200"/>
              <a:chOff x="0" y="2971800"/>
              <a:chExt cx="6705000" cy="3886200"/>
            </a:xfrm>
          </p:grpSpPr>
          <p:grpSp>
            <p:nvGrpSpPr>
              <p:cNvPr id="2555" name=""/>
              <p:cNvGrpSpPr/>
              <p:nvPr/>
            </p:nvGrpSpPr>
            <p:grpSpPr>
              <a:xfrm>
                <a:off x="0" y="2971800"/>
                <a:ext cx="6705000" cy="194040"/>
                <a:chOff x="0" y="2971800"/>
                <a:chExt cx="6705000" cy="19404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fig07_10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8" name=""/>
              <p:cNvGrpSpPr/>
              <p:nvPr/>
            </p:nvGrpSpPr>
            <p:grpSpPr>
              <a:xfrm>
                <a:off x="0" y="3165840"/>
                <a:ext cx="6705000" cy="194040"/>
                <a:chOff x="0" y="3165840"/>
                <a:chExt cx="6705000" cy="19404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iding a class’s private data with a proxy clas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0" y="3360240"/>
                <a:ext cx="6705000" cy="194400"/>
                <a:chOff x="0" y="3360240"/>
                <a:chExt cx="6705000" cy="19440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0" y="3554640"/>
                <a:ext cx="6705000" cy="194040"/>
                <a:chOff x="0" y="3554640"/>
                <a:chExt cx="6705000" cy="1940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0" y="3749040"/>
                <a:ext cx="6705000" cy="194040"/>
                <a:chOff x="0" y="3749040"/>
                <a:chExt cx="6705000" cy="19404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0" y="3943080"/>
                <a:ext cx="6705000" cy="194040"/>
                <a:chOff x="0" y="3943080"/>
                <a:chExt cx="6705000" cy="19404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0" y="4137480"/>
                <a:ext cx="6705000" cy="194400"/>
                <a:chOff x="0" y="4137480"/>
                <a:chExt cx="6705000" cy="19440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0" y="4331880"/>
                <a:ext cx="6705000" cy="194040"/>
                <a:chOff x="0" y="4331880"/>
                <a:chExt cx="6705000" cy="19404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0" y="4526280"/>
                <a:ext cx="6705000" cy="194040"/>
                <a:chOff x="0" y="4526280"/>
                <a:chExt cx="6705000" cy="19404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0" y="4720320"/>
                <a:ext cx="6705000" cy="194040"/>
                <a:chOff x="0" y="4720320"/>
                <a:chExt cx="6705000" cy="19404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main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0" y="4914720"/>
                <a:ext cx="6705000" cy="194400"/>
                <a:chOff x="0" y="4914720"/>
                <a:chExt cx="6705000" cy="19440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0" y="5109120"/>
                <a:ext cx="6705000" cy="194040"/>
                <a:chOff x="0" y="5109120"/>
                <a:chExt cx="6705000" cy="19404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nterface i( 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0" y="5303520"/>
                <a:ext cx="6705000" cy="194040"/>
                <a:chOff x="0" y="5303520"/>
                <a:chExt cx="6705000" cy="19404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4" name=""/>
              <p:cNvGrpSpPr/>
              <p:nvPr/>
            </p:nvGrpSpPr>
            <p:grpSpPr>
              <a:xfrm>
                <a:off x="0" y="5497920"/>
                <a:ext cx="6705000" cy="194040"/>
                <a:chOff x="0" y="5497920"/>
                <a:chExt cx="6705000" cy="19404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0" y="5691960"/>
                <a:ext cx="6705000" cy="194400"/>
                <a:chOff x="0" y="5691960"/>
                <a:chExt cx="6705000" cy="19440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before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0" name=""/>
              <p:cNvGrpSpPr/>
              <p:nvPr/>
            </p:nvGrpSpPr>
            <p:grpSpPr>
              <a:xfrm>
                <a:off x="0" y="5886360"/>
                <a:ext cx="6705000" cy="194040"/>
                <a:chOff x="0" y="5886360"/>
                <a:chExt cx="6705000" cy="19404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.setValue( 1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0" y="6080760"/>
                <a:ext cx="6705000" cy="194040"/>
                <a:chOff x="0" y="6080760"/>
                <a:chExt cx="6705000" cy="19404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0" y="6275160"/>
                <a:ext cx="6705000" cy="194040"/>
                <a:chOff x="0" y="6275160"/>
                <a:chExt cx="6705000" cy="19404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after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0" y="6469200"/>
                <a:ext cx="6705000" cy="194040"/>
                <a:chOff x="0" y="6469200"/>
                <a:chExt cx="6705000" cy="19404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0" y="6663600"/>
                <a:ext cx="6705000" cy="194400"/>
                <a:chOff x="0" y="6663600"/>
                <a:chExt cx="6705000" cy="19440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15" name=""/>
          <p:cNvGrpSpPr/>
          <p:nvPr/>
        </p:nvGrpSpPr>
        <p:grpSpPr>
          <a:xfrm>
            <a:off x="1904760" y="837720"/>
            <a:ext cx="4952880" cy="2225520"/>
            <a:chOff x="1904760" y="837720"/>
            <a:chExt cx="4952880" cy="2225520"/>
          </a:xfrm>
        </p:grpSpPr>
        <p:sp>
          <p:nvSpPr>
            <p:cNvPr id="2616" name=""/>
            <p:cNvSpPr/>
            <p:nvPr/>
          </p:nvSpPr>
          <p:spPr>
            <a:xfrm>
              <a:off x="3162600" y="1752480"/>
              <a:ext cx="3695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member functions for 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It is the only file that has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 flipV="1">
              <a:off x="1904760" y="837720"/>
              <a:ext cx="1257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2514600" y="3568680"/>
            <a:ext cx="5410080" cy="1067400"/>
            <a:chOff x="2514600" y="3568680"/>
            <a:chExt cx="5410080" cy="1067400"/>
          </a:xfrm>
        </p:grpSpPr>
        <p:sp>
          <p:nvSpPr>
            <p:cNvPr id="2619" name=""/>
            <p:cNvSpPr/>
            <p:nvPr/>
          </p:nvSpPr>
          <p:spPr>
            <a:xfrm>
              <a:off x="3886200" y="3568680"/>
              <a:ext cx="4038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precompiled and given with th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lient cannot see the interactions between the proxy class and the proprietary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2514600" y="4254480"/>
              <a:ext cx="13716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2133360" y="5029200"/>
            <a:ext cx="5791320" cy="824040"/>
            <a:chOff x="2133360" y="5029200"/>
            <a:chExt cx="5791320" cy="824040"/>
          </a:xfrm>
        </p:grpSpPr>
        <p:sp>
          <p:nvSpPr>
            <p:cNvPr id="2622" name=""/>
            <p:cNvSpPr/>
            <p:nvPr/>
          </p:nvSpPr>
          <p:spPr>
            <a:xfrm>
              <a:off x="3124080" y="5029200"/>
              <a:ext cx="4800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heade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— no mention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The client never se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2133360" y="5410080"/>
              <a:ext cx="990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991B-08DB-4B3B-8D1B-C0A4750E9EA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25" name=""/>
          <p:cNvSpPr/>
          <p:nvPr/>
        </p:nvSpPr>
        <p:spPr>
          <a:xfrm>
            <a:off x="0" y="0"/>
            <a:ext cx="670572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5 before set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10 after set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7305-E077-40AD-A372-DF2A0DA92C6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552600"/>
            <a:ext cx="4419360" cy="1199880"/>
            <a:chOff x="1905120" y="552600"/>
            <a:chExt cx="4419360" cy="1199880"/>
          </a:xfrm>
        </p:grpSpPr>
        <p:sp>
          <p:nvSpPr>
            <p:cNvPr id="304" name=""/>
            <p:cNvSpPr/>
            <p:nvPr/>
          </p:nvSpPr>
          <p:spPr>
            <a:xfrm flipH="1">
              <a:off x="1905120" y="10666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14600" y="55260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is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it can be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E5F9-46EB-47CE-B62B-8678D1E072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keyword for 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08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2742840" y="762120"/>
            <a:ext cx="4953240" cy="656640"/>
            <a:chOff x="2742840" y="762120"/>
            <a:chExt cx="4953240" cy="656640"/>
          </a:xfrm>
        </p:grpSpPr>
        <p:sp>
          <p:nvSpPr>
            <p:cNvPr id="386" name=""/>
            <p:cNvSpPr/>
            <p:nvPr/>
          </p:nvSpPr>
          <p:spPr>
            <a:xfrm flipH="1" flipV="1">
              <a:off x="2742840" y="7621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280" y="838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function definition and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895480" y="3048120"/>
            <a:ext cx="4724640" cy="1981080"/>
            <a:chOff x="2895480" y="3048120"/>
            <a:chExt cx="4724640" cy="1981080"/>
          </a:xfrm>
        </p:grpSpPr>
        <p:sp>
          <p:nvSpPr>
            <p:cNvPr id="389" name=""/>
            <p:cNvSpPr/>
            <p:nvPr/>
          </p:nvSpPr>
          <p:spPr>
            <a:xfrm flipH="1">
              <a:off x="2895480" y="3657600"/>
              <a:ext cx="198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8320" y="30481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cannot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even if they don’t modify them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61B7-0DBA-4890-96E8-0A67DBC534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93" name="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fig0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952880" y="2743200"/>
            <a:ext cx="3886200" cy="1556640"/>
            <a:chOff x="4952880" y="2743200"/>
            <a:chExt cx="3886200" cy="1556640"/>
          </a:xfrm>
        </p:grpSpPr>
        <p:sp>
          <p:nvSpPr>
            <p:cNvPr id="461" name=""/>
            <p:cNvSpPr/>
            <p:nvPr/>
          </p:nvSpPr>
          <p:spPr>
            <a:xfrm flipH="1" flipV="1">
              <a:off x="5257800" y="3885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952880" y="2743200"/>
              <a:ext cx="1067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19920" y="396252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errors gener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C6D0-5826-4A59-B6D2-6B7DAC180D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 increment in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modified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::Increment( int c, int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: increment(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count = c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 increment( i 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itializes increm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data members can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ferences must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member initializ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a-separated list after the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E347-19EE-4D8A-8FD3-E4F7021809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4:29:36Z</dcterms:created>
  <dc:creator>Deitel &amp; Associates, Inc.</dc:creator>
  <dc:description/>
  <dc:language>en-US</dc:language>
  <cp:lastModifiedBy>Antonella Esposito</cp:lastModifiedBy>
  <dcterms:modified xsi:type="dcterms:W3CDTF">2001-01-12T10:43:15Z</dcterms:modified>
  <cp:revision>494</cp:revision>
  <dc:subject/>
  <dc:title>PowerPoint Presentation</dc:title>
</cp:coreProperties>
</file>