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62B0-2FDB-4B38-A733-01D3C85C1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42D8-9BBC-41B3-8C20-81D125ED3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EF94-A9BE-48E9-ACDF-0917344E7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81BB-1B69-46B7-9C0F-49FDB7BF5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222D-2CC1-447B-BA7A-3B1D32B9C5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9DFE-6C6E-4ED9-A039-8681D2C79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36EC-77E5-4013-811E-7C21F993C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B386-4882-4218-B044-18C3F2F4A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1907-3771-4B32-918D-D4D80E26C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36CF-87B6-4F6D-9C6C-946787EA1F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871B-3E89-4EA8-A289-B8D4DC3FA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A58A-85B3-4305-A4C3-9F5FEF016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63A7-3DF3-479D-99A2-76FEF7BA40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F1A6-0BE4-4454-9016-AAB69D0E9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9C3C-8BE9-4EDD-8E09-B6ABC8AA1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6A8D-97B4-47C0-83C5-B24D6AED8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A24C-DF51-4D65-96CD-6824CF2A1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93A0-F4EA-4583-A5A8-25276C42A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9D34-F5CC-4105-B808-71E43CC37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C160-862B-4A88-8BEE-7231FE4BE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A0FE-45CB-42E2-96B8-8C226C44A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D942-4D94-4D8D-93A3-5174F32BD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2B65-C74C-4E41-95F2-2DDE3C027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DE55-D415-42EC-8F42-DC6A6886F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45E0-019E-4301-A478-C57BE9A4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B5C4-1574-456B-B0A8-9797AA4B6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dentifying a Class's Behavi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591D-513F-4BB0-8994-8AA7EF9C3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_12: fig04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reating character arrays as str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tr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tring1 is: " &lt;&lt; string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2 is: " &lt;&lt; string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1 with spaces between characters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1[ i ]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s "ther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ring1 is: " &lt;&lt; string1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0" y="548784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733920" y="3885840"/>
            <a:ext cx="4114800" cy="824400"/>
            <a:chOff x="3733920" y="3885840"/>
            <a:chExt cx="4114800" cy="824400"/>
          </a:xfrm>
        </p:grpSpPr>
        <p:sp>
          <p:nvSpPr>
            <p:cNvPr id="360" name=""/>
            <p:cNvSpPr/>
            <p:nvPr/>
          </p:nvSpPr>
          <p:spPr>
            <a:xfrm>
              <a:off x="5486400" y="38862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tring elements are referenced like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733920" y="388584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28800" y="609480"/>
            <a:ext cx="4876200" cy="3581640"/>
            <a:chOff x="1828800" y="609480"/>
            <a:chExt cx="4876200" cy="3581640"/>
          </a:xfrm>
        </p:grpSpPr>
        <p:sp>
          <p:nvSpPr>
            <p:cNvPr id="363" name=""/>
            <p:cNvSpPr/>
            <p:nvPr/>
          </p:nvSpPr>
          <p:spPr>
            <a:xfrm>
              <a:off x="4592160" y="609480"/>
              <a:ext cx="211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ted strings are separated by whitespace characters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there"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yed in the buf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990720"/>
              <a:ext cx="2763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28800" y="1066680"/>
              <a:ext cx="276336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B3C7-D357-431E-A7ED-5AB6666EAE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name without any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function call would resem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is usually passed to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the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 by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 3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62E3-C5A6-47F1-9DF6-324EE923C2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D205-2128-4B94-B140-44069FE1D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function to take in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Modify the array (call by referenc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7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4: fig04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assing arrays and individual array elements to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ppears st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a[ arraySize ] = { 0, 1, 2, 3, 4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ffects of passing entire array call-by-referenc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s of the original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a passe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arraySize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s of the modified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2285640" y="1447920"/>
            <a:ext cx="4420080" cy="1371600"/>
            <a:chOff x="2285640" y="1447920"/>
            <a:chExt cx="4420080" cy="1371600"/>
          </a:xfrm>
        </p:grpSpPr>
        <p:grpSp>
          <p:nvGrpSpPr>
            <p:cNvPr id="466" name=""/>
            <p:cNvGrpSpPr/>
            <p:nvPr/>
          </p:nvGrpSpPr>
          <p:grpSpPr>
            <a:xfrm>
              <a:off x="2285640" y="1447920"/>
              <a:ext cx="4420080" cy="1067400"/>
              <a:chOff x="2285640" y="1447920"/>
              <a:chExt cx="4420080" cy="1067400"/>
            </a:xfrm>
          </p:grpSpPr>
          <p:sp>
            <p:nvSpPr>
              <p:cNvPr id="467" name=""/>
              <p:cNvSpPr/>
              <p:nvPr/>
            </p:nvSpPr>
            <p:spPr>
              <a:xfrm>
                <a:off x="3962520" y="1447920"/>
                <a:ext cx="274320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unctions can modify entire arrays.  Individual array elements are not modified by default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285640" y="1676520"/>
                <a:ext cx="16765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H="1">
              <a:off x="2742840" y="21337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971440" y="2743200"/>
            <a:ext cx="3353040" cy="809280"/>
            <a:chOff x="2971440" y="2743200"/>
            <a:chExt cx="3353040" cy="809280"/>
          </a:xfrm>
        </p:grpSpPr>
        <p:sp>
          <p:nvSpPr>
            <p:cNvPr id="471" name=""/>
            <p:cNvSpPr/>
            <p:nvPr/>
          </p:nvSpPr>
          <p:spPr>
            <a:xfrm>
              <a:off x="4038480" y="2971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parameter name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2971440" y="27432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33560" y="4724280"/>
            <a:ext cx="5105520" cy="1828800"/>
            <a:chOff x="3733560" y="4724280"/>
            <a:chExt cx="5105520" cy="1828800"/>
          </a:xfrm>
        </p:grpSpPr>
        <p:sp>
          <p:nvSpPr>
            <p:cNvPr id="474" name=""/>
            <p:cNvSpPr/>
            <p:nvPr/>
          </p:nvSpPr>
          <p:spPr>
            <a:xfrm flipH="1" flipV="1">
              <a:off x="3733560" y="4724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733560" y="548640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4952880"/>
              <a:ext cx="4572000" cy="1110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original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1  2  3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modified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2  4  6 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467F-9742-427F-A774-35D6A6D8F2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an element (call by valu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change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ffects of passing array element call-by-value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 of a[3] is " &lt;&lt; a[ 3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a[3] is " &lt;&lt; a[ 3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Array, "b" points to th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"a" in memor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OfArr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OfArray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Element, "e" is a local copy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element a[ 3 ] passed from ma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in modifyElement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e *= 2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3733920" y="2514600"/>
            <a:ext cx="4800600" cy="1295280"/>
            <a:chOff x="3733920" y="2514600"/>
            <a:chExt cx="4800600" cy="1295280"/>
          </a:xfrm>
        </p:grpSpPr>
        <p:sp>
          <p:nvSpPr>
            <p:cNvPr id="570" name=""/>
            <p:cNvSpPr/>
            <p:nvPr/>
          </p:nvSpPr>
          <p:spPr>
            <a:xfrm flipH="1">
              <a:off x="3733920" y="289548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51460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ameter names required in function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09520" y="1676160"/>
            <a:ext cx="5105880" cy="4419720"/>
            <a:chOff x="3809520" y="1676160"/>
            <a:chExt cx="5105880" cy="4419720"/>
          </a:xfrm>
        </p:grpSpPr>
        <p:grpSp>
          <p:nvGrpSpPr>
            <p:cNvPr id="573" name=""/>
            <p:cNvGrpSpPr/>
            <p:nvPr/>
          </p:nvGrpSpPr>
          <p:grpSpPr>
            <a:xfrm>
              <a:off x="3962520" y="1676160"/>
              <a:ext cx="4952880" cy="3903120"/>
              <a:chOff x="3962520" y="1676160"/>
              <a:chExt cx="4952880" cy="390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43400" y="4191120"/>
                <a:ext cx="4572000" cy="1388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ffects of passing array element call-by-valu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alue in modifyElement is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962520" y="1676160"/>
                <a:ext cx="137160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>
              <a:off x="3809520" y="5562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03EA-043E-4BEB-9353-352C7F50E6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678168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-by-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-by-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8BEB-9E32-4533-838F-369C2C831B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5286-15F4-4B70-8798-0D66602793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2057400"/>
            <a:ext cx="60984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2438280"/>
            <a:ext cx="60948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51AA-15CD-4BC8-B91C-5F28DD66B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49F6-C0B3-427F-8B61-17773AEAC2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-6610320"/>
            <a:ext cx="9144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90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7: fig04_1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introduces the topic of survey data analysi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t computes the mean, median, and mode of th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454400"/>
              <a:ext cx="6780960" cy="207720"/>
              <a:chOff x="0" y="1454400"/>
              <a:chExt cx="6780960" cy="20772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285640"/>
              <a:ext cx="6780960" cy="207720"/>
              <a:chOff x="0" y="2285640"/>
              <a:chExt cx="6780960" cy="20772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sponseSize = 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4987440"/>
              <a:ext cx="6780960" cy="207720"/>
              <a:chOff x="0" y="4987440"/>
              <a:chExt cx="6780960" cy="20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ponse[ response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818680"/>
              <a:ext cx="6780960" cy="207720"/>
              <a:chOff x="0" y="5818680"/>
              <a:chExt cx="6780960" cy="20772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DAC2-E71D-4F7C-AB65-09F8CC3FF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-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, pointer-based arr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, arrays as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AC36-AC13-496B-92E3-649B21A44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********\n  Mean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array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5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5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6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f data items (" &lt;&lt; array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). The mean value for\nthis run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otal &lt;&lt; " / " &lt;&lt; arraySize &lt;&lt; "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4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arraySize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Median\n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1B5C-A2C0-4E40-8402-8B32B81437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795" name=""/>
            <p:cNvGrpSpPr/>
            <p:nvPr/>
          </p:nvGrpSpPr>
          <p:grpSpPr>
            <a:xfrm>
              <a:off x="0" y="0"/>
              <a:ext cx="6705000" cy="244800"/>
              <a:chOff x="0" y="0"/>
              <a:chExt cx="6705000" cy="24480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unsorted array of responses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244800"/>
              <a:ext cx="6705000" cy="244800"/>
              <a:chOff x="0" y="244800"/>
              <a:chExt cx="6705000" cy="24480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489600"/>
              <a:ext cx="6705000" cy="244800"/>
              <a:chOff x="0" y="489600"/>
              <a:chExt cx="6705000" cy="24480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734760"/>
              <a:ext cx="6705000" cy="244800"/>
              <a:chOff x="0" y="734760"/>
              <a:chExt cx="6705000" cy="24480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979560"/>
              <a:ext cx="6705000" cy="244800"/>
              <a:chOff x="0" y="979560"/>
              <a:chExt cx="6705000" cy="24480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sorted array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1224360"/>
              <a:ext cx="6705000" cy="244800"/>
              <a:chOff x="0" y="1224360"/>
              <a:chExt cx="6705000" cy="24480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1469520"/>
              <a:ext cx="6705000" cy="244800"/>
              <a:chOff x="0" y="1469520"/>
              <a:chExt cx="6705000" cy="24480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median is element " &lt;&lt; size /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1714320"/>
              <a:ext cx="6705000" cy="244800"/>
              <a:chOff x="0" y="1714320"/>
              <a:chExt cx="6705000" cy="24480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f\nthe sorted " &lt;&lt; 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1959480"/>
              <a:ext cx="6705000" cy="244800"/>
              <a:chOff x="0" y="1959480"/>
              <a:chExt cx="6705000" cy="24480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element array.\nFor this run the media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2204280"/>
              <a:ext cx="6705000" cy="244800"/>
              <a:chOff x="0" y="2204280"/>
              <a:chExt cx="6705000" cy="24480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answer[ size / 2 ]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2449080"/>
              <a:ext cx="6705000" cy="244800"/>
              <a:chOff x="0" y="2449080"/>
              <a:chExt cx="6705000" cy="24480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2694240"/>
              <a:ext cx="6705000" cy="244800"/>
              <a:chOff x="0" y="2694240"/>
              <a:chExt cx="6705000" cy="24480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2939040"/>
              <a:ext cx="6705000" cy="244800"/>
              <a:chOff x="0" y="2939040"/>
              <a:chExt cx="6705000" cy="24480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3183840"/>
              <a:ext cx="6705000" cy="244800"/>
              <a:chOff x="0" y="3183840"/>
              <a:chExt cx="6705000" cy="24480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3429000"/>
              <a:ext cx="6705000" cy="244800"/>
              <a:chOff x="0" y="3429000"/>
              <a:chExt cx="6705000" cy="24480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3673800"/>
              <a:ext cx="6705000" cy="244800"/>
              <a:chOff x="0" y="3673800"/>
              <a:chExt cx="6705000" cy="24480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3918960"/>
              <a:ext cx="6705000" cy="244800"/>
              <a:chOff x="0" y="3918960"/>
              <a:chExt cx="6705000" cy="24480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 Mode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4163760"/>
              <a:ext cx="6705000" cy="244800"/>
              <a:chOff x="0" y="4163760"/>
              <a:chExt cx="6705000" cy="24480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4408560"/>
              <a:ext cx="6705000" cy="244800"/>
              <a:chOff x="0" y="4408560"/>
              <a:chExt cx="6705000" cy="2448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4653360"/>
              <a:ext cx="6705000" cy="244800"/>
              <a:chOff x="0" y="4653360"/>
              <a:chExt cx="6705000" cy="24480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4898520"/>
              <a:ext cx="6705000" cy="244800"/>
              <a:chOff x="0" y="4898520"/>
              <a:chExt cx="6705000" cy="24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5143320"/>
              <a:ext cx="6705000" cy="244800"/>
              <a:chOff x="0" y="5143320"/>
              <a:chExt cx="6705000" cy="24480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5388480"/>
              <a:ext cx="6705000" cy="244800"/>
              <a:chOff x="0" y="5388480"/>
              <a:chExt cx="6705000" cy="24480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5633280"/>
              <a:ext cx="6705000" cy="244800"/>
              <a:chOff x="0" y="5633280"/>
              <a:chExt cx="6705000" cy="24480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5878440"/>
              <a:ext cx="6705000" cy="244800"/>
              <a:chOff x="0" y="5878440"/>
              <a:chExt cx="6705000" cy="24480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Response"&lt;&lt; setw( 11 ) &lt;&lt; "Frequency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6123240"/>
              <a:ext cx="6705000" cy="244800"/>
              <a:chOff x="0" y="6123240"/>
              <a:chExt cx="6705000" cy="2448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9 ) &lt;&lt; "Histogram\n\n" &lt;&lt; setw( 5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6368040"/>
              <a:ext cx="6705000" cy="244800"/>
              <a:chOff x="0" y="6368040"/>
              <a:chExt cx="6705000" cy="24480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1    1    2    2\n" &lt;&lt; setw( 56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6612840"/>
              <a:ext cx="6705000" cy="244800"/>
              <a:chOff x="0" y="6612840"/>
              <a:chExt cx="6705000" cy="24480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5    0    5    0    5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438280" y="4803840"/>
            <a:ext cx="4724280" cy="1067400"/>
            <a:chOff x="2438280" y="4803840"/>
            <a:chExt cx="4724280" cy="1067400"/>
          </a:xfrm>
        </p:grpSpPr>
        <p:sp>
          <p:nvSpPr>
            <p:cNvPr id="880" name=""/>
            <p:cNvSpPr/>
            <p:nvPr/>
          </p:nvSpPr>
          <p:spPr>
            <a:xfrm>
              <a:off x="3733560" y="480384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438280" y="495612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1629-2390-4F1C-B541-E4CC83621C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8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8 ) &lt;&lt; rating &lt;&lt; setw( 1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freq[ rating ] &lt;&lt; "       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'*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For this run the mode is " &lt;&lt; mode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which occurred " &lt;&lt; largest &lt;&lt; " times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361960" y="3067200"/>
            <a:ext cx="4648320" cy="580680"/>
            <a:chOff x="2361960" y="3067200"/>
            <a:chExt cx="4648320" cy="580680"/>
          </a:xfrm>
        </p:grpSpPr>
        <p:sp>
          <p:nvSpPr>
            <p:cNvPr id="960" name=""/>
            <p:cNvSpPr/>
            <p:nvPr/>
          </p:nvSpPr>
          <p:spPr>
            <a:xfrm>
              <a:off x="3809880" y="3067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361960" y="3123720"/>
              <a:ext cx="14475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0F47-A2EF-44B5-BCBB-D856D06F7C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64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2 ) &lt;&lt;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0" y="6531480"/>
                <a:ext cx="6780600" cy="326520"/>
                <a:chOff x="0" y="6531480"/>
                <a:chExt cx="6780600" cy="3265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2971800" y="1676160"/>
            <a:ext cx="4495680" cy="657000"/>
            <a:chOff x="2971800" y="1676160"/>
            <a:chExt cx="4495680" cy="657000"/>
          </a:xfrm>
        </p:grpSpPr>
        <p:sp>
          <p:nvSpPr>
            <p:cNvPr id="1030" name=""/>
            <p:cNvSpPr/>
            <p:nvPr/>
          </p:nvSpPr>
          <p:spPr>
            <a:xfrm>
              <a:off x="4267080" y="1752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971800" y="167616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90B6-757E-4655-A8AB-4CAC935A3F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6781680" cy="575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BB52-62B9-4AF3-99B5-F93C8FC72E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678168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B5C8-6B90-4278-A7CA-4387EF5B7E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on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, repeat search through the fir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, repeat search through the la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eps, where 2^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&gt; #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6019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2A74-F0C5-41C8-BC63-3B81A6746C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- tables with rows,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14400" y="2057400"/>
            <a:ext cx="6124680" cy="973080"/>
            <a:chOff x="914400" y="2057400"/>
            <a:chExt cx="6124680" cy="973080"/>
          </a:xfrm>
        </p:grpSpPr>
        <p:sp>
          <p:nvSpPr>
            <p:cNvPr id="1043" name=""/>
            <p:cNvSpPr/>
            <p:nvPr/>
          </p:nvSpPr>
          <p:spPr>
            <a:xfrm>
              <a:off x="914400" y="2305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2573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14400" y="2841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997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101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05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3128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797120" y="2227680"/>
              <a:ext cx="1310400" cy="802800"/>
              <a:chOff x="1797120" y="2227680"/>
              <a:chExt cx="1310400" cy="802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797120" y="2227680"/>
                <a:ext cx="1310400" cy="267480"/>
                <a:chOff x="1797120" y="2227680"/>
                <a:chExt cx="1310400" cy="2674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971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8504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797120" y="2495160"/>
                <a:ext cx="1310400" cy="267480"/>
                <a:chOff x="1797120" y="2495160"/>
                <a:chExt cx="1310400" cy="2674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7971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504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1797120" y="2763000"/>
                <a:ext cx="1310400" cy="267480"/>
                <a:chOff x="1797120" y="2763000"/>
                <a:chExt cx="1310400" cy="2674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17971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8504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" name=""/>
            <p:cNvGrpSpPr/>
            <p:nvPr/>
          </p:nvGrpSpPr>
          <p:grpSpPr>
            <a:xfrm>
              <a:off x="3107520" y="2227680"/>
              <a:ext cx="1310400" cy="802800"/>
              <a:chOff x="3107520" y="2227680"/>
              <a:chExt cx="1310400" cy="8028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107520" y="2227680"/>
                <a:ext cx="1310400" cy="267480"/>
                <a:chOff x="3107520" y="2227680"/>
                <a:chExt cx="1310400" cy="2674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1075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1608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07520" y="2495160"/>
                <a:ext cx="1310400" cy="267480"/>
                <a:chOff x="3107520" y="2495160"/>
                <a:chExt cx="1310400" cy="2674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1075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1608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107520" y="2763000"/>
                <a:ext cx="1310400" cy="267480"/>
                <a:chOff x="3107520" y="2763000"/>
                <a:chExt cx="1310400" cy="2674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1075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1608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4418280" y="2227680"/>
              <a:ext cx="1310400" cy="802800"/>
              <a:chOff x="4418280" y="2227680"/>
              <a:chExt cx="1310400" cy="80280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4418280" y="2227680"/>
                <a:ext cx="1310400" cy="267480"/>
                <a:chOff x="4418280" y="2227680"/>
                <a:chExt cx="1310400" cy="2674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44182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71560" y="2266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418280" y="2495160"/>
                <a:ext cx="1310400" cy="267480"/>
                <a:chOff x="4418280" y="2495160"/>
                <a:chExt cx="1310400" cy="2674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4182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71560" y="2533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418280" y="2763000"/>
                <a:ext cx="1310400" cy="267480"/>
                <a:chOff x="4418280" y="2763000"/>
                <a:chExt cx="1310400" cy="267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182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71560" y="2801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" name=""/>
            <p:cNvGrpSpPr/>
            <p:nvPr/>
          </p:nvGrpSpPr>
          <p:grpSpPr>
            <a:xfrm>
              <a:off x="5728680" y="2227680"/>
              <a:ext cx="1310400" cy="802800"/>
              <a:chOff x="5728680" y="2227680"/>
              <a:chExt cx="1310400" cy="802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5728680" y="2227680"/>
                <a:ext cx="1310400" cy="267480"/>
                <a:chOff x="5728680" y="2227680"/>
                <a:chExt cx="1310400" cy="2674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57286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8196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5728680" y="2495160"/>
                <a:ext cx="1310400" cy="267480"/>
                <a:chOff x="5728680" y="2495160"/>
                <a:chExt cx="1310400" cy="2674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57286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78196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728680" y="2763000"/>
                <a:ext cx="1310400" cy="267480"/>
                <a:chOff x="5728680" y="2763000"/>
                <a:chExt cx="1310400" cy="2674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86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8196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0" name=""/>
          <p:cNvSpPr/>
          <p:nvPr/>
        </p:nvSpPr>
        <p:spPr>
          <a:xfrm>
            <a:off x="3152880" y="3886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90760" y="3657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0720" y="3305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28840" y="2971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304440" y="2987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86040" y="2971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686040" y="3353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086600" y="4419720"/>
            <a:ext cx="1676520" cy="631440"/>
            <a:chOff x="7086600" y="4419720"/>
            <a:chExt cx="1676520" cy="631440"/>
          </a:xfrm>
        </p:grpSpPr>
        <p:sp>
          <p:nvSpPr>
            <p:cNvPr id="1101" name=""/>
            <p:cNvSpPr/>
            <p:nvPr/>
          </p:nvSpPr>
          <p:spPr>
            <a:xfrm>
              <a:off x="7086600" y="4900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848720" y="4419720"/>
              <a:ext cx="914400" cy="631440"/>
              <a:chOff x="7848720" y="4419720"/>
              <a:chExt cx="914400" cy="63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7848720" y="441972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3059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48720" y="47246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7086600" y="5638680"/>
            <a:ext cx="1676160" cy="631440"/>
            <a:chOff x="7086600" y="5638680"/>
            <a:chExt cx="1676160" cy="631440"/>
          </a:xfrm>
        </p:grpSpPr>
        <p:grpSp>
          <p:nvGrpSpPr>
            <p:cNvPr id="1107" name=""/>
            <p:cNvGrpSpPr/>
            <p:nvPr/>
          </p:nvGrpSpPr>
          <p:grpSpPr>
            <a:xfrm>
              <a:off x="7848360" y="5638680"/>
              <a:ext cx="914400" cy="631440"/>
              <a:chOff x="7848360" y="5638680"/>
              <a:chExt cx="914400" cy="631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7848360" y="563868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05560" y="5638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48360" y="5943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7086600" y="589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8B9F-F688-43B9-9FB3-64F6971BC4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output the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with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( 0,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ry to cal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using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919A-73AC-42AA-800C-37587E680C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1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23: fig04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ouble-subscripted array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= 3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= 4;     </a:t>
                </a:r>
                <a:r>
                  <a:rPr b="1" lang="en-US" sz="1200" spc="-1" strike="noStrike">
                    <a:solidFill>
                      <a:srgbClr val="66ff4d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exa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ray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Low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inimum( studentGrades, students, exam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3352320" y="4038480"/>
            <a:ext cx="4572360" cy="990360"/>
            <a:chOff x="3352320" y="4038480"/>
            <a:chExt cx="4572360" cy="990360"/>
          </a:xfrm>
        </p:grpSpPr>
        <p:sp>
          <p:nvSpPr>
            <p:cNvPr id="1216" name=""/>
            <p:cNvSpPr/>
            <p:nvPr/>
          </p:nvSpPr>
          <p:spPr>
            <a:xfrm>
              <a:off x="4876560" y="4038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3352320" y="42670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E54E-5B0E-47ED-A3FE-D0853861B9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and 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[ position number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operations in subscript.  If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–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0913-4F66-40C2-A1AE-3A465418E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20" name=""/>
            <p:cNvGrpSpPr/>
            <p:nvPr/>
          </p:nvGrpSpPr>
          <p:grpSpPr>
            <a:xfrm>
              <a:off x="0" y="0"/>
              <a:ext cx="6780960" cy="206280"/>
              <a:chOff x="0" y="0"/>
              <a:chExt cx="6780960" cy="2062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igh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06280"/>
              <a:ext cx="6780960" cy="206280"/>
              <a:chOff x="0" y="206280"/>
              <a:chExt cx="6780960" cy="2062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studentGrades, students, exams 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412560"/>
              <a:ext cx="6780960" cy="206280"/>
              <a:chOff x="0" y="412560"/>
              <a:chExt cx="6780960" cy="20628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18840"/>
              <a:ext cx="6780960" cy="206280"/>
              <a:chOff x="0" y="618840"/>
              <a:chExt cx="6780960" cy="206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erson = 0; person &lt; students; perso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825480"/>
              <a:ext cx="6780960" cy="253440"/>
              <a:chOff x="0" y="825480"/>
              <a:chExt cx="6780960" cy="253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The average grade for student " &lt;&lt; person &lt;&lt; "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1079280"/>
              <a:ext cx="6780960" cy="206280"/>
              <a:chOff x="0" y="1079280"/>
              <a:chExt cx="6780960" cy="2062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1285560"/>
              <a:ext cx="6780960" cy="206280"/>
              <a:chOff x="0" y="1285560"/>
              <a:chExt cx="6780960" cy="20628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precision( 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1491840"/>
              <a:ext cx="6780960" cy="206280"/>
              <a:chOff x="0" y="1491840"/>
              <a:chExt cx="6780960" cy="206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( studentGrades[ person ], exams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1698480"/>
              <a:ext cx="6780960" cy="206280"/>
              <a:chOff x="0" y="1698480"/>
              <a:chExt cx="6780960" cy="20628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1904760"/>
              <a:ext cx="6780960" cy="206280"/>
              <a:chOff x="0" y="1904760"/>
              <a:chExt cx="6780960" cy="20628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2111040"/>
              <a:ext cx="6780960" cy="206280"/>
              <a:chOff x="0" y="2111040"/>
              <a:chExt cx="6780960" cy="20628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2317680"/>
              <a:ext cx="6780960" cy="206280"/>
              <a:chOff x="0" y="2317680"/>
              <a:chExt cx="6780960" cy="20628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2523960"/>
              <a:ext cx="6780960" cy="206280"/>
              <a:chOff x="0" y="2523960"/>
              <a:chExt cx="6780960" cy="206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in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2730240"/>
              <a:ext cx="6780960" cy="206280"/>
              <a:chOff x="0" y="2730240"/>
              <a:chExt cx="6780960" cy="20628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2936880"/>
              <a:ext cx="6780960" cy="206280"/>
              <a:chOff x="0" y="2936880"/>
              <a:chExt cx="6780960" cy="206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3143160"/>
              <a:ext cx="6780960" cy="206280"/>
              <a:chOff x="0" y="3143160"/>
              <a:chExt cx="6780960" cy="206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3349440"/>
              <a:ext cx="6780960" cy="206280"/>
              <a:chOff x="0" y="3349440"/>
              <a:chExt cx="6780960" cy="206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3555720"/>
              <a:ext cx="6780960" cy="206280"/>
              <a:chOff x="0" y="3555720"/>
              <a:chExt cx="6780960" cy="206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3762360"/>
              <a:ext cx="6780960" cy="206280"/>
              <a:chOff x="0" y="3762360"/>
              <a:chExt cx="6780960" cy="20628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3968640"/>
              <a:ext cx="6780960" cy="206280"/>
              <a:chOff x="0" y="3968640"/>
              <a:chExt cx="6780960" cy="20628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4174920"/>
              <a:ext cx="6780960" cy="206280"/>
              <a:chOff x="0" y="4174920"/>
              <a:chExt cx="6780960" cy="20628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4381560"/>
              <a:ext cx="6780960" cy="206280"/>
              <a:chOff x="0" y="4381560"/>
              <a:chExt cx="6780960" cy="206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4587840"/>
              <a:ext cx="6780960" cy="206280"/>
              <a:chOff x="0" y="4587840"/>
              <a:chExt cx="6780960" cy="206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4794120"/>
              <a:ext cx="6780960" cy="206280"/>
              <a:chOff x="0" y="4794120"/>
              <a:chExt cx="6780960" cy="20628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5000760"/>
              <a:ext cx="6780960" cy="206280"/>
              <a:chOff x="0" y="5000760"/>
              <a:chExt cx="6780960" cy="20628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5207040"/>
              <a:ext cx="6780960" cy="206280"/>
              <a:chOff x="0" y="5207040"/>
              <a:chExt cx="6780960" cy="20628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5413320"/>
              <a:ext cx="6780960" cy="206280"/>
              <a:chOff x="0" y="5413320"/>
              <a:chExt cx="6780960" cy="2062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5619960"/>
              <a:ext cx="6780960" cy="206280"/>
              <a:chOff x="0" y="5619960"/>
              <a:chExt cx="6780960" cy="2062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ax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5826240"/>
              <a:ext cx="6780960" cy="206280"/>
              <a:chOff x="0" y="5826240"/>
              <a:chExt cx="6780960" cy="20628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032520"/>
              <a:ext cx="6780960" cy="206280"/>
              <a:chOff x="0" y="6032520"/>
              <a:chExt cx="6780960" cy="206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6238800"/>
              <a:ext cx="6780960" cy="206280"/>
              <a:chOff x="0" y="6238800"/>
              <a:chExt cx="6780960" cy="2062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6445440"/>
              <a:ext cx="6780960" cy="206280"/>
              <a:chOff x="0" y="6445440"/>
              <a:chExt cx="6780960" cy="2062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6651720"/>
              <a:ext cx="6780960" cy="206280"/>
              <a:chOff x="0" y="6651720"/>
              <a:chExt cx="6780960" cy="206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F545-8199-496C-BBDA-8D3D349D2F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average grade for a particular stu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test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         [0]  [1]  [2]  [3]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\nstudentGrades[" &lt;&lt; i &lt;&lt; "]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setiosflags( ios::left ) &lt;&lt; setw( 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&lt;&lt;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4138-5399-49DA-AACA-852398B2CF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571A-4F43-4C6D-8D01-51D61C360C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6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7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3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18F2-8C54-4413-94D4-BA6D9A430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arrays -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hi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format as oth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1098-13F8-425A-914A-95F41EEC4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initializers, a syntax error is gener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all the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the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5B7F-95B4-424F-9135-56F636C5E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 using a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out each array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6780960" cy="4495680"/>
            <a:chOff x="0" y="0"/>
            <a:chExt cx="6780960" cy="4495680"/>
          </a:xfrm>
        </p:grpSpPr>
        <p:grpSp>
          <p:nvGrpSpPr>
            <p:cNvPr id="162" name=""/>
            <p:cNvGrpSpPr/>
            <p:nvPr/>
          </p:nvGrpSpPr>
          <p:grpSpPr>
            <a:xfrm>
              <a:off x="0" y="0"/>
              <a:ext cx="6780960" cy="219240"/>
              <a:chOff x="0" y="0"/>
              <a:chExt cx="6780960" cy="2192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4: fig04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219240"/>
              <a:ext cx="6780960" cy="203400"/>
              <a:chOff x="0" y="219240"/>
              <a:chExt cx="6780960" cy="20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ing an array with a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23000"/>
              <a:ext cx="6780960" cy="203400"/>
              <a:chOff x="0" y="423000"/>
              <a:chExt cx="6780960" cy="2034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626760"/>
              <a:ext cx="6780960" cy="203400"/>
              <a:chOff x="0" y="626760"/>
              <a:chExt cx="6780960" cy="2034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830160"/>
              <a:ext cx="6780960" cy="203400"/>
              <a:chOff x="0" y="830160"/>
              <a:chExt cx="6780960" cy="2034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033920"/>
              <a:ext cx="6780960" cy="203400"/>
              <a:chOff x="0" y="1033920"/>
              <a:chExt cx="6780960" cy="2034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237320"/>
              <a:ext cx="6780960" cy="203400"/>
              <a:chOff x="0" y="1237320"/>
              <a:chExt cx="6780960" cy="2034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441080"/>
              <a:ext cx="6780960" cy="203400"/>
              <a:chOff x="0" y="1441080"/>
              <a:chExt cx="6780960" cy="2034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644840"/>
              <a:ext cx="6780960" cy="203400"/>
              <a:chOff x="0" y="1644840"/>
              <a:chExt cx="6780960" cy="2034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848240"/>
              <a:ext cx="6780960" cy="203400"/>
              <a:chOff x="0" y="1848240"/>
              <a:chExt cx="6780960" cy="2034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052000"/>
              <a:ext cx="6780960" cy="203400"/>
              <a:chOff x="0" y="2052000"/>
              <a:chExt cx="6780960" cy="2034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255760"/>
              <a:ext cx="6780960" cy="203400"/>
              <a:chOff x="0" y="2255760"/>
              <a:chExt cx="6780960" cy="2034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459520"/>
              <a:ext cx="6780960" cy="203400"/>
              <a:chOff x="0" y="2459520"/>
              <a:chExt cx="6780960" cy="2034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662920"/>
              <a:ext cx="6780960" cy="203400"/>
              <a:chOff x="0" y="2662920"/>
              <a:chExt cx="6780960" cy="2034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10 ] = { 32, 27, 64, 18, 95, 14, 90, 70, 60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866680"/>
              <a:ext cx="6780960" cy="203400"/>
              <a:chOff x="0" y="2866680"/>
              <a:chExt cx="6780960" cy="2034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070080"/>
              <a:ext cx="6780960" cy="203400"/>
              <a:chOff x="0" y="3070080"/>
              <a:chExt cx="6780960" cy="2034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lement" &lt;&lt; setw( 13 ) &lt;&lt; "Valu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273840"/>
              <a:ext cx="6780960" cy="203400"/>
              <a:chOff x="0" y="3273840"/>
              <a:chExt cx="6780960" cy="2034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477600"/>
              <a:ext cx="6780960" cy="203400"/>
              <a:chOff x="0" y="3477600"/>
              <a:chExt cx="6780960" cy="2034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1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681000"/>
              <a:ext cx="6780960" cy="203400"/>
              <a:chOff x="0" y="3681000"/>
              <a:chExt cx="6780960" cy="2034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7 ) &lt;&lt; i &lt;&lt; setw( 13 ) &lt;&lt; n[ i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884760"/>
              <a:ext cx="6780960" cy="203400"/>
              <a:chOff x="0" y="3884760"/>
              <a:chExt cx="6780960" cy="2034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088520"/>
              <a:ext cx="6780960" cy="203400"/>
              <a:chOff x="0" y="4088520"/>
              <a:chExt cx="6780960" cy="2034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92280"/>
              <a:ext cx="6780960" cy="203400"/>
              <a:chOff x="0" y="4292280"/>
              <a:chExt cx="6780960" cy="2034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0" y="457524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160" y="1600200"/>
            <a:ext cx="4115160" cy="1066680"/>
            <a:chOff x="1676160" y="1600200"/>
            <a:chExt cx="4115160" cy="1066680"/>
          </a:xfrm>
        </p:grpSpPr>
        <p:sp>
          <p:nvSpPr>
            <p:cNvPr id="230" name=""/>
            <p:cNvSpPr/>
            <p:nvPr/>
          </p:nvSpPr>
          <p:spPr>
            <a:xfrm>
              <a:off x="3353040" y="1600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y array is declared and elements referenc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76160" y="182880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97FE-9288-4919-8447-B67EFF253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Attempt to modify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234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7: fig04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const object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rror: x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cannot modify a const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0" y="32767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4_07.cp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304 Fig04_07.cpp 6: Constant variable 'x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zed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4_07.cpp 8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2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1652760"/>
            <a:ext cx="5334120" cy="1852560"/>
            <a:chOff x="1295280" y="1652760"/>
            <a:chExt cx="5334120" cy="1852560"/>
          </a:xfrm>
        </p:grpSpPr>
        <p:grpSp>
          <p:nvGrpSpPr>
            <p:cNvPr id="269" name=""/>
            <p:cNvGrpSpPr/>
            <p:nvPr/>
          </p:nvGrpSpPr>
          <p:grpSpPr>
            <a:xfrm>
              <a:off x="1295280" y="1652760"/>
              <a:ext cx="5334120" cy="824040"/>
              <a:chOff x="1295280" y="1652760"/>
              <a:chExt cx="5334120" cy="824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520" y="1652760"/>
                <a:ext cx="3809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a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st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ariables must be initialized because they cannot be modified la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295280" y="1652760"/>
                <a:ext cx="15242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03848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26B0-1E71-408C-9AF4-AB79D333C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'o'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 as for a normal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de effect: 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6348-9DAE-4DB8-BBDB-70C903714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21:25:57Z</dcterms:created>
  <dc:creator>kalid</dc:creator>
  <dc:description/>
  <dc:language>en-US</dc:language>
  <cp:lastModifiedBy>Antonella Esposito</cp:lastModifiedBy>
  <dcterms:modified xsi:type="dcterms:W3CDTF">2001-01-12T10:41:19Z</dcterms:modified>
  <cp:revision>166</cp:revision>
  <dc:subject/>
  <dc:title>Chapter 4 - Arrays</dc:title>
</cp:coreProperties>
</file>