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7008813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1F407-F27A-4A60-ABA3-FEAD49A5E5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523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A22B6-BDAD-4E30-8E64-B718009DA9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7C185-79CF-4DDE-A04C-A3EDE25B18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C3360-0715-463A-9A47-3034990D32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A963A-643C-4039-ACF5-5AF55C6340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73575-B3C2-444D-971F-B095B0852D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6AC55-C3D8-482F-9DD8-3922746A8E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7DF42-3138-4383-8C94-6FF80884AD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FB806-ECA3-45A7-A16A-94FB54D8C4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E7814-0C1B-44A9-86EE-38668018F4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65F1A-E3E7-44A6-85EB-4D0A255F1F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70C87-7CCF-420C-A2FC-9FC23C5F13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9F5D5-22AB-4A46-989F-86D9C8B67F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67688-99D0-403D-81BD-901AC59198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523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38A1F-B415-452D-8D83-86E29D5B9F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AD494-DB8C-4301-9298-6ADC8246A5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88EB8-236B-4F99-AAD0-8055157466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84AC5-28AF-44D8-B265-04F5D2663F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5534A-44B2-4751-A5D9-7F3BF1F2F2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A390B-B8FA-450B-A42A-508B8BF0D4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A7398-CB66-4908-8097-8801ED9FEB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5BAB2-F5A2-4DF8-9856-470626BC2C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44AC4-7554-4A5B-B078-5BA97B52FB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A3997-C4A5-4CDC-93A3-80E96C8D89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B312-4A61-42AB-B0F4-F9EAE8FA7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C8F5-F6E5-42A8-895A-10601F6777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2 - Control Structure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Algorithms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Pseudocode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Control Structures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5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The 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 Selection Structure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The 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/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else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 Selection Structure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The 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while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 Repetition Structure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8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Formulating Algorithms: Case Study 1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(Counter-Controlled Repetition)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Formulating Algorithms with Top-Down,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Stepwise Refinement: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Case Study 2 (Sentinel-Controlled Repetition)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10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Formulating Algorithms with Top-Down, Stepwise Refinement: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Case Study 3 (Nested Control Structures)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11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Assignment Operators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12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Increment and Decrement Operators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13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Essentials of Counter-Controlled Repetition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14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The 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for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 Repetition Structure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15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Examples Using the 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for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 Structure</a:t>
            </a:r>
            <a:r>
              <a:rPr b="1" sz="16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50B4E-01B6-4DD2-A8F6-3E68DB25B5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5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if Selec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lation of pseudocode statement into C++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grade &gt;= 60 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cout &lt;&lt; "Passed"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mond symbol (decision symb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cates decision is to be ma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an expression that can be true or fal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the condition, follow appropriate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ructure is a single-entry/single-exit struc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546200"/>
            <a:ext cx="548640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72420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17AC4-1961-4677-9D35-62E734C5E7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5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if Selec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wchart of pseudocode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2120" y="2133720"/>
            <a:ext cx="7467120" cy="2797920"/>
            <a:chOff x="762120" y="2133720"/>
            <a:chExt cx="7467120" cy="2797920"/>
          </a:xfrm>
        </p:grpSpPr>
        <p:grpSp>
          <p:nvGrpSpPr>
            <p:cNvPr id="114" name=""/>
            <p:cNvGrpSpPr/>
            <p:nvPr/>
          </p:nvGrpSpPr>
          <p:grpSpPr>
            <a:xfrm>
              <a:off x="762120" y="2133720"/>
              <a:ext cx="4380480" cy="2797920"/>
              <a:chOff x="762120" y="2133720"/>
              <a:chExt cx="4380480" cy="2797920"/>
            </a:xfrm>
          </p:grpSpPr>
          <p:sp>
            <p:nvSpPr>
              <p:cNvPr id="115" name=""/>
              <p:cNvSpPr/>
              <p:nvPr/>
            </p:nvSpPr>
            <p:spPr>
              <a:xfrm>
                <a:off x="1892880" y="2296080"/>
                <a:ext cx="360" cy="652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58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892880" y="4116960"/>
                <a:ext cx="360" cy="652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58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821960" y="2133720"/>
                <a:ext cx="140760" cy="16236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1960" y="4769280"/>
                <a:ext cx="140760" cy="16236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023280" y="3533040"/>
                <a:ext cx="56520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910160" y="4269240"/>
                <a:ext cx="254340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1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436640" y="3699360"/>
                <a:ext cx="360" cy="569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5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052440" y="3257280"/>
                <a:ext cx="500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vantGarde"/>
                    <a:ea typeface="Times New Roman"/>
                  </a:rPr>
                  <a:t>tru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450800" y="4331160"/>
                <a:ext cx="612000" cy="32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vantGarde"/>
                    <a:ea typeface="Times New Roman"/>
                  </a:rPr>
                  <a:t>fals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762120" y="2948400"/>
                <a:ext cx="2261160" cy="1168200"/>
                <a:chOff x="762120" y="2948400"/>
                <a:chExt cx="2261160" cy="11682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762120" y="2948400"/>
                  <a:ext cx="2261160" cy="1168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0" y="10000"/>
                      </a:moveTo>
                      <a:lnTo>
                        <a:pt x="9990" y="19977"/>
                      </a:lnTo>
                      <a:lnTo>
                        <a:pt x="0" y="10000"/>
                      </a:lnTo>
                      <a:lnTo>
                        <a:pt x="9990" y="0"/>
                      </a:lnTo>
                      <a:lnTo>
                        <a:pt x="19990" y="1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255680" y="3437280"/>
                  <a:ext cx="1272960" cy="24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vantGarde"/>
                      <a:ea typeface="Times New Roman"/>
                    </a:rPr>
                    <a:t>grade &gt;= 6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3588480" y="3369600"/>
                <a:ext cx="1554120" cy="325800"/>
                <a:chOff x="3588480" y="3369600"/>
                <a:chExt cx="1554120" cy="3258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588480" y="3369600"/>
                  <a:ext cx="1554120" cy="3258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5" y="0"/>
                      </a:moveTo>
                      <a:lnTo>
                        <a:pt x="19985" y="19917"/>
                      </a:lnTo>
                      <a:lnTo>
                        <a:pt x="0" y="19917"/>
                      </a:lnTo>
                      <a:lnTo>
                        <a:pt x="0" y="0"/>
                      </a:lnTo>
                      <a:lnTo>
                        <a:pt x="19985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686040" y="3444120"/>
                  <a:ext cx="1357560" cy="23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vantGarde"/>
                      <a:ea typeface="Times New Roman"/>
                    </a:rPr>
                    <a:t>print “Passed”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0" name=""/>
            <p:cNvSpPr/>
            <p:nvPr/>
          </p:nvSpPr>
          <p:spPr>
            <a:xfrm>
              <a:off x="5562360" y="2438640"/>
              <a:ext cx="2666880" cy="2311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decision can be made on any expression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ero -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ls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nzero -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ampl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3 - 4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B95A4-3BAA-4904-86F0-24383B8805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6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if/else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Selec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performs an action if the condition is tr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/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different action is performed when condition is true and when condition is fa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uedo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f student’s grade is greater than or equal to 60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“Passe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“Failed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grade &gt;= 60 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cout &lt;&lt; "Passed"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cout &lt;&lt; "Failed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622520"/>
            <a:ext cx="552132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433680"/>
            <a:ext cx="552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4732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57945-F84E-40CF-AC05-488FC720FA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6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if/else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Selec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nary conditional operator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?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s three arguments (condition, value 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value 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pseudocode could be writt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( grade &gt;= 60 ? “Passed” : “Failed”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80880" y="914400"/>
            <a:ext cx="8457120" cy="2437560"/>
            <a:chOff x="380880" y="914400"/>
            <a:chExt cx="8457120" cy="2437560"/>
          </a:xfrm>
        </p:grpSpPr>
        <p:sp>
          <p:nvSpPr>
            <p:cNvPr id="139" name=""/>
            <p:cNvSpPr/>
            <p:nvPr/>
          </p:nvSpPr>
          <p:spPr>
            <a:xfrm>
              <a:off x="4726080" y="2772000"/>
              <a:ext cx="31338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0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12800" y="1642680"/>
              <a:ext cx="637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85640" y="2772000"/>
              <a:ext cx="316008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1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78080" y="2470320"/>
              <a:ext cx="360" cy="298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3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51320" y="1642680"/>
              <a:ext cx="7794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l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48720" y="1864800"/>
              <a:ext cx="360" cy="360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3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70160" y="1864800"/>
              <a:ext cx="360" cy="360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3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856280" y="2470320"/>
              <a:ext cx="360" cy="298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3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380880" y="2227320"/>
              <a:ext cx="1978920" cy="245520"/>
              <a:chOff x="380880" y="2227320"/>
              <a:chExt cx="1978920" cy="245520"/>
            </a:xfrm>
          </p:grpSpPr>
          <p:sp>
            <p:nvSpPr>
              <p:cNvPr id="148" name=""/>
              <p:cNvSpPr/>
              <p:nvPr/>
            </p:nvSpPr>
            <p:spPr>
              <a:xfrm>
                <a:off x="577080" y="2283480"/>
                <a:ext cx="1583280" cy="17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rint “Failed”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80880" y="2227320"/>
                <a:ext cx="1978920" cy="2455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5" y="0"/>
                    </a:moveTo>
                    <a:lnTo>
                      <a:pt x="19985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85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7046280" y="2283480"/>
              <a:ext cx="161928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nt “Passed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59080" y="2227320"/>
              <a:ext cx="1978920" cy="245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5" y="0"/>
                  </a:moveTo>
                  <a:lnTo>
                    <a:pt x="19985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85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4542480" y="2715840"/>
              <a:ext cx="183600" cy="636120"/>
              <a:chOff x="4542480" y="2715840"/>
              <a:chExt cx="183600" cy="636120"/>
            </a:xfrm>
          </p:grpSpPr>
          <p:sp>
            <p:nvSpPr>
              <p:cNvPr id="153" name=""/>
              <p:cNvSpPr/>
              <p:nvPr/>
            </p:nvSpPr>
            <p:spPr>
              <a:xfrm>
                <a:off x="4635000" y="2842200"/>
                <a:ext cx="1440" cy="385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47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542480" y="3228480"/>
                <a:ext cx="180720" cy="1234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545360" y="2715840"/>
                <a:ext cx="180720" cy="1234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1370160" y="914400"/>
              <a:ext cx="6478200" cy="1384920"/>
              <a:chOff x="1370160" y="914400"/>
              <a:chExt cx="6478200" cy="1384920"/>
            </a:xfrm>
          </p:grpSpPr>
          <p:grpSp>
            <p:nvGrpSpPr>
              <p:cNvPr id="157" name=""/>
              <p:cNvGrpSpPr/>
              <p:nvPr/>
            </p:nvGrpSpPr>
            <p:grpSpPr>
              <a:xfrm>
                <a:off x="4525200" y="914400"/>
                <a:ext cx="181080" cy="502560"/>
                <a:chOff x="4525200" y="914400"/>
                <a:chExt cx="181080" cy="5025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4614840" y="1041120"/>
                  <a:ext cx="1440" cy="375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46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  <a:head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525200" y="914400"/>
                  <a:ext cx="181080" cy="12348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1370160" y="1416960"/>
                <a:ext cx="6478200" cy="882360"/>
                <a:chOff x="1370160" y="1416960"/>
                <a:chExt cx="6478200" cy="88236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6049080" y="1857960"/>
                  <a:ext cx="1799280" cy="7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3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370160" y="1857960"/>
                  <a:ext cx="1799280" cy="7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3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3" name=""/>
                <p:cNvGrpSpPr/>
                <p:nvPr/>
              </p:nvGrpSpPr>
              <p:grpSpPr>
                <a:xfrm>
                  <a:off x="3163680" y="1416960"/>
                  <a:ext cx="2878920" cy="882360"/>
                  <a:chOff x="3163680" y="1416960"/>
                  <a:chExt cx="2878920" cy="88236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3163680" y="1416960"/>
                    <a:ext cx="2878920" cy="88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0" y="10000"/>
                        </a:moveTo>
                        <a:lnTo>
                          <a:pt x="9990" y="19977"/>
                        </a:lnTo>
                        <a:lnTo>
                          <a:pt x="0" y="10000"/>
                        </a:lnTo>
                        <a:lnTo>
                          <a:pt x="9990" y="0"/>
                        </a:lnTo>
                        <a:lnTo>
                          <a:pt x="19990" y="100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3791880" y="1782360"/>
                    <a:ext cx="1621080" cy="19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Courier New"/>
                        <a:ea typeface="Times New Roman"/>
                      </a:rPr>
                      <a:t>grade &gt;= 6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F434C-1B31-4CCF-B2E3-67DED042CE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if/else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Selec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8377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st for multiple cases by plac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election structures insid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election structur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f student’s grade is greater than or equal to 90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Print “A”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else 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if student’s grade is greater than or equal to 80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Print “B”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else 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   if student’s grade is greater than or equal to 70 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   Print “C”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else 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   if student’s grade is greater than or equal to 60 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      Print “D”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      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           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“F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ce a condition is met, the rest of the statements are skipp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01634-C1BA-4F2E-964E-CCD94AAD4E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if/else Selec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und statemen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of statements within a pair of br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 grade &gt;= 60 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cout &lt;&lt; "Passed.\n"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cout &lt;&lt; "Failed.\n"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cout &lt;&lt; "You must take this course again.\n"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out the brac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"You must take this course again.\n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ld be automatically exec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und statements with decla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7E383-411B-4677-B5C5-35699D110E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he if/else Selec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ax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rrors caught by compi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rrors which have their effect at execution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fatal logic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 runs, but has incorrect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tal logic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 exits prematur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AE016-D4A9-48E9-B159-27F41E8104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7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while Repetition Structure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tition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mer specifies an action to be repeated while some condition remains tr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suedo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while there are more items on my shopping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urchase next item and cross it off my 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oop repeated until condition becomes fal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product =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 product &lt;= 1000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 = 2 * produ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184480"/>
            <a:ext cx="548640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26232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5672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E6E53-9CB6-45DE-B9FB-DEC5DA7D84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7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while Repeti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wchart o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600200" y="2057400"/>
            <a:ext cx="4876200" cy="2047320"/>
            <a:chOff x="1600200" y="2057400"/>
            <a:chExt cx="4876200" cy="2047320"/>
          </a:xfrm>
        </p:grpSpPr>
        <p:sp>
          <p:nvSpPr>
            <p:cNvPr id="180" name=""/>
            <p:cNvSpPr/>
            <p:nvPr/>
          </p:nvSpPr>
          <p:spPr>
            <a:xfrm>
              <a:off x="1600200" y="2610720"/>
              <a:ext cx="2091240" cy="1000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0" y="9989"/>
                  </a:moveTo>
                  <a:lnTo>
                    <a:pt x="9990" y="19977"/>
                  </a:lnTo>
                  <a:lnTo>
                    <a:pt x="0" y="9989"/>
                  </a:lnTo>
                  <a:lnTo>
                    <a:pt x="9990" y="0"/>
                  </a:lnTo>
                  <a:lnTo>
                    <a:pt x="19990" y="998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850760" y="3026880"/>
              <a:ext cx="1587240" cy="2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 &lt;= 1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42760" y="2197800"/>
              <a:ext cx="360" cy="418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5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42760" y="3611520"/>
              <a:ext cx="360" cy="352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35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77600" y="2057400"/>
              <a:ext cx="130680" cy="1375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77600" y="3967200"/>
              <a:ext cx="130680" cy="1375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91440" y="3118320"/>
              <a:ext cx="52272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55200" y="3029400"/>
              <a:ext cx="2178360" cy="2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 = 2 * produ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14160" y="2966400"/>
              <a:ext cx="2262240" cy="3034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0" y="0"/>
                  </a:moveTo>
                  <a:lnTo>
                    <a:pt x="19990" y="19925"/>
                  </a:lnTo>
                  <a:lnTo>
                    <a:pt x="0" y="19925"/>
                  </a:lnTo>
                  <a:lnTo>
                    <a:pt x="0" y="0"/>
                  </a:lnTo>
                  <a:lnTo>
                    <a:pt x="1999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10520" y="2856960"/>
              <a:ext cx="46224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773800" y="3617280"/>
              <a:ext cx="565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l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59680" y="2358360"/>
              <a:ext cx="26982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49240" y="2358360"/>
              <a:ext cx="360" cy="596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6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1F45A-E206-4090-893B-37C2F9B48D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8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Formulating Algorithms (Counter-Controlled Repetition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er-controlled re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op repeated until counter reaches a certain valu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e re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of repetitions is know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 class of ten students took a quiz. The grades (integers in the range 0 to 100) for this quiz are available to you. Determine the class average on the quiz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252B7-41F5-430A-8103-AE73314F1D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2 - Control Structure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160640"/>
            <a:ext cx="7543800" cy="19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16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The 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switch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 Multiple-Selection Structure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17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The 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do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/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while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 Repetition Structure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18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The 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break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continue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 Statements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19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Logical Operators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20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Confusing Equality (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==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) and Assignment (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=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) Operators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21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Structured-Programming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F2FA4-D709-495F-BF3F-3FC5BD4140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8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Formulating Algorithms (Counter-Controlled Repetition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eudocode 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Set total to 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Set grade counter to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While grade counter is less than or equal to ten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put the next grade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dd the grade into the total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dd one to the grade cou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Set the class average to the total divided by ten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the class 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is the C++ code for this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B0C9F-CEE0-4B33-94B0-F825817F90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Execute Loop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Output resul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99" name=""/>
            <p:cNvGrpSpPr/>
            <p:nvPr/>
          </p:nvGrpSpPr>
          <p:grpSpPr>
            <a:xfrm>
              <a:off x="0" y="0"/>
              <a:ext cx="6780960" cy="223200"/>
              <a:chOff x="0" y="0"/>
              <a:chExt cx="6780960" cy="223200"/>
            </a:xfrm>
          </p:grpSpPr>
          <p:sp>
            <p:nvSpPr>
              <p:cNvPr id="200" name=""/>
              <p:cNvSpPr/>
              <p:nvPr/>
            </p:nvSpPr>
            <p:spPr>
              <a:xfrm>
                <a:off x="0" y="0"/>
                <a:ext cx="6780960" cy="22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0"/>
                <a:ext cx="6780960" cy="22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2.7: fig02_07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0" y="223200"/>
              <a:ext cx="6780960" cy="207000"/>
              <a:chOff x="0" y="223200"/>
              <a:chExt cx="6780960" cy="207000"/>
            </a:xfrm>
          </p:grpSpPr>
          <p:sp>
            <p:nvSpPr>
              <p:cNvPr id="203" name=""/>
              <p:cNvSpPr/>
              <p:nvPr/>
            </p:nvSpPr>
            <p:spPr>
              <a:xfrm>
                <a:off x="0" y="22320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2320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lass average program with counter-controlled repeti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0" y="430560"/>
              <a:ext cx="6780960" cy="207360"/>
              <a:chOff x="0" y="430560"/>
              <a:chExt cx="6780960" cy="207360"/>
            </a:xfrm>
          </p:grpSpPr>
          <p:sp>
            <p:nvSpPr>
              <p:cNvPr id="206" name=""/>
              <p:cNvSpPr/>
              <p:nvPr/>
            </p:nvSpPr>
            <p:spPr>
              <a:xfrm>
                <a:off x="0" y="4305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4305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0" y="637920"/>
              <a:ext cx="6780960" cy="207000"/>
              <a:chOff x="0" y="637920"/>
              <a:chExt cx="6780960" cy="207000"/>
            </a:xfrm>
          </p:grpSpPr>
          <p:sp>
            <p:nvSpPr>
              <p:cNvPr id="209" name=""/>
              <p:cNvSpPr/>
              <p:nvPr/>
            </p:nvSpPr>
            <p:spPr>
              <a:xfrm>
                <a:off x="0" y="63792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63792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0" y="845280"/>
              <a:ext cx="6780960" cy="207000"/>
              <a:chOff x="0" y="845280"/>
              <a:chExt cx="6780960" cy="207000"/>
            </a:xfrm>
          </p:grpSpPr>
          <p:sp>
            <p:nvSpPr>
              <p:cNvPr id="212" name=""/>
              <p:cNvSpPr/>
              <p:nvPr/>
            </p:nvSpPr>
            <p:spPr>
              <a:xfrm>
                <a:off x="0" y="8452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8452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0" y="1052640"/>
              <a:ext cx="6780960" cy="207000"/>
              <a:chOff x="0" y="1052640"/>
              <a:chExt cx="6780960" cy="207000"/>
            </a:xfrm>
          </p:grpSpPr>
          <p:sp>
            <p:nvSpPr>
              <p:cNvPr id="215" name=""/>
              <p:cNvSpPr/>
              <p:nvPr/>
            </p:nvSpPr>
            <p:spPr>
              <a:xfrm>
                <a:off x="0" y="105264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105264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0" y="1260000"/>
              <a:ext cx="6780960" cy="207360"/>
              <a:chOff x="0" y="1260000"/>
              <a:chExt cx="6780960" cy="207360"/>
            </a:xfrm>
          </p:grpSpPr>
          <p:sp>
            <p:nvSpPr>
              <p:cNvPr id="218" name=""/>
              <p:cNvSpPr/>
              <p:nvPr/>
            </p:nvSpPr>
            <p:spPr>
              <a:xfrm>
                <a:off x="0" y="12600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2600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0" y="1467360"/>
              <a:ext cx="6780960" cy="207000"/>
              <a:chOff x="0" y="1467360"/>
              <a:chExt cx="6780960" cy="207000"/>
            </a:xfrm>
          </p:grpSpPr>
          <p:sp>
            <p:nvSpPr>
              <p:cNvPr id="221" name=""/>
              <p:cNvSpPr/>
              <p:nvPr/>
            </p:nvSpPr>
            <p:spPr>
              <a:xfrm>
                <a:off x="0" y="146736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46736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0" y="1674720"/>
              <a:ext cx="6780960" cy="207000"/>
              <a:chOff x="0" y="1674720"/>
              <a:chExt cx="6780960" cy="207000"/>
            </a:xfrm>
          </p:grpSpPr>
          <p:sp>
            <p:nvSpPr>
              <p:cNvPr id="224" name=""/>
              <p:cNvSpPr/>
              <p:nvPr/>
            </p:nvSpPr>
            <p:spPr>
              <a:xfrm>
                <a:off x="0" y="167472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167472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0" y="1882080"/>
              <a:ext cx="6780960" cy="207000"/>
              <a:chOff x="0" y="1882080"/>
              <a:chExt cx="6780960" cy="207000"/>
            </a:xfrm>
          </p:grpSpPr>
          <p:sp>
            <p:nvSpPr>
              <p:cNvPr id="227" name=""/>
              <p:cNvSpPr/>
              <p:nvPr/>
            </p:nvSpPr>
            <p:spPr>
              <a:xfrm>
                <a:off x="0" y="18820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8820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0" y="2089080"/>
              <a:ext cx="6780960" cy="207000"/>
              <a:chOff x="0" y="2089080"/>
              <a:chExt cx="6780960" cy="207000"/>
            </a:xfrm>
          </p:grpSpPr>
          <p:sp>
            <p:nvSpPr>
              <p:cNvPr id="230" name=""/>
              <p:cNvSpPr/>
              <p:nvPr/>
            </p:nvSpPr>
            <p:spPr>
              <a:xfrm>
                <a:off x="0" y="20890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20890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otal,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um of grade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0" y="2296440"/>
              <a:ext cx="6780960" cy="207360"/>
              <a:chOff x="0" y="2296440"/>
              <a:chExt cx="6780960" cy="207360"/>
            </a:xfrm>
          </p:grpSpPr>
          <p:sp>
            <p:nvSpPr>
              <p:cNvPr id="233" name=""/>
              <p:cNvSpPr/>
              <p:nvPr/>
            </p:nvSpPr>
            <p:spPr>
              <a:xfrm>
                <a:off x="0" y="229644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229644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gradeCounter,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grades enter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0" y="2503800"/>
              <a:ext cx="6780960" cy="207000"/>
              <a:chOff x="0" y="2503800"/>
              <a:chExt cx="6780960" cy="207000"/>
            </a:xfrm>
          </p:grpSpPr>
          <p:sp>
            <p:nvSpPr>
              <p:cNvPr id="236" name=""/>
              <p:cNvSpPr/>
              <p:nvPr/>
            </p:nvSpPr>
            <p:spPr>
              <a:xfrm>
                <a:off x="0" y="250380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250380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grade,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ne gra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0" y="2711160"/>
              <a:ext cx="6780960" cy="207000"/>
              <a:chOff x="0" y="2711160"/>
              <a:chExt cx="6780960" cy="207000"/>
            </a:xfrm>
          </p:grpSpPr>
          <p:sp>
            <p:nvSpPr>
              <p:cNvPr id="239" name=""/>
              <p:cNvSpPr/>
              <p:nvPr/>
            </p:nvSpPr>
            <p:spPr>
              <a:xfrm>
                <a:off x="0" y="271116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271116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average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average of grad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0" y="2918520"/>
              <a:ext cx="6780960" cy="207000"/>
              <a:chOff x="0" y="2918520"/>
              <a:chExt cx="6780960" cy="207000"/>
            </a:xfrm>
          </p:grpSpPr>
          <p:sp>
            <p:nvSpPr>
              <p:cNvPr id="242" name=""/>
              <p:cNvSpPr/>
              <p:nvPr/>
            </p:nvSpPr>
            <p:spPr>
              <a:xfrm>
                <a:off x="0" y="291852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291852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0" y="3125880"/>
              <a:ext cx="6780960" cy="207360"/>
              <a:chOff x="0" y="3125880"/>
              <a:chExt cx="6780960" cy="207360"/>
            </a:xfrm>
          </p:grpSpPr>
          <p:sp>
            <p:nvSpPr>
              <p:cNvPr id="245" name=""/>
              <p:cNvSpPr/>
              <p:nvPr/>
            </p:nvSpPr>
            <p:spPr>
              <a:xfrm>
                <a:off x="0" y="312588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12588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initialization ph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0" y="3333240"/>
              <a:ext cx="6780960" cy="207000"/>
              <a:chOff x="0" y="3333240"/>
              <a:chExt cx="6780960" cy="20700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333324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333324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otal = 0;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lear tot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0" y="3540600"/>
              <a:ext cx="6780960" cy="207000"/>
              <a:chOff x="0" y="3540600"/>
              <a:chExt cx="6780960" cy="207000"/>
            </a:xfrm>
          </p:grpSpPr>
          <p:sp>
            <p:nvSpPr>
              <p:cNvPr id="251" name=""/>
              <p:cNvSpPr/>
              <p:nvPr/>
            </p:nvSpPr>
            <p:spPr>
              <a:xfrm>
                <a:off x="0" y="354060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354060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gradeCounter = 1;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prepare to loo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0" y="3747960"/>
              <a:ext cx="6780960" cy="207000"/>
              <a:chOff x="0" y="3747960"/>
              <a:chExt cx="6780960" cy="207000"/>
            </a:xfrm>
          </p:grpSpPr>
          <p:sp>
            <p:nvSpPr>
              <p:cNvPr id="254" name=""/>
              <p:cNvSpPr/>
              <p:nvPr/>
            </p:nvSpPr>
            <p:spPr>
              <a:xfrm>
                <a:off x="0" y="374796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374796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0" y="3955320"/>
              <a:ext cx="6780960" cy="207360"/>
              <a:chOff x="0" y="3955320"/>
              <a:chExt cx="6780960" cy="207360"/>
            </a:xfrm>
          </p:grpSpPr>
          <p:sp>
            <p:nvSpPr>
              <p:cNvPr id="257" name=""/>
              <p:cNvSpPr/>
              <p:nvPr/>
            </p:nvSpPr>
            <p:spPr>
              <a:xfrm>
                <a:off x="0" y="395532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0" y="395532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processing ph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0" y="4162680"/>
              <a:ext cx="6780960" cy="207000"/>
              <a:chOff x="0" y="4162680"/>
              <a:chExt cx="6780960" cy="207000"/>
            </a:xfrm>
          </p:grpSpPr>
          <p:sp>
            <p:nvSpPr>
              <p:cNvPr id="260" name=""/>
              <p:cNvSpPr/>
              <p:nvPr/>
            </p:nvSpPr>
            <p:spPr>
              <a:xfrm>
                <a:off x="0" y="41626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0" y="41626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gradeCounter &lt;= 10 ) {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loop 10 tim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0" y="4370040"/>
              <a:ext cx="6780960" cy="207000"/>
              <a:chOff x="0" y="4370040"/>
              <a:chExt cx="6780960" cy="207000"/>
            </a:xfrm>
          </p:grpSpPr>
          <p:sp>
            <p:nvSpPr>
              <p:cNvPr id="263" name=""/>
              <p:cNvSpPr/>
              <p:nvPr/>
            </p:nvSpPr>
            <p:spPr>
              <a:xfrm>
                <a:off x="0" y="437004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437004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Enter grade: "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prompt for in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0" y="4577400"/>
              <a:ext cx="6780960" cy="207000"/>
              <a:chOff x="0" y="4577400"/>
              <a:chExt cx="6780960" cy="207000"/>
            </a:xfrm>
          </p:grpSpPr>
          <p:sp>
            <p:nvSpPr>
              <p:cNvPr id="266" name=""/>
              <p:cNvSpPr/>
              <p:nvPr/>
            </p:nvSpPr>
            <p:spPr>
              <a:xfrm>
                <a:off x="0" y="457740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0" y="457740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in &gt;&gt; grade;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put gra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0" y="4784760"/>
              <a:ext cx="6780960" cy="207360"/>
              <a:chOff x="0" y="4784760"/>
              <a:chExt cx="6780960" cy="207360"/>
            </a:xfrm>
          </p:grpSpPr>
          <p:sp>
            <p:nvSpPr>
              <p:cNvPr id="269" name=""/>
              <p:cNvSpPr/>
              <p:nvPr/>
            </p:nvSpPr>
            <p:spPr>
              <a:xfrm>
                <a:off x="0" y="47847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0" y="47847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total = total + grade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dd grade to tot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0" y="4992120"/>
              <a:ext cx="6780960" cy="207000"/>
              <a:chOff x="0" y="4992120"/>
              <a:chExt cx="6780960" cy="207000"/>
            </a:xfrm>
          </p:grpSpPr>
          <p:sp>
            <p:nvSpPr>
              <p:cNvPr id="272" name=""/>
              <p:cNvSpPr/>
              <p:nvPr/>
            </p:nvSpPr>
            <p:spPr>
              <a:xfrm>
                <a:off x="0" y="499212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0" y="499212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radeCounter = gradeCounter + 1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crement cou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5199480"/>
              <a:ext cx="6780960" cy="207000"/>
              <a:chOff x="0" y="5199480"/>
              <a:chExt cx="6780960" cy="2070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51994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0" y="51994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0" y="5406480"/>
              <a:ext cx="6780960" cy="207000"/>
              <a:chOff x="0" y="5406480"/>
              <a:chExt cx="6780960" cy="207000"/>
            </a:xfrm>
          </p:grpSpPr>
          <p:sp>
            <p:nvSpPr>
              <p:cNvPr id="278" name=""/>
              <p:cNvSpPr/>
              <p:nvPr/>
            </p:nvSpPr>
            <p:spPr>
              <a:xfrm>
                <a:off x="0" y="54064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0" y="54064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0" y="5613840"/>
              <a:ext cx="6780960" cy="207000"/>
              <a:chOff x="0" y="5613840"/>
              <a:chExt cx="6780960" cy="207000"/>
            </a:xfrm>
          </p:grpSpPr>
          <p:sp>
            <p:nvSpPr>
              <p:cNvPr id="281" name=""/>
              <p:cNvSpPr/>
              <p:nvPr/>
            </p:nvSpPr>
            <p:spPr>
              <a:xfrm>
                <a:off x="0" y="561384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0" y="561384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ermination ph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0" y="5821200"/>
              <a:ext cx="6780960" cy="207360"/>
              <a:chOff x="0" y="5821200"/>
              <a:chExt cx="6780960" cy="207360"/>
            </a:xfrm>
          </p:grpSpPr>
          <p:sp>
            <p:nvSpPr>
              <p:cNvPr id="284" name=""/>
              <p:cNvSpPr/>
              <p:nvPr/>
            </p:nvSpPr>
            <p:spPr>
              <a:xfrm>
                <a:off x="0" y="58212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58212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verage = total / 10;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teger divis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0" y="6028560"/>
              <a:ext cx="6780960" cy="207000"/>
              <a:chOff x="0" y="6028560"/>
              <a:chExt cx="6780960" cy="207000"/>
            </a:xfrm>
          </p:grpSpPr>
          <p:sp>
            <p:nvSpPr>
              <p:cNvPr id="287" name=""/>
              <p:cNvSpPr/>
              <p:nvPr/>
            </p:nvSpPr>
            <p:spPr>
              <a:xfrm>
                <a:off x="0" y="602856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602856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Class average is " &lt;&lt; average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0" y="6235920"/>
              <a:ext cx="6780960" cy="207000"/>
              <a:chOff x="0" y="6235920"/>
              <a:chExt cx="6780960" cy="207000"/>
            </a:xfrm>
          </p:grpSpPr>
          <p:sp>
            <p:nvSpPr>
              <p:cNvPr id="290" name=""/>
              <p:cNvSpPr/>
              <p:nvPr/>
            </p:nvSpPr>
            <p:spPr>
              <a:xfrm>
                <a:off x="0" y="623592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0" y="623592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0" y="6443280"/>
              <a:ext cx="6780960" cy="207000"/>
              <a:chOff x="0" y="6443280"/>
              <a:chExt cx="6780960" cy="207000"/>
            </a:xfrm>
          </p:grpSpPr>
          <p:sp>
            <p:nvSpPr>
              <p:cNvPr id="293" name=""/>
              <p:cNvSpPr/>
              <p:nvPr/>
            </p:nvSpPr>
            <p:spPr>
              <a:xfrm>
                <a:off x="0" y="64432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0" y="64432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// indicate program ended successful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0" y="6650640"/>
              <a:ext cx="6780960" cy="207360"/>
              <a:chOff x="0" y="6650640"/>
              <a:chExt cx="6780960" cy="207360"/>
            </a:xfrm>
          </p:grpSpPr>
          <p:sp>
            <p:nvSpPr>
              <p:cNvPr id="296" name=""/>
              <p:cNvSpPr/>
              <p:nvPr/>
            </p:nvSpPr>
            <p:spPr>
              <a:xfrm>
                <a:off x="0" y="665064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0" y="665064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3581280" y="3657600"/>
            <a:ext cx="4800600" cy="1295280"/>
            <a:chOff x="3581280" y="3657600"/>
            <a:chExt cx="4800600" cy="1295280"/>
          </a:xfrm>
        </p:grpSpPr>
        <p:sp>
          <p:nvSpPr>
            <p:cNvPr id="299" name=""/>
            <p:cNvSpPr/>
            <p:nvPr/>
          </p:nvSpPr>
          <p:spPr>
            <a:xfrm>
              <a:off x="4952880" y="3657600"/>
              <a:ext cx="3429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counter gets incremented each time the loop executes.  Eventually, the counter causes the loop to en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3581280" y="4114800"/>
              <a:ext cx="1371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3E2E7-B3D5-4A97-B0F4-0225D8BDD5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0"/>
            <a:ext cx="6781680" cy="2649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7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average is 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059CD-5AA0-40B7-87D0-2CEC3CEC90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9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Formulating Algorithms with Top-Down, Stepwise Refinement (Sentinel-Controlled Repetition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e problem become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evelop a class-averaging program that will process an arbitrary number of grades each time the program is ru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known number of students - how will the program know to end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inel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cates “end of data entry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op ends when sentinel input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ntinel value chosen so it cannot be confused with a regular input (such as -1 in this cas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1B641-899B-4C5B-A93B-7265FB9E2C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9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Formulating Algorithms with Top-Down, Stepwise Refinement (Sentinel-Controlled Repetition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-down, stepwise refin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gin with a pseudocode representation of the top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Determine the class average for the qu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vide top into smaller tasks and list them in order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put, sum and count the quiz gr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Calculate and print the class avera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48FCB-F49A-41B3-AA15-C685D068C02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9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Formulating Algorithms with Top-Down, Stepwise Refine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programs can be divided into three phas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izes the program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s data values and adjusts program variables according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s and prints the final resul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lps the breakup of programs for top-down refin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ine the initialization phase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Initializ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total to zero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counter to ze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E45EC-E5B4-40CB-98AA-926C5366504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9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Formulating Algorithms with Top-Down, Stepwise Refine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Input, sum and count the quiz gr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Input the first grade (possibly the sentin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While the user has not as yet entered the senti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Add this grade into the running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Add one to the grade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Input the next grade (possibly the sentine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Times New Roman"/>
              </a:rPr>
              <a:t>Calculate and print the class a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If the counter is not equal to 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Set the average to the total divided by the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Print the a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Print “No grades were entered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C9624-3CD8-4766-8A03-EF081FACB97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Get user in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Perform Loop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313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314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2.9: fig02_09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317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lass average program with sentinel-controlled repetition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320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323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326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329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332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335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338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341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344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347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350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353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356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359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362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otal,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um of grad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365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gradeCounter,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grades enter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368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grade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ne grade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371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verag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with decimal point for avera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374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377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initialization ph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380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otal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383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gradeCounter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386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389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processing ph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392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nter grade, -1 to end: ";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395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 &gt;&gt; grade;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401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grade != -1 ) {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3" name=""/>
          <p:cNvGrpSpPr/>
          <p:nvPr/>
        </p:nvGrpSpPr>
        <p:grpSpPr>
          <a:xfrm>
            <a:off x="1676160" y="3276720"/>
            <a:ext cx="5105160" cy="1143000"/>
            <a:chOff x="1676160" y="3276720"/>
            <a:chExt cx="5105160" cy="1143000"/>
          </a:xfrm>
        </p:grpSpPr>
        <p:sp>
          <p:nvSpPr>
            <p:cNvPr id="404" name=""/>
            <p:cNvSpPr/>
            <p:nvPr/>
          </p:nvSpPr>
          <p:spPr>
            <a:xfrm>
              <a:off x="3885840" y="3276720"/>
              <a:ext cx="2895480" cy="520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ta type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uble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used to represent decimal number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1676160" y="3657960"/>
              <a:ext cx="220932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D9A63-DD29-4FCA-A6D2-D1D2F83332A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Calculate Averag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1  Print Resul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0" y="0"/>
            <a:ext cx="6780960" cy="3733920"/>
            <a:chOff x="0" y="0"/>
            <a:chExt cx="6780960" cy="3733920"/>
          </a:xfrm>
        </p:grpSpPr>
        <p:grpSp>
          <p:nvGrpSpPr>
            <p:cNvPr id="408" name=""/>
            <p:cNvGrpSpPr/>
            <p:nvPr/>
          </p:nvGrpSpPr>
          <p:grpSpPr>
            <a:xfrm>
              <a:off x="0" y="0"/>
              <a:ext cx="6780960" cy="207360"/>
              <a:chOff x="0" y="0"/>
              <a:chExt cx="6780960" cy="207360"/>
            </a:xfrm>
          </p:grpSpPr>
          <p:sp>
            <p:nvSpPr>
              <p:cNvPr id="409" name=""/>
              <p:cNvSpPr/>
              <p:nvPr/>
            </p:nvSpPr>
            <p:spPr>
              <a:xfrm>
                <a:off x="0" y="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0" y="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total = total + grade;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0" y="207360"/>
              <a:ext cx="6780960" cy="207360"/>
              <a:chOff x="0" y="207360"/>
              <a:chExt cx="6780960" cy="207360"/>
            </a:xfrm>
          </p:grpSpPr>
          <p:sp>
            <p:nvSpPr>
              <p:cNvPr id="412" name=""/>
              <p:cNvSpPr/>
              <p:nvPr/>
            </p:nvSpPr>
            <p:spPr>
              <a:xfrm>
                <a:off x="0" y="2073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2073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radeCounter = gradeCounter + 1;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0" y="414720"/>
              <a:ext cx="6780960" cy="207360"/>
              <a:chOff x="0" y="414720"/>
              <a:chExt cx="6780960" cy="207360"/>
            </a:xfrm>
          </p:grpSpPr>
          <p:sp>
            <p:nvSpPr>
              <p:cNvPr id="415" name=""/>
              <p:cNvSpPr/>
              <p:nvPr/>
            </p:nvSpPr>
            <p:spPr>
              <a:xfrm>
                <a:off x="0" y="41472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41472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Enter grade, -1 to end: "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0" y="622080"/>
              <a:ext cx="6780960" cy="207360"/>
              <a:chOff x="0" y="622080"/>
              <a:chExt cx="6780960" cy="207360"/>
            </a:xfrm>
          </p:grpSpPr>
          <p:sp>
            <p:nvSpPr>
              <p:cNvPr id="418" name=""/>
              <p:cNvSpPr/>
              <p:nvPr/>
            </p:nvSpPr>
            <p:spPr>
              <a:xfrm>
                <a:off x="0" y="62208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62208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in &gt;&gt; grade;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0" y="829800"/>
              <a:ext cx="6780960" cy="207360"/>
              <a:chOff x="0" y="829800"/>
              <a:chExt cx="6780960" cy="207360"/>
            </a:xfrm>
          </p:grpSpPr>
          <p:sp>
            <p:nvSpPr>
              <p:cNvPr id="421" name=""/>
              <p:cNvSpPr/>
              <p:nvPr/>
            </p:nvSpPr>
            <p:spPr>
              <a:xfrm>
                <a:off x="0" y="8298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0" y="8298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0" y="1037160"/>
              <a:ext cx="6780960" cy="207360"/>
              <a:chOff x="0" y="1037160"/>
              <a:chExt cx="6780960" cy="207360"/>
            </a:xfrm>
          </p:grpSpPr>
          <p:sp>
            <p:nvSpPr>
              <p:cNvPr id="424" name=""/>
              <p:cNvSpPr/>
              <p:nvPr/>
            </p:nvSpPr>
            <p:spPr>
              <a:xfrm>
                <a:off x="0" y="10371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0" y="10371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0" y="1244520"/>
              <a:ext cx="6780960" cy="207360"/>
              <a:chOff x="0" y="1244520"/>
              <a:chExt cx="6780960" cy="207360"/>
            </a:xfrm>
          </p:grpSpPr>
          <p:sp>
            <p:nvSpPr>
              <p:cNvPr id="427" name=""/>
              <p:cNvSpPr/>
              <p:nvPr/>
            </p:nvSpPr>
            <p:spPr>
              <a:xfrm>
                <a:off x="0" y="124452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124452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termination ph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0" y="1451880"/>
              <a:ext cx="6780960" cy="207360"/>
              <a:chOff x="0" y="1451880"/>
              <a:chExt cx="6780960" cy="207360"/>
            </a:xfrm>
          </p:grpSpPr>
          <p:sp>
            <p:nvSpPr>
              <p:cNvPr id="430" name=""/>
              <p:cNvSpPr/>
              <p:nvPr/>
            </p:nvSpPr>
            <p:spPr>
              <a:xfrm>
                <a:off x="0" y="145188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0" y="145188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gradeCounter != 0 ) {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0" y="1659600"/>
              <a:ext cx="6780960" cy="207360"/>
              <a:chOff x="0" y="1659600"/>
              <a:chExt cx="6780960" cy="207360"/>
            </a:xfrm>
          </p:grpSpPr>
          <p:sp>
            <p:nvSpPr>
              <p:cNvPr id="433" name=""/>
              <p:cNvSpPr/>
              <p:nvPr/>
            </p:nvSpPr>
            <p:spPr>
              <a:xfrm>
                <a:off x="0" y="16596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0" y="16596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average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atic_ca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gt;( total ) / gradeCount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0" y="1866960"/>
              <a:ext cx="6780960" cy="207360"/>
              <a:chOff x="0" y="1866960"/>
              <a:chExt cx="6780960" cy="207360"/>
            </a:xfrm>
          </p:grpSpPr>
          <p:sp>
            <p:nvSpPr>
              <p:cNvPr id="436" name=""/>
              <p:cNvSpPr/>
              <p:nvPr/>
            </p:nvSpPr>
            <p:spPr>
              <a:xfrm>
                <a:off x="0" y="18669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0" y="18669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Class average is " &lt;&lt; setprecision( 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2074320"/>
              <a:ext cx="6780960" cy="207360"/>
              <a:chOff x="0" y="2074320"/>
              <a:chExt cx="6780960" cy="20736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207432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0" y="207432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&lt;&lt; setiosflags( ios::fixed | ios::showpoin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0" y="2282040"/>
              <a:ext cx="6780960" cy="207360"/>
              <a:chOff x="0" y="2282040"/>
              <a:chExt cx="6780960" cy="207360"/>
            </a:xfrm>
          </p:grpSpPr>
          <p:sp>
            <p:nvSpPr>
              <p:cNvPr id="442" name=""/>
              <p:cNvSpPr/>
              <p:nvPr/>
            </p:nvSpPr>
            <p:spPr>
              <a:xfrm>
                <a:off x="0" y="228204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0" y="228204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&lt;&lt; average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0" y="2489400"/>
              <a:ext cx="6780960" cy="207360"/>
              <a:chOff x="0" y="2489400"/>
              <a:chExt cx="6780960" cy="207360"/>
            </a:xfrm>
          </p:grpSpPr>
          <p:sp>
            <p:nvSpPr>
              <p:cNvPr id="445" name=""/>
              <p:cNvSpPr/>
              <p:nvPr/>
            </p:nvSpPr>
            <p:spPr>
              <a:xfrm>
                <a:off x="0" y="24894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0" y="24894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0" y="2696760"/>
              <a:ext cx="6780960" cy="207360"/>
              <a:chOff x="0" y="2696760"/>
              <a:chExt cx="6780960" cy="207360"/>
            </a:xfrm>
          </p:grpSpPr>
          <p:sp>
            <p:nvSpPr>
              <p:cNvPr id="448" name=""/>
              <p:cNvSpPr/>
              <p:nvPr/>
            </p:nvSpPr>
            <p:spPr>
              <a:xfrm>
                <a:off x="0" y="26967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26967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0" y="2904120"/>
              <a:ext cx="6780960" cy="207360"/>
              <a:chOff x="0" y="2904120"/>
              <a:chExt cx="6780960" cy="207360"/>
            </a:xfrm>
          </p:grpSpPr>
          <p:sp>
            <p:nvSpPr>
              <p:cNvPr id="451" name=""/>
              <p:cNvSpPr/>
              <p:nvPr/>
            </p:nvSpPr>
            <p:spPr>
              <a:xfrm>
                <a:off x="0" y="290412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0" y="290412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No grades were entered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0" y="3111840"/>
              <a:ext cx="6780960" cy="207360"/>
              <a:chOff x="0" y="3111840"/>
              <a:chExt cx="6780960" cy="207360"/>
            </a:xfrm>
          </p:grpSpPr>
          <p:sp>
            <p:nvSpPr>
              <p:cNvPr id="454" name=""/>
              <p:cNvSpPr/>
              <p:nvPr/>
            </p:nvSpPr>
            <p:spPr>
              <a:xfrm>
                <a:off x="0" y="311184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0" y="311184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0" y="3319200"/>
              <a:ext cx="6780960" cy="207360"/>
              <a:chOff x="0" y="3319200"/>
              <a:chExt cx="6780960" cy="207360"/>
            </a:xfrm>
          </p:grpSpPr>
          <p:sp>
            <p:nvSpPr>
              <p:cNvPr id="457" name=""/>
              <p:cNvSpPr/>
              <p:nvPr/>
            </p:nvSpPr>
            <p:spPr>
              <a:xfrm>
                <a:off x="0" y="33192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0" y="33192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dicate program ended successful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0" y="3526560"/>
              <a:ext cx="6780960" cy="207360"/>
              <a:chOff x="0" y="3526560"/>
              <a:chExt cx="6780960" cy="207360"/>
            </a:xfrm>
          </p:grpSpPr>
          <p:sp>
            <p:nvSpPr>
              <p:cNvPr id="460" name=""/>
              <p:cNvSpPr/>
              <p:nvPr/>
            </p:nvSpPr>
            <p:spPr>
              <a:xfrm>
                <a:off x="0" y="35265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0" y="35265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2" name=""/>
          <p:cNvSpPr/>
          <p:nvPr/>
        </p:nvSpPr>
        <p:spPr>
          <a:xfrm>
            <a:off x="0" y="4191120"/>
            <a:ext cx="6781680" cy="2101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, -1 to end: 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, -1 to end: 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, -1 to end: 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, -1 to end: 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, -1 to end: 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, -1 to end: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, -1 to end: 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, -1 to end: 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, -1 to end: 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average is 82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2666880" y="2285640"/>
            <a:ext cx="6096240" cy="3076200"/>
            <a:chOff x="2666880" y="2285640"/>
            <a:chExt cx="6096240" cy="3076200"/>
          </a:xfrm>
        </p:grpSpPr>
        <p:sp>
          <p:nvSpPr>
            <p:cNvPr id="464" name=""/>
            <p:cNvSpPr/>
            <p:nvPr/>
          </p:nvSpPr>
          <p:spPr>
            <a:xfrm>
              <a:off x="2666880" y="2590920"/>
              <a:ext cx="6096240" cy="2770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tiosflags(ios::fixed | ios::showpoint)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stream manipul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os::fixed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-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utput numbers with a fixed number of decimal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points.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os::show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-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ces decimal point and trailing zeros, even if unnecessary: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66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inted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66.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|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-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parates multiple op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 flipV="1">
              <a:off x="4419360" y="2285640"/>
              <a:ext cx="1066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4572000" y="2057400"/>
            <a:ext cx="4267080" cy="3498120"/>
            <a:chOff x="4572000" y="2057400"/>
            <a:chExt cx="4267080" cy="3498120"/>
          </a:xfrm>
        </p:grpSpPr>
        <p:sp>
          <p:nvSpPr>
            <p:cNvPr id="467" name=""/>
            <p:cNvSpPr/>
            <p:nvPr/>
          </p:nvSpPr>
          <p:spPr>
            <a:xfrm>
              <a:off x="4572000" y="4244760"/>
              <a:ext cx="42670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tprecision(2)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prints only two digits past decimal poi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grams that use this must includ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omanip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 flipV="1">
              <a:off x="5105160" y="2057400"/>
              <a:ext cx="114300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380880" y="1905120"/>
            <a:ext cx="5029200" cy="2878920"/>
            <a:chOff x="380880" y="1905120"/>
            <a:chExt cx="5029200" cy="2878920"/>
          </a:xfrm>
        </p:grpSpPr>
        <p:grpSp>
          <p:nvGrpSpPr>
            <p:cNvPr id="470" name=""/>
            <p:cNvGrpSpPr/>
            <p:nvPr/>
          </p:nvGrpSpPr>
          <p:grpSpPr>
            <a:xfrm>
              <a:off x="380880" y="2743200"/>
              <a:ext cx="5029200" cy="2040840"/>
              <a:chOff x="380880" y="2743200"/>
              <a:chExt cx="5029200" cy="2040840"/>
            </a:xfrm>
          </p:grpSpPr>
          <p:sp>
            <p:nvSpPr>
              <p:cNvPr id="471" name=""/>
              <p:cNvSpPr/>
              <p:nvPr/>
            </p:nvSpPr>
            <p:spPr>
              <a:xfrm flipH="1">
                <a:off x="2133360" y="3581280"/>
                <a:ext cx="53352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80880" y="2743200"/>
                <a:ext cx="5029200" cy="2040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tatic_cast&lt;double&gt;()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- treats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otal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as a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temporarily.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equired because dividing two integers truncates the remainder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gradeCounte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is an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in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, but it gets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romo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to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oubl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Courier New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 flipV="1">
              <a:off x="1752480" y="190512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CEC08-130A-4A3E-B90E-7A92EFFCADC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10  Nested control struc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 college has a list of test results (1 = pass, 2 = fail) for 10 students.  Write a program that analyzes the results.  If more than 8 students pass, print "Raise Tuition"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see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program must process 10 test results. A counter-controlled loop will be used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wo counters can be used—one to count the number of students who passed the exam and one to count the number of students who failed the exam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test result is a number—either a 1 or a 2.  If the number is not a 1, we assume that it is a 2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 level outli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nalyze exam results and decide if tuition should be rais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A1E81-2E94-436A-A129-B88312A179C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fore writing a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e a thorough understanding of proble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refully plan your approach for solving 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le writing a progra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now what “building blocks” are avail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good programming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6CB80-0990-47D3-9E3A-DE6C0BA336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10  Nested control struc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Refine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put the ten quiz grades and count passes and fail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a summary of the exam results and decide if tuition should be rais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Initializ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passes to 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failures to 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student counter to 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F1200-A565-4671-954B-E94AEC6D15C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10  Nested control struc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Input the ten quiz grades and count passes and fail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While student counter is less than or equal to ten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put the next exam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f the student pa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dd one to passes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Else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Add one to fail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dd one to student coun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Print a summary of the exam results and decide if tuition should be raised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the number of p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the number of fail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f more than eight students passed 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“Raise tuition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2FDD7-8FEB-4F60-A9B1-AD9567C1A3C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Input data and count passes/failur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482" name=""/>
            <p:cNvGrpSpPr/>
            <p:nvPr/>
          </p:nvGrpSpPr>
          <p:grpSpPr>
            <a:xfrm>
              <a:off x="0" y="0"/>
              <a:ext cx="6780960" cy="298080"/>
              <a:chOff x="0" y="0"/>
              <a:chExt cx="6780960" cy="298080"/>
            </a:xfrm>
          </p:grpSpPr>
          <p:sp>
            <p:nvSpPr>
              <p:cNvPr id="483" name=""/>
              <p:cNvSpPr/>
              <p:nvPr/>
            </p:nvSpPr>
            <p:spPr>
              <a:xfrm>
                <a:off x="0" y="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2.11: fig02_1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0" y="298080"/>
              <a:ext cx="6780960" cy="298080"/>
              <a:chOff x="0" y="298080"/>
              <a:chExt cx="6780960" cy="298080"/>
            </a:xfrm>
          </p:grpSpPr>
          <p:sp>
            <p:nvSpPr>
              <p:cNvPr id="486" name=""/>
              <p:cNvSpPr/>
              <p:nvPr/>
            </p:nvSpPr>
            <p:spPr>
              <a:xfrm>
                <a:off x="0" y="2980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2980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nalysis of examination resul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0" y="596160"/>
              <a:ext cx="6780960" cy="298080"/>
              <a:chOff x="0" y="596160"/>
              <a:chExt cx="6780960" cy="298080"/>
            </a:xfrm>
          </p:grpSpPr>
          <p:sp>
            <p:nvSpPr>
              <p:cNvPr id="489" name=""/>
              <p:cNvSpPr/>
              <p:nvPr/>
            </p:nvSpPr>
            <p:spPr>
              <a:xfrm>
                <a:off x="0" y="5961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0" y="5961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0" y="894600"/>
              <a:ext cx="6780960" cy="298080"/>
              <a:chOff x="0" y="894600"/>
              <a:chExt cx="6780960" cy="298080"/>
            </a:xfrm>
          </p:grpSpPr>
          <p:sp>
            <p:nvSpPr>
              <p:cNvPr id="492" name=""/>
              <p:cNvSpPr/>
              <p:nvPr/>
            </p:nvSpPr>
            <p:spPr>
              <a:xfrm>
                <a:off x="0" y="8946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0" y="8946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0" y="1192680"/>
              <a:ext cx="6780960" cy="298080"/>
              <a:chOff x="0" y="1192680"/>
              <a:chExt cx="6780960" cy="298080"/>
            </a:xfrm>
          </p:grpSpPr>
          <p:sp>
            <p:nvSpPr>
              <p:cNvPr id="495" name=""/>
              <p:cNvSpPr/>
              <p:nvPr/>
            </p:nvSpPr>
            <p:spPr>
              <a:xfrm>
                <a:off x="0" y="11926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11926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0" y="1490760"/>
              <a:ext cx="6780960" cy="298080"/>
              <a:chOff x="0" y="1490760"/>
              <a:chExt cx="6780960" cy="298080"/>
            </a:xfrm>
          </p:grpSpPr>
          <p:sp>
            <p:nvSpPr>
              <p:cNvPr id="498" name=""/>
              <p:cNvSpPr/>
              <p:nvPr/>
            </p:nvSpPr>
            <p:spPr>
              <a:xfrm>
                <a:off x="0" y="14907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0" y="14907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0" y="1788840"/>
              <a:ext cx="6780960" cy="298080"/>
              <a:chOff x="0" y="1788840"/>
              <a:chExt cx="6780960" cy="298080"/>
            </a:xfrm>
          </p:grpSpPr>
          <p:sp>
            <p:nvSpPr>
              <p:cNvPr id="501" name=""/>
              <p:cNvSpPr/>
              <p:nvPr/>
            </p:nvSpPr>
            <p:spPr>
              <a:xfrm>
                <a:off x="0" y="1788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0" y="1788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0" y="2087280"/>
              <a:ext cx="6780960" cy="298080"/>
              <a:chOff x="0" y="2087280"/>
              <a:chExt cx="6780960" cy="298080"/>
            </a:xfrm>
          </p:grpSpPr>
          <p:sp>
            <p:nvSpPr>
              <p:cNvPr id="504" name=""/>
              <p:cNvSpPr/>
              <p:nvPr/>
            </p:nvSpPr>
            <p:spPr>
              <a:xfrm>
                <a:off x="0" y="20872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0" y="20872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0" y="2385360"/>
              <a:ext cx="6780960" cy="298080"/>
              <a:chOff x="0" y="2385360"/>
              <a:chExt cx="6780960" cy="298080"/>
            </a:xfrm>
          </p:grpSpPr>
          <p:sp>
            <p:nvSpPr>
              <p:cNvPr id="507" name=""/>
              <p:cNvSpPr/>
              <p:nvPr/>
            </p:nvSpPr>
            <p:spPr>
              <a:xfrm>
                <a:off x="0" y="23853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0" y="23853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0" y="2683440"/>
              <a:ext cx="6780960" cy="298080"/>
              <a:chOff x="0" y="2683440"/>
              <a:chExt cx="6780960" cy="298080"/>
            </a:xfrm>
          </p:grpSpPr>
          <p:sp>
            <p:nvSpPr>
              <p:cNvPr id="510" name=""/>
              <p:cNvSpPr/>
              <p:nvPr/>
            </p:nvSpPr>
            <p:spPr>
              <a:xfrm>
                <a:off x="0" y="26834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0" y="26834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0" y="2981520"/>
              <a:ext cx="6780960" cy="298080"/>
              <a:chOff x="0" y="2981520"/>
              <a:chExt cx="6780960" cy="298080"/>
            </a:xfrm>
          </p:grpSpPr>
          <p:sp>
            <p:nvSpPr>
              <p:cNvPr id="513" name=""/>
              <p:cNvSpPr/>
              <p:nvPr/>
            </p:nvSpPr>
            <p:spPr>
              <a:xfrm>
                <a:off x="0" y="29815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0" y="29815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initialize variables in declara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0" y="3279960"/>
              <a:ext cx="6780960" cy="298080"/>
              <a:chOff x="0" y="3279960"/>
              <a:chExt cx="6780960" cy="298080"/>
            </a:xfrm>
          </p:grpSpPr>
          <p:sp>
            <p:nvSpPr>
              <p:cNvPr id="516" name=""/>
              <p:cNvSpPr/>
              <p:nvPr/>
            </p:nvSpPr>
            <p:spPr>
              <a:xfrm>
                <a:off x="0" y="32799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32799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asses = 0,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p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0" y="3578040"/>
              <a:ext cx="6780960" cy="298080"/>
              <a:chOff x="0" y="3578040"/>
              <a:chExt cx="6780960" cy="298080"/>
            </a:xfrm>
          </p:grpSpPr>
          <p:sp>
            <p:nvSpPr>
              <p:cNvPr id="519" name=""/>
              <p:cNvSpPr/>
              <p:nvPr/>
            </p:nvSpPr>
            <p:spPr>
              <a:xfrm>
                <a:off x="0" y="35780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0" y="35780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failures = 0,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failur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0" y="3876120"/>
              <a:ext cx="6780960" cy="298080"/>
              <a:chOff x="0" y="3876120"/>
              <a:chExt cx="6780960" cy="298080"/>
            </a:xfrm>
          </p:grpSpPr>
          <p:sp>
            <p:nvSpPr>
              <p:cNvPr id="522" name=""/>
              <p:cNvSpPr/>
              <p:nvPr/>
            </p:nvSpPr>
            <p:spPr>
              <a:xfrm>
                <a:off x="0" y="38761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0" y="38761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studentCounter = 1,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udent cou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0" y="4174200"/>
              <a:ext cx="6780960" cy="298080"/>
              <a:chOff x="0" y="4174200"/>
              <a:chExt cx="6780960" cy="298080"/>
            </a:xfrm>
          </p:grpSpPr>
          <p:sp>
            <p:nvSpPr>
              <p:cNvPr id="525" name=""/>
              <p:cNvSpPr/>
              <p:nvPr/>
            </p:nvSpPr>
            <p:spPr>
              <a:xfrm>
                <a:off x="0" y="41742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0" y="41742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result;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ne exam resul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0" y="4472640"/>
              <a:ext cx="6780960" cy="298080"/>
              <a:chOff x="0" y="4472640"/>
              <a:chExt cx="6780960" cy="298080"/>
            </a:xfrm>
          </p:grpSpPr>
          <p:sp>
            <p:nvSpPr>
              <p:cNvPr id="528" name=""/>
              <p:cNvSpPr/>
              <p:nvPr/>
            </p:nvSpPr>
            <p:spPr>
              <a:xfrm>
                <a:off x="0" y="44726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44726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0" y="4770720"/>
              <a:ext cx="6780960" cy="298080"/>
              <a:chOff x="0" y="4770720"/>
              <a:chExt cx="6780960" cy="298080"/>
            </a:xfrm>
          </p:grpSpPr>
          <p:sp>
            <p:nvSpPr>
              <p:cNvPr id="531" name=""/>
              <p:cNvSpPr/>
              <p:nvPr/>
            </p:nvSpPr>
            <p:spPr>
              <a:xfrm>
                <a:off x="0" y="47707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0" y="47707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process 10 students; counter-controlled loo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0" y="5068800"/>
              <a:ext cx="6780960" cy="298080"/>
              <a:chOff x="0" y="5068800"/>
              <a:chExt cx="6780960" cy="298080"/>
            </a:xfrm>
          </p:grpSpPr>
          <p:sp>
            <p:nvSpPr>
              <p:cNvPr id="534" name=""/>
              <p:cNvSpPr/>
              <p:nvPr/>
            </p:nvSpPr>
            <p:spPr>
              <a:xfrm>
                <a:off x="0" y="50688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0" y="50688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studentCounter &lt;= 10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0" y="5367240"/>
              <a:ext cx="6780960" cy="298080"/>
              <a:chOff x="0" y="5367240"/>
              <a:chExt cx="6780960" cy="298080"/>
            </a:xfrm>
          </p:grpSpPr>
          <p:sp>
            <p:nvSpPr>
              <p:cNvPr id="537" name=""/>
              <p:cNvSpPr/>
              <p:nvPr/>
            </p:nvSpPr>
            <p:spPr>
              <a:xfrm>
                <a:off x="0" y="53672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0" y="53672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Enter result (1=pass,2=fail)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0" y="5665320"/>
              <a:ext cx="6780960" cy="298080"/>
              <a:chOff x="0" y="5665320"/>
              <a:chExt cx="6780960" cy="298080"/>
            </a:xfrm>
          </p:grpSpPr>
          <p:sp>
            <p:nvSpPr>
              <p:cNvPr id="540" name=""/>
              <p:cNvSpPr/>
              <p:nvPr/>
            </p:nvSpPr>
            <p:spPr>
              <a:xfrm>
                <a:off x="0" y="56653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0" y="56653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in &gt;&gt; resul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0" y="5963400"/>
              <a:ext cx="6780960" cy="298080"/>
              <a:chOff x="0" y="5963400"/>
              <a:chExt cx="6780960" cy="298080"/>
            </a:xfrm>
          </p:grpSpPr>
          <p:sp>
            <p:nvSpPr>
              <p:cNvPr id="543" name=""/>
              <p:cNvSpPr/>
              <p:nvPr/>
            </p:nvSpPr>
            <p:spPr>
              <a:xfrm>
                <a:off x="0" y="59634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0" y="59634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0" y="6261840"/>
              <a:ext cx="6780960" cy="298080"/>
              <a:chOff x="0" y="6261840"/>
              <a:chExt cx="6780960" cy="298080"/>
            </a:xfrm>
          </p:grpSpPr>
          <p:sp>
            <p:nvSpPr>
              <p:cNvPr id="546" name=""/>
              <p:cNvSpPr/>
              <p:nvPr/>
            </p:nvSpPr>
            <p:spPr>
              <a:xfrm>
                <a:off x="0" y="6261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0" y="6261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result == 1 )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f/else nested in whi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0" y="6559920"/>
              <a:ext cx="6780960" cy="298080"/>
              <a:chOff x="0" y="6559920"/>
              <a:chExt cx="6780960" cy="298080"/>
            </a:xfrm>
          </p:grpSpPr>
          <p:sp>
            <p:nvSpPr>
              <p:cNvPr id="549" name=""/>
              <p:cNvSpPr/>
              <p:nvPr/>
            </p:nvSpPr>
            <p:spPr>
              <a:xfrm>
                <a:off x="0" y="65599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0" y="65599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passes = passes +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B7007-F41F-4FC2-A778-AA2F69A3358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Print result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0" y="0"/>
            <a:ext cx="6780960" cy="3733560"/>
            <a:chOff x="0" y="0"/>
            <a:chExt cx="6780960" cy="3733560"/>
          </a:xfrm>
        </p:grpSpPr>
        <p:grpSp>
          <p:nvGrpSpPr>
            <p:cNvPr id="553" name=""/>
            <p:cNvGrpSpPr/>
            <p:nvPr/>
          </p:nvGrpSpPr>
          <p:grpSpPr>
            <a:xfrm>
              <a:off x="0" y="0"/>
              <a:ext cx="6780960" cy="248760"/>
              <a:chOff x="0" y="0"/>
              <a:chExt cx="6780960" cy="248760"/>
            </a:xfrm>
          </p:grpSpPr>
          <p:sp>
            <p:nvSpPr>
              <p:cNvPr id="554" name=""/>
              <p:cNvSpPr/>
              <p:nvPr/>
            </p:nvSpPr>
            <p:spPr>
              <a:xfrm>
                <a:off x="0" y="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0" y="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0" y="248760"/>
              <a:ext cx="6780960" cy="248760"/>
              <a:chOff x="0" y="248760"/>
              <a:chExt cx="6780960" cy="248760"/>
            </a:xfrm>
          </p:grpSpPr>
          <p:sp>
            <p:nvSpPr>
              <p:cNvPr id="557" name=""/>
              <p:cNvSpPr/>
              <p:nvPr/>
            </p:nvSpPr>
            <p:spPr>
              <a:xfrm>
                <a:off x="0" y="24876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0" y="24876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failures = failures +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0" y="497520"/>
              <a:ext cx="6780960" cy="248760"/>
              <a:chOff x="0" y="497520"/>
              <a:chExt cx="6780960" cy="248760"/>
            </a:xfrm>
          </p:grpSpPr>
          <p:sp>
            <p:nvSpPr>
              <p:cNvPr id="560" name=""/>
              <p:cNvSpPr/>
              <p:nvPr/>
            </p:nvSpPr>
            <p:spPr>
              <a:xfrm>
                <a:off x="0" y="49752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0" y="49752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0" y="746640"/>
              <a:ext cx="6780960" cy="248760"/>
              <a:chOff x="0" y="746640"/>
              <a:chExt cx="6780960" cy="248760"/>
            </a:xfrm>
          </p:grpSpPr>
          <p:sp>
            <p:nvSpPr>
              <p:cNvPr id="563" name=""/>
              <p:cNvSpPr/>
              <p:nvPr/>
            </p:nvSpPr>
            <p:spPr>
              <a:xfrm>
                <a:off x="0" y="74664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0" y="74664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tudentCounter = studentCounter +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0" y="995400"/>
              <a:ext cx="6780960" cy="248760"/>
              <a:chOff x="0" y="995400"/>
              <a:chExt cx="6780960" cy="248760"/>
            </a:xfrm>
          </p:grpSpPr>
          <p:sp>
            <p:nvSpPr>
              <p:cNvPr id="566" name=""/>
              <p:cNvSpPr/>
              <p:nvPr/>
            </p:nvSpPr>
            <p:spPr>
              <a:xfrm>
                <a:off x="0" y="99540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0" y="99540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0" y="1244520"/>
              <a:ext cx="6780960" cy="248760"/>
              <a:chOff x="0" y="1244520"/>
              <a:chExt cx="6780960" cy="248760"/>
            </a:xfrm>
          </p:grpSpPr>
          <p:sp>
            <p:nvSpPr>
              <p:cNvPr id="569" name=""/>
              <p:cNvSpPr/>
              <p:nvPr/>
            </p:nvSpPr>
            <p:spPr>
              <a:xfrm>
                <a:off x="0" y="124452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0" y="124452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0" y="1493280"/>
              <a:ext cx="6780960" cy="248760"/>
              <a:chOff x="0" y="1493280"/>
              <a:chExt cx="6780960" cy="248760"/>
            </a:xfrm>
          </p:grpSpPr>
          <p:sp>
            <p:nvSpPr>
              <p:cNvPr id="572" name=""/>
              <p:cNvSpPr/>
              <p:nvPr/>
            </p:nvSpPr>
            <p:spPr>
              <a:xfrm>
                <a:off x="0" y="149328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0" y="149328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termination ph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0" y="1742400"/>
              <a:ext cx="6780960" cy="248760"/>
              <a:chOff x="0" y="1742400"/>
              <a:chExt cx="6780960" cy="248760"/>
            </a:xfrm>
          </p:grpSpPr>
          <p:sp>
            <p:nvSpPr>
              <p:cNvPr id="575" name=""/>
              <p:cNvSpPr/>
              <p:nvPr/>
            </p:nvSpPr>
            <p:spPr>
              <a:xfrm>
                <a:off x="0" y="174240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0" y="174240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Passed " &lt;&lt; passes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0" y="1991160"/>
              <a:ext cx="6780960" cy="248760"/>
              <a:chOff x="0" y="1991160"/>
              <a:chExt cx="6780960" cy="248760"/>
            </a:xfrm>
          </p:grpSpPr>
          <p:sp>
            <p:nvSpPr>
              <p:cNvPr id="578" name=""/>
              <p:cNvSpPr/>
              <p:nvPr/>
            </p:nvSpPr>
            <p:spPr>
              <a:xfrm>
                <a:off x="0" y="199116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0" y="199116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Failed " &lt;&lt; failures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0" y="2240280"/>
              <a:ext cx="6780960" cy="248760"/>
              <a:chOff x="0" y="2240280"/>
              <a:chExt cx="6780960" cy="248760"/>
            </a:xfrm>
          </p:grpSpPr>
          <p:sp>
            <p:nvSpPr>
              <p:cNvPr id="581" name=""/>
              <p:cNvSpPr/>
              <p:nvPr/>
            </p:nvSpPr>
            <p:spPr>
              <a:xfrm>
                <a:off x="0" y="224028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0" y="224028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0" y="2489040"/>
              <a:ext cx="6780960" cy="248760"/>
              <a:chOff x="0" y="2489040"/>
              <a:chExt cx="6780960" cy="248760"/>
            </a:xfrm>
          </p:grpSpPr>
          <p:sp>
            <p:nvSpPr>
              <p:cNvPr id="584" name=""/>
              <p:cNvSpPr/>
              <p:nvPr/>
            </p:nvSpPr>
            <p:spPr>
              <a:xfrm>
                <a:off x="0" y="248904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0" y="248904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passes &gt; 8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0" y="2738160"/>
              <a:ext cx="6780960" cy="248760"/>
              <a:chOff x="0" y="2738160"/>
              <a:chExt cx="6780960" cy="248760"/>
            </a:xfrm>
          </p:grpSpPr>
          <p:sp>
            <p:nvSpPr>
              <p:cNvPr id="587" name=""/>
              <p:cNvSpPr/>
              <p:nvPr/>
            </p:nvSpPr>
            <p:spPr>
              <a:xfrm>
                <a:off x="0" y="273816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0" y="273816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Raise tuition 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0" y="2986920"/>
              <a:ext cx="6780960" cy="248760"/>
              <a:chOff x="0" y="2986920"/>
              <a:chExt cx="6780960" cy="248760"/>
            </a:xfrm>
          </p:grpSpPr>
          <p:sp>
            <p:nvSpPr>
              <p:cNvPr id="590" name=""/>
              <p:cNvSpPr/>
              <p:nvPr/>
            </p:nvSpPr>
            <p:spPr>
              <a:xfrm>
                <a:off x="0" y="298692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0" y="298692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0" y="3236040"/>
              <a:ext cx="6780960" cy="248760"/>
              <a:chOff x="0" y="3236040"/>
              <a:chExt cx="6780960" cy="248760"/>
            </a:xfrm>
          </p:grpSpPr>
          <p:sp>
            <p:nvSpPr>
              <p:cNvPr id="593" name=""/>
              <p:cNvSpPr/>
              <p:nvPr/>
            </p:nvSpPr>
            <p:spPr>
              <a:xfrm>
                <a:off x="0" y="323604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0" y="323604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uccessful termin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0" y="3484800"/>
              <a:ext cx="6780960" cy="248760"/>
              <a:chOff x="0" y="3484800"/>
              <a:chExt cx="6780960" cy="248760"/>
            </a:xfrm>
          </p:grpSpPr>
          <p:sp>
            <p:nvSpPr>
              <p:cNvPr id="596" name=""/>
              <p:cNvSpPr/>
              <p:nvPr/>
            </p:nvSpPr>
            <p:spPr>
              <a:xfrm>
                <a:off x="0" y="348480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0" y="348480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8" name=""/>
          <p:cNvSpPr/>
          <p:nvPr/>
        </p:nvSpPr>
        <p:spPr>
          <a:xfrm>
            <a:off x="0" y="3962520"/>
            <a:ext cx="6781680" cy="2649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ssed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iled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ise tu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1EEE3-F141-4E48-B43B-B1DD023E41D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1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Assignment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ment expression abbrevi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= c + 3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 be abbreviated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+= 3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sing the addition assignment 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ments of the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iable = variable operator express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rewritten 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iable operator= express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of other assignment operators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-= 4     (d = d - 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*= 5     (e = e * 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/= 3     (f = f /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 %= 9     (g = g % 9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2286000" y="2984400"/>
            <a:ext cx="4572000" cy="888840"/>
            <a:chOff x="2286000" y="2984400"/>
            <a:chExt cx="4572000" cy="888840"/>
          </a:xfrm>
        </p:grpSpPr>
        <p:sp>
          <p:nvSpPr>
            <p:cNvPr id="602" name=""/>
            <p:cNvSpPr/>
            <p:nvPr/>
          </p:nvSpPr>
          <p:spPr>
            <a:xfrm>
              <a:off x="2286000" y="298440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429000" y="298440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572000" y="298440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298440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286000" y="316224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429000" y="316224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572000" y="316224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15000" y="316224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286000" y="334008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429000" y="334008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572000" y="334008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715000" y="334008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86000" y="351792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429000" y="351792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572000" y="351792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5000" y="351792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286000" y="3695760"/>
              <a:ext cx="114300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429000" y="3695760"/>
              <a:ext cx="114300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572000" y="3695760"/>
              <a:ext cx="114300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715000" y="3695760"/>
              <a:ext cx="114300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E4B56-D412-452F-A0DE-F84F9FBEDF8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2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Increment and Decrement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305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ment operator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- can be used instead o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 +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ement operator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- can be used instead o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 -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incr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he operator is used before the variabl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–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 is changed, then the expression it is in is evalu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sincr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he operator is used after the variabl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+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ression the variable is in executes, then the variable is chang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 = 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 &lt;&lt; ++c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rints ou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changed befo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execut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 &lt;&lt; c++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rints ou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executed before the increment.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ow has the value o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2B8FC-4C04-4016-A99C-0065E8F5ADD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2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Increment and Decrement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Variable is not in an ex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incrementing and postincrementing have the same effec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c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++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e the same effec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9FCFA-512A-4D80-BB89-B78BA1379CB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Essentials of Counter-Controlled Repeti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er-controlled repetition 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name of a control variable (or loop counter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initial value of the control variab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condition that tests for the final value of the control variable (i.e., whether looping should continue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increment (or decrement) by which the control variable is modified each time through the loop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ounter =1;          //initi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counter &lt;= 10){   //repetition 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counter &lt;&lt;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counter;            //inc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3A9B8-038D-4DF5-B480-AB551909B2E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Essentials of Counter-Controlled Repeti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cl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ounter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n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be an inte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erves space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n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n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an initial value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D27F1-44E8-4BEE-8E7D-3154C89F1D3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4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for Repeti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eneral format when us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s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 initialization; LoopContinuationTest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increment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eme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 int counter = 1; counter &lt;= 10; counter++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counter &lt;&lt;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s the integers from one to 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0" y="2330280"/>
            <a:ext cx="5486400" cy="1374840"/>
            <a:chOff x="0" y="2330280"/>
            <a:chExt cx="5486400" cy="1374840"/>
          </a:xfrm>
        </p:grpSpPr>
        <p:sp>
          <p:nvSpPr>
            <p:cNvPr id="633" name=""/>
            <p:cNvSpPr/>
            <p:nvPr/>
          </p:nvSpPr>
          <p:spPr>
            <a:xfrm>
              <a:off x="0" y="2516040"/>
              <a:ext cx="54864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0" y="2330280"/>
              <a:ext cx="548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0" y="3705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391520" y="4114800"/>
            <a:ext cx="106668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micolon after last sta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7924680" y="3428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B81D8-5793-48E3-8A1B-0B977509786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2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Algorithms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compu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solved by executing a series of actions in a specific or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procedure determining th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 to be execu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 in which these actions are to be exec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ies the order in which statements are to execu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79790-4FEA-4808-B445-88990CF31C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4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for Repeti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s can usually be rewritten a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itializa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 loopContinuationTest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r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ation and increment as comma-separa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i = 0, j = 0;  j + i &lt;= 10; j++,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j + i &lt;&lt;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66006-B41B-45F7-85E7-2BC9902BC8F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AvantGarde"/>
              </a:rPr>
              <a:t>2.15</a:t>
            </a:r>
            <a:r>
              <a:rPr b="1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0000"/>
                </a:solidFill>
                <a:latin typeface="AvantGarde"/>
              </a:rPr>
              <a:t>Examples Using the for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1066680" y="1523880"/>
            <a:ext cx="6705000" cy="3962160"/>
            <a:chOff x="1066680" y="1523880"/>
            <a:chExt cx="6705000" cy="3962160"/>
          </a:xfrm>
        </p:grpSpPr>
        <p:grpSp>
          <p:nvGrpSpPr>
            <p:cNvPr id="642" name=""/>
            <p:cNvGrpSpPr/>
            <p:nvPr/>
          </p:nvGrpSpPr>
          <p:grpSpPr>
            <a:xfrm>
              <a:off x="1066680" y="1523880"/>
              <a:ext cx="6705000" cy="218880"/>
              <a:chOff x="1066680" y="1523880"/>
              <a:chExt cx="6705000" cy="218880"/>
            </a:xfrm>
          </p:grpSpPr>
          <p:sp>
            <p:nvSpPr>
              <p:cNvPr id="643" name=""/>
              <p:cNvSpPr/>
              <p:nvPr/>
            </p:nvSpPr>
            <p:spPr>
              <a:xfrm>
                <a:off x="1066680" y="152388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066680" y="152388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2.20: fig02_20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1066680" y="1742760"/>
              <a:ext cx="6705000" cy="236160"/>
              <a:chOff x="1066680" y="1742760"/>
              <a:chExt cx="6705000" cy="236160"/>
            </a:xfrm>
          </p:grpSpPr>
          <p:sp>
            <p:nvSpPr>
              <p:cNvPr id="646" name=""/>
              <p:cNvSpPr/>
              <p:nvPr/>
            </p:nvSpPr>
            <p:spPr>
              <a:xfrm>
                <a:off x="1066680" y="17427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066680" y="17427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ummation with f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1066680" y="1978920"/>
              <a:ext cx="6705000" cy="219240"/>
              <a:chOff x="1066680" y="1978920"/>
              <a:chExt cx="6705000" cy="219240"/>
            </a:xfrm>
          </p:grpSpPr>
          <p:sp>
            <p:nvSpPr>
              <p:cNvPr id="649" name=""/>
              <p:cNvSpPr/>
              <p:nvPr/>
            </p:nvSpPr>
            <p:spPr>
              <a:xfrm>
                <a:off x="1066680" y="1978920"/>
                <a:ext cx="6705000" cy="219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066680" y="1978920"/>
                <a:ext cx="6705000" cy="219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1066680" y="2198520"/>
              <a:ext cx="6705000" cy="218880"/>
              <a:chOff x="1066680" y="2198520"/>
              <a:chExt cx="6705000" cy="218880"/>
            </a:xfrm>
          </p:grpSpPr>
          <p:sp>
            <p:nvSpPr>
              <p:cNvPr id="652" name=""/>
              <p:cNvSpPr/>
              <p:nvPr/>
            </p:nvSpPr>
            <p:spPr>
              <a:xfrm>
                <a:off x="1066680" y="219852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066680" y="219852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1066680" y="2417400"/>
              <a:ext cx="6705000" cy="218880"/>
              <a:chOff x="1066680" y="2417400"/>
              <a:chExt cx="6705000" cy="218880"/>
            </a:xfrm>
          </p:grpSpPr>
          <p:sp>
            <p:nvSpPr>
              <p:cNvPr id="655" name=""/>
              <p:cNvSpPr/>
              <p:nvPr/>
            </p:nvSpPr>
            <p:spPr>
              <a:xfrm>
                <a:off x="1066680" y="241740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066680" y="241740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1066680" y="2636640"/>
              <a:ext cx="6705000" cy="218880"/>
              <a:chOff x="1066680" y="2636640"/>
              <a:chExt cx="6705000" cy="218880"/>
            </a:xfrm>
          </p:grpSpPr>
          <p:sp>
            <p:nvSpPr>
              <p:cNvPr id="658" name=""/>
              <p:cNvSpPr/>
              <p:nvPr/>
            </p:nvSpPr>
            <p:spPr>
              <a:xfrm>
                <a:off x="1066680" y="263664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066680" y="263664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1066680" y="2855880"/>
              <a:ext cx="6705000" cy="219240"/>
              <a:chOff x="1066680" y="2855880"/>
              <a:chExt cx="6705000" cy="219240"/>
            </a:xfrm>
          </p:grpSpPr>
          <p:sp>
            <p:nvSpPr>
              <p:cNvPr id="661" name=""/>
              <p:cNvSpPr/>
              <p:nvPr/>
            </p:nvSpPr>
            <p:spPr>
              <a:xfrm>
                <a:off x="1066680" y="2855880"/>
                <a:ext cx="6705000" cy="219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066680" y="2855880"/>
                <a:ext cx="6705000" cy="219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1066680" y="3075120"/>
              <a:ext cx="6705000" cy="218880"/>
              <a:chOff x="1066680" y="3075120"/>
              <a:chExt cx="6705000" cy="218880"/>
            </a:xfrm>
          </p:grpSpPr>
          <p:sp>
            <p:nvSpPr>
              <p:cNvPr id="664" name=""/>
              <p:cNvSpPr/>
              <p:nvPr/>
            </p:nvSpPr>
            <p:spPr>
              <a:xfrm>
                <a:off x="1066680" y="307512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066680" y="307512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1066680" y="3294360"/>
              <a:ext cx="6705000" cy="218880"/>
              <a:chOff x="1066680" y="3294360"/>
              <a:chExt cx="6705000" cy="218880"/>
            </a:xfrm>
          </p:grpSpPr>
          <p:sp>
            <p:nvSpPr>
              <p:cNvPr id="667" name=""/>
              <p:cNvSpPr/>
              <p:nvPr/>
            </p:nvSpPr>
            <p:spPr>
              <a:xfrm>
                <a:off x="1066680" y="329436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066680" y="329436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1066680" y="3513600"/>
              <a:ext cx="6705000" cy="218880"/>
              <a:chOff x="1066680" y="3513600"/>
              <a:chExt cx="6705000" cy="218880"/>
            </a:xfrm>
          </p:grpSpPr>
          <p:sp>
            <p:nvSpPr>
              <p:cNvPr id="670" name=""/>
              <p:cNvSpPr/>
              <p:nvPr/>
            </p:nvSpPr>
            <p:spPr>
              <a:xfrm>
                <a:off x="1066680" y="351360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066680" y="351360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um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1066680" y="3732840"/>
              <a:ext cx="6705000" cy="218880"/>
              <a:chOff x="1066680" y="3732840"/>
              <a:chExt cx="6705000" cy="218880"/>
            </a:xfrm>
          </p:grpSpPr>
          <p:sp>
            <p:nvSpPr>
              <p:cNvPr id="673" name=""/>
              <p:cNvSpPr/>
              <p:nvPr/>
            </p:nvSpPr>
            <p:spPr>
              <a:xfrm>
                <a:off x="1066680" y="373284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066680" y="373284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1066680" y="3952080"/>
              <a:ext cx="6705000" cy="219240"/>
              <a:chOff x="1066680" y="3952080"/>
              <a:chExt cx="6705000" cy="219240"/>
            </a:xfrm>
          </p:grpSpPr>
          <p:sp>
            <p:nvSpPr>
              <p:cNvPr id="676" name=""/>
              <p:cNvSpPr/>
              <p:nvPr/>
            </p:nvSpPr>
            <p:spPr>
              <a:xfrm>
                <a:off x="1066680" y="3952080"/>
                <a:ext cx="6705000" cy="219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066680" y="3952080"/>
                <a:ext cx="6705000" cy="219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umber = 2; number &lt;= 100; number += 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1066680" y="4171320"/>
              <a:ext cx="6705000" cy="218880"/>
              <a:chOff x="1066680" y="4171320"/>
              <a:chExt cx="6705000" cy="218880"/>
            </a:xfrm>
          </p:grpSpPr>
          <p:sp>
            <p:nvSpPr>
              <p:cNvPr id="679" name=""/>
              <p:cNvSpPr/>
              <p:nvPr/>
            </p:nvSpPr>
            <p:spPr>
              <a:xfrm>
                <a:off x="1066680" y="417132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066680" y="417132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um += numb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1066680" y="4390560"/>
              <a:ext cx="6705000" cy="218880"/>
              <a:chOff x="1066680" y="4390560"/>
              <a:chExt cx="6705000" cy="218880"/>
            </a:xfrm>
          </p:grpSpPr>
          <p:sp>
            <p:nvSpPr>
              <p:cNvPr id="682" name=""/>
              <p:cNvSpPr/>
              <p:nvPr/>
            </p:nvSpPr>
            <p:spPr>
              <a:xfrm>
                <a:off x="1066680" y="439056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066680" y="439056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1066680" y="4609440"/>
              <a:ext cx="6705000" cy="218880"/>
              <a:chOff x="1066680" y="4609440"/>
              <a:chExt cx="6705000" cy="218880"/>
            </a:xfrm>
          </p:grpSpPr>
          <p:sp>
            <p:nvSpPr>
              <p:cNvPr id="685" name=""/>
              <p:cNvSpPr/>
              <p:nvPr/>
            </p:nvSpPr>
            <p:spPr>
              <a:xfrm>
                <a:off x="1066680" y="460944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066680" y="460944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Sum is " &lt;&lt; sum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1066680" y="4828680"/>
              <a:ext cx="6705000" cy="219240"/>
              <a:chOff x="1066680" y="4828680"/>
              <a:chExt cx="6705000" cy="219240"/>
            </a:xfrm>
          </p:grpSpPr>
          <p:sp>
            <p:nvSpPr>
              <p:cNvPr id="688" name=""/>
              <p:cNvSpPr/>
              <p:nvPr/>
            </p:nvSpPr>
            <p:spPr>
              <a:xfrm>
                <a:off x="1066680" y="4828680"/>
                <a:ext cx="6705000" cy="219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066680" y="4828680"/>
                <a:ext cx="6705000" cy="219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1066680" y="5047920"/>
              <a:ext cx="6705000" cy="218880"/>
              <a:chOff x="1066680" y="5047920"/>
              <a:chExt cx="6705000" cy="218880"/>
            </a:xfrm>
          </p:grpSpPr>
          <p:sp>
            <p:nvSpPr>
              <p:cNvPr id="691" name=""/>
              <p:cNvSpPr/>
              <p:nvPr/>
            </p:nvSpPr>
            <p:spPr>
              <a:xfrm>
                <a:off x="1066680" y="504792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066680" y="504792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1066680" y="5267160"/>
              <a:ext cx="6705000" cy="218880"/>
              <a:chOff x="1066680" y="5267160"/>
              <a:chExt cx="6705000" cy="218880"/>
            </a:xfrm>
          </p:grpSpPr>
          <p:sp>
            <p:nvSpPr>
              <p:cNvPr id="694" name=""/>
              <p:cNvSpPr/>
              <p:nvPr/>
            </p:nvSpPr>
            <p:spPr>
              <a:xfrm>
                <a:off x="1066680" y="526716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066680" y="526716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066320" y="5791320"/>
            <a:ext cx="678204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 is 25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715000" y="990720"/>
            <a:ext cx="2438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85800" y="9907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to sum the even numbers from 2 to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352A0-33E8-4F3C-8544-27F0AD6A20B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6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switch Multiple-Selec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w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ful when variable or expression is tested for multiple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ists of a series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abels and an optional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faul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609480" y="2438280"/>
            <a:ext cx="5714280" cy="4114080"/>
            <a:chOff x="609480" y="2438280"/>
            <a:chExt cx="5714280" cy="4114080"/>
          </a:xfrm>
        </p:grpSpPr>
        <p:sp>
          <p:nvSpPr>
            <p:cNvPr id="702" name=""/>
            <p:cNvSpPr/>
            <p:nvPr/>
          </p:nvSpPr>
          <p:spPr>
            <a:xfrm>
              <a:off x="1400040" y="2540520"/>
              <a:ext cx="360" cy="292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5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337400" y="2438280"/>
              <a:ext cx="124200" cy="95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148840" y="3031920"/>
              <a:ext cx="4986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101680" y="2865240"/>
              <a:ext cx="44208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061880" y="3031920"/>
              <a:ext cx="49932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337400" y="6456240"/>
              <a:ext cx="124200" cy="961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400040" y="4012560"/>
              <a:ext cx="360" cy="385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524240" y="4015080"/>
              <a:ext cx="54036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l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337400" y="4422240"/>
              <a:ext cx="12420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933880" y="3031920"/>
              <a:ext cx="3740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321240" y="3031920"/>
              <a:ext cx="360" cy="3264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95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15160" y="6296040"/>
              <a:ext cx="49086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9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651240" y="2832840"/>
              <a:ext cx="1497240" cy="395280"/>
              <a:chOff x="651240" y="2832840"/>
              <a:chExt cx="1497240" cy="395280"/>
            </a:xfrm>
          </p:grpSpPr>
          <p:sp>
            <p:nvSpPr>
              <p:cNvPr id="715" name=""/>
              <p:cNvSpPr/>
              <p:nvPr/>
            </p:nvSpPr>
            <p:spPr>
              <a:xfrm>
                <a:off x="651240" y="2832840"/>
                <a:ext cx="1497240" cy="395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6" y="9980"/>
                    </a:moveTo>
                    <a:lnTo>
                      <a:pt x="9986" y="19959"/>
                    </a:lnTo>
                    <a:lnTo>
                      <a:pt x="0" y="9980"/>
                    </a:lnTo>
                    <a:lnTo>
                      <a:pt x="9986" y="0"/>
                    </a:lnTo>
                    <a:lnTo>
                      <a:pt x="19986" y="998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640" y="2985120"/>
                <a:ext cx="99936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2647440" y="2945520"/>
              <a:ext cx="1414080" cy="170280"/>
              <a:chOff x="2647440" y="2945520"/>
              <a:chExt cx="1414080" cy="170280"/>
            </a:xfrm>
          </p:grpSpPr>
          <p:sp>
            <p:nvSpPr>
              <p:cNvPr id="718" name=""/>
              <p:cNvSpPr/>
              <p:nvPr/>
            </p:nvSpPr>
            <p:spPr>
              <a:xfrm>
                <a:off x="2688840" y="2985480"/>
                <a:ext cx="1329840" cy="1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ase a action(s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647440" y="2945520"/>
                <a:ext cx="1414080" cy="170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5" y="0"/>
                    </a:moveTo>
                    <a:lnTo>
                      <a:pt x="19985" y="19906"/>
                    </a:lnTo>
                    <a:lnTo>
                      <a:pt x="0" y="19906"/>
                    </a:lnTo>
                    <a:lnTo>
                      <a:pt x="0" y="0"/>
                    </a:lnTo>
                    <a:lnTo>
                      <a:pt x="19985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4561200" y="2945520"/>
              <a:ext cx="1372320" cy="170280"/>
              <a:chOff x="4561200" y="2945520"/>
              <a:chExt cx="1372320" cy="170280"/>
            </a:xfrm>
          </p:grpSpPr>
          <p:sp>
            <p:nvSpPr>
              <p:cNvPr id="721" name=""/>
              <p:cNvSpPr/>
              <p:nvPr/>
            </p:nvSpPr>
            <p:spPr>
              <a:xfrm>
                <a:off x="4601520" y="2985480"/>
                <a:ext cx="1290240" cy="1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brea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561200" y="2945520"/>
                <a:ext cx="1372320" cy="170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5" y="0"/>
                    </a:moveTo>
                    <a:lnTo>
                      <a:pt x="19985" y="19906"/>
                    </a:lnTo>
                    <a:lnTo>
                      <a:pt x="0" y="19906"/>
                    </a:lnTo>
                    <a:lnTo>
                      <a:pt x="0" y="0"/>
                    </a:lnTo>
                    <a:lnTo>
                      <a:pt x="19985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3" name=""/>
            <p:cNvSpPr/>
            <p:nvPr/>
          </p:nvSpPr>
          <p:spPr>
            <a:xfrm>
              <a:off x="1400040" y="3224160"/>
              <a:ext cx="360" cy="385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148840" y="3808440"/>
              <a:ext cx="4986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061880" y="3808440"/>
              <a:ext cx="49932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933880" y="3808440"/>
              <a:ext cx="3740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7" name=""/>
            <p:cNvGrpSpPr/>
            <p:nvPr/>
          </p:nvGrpSpPr>
          <p:grpSpPr>
            <a:xfrm>
              <a:off x="651240" y="3609720"/>
              <a:ext cx="1497240" cy="395280"/>
              <a:chOff x="651240" y="3609720"/>
              <a:chExt cx="1497240" cy="395280"/>
            </a:xfrm>
          </p:grpSpPr>
          <p:sp>
            <p:nvSpPr>
              <p:cNvPr id="728" name=""/>
              <p:cNvSpPr/>
              <p:nvPr/>
            </p:nvSpPr>
            <p:spPr>
              <a:xfrm>
                <a:off x="651240" y="3609720"/>
                <a:ext cx="1497240" cy="395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6" y="9980"/>
                    </a:moveTo>
                    <a:lnTo>
                      <a:pt x="9986" y="19959"/>
                    </a:lnTo>
                    <a:lnTo>
                      <a:pt x="0" y="9980"/>
                    </a:lnTo>
                    <a:lnTo>
                      <a:pt x="9986" y="0"/>
                    </a:lnTo>
                    <a:lnTo>
                      <a:pt x="19986" y="998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99640" y="3762000"/>
                <a:ext cx="99936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" name=""/>
            <p:cNvGrpSpPr/>
            <p:nvPr/>
          </p:nvGrpSpPr>
          <p:grpSpPr>
            <a:xfrm>
              <a:off x="2647440" y="3722040"/>
              <a:ext cx="1414080" cy="170280"/>
              <a:chOff x="2647440" y="3722040"/>
              <a:chExt cx="1414080" cy="170280"/>
            </a:xfrm>
          </p:grpSpPr>
          <p:sp>
            <p:nvSpPr>
              <p:cNvPr id="731" name=""/>
              <p:cNvSpPr/>
              <p:nvPr/>
            </p:nvSpPr>
            <p:spPr>
              <a:xfrm>
                <a:off x="2688840" y="3762000"/>
                <a:ext cx="1329840" cy="1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ase b action(s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647440" y="3722040"/>
                <a:ext cx="1414080" cy="170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5" y="0"/>
                    </a:moveTo>
                    <a:lnTo>
                      <a:pt x="19985" y="19906"/>
                    </a:lnTo>
                    <a:lnTo>
                      <a:pt x="0" y="19906"/>
                    </a:lnTo>
                    <a:lnTo>
                      <a:pt x="0" y="0"/>
                    </a:lnTo>
                    <a:lnTo>
                      <a:pt x="19985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4561200" y="3722040"/>
              <a:ext cx="1372320" cy="170280"/>
              <a:chOff x="4561200" y="3722040"/>
              <a:chExt cx="1372320" cy="170280"/>
            </a:xfrm>
          </p:grpSpPr>
          <p:sp>
            <p:nvSpPr>
              <p:cNvPr id="734" name=""/>
              <p:cNvSpPr/>
              <p:nvPr/>
            </p:nvSpPr>
            <p:spPr>
              <a:xfrm>
                <a:off x="4601520" y="3762000"/>
                <a:ext cx="1290240" cy="1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brea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561200" y="3722040"/>
                <a:ext cx="1372320" cy="170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5" y="0"/>
                    </a:moveTo>
                    <a:lnTo>
                      <a:pt x="19985" y="19906"/>
                    </a:lnTo>
                    <a:lnTo>
                      <a:pt x="0" y="19906"/>
                    </a:lnTo>
                    <a:lnTo>
                      <a:pt x="0" y="0"/>
                    </a:lnTo>
                    <a:lnTo>
                      <a:pt x="19985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6" name=""/>
            <p:cNvSpPr/>
            <p:nvPr/>
          </p:nvSpPr>
          <p:spPr>
            <a:xfrm>
              <a:off x="1524240" y="3262320"/>
              <a:ext cx="54036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l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400040" y="6167520"/>
              <a:ext cx="360" cy="286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24240" y="5619960"/>
              <a:ext cx="54036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l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400040" y="4829400"/>
              <a:ext cx="360" cy="385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148840" y="5412960"/>
              <a:ext cx="4986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61880" y="5412960"/>
              <a:ext cx="49932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933880" y="5412960"/>
              <a:ext cx="3740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3" name=""/>
            <p:cNvGrpSpPr/>
            <p:nvPr/>
          </p:nvGrpSpPr>
          <p:grpSpPr>
            <a:xfrm>
              <a:off x="651240" y="5214600"/>
              <a:ext cx="1497240" cy="394560"/>
              <a:chOff x="651240" y="5214600"/>
              <a:chExt cx="1497240" cy="394560"/>
            </a:xfrm>
          </p:grpSpPr>
          <p:sp>
            <p:nvSpPr>
              <p:cNvPr id="744" name=""/>
              <p:cNvSpPr/>
              <p:nvPr/>
            </p:nvSpPr>
            <p:spPr>
              <a:xfrm>
                <a:off x="651240" y="5214600"/>
                <a:ext cx="1497240" cy="394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6" y="9980"/>
                    </a:moveTo>
                    <a:lnTo>
                      <a:pt x="9986" y="19959"/>
                    </a:lnTo>
                    <a:lnTo>
                      <a:pt x="0" y="9980"/>
                    </a:lnTo>
                    <a:lnTo>
                      <a:pt x="9986" y="0"/>
                    </a:lnTo>
                    <a:lnTo>
                      <a:pt x="19986" y="998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899640" y="5366520"/>
                <a:ext cx="999360" cy="1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z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2647440" y="5327280"/>
              <a:ext cx="1414080" cy="170280"/>
              <a:chOff x="2647440" y="5327280"/>
              <a:chExt cx="1414080" cy="170280"/>
            </a:xfrm>
          </p:grpSpPr>
          <p:sp>
            <p:nvSpPr>
              <p:cNvPr id="747" name=""/>
              <p:cNvSpPr/>
              <p:nvPr/>
            </p:nvSpPr>
            <p:spPr>
              <a:xfrm>
                <a:off x="2688840" y="5367240"/>
                <a:ext cx="1329840" cy="1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ase z action(s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647440" y="5327280"/>
                <a:ext cx="1414080" cy="170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5" y="0"/>
                    </a:moveTo>
                    <a:lnTo>
                      <a:pt x="19985" y="19906"/>
                    </a:lnTo>
                    <a:lnTo>
                      <a:pt x="0" y="19906"/>
                    </a:lnTo>
                    <a:lnTo>
                      <a:pt x="0" y="0"/>
                    </a:lnTo>
                    <a:lnTo>
                      <a:pt x="19985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4561200" y="5327280"/>
              <a:ext cx="1372320" cy="170280"/>
              <a:chOff x="4561200" y="5327280"/>
              <a:chExt cx="1372320" cy="170280"/>
            </a:xfrm>
          </p:grpSpPr>
          <p:sp>
            <p:nvSpPr>
              <p:cNvPr id="750" name=""/>
              <p:cNvSpPr/>
              <p:nvPr/>
            </p:nvSpPr>
            <p:spPr>
              <a:xfrm>
                <a:off x="4601520" y="5367240"/>
                <a:ext cx="1290240" cy="1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brea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561200" y="5327280"/>
                <a:ext cx="1372320" cy="170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5" y="0"/>
                    </a:moveTo>
                    <a:lnTo>
                      <a:pt x="19985" y="19906"/>
                    </a:lnTo>
                    <a:lnTo>
                      <a:pt x="0" y="19906"/>
                    </a:lnTo>
                    <a:lnTo>
                      <a:pt x="0" y="0"/>
                    </a:lnTo>
                    <a:lnTo>
                      <a:pt x="19985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2101680" y="3647880"/>
              <a:ext cx="44208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101680" y="5250600"/>
              <a:ext cx="44208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400040" y="5609520"/>
              <a:ext cx="360" cy="385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609480" y="5995080"/>
              <a:ext cx="1580400" cy="170280"/>
              <a:chOff x="609480" y="5995080"/>
              <a:chExt cx="1580400" cy="170280"/>
            </a:xfrm>
          </p:grpSpPr>
          <p:sp>
            <p:nvSpPr>
              <p:cNvPr id="756" name=""/>
              <p:cNvSpPr/>
              <p:nvPr/>
            </p:nvSpPr>
            <p:spPr>
              <a:xfrm>
                <a:off x="655920" y="6035040"/>
                <a:ext cx="1486080" cy="1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default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ction(s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09480" y="5995080"/>
                <a:ext cx="1580400" cy="170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7" y="0"/>
                    </a:moveTo>
                    <a:lnTo>
                      <a:pt x="19987" y="19906"/>
                    </a:lnTo>
                    <a:lnTo>
                      <a:pt x="0" y="19906"/>
                    </a:lnTo>
                    <a:lnTo>
                      <a:pt x="0" y="0"/>
                    </a:lnTo>
                    <a:lnTo>
                      <a:pt x="1998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8" name=""/>
          <p:cNvSpPr/>
          <p:nvPr/>
        </p:nvSpPr>
        <p:spPr>
          <a:xfrm>
            <a:off x="0" y="387360"/>
            <a:ext cx="548640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0" y="293220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43084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940D4-05F7-4650-8348-EB7E213E2E2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Input data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Use switch loop to updat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763" name=""/>
            <p:cNvGrpSpPr/>
            <p:nvPr/>
          </p:nvGrpSpPr>
          <p:grpSpPr>
            <a:xfrm>
              <a:off x="0" y="0"/>
              <a:ext cx="6780960" cy="216720"/>
              <a:chOff x="0" y="0"/>
              <a:chExt cx="6780960" cy="216720"/>
            </a:xfrm>
          </p:grpSpPr>
          <p:sp>
            <p:nvSpPr>
              <p:cNvPr id="764" name=""/>
              <p:cNvSpPr/>
              <p:nvPr/>
            </p:nvSpPr>
            <p:spPr>
              <a:xfrm>
                <a:off x="0" y="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2.22: fig02_2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0" y="216720"/>
              <a:ext cx="6780960" cy="200880"/>
              <a:chOff x="0" y="216720"/>
              <a:chExt cx="6780960" cy="200880"/>
            </a:xfrm>
          </p:grpSpPr>
          <p:sp>
            <p:nvSpPr>
              <p:cNvPr id="767" name=""/>
              <p:cNvSpPr/>
              <p:nvPr/>
            </p:nvSpPr>
            <p:spPr>
              <a:xfrm>
                <a:off x="0" y="21672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0" y="21672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unting letter grad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"/>
            <p:cNvGrpSpPr/>
            <p:nvPr/>
          </p:nvGrpSpPr>
          <p:grpSpPr>
            <a:xfrm>
              <a:off x="0" y="417960"/>
              <a:ext cx="6780960" cy="201240"/>
              <a:chOff x="0" y="417960"/>
              <a:chExt cx="6780960" cy="201240"/>
            </a:xfrm>
          </p:grpSpPr>
          <p:sp>
            <p:nvSpPr>
              <p:cNvPr id="770" name=""/>
              <p:cNvSpPr/>
              <p:nvPr/>
            </p:nvSpPr>
            <p:spPr>
              <a:xfrm>
                <a:off x="0" y="41796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0" y="41796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0" y="619200"/>
              <a:ext cx="6780960" cy="200880"/>
              <a:chOff x="0" y="619200"/>
              <a:chExt cx="6780960" cy="200880"/>
            </a:xfrm>
          </p:grpSpPr>
          <p:sp>
            <p:nvSpPr>
              <p:cNvPr id="773" name=""/>
              <p:cNvSpPr/>
              <p:nvPr/>
            </p:nvSpPr>
            <p:spPr>
              <a:xfrm>
                <a:off x="0" y="6192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0" y="6192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5" name=""/>
            <p:cNvGrpSpPr/>
            <p:nvPr/>
          </p:nvGrpSpPr>
          <p:grpSpPr>
            <a:xfrm>
              <a:off x="0" y="820440"/>
              <a:ext cx="6780960" cy="200880"/>
              <a:chOff x="0" y="820440"/>
              <a:chExt cx="6780960" cy="200880"/>
            </a:xfrm>
          </p:grpSpPr>
          <p:sp>
            <p:nvSpPr>
              <p:cNvPr id="776" name=""/>
              <p:cNvSpPr/>
              <p:nvPr/>
            </p:nvSpPr>
            <p:spPr>
              <a:xfrm>
                <a:off x="0" y="8204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0" y="8204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8" name=""/>
            <p:cNvGrpSpPr/>
            <p:nvPr/>
          </p:nvGrpSpPr>
          <p:grpSpPr>
            <a:xfrm>
              <a:off x="0" y="1021680"/>
              <a:ext cx="6780960" cy="200880"/>
              <a:chOff x="0" y="1021680"/>
              <a:chExt cx="6780960" cy="200880"/>
            </a:xfrm>
          </p:grpSpPr>
          <p:sp>
            <p:nvSpPr>
              <p:cNvPr id="779" name=""/>
              <p:cNvSpPr/>
              <p:nvPr/>
            </p:nvSpPr>
            <p:spPr>
              <a:xfrm>
                <a:off x="0" y="10216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0" y="10216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0" y="1222920"/>
              <a:ext cx="6780960" cy="201240"/>
              <a:chOff x="0" y="1222920"/>
              <a:chExt cx="6780960" cy="201240"/>
            </a:xfrm>
          </p:grpSpPr>
          <p:sp>
            <p:nvSpPr>
              <p:cNvPr id="782" name=""/>
              <p:cNvSpPr/>
              <p:nvPr/>
            </p:nvSpPr>
            <p:spPr>
              <a:xfrm>
                <a:off x="0" y="122292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0" y="122292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"/>
            <p:cNvGrpSpPr/>
            <p:nvPr/>
          </p:nvGrpSpPr>
          <p:grpSpPr>
            <a:xfrm>
              <a:off x="0" y="1424160"/>
              <a:ext cx="6780960" cy="200880"/>
              <a:chOff x="0" y="1424160"/>
              <a:chExt cx="6780960" cy="200880"/>
            </a:xfrm>
          </p:grpSpPr>
          <p:sp>
            <p:nvSpPr>
              <p:cNvPr id="785" name=""/>
              <p:cNvSpPr/>
              <p:nvPr/>
            </p:nvSpPr>
            <p:spPr>
              <a:xfrm>
                <a:off x="0" y="142416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2416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"/>
            <p:cNvGrpSpPr/>
            <p:nvPr/>
          </p:nvGrpSpPr>
          <p:grpSpPr>
            <a:xfrm>
              <a:off x="0" y="1625400"/>
              <a:ext cx="6780960" cy="200880"/>
              <a:chOff x="0" y="1625400"/>
              <a:chExt cx="6780960" cy="200880"/>
            </a:xfrm>
          </p:grpSpPr>
          <p:sp>
            <p:nvSpPr>
              <p:cNvPr id="788" name=""/>
              <p:cNvSpPr/>
              <p:nvPr/>
            </p:nvSpPr>
            <p:spPr>
              <a:xfrm>
                <a:off x="0" y="16254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0" y="16254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0" y="1826640"/>
              <a:ext cx="6780960" cy="200880"/>
              <a:chOff x="0" y="1826640"/>
              <a:chExt cx="6780960" cy="200880"/>
            </a:xfrm>
          </p:grpSpPr>
          <p:sp>
            <p:nvSpPr>
              <p:cNvPr id="791" name=""/>
              <p:cNvSpPr/>
              <p:nvPr/>
            </p:nvSpPr>
            <p:spPr>
              <a:xfrm>
                <a:off x="0" y="18266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0" y="18266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0" y="2027880"/>
              <a:ext cx="6780960" cy="200880"/>
              <a:chOff x="0" y="2027880"/>
              <a:chExt cx="6780960" cy="200880"/>
            </a:xfrm>
          </p:grpSpPr>
          <p:sp>
            <p:nvSpPr>
              <p:cNvPr id="794" name=""/>
              <p:cNvSpPr/>
              <p:nvPr/>
            </p:nvSpPr>
            <p:spPr>
              <a:xfrm>
                <a:off x="0" y="20278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0" y="20278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rade,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ne gra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0" y="2229120"/>
              <a:ext cx="6780960" cy="201240"/>
              <a:chOff x="0" y="2229120"/>
              <a:chExt cx="6780960" cy="201240"/>
            </a:xfrm>
          </p:grpSpPr>
          <p:sp>
            <p:nvSpPr>
              <p:cNvPr id="797" name=""/>
              <p:cNvSpPr/>
              <p:nvPr/>
            </p:nvSpPr>
            <p:spPr>
              <a:xfrm>
                <a:off x="0" y="222912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0" y="222912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aCount = 0,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A'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0" y="2430360"/>
              <a:ext cx="6780960" cy="200880"/>
              <a:chOff x="0" y="2430360"/>
              <a:chExt cx="6780960" cy="200880"/>
            </a:xfrm>
          </p:grpSpPr>
          <p:sp>
            <p:nvSpPr>
              <p:cNvPr id="800" name=""/>
              <p:cNvSpPr/>
              <p:nvPr/>
            </p:nvSpPr>
            <p:spPr>
              <a:xfrm>
                <a:off x="0" y="243036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243036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bCount = 0,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B'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0" y="2631600"/>
              <a:ext cx="6780960" cy="200880"/>
              <a:chOff x="0" y="2631600"/>
              <a:chExt cx="6780960" cy="200880"/>
            </a:xfrm>
          </p:grpSpPr>
          <p:sp>
            <p:nvSpPr>
              <p:cNvPr id="803" name=""/>
              <p:cNvSpPr/>
              <p:nvPr/>
            </p:nvSpPr>
            <p:spPr>
              <a:xfrm>
                <a:off x="0" y="26316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0" y="26316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cCount = 0,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C'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0" y="2832840"/>
              <a:ext cx="6780960" cy="200880"/>
              <a:chOff x="0" y="2832840"/>
              <a:chExt cx="6780960" cy="200880"/>
            </a:xfrm>
          </p:grpSpPr>
          <p:sp>
            <p:nvSpPr>
              <p:cNvPr id="806" name=""/>
              <p:cNvSpPr/>
              <p:nvPr/>
            </p:nvSpPr>
            <p:spPr>
              <a:xfrm>
                <a:off x="0" y="28328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0" y="28328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dCount = 0,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D'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0" y="3034080"/>
              <a:ext cx="6780960" cy="201240"/>
              <a:chOff x="0" y="3034080"/>
              <a:chExt cx="6780960" cy="201240"/>
            </a:xfrm>
          </p:grpSpPr>
          <p:sp>
            <p:nvSpPr>
              <p:cNvPr id="809" name=""/>
              <p:cNvSpPr/>
              <p:nvPr/>
            </p:nvSpPr>
            <p:spPr>
              <a:xfrm>
                <a:off x="0" y="303408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0" y="303408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fCount = 0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F'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0" y="3235680"/>
              <a:ext cx="6780960" cy="200880"/>
              <a:chOff x="0" y="3235680"/>
              <a:chExt cx="6780960" cy="200880"/>
            </a:xfrm>
          </p:grpSpPr>
          <p:sp>
            <p:nvSpPr>
              <p:cNvPr id="812" name=""/>
              <p:cNvSpPr/>
              <p:nvPr/>
            </p:nvSpPr>
            <p:spPr>
              <a:xfrm>
                <a:off x="0" y="32356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0" y="32356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4" name=""/>
            <p:cNvGrpSpPr/>
            <p:nvPr/>
          </p:nvGrpSpPr>
          <p:grpSpPr>
            <a:xfrm>
              <a:off x="0" y="3436920"/>
              <a:ext cx="6780960" cy="200880"/>
              <a:chOff x="0" y="3436920"/>
              <a:chExt cx="6780960" cy="200880"/>
            </a:xfrm>
          </p:grpSpPr>
          <p:sp>
            <p:nvSpPr>
              <p:cNvPr id="815" name=""/>
              <p:cNvSpPr/>
              <p:nvPr/>
            </p:nvSpPr>
            <p:spPr>
              <a:xfrm>
                <a:off x="0" y="343692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343692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nter the letter grades." &lt;&lt; end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0" y="3637800"/>
              <a:ext cx="6780960" cy="200880"/>
              <a:chOff x="0" y="3637800"/>
              <a:chExt cx="6780960" cy="200880"/>
            </a:xfrm>
          </p:grpSpPr>
          <p:sp>
            <p:nvSpPr>
              <p:cNvPr id="818" name=""/>
              <p:cNvSpPr/>
              <p:nvPr/>
            </p:nvSpPr>
            <p:spPr>
              <a:xfrm>
                <a:off x="0" y="36378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0" y="36378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Enter the EOF character to end input.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0" y="3839040"/>
              <a:ext cx="6780960" cy="201240"/>
              <a:chOff x="0" y="3839040"/>
              <a:chExt cx="6780960" cy="201240"/>
            </a:xfrm>
          </p:grpSpPr>
          <p:sp>
            <p:nvSpPr>
              <p:cNvPr id="821" name=""/>
              <p:cNvSpPr/>
              <p:nvPr/>
            </p:nvSpPr>
            <p:spPr>
              <a:xfrm>
                <a:off x="0" y="383904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0" y="383904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0" y="4040640"/>
              <a:ext cx="6780960" cy="200880"/>
              <a:chOff x="0" y="4040640"/>
              <a:chExt cx="6780960" cy="200880"/>
            </a:xfrm>
          </p:grpSpPr>
          <p:sp>
            <p:nvSpPr>
              <p:cNvPr id="824" name=""/>
              <p:cNvSpPr/>
              <p:nvPr/>
            </p:nvSpPr>
            <p:spPr>
              <a:xfrm>
                <a:off x="0" y="40406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0" y="40406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( grade = cin.get() ) != EOF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"/>
            <p:cNvGrpSpPr/>
            <p:nvPr/>
          </p:nvGrpSpPr>
          <p:grpSpPr>
            <a:xfrm>
              <a:off x="0" y="4241880"/>
              <a:ext cx="6780960" cy="200880"/>
              <a:chOff x="0" y="4241880"/>
              <a:chExt cx="6780960" cy="200880"/>
            </a:xfrm>
          </p:grpSpPr>
          <p:sp>
            <p:nvSpPr>
              <p:cNvPr id="827" name=""/>
              <p:cNvSpPr/>
              <p:nvPr/>
            </p:nvSpPr>
            <p:spPr>
              <a:xfrm>
                <a:off x="0" y="42418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0" y="42418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"/>
            <p:cNvGrpSpPr/>
            <p:nvPr/>
          </p:nvGrpSpPr>
          <p:grpSpPr>
            <a:xfrm>
              <a:off x="0" y="4443120"/>
              <a:ext cx="6780960" cy="200880"/>
              <a:chOff x="0" y="4443120"/>
              <a:chExt cx="6780960" cy="200880"/>
            </a:xfrm>
          </p:grpSpPr>
          <p:sp>
            <p:nvSpPr>
              <p:cNvPr id="830" name=""/>
              <p:cNvSpPr/>
              <p:nvPr/>
            </p:nvSpPr>
            <p:spPr>
              <a:xfrm>
                <a:off x="0" y="444312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0" y="444312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witch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grade ) {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witch nested in whi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"/>
            <p:cNvGrpSpPr/>
            <p:nvPr/>
          </p:nvGrpSpPr>
          <p:grpSpPr>
            <a:xfrm>
              <a:off x="0" y="4644360"/>
              <a:ext cx="6780960" cy="201240"/>
              <a:chOff x="0" y="4644360"/>
              <a:chExt cx="6780960" cy="201240"/>
            </a:xfrm>
          </p:grpSpPr>
          <p:sp>
            <p:nvSpPr>
              <p:cNvPr id="833" name=""/>
              <p:cNvSpPr/>
              <p:nvPr/>
            </p:nvSpPr>
            <p:spPr>
              <a:xfrm>
                <a:off x="0" y="464436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0" y="464436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0" y="4845600"/>
              <a:ext cx="6780960" cy="200880"/>
              <a:chOff x="0" y="4845600"/>
              <a:chExt cx="6780960" cy="200880"/>
            </a:xfrm>
          </p:grpSpPr>
          <p:sp>
            <p:nvSpPr>
              <p:cNvPr id="836" name=""/>
              <p:cNvSpPr/>
              <p:nvPr/>
            </p:nvSpPr>
            <p:spPr>
              <a:xfrm>
                <a:off x="0" y="48456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48456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A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rade was uppercase 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0" y="5046840"/>
              <a:ext cx="6780960" cy="200880"/>
              <a:chOff x="0" y="5046840"/>
              <a:chExt cx="6780960" cy="200880"/>
            </a:xfrm>
          </p:grpSpPr>
          <p:sp>
            <p:nvSpPr>
              <p:cNvPr id="839" name=""/>
              <p:cNvSpPr/>
              <p:nvPr/>
            </p:nvSpPr>
            <p:spPr>
              <a:xfrm>
                <a:off x="0" y="50468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0" y="50468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a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r lowercase 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0" y="5248080"/>
              <a:ext cx="6780960" cy="200880"/>
              <a:chOff x="0" y="5248080"/>
              <a:chExt cx="6780960" cy="200880"/>
            </a:xfrm>
          </p:grpSpPr>
          <p:sp>
            <p:nvSpPr>
              <p:cNvPr id="842" name=""/>
              <p:cNvSpPr/>
              <p:nvPr/>
            </p:nvSpPr>
            <p:spPr>
              <a:xfrm>
                <a:off x="0" y="52480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0" y="52480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++aCount;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0" y="5449320"/>
              <a:ext cx="6780960" cy="200880"/>
              <a:chOff x="0" y="5449320"/>
              <a:chExt cx="6780960" cy="200880"/>
            </a:xfrm>
          </p:grpSpPr>
          <p:sp>
            <p:nvSpPr>
              <p:cNvPr id="845" name=""/>
              <p:cNvSpPr/>
              <p:nvPr/>
            </p:nvSpPr>
            <p:spPr>
              <a:xfrm>
                <a:off x="0" y="544932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0" y="544932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ecessary to exit switc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0" y="5650560"/>
              <a:ext cx="6780960" cy="201240"/>
              <a:chOff x="0" y="5650560"/>
              <a:chExt cx="6780960" cy="201240"/>
            </a:xfrm>
          </p:grpSpPr>
          <p:sp>
            <p:nvSpPr>
              <p:cNvPr id="848" name=""/>
              <p:cNvSpPr/>
              <p:nvPr/>
            </p:nvSpPr>
            <p:spPr>
              <a:xfrm>
                <a:off x="0" y="565056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0" y="565056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0" y="5851800"/>
              <a:ext cx="6780960" cy="200880"/>
              <a:chOff x="0" y="5851800"/>
              <a:chExt cx="6780960" cy="200880"/>
            </a:xfrm>
          </p:grpSpPr>
          <p:sp>
            <p:nvSpPr>
              <p:cNvPr id="851" name=""/>
              <p:cNvSpPr/>
              <p:nvPr/>
            </p:nvSpPr>
            <p:spPr>
              <a:xfrm>
                <a:off x="0" y="58518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58518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B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rade was uppercase 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0" y="6053040"/>
              <a:ext cx="6780960" cy="200880"/>
              <a:chOff x="0" y="6053040"/>
              <a:chExt cx="6780960" cy="200880"/>
            </a:xfrm>
          </p:grpSpPr>
          <p:sp>
            <p:nvSpPr>
              <p:cNvPr id="854" name=""/>
              <p:cNvSpPr/>
              <p:nvPr/>
            </p:nvSpPr>
            <p:spPr>
              <a:xfrm>
                <a:off x="0" y="60530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0" y="60530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b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r lowercase 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"/>
            <p:cNvGrpSpPr/>
            <p:nvPr/>
          </p:nvGrpSpPr>
          <p:grpSpPr>
            <a:xfrm>
              <a:off x="0" y="6254280"/>
              <a:ext cx="6780960" cy="200880"/>
              <a:chOff x="0" y="6254280"/>
              <a:chExt cx="6780960" cy="200880"/>
            </a:xfrm>
          </p:grpSpPr>
          <p:sp>
            <p:nvSpPr>
              <p:cNvPr id="857" name=""/>
              <p:cNvSpPr/>
              <p:nvPr/>
            </p:nvSpPr>
            <p:spPr>
              <a:xfrm>
                <a:off x="0" y="62542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0" y="62542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++bCount;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0" y="6455520"/>
              <a:ext cx="6780960" cy="201240"/>
              <a:chOff x="0" y="6455520"/>
              <a:chExt cx="6780960" cy="201240"/>
            </a:xfrm>
          </p:grpSpPr>
          <p:sp>
            <p:nvSpPr>
              <p:cNvPr id="860" name=""/>
              <p:cNvSpPr/>
              <p:nvPr/>
            </p:nvSpPr>
            <p:spPr>
              <a:xfrm>
                <a:off x="0" y="645552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0" y="645552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6656760"/>
              <a:ext cx="6780960" cy="200880"/>
              <a:chOff x="0" y="6656760"/>
              <a:chExt cx="6780960" cy="20088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665676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0" y="665676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5" name=""/>
          <p:cNvGrpSpPr/>
          <p:nvPr/>
        </p:nvGrpSpPr>
        <p:grpSpPr>
          <a:xfrm>
            <a:off x="1980720" y="4267080"/>
            <a:ext cx="4420080" cy="533160"/>
            <a:chOff x="1980720" y="4267080"/>
            <a:chExt cx="4420080" cy="533160"/>
          </a:xfrm>
        </p:grpSpPr>
        <p:sp>
          <p:nvSpPr>
            <p:cNvPr id="866" name=""/>
            <p:cNvSpPr/>
            <p:nvPr/>
          </p:nvSpPr>
          <p:spPr>
            <a:xfrm>
              <a:off x="2743200" y="4267080"/>
              <a:ext cx="3657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a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tatement is u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1980720" y="441936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5ECF0-1CE8-401A-8535-915491F26CC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Use switch loop to updat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Print results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870" name=""/>
            <p:cNvGrpSpPr/>
            <p:nvPr/>
          </p:nvGrpSpPr>
          <p:grpSpPr>
            <a:xfrm>
              <a:off x="0" y="0"/>
              <a:ext cx="6780960" cy="190440"/>
              <a:chOff x="0" y="0"/>
              <a:chExt cx="6780960" cy="190440"/>
            </a:xfrm>
          </p:grpSpPr>
          <p:sp>
            <p:nvSpPr>
              <p:cNvPr id="871" name=""/>
              <p:cNvSpPr/>
              <p:nvPr/>
            </p:nvSpPr>
            <p:spPr>
              <a:xfrm>
                <a:off x="0" y="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0" y="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C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rade was uppercase 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0" y="190440"/>
              <a:ext cx="6780960" cy="190440"/>
              <a:chOff x="0" y="190440"/>
              <a:chExt cx="6780960" cy="190440"/>
            </a:xfrm>
          </p:grpSpPr>
          <p:sp>
            <p:nvSpPr>
              <p:cNvPr id="874" name=""/>
              <p:cNvSpPr/>
              <p:nvPr/>
            </p:nvSpPr>
            <p:spPr>
              <a:xfrm>
                <a:off x="0" y="190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0" y="190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c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r lowercase 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"/>
            <p:cNvGrpSpPr/>
            <p:nvPr/>
          </p:nvGrpSpPr>
          <p:grpSpPr>
            <a:xfrm>
              <a:off x="0" y="380880"/>
              <a:ext cx="6780960" cy="190440"/>
              <a:chOff x="0" y="380880"/>
              <a:chExt cx="6780960" cy="190440"/>
            </a:xfrm>
          </p:grpSpPr>
          <p:sp>
            <p:nvSpPr>
              <p:cNvPr id="877" name=""/>
              <p:cNvSpPr/>
              <p:nvPr/>
            </p:nvSpPr>
            <p:spPr>
              <a:xfrm>
                <a:off x="0" y="380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380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++cCount;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9" name=""/>
            <p:cNvGrpSpPr/>
            <p:nvPr/>
          </p:nvGrpSpPr>
          <p:grpSpPr>
            <a:xfrm>
              <a:off x="0" y="571320"/>
              <a:ext cx="6780960" cy="190440"/>
              <a:chOff x="0" y="571320"/>
              <a:chExt cx="6780960" cy="190440"/>
            </a:xfrm>
          </p:grpSpPr>
          <p:sp>
            <p:nvSpPr>
              <p:cNvPr id="880" name=""/>
              <p:cNvSpPr/>
              <p:nvPr/>
            </p:nvSpPr>
            <p:spPr>
              <a:xfrm>
                <a:off x="0" y="571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0" y="571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0" y="761760"/>
              <a:ext cx="6780960" cy="190440"/>
              <a:chOff x="0" y="761760"/>
              <a:chExt cx="6780960" cy="190440"/>
            </a:xfrm>
          </p:grpSpPr>
          <p:sp>
            <p:nvSpPr>
              <p:cNvPr id="883" name=""/>
              <p:cNvSpPr/>
              <p:nvPr/>
            </p:nvSpPr>
            <p:spPr>
              <a:xfrm>
                <a:off x="0" y="761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0" y="761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5" name=""/>
            <p:cNvGrpSpPr/>
            <p:nvPr/>
          </p:nvGrpSpPr>
          <p:grpSpPr>
            <a:xfrm>
              <a:off x="0" y="952200"/>
              <a:ext cx="6780960" cy="190440"/>
              <a:chOff x="0" y="952200"/>
              <a:chExt cx="6780960" cy="190440"/>
            </a:xfrm>
          </p:grpSpPr>
          <p:sp>
            <p:nvSpPr>
              <p:cNvPr id="886" name=""/>
              <p:cNvSpPr/>
              <p:nvPr/>
            </p:nvSpPr>
            <p:spPr>
              <a:xfrm>
                <a:off x="0" y="9522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0" y="9522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D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rade was uppercase 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0" y="1142640"/>
              <a:ext cx="6780960" cy="190440"/>
              <a:chOff x="0" y="1142640"/>
              <a:chExt cx="6780960" cy="190440"/>
            </a:xfrm>
          </p:grpSpPr>
          <p:sp>
            <p:nvSpPr>
              <p:cNvPr id="889" name=""/>
              <p:cNvSpPr/>
              <p:nvPr/>
            </p:nvSpPr>
            <p:spPr>
              <a:xfrm>
                <a:off x="0" y="11426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0" y="11426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d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r lowercase 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1" name=""/>
            <p:cNvGrpSpPr/>
            <p:nvPr/>
          </p:nvGrpSpPr>
          <p:grpSpPr>
            <a:xfrm>
              <a:off x="0" y="1333440"/>
              <a:ext cx="6780960" cy="190440"/>
              <a:chOff x="0" y="1333440"/>
              <a:chExt cx="6780960" cy="190440"/>
            </a:xfrm>
          </p:grpSpPr>
          <p:sp>
            <p:nvSpPr>
              <p:cNvPr id="892" name=""/>
              <p:cNvSpPr/>
              <p:nvPr/>
            </p:nvSpPr>
            <p:spPr>
              <a:xfrm>
                <a:off x="0" y="1333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1333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++dCount;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4" name=""/>
            <p:cNvGrpSpPr/>
            <p:nvPr/>
          </p:nvGrpSpPr>
          <p:grpSpPr>
            <a:xfrm>
              <a:off x="0" y="1523880"/>
              <a:ext cx="6780960" cy="190440"/>
              <a:chOff x="0" y="1523880"/>
              <a:chExt cx="6780960" cy="190440"/>
            </a:xfrm>
          </p:grpSpPr>
          <p:sp>
            <p:nvSpPr>
              <p:cNvPr id="895" name=""/>
              <p:cNvSpPr/>
              <p:nvPr/>
            </p:nvSpPr>
            <p:spPr>
              <a:xfrm>
                <a:off x="0" y="1523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0" y="1523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7" name=""/>
            <p:cNvGrpSpPr/>
            <p:nvPr/>
          </p:nvGrpSpPr>
          <p:grpSpPr>
            <a:xfrm>
              <a:off x="0" y="1714320"/>
              <a:ext cx="6780960" cy="190440"/>
              <a:chOff x="0" y="1714320"/>
              <a:chExt cx="6780960" cy="190440"/>
            </a:xfrm>
          </p:grpSpPr>
          <p:sp>
            <p:nvSpPr>
              <p:cNvPr id="898" name=""/>
              <p:cNvSpPr/>
              <p:nvPr/>
            </p:nvSpPr>
            <p:spPr>
              <a:xfrm>
                <a:off x="0" y="1714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0" y="1714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0" name=""/>
            <p:cNvGrpSpPr/>
            <p:nvPr/>
          </p:nvGrpSpPr>
          <p:grpSpPr>
            <a:xfrm>
              <a:off x="0" y="1904760"/>
              <a:ext cx="6780960" cy="190440"/>
              <a:chOff x="0" y="1904760"/>
              <a:chExt cx="6780960" cy="190440"/>
            </a:xfrm>
          </p:grpSpPr>
          <p:sp>
            <p:nvSpPr>
              <p:cNvPr id="901" name=""/>
              <p:cNvSpPr/>
              <p:nvPr/>
            </p:nvSpPr>
            <p:spPr>
              <a:xfrm>
                <a:off x="0" y="1904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0" y="1904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F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rade was uppercase 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2095560"/>
              <a:ext cx="6780960" cy="190440"/>
              <a:chOff x="0" y="2095560"/>
              <a:chExt cx="6780960" cy="19044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2095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0" y="2095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f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r lowercase 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0" y="2286000"/>
              <a:ext cx="6780960" cy="190440"/>
              <a:chOff x="0" y="2286000"/>
              <a:chExt cx="6780960" cy="190440"/>
            </a:xfrm>
          </p:grpSpPr>
          <p:sp>
            <p:nvSpPr>
              <p:cNvPr id="907" name=""/>
              <p:cNvSpPr/>
              <p:nvPr/>
            </p:nvSpPr>
            <p:spPr>
              <a:xfrm>
                <a:off x="0" y="2286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0" y="2286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++fCount;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" name=""/>
            <p:cNvGrpSpPr/>
            <p:nvPr/>
          </p:nvGrpSpPr>
          <p:grpSpPr>
            <a:xfrm>
              <a:off x="0" y="2476440"/>
              <a:ext cx="6780960" cy="190440"/>
              <a:chOff x="0" y="2476440"/>
              <a:chExt cx="6780960" cy="190440"/>
            </a:xfrm>
          </p:grpSpPr>
          <p:sp>
            <p:nvSpPr>
              <p:cNvPr id="910" name=""/>
              <p:cNvSpPr/>
              <p:nvPr/>
            </p:nvSpPr>
            <p:spPr>
              <a:xfrm>
                <a:off x="0" y="2476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0" y="2476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0" y="2666880"/>
              <a:ext cx="6780960" cy="190440"/>
              <a:chOff x="0" y="2666880"/>
              <a:chExt cx="6780960" cy="190440"/>
            </a:xfrm>
          </p:grpSpPr>
          <p:sp>
            <p:nvSpPr>
              <p:cNvPr id="913" name=""/>
              <p:cNvSpPr/>
              <p:nvPr/>
            </p:nvSpPr>
            <p:spPr>
              <a:xfrm>
                <a:off x="0" y="2666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2666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5" name=""/>
            <p:cNvGrpSpPr/>
            <p:nvPr/>
          </p:nvGrpSpPr>
          <p:grpSpPr>
            <a:xfrm>
              <a:off x="0" y="2857320"/>
              <a:ext cx="6780960" cy="190440"/>
              <a:chOff x="0" y="2857320"/>
              <a:chExt cx="6780960" cy="190440"/>
            </a:xfrm>
          </p:grpSpPr>
          <p:sp>
            <p:nvSpPr>
              <p:cNvPr id="916" name=""/>
              <p:cNvSpPr/>
              <p:nvPr/>
            </p:nvSpPr>
            <p:spPr>
              <a:xfrm>
                <a:off x="0" y="2857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0" y="2857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\n':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gnore newlines,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8" name=""/>
            <p:cNvGrpSpPr/>
            <p:nvPr/>
          </p:nvGrpSpPr>
          <p:grpSpPr>
            <a:xfrm>
              <a:off x="0" y="3047760"/>
              <a:ext cx="6780960" cy="190440"/>
              <a:chOff x="0" y="3047760"/>
              <a:chExt cx="6780960" cy="190440"/>
            </a:xfrm>
          </p:grpSpPr>
          <p:sp>
            <p:nvSpPr>
              <p:cNvPr id="919" name=""/>
              <p:cNvSpPr/>
              <p:nvPr/>
            </p:nvSpPr>
            <p:spPr>
              <a:xfrm>
                <a:off x="0" y="3047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0" y="3047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\t':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abs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1" name=""/>
            <p:cNvGrpSpPr/>
            <p:nvPr/>
          </p:nvGrpSpPr>
          <p:grpSpPr>
            <a:xfrm>
              <a:off x="0" y="3238560"/>
              <a:ext cx="6780960" cy="190440"/>
              <a:chOff x="0" y="3238560"/>
              <a:chExt cx="6780960" cy="190440"/>
            </a:xfrm>
          </p:grpSpPr>
          <p:sp>
            <p:nvSpPr>
              <p:cNvPr id="922" name=""/>
              <p:cNvSpPr/>
              <p:nvPr/>
            </p:nvSpPr>
            <p:spPr>
              <a:xfrm>
                <a:off x="0" y="3238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0" y="3238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 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nd spaces in in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4" name=""/>
            <p:cNvGrpSpPr/>
            <p:nvPr/>
          </p:nvGrpSpPr>
          <p:grpSpPr>
            <a:xfrm>
              <a:off x="0" y="3429000"/>
              <a:ext cx="6780960" cy="190440"/>
              <a:chOff x="0" y="3429000"/>
              <a:chExt cx="6780960" cy="190440"/>
            </a:xfrm>
          </p:grpSpPr>
          <p:sp>
            <p:nvSpPr>
              <p:cNvPr id="925" name=""/>
              <p:cNvSpPr/>
              <p:nvPr/>
            </p:nvSpPr>
            <p:spPr>
              <a:xfrm>
                <a:off x="0" y="3429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0" y="3429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7" name=""/>
            <p:cNvGrpSpPr/>
            <p:nvPr/>
          </p:nvGrpSpPr>
          <p:grpSpPr>
            <a:xfrm>
              <a:off x="0" y="3619440"/>
              <a:ext cx="6780960" cy="190440"/>
              <a:chOff x="0" y="3619440"/>
              <a:chExt cx="6780960" cy="190440"/>
            </a:xfrm>
          </p:grpSpPr>
          <p:sp>
            <p:nvSpPr>
              <p:cNvPr id="928" name=""/>
              <p:cNvSpPr/>
              <p:nvPr/>
            </p:nvSpPr>
            <p:spPr>
              <a:xfrm>
                <a:off x="0" y="3619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3619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0" name=""/>
            <p:cNvGrpSpPr/>
            <p:nvPr/>
          </p:nvGrpSpPr>
          <p:grpSpPr>
            <a:xfrm>
              <a:off x="0" y="3809880"/>
              <a:ext cx="6780960" cy="190440"/>
              <a:chOff x="0" y="3809880"/>
              <a:chExt cx="6780960" cy="190440"/>
            </a:xfrm>
          </p:grpSpPr>
          <p:sp>
            <p:nvSpPr>
              <p:cNvPr id="931" name=""/>
              <p:cNvSpPr/>
              <p:nvPr/>
            </p:nvSpPr>
            <p:spPr>
              <a:xfrm>
                <a:off x="0" y="3809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0" y="3809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efaul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: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tch all other characte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3" name=""/>
            <p:cNvGrpSpPr/>
            <p:nvPr/>
          </p:nvGrpSpPr>
          <p:grpSpPr>
            <a:xfrm>
              <a:off x="0" y="4000320"/>
              <a:ext cx="6780960" cy="190440"/>
              <a:chOff x="0" y="4000320"/>
              <a:chExt cx="6780960" cy="190440"/>
            </a:xfrm>
          </p:grpSpPr>
          <p:sp>
            <p:nvSpPr>
              <p:cNvPr id="934" name=""/>
              <p:cNvSpPr/>
              <p:nvPr/>
            </p:nvSpPr>
            <p:spPr>
              <a:xfrm>
                <a:off x="0" y="4000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0" y="4000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cout &lt;&lt; "Incorrect letter grade entered.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6" name=""/>
            <p:cNvGrpSpPr/>
            <p:nvPr/>
          </p:nvGrpSpPr>
          <p:grpSpPr>
            <a:xfrm>
              <a:off x="0" y="4190760"/>
              <a:ext cx="6780960" cy="190440"/>
              <a:chOff x="0" y="4190760"/>
              <a:chExt cx="6780960" cy="190440"/>
            </a:xfrm>
          </p:grpSpPr>
          <p:sp>
            <p:nvSpPr>
              <p:cNvPr id="937" name=""/>
              <p:cNvSpPr/>
              <p:nvPr/>
            </p:nvSpPr>
            <p:spPr>
              <a:xfrm>
                <a:off x="0" y="4190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0" y="4190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&lt;&lt; " Enter a new grade.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0" y="4381560"/>
              <a:ext cx="6780960" cy="190440"/>
              <a:chOff x="0" y="4381560"/>
              <a:chExt cx="6780960" cy="190440"/>
            </a:xfrm>
          </p:grpSpPr>
          <p:sp>
            <p:nvSpPr>
              <p:cNvPr id="940" name=""/>
              <p:cNvSpPr/>
              <p:nvPr/>
            </p:nvSpPr>
            <p:spPr>
              <a:xfrm>
                <a:off x="0" y="4381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0" y="4381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ptio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2" name=""/>
            <p:cNvGrpSpPr/>
            <p:nvPr/>
          </p:nvGrpSpPr>
          <p:grpSpPr>
            <a:xfrm>
              <a:off x="0" y="4572000"/>
              <a:ext cx="6780960" cy="190440"/>
              <a:chOff x="0" y="4572000"/>
              <a:chExt cx="6780960" cy="190440"/>
            </a:xfrm>
          </p:grpSpPr>
          <p:sp>
            <p:nvSpPr>
              <p:cNvPr id="943" name=""/>
              <p:cNvSpPr/>
              <p:nvPr/>
            </p:nvSpPr>
            <p:spPr>
              <a:xfrm>
                <a:off x="0" y="4572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0" y="4572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5" name=""/>
            <p:cNvGrpSpPr/>
            <p:nvPr/>
          </p:nvGrpSpPr>
          <p:grpSpPr>
            <a:xfrm>
              <a:off x="0" y="4762440"/>
              <a:ext cx="6780960" cy="190440"/>
              <a:chOff x="0" y="4762440"/>
              <a:chExt cx="6780960" cy="190440"/>
            </a:xfrm>
          </p:grpSpPr>
          <p:sp>
            <p:nvSpPr>
              <p:cNvPr id="946" name=""/>
              <p:cNvSpPr/>
              <p:nvPr/>
            </p:nvSpPr>
            <p:spPr>
              <a:xfrm>
                <a:off x="0" y="4762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0" y="4762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0" y="4952880"/>
              <a:ext cx="6780960" cy="190440"/>
              <a:chOff x="0" y="4952880"/>
              <a:chExt cx="6780960" cy="190440"/>
            </a:xfrm>
          </p:grpSpPr>
          <p:sp>
            <p:nvSpPr>
              <p:cNvPr id="949" name=""/>
              <p:cNvSpPr/>
              <p:nvPr/>
            </p:nvSpPr>
            <p:spPr>
              <a:xfrm>
                <a:off x="0" y="4952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4952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1" name=""/>
            <p:cNvGrpSpPr/>
            <p:nvPr/>
          </p:nvGrpSpPr>
          <p:grpSpPr>
            <a:xfrm>
              <a:off x="0" y="5143320"/>
              <a:ext cx="6780960" cy="190440"/>
              <a:chOff x="0" y="5143320"/>
              <a:chExt cx="6780960" cy="190440"/>
            </a:xfrm>
          </p:grpSpPr>
          <p:sp>
            <p:nvSpPr>
              <p:cNvPr id="952" name=""/>
              <p:cNvSpPr/>
              <p:nvPr/>
            </p:nvSpPr>
            <p:spPr>
              <a:xfrm>
                <a:off x="0" y="5143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0" y="5143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Totals for each letter grade are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0" y="5334120"/>
              <a:ext cx="6780960" cy="190440"/>
              <a:chOff x="0" y="5334120"/>
              <a:chExt cx="6780960" cy="190440"/>
            </a:xfrm>
          </p:grpSpPr>
          <p:sp>
            <p:nvSpPr>
              <p:cNvPr id="955" name=""/>
              <p:cNvSpPr/>
              <p:nvPr/>
            </p:nvSpPr>
            <p:spPr>
              <a:xfrm>
                <a:off x="0" y="5334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0" y="5334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A: " &lt;&lt; aCount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0" y="5524560"/>
              <a:ext cx="6780960" cy="190440"/>
              <a:chOff x="0" y="5524560"/>
              <a:chExt cx="6780960" cy="190440"/>
            </a:xfrm>
          </p:grpSpPr>
          <p:sp>
            <p:nvSpPr>
              <p:cNvPr id="958" name=""/>
              <p:cNvSpPr/>
              <p:nvPr/>
            </p:nvSpPr>
            <p:spPr>
              <a:xfrm>
                <a:off x="0" y="5524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0" y="5524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B: " &lt;&lt; bCount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0" y="5715000"/>
              <a:ext cx="6780960" cy="190440"/>
              <a:chOff x="0" y="5715000"/>
              <a:chExt cx="6780960" cy="190440"/>
            </a:xfrm>
          </p:grpSpPr>
          <p:sp>
            <p:nvSpPr>
              <p:cNvPr id="961" name=""/>
              <p:cNvSpPr/>
              <p:nvPr/>
            </p:nvSpPr>
            <p:spPr>
              <a:xfrm>
                <a:off x="0" y="5715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0" y="5715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C: " &lt;&lt; cCount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0" y="5905440"/>
              <a:ext cx="6780960" cy="190440"/>
              <a:chOff x="0" y="5905440"/>
              <a:chExt cx="6780960" cy="190440"/>
            </a:xfrm>
          </p:grpSpPr>
          <p:sp>
            <p:nvSpPr>
              <p:cNvPr id="964" name=""/>
              <p:cNvSpPr/>
              <p:nvPr/>
            </p:nvSpPr>
            <p:spPr>
              <a:xfrm>
                <a:off x="0" y="5905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5905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D: " &lt;&lt; dCou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0" y="6095880"/>
              <a:ext cx="6780960" cy="190440"/>
              <a:chOff x="0" y="6095880"/>
              <a:chExt cx="6780960" cy="190440"/>
            </a:xfrm>
          </p:grpSpPr>
          <p:sp>
            <p:nvSpPr>
              <p:cNvPr id="967" name=""/>
              <p:cNvSpPr/>
              <p:nvPr/>
            </p:nvSpPr>
            <p:spPr>
              <a:xfrm>
                <a:off x="0" y="6095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0" y="6095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F: " &lt;&lt; fCoun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0" y="6286680"/>
              <a:ext cx="6780960" cy="190440"/>
              <a:chOff x="0" y="6286680"/>
              <a:chExt cx="6780960" cy="190440"/>
            </a:xfrm>
          </p:grpSpPr>
          <p:sp>
            <p:nvSpPr>
              <p:cNvPr id="970" name=""/>
              <p:cNvSpPr/>
              <p:nvPr/>
            </p:nvSpPr>
            <p:spPr>
              <a:xfrm>
                <a:off x="0" y="62866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0" y="62866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2" name=""/>
            <p:cNvGrpSpPr/>
            <p:nvPr/>
          </p:nvGrpSpPr>
          <p:grpSpPr>
            <a:xfrm>
              <a:off x="0" y="6477120"/>
              <a:ext cx="6780960" cy="190440"/>
              <a:chOff x="0" y="6477120"/>
              <a:chExt cx="6780960" cy="190440"/>
            </a:xfrm>
          </p:grpSpPr>
          <p:sp>
            <p:nvSpPr>
              <p:cNvPr id="973" name=""/>
              <p:cNvSpPr/>
              <p:nvPr/>
            </p:nvSpPr>
            <p:spPr>
              <a:xfrm>
                <a:off x="0" y="6477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0" y="6477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0" y="6667560"/>
              <a:ext cx="6780960" cy="190440"/>
              <a:chOff x="0" y="6667560"/>
              <a:chExt cx="6780960" cy="190440"/>
            </a:xfrm>
          </p:grpSpPr>
          <p:sp>
            <p:nvSpPr>
              <p:cNvPr id="976" name=""/>
              <p:cNvSpPr/>
              <p:nvPr/>
            </p:nvSpPr>
            <p:spPr>
              <a:xfrm>
                <a:off x="0" y="6667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0" y="6667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8" name=""/>
          <p:cNvGrpSpPr/>
          <p:nvPr/>
        </p:nvGrpSpPr>
        <p:grpSpPr>
          <a:xfrm>
            <a:off x="2057400" y="990720"/>
            <a:ext cx="5257800" cy="824040"/>
            <a:chOff x="2057400" y="990720"/>
            <a:chExt cx="5257800" cy="824040"/>
          </a:xfrm>
        </p:grpSpPr>
        <p:sp>
          <p:nvSpPr>
            <p:cNvPr id="979" name=""/>
            <p:cNvSpPr/>
            <p:nvPr/>
          </p:nvSpPr>
          <p:spPr>
            <a:xfrm>
              <a:off x="3886200" y="990720"/>
              <a:ext cx="3429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reak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uses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witch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 end and the program continues with the first statement after the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witch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ructur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2057400" y="1447920"/>
              <a:ext cx="1828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1981080" y="3200400"/>
            <a:ext cx="5257800" cy="685800"/>
            <a:chOff x="1981080" y="3200400"/>
            <a:chExt cx="5257800" cy="685800"/>
          </a:xfrm>
        </p:grpSpPr>
        <p:sp>
          <p:nvSpPr>
            <p:cNvPr id="982" name=""/>
            <p:cNvSpPr/>
            <p:nvPr/>
          </p:nvSpPr>
          <p:spPr>
            <a:xfrm flipH="1">
              <a:off x="1981080" y="3429000"/>
              <a:ext cx="198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809880" y="3200400"/>
              <a:ext cx="3429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tat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7D6BC-CE52-48D6-A01E-1443A91CC63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85" name=""/>
          <p:cNvSpPr/>
          <p:nvPr/>
        </p:nvSpPr>
        <p:spPr>
          <a:xfrm>
            <a:off x="0" y="0"/>
            <a:ext cx="6781680" cy="4656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the letter gra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the EOF character to end in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correct letter grade entered. Enter a new gr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tals for each letter grade ar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9C994-18E9-4324-9349-B4AF500FD2A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7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do/while Repeti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petition structure is similar to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ructur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dition for repetition tested after the body of the loop is execu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while ( condition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(letting counter = 1)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counter &lt;&lt; " 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while (++counter &lt;= 1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s prints the integers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ctions are performed at leas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5715000" y="3124080"/>
            <a:ext cx="2742840" cy="3276000"/>
            <a:chOff x="5715000" y="3124080"/>
            <a:chExt cx="2742840" cy="3276000"/>
          </a:xfrm>
        </p:grpSpPr>
        <p:sp>
          <p:nvSpPr>
            <p:cNvPr id="989" name=""/>
            <p:cNvSpPr/>
            <p:nvPr/>
          </p:nvSpPr>
          <p:spPr>
            <a:xfrm>
              <a:off x="6738120" y="3288960"/>
              <a:ext cx="360" cy="6624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652800" y="3124080"/>
              <a:ext cx="170640" cy="1648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775280" y="4917240"/>
              <a:ext cx="6040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738120" y="5572800"/>
              <a:ext cx="360" cy="661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738120" y="4227480"/>
              <a:ext cx="360" cy="661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652800" y="6234480"/>
              <a:ext cx="170640" cy="16560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809040" y="5578920"/>
              <a:ext cx="73872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l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775280" y="5230800"/>
              <a:ext cx="6822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457480" y="3644640"/>
              <a:ext cx="360" cy="1585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8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751800" y="3644640"/>
              <a:ext cx="170568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8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9" name=""/>
            <p:cNvGrpSpPr/>
            <p:nvPr/>
          </p:nvGrpSpPr>
          <p:grpSpPr>
            <a:xfrm>
              <a:off x="5800320" y="3951360"/>
              <a:ext cx="1875600" cy="282960"/>
              <a:chOff x="5800320" y="3951360"/>
              <a:chExt cx="1875600" cy="282960"/>
            </a:xfrm>
          </p:grpSpPr>
          <p:sp>
            <p:nvSpPr>
              <p:cNvPr id="1000" name=""/>
              <p:cNvSpPr/>
              <p:nvPr/>
            </p:nvSpPr>
            <p:spPr>
              <a:xfrm>
                <a:off x="5800320" y="3951360"/>
                <a:ext cx="1875600" cy="275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5" y="0"/>
                    </a:moveTo>
                    <a:lnTo>
                      <a:pt x="19985" y="19900"/>
                    </a:lnTo>
                    <a:lnTo>
                      <a:pt x="0" y="19900"/>
                    </a:lnTo>
                    <a:lnTo>
                      <a:pt x="0" y="0"/>
                    </a:lnTo>
                    <a:lnTo>
                      <a:pt x="19985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054480" y="3997800"/>
                <a:ext cx="1365480" cy="23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action(s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2" name=""/>
            <p:cNvGrpSpPr/>
            <p:nvPr/>
          </p:nvGrpSpPr>
          <p:grpSpPr>
            <a:xfrm>
              <a:off x="5715000" y="4889160"/>
              <a:ext cx="2046240" cy="683280"/>
              <a:chOff x="5715000" y="4889160"/>
              <a:chExt cx="2046240" cy="683280"/>
            </a:xfrm>
          </p:grpSpPr>
          <p:sp>
            <p:nvSpPr>
              <p:cNvPr id="1003" name=""/>
              <p:cNvSpPr/>
              <p:nvPr/>
            </p:nvSpPr>
            <p:spPr>
              <a:xfrm>
                <a:off x="5715000" y="4889160"/>
                <a:ext cx="2046240" cy="683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6" y="9980"/>
                    </a:moveTo>
                    <a:lnTo>
                      <a:pt x="9986" y="19960"/>
                    </a:lnTo>
                    <a:lnTo>
                      <a:pt x="0" y="9980"/>
                    </a:lnTo>
                    <a:lnTo>
                      <a:pt x="9986" y="0"/>
                    </a:lnTo>
                    <a:lnTo>
                      <a:pt x="19986" y="998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054480" y="5137560"/>
                <a:ext cx="1365840" cy="2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ondi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5" name=""/>
          <p:cNvSpPr/>
          <p:nvPr/>
        </p:nvSpPr>
        <p:spPr>
          <a:xfrm>
            <a:off x="0" y="1747800"/>
            <a:ext cx="164628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0" y="3276720"/>
            <a:ext cx="164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0" y="35877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2F186-9979-4035-A606-7297AE3A9E3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8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break and continue Stateme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re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uses immediate exit from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 execution continues with the first statement after the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on uses of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atemen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cape early from a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 the remainder of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E2726-A042-4D76-A332-7F0B3B2AC2F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8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break and continue Stateme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ti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kips the remaining statements in the body of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ucture and proceeds with the next iteration of the lo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the loop-continuation test is evaluated immediately after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tin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atement is execu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ucture, the increment expression is executed, then the loop-continuation test is evalu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24257-65E8-46A2-98A4-D01E7719667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9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Logical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ogical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f both conditions a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ogical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f either of its conditions a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ogical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logical neg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verses the truth/falsity of its con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hen its condition i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a unary operator, only takes one con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operators used as conditions in l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Express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 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 &amp;&amp; false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fa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 || false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tru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!fa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EE7E0-275F-472F-9203-5791F7134B2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Pseudocode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eudo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tificial, informal language used to develop algorith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 to everyday Englis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actually executed on computer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us to “think out” a program before writing the code for 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sy to convert into a corresponding C++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ists only of executable stat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ACE55-8C37-4C39-98D4-62EFC820B5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20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Confusing Equality (==) and Assignment (=)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1532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errors are damaging because they do not ordinarily cause syntax err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all that any expression that produces a value can be used in control structures.  Nonzero values a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zero values a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payCode == 4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"You get a bonus!" &lt;&lt;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ecks the paycode, and if it i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hen a bonus is awar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 replaced with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payCode = 4 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out &lt;&lt; "You get a bonus!" &lt;&lt; endl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ycod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nonzero, so the expression i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a bonus is awarded, regardless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ycod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0F0AE-88F3-4718-9B0F-5EA7C8B3DF8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AvantGarde"/>
              </a:rPr>
              <a:t>2.20</a:t>
            </a:r>
            <a:r>
              <a:rPr b="1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0000"/>
                </a:solidFill>
                <a:latin typeface="AvantGarde"/>
              </a:rPr>
              <a:t>Confusing Equality (==) and Assignment (=)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ressions that can appear on the left side of an equ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ir values can be chan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names are a common example (as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 = 4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ressions that can only appear on the right side of an equ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s, such as numbers (i.e. you cannot writ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 = x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values can be used as rvalues, but not vice ve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CDC4F-B633-4E11-81B0-236348FFDDA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21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Structured-Programming Summary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s are easier to understand, test, debug and, modify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 for structured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single-entry/single-exit control structures are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ules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  Begin with the “simplest flowchart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)  Any rectangle (action) can be replaced by two rectangles (actions) in sequen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)  Any rectangle (action) can be replaced by any control structure (sequence, if, if/else, switch, while, do/while or fo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)  Rules 2 and 3 can be applied in any order and multiple time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0" y="1771560"/>
            <a:ext cx="54864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0" y="297180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0" y="39625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0" y="517680"/>
            <a:ext cx="5486400" cy="51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0" y="171756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0" y="56721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55FB6-B788-4C20-9028-C60D66DB338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21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Structured-Programming Summary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8" name=""/>
          <p:cNvGrpSpPr/>
          <p:nvPr/>
        </p:nvGrpSpPr>
        <p:grpSpPr>
          <a:xfrm>
            <a:off x="1447920" y="1905120"/>
            <a:ext cx="6704640" cy="4419000"/>
            <a:chOff x="1447920" y="1905120"/>
            <a:chExt cx="6704640" cy="4419000"/>
          </a:xfrm>
        </p:grpSpPr>
        <p:sp>
          <p:nvSpPr>
            <p:cNvPr id="1029" name=""/>
            <p:cNvSpPr/>
            <p:nvPr/>
          </p:nvSpPr>
          <p:spPr>
            <a:xfrm>
              <a:off x="1936080" y="1905120"/>
              <a:ext cx="799200" cy="15768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335680" y="206280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936080" y="2299320"/>
              <a:ext cx="799200" cy="158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335680" y="245736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936080" y="2694240"/>
              <a:ext cx="799200" cy="15768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888520" y="2483640"/>
              <a:ext cx="799200" cy="15768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288120" y="264132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88120" y="358848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888520" y="3825000"/>
              <a:ext cx="799200" cy="15804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754960" y="2878200"/>
              <a:ext cx="1065240" cy="158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10000"/>
                  </a:moveTo>
                  <a:lnTo>
                    <a:pt x="9979" y="19917"/>
                  </a:lnTo>
                  <a:lnTo>
                    <a:pt x="0" y="10000"/>
                  </a:lnTo>
                  <a:lnTo>
                    <a:pt x="9979" y="0"/>
                  </a:lnTo>
                  <a:lnTo>
                    <a:pt x="19979" y="1000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820560" y="2957040"/>
              <a:ext cx="7992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955760" y="2957040"/>
              <a:ext cx="7992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955760" y="2957040"/>
              <a:ext cx="360" cy="157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17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619760" y="2957040"/>
              <a:ext cx="360" cy="157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17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556160" y="3114720"/>
              <a:ext cx="799200" cy="158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220160" y="3114720"/>
              <a:ext cx="799200" cy="158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955760" y="327276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955760" y="3509640"/>
              <a:ext cx="11988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619760" y="327276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420960" y="3509640"/>
              <a:ext cx="11988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154560" y="3430800"/>
              <a:ext cx="266040" cy="157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111920" y="4114800"/>
              <a:ext cx="799200" cy="15768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511520" y="427248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511520" y="592992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111920" y="6166440"/>
              <a:ext cx="799200" cy="15768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979080" y="4509360"/>
              <a:ext cx="1065240" cy="157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10000"/>
                  </a:moveTo>
                  <a:lnTo>
                    <a:pt x="9979" y="19917"/>
                  </a:lnTo>
                  <a:lnTo>
                    <a:pt x="0" y="10000"/>
                  </a:lnTo>
                  <a:lnTo>
                    <a:pt x="9979" y="0"/>
                  </a:lnTo>
                  <a:lnTo>
                    <a:pt x="19979" y="1000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044320" y="4588200"/>
              <a:ext cx="10652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912760" y="4588200"/>
              <a:ext cx="106596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912760" y="4588200"/>
              <a:ext cx="360" cy="315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109920" y="4588200"/>
              <a:ext cx="360" cy="315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912760" y="561384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912760" y="5850720"/>
              <a:ext cx="146556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5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109920" y="561384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44720" y="5850720"/>
              <a:ext cx="14648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5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378680" y="5772240"/>
              <a:ext cx="266040" cy="157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380320" y="4903920"/>
              <a:ext cx="1065240" cy="158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10000"/>
                  </a:moveTo>
                  <a:lnTo>
                    <a:pt x="9979" y="19917"/>
                  </a:lnTo>
                  <a:lnTo>
                    <a:pt x="0" y="10000"/>
                  </a:lnTo>
                  <a:lnTo>
                    <a:pt x="9979" y="0"/>
                  </a:lnTo>
                  <a:lnTo>
                    <a:pt x="19979" y="1000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445920" y="4982760"/>
              <a:ext cx="2660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17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113560" y="4982760"/>
              <a:ext cx="26676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17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113560" y="4982760"/>
              <a:ext cx="360" cy="157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17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711960" y="4982760"/>
              <a:ext cx="360" cy="157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17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713960" y="5140440"/>
              <a:ext cx="799200" cy="158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312360" y="5140440"/>
              <a:ext cx="799200" cy="158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113560" y="529848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113560" y="5535360"/>
              <a:ext cx="66636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711960" y="529848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046320" y="5535360"/>
              <a:ext cx="6656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779920" y="5456160"/>
              <a:ext cx="266040" cy="157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577480" y="4903920"/>
              <a:ext cx="1065240" cy="158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10000"/>
                  </a:moveTo>
                  <a:lnTo>
                    <a:pt x="9979" y="19917"/>
                  </a:lnTo>
                  <a:lnTo>
                    <a:pt x="0" y="10000"/>
                  </a:lnTo>
                  <a:lnTo>
                    <a:pt x="9979" y="0"/>
                  </a:lnTo>
                  <a:lnTo>
                    <a:pt x="19979" y="1000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643080" y="4982760"/>
              <a:ext cx="2660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17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310720" y="4982760"/>
              <a:ext cx="26676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17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310720" y="4982760"/>
              <a:ext cx="360" cy="157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17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909120" y="4982760"/>
              <a:ext cx="360" cy="157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17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911120" y="5140440"/>
              <a:ext cx="799200" cy="158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509520" y="5140440"/>
              <a:ext cx="799200" cy="158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310720" y="529848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310720" y="5535360"/>
              <a:ext cx="66636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909120" y="529848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243480" y="5535360"/>
              <a:ext cx="6656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977080" y="5456160"/>
              <a:ext cx="266040" cy="157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68840" y="2378520"/>
              <a:ext cx="1953360" cy="2890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9" y="19955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prstDash val="sysDot"/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422600" y="2720520"/>
              <a:ext cx="3729960" cy="946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4" y="0"/>
                  </a:moveTo>
                  <a:lnTo>
                    <a:pt x="19994" y="19986"/>
                  </a:lnTo>
                  <a:lnTo>
                    <a:pt x="0" y="19986"/>
                  </a:lnTo>
                  <a:lnTo>
                    <a:pt x="0" y="0"/>
                  </a:lnTo>
                  <a:lnTo>
                    <a:pt x="1999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778280" y="4745880"/>
              <a:ext cx="2664000" cy="946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0"/>
                  </a:moveTo>
                  <a:lnTo>
                    <a:pt x="19992" y="19986"/>
                  </a:lnTo>
                  <a:lnTo>
                    <a:pt x="0" y="19986"/>
                  </a:lnTo>
                  <a:lnTo>
                    <a:pt x="0" y="0"/>
                  </a:lnTo>
                  <a:lnTo>
                    <a:pt x="1999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581120" y="4745880"/>
              <a:ext cx="2664000" cy="946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0"/>
                  </a:moveTo>
                  <a:lnTo>
                    <a:pt x="19992" y="19986"/>
                  </a:lnTo>
                  <a:lnTo>
                    <a:pt x="0" y="19986"/>
                  </a:lnTo>
                  <a:lnTo>
                    <a:pt x="0" y="0"/>
                  </a:lnTo>
                  <a:lnTo>
                    <a:pt x="1999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447920" y="4351680"/>
              <a:ext cx="6127920" cy="16570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6" y="0"/>
                  </a:moveTo>
                  <a:lnTo>
                    <a:pt x="19996" y="19992"/>
                  </a:lnTo>
                  <a:lnTo>
                    <a:pt x="0" y="19992"/>
                  </a:lnTo>
                  <a:lnTo>
                    <a:pt x="0" y="0"/>
                  </a:lnTo>
                  <a:lnTo>
                    <a:pt x="19996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380320" y="3351600"/>
              <a:ext cx="2441520" cy="1341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90"/>
                  </a:moveTo>
                  <a:lnTo>
                    <a:pt x="19991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prstDash val="sysDot"/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731640" y="3351600"/>
              <a:ext cx="1021320" cy="1341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90"/>
                  </a:moveTo>
                  <a:lnTo>
                    <a:pt x="1997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prstDash val="sysDot"/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731760" y="2347200"/>
              <a:ext cx="685080" cy="1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Rule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398360" y="3951720"/>
              <a:ext cx="685080" cy="1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Rule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912760" y="3951720"/>
              <a:ext cx="685800" cy="1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Rule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8" name=""/>
          <p:cNvSpPr/>
          <p:nvPr/>
        </p:nvSpPr>
        <p:spPr>
          <a:xfrm>
            <a:off x="990720" y="1371600"/>
            <a:ext cx="792468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ation of Rule 3 (replacing any rectangle with a control struct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E9898-9DA7-4181-A252-1B8F9E455CC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21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Structured-Programming Summary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rograms can be broken down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selection can be rewritten as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et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repetition structure can be rewritten a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3E776-A829-414C-A826-E7C6A2AF27A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4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Control Struc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tial exec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ements executed one after the other in the order wri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er of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the next statement executed is not the next one in sequ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hm and Jacopini: all programs written in terms of 3 control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quence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t into C++.  Programs executed sequentially by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lection struc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++ has three types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etition struc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++ has three types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D312E-9B47-4953-B122-0519D846D1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4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Control Struc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key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be used as identifiers or variable nam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914400" y="2133720"/>
          <a:ext cx="7453440" cy="566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33720"/>
                    <a:ext cx="7453440" cy="56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7746D-D30F-406D-BFE3-FE90AB34B1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4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Control Struc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wch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raphical representation of an algorith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awn using certain special-purpose symbols connected by arrows called flowlin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tangle symbol (action symbo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ates any type of a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al symb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ates beginning or end of a program, or a section of code (circles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-entry/single-exit control struc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nect exit point of one control structure to entry point of the next (control-structure stacking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kes programs easy to buil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B7ABA-9396-42C3-9193-AC30E2FD39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5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if Selec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on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to choose among alternative courses of 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seudocode example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f student’s grade is greater than or equal to 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“Passe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condition i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 statement executed and program goes on to next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condition i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 statement is ignored and the program goes onto the next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enting makes programs easier to re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++ ignores whitespac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F808D-69EE-439E-949E-B1EAAC915E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7:02:08Z</dcterms:created>
  <dc:creator>kalid</dc:creator>
  <dc:description/>
  <dc:language>en-US</dc:language>
  <cp:lastModifiedBy>Antonella Esposito</cp:lastModifiedBy>
  <dcterms:modified xsi:type="dcterms:W3CDTF">2001-01-12T10:39:19Z</dcterms:modified>
  <cp:revision>521</cp:revision>
  <dc:subject/>
  <dc:title>Chapter 2 - Control Structures</dc:title>
</cp:coreProperties>
</file>