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6A4A-FDC4-49E1-94CC-7BF9C9D47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27CF-27C7-4671-BA00-904DB764D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F889-4ED8-4616-B4FD-2B34F8C40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3DBF-59E9-4522-9346-56986B868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0551-1CBD-4F37-B78F-E457EA18F1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CB98-B869-484E-8747-FA3ADD6DAF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55BB-CFC9-454D-95F0-9C32F25924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D466-64C0-433C-83C8-0C8AA320C6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A7CF-8C80-49B5-B9F6-B585F21F69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6665-448E-4AA9-BEA0-47239FDC19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1F373-E491-4D11-9C8E-DEF3A29C55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BF45-FBC5-443A-ADC3-EC8BA4CBC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6B93-D37B-4E8D-8D18-A15808E4D5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09A5-D587-4D3E-8005-FE610BC65D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F396-6F24-4457-B633-1155CADEE6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3FEB-9FF7-4CC3-8DE3-2E5934F7D2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0663-347F-4225-B239-FA03081146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D44D-1FEB-42B5-BC3D-0396C8678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886A-0503-485A-A868-39EA0FC0E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4BEC-98AB-4AD1-81E9-8AB8B880F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832F-4D43-4D64-A516-259F1172A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8DA0-4EA7-4FB7-8E5C-E774BA711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B7A4-4E5D-47BF-9FDD-EDF01BF03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70F3-2E2B-411E-9B2F-DCD9CD418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30C0-502D-49C3-B34F-32D4EAD29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8158-371F-47F5-82E5-1E2319272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9 - Inheritanc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4d4d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2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nheritance: Base Classes and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3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Memb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4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asting Base-Class Pointers to Derived-Class Point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5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Using Member Function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6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Overriding Base-Class Members in a Derived Clas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7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ivat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8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Direct Base Classes and Indirect Base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9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Using Constructors and Destructors in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0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mplicit Derived-Class Object to Base-Class Object Conversion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1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Software Engineering with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2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omposition vs.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3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“Uses A” and “Knows A” Relationship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4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ase Study: Point, Circle, Cylinder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5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Multiple Inheritance</a:t>
            </a:r>
            <a:r>
              <a:rPr b="1" lang="en-US" sz="1800" spc="-1" strike="noStrike">
                <a:solidFill>
                  <a:srgbClr val="e36969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1A9B-DB11-4D2E-B02F-0447023148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216" name="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Point (with overloaded stream insertion operato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0" y="2133720"/>
            <a:ext cx="6780960" cy="4723920"/>
            <a:chOff x="0" y="2133720"/>
            <a:chExt cx="6780960" cy="4723920"/>
          </a:xfrm>
        </p:grpSpPr>
        <p:grpSp>
          <p:nvGrpSpPr>
            <p:cNvPr id="247" name=""/>
            <p:cNvGrpSpPr/>
            <p:nvPr/>
          </p:nvGrpSpPr>
          <p:grpSpPr>
            <a:xfrm>
              <a:off x="0" y="2133720"/>
              <a:ext cx="6780960" cy="224640"/>
              <a:chOff x="0" y="2133720"/>
              <a:chExt cx="6780960" cy="22464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1337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1337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circle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2358360"/>
              <a:ext cx="6780960" cy="224640"/>
              <a:chOff x="0" y="2358360"/>
              <a:chExt cx="6780960" cy="22464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23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23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2583360"/>
              <a:ext cx="6780960" cy="225000"/>
              <a:chOff x="0" y="2583360"/>
              <a:chExt cx="6780960" cy="2250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25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25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2808360"/>
              <a:ext cx="6780960" cy="224640"/>
              <a:chOff x="0" y="2808360"/>
              <a:chExt cx="6780960" cy="22464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28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28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3033360"/>
              <a:ext cx="6780960" cy="224640"/>
              <a:chOff x="0" y="3033360"/>
              <a:chExt cx="6780960" cy="22464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30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30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3258360"/>
              <a:ext cx="6780960" cy="224640"/>
              <a:chOff x="0" y="3258360"/>
              <a:chExt cx="6780960" cy="22464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32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32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3483360"/>
              <a:ext cx="6780960" cy="225000"/>
              <a:chOff x="0" y="3483360"/>
              <a:chExt cx="6780960" cy="2250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34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34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3708360"/>
              <a:ext cx="6780960" cy="224640"/>
              <a:chOff x="0" y="3708360"/>
              <a:chExt cx="6780960" cy="22464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37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37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3933360"/>
              <a:ext cx="6780960" cy="224640"/>
              <a:chOff x="0" y="3933360"/>
              <a:chExt cx="6780960" cy="22464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39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39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4158360"/>
              <a:ext cx="6780960" cy="224640"/>
              <a:chOff x="0" y="4158360"/>
              <a:chExt cx="6780960" cy="22464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41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41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4383360"/>
              <a:ext cx="6780960" cy="225000"/>
              <a:chOff x="0" y="4383360"/>
              <a:chExt cx="6780960" cy="2250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43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43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4608360"/>
              <a:ext cx="6780960" cy="224640"/>
              <a:chOff x="0" y="4608360"/>
              <a:chExt cx="6780960" cy="22464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46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46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4833360"/>
              <a:ext cx="6780960" cy="224640"/>
              <a:chOff x="0" y="4833360"/>
              <a:chExt cx="6780960" cy="22464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48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48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5058360"/>
              <a:ext cx="6780960" cy="224640"/>
              <a:chOff x="0" y="5058360"/>
              <a:chExt cx="6780960" cy="22464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50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50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5283000"/>
              <a:ext cx="6780960" cy="225000"/>
              <a:chOff x="0" y="5283000"/>
              <a:chExt cx="6780960" cy="22500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5283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5283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5508360"/>
              <a:ext cx="6780960" cy="224640"/>
              <a:chOff x="0" y="5508360"/>
              <a:chExt cx="6780960" cy="22464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55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5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5733360"/>
              <a:ext cx="6780960" cy="224640"/>
              <a:chOff x="0" y="5733360"/>
              <a:chExt cx="6780960" cy="22464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57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57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5958000"/>
              <a:ext cx="6780960" cy="224640"/>
              <a:chOff x="0" y="5958000"/>
              <a:chExt cx="6780960" cy="22464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5958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5958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ircle inherits from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6183000"/>
              <a:ext cx="6780960" cy="224640"/>
              <a:chOff x="0" y="6183000"/>
              <a:chExt cx="6780960" cy="22464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618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618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6408000"/>
              <a:ext cx="6780960" cy="225000"/>
              <a:chOff x="0" y="6408000"/>
              <a:chExt cx="6780960" cy="22500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6408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6408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6633000"/>
              <a:ext cx="6780960" cy="224640"/>
              <a:chOff x="0" y="6633000"/>
              <a:chExt cx="6780960" cy="22464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663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663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362320" y="3889440"/>
            <a:ext cx="5410080" cy="2054160"/>
            <a:chOff x="2362320" y="3889440"/>
            <a:chExt cx="5410080" cy="2054160"/>
          </a:xfrm>
        </p:grpSpPr>
        <p:sp>
          <p:nvSpPr>
            <p:cNvPr id="311" name=""/>
            <p:cNvSpPr/>
            <p:nvPr/>
          </p:nvSpPr>
          <p:spPr>
            <a:xfrm>
              <a:off x="3581280" y="388944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ublicly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will hav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functions an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362320" y="4724280"/>
              <a:ext cx="2286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E279-C871-4D23-B147-02699E4182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ircle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6780960" cy="2742840"/>
            <a:chOff x="0" y="0"/>
            <a:chExt cx="6780960" cy="2742840"/>
          </a:xfrm>
        </p:grpSpPr>
        <p:grpSp>
          <p:nvGrpSpPr>
            <p:cNvPr id="315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1645920"/>
              <a:ext cx="6780960" cy="274320"/>
              <a:chOff x="0" y="1645920"/>
              <a:chExt cx="6780960" cy="27432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164592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164592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0" y="2468880"/>
                <a:ext cx="6780600" cy="273960"/>
                <a:chOff x="0" y="2468880"/>
                <a:chExt cx="6780600" cy="2739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0" y="24688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0" y="24688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7" name=""/>
          <p:cNvGrpSpPr/>
          <p:nvPr/>
        </p:nvGrpSpPr>
        <p:grpSpPr>
          <a:xfrm>
            <a:off x="0" y="2743200"/>
            <a:ext cx="6780960" cy="4114800"/>
            <a:chOff x="0" y="2743200"/>
            <a:chExt cx="6780960" cy="4114800"/>
          </a:xfrm>
        </p:grpSpPr>
        <p:grpSp>
          <p:nvGrpSpPr>
            <p:cNvPr id="348" name=""/>
            <p:cNvGrpSpPr/>
            <p:nvPr/>
          </p:nvGrpSpPr>
          <p:grpSpPr>
            <a:xfrm>
              <a:off x="0" y="2743200"/>
              <a:ext cx="6780960" cy="293760"/>
              <a:chOff x="0" y="2743200"/>
              <a:chExt cx="6780960" cy="29376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7432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7432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circl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3036960"/>
              <a:ext cx="6780960" cy="293760"/>
              <a:chOff x="0" y="3036960"/>
              <a:chExt cx="6780960" cy="29376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30369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30369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3330720"/>
              <a:ext cx="6780960" cy="293760"/>
              <a:chOff x="0" y="3330720"/>
              <a:chExt cx="6780960" cy="29376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3330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3330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3624840"/>
              <a:ext cx="6780960" cy="293760"/>
              <a:chOff x="0" y="3624840"/>
              <a:chExt cx="6780960" cy="29376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36248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36248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3918600"/>
              <a:ext cx="6780960" cy="293760"/>
              <a:chOff x="0" y="3918600"/>
              <a:chExt cx="6780960" cy="29376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3918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918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4212720"/>
              <a:ext cx="6780960" cy="293760"/>
              <a:chOff x="0" y="4212720"/>
              <a:chExt cx="6780960" cy="29376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4212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4212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a member initializer then initializes radiu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4506480"/>
              <a:ext cx="6780960" cy="293760"/>
              <a:chOff x="0" y="4506480"/>
              <a:chExt cx="6780960" cy="29376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4506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4506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4800600"/>
              <a:ext cx="6780960" cy="293760"/>
              <a:chOff x="0" y="4800600"/>
              <a:chExt cx="6780960" cy="29376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4800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4800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5094360"/>
              <a:ext cx="6780960" cy="293760"/>
              <a:chOff x="0" y="5094360"/>
              <a:chExt cx="6780960" cy="29376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5094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5094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5388480"/>
              <a:ext cx="6780960" cy="293760"/>
              <a:chOff x="0" y="5388480"/>
              <a:chExt cx="6780960" cy="29376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5388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5388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5682240"/>
              <a:ext cx="6780960" cy="293760"/>
              <a:chOff x="0" y="5682240"/>
              <a:chExt cx="6780960" cy="29376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5682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5682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5976360"/>
              <a:ext cx="6780960" cy="293760"/>
              <a:chOff x="0" y="5976360"/>
              <a:chExt cx="6780960" cy="29376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5976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5976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6270120"/>
              <a:ext cx="6780960" cy="293760"/>
              <a:chOff x="0" y="6270120"/>
              <a:chExt cx="6780960" cy="29376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62701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62701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6564240"/>
              <a:ext cx="6780960" cy="293760"/>
              <a:chOff x="0" y="6564240"/>
              <a:chExt cx="6780960" cy="29376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6564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6564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4190760" y="3124080"/>
            <a:ext cx="3886560" cy="1524240"/>
            <a:chOff x="4190760" y="3124080"/>
            <a:chExt cx="3886560" cy="1524240"/>
          </a:xfrm>
        </p:grpSpPr>
        <p:sp>
          <p:nvSpPr>
            <p:cNvPr id="391" name=""/>
            <p:cNvSpPr/>
            <p:nvPr/>
          </p:nvSpPr>
          <p:spPr>
            <a:xfrm>
              <a:off x="5257800" y="312408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data members (which are set by call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constructo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190760" y="3429000"/>
              <a:ext cx="1066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93E3-5B0B-4B2C-9ED8-2EEB1AA895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riv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6780960" cy="3581280"/>
            <a:chOff x="0" y="0"/>
            <a:chExt cx="6780960" cy="358128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6780960" cy="198720"/>
              <a:chOff x="0" y="0"/>
              <a:chExt cx="6780960" cy="19872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198720"/>
              <a:ext cx="6780960" cy="198720"/>
              <a:chOff x="0" y="198720"/>
              <a:chExt cx="6780960" cy="19872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397800"/>
              <a:ext cx="6780960" cy="198720"/>
              <a:chOff x="0" y="397800"/>
              <a:chExt cx="6780960" cy="19872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397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397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596880"/>
              <a:ext cx="6780960" cy="198720"/>
              <a:chOff x="0" y="596880"/>
              <a:chExt cx="6780960" cy="19872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596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596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0" y="795600"/>
              <a:ext cx="6780960" cy="198720"/>
              <a:chOff x="0" y="795600"/>
              <a:chExt cx="6780960" cy="19872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795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795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994680"/>
              <a:ext cx="6780960" cy="198720"/>
              <a:chOff x="0" y="994680"/>
              <a:chExt cx="6780960" cy="19872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994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994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1193760"/>
              <a:ext cx="6780960" cy="198720"/>
              <a:chOff x="0" y="1193760"/>
              <a:chExt cx="6780960" cy="19872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1193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1193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1392840"/>
              <a:ext cx="6780960" cy="198720"/>
              <a:chOff x="0" y="1392840"/>
              <a:chExt cx="6780960" cy="19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392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1392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1591560"/>
              <a:ext cx="6780960" cy="198720"/>
              <a:chOff x="0" y="1591560"/>
              <a:chExt cx="6780960" cy="19872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1591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1591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1790640"/>
              <a:ext cx="6780960" cy="198720"/>
              <a:chOff x="0" y="1790640"/>
              <a:chExt cx="6780960" cy="19872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1790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1790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1989360"/>
              <a:ext cx="6780960" cy="198720"/>
              <a:chOff x="0" y="1989360"/>
              <a:chExt cx="6780960" cy="19872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1989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1989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2188440"/>
              <a:ext cx="6780960" cy="198720"/>
              <a:chOff x="0" y="2188440"/>
              <a:chExt cx="6780960" cy="19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2188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2188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Point &gt;( 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2387520"/>
              <a:ext cx="6780960" cy="198720"/>
              <a:chOff x="0" y="2387520"/>
              <a:chExt cx="6780960" cy="19872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23875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23875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2586600"/>
              <a:ext cx="6780960" cy="198720"/>
              <a:chOff x="0" y="2586600"/>
              <a:chExt cx="6780960" cy="19872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2586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2586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2785320"/>
              <a:ext cx="6780960" cy="198720"/>
              <a:chOff x="0" y="2785320"/>
              <a:chExt cx="6780960" cy="19872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2785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2785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2984400"/>
              <a:ext cx="6780960" cy="198720"/>
              <a:chOff x="0" y="2984400"/>
              <a:chExt cx="6780960" cy="19872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2984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2984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3183480"/>
              <a:ext cx="6780960" cy="198720"/>
              <a:chOff x="0" y="3183480"/>
              <a:chExt cx="6780960" cy="19872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31834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1834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3382560"/>
              <a:ext cx="6780960" cy="198720"/>
              <a:chOff x="0" y="3382560"/>
              <a:chExt cx="6780960" cy="198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3382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382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0" y="3581280"/>
            <a:ext cx="6780960" cy="3276720"/>
            <a:chOff x="0" y="3581280"/>
            <a:chExt cx="6780960" cy="3276720"/>
          </a:xfrm>
        </p:grpSpPr>
        <p:grpSp>
          <p:nvGrpSpPr>
            <p:cNvPr id="450" name=""/>
            <p:cNvGrpSpPr/>
            <p:nvPr/>
          </p:nvGrpSpPr>
          <p:grpSpPr>
            <a:xfrm>
              <a:off x="0" y="3581280"/>
              <a:ext cx="6780960" cy="218160"/>
              <a:chOff x="0" y="3581280"/>
              <a:chExt cx="6780960" cy="21816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3581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581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fig09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799440"/>
              <a:ext cx="6780960" cy="218160"/>
              <a:chOff x="0" y="3799440"/>
              <a:chExt cx="6780960" cy="21816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799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799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ting base-class pointers to derived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017960"/>
              <a:ext cx="6780960" cy="218520"/>
              <a:chOff x="0" y="4017960"/>
              <a:chExt cx="6780960" cy="21852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017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017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4236480"/>
              <a:ext cx="6780960" cy="218160"/>
              <a:chOff x="0" y="4236480"/>
              <a:chExt cx="6780960" cy="21816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42364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42364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4455000"/>
              <a:ext cx="6780960" cy="218160"/>
              <a:chOff x="0" y="4455000"/>
              <a:chExt cx="6780960" cy="21816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44550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44550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0" y="4673520"/>
              <a:ext cx="6780960" cy="218160"/>
              <a:chOff x="0" y="4673520"/>
              <a:chExt cx="6780960" cy="21816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46735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6735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0" y="4891680"/>
              <a:ext cx="6780960" cy="218520"/>
              <a:chOff x="0" y="4891680"/>
              <a:chExt cx="6780960" cy="21852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4891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4891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5110200"/>
              <a:ext cx="6780960" cy="218160"/>
              <a:chOff x="0" y="5110200"/>
              <a:chExt cx="6780960" cy="21816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5110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5110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5328720"/>
              <a:ext cx="6780960" cy="218160"/>
              <a:chOff x="0" y="5328720"/>
              <a:chExt cx="6780960" cy="21816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5328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5328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5547240"/>
              <a:ext cx="6780960" cy="218160"/>
              <a:chOff x="0" y="5547240"/>
              <a:chExt cx="6780960" cy="21816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55472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55472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5765760"/>
              <a:ext cx="6780960" cy="218520"/>
              <a:chOff x="0" y="5765760"/>
              <a:chExt cx="6780960" cy="21852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5765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765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5984280"/>
              <a:ext cx="6780960" cy="218160"/>
              <a:chOff x="0" y="5984280"/>
              <a:chExt cx="6780960" cy="21816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5984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5984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6202800"/>
              <a:ext cx="6780960" cy="218160"/>
              <a:chOff x="0" y="6202800"/>
              <a:chExt cx="6780960" cy="21816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62028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62028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6420960"/>
              <a:ext cx="6780960" cy="218160"/>
              <a:chOff x="0" y="6420960"/>
              <a:chExt cx="6780960" cy="21816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6420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6420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6639480"/>
              <a:ext cx="6780960" cy="218520"/>
              <a:chOff x="0" y="6639480"/>
              <a:chExt cx="6780960" cy="21852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6639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6639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*pointPtr = 0, p( 30, 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A58F-61AB-430F-BC1A-54114F6966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Assign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97" name=""/>
            <p:cNvGrpSpPr/>
            <p:nvPr/>
          </p:nvGrpSpPr>
          <p:grpSpPr>
            <a:xfrm>
              <a:off x="0" y="3200400"/>
              <a:ext cx="6780960" cy="3657240"/>
              <a:chOff x="0" y="3200400"/>
              <a:chExt cx="6780960" cy="36572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0" y="3200400"/>
                <a:ext cx="6780960" cy="261000"/>
                <a:chOff x="0" y="3200400"/>
                <a:chExt cx="6780960" cy="2610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0" y="3200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0" y="3200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Circle c (via *circlePtr):\n" &lt;&lt; *circlePt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0" y="3461400"/>
                <a:ext cx="6780960" cy="261000"/>
                <a:chOff x="0" y="3461400"/>
                <a:chExt cx="6780960" cy="2610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0" y="3461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0" y="3461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\nArea of c (via circlePtr):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0" y="3722760"/>
                <a:ext cx="6780960" cy="261360"/>
                <a:chOff x="0" y="3722760"/>
                <a:chExt cx="6780960" cy="2613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0" y="372276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0" y="372276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circlePtr-&gt;area()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0" y="3984120"/>
                <a:ext cx="6780960" cy="261000"/>
                <a:chOff x="0" y="3984120"/>
                <a:chExt cx="6780960" cy="2610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0" y="398412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0" y="398412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0" y="4245480"/>
                <a:ext cx="6780960" cy="261000"/>
                <a:chOff x="0" y="4245480"/>
                <a:chExt cx="6780960" cy="2610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0" y="4245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0" y="4245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DANGEROUS: Treat a Point as a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0" y="4506480"/>
                <a:ext cx="6780960" cy="261000"/>
                <a:chOff x="0" y="4506480"/>
                <a:chExt cx="6780960" cy="2610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0" y="4506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0" y="4506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Ptr = &amp;p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ssign address of Point to poi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0" y="4767840"/>
                <a:ext cx="6780960" cy="261360"/>
                <a:chOff x="0" y="4767840"/>
                <a:chExt cx="6780960" cy="2613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0" y="476784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0" y="476784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0" y="5029200"/>
                <a:ext cx="6780960" cy="261000"/>
                <a:chOff x="0" y="5029200"/>
                <a:chExt cx="6780960" cy="2610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0" y="50292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0" y="50292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cast base-class pointer to derived-class poi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0" y="5290560"/>
                <a:ext cx="6780960" cy="261000"/>
                <a:chOff x="0" y="5290560"/>
                <a:chExt cx="6780960" cy="2610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0" y="5290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0" y="5290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Ptr =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static_ca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&lt; Circle * &gt;( pointPtr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0" y="5551560"/>
                <a:ext cx="6780960" cy="261000"/>
                <a:chOff x="0" y="5551560"/>
                <a:chExt cx="6780960" cy="2610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0" y="5551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0" y="5551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Point p (via *circlePtr):\n" &lt;&lt; *circle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0" y="5812920"/>
                <a:ext cx="6780960" cy="261360"/>
                <a:chOff x="0" y="5812920"/>
                <a:chExt cx="6780960" cy="2613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0" y="581292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0" y="581292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\nArea of object circlePtr points to: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0" y="6074280"/>
                <a:ext cx="6780960" cy="261000"/>
                <a:chOff x="0" y="6074280"/>
                <a:chExt cx="6780960" cy="261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0" y="60742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0" y="60742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circlePtr-&gt;area()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0" y="6335640"/>
                <a:ext cx="6780960" cy="261000"/>
                <a:chOff x="0" y="6335640"/>
                <a:chExt cx="6780960" cy="2610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0" y="6335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0" y="6335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0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0" y="6596640"/>
                <a:ext cx="6780960" cy="261000"/>
                <a:chOff x="0" y="6596640"/>
                <a:chExt cx="6780960" cy="2610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0" y="6596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0" y="6596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0" y="0"/>
              <a:ext cx="6780960" cy="3200040"/>
              <a:chOff x="0" y="0"/>
              <a:chExt cx="6780960" cy="320004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0" y="0"/>
                <a:ext cx="6780960" cy="266400"/>
                <a:chOff x="0" y="0"/>
                <a:chExt cx="6780960" cy="2664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0" y="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0" y="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 *circlePtr = 0, c( 2.7, 120, 89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0" y="266400"/>
                <a:ext cx="6780960" cy="266400"/>
                <a:chOff x="0" y="266400"/>
                <a:chExt cx="6780960" cy="2664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0" y="26640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0" y="26640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0" y="533160"/>
                <a:ext cx="6780960" cy="266760"/>
                <a:chOff x="0" y="533160"/>
                <a:chExt cx="6780960" cy="26676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0" y="53316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0" y="53316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Point p: " &lt;&lt; p &lt;&lt; "\nCircle c: " &lt;&lt; c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0" y="799920"/>
                <a:ext cx="6780960" cy="266400"/>
                <a:chOff x="0" y="799920"/>
                <a:chExt cx="6780960" cy="2664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0" y="7999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0" y="7999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0" y="1066680"/>
                <a:ext cx="6780960" cy="266400"/>
                <a:chOff x="0" y="1066680"/>
                <a:chExt cx="6780960" cy="26640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0" y="106668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0" y="106668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Treat a Circle as a Point (see only the base class par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0" y="1333440"/>
                <a:ext cx="6780960" cy="266400"/>
                <a:chOff x="0" y="1333440"/>
                <a:chExt cx="6780960" cy="2664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0" y="13334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0" y="13334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Ptr = &amp;c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ssign address of Circle to poi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0" y="1600200"/>
                <a:ext cx="6780960" cy="266760"/>
                <a:chOff x="0" y="1600200"/>
                <a:chExt cx="6780960" cy="2667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0" y="160020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0" y="160020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Circle c (via *pointPtr): "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0" y="1866960"/>
                <a:ext cx="6780960" cy="266400"/>
                <a:chOff x="0" y="1866960"/>
                <a:chExt cx="6780960" cy="2664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0" y="186696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0" y="186696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*pointPtr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0" y="2133720"/>
                <a:ext cx="6780960" cy="266400"/>
                <a:chOff x="0" y="2133720"/>
                <a:chExt cx="6780960" cy="26640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0" y="21337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0" y="21337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0" y="2400120"/>
                <a:ext cx="6780960" cy="266400"/>
                <a:chOff x="0" y="2400120"/>
                <a:chExt cx="6780960" cy="26640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0" y="24001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0" y="24001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Treat a Circle as a Circle (with some castin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0" y="2666880"/>
                <a:ext cx="6780960" cy="266760"/>
                <a:chOff x="0" y="2666880"/>
                <a:chExt cx="6780960" cy="2667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0" y="266688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0" y="266688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cast base-class pointer to derived-class poi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0" y="2933640"/>
                <a:ext cx="6780960" cy="266400"/>
                <a:chOff x="0" y="2933640"/>
                <a:chExt cx="6780960" cy="2664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0" y="29336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0" y="29336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Ptr =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static_ca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&lt; Circle * &gt;( pointPtr );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7" name=""/>
          <p:cNvGrpSpPr/>
          <p:nvPr/>
        </p:nvGrpSpPr>
        <p:grpSpPr>
          <a:xfrm>
            <a:off x="2057400" y="1600200"/>
            <a:ext cx="6629400" cy="3357720"/>
            <a:chOff x="2057400" y="1600200"/>
            <a:chExt cx="6629400" cy="3357720"/>
          </a:xfrm>
        </p:grpSpPr>
        <p:sp>
          <p:nvSpPr>
            <p:cNvPr id="578" name=""/>
            <p:cNvSpPr/>
            <p:nvPr/>
          </p:nvSpPr>
          <p:spPr>
            <a:xfrm>
              <a:off x="6248520" y="3276720"/>
              <a:ext cx="2438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ign derived-class point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o base class poin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base class pointer only "sees" the base-class part of the object it points 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2057400" y="1600200"/>
              <a:ext cx="41911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647960" y="3123720"/>
            <a:ext cx="4115160" cy="3586320"/>
            <a:chOff x="4647960" y="3123720"/>
            <a:chExt cx="4115160" cy="3586320"/>
          </a:xfrm>
        </p:grpSpPr>
        <p:sp>
          <p:nvSpPr>
            <p:cNvPr id="581" name=""/>
            <p:cNvSpPr/>
            <p:nvPr/>
          </p:nvSpPr>
          <p:spPr>
            <a:xfrm>
              <a:off x="6324840" y="5028840"/>
              <a:ext cx="2438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 *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ssign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Pt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Pt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ll 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object to which it points)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4647960" y="3123720"/>
              <a:ext cx="1676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352680" y="83808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: [30, 5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: 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87840" y="1905120"/>
            <a:ext cx="33811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pointPtr): [120, 8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3510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c (via circlePtr): 22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04920" y="2332080"/>
            <a:ext cx="3352680" cy="3002040"/>
            <a:chOff x="304920" y="2332080"/>
            <a:chExt cx="3352680" cy="3002040"/>
          </a:xfrm>
        </p:grpSpPr>
        <p:grpSp>
          <p:nvGrpSpPr>
            <p:cNvPr id="587" name=""/>
            <p:cNvGrpSpPr/>
            <p:nvPr/>
          </p:nvGrpSpPr>
          <p:grpSpPr>
            <a:xfrm>
              <a:off x="304920" y="2332080"/>
              <a:ext cx="3352680" cy="2163600"/>
              <a:chOff x="304920" y="2332080"/>
              <a:chExt cx="3352680" cy="2163600"/>
            </a:xfrm>
          </p:grpSpPr>
          <p:sp>
            <p:nvSpPr>
              <p:cNvPr id="588" name=""/>
              <p:cNvSpPr/>
              <p:nvPr/>
            </p:nvSpPr>
            <p:spPr>
              <a:xfrm>
                <a:off x="304920" y="2332080"/>
                <a:ext cx="335268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ssig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object.  It has no derived-class information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hen it is cast to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 *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really assigned to a base-class object with no derived-class information.  This is dangerou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1218960" y="42670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981080" y="4267080"/>
              <a:ext cx="7621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4343400" y="60246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30, 50]; Radius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object circlePtr points to: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5527-4E39-44FD-B29F-07DC4D2F4D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: [30, 5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: 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pointPtr): [120, 8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c (via circlePtr): 22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30, 50]; Radius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object circlePtr points to: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17A0-F69B-49E4-B409-A3BC68C569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5     Using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directly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ir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is a huge help in testing, debugging and correctly modify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E10F-B1DB-4240-AE1D-CC28D3CE1D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6   Overriding Base-Class Members in a Derived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verride a base-class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derived class, supply a new version of that function with the same sig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function name, differen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then mentioned by name in the derived class, the derived version is automatically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cope-resolution operator may be used to access the base class version from the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6DDD-62B2-4CE5-B847-B732D22D78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0"/>
            <a:ext cx="6780960" cy="3200400"/>
            <a:chOff x="0" y="0"/>
            <a:chExt cx="6780960" cy="3200400"/>
          </a:xfrm>
        </p:grpSpPr>
        <p:grpSp>
          <p:nvGrpSpPr>
            <p:cNvPr id="600" name=""/>
            <p:cNvGrpSpPr/>
            <p:nvPr/>
          </p:nvGrpSpPr>
          <p:grpSpPr>
            <a:xfrm>
              <a:off x="0" y="0"/>
              <a:ext cx="6780960" cy="199800"/>
              <a:chOff x="0" y="0"/>
              <a:chExt cx="6780960" cy="19980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employ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199800"/>
              <a:ext cx="6780960" cy="199800"/>
              <a:chOff x="0" y="199800"/>
              <a:chExt cx="6780960" cy="19980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1998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1998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399960"/>
              <a:ext cx="6780960" cy="199800"/>
              <a:chOff x="0" y="399960"/>
              <a:chExt cx="6780960" cy="19980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3999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3999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600120"/>
              <a:ext cx="6780960" cy="199800"/>
              <a:chOff x="0" y="600120"/>
              <a:chExt cx="6780960" cy="19980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6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6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799920"/>
              <a:ext cx="6780960" cy="199800"/>
              <a:chOff x="0" y="799920"/>
              <a:chExt cx="6780960" cy="19980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7999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7999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1000080"/>
              <a:ext cx="6780960" cy="199800"/>
              <a:chOff x="0" y="1000080"/>
              <a:chExt cx="6780960" cy="19980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10000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10000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1199880"/>
              <a:ext cx="6780960" cy="199800"/>
              <a:chOff x="0" y="1199880"/>
              <a:chExt cx="6780960" cy="19980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11998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11998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1400040"/>
              <a:ext cx="6780960" cy="199800"/>
              <a:chOff x="0" y="1400040"/>
              <a:chExt cx="6780960" cy="19980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14000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14000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1600200"/>
              <a:ext cx="6780960" cy="199800"/>
              <a:chOff x="0" y="1600200"/>
              <a:chExt cx="6780960" cy="19980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16002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16002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output first and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1800000"/>
              <a:ext cx="6780960" cy="199800"/>
              <a:chOff x="0" y="1800000"/>
              <a:chExt cx="6780960" cy="19980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18000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18000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2000160"/>
              <a:ext cx="6780960" cy="199800"/>
              <a:chOff x="0" y="2000160"/>
              <a:chExt cx="6780960" cy="19980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20001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20001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2200320"/>
              <a:ext cx="6780960" cy="199800"/>
              <a:chOff x="0" y="2200320"/>
              <a:chExt cx="6780960" cy="19980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22003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22003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ynamically allocated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2400120"/>
              <a:ext cx="6780960" cy="199800"/>
              <a:chOff x="0" y="2400120"/>
              <a:chExt cx="6780960" cy="19980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24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ynamically allocated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600280"/>
              <a:ext cx="6780960" cy="199800"/>
              <a:chOff x="0" y="2600280"/>
              <a:chExt cx="6780960" cy="19980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6002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6002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800440"/>
              <a:ext cx="6780960" cy="199800"/>
              <a:chOff x="0" y="2800440"/>
              <a:chExt cx="6780960" cy="19980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8004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8004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3000600"/>
              <a:ext cx="6780960" cy="199800"/>
              <a:chOff x="0" y="3000600"/>
              <a:chExt cx="6780960" cy="19980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30006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0" y="3000600"/>
                <a:ext cx="6780600" cy="199800"/>
                <a:chOff x="0" y="3000600"/>
                <a:chExt cx="6780600" cy="1998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0" y="3000600"/>
                  <a:ext cx="6780600" cy="199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0" y="3000600"/>
                  <a:ext cx="678060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0" name=""/>
          <p:cNvGrpSpPr/>
          <p:nvPr/>
        </p:nvGrpSpPr>
        <p:grpSpPr>
          <a:xfrm>
            <a:off x="0" y="3200400"/>
            <a:ext cx="6780960" cy="3657240"/>
            <a:chOff x="0" y="3200400"/>
            <a:chExt cx="6780960" cy="3657240"/>
          </a:xfrm>
        </p:grpSpPr>
        <p:grpSp>
          <p:nvGrpSpPr>
            <p:cNvPr id="651" name=""/>
            <p:cNvGrpSpPr/>
            <p:nvPr/>
          </p:nvGrpSpPr>
          <p:grpSpPr>
            <a:xfrm>
              <a:off x="0" y="3200400"/>
              <a:ext cx="6780960" cy="228240"/>
              <a:chOff x="0" y="3200400"/>
              <a:chExt cx="6780960" cy="22824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employ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428640"/>
              <a:ext cx="6780960" cy="228240"/>
              <a:chOff x="0" y="3428640"/>
              <a:chExt cx="6780960" cy="22824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3657240"/>
              <a:ext cx="6780960" cy="228600"/>
              <a:chOff x="0" y="3657240"/>
              <a:chExt cx="6780960" cy="2286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4572000"/>
              <a:ext cx="6780960" cy="228600"/>
              <a:chOff x="0" y="4572000"/>
              <a:chExt cx="6780960" cy="2286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5486400"/>
              <a:ext cx="6780960" cy="228600"/>
              <a:chOff x="0" y="5486400"/>
              <a:chExt cx="6780960" cy="2286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6400800"/>
              <a:ext cx="6780960" cy="228600"/>
              <a:chOff x="0" y="6400800"/>
              <a:chExt cx="67809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3CCE-DEFC-40D7-96A3-236E8C00A0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0" y="0"/>
            <a:ext cx="6705000" cy="3733920"/>
            <a:chOff x="0" y="0"/>
            <a:chExt cx="6705000" cy="3733920"/>
          </a:xfrm>
        </p:grpSpPr>
        <p:grpSp>
          <p:nvGrpSpPr>
            <p:cNvPr id="701" name=""/>
            <p:cNvGrpSpPr/>
            <p:nvPr/>
          </p:nvGrpSpPr>
          <p:grpSpPr>
            <a:xfrm>
              <a:off x="0" y="0"/>
              <a:ext cx="6705000" cy="207360"/>
              <a:chOff x="0" y="0"/>
              <a:chExt cx="6705000" cy="20736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207360"/>
              <a:ext cx="6705000" cy="207360"/>
              <a:chOff x="0" y="207360"/>
              <a:chExt cx="6705000" cy="20736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2073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2073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414720"/>
              <a:ext cx="6705000" cy="207360"/>
              <a:chOff x="0" y="414720"/>
              <a:chExt cx="6705000" cy="20736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4147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4147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622080"/>
              <a:ext cx="6705000" cy="207360"/>
              <a:chOff x="0" y="622080"/>
              <a:chExt cx="6705000" cy="20736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622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622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829800"/>
              <a:ext cx="6705000" cy="207360"/>
              <a:chOff x="0" y="829800"/>
              <a:chExt cx="6705000" cy="20736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829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829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1037160"/>
              <a:ext cx="6705000" cy="207360"/>
              <a:chOff x="0" y="1037160"/>
              <a:chExt cx="6705000" cy="20736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1037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1037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1244520"/>
              <a:ext cx="6705000" cy="207360"/>
              <a:chOff x="0" y="1244520"/>
              <a:chExt cx="6705000" cy="20736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12445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12445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1451880"/>
              <a:ext cx="6705000" cy="207360"/>
              <a:chOff x="0" y="1451880"/>
              <a:chExt cx="6705000" cy="20736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1451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1451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1659600"/>
              <a:ext cx="6705000" cy="207360"/>
              <a:chOff x="0" y="1659600"/>
              <a:chExt cx="6705000" cy="20736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1659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659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employee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1866960"/>
              <a:ext cx="6705000" cy="207360"/>
              <a:chOff x="0" y="1866960"/>
              <a:chExt cx="6705000" cy="20736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1866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1866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2074320"/>
              <a:ext cx="6705000" cy="207360"/>
              <a:chOff x="0" y="2074320"/>
              <a:chExt cx="6705000" cy="20736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20743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0743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2282040"/>
              <a:ext cx="6705000" cy="207360"/>
              <a:chOff x="0" y="2282040"/>
              <a:chExt cx="6705000" cy="20736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2282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2282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489400"/>
              <a:ext cx="6705000" cy="207360"/>
              <a:chOff x="0" y="2489400"/>
              <a:chExt cx="6705000" cy="20736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489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489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2696760"/>
              <a:ext cx="6705000" cy="207360"/>
              <a:chOff x="0" y="2696760"/>
              <a:chExt cx="6705000" cy="20736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26967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26967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2904120"/>
              <a:ext cx="6705000" cy="207360"/>
              <a:chOff x="0" y="2904120"/>
              <a:chExt cx="6705000" cy="20736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2904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904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3111840"/>
              <a:ext cx="6705000" cy="207360"/>
              <a:chOff x="0" y="3111840"/>
              <a:chExt cx="6705000" cy="20736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3111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3111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laim dynamic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3319200"/>
              <a:ext cx="6705000" cy="207360"/>
              <a:chOff x="0" y="3319200"/>
              <a:chExt cx="6705000" cy="20736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3319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319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laim dynamic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3526560"/>
              <a:ext cx="6705000" cy="207360"/>
              <a:chOff x="0" y="3526560"/>
              <a:chExt cx="6705000" cy="20736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35265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35265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0" y="3733920"/>
            <a:ext cx="6705000" cy="3124080"/>
            <a:chOff x="0" y="3733920"/>
            <a:chExt cx="6705000" cy="3124080"/>
          </a:xfrm>
        </p:grpSpPr>
        <p:grpSp>
          <p:nvGrpSpPr>
            <p:cNvPr id="756" name=""/>
            <p:cNvGrpSpPr/>
            <p:nvPr/>
          </p:nvGrpSpPr>
          <p:grpSpPr>
            <a:xfrm>
              <a:off x="0" y="3733920"/>
              <a:ext cx="6705000" cy="240120"/>
              <a:chOff x="0" y="3733920"/>
              <a:chExt cx="6705000" cy="24012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3733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3733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hourly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3974040"/>
              <a:ext cx="6705000" cy="240120"/>
              <a:chOff x="0" y="3974040"/>
              <a:chExt cx="6705000" cy="24012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39740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39740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4214160"/>
              <a:ext cx="6705000" cy="240120"/>
              <a:chOff x="0" y="4214160"/>
              <a:chExt cx="6705000" cy="24012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42141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42141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4454640"/>
              <a:ext cx="6705000" cy="240120"/>
              <a:chOff x="0" y="4454640"/>
              <a:chExt cx="6705000" cy="24012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44546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44546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4695120"/>
              <a:ext cx="6705000" cy="240120"/>
              <a:chOff x="0" y="4695120"/>
              <a:chExt cx="6705000" cy="24012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4695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4695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4935240"/>
              <a:ext cx="6705000" cy="240120"/>
              <a:chOff x="0" y="4935240"/>
              <a:chExt cx="6705000" cy="24012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4935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4935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5175720"/>
              <a:ext cx="6705000" cy="240120"/>
              <a:chOff x="0" y="5175720"/>
              <a:chExt cx="6705000" cy="24012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5175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5175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5416200"/>
              <a:ext cx="6705000" cy="240120"/>
              <a:chOff x="0" y="5416200"/>
              <a:chExt cx="6705000" cy="24012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5416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416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5656320"/>
              <a:ext cx="6705000" cy="240120"/>
              <a:chOff x="0" y="5656320"/>
              <a:chExt cx="6705000" cy="24012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5656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5656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0" y="5896800"/>
              <a:ext cx="6705000" cy="240120"/>
              <a:chOff x="0" y="5896800"/>
              <a:chExt cx="6705000" cy="240120"/>
            </a:xfrm>
          </p:grpSpPr>
          <p:sp>
            <p:nvSpPr>
              <p:cNvPr id="784" name=""/>
              <p:cNvSpPr/>
              <p:nvPr/>
            </p:nvSpPr>
            <p:spPr>
              <a:xfrm>
                <a:off x="0" y="5896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5896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0" y="6136920"/>
              <a:ext cx="6705000" cy="240120"/>
              <a:chOff x="0" y="6136920"/>
              <a:chExt cx="6705000" cy="240120"/>
            </a:xfrm>
          </p:grpSpPr>
          <p:sp>
            <p:nvSpPr>
              <p:cNvPr id="787" name=""/>
              <p:cNvSpPr/>
              <p:nvPr/>
            </p:nvSpPr>
            <p:spPr>
              <a:xfrm>
                <a:off x="0" y="6136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6136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Pa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6377400"/>
              <a:ext cx="6705000" cy="240120"/>
              <a:chOff x="0" y="6377400"/>
              <a:chExt cx="6705000" cy="240120"/>
            </a:xfrm>
          </p:grpSpPr>
          <p:sp>
            <p:nvSpPr>
              <p:cNvPr id="790" name=""/>
              <p:cNvSpPr/>
              <p:nvPr/>
            </p:nvSpPr>
            <p:spPr>
              <a:xfrm>
                <a:off x="0" y="6377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6377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ridden base-class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0" y="6617880"/>
              <a:ext cx="6705000" cy="240120"/>
              <a:chOff x="0" y="6617880"/>
              <a:chExt cx="6705000" cy="240120"/>
            </a:xfrm>
          </p:grpSpPr>
          <p:sp>
            <p:nvSpPr>
              <p:cNvPr id="793" name=""/>
              <p:cNvSpPr/>
              <p:nvPr/>
            </p:nvSpPr>
            <p:spPr>
              <a:xfrm>
                <a:off x="0" y="6617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6617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5" name=""/>
          <p:cNvGrpSpPr/>
          <p:nvPr/>
        </p:nvGrpSpPr>
        <p:grpSpPr>
          <a:xfrm>
            <a:off x="3809880" y="3976920"/>
            <a:ext cx="4724640" cy="1357200"/>
            <a:chOff x="3809880" y="3976920"/>
            <a:chExt cx="4724640" cy="1357200"/>
          </a:xfrm>
        </p:grpSpPr>
        <p:sp>
          <p:nvSpPr>
            <p:cNvPr id="796" name=""/>
            <p:cNvSpPr/>
            <p:nvPr/>
          </p:nvSpPr>
          <p:spPr>
            <a:xfrm flipV="1">
              <a:off x="6095880" y="397656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lyWork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809880" y="4114800"/>
              <a:ext cx="2286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240" y="5181480"/>
            <a:ext cx="6324840" cy="1295640"/>
            <a:chOff x="2514240" y="5181480"/>
            <a:chExt cx="6324840" cy="1295640"/>
          </a:xfrm>
        </p:grpSpPr>
        <p:sp>
          <p:nvSpPr>
            <p:cNvPr id="799" name=""/>
            <p:cNvSpPr/>
            <p:nvPr/>
          </p:nvSpPr>
          <p:spPr>
            <a:xfrm>
              <a:off x="6019920" y="51814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lyWork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ll overri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2514240" y="5410080"/>
              <a:ext cx="35053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3772-7A7E-47E7-82BF-F6548D963A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0" y="0"/>
            <a:ext cx="6780960" cy="990720"/>
            <a:chOff x="0" y="0"/>
            <a:chExt cx="6780960" cy="990720"/>
          </a:xfrm>
        </p:grpSpPr>
        <p:grpSp>
          <p:nvGrpSpPr>
            <p:cNvPr id="803" name=""/>
            <p:cNvGrpSpPr/>
            <p:nvPr/>
          </p:nvGrpSpPr>
          <p:grpSpPr>
            <a:xfrm>
              <a:off x="0" y="0"/>
              <a:ext cx="6780960" cy="198000"/>
              <a:chOff x="0" y="0"/>
              <a:chExt cx="6780960" cy="19800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198000"/>
              <a:ext cx="6780960" cy="198000"/>
              <a:chOff x="0" y="198000"/>
              <a:chExt cx="6780960" cy="19800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198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198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s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396000"/>
              <a:ext cx="6780960" cy="198000"/>
              <a:chOff x="0" y="396000"/>
              <a:chExt cx="6780960" cy="19800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396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396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94360"/>
              <a:ext cx="6780960" cy="198000"/>
              <a:chOff x="0" y="594360"/>
              <a:chExt cx="6780960" cy="19800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9436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9436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792720"/>
              <a:ext cx="6780960" cy="198000"/>
              <a:chOff x="0" y="792720"/>
              <a:chExt cx="6780960" cy="1980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79272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79272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0" y="990720"/>
            <a:ext cx="6780960" cy="5867280"/>
            <a:chOff x="0" y="990720"/>
            <a:chExt cx="6780960" cy="5867280"/>
          </a:xfrm>
        </p:grpSpPr>
        <p:grpSp>
          <p:nvGrpSpPr>
            <p:cNvPr id="819" name=""/>
            <p:cNvGrpSpPr/>
            <p:nvPr/>
          </p:nvGrpSpPr>
          <p:grpSpPr>
            <a:xfrm>
              <a:off x="0" y="990720"/>
              <a:ext cx="6780960" cy="217080"/>
              <a:chOff x="0" y="990720"/>
              <a:chExt cx="6780960" cy="21708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99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99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hourly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1207800"/>
              <a:ext cx="6780960" cy="217080"/>
              <a:chOff x="0" y="1207800"/>
              <a:chExt cx="6780960" cy="21708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1207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1207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1425240"/>
              <a:ext cx="6780960" cy="217080"/>
              <a:chOff x="0" y="1425240"/>
              <a:chExt cx="6780960" cy="21708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142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142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1642680"/>
              <a:ext cx="6780960" cy="217080"/>
              <a:chOff x="0" y="1642680"/>
              <a:chExt cx="6780960" cy="21708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164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164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1859760"/>
              <a:ext cx="6780960" cy="217080"/>
              <a:chOff x="0" y="1859760"/>
              <a:chExt cx="6780960" cy="21708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185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185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2077200"/>
              <a:ext cx="6780960" cy="217080"/>
              <a:chOff x="0" y="2077200"/>
              <a:chExt cx="6780960" cy="21708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207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207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2294280"/>
              <a:ext cx="6780960" cy="217080"/>
              <a:chOff x="0" y="2294280"/>
              <a:chExt cx="6780960" cy="21708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2294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2294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2511720"/>
              <a:ext cx="6780960" cy="217080"/>
              <a:chOff x="0" y="2511720"/>
              <a:chExt cx="6780960" cy="21708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251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251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2729160"/>
              <a:ext cx="6780960" cy="217080"/>
              <a:chOff x="0" y="2729160"/>
              <a:chExt cx="6780960" cy="21708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272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272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2946240"/>
              <a:ext cx="6780960" cy="217080"/>
              <a:chOff x="0" y="2946240"/>
              <a:chExt cx="6780960" cy="21708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2946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2946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3163680"/>
              <a:ext cx="6780960" cy="217080"/>
              <a:chOff x="0" y="3163680"/>
              <a:chExt cx="6780960" cy="21708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3163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3163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0" y="3381120"/>
              <a:ext cx="6780960" cy="217080"/>
              <a:chOff x="0" y="3381120"/>
              <a:chExt cx="6780960" cy="217080"/>
            </a:xfrm>
          </p:grpSpPr>
          <p:sp>
            <p:nvSpPr>
              <p:cNvPr id="853" name=""/>
              <p:cNvSpPr/>
              <p:nvPr/>
            </p:nvSpPr>
            <p:spPr>
              <a:xfrm>
                <a:off x="0" y="338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338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0" y="3598200"/>
              <a:ext cx="6780960" cy="217080"/>
              <a:chOff x="0" y="3598200"/>
              <a:chExt cx="6780960" cy="217080"/>
            </a:xfrm>
          </p:grpSpPr>
          <p:sp>
            <p:nvSpPr>
              <p:cNvPr id="856" name=""/>
              <p:cNvSpPr/>
              <p:nvPr/>
            </p:nvSpPr>
            <p:spPr>
              <a:xfrm>
                <a:off x="0" y="3598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98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0" y="3815640"/>
              <a:ext cx="6780960" cy="217080"/>
              <a:chOff x="0" y="3815640"/>
              <a:chExt cx="6780960" cy="217080"/>
            </a:xfrm>
          </p:grpSpPr>
          <p:sp>
            <p:nvSpPr>
              <p:cNvPr id="859" name=""/>
              <p:cNvSpPr/>
              <p:nvPr/>
            </p:nvSpPr>
            <p:spPr>
              <a:xfrm>
                <a:off x="0" y="381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381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0" y="4033080"/>
              <a:ext cx="6780960" cy="217080"/>
              <a:chOff x="0" y="4033080"/>
              <a:chExt cx="6780960" cy="217080"/>
            </a:xfrm>
          </p:grpSpPr>
          <p:sp>
            <p:nvSpPr>
              <p:cNvPr id="862" name=""/>
              <p:cNvSpPr/>
              <p:nvPr/>
            </p:nvSpPr>
            <p:spPr>
              <a:xfrm>
                <a:off x="0" y="4033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4033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0" y="4250520"/>
              <a:ext cx="6780960" cy="217080"/>
              <a:chOff x="0" y="4250520"/>
              <a:chExt cx="6780960" cy="217080"/>
            </a:xfrm>
          </p:grpSpPr>
          <p:sp>
            <p:nvSpPr>
              <p:cNvPr id="865" name=""/>
              <p:cNvSpPr/>
              <p:nvPr/>
            </p:nvSpPr>
            <p:spPr>
              <a:xfrm>
                <a:off x="0" y="4250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4250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0" y="4467600"/>
              <a:ext cx="6780960" cy="217080"/>
              <a:chOff x="0" y="4467600"/>
              <a:chExt cx="6780960" cy="217080"/>
            </a:xfrm>
          </p:grpSpPr>
          <p:sp>
            <p:nvSpPr>
              <p:cNvPr id="868" name=""/>
              <p:cNvSpPr/>
              <p:nvPr/>
            </p:nvSpPr>
            <p:spPr>
              <a:xfrm>
                <a:off x="0" y="4467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4467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0" y="4685040"/>
              <a:ext cx="6780960" cy="217080"/>
              <a:chOff x="0" y="4685040"/>
              <a:chExt cx="6780960" cy="21708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4685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4685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4902120"/>
              <a:ext cx="6780960" cy="217080"/>
              <a:chOff x="0" y="4902120"/>
              <a:chExt cx="6780960" cy="21708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4902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4902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Hour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Wag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5119560"/>
              <a:ext cx="6780960" cy="217080"/>
              <a:chOff x="0" y="5119560"/>
              <a:chExt cx="6780960" cy="21708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5119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5119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0" y="5337000"/>
              <a:ext cx="6780960" cy="217080"/>
              <a:chOff x="0" y="5337000"/>
              <a:chExt cx="6780960" cy="21708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53370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53370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5554080"/>
              <a:ext cx="6780960" cy="217080"/>
              <a:chOff x="0" y="5554080"/>
              <a:chExt cx="6780960" cy="21708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5554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5554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s = initHour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5771520"/>
              <a:ext cx="6780960" cy="217080"/>
              <a:chOff x="0" y="5771520"/>
              <a:chExt cx="6780960" cy="21708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5771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5771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ge = initWag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5988600"/>
              <a:ext cx="6780960" cy="217080"/>
              <a:chOff x="0" y="5988600"/>
              <a:chExt cx="6780960" cy="21708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5988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5988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6206040"/>
              <a:ext cx="6780960" cy="217080"/>
              <a:chOff x="0" y="6206040"/>
              <a:chExt cx="6780960" cy="21708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6206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6206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6423480"/>
              <a:ext cx="6780960" cy="217080"/>
              <a:chOff x="0" y="6423480"/>
              <a:chExt cx="6780960" cy="21708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64234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64234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6640920"/>
              <a:ext cx="6780960" cy="217080"/>
              <a:chOff x="0" y="6640920"/>
              <a:chExt cx="6780960" cy="21708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66409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66409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getPa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 * hour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0BF3-ED9E-4F20-A4C3-E816EDFD80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 classes created from existing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orb attributes and behavi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that inherits data members and member functions from a previously defined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inherit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inherits from on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inherit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inherits from multiple bas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s of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 Derived objects are accessible by the base 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: Derived objects are inaccessible by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: Derived classes and friends can access protected members of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3DBD-52F0-4F10-B55F-6DB8E06468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0" y="0"/>
            <a:ext cx="6780960" cy="2971440"/>
            <a:chOff x="0" y="0"/>
            <a:chExt cx="6780960" cy="2971440"/>
          </a:xfrm>
        </p:grpSpPr>
        <p:grpSp>
          <p:nvGrpSpPr>
            <p:cNvPr id="902" name=""/>
            <p:cNvGrpSpPr/>
            <p:nvPr/>
          </p:nvGrpSpPr>
          <p:grpSpPr>
            <a:xfrm>
              <a:off x="0" y="0"/>
              <a:ext cx="6780960" cy="270000"/>
              <a:chOff x="0" y="0"/>
              <a:chExt cx="6780960" cy="2700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270000"/>
              <a:ext cx="6780960" cy="270000"/>
              <a:chOff x="0" y="270000"/>
              <a:chExt cx="6780960" cy="27000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HourlyWorker's name and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540000"/>
              <a:ext cx="6780960" cy="270000"/>
              <a:chOff x="0" y="540000"/>
              <a:chExt cx="6780960" cy="2700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810360"/>
              <a:ext cx="6780960" cy="270000"/>
              <a:chOff x="0" y="810360"/>
              <a:chExt cx="6780960" cy="27000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1080360"/>
              <a:ext cx="6780960" cy="270000"/>
              <a:chOff x="0" y="1080360"/>
              <a:chExt cx="6780960" cy="27000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HourlyWorker::print() is executing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1350720"/>
              <a:ext cx="6780960" cy="270000"/>
              <a:chOff x="0" y="1350720"/>
              <a:chExt cx="6780960" cy="27000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print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0" y="1620720"/>
              <a:ext cx="6780960" cy="270000"/>
              <a:chOff x="0" y="1620720"/>
              <a:chExt cx="6780960" cy="270000"/>
            </a:xfrm>
          </p:grpSpPr>
          <p:sp>
            <p:nvSpPr>
              <p:cNvPr id="921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0" y="1891080"/>
              <a:ext cx="6780960" cy="270000"/>
              <a:chOff x="0" y="1891080"/>
              <a:chExt cx="6780960" cy="27000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is an hourly worker with pay of $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2161080"/>
              <a:ext cx="6780960" cy="270000"/>
              <a:chOff x="0" y="2161080"/>
              <a:chExt cx="6780960" cy="27000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2431440"/>
              <a:ext cx="6780960" cy="270000"/>
              <a:chOff x="0" y="2431440"/>
              <a:chExt cx="6780960" cy="27000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 &lt;&lt; getPay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2701440"/>
              <a:ext cx="6780960" cy="270000"/>
              <a:chOff x="0" y="2701440"/>
              <a:chExt cx="6780960" cy="27000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5" name=""/>
          <p:cNvGrpSpPr/>
          <p:nvPr/>
        </p:nvGrpSpPr>
        <p:grpSpPr>
          <a:xfrm>
            <a:off x="0" y="2895480"/>
            <a:ext cx="6780960" cy="3353040"/>
            <a:chOff x="0" y="2895480"/>
            <a:chExt cx="6780960" cy="3353040"/>
          </a:xfrm>
        </p:grpSpPr>
        <p:grpSp>
          <p:nvGrpSpPr>
            <p:cNvPr id="936" name=""/>
            <p:cNvGrpSpPr/>
            <p:nvPr/>
          </p:nvGrpSpPr>
          <p:grpSpPr>
            <a:xfrm>
              <a:off x="0" y="2895480"/>
              <a:ext cx="6780960" cy="304560"/>
              <a:chOff x="0" y="2895480"/>
              <a:chExt cx="6780960" cy="30456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28954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28954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fig09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3200040"/>
              <a:ext cx="6780960" cy="304560"/>
              <a:chOff x="0" y="3200040"/>
              <a:chExt cx="6780960" cy="30456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320004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320004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riding a base-class member function in 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3504960"/>
              <a:ext cx="6780960" cy="304920"/>
              <a:chOff x="0" y="3504960"/>
              <a:chExt cx="6780960" cy="3049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350496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350496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rived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3809880"/>
              <a:ext cx="6780960" cy="304560"/>
              <a:chOff x="0" y="3809880"/>
              <a:chExt cx="6780960" cy="30456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3809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3809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4114800"/>
              <a:ext cx="6780960" cy="304560"/>
              <a:chOff x="0" y="4114800"/>
              <a:chExt cx="6780960" cy="30456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41148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41148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4419360"/>
              <a:ext cx="6780960" cy="304560"/>
              <a:chOff x="0" y="4419360"/>
              <a:chExt cx="6780960" cy="30456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44193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44193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4724280"/>
              <a:ext cx="6780960" cy="304920"/>
              <a:chOff x="0" y="4724280"/>
              <a:chExt cx="6780960" cy="3049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47242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47242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5029200"/>
              <a:ext cx="6780960" cy="304560"/>
              <a:chOff x="0" y="5029200"/>
              <a:chExt cx="6780960" cy="30456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50292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50292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 h( "Bob", "Smith", 40.0, 1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5334120"/>
              <a:ext cx="6780960" cy="304560"/>
              <a:chOff x="0" y="5334120"/>
              <a:chExt cx="6780960" cy="30456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53341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53341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5638680"/>
              <a:ext cx="6780960" cy="304560"/>
              <a:chOff x="0" y="5638680"/>
              <a:chExt cx="6780960" cy="30456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56386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56386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5943600"/>
              <a:ext cx="6780960" cy="304920"/>
              <a:chOff x="0" y="5943600"/>
              <a:chExt cx="6780960" cy="3049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59436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59436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9" name=""/>
          <p:cNvSpPr/>
          <p:nvPr/>
        </p:nvSpPr>
        <p:spPr>
          <a:xfrm>
            <a:off x="0" y="62182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Worker::print() is exec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b Smith is an hourly worker with pay of $4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1981080" y="914040"/>
            <a:ext cx="6705720" cy="3614760"/>
            <a:chOff x="1981080" y="914040"/>
            <a:chExt cx="6705720" cy="3614760"/>
          </a:xfrm>
        </p:grpSpPr>
        <p:grpSp>
          <p:nvGrpSpPr>
            <p:cNvPr id="971" name=""/>
            <p:cNvGrpSpPr/>
            <p:nvPr/>
          </p:nvGrpSpPr>
          <p:grpSpPr>
            <a:xfrm>
              <a:off x="3276360" y="914040"/>
              <a:ext cx="5410440" cy="3614760"/>
              <a:chOff x="3276360" y="914040"/>
              <a:chExt cx="5410440" cy="3614760"/>
            </a:xfrm>
          </p:grpSpPr>
          <p:sp>
            <p:nvSpPr>
              <p:cNvPr id="972" name=""/>
              <p:cNvSpPr/>
              <p:nvPr/>
            </p:nvSpPr>
            <p:spPr>
              <a:xfrm>
                <a:off x="6095880" y="2514600"/>
                <a:ext cx="2590920" cy="2014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 is overriden in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 However, the new function still can call the origina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 using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 flipV="1">
                <a:off x="3276360" y="914040"/>
                <a:ext cx="281916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 flipH="1" flipV="1">
              <a:off x="1981080" y="1676520"/>
              <a:ext cx="4114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AE2B-BED9-4715-BDE7-AC0333C55D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   public, private, and protecte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-304920" y="1219320"/>
          <a:ext cx="952524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19320"/>
                    <a:ext cx="9525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C32B-C507-40B9-9695-09F141EC1C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8   Direct and Indirect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listed derived class’s header with the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notation when that derived class is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ourlyWorker : publ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sted in derived class’s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ed from two or more levels up the 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inuteWorker : public 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ute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C7C0-6EFB-49B1-803F-E8C3D2FD75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9   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initiali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member-initializer synt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provided in the derived class constructor to call the base-class constructor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base class’s default constructor called im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constructors and base-class assignment operators are 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onstructors and assignment operators, however, can call base-class constructors and assignment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9692-4E41-4E59-B1C9-42DBE7BE20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9   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rived-class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the constructor for its base class first to initialize its base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derived-class constructor is omitted, its default constructor calls the base-class’ defaul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 are called in the reverse order of constructor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 a derived-class destructor is called before its base-clas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BF02-9693-4A60-AD7C-9193FA8273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986" name=""/>
            <p:cNvGrpSpPr/>
            <p:nvPr/>
          </p:nvGrpSpPr>
          <p:grpSpPr>
            <a:xfrm>
              <a:off x="0" y="0"/>
              <a:ext cx="6705000" cy="221760"/>
              <a:chOff x="0" y="0"/>
              <a:chExt cx="6705000" cy="22176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221760"/>
              <a:ext cx="6705000" cy="239040"/>
              <a:chOff x="0" y="221760"/>
              <a:chExt cx="6705000" cy="23904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460800"/>
              <a:ext cx="6705000" cy="221760"/>
              <a:chOff x="0" y="460800"/>
              <a:chExt cx="6705000" cy="22176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682920"/>
              <a:ext cx="6705000" cy="221760"/>
              <a:chOff x="0" y="682920"/>
              <a:chExt cx="6705000" cy="22176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904680"/>
              <a:ext cx="6705000" cy="221760"/>
              <a:chOff x="0" y="904680"/>
              <a:chExt cx="6705000" cy="22176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126800"/>
              <a:ext cx="6705000" cy="221760"/>
              <a:chOff x="0" y="1126800"/>
              <a:chExt cx="6705000" cy="22176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1348560"/>
              <a:ext cx="6705000" cy="221760"/>
              <a:chOff x="0" y="1348560"/>
              <a:chExt cx="6705000" cy="22176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1570680"/>
              <a:ext cx="6705000" cy="221760"/>
              <a:chOff x="0" y="1570680"/>
              <a:chExt cx="6705000" cy="22176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1792440"/>
              <a:ext cx="6705000" cy="221760"/>
              <a:chOff x="0" y="1792440"/>
              <a:chExt cx="6705000" cy="22176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Point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2014560"/>
              <a:ext cx="6705000" cy="221760"/>
              <a:chOff x="0" y="2014560"/>
              <a:chExt cx="6705000" cy="22176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2236320"/>
              <a:ext cx="6705000" cy="221760"/>
              <a:chOff x="0" y="2236320"/>
              <a:chExt cx="6705000" cy="22176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2458440"/>
              <a:ext cx="6705000" cy="221760"/>
              <a:chOff x="0" y="2458440"/>
              <a:chExt cx="6705000" cy="22176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2680200"/>
              <a:ext cx="6705000" cy="221760"/>
              <a:chOff x="0" y="2680200"/>
              <a:chExt cx="6705000" cy="22176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2902320"/>
              <a:ext cx="6705000" cy="221760"/>
              <a:chOff x="0" y="2902320"/>
              <a:chExt cx="6705000" cy="22176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8" name=""/>
          <p:cNvGrpSpPr/>
          <p:nvPr/>
        </p:nvGrpSpPr>
        <p:grpSpPr>
          <a:xfrm>
            <a:off x="0" y="3124080"/>
            <a:ext cx="6705000" cy="3733920"/>
            <a:chOff x="0" y="3124080"/>
            <a:chExt cx="6705000" cy="3733920"/>
          </a:xfrm>
        </p:grpSpPr>
        <p:grpSp>
          <p:nvGrpSpPr>
            <p:cNvPr id="1029" name=""/>
            <p:cNvGrpSpPr/>
            <p:nvPr/>
          </p:nvGrpSpPr>
          <p:grpSpPr>
            <a:xfrm>
              <a:off x="0" y="3124080"/>
              <a:ext cx="6705000" cy="207360"/>
              <a:chOff x="0" y="3124080"/>
              <a:chExt cx="6705000" cy="207360"/>
            </a:xfrm>
          </p:grpSpPr>
          <p:sp>
            <p:nvSpPr>
              <p:cNvPr id="1030" name="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0" y="3331440"/>
              <a:ext cx="6705000" cy="207360"/>
              <a:chOff x="0" y="3331440"/>
              <a:chExt cx="6705000" cy="207360"/>
            </a:xfrm>
          </p:grpSpPr>
          <p:sp>
            <p:nvSpPr>
              <p:cNvPr id="1033" name="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0" y="3538800"/>
              <a:ext cx="6705000" cy="207360"/>
              <a:chOff x="0" y="3538800"/>
              <a:chExt cx="6705000" cy="207360"/>
            </a:xfrm>
          </p:grpSpPr>
          <p:sp>
            <p:nvSpPr>
              <p:cNvPr id="1036" name="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0" y="3746160"/>
              <a:ext cx="6705000" cy="207360"/>
              <a:chOff x="0" y="3746160"/>
              <a:chExt cx="6705000" cy="207360"/>
            </a:xfrm>
          </p:grpSpPr>
          <p:sp>
            <p:nvSpPr>
              <p:cNvPr id="1039" name="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0" y="3953880"/>
              <a:ext cx="6705000" cy="207360"/>
              <a:chOff x="0" y="3953880"/>
              <a:chExt cx="6705000" cy="207360"/>
            </a:xfrm>
          </p:grpSpPr>
          <p:sp>
            <p:nvSpPr>
              <p:cNvPr id="1042" name="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0" y="4161240"/>
              <a:ext cx="6705000" cy="207360"/>
              <a:chOff x="0" y="4161240"/>
              <a:chExt cx="6705000" cy="207360"/>
            </a:xfrm>
          </p:grpSpPr>
          <p:sp>
            <p:nvSpPr>
              <p:cNvPr id="1045" name="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0" y="4368600"/>
              <a:ext cx="6705000" cy="207360"/>
              <a:chOff x="0" y="4368600"/>
              <a:chExt cx="6705000" cy="207360"/>
            </a:xfrm>
          </p:grpSpPr>
          <p:sp>
            <p:nvSpPr>
              <p:cNvPr id="1048" name="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0" y="4575960"/>
              <a:ext cx="6705000" cy="207360"/>
              <a:chOff x="0" y="4575960"/>
              <a:chExt cx="6705000" cy="207360"/>
            </a:xfrm>
          </p:grpSpPr>
          <p:sp>
            <p:nvSpPr>
              <p:cNvPr id="1051" name="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0" y="4783680"/>
              <a:ext cx="6705000" cy="207360"/>
              <a:chOff x="0" y="4783680"/>
              <a:chExt cx="6705000" cy="207360"/>
            </a:xfrm>
          </p:grpSpPr>
          <p:sp>
            <p:nvSpPr>
              <p:cNvPr id="1054" name="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0" y="4991040"/>
              <a:ext cx="6705000" cy="207360"/>
              <a:chOff x="0" y="4991040"/>
              <a:chExt cx="6705000" cy="207360"/>
            </a:xfrm>
          </p:grpSpPr>
          <p:sp>
            <p:nvSpPr>
              <p:cNvPr id="1057" name="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0" y="5198400"/>
              <a:ext cx="6705000" cy="207360"/>
              <a:chOff x="0" y="5198400"/>
              <a:chExt cx="6705000" cy="207360"/>
            </a:xfrm>
          </p:grpSpPr>
          <p:sp>
            <p:nvSpPr>
              <p:cNvPr id="1060" name="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0" y="5406120"/>
              <a:ext cx="6705000" cy="207360"/>
              <a:chOff x="0" y="5406120"/>
              <a:chExt cx="6705000" cy="207360"/>
            </a:xfrm>
          </p:grpSpPr>
          <p:sp>
            <p:nvSpPr>
              <p:cNvPr id="1063" name="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0" y="5613480"/>
              <a:ext cx="6705000" cy="207360"/>
              <a:chOff x="0" y="5613480"/>
              <a:chExt cx="6705000" cy="207360"/>
            </a:xfrm>
          </p:grpSpPr>
          <p:sp>
            <p:nvSpPr>
              <p:cNvPr id="1066" name="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0" y="5820840"/>
              <a:ext cx="6705000" cy="207360"/>
              <a:chOff x="0" y="5820840"/>
              <a:chExt cx="6705000" cy="20736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0" y="6028200"/>
              <a:ext cx="6705000" cy="207360"/>
              <a:chOff x="0" y="6028200"/>
              <a:chExt cx="6705000" cy="20736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0" y="6235920"/>
              <a:ext cx="6705000" cy="207360"/>
              <a:chOff x="0" y="6235920"/>
              <a:chExt cx="6705000" cy="207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oint 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0" y="6443280"/>
              <a:ext cx="6705000" cy="207360"/>
              <a:chOff x="0" y="6443280"/>
              <a:chExt cx="6705000" cy="207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['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0" y="6650640"/>
              <a:ext cx="6705000" cy="207360"/>
              <a:chOff x="0" y="6650640"/>
              <a:chExt cx="6705000" cy="207360"/>
            </a:xfrm>
          </p:grpSpPr>
          <p:sp>
            <p:nvSpPr>
              <p:cNvPr id="1081" name="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A693-1ACA-4930-B486-A79CB528F8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85" name=""/>
            <p:cNvGrpSpPr/>
            <p:nvPr/>
          </p:nvGrpSpPr>
          <p:grpSpPr>
            <a:xfrm>
              <a:off x="0" y="0"/>
              <a:ext cx="6780960" cy="1980720"/>
              <a:chOff x="0" y="0"/>
              <a:chExt cx="6780960" cy="198072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0" y="0"/>
                <a:ext cx="6780960" cy="282960"/>
                <a:chOff x="0" y="0"/>
                <a:chExt cx="6780960" cy="28296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0" y="282960"/>
                <a:ext cx="6780960" cy="282960"/>
                <a:chOff x="0" y="282960"/>
                <a:chExt cx="6780960" cy="28296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structor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0" y="565920"/>
                <a:ext cx="6780960" cy="282960"/>
                <a:chOff x="0" y="565920"/>
                <a:chExt cx="6780960" cy="28296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Point::~Point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0" y="848880"/>
                <a:ext cx="6780960" cy="282960"/>
                <a:chOff x="0" y="848880"/>
                <a:chExt cx="6780960" cy="28296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0" y="1131840"/>
                <a:ext cx="6780960" cy="282960"/>
                <a:chOff x="0" y="1131840"/>
                <a:chExt cx="6780960" cy="28296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Point  destructor: 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0" y="1414800"/>
                <a:ext cx="6780960" cy="282960"/>
                <a:chOff x="0" y="1414800"/>
                <a:chExt cx="6780960" cy="28296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'[' &lt;&lt; x &lt;&lt; ", " &lt;&lt; y &lt;&lt; ']'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0" y="1697760"/>
                <a:ext cx="6780960" cy="282960"/>
                <a:chOff x="0" y="1697760"/>
                <a:chExt cx="6780960" cy="28296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0" y="16977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0" y="1697760"/>
                  <a:ext cx="6780600" cy="282960"/>
                  <a:chOff x="0" y="1697760"/>
                  <a:chExt cx="6780600" cy="28296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39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09" name=""/>
            <p:cNvGrpSpPr/>
            <p:nvPr/>
          </p:nvGrpSpPr>
          <p:grpSpPr>
            <a:xfrm>
              <a:off x="0" y="1981080"/>
              <a:ext cx="6780960" cy="4876920"/>
              <a:chOff x="0" y="1981080"/>
              <a:chExt cx="6780960" cy="4876920"/>
            </a:xfrm>
          </p:grpSpPr>
          <p:grpSp>
            <p:nvGrpSpPr>
              <p:cNvPr id="1110" name=""/>
              <p:cNvGrpSpPr/>
              <p:nvPr/>
            </p:nvGrpSpPr>
            <p:grpSpPr>
              <a:xfrm>
                <a:off x="0" y="1981080"/>
                <a:ext cx="6780960" cy="270720"/>
                <a:chOff x="0" y="1981080"/>
                <a:chExt cx="6780960" cy="2707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9.7: circle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0" y="2251800"/>
                <a:ext cx="6780960" cy="270720"/>
                <a:chOff x="0" y="2251800"/>
                <a:chExt cx="6780960" cy="2707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0" y="2522880"/>
                <a:ext cx="6780960" cy="270720"/>
                <a:chOff x="0" y="2522880"/>
                <a:chExt cx="6780960" cy="2707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0" y="2793960"/>
                <a:ext cx="6780960" cy="270720"/>
                <a:chOff x="0" y="2793960"/>
                <a:chExt cx="6780960" cy="2707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0" y="3064680"/>
                <a:ext cx="6780960" cy="270720"/>
                <a:chOff x="0" y="3064680"/>
                <a:chExt cx="6780960" cy="2707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0" y="3335760"/>
                <a:ext cx="6780960" cy="270720"/>
                <a:chOff x="0" y="3335760"/>
                <a:chExt cx="6780960" cy="2707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0" y="3606480"/>
                <a:ext cx="6780960" cy="270720"/>
                <a:chOff x="0" y="3606480"/>
                <a:chExt cx="6780960" cy="2707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0" y="3877560"/>
                <a:ext cx="6780960" cy="270720"/>
                <a:chOff x="0" y="3877560"/>
                <a:chExt cx="6780960" cy="2707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 :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0" y="4148640"/>
                <a:ext cx="6780960" cy="270720"/>
                <a:chOff x="0" y="4148640"/>
                <a:chExt cx="6780960" cy="27072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0" y="4419360"/>
                <a:ext cx="6780960" cy="270720"/>
                <a:chOff x="0" y="4419360"/>
                <a:chExt cx="6780960" cy="27072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0" y="4690440"/>
                <a:ext cx="6780960" cy="270720"/>
                <a:chOff x="0" y="4690440"/>
                <a:chExt cx="6780960" cy="27072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 = 0.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x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y =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0" y="4961520"/>
                <a:ext cx="6780960" cy="270720"/>
                <a:chOff x="0" y="4961520"/>
                <a:chExt cx="6780960" cy="2707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0" y="5232240"/>
                <a:ext cx="6780960" cy="270720"/>
                <a:chOff x="0" y="5232240"/>
                <a:chExt cx="6780960" cy="27072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~Circle();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0" y="5503320"/>
                <a:ext cx="6780960" cy="270720"/>
                <a:chOff x="0" y="5503320"/>
                <a:chExt cx="6780960" cy="27072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0" y="5774040"/>
                <a:ext cx="6780960" cy="270720"/>
                <a:chOff x="0" y="5774040"/>
                <a:chExt cx="6780960" cy="27072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adius;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0" y="6045120"/>
                <a:ext cx="6780960" cy="270720"/>
                <a:chOff x="0" y="6045120"/>
                <a:chExt cx="6780960" cy="27072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0" y="6316200"/>
                <a:ext cx="6780960" cy="270720"/>
                <a:chOff x="0" y="6316200"/>
                <a:chExt cx="6780960" cy="27072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0" y="6587280"/>
                <a:ext cx="6780960" cy="270720"/>
                <a:chOff x="0" y="6587280"/>
                <a:chExt cx="6780960" cy="27072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4" name=""/>
          <p:cNvGrpSpPr/>
          <p:nvPr/>
        </p:nvGrpSpPr>
        <p:grpSpPr>
          <a:xfrm>
            <a:off x="3200040" y="3048120"/>
            <a:ext cx="4877280" cy="761760"/>
            <a:chOff x="3200040" y="3048120"/>
            <a:chExt cx="4877280" cy="761760"/>
          </a:xfrm>
        </p:grpSpPr>
        <p:sp>
          <p:nvSpPr>
            <p:cNvPr id="1165" name=""/>
            <p:cNvSpPr/>
            <p:nvPr/>
          </p:nvSpPr>
          <p:spPr>
            <a:xfrm>
              <a:off x="5638680" y="3048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200040" y="335268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C278-3083-408E-912F-97E5F3D304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69" name="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circle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adius = 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ircle constructor: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~Circl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ircle destructor: 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1" name=""/>
          <p:cNvGrpSpPr/>
          <p:nvPr/>
        </p:nvGrpSpPr>
        <p:grpSpPr>
          <a:xfrm>
            <a:off x="2209680" y="3276720"/>
            <a:ext cx="6553440" cy="1067400"/>
            <a:chOff x="2209680" y="3276720"/>
            <a:chExt cx="6553440" cy="1067400"/>
          </a:xfrm>
        </p:grpSpPr>
        <p:sp>
          <p:nvSpPr>
            <p:cNvPr id="1242" name=""/>
            <p:cNvSpPr/>
            <p:nvPr/>
          </p:nvSpPr>
          <p:spPr>
            <a:xfrm>
              <a:off x="6324480" y="327672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con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first.  Uses member-initializer synt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2209680" y="3276720"/>
              <a:ext cx="411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2361960" y="5334120"/>
            <a:ext cx="6782040" cy="824040"/>
            <a:chOff x="2361960" y="5334120"/>
            <a:chExt cx="6782040" cy="824040"/>
          </a:xfrm>
        </p:grpSpPr>
        <p:sp>
          <p:nvSpPr>
            <p:cNvPr id="1245" name=""/>
            <p:cNvSpPr/>
            <p:nvPr/>
          </p:nvSpPr>
          <p:spPr>
            <a:xfrm>
              <a:off x="6705720" y="53341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s de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2361960" y="5638680"/>
              <a:ext cx="4343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8765-2274-4207-B1FB-3A9E9FA2A9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Objects enter and leave sco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1249" name="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fig09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e when base-class and derived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1256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s and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1259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1268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1274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1277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1280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1283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1286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1289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how constructor and destructor calls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1292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1295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int p( 11,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1298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1301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1304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1307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1( 4.5, 72, 2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1313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2( 10, 5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1316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1319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"/>
          <p:cNvSpPr/>
          <p:nvPr/>
        </p:nvSpPr>
        <p:spPr>
          <a:xfrm>
            <a:off x="2819520" y="393696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1676520" y="2438280"/>
            <a:ext cx="5181480" cy="1600200"/>
            <a:chOff x="1676520" y="2438280"/>
            <a:chExt cx="5181480" cy="1600200"/>
          </a:xfrm>
        </p:grpSpPr>
        <p:sp>
          <p:nvSpPr>
            <p:cNvPr id="1326" name=""/>
            <p:cNvSpPr/>
            <p:nvPr/>
          </p:nvSpPr>
          <p:spPr>
            <a:xfrm>
              <a:off x="3048120" y="24382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 created inside a block destroyed once it leave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1676520" y="2743200"/>
              <a:ext cx="1371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2819520" y="3657600"/>
            <a:ext cx="3962160" cy="2057400"/>
            <a:chOff x="2819520" y="3657600"/>
            <a:chExt cx="3962160" cy="2057400"/>
          </a:xfrm>
        </p:grpSpPr>
        <p:grpSp>
          <p:nvGrpSpPr>
            <p:cNvPr id="1329" name=""/>
            <p:cNvGrpSpPr/>
            <p:nvPr/>
          </p:nvGrpSpPr>
          <p:grpSpPr>
            <a:xfrm>
              <a:off x="2819520" y="4572000"/>
              <a:ext cx="1371240" cy="1143000"/>
              <a:chOff x="2819520" y="4572000"/>
              <a:chExt cx="1371240" cy="1143000"/>
            </a:xfrm>
          </p:grpSpPr>
          <p:sp>
            <p:nvSpPr>
              <p:cNvPr id="1330" name=""/>
              <p:cNvSpPr/>
              <p:nvPr/>
            </p:nvSpPr>
            <p:spPr>
              <a:xfrm flipH="1">
                <a:off x="2819520" y="4572000"/>
                <a:ext cx="1295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2971440" y="4572000"/>
                <a:ext cx="1219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4114800" y="365760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ember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is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bef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(inside to out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657600" y="4560840"/>
            <a:ext cx="457200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599840" y="5413320"/>
            <a:ext cx="5181840" cy="987480"/>
            <a:chOff x="1599840" y="5413320"/>
            <a:chExt cx="5181840" cy="987480"/>
          </a:xfrm>
        </p:grpSpPr>
        <p:sp>
          <p:nvSpPr>
            <p:cNvPr id="1335" name=""/>
            <p:cNvSpPr/>
            <p:nvPr/>
          </p:nvSpPr>
          <p:spPr>
            <a:xfrm>
              <a:off x="4114800" y="5413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tructor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tructor (outside i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1599840" y="5943600"/>
              <a:ext cx="2514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3657600" y="556272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BC11B-82D3-4BE2-A995-116776DB6F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39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0601-3C4B-4FA3-A37F-18A288FD2B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programs in a general fash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 a wide variety of existing (and unspecified) relat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66C1-5984-4FCC-B870-10CCC8039A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0  Implicit Derived-Class Object to Base-Class Object Convers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of derived and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type and base-class type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object can be treated as a base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has members corresponding to all of the base class’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has more members than the base-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can be assigned a derived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object cannot be treated as a derived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leave additional derived class members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annot be assigned a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 can be overloaded to allow such an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ED43-5CB7-4B76-9257-D79639C644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0   Implicit Derived-Class Object to Base-Class Object Conve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ing base and derived class pointers and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base-class object with a base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derived-class object with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derived-class object with a base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can only refer to base-class members, or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base-class object with a derived-class poin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ed-class pointer must first be cast to a base-class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2BFB-BD5C-4EC3-A88E-679E21A9F6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1  Software Engineering With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are often closely rel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tor out” common attributes and behaviors and place these in a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inheritance to form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to a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es do not change as long a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s are the sa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es may need to be recomp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F311-9BD7-4669-A991-7BEA1E8166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2  Composition vs.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is derived from anoth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contains other classe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E635-D41B-4DE9-ABA9-C7070CD1ED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3  “Uses A” And “Knows A” Relationship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object issues a function call to a member function of anothe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s a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object is aware of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a pointer or handle to anothe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an asso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513F-B075-4D55-A5C2-4DDBEF953B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4  Case Study: Point, Circle, Cylin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FFEA-0242-4500-A427-2A5794DFC8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0" y="0"/>
            <a:ext cx="6705000" cy="4419720"/>
            <a:chOff x="0" y="0"/>
            <a:chExt cx="6705000" cy="4419720"/>
          </a:xfrm>
        </p:grpSpPr>
        <p:grpSp>
          <p:nvGrpSpPr>
            <p:cNvPr id="1354" name=""/>
            <p:cNvGrpSpPr/>
            <p:nvPr/>
          </p:nvGrpSpPr>
          <p:grpSpPr>
            <a:xfrm>
              <a:off x="0" y="0"/>
              <a:ext cx="6705000" cy="210240"/>
              <a:chOff x="0" y="0"/>
              <a:chExt cx="6705000" cy="21024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8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210240"/>
              <a:ext cx="6705000" cy="210240"/>
              <a:chOff x="0" y="210240"/>
              <a:chExt cx="6705000" cy="21024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420840"/>
              <a:ext cx="6705000" cy="210240"/>
              <a:chOff x="0" y="420840"/>
              <a:chExt cx="6705000" cy="21024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631440"/>
              <a:ext cx="6705000" cy="210240"/>
              <a:chOff x="0" y="631440"/>
              <a:chExt cx="6705000" cy="21024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841680"/>
              <a:ext cx="6705000" cy="210240"/>
              <a:chOff x="0" y="841680"/>
              <a:chExt cx="6705000" cy="21024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1052280"/>
              <a:ext cx="6705000" cy="210240"/>
              <a:chOff x="0" y="1052280"/>
              <a:chExt cx="6705000" cy="21024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1262520"/>
              <a:ext cx="6705000" cy="210240"/>
              <a:chOff x="0" y="1262520"/>
              <a:chExt cx="6705000" cy="21024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1473120"/>
              <a:ext cx="6705000" cy="210240"/>
              <a:chOff x="0" y="1473120"/>
              <a:chExt cx="6705000" cy="21024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1683720"/>
              <a:ext cx="6705000" cy="210240"/>
              <a:chOff x="0" y="1683720"/>
              <a:chExt cx="6705000" cy="21024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1893960"/>
              <a:ext cx="6705000" cy="210240"/>
              <a:chOff x="0" y="1893960"/>
              <a:chExt cx="6705000" cy="21024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2104560"/>
              <a:ext cx="6705000" cy="210240"/>
              <a:chOff x="0" y="2104560"/>
              <a:chExt cx="6705000" cy="21024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2315160"/>
              <a:ext cx="6705000" cy="210240"/>
              <a:chOff x="0" y="2315160"/>
              <a:chExt cx="6705000" cy="21024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2525400"/>
              <a:ext cx="6705000" cy="210240"/>
              <a:chOff x="0" y="2525400"/>
              <a:chExt cx="6705000" cy="21024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2736000"/>
              <a:ext cx="6705000" cy="210240"/>
              <a:chOff x="0" y="2736000"/>
              <a:chExt cx="6705000" cy="21024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2946240"/>
              <a:ext cx="6705000" cy="210240"/>
              <a:chOff x="0" y="2946240"/>
              <a:chExt cx="6705000" cy="21024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3156840"/>
              <a:ext cx="6705000" cy="210240"/>
              <a:chOff x="0" y="3156840"/>
              <a:chExt cx="6705000" cy="21024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3367440"/>
              <a:ext cx="6705000" cy="210240"/>
              <a:chOff x="0" y="3367440"/>
              <a:chExt cx="6705000" cy="21024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3578040"/>
              <a:ext cx="6705000" cy="210240"/>
              <a:chOff x="0" y="3578040"/>
              <a:chExt cx="6705000" cy="21024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3788280"/>
              <a:ext cx="6705000" cy="210240"/>
              <a:chOff x="0" y="3788280"/>
              <a:chExt cx="6705000" cy="21024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3998880"/>
              <a:ext cx="6705000" cy="210240"/>
              <a:chOff x="0" y="3998880"/>
              <a:chExt cx="6705000" cy="21024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4209480"/>
              <a:ext cx="6705000" cy="210240"/>
              <a:chOff x="0" y="4209480"/>
              <a:chExt cx="6705000" cy="21024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42094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6" name=""/>
              <p:cNvGrpSpPr/>
              <p:nvPr/>
            </p:nvGrpSpPr>
            <p:grpSpPr>
              <a:xfrm>
                <a:off x="0" y="4209480"/>
                <a:ext cx="6704640" cy="210240"/>
                <a:chOff x="0" y="4209480"/>
                <a:chExt cx="6704640" cy="21024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9" name=""/>
          <p:cNvGrpSpPr/>
          <p:nvPr/>
        </p:nvGrpSpPr>
        <p:grpSpPr>
          <a:xfrm>
            <a:off x="0" y="4419720"/>
            <a:ext cx="6780960" cy="2438280"/>
            <a:chOff x="0" y="4419720"/>
            <a:chExt cx="6780960" cy="2438280"/>
          </a:xfrm>
        </p:grpSpPr>
        <p:grpSp>
          <p:nvGrpSpPr>
            <p:cNvPr id="1420" name=""/>
            <p:cNvGrpSpPr/>
            <p:nvPr/>
          </p:nvGrpSpPr>
          <p:grpSpPr>
            <a:xfrm>
              <a:off x="0" y="4419720"/>
              <a:ext cx="6780960" cy="221400"/>
              <a:chOff x="0" y="4419720"/>
              <a:chExt cx="6780960" cy="22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8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0" y="4641120"/>
              <a:ext cx="6780960" cy="221400"/>
              <a:chOff x="0" y="4641120"/>
              <a:chExt cx="6780960" cy="221400"/>
            </a:xfrm>
          </p:grpSpPr>
          <p:sp>
            <p:nvSpPr>
              <p:cNvPr id="1424" name="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0" y="4862880"/>
              <a:ext cx="6780960" cy="221760"/>
              <a:chOff x="0" y="4862880"/>
              <a:chExt cx="6780960" cy="221760"/>
            </a:xfrm>
          </p:grpSpPr>
          <p:sp>
            <p:nvSpPr>
              <p:cNvPr id="1427" name="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0" y="5084640"/>
              <a:ext cx="6780960" cy="221400"/>
              <a:chOff x="0" y="5084640"/>
              <a:chExt cx="6780960" cy="221400"/>
            </a:xfrm>
          </p:grpSpPr>
          <p:sp>
            <p:nvSpPr>
              <p:cNvPr id="1430" name="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0" y="5306400"/>
              <a:ext cx="6780960" cy="221400"/>
              <a:chOff x="0" y="5306400"/>
              <a:chExt cx="6780960" cy="221400"/>
            </a:xfrm>
          </p:grpSpPr>
          <p:sp>
            <p:nvSpPr>
              <p:cNvPr id="1433" name="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0" y="5527800"/>
              <a:ext cx="6780960" cy="221400"/>
              <a:chOff x="0" y="5527800"/>
              <a:chExt cx="6780960" cy="221400"/>
            </a:xfrm>
          </p:grpSpPr>
          <p:sp>
            <p:nvSpPr>
              <p:cNvPr id="1436" name="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0" y="5749560"/>
              <a:ext cx="6780960" cy="221760"/>
              <a:chOff x="0" y="5749560"/>
              <a:chExt cx="6780960" cy="221760"/>
            </a:xfrm>
          </p:grpSpPr>
          <p:sp>
            <p:nvSpPr>
              <p:cNvPr id="1439" name="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0" y="5971320"/>
              <a:ext cx="6780960" cy="221400"/>
              <a:chOff x="0" y="5971320"/>
              <a:chExt cx="6780960" cy="22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x and y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0" y="6193080"/>
              <a:ext cx="6780960" cy="221400"/>
              <a:chOff x="0" y="6193080"/>
              <a:chExt cx="6780960" cy="22140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6414480"/>
              <a:ext cx="6780960" cy="221400"/>
              <a:chOff x="0" y="6414480"/>
              <a:chExt cx="6780960" cy="22140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6636240"/>
              <a:ext cx="6780960" cy="221760"/>
              <a:chOff x="0" y="6636240"/>
              <a:chExt cx="6780960" cy="22176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3" name=""/>
          <p:cNvGrpSpPr/>
          <p:nvPr/>
        </p:nvGrpSpPr>
        <p:grpSpPr>
          <a:xfrm>
            <a:off x="1752480" y="3505320"/>
            <a:ext cx="6096240" cy="1129320"/>
            <a:chOff x="1752480" y="3505320"/>
            <a:chExt cx="6096240" cy="1129320"/>
          </a:xfrm>
        </p:grpSpPr>
        <p:sp>
          <p:nvSpPr>
            <p:cNvPr id="1454" name=""/>
            <p:cNvSpPr/>
            <p:nvPr/>
          </p:nvSpPr>
          <p:spPr>
            <a:xfrm>
              <a:off x="5410080" y="3505320"/>
              <a:ext cx="2438640" cy="1129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1752480" y="3809520"/>
              <a:ext cx="3657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0D12-4B4B-4148-A14E-2B1973CE9D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0" y="0"/>
            <a:ext cx="6780960" cy="2438280"/>
            <a:chOff x="0" y="0"/>
            <a:chExt cx="6780960" cy="2438280"/>
          </a:xfrm>
        </p:grpSpPr>
        <p:grpSp>
          <p:nvGrpSpPr>
            <p:cNvPr id="1458" name="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975240"/>
              <a:ext cx="6780960" cy="243720"/>
              <a:chOff x="0" y="975240"/>
              <a:chExt cx="6780960" cy="24372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1218960"/>
              <a:ext cx="6780960" cy="243720"/>
              <a:chOff x="0" y="1218960"/>
              <a:chExt cx="6780960" cy="24372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1463040"/>
              <a:ext cx="6780960" cy="243720"/>
              <a:chOff x="0" y="1463040"/>
              <a:chExt cx="6780960" cy="24372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1706760"/>
              <a:ext cx="6780960" cy="243720"/>
              <a:chOff x="0" y="1706760"/>
              <a:chExt cx="6780960" cy="24372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1950840"/>
              <a:ext cx="6780960" cy="243720"/>
              <a:chOff x="0" y="1950840"/>
              <a:chExt cx="6780960" cy="24372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2194560"/>
              <a:ext cx="6780960" cy="243720"/>
              <a:chOff x="0" y="2194560"/>
              <a:chExt cx="6780960" cy="24372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4DE10-A648-4DF8-84A3-D492193A2F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1490" name=""/>
            <p:cNvGrpSpPr/>
            <p:nvPr/>
          </p:nvGrpSpPr>
          <p:grpSpPr>
            <a:xfrm>
              <a:off x="0" y="0"/>
              <a:ext cx="6780960" cy="192960"/>
              <a:chOff x="0" y="0"/>
              <a:chExt cx="6780960" cy="192960"/>
            </a:xfrm>
          </p:grpSpPr>
          <p:sp>
            <p:nvSpPr>
              <p:cNvPr id="1491" name="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9: circl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0" y="192960"/>
              <a:ext cx="6780960" cy="192960"/>
              <a:chOff x="0" y="192960"/>
              <a:chExt cx="6780960" cy="192960"/>
            </a:xfrm>
          </p:grpSpPr>
          <p:sp>
            <p:nvSpPr>
              <p:cNvPr id="1494" name="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0" y="385920"/>
              <a:ext cx="6780960" cy="192960"/>
              <a:chOff x="0" y="385920"/>
              <a:chExt cx="6780960" cy="192960"/>
            </a:xfrm>
          </p:grpSpPr>
          <p:sp>
            <p:nvSpPr>
              <p:cNvPr id="1497" name="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0" y="578880"/>
              <a:ext cx="6780960" cy="192960"/>
              <a:chOff x="0" y="578880"/>
              <a:chExt cx="6780960" cy="192960"/>
            </a:xfrm>
          </p:grpSpPr>
          <p:sp>
            <p:nvSpPr>
              <p:cNvPr id="1500" name="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0" y="772200"/>
              <a:ext cx="6780960" cy="192960"/>
              <a:chOff x="0" y="772200"/>
              <a:chExt cx="6780960" cy="192960"/>
            </a:xfrm>
          </p:grpSpPr>
          <p:sp>
            <p:nvSpPr>
              <p:cNvPr id="1503" name="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0" y="965160"/>
              <a:ext cx="6780960" cy="192960"/>
              <a:chOff x="0" y="965160"/>
              <a:chExt cx="6780960" cy="192960"/>
            </a:xfrm>
          </p:grpSpPr>
          <p:sp>
            <p:nvSpPr>
              <p:cNvPr id="1506" name="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0" y="1158120"/>
              <a:ext cx="6780960" cy="192960"/>
              <a:chOff x="0" y="1158120"/>
              <a:chExt cx="6780960" cy="192960"/>
            </a:xfrm>
          </p:grpSpPr>
          <p:sp>
            <p:nvSpPr>
              <p:cNvPr id="1509" name="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0" y="1351440"/>
              <a:ext cx="6780960" cy="192960"/>
              <a:chOff x="0" y="1351440"/>
              <a:chExt cx="6780960" cy="192960"/>
            </a:xfrm>
          </p:grpSpPr>
          <p:sp>
            <p:nvSpPr>
              <p:cNvPr id="1512" name="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0" y="1544400"/>
              <a:ext cx="6780960" cy="192960"/>
              <a:chOff x="0" y="1544400"/>
              <a:chExt cx="6780960" cy="192960"/>
            </a:xfrm>
          </p:grpSpPr>
          <p:sp>
            <p:nvSpPr>
              <p:cNvPr id="1515" name="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0" y="1737360"/>
              <a:ext cx="6780960" cy="192960"/>
              <a:chOff x="0" y="1737360"/>
              <a:chExt cx="6780960" cy="192960"/>
            </a:xfrm>
          </p:grpSpPr>
          <p:sp>
            <p:nvSpPr>
              <p:cNvPr id="1518" name="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0" y="1930320"/>
              <a:ext cx="6780960" cy="192960"/>
              <a:chOff x="0" y="1930320"/>
              <a:chExt cx="6780960" cy="192960"/>
            </a:xfrm>
          </p:grpSpPr>
          <p:sp>
            <p:nvSpPr>
              <p:cNvPr id="1521" name="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0" y="2123640"/>
              <a:ext cx="6780960" cy="192960"/>
              <a:chOff x="0" y="2123640"/>
              <a:chExt cx="6780960" cy="192960"/>
            </a:xfrm>
          </p:grpSpPr>
          <p:sp>
            <p:nvSpPr>
              <p:cNvPr id="1524" name="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0" y="2316600"/>
              <a:ext cx="6780960" cy="192960"/>
              <a:chOff x="0" y="2316600"/>
              <a:chExt cx="6780960" cy="192960"/>
            </a:xfrm>
          </p:grpSpPr>
          <p:sp>
            <p:nvSpPr>
              <p:cNvPr id="1527" name="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0" y="2509560"/>
              <a:ext cx="6780960" cy="192960"/>
              <a:chOff x="0" y="2509560"/>
              <a:chExt cx="6780960" cy="192960"/>
            </a:xfrm>
          </p:grpSpPr>
          <p:sp>
            <p:nvSpPr>
              <p:cNvPr id="1530" name="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0" y="2702520"/>
              <a:ext cx="6780960" cy="192960"/>
              <a:chOff x="0" y="2702520"/>
              <a:chExt cx="6780960" cy="192960"/>
            </a:xfrm>
          </p:grpSpPr>
          <p:sp>
            <p:nvSpPr>
              <p:cNvPr id="1533" name="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0" y="2895840"/>
              <a:ext cx="6780960" cy="192960"/>
              <a:chOff x="0" y="2895840"/>
              <a:chExt cx="6780960" cy="192960"/>
            </a:xfrm>
          </p:grpSpPr>
          <p:sp>
            <p:nvSpPr>
              <p:cNvPr id="1536" name="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0" y="3088800"/>
              <a:ext cx="6780960" cy="192960"/>
              <a:chOff x="0" y="3088800"/>
              <a:chExt cx="6780960" cy="192960"/>
            </a:xfrm>
          </p:grpSpPr>
          <p:sp>
            <p:nvSpPr>
              <p:cNvPr id="1539" name="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0" y="3281760"/>
              <a:ext cx="6780960" cy="207720"/>
              <a:chOff x="0" y="3281760"/>
              <a:chExt cx="6780960" cy="207720"/>
            </a:xfrm>
          </p:grpSpPr>
          <p:sp>
            <p:nvSpPr>
              <p:cNvPr id="1542" name="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0" y="3489840"/>
              <a:ext cx="6780960" cy="192960"/>
              <a:chOff x="0" y="3489840"/>
              <a:chExt cx="6780960" cy="192960"/>
            </a:xfrm>
          </p:grpSpPr>
          <p:sp>
            <p:nvSpPr>
              <p:cNvPr id="1545" name="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0" y="3682800"/>
              <a:ext cx="6780960" cy="192960"/>
              <a:chOff x="0" y="3682800"/>
              <a:chExt cx="6780960" cy="192960"/>
            </a:xfrm>
          </p:grpSpPr>
          <p:sp>
            <p:nvSpPr>
              <p:cNvPr id="1548" name="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0" y="3876120"/>
              <a:ext cx="6780960" cy="192960"/>
              <a:chOff x="0" y="3876120"/>
              <a:chExt cx="6780960" cy="192960"/>
            </a:xfrm>
          </p:grpSpPr>
          <p:sp>
            <p:nvSpPr>
              <p:cNvPr id="1551" name="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dius of the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0" y="4069080"/>
              <a:ext cx="6780960" cy="192960"/>
              <a:chOff x="0" y="4069080"/>
              <a:chExt cx="6780960" cy="192960"/>
            </a:xfrm>
          </p:grpSpPr>
          <p:sp>
            <p:nvSpPr>
              <p:cNvPr id="1554" name="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0" y="4262040"/>
              <a:ext cx="6780960" cy="192960"/>
              <a:chOff x="0" y="4262040"/>
              <a:chExt cx="6780960" cy="192960"/>
            </a:xfrm>
          </p:grpSpPr>
          <p:sp>
            <p:nvSpPr>
              <p:cNvPr id="1557" name="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0" y="4455360"/>
              <a:ext cx="6780960" cy="192960"/>
              <a:chOff x="0" y="4455360"/>
              <a:chExt cx="6780960" cy="192960"/>
            </a:xfrm>
          </p:grpSpPr>
          <p:sp>
            <p:nvSpPr>
              <p:cNvPr id="1560" name="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2" name=""/>
          <p:cNvGrpSpPr/>
          <p:nvPr/>
        </p:nvGrpSpPr>
        <p:grpSpPr>
          <a:xfrm>
            <a:off x="0" y="4648320"/>
            <a:ext cx="6857280" cy="2209320"/>
            <a:chOff x="0" y="4648320"/>
            <a:chExt cx="6857280" cy="2209320"/>
          </a:xfrm>
        </p:grpSpPr>
        <p:grpSp>
          <p:nvGrpSpPr>
            <p:cNvPr id="1563" name=""/>
            <p:cNvGrpSpPr/>
            <p:nvPr/>
          </p:nvGrpSpPr>
          <p:grpSpPr>
            <a:xfrm>
              <a:off x="0" y="4648320"/>
              <a:ext cx="6857280" cy="245160"/>
              <a:chOff x="0" y="4648320"/>
              <a:chExt cx="6857280" cy="24516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9: circl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0" y="4893480"/>
              <a:ext cx="6857280" cy="245160"/>
              <a:chOff x="0" y="4893480"/>
              <a:chExt cx="6857280" cy="245160"/>
            </a:xfrm>
          </p:grpSpPr>
          <p:sp>
            <p:nvSpPr>
              <p:cNvPr id="1567" name="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0" y="5139000"/>
              <a:ext cx="6857280" cy="245520"/>
              <a:chOff x="0" y="5139000"/>
              <a:chExt cx="6857280" cy="245520"/>
            </a:xfrm>
          </p:grpSpPr>
          <p:sp>
            <p:nvSpPr>
              <p:cNvPr id="1570" name="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0" y="5384880"/>
              <a:ext cx="6857280" cy="245160"/>
              <a:chOff x="0" y="5384880"/>
              <a:chExt cx="6857280" cy="245160"/>
            </a:xfrm>
          </p:grpSpPr>
          <p:sp>
            <p:nvSpPr>
              <p:cNvPr id="1573" name="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0" y="5630400"/>
              <a:ext cx="6857280" cy="245160"/>
              <a:chOff x="0" y="5630400"/>
              <a:chExt cx="6857280" cy="245160"/>
            </a:xfrm>
          </p:grpSpPr>
          <p:sp>
            <p:nvSpPr>
              <p:cNvPr id="1576" name="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0" y="5875920"/>
              <a:ext cx="6857280" cy="245160"/>
              <a:chOff x="0" y="5875920"/>
              <a:chExt cx="6857280" cy="245160"/>
            </a:xfrm>
          </p:grpSpPr>
          <p:sp>
            <p:nvSpPr>
              <p:cNvPr id="1579" name="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0" y="6121440"/>
              <a:ext cx="6857280" cy="245520"/>
              <a:chOff x="0" y="6121440"/>
              <a:chExt cx="6857280" cy="245520"/>
            </a:xfrm>
          </p:grpSpPr>
          <p:sp>
            <p:nvSpPr>
              <p:cNvPr id="1582" name="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0" y="6366960"/>
              <a:ext cx="6857280" cy="245160"/>
              <a:chOff x="0" y="6366960"/>
              <a:chExt cx="6857280" cy="245160"/>
            </a:xfrm>
          </p:grpSpPr>
          <p:sp>
            <p:nvSpPr>
              <p:cNvPr id="1585" name="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0" y="6612480"/>
              <a:ext cx="6857280" cy="245160"/>
              <a:chOff x="0" y="6612480"/>
              <a:chExt cx="6857280" cy="245160"/>
            </a:xfrm>
          </p:grpSpPr>
          <p:sp>
            <p:nvSpPr>
              <p:cNvPr id="1588" name="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0" name=""/>
          <p:cNvSpPr/>
          <p:nvPr/>
        </p:nvSpPr>
        <p:spPr>
          <a:xfrm>
            <a:off x="4572000" y="10666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057400" y="3962520"/>
            <a:ext cx="6172200" cy="824040"/>
            <a:chOff x="2057400" y="3962520"/>
            <a:chExt cx="6172200" cy="824040"/>
          </a:xfrm>
        </p:grpSpPr>
        <p:sp>
          <p:nvSpPr>
            <p:cNvPr id="1592" name=""/>
            <p:cNvSpPr/>
            <p:nvPr/>
          </p:nvSpPr>
          <p:spPr>
            <a:xfrm>
              <a:off x="5791320" y="39625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 flipV="1">
              <a:off x="2057400" y="4114800"/>
              <a:ext cx="3733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CA44D-D25F-4206-ACB5-02E0A22B93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596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597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600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603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a member initializer and initializes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606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609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612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636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639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642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645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648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651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654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657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660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663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Point &gt; 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669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672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675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678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681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C1C4-3D6F-461E-A741-2F2C8CB007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Inheritance: 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and derive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an object from a derived class (subclass) is also an object of a base class (supercla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tangle is a derived class in reference to a quadrilateral and a base class in reference to a s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47920" y="3429000"/>
          <a:ext cx="5943600" cy="33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9436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BFB1-78CF-4F78-91B6-2316BFC55F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685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cylindr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737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740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743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746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749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752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volu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755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758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761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height of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764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767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770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F455-A059-4211-AD52-100E137B14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74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cylindr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and friend function definition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or class Cylind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ylinder constructor calls Circl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Circle( r, x, y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eight = ( h &gt;= 0 ? h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ylinder (i.e., surface are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3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3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3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2 * 3.14159 * radius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4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4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4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volume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5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5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5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Cylinder dimens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6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86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7" name=""/>
          <p:cNvGrpSpPr/>
          <p:nvPr/>
        </p:nvGrpSpPr>
        <p:grpSpPr>
          <a:xfrm>
            <a:off x="2743200" y="4343040"/>
            <a:ext cx="5257800" cy="1038240"/>
            <a:chOff x="2743200" y="4343040"/>
            <a:chExt cx="5257800" cy="1038240"/>
          </a:xfrm>
        </p:grpSpPr>
        <p:sp>
          <p:nvSpPr>
            <p:cNvPr id="1868" name=""/>
            <p:cNvSpPr/>
            <p:nvPr/>
          </p:nvSpPr>
          <p:spPr>
            <a:xfrm>
              <a:off x="5562720" y="48006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::area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overidd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 flipV="1">
              <a:off x="2743200" y="43430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F735-1FC0-43C2-A7C4-3289BF1A59A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Change attribut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0" y="0"/>
            <a:ext cx="6780960" cy="1219320"/>
            <a:chOff x="0" y="0"/>
            <a:chExt cx="6780960" cy="1219320"/>
          </a:xfrm>
        </p:grpSpPr>
        <p:grpSp>
          <p:nvGrpSpPr>
            <p:cNvPr id="1872" name="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static_cast&lt; Circle &gt;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Height = " &lt;&lt; c.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975600"/>
              <a:ext cx="6780960" cy="243720"/>
              <a:chOff x="0" y="975600"/>
              <a:chExt cx="6780960" cy="24372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7" name=""/>
          <p:cNvGrpSpPr/>
          <p:nvPr/>
        </p:nvGrpSpPr>
        <p:grpSpPr>
          <a:xfrm>
            <a:off x="0" y="1219320"/>
            <a:ext cx="6780960" cy="5638680"/>
            <a:chOff x="0" y="1219320"/>
            <a:chExt cx="6780960" cy="5638680"/>
          </a:xfrm>
        </p:grpSpPr>
        <p:grpSp>
          <p:nvGrpSpPr>
            <p:cNvPr id="1888" name=""/>
            <p:cNvGrpSpPr/>
            <p:nvPr/>
          </p:nvGrpSpPr>
          <p:grpSpPr>
            <a:xfrm>
              <a:off x="0" y="1219320"/>
              <a:ext cx="6780960" cy="216720"/>
              <a:chOff x="0" y="1219320"/>
              <a:chExt cx="6780960" cy="216720"/>
            </a:xfrm>
          </p:grpSpPr>
          <p:sp>
            <p:nvSpPr>
              <p:cNvPr id="1889" name="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fig09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"/>
            <p:cNvGrpSpPr/>
            <p:nvPr/>
          </p:nvGrpSpPr>
          <p:grpSpPr>
            <a:xfrm>
              <a:off x="0" y="1436040"/>
              <a:ext cx="6780960" cy="216720"/>
              <a:chOff x="0" y="1436040"/>
              <a:chExt cx="6780960" cy="216720"/>
            </a:xfrm>
          </p:grpSpPr>
          <p:sp>
            <p:nvSpPr>
              <p:cNvPr id="1892" name="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4" name=""/>
            <p:cNvGrpSpPr/>
            <p:nvPr/>
          </p:nvGrpSpPr>
          <p:grpSpPr>
            <a:xfrm>
              <a:off x="0" y="1652760"/>
              <a:ext cx="6780960" cy="216720"/>
              <a:chOff x="0" y="1652760"/>
              <a:chExt cx="6780960" cy="216720"/>
            </a:xfrm>
          </p:grpSpPr>
          <p:sp>
            <p:nvSpPr>
              <p:cNvPr id="1895" name="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0" y="1869840"/>
              <a:ext cx="6780960" cy="216720"/>
              <a:chOff x="0" y="1869840"/>
              <a:chExt cx="6780960" cy="216720"/>
            </a:xfrm>
          </p:grpSpPr>
          <p:sp>
            <p:nvSpPr>
              <p:cNvPr id="1898" name="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0" y="2086560"/>
              <a:ext cx="6780960" cy="216720"/>
              <a:chOff x="0" y="2086560"/>
              <a:chExt cx="6780960" cy="216720"/>
            </a:xfrm>
          </p:grpSpPr>
          <p:sp>
            <p:nvSpPr>
              <p:cNvPr id="1901" name="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0" y="2303640"/>
              <a:ext cx="6780960" cy="216720"/>
              <a:chOff x="0" y="2303640"/>
              <a:chExt cx="6780960" cy="216720"/>
            </a:xfrm>
          </p:grpSpPr>
          <p:sp>
            <p:nvSpPr>
              <p:cNvPr id="1904" name="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0" y="2520360"/>
              <a:ext cx="6780960" cy="216720"/>
              <a:chOff x="0" y="2520360"/>
              <a:chExt cx="6780960" cy="216720"/>
            </a:xfrm>
          </p:grpSpPr>
          <p:sp>
            <p:nvSpPr>
              <p:cNvPr id="1907" name="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"/>
            <p:cNvGrpSpPr/>
            <p:nvPr/>
          </p:nvGrpSpPr>
          <p:grpSpPr>
            <a:xfrm>
              <a:off x="0" y="2737440"/>
              <a:ext cx="6780960" cy="216720"/>
              <a:chOff x="0" y="2737440"/>
              <a:chExt cx="6780960" cy="216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0" y="2954160"/>
              <a:ext cx="6780960" cy="216720"/>
              <a:chOff x="0" y="2954160"/>
              <a:chExt cx="6780960" cy="216720"/>
            </a:xfrm>
          </p:grpSpPr>
          <p:sp>
            <p:nvSpPr>
              <p:cNvPr id="1913" name="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0" y="3170880"/>
              <a:ext cx="6780960" cy="216720"/>
              <a:chOff x="0" y="3170880"/>
              <a:chExt cx="6780960" cy="216720"/>
            </a:xfrm>
          </p:grpSpPr>
          <p:sp>
            <p:nvSpPr>
              <p:cNvPr id="1916" name="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"/>
            <p:cNvGrpSpPr/>
            <p:nvPr/>
          </p:nvGrpSpPr>
          <p:grpSpPr>
            <a:xfrm>
              <a:off x="0" y="3387960"/>
              <a:ext cx="6780960" cy="216720"/>
              <a:chOff x="0" y="3387960"/>
              <a:chExt cx="6780960" cy="216720"/>
            </a:xfrm>
          </p:grpSpPr>
          <p:sp>
            <p:nvSpPr>
              <p:cNvPr id="1919" name="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0" y="3605040"/>
              <a:ext cx="6780960" cy="216720"/>
              <a:chOff x="0" y="3605040"/>
              <a:chExt cx="6780960" cy="216720"/>
            </a:xfrm>
          </p:grpSpPr>
          <p:sp>
            <p:nvSpPr>
              <p:cNvPr id="1922" name="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0" y="3821760"/>
              <a:ext cx="6780960" cy="216720"/>
              <a:chOff x="0" y="3821760"/>
              <a:chExt cx="6780960" cy="216720"/>
            </a:xfrm>
          </p:grpSpPr>
          <p:sp>
            <p:nvSpPr>
              <p:cNvPr id="1925" name="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"/>
            <p:cNvGrpSpPr/>
            <p:nvPr/>
          </p:nvGrpSpPr>
          <p:grpSpPr>
            <a:xfrm>
              <a:off x="0" y="4038480"/>
              <a:ext cx="6780960" cy="216720"/>
              <a:chOff x="0" y="4038480"/>
              <a:chExt cx="6780960" cy="216720"/>
            </a:xfrm>
          </p:grpSpPr>
          <p:sp>
            <p:nvSpPr>
              <p:cNvPr id="1928" name="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reate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0" y="4255560"/>
              <a:ext cx="6780960" cy="216720"/>
              <a:chOff x="0" y="4255560"/>
              <a:chExt cx="6780960" cy="216720"/>
            </a:xfrm>
          </p:grpSpPr>
          <p:sp>
            <p:nvSpPr>
              <p:cNvPr id="1931" name="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 cyl( 5.7, 2.5, 12, 23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"/>
            <p:cNvGrpSpPr/>
            <p:nvPr/>
          </p:nvGrpSpPr>
          <p:grpSpPr>
            <a:xfrm>
              <a:off x="0" y="4472280"/>
              <a:ext cx="6780960" cy="216720"/>
              <a:chOff x="0" y="4472280"/>
              <a:chExt cx="6780960" cy="216720"/>
            </a:xfrm>
          </p:grpSpPr>
          <p:sp>
            <p:nvSpPr>
              <p:cNvPr id="1934" name="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0" y="4689360"/>
              <a:ext cx="6780960" cy="216720"/>
              <a:chOff x="0" y="4689360"/>
              <a:chExt cx="6780960" cy="216720"/>
            </a:xfrm>
          </p:grpSpPr>
          <p:sp>
            <p:nvSpPr>
              <p:cNvPr id="1937" name="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 get functions to display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"/>
            <p:cNvGrpSpPr/>
            <p:nvPr/>
          </p:nvGrpSpPr>
          <p:grpSpPr>
            <a:xfrm>
              <a:off x="0" y="4906080"/>
              <a:ext cx="6780960" cy="216720"/>
              <a:chOff x="0" y="4906080"/>
              <a:chExt cx="6780960" cy="216720"/>
            </a:xfrm>
          </p:grpSpPr>
          <p:sp>
            <p:nvSpPr>
              <p:cNvPr id="1940" name="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X coordinate is " &lt;&lt; cyl.getX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0" y="5122800"/>
              <a:ext cx="6780960" cy="216720"/>
              <a:chOff x="0" y="5122800"/>
              <a:chExt cx="6780960" cy="216720"/>
            </a:xfrm>
          </p:grpSpPr>
          <p:sp>
            <p:nvSpPr>
              <p:cNvPr id="1943" name="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Y coordinate is " &lt;&lt; cyl.get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0" y="5339880"/>
              <a:ext cx="6780960" cy="216720"/>
              <a:chOff x="0" y="5339880"/>
              <a:chExt cx="6780960" cy="216720"/>
            </a:xfrm>
          </p:grpSpPr>
          <p:sp>
            <p:nvSpPr>
              <p:cNvPr id="1946" name="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Radius is " &lt;&lt; cyl.getRadiu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0" y="5556960"/>
              <a:ext cx="6780960" cy="216720"/>
              <a:chOff x="0" y="5556960"/>
              <a:chExt cx="6780960" cy="216720"/>
            </a:xfrm>
          </p:grpSpPr>
          <p:sp>
            <p:nvSpPr>
              <p:cNvPr id="1949" name="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Height is " &lt;&lt; cyl.getHeigh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0" y="5773680"/>
              <a:ext cx="6780960" cy="216720"/>
              <a:chOff x="0" y="5773680"/>
              <a:chExt cx="6780960" cy="216720"/>
            </a:xfrm>
          </p:grpSpPr>
          <p:sp>
            <p:nvSpPr>
              <p:cNvPr id="1952" name="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0" y="5990400"/>
              <a:ext cx="6780960" cy="216720"/>
              <a:chOff x="0" y="5990400"/>
              <a:chExt cx="6780960" cy="216720"/>
            </a:xfrm>
          </p:grpSpPr>
          <p:sp>
            <p:nvSpPr>
              <p:cNvPr id="1955" name="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 set functions to change the Cylinder's attribu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0" y="6207480"/>
              <a:ext cx="6780960" cy="216720"/>
              <a:chOff x="0" y="6207480"/>
              <a:chExt cx="6780960" cy="216720"/>
            </a:xfrm>
          </p:grpSpPr>
          <p:sp>
            <p:nvSpPr>
              <p:cNvPr id="1958" name="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Height( 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0" y="6424200"/>
              <a:ext cx="6780960" cy="216720"/>
              <a:chOff x="0" y="6424200"/>
              <a:chExt cx="6780960" cy="216720"/>
            </a:xfrm>
          </p:grpSpPr>
          <p:sp>
            <p:nvSpPr>
              <p:cNvPr id="1961" name="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Radius( 4.2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"/>
            <p:cNvGrpSpPr/>
            <p:nvPr/>
          </p:nvGrpSpPr>
          <p:grpSpPr>
            <a:xfrm>
              <a:off x="0" y="6641280"/>
              <a:ext cx="6780960" cy="216720"/>
              <a:chOff x="0" y="6641280"/>
              <a:chExt cx="6780960" cy="216720"/>
            </a:xfrm>
          </p:grpSpPr>
          <p:sp>
            <p:nvSpPr>
              <p:cNvPr id="1964" name="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Point( 2,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6" name=""/>
          <p:cNvSpPr/>
          <p:nvPr/>
        </p:nvSpPr>
        <p:spPr>
          <a:xfrm>
            <a:off x="5867280" y="4572000"/>
            <a:ext cx="24386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42FB3-4A7B-4F04-B2C3-E8FAE574861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969" name=""/>
            <p:cNvGrpSpPr/>
            <p:nvPr/>
          </p:nvGrpSpPr>
          <p:grpSpPr>
            <a:xfrm>
              <a:off x="0" y="0"/>
              <a:ext cx="6705000" cy="215640"/>
              <a:chOff x="0" y="0"/>
              <a:chExt cx="6705000" cy="215640"/>
            </a:xfrm>
          </p:grpSpPr>
          <p:sp>
            <p:nvSpPr>
              <p:cNvPr id="1970" name="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new location, radius, and height of cyl are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"/>
            <p:cNvGrpSpPr/>
            <p:nvPr/>
          </p:nvGrpSpPr>
          <p:grpSpPr>
            <a:xfrm>
              <a:off x="0" y="215640"/>
              <a:ext cx="6705000" cy="215640"/>
              <a:chOff x="0" y="215640"/>
              <a:chExt cx="6705000" cy="215640"/>
            </a:xfrm>
          </p:grpSpPr>
          <p:sp>
            <p:nvSpPr>
              <p:cNvPr id="1973" name="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yl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0" y="431640"/>
              <a:ext cx="6705000" cy="216000"/>
              <a:chOff x="0" y="431640"/>
              <a:chExt cx="6705000" cy="216000"/>
            </a:xfrm>
          </p:grpSpPr>
          <p:sp>
            <p:nvSpPr>
              <p:cNvPr id="1976" name="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0" y="647640"/>
              <a:ext cx="6705000" cy="215640"/>
              <a:chOff x="0" y="647640"/>
              <a:chExt cx="6705000" cy="215640"/>
            </a:xfrm>
          </p:grpSpPr>
          <p:sp>
            <p:nvSpPr>
              <p:cNvPr id="1979" name="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area of cyl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0" y="863640"/>
              <a:ext cx="6705000" cy="215640"/>
              <a:chOff x="0" y="863640"/>
              <a:chExt cx="6705000" cy="215640"/>
            </a:xfrm>
          </p:grpSpPr>
          <p:sp>
            <p:nvSpPr>
              <p:cNvPr id="1982" name="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yl.are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0" y="1079280"/>
              <a:ext cx="6705000" cy="215640"/>
              <a:chOff x="0" y="1079280"/>
              <a:chExt cx="6705000" cy="215640"/>
            </a:xfrm>
          </p:grpSpPr>
          <p:sp>
            <p:nvSpPr>
              <p:cNvPr id="1985" name="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0" y="1295280"/>
              <a:ext cx="6705000" cy="216000"/>
              <a:chOff x="0" y="1295280"/>
              <a:chExt cx="6705000" cy="216000"/>
            </a:xfrm>
          </p:grpSpPr>
          <p:sp>
            <p:nvSpPr>
              <p:cNvPr id="1988" name="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isplay the Cylinder a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0" y="1511280"/>
              <a:ext cx="6705000" cy="215640"/>
              <a:chOff x="0" y="1511280"/>
              <a:chExt cx="6705000" cy="215640"/>
            </a:xfrm>
          </p:grpSpPr>
          <p:sp>
            <p:nvSpPr>
              <p:cNvPr id="1991" name="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&amp;p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ef "thinks" it i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0" y="1727280"/>
              <a:ext cx="6705000" cy="215640"/>
              <a:chOff x="0" y="1727280"/>
              <a:chExt cx="6705000" cy="215640"/>
            </a:xfrm>
          </p:grpSpPr>
          <p:sp>
            <p:nvSpPr>
              <p:cNvPr id="1994" name="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Cylinder printed as a Point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0" y="1942920"/>
              <a:ext cx="6705000" cy="215640"/>
              <a:chOff x="0" y="1942920"/>
              <a:chExt cx="6705000" cy="215640"/>
            </a:xfrm>
          </p:grpSpPr>
          <p:sp>
            <p:nvSpPr>
              <p:cNvPr id="1997" name="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pRef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0" y="2158920"/>
              <a:ext cx="6705000" cy="216000"/>
              <a:chOff x="0" y="2158920"/>
              <a:chExt cx="6705000" cy="216000"/>
            </a:xfrm>
          </p:grpSpPr>
          <p:sp>
            <p:nvSpPr>
              <p:cNvPr id="2000" name="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0" y="2374920"/>
              <a:ext cx="6705000" cy="215640"/>
              <a:chOff x="0" y="2374920"/>
              <a:chExt cx="6705000" cy="215640"/>
            </a:xfrm>
          </p:grpSpPr>
          <p:sp>
            <p:nvSpPr>
              <p:cNvPr id="2003" name="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isplay the Cylinder a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0" y="2590920"/>
              <a:ext cx="6705000" cy="215640"/>
              <a:chOff x="0" y="2590920"/>
              <a:chExt cx="6705000" cy="215640"/>
            </a:xfrm>
          </p:grpSpPr>
          <p:sp>
            <p:nvSpPr>
              <p:cNvPr id="2006" name="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&amp;circle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ircleRef thinks it i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0" y="2806560"/>
              <a:ext cx="6705000" cy="215640"/>
              <a:chOff x="0" y="2806560"/>
              <a:chExt cx="6705000" cy="215640"/>
            </a:xfrm>
          </p:grpSpPr>
          <p:sp>
            <p:nvSpPr>
              <p:cNvPr id="2009" name="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ylinder printed as a Circle is:\n" &lt;&lt; circle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0" y="3022560"/>
              <a:ext cx="6705000" cy="216000"/>
              <a:chOff x="0" y="3022560"/>
              <a:chExt cx="6705000" cy="216000"/>
            </a:xfrm>
          </p:grpSpPr>
          <p:sp>
            <p:nvSpPr>
              <p:cNvPr id="2012" name="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Area: " &lt;&lt; circleRef.are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0" y="3238560"/>
              <a:ext cx="6705000" cy="215640"/>
              <a:chOff x="0" y="3238560"/>
              <a:chExt cx="6705000" cy="215640"/>
            </a:xfrm>
          </p:grpSpPr>
          <p:sp>
            <p:nvSpPr>
              <p:cNvPr id="2015" name="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0" y="3454560"/>
              <a:ext cx="6705000" cy="215640"/>
              <a:chOff x="0" y="3454560"/>
              <a:chExt cx="6705000" cy="215640"/>
            </a:xfrm>
          </p:grpSpPr>
          <p:sp>
            <p:nvSpPr>
              <p:cNvPr id="2018" name="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0" y="3670200"/>
              <a:ext cx="6705000" cy="215640"/>
              <a:chOff x="0" y="3670200"/>
              <a:chExt cx="6705000" cy="215640"/>
            </a:xfrm>
          </p:grpSpPr>
          <p:sp>
            <p:nvSpPr>
              <p:cNvPr id="2021" name="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3" name=""/>
          <p:cNvSpPr/>
          <p:nvPr/>
        </p:nvSpPr>
        <p:spPr>
          <a:xfrm>
            <a:off x="0" y="40273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962520" y="457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860360" y="2057400"/>
            <a:ext cx="36554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1828800" y="1752120"/>
            <a:ext cx="6248520" cy="1495440"/>
            <a:chOff x="1828800" y="1752120"/>
            <a:chExt cx="6248520" cy="1495440"/>
          </a:xfrm>
        </p:grpSpPr>
        <p:sp>
          <p:nvSpPr>
            <p:cNvPr id="2027" name=""/>
            <p:cNvSpPr/>
            <p:nvPr/>
          </p:nvSpPr>
          <p:spPr>
            <a:xfrm>
              <a:off x="4648320" y="2666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 flipV="1">
              <a:off x="1828800" y="1752120"/>
              <a:ext cx="2743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1904760" y="2819520"/>
            <a:ext cx="6248160" cy="1494720"/>
            <a:chOff x="1904760" y="2819520"/>
            <a:chExt cx="6248160" cy="1494720"/>
          </a:xfrm>
        </p:grpSpPr>
        <p:sp>
          <p:nvSpPr>
            <p:cNvPr id="2030" name=""/>
            <p:cNvSpPr/>
            <p:nvPr/>
          </p:nvSpPr>
          <p:spPr>
            <a:xfrm>
              <a:off x="4724280" y="373356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 flipV="1">
              <a:off x="1904760" y="2819520"/>
              <a:ext cx="274284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2" name=""/>
          <p:cNvSpPr/>
          <p:nvPr/>
        </p:nvSpPr>
        <p:spPr>
          <a:xfrm>
            <a:off x="4114800" y="31240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A9A6-CDD9-4ED7-B0F7-277F238757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5   Multiple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inherits from multiple base-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s software reuse, but can create ambigu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6BB6-DC65-4FEC-B23D-718A57D35E5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2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36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2037" name=""/>
            <p:cNvGrpSpPr/>
            <p:nvPr/>
          </p:nvGrpSpPr>
          <p:grpSpPr>
            <a:xfrm>
              <a:off x="0" y="0"/>
              <a:ext cx="6780960" cy="261000"/>
              <a:chOff x="0" y="0"/>
              <a:chExt cx="6780960" cy="261000"/>
            </a:xfrm>
          </p:grpSpPr>
          <p:sp>
            <p:nvSpPr>
              <p:cNvPr id="2038" name="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bas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0" y="261000"/>
              <a:ext cx="6780960" cy="261000"/>
              <a:chOff x="0" y="261000"/>
              <a:chExt cx="6780960" cy="2610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Bas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522360"/>
              <a:ext cx="6780960" cy="261360"/>
              <a:chOff x="0" y="522360"/>
              <a:chExt cx="6780960" cy="26136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783720"/>
              <a:ext cx="6780960" cy="261000"/>
              <a:chOff x="0" y="783720"/>
              <a:chExt cx="6780960" cy="26100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1045080"/>
              <a:ext cx="6780960" cy="261000"/>
              <a:chOff x="0" y="1045080"/>
              <a:chExt cx="6780960" cy="2610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1306080"/>
              <a:ext cx="6780960" cy="261000"/>
              <a:chOff x="0" y="1306080"/>
              <a:chExt cx="6780960" cy="2610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1567440"/>
              <a:ext cx="6780960" cy="261360"/>
              <a:chOff x="0" y="1567440"/>
              <a:chExt cx="6780960" cy="26136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0" y="1828800"/>
              <a:ext cx="6780960" cy="261000"/>
              <a:chOff x="0" y="1828800"/>
              <a:chExt cx="6780960" cy="261000"/>
            </a:xfrm>
          </p:grpSpPr>
          <p:sp>
            <p:nvSpPr>
              <p:cNvPr id="2059" name="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) { value =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1" name=""/>
            <p:cNvGrpSpPr/>
            <p:nvPr/>
          </p:nvGrpSpPr>
          <p:grpSpPr>
            <a:xfrm>
              <a:off x="0" y="2090160"/>
              <a:ext cx="6780960" cy="261000"/>
              <a:chOff x="0" y="2090160"/>
              <a:chExt cx="6780960" cy="261000"/>
            </a:xfrm>
          </p:grpSpPr>
          <p:sp>
            <p:nvSpPr>
              <p:cNvPr id="2062" name="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0" y="2351160"/>
              <a:ext cx="6780960" cy="261000"/>
              <a:chOff x="0" y="2351160"/>
              <a:chExt cx="6780960" cy="261000"/>
            </a:xfrm>
          </p:grpSpPr>
          <p:sp>
            <p:nvSpPr>
              <p:cNvPr id="2065" name="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7" name=""/>
            <p:cNvGrpSpPr/>
            <p:nvPr/>
          </p:nvGrpSpPr>
          <p:grpSpPr>
            <a:xfrm>
              <a:off x="0" y="2612520"/>
              <a:ext cx="6780960" cy="261360"/>
              <a:chOff x="0" y="2612520"/>
              <a:chExt cx="6780960" cy="261360"/>
            </a:xfrm>
          </p:grpSpPr>
          <p:sp>
            <p:nvSpPr>
              <p:cNvPr id="2068" name="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0" name=""/>
            <p:cNvGrpSpPr/>
            <p:nvPr/>
          </p:nvGrpSpPr>
          <p:grpSpPr>
            <a:xfrm>
              <a:off x="0" y="2873880"/>
              <a:ext cx="6780960" cy="261000"/>
              <a:chOff x="0" y="2873880"/>
              <a:chExt cx="6780960" cy="261000"/>
            </a:xfrm>
          </p:grpSpPr>
          <p:sp>
            <p:nvSpPr>
              <p:cNvPr id="2071" name="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3" name=""/>
            <p:cNvGrpSpPr/>
            <p:nvPr/>
          </p:nvGrpSpPr>
          <p:grpSpPr>
            <a:xfrm>
              <a:off x="0" y="3135240"/>
              <a:ext cx="6780960" cy="261000"/>
              <a:chOff x="0" y="3135240"/>
              <a:chExt cx="6780960" cy="261000"/>
            </a:xfrm>
          </p:grpSpPr>
          <p:sp>
            <p:nvSpPr>
              <p:cNvPr id="2074" name="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0" y="3396240"/>
              <a:ext cx="6780960" cy="261000"/>
              <a:chOff x="0" y="3396240"/>
              <a:chExt cx="6780960" cy="261000"/>
            </a:xfrm>
          </p:grpSpPr>
          <p:sp>
            <p:nvSpPr>
              <p:cNvPr id="2077" name="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9" name=""/>
          <p:cNvGrpSpPr/>
          <p:nvPr/>
        </p:nvGrpSpPr>
        <p:grpSpPr>
          <a:xfrm>
            <a:off x="0" y="3657600"/>
            <a:ext cx="6780960" cy="3200040"/>
            <a:chOff x="0" y="3657600"/>
            <a:chExt cx="6780960" cy="3200040"/>
          </a:xfrm>
        </p:grpSpPr>
        <p:grpSp>
          <p:nvGrpSpPr>
            <p:cNvPr id="2080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08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bas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0" y="3885840"/>
              <a:ext cx="6780960" cy="228240"/>
              <a:chOff x="0" y="3885840"/>
              <a:chExt cx="6780960" cy="228240"/>
            </a:xfrm>
          </p:grpSpPr>
          <p:sp>
            <p:nvSpPr>
              <p:cNvPr id="2084" name="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Bas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6" name=""/>
            <p:cNvGrpSpPr/>
            <p:nvPr/>
          </p:nvGrpSpPr>
          <p:grpSpPr>
            <a:xfrm>
              <a:off x="0" y="4114440"/>
              <a:ext cx="6780960" cy="228600"/>
              <a:chOff x="0" y="4114440"/>
              <a:chExt cx="6780960" cy="228600"/>
            </a:xfrm>
          </p:grpSpPr>
          <p:sp>
            <p:nvSpPr>
              <p:cNvPr id="2087" name="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9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2090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09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09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0" y="5029200"/>
              <a:ext cx="6780960" cy="228600"/>
              <a:chOff x="0" y="5029200"/>
              <a:chExt cx="6780960" cy="228600"/>
            </a:xfrm>
          </p:grpSpPr>
          <p:sp>
            <p:nvSpPr>
              <p:cNvPr id="2099" name="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1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2102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) { letter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4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10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tte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7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10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0" name=""/>
            <p:cNvGrpSpPr/>
            <p:nvPr/>
          </p:nvGrpSpPr>
          <p:grpSpPr>
            <a:xfrm>
              <a:off x="0" y="5943600"/>
              <a:ext cx="6780960" cy="228600"/>
              <a:chOff x="0" y="5943600"/>
              <a:chExt cx="6780960" cy="228600"/>
            </a:xfrm>
          </p:grpSpPr>
          <p:sp>
            <p:nvSpPr>
              <p:cNvPr id="2111" name="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tte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2114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6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11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9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12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64E6-9DC1-471B-BD92-99177610F02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rive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124" name="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2125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derived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7" name="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2128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Derived which inher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0" name="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2131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ultiple base classes (Base1 and Base2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3" name="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2134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6" name="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2137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9" name="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2140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2" name="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2143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2146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2149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1" name="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2152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4" name="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2155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2158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0" name="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2161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2164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ultiple inherita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6" name="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2167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2170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2173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2176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2179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2182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2185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2188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2191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a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rived class's privat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2194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6" name="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2197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2200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2" name=""/>
          <p:cNvGrpSpPr/>
          <p:nvPr/>
        </p:nvGrpSpPr>
        <p:grpSpPr>
          <a:xfrm>
            <a:off x="4267080" y="2209680"/>
            <a:ext cx="3505320" cy="1447920"/>
            <a:chOff x="4267080" y="2209680"/>
            <a:chExt cx="3505320" cy="1447920"/>
          </a:xfrm>
        </p:grpSpPr>
        <p:sp>
          <p:nvSpPr>
            <p:cNvPr id="2203" name=""/>
            <p:cNvSpPr/>
            <p:nvPr/>
          </p:nvSpPr>
          <p:spPr>
            <a:xfrm>
              <a:off x="5334120" y="22096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ri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4267080" y="251460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9E35-856B-4B5E-A627-C9E6F72BAE9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0" y="0"/>
            <a:ext cx="6780960" cy="4876560"/>
            <a:chOff x="0" y="0"/>
            <a:chExt cx="6780960" cy="4876560"/>
          </a:xfrm>
        </p:grpSpPr>
        <p:grpSp>
          <p:nvGrpSpPr>
            <p:cNvPr id="2207" name=""/>
            <p:cNvGrpSpPr/>
            <p:nvPr/>
          </p:nvGrpSpPr>
          <p:grpSpPr>
            <a:xfrm>
              <a:off x="0" y="0"/>
              <a:ext cx="6780960" cy="221400"/>
              <a:chOff x="0" y="0"/>
              <a:chExt cx="6780960" cy="221400"/>
            </a:xfrm>
          </p:grpSpPr>
          <p:sp>
            <p:nvSpPr>
              <p:cNvPr id="2208" name="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derived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0" name=""/>
            <p:cNvGrpSpPr/>
            <p:nvPr/>
          </p:nvGrpSpPr>
          <p:grpSpPr>
            <a:xfrm>
              <a:off x="0" y="221400"/>
              <a:ext cx="6780960" cy="221400"/>
              <a:chOff x="0" y="221400"/>
              <a:chExt cx="6780960" cy="221400"/>
            </a:xfrm>
          </p:grpSpPr>
          <p:sp>
            <p:nvSpPr>
              <p:cNvPr id="2211" name="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0" y="443160"/>
              <a:ext cx="6780960" cy="221760"/>
              <a:chOff x="0" y="443160"/>
              <a:chExt cx="6780960" cy="221760"/>
            </a:xfrm>
          </p:grpSpPr>
          <p:sp>
            <p:nvSpPr>
              <p:cNvPr id="2214" name="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6" name=""/>
            <p:cNvGrpSpPr/>
            <p:nvPr/>
          </p:nvGrpSpPr>
          <p:grpSpPr>
            <a:xfrm>
              <a:off x="0" y="664920"/>
              <a:ext cx="6780960" cy="221400"/>
              <a:chOff x="0" y="664920"/>
              <a:chExt cx="6780960" cy="221400"/>
            </a:xfrm>
          </p:grpSpPr>
          <p:sp>
            <p:nvSpPr>
              <p:cNvPr id="2217" name="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"/>
            <p:cNvGrpSpPr/>
            <p:nvPr/>
          </p:nvGrpSpPr>
          <p:grpSpPr>
            <a:xfrm>
              <a:off x="0" y="886680"/>
              <a:ext cx="6780960" cy="221400"/>
              <a:chOff x="0" y="886680"/>
              <a:chExt cx="6780960" cy="221400"/>
            </a:xfrm>
          </p:grpSpPr>
          <p:sp>
            <p:nvSpPr>
              <p:cNvPr id="2220" name="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Derived calls constructor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0" y="1108080"/>
              <a:ext cx="6780960" cy="221400"/>
              <a:chOff x="0" y="1108080"/>
              <a:chExt cx="6780960" cy="221400"/>
            </a:xfrm>
          </p:grpSpPr>
          <p:sp>
            <p:nvSpPr>
              <p:cNvPr id="2223" name="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Base1 and class Base2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"/>
            <p:cNvGrpSpPr/>
            <p:nvPr/>
          </p:nvGrpSpPr>
          <p:grpSpPr>
            <a:xfrm>
              <a:off x="0" y="1329840"/>
              <a:ext cx="6780960" cy="221760"/>
              <a:chOff x="0" y="1329840"/>
              <a:chExt cx="6780960" cy="221760"/>
            </a:xfrm>
          </p:grpSpPr>
          <p:sp>
            <p:nvSpPr>
              <p:cNvPr id="2226" name="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 member initializers to call base-class construc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"/>
            <p:cNvGrpSpPr/>
            <p:nvPr/>
          </p:nvGrpSpPr>
          <p:grpSpPr>
            <a:xfrm>
              <a:off x="0" y="1551600"/>
              <a:ext cx="6780960" cy="221400"/>
              <a:chOff x="0" y="1551600"/>
              <a:chExt cx="6780960" cy="221400"/>
            </a:xfrm>
          </p:grpSpPr>
          <p:sp>
            <p:nvSpPr>
              <p:cNvPr id="2229" name="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erived::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1" name=""/>
            <p:cNvGrpSpPr/>
            <p:nvPr/>
          </p:nvGrpSpPr>
          <p:grpSpPr>
            <a:xfrm>
              <a:off x="0" y="1773360"/>
              <a:ext cx="6780960" cy="221400"/>
              <a:chOff x="0" y="1773360"/>
              <a:chExt cx="6780960" cy="221400"/>
            </a:xfrm>
          </p:grpSpPr>
          <p:sp>
            <p:nvSpPr>
              <p:cNvPr id="2232" name="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Base1( i ), Base2( c ), real ( f ) { 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0" y="1995120"/>
              <a:ext cx="6780960" cy="221400"/>
              <a:chOff x="0" y="1995120"/>
              <a:chExt cx="6780960" cy="221400"/>
            </a:xfrm>
          </p:grpSpPr>
          <p:sp>
            <p:nvSpPr>
              <p:cNvPr id="2235" name="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0" y="2216520"/>
              <a:ext cx="6780960" cy="221760"/>
              <a:chOff x="0" y="2216520"/>
              <a:chExt cx="6780960" cy="221760"/>
            </a:xfrm>
          </p:grpSpPr>
          <p:sp>
            <p:nvSpPr>
              <p:cNvPr id="2238" name="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the value of re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0" name=""/>
            <p:cNvGrpSpPr/>
            <p:nvPr/>
          </p:nvGrpSpPr>
          <p:grpSpPr>
            <a:xfrm>
              <a:off x="0" y="2438640"/>
              <a:ext cx="6780960" cy="221400"/>
              <a:chOff x="0" y="2438640"/>
              <a:chExt cx="6780960" cy="221400"/>
            </a:xfrm>
          </p:grpSpPr>
          <p:sp>
            <p:nvSpPr>
              <p:cNvPr id="2241" name="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::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a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3" name=""/>
            <p:cNvGrpSpPr/>
            <p:nvPr/>
          </p:nvGrpSpPr>
          <p:grpSpPr>
            <a:xfrm>
              <a:off x="0" y="2660040"/>
              <a:ext cx="6780960" cy="221400"/>
              <a:chOff x="0" y="2660040"/>
              <a:chExt cx="6780960" cy="221400"/>
            </a:xfrm>
          </p:grpSpPr>
          <p:sp>
            <p:nvSpPr>
              <p:cNvPr id="2244" name="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0" y="2881800"/>
              <a:ext cx="6780960" cy="221400"/>
              <a:chOff x="0" y="2881800"/>
              <a:chExt cx="6780960" cy="221400"/>
            </a:xfrm>
          </p:grpSpPr>
          <p:sp>
            <p:nvSpPr>
              <p:cNvPr id="2247" name="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all the data members of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0" y="3103560"/>
              <a:ext cx="6780960" cy="221760"/>
              <a:chOff x="0" y="3103560"/>
              <a:chExt cx="6780960" cy="221760"/>
            </a:xfrm>
          </p:grpSpPr>
          <p:sp>
            <p:nvSpPr>
              <p:cNvPr id="2250" name="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2" name=""/>
            <p:cNvGrpSpPr/>
            <p:nvPr/>
          </p:nvGrpSpPr>
          <p:grpSpPr>
            <a:xfrm>
              <a:off x="0" y="3325320"/>
              <a:ext cx="6780960" cy="221400"/>
              <a:chOff x="0" y="3325320"/>
              <a:chExt cx="6780960" cy="221400"/>
            </a:xfrm>
          </p:grpSpPr>
          <p:sp>
            <p:nvSpPr>
              <p:cNvPr id="2253" name="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0" y="3546720"/>
              <a:ext cx="6780960" cy="221400"/>
              <a:chOff x="0" y="3546720"/>
              <a:chExt cx="6780960" cy="221400"/>
            </a:xfrm>
          </p:grpSpPr>
          <p:sp>
            <p:nvSpPr>
              <p:cNvPr id="2256" name="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    Integer: " &lt;&lt; d.valu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0" y="3768480"/>
              <a:ext cx="6780960" cy="221400"/>
              <a:chOff x="0" y="3768480"/>
              <a:chExt cx="6780960" cy="221400"/>
            </a:xfrm>
          </p:grpSpPr>
          <p:sp>
            <p:nvSpPr>
              <p:cNvPr id="2259" name="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\n  Character: " &lt;&lt; d.le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0" y="3990240"/>
              <a:ext cx="6780960" cy="221400"/>
              <a:chOff x="0" y="3990240"/>
              <a:chExt cx="6780960" cy="221400"/>
            </a:xfrm>
          </p:grpSpPr>
          <p:sp>
            <p:nvSpPr>
              <p:cNvPr id="2262" name="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\nReal number: " &lt;&lt; d.rea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0" y="4212000"/>
              <a:ext cx="6780960" cy="221760"/>
              <a:chOff x="0" y="4212000"/>
              <a:chExt cx="6780960" cy="221760"/>
            </a:xfrm>
          </p:grpSpPr>
          <p:sp>
            <p:nvSpPr>
              <p:cNvPr id="2265" name="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0" y="4433760"/>
              <a:ext cx="6780960" cy="221400"/>
              <a:chOff x="0" y="4433760"/>
              <a:chExt cx="6780960" cy="221400"/>
            </a:xfrm>
          </p:grpSpPr>
          <p:sp>
            <p:nvSpPr>
              <p:cNvPr id="2268" name="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0" y="4655160"/>
              <a:ext cx="6780960" cy="221400"/>
              <a:chOff x="0" y="4655160"/>
              <a:chExt cx="6780960" cy="221400"/>
            </a:xfrm>
          </p:grpSpPr>
          <p:sp>
            <p:nvSpPr>
              <p:cNvPr id="2271" name=""/>
              <p:cNvSpPr/>
              <p:nvPr/>
            </p:nvSpPr>
            <p:spPr>
              <a:xfrm>
                <a:off x="0" y="46551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2" name=""/>
              <p:cNvGrpSpPr/>
              <p:nvPr/>
            </p:nvGrpSpPr>
            <p:grpSpPr>
              <a:xfrm>
                <a:off x="0" y="4655160"/>
                <a:ext cx="6780600" cy="221400"/>
                <a:chOff x="0" y="4655160"/>
                <a:chExt cx="6780600" cy="221400"/>
              </a:xfrm>
            </p:grpSpPr>
            <p:sp>
              <p:nvSpPr>
                <p:cNvPr id="2273" name="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5" name=""/>
          <p:cNvGrpSpPr/>
          <p:nvPr/>
        </p:nvGrpSpPr>
        <p:grpSpPr>
          <a:xfrm>
            <a:off x="0" y="4876920"/>
            <a:ext cx="6780960" cy="1981080"/>
            <a:chOff x="0" y="4876920"/>
            <a:chExt cx="6780960" cy="1981080"/>
          </a:xfrm>
        </p:grpSpPr>
        <p:grpSp>
          <p:nvGrpSpPr>
            <p:cNvPr id="2276" name=""/>
            <p:cNvGrpSpPr/>
            <p:nvPr/>
          </p:nvGrpSpPr>
          <p:grpSpPr>
            <a:xfrm>
              <a:off x="0" y="4876920"/>
              <a:ext cx="6780960" cy="219960"/>
              <a:chOff x="0" y="4876920"/>
              <a:chExt cx="6780960" cy="219960"/>
            </a:xfrm>
          </p:grpSpPr>
          <p:sp>
            <p:nvSpPr>
              <p:cNvPr id="2277" name="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fig09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0" y="5096880"/>
              <a:ext cx="6780960" cy="219960"/>
              <a:chOff x="0" y="5096880"/>
              <a:chExt cx="6780960" cy="219960"/>
            </a:xfrm>
          </p:grpSpPr>
          <p:sp>
            <p:nvSpPr>
              <p:cNvPr id="2280" name="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multiple inheritance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0" y="5316840"/>
              <a:ext cx="6780960" cy="219960"/>
              <a:chOff x="0" y="5316840"/>
              <a:chExt cx="6780960" cy="219960"/>
            </a:xfrm>
          </p:grpSpPr>
          <p:sp>
            <p:nvSpPr>
              <p:cNvPr id="2283" name="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0" y="5537160"/>
              <a:ext cx="6780960" cy="219960"/>
              <a:chOff x="0" y="5537160"/>
              <a:chExt cx="6780960" cy="219960"/>
            </a:xfrm>
          </p:grpSpPr>
          <p:sp>
            <p:nvSpPr>
              <p:cNvPr id="2286" name="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0" y="5757480"/>
              <a:ext cx="6780960" cy="219960"/>
              <a:chOff x="0" y="5757480"/>
              <a:chExt cx="6780960" cy="219960"/>
            </a:xfrm>
          </p:grpSpPr>
          <p:sp>
            <p:nvSpPr>
              <p:cNvPr id="2289" name="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0" y="5977440"/>
              <a:ext cx="6780960" cy="219960"/>
              <a:chOff x="0" y="5977440"/>
              <a:chExt cx="6780960" cy="219960"/>
            </a:xfrm>
          </p:grpSpPr>
          <p:sp>
            <p:nvSpPr>
              <p:cNvPr id="2292" name="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0" y="6197400"/>
              <a:ext cx="6780960" cy="219960"/>
              <a:chOff x="0" y="6197400"/>
              <a:chExt cx="6780960" cy="219960"/>
            </a:xfrm>
          </p:grpSpPr>
          <p:sp>
            <p:nvSpPr>
              <p:cNvPr id="2295" name="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7" name=""/>
            <p:cNvGrpSpPr/>
            <p:nvPr/>
          </p:nvGrpSpPr>
          <p:grpSpPr>
            <a:xfrm>
              <a:off x="0" y="6417720"/>
              <a:ext cx="6780960" cy="219960"/>
              <a:chOff x="0" y="6417720"/>
              <a:chExt cx="6780960" cy="219960"/>
            </a:xfrm>
          </p:grpSpPr>
          <p:sp>
            <p:nvSpPr>
              <p:cNvPr id="2298" name="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0" y="6638040"/>
              <a:ext cx="6780960" cy="219960"/>
              <a:chOff x="0" y="6638040"/>
              <a:chExt cx="6780960" cy="219960"/>
            </a:xfrm>
          </p:grpSpPr>
          <p:sp>
            <p:nvSpPr>
              <p:cNvPr id="2301" name="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684A-0876-45D6-9B73-43568EDE352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reat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0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305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30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8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30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31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31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31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 b1( 10 ), *base1Ptr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32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 b2( 'Z' ), *base2Ptr =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32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rived d( 7, 'A', 3.5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Derived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32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33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data members of base class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33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Object b1 contains integer " &lt;&lt; b1.getData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33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Object b2 contains character " &lt;&lt; b2.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33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Object d contains:\n"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34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34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data members of derived clas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34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cope resolution operator resolves getData ambig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35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a members of Derived can b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35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accessed individually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35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Integer: " &lt;&lt; d.Base1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36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Character: " &lt;&lt; d.Base2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36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Real number: " &lt;&lt; d.getReal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36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36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erived can be treated as an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37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object of either base clas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37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37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reat Derived as a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38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38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ase1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38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base1Ptr-&gt;getDat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39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39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reat Derived as a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39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8" name=""/>
          <p:cNvGrpSpPr/>
          <p:nvPr/>
        </p:nvGrpSpPr>
        <p:grpSpPr>
          <a:xfrm>
            <a:off x="1980720" y="4191120"/>
            <a:ext cx="5715360" cy="1447200"/>
            <a:chOff x="1980720" y="4191120"/>
            <a:chExt cx="5715360" cy="1447200"/>
          </a:xfrm>
        </p:grpSpPr>
        <p:sp>
          <p:nvSpPr>
            <p:cNvPr id="2399" name=""/>
            <p:cNvSpPr/>
            <p:nvPr/>
          </p:nvSpPr>
          <p:spPr>
            <a:xfrm>
              <a:off x="5257440" y="4191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1980720" y="4495680"/>
              <a:ext cx="327636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1" name=""/>
          <p:cNvGrpSpPr/>
          <p:nvPr/>
        </p:nvGrpSpPr>
        <p:grpSpPr>
          <a:xfrm>
            <a:off x="2057400" y="5562720"/>
            <a:ext cx="5486400" cy="1143000"/>
            <a:chOff x="2057400" y="5562720"/>
            <a:chExt cx="5486400" cy="1143000"/>
          </a:xfrm>
        </p:grpSpPr>
        <p:sp>
          <p:nvSpPr>
            <p:cNvPr id="2402" name=""/>
            <p:cNvSpPr/>
            <p:nvPr/>
          </p:nvSpPr>
          <p:spPr>
            <a:xfrm>
              <a:off x="5105160" y="55627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2057400" y="5867280"/>
              <a:ext cx="30477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5791320" y="2514600"/>
            <a:ext cx="304776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b1 contains integer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b2 contains character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5181480" y="2819520"/>
            <a:ext cx="3886200" cy="129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members of Derived can be accessed individual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421800" y="5126040"/>
            <a:ext cx="5392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rived can be treated as an object of either base cl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863600" y="594360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se1Ptr-&gt;getData() yield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C269-6FE8-4A5C-99A2-B1E6DB6EB22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0" y="0"/>
            <a:ext cx="6780960" cy="1752120"/>
            <a:chOff x="0" y="0"/>
            <a:chExt cx="6780960" cy="1752120"/>
          </a:xfrm>
        </p:grpSpPr>
        <p:grpSp>
          <p:nvGrpSpPr>
            <p:cNvPr id="2410" name="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2411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ase2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0" y="350280"/>
              <a:ext cx="6780960" cy="350280"/>
              <a:chOff x="0" y="350280"/>
              <a:chExt cx="6780960" cy="350280"/>
            </a:xfrm>
          </p:grpSpPr>
          <p:sp>
            <p:nvSpPr>
              <p:cNvPr id="2414" name="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base2Ptr-&gt;getDat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6" name=""/>
            <p:cNvGrpSpPr/>
            <p:nvPr/>
          </p:nvGrpSpPr>
          <p:grpSpPr>
            <a:xfrm>
              <a:off x="0" y="700920"/>
              <a:ext cx="6780960" cy="350640"/>
              <a:chOff x="0" y="700920"/>
              <a:chExt cx="6780960" cy="350640"/>
            </a:xfrm>
          </p:grpSpPr>
          <p:sp>
            <p:nvSpPr>
              <p:cNvPr id="2417" name="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9" name=""/>
            <p:cNvGrpSpPr/>
            <p:nvPr/>
          </p:nvGrpSpPr>
          <p:grpSpPr>
            <a:xfrm>
              <a:off x="0" y="1051560"/>
              <a:ext cx="6780960" cy="350280"/>
              <a:chOff x="0" y="1051560"/>
              <a:chExt cx="6780960" cy="350280"/>
            </a:xfrm>
          </p:grpSpPr>
          <p:sp>
            <p:nvSpPr>
              <p:cNvPr id="2420" name="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2" name=""/>
            <p:cNvGrpSpPr/>
            <p:nvPr/>
          </p:nvGrpSpPr>
          <p:grpSpPr>
            <a:xfrm>
              <a:off x="0" y="1401840"/>
              <a:ext cx="6780960" cy="350280"/>
              <a:chOff x="0" y="1401840"/>
              <a:chExt cx="6780960" cy="350280"/>
            </a:xfrm>
          </p:grpSpPr>
          <p:sp>
            <p:nvSpPr>
              <p:cNvPr id="2423" name="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5" name=""/>
          <p:cNvGrpSpPr/>
          <p:nvPr/>
        </p:nvGrpSpPr>
        <p:grpSpPr>
          <a:xfrm>
            <a:off x="0" y="2133720"/>
            <a:ext cx="6781680" cy="3108240"/>
            <a:chOff x="0" y="2133720"/>
            <a:chExt cx="6781680" cy="3108240"/>
          </a:xfrm>
        </p:grpSpPr>
        <p:sp>
          <p:nvSpPr>
            <p:cNvPr id="2426" name=""/>
            <p:cNvSpPr/>
            <p:nvPr/>
          </p:nvSpPr>
          <p:spPr>
            <a:xfrm>
              <a:off x="0" y="2133720"/>
              <a:ext cx="6781680" cy="1371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b1 contains integer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b2 contains character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d contain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0" y="3505320"/>
              <a:ext cx="6781680" cy="1736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 members of Derived can be accessed individuall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rived can be treated as an object of either base clas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Ptr-&gt;getData() yield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Ptr-&gt;getData() yield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8" name=""/>
          <p:cNvSpPr/>
          <p:nvPr/>
        </p:nvSpPr>
        <p:spPr>
          <a:xfrm>
            <a:off x="4253760" y="1522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se2Ptr-&gt;getData() yield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39B4-EBE8-4724-9012-A8BD5190E00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Inheritance: 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mmissionWorker : public Employe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missionWo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s from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not inheri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base class not accessible from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10FD-9A75-4568-B7BD-64BDADB573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tecte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mediate level of protection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members can ref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 base class simply by using the member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“breaks” encaps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2063-979D-42F7-B288-1712AAD461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  Casting Base-Class Pointers to Derived 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es relationships to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of a derived class can be treated as objects of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not tr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 class objects cannot be derived-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casting a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explicit cast to convert a base-class pointer to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pointer is going to be dereferenced, the type of the pointer must match the type of object to which the pointer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edPtr = static_cast&lt; DerivedClass * &gt; bas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F5A3-FB83-4C64-B563-7241608FA8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  Casting Base-Class Pointers to Derived-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s the casting of base class pointers to derived class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used to referenc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, and a pointer to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used to referenc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5475-F8EA-4382-80CE-2AC45E2F2C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0"/>
            <a:ext cx="6780960" cy="4343400"/>
            <a:chOff x="0" y="0"/>
            <a:chExt cx="6780960" cy="4343400"/>
          </a:xfrm>
        </p:grpSpPr>
        <p:grpSp>
          <p:nvGrpSpPr>
            <p:cNvPr id="114" name=""/>
            <p:cNvGrpSpPr/>
            <p:nvPr/>
          </p:nvGrpSpPr>
          <p:grpSpPr>
            <a:xfrm>
              <a:off x="0" y="0"/>
              <a:ext cx="6780960" cy="221760"/>
              <a:chOff x="0" y="0"/>
              <a:chExt cx="6780960" cy="22176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point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0" y="221760"/>
              <a:ext cx="6780960" cy="205920"/>
              <a:chOff x="0" y="221760"/>
              <a:chExt cx="6780960" cy="20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21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221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0" y="428040"/>
              <a:ext cx="6780960" cy="205920"/>
              <a:chOff x="0" y="428040"/>
              <a:chExt cx="6780960" cy="205920"/>
            </a:xfrm>
          </p:grpSpPr>
          <p:sp>
            <p:nvSpPr>
              <p:cNvPr id="121" name=""/>
              <p:cNvSpPr/>
              <p:nvPr/>
            </p:nvSpPr>
            <p:spPr>
              <a:xfrm>
                <a:off x="0" y="428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428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0" y="633960"/>
              <a:ext cx="6780960" cy="205920"/>
              <a:chOff x="0" y="633960"/>
              <a:chExt cx="6780960" cy="205920"/>
            </a:xfrm>
          </p:grpSpPr>
          <p:sp>
            <p:nvSpPr>
              <p:cNvPr id="124" name=""/>
              <p:cNvSpPr/>
              <p:nvPr/>
            </p:nvSpPr>
            <p:spPr>
              <a:xfrm>
                <a:off x="0" y="633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633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0" y="840240"/>
              <a:ext cx="6780960" cy="205920"/>
              <a:chOff x="0" y="840240"/>
              <a:chExt cx="6780960" cy="20592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8402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8402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1046160"/>
              <a:ext cx="6780960" cy="205920"/>
              <a:chOff x="0" y="1046160"/>
              <a:chExt cx="6780960" cy="20592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1046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46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1252080"/>
              <a:ext cx="6780960" cy="205920"/>
              <a:chOff x="0" y="1252080"/>
              <a:chExt cx="6780960" cy="205920"/>
            </a:xfrm>
          </p:grpSpPr>
          <p:sp>
            <p:nvSpPr>
              <p:cNvPr id="133" name=""/>
              <p:cNvSpPr/>
              <p:nvPr/>
            </p:nvSpPr>
            <p:spPr>
              <a:xfrm>
                <a:off x="0" y="1252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252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0" y="1458360"/>
              <a:ext cx="6780960" cy="205920"/>
              <a:chOff x="0" y="1458360"/>
              <a:chExt cx="6780960" cy="20592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145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145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0" y="1664280"/>
              <a:ext cx="6780960" cy="205920"/>
              <a:chOff x="0" y="1664280"/>
              <a:chExt cx="6780960" cy="20592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1664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64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0" y="1870560"/>
              <a:ext cx="6780960" cy="205920"/>
              <a:chOff x="0" y="1870560"/>
              <a:chExt cx="6780960" cy="20592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187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87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0" y="2076480"/>
              <a:ext cx="6780960" cy="205920"/>
              <a:chOff x="0" y="2076480"/>
              <a:chExt cx="6780960" cy="20592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207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207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2282760"/>
              <a:ext cx="6780960" cy="205920"/>
              <a:chOff x="0" y="2282760"/>
              <a:chExt cx="6780960" cy="20592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228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228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0" y="2488680"/>
              <a:ext cx="6780960" cy="205920"/>
              <a:chOff x="0" y="2488680"/>
              <a:chExt cx="6780960" cy="20592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248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248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0" y="2694960"/>
              <a:ext cx="6780960" cy="205920"/>
              <a:chOff x="0" y="2694960"/>
              <a:chExt cx="6780960" cy="20592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2694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2694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2900880"/>
              <a:ext cx="6780960" cy="205920"/>
              <a:chOff x="0" y="2900880"/>
              <a:chExt cx="6780960" cy="20592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290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290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3106800"/>
              <a:ext cx="6780960" cy="205920"/>
              <a:chOff x="0" y="3106800"/>
              <a:chExt cx="6780960" cy="20592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310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310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3313080"/>
              <a:ext cx="6780960" cy="205920"/>
              <a:chOff x="0" y="3313080"/>
              <a:chExt cx="6780960" cy="20592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3313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3313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3519000"/>
              <a:ext cx="6780960" cy="205920"/>
              <a:chOff x="0" y="3519000"/>
              <a:chExt cx="6780960" cy="20592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3519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519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x and y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3725280"/>
              <a:ext cx="6780960" cy="205920"/>
              <a:chOff x="0" y="3725280"/>
              <a:chExt cx="6780960" cy="20592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3725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3725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3931200"/>
              <a:ext cx="6780960" cy="205920"/>
              <a:chOff x="0" y="3931200"/>
              <a:chExt cx="6780960" cy="20592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3931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3931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4137480"/>
              <a:ext cx="6780960" cy="205920"/>
              <a:chOff x="0" y="4137480"/>
              <a:chExt cx="6780960" cy="20592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4137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137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0" y="4343400"/>
            <a:ext cx="6780960" cy="2514600"/>
            <a:chOff x="0" y="4343400"/>
            <a:chExt cx="6780960" cy="2514600"/>
          </a:xfrm>
        </p:grpSpPr>
        <p:grpSp>
          <p:nvGrpSpPr>
            <p:cNvPr id="178" name=""/>
            <p:cNvGrpSpPr/>
            <p:nvPr/>
          </p:nvGrpSpPr>
          <p:grpSpPr>
            <a:xfrm>
              <a:off x="0" y="4343400"/>
              <a:ext cx="6780960" cy="209520"/>
              <a:chOff x="0" y="4343400"/>
              <a:chExt cx="6780960" cy="20952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4343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343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point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4552920"/>
              <a:ext cx="6780960" cy="209520"/>
              <a:chOff x="0" y="4552920"/>
              <a:chExt cx="6780960" cy="20952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4552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52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4762440"/>
              <a:ext cx="6780960" cy="209520"/>
              <a:chOff x="0" y="4762440"/>
              <a:chExt cx="6780960" cy="20952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4762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762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4971960"/>
              <a:ext cx="6780960" cy="209520"/>
              <a:chOff x="0" y="4971960"/>
              <a:chExt cx="6780960" cy="20952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4971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971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5181480"/>
              <a:ext cx="6780960" cy="209520"/>
              <a:chOff x="0" y="5181480"/>
              <a:chExt cx="6780960" cy="20952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5181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181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5391000"/>
              <a:ext cx="6780960" cy="209520"/>
              <a:chOff x="0" y="5391000"/>
              <a:chExt cx="6780960" cy="20952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5391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5391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5600520"/>
              <a:ext cx="6780960" cy="209520"/>
              <a:chOff x="0" y="5600520"/>
              <a:chExt cx="6780960" cy="20952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5600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5600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5810400"/>
              <a:ext cx="6780960" cy="209520"/>
              <a:chOff x="0" y="5810400"/>
              <a:chExt cx="6780960" cy="20952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5810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5810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6019920"/>
              <a:ext cx="6780960" cy="209520"/>
              <a:chOff x="0" y="6019920"/>
              <a:chExt cx="6780960" cy="20952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6019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6019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6229440"/>
              <a:ext cx="6780960" cy="209520"/>
              <a:chOff x="0" y="6229440"/>
              <a:chExt cx="6780960" cy="20952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6229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6229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6438960"/>
              <a:ext cx="6780960" cy="209520"/>
              <a:chOff x="0" y="6438960"/>
              <a:chExt cx="6780960" cy="20952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6438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6438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6648480"/>
              <a:ext cx="6780960" cy="209520"/>
              <a:chOff x="0" y="6648480"/>
              <a:chExt cx="6780960" cy="20952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6648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6648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B4CB-1D2F-4A71-961A-7CAAF7B974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06:25Z</dcterms:created>
  <dc:creator>aftab bukhari</dc:creator>
  <dc:description/>
  <dc:language>en-US</dc:language>
  <cp:lastModifiedBy>Antonella Esposito</cp:lastModifiedBy>
  <dcterms:modified xsi:type="dcterms:W3CDTF">2001-01-12T10:45:06Z</dcterms:modified>
  <cp:revision>397</cp:revision>
  <dc:subject/>
  <dc:title>Chapter 9 - Inheritance</dc:title>
</cp:coreProperties>
</file>