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C2AD9-BD0A-4FFB-B583-D434E0166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BACF-4EBD-4F83-9C33-9D2D731DA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357A-996D-47D3-B0B6-B6A41C6B3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9A68-3CC6-43E9-9F24-483C93A2D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F5DD-909C-437F-95B1-CA48B62AC4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DF27-46E6-4991-AA57-E8E0CA3900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CC43-7A9C-42E4-A901-60CB542AC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05B9-8F5B-44CD-8915-920311332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39B3-BA58-4D14-AE94-656FB304F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A8F2-98EB-4DC7-A4E9-FF26DCE654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49C0-183F-4525-B480-BFD37E5F9B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3779-9455-4068-9189-D822BFFA9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46FF-A5CC-4E2A-83D6-518C2F965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FE35-D3FC-40D8-83A8-7DA271030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DC58-F3DB-40B6-A393-007B16354C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26B4-6D95-416F-9DC8-3C5894CD1A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1374-5CCC-4D02-A062-276F8523C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8BEE-CAEB-47DE-BA2B-163181BE7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AC90-E09F-4719-9B33-7B8D9BB0F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82CB-B587-4242-A545-2F19780AD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C03E-2F83-4AFE-932D-43DD1FFBD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D8CB-746F-40DE-877A-710562B72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FEAB-2673-41CC-8047-DDD73A49C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9A33-EF59-4F83-ABC5-3F3E25B05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6C6-2089-4DBE-9659-78B4F20A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A68-4B67-4C24-A325-E3267AC39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303200"/>
            <a:ext cx="79250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Personal Computing, Distributed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achine Languages, Assembly Languages,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Java and Java How to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ardware Trend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C46B-1C3F-4DAE-86CB-D7295420C7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two other programming languages,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reusable software components that model things in the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 are 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8B1D-51BF-4EAA-9A67-A07DC2042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rich collections of existing classes and functions for all programmers to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56DD-335F-4CEC-8B70-041B88BEB8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 and Java How to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us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th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(such as cell phones, pagers and personal digital assi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how to pro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ly followed the development of Java by s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aches first-year programming students the essentials of graphics, images, animation, audio, video, database, networking, multithreading and collaborative compu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B68A-460F-4615-B857-CD2B4FC1C2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0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gh-level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B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anipulate large amounts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teach structur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8B3B-E8EE-4C48-A01D-1D54759C7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activities to run in parall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9EE6-390C-44AF-9679-DFE33CEF43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7D6B-3975-4DD7-96F5-E52FF35088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7360" y="1209600"/>
            <a:ext cx="4117680" cy="5572440"/>
            <a:chOff x="4797360" y="1209600"/>
            <a:chExt cx="4117680" cy="5572440"/>
          </a:xfrm>
        </p:grpSpPr>
        <p:sp>
          <p:nvSpPr>
            <p:cNvPr id="120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7360" y="377964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0840" y="14475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0840" y="2071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0840" y="40082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0840" y="560844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287120" y="3656160"/>
              <a:ext cx="341280" cy="1525680"/>
              <a:chOff x="7287120" y="3656160"/>
              <a:chExt cx="341280" cy="1525680"/>
            </a:xfrm>
          </p:grpSpPr>
          <p:sp>
            <p:nvSpPr>
              <p:cNvPr id="130" name=""/>
              <p:cNvSpPr/>
              <p:nvPr/>
            </p:nvSpPr>
            <p:spPr>
              <a:xfrm>
                <a:off x="7287120" y="36572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87120" y="44175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457760" y="4419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7457760" y="36558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287120" y="5256360"/>
              <a:ext cx="341280" cy="1525680"/>
              <a:chOff x="7287120" y="5256360"/>
              <a:chExt cx="341280" cy="152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7287120" y="525744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7287120" y="601776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457760" y="60192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7457760" y="5256000"/>
                <a:ext cx="170640" cy="7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87120" y="1217880"/>
              <a:ext cx="341280" cy="458640"/>
              <a:chOff x="7287120" y="1217880"/>
              <a:chExt cx="341280" cy="458640"/>
            </a:xfrm>
          </p:grpSpPr>
          <p:sp>
            <p:nvSpPr>
              <p:cNvPr id="140" name=""/>
              <p:cNvSpPr/>
              <p:nvPr/>
            </p:nvSpPr>
            <p:spPr>
              <a:xfrm>
                <a:off x="7287120" y="12189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87120" y="1445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457760" y="144720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7457760" y="1217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287480" y="183348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287480" y="20610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457760" y="206208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457760" y="18324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7360" y="2452320"/>
              <a:ext cx="119988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00840" y="268092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87120" y="2440440"/>
              <a:ext cx="341280" cy="458640"/>
              <a:chOff x="7287120" y="2440440"/>
              <a:chExt cx="341280" cy="45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7287120" y="24415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287120" y="266832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457760" y="266976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457760" y="2440080"/>
                <a:ext cx="17064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3288960"/>
              <a:ext cx="51408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7480" y="3049200"/>
              <a:ext cx="16992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287480" y="3277440"/>
              <a:ext cx="1699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457760" y="3277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7457760" y="3048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68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7360" y="120960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72" name=""/>
              <p:cNvSpPr/>
              <p:nvPr/>
            </p:nvSpPr>
            <p:spPr>
              <a:xfrm>
                <a:off x="4797360" y="184284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4797360" y="3060360"/>
                <a:ext cx="119988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  <a:ea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90" name="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14920" y="55195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16000" y="55206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6000" y="56732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6000" y="582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516000" y="59749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16000" y="612612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6000" y="6278040"/>
                <a:ext cx="77184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16000" y="658116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201" name=""/>
              <p:cNvSpPr/>
              <p:nvPr/>
            </p:nvSpPr>
            <p:spPr>
              <a:xfrm>
                <a:off x="6514920" y="3931920"/>
                <a:ext cx="76680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16000" y="3933000"/>
                <a:ext cx="77184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6000" y="4085640"/>
                <a:ext cx="77184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15640" y="13327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22480" y="15249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0320" y="13262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5640" y="195516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22480" y="214740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20320" y="194868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15640" y="2571120"/>
                <a:ext cx="7704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22480" y="2763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20320" y="256464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15640" y="3174480"/>
                <a:ext cx="7704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480" y="3366360"/>
                <a:ext cx="75636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20320" y="3168000"/>
                <a:ext cx="76212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15520" y="4548960"/>
                <a:ext cx="77184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22720" y="4741200"/>
                <a:ext cx="75744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1280" y="4542120"/>
                <a:ext cx="76320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400720" y="4236840"/>
              <a:ext cx="360" cy="304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69" name="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7001-D527-463F-93D0-2B0869D94D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year or two computers approximately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memory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mount of secondary storage they con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(such as disk storage) is used to to hold programs and data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ir 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at which computers execute thei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C42E-C1BF-4664-A92D-12EB8D4C79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net en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ick and easy communication via e-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networking of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s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multiple users to send and receive data simultaneous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the Internet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708C-86CA-4C37-855C-857D62B858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users to locate and view multimedia-based documents on almost any su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s it possible for individuals and small businesses to get worldwide expo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 changing the way business i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328B-AB02-4DB2-951E-B9677B960D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olo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471240" y="1371600"/>
            <a:ext cx="78494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1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.2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Thinking About Objects: Introduction to Object Technolog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and the Unified Modeling Language</a:t>
            </a:r>
            <a:r>
              <a:rPr b="1" lang="en-US" sz="13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FD97-C525-4F57-8405-7F14DA410B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is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clarity is 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written in C and C++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A4E6-E37D-473E-9F8C-7E67A047F5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8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a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are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xamples 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xample is analyzed one statement at a ti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DF1C-99B5-4D7D-BC38-3AE0F1EDE6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om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 to C++\n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2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284" name=""/>
            <p:cNvGrpSpPr/>
            <p:nvPr/>
          </p:nvGrpSpPr>
          <p:grpSpPr>
            <a:xfrm>
              <a:off x="0" y="0"/>
              <a:ext cx="6780960" cy="390960"/>
              <a:chOff x="0" y="0"/>
              <a:chExt cx="6780960" cy="3909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0"/>
                <a:ext cx="6780960" cy="390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2: fig01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90960"/>
              <a:ext cx="6780960" cy="362880"/>
              <a:chOff x="0" y="390960"/>
              <a:chExt cx="6780960" cy="36288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90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 first program in C+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753840"/>
              <a:ext cx="6780960" cy="362880"/>
              <a:chOff x="0" y="753840"/>
              <a:chExt cx="6780960" cy="36288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753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1117080"/>
              <a:ext cx="6780960" cy="362880"/>
              <a:chOff x="0" y="1117080"/>
              <a:chExt cx="6780960" cy="36288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11708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1479960"/>
              <a:ext cx="6780960" cy="362880"/>
              <a:chOff x="0" y="1479960"/>
              <a:chExt cx="6780960" cy="36288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1479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1842840"/>
              <a:ext cx="6780960" cy="362880"/>
              <a:chOff x="0" y="1842840"/>
              <a:chExt cx="6780960" cy="36288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842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2205720"/>
              <a:ext cx="6780960" cy="362880"/>
              <a:chOff x="0" y="2205720"/>
              <a:chExt cx="6780960" cy="3628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205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2568960"/>
              <a:ext cx="6780960" cy="362880"/>
              <a:chOff x="0" y="2568960"/>
              <a:chExt cx="6780960" cy="36288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256896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2931840"/>
              <a:ext cx="6780960" cy="362880"/>
              <a:chOff x="0" y="2931840"/>
              <a:chExt cx="6780960" cy="3628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93184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3294720"/>
              <a:ext cx="6780960" cy="362880"/>
              <a:chOff x="0" y="3294720"/>
              <a:chExt cx="6780960" cy="36288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3294720"/>
                <a:ext cx="6780960" cy="362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0" y="3962520"/>
            <a:ext cx="678168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28800" y="944280"/>
            <a:ext cx="6781680" cy="3169440"/>
            <a:chOff x="1828800" y="944280"/>
            <a:chExt cx="6781680" cy="3169440"/>
          </a:xfrm>
        </p:grpSpPr>
        <p:sp>
          <p:nvSpPr>
            <p:cNvPr id="316" name=""/>
            <p:cNvSpPr/>
            <p:nvPr/>
          </p:nvSpPr>
          <p:spPr>
            <a:xfrm>
              <a:off x="4038480" y="1935000"/>
              <a:ext cx="4572000" cy="217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reprocessor directive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ssage to the C++ preprocess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es beginning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preprocessor directiv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 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lls the preprocessor to include the contents of the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ich includes input/output operations (such as printing to the scree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1828800" y="944280"/>
              <a:ext cx="220968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742840" y="428760"/>
            <a:ext cx="5715360" cy="1321560"/>
            <a:chOff x="2742840" y="428760"/>
            <a:chExt cx="5715360" cy="1321560"/>
          </a:xfrm>
        </p:grpSpPr>
        <p:sp>
          <p:nvSpPr>
            <p:cNvPr id="319" name=""/>
            <p:cNvSpPr/>
            <p:nvPr/>
          </p:nvSpPr>
          <p:spPr>
            <a:xfrm flipH="1" flipV="1">
              <a:off x="2742840" y="533160"/>
              <a:ext cx="1219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428760"/>
              <a:ext cx="4572000" cy="1321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om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ritten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follow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//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rove program readability and do not cause the computer to perform any a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42640" y="1707840"/>
            <a:ext cx="7391520" cy="3165480"/>
            <a:chOff x="1142640" y="1707840"/>
            <a:chExt cx="7391520" cy="3165480"/>
          </a:xfrm>
        </p:grpSpPr>
        <p:sp>
          <p:nvSpPr>
            <p:cNvPr id="322" name=""/>
            <p:cNvSpPr/>
            <p:nvPr/>
          </p:nvSpPr>
          <p:spPr>
            <a:xfrm>
              <a:off x="3962160" y="3308400"/>
              <a:ext cx="457200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+ programs contain one or more functions, one of which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enthesis are used to indicate a fun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ean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"returns" an integer value.  More in Chapter 3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142640" y="1707840"/>
              <a:ext cx="2819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57200" y="2057400"/>
            <a:ext cx="7696080" cy="3476160"/>
            <a:chOff x="457200" y="2057400"/>
            <a:chExt cx="7696080" cy="3476160"/>
          </a:xfrm>
        </p:grpSpPr>
        <p:sp>
          <p:nvSpPr>
            <p:cNvPr id="325" name=""/>
            <p:cNvSpPr/>
            <p:nvPr/>
          </p:nvSpPr>
          <p:spPr>
            <a:xfrm>
              <a:off x="4038480" y="495288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gins the body of every function and a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nd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457200" y="2057400"/>
              <a:ext cx="358128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2361960"/>
            <a:ext cx="4724640" cy="3945960"/>
            <a:chOff x="2209680" y="2361960"/>
            <a:chExt cx="4724640" cy="3945960"/>
          </a:xfrm>
        </p:grpSpPr>
        <p:sp>
          <p:nvSpPr>
            <p:cNvPr id="328" name=""/>
            <p:cNvSpPr/>
            <p:nvPr/>
          </p:nvSpPr>
          <p:spPr>
            <a:xfrm>
              <a:off x="2209680" y="4267080"/>
              <a:ext cx="47246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nts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characters contained between the quotation mark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ntire line, includ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lt;&lt;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rato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"Welcom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o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++!\n"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micolo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, is called 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m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 statements must end with a semicol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286000" y="2361960"/>
              <a:ext cx="12952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3200040"/>
            <a:ext cx="3276720" cy="2642760"/>
            <a:chOff x="380880" y="3200040"/>
            <a:chExt cx="3276720" cy="2642760"/>
          </a:xfrm>
        </p:grpSpPr>
        <p:sp>
          <p:nvSpPr>
            <p:cNvPr id="331" name=""/>
            <p:cNvSpPr/>
            <p:nvPr/>
          </p:nvSpPr>
          <p:spPr>
            <a:xfrm flipH="1" flipV="1">
              <a:off x="1142640" y="3200040"/>
              <a:ext cx="1522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648320"/>
              <a:ext cx="3276720" cy="119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way to exit a function from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turn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in this case, means that the program terminated norma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CC76-ECBE-4ECB-B10D-A9B19E10A7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the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the "namespace" whic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removed through the 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to the right of the operator (right operand) inserted into output stream (which is connected to the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“Welcome to C++!\n”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cape charac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that a “special” character is to be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8444-337A-46FF-8286-9560A22706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ultiple ways to prin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ing are more examp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531800" y="1143000"/>
          <a:ext cx="593892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143000"/>
                    <a:ext cx="59389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2A1E-941E-4D36-A5B3-D41C7042F5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 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038480"/>
            <a:ext cx="67816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 to C++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6780960" cy="3657600"/>
            <a:chOff x="0" y="0"/>
            <a:chExt cx="6780960" cy="3657600"/>
          </a:xfrm>
        </p:grpSpPr>
        <p:grpSp>
          <p:nvGrpSpPr>
            <p:cNvPr id="342" name=""/>
            <p:cNvGrpSpPr/>
            <p:nvPr/>
          </p:nvGrpSpPr>
          <p:grpSpPr>
            <a:xfrm>
              <a:off x="0" y="0"/>
              <a:ext cx="6780960" cy="332280"/>
              <a:chOff x="0" y="0"/>
              <a:chExt cx="6780960" cy="33228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4: fig01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332280"/>
              <a:ext cx="6780960" cy="332280"/>
              <a:chOff x="0" y="332280"/>
              <a:chExt cx="6780960" cy="33228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3322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a line with multiple stat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664920"/>
              <a:ext cx="6780960" cy="332640"/>
              <a:chOff x="0" y="664920"/>
              <a:chExt cx="6780960" cy="33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66492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997560"/>
              <a:ext cx="6780960" cy="332280"/>
              <a:chOff x="0" y="997560"/>
              <a:chExt cx="6780960" cy="33228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99756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1329840"/>
              <a:ext cx="6780960" cy="332280"/>
              <a:chOff x="0" y="1329840"/>
              <a:chExt cx="6780960" cy="3322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13298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1662480"/>
              <a:ext cx="6780960" cy="332280"/>
              <a:chOff x="0" y="1662480"/>
              <a:chExt cx="6780960" cy="33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6248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1994760"/>
              <a:ext cx="6780960" cy="332640"/>
              <a:chOff x="0" y="1994760"/>
              <a:chExt cx="6780960" cy="33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19947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2327400"/>
              <a:ext cx="6780960" cy="332280"/>
              <a:chOff x="0" y="2327400"/>
              <a:chExt cx="6780960" cy="33228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232740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to 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2660040"/>
              <a:ext cx="6780960" cy="332280"/>
              <a:chOff x="0" y="2660040"/>
              <a:chExt cx="6780960" cy="33228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66004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2992320"/>
              <a:ext cx="6780960" cy="332280"/>
              <a:chOff x="0" y="2992320"/>
              <a:chExt cx="6780960" cy="33228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992320"/>
                <a:ext cx="6780960" cy="332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3324960"/>
              <a:ext cx="6780960" cy="332640"/>
              <a:chOff x="0" y="3324960"/>
              <a:chExt cx="6780960" cy="33264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324960"/>
                <a:ext cx="6780960" cy="332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914400" y="2666880"/>
            <a:ext cx="6095880" cy="2562120"/>
            <a:chOff x="914400" y="2666880"/>
            <a:chExt cx="6095880" cy="2562120"/>
          </a:xfrm>
        </p:grpSpPr>
        <p:sp>
          <p:nvSpPr>
            <p:cNvPr id="376" name=""/>
            <p:cNvSpPr/>
            <p:nvPr/>
          </p:nvSpPr>
          <p:spPr>
            <a:xfrm>
              <a:off x="2362320" y="464832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less new lin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n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specified, the text continues on the same 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914400" y="4419360"/>
              <a:ext cx="1447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2133360" y="2666880"/>
              <a:ext cx="10666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A8307-7771-495A-9F15-6D0EF0E809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Welcome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o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++!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7 newlin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8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381" name=""/>
            <p:cNvGrpSpPr/>
            <p:nvPr/>
          </p:nvGrpSpPr>
          <p:grpSpPr>
            <a:xfrm>
              <a:off x="0" y="0"/>
              <a:ext cx="6780960" cy="365400"/>
              <a:chOff x="0" y="0"/>
              <a:chExt cx="6780960" cy="3654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5: fig01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365400"/>
              <a:ext cx="6780960" cy="365400"/>
              <a:chOff x="0" y="365400"/>
              <a:chExt cx="6780960" cy="3654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3654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ing multiple lines with a single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731160"/>
              <a:ext cx="6780960" cy="365760"/>
              <a:chOff x="0" y="731160"/>
              <a:chExt cx="6780960" cy="36576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7311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1097280"/>
              <a:ext cx="6780960" cy="365400"/>
              <a:chOff x="0" y="1097280"/>
              <a:chExt cx="6780960" cy="3654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10972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1463040"/>
              <a:ext cx="6780960" cy="365400"/>
              <a:chOff x="0" y="1463040"/>
              <a:chExt cx="6780960" cy="3654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14630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828800"/>
              <a:ext cx="6780960" cy="365400"/>
              <a:chOff x="0" y="1828800"/>
              <a:chExt cx="6780960" cy="3654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82880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2194560"/>
              <a:ext cx="6780960" cy="365760"/>
              <a:chOff x="0" y="2194560"/>
              <a:chExt cx="6780960" cy="36576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2194560"/>
                <a:ext cx="6780960" cy="365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Welcome\nto\n\nC++!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2560320"/>
              <a:ext cx="6780960" cy="365400"/>
              <a:chOff x="0" y="2560320"/>
              <a:chExt cx="6780960" cy="3654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256032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2926080"/>
              <a:ext cx="6780960" cy="365400"/>
              <a:chOff x="0" y="2926080"/>
              <a:chExt cx="6780960" cy="3654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292608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3291840"/>
              <a:ext cx="6780960" cy="365400"/>
              <a:chOff x="0" y="3291840"/>
              <a:chExt cx="6780960" cy="3654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3291840"/>
                <a:ext cx="6780960" cy="365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0" y="403848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09480" y="2514240"/>
            <a:ext cx="5943600" cy="3114720"/>
            <a:chOff x="609480" y="2514240"/>
            <a:chExt cx="5943600" cy="3114720"/>
          </a:xfrm>
        </p:grpSpPr>
        <p:sp>
          <p:nvSpPr>
            <p:cNvPr id="413" name=""/>
            <p:cNvSpPr/>
            <p:nvPr/>
          </p:nvSpPr>
          <p:spPr>
            <a:xfrm>
              <a:off x="2895480" y="5048280"/>
              <a:ext cx="36576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ltiple lines can be printed with one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609480" y="4495680"/>
              <a:ext cx="2286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666880" y="2514240"/>
              <a:ext cx="9144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214D-8EF2-4368-8712-6A7EB8D7D31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a value can be stored for use by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with a name and a data type before they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common data types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variable nam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variable1, variable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two variables, each of 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BE6A-943B-4D57-A456-3326B101B2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u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aits for the user to input a value and stores the value in the variable to the right of the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ser types a value, then press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turn) key to send the data to th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input, then stores inpu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s value to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nary operator (has two operan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2B55-4954-4175-BEB1-42803B97D2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vantGarde"/>
            </a:endParaRPr>
          </a:p>
          <a:p>
            <a:pPr marL="1904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42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42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6: fig01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42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42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43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43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43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44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44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0" y="46483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666880" y="2133720"/>
            <a:ext cx="6019920" cy="580680"/>
            <a:chOff x="2666880" y="2133720"/>
            <a:chExt cx="6019920" cy="580680"/>
          </a:xfrm>
        </p:grpSpPr>
        <p:sp>
          <p:nvSpPr>
            <p:cNvPr id="475" name=""/>
            <p:cNvSpPr/>
            <p:nvPr/>
          </p:nvSpPr>
          <p:spPr>
            <a:xfrm>
              <a:off x="4572000" y="2133720"/>
              <a:ext cx="4114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to get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2666880" y="2438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666880" y="3580920"/>
            <a:ext cx="6019920" cy="1480680"/>
            <a:chOff x="2666880" y="3580920"/>
            <a:chExt cx="6019920" cy="1480680"/>
          </a:xfrm>
        </p:grpSpPr>
        <p:sp>
          <p:nvSpPr>
            <p:cNvPr id="478" name=""/>
            <p:cNvSpPr/>
            <p:nvPr/>
          </p:nvSpPr>
          <p:spPr>
            <a:xfrm>
              <a:off x="2666880" y="4724280"/>
              <a:ext cx="60199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s can be output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cout &lt;&lt; variableNa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3124080" y="3580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419720" y="3581280"/>
            <a:ext cx="4343400" cy="809280"/>
            <a:chOff x="4419720" y="3581280"/>
            <a:chExt cx="4343400" cy="809280"/>
          </a:xfrm>
        </p:grpSpPr>
        <p:sp>
          <p:nvSpPr>
            <p:cNvPr id="481" name=""/>
            <p:cNvSpPr/>
            <p:nvPr/>
          </p:nvSpPr>
          <p:spPr>
            <a:xfrm>
              <a:off x="5257800" y="3809880"/>
              <a:ext cx="3505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d::end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lushes the buffer and prints a new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4419720" y="35812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35E2-3FAB-4BEF-8FE9-FAFC46DF46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ourse you will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d programming and object 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0B9E-7437-4F66-8DCC-BEE49F75AC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locations in the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a name, a type, a size and a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ever a new value is placed into a variable, it replaces the previous value - it is destroy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does not change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su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-838440" y="4267080"/>
            <a:ext cx="9360000" cy="1588320"/>
            <a:chOff x="-838440" y="4267080"/>
            <a:chExt cx="9360000" cy="1588320"/>
          </a:xfrm>
        </p:grpSpPr>
        <p:sp>
          <p:nvSpPr>
            <p:cNvPr id="486" name=""/>
            <p:cNvSpPr/>
            <p:nvPr/>
          </p:nvSpPr>
          <p:spPr>
            <a:xfrm>
              <a:off x="-838440" y="541332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600" y="4267080"/>
              <a:ext cx="8508960" cy="11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240" y="4278240"/>
              <a:ext cx="221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10000"/>
                  </a:solidFill>
                  <a:latin typeface="Courier New"/>
                  <a:ea typeface="Times New Roman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3840" y="4363920"/>
              <a:ext cx="1701720" cy="927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4651200"/>
              <a:ext cx="10749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53120" y="4646520"/>
              <a:ext cx="1341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eger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5480" y="4651200"/>
              <a:ext cx="306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05480" y="4646520"/>
              <a:ext cx="335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46465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C2FC-FBA5-45DB-ACD3-4C8A1182A9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multiplication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operator returns the remaind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arithmetic operators act before others (i.e., multiplication before addi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ure to use parenthesis whe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Find the average of three variables a, b and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use: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/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 + b + c )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FBE2-D74E-47E5-B27E-BD0A18BCA7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765000" y="1606680"/>
          <a:ext cx="674244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606680"/>
                    <a:ext cx="674244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411120" y="4108320"/>
          <a:ext cx="7824960" cy="360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7F60-2DF3-4117-9B7A-7ECD8A8411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conditions truth or falsity. If condition met execute, otherwise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wer precedence than arithmetic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relational operators on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CC60-A1F4-44C4-BD3A-5DA1441359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1B2D-DA6D-4726-B870-9C10446B5B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the need to us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write cout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use the following functions without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, write the following at the top of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ci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ing std::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DE67-47B2-4B10-8D6C-5EA102DA745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statemen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3" name="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.14: fig01_1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Using if statements, relatio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operators, and equality opera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in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c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gram uses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1, num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Enter two integers, and I will tell you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the relationships they satisfy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in &gt;&gt; num1 &gt;&gt; num2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read two integ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=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!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not equal to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"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l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less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2514240" y="3733920"/>
            <a:ext cx="6248880" cy="2243880"/>
            <a:chOff x="2514240" y="3733920"/>
            <a:chExt cx="6248880" cy="2243880"/>
          </a:xfrm>
        </p:grpSpPr>
        <p:sp>
          <p:nvSpPr>
            <p:cNvPr id="613" name=""/>
            <p:cNvSpPr/>
            <p:nvPr/>
          </p:nvSpPr>
          <p:spPr>
            <a:xfrm>
              <a:off x="5943600" y="3809880"/>
              <a:ext cx="2819520" cy="2167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 test the truth of the condition.  If it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body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 is executed.  If not, body is skipp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include multiple statements in a body, delineate them with brac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2514240" y="3733920"/>
              <a:ext cx="34290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505320" y="315432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18040" y="44197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55120" y="5049720"/>
            <a:ext cx="16437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58720" y="626904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904760" y="1219320"/>
            <a:ext cx="5410440" cy="337320"/>
            <a:chOff x="1904760" y="1219320"/>
            <a:chExt cx="5410440" cy="337320"/>
          </a:xfrm>
        </p:grpSpPr>
        <p:sp>
          <p:nvSpPr>
            <p:cNvPr id="620" name=""/>
            <p:cNvSpPr/>
            <p:nvPr/>
          </p:nvSpPr>
          <p:spPr>
            <a:xfrm>
              <a:off x="4419720" y="1219320"/>
              <a:ext cx="28954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tate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904760" y="14479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B20F-1D48-455C-A8B8-BA16D05297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exit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0"/>
            <a:ext cx="6780960" cy="1904760"/>
            <a:chOff x="0" y="0"/>
            <a:chExt cx="6780960" cy="1904760"/>
          </a:xfrm>
        </p:grpSpPr>
        <p:grpSp>
          <p:nvGrpSpPr>
            <p:cNvPr id="624" name=""/>
            <p:cNvGrpSpPr/>
            <p:nvPr/>
          </p:nvGrpSpPr>
          <p:grpSpPr>
            <a:xfrm>
              <a:off x="0" y="0"/>
              <a:ext cx="6780960" cy="317160"/>
              <a:chOff x="0" y="0"/>
              <a:chExt cx="6780960" cy="31716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num1 &gt;= num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317160"/>
              <a:ext cx="6780960" cy="317160"/>
              <a:chOff x="0" y="317160"/>
              <a:chExt cx="6780960" cy="317160"/>
            </a:xfrm>
          </p:grpSpPr>
          <p:sp>
            <p:nvSpPr>
              <p:cNvPr id="628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171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out &lt;&lt; num1 &lt;&lt; " is greater than or equal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634680"/>
              <a:ext cx="6780960" cy="317520"/>
              <a:chOff x="0" y="634680"/>
              <a:chExt cx="6780960" cy="317520"/>
            </a:xfrm>
          </p:grpSpPr>
          <p:sp>
            <p:nvSpPr>
              <p:cNvPr id="631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634680"/>
                <a:ext cx="6780960" cy="317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&lt;&lt; num2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952560"/>
              <a:ext cx="6780960" cy="317160"/>
              <a:chOff x="0" y="952560"/>
              <a:chExt cx="6780960" cy="3171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95256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0" y="1270080"/>
              <a:ext cx="6780960" cy="317160"/>
              <a:chOff x="0" y="1270080"/>
              <a:chExt cx="6780960" cy="317160"/>
            </a:xfrm>
          </p:grpSpPr>
          <p:sp>
            <p:nvSpPr>
              <p:cNvPr id="637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27008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0" y="1587600"/>
              <a:ext cx="6780960" cy="317160"/>
              <a:chOff x="0" y="1587600"/>
              <a:chExt cx="6780960" cy="31716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1587600"/>
                <a:ext cx="6780960" cy="317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"/>
          <p:cNvSpPr/>
          <p:nvPr/>
        </p:nvSpPr>
        <p:spPr>
          <a:xfrm>
            <a:off x="0" y="22096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3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not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6576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2 is greater than or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0292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lationships they satisfy: 7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less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01920-6160-4C62-96DD-23B2E5F19C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tural way to think about the world and to write computer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B6F5-277C-45A2-BB80-03B953D2EC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ion - view the big pictur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in terms of houses, not bri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- unit of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serve as a “Blueprint"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re created from a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behav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ontai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implement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are reus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C004-9077-4200-8499-0B6A37BF6E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a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keyboard, screen, mouse, disks, memory, CD-ROM, and processing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a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6F14-1256-4111-BEDB-D2180E944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odel object-oriented systems and aid with their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2A41-A008-4ECA-ABBE-7CF034FD0E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in every compu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(keyboard, mo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information (to screen, to printer, to control other de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low capacity, stores inpu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the other sections of the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, long-term, high-capacity storage, stores inactiv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0E9E-BF7A-404A-8FF8-AF46E98C2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only one job or task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a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a small portion of one user’s job then moves on to service th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A595-AF05-42CD-89B9-1BB75D1F2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s computing is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ing of information,  across computer networks, between file servers and clients (personal computer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147B-9245-4E5F-B7BB-A191B897C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s of numbers giving machine specific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(translated via 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 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D9BE-1479-48ED-8DF5-CA22455A20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mathematical notations (translated via 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4173-3CE0-40F0-8100-086698A32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7:02:59Z</dcterms:created>
  <dc:creator>jason</dc:creator>
  <dc:description/>
  <dc:language>en-US</dc:language>
  <cp:lastModifiedBy>Antonella Esposito</cp:lastModifiedBy>
  <dcterms:modified xsi:type="dcterms:W3CDTF">2001-02-07T14:29:10Z</dcterms:modified>
  <cp:revision>418</cp:revision>
  <dc:subject/>
  <dc:title>Chapter 1 – Introduction to Computers and C++ Programming</dc:title>
</cp:coreProperties>
</file>