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183B-4892-4DC3-9B4A-43CF005A4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C1BD-C5B8-434B-8CA9-99ACD403B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3318-166F-4158-8CFC-9C58F9792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DDA8-9763-4F12-83D9-D8B33A780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5190-4201-460D-998F-E40661FDC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D7CA-4072-4A6D-BCEE-A0D77B85C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50C3-BDB6-4B7C-A018-A716F17A6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AD5F-A8E0-42A5-9FF8-F17BCBE02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5585-00ED-4F96-9D7C-EADE0ED1C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065C-7965-47EC-883B-F70AA432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0DEB-611E-436F-83BA-3A242E72D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F2FB-F794-4876-9AFE-D773FCE23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EC3-848C-4B7E-B3EC-F539FEAC6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1- C++ Stream Input/Outpu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143000"/>
            <a:ext cx="7315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4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ostream Library Header Fi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2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/Output Classes and Objec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Out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Inser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cading Stream-Insertion/Extraction Oper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utput of char * Variabl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Input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-Extraction Operator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get and getline Member Function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stream Member Functions peek, putback and ignor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4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pe-Safe I/O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formatted I/O with read, gcount and writ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: dec, oct, hex and setbase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Precision (precision, setprecision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ield Width (setw, width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6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er-Defined Manipulator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Format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1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ormat State Flag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2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railing Zeros and Decimal Points (ios::showpoint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3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Justification (ios::left, ios::right, ios::interna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4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dding (fill, setfill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5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egral Stream Base (ios::dec, ios::oct, ios::hex, ios::showb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loating-Point Numbers; Scientific Notation (ios::scientific, ios::fixed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7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ppercase/Lowercase Control (ios::uppercase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tting and Resetting the Format Flags (flags, setiosflags, resetiosflags)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8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eam Error States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9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ying an Output Stream to an Input Stream</a:t>
            </a:r>
            <a:r>
              <a:rPr b="1" lang="en-US" sz="1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2    Cascading Stream-Insertion/Extraction Operator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Associates from left to right, and returns a reference to its left-operand object (i.e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How" &lt;&lt; " are" &lt;&lt; " you?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o use parenthe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(1 + 2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1 + 2 = " &lt;&lt; 1 +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3   Output of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har *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Variab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output a variable of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utput the address of the first character of that string, cast the variable as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as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value of pointer (address of 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8: fig11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the address stored in a char*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 = "test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of string is: " &lt;&lt;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alue of static_cast&lt; void * &gt;( string )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tatic_cast&lt; void * &gt;( string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0" y="396252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ring is: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of static_cast&lt; void *&gt;( string ) is: 0046C0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Output with Member Function put; Cascading pu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one character to specifie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reference to the object that called it, so may be casc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 'A' ).put(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called with an ASCII-valued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ut(6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Stream In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-extra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perform stream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ignores whitespaces (spaces, tabs, newl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zero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ncountered, otherwise returns reference to the object from which it was invoked (i.e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cascaded in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x &gt;&gt;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s the state bits of the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wrong type of data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if the operation f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1   Stream-Extrac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relatively high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and arithmetic expressions must be contained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way to perform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in &gt;&gt; 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on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countered, and loop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0"/>
            <a:ext cx="6780960" cy="5105520"/>
            <a:chOff x="0" y="0"/>
            <a:chExt cx="6780960" cy="5105520"/>
          </a:xfrm>
        </p:grpSpPr>
        <p:grpSp>
          <p:nvGrpSpPr>
            <p:cNvPr id="169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1: fig11_11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221760"/>
              <a:ext cx="6780960" cy="221760"/>
              <a:chOff x="0" y="221760"/>
              <a:chExt cx="6780960" cy="2217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22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eam-extraction operator returning false on end-of-fil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43880"/>
              <a:ext cx="6780960" cy="221760"/>
              <a:chOff x="0" y="443880"/>
              <a:chExt cx="6780960" cy="2217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43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666000"/>
              <a:ext cx="6780960" cy="221760"/>
              <a:chOff x="0" y="666000"/>
              <a:chExt cx="6780960" cy="2217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666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887760"/>
              <a:ext cx="6780960" cy="221760"/>
              <a:chOff x="0" y="887760"/>
              <a:chExt cx="6780960" cy="2217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88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1109880"/>
              <a:ext cx="6780960" cy="221760"/>
              <a:chOff x="0" y="1109880"/>
              <a:chExt cx="6780960" cy="2217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1109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1331640"/>
              <a:ext cx="6780960" cy="221760"/>
              <a:chOff x="0" y="1331640"/>
              <a:chExt cx="6780960" cy="22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133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1553760"/>
              <a:ext cx="6780960" cy="221760"/>
              <a:chOff x="0" y="1553760"/>
              <a:chExt cx="6780960" cy="22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55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1775880"/>
              <a:ext cx="6780960" cy="221760"/>
              <a:chOff x="0" y="1775880"/>
              <a:chExt cx="6780960" cy="22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775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997640"/>
              <a:ext cx="6780960" cy="221760"/>
              <a:chOff x="0" y="1997640"/>
              <a:chExt cx="6780960" cy="22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997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2219760"/>
              <a:ext cx="6780960" cy="221760"/>
              <a:chOff x="0" y="2219760"/>
              <a:chExt cx="6780960" cy="2217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219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highestGrade = -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441880"/>
              <a:ext cx="6780960" cy="221760"/>
              <a:chOff x="0" y="2441880"/>
              <a:chExt cx="6780960" cy="2217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41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2663640"/>
              <a:ext cx="6780960" cy="221760"/>
              <a:chOff x="0" y="2663640"/>
              <a:chExt cx="6780960" cy="2217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663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2885760"/>
              <a:ext cx="6780960" cy="221760"/>
              <a:chOff x="0" y="2885760"/>
              <a:chExt cx="6780960" cy="2217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885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grad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107520"/>
              <a:ext cx="6780960" cy="221760"/>
              <a:chOff x="0" y="3107520"/>
              <a:chExt cx="6780960" cy="2217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107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&gt; highest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3329640"/>
              <a:ext cx="6780960" cy="221760"/>
              <a:chOff x="0" y="3329640"/>
              <a:chExt cx="6780960" cy="2217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329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highestGrade = 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3551760"/>
              <a:ext cx="6780960" cy="221760"/>
              <a:chOff x="0" y="3551760"/>
              <a:chExt cx="6780960" cy="2217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3551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3773520"/>
              <a:ext cx="6780960" cy="221760"/>
              <a:chOff x="0" y="3773520"/>
              <a:chExt cx="6780960" cy="2217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3773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 (enter end-of-file to end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995640"/>
              <a:ext cx="6780960" cy="221760"/>
              <a:chOff x="0" y="3995640"/>
              <a:chExt cx="6780960" cy="2217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995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217760"/>
              <a:ext cx="6780960" cy="221760"/>
              <a:chOff x="0" y="4217760"/>
              <a:chExt cx="67809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4217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4439520"/>
              <a:ext cx="6780960" cy="221760"/>
              <a:chOff x="0" y="4439520"/>
              <a:chExt cx="6780960" cy="22176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4439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Highest grade is: " &lt;&lt; highestGrad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4661640"/>
              <a:ext cx="6780960" cy="221760"/>
              <a:chOff x="0" y="4661640"/>
              <a:chExt cx="6780960" cy="2217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46616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4883760"/>
              <a:ext cx="6780960" cy="221760"/>
              <a:chOff x="0" y="4883760"/>
              <a:chExt cx="6780960" cy="22176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8837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0" y="530532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 (enter end-of-file to end): 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 is: 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(even white spaces) and return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 c 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s a character from stream and stores it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2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getl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(array, size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3 arguments: array of characters, the size limit, and a delimiter ( defaul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he array as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delimiter is encountered, it remains in the in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s inserted in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delimiter flushed from stream, it will stay t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(array, siz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s 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(buffer, siz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it discards the delimiter from the stream and does not store it i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ll character inserted in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245" name=""/>
            <p:cNvGrpSpPr/>
            <p:nvPr/>
          </p:nvGrpSpPr>
          <p:grpSpPr>
            <a:xfrm>
              <a:off x="0" y="0"/>
              <a:ext cx="6780960" cy="197280"/>
              <a:chOff x="0" y="0"/>
              <a:chExt cx="6780960" cy="19728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2: fig11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197280"/>
              <a:ext cx="6780960" cy="197280"/>
              <a:chOff x="0" y="197280"/>
              <a:chExt cx="6780960" cy="19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197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member functions get, put and eof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94560"/>
              <a:ext cx="6780960" cy="197280"/>
              <a:chOff x="0" y="394560"/>
              <a:chExt cx="6780960" cy="19728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94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592200"/>
              <a:ext cx="6780960" cy="197280"/>
              <a:chOff x="0" y="592200"/>
              <a:chExt cx="6780960" cy="1972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592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789480"/>
              <a:ext cx="6780960" cy="197280"/>
              <a:chOff x="0" y="789480"/>
              <a:chExt cx="6780960" cy="1972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789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987120"/>
              <a:ext cx="6780960" cy="197280"/>
              <a:chOff x="0" y="987120"/>
              <a:chExt cx="6780960" cy="19728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987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1184400"/>
              <a:ext cx="6780960" cy="197280"/>
              <a:chOff x="0" y="1184400"/>
              <a:chExt cx="6780960" cy="19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1844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1382040"/>
              <a:ext cx="6780960" cy="197280"/>
              <a:chOff x="0" y="1382040"/>
              <a:chExt cx="6780960" cy="19728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13820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1579320"/>
              <a:ext cx="6780960" cy="197280"/>
              <a:chOff x="0" y="1579320"/>
              <a:chExt cx="6780960" cy="19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15793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1776600"/>
              <a:ext cx="6780960" cy="197280"/>
              <a:chOff x="0" y="1776600"/>
              <a:chExt cx="6780960" cy="19728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17766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1974240"/>
              <a:ext cx="6780960" cy="197280"/>
              <a:chOff x="0" y="1974240"/>
              <a:chExt cx="6780960" cy="19728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19742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har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2171880"/>
              <a:ext cx="6780960" cy="197280"/>
              <a:chOff x="0" y="2171880"/>
              <a:chExt cx="6780960" cy="19728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21718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2369160"/>
              <a:ext cx="6780960" cy="197280"/>
              <a:chOff x="0" y="2369160"/>
              <a:chExt cx="6780960" cy="1972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23691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put, cin.eof() is " &lt;&lt; cin.eof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2566440"/>
              <a:ext cx="6780960" cy="197280"/>
              <a:chOff x="0" y="2566440"/>
              <a:chExt cx="6780960" cy="19728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256644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nter a sentence followed by end-of-fil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2764080"/>
              <a:ext cx="6780960" cy="197280"/>
              <a:chOff x="0" y="2764080"/>
              <a:chExt cx="6780960" cy="1972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27640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2961360"/>
              <a:ext cx="6780960" cy="197280"/>
              <a:chOff x="0" y="2961360"/>
              <a:chExt cx="6780960" cy="1972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29613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 = cin.get() ) != EO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3159000"/>
              <a:ext cx="6780960" cy="197280"/>
              <a:chOff x="0" y="3159000"/>
              <a:chExt cx="6780960" cy="1972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31590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put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3356280"/>
              <a:ext cx="6780960" cy="197280"/>
              <a:chOff x="0" y="3356280"/>
              <a:chExt cx="6780960" cy="1972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33562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3553560"/>
              <a:ext cx="6780960" cy="197280"/>
              <a:chOff x="0" y="3553560"/>
              <a:chExt cx="6780960" cy="1972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55356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EOF in this system is: "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3751200"/>
              <a:ext cx="6780960" cy="197280"/>
              <a:chOff x="0" y="3751200"/>
              <a:chExt cx="6780960" cy="1972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375120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input, cin.eof() is " &lt;&lt; cin.eof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3948480"/>
              <a:ext cx="6780960" cy="197280"/>
              <a:chOff x="0" y="3948480"/>
              <a:chExt cx="6780960" cy="1972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394848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4146120"/>
              <a:ext cx="6780960" cy="197280"/>
              <a:chOff x="0" y="4146120"/>
              <a:chExt cx="6780960" cy="19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4146120"/>
                <a:ext cx="6780960" cy="197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0" y="472428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put, cin.eof()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 followed by end-of-fi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^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ing the get and pu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 in this system is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 cin.eof() i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743200" y="2590560"/>
            <a:ext cx="4952880" cy="2210040"/>
            <a:chOff x="2743200" y="2590560"/>
            <a:chExt cx="4952880" cy="2210040"/>
          </a:xfrm>
        </p:grpSpPr>
        <p:sp>
          <p:nvSpPr>
            <p:cNvPr id="313" name=""/>
            <p:cNvSpPr/>
            <p:nvPr/>
          </p:nvSpPr>
          <p:spPr>
            <a:xfrm flipH="1" flipV="1">
              <a:off x="4952880" y="259056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43200" y="3581280"/>
              <a:ext cx="2209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7080" y="32004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eof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 (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 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514240" y="3200400"/>
            <a:ext cx="5791680" cy="1571400"/>
            <a:chOff x="2514240" y="3200400"/>
            <a:chExt cx="5791680" cy="1571400"/>
          </a:xfrm>
        </p:grpSpPr>
        <p:sp>
          <p:nvSpPr>
            <p:cNvPr id="317" name=""/>
            <p:cNvSpPr/>
            <p:nvPr/>
          </p:nvSpPr>
          <p:spPr>
            <a:xfrm>
              <a:off x="4495680" y="419112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.ge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he next character from input stream, including whitespa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2514240" y="3200400"/>
              <a:ext cx="1981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++ I/O features are object-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eferences, function overloading and operator overload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 us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saf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I/O operation is automatically performed in a manner sensitive to the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may specify I/O of user-defined types as well as standard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4: fig11_1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aracter input with member function getlin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getline( buff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is:\n" &lt;&lt; buff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getline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stream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 Function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eek, putback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gnor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s over a designated number of characters (default of on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s upon encountering a designated delimiter (defaul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ps to the end of the f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s the previous character obtain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k in to the str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next character from the stream without removing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.4    Type-Safe I/O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ed to accept data of differen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nexpected data encountered, error flags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stays i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Unformatted I/O with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read, gcount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writ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ormat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/output raw bytes to or from a character array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data is unformatted, the functions will not terminate at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cter for examp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, li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t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y continue to process a designated number of charac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fewer than the designated number of characters are read, then the failbit is 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total number of characters read in the last input 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0"/>
            <a:ext cx="6780960" cy="4191120"/>
            <a:chOff x="0" y="0"/>
            <a:chExt cx="6780960" cy="4191120"/>
          </a:xfrm>
        </p:grpSpPr>
        <p:grpSp>
          <p:nvGrpSpPr>
            <p:cNvPr id="387" name=""/>
            <p:cNvGrpSpPr/>
            <p:nvPr/>
          </p:nvGrpSpPr>
          <p:grpSpPr>
            <a:xfrm>
              <a:off x="0" y="0"/>
              <a:ext cx="6780960" cy="209520"/>
              <a:chOff x="0" y="0"/>
              <a:chExt cx="6780960" cy="20952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5: fig11_15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209520"/>
              <a:ext cx="6780960" cy="209520"/>
              <a:chOff x="0" y="209520"/>
              <a:chExt cx="6780960" cy="20952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09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nformatted I/O with read, gcount and wri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19040"/>
              <a:ext cx="6780960" cy="209520"/>
              <a:chOff x="0" y="419040"/>
              <a:chExt cx="6780960" cy="20952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19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628560"/>
              <a:ext cx="6780960" cy="209520"/>
              <a:chOff x="0" y="628560"/>
              <a:chExt cx="6780960" cy="20952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628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838080"/>
              <a:ext cx="6780960" cy="209520"/>
              <a:chOff x="0" y="838080"/>
              <a:chExt cx="6780960" cy="20952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838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1047600"/>
              <a:ext cx="6780960" cy="209520"/>
              <a:chOff x="0" y="1047600"/>
              <a:chExt cx="6780960" cy="20952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1047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1257120"/>
              <a:ext cx="6780960" cy="209520"/>
              <a:chOff x="0" y="1257120"/>
              <a:chExt cx="6780960" cy="20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1257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1467000"/>
              <a:ext cx="6780960" cy="209520"/>
              <a:chOff x="0" y="1467000"/>
              <a:chExt cx="6780960" cy="20952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467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676520"/>
              <a:ext cx="6780960" cy="209520"/>
              <a:chOff x="0" y="1676520"/>
              <a:chExt cx="6780960" cy="20952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76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886040"/>
              <a:ext cx="6780960" cy="209520"/>
              <a:chOff x="0" y="1886040"/>
              <a:chExt cx="6780960" cy="20952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886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2095560"/>
              <a:ext cx="6780960" cy="209520"/>
              <a:chOff x="0" y="2095560"/>
              <a:chExt cx="6780960" cy="20952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2095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= 8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2305080"/>
              <a:ext cx="6780960" cy="209520"/>
              <a:chOff x="0" y="2305080"/>
              <a:chExt cx="6780960" cy="20952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2305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ffer[ SIZE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2514600"/>
              <a:ext cx="6780960" cy="209520"/>
              <a:chOff x="0" y="2514600"/>
              <a:chExt cx="6780960" cy="20952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2514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724120"/>
              <a:ext cx="6780960" cy="209520"/>
              <a:chOff x="0" y="2724120"/>
              <a:chExt cx="6780960" cy="20952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7241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933640"/>
              <a:ext cx="6780960" cy="209520"/>
              <a:chOff x="0" y="2933640"/>
              <a:chExt cx="6780960" cy="20952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9336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read( buffer,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3143520"/>
              <a:ext cx="6780960" cy="209520"/>
              <a:chOff x="0" y="3143520"/>
              <a:chExt cx="6780960" cy="20952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3143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sentence entered wa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3353040"/>
              <a:ext cx="6780960" cy="209520"/>
              <a:chOff x="0" y="3353040"/>
              <a:chExt cx="6780960" cy="20952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3530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write( buffer, cin.gcount(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3562560"/>
              <a:ext cx="6780960" cy="209520"/>
              <a:chOff x="0" y="3562560"/>
              <a:chExt cx="6780960" cy="2095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5625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772080"/>
              <a:ext cx="6780960" cy="209520"/>
              <a:chOff x="0" y="3772080"/>
              <a:chExt cx="6780960" cy="20952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7720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981600"/>
              <a:ext cx="6780960" cy="209520"/>
              <a:chOff x="0" y="3981600"/>
              <a:chExt cx="6780960" cy="20952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9816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0" y="457200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e, and gcount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entence entered w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read, w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819160" y="2778120"/>
            <a:ext cx="5410440" cy="337320"/>
            <a:chOff x="2819160" y="2778120"/>
            <a:chExt cx="5410440" cy="337320"/>
          </a:xfrm>
        </p:grpSpPr>
        <p:sp>
          <p:nvSpPr>
            <p:cNvPr id="449" name=""/>
            <p:cNvSpPr/>
            <p:nvPr/>
          </p:nvSpPr>
          <p:spPr>
            <a:xfrm flipH="1">
              <a:off x="2819160" y="2971800"/>
              <a:ext cx="2057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00600" y="277812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reads fir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057040" y="3508200"/>
            <a:ext cx="6401160" cy="1749600"/>
            <a:chOff x="2057040" y="3508200"/>
            <a:chExt cx="6401160" cy="1749600"/>
          </a:xfrm>
        </p:grpSpPr>
        <p:sp>
          <p:nvSpPr>
            <p:cNvPr id="452" name=""/>
            <p:cNvSpPr/>
            <p:nvPr/>
          </p:nvSpPr>
          <p:spPr>
            <a:xfrm>
              <a:off x="5029200" y="35082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.count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at was the number of characters read by the last input ope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3504960" y="365724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057040" y="3962520"/>
              <a:ext cx="2971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 Stream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manipulator capabili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field wid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preci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and unsetting format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fill character in fiel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ing strea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ng a newline in the output stream and flushing the stream inserting a null character in the output stream and skipping whitespace in the input str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1  Integral Stream Base: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ec, oct, hex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 setbase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ct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ex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base of which integers are interpreted from the stre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 = 1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hex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base of intege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s an integer argumen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etbase(16) &lt;&lt;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 - take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numb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in he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Output in oct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Output in decim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16: fig11_1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hex, oct, dec and setbase stream manipul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c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bas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decimal numb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n &lt;&lt; " in hexa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hex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dec &lt;&lt; n &lt;&lt; " in oct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oct &lt;&lt; n &lt;&lt; '\n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base( 10 ) &lt;&lt; n &lt;&lt; " in decimal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n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4053240" y="428796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87440" y="4876920"/>
            <a:ext cx="2375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57000" y="535464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77240" y="5791320"/>
            <a:ext cx="21009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decimal numb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hexadecimal is: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octal is: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in decimal is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2   Floating-Point Precision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precision, setprecision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eci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number of digits to the right of decim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.precision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precision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tprec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ed stream manip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ll parameterized stream manipulator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iomanip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preci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etprecision(2) &lt;&lt;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oth methods, changes last until a different value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ream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ransfer of information in the form of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stream that flows from an input device ( i.e.: keyboard, disk drive, network connection) to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tream that flows from main memory to an output device ( i.e.: screen, printer, disk drive, network connecti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3     Field Width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(setw,width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field width (number of character positions a value should be output or number of characters that should be 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values processed are smaller than width, fill characters inserted as pad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are not truncated - full number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width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eam manip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 &gt;&gt; setw(5) &gt;&gt; str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o reserve one space for the null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sent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Loop and change wid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66" name=""/>
            <p:cNvGrpSpPr/>
            <p:nvPr/>
          </p:nvGrpSpPr>
          <p:grpSpPr>
            <a:xfrm>
              <a:off x="0" y="0"/>
              <a:ext cx="6780960" cy="306720"/>
              <a:chOff x="0" y="0"/>
              <a:chExt cx="6780960" cy="30672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0"/>
                <a:ext cx="6780960" cy="30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11_1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306720"/>
              <a:ext cx="6780960" cy="284760"/>
              <a:chOff x="0" y="306720"/>
              <a:chExt cx="6780960" cy="2847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3067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width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591480"/>
              <a:ext cx="6780960" cy="284760"/>
              <a:chOff x="0" y="591480"/>
              <a:chExt cx="6780960" cy="2847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5914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876600"/>
              <a:ext cx="6780960" cy="284760"/>
              <a:chOff x="0" y="876600"/>
              <a:chExt cx="6780960" cy="2847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876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1161360"/>
              <a:ext cx="6780960" cy="284760"/>
              <a:chOff x="0" y="1161360"/>
              <a:chExt cx="6780960" cy="2847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161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1446120"/>
              <a:ext cx="6780960" cy="284760"/>
              <a:chOff x="0" y="1446120"/>
              <a:chExt cx="6780960" cy="28476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1446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730880"/>
              <a:ext cx="6780960" cy="284760"/>
              <a:chOff x="0" y="1730880"/>
              <a:chExt cx="6780960" cy="28476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730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2016000"/>
              <a:ext cx="6780960" cy="284760"/>
              <a:chOff x="0" y="2016000"/>
              <a:chExt cx="6780960" cy="28476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0160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2300760"/>
              <a:ext cx="6780960" cy="284760"/>
              <a:chOff x="0" y="2300760"/>
              <a:chExt cx="6780960" cy="28476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23007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585520"/>
              <a:ext cx="6780960" cy="284760"/>
              <a:chOff x="0" y="2585520"/>
              <a:chExt cx="6780960" cy="28476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5855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870280"/>
              <a:ext cx="6780960" cy="284760"/>
              <a:chOff x="0" y="2870280"/>
              <a:chExt cx="6780960" cy="28476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8702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3155040"/>
              <a:ext cx="6780960" cy="284760"/>
              <a:chOff x="0" y="3155040"/>
              <a:chExt cx="6780960" cy="28476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31550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3439800"/>
              <a:ext cx="6780960" cy="284760"/>
              <a:chOff x="0" y="3439800"/>
              <a:chExt cx="6780960" cy="28476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34398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3724920"/>
              <a:ext cx="6780960" cy="284760"/>
              <a:chOff x="0" y="3724920"/>
              <a:chExt cx="6780960" cy="28476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37249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entenc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4009680"/>
              <a:ext cx="6780960" cy="284760"/>
              <a:chOff x="0" y="4009680"/>
              <a:chExt cx="6780960" cy="28476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40096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4294440"/>
              <a:ext cx="6780960" cy="284760"/>
              <a:chOff x="0" y="4294440"/>
              <a:chExt cx="6780960" cy="28476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42944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4579200"/>
              <a:ext cx="6780960" cy="284760"/>
              <a:chOff x="0" y="4579200"/>
              <a:chExt cx="6780960" cy="28476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45792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in &gt;&gt; string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4863960"/>
              <a:ext cx="6780960" cy="284760"/>
              <a:chOff x="0" y="4863960"/>
              <a:chExt cx="6780960" cy="28476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48639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.width( w++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5149080"/>
              <a:ext cx="6780960" cy="284760"/>
              <a:chOff x="0" y="5149080"/>
              <a:chExt cx="6780960" cy="28476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51490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5433840"/>
              <a:ext cx="6780960" cy="284760"/>
              <a:chOff x="0" y="5433840"/>
              <a:chExt cx="6780960" cy="28476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543384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.wid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5718600"/>
              <a:ext cx="6780960" cy="284760"/>
              <a:chOff x="0" y="5718600"/>
              <a:chExt cx="6780960" cy="28476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571860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6003360"/>
              <a:ext cx="6780960" cy="284760"/>
              <a:chOff x="0" y="6003360"/>
              <a:chExt cx="6780960" cy="28476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600336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6288120"/>
              <a:ext cx="6780960" cy="284760"/>
              <a:chOff x="0" y="6288120"/>
              <a:chExt cx="6780960" cy="28476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8812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6572880"/>
              <a:ext cx="6780960" cy="284760"/>
              <a:chOff x="0" y="6572880"/>
              <a:chExt cx="6780960" cy="28476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6572880"/>
                <a:ext cx="6780960" cy="284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ent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is a test of the width memb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.4  User-Defined Manipulato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create our own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rriage retu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lt installation man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Stream Format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formatting to be performed during stream I/O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 that control the flag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1  Format State Flag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State Fla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as an enumeration in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ntrolled by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a value representing the settings of all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 containing prior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argument, "ors" flags with existing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sets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ized stream manipulator used to s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etiosfl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arameterized stream manipulator, has same fun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 can be combined using bitwise or 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2   Trailing Zeros and Decimal Point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showpoin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:show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s a float with an integer value to be printed with its decimal point and trailing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.setf(ios::show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 &lt;&lt; 7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print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.00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zeros determined by precision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to left-justified with padding characters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r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s right-justified with padding characters to th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used for padding se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ized stream manipu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character i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3    Justification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left, ios::right, ios::intern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sign lef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’s magnitude right-jus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ing spaces padded with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t be the second argum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etting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ification fla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Use parameterized stream manipulato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2: fig11_2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eft-justification and right-justification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re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234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fault is right justified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10) &lt;&lt; x &lt;&lt; "\n\nUSING MEMBER FUNCTIONS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f to set ios::left:\n" &lt;&lt; setw(1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\nUse unsetf to restore default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lef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USING PARAMETERIZED STREAM MANIPULATORS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setiosflags to set ios::lef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setiosflags( ios::left )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Use resetiosflags to restore defaul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0 ) &lt;&lt; resetiosflags( ios::lef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6" name=""/>
          <p:cNvSpPr/>
          <p:nvPr/>
        </p:nvSpPr>
        <p:spPr>
          <a:xfrm>
            <a:off x="5715000" y="304812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91320" y="3657600"/>
            <a:ext cx="27432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15000" y="4394160"/>
            <a:ext cx="32004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4419720"/>
            <a:ext cx="380988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5867280"/>
            <a:ext cx="37335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operations are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for a stream to flow is many times larger than the time it takes the CPU to process the data in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byte unit of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peed, high volume, but inconvenient for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level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s grouped into meaningful units: integers, charact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all I/O except high-volume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ault is right just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f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unsetf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PARAMETERIZED STREAM MANIP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setiosflags to set ios::lef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e resetiosflags to restore 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3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4   Padding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ill, setfil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the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is defau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ior padding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fill( 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ipul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sets fill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etfill ('*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7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4: fig11_24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fill member function and the setfi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nipulator to change the padding character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elds larger than the values being prin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h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de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fil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0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ill charac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4647960"/>
            <a:chOff x="0" y="0"/>
            <a:chExt cx="6780960" cy="464796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x &lt;&lt; " printed as int right and left justified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42440"/>
              <a:ext cx="6780960" cy="221400"/>
              <a:chOff x="0" y="442440"/>
              <a:chExt cx="6780960" cy="2214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424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nd as hex with internal justification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63840"/>
              <a:ext cx="6780960" cy="221040"/>
              <a:chOff x="0" y="663840"/>
              <a:chExt cx="6780960" cy="2210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6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Using the default pad character (space)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885240"/>
              <a:ext cx="6780960" cy="221040"/>
              <a:chOff x="0" y="885240"/>
              <a:chExt cx="6780960" cy="2210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885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howbas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06640"/>
              <a:ext cx="6780960" cy="221040"/>
              <a:chOff x="0" y="1106640"/>
              <a:chExt cx="6780960" cy="2210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06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28040"/>
              <a:ext cx="6780960" cy="221400"/>
              <a:chOff x="0" y="1328040"/>
              <a:chExt cx="6780960" cy="2214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28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549440"/>
              <a:ext cx="6780960" cy="221040"/>
              <a:chOff x="0" y="1549440"/>
              <a:chExt cx="6780960" cy="2210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5494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770840"/>
              <a:ext cx="6780960" cy="221040"/>
              <a:chOff x="0" y="1770840"/>
              <a:chExt cx="6780960" cy="2210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770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991880"/>
              <a:ext cx="6780960" cy="221040"/>
              <a:chOff x="0" y="1991880"/>
              <a:chExt cx="6780960" cy="2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991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hex &lt;&l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13280"/>
              <a:ext cx="6780960" cy="221400"/>
              <a:chOff x="0" y="2213280"/>
              <a:chExt cx="6780960" cy="2214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132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434680"/>
              <a:ext cx="6780960" cy="221040"/>
              <a:chOff x="0" y="2434680"/>
              <a:chExt cx="6780960" cy="2210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434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Using various padding charact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656080"/>
              <a:ext cx="6780960" cy="221040"/>
              <a:chOff x="0" y="2656080"/>
              <a:chExt cx="6780960" cy="2210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656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righ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877480"/>
              <a:ext cx="6780960" cy="221040"/>
              <a:chOff x="0" y="2877480"/>
              <a:chExt cx="6780960" cy="2210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877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ill( '*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3098880"/>
              <a:ext cx="6780960" cy="221400"/>
              <a:chOff x="0" y="3098880"/>
              <a:chExt cx="6780960" cy="2214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30988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dec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3320280"/>
              <a:ext cx="6780960" cy="221040"/>
              <a:chOff x="0" y="3320280"/>
              <a:chExt cx="6780960" cy="22104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3320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left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541680"/>
              <a:ext cx="6780960" cy="221040"/>
              <a:chOff x="0" y="3541680"/>
              <a:chExt cx="6780960" cy="22104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541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%' ) &lt;&lt; x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763080"/>
              <a:ext cx="6780960" cy="221040"/>
              <a:chOff x="0" y="3763080"/>
              <a:chExt cx="6780960" cy="22104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763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internal, ios::adjus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984120"/>
              <a:ext cx="6780960" cy="221040"/>
              <a:chOff x="0" y="3984120"/>
              <a:chExt cx="6780960" cy="22104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984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w( 10 ) &lt;&lt; setfill( '^' ) &lt;&lt; hex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4205520"/>
              <a:ext cx="6780960" cy="221400"/>
              <a:chOff x="0" y="4205520"/>
              <a:chExt cx="6780960" cy="2214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2055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4426920"/>
              <a:ext cx="6780960" cy="221040"/>
              <a:chOff x="0" y="4426920"/>
              <a:chExt cx="6780960" cy="22104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4426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"/>
          <p:cNvSpPr/>
          <p:nvPr/>
        </p:nvSpPr>
        <p:spPr>
          <a:xfrm>
            <a:off x="0" y="475776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printed as int right and left just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as hex with internal jus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default pad character (spac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    27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various padd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1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0%%%%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^^^^27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5- Integral Stream Base (ios::dec, ios::oct, ios::hex, ios::showbase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ic me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o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he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de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 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that integers are to be treated as octal, hexadecimal and decim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is 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for stream extractions depends on form inpu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o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 starting wit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eated as hexadeci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 base specified, settings stay until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os::scientific,ios::fixed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output of a floating point number in scientific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946000e+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floating point numbers to display a specific number of digits to the right of the decimal (specif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1.7.6  Floating-Point Numbers; Scientific Notatio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emb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scient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similarly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ios::scientific, ios::floatfiel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0, ios::floatfiel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tores default format for outputting 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901" name=""/>
            <p:cNvGrpSpPr/>
            <p:nvPr/>
          </p:nvGrpSpPr>
          <p:grpSpPr>
            <a:xfrm>
              <a:off x="0" y="0"/>
              <a:ext cx="6780960" cy="193320"/>
              <a:chOff x="0" y="0"/>
              <a:chExt cx="6780960" cy="1933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6: fig11_2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193320"/>
              <a:ext cx="6780960" cy="193320"/>
              <a:chOff x="0" y="193320"/>
              <a:chExt cx="6780960" cy="1933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193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ing floating-point values in system defaul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86640"/>
              <a:ext cx="6780960" cy="193320"/>
              <a:chOff x="0" y="386640"/>
              <a:chExt cx="6780960" cy="1933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86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cientific, and fixed forma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0320"/>
              <a:ext cx="6780960" cy="193320"/>
              <a:chOff x="0" y="580320"/>
              <a:chExt cx="6780960" cy="1933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03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773640"/>
              <a:ext cx="6780960" cy="193320"/>
              <a:chOff x="0" y="773640"/>
              <a:chExt cx="6780960" cy="1933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7736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966960"/>
              <a:ext cx="6780960" cy="193320"/>
              <a:chOff x="0" y="966960"/>
              <a:chExt cx="6780960" cy="1933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966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160280"/>
              <a:ext cx="6780960" cy="193320"/>
              <a:chOff x="0" y="1160280"/>
              <a:chExt cx="6780960" cy="1933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160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353960"/>
              <a:ext cx="6780960" cy="193320"/>
              <a:chOff x="0" y="1353960"/>
              <a:chExt cx="6780960" cy="1933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3539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547280"/>
              <a:ext cx="6780960" cy="193320"/>
              <a:chOff x="0" y="1547280"/>
              <a:chExt cx="6780960" cy="1933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547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740600"/>
              <a:ext cx="6780960" cy="193320"/>
              <a:chOff x="0" y="1740600"/>
              <a:chExt cx="6780960" cy="1933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740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934280"/>
              <a:ext cx="6780960" cy="193320"/>
              <a:chOff x="0" y="1934280"/>
              <a:chExt cx="6780960" cy="19332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934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127600"/>
              <a:ext cx="6780960" cy="193320"/>
              <a:chOff x="0" y="2127600"/>
              <a:chExt cx="6780960" cy="19332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127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.001234567, y = 1.946e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321280"/>
              <a:ext cx="6780960" cy="193320"/>
              <a:chOff x="0" y="2321280"/>
              <a:chExt cx="6780960" cy="19332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3212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514600"/>
              <a:ext cx="6780960" cy="193320"/>
              <a:chOff x="0" y="2514600"/>
              <a:chExt cx="6780960" cy="19332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514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707920"/>
              <a:ext cx="6780960" cy="193320"/>
              <a:chOff x="0" y="2707920"/>
              <a:chExt cx="6780960" cy="19332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707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901600"/>
              <a:ext cx="6780960" cy="193320"/>
              <a:chOff x="0" y="2901600"/>
              <a:chExt cx="6780960" cy="19332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90160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scientific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094920"/>
              <a:ext cx="6780960" cy="193320"/>
              <a:chOff x="0" y="3094920"/>
              <a:chExt cx="6780960" cy="19332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09492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scientific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288240"/>
              <a:ext cx="6780960" cy="193320"/>
              <a:chOff x="0" y="3288240"/>
              <a:chExt cx="6780960" cy="19332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288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481560"/>
              <a:ext cx="6780960" cy="193320"/>
              <a:chOff x="0" y="3481560"/>
              <a:chExt cx="6780960" cy="19332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481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unsetf(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675240"/>
              <a:ext cx="6780960" cy="193320"/>
              <a:chOff x="0" y="3675240"/>
              <a:chExt cx="6780960" cy="19332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675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default format after unsetf: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868560"/>
              <a:ext cx="6780960" cy="193320"/>
              <a:chOff x="0" y="3868560"/>
              <a:chExt cx="6780960" cy="19332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868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062240"/>
              <a:ext cx="6780960" cy="193320"/>
              <a:chOff x="0" y="4062240"/>
              <a:chExt cx="6780960" cy="1933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06224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setf( ios::fixed, ios::floatfiel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4255560"/>
              <a:ext cx="6780960" cy="193320"/>
              <a:chOff x="0" y="4255560"/>
              <a:chExt cx="6780960" cy="1933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4255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splayed in fixed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4448880"/>
              <a:ext cx="6780960" cy="193320"/>
              <a:chOff x="0" y="4448880"/>
              <a:chExt cx="6780960" cy="1933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4448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x &lt;&lt; '\t' &lt;&lt; y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4642560"/>
              <a:ext cx="6780960" cy="193320"/>
              <a:chOff x="0" y="4642560"/>
              <a:chExt cx="6780960" cy="1933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464256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4835880"/>
              <a:ext cx="6780960" cy="193320"/>
              <a:chOff x="0" y="4835880"/>
              <a:chExt cx="6780960" cy="1933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4835880"/>
                <a:ext cx="6780960" cy="193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9" name=""/>
          <p:cNvSpPr/>
          <p:nvPr/>
        </p:nvSpPr>
        <p:spPr>
          <a:xfrm>
            <a:off x="0" y="5122800"/>
            <a:ext cx="6781680" cy="173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scientific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234567e-003   1.946000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default format after unset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457      1.946e+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played in fixed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001235        1946000000.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.7 Uppercase/Lowercase Control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ios::uppercas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upper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scientific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32E+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upperca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output with hexadecimal numbers, and causes all letters to be upper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5B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rgument, returns the current settings of the format flags (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, sets the format flags 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ior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format flags provided in its arg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previous flag settings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 previousFlagSettings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showpoint | ios::showpos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1 Iostream Library 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tre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stream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, cout, cer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omanip.h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ized stream manip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fstream.h&gt;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information important to user-controlled file processing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w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.setf( ios::left, ios::adjustfield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the bi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se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os::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version of setf can be use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basefield (ios::dec, ios::oct, ios::h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floatfield (ios::scientific, ios::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adjustfield (ios::left, ios::right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os::internal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s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s specified fl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previous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088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1.7.8  Setting and Resetting the Format Flags (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etiosflags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resetiosflag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)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fla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8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8: fig11_2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flags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 = 0.094762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original format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riginalFormat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cout.flags( ios::oct | ios::scientifi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int and double in a new form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specified using the flags member func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.flags( originalForma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the flags variable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out.flags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Print values in original format ag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i &lt;&lt; '\t' &lt;&lt; d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4" name=""/>
          <p:cNvSpPr/>
          <p:nvPr/>
        </p:nvSpPr>
        <p:spPr>
          <a:xfrm>
            <a:off x="5180760" y="304812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52880" y="3632040"/>
            <a:ext cx="396252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3352320" y="5276880"/>
            <a:ext cx="5715360" cy="580680"/>
            <a:chOff x="3352320" y="5276880"/>
            <a:chExt cx="5715360" cy="580680"/>
          </a:xfrm>
        </p:grpSpPr>
        <p:sp>
          <p:nvSpPr>
            <p:cNvPr id="1087" name=""/>
            <p:cNvSpPr/>
            <p:nvPr/>
          </p:nvSpPr>
          <p:spPr>
            <a:xfrm>
              <a:off x="5029200" y="5276880"/>
              <a:ext cx="4038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riginalForm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the argu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352320" y="54864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5124600" y="4267080"/>
            <a:ext cx="38383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495680" y="38149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0760" y="5583240"/>
            <a:ext cx="3564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962520" y="62229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0"/>
            <a:ext cx="678168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original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4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int and double in a new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ed using the flags member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50    9.476280e-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the flags variable is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values in original format a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0    0.09476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n input stream after end-of-file encoun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end-of-file has been encountered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when a format error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stream operation has f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possible to recover from thes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when an error occurs that results in 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stream operation fa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nonrecov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for a stream if neith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 would all return fal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O operations should only be performed on “good”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dst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the state of th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 can be tested with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that examines all of the state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to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Stream Error State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store a stream’s state to “goo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ood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tream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clear( ios::failbit 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do this when encountering a problem with a user-defined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 void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b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f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0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1.29: fig11_29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ing error stat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a bad input operation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Expects an integer, but enter a charac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fter a bad input operation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rdstate(): " &lt;&lt; cin.rdstate()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eof(): " &lt;&lt; cin.eof()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fail(): " &lt;&lt; cin.fail()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cin.bad(): " &lt;&lt; cin.bad()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cin.good(): " &lt;&lt; cin.good() &lt;&lt; "\n\n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.clea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fter cin.clear()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fail(): " &lt;&lt; cin.fail()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in.good(): " &lt;&lt; cin.good() &lt;&lt; endl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5" name=""/>
          <p:cNvSpPr/>
          <p:nvPr/>
        </p:nvSpPr>
        <p:spPr>
          <a:xfrm>
            <a:off x="5791320" y="1905120"/>
            <a:ext cx="29718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90800" y="3754440"/>
            <a:ext cx="4204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43600" y="3676680"/>
            <a:ext cx="281952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43600" y="5719680"/>
            <a:ext cx="1905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0"/>
            <a:ext cx="6781680" cy="4109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ects an integer, but enter a 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 bad input op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rdstate(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eof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ba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in.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fail()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good(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 Tying an Output Stream to an Input Strea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operation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s appear before subsequent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done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&amp;outputStream );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n.tie( &amp;cout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e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Stream.tie( 0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an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Stream Input/Output Classes and Objec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herit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ef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inser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ight-shift operator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am extrac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with user-defined stream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.2    Stream Input/Output Classes and Object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n &gt;&gt; some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what type of data is to be assigned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ased on the typ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Vari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nows the type of data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mediat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&lt; some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ed.  Pri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meSt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soon as output buffer is full or flus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 Stream Output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forms formatted and unformatted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character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unformatt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of numbers in decimal, octal and 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ing precision for floating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text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.1   Stream-Inser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verloaded to output built-in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used to output user-defined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‘\n’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s newline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stream manipulator that issues a newline character and flushes the output 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flus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u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lushes the output buf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43:23Z</dcterms:created>
  <dc:creator>aftab bukhari</dc:creator>
  <dc:description/>
  <dc:language>en-US</dc:language>
  <cp:lastModifiedBy>Antonella Esposito</cp:lastModifiedBy>
  <dcterms:modified xsi:type="dcterms:W3CDTF">2001-01-12T10:46:45Z</dcterms:modified>
  <cp:revision>567</cp:revision>
  <dc:subject/>
  <dc:title>Chapter 11- C++ Stream Input/Output</dc:title>
</cp:coreProperties>
</file>