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0C62-F12B-4CE7-9655-44B78A990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1D83-C472-4346-ABEC-6026ABEF5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8F86-5E94-416F-A144-5964EC050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0091-8F69-4BDE-A341-4DFAD70B4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7C6A-AAB5-4943-B941-2F44F89785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AC68-ED5C-4DC7-8888-3004F92D6E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AA5A-BCBD-45C2-80CE-522AF22CA3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6902-5BB2-43BE-82FA-CFA8011230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B5B8-91E5-4CC2-BBE7-8BE347632D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0F5C-07DE-4380-BC14-8230EEF28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6EED-DD35-4C9A-97AC-5167FC56F3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91F0-40B7-493A-A473-AF39B574D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3EBB-1109-4AA2-97ED-C5D1A4DE9C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F9714-0F5F-4902-BE92-4E9D423F64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B710-09F1-4BB6-A37E-6BCF0451C5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6634-AC62-4F24-9E45-6A407FEC9B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BA4C-E18A-4A17-94A8-D0F2B0945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7D2D-81E1-4233-8D5F-8DF07CB47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08B6-7C9E-44C2-B97A-1FE68F687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5E79-B9E5-4A63-A32F-F0C560E20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CD5D-9C11-4F9A-ACA4-78834A2C8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9754-4E3C-4EC9-A999-EE14BC031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C371-E4F3-4798-B68A-0259413BB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E5AE-C650-42F9-9650-27083D811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4A19-A995-4B77-A239-D45F48143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7124-3DF6-487C-AE28-A70619292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3 - Functions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 with Empty Parameter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98E9-E7DF-41A7-96E6-39A52D359B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0"/>
            <a:ext cx="6780960" cy="5257440"/>
            <a:chOff x="0" y="0"/>
            <a:chExt cx="6780960" cy="5257440"/>
          </a:xfrm>
        </p:grpSpPr>
        <p:grpSp>
          <p:nvGrpSpPr>
            <p:cNvPr id="107" name=""/>
            <p:cNvGrpSpPr/>
            <p:nvPr/>
          </p:nvGrpSpPr>
          <p:grpSpPr>
            <a:xfrm>
              <a:off x="0" y="0"/>
              <a:ext cx="6780960" cy="245160"/>
              <a:chOff x="0" y="0"/>
              <a:chExt cx="6780960" cy="24516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0"/>
                <a:ext cx="678096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0"/>
                <a:ext cx="678096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3: fig03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0" y="245160"/>
              <a:ext cx="6780960" cy="227520"/>
              <a:chOff x="0" y="245160"/>
              <a:chExt cx="6780960" cy="227520"/>
            </a:xfrm>
          </p:grpSpPr>
          <p:sp>
            <p:nvSpPr>
              <p:cNvPr id="111" name=""/>
              <p:cNvSpPr/>
              <p:nvPr/>
            </p:nvSpPr>
            <p:spPr>
              <a:xfrm>
                <a:off x="0" y="245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451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eating and using a programmer-defined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0" y="473040"/>
              <a:ext cx="6780960" cy="227880"/>
              <a:chOff x="0" y="473040"/>
              <a:chExt cx="6780960" cy="227880"/>
            </a:xfrm>
          </p:grpSpPr>
          <p:sp>
            <p:nvSpPr>
              <p:cNvPr id="114" name=""/>
              <p:cNvSpPr/>
              <p:nvPr/>
            </p:nvSpPr>
            <p:spPr>
              <a:xfrm>
                <a:off x="0" y="4730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730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0" y="700920"/>
              <a:ext cx="6780960" cy="227520"/>
              <a:chOff x="0" y="700920"/>
              <a:chExt cx="6780960" cy="22752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700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700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928800"/>
              <a:ext cx="6780960" cy="227520"/>
              <a:chOff x="0" y="928800"/>
              <a:chExt cx="6780960" cy="22752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9288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9288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1156680"/>
              <a:ext cx="6780960" cy="227520"/>
              <a:chOff x="0" y="1156680"/>
              <a:chExt cx="6780960" cy="22752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1156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1566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1384560"/>
              <a:ext cx="6780960" cy="227880"/>
              <a:chOff x="0" y="1384560"/>
              <a:chExt cx="6780960" cy="2278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13845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3845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1612440"/>
              <a:ext cx="6780960" cy="227520"/>
              <a:chOff x="0" y="1612440"/>
              <a:chExt cx="6780960" cy="22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16124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6124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840320"/>
              <a:ext cx="6780960" cy="227520"/>
              <a:chOff x="0" y="1840320"/>
              <a:chExt cx="6780960" cy="22752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8403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8403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2068200"/>
              <a:ext cx="6780960" cy="227520"/>
              <a:chOff x="0" y="2068200"/>
              <a:chExt cx="6780960" cy="22752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20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0682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2295720"/>
              <a:ext cx="6780960" cy="227520"/>
              <a:chOff x="0" y="2295720"/>
              <a:chExt cx="6780960" cy="22752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22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957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2523600"/>
              <a:ext cx="6780960" cy="227880"/>
              <a:chOff x="0" y="2523600"/>
              <a:chExt cx="6780960" cy="22788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25236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25236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x &lt;= 10; x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2751480"/>
              <a:ext cx="6780960" cy="227520"/>
              <a:chOff x="0" y="2751480"/>
              <a:chExt cx="6780960" cy="22752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2751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7514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quare( x ) &lt;&lt; " 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979360"/>
              <a:ext cx="6780960" cy="227520"/>
              <a:chOff x="0" y="2979360"/>
              <a:chExt cx="6780960" cy="22752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979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9793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3207240"/>
              <a:ext cx="6780960" cy="227520"/>
              <a:chOff x="0" y="3207240"/>
              <a:chExt cx="6780960" cy="2275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3207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320724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3435120"/>
              <a:ext cx="6780960" cy="227880"/>
              <a:chOff x="0" y="3435120"/>
              <a:chExt cx="6780960" cy="2278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3435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3435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3663000"/>
              <a:ext cx="6780960" cy="227520"/>
              <a:chOff x="0" y="3663000"/>
              <a:chExt cx="6780960" cy="22752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3663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36630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890880"/>
              <a:ext cx="6780960" cy="227520"/>
              <a:chOff x="0" y="3890880"/>
              <a:chExt cx="6780960" cy="22752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8908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89088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4118760"/>
              <a:ext cx="6780960" cy="227520"/>
              <a:chOff x="0" y="4118760"/>
              <a:chExt cx="6780960" cy="22752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41187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411876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defini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4346640"/>
              <a:ext cx="6780960" cy="227880"/>
              <a:chOff x="0" y="4346640"/>
              <a:chExt cx="6780960" cy="22788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4346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4346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4574520"/>
              <a:ext cx="6780960" cy="227520"/>
              <a:chOff x="0" y="4574520"/>
              <a:chExt cx="6780960" cy="22752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4574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45745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4802400"/>
              <a:ext cx="6780960" cy="227520"/>
              <a:chOff x="0" y="4802400"/>
              <a:chExt cx="6780960" cy="22752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48024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80240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*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5029920"/>
              <a:ext cx="6780960" cy="227520"/>
              <a:chOff x="0" y="5029920"/>
              <a:chExt cx="6780960" cy="22752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5029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029920"/>
                <a:ext cx="6780960" cy="22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0" y="5715000"/>
            <a:ext cx="67816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4  9  16  25  36  49  64  81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828440" y="1143000"/>
            <a:ext cx="4648680" cy="580680"/>
            <a:chOff x="1828440" y="1143000"/>
            <a:chExt cx="4648680" cy="580680"/>
          </a:xfrm>
        </p:grpSpPr>
        <p:sp>
          <p:nvSpPr>
            <p:cNvPr id="178" name=""/>
            <p:cNvSpPr/>
            <p:nvPr/>
          </p:nvSpPr>
          <p:spPr>
            <a:xfrm>
              <a:off x="3048120" y="114300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parameters and return value ar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828440" y="1295280"/>
              <a:ext cx="12193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80C0-81EC-47F6-9409-ED8CE2B539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 (3 parameter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6780960" cy="342720"/>
              <a:chOff x="0" y="0"/>
              <a:chExt cx="6780960" cy="34272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4: fig03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342720"/>
              <a:ext cx="6780960" cy="342720"/>
              <a:chOff x="0" y="342720"/>
              <a:chExt cx="6780960" cy="34272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42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nding the maximum of three inte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685440"/>
              <a:ext cx="6780960" cy="342720"/>
              <a:chOff x="0" y="685440"/>
              <a:chExt cx="6780960" cy="34272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6854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1028520"/>
              <a:ext cx="6780960" cy="342720"/>
              <a:chOff x="0" y="1028520"/>
              <a:chExt cx="6780960" cy="34272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028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1371600"/>
              <a:ext cx="6780960" cy="342720"/>
              <a:chOff x="0" y="1371600"/>
              <a:chExt cx="6780960" cy="34272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1371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1714320"/>
              <a:ext cx="6780960" cy="342720"/>
              <a:chOff x="0" y="1714320"/>
              <a:chExt cx="6780960" cy="34272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1714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2057040"/>
              <a:ext cx="6780960" cy="342720"/>
              <a:chOff x="0" y="2057040"/>
              <a:chExt cx="6780960" cy="34272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0570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2400120"/>
              <a:ext cx="6780960" cy="342720"/>
              <a:chOff x="0" y="2400120"/>
              <a:chExt cx="6780960" cy="34272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400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0" y="2743200"/>
              <a:ext cx="6780960" cy="342720"/>
              <a:chOff x="0" y="2743200"/>
              <a:chExt cx="6780960" cy="34272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743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3085920"/>
              <a:ext cx="6780960" cy="342720"/>
              <a:chOff x="0" y="3085920"/>
              <a:chExt cx="6780960" cy="342720"/>
            </a:xfrm>
          </p:grpSpPr>
          <p:sp>
            <p:nvSpPr>
              <p:cNvPr id="210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3085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0" y="3428640"/>
              <a:ext cx="6780960" cy="342720"/>
              <a:chOff x="0" y="3428640"/>
              <a:chExt cx="6780960" cy="34272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42864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3771720"/>
              <a:ext cx="6780960" cy="342720"/>
              <a:chOff x="0" y="3771720"/>
              <a:chExt cx="6780960" cy="34272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7717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4114800"/>
              <a:ext cx="6780960" cy="342720"/>
              <a:chOff x="0" y="4114800"/>
              <a:chExt cx="6780960" cy="34272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41148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b,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4457520"/>
              <a:ext cx="6780960" cy="342720"/>
              <a:chOff x="0" y="4457520"/>
              <a:chExt cx="6780960" cy="34272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44575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4800600"/>
              <a:ext cx="6780960" cy="342720"/>
              <a:chOff x="0" y="4800600"/>
              <a:chExt cx="6780960" cy="34272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48006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hree integers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5143320"/>
              <a:ext cx="6780960" cy="342720"/>
              <a:chOff x="0" y="5143320"/>
              <a:chExt cx="6780960" cy="34272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51433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5486400"/>
              <a:ext cx="6780960" cy="342720"/>
              <a:chOff x="0" y="5486400"/>
              <a:chExt cx="6780960" cy="34272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54864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5829120"/>
              <a:ext cx="6780960" cy="342720"/>
              <a:chOff x="0" y="5829120"/>
              <a:chExt cx="6780960" cy="3427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58291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a, b and c below are arguments t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6172200"/>
              <a:ext cx="6780960" cy="342720"/>
              <a:chOff x="0" y="6172200"/>
              <a:chExt cx="6780960" cy="34272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17220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he maximum function ca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6514920"/>
              <a:ext cx="6780960" cy="342720"/>
              <a:chOff x="0" y="6514920"/>
              <a:chExt cx="6780960" cy="3427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6514920"/>
                <a:ext cx="6780960" cy="342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Maximum is: " &lt;&lt; maximum( a, b, c 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3A93-0B4B-4072-B9E9-932A0B4A51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244" name=""/>
            <p:cNvGrpSpPr/>
            <p:nvPr/>
          </p:nvGrpSpPr>
          <p:grpSpPr>
            <a:xfrm>
              <a:off x="0" y="0"/>
              <a:ext cx="6780960" cy="224280"/>
              <a:chOff x="0" y="0"/>
              <a:chExt cx="6780960" cy="22428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224280"/>
              <a:ext cx="6780960" cy="224280"/>
              <a:chOff x="0" y="224280"/>
              <a:chExt cx="6780960" cy="2242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242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448920"/>
              <a:ext cx="6780960" cy="224640"/>
              <a:chOff x="0" y="448920"/>
              <a:chExt cx="6780960" cy="22464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44892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673560"/>
              <a:ext cx="6780960" cy="224280"/>
              <a:chOff x="0" y="673560"/>
              <a:chExt cx="6780960" cy="22428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6735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898200"/>
              <a:ext cx="6780960" cy="224280"/>
              <a:chOff x="0" y="898200"/>
              <a:chExt cx="6780960" cy="22428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8982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maximum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122840"/>
              <a:ext cx="6780960" cy="224280"/>
              <a:chOff x="0" y="1122840"/>
              <a:chExt cx="6780960" cy="22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1228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x, y and z below are parameters to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347480"/>
              <a:ext cx="6780960" cy="224640"/>
              <a:chOff x="0" y="1347480"/>
              <a:chExt cx="6780960" cy="22464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13474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he maximum function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1572120"/>
              <a:ext cx="6780960" cy="224280"/>
              <a:chOff x="0" y="1572120"/>
              <a:chExt cx="6780960" cy="22428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15721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imum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1796760"/>
              <a:ext cx="6780960" cy="224280"/>
              <a:chOff x="0" y="1796760"/>
              <a:chExt cx="6780960" cy="22428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17967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21040"/>
              <a:ext cx="6780960" cy="224280"/>
              <a:chOff x="0" y="2021040"/>
              <a:chExt cx="6780960" cy="22428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0210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 =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245680"/>
              <a:ext cx="6780960" cy="224640"/>
              <a:chOff x="0" y="2245680"/>
              <a:chExt cx="6780960" cy="22464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224568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2470320"/>
              <a:ext cx="6780960" cy="224280"/>
              <a:chOff x="0" y="2470320"/>
              <a:chExt cx="6780960" cy="22428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4703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y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2694960"/>
              <a:ext cx="6780960" cy="224280"/>
              <a:chOff x="0" y="2694960"/>
              <a:chExt cx="6780960" cy="22428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26949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2919600"/>
              <a:ext cx="6780960" cy="224280"/>
              <a:chOff x="0" y="2919600"/>
              <a:chExt cx="6780960" cy="22428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291960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144240"/>
              <a:ext cx="6780960" cy="224640"/>
              <a:chOff x="0" y="3144240"/>
              <a:chExt cx="6780960" cy="22464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3144240"/>
                <a:ext cx="6780960" cy="224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z &gt; max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3368880"/>
              <a:ext cx="6780960" cy="224280"/>
              <a:chOff x="0" y="3368880"/>
              <a:chExt cx="6780960" cy="22428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336888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max = z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3593520"/>
              <a:ext cx="6780960" cy="224280"/>
              <a:chOff x="0" y="3593520"/>
              <a:chExt cx="6780960" cy="22428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359352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3818160"/>
              <a:ext cx="6780960" cy="224280"/>
              <a:chOff x="0" y="3818160"/>
              <a:chExt cx="6780960" cy="22428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381816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042440"/>
              <a:ext cx="6780960" cy="224280"/>
              <a:chOff x="0" y="4042440"/>
              <a:chExt cx="6780960" cy="22428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4042440"/>
                <a:ext cx="6780960" cy="224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0" y="44956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22 85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51055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92 35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57150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ree integers: 45 19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imum is: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3EE7-2581-4981-9E5E-88FD9C812E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Prototyp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proto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the function take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information the function passes back to caller (defaul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ifies the function returns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eded if function definition comes after the function call i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ximum( int, int,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in 3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034A-E7FE-49A7-A29D-947DC566D6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function prototypes for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mat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&lt;filena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by the program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ve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name.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ed into program u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"filename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F536-B822-49DB-979B-CCA242DEE0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a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a pseudorandom number betwee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usually 3276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seudorandom number is a preset sequence of "random"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sequence is generated upon every program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r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umps to a seeded location in a "random"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see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and( time( 0 ) );   //must include &lt;c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( 0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ime at which the program was compi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he seed every time the program is compiled, thereby allow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generate random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D7E5-4B39-47B1-91B5-5AAB513854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andom Number Gen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s random number to a certain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number between 0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_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 number between 0 and the scaling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 % 6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s a number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8C02-1A12-4915-9E02-84D53D5AC0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fin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Output random numbe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0" y="0"/>
            <a:ext cx="6780960" cy="5333760"/>
            <a:chOff x="0" y="0"/>
            <a:chExt cx="6780960" cy="5333760"/>
          </a:xfrm>
        </p:grpSpPr>
        <p:grpSp>
          <p:nvGrpSpPr>
            <p:cNvPr id="314" name=""/>
            <p:cNvGrpSpPr/>
            <p:nvPr/>
          </p:nvGrpSpPr>
          <p:grpSpPr>
            <a:xfrm>
              <a:off x="0" y="0"/>
              <a:ext cx="6780960" cy="222120"/>
              <a:chOff x="0" y="0"/>
              <a:chExt cx="6780960" cy="2221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7: fig03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222120"/>
              <a:ext cx="6780960" cy="222120"/>
              <a:chOff x="0" y="222120"/>
              <a:chExt cx="6780960" cy="22212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2221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2221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hifted, scaled integers produced by 1 + rand() %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444240"/>
              <a:ext cx="6780960" cy="222120"/>
              <a:chOff x="0" y="444240"/>
              <a:chExt cx="6780960" cy="22212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4442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4442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666720"/>
              <a:ext cx="6780960" cy="222120"/>
              <a:chOff x="0" y="666720"/>
              <a:chExt cx="6780960" cy="2221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6667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6667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888840"/>
              <a:ext cx="6780960" cy="222120"/>
              <a:chOff x="0" y="888840"/>
              <a:chExt cx="6780960" cy="2221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8888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8888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1110960"/>
              <a:ext cx="6780960" cy="222120"/>
              <a:chOff x="0" y="1110960"/>
              <a:chExt cx="6780960" cy="2221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1110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110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1333440"/>
              <a:ext cx="6780960" cy="222120"/>
              <a:chOff x="0" y="1333440"/>
              <a:chExt cx="6780960" cy="2221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13334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3334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1555560"/>
              <a:ext cx="6780960" cy="222120"/>
              <a:chOff x="0" y="1555560"/>
              <a:chExt cx="6780960" cy="2221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5555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15555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1778040"/>
              <a:ext cx="6780960" cy="222120"/>
              <a:chOff x="0" y="1778040"/>
              <a:chExt cx="6780960" cy="2221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17780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17780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2000160"/>
              <a:ext cx="6780960" cy="222120"/>
              <a:chOff x="0" y="2000160"/>
              <a:chExt cx="6780960" cy="2221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20001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20001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2222280"/>
              <a:ext cx="6780960" cy="222120"/>
              <a:chOff x="0" y="2222280"/>
              <a:chExt cx="6780960" cy="2221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2222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2222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2444760"/>
              <a:ext cx="6780960" cy="222120"/>
              <a:chOff x="0" y="2444760"/>
              <a:chExt cx="6780960" cy="2221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24447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24447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2666880"/>
              <a:ext cx="6780960" cy="222120"/>
              <a:chOff x="0" y="2666880"/>
              <a:chExt cx="6780960" cy="2221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26668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26668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2889360"/>
              <a:ext cx="6780960" cy="222120"/>
              <a:chOff x="0" y="2889360"/>
              <a:chExt cx="6780960" cy="2221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28893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8893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111480"/>
              <a:ext cx="6780960" cy="222120"/>
              <a:chOff x="0" y="3111480"/>
              <a:chExt cx="67809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1114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31114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3333960"/>
              <a:ext cx="6780960" cy="222120"/>
              <a:chOff x="0" y="3333960"/>
              <a:chExt cx="67809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3333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333396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; i &lt;= 2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3556080"/>
              <a:ext cx="6780960" cy="222120"/>
              <a:chOff x="0" y="3556080"/>
              <a:chExt cx="67809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35560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560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10 ) &lt;&lt; ( 1 + rand() %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3778200"/>
              <a:ext cx="6780960" cy="222120"/>
              <a:chOff x="0" y="3778200"/>
              <a:chExt cx="67809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37782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7782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4000680"/>
              <a:ext cx="6780960" cy="222120"/>
              <a:chOff x="0" y="4000680"/>
              <a:chExt cx="67809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40006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40006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4222800"/>
              <a:ext cx="6780960" cy="222120"/>
              <a:chOff x="0" y="4222800"/>
              <a:chExt cx="67809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2228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42228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0" y="4445280"/>
              <a:ext cx="6780960" cy="222120"/>
              <a:chOff x="0" y="4445280"/>
              <a:chExt cx="67809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0" y="4445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444528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0" y="4667400"/>
              <a:ext cx="6780960" cy="222120"/>
              <a:chOff x="0" y="4667400"/>
              <a:chExt cx="6780960" cy="222120"/>
            </a:xfrm>
          </p:grpSpPr>
          <p:sp>
            <p:nvSpPr>
              <p:cNvPr id="378" name=""/>
              <p:cNvSpPr/>
              <p:nvPr/>
            </p:nvSpPr>
            <p:spPr>
              <a:xfrm>
                <a:off x="0" y="46674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466740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0" y="4889520"/>
              <a:ext cx="6780960" cy="222120"/>
              <a:chOff x="0" y="4889520"/>
              <a:chExt cx="6780960" cy="222120"/>
            </a:xfrm>
          </p:grpSpPr>
          <p:sp>
            <p:nvSpPr>
              <p:cNvPr id="381" name=""/>
              <p:cNvSpPr/>
              <p:nvPr/>
            </p:nvSpPr>
            <p:spPr>
              <a:xfrm>
                <a:off x="0" y="48895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88952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0" y="5111640"/>
              <a:ext cx="6780960" cy="222120"/>
              <a:chOff x="0" y="5111640"/>
              <a:chExt cx="6780960" cy="222120"/>
            </a:xfrm>
          </p:grpSpPr>
          <p:sp>
            <p:nvSpPr>
              <p:cNvPr id="384" name=""/>
              <p:cNvSpPr/>
              <p:nvPr/>
            </p:nvSpPr>
            <p:spPr>
              <a:xfrm>
                <a:off x="0" y="51116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5111640"/>
                <a:ext cx="6780960" cy="222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114800" y="2917800"/>
            <a:ext cx="4800600" cy="824040"/>
            <a:chOff x="4114800" y="2917800"/>
            <a:chExt cx="4800600" cy="824040"/>
          </a:xfrm>
        </p:grpSpPr>
        <p:sp>
          <p:nvSpPr>
            <p:cNvPr id="387" name=""/>
            <p:cNvSpPr/>
            <p:nvPr/>
          </p:nvSpPr>
          <p:spPr>
            <a:xfrm>
              <a:off x="4876560" y="2917800"/>
              <a:ext cx="40388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and() % 6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This returns a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caling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Add 1 to get a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114800" y="314640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191120" y="4876920"/>
            <a:ext cx="4343400" cy="609480"/>
            <a:chOff x="4191120" y="4876920"/>
            <a:chExt cx="4343400" cy="609480"/>
          </a:xfrm>
        </p:grpSpPr>
        <p:sp>
          <p:nvSpPr>
            <p:cNvPr id="390" name=""/>
            <p:cNvSpPr/>
            <p:nvPr/>
          </p:nvSpPr>
          <p:spPr>
            <a:xfrm>
              <a:off x="5029200" y="487692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ing the program again gives the same "random" dice roll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4191120" y="51055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0" y="5486400"/>
            <a:ext cx="6781680" cy="1006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5         3         5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     4         2         5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3         2         2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 1         4         6        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7EBC-C98E-4199-8639-3FED22AFE5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value for seed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to change random sequ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Define Loop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Generate and output random number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95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9: fig03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99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andomizing die-rolling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402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408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411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420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se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see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seed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 = 1; i &lt;= 10; i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setw( 10 ) &lt;&lt;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% 5 == 0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8F4D-2B68-4059-B287-1D73EC67C5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0" y="0"/>
            <a:ext cx="6705720" cy="2271960"/>
            <a:chOff x="0" y="0"/>
            <a:chExt cx="6705720" cy="2271960"/>
          </a:xfrm>
        </p:grpSpPr>
        <p:sp>
          <p:nvSpPr>
            <p:cNvPr id="490" name=""/>
            <p:cNvSpPr/>
            <p:nvPr/>
          </p:nvSpPr>
          <p:spPr>
            <a:xfrm>
              <a:off x="0" y="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     6         5         1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         6         3         1        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76212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4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         2         6         4     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         5         1         4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1447920"/>
              <a:ext cx="6705720" cy="824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ter seed: 6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         6         5         1        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         6         3         1        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437920" y="2286000"/>
            <a:ext cx="4039200" cy="1114200"/>
            <a:chOff x="2437920" y="2286000"/>
            <a:chExt cx="4039200" cy="1114200"/>
          </a:xfrm>
        </p:grpSpPr>
        <p:sp>
          <p:nvSpPr>
            <p:cNvPr id="494" name=""/>
            <p:cNvSpPr/>
            <p:nvPr/>
          </p:nvSpPr>
          <p:spPr>
            <a:xfrm>
              <a:off x="4038480" y="28195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die rolls change with the se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2437920" y="2286000"/>
              <a:ext cx="1600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BF4E-B810-4FBB-82BE-DCD2229381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3 - Functions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C6EF-C07A-4C91-A6D1-94242D1398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- set of integers with ident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start 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, incremented by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constant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 Status {CONTINUE, WON, LOST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 enumeration variable of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is constant, its value may not be reas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 enumVar;  // creat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Var = WON;   // set equal to W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Var = 1;     //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6836-935E-433F-A6A1-134C0E710E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A Game of Chance and Introducing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Courier New"/>
              </a:rPr>
              <a:t>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constants can have values pre-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um Months { JAN = 1, FEB, MAR, APR, MAY, JUN, JUL, AUG, SEP, OCT, NOV, DEC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crements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ps simulato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or 11 on first throw, player w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, 3, or 12 on first throw, player l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, 5, 6, 8, 9,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34D7-4804-4D22-9416-035B10E8D9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Se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r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statement for win/loss/contin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02" name="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0: fig03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ra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stdlib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530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tim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536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tim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539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542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atus { CONTINUE, WON, LOST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um, myPoi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atus gameStat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rollDice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roll of the d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7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1: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win on first ro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W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2: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ose on first ro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LOS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4038480" y="3276720"/>
            <a:ext cx="2590920" cy="580680"/>
            <a:chOff x="4038480" y="3276720"/>
            <a:chExt cx="2590920" cy="580680"/>
          </a:xfrm>
        </p:grpSpPr>
        <p:sp>
          <p:nvSpPr>
            <p:cNvPr id="608" name=""/>
            <p:cNvSpPr/>
            <p:nvPr/>
          </p:nvSpPr>
          <p:spPr>
            <a:xfrm>
              <a:off x="5029200" y="3276720"/>
              <a:ext cx="1600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0384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BA2A-F448-43E7-8EBD-18F0777BE8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Define loop to continue play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n/los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612" name="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membe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CONTIN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myPoint = 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ut &lt;&lt; "Point is " &lt;&lt; myPoi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optional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CONTINUE ) {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keep rol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= rollDic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643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myPoint )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n by making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646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gameStatus = W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649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652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um == 7 )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lose by rolling 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655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gameStatus = LOS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661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664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ameStatus == WO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667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Player win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670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673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Player lose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676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679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682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95C9-FBF3-41AB-A89F-75F30542F9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Di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functio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0" y="2341440"/>
            <a:ext cx="6705720" cy="4517640"/>
            <a:chOff x="0" y="2341440"/>
            <a:chExt cx="6705720" cy="4517640"/>
          </a:xfrm>
        </p:grpSpPr>
        <p:sp>
          <p:nvSpPr>
            <p:cNvPr id="689" name=""/>
            <p:cNvSpPr/>
            <p:nvPr/>
          </p:nvSpPr>
          <p:spPr>
            <a:xfrm>
              <a:off x="0" y="2341440"/>
              <a:ext cx="670572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2935080"/>
              <a:ext cx="6705720" cy="641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3489120"/>
              <a:ext cx="6705720" cy="155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4 + 6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 is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2 + 4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5 =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3 + 3 =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4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w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4939920"/>
              <a:ext cx="6705720" cy="191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3 =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 is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4 =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5 + 4 =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4 + 6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6 + 3 =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1 + 2 =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rolled 5 + 2 =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layer lo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0" y="-57240"/>
            <a:ext cx="6705000" cy="2419560"/>
            <a:chOff x="0" y="-57240"/>
            <a:chExt cx="6705000" cy="2419560"/>
          </a:xfrm>
        </p:grpSpPr>
        <p:grpSp>
          <p:nvGrpSpPr>
            <p:cNvPr id="694" name=""/>
            <p:cNvGrpSpPr/>
            <p:nvPr/>
          </p:nvGrpSpPr>
          <p:grpSpPr>
            <a:xfrm>
              <a:off x="0" y="-57240"/>
              <a:ext cx="6705000" cy="201600"/>
              <a:chOff x="0" y="-57240"/>
              <a:chExt cx="6705000" cy="2016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-5724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-5724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llD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144360"/>
              <a:ext cx="6705000" cy="201600"/>
              <a:chOff x="0" y="144360"/>
              <a:chExt cx="6705000" cy="2016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144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44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0" y="345960"/>
              <a:ext cx="6705000" cy="201600"/>
              <a:chOff x="0" y="345960"/>
              <a:chExt cx="6705000" cy="201600"/>
            </a:xfrm>
          </p:grpSpPr>
          <p:sp>
            <p:nvSpPr>
              <p:cNvPr id="701" name=""/>
              <p:cNvSpPr/>
              <p:nvPr/>
            </p:nvSpPr>
            <p:spPr>
              <a:xfrm>
                <a:off x="0" y="3459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3459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e1, die2,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0" y="547560"/>
              <a:ext cx="6705000" cy="201600"/>
              <a:chOff x="0" y="547560"/>
              <a:chExt cx="6705000" cy="201600"/>
            </a:xfrm>
          </p:grpSpPr>
          <p:sp>
            <p:nvSpPr>
              <p:cNvPr id="704" name=""/>
              <p:cNvSpPr/>
              <p:nvPr/>
            </p:nvSpPr>
            <p:spPr>
              <a:xfrm>
                <a:off x="0" y="5475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5475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0" y="749160"/>
              <a:ext cx="6705000" cy="201600"/>
              <a:chOff x="0" y="749160"/>
              <a:chExt cx="6705000" cy="201600"/>
            </a:xfrm>
          </p:grpSpPr>
          <p:sp>
            <p:nvSpPr>
              <p:cNvPr id="707" name=""/>
              <p:cNvSpPr/>
              <p:nvPr/>
            </p:nvSpPr>
            <p:spPr>
              <a:xfrm>
                <a:off x="0" y="7491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7491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1 =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0" y="950760"/>
              <a:ext cx="6705000" cy="201600"/>
              <a:chOff x="0" y="950760"/>
              <a:chExt cx="6705000" cy="201600"/>
            </a:xfrm>
          </p:grpSpPr>
          <p:sp>
            <p:nvSpPr>
              <p:cNvPr id="710" name=""/>
              <p:cNvSpPr/>
              <p:nvPr/>
            </p:nvSpPr>
            <p:spPr>
              <a:xfrm>
                <a:off x="0" y="9507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9507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e2 = 1 + rand() %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0" y="1152360"/>
              <a:ext cx="6705000" cy="201600"/>
              <a:chOff x="0" y="1152360"/>
              <a:chExt cx="6705000" cy="201600"/>
            </a:xfrm>
          </p:grpSpPr>
          <p:sp>
            <p:nvSpPr>
              <p:cNvPr id="713" name=""/>
              <p:cNvSpPr/>
              <p:nvPr/>
            </p:nvSpPr>
            <p:spPr>
              <a:xfrm>
                <a:off x="0" y="1152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115236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workSum = die1 + die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0" y="1354320"/>
              <a:ext cx="6705000" cy="201600"/>
              <a:chOff x="0" y="1354320"/>
              <a:chExt cx="6705000" cy="201600"/>
            </a:xfrm>
          </p:grpSpPr>
          <p:sp>
            <p:nvSpPr>
              <p:cNvPr id="716" name=""/>
              <p:cNvSpPr/>
              <p:nvPr/>
            </p:nvSpPr>
            <p:spPr>
              <a:xfrm>
                <a:off x="0" y="13543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13543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layer rolled " &lt;&lt; die1 &lt;&lt; " + " &lt;&lt; di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0" y="1555920"/>
              <a:ext cx="6705000" cy="201600"/>
              <a:chOff x="0" y="1555920"/>
              <a:chExt cx="6705000" cy="201600"/>
            </a:xfrm>
          </p:grpSpPr>
          <p:sp>
            <p:nvSpPr>
              <p:cNvPr id="719" name=""/>
              <p:cNvSpPr/>
              <p:nvPr/>
            </p:nvSpPr>
            <p:spPr>
              <a:xfrm>
                <a:off x="0" y="15559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5559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= " &lt;&lt; workSum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0" y="1757520"/>
              <a:ext cx="6705000" cy="201600"/>
              <a:chOff x="0" y="1757520"/>
              <a:chExt cx="6705000" cy="201600"/>
            </a:xfrm>
          </p:grpSpPr>
          <p:sp>
            <p:nvSpPr>
              <p:cNvPr id="722" name=""/>
              <p:cNvSpPr/>
              <p:nvPr/>
            </p:nvSpPr>
            <p:spPr>
              <a:xfrm>
                <a:off x="0" y="17575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17575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0" y="1959120"/>
              <a:ext cx="6705000" cy="201600"/>
              <a:chOff x="0" y="1959120"/>
              <a:chExt cx="6705000" cy="201600"/>
            </a:xfrm>
          </p:grpSpPr>
          <p:sp>
            <p:nvSpPr>
              <p:cNvPr id="725" name=""/>
              <p:cNvSpPr/>
              <p:nvPr/>
            </p:nvSpPr>
            <p:spPr>
              <a:xfrm>
                <a:off x="0" y="19591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19591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orkS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0" y="2160720"/>
              <a:ext cx="6705000" cy="201600"/>
              <a:chOff x="0" y="2160720"/>
              <a:chExt cx="6705000" cy="201600"/>
            </a:xfrm>
          </p:grpSpPr>
          <p:sp>
            <p:nvSpPr>
              <p:cNvPr id="728" name=""/>
              <p:cNvSpPr/>
              <p:nvPr/>
            </p:nvSpPr>
            <p:spPr>
              <a:xfrm>
                <a:off x="0" y="2160720"/>
                <a:ext cx="670500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0" y="2160720"/>
                <a:ext cx="6704640" cy="201600"/>
                <a:chOff x="0" y="2160720"/>
                <a:chExt cx="6704640" cy="20160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0" y="2160720"/>
                  <a:ext cx="6704640" cy="2016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1</a:t>
                  </a:r>
                  <a:r>
                    <a:rPr b="0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0" y="2160720"/>
                  <a:ext cx="670464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64FB-951C-4787-94D7-BF89E3B624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age cla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object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object is referenced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n identifier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created and destroyed within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for local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 float x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s to put variables into high-spee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used with local variables and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283D-6153-4396-A4F8-22FDEBAB8B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orage Class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 exec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 defined i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value after function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known in their ow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te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for global variables and func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in any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E7BE-2A34-4BED-B194-6F89CE9ED4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dentifier Scope Ru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a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 include, global variables, function definitions and functions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a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abel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inside a block.  Begins at declaration, ends at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, function parameters (local variables of fun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er blocks “hidden” from inner blocks if same variabl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dentifiers in 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in function prototype optional, and can be used any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CA19-57BC-4D0F-9A9F-F570913810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glob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2  Initialize local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3  Initialize local variable in blo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40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2: fig03_1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scoping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 proto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1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vari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786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cal variable to ma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789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out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{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rt new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local x in inn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end new sco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outer scope of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has autom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 has st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 uses glob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reinitializes automatic local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local x retains its previous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lobal x also retains its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2" name=""/>
          <p:cNvGrpSpPr/>
          <p:nvPr/>
        </p:nvGrpSpPr>
        <p:grpSpPr>
          <a:xfrm>
            <a:off x="1371240" y="1981080"/>
            <a:ext cx="4724640" cy="1143000"/>
            <a:chOff x="1371240" y="1981080"/>
            <a:chExt cx="4724640" cy="1143000"/>
          </a:xfrm>
        </p:grpSpPr>
        <p:sp>
          <p:nvSpPr>
            <p:cNvPr id="843" name=""/>
            <p:cNvSpPr/>
            <p:nvPr/>
          </p:nvSpPr>
          <p:spPr>
            <a:xfrm>
              <a:off x="3048120" y="1981080"/>
              <a:ext cx="3047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different inside and outside the block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1371240" y="2057400"/>
              <a:ext cx="1676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1600200" y="2438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752480" y="3657240"/>
            <a:ext cx="6477120" cy="2703960"/>
            <a:chOff x="1752480" y="3657240"/>
            <a:chExt cx="6477120" cy="2703960"/>
          </a:xfrm>
        </p:grpSpPr>
        <p:sp>
          <p:nvSpPr>
            <p:cNvPr id="847" name=""/>
            <p:cNvSpPr/>
            <p:nvPr/>
          </p:nvSpPr>
          <p:spPr>
            <a:xfrm>
              <a:off x="3657600" y="5719680"/>
              <a:ext cx="4572000" cy="641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outer scope of main is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inner scope of main i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outer scope of main is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2057040" y="3657240"/>
              <a:ext cx="160020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1752480" y="47239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1752480" y="5333760"/>
              <a:ext cx="1905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2D4D-C1CA-4716-8F3C-54F337D683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53" name="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main is " &lt;&lt; 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866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869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872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875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5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itialized each time a is cal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878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881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 &lt;&lt; "local x in a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884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after entering a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887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local x in a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before exiting a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5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atic initialization on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rst time b is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endl &lt;&lt; "local static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lt;&lt; " on entering b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++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local static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&lt;&lt; " on exiting b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endl &lt;&lt; "global x is " &lt;&lt; 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on entering c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x *= 1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global x is " &lt;&lt; x &lt;&lt; " on exiting c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5" name=""/>
          <p:cNvGrpSpPr/>
          <p:nvPr/>
        </p:nvGrpSpPr>
        <p:grpSpPr>
          <a:xfrm>
            <a:off x="1828800" y="457200"/>
            <a:ext cx="5410080" cy="1067400"/>
            <a:chOff x="1828800" y="457200"/>
            <a:chExt cx="5410080" cy="1067400"/>
          </a:xfrm>
        </p:grpSpPr>
        <p:sp>
          <p:nvSpPr>
            <p:cNvPr id="956" name=""/>
            <p:cNvSpPr/>
            <p:nvPr/>
          </p:nvSpPr>
          <p:spPr>
            <a:xfrm>
              <a:off x="4495680" y="45720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l automatic variables are created and destroyed each ti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1828800" y="990720"/>
              <a:ext cx="2666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438280" y="3429000"/>
            <a:ext cx="5181480" cy="824040"/>
            <a:chOff x="2438280" y="3429000"/>
            <a:chExt cx="5181480" cy="824040"/>
          </a:xfrm>
        </p:grpSpPr>
        <p:sp>
          <p:nvSpPr>
            <p:cNvPr id="959" name=""/>
            <p:cNvSpPr/>
            <p:nvPr/>
          </p:nvSpPr>
          <p:spPr>
            <a:xfrm>
              <a:off x="5105160" y="34290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l static variables are not destroyed when the function end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2438280" y="3657600"/>
              <a:ext cx="2666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286000" y="5105520"/>
            <a:ext cx="4724280" cy="824040"/>
            <a:chOff x="2286000" y="5105520"/>
            <a:chExt cx="4724280" cy="824040"/>
          </a:xfrm>
        </p:grpSpPr>
        <p:sp>
          <p:nvSpPr>
            <p:cNvPr id="962" name=""/>
            <p:cNvSpPr/>
            <p:nvPr/>
          </p:nvSpPr>
          <p:spPr>
            <a:xfrm>
              <a:off x="4114800" y="510552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lobal variables are always accessible.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es the global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2286000" y="5334120"/>
              <a:ext cx="1828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962160" y="1981080"/>
            <a:ext cx="5105160" cy="685800"/>
            <a:chOff x="3962160" y="1981080"/>
            <a:chExt cx="5105160" cy="685800"/>
          </a:xfrm>
        </p:grpSpPr>
        <p:sp>
          <p:nvSpPr>
            <p:cNvPr id="965" name=""/>
            <p:cNvSpPr/>
            <p:nvPr/>
          </p:nvSpPr>
          <p:spPr>
            <a:xfrm>
              <a:off x="5029200" y="1981080"/>
              <a:ext cx="403812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a is 25 after entering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x in a is 26 before exiting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96216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962160" y="2362320"/>
              <a:ext cx="10666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809520" y="4419360"/>
            <a:ext cx="5258160" cy="554760"/>
            <a:chOff x="3809520" y="4419360"/>
            <a:chExt cx="5258160" cy="554760"/>
          </a:xfrm>
        </p:grpSpPr>
        <p:sp>
          <p:nvSpPr>
            <p:cNvPr id="969" name=""/>
            <p:cNvSpPr/>
            <p:nvPr/>
          </p:nvSpPr>
          <p:spPr>
            <a:xfrm>
              <a:off x="5486400" y="4419720"/>
              <a:ext cx="358128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static x is 50 on entering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l static x is 51 on exiting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3885840" y="4419360"/>
              <a:ext cx="1600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3809520" y="4800600"/>
              <a:ext cx="1676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809880" y="5943600"/>
            <a:ext cx="5029200" cy="554400"/>
            <a:chOff x="3809880" y="5943600"/>
            <a:chExt cx="5029200" cy="554400"/>
          </a:xfrm>
        </p:grpSpPr>
        <p:sp>
          <p:nvSpPr>
            <p:cNvPr id="973" name=""/>
            <p:cNvSpPr/>
            <p:nvPr/>
          </p:nvSpPr>
          <p:spPr>
            <a:xfrm>
              <a:off x="5791320" y="5943600"/>
              <a:ext cx="304776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lobal x is 1 on entering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global x is 10 on exiting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3809880" y="6095880"/>
              <a:ext cx="1981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5334120" y="63244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0190-24FE-479C-95EB-90B6E17B71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 and conqu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3BF8-6A13-435A-9A5C-5273A7DE17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77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inner scope of main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outer scope of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0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5 after enter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a is 26 before exiting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1 on enter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static x is 52 on exiting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 on enter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x is 100 on exit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x in main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446C-E347-4774-9D91-B378687B58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functions that calls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base case, the function breaks the problem into a slightly smaller, slightly simpler, problem that resembles the original problem 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es a new copy of itself to work on the smaller problem, slowly converging towards the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a call to itself inside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the base case gets solved and then that value works its way back up to solve the whol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4DCD-579F-4D36-A5BF-2810E16253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! = n * ( n – 1 ) * ( n – 2 ) * … *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ve relationship 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! = n * ( n – 1 )!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! = 5 * 4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! = 4 * 3!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ase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! = 0! =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0ACB-8F24-41DD-B89C-8CAE3CF520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sum of two previous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recursive formu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b(n) = fib(n-1) + fib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n == 0 || n == 1 )  //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return fibonacci( n - 1 ) + fibonacci( n – 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1619280"/>
            <a:ext cx="54864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00024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4445-6364-48AE-B0FA-F0F6FC1510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 Using Recursion: The Fibonacci Seri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of Fibonnaci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1752480" y="2057400"/>
            <a:ext cx="4571640" cy="1954080"/>
            <a:chOff x="1752480" y="2057400"/>
            <a:chExt cx="4571640" cy="1954080"/>
          </a:xfrm>
        </p:grpSpPr>
        <p:sp>
          <p:nvSpPr>
            <p:cNvPr id="990" name=""/>
            <p:cNvSpPr/>
            <p:nvPr/>
          </p:nvSpPr>
          <p:spPr>
            <a:xfrm>
              <a:off x="2226960" y="3719520"/>
              <a:ext cx="124560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636360" y="3719520"/>
              <a:ext cx="124488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78520" y="3160440"/>
              <a:ext cx="124560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52480" y="3160440"/>
              <a:ext cx="286416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74880" y="2609640"/>
              <a:ext cx="298872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54160" y="20574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66960" y="26668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40200" y="26668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203080" y="322416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773520" y="322416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87680" y="322416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54400" y="37828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758040" y="37828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48360" y="2292120"/>
              <a:ext cx="360" cy="317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12960" y="2901960"/>
              <a:ext cx="423000" cy="25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34400" y="2898720"/>
              <a:ext cx="270000" cy="26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968920" y="345420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60160" y="345420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98080" y="208584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3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86640" y="269856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19160" y="269712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2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624400" y="325728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812400" y="32572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( 0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49520" y="32572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09120" y="38224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799440" y="382248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22320" y="32572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95600" y="3262320"/>
              <a:ext cx="166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5240" y="2698560"/>
              <a:ext cx="165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17440" y="269532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8C9B-14BD-4540-9967-C06B81F1DC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an integ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Output result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recursivel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22" name="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5: fig03_1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fibonacci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sult,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Enter an integ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in &gt;&gt;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result = fibonacci(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cout &lt;&lt; "Fibonacci(" &lt;&lt; number &lt;&lt; ") = " &lt;&lt; resul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definition of function fibonacc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 lo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 == 0 || n == 1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base c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cursive c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bonacci( n - 1 ) + fibonacci( n -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3581280" y="5181480"/>
            <a:ext cx="4724640" cy="824040"/>
            <a:chOff x="3581280" y="5181480"/>
            <a:chExt cx="4724640" cy="824040"/>
          </a:xfrm>
        </p:grpSpPr>
        <p:sp>
          <p:nvSpPr>
            <p:cNvPr id="1110" name=""/>
            <p:cNvSpPr/>
            <p:nvPr/>
          </p:nvSpPr>
          <p:spPr>
            <a:xfrm>
              <a:off x="5029200" y="5181480"/>
              <a:ext cx="32767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 the base cases return values.  All other cases call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ibonacci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 agai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3581280" y="548640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6025-B94C-4A56-92E6-54D77744A1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0) =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572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9144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) = 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0" y="13716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) = 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18288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4)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23623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5)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32004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6) = 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28954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10) = 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38098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20) = 67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42670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0) = 832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464832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n integer: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bonacci(35) = 922746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203C-DE32-4F5A-B274-B49F766D70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cursion vs. Itera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between performance (iteration) and good software engineering (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7CF5-7D22-4D5B-9531-C80FFD80BE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 with Empty Parameter Lis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ither wri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 leaving a parameter list empty indicates that the function take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no arguments and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7F05-33B8-41F4-BBA9-5772F118B5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 (take no arguments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th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0" y="0"/>
            <a:ext cx="6780960" cy="5943600"/>
            <a:chOff x="0" y="0"/>
            <a:chExt cx="6780960" cy="5943600"/>
          </a:xfrm>
        </p:grpSpPr>
        <p:grpSp>
          <p:nvGrpSpPr>
            <p:cNvPr id="1130" name=""/>
            <p:cNvGrpSpPr/>
            <p:nvPr/>
          </p:nvGrpSpPr>
          <p:grpSpPr>
            <a:xfrm>
              <a:off x="0" y="0"/>
              <a:ext cx="6780960" cy="219960"/>
              <a:chOff x="0" y="0"/>
              <a:chExt cx="6780960" cy="21996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18: fig03_1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219960"/>
              <a:ext cx="6780960" cy="219960"/>
              <a:chOff x="0" y="219960"/>
              <a:chExt cx="6780960" cy="21996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219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19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unctions that take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439920"/>
              <a:ext cx="6780960" cy="219960"/>
              <a:chOff x="0" y="439920"/>
              <a:chExt cx="6780960" cy="21996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439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439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660240"/>
              <a:ext cx="6780960" cy="219960"/>
              <a:chOff x="0" y="660240"/>
              <a:chExt cx="6780960" cy="21996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660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660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880560"/>
              <a:ext cx="6780960" cy="219960"/>
              <a:chOff x="0" y="880560"/>
              <a:chExt cx="6780960" cy="21996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8805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8805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1100520"/>
              <a:ext cx="6780960" cy="219960"/>
              <a:chOff x="0" y="1100520"/>
              <a:chExt cx="6780960" cy="21996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1100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1100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1320480"/>
              <a:ext cx="6780960" cy="219960"/>
              <a:chOff x="0" y="1320480"/>
              <a:chExt cx="6780960" cy="21996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1320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1320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1540800"/>
              <a:ext cx="6780960" cy="219960"/>
              <a:chOff x="0" y="1540800"/>
              <a:chExt cx="6780960" cy="21996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1540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1540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1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1761120"/>
              <a:ext cx="6780960" cy="219960"/>
              <a:chOff x="0" y="1761120"/>
              <a:chExt cx="6780960" cy="21996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17611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17611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1981080"/>
              <a:ext cx="6780960" cy="219960"/>
              <a:chOff x="0" y="1981080"/>
              <a:chExt cx="6780960" cy="21996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1981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1981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0" y="2201040"/>
              <a:ext cx="6780960" cy="219960"/>
              <a:chOff x="0" y="2201040"/>
              <a:chExt cx="6780960" cy="219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0" y="2201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0" y="2201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0" y="2421360"/>
              <a:ext cx="6780960" cy="219960"/>
              <a:chOff x="0" y="2421360"/>
              <a:chExt cx="6780960" cy="219960"/>
            </a:xfrm>
          </p:grpSpPr>
          <p:sp>
            <p:nvSpPr>
              <p:cNvPr id="1164" name=""/>
              <p:cNvSpPr/>
              <p:nvPr/>
            </p:nvSpPr>
            <p:spPr>
              <a:xfrm>
                <a:off x="0" y="2421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0" y="2421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0" y="2641680"/>
              <a:ext cx="6780960" cy="219960"/>
              <a:chOff x="0" y="2641680"/>
              <a:chExt cx="6780960" cy="21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0" y="26416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0" y="26416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unction1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0" y="2861640"/>
              <a:ext cx="6780960" cy="219960"/>
              <a:chOff x="0" y="2861640"/>
              <a:chExt cx="6780960" cy="219960"/>
            </a:xfrm>
          </p:grpSpPr>
          <p:sp>
            <p:nvSpPr>
              <p:cNvPr id="1170" name=""/>
              <p:cNvSpPr/>
              <p:nvPr/>
            </p:nvSpPr>
            <p:spPr>
              <a:xfrm>
                <a:off x="0" y="2861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0" y="2861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unction2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"/>
            <p:cNvGrpSpPr/>
            <p:nvPr/>
          </p:nvGrpSpPr>
          <p:grpSpPr>
            <a:xfrm>
              <a:off x="0" y="3081960"/>
              <a:ext cx="6780960" cy="219960"/>
              <a:chOff x="0" y="3081960"/>
              <a:chExt cx="6780960" cy="219960"/>
            </a:xfrm>
          </p:grpSpPr>
          <p:sp>
            <p:nvSpPr>
              <p:cNvPr id="1173" name=""/>
              <p:cNvSpPr/>
              <p:nvPr/>
            </p:nvSpPr>
            <p:spPr>
              <a:xfrm>
                <a:off x="0" y="3081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0" y="30819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0" y="3301920"/>
              <a:ext cx="6780960" cy="219960"/>
              <a:chOff x="0" y="3301920"/>
              <a:chExt cx="6780960" cy="219960"/>
            </a:xfrm>
          </p:grpSpPr>
          <p:sp>
            <p:nvSpPr>
              <p:cNvPr id="1176" name=""/>
              <p:cNvSpPr/>
              <p:nvPr/>
            </p:nvSpPr>
            <p:spPr>
              <a:xfrm>
                <a:off x="0" y="3301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3301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0" y="3522240"/>
              <a:ext cx="6780960" cy="219960"/>
              <a:chOff x="0" y="3522240"/>
              <a:chExt cx="6780960" cy="219960"/>
            </a:xfrm>
          </p:grpSpPr>
          <p:sp>
            <p:nvSpPr>
              <p:cNvPr id="1179" name=""/>
              <p:cNvSpPr/>
              <p:nvPr/>
            </p:nvSpPr>
            <p:spPr>
              <a:xfrm>
                <a:off x="0" y="3522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0" y="35222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0" y="3742200"/>
              <a:ext cx="6780960" cy="219960"/>
              <a:chOff x="0" y="3742200"/>
              <a:chExt cx="6780960" cy="219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0" y="37422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0" y="37422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0" y="3962520"/>
              <a:ext cx="6780960" cy="219960"/>
              <a:chOff x="0" y="3962520"/>
              <a:chExt cx="6780960" cy="219960"/>
            </a:xfrm>
          </p:grpSpPr>
          <p:sp>
            <p:nvSpPr>
              <p:cNvPr id="1185" name=""/>
              <p:cNvSpPr/>
              <p:nvPr/>
            </p:nvSpPr>
            <p:spPr>
              <a:xfrm>
                <a:off x="0" y="3962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0" y="39625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1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0" y="4182480"/>
              <a:ext cx="6780960" cy="219960"/>
              <a:chOff x="0" y="4182480"/>
              <a:chExt cx="6780960" cy="219960"/>
            </a:xfrm>
          </p:grpSpPr>
          <p:sp>
            <p:nvSpPr>
              <p:cNvPr id="1188" name=""/>
              <p:cNvSpPr/>
              <p:nvPr/>
            </p:nvSpPr>
            <p:spPr>
              <a:xfrm>
                <a:off x="0" y="4182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4182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0" y="4402800"/>
              <a:ext cx="6780960" cy="219960"/>
              <a:chOff x="0" y="4402800"/>
              <a:chExt cx="6780960" cy="219960"/>
            </a:xfrm>
          </p:grpSpPr>
          <p:sp>
            <p:nvSpPr>
              <p:cNvPr id="1191" name=""/>
              <p:cNvSpPr/>
              <p:nvPr/>
            </p:nvSpPr>
            <p:spPr>
              <a:xfrm>
                <a:off x="0" y="4402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4028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unction1 takes no argument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0" y="4622760"/>
              <a:ext cx="6780960" cy="219960"/>
              <a:chOff x="0" y="4622760"/>
              <a:chExt cx="6780960" cy="219960"/>
            </a:xfrm>
          </p:grpSpPr>
          <p:sp>
            <p:nvSpPr>
              <p:cNvPr id="1194" name=""/>
              <p:cNvSpPr/>
              <p:nvPr/>
            </p:nvSpPr>
            <p:spPr>
              <a:xfrm>
                <a:off x="0" y="46227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46227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0" y="4843080"/>
              <a:ext cx="6780960" cy="219960"/>
              <a:chOff x="0" y="4843080"/>
              <a:chExt cx="6780960" cy="219960"/>
            </a:xfrm>
          </p:grpSpPr>
          <p:sp>
            <p:nvSpPr>
              <p:cNvPr id="1197" name=""/>
              <p:cNvSpPr/>
              <p:nvPr/>
            </p:nvSpPr>
            <p:spPr>
              <a:xfrm>
                <a:off x="0" y="4843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48430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0" y="5063040"/>
              <a:ext cx="6780960" cy="219960"/>
              <a:chOff x="0" y="5063040"/>
              <a:chExt cx="6780960" cy="219960"/>
            </a:xfrm>
          </p:grpSpPr>
          <p:sp>
            <p:nvSpPr>
              <p:cNvPr id="1200" name=""/>
              <p:cNvSpPr/>
              <p:nvPr/>
            </p:nvSpPr>
            <p:spPr>
              <a:xfrm>
                <a:off x="0" y="5063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5063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unction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0" y="5283360"/>
              <a:ext cx="6780960" cy="219960"/>
              <a:chOff x="0" y="5283360"/>
              <a:chExt cx="6780960" cy="219960"/>
            </a:xfrm>
          </p:grpSpPr>
          <p:sp>
            <p:nvSpPr>
              <p:cNvPr id="1203" name=""/>
              <p:cNvSpPr/>
              <p:nvPr/>
            </p:nvSpPr>
            <p:spPr>
              <a:xfrm>
                <a:off x="0" y="5283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52833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0" y="5503320"/>
              <a:ext cx="6780960" cy="219960"/>
              <a:chOff x="0" y="5503320"/>
              <a:chExt cx="6780960" cy="219960"/>
            </a:xfrm>
          </p:grpSpPr>
          <p:sp>
            <p:nvSpPr>
              <p:cNvPr id="1206" name=""/>
              <p:cNvSpPr/>
              <p:nvPr/>
            </p:nvSpPr>
            <p:spPr>
              <a:xfrm>
                <a:off x="0" y="55033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55033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unction2 also takes no arguments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0" y="5723640"/>
              <a:ext cx="6780960" cy="219960"/>
              <a:chOff x="0" y="5723640"/>
              <a:chExt cx="6780960" cy="219960"/>
            </a:xfrm>
          </p:grpSpPr>
          <p:sp>
            <p:nvSpPr>
              <p:cNvPr id="1209" name=""/>
              <p:cNvSpPr/>
              <p:nvPr/>
            </p:nvSpPr>
            <p:spPr>
              <a:xfrm>
                <a:off x="0" y="5723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57236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1" name=""/>
          <p:cNvSpPr/>
          <p:nvPr/>
        </p:nvSpPr>
        <p:spPr>
          <a:xfrm>
            <a:off x="0" y="614196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1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2 also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2057400" y="1219320"/>
            <a:ext cx="3733920" cy="580680"/>
            <a:chOff x="2057400" y="1219320"/>
            <a:chExt cx="3733920" cy="580680"/>
          </a:xfrm>
        </p:grpSpPr>
        <p:sp>
          <p:nvSpPr>
            <p:cNvPr id="1213" name=""/>
            <p:cNvSpPr/>
            <p:nvPr/>
          </p:nvSpPr>
          <p:spPr>
            <a:xfrm>
              <a:off x="3429000" y="1219320"/>
              <a:ext cx="2362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two ways of declaring no argument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2057400" y="1523880"/>
              <a:ext cx="13716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FC58-4C63-49C7-8884-A30FC28573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written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new functions with “prepackaged” functions in the C+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libra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ndard library provides a rich collection of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are invoked by a function c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nction call specifies the function name and provides information (as arguments) that the called function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s to worker analog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ss (the calling function or caller) asks a worker (the called function) to perform a task and return (i.e., report back) the results when the task is d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2C77-557D-4896-851F-C23AD8F7E0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function-call overh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compiler to copy code into program instead of using a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can ign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used with small, often-us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7C50-E971-477C-A8CB-087A69442A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prevent unwanted side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 alias for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to signify a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change( int &amp;variabl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variable += 3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s 3 to the variable inpu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&amp;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hange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ll now aff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2A9B-AB64-4C1A-B195-AAD9708233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647712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 of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uareByValu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0" y="0"/>
            <a:ext cx="6552360" cy="6858000"/>
            <a:chOff x="0" y="0"/>
            <a:chExt cx="6552360" cy="6858000"/>
          </a:xfrm>
        </p:grpSpPr>
        <p:grpSp>
          <p:nvGrpSpPr>
            <p:cNvPr id="1221" name=""/>
            <p:cNvGrpSpPr/>
            <p:nvPr/>
          </p:nvGrpSpPr>
          <p:grpSpPr>
            <a:xfrm>
              <a:off x="0" y="0"/>
              <a:ext cx="6552360" cy="221040"/>
              <a:chOff x="0" y="0"/>
              <a:chExt cx="6552360" cy="221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0: fig03_2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221040"/>
              <a:ext cx="6552360" cy="221040"/>
              <a:chOff x="0" y="221040"/>
              <a:chExt cx="6552360" cy="22104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2210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2210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aring call-by-value an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442080"/>
              <a:ext cx="6552360" cy="221040"/>
              <a:chOff x="0" y="442080"/>
              <a:chExt cx="6552360" cy="221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442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442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referenc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663480"/>
              <a:ext cx="6552360" cy="221040"/>
              <a:chOff x="0" y="663480"/>
              <a:chExt cx="6552360" cy="221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663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663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884880"/>
              <a:ext cx="6552360" cy="221040"/>
              <a:chOff x="0" y="884880"/>
              <a:chExt cx="6552360" cy="22104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8848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8848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0" y="1105920"/>
              <a:ext cx="6552360" cy="221040"/>
              <a:chOff x="0" y="1105920"/>
              <a:chExt cx="6552360" cy="22104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1105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1105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1327320"/>
              <a:ext cx="6552360" cy="221040"/>
              <a:chOff x="0" y="1327320"/>
              <a:chExt cx="6552360" cy="22104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13273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13273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1548360"/>
              <a:ext cx="6552360" cy="221040"/>
              <a:chOff x="0" y="1548360"/>
              <a:chExt cx="6552360" cy="22104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1548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1548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1769760"/>
              <a:ext cx="6552360" cy="221040"/>
              <a:chOff x="0" y="1769760"/>
              <a:chExt cx="6552360" cy="22104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17697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17697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1990800"/>
              <a:ext cx="6552360" cy="221040"/>
              <a:chOff x="0" y="1990800"/>
              <a:chExt cx="6552360" cy="22104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1990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1990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2212200"/>
              <a:ext cx="6552360" cy="221040"/>
              <a:chOff x="0" y="2212200"/>
              <a:chExt cx="6552360" cy="22104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22122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22122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2433600"/>
              <a:ext cx="6552360" cy="221040"/>
              <a:chOff x="0" y="2433600"/>
              <a:chExt cx="6552360" cy="221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24336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24336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2654640"/>
              <a:ext cx="6552360" cy="221040"/>
              <a:chOff x="0" y="2654640"/>
              <a:chExt cx="6552360" cy="22104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2654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2654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2875680"/>
              <a:ext cx="6552360" cy="221040"/>
              <a:chOff x="0" y="2875680"/>
              <a:chExt cx="6552360" cy="22104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2875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2875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, z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3097080"/>
              <a:ext cx="6552360" cy="221040"/>
              <a:chOff x="0" y="3097080"/>
              <a:chExt cx="6552360" cy="22104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3097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30970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3318480"/>
              <a:ext cx="6552360" cy="221040"/>
              <a:chOff x="0" y="3318480"/>
              <a:chExt cx="6552360" cy="22104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3318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33184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= " &lt;&lt; x &lt;&lt; " before squareByValue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3539520"/>
              <a:ext cx="6552360" cy="221040"/>
              <a:chOff x="0" y="3539520"/>
              <a:chExt cx="6552360" cy="22104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3539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3539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Value returned by squareByValu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3760920"/>
              <a:ext cx="6552360" cy="221040"/>
              <a:chOff x="0" y="3760920"/>
              <a:chExt cx="6552360" cy="22104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3760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37609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squareByValue( x )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3981960"/>
              <a:ext cx="6552360" cy="221040"/>
              <a:chOff x="0" y="3981960"/>
              <a:chExt cx="6552360" cy="22104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3981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3981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x = " &lt;&lt; x &lt;&lt; " after squareByValue\n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4203360"/>
              <a:ext cx="6552360" cy="221040"/>
              <a:chOff x="0" y="4203360"/>
              <a:chExt cx="6552360" cy="22104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4203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42033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4424400"/>
              <a:ext cx="6552360" cy="221040"/>
              <a:chOff x="0" y="4424400"/>
              <a:chExt cx="6552360" cy="22104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44244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44244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before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4645800"/>
              <a:ext cx="6552360" cy="221040"/>
              <a:chOff x="0" y="4645800"/>
              <a:chExt cx="6552360" cy="22104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4645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464580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quareByReference( z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4866840"/>
              <a:ext cx="6552360" cy="221040"/>
              <a:chOff x="0" y="4866840"/>
              <a:chExt cx="6552360" cy="22104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48668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48668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after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5088240"/>
              <a:ext cx="6552360" cy="221040"/>
              <a:chOff x="0" y="5088240"/>
              <a:chExt cx="6552360" cy="22104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50882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50882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5309640"/>
              <a:ext cx="6552360" cy="221040"/>
              <a:chOff x="0" y="5309640"/>
              <a:chExt cx="6552360" cy="22104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5309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530964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5530680"/>
              <a:ext cx="6552360" cy="221040"/>
              <a:chOff x="0" y="5530680"/>
              <a:chExt cx="6552360" cy="22104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5530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553068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5751720"/>
              <a:ext cx="6552360" cy="221040"/>
              <a:chOff x="0" y="5751720"/>
              <a:chExt cx="6552360" cy="22104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57517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57517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0" y="5973120"/>
              <a:ext cx="6552360" cy="221040"/>
              <a:chOff x="0" y="5973120"/>
              <a:chExt cx="6552360" cy="221040"/>
            </a:xfrm>
          </p:grpSpPr>
          <p:sp>
            <p:nvSpPr>
              <p:cNvPr id="1303" name=""/>
              <p:cNvSpPr/>
              <p:nvPr/>
            </p:nvSpPr>
            <p:spPr>
              <a:xfrm>
                <a:off x="0" y="59731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59731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0" y="6194520"/>
              <a:ext cx="6552360" cy="221040"/>
              <a:chOff x="0" y="6194520"/>
              <a:chExt cx="6552360" cy="221040"/>
            </a:xfrm>
          </p:grpSpPr>
          <p:sp>
            <p:nvSpPr>
              <p:cNvPr id="1306" name=""/>
              <p:cNvSpPr/>
              <p:nvPr/>
            </p:nvSpPr>
            <p:spPr>
              <a:xfrm>
                <a:off x="0" y="6194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619452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0" y="6415560"/>
              <a:ext cx="6552360" cy="221040"/>
              <a:chOff x="0" y="6415560"/>
              <a:chExt cx="6552360" cy="22104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64155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64155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*=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's argument no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6636960"/>
              <a:ext cx="6552360" cy="221040"/>
              <a:chOff x="0" y="6636960"/>
              <a:chExt cx="6552360" cy="22104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6636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6636960"/>
                <a:ext cx="65523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"/>
          <p:cNvGrpSpPr/>
          <p:nvPr/>
        </p:nvGrpSpPr>
        <p:grpSpPr>
          <a:xfrm>
            <a:off x="3048120" y="1066680"/>
            <a:ext cx="3352680" cy="990720"/>
            <a:chOff x="3048120" y="1066680"/>
            <a:chExt cx="3352680" cy="990720"/>
          </a:xfrm>
        </p:grpSpPr>
        <p:sp>
          <p:nvSpPr>
            <p:cNvPr id="1315" name=""/>
            <p:cNvSpPr/>
            <p:nvPr/>
          </p:nvSpPr>
          <p:spPr>
            <a:xfrm flipH="1">
              <a:off x="3048120" y="137160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29000" y="1066680"/>
              <a:ext cx="29718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use o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2AB0-F9D6-4B64-942A-3DE17444325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ubTitle"/>
          </p:nvPr>
        </p:nvSpPr>
        <p:spPr>
          <a:xfrm>
            <a:off x="6477120" y="761760"/>
            <a:ext cx="2666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uareByReferen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18" name=""/>
          <p:cNvSpPr/>
          <p:nvPr/>
        </p:nvSpPr>
        <p:spPr>
          <a:xfrm>
            <a:off x="0" y="1447920"/>
            <a:ext cx="65530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before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returned by squareByValue: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2 after squareBy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4 before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 = 16 after squareBy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0" y="0"/>
            <a:ext cx="6552360" cy="1219320"/>
            <a:chOff x="0" y="0"/>
            <a:chExt cx="6552360" cy="1219320"/>
          </a:xfrm>
        </p:grpSpPr>
        <p:grpSp>
          <p:nvGrpSpPr>
            <p:cNvPr id="1320" name=""/>
            <p:cNvGrpSpPr/>
            <p:nvPr/>
          </p:nvGrpSpPr>
          <p:grpSpPr>
            <a:xfrm>
              <a:off x="0" y="0"/>
              <a:ext cx="6552360" cy="243720"/>
              <a:chOff x="0" y="0"/>
              <a:chExt cx="6552360" cy="24372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243720"/>
              <a:ext cx="6552360" cy="243720"/>
              <a:chOff x="0" y="243720"/>
              <a:chExt cx="6552360" cy="24372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2437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2437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c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487440"/>
              <a:ext cx="6552360" cy="243720"/>
              <a:chOff x="0" y="487440"/>
              <a:chExt cx="6552360" cy="24372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48744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48744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731520"/>
              <a:ext cx="6552360" cy="243720"/>
              <a:chOff x="0" y="731520"/>
              <a:chExt cx="6552360" cy="24372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7315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73152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f *= cRef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aller's argumen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0" y="975600"/>
              <a:ext cx="6552360" cy="243720"/>
              <a:chOff x="0" y="975600"/>
              <a:chExt cx="6552360" cy="243720"/>
            </a:xfrm>
          </p:grpSpPr>
          <p:sp>
            <p:nvSpPr>
              <p:cNvPr id="1333" name=""/>
              <p:cNvSpPr/>
              <p:nvPr/>
            </p:nvSpPr>
            <p:spPr>
              <a:xfrm>
                <a:off x="0" y="97560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0" y="975600"/>
                <a:ext cx="65523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3ACE-986D-46C3-AC8C-889872E596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unction parameter omitted, gets defaul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 specified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efaultFunction( int x =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2, int z = 3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1D0A-8043-4BDC-87ED-C0977CD874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default volum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rint volume with one parame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with 2 paramet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Print with all parameters.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339" name=""/>
            <p:cNvGrpSpPr/>
            <p:nvPr/>
          </p:nvGrpSpPr>
          <p:grpSpPr>
            <a:xfrm>
              <a:off x="0" y="0"/>
              <a:ext cx="6780960" cy="244800"/>
              <a:chOff x="0" y="0"/>
              <a:chExt cx="6780960" cy="244800"/>
            </a:xfrm>
          </p:grpSpPr>
          <p:sp>
            <p:nvSpPr>
              <p:cNvPr id="1340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0" y="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3: fig03_2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0" y="244800"/>
              <a:ext cx="6780960" cy="244800"/>
              <a:chOff x="0" y="244800"/>
              <a:chExt cx="6780960" cy="244800"/>
            </a:xfrm>
          </p:grpSpPr>
          <p:sp>
            <p:nvSpPr>
              <p:cNvPr id="1343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0" y="244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default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0" y="489600"/>
              <a:ext cx="6780960" cy="244800"/>
              <a:chOff x="0" y="489600"/>
              <a:chExt cx="6780960" cy="244800"/>
            </a:xfrm>
          </p:grpSpPr>
          <p:sp>
            <p:nvSpPr>
              <p:cNvPr id="1346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0" y="4896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0" y="734760"/>
              <a:ext cx="6780960" cy="244800"/>
              <a:chOff x="0" y="734760"/>
              <a:chExt cx="6780960" cy="244800"/>
            </a:xfrm>
          </p:grpSpPr>
          <p:sp>
            <p:nvSpPr>
              <p:cNvPr id="1349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734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0" y="979560"/>
              <a:ext cx="6780960" cy="244800"/>
              <a:chOff x="0" y="979560"/>
              <a:chExt cx="6780960" cy="244800"/>
            </a:xfrm>
          </p:grpSpPr>
          <p:sp>
            <p:nvSpPr>
              <p:cNvPr id="1352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0" y="979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0" y="1224360"/>
              <a:ext cx="6780960" cy="244800"/>
              <a:chOff x="0" y="1224360"/>
              <a:chExt cx="6780960" cy="244800"/>
            </a:xfrm>
          </p:grpSpPr>
          <p:sp>
            <p:nvSpPr>
              <p:cNvPr id="1355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0" y="1224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0" y="1469520"/>
              <a:ext cx="6780960" cy="244800"/>
              <a:chOff x="0" y="1469520"/>
              <a:chExt cx="6780960" cy="244800"/>
            </a:xfrm>
          </p:grpSpPr>
          <p:sp>
            <p:nvSpPr>
              <p:cNvPr id="1358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0" y="1469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0" y="1714320"/>
              <a:ext cx="6780960" cy="244800"/>
              <a:chOff x="0" y="1714320"/>
              <a:chExt cx="6780960" cy="244800"/>
            </a:xfrm>
          </p:grpSpPr>
          <p:sp>
            <p:nvSpPr>
              <p:cNvPr id="1361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0" y="1714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= 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0" y="1959480"/>
              <a:ext cx="6780960" cy="244800"/>
              <a:chOff x="0" y="1959480"/>
              <a:chExt cx="6780960" cy="244800"/>
            </a:xfrm>
          </p:grpSpPr>
          <p:sp>
            <p:nvSpPr>
              <p:cNvPr id="1364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0" y="1959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0" y="2204280"/>
              <a:ext cx="6780960" cy="244800"/>
              <a:chOff x="0" y="2204280"/>
              <a:chExt cx="6780960" cy="244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0" y="2204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0" y="2449080"/>
              <a:ext cx="6780960" cy="244800"/>
              <a:chOff x="0" y="2449080"/>
              <a:chExt cx="6780960" cy="244800"/>
            </a:xfrm>
          </p:grpSpPr>
          <p:sp>
            <p:nvSpPr>
              <p:cNvPr id="1370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0" y="24490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0" y="2694240"/>
              <a:ext cx="6780960" cy="244800"/>
              <a:chOff x="0" y="2694240"/>
              <a:chExt cx="6780960" cy="244800"/>
            </a:xfrm>
          </p:grpSpPr>
          <p:sp>
            <p:nvSpPr>
              <p:cNvPr id="1373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0" y="2694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default box volume is: " &lt;&lt; boxVolume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0" y="2939040"/>
              <a:ext cx="6780960" cy="244800"/>
              <a:chOff x="0" y="2939040"/>
              <a:chExt cx="6780960" cy="244800"/>
            </a:xfrm>
          </p:grpSpPr>
          <p:sp>
            <p:nvSpPr>
              <p:cNvPr id="1376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0" y="2939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0" y="3183840"/>
              <a:ext cx="6780960" cy="244800"/>
              <a:chOff x="0" y="3183840"/>
              <a:chExt cx="6780960" cy="244800"/>
            </a:xfrm>
          </p:grpSpPr>
          <p:sp>
            <p:nvSpPr>
              <p:cNvPr id="1379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0" y="3183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1 and height 1 is: " &lt;&lt; boxVolume( 10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0" y="3429000"/>
              <a:ext cx="6780960" cy="244800"/>
              <a:chOff x="0" y="3429000"/>
              <a:chExt cx="6780960" cy="244800"/>
            </a:xfrm>
          </p:grpSpPr>
          <p:sp>
            <p:nvSpPr>
              <p:cNvPr id="1382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0" y="34290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0" y="3673800"/>
              <a:ext cx="6780960" cy="244800"/>
              <a:chOff x="0" y="3673800"/>
              <a:chExt cx="6780960" cy="244800"/>
            </a:xfrm>
          </p:grpSpPr>
          <p:sp>
            <p:nvSpPr>
              <p:cNvPr id="1385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0" y="367380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1 is: " &lt;&lt; boxVolume( 10, 5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0" y="3918960"/>
              <a:ext cx="6780960" cy="244800"/>
              <a:chOff x="0" y="3918960"/>
              <a:chExt cx="6780960" cy="244800"/>
            </a:xfrm>
          </p:grpSpPr>
          <p:sp>
            <p:nvSpPr>
              <p:cNvPr id="1388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0" y="39189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\nThe volume of a box with length 10,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0" y="4163760"/>
              <a:ext cx="6780960" cy="244800"/>
              <a:chOff x="0" y="4163760"/>
              <a:chExt cx="6780960" cy="244800"/>
            </a:xfrm>
          </p:grpSpPr>
          <p:sp>
            <p:nvSpPr>
              <p:cNvPr id="1391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0" y="41637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width 5 and height 2 is: " &lt;&lt; boxVolume( 10, 5,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0" y="4408560"/>
              <a:ext cx="6780960" cy="244800"/>
              <a:chOff x="0" y="4408560"/>
              <a:chExt cx="6780960" cy="244800"/>
            </a:xfrm>
          </p:grpSpPr>
          <p:sp>
            <p:nvSpPr>
              <p:cNvPr id="1394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0" y="44085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0" y="4653360"/>
              <a:ext cx="6780960" cy="244800"/>
              <a:chOff x="0" y="4653360"/>
              <a:chExt cx="6780960" cy="244800"/>
            </a:xfrm>
          </p:grpSpPr>
          <p:sp>
            <p:nvSpPr>
              <p:cNvPr id="1397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0" y="465336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0" y="4898520"/>
              <a:ext cx="6780960" cy="244800"/>
              <a:chOff x="0" y="4898520"/>
              <a:chExt cx="6780960" cy="244800"/>
            </a:xfrm>
          </p:grpSpPr>
          <p:sp>
            <p:nvSpPr>
              <p:cNvPr id="1400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0" y="48985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0" y="5143320"/>
              <a:ext cx="6780960" cy="244800"/>
              <a:chOff x="0" y="5143320"/>
              <a:chExt cx="6780960" cy="244800"/>
            </a:xfrm>
          </p:grpSpPr>
          <p:sp>
            <p:nvSpPr>
              <p:cNvPr id="1403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0" y="514332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0" y="5388480"/>
              <a:ext cx="6780960" cy="244800"/>
              <a:chOff x="0" y="5388480"/>
              <a:chExt cx="6780960" cy="244800"/>
            </a:xfrm>
          </p:grpSpPr>
          <p:sp>
            <p:nvSpPr>
              <p:cNvPr id="1406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0" y="53884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0" y="5633280"/>
              <a:ext cx="6780960" cy="244800"/>
              <a:chOff x="0" y="5633280"/>
              <a:chExt cx="6780960" cy="244800"/>
            </a:xfrm>
          </p:grpSpPr>
          <p:sp>
            <p:nvSpPr>
              <p:cNvPr id="1409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0" y="563328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culate the volume of a box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0" y="5878440"/>
              <a:ext cx="6780960" cy="244800"/>
              <a:chOff x="0" y="5878440"/>
              <a:chExt cx="6780960" cy="244800"/>
            </a:xfrm>
          </p:grpSpPr>
          <p:sp>
            <p:nvSpPr>
              <p:cNvPr id="1412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0" y="58784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oxVolu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id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eigh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0" y="6123240"/>
              <a:ext cx="6780960" cy="244800"/>
              <a:chOff x="0" y="6123240"/>
              <a:chExt cx="6780960" cy="244800"/>
            </a:xfrm>
          </p:grpSpPr>
          <p:sp>
            <p:nvSpPr>
              <p:cNvPr id="1415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0" y="61232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0" y="6368040"/>
              <a:ext cx="6780960" cy="244800"/>
              <a:chOff x="0" y="6368040"/>
              <a:chExt cx="6780960" cy="244800"/>
            </a:xfrm>
          </p:grpSpPr>
          <p:sp>
            <p:nvSpPr>
              <p:cNvPr id="1418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0" y="63680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ength * width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0" y="6612840"/>
              <a:ext cx="6780960" cy="244800"/>
              <a:chOff x="0" y="6612840"/>
              <a:chExt cx="6780960" cy="244800"/>
            </a:xfrm>
          </p:grpSpPr>
          <p:sp>
            <p:nvSpPr>
              <p:cNvPr id="1421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0" y="6612840"/>
                <a:ext cx="6780960" cy="244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1F74-0FDF-4C0F-8E65-4B94B9D567A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666520" y="1162080"/>
            <a:ext cx="4267800" cy="1799640"/>
            <a:chOff x="2666520" y="1162080"/>
            <a:chExt cx="4267800" cy="1799640"/>
          </a:xfrm>
        </p:grpSpPr>
        <p:sp>
          <p:nvSpPr>
            <p:cNvPr id="1426" name=""/>
            <p:cNvSpPr/>
            <p:nvPr/>
          </p:nvSpPr>
          <p:spPr>
            <a:xfrm>
              <a:off x="4267080" y="238104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rightmost values are defaulted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 flipV="1">
              <a:off x="2666520" y="1162080"/>
              <a:ext cx="1600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FC73-27E2-4CB3-B6D8-2A9E4F6ADD1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1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s if a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eded if names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C8CC-9D26-4ED9-9DA9-CCB0E3743F7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0" y="0"/>
            <a:ext cx="6705000" cy="4952880"/>
            <a:chOff x="0" y="0"/>
            <a:chExt cx="6705000" cy="4952880"/>
          </a:xfrm>
        </p:grpSpPr>
        <p:grpSp>
          <p:nvGrpSpPr>
            <p:cNvPr id="1432" name=""/>
            <p:cNvGrpSpPr/>
            <p:nvPr/>
          </p:nvGrpSpPr>
          <p:grpSpPr>
            <a:xfrm>
              <a:off x="0" y="0"/>
              <a:ext cx="6705000" cy="215280"/>
              <a:chOff x="0" y="0"/>
              <a:chExt cx="6705000" cy="21528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4: fig03_2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215280"/>
              <a:ext cx="6705000" cy="215280"/>
              <a:chOff x="0" y="215280"/>
              <a:chExt cx="6705000" cy="21528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215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215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the unary scope resolution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430560"/>
              <a:ext cx="6705000" cy="215280"/>
              <a:chOff x="0" y="430560"/>
              <a:chExt cx="6705000" cy="215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430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430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645840"/>
              <a:ext cx="6705000" cy="215280"/>
              <a:chOff x="0" y="645840"/>
              <a:chExt cx="6705000" cy="21528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645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645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861120"/>
              <a:ext cx="6705000" cy="215280"/>
              <a:chOff x="0" y="861120"/>
              <a:chExt cx="6705000" cy="21528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861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861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1076400"/>
              <a:ext cx="6705000" cy="215280"/>
              <a:chOff x="0" y="1076400"/>
              <a:chExt cx="6705000" cy="21528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1076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1076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1292040"/>
              <a:ext cx="6705000" cy="215280"/>
              <a:chOff x="0" y="1292040"/>
              <a:chExt cx="6705000" cy="21528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1292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1292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1507320"/>
              <a:ext cx="6705000" cy="215280"/>
              <a:chOff x="0" y="1507320"/>
              <a:chExt cx="6705000" cy="21528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1507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1507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1722600"/>
              <a:ext cx="6705000" cy="215280"/>
              <a:chOff x="0" y="1722600"/>
              <a:chExt cx="6705000" cy="21528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1722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1722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1937880"/>
              <a:ext cx="6705000" cy="215280"/>
              <a:chOff x="0" y="1937880"/>
              <a:chExt cx="6705000" cy="21528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19378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19378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2153160"/>
              <a:ext cx="6705000" cy="215280"/>
              <a:chOff x="0" y="2153160"/>
              <a:chExt cx="6705000" cy="21528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21531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21531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2368800"/>
              <a:ext cx="6705000" cy="215280"/>
              <a:chOff x="0" y="2368800"/>
              <a:chExt cx="6705000" cy="21528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23688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23688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 = 3.1415926535897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2584080"/>
              <a:ext cx="6705000" cy="215280"/>
              <a:chOff x="0" y="2584080"/>
              <a:chExt cx="6705000" cy="21528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25840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25840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2799360"/>
              <a:ext cx="6705000" cy="215280"/>
              <a:chOff x="0" y="2799360"/>
              <a:chExt cx="6705000" cy="21528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27993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27993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3014640"/>
              <a:ext cx="6705000" cy="215280"/>
              <a:chOff x="0" y="3014640"/>
              <a:chExt cx="6705000" cy="21528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30146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30146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3230280"/>
              <a:ext cx="6705000" cy="215280"/>
              <a:chOff x="0" y="3230280"/>
              <a:chExt cx="6705000" cy="21528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3230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323028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 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I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loa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::PI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3445560"/>
              <a:ext cx="6705000" cy="215280"/>
              <a:chOff x="0" y="3445560"/>
              <a:chExt cx="6705000" cy="21528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3445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344556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3660840"/>
              <a:ext cx="6705000" cy="215280"/>
              <a:chOff x="0" y="3660840"/>
              <a:chExt cx="6705000" cy="21528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3660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36608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setprecision( 2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3876120"/>
              <a:ext cx="6705000" cy="215280"/>
              <a:chOff x="0" y="3876120"/>
              <a:chExt cx="6705000" cy="21528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3876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38761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  Local float value of PI = " &lt;&lt; 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4091400"/>
              <a:ext cx="6705000" cy="215280"/>
              <a:chOff x="0" y="4091400"/>
              <a:chExt cx="6705000" cy="21528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4091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40914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Global double value of PI = " &lt;&lt; ::PI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4307040"/>
              <a:ext cx="6705000" cy="215280"/>
              <a:chOff x="0" y="4307040"/>
              <a:chExt cx="6705000" cy="21528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4307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430704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4522320"/>
              <a:ext cx="6705000" cy="215280"/>
              <a:chOff x="0" y="4522320"/>
              <a:chExt cx="6705000" cy="21528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4522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452232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4737600"/>
              <a:ext cx="6705000" cy="215280"/>
              <a:chOff x="0" y="4737600"/>
              <a:chExt cx="6705000" cy="21528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4737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4737600"/>
                <a:ext cx="6705000" cy="215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1" name=""/>
          <p:cNvSpPr/>
          <p:nvPr/>
        </p:nvSpPr>
        <p:spPr>
          <a:xfrm>
            <a:off x="0" y="548640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5105160" y="3276720"/>
            <a:ext cx="2972160" cy="761760"/>
            <a:chOff x="5105160" y="3276720"/>
            <a:chExt cx="2972160" cy="761760"/>
          </a:xfrm>
        </p:grpSpPr>
        <p:sp>
          <p:nvSpPr>
            <p:cNvPr id="1503" name=""/>
            <p:cNvSpPr/>
            <p:nvPr/>
          </p:nvSpPr>
          <p:spPr>
            <a:xfrm>
              <a:off x="6172200" y="3276720"/>
              <a:ext cx="19051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us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: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105160" y="3581280"/>
              <a:ext cx="1523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3D48-12CD-48DA-A38C-08FD8D46F22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0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ing 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perform similar tasks ( i.e., a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, and function to squ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chooses function by signa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 determined by function name and paramet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the same return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25D0-F3A1-4B6A-A9C5-BD714B4C193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ogram Components in 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written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tatements are hidden from other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ss to worker analog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ss does not know how the worker gets the job done; he just wants it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FA96-11BB-4D99-B447-C3AF050F06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514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overloaded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0" y="0"/>
            <a:ext cx="6705000" cy="4495680"/>
            <a:chOff x="0" y="0"/>
            <a:chExt cx="6705000" cy="4495680"/>
          </a:xfrm>
        </p:grpSpPr>
        <p:grpSp>
          <p:nvGrpSpPr>
            <p:cNvPr id="1509" name=""/>
            <p:cNvGrpSpPr/>
            <p:nvPr/>
          </p:nvGrpSpPr>
          <p:grpSpPr>
            <a:xfrm>
              <a:off x="0" y="0"/>
              <a:ext cx="6705000" cy="236520"/>
              <a:chOff x="0" y="0"/>
              <a:chExt cx="6705000" cy="236520"/>
            </a:xfrm>
          </p:grpSpPr>
          <p:sp>
            <p:nvSpPr>
              <p:cNvPr id="1510" name=""/>
              <p:cNvSpPr/>
              <p:nvPr/>
            </p:nvSpPr>
            <p:spPr>
              <a:xfrm>
                <a:off x="0" y="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0" y="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3.25: fig03_2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0" y="236520"/>
              <a:ext cx="6705000" cy="236520"/>
              <a:chOff x="0" y="236520"/>
              <a:chExt cx="6705000" cy="236520"/>
            </a:xfrm>
          </p:grpSpPr>
          <p:sp>
            <p:nvSpPr>
              <p:cNvPr id="1513" name=""/>
              <p:cNvSpPr/>
              <p:nvPr/>
            </p:nvSpPr>
            <p:spPr>
              <a:xfrm>
                <a:off x="0" y="2365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0" y="2365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overloaded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0" y="473040"/>
              <a:ext cx="6705000" cy="236520"/>
              <a:chOff x="0" y="473040"/>
              <a:chExt cx="6705000" cy="236520"/>
            </a:xfrm>
          </p:grpSpPr>
          <p:sp>
            <p:nvSpPr>
              <p:cNvPr id="1516" name=""/>
              <p:cNvSpPr/>
              <p:nvPr/>
            </p:nvSpPr>
            <p:spPr>
              <a:xfrm>
                <a:off x="0" y="4730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0" y="4730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0" y="709920"/>
              <a:ext cx="6705000" cy="236520"/>
              <a:chOff x="0" y="709920"/>
              <a:chExt cx="6705000" cy="236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0" y="709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0" y="709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0" y="946440"/>
              <a:ext cx="6705000" cy="236520"/>
              <a:chOff x="0" y="946440"/>
              <a:chExt cx="6705000" cy="236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0" y="9464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0" y="9464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0" y="1182960"/>
              <a:ext cx="6705000" cy="236520"/>
              <a:chOff x="0" y="1182960"/>
              <a:chExt cx="6705000" cy="236520"/>
            </a:xfrm>
          </p:grpSpPr>
          <p:sp>
            <p:nvSpPr>
              <p:cNvPr id="1525" name=""/>
              <p:cNvSpPr/>
              <p:nvPr/>
            </p:nvSpPr>
            <p:spPr>
              <a:xfrm>
                <a:off x="0" y="11829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0" y="11829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0" y="1419480"/>
              <a:ext cx="6705000" cy="236520"/>
              <a:chOff x="0" y="1419480"/>
              <a:chExt cx="6705000" cy="236520"/>
            </a:xfrm>
          </p:grpSpPr>
          <p:sp>
            <p:nvSpPr>
              <p:cNvPr id="1528" name=""/>
              <p:cNvSpPr/>
              <p:nvPr/>
            </p:nvSpPr>
            <p:spPr>
              <a:xfrm>
                <a:off x="0" y="14194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14194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0" y="1656360"/>
              <a:ext cx="6705000" cy="236520"/>
              <a:chOff x="0" y="1656360"/>
              <a:chExt cx="6705000" cy="236520"/>
            </a:xfrm>
          </p:grpSpPr>
          <p:sp>
            <p:nvSpPr>
              <p:cNvPr id="1531" name=""/>
              <p:cNvSpPr/>
              <p:nvPr/>
            </p:nvSpPr>
            <p:spPr>
              <a:xfrm>
                <a:off x="0" y="16563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0" y="16563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*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0" y="1892880"/>
              <a:ext cx="6705000" cy="236520"/>
              <a:chOff x="0" y="1892880"/>
              <a:chExt cx="6705000" cy="236520"/>
            </a:xfrm>
          </p:grpSpPr>
          <p:sp>
            <p:nvSpPr>
              <p:cNvPr id="1534" name=""/>
              <p:cNvSpPr/>
              <p:nvPr/>
            </p:nvSpPr>
            <p:spPr>
              <a:xfrm>
                <a:off x="0" y="18928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189288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0" y="2129400"/>
              <a:ext cx="6705000" cy="236520"/>
              <a:chOff x="0" y="2129400"/>
              <a:chExt cx="6705000" cy="236520"/>
            </a:xfrm>
          </p:grpSpPr>
          <p:sp>
            <p:nvSpPr>
              <p:cNvPr id="1537" name=""/>
              <p:cNvSpPr/>
              <p:nvPr/>
            </p:nvSpPr>
            <p:spPr>
              <a:xfrm>
                <a:off x="0" y="21294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0" y="21294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 * y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0" y="2365920"/>
              <a:ext cx="6705000" cy="236520"/>
              <a:chOff x="0" y="2365920"/>
              <a:chExt cx="6705000" cy="236520"/>
            </a:xfrm>
          </p:grpSpPr>
          <p:sp>
            <p:nvSpPr>
              <p:cNvPr id="1540" name=""/>
              <p:cNvSpPr/>
              <p:nvPr/>
            </p:nvSpPr>
            <p:spPr>
              <a:xfrm>
                <a:off x="0" y="2365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0" y="23659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0" y="2602800"/>
              <a:ext cx="6705000" cy="236520"/>
              <a:chOff x="0" y="2602800"/>
              <a:chExt cx="6705000" cy="23652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26028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260280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839320"/>
              <a:ext cx="6705000" cy="236520"/>
              <a:chOff x="0" y="2839320"/>
              <a:chExt cx="6705000" cy="23652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8393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8393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3075840"/>
              <a:ext cx="6705000" cy="236520"/>
              <a:chOff x="0" y="3075840"/>
              <a:chExt cx="6705000" cy="23652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30758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30758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The square of integer 7 is " &lt;&lt; square( 7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3312720"/>
              <a:ext cx="6705000" cy="236520"/>
              <a:chOff x="0" y="3312720"/>
              <a:chExt cx="6705000" cy="23652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33127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331272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The square of double 7.5 is " &lt;&lt; square( 7.5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3549240"/>
              <a:ext cx="6705000" cy="236520"/>
              <a:chOff x="0" y="3549240"/>
              <a:chExt cx="6705000" cy="23652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35492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35492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endl;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3785760"/>
              <a:ext cx="6705000" cy="236520"/>
              <a:chOff x="0" y="3785760"/>
              <a:chExt cx="6705000" cy="23652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37857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37857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4022640"/>
              <a:ext cx="6705000" cy="236520"/>
              <a:chOff x="0" y="4022640"/>
              <a:chExt cx="6705000" cy="23652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40226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402264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4259160"/>
              <a:ext cx="6705000" cy="236520"/>
              <a:chOff x="0" y="4259160"/>
              <a:chExt cx="6705000" cy="23652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2591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259160"/>
                <a:ext cx="670500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6" name=""/>
          <p:cNvSpPr/>
          <p:nvPr/>
        </p:nvSpPr>
        <p:spPr>
          <a:xfrm>
            <a:off x="0" y="51055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double 7.5 is 56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828440" y="609480"/>
            <a:ext cx="4420080" cy="1524240"/>
            <a:chOff x="1828440" y="609480"/>
            <a:chExt cx="4420080" cy="1524240"/>
          </a:xfrm>
        </p:grpSpPr>
        <p:sp>
          <p:nvSpPr>
            <p:cNvPr id="1568" name=""/>
            <p:cNvSpPr/>
            <p:nvPr/>
          </p:nvSpPr>
          <p:spPr>
            <a:xfrm>
              <a:off x="3505320" y="60948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ctions have same name but different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1828440" y="990720"/>
              <a:ext cx="1676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2285640" y="114300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68E2-116A-4251-B9F3-3FAFE75B3B9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2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temp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every formal type parameter (built in or user defin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or template&lt; typename 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ue1 * value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placed by type parameter in function c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2B3B-1BF8-49D3-AEDC-588E3D8019D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the programmer to perform common mathematical calc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by including the header 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cmat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called by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t &lt;&lt; sqrt( 900.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quare root) function. The preceding statement would pr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takes an argumen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returns a result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do all functions in the math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711D-19B5-41BA-A996-09CD7C7F50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ath Library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argument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sqrt( x )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( 3 - 6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1B0F-9566-422C-B5C0-16890BCEC5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the programmer to 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only in the function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riables declared in function defini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variables passed when the function is called that provide the function with outsid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F2AE-AFE7-49B8-99D8-8696D9AF09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3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Defini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ed function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i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he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for function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-value-type  function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-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ons and stat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quare( int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*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9AC1-AFE3-4C66-B848-3DED14E0C3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4:51:05Z</dcterms:created>
  <dc:creator>kalid</dc:creator>
  <dc:description/>
  <dc:language>en-US</dc:language>
  <cp:lastModifiedBy>Antonella Esposito</cp:lastModifiedBy>
  <dcterms:modified xsi:type="dcterms:W3CDTF">2001-01-12T10:40:57Z</dcterms:modified>
  <cp:revision>407</cp:revision>
  <dc:subject/>
  <dc:title>Chapter 3 - Functions</dc:title>
</cp:coreProperties>
</file>