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7008813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D42EE-37F5-429A-8585-7294053F99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CC67F-E703-448D-9AA8-111D770083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82692-6211-40C4-B696-5E2188A379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74534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2778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6290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74534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2778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11273-F6C6-4A99-8A83-9BF3C5E1E0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555C4-8E92-43E4-A362-215735A552D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4EC93-9FBF-43F2-842A-04CC9E9CBF4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D2B86-9B07-45F0-AB37-7254C0B4386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A9E36-1267-420F-AE48-77B288CE6CC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14B87-604F-4C73-BEBF-2DDB987CD8A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28699-E812-40BF-AD17-7515BD9293B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45858-4C4B-470B-BE62-B22C1521B5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D2FAD-D442-4244-A7DC-3293643DF0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C1521-38A2-4EDD-8417-CBBF4CE78BA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9228D-AA23-4E4A-BBEA-BA15BC3CEB8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E05CE-ED93-441C-93B3-011A410AC77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98447-ED6E-4BCB-B7E2-1A18927EC11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74534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2778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6290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74534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82778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6C73C-9FD6-4A42-BF86-01B751192D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C422D-8EFB-4794-826E-BE798F981A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57EF5-047B-4EE8-8687-0339F16AC8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1CC9E-DE08-41CF-AAC3-81DDFC197C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73680-C3B4-456D-9486-92C9930993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19289-2A39-4AB9-9AE2-88BB4BAE1A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DC8DD-A57B-4424-B725-730D487C4D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330D6-7E8D-4ABC-8DC7-0BA17E2EC5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229E4-7739-43A0-BCD3-CC79AF9574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7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C7313-6705-4BCF-BC68-CBBBA568EC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53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662940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vantGarde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pter 8 - Operator Overloading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695600"/>
            <a:ext cx="9144000" cy="7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63360" tIns="30240" bIns="46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1347840"/>
            <a:ext cx="8077320" cy="38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63360" tIns="30240" bIns="4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Outlin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undamentals of Operator Overloading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3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Restrictions on Operator Overloading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4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Operator Functions as Class Members vs. as friend 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5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Overloading Stream-Insertion and Stream-Extraction Oper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6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Overloading Unary Operator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7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Overloading Binary Operator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8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ase Study: An Array Clas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9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onverting between Type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10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ase Study: A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String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Clas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1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Overloading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++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and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--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1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ase Study: A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Dat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Class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42657-4D48-4F5E-B6E0-F1172E61057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457200"/>
            <a:ext cx="6705720" cy="1006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phone number in the form (123) 456-7890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800) 555-12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phone number entered was: (800) 555-12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2E2BC-7A50-4E3F-98EB-9EC12CA9377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6  Overloading Unary Operators</a:t>
            </a:r>
            <a:br>
              <a:rPr sz="2800"/>
            </a:b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oading unary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be overloaded with no arguments or one argu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ould usually be implemented as member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s and classes because they violate the encapsulation of a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 declaration as a member func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String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bool operator!() cons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..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3F99E-60BD-459A-ADF4-11A72DE12F0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6  Overloading Unary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 declaration as a non-member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String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friend bool operator!( const String &amp; 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..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FF5A0-A989-437F-86DC-EC97BDC759B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7  Overloading Binary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oaded Binary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n-static member function, one argu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String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 String &amp;operator+=(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 String &amp;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 += z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equivalent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.operator+=( z 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4858A-9666-43D4-8ADA-C8A3A4BD878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7  Overloading Binary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n-member function, two argu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String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 const String &amp;operator+=(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 &amp;, const String &amp;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 += z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equivalent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perator+=( y, z )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9E125-560F-44FC-8790-EF8E843BEA9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8  Case Study: An Array class</a:t>
            </a:r>
            <a:br>
              <a:rPr sz="2800"/>
            </a:b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 a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rra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wi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ange check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 assign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s that know their siz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utputting/inputting entire arrays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&gt;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 comparisons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!=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59E13-D465-4A03-9091-3A45FE8224E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Class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prototyp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321" name=""/>
            <p:cNvGrpSpPr/>
            <p:nvPr/>
          </p:nvGrpSpPr>
          <p:grpSpPr>
            <a:xfrm>
              <a:off x="0" y="0"/>
              <a:ext cx="6780960" cy="201600"/>
              <a:chOff x="0" y="0"/>
              <a:chExt cx="6780960" cy="201600"/>
            </a:xfrm>
          </p:grpSpPr>
          <p:sp>
            <p:nvSpPr>
              <p:cNvPr id="322" name="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Fig. 8.4: array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0" y="201600"/>
              <a:ext cx="6780960" cy="201600"/>
              <a:chOff x="0" y="201600"/>
              <a:chExt cx="6780960" cy="201600"/>
            </a:xfrm>
          </p:grpSpPr>
          <p:sp>
            <p:nvSpPr>
              <p:cNvPr id="325" name="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Simple class Array (for integers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0" y="403200"/>
              <a:ext cx="6780960" cy="201600"/>
              <a:chOff x="0" y="403200"/>
              <a:chExt cx="6780960" cy="201600"/>
            </a:xfrm>
          </p:grpSpPr>
          <p:sp>
            <p:nvSpPr>
              <p:cNvPr id="328" name="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RRAY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0" y="605160"/>
              <a:ext cx="6780960" cy="201600"/>
              <a:chOff x="0" y="605160"/>
              <a:chExt cx="6780960" cy="201600"/>
            </a:xfrm>
          </p:grpSpPr>
          <p:sp>
            <p:nvSpPr>
              <p:cNvPr id="331" name="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RRAY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0" y="806760"/>
              <a:ext cx="6780960" cy="201600"/>
              <a:chOff x="0" y="806760"/>
              <a:chExt cx="6780960" cy="201600"/>
            </a:xfrm>
          </p:grpSpPr>
          <p:sp>
            <p:nvSpPr>
              <p:cNvPr id="334" name="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0" y="1008360"/>
              <a:ext cx="6780960" cy="201600"/>
              <a:chOff x="0" y="1008360"/>
              <a:chExt cx="6780960" cy="201600"/>
            </a:xfrm>
          </p:grpSpPr>
          <p:sp>
            <p:nvSpPr>
              <p:cNvPr id="337" name="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0" y="1209960"/>
              <a:ext cx="6780960" cy="201600"/>
              <a:chOff x="0" y="1209960"/>
              <a:chExt cx="6780960" cy="201600"/>
            </a:xfrm>
          </p:grpSpPr>
          <p:sp>
            <p:nvSpPr>
              <p:cNvPr id="340" name="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0" y="1411920"/>
              <a:ext cx="6780960" cy="201600"/>
              <a:chOff x="0" y="1411920"/>
              <a:chExt cx="6780960" cy="201600"/>
            </a:xfrm>
          </p:grpSpPr>
          <p:sp>
            <p:nvSpPr>
              <p:cNvPr id="343" name="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ostrea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0" y="1613520"/>
              <a:ext cx="6780960" cy="201600"/>
              <a:chOff x="0" y="1613520"/>
              <a:chExt cx="6780960" cy="201600"/>
            </a:xfrm>
          </p:grpSpPr>
          <p:sp>
            <p:nvSpPr>
              <p:cNvPr id="346" name="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istrea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0" y="1815120"/>
              <a:ext cx="6780960" cy="201600"/>
              <a:chOff x="0" y="1815120"/>
              <a:chExt cx="6780960" cy="201600"/>
            </a:xfrm>
          </p:grpSpPr>
          <p:sp>
            <p:nvSpPr>
              <p:cNvPr id="349" name="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0" y="2017080"/>
              <a:ext cx="6780960" cy="201600"/>
              <a:chOff x="0" y="2017080"/>
              <a:chExt cx="6780960" cy="201600"/>
            </a:xfrm>
          </p:grpSpPr>
          <p:sp>
            <p:nvSpPr>
              <p:cNvPr id="352" name="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rray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0" y="2218680"/>
              <a:ext cx="6780960" cy="201600"/>
              <a:chOff x="0" y="2218680"/>
              <a:chExt cx="6780960" cy="201600"/>
            </a:xfrm>
          </p:grpSpPr>
          <p:sp>
            <p:nvSpPr>
              <p:cNvPr id="355" name="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rien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ostream &amp;operator&lt;&lt;( ostream &amp;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rray &amp;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0" y="2420280"/>
              <a:ext cx="6780960" cy="201600"/>
              <a:chOff x="0" y="2420280"/>
              <a:chExt cx="6780960" cy="201600"/>
            </a:xfrm>
          </p:grpSpPr>
          <p:sp>
            <p:nvSpPr>
              <p:cNvPr id="358" name="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rien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istream &amp;operator&gt;&gt;( istream &amp;, Array &amp;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0" y="2622240"/>
              <a:ext cx="6780960" cy="201600"/>
              <a:chOff x="0" y="2622240"/>
              <a:chExt cx="6780960" cy="201600"/>
            </a:xfrm>
          </p:grpSpPr>
          <p:sp>
            <p:nvSpPr>
              <p:cNvPr id="361" name="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0" y="2823840"/>
              <a:ext cx="6780960" cy="201600"/>
              <a:chOff x="0" y="2823840"/>
              <a:chExt cx="6780960" cy="201600"/>
            </a:xfrm>
          </p:grpSpPr>
          <p:sp>
            <p:nvSpPr>
              <p:cNvPr id="364" name="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Arra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= 10 );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0" y="3025440"/>
              <a:ext cx="6780960" cy="201600"/>
              <a:chOff x="0" y="3025440"/>
              <a:chExt cx="6780960" cy="201600"/>
            </a:xfrm>
          </p:grpSpPr>
          <p:sp>
            <p:nvSpPr>
              <p:cNvPr id="367" name="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Arra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rray &amp; );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opy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0" y="3227400"/>
              <a:ext cx="6780960" cy="201600"/>
              <a:chOff x="0" y="3227400"/>
              <a:chExt cx="6780960" cy="201600"/>
            </a:xfrm>
          </p:grpSpPr>
          <p:sp>
            <p:nvSpPr>
              <p:cNvPr id="370" name="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~Array();  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  // de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0" y="3429000"/>
              <a:ext cx="6780960" cy="201600"/>
              <a:chOff x="0" y="3429000"/>
              <a:chExt cx="6780960" cy="201600"/>
            </a:xfrm>
          </p:grpSpPr>
          <p:sp>
            <p:nvSpPr>
              <p:cNvPr id="373" name="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getSiz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;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return siz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0" y="3630600"/>
              <a:ext cx="6780960" cy="201600"/>
              <a:chOff x="0" y="3630600"/>
              <a:chExt cx="6780960" cy="201600"/>
            </a:xfrm>
          </p:grpSpPr>
          <p:sp>
            <p:nvSpPr>
              <p:cNvPr id="376" name="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rray &amp;operator=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rray &amp;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assign array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0" y="3832200"/>
              <a:ext cx="6780960" cy="201600"/>
              <a:chOff x="0" y="3832200"/>
              <a:chExt cx="6780960" cy="201600"/>
            </a:xfrm>
          </p:grpSpPr>
          <p:sp>
            <p:nvSpPr>
              <p:cNvPr id="379" name="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operator==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rray &amp; 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ompare equ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0" y="4034160"/>
              <a:ext cx="6780960" cy="201600"/>
              <a:chOff x="0" y="4034160"/>
              <a:chExt cx="6780960" cy="201600"/>
            </a:xfrm>
          </p:grpSpPr>
          <p:sp>
            <p:nvSpPr>
              <p:cNvPr id="382" name="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0" y="4235760"/>
              <a:ext cx="6780960" cy="201600"/>
              <a:chOff x="0" y="4235760"/>
              <a:chExt cx="6780960" cy="201600"/>
            </a:xfrm>
          </p:grpSpPr>
          <p:sp>
            <p:nvSpPr>
              <p:cNvPr id="385" name="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Determine if two arrays are not equal a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0" y="4437360"/>
              <a:ext cx="6780960" cy="201600"/>
              <a:chOff x="0" y="4437360"/>
              <a:chExt cx="6780960" cy="201600"/>
            </a:xfrm>
          </p:grpSpPr>
          <p:sp>
            <p:nvSpPr>
              <p:cNvPr id="388" name="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return true, otherwise return false (uses operator==)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0" y="4639320"/>
              <a:ext cx="6780960" cy="201600"/>
              <a:chOff x="0" y="4639320"/>
              <a:chExt cx="6780960" cy="201600"/>
            </a:xfrm>
          </p:grpSpPr>
          <p:sp>
            <p:nvSpPr>
              <p:cNvPr id="391" name="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operator!=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rray &amp;right 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0" y="4840920"/>
              <a:ext cx="6780960" cy="201600"/>
              <a:chOff x="0" y="4840920"/>
              <a:chExt cx="6780960" cy="201600"/>
            </a:xfrm>
          </p:grpSpPr>
          <p:sp>
            <p:nvSpPr>
              <p:cNvPr id="394" name="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! ( *this == right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0" y="5042520"/>
              <a:ext cx="6780960" cy="201600"/>
              <a:chOff x="0" y="5042520"/>
              <a:chExt cx="6780960" cy="201600"/>
            </a:xfrm>
          </p:grpSpPr>
          <p:sp>
            <p:nvSpPr>
              <p:cNvPr id="397" name="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0" y="5244480"/>
              <a:ext cx="6780960" cy="201600"/>
              <a:chOff x="0" y="5244480"/>
              <a:chExt cx="6780960" cy="201600"/>
            </a:xfrm>
          </p:grpSpPr>
          <p:sp>
            <p:nvSpPr>
              <p:cNvPr id="400" name="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amp;operator[]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);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subscript opera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0" y="5446080"/>
              <a:ext cx="6780960" cy="201600"/>
              <a:chOff x="0" y="5446080"/>
              <a:chExt cx="6780960" cy="201600"/>
            </a:xfrm>
          </p:grpSpPr>
          <p:sp>
            <p:nvSpPr>
              <p:cNvPr id="403" name="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amp;operator[]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subscript opera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0" y="5647680"/>
              <a:ext cx="6780960" cy="201600"/>
              <a:chOff x="0" y="5647680"/>
              <a:chExt cx="6780960" cy="201600"/>
            </a:xfrm>
          </p:grpSpPr>
          <p:sp>
            <p:nvSpPr>
              <p:cNvPr id="406" name="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static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getArrayCount();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Return count of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0" y="5849640"/>
              <a:ext cx="6780960" cy="201600"/>
              <a:chOff x="0" y="5849640"/>
              <a:chExt cx="6780960" cy="201600"/>
            </a:xfrm>
          </p:grpSpPr>
          <p:sp>
            <p:nvSpPr>
              <p:cNvPr id="409" name="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         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arrays instantiated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0" y="6051240"/>
              <a:ext cx="6780960" cy="201600"/>
              <a:chOff x="0" y="6051240"/>
              <a:chExt cx="6780960" cy="201600"/>
            </a:xfrm>
          </p:grpSpPr>
          <p:sp>
            <p:nvSpPr>
              <p:cNvPr id="412" name="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0" y="6252840"/>
              <a:ext cx="6780960" cy="201600"/>
              <a:chOff x="0" y="6252840"/>
              <a:chExt cx="6780960" cy="201600"/>
            </a:xfrm>
          </p:grpSpPr>
          <p:sp>
            <p:nvSpPr>
              <p:cNvPr id="415" name="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ize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size of the arr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0" y="6454800"/>
              <a:ext cx="6780960" cy="201600"/>
              <a:chOff x="0" y="6454800"/>
              <a:chExt cx="6780960" cy="201600"/>
            </a:xfrm>
          </p:grpSpPr>
          <p:sp>
            <p:nvSpPr>
              <p:cNvPr id="418" name="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ptr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pointer to first element of arr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0" y="6656400"/>
              <a:ext cx="6780960" cy="201600"/>
              <a:chOff x="0" y="6656400"/>
              <a:chExt cx="6780960" cy="201600"/>
            </a:xfrm>
          </p:grpSpPr>
          <p:sp>
            <p:nvSpPr>
              <p:cNvPr id="421" name="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static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rrayCount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# of Arrays instantia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3" name=""/>
          <p:cNvSpPr/>
          <p:nvPr/>
        </p:nvSpPr>
        <p:spPr>
          <a:xfrm>
            <a:off x="9372600" y="2590920"/>
            <a:ext cx="91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3200400" y="2666880"/>
            <a:ext cx="5486400" cy="2057400"/>
            <a:chOff x="3200400" y="2666880"/>
            <a:chExt cx="5486400" cy="2057400"/>
          </a:xfrm>
        </p:grpSpPr>
        <p:sp>
          <p:nvSpPr>
            <p:cNvPr id="425" name=""/>
            <p:cNvSpPr/>
            <p:nvPr/>
          </p:nvSpPr>
          <p:spPr>
            <a:xfrm>
              <a:off x="5410080" y="3048120"/>
              <a:ext cx="32767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all the overloaded operators used to implement the clas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 flipV="1">
              <a:off x="3200400" y="2666880"/>
              <a:ext cx="22860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4343040" y="3352680"/>
              <a:ext cx="10666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4266720" y="3505320"/>
              <a:ext cx="11430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4038480" y="3581280"/>
              <a:ext cx="13716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15C7F-43B7-4462-8AFE-F7C2224DC82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ray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onstructo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-488952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0" y="0"/>
            <a:ext cx="6780960" cy="609120"/>
            <a:chOff x="0" y="0"/>
            <a:chExt cx="6780960" cy="609120"/>
          </a:xfrm>
        </p:grpSpPr>
        <p:grpSp>
          <p:nvGrpSpPr>
            <p:cNvPr id="433" name=""/>
            <p:cNvGrpSpPr/>
            <p:nvPr/>
          </p:nvGrpSpPr>
          <p:grpSpPr>
            <a:xfrm>
              <a:off x="0" y="0"/>
              <a:ext cx="6780960" cy="203040"/>
              <a:chOff x="0" y="0"/>
              <a:chExt cx="6780960" cy="203040"/>
            </a:xfrm>
          </p:grpSpPr>
          <p:sp>
            <p:nvSpPr>
              <p:cNvPr id="434" name=""/>
              <p:cNvSpPr/>
              <p:nvPr/>
            </p:nvSpPr>
            <p:spPr>
              <a:xfrm>
                <a:off x="0" y="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0" y="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0" y="203040"/>
              <a:ext cx="6780960" cy="203040"/>
              <a:chOff x="0" y="203040"/>
              <a:chExt cx="6780960" cy="203040"/>
            </a:xfrm>
          </p:grpSpPr>
          <p:sp>
            <p:nvSpPr>
              <p:cNvPr id="437" name=""/>
              <p:cNvSpPr/>
              <p:nvPr/>
            </p:nvSpPr>
            <p:spPr>
              <a:xfrm>
                <a:off x="0" y="20304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0" y="20304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0" y="406080"/>
              <a:ext cx="6780960" cy="203040"/>
              <a:chOff x="0" y="406080"/>
              <a:chExt cx="6780960" cy="203040"/>
            </a:xfrm>
          </p:grpSpPr>
          <p:sp>
            <p:nvSpPr>
              <p:cNvPr id="440" name=""/>
              <p:cNvSpPr/>
              <p:nvPr/>
            </p:nvSpPr>
            <p:spPr>
              <a:xfrm>
                <a:off x="0" y="40608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0" y="406080"/>
                <a:ext cx="678096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2" name=""/>
          <p:cNvGrpSpPr/>
          <p:nvPr/>
        </p:nvGrpSpPr>
        <p:grpSpPr>
          <a:xfrm>
            <a:off x="0" y="609480"/>
            <a:ext cx="6780960" cy="6248520"/>
            <a:chOff x="0" y="609480"/>
            <a:chExt cx="6780960" cy="6248520"/>
          </a:xfrm>
        </p:grpSpPr>
        <p:grpSp>
          <p:nvGrpSpPr>
            <p:cNvPr id="443" name=""/>
            <p:cNvGrpSpPr/>
            <p:nvPr/>
          </p:nvGrpSpPr>
          <p:grpSpPr>
            <a:xfrm>
              <a:off x="0" y="609480"/>
              <a:ext cx="6780960" cy="215280"/>
              <a:chOff x="0" y="609480"/>
              <a:chExt cx="6780960" cy="215280"/>
            </a:xfrm>
          </p:grpSpPr>
          <p:sp>
            <p:nvSpPr>
              <p:cNvPr id="444" name=""/>
              <p:cNvSpPr/>
              <p:nvPr/>
            </p:nvSpPr>
            <p:spPr>
              <a:xfrm>
                <a:off x="0" y="60948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0" y="60948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Fig 8.4: array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0" y="824760"/>
              <a:ext cx="6780960" cy="215280"/>
              <a:chOff x="0" y="824760"/>
              <a:chExt cx="6780960" cy="215280"/>
            </a:xfrm>
          </p:grpSpPr>
          <p:sp>
            <p:nvSpPr>
              <p:cNvPr id="447" name=""/>
              <p:cNvSpPr/>
              <p:nvPr/>
            </p:nvSpPr>
            <p:spPr>
              <a:xfrm>
                <a:off x="0" y="82476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0" y="82476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Member function definitions for class Arr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0" y="1040040"/>
              <a:ext cx="6780960" cy="215280"/>
              <a:chOff x="0" y="1040040"/>
              <a:chExt cx="6780960" cy="215280"/>
            </a:xfrm>
          </p:grpSpPr>
          <p:sp>
            <p:nvSpPr>
              <p:cNvPr id="450" name=""/>
              <p:cNvSpPr/>
              <p:nvPr/>
            </p:nvSpPr>
            <p:spPr>
              <a:xfrm>
                <a:off x="0" y="104004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0" y="104004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0" y="1255680"/>
              <a:ext cx="6780960" cy="215280"/>
              <a:chOff x="0" y="1255680"/>
              <a:chExt cx="6780960" cy="215280"/>
            </a:xfrm>
          </p:grpSpPr>
          <p:sp>
            <p:nvSpPr>
              <p:cNvPr id="453" name=""/>
              <p:cNvSpPr/>
              <p:nvPr/>
            </p:nvSpPr>
            <p:spPr>
              <a:xfrm>
                <a:off x="0" y="125568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125568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0" y="1471320"/>
              <a:ext cx="6780960" cy="215280"/>
              <a:chOff x="0" y="1471320"/>
              <a:chExt cx="6780960" cy="215280"/>
            </a:xfrm>
          </p:grpSpPr>
          <p:sp>
            <p:nvSpPr>
              <p:cNvPr id="456" name=""/>
              <p:cNvSpPr/>
              <p:nvPr/>
            </p:nvSpPr>
            <p:spPr>
              <a:xfrm>
                <a:off x="0" y="147132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0" y="147132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0" y="1686600"/>
              <a:ext cx="6780960" cy="215280"/>
              <a:chOff x="0" y="1686600"/>
              <a:chExt cx="6780960" cy="215280"/>
            </a:xfrm>
          </p:grpSpPr>
          <p:sp>
            <p:nvSpPr>
              <p:cNvPr id="459" name=""/>
              <p:cNvSpPr/>
              <p:nvPr/>
            </p:nvSpPr>
            <p:spPr>
              <a:xfrm>
                <a:off x="0" y="168660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0" y="168660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ci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0" y="1902240"/>
              <a:ext cx="6780960" cy="215280"/>
              <a:chOff x="0" y="1902240"/>
              <a:chExt cx="6780960" cy="215280"/>
            </a:xfrm>
          </p:grpSpPr>
          <p:sp>
            <p:nvSpPr>
              <p:cNvPr id="462" name=""/>
              <p:cNvSpPr/>
              <p:nvPr/>
            </p:nvSpPr>
            <p:spPr>
              <a:xfrm>
                <a:off x="0" y="190224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0" y="190224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4" name=""/>
            <p:cNvGrpSpPr/>
            <p:nvPr/>
          </p:nvGrpSpPr>
          <p:grpSpPr>
            <a:xfrm>
              <a:off x="0" y="2117520"/>
              <a:ext cx="6780960" cy="215280"/>
              <a:chOff x="0" y="2117520"/>
              <a:chExt cx="6780960" cy="215280"/>
            </a:xfrm>
          </p:grpSpPr>
          <p:sp>
            <p:nvSpPr>
              <p:cNvPr id="465" name=""/>
              <p:cNvSpPr/>
              <p:nvPr/>
            </p:nvSpPr>
            <p:spPr>
              <a:xfrm>
                <a:off x="0" y="211752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0" y="211752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0" y="2333160"/>
              <a:ext cx="6780960" cy="215280"/>
              <a:chOff x="0" y="2333160"/>
              <a:chExt cx="6780960" cy="215280"/>
            </a:xfrm>
          </p:grpSpPr>
          <p:sp>
            <p:nvSpPr>
              <p:cNvPr id="468" name=""/>
              <p:cNvSpPr/>
              <p:nvPr/>
            </p:nvSpPr>
            <p:spPr>
              <a:xfrm>
                <a:off x="0" y="233316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0" y="233316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iomanip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0" y="2548440"/>
              <a:ext cx="6780960" cy="215280"/>
              <a:chOff x="0" y="2548440"/>
              <a:chExt cx="6780960" cy="215280"/>
            </a:xfrm>
          </p:grpSpPr>
          <p:sp>
            <p:nvSpPr>
              <p:cNvPr id="471" name=""/>
              <p:cNvSpPr/>
              <p:nvPr/>
            </p:nvSpPr>
            <p:spPr>
              <a:xfrm>
                <a:off x="0" y="254844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0" y="254844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0" y="2764080"/>
              <a:ext cx="6780960" cy="215280"/>
              <a:chOff x="0" y="2764080"/>
              <a:chExt cx="6780960" cy="215280"/>
            </a:xfrm>
          </p:grpSpPr>
          <p:sp>
            <p:nvSpPr>
              <p:cNvPr id="474" name=""/>
              <p:cNvSpPr/>
              <p:nvPr/>
            </p:nvSpPr>
            <p:spPr>
              <a:xfrm>
                <a:off x="0" y="276408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0" y="276408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setw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0" y="2979720"/>
              <a:ext cx="6780960" cy="215280"/>
              <a:chOff x="0" y="2979720"/>
              <a:chExt cx="6780960" cy="215280"/>
            </a:xfrm>
          </p:grpSpPr>
          <p:sp>
            <p:nvSpPr>
              <p:cNvPr id="477" name=""/>
              <p:cNvSpPr/>
              <p:nvPr/>
            </p:nvSpPr>
            <p:spPr>
              <a:xfrm>
                <a:off x="0" y="297972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0" y="297972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9" name=""/>
            <p:cNvGrpSpPr/>
            <p:nvPr/>
          </p:nvGrpSpPr>
          <p:grpSpPr>
            <a:xfrm>
              <a:off x="0" y="3195000"/>
              <a:ext cx="6780960" cy="215280"/>
              <a:chOff x="0" y="3195000"/>
              <a:chExt cx="6780960" cy="215280"/>
            </a:xfrm>
          </p:grpSpPr>
          <p:sp>
            <p:nvSpPr>
              <p:cNvPr id="480" name=""/>
              <p:cNvSpPr/>
              <p:nvPr/>
            </p:nvSpPr>
            <p:spPr>
              <a:xfrm>
                <a:off x="0" y="319500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0" y="319500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cstdlib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2" name=""/>
            <p:cNvGrpSpPr/>
            <p:nvPr/>
          </p:nvGrpSpPr>
          <p:grpSpPr>
            <a:xfrm>
              <a:off x="0" y="3410280"/>
              <a:ext cx="6780960" cy="215280"/>
              <a:chOff x="0" y="3410280"/>
              <a:chExt cx="6780960" cy="215280"/>
            </a:xfrm>
          </p:grpSpPr>
          <p:sp>
            <p:nvSpPr>
              <p:cNvPr id="483" name=""/>
              <p:cNvSpPr/>
              <p:nvPr/>
            </p:nvSpPr>
            <p:spPr>
              <a:xfrm>
                <a:off x="0" y="341028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0" y="341028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cassert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0" y="3625920"/>
              <a:ext cx="6780960" cy="215280"/>
              <a:chOff x="0" y="3625920"/>
              <a:chExt cx="6780960" cy="215280"/>
            </a:xfrm>
          </p:grpSpPr>
          <p:sp>
            <p:nvSpPr>
              <p:cNvPr id="486" name=""/>
              <p:cNvSpPr/>
              <p:nvPr/>
            </p:nvSpPr>
            <p:spPr>
              <a:xfrm>
                <a:off x="0" y="362592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0" y="362592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"array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8" name=""/>
            <p:cNvGrpSpPr/>
            <p:nvPr/>
          </p:nvGrpSpPr>
          <p:grpSpPr>
            <a:xfrm>
              <a:off x="0" y="3841560"/>
              <a:ext cx="6780960" cy="215280"/>
              <a:chOff x="0" y="3841560"/>
              <a:chExt cx="6780960" cy="215280"/>
            </a:xfrm>
          </p:grpSpPr>
          <p:sp>
            <p:nvSpPr>
              <p:cNvPr id="489" name=""/>
              <p:cNvSpPr/>
              <p:nvPr/>
            </p:nvSpPr>
            <p:spPr>
              <a:xfrm>
                <a:off x="0" y="384156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0" y="384156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1" name=""/>
            <p:cNvGrpSpPr/>
            <p:nvPr/>
          </p:nvGrpSpPr>
          <p:grpSpPr>
            <a:xfrm>
              <a:off x="0" y="4056840"/>
              <a:ext cx="6780960" cy="215280"/>
              <a:chOff x="0" y="4056840"/>
              <a:chExt cx="6780960" cy="215280"/>
            </a:xfrm>
          </p:grpSpPr>
          <p:sp>
            <p:nvSpPr>
              <p:cNvPr id="492" name=""/>
              <p:cNvSpPr/>
              <p:nvPr/>
            </p:nvSpPr>
            <p:spPr>
              <a:xfrm>
                <a:off x="0" y="405684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0" y="405684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Initialize static data member at file sco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4" name=""/>
            <p:cNvGrpSpPr/>
            <p:nvPr/>
          </p:nvGrpSpPr>
          <p:grpSpPr>
            <a:xfrm>
              <a:off x="0" y="4272480"/>
              <a:ext cx="6780960" cy="215280"/>
              <a:chOff x="0" y="4272480"/>
              <a:chExt cx="6780960" cy="215280"/>
            </a:xfrm>
          </p:grpSpPr>
          <p:sp>
            <p:nvSpPr>
              <p:cNvPr id="495" name=""/>
              <p:cNvSpPr/>
              <p:nvPr/>
            </p:nvSpPr>
            <p:spPr>
              <a:xfrm>
                <a:off x="0" y="427248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0" y="427248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rray::arrayCount = 0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no objects ye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7" name=""/>
            <p:cNvGrpSpPr/>
            <p:nvPr/>
          </p:nvGrpSpPr>
          <p:grpSpPr>
            <a:xfrm>
              <a:off x="0" y="4487760"/>
              <a:ext cx="6780960" cy="215280"/>
              <a:chOff x="0" y="4487760"/>
              <a:chExt cx="6780960" cy="215280"/>
            </a:xfrm>
          </p:grpSpPr>
          <p:sp>
            <p:nvSpPr>
              <p:cNvPr id="498" name=""/>
              <p:cNvSpPr/>
              <p:nvPr/>
            </p:nvSpPr>
            <p:spPr>
              <a:xfrm>
                <a:off x="0" y="448776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0" y="448776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0" name=""/>
            <p:cNvGrpSpPr/>
            <p:nvPr/>
          </p:nvGrpSpPr>
          <p:grpSpPr>
            <a:xfrm>
              <a:off x="0" y="4703400"/>
              <a:ext cx="6780960" cy="215280"/>
              <a:chOff x="0" y="4703400"/>
              <a:chExt cx="6780960" cy="215280"/>
            </a:xfrm>
          </p:grpSpPr>
          <p:sp>
            <p:nvSpPr>
              <p:cNvPr id="501" name=""/>
              <p:cNvSpPr/>
              <p:nvPr/>
            </p:nvSpPr>
            <p:spPr>
              <a:xfrm>
                <a:off x="0" y="470340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0" y="470340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Default constructor for class Array (default size 10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0" y="4918680"/>
              <a:ext cx="6780960" cy="215280"/>
              <a:chOff x="0" y="4918680"/>
              <a:chExt cx="6780960" cy="215280"/>
            </a:xfrm>
          </p:grpSpPr>
          <p:sp>
            <p:nvSpPr>
              <p:cNvPr id="504" name=""/>
              <p:cNvSpPr/>
              <p:nvPr/>
            </p:nvSpPr>
            <p:spPr>
              <a:xfrm>
                <a:off x="0" y="491868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0" y="491868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Array::Arra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rraySize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0" y="5134320"/>
              <a:ext cx="6780960" cy="215280"/>
              <a:chOff x="0" y="5134320"/>
              <a:chExt cx="6780960" cy="215280"/>
            </a:xfrm>
          </p:grpSpPr>
          <p:sp>
            <p:nvSpPr>
              <p:cNvPr id="507" name=""/>
              <p:cNvSpPr/>
              <p:nvPr/>
            </p:nvSpPr>
            <p:spPr>
              <a:xfrm>
                <a:off x="0" y="513432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0" y="513432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9" name=""/>
            <p:cNvGrpSpPr/>
            <p:nvPr/>
          </p:nvGrpSpPr>
          <p:grpSpPr>
            <a:xfrm>
              <a:off x="0" y="5349600"/>
              <a:ext cx="6780960" cy="215280"/>
              <a:chOff x="0" y="5349600"/>
              <a:chExt cx="6780960" cy="215280"/>
            </a:xfrm>
          </p:grpSpPr>
          <p:sp>
            <p:nvSpPr>
              <p:cNvPr id="510" name=""/>
              <p:cNvSpPr/>
              <p:nvPr/>
            </p:nvSpPr>
            <p:spPr>
              <a:xfrm>
                <a:off x="0" y="534960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0" y="534960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size = ( arraySize &gt; 0 ? arraySize : 10 );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" name=""/>
            <p:cNvGrpSpPr/>
            <p:nvPr/>
          </p:nvGrpSpPr>
          <p:grpSpPr>
            <a:xfrm>
              <a:off x="0" y="5565240"/>
              <a:ext cx="6780960" cy="215280"/>
              <a:chOff x="0" y="5565240"/>
              <a:chExt cx="6780960" cy="215280"/>
            </a:xfrm>
          </p:grpSpPr>
          <p:sp>
            <p:nvSpPr>
              <p:cNvPr id="513" name=""/>
              <p:cNvSpPr/>
              <p:nvPr/>
            </p:nvSpPr>
            <p:spPr>
              <a:xfrm>
                <a:off x="0" y="556524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0" y="556524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ptr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new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[ size ]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reate space for arr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5" name=""/>
            <p:cNvGrpSpPr/>
            <p:nvPr/>
          </p:nvGrpSpPr>
          <p:grpSpPr>
            <a:xfrm>
              <a:off x="0" y="5780880"/>
              <a:ext cx="6780960" cy="215280"/>
              <a:chOff x="0" y="5780880"/>
              <a:chExt cx="6780960" cy="215280"/>
            </a:xfrm>
          </p:grpSpPr>
          <p:sp>
            <p:nvSpPr>
              <p:cNvPr id="516" name=""/>
              <p:cNvSpPr/>
              <p:nvPr/>
            </p:nvSpPr>
            <p:spPr>
              <a:xfrm>
                <a:off x="0" y="578088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0" y="578088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assert( ptr != 0 )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terminate if memory not alloca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8" name=""/>
            <p:cNvGrpSpPr/>
            <p:nvPr/>
          </p:nvGrpSpPr>
          <p:grpSpPr>
            <a:xfrm>
              <a:off x="0" y="5996160"/>
              <a:ext cx="6780960" cy="215280"/>
              <a:chOff x="0" y="5996160"/>
              <a:chExt cx="6780960" cy="215280"/>
            </a:xfrm>
          </p:grpSpPr>
          <p:sp>
            <p:nvSpPr>
              <p:cNvPr id="519" name=""/>
              <p:cNvSpPr/>
              <p:nvPr/>
            </p:nvSpPr>
            <p:spPr>
              <a:xfrm>
                <a:off x="0" y="599616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0" y="599616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++arrayCount;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ount one more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1" name=""/>
            <p:cNvGrpSpPr/>
            <p:nvPr/>
          </p:nvGrpSpPr>
          <p:grpSpPr>
            <a:xfrm>
              <a:off x="0" y="6211440"/>
              <a:ext cx="6780960" cy="215280"/>
              <a:chOff x="0" y="6211440"/>
              <a:chExt cx="6780960" cy="215280"/>
            </a:xfrm>
          </p:grpSpPr>
          <p:sp>
            <p:nvSpPr>
              <p:cNvPr id="522" name=""/>
              <p:cNvSpPr/>
              <p:nvPr/>
            </p:nvSpPr>
            <p:spPr>
              <a:xfrm>
                <a:off x="0" y="621144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0" y="621144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4" name=""/>
            <p:cNvGrpSpPr/>
            <p:nvPr/>
          </p:nvGrpSpPr>
          <p:grpSpPr>
            <a:xfrm>
              <a:off x="0" y="6427080"/>
              <a:ext cx="6780960" cy="215280"/>
              <a:chOff x="0" y="6427080"/>
              <a:chExt cx="6780960" cy="215280"/>
            </a:xfrm>
          </p:grpSpPr>
          <p:sp>
            <p:nvSpPr>
              <p:cNvPr id="525" name=""/>
              <p:cNvSpPr/>
              <p:nvPr/>
            </p:nvSpPr>
            <p:spPr>
              <a:xfrm>
                <a:off x="0" y="642708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0" y="642708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i = 0; i &lt; size; i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7" name=""/>
            <p:cNvGrpSpPr/>
            <p:nvPr/>
          </p:nvGrpSpPr>
          <p:grpSpPr>
            <a:xfrm>
              <a:off x="0" y="6642720"/>
              <a:ext cx="6780960" cy="215280"/>
              <a:chOff x="0" y="6642720"/>
              <a:chExt cx="6780960" cy="215280"/>
            </a:xfrm>
          </p:grpSpPr>
          <p:sp>
            <p:nvSpPr>
              <p:cNvPr id="528" name=""/>
              <p:cNvSpPr/>
              <p:nvPr/>
            </p:nvSpPr>
            <p:spPr>
              <a:xfrm>
                <a:off x="0" y="664272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0" y="6642720"/>
                <a:ext cx="678096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ptr[ i ] = 0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initialize arr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F066C-2CF7-401F-919A-E7B7BC247D8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3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ray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estructo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4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rator=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(assignment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532" name=""/>
            <p:cNvGrpSpPr/>
            <p:nvPr/>
          </p:nvGrpSpPr>
          <p:grpSpPr>
            <a:xfrm>
              <a:off x="0" y="0"/>
              <a:ext cx="6780960" cy="201600"/>
              <a:chOff x="0" y="0"/>
              <a:chExt cx="6780960" cy="201600"/>
            </a:xfrm>
          </p:grpSpPr>
          <p:sp>
            <p:nvSpPr>
              <p:cNvPr id="533" name="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"/>
            <p:cNvGrpSpPr/>
            <p:nvPr/>
          </p:nvGrpSpPr>
          <p:grpSpPr>
            <a:xfrm>
              <a:off x="0" y="201600"/>
              <a:ext cx="6780960" cy="201600"/>
              <a:chOff x="0" y="201600"/>
              <a:chExt cx="6780960" cy="201600"/>
            </a:xfrm>
          </p:grpSpPr>
          <p:sp>
            <p:nvSpPr>
              <p:cNvPr id="536" name="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8" name=""/>
            <p:cNvGrpSpPr/>
            <p:nvPr/>
          </p:nvGrpSpPr>
          <p:grpSpPr>
            <a:xfrm>
              <a:off x="0" y="403200"/>
              <a:ext cx="6780960" cy="201600"/>
              <a:chOff x="0" y="403200"/>
              <a:chExt cx="6780960" cy="201600"/>
            </a:xfrm>
          </p:grpSpPr>
          <p:sp>
            <p:nvSpPr>
              <p:cNvPr id="539" name="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opy constructor for class Arr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1" name=""/>
            <p:cNvGrpSpPr/>
            <p:nvPr/>
          </p:nvGrpSpPr>
          <p:grpSpPr>
            <a:xfrm>
              <a:off x="0" y="605160"/>
              <a:ext cx="6780960" cy="201600"/>
              <a:chOff x="0" y="605160"/>
              <a:chExt cx="6780960" cy="201600"/>
            </a:xfrm>
          </p:grpSpPr>
          <p:sp>
            <p:nvSpPr>
              <p:cNvPr id="542" name="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must receive a reference to prevent infinite recurs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4" name=""/>
            <p:cNvGrpSpPr/>
            <p:nvPr/>
          </p:nvGrpSpPr>
          <p:grpSpPr>
            <a:xfrm>
              <a:off x="0" y="806760"/>
              <a:ext cx="6780960" cy="201600"/>
              <a:chOff x="0" y="806760"/>
              <a:chExt cx="6780960" cy="201600"/>
            </a:xfrm>
          </p:grpSpPr>
          <p:sp>
            <p:nvSpPr>
              <p:cNvPr id="545" name="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Array::Arra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rray &amp;init ) : size( init.size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7" name=""/>
            <p:cNvGrpSpPr/>
            <p:nvPr/>
          </p:nvGrpSpPr>
          <p:grpSpPr>
            <a:xfrm>
              <a:off x="0" y="1008360"/>
              <a:ext cx="6780960" cy="201600"/>
              <a:chOff x="0" y="1008360"/>
              <a:chExt cx="6780960" cy="201600"/>
            </a:xfrm>
          </p:grpSpPr>
          <p:sp>
            <p:nvSpPr>
              <p:cNvPr id="548" name="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0" name=""/>
            <p:cNvGrpSpPr/>
            <p:nvPr/>
          </p:nvGrpSpPr>
          <p:grpSpPr>
            <a:xfrm>
              <a:off x="0" y="1209960"/>
              <a:ext cx="6780960" cy="201600"/>
              <a:chOff x="0" y="1209960"/>
              <a:chExt cx="6780960" cy="201600"/>
            </a:xfrm>
          </p:grpSpPr>
          <p:sp>
            <p:nvSpPr>
              <p:cNvPr id="551" name="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ptr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new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[ size ];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create space for arr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3" name=""/>
            <p:cNvGrpSpPr/>
            <p:nvPr/>
          </p:nvGrpSpPr>
          <p:grpSpPr>
            <a:xfrm>
              <a:off x="0" y="1411920"/>
              <a:ext cx="6780960" cy="201600"/>
              <a:chOff x="0" y="1411920"/>
              <a:chExt cx="6780960" cy="201600"/>
            </a:xfrm>
          </p:grpSpPr>
          <p:sp>
            <p:nvSpPr>
              <p:cNvPr id="554" name="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assert( ptr != 0 )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terminate if memory not alloca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6" name=""/>
            <p:cNvGrpSpPr/>
            <p:nvPr/>
          </p:nvGrpSpPr>
          <p:grpSpPr>
            <a:xfrm>
              <a:off x="0" y="1613520"/>
              <a:ext cx="6780960" cy="201600"/>
              <a:chOff x="0" y="1613520"/>
              <a:chExt cx="6780960" cy="201600"/>
            </a:xfrm>
          </p:grpSpPr>
          <p:sp>
            <p:nvSpPr>
              <p:cNvPr id="557" name="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++arrayCount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// count one more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9" name=""/>
            <p:cNvGrpSpPr/>
            <p:nvPr/>
          </p:nvGrpSpPr>
          <p:grpSpPr>
            <a:xfrm>
              <a:off x="0" y="1815120"/>
              <a:ext cx="6780960" cy="201600"/>
              <a:chOff x="0" y="1815120"/>
              <a:chExt cx="6780960" cy="201600"/>
            </a:xfrm>
          </p:grpSpPr>
          <p:sp>
            <p:nvSpPr>
              <p:cNvPr id="560" name="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2" name=""/>
            <p:cNvGrpSpPr/>
            <p:nvPr/>
          </p:nvGrpSpPr>
          <p:grpSpPr>
            <a:xfrm>
              <a:off x="0" y="2017080"/>
              <a:ext cx="6780960" cy="201600"/>
              <a:chOff x="0" y="2017080"/>
              <a:chExt cx="6780960" cy="201600"/>
            </a:xfrm>
          </p:grpSpPr>
          <p:sp>
            <p:nvSpPr>
              <p:cNvPr id="563" name="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i = 0; i &lt; size; i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5" name=""/>
            <p:cNvGrpSpPr/>
            <p:nvPr/>
          </p:nvGrpSpPr>
          <p:grpSpPr>
            <a:xfrm>
              <a:off x="0" y="2218680"/>
              <a:ext cx="6780960" cy="201600"/>
              <a:chOff x="0" y="2218680"/>
              <a:chExt cx="6780960" cy="201600"/>
            </a:xfrm>
          </p:grpSpPr>
          <p:sp>
            <p:nvSpPr>
              <p:cNvPr id="566" name="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ptr[ i ] = init.ptr[ i ]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opy init into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8" name=""/>
            <p:cNvGrpSpPr/>
            <p:nvPr/>
          </p:nvGrpSpPr>
          <p:grpSpPr>
            <a:xfrm>
              <a:off x="0" y="2420280"/>
              <a:ext cx="6780960" cy="201600"/>
              <a:chOff x="0" y="2420280"/>
              <a:chExt cx="6780960" cy="201600"/>
            </a:xfrm>
          </p:grpSpPr>
          <p:sp>
            <p:nvSpPr>
              <p:cNvPr id="569" name="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0" y="2622240"/>
              <a:ext cx="6780960" cy="201600"/>
              <a:chOff x="0" y="2622240"/>
              <a:chExt cx="6780960" cy="201600"/>
            </a:xfrm>
          </p:grpSpPr>
          <p:sp>
            <p:nvSpPr>
              <p:cNvPr id="572" name="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0" y="2823840"/>
              <a:ext cx="6780960" cy="201600"/>
              <a:chOff x="0" y="2823840"/>
              <a:chExt cx="6780960" cy="201600"/>
            </a:xfrm>
          </p:grpSpPr>
          <p:sp>
            <p:nvSpPr>
              <p:cNvPr id="575" name="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Destructor for class Arr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0" y="3025440"/>
              <a:ext cx="6780960" cy="201600"/>
              <a:chOff x="0" y="3025440"/>
              <a:chExt cx="6780960" cy="201600"/>
            </a:xfrm>
          </p:grpSpPr>
          <p:sp>
            <p:nvSpPr>
              <p:cNvPr id="578" name="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Array::~Array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0" name=""/>
            <p:cNvGrpSpPr/>
            <p:nvPr/>
          </p:nvGrpSpPr>
          <p:grpSpPr>
            <a:xfrm>
              <a:off x="0" y="3227400"/>
              <a:ext cx="6780960" cy="201600"/>
              <a:chOff x="0" y="3227400"/>
              <a:chExt cx="6780960" cy="201600"/>
            </a:xfrm>
          </p:grpSpPr>
          <p:sp>
            <p:nvSpPr>
              <p:cNvPr id="581" name="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3" name=""/>
            <p:cNvGrpSpPr/>
            <p:nvPr/>
          </p:nvGrpSpPr>
          <p:grpSpPr>
            <a:xfrm>
              <a:off x="0" y="3429000"/>
              <a:ext cx="6780960" cy="201600"/>
              <a:chOff x="0" y="3429000"/>
              <a:chExt cx="6780960" cy="201600"/>
            </a:xfrm>
          </p:grpSpPr>
          <p:sp>
            <p:nvSpPr>
              <p:cNvPr id="584" name="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dele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[] ptr;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reclaim space for arr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6" name=""/>
            <p:cNvGrpSpPr/>
            <p:nvPr/>
          </p:nvGrpSpPr>
          <p:grpSpPr>
            <a:xfrm>
              <a:off x="0" y="3630600"/>
              <a:ext cx="6780960" cy="201600"/>
              <a:chOff x="0" y="3630600"/>
              <a:chExt cx="6780960" cy="201600"/>
            </a:xfrm>
          </p:grpSpPr>
          <p:sp>
            <p:nvSpPr>
              <p:cNvPr id="587" name="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--arrayCount;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   // one fewer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0" y="3832200"/>
              <a:ext cx="6780960" cy="201600"/>
              <a:chOff x="0" y="3832200"/>
              <a:chExt cx="6780960" cy="201600"/>
            </a:xfrm>
          </p:grpSpPr>
          <p:sp>
            <p:nvSpPr>
              <p:cNvPr id="590" name="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0" y="4034160"/>
              <a:ext cx="6780960" cy="201600"/>
              <a:chOff x="0" y="4034160"/>
              <a:chExt cx="6780960" cy="201600"/>
            </a:xfrm>
          </p:grpSpPr>
          <p:sp>
            <p:nvSpPr>
              <p:cNvPr id="593" name="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0" y="4235760"/>
              <a:ext cx="6780960" cy="201600"/>
              <a:chOff x="0" y="4235760"/>
              <a:chExt cx="6780960" cy="201600"/>
            </a:xfrm>
          </p:grpSpPr>
          <p:sp>
            <p:nvSpPr>
              <p:cNvPr id="596" name="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Get the size of the arr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8" name=""/>
            <p:cNvGrpSpPr/>
            <p:nvPr/>
          </p:nvGrpSpPr>
          <p:grpSpPr>
            <a:xfrm>
              <a:off x="0" y="4437360"/>
              <a:ext cx="6780960" cy="201600"/>
              <a:chOff x="0" y="4437360"/>
              <a:chExt cx="6780960" cy="201600"/>
            </a:xfrm>
          </p:grpSpPr>
          <p:sp>
            <p:nvSpPr>
              <p:cNvPr id="599" name="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rray::getSiz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ize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1" name=""/>
            <p:cNvGrpSpPr/>
            <p:nvPr/>
          </p:nvGrpSpPr>
          <p:grpSpPr>
            <a:xfrm>
              <a:off x="0" y="4639320"/>
              <a:ext cx="6780960" cy="201600"/>
              <a:chOff x="0" y="4639320"/>
              <a:chExt cx="6780960" cy="201600"/>
            </a:xfrm>
          </p:grpSpPr>
          <p:sp>
            <p:nvSpPr>
              <p:cNvPr id="602" name="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4" name=""/>
            <p:cNvGrpSpPr/>
            <p:nvPr/>
          </p:nvGrpSpPr>
          <p:grpSpPr>
            <a:xfrm>
              <a:off x="0" y="4840920"/>
              <a:ext cx="6780960" cy="201600"/>
              <a:chOff x="0" y="4840920"/>
              <a:chExt cx="6780960" cy="201600"/>
            </a:xfrm>
          </p:grpSpPr>
          <p:sp>
            <p:nvSpPr>
              <p:cNvPr id="605" name="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Overloaded assignment opera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7" name=""/>
            <p:cNvGrpSpPr/>
            <p:nvPr/>
          </p:nvGrpSpPr>
          <p:grpSpPr>
            <a:xfrm>
              <a:off x="0" y="5042520"/>
              <a:ext cx="6780960" cy="201600"/>
              <a:chOff x="0" y="5042520"/>
              <a:chExt cx="6780960" cy="201600"/>
            </a:xfrm>
          </p:grpSpPr>
          <p:sp>
            <p:nvSpPr>
              <p:cNvPr id="608" name="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onst return avoids: ( a1 = a2 ) = a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0" name=""/>
            <p:cNvGrpSpPr/>
            <p:nvPr/>
          </p:nvGrpSpPr>
          <p:grpSpPr>
            <a:xfrm>
              <a:off x="0" y="5244480"/>
              <a:ext cx="6780960" cy="201600"/>
              <a:chOff x="0" y="5244480"/>
              <a:chExt cx="6780960" cy="201600"/>
            </a:xfrm>
          </p:grpSpPr>
          <p:sp>
            <p:nvSpPr>
              <p:cNvPr id="611" name="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rray &amp;Array::operator=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rray &amp;right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0" y="5446080"/>
              <a:ext cx="6780960" cy="201600"/>
              <a:chOff x="0" y="5446080"/>
              <a:chExt cx="6780960" cy="201600"/>
            </a:xfrm>
          </p:grpSpPr>
          <p:sp>
            <p:nvSpPr>
              <p:cNvPr id="614" name="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6" name=""/>
            <p:cNvGrpSpPr/>
            <p:nvPr/>
          </p:nvGrpSpPr>
          <p:grpSpPr>
            <a:xfrm>
              <a:off x="0" y="5647680"/>
              <a:ext cx="6780960" cy="201600"/>
              <a:chOff x="0" y="5647680"/>
              <a:chExt cx="6780960" cy="201600"/>
            </a:xfrm>
          </p:grpSpPr>
          <p:sp>
            <p:nvSpPr>
              <p:cNvPr id="617" name="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&amp;right !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thi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) {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heck for self-assignm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9" name=""/>
            <p:cNvGrpSpPr/>
            <p:nvPr/>
          </p:nvGrpSpPr>
          <p:grpSpPr>
            <a:xfrm>
              <a:off x="0" y="5849640"/>
              <a:ext cx="6780960" cy="201600"/>
              <a:chOff x="0" y="5849640"/>
              <a:chExt cx="6780960" cy="201600"/>
            </a:xfrm>
          </p:grpSpPr>
          <p:sp>
            <p:nvSpPr>
              <p:cNvPr id="620" name="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2" name=""/>
            <p:cNvGrpSpPr/>
            <p:nvPr/>
          </p:nvGrpSpPr>
          <p:grpSpPr>
            <a:xfrm>
              <a:off x="0" y="6051240"/>
              <a:ext cx="6780960" cy="201600"/>
              <a:chOff x="0" y="6051240"/>
              <a:chExt cx="6780960" cy="201600"/>
            </a:xfrm>
          </p:grpSpPr>
          <p:sp>
            <p:nvSpPr>
              <p:cNvPr id="623" name="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   // for arrays of different sizes, deallocate origin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0" y="6252840"/>
              <a:ext cx="6780960" cy="201600"/>
              <a:chOff x="0" y="6252840"/>
              <a:chExt cx="6780960" cy="201600"/>
            </a:xfrm>
          </p:grpSpPr>
          <p:sp>
            <p:nvSpPr>
              <p:cNvPr id="626" name="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   // left side array, then allocate new left side array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0" y="6454800"/>
              <a:ext cx="6780960" cy="201600"/>
              <a:chOff x="0" y="6454800"/>
              <a:chExt cx="6780960" cy="201600"/>
            </a:xfrm>
          </p:grpSpPr>
          <p:sp>
            <p:nvSpPr>
              <p:cNvPr id="629" name="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size != right.size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0" y="6656400"/>
              <a:ext cx="6780960" cy="201600"/>
              <a:chOff x="0" y="6656400"/>
              <a:chExt cx="6780960" cy="201600"/>
            </a:xfrm>
          </p:grpSpPr>
          <p:sp>
            <p:nvSpPr>
              <p:cNvPr id="632" name="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dele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[] ptr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reclaim spa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EF9ED-F2AB-47CB-9863-4F9BF49696C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5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rator==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(equality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6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rator[]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(subscript for non-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arrays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636" name=""/>
            <p:cNvGrpSpPr/>
            <p:nvPr/>
          </p:nvGrpSpPr>
          <p:grpSpPr>
            <a:xfrm>
              <a:off x="0" y="0"/>
              <a:ext cx="6780960" cy="214200"/>
              <a:chOff x="0" y="0"/>
              <a:chExt cx="6780960" cy="214200"/>
            </a:xfrm>
          </p:grpSpPr>
          <p:sp>
            <p:nvSpPr>
              <p:cNvPr id="637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size = right.size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resize this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9" name=""/>
            <p:cNvGrpSpPr/>
            <p:nvPr/>
          </p:nvGrpSpPr>
          <p:grpSpPr>
            <a:xfrm>
              <a:off x="0" y="214200"/>
              <a:ext cx="6780960" cy="214200"/>
              <a:chOff x="0" y="214200"/>
              <a:chExt cx="6780960" cy="214200"/>
            </a:xfrm>
          </p:grpSpPr>
          <p:sp>
            <p:nvSpPr>
              <p:cNvPr id="640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ptr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new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[ size ];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create space for array cop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2" name=""/>
            <p:cNvGrpSpPr/>
            <p:nvPr/>
          </p:nvGrpSpPr>
          <p:grpSpPr>
            <a:xfrm>
              <a:off x="0" y="428400"/>
              <a:ext cx="6780960" cy="214200"/>
              <a:chOff x="0" y="428400"/>
              <a:chExt cx="6780960" cy="214200"/>
            </a:xfrm>
          </p:grpSpPr>
          <p:sp>
            <p:nvSpPr>
              <p:cNvPr id="643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assert( ptr != 0 )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terminate if not alloca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5" name=""/>
            <p:cNvGrpSpPr/>
            <p:nvPr/>
          </p:nvGrpSpPr>
          <p:grpSpPr>
            <a:xfrm>
              <a:off x="0" y="642960"/>
              <a:ext cx="6780960" cy="214200"/>
              <a:chOff x="0" y="642960"/>
              <a:chExt cx="6780960" cy="214200"/>
            </a:xfrm>
          </p:grpSpPr>
          <p:sp>
            <p:nvSpPr>
              <p:cNvPr id="646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8" name=""/>
            <p:cNvGrpSpPr/>
            <p:nvPr/>
          </p:nvGrpSpPr>
          <p:grpSpPr>
            <a:xfrm>
              <a:off x="0" y="857160"/>
              <a:ext cx="6780960" cy="214200"/>
              <a:chOff x="0" y="857160"/>
              <a:chExt cx="6780960" cy="214200"/>
            </a:xfrm>
          </p:grpSpPr>
          <p:sp>
            <p:nvSpPr>
              <p:cNvPr id="649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0" y="1071360"/>
              <a:ext cx="6780960" cy="214200"/>
              <a:chOff x="0" y="1071360"/>
              <a:chExt cx="6780960" cy="214200"/>
            </a:xfrm>
          </p:grpSpPr>
          <p:sp>
            <p:nvSpPr>
              <p:cNvPr id="652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i = 0; i &lt; size; i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0" y="1285560"/>
              <a:ext cx="6780960" cy="214200"/>
              <a:chOff x="0" y="1285560"/>
              <a:chExt cx="6780960" cy="214200"/>
            </a:xfrm>
          </p:grpSpPr>
          <p:sp>
            <p:nvSpPr>
              <p:cNvPr id="655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ptr[ i ] = right.ptr[ i ]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opy array into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0" y="1500120"/>
              <a:ext cx="6780960" cy="214200"/>
              <a:chOff x="0" y="1500120"/>
              <a:chExt cx="6780960" cy="214200"/>
            </a:xfrm>
          </p:grpSpPr>
          <p:sp>
            <p:nvSpPr>
              <p:cNvPr id="658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0" y="1714320"/>
              <a:ext cx="6780960" cy="214200"/>
              <a:chOff x="0" y="1714320"/>
              <a:chExt cx="6780960" cy="214200"/>
            </a:xfrm>
          </p:grpSpPr>
          <p:sp>
            <p:nvSpPr>
              <p:cNvPr id="661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3" name=""/>
            <p:cNvGrpSpPr/>
            <p:nvPr/>
          </p:nvGrpSpPr>
          <p:grpSpPr>
            <a:xfrm>
              <a:off x="0" y="1928520"/>
              <a:ext cx="6780960" cy="214200"/>
              <a:chOff x="0" y="1928520"/>
              <a:chExt cx="6780960" cy="214200"/>
            </a:xfrm>
          </p:grpSpPr>
          <p:sp>
            <p:nvSpPr>
              <p:cNvPr id="664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this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enables x = y = z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0" y="2143080"/>
              <a:ext cx="6780960" cy="214200"/>
              <a:chOff x="0" y="2143080"/>
              <a:chExt cx="6780960" cy="214200"/>
            </a:xfrm>
          </p:grpSpPr>
          <p:sp>
            <p:nvSpPr>
              <p:cNvPr id="667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" name=""/>
            <p:cNvGrpSpPr/>
            <p:nvPr/>
          </p:nvGrpSpPr>
          <p:grpSpPr>
            <a:xfrm>
              <a:off x="0" y="2357280"/>
              <a:ext cx="6780960" cy="214200"/>
              <a:chOff x="0" y="2357280"/>
              <a:chExt cx="6780960" cy="214200"/>
            </a:xfrm>
          </p:grpSpPr>
          <p:sp>
            <p:nvSpPr>
              <p:cNvPr id="670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0" y="2571480"/>
              <a:ext cx="6780960" cy="214200"/>
              <a:chOff x="0" y="2571480"/>
              <a:chExt cx="6780960" cy="214200"/>
            </a:xfrm>
          </p:grpSpPr>
          <p:sp>
            <p:nvSpPr>
              <p:cNvPr id="673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Determine if two arrays are equal a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0" y="2786040"/>
              <a:ext cx="6780960" cy="214200"/>
              <a:chOff x="0" y="2786040"/>
              <a:chExt cx="6780960" cy="214200"/>
            </a:xfrm>
          </p:grpSpPr>
          <p:sp>
            <p:nvSpPr>
              <p:cNvPr id="676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return true, otherwise return false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0" y="3000240"/>
              <a:ext cx="6780960" cy="214200"/>
              <a:chOff x="0" y="3000240"/>
              <a:chExt cx="6780960" cy="214200"/>
            </a:xfrm>
          </p:grpSpPr>
          <p:sp>
            <p:nvSpPr>
              <p:cNvPr id="679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rray::operator==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rray &amp;right 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1" name=""/>
            <p:cNvGrpSpPr/>
            <p:nvPr/>
          </p:nvGrpSpPr>
          <p:grpSpPr>
            <a:xfrm>
              <a:off x="0" y="3214800"/>
              <a:ext cx="6780960" cy="214200"/>
              <a:chOff x="0" y="3214800"/>
              <a:chExt cx="6780960" cy="214200"/>
            </a:xfrm>
          </p:grpSpPr>
          <p:sp>
            <p:nvSpPr>
              <p:cNvPr id="682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4" name=""/>
            <p:cNvGrpSpPr/>
            <p:nvPr/>
          </p:nvGrpSpPr>
          <p:grpSpPr>
            <a:xfrm>
              <a:off x="0" y="3429000"/>
              <a:ext cx="6780960" cy="214200"/>
              <a:chOff x="0" y="3429000"/>
              <a:chExt cx="6780960" cy="214200"/>
            </a:xfrm>
          </p:grpSpPr>
          <p:sp>
            <p:nvSpPr>
              <p:cNvPr id="685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size != right.size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7" name=""/>
            <p:cNvGrpSpPr/>
            <p:nvPr/>
          </p:nvGrpSpPr>
          <p:grpSpPr>
            <a:xfrm>
              <a:off x="0" y="3643200"/>
              <a:ext cx="6780960" cy="214200"/>
              <a:chOff x="0" y="3643200"/>
              <a:chExt cx="6780960" cy="214200"/>
            </a:xfrm>
          </p:grpSpPr>
          <p:sp>
            <p:nvSpPr>
              <p:cNvPr id="688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false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arrays of different siz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0" name=""/>
            <p:cNvGrpSpPr/>
            <p:nvPr/>
          </p:nvGrpSpPr>
          <p:grpSpPr>
            <a:xfrm>
              <a:off x="0" y="3857400"/>
              <a:ext cx="6780960" cy="214200"/>
              <a:chOff x="0" y="3857400"/>
              <a:chExt cx="6780960" cy="214200"/>
            </a:xfrm>
          </p:grpSpPr>
          <p:sp>
            <p:nvSpPr>
              <p:cNvPr id="691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3" name=""/>
            <p:cNvGrpSpPr/>
            <p:nvPr/>
          </p:nvGrpSpPr>
          <p:grpSpPr>
            <a:xfrm>
              <a:off x="0" y="4071960"/>
              <a:ext cx="6780960" cy="214200"/>
              <a:chOff x="0" y="4071960"/>
              <a:chExt cx="6780960" cy="214200"/>
            </a:xfrm>
          </p:grpSpPr>
          <p:sp>
            <p:nvSpPr>
              <p:cNvPr id="694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i = 0; i &lt; size; i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6" name=""/>
            <p:cNvGrpSpPr/>
            <p:nvPr/>
          </p:nvGrpSpPr>
          <p:grpSpPr>
            <a:xfrm>
              <a:off x="0" y="4286160"/>
              <a:ext cx="6780960" cy="214200"/>
              <a:chOff x="0" y="4286160"/>
              <a:chExt cx="6780960" cy="214200"/>
            </a:xfrm>
          </p:grpSpPr>
          <p:sp>
            <p:nvSpPr>
              <p:cNvPr id="697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ptr[ i ] != right.ptr[ i ]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"/>
            <p:cNvGrpSpPr/>
            <p:nvPr/>
          </p:nvGrpSpPr>
          <p:grpSpPr>
            <a:xfrm>
              <a:off x="0" y="4500360"/>
              <a:ext cx="6780960" cy="214200"/>
              <a:chOff x="0" y="4500360"/>
              <a:chExt cx="6780960" cy="214200"/>
            </a:xfrm>
          </p:grpSpPr>
          <p:sp>
            <p:nvSpPr>
              <p:cNvPr id="700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al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arrays are not equ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2" name=""/>
            <p:cNvGrpSpPr/>
            <p:nvPr/>
          </p:nvGrpSpPr>
          <p:grpSpPr>
            <a:xfrm>
              <a:off x="0" y="4714920"/>
              <a:ext cx="6780960" cy="214200"/>
              <a:chOff x="0" y="4714920"/>
              <a:chExt cx="6780960" cy="214200"/>
            </a:xfrm>
          </p:grpSpPr>
          <p:sp>
            <p:nvSpPr>
              <p:cNvPr id="703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5" name=""/>
            <p:cNvGrpSpPr/>
            <p:nvPr/>
          </p:nvGrpSpPr>
          <p:grpSpPr>
            <a:xfrm>
              <a:off x="0" y="4929120"/>
              <a:ext cx="6780960" cy="214200"/>
              <a:chOff x="0" y="4929120"/>
              <a:chExt cx="6780960" cy="214200"/>
            </a:xfrm>
          </p:grpSpPr>
          <p:sp>
            <p:nvSpPr>
              <p:cNvPr id="706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 tru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;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arrays are equ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8" name=""/>
            <p:cNvGrpSpPr/>
            <p:nvPr/>
          </p:nvGrpSpPr>
          <p:grpSpPr>
            <a:xfrm>
              <a:off x="0" y="5143320"/>
              <a:ext cx="6780960" cy="214200"/>
              <a:chOff x="0" y="5143320"/>
              <a:chExt cx="6780960" cy="214200"/>
            </a:xfrm>
          </p:grpSpPr>
          <p:sp>
            <p:nvSpPr>
              <p:cNvPr id="709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1" name=""/>
            <p:cNvGrpSpPr/>
            <p:nvPr/>
          </p:nvGrpSpPr>
          <p:grpSpPr>
            <a:xfrm>
              <a:off x="0" y="5357880"/>
              <a:ext cx="6780960" cy="214200"/>
              <a:chOff x="0" y="5357880"/>
              <a:chExt cx="6780960" cy="214200"/>
            </a:xfrm>
          </p:grpSpPr>
          <p:sp>
            <p:nvSpPr>
              <p:cNvPr id="712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4" name=""/>
            <p:cNvGrpSpPr/>
            <p:nvPr/>
          </p:nvGrpSpPr>
          <p:grpSpPr>
            <a:xfrm>
              <a:off x="0" y="5572080"/>
              <a:ext cx="6780960" cy="214200"/>
              <a:chOff x="0" y="5572080"/>
              <a:chExt cx="6780960" cy="214200"/>
            </a:xfrm>
          </p:grpSpPr>
          <p:sp>
            <p:nvSpPr>
              <p:cNvPr id="715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Overloaded subscript operator for non-const Array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7" name=""/>
            <p:cNvGrpSpPr/>
            <p:nvPr/>
          </p:nvGrpSpPr>
          <p:grpSpPr>
            <a:xfrm>
              <a:off x="0" y="5786280"/>
              <a:ext cx="6780960" cy="214200"/>
              <a:chOff x="0" y="5786280"/>
              <a:chExt cx="6780960" cy="214200"/>
            </a:xfrm>
          </p:grpSpPr>
          <p:sp>
            <p:nvSpPr>
              <p:cNvPr id="718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reference return creates an l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0" name=""/>
            <p:cNvGrpSpPr/>
            <p:nvPr/>
          </p:nvGrpSpPr>
          <p:grpSpPr>
            <a:xfrm>
              <a:off x="0" y="6000840"/>
              <a:ext cx="6780960" cy="214200"/>
              <a:chOff x="0" y="6000840"/>
              <a:chExt cx="6780960" cy="214200"/>
            </a:xfrm>
          </p:grpSpPr>
          <p:sp>
            <p:nvSpPr>
              <p:cNvPr id="721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amp;Array::operator[]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ubscript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0" y="6215040"/>
              <a:ext cx="6780960" cy="214200"/>
              <a:chOff x="0" y="6215040"/>
              <a:chExt cx="6780960" cy="214200"/>
            </a:xfrm>
          </p:grpSpPr>
          <p:sp>
            <p:nvSpPr>
              <p:cNvPr id="724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0" y="6429240"/>
              <a:ext cx="6780960" cy="214200"/>
              <a:chOff x="0" y="6429240"/>
              <a:chExt cx="6780960" cy="214200"/>
            </a:xfrm>
          </p:grpSpPr>
          <p:sp>
            <p:nvSpPr>
              <p:cNvPr id="727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check for subscript out of range err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9" name=""/>
            <p:cNvGrpSpPr/>
            <p:nvPr/>
          </p:nvGrpSpPr>
          <p:grpSpPr>
            <a:xfrm>
              <a:off x="0" y="6643800"/>
              <a:ext cx="6780960" cy="214200"/>
              <a:chOff x="0" y="6643800"/>
              <a:chExt cx="6780960" cy="214200"/>
            </a:xfrm>
          </p:grpSpPr>
          <p:sp>
            <p:nvSpPr>
              <p:cNvPr id="730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assert( 0 &lt;= subscript &amp;&amp; subscript &lt; siz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EF424-685E-4225-B380-78DD64F9A7D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1 Introduction</a:t>
            </a:r>
            <a:br>
              <a:rPr sz="2800"/>
            </a:b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perator overlo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abling C++’s operators to work with class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ing traditional operators with user-defined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sz="2200" spc="-1" strike="noStrike">
                <a:solidFill>
                  <a:srgbClr val="000000"/>
                </a:solidFill>
                <a:latin typeface="Times New Roman"/>
              </a:rPr>
              <a:t>equires great car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sz="2200" spc="-1" strike="noStrike">
                <a:solidFill>
                  <a:srgbClr val="000000"/>
                </a:solidFill>
                <a:latin typeface="Times New Roman"/>
              </a:rPr>
              <a:t>when overloading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sz="2200" spc="-1" strike="noStrike">
                <a:solidFill>
                  <a:srgbClr val="000000"/>
                </a:solidFill>
                <a:latin typeface="Times New Roman"/>
              </a:rPr>
              <a:t>misused, program difficult to underst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s of already overloaded opera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&l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both the stream-insertion operator and the bitwise left-shift op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perform arithmetic on multiple 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iler generates the appropriate code based on the manner in which the operator is us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0C2C0-353E-4EB5-8B5D-49165567C3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6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rator[]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(subscript f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1600" spc="-1" strike="noStrike">
                <a:solidFill>
                  <a:srgbClr val="000000"/>
                </a:solidFill>
                <a:latin typeface="AvantGard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arrays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7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ArrayCoun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8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rator&gt;&gt;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(input array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9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rator&lt;&lt;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(output array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734" name=""/>
            <p:cNvGrpSpPr/>
            <p:nvPr/>
          </p:nvGrpSpPr>
          <p:grpSpPr>
            <a:xfrm>
              <a:off x="0" y="0"/>
              <a:ext cx="6780960" cy="221040"/>
              <a:chOff x="0" y="0"/>
              <a:chExt cx="6780960" cy="221040"/>
            </a:xfrm>
          </p:grpSpPr>
          <p:sp>
            <p:nvSpPr>
              <p:cNvPr id="735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7" name=""/>
            <p:cNvGrpSpPr/>
            <p:nvPr/>
          </p:nvGrpSpPr>
          <p:grpSpPr>
            <a:xfrm>
              <a:off x="0" y="221040"/>
              <a:ext cx="6780960" cy="221040"/>
              <a:chOff x="0" y="221040"/>
              <a:chExt cx="6780960" cy="221040"/>
            </a:xfrm>
          </p:grpSpPr>
          <p:sp>
            <p:nvSpPr>
              <p:cNvPr id="738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ptr[ subscript ];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reference retur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0" name=""/>
            <p:cNvGrpSpPr/>
            <p:nvPr/>
          </p:nvGrpSpPr>
          <p:grpSpPr>
            <a:xfrm>
              <a:off x="0" y="442080"/>
              <a:ext cx="6780960" cy="221040"/>
              <a:chOff x="0" y="442080"/>
              <a:chExt cx="6780960" cy="221040"/>
            </a:xfrm>
          </p:grpSpPr>
          <p:sp>
            <p:nvSpPr>
              <p:cNvPr id="741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3" name=""/>
            <p:cNvGrpSpPr/>
            <p:nvPr/>
          </p:nvGrpSpPr>
          <p:grpSpPr>
            <a:xfrm>
              <a:off x="0" y="663480"/>
              <a:ext cx="6780960" cy="221040"/>
              <a:chOff x="0" y="663480"/>
              <a:chExt cx="6780960" cy="221040"/>
            </a:xfrm>
          </p:grpSpPr>
          <p:sp>
            <p:nvSpPr>
              <p:cNvPr id="744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6" name=""/>
            <p:cNvGrpSpPr/>
            <p:nvPr/>
          </p:nvGrpSpPr>
          <p:grpSpPr>
            <a:xfrm>
              <a:off x="0" y="884880"/>
              <a:ext cx="6780960" cy="221040"/>
              <a:chOff x="0" y="884880"/>
              <a:chExt cx="6780960" cy="221040"/>
            </a:xfrm>
          </p:grpSpPr>
          <p:sp>
            <p:nvSpPr>
              <p:cNvPr id="747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Overloaded subscript operator for const Array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9" name=""/>
            <p:cNvGrpSpPr/>
            <p:nvPr/>
          </p:nvGrpSpPr>
          <p:grpSpPr>
            <a:xfrm>
              <a:off x="0" y="1105920"/>
              <a:ext cx="6780960" cy="221040"/>
              <a:chOff x="0" y="1105920"/>
              <a:chExt cx="6780960" cy="221040"/>
            </a:xfrm>
          </p:grpSpPr>
          <p:sp>
            <p:nvSpPr>
              <p:cNvPr id="750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onst reference return creates an r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2" name=""/>
            <p:cNvGrpSpPr/>
            <p:nvPr/>
          </p:nvGrpSpPr>
          <p:grpSpPr>
            <a:xfrm>
              <a:off x="0" y="1327320"/>
              <a:ext cx="6780960" cy="221040"/>
              <a:chOff x="0" y="1327320"/>
              <a:chExt cx="6780960" cy="221040"/>
            </a:xfrm>
          </p:grpSpPr>
          <p:sp>
            <p:nvSpPr>
              <p:cNvPr id="753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amp;Array::operator[]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ubscript 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5" name=""/>
            <p:cNvGrpSpPr/>
            <p:nvPr/>
          </p:nvGrpSpPr>
          <p:grpSpPr>
            <a:xfrm>
              <a:off x="0" y="1548360"/>
              <a:ext cx="6780960" cy="221040"/>
              <a:chOff x="0" y="1548360"/>
              <a:chExt cx="6780960" cy="221040"/>
            </a:xfrm>
          </p:grpSpPr>
          <p:sp>
            <p:nvSpPr>
              <p:cNvPr id="756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8" name=""/>
            <p:cNvGrpSpPr/>
            <p:nvPr/>
          </p:nvGrpSpPr>
          <p:grpSpPr>
            <a:xfrm>
              <a:off x="0" y="1769760"/>
              <a:ext cx="6780960" cy="221040"/>
              <a:chOff x="0" y="1769760"/>
              <a:chExt cx="6780960" cy="221040"/>
            </a:xfrm>
          </p:grpSpPr>
          <p:sp>
            <p:nvSpPr>
              <p:cNvPr id="759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check for subscript out of range err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0" y="1990800"/>
              <a:ext cx="6780960" cy="221040"/>
              <a:chOff x="0" y="1990800"/>
              <a:chExt cx="6780960" cy="221040"/>
            </a:xfrm>
          </p:grpSpPr>
          <p:sp>
            <p:nvSpPr>
              <p:cNvPr id="762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assert( 0 &lt;= subscript &amp;&amp; subscript &lt; siz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4" name=""/>
            <p:cNvGrpSpPr/>
            <p:nvPr/>
          </p:nvGrpSpPr>
          <p:grpSpPr>
            <a:xfrm>
              <a:off x="0" y="2212200"/>
              <a:ext cx="6780960" cy="221040"/>
              <a:chOff x="0" y="2212200"/>
              <a:chExt cx="6780960" cy="221040"/>
            </a:xfrm>
          </p:grpSpPr>
          <p:sp>
            <p:nvSpPr>
              <p:cNvPr id="765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7" name=""/>
            <p:cNvGrpSpPr/>
            <p:nvPr/>
          </p:nvGrpSpPr>
          <p:grpSpPr>
            <a:xfrm>
              <a:off x="0" y="2433600"/>
              <a:ext cx="6780960" cy="221040"/>
              <a:chOff x="0" y="2433600"/>
              <a:chExt cx="6780960" cy="221040"/>
            </a:xfrm>
          </p:grpSpPr>
          <p:sp>
            <p:nvSpPr>
              <p:cNvPr id="768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ptr[ subscript ]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onst reference retur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0" name=""/>
            <p:cNvGrpSpPr/>
            <p:nvPr/>
          </p:nvGrpSpPr>
          <p:grpSpPr>
            <a:xfrm>
              <a:off x="0" y="2654640"/>
              <a:ext cx="6780960" cy="221040"/>
              <a:chOff x="0" y="2654640"/>
              <a:chExt cx="6780960" cy="221040"/>
            </a:xfrm>
          </p:grpSpPr>
          <p:sp>
            <p:nvSpPr>
              <p:cNvPr id="771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3" name=""/>
            <p:cNvGrpSpPr/>
            <p:nvPr/>
          </p:nvGrpSpPr>
          <p:grpSpPr>
            <a:xfrm>
              <a:off x="0" y="2875680"/>
              <a:ext cx="6780960" cy="221040"/>
              <a:chOff x="0" y="2875680"/>
              <a:chExt cx="6780960" cy="221040"/>
            </a:xfrm>
          </p:grpSpPr>
          <p:sp>
            <p:nvSpPr>
              <p:cNvPr id="774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6" name=""/>
            <p:cNvGrpSpPr/>
            <p:nvPr/>
          </p:nvGrpSpPr>
          <p:grpSpPr>
            <a:xfrm>
              <a:off x="0" y="3097080"/>
              <a:ext cx="6780960" cy="221040"/>
              <a:chOff x="0" y="3097080"/>
              <a:chExt cx="6780960" cy="221040"/>
            </a:xfrm>
          </p:grpSpPr>
          <p:sp>
            <p:nvSpPr>
              <p:cNvPr id="777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Return the number of Array objects instantia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9" name=""/>
            <p:cNvGrpSpPr/>
            <p:nvPr/>
          </p:nvGrpSpPr>
          <p:grpSpPr>
            <a:xfrm>
              <a:off x="0" y="3318480"/>
              <a:ext cx="6780960" cy="221040"/>
              <a:chOff x="0" y="3318480"/>
              <a:chExt cx="6780960" cy="221040"/>
            </a:xfrm>
          </p:grpSpPr>
          <p:sp>
            <p:nvSpPr>
              <p:cNvPr id="780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static functions cannot be const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2" name=""/>
            <p:cNvGrpSpPr/>
            <p:nvPr/>
          </p:nvGrpSpPr>
          <p:grpSpPr>
            <a:xfrm>
              <a:off x="0" y="3539520"/>
              <a:ext cx="6780960" cy="221040"/>
              <a:chOff x="0" y="3539520"/>
              <a:chExt cx="6780960" cy="221040"/>
            </a:xfrm>
          </p:grpSpPr>
          <p:sp>
            <p:nvSpPr>
              <p:cNvPr id="783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rray::getArrayCount()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rrayCount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5" name=""/>
            <p:cNvGrpSpPr/>
            <p:nvPr/>
          </p:nvGrpSpPr>
          <p:grpSpPr>
            <a:xfrm>
              <a:off x="0" y="3760920"/>
              <a:ext cx="6780960" cy="221040"/>
              <a:chOff x="0" y="3760920"/>
              <a:chExt cx="6780960" cy="221040"/>
            </a:xfrm>
          </p:grpSpPr>
          <p:sp>
            <p:nvSpPr>
              <p:cNvPr id="786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8" name=""/>
            <p:cNvGrpSpPr/>
            <p:nvPr/>
          </p:nvGrpSpPr>
          <p:grpSpPr>
            <a:xfrm>
              <a:off x="0" y="3981960"/>
              <a:ext cx="6780960" cy="221040"/>
              <a:chOff x="0" y="3981960"/>
              <a:chExt cx="6780960" cy="221040"/>
            </a:xfrm>
          </p:grpSpPr>
          <p:sp>
            <p:nvSpPr>
              <p:cNvPr id="789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Overloaded input operator for class Array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1" name=""/>
            <p:cNvGrpSpPr/>
            <p:nvPr/>
          </p:nvGrpSpPr>
          <p:grpSpPr>
            <a:xfrm>
              <a:off x="0" y="4203360"/>
              <a:ext cx="6780960" cy="221040"/>
              <a:chOff x="0" y="4203360"/>
              <a:chExt cx="6780960" cy="221040"/>
            </a:xfrm>
          </p:grpSpPr>
          <p:sp>
            <p:nvSpPr>
              <p:cNvPr id="792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inputs values for entire array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4" name=""/>
            <p:cNvGrpSpPr/>
            <p:nvPr/>
          </p:nvGrpSpPr>
          <p:grpSpPr>
            <a:xfrm>
              <a:off x="0" y="4424400"/>
              <a:ext cx="6780960" cy="221040"/>
              <a:chOff x="0" y="4424400"/>
              <a:chExt cx="6780960" cy="221040"/>
            </a:xfrm>
          </p:grpSpPr>
          <p:sp>
            <p:nvSpPr>
              <p:cNvPr id="795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istream &amp;operator&gt;&gt;( istream &amp;input, Array &amp;a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7" name=""/>
            <p:cNvGrpSpPr/>
            <p:nvPr/>
          </p:nvGrpSpPr>
          <p:grpSpPr>
            <a:xfrm>
              <a:off x="0" y="4645800"/>
              <a:ext cx="6780960" cy="221040"/>
              <a:chOff x="0" y="4645800"/>
              <a:chExt cx="6780960" cy="221040"/>
            </a:xfrm>
          </p:grpSpPr>
          <p:sp>
            <p:nvSpPr>
              <p:cNvPr id="798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0" name=""/>
            <p:cNvGrpSpPr/>
            <p:nvPr/>
          </p:nvGrpSpPr>
          <p:grpSpPr>
            <a:xfrm>
              <a:off x="0" y="4866840"/>
              <a:ext cx="6780960" cy="221040"/>
              <a:chOff x="0" y="4866840"/>
              <a:chExt cx="6780960" cy="221040"/>
            </a:xfrm>
          </p:grpSpPr>
          <p:sp>
            <p:nvSpPr>
              <p:cNvPr id="801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i = 0; i &lt; a.size; i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3" name=""/>
            <p:cNvGrpSpPr/>
            <p:nvPr/>
          </p:nvGrpSpPr>
          <p:grpSpPr>
            <a:xfrm>
              <a:off x="0" y="5088240"/>
              <a:ext cx="6780960" cy="221040"/>
              <a:chOff x="0" y="5088240"/>
              <a:chExt cx="6780960" cy="221040"/>
            </a:xfrm>
          </p:grpSpPr>
          <p:sp>
            <p:nvSpPr>
              <p:cNvPr id="804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input &gt;&gt; a.ptr[ i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6" name=""/>
            <p:cNvGrpSpPr/>
            <p:nvPr/>
          </p:nvGrpSpPr>
          <p:grpSpPr>
            <a:xfrm>
              <a:off x="0" y="5309640"/>
              <a:ext cx="6780960" cy="221040"/>
              <a:chOff x="0" y="5309640"/>
              <a:chExt cx="6780960" cy="221040"/>
            </a:xfrm>
          </p:grpSpPr>
          <p:sp>
            <p:nvSpPr>
              <p:cNvPr id="807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9" name=""/>
            <p:cNvGrpSpPr/>
            <p:nvPr/>
          </p:nvGrpSpPr>
          <p:grpSpPr>
            <a:xfrm>
              <a:off x="0" y="5530680"/>
              <a:ext cx="6780960" cy="221040"/>
              <a:chOff x="0" y="5530680"/>
              <a:chExt cx="6780960" cy="221040"/>
            </a:xfrm>
          </p:grpSpPr>
          <p:sp>
            <p:nvSpPr>
              <p:cNvPr id="810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input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enables cin &gt;&gt; x &gt;&gt; y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2" name=""/>
            <p:cNvGrpSpPr/>
            <p:nvPr/>
          </p:nvGrpSpPr>
          <p:grpSpPr>
            <a:xfrm>
              <a:off x="0" y="5751720"/>
              <a:ext cx="6780960" cy="221040"/>
              <a:chOff x="0" y="5751720"/>
              <a:chExt cx="6780960" cy="221040"/>
            </a:xfrm>
          </p:grpSpPr>
          <p:sp>
            <p:nvSpPr>
              <p:cNvPr id="813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5" name=""/>
            <p:cNvGrpSpPr/>
            <p:nvPr/>
          </p:nvGrpSpPr>
          <p:grpSpPr>
            <a:xfrm>
              <a:off x="0" y="5973120"/>
              <a:ext cx="6780960" cy="221040"/>
              <a:chOff x="0" y="5973120"/>
              <a:chExt cx="6780960" cy="221040"/>
            </a:xfrm>
          </p:grpSpPr>
          <p:sp>
            <p:nvSpPr>
              <p:cNvPr id="816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8" name=""/>
            <p:cNvGrpSpPr/>
            <p:nvPr/>
          </p:nvGrpSpPr>
          <p:grpSpPr>
            <a:xfrm>
              <a:off x="0" y="6194520"/>
              <a:ext cx="6780960" cy="221040"/>
              <a:chOff x="0" y="6194520"/>
              <a:chExt cx="6780960" cy="221040"/>
            </a:xfrm>
          </p:grpSpPr>
          <p:sp>
            <p:nvSpPr>
              <p:cNvPr id="819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Overloaded output operator for class Array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6415560"/>
              <a:ext cx="6780960" cy="221040"/>
              <a:chOff x="0" y="6415560"/>
              <a:chExt cx="6780960" cy="22104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ostream &amp;operator&lt;&lt;( ostream &amp;outpu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rray &amp;a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4" name=""/>
            <p:cNvGrpSpPr/>
            <p:nvPr/>
          </p:nvGrpSpPr>
          <p:grpSpPr>
            <a:xfrm>
              <a:off x="0" y="6636960"/>
              <a:ext cx="6780960" cy="221040"/>
              <a:chOff x="0" y="6636960"/>
              <a:chExt cx="6780960" cy="221040"/>
            </a:xfrm>
          </p:grpSpPr>
          <p:sp>
            <p:nvSpPr>
              <p:cNvPr id="825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305C9-25C1-436C-BDDC-0F10CD1F535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828" name=""/>
          <p:cNvGrpSpPr/>
          <p:nvPr/>
        </p:nvGrpSpPr>
        <p:grpSpPr>
          <a:xfrm>
            <a:off x="0" y="0"/>
            <a:ext cx="6780960" cy="3200040"/>
            <a:chOff x="0" y="0"/>
            <a:chExt cx="6780960" cy="3200040"/>
          </a:xfrm>
        </p:grpSpPr>
        <p:grpSp>
          <p:nvGrpSpPr>
            <p:cNvPr id="829" name=""/>
            <p:cNvGrpSpPr/>
            <p:nvPr/>
          </p:nvGrpSpPr>
          <p:grpSpPr>
            <a:xfrm>
              <a:off x="0" y="0"/>
              <a:ext cx="6780960" cy="228240"/>
              <a:chOff x="0" y="0"/>
              <a:chExt cx="6780960" cy="228240"/>
            </a:xfrm>
          </p:grpSpPr>
          <p:sp>
            <p:nvSpPr>
              <p:cNvPr id="830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i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2" name=""/>
            <p:cNvGrpSpPr/>
            <p:nvPr/>
          </p:nvGrpSpPr>
          <p:grpSpPr>
            <a:xfrm>
              <a:off x="0" y="228240"/>
              <a:ext cx="6780960" cy="228240"/>
              <a:chOff x="0" y="228240"/>
              <a:chExt cx="6780960" cy="228240"/>
            </a:xfrm>
          </p:grpSpPr>
          <p:sp>
            <p:nvSpPr>
              <p:cNvPr id="833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5" name=""/>
            <p:cNvGrpSpPr/>
            <p:nvPr/>
          </p:nvGrpSpPr>
          <p:grpSpPr>
            <a:xfrm>
              <a:off x="0" y="456840"/>
              <a:ext cx="6780960" cy="228600"/>
              <a:chOff x="0" y="456840"/>
              <a:chExt cx="6780960" cy="228600"/>
            </a:xfrm>
          </p:grpSpPr>
          <p:sp>
            <p:nvSpPr>
              <p:cNvPr id="836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i = 0; i &lt; a.size; i++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8" name=""/>
            <p:cNvGrpSpPr/>
            <p:nvPr/>
          </p:nvGrpSpPr>
          <p:grpSpPr>
            <a:xfrm>
              <a:off x="0" y="685800"/>
              <a:ext cx="6780960" cy="228240"/>
              <a:chOff x="0" y="685800"/>
              <a:chExt cx="6780960" cy="228240"/>
            </a:xfrm>
          </p:grpSpPr>
          <p:sp>
            <p:nvSpPr>
              <p:cNvPr id="839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output &lt;&lt; setw( 12 ) &lt;&lt; a.ptr[ i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1" name=""/>
            <p:cNvGrpSpPr/>
            <p:nvPr/>
          </p:nvGrpSpPr>
          <p:grpSpPr>
            <a:xfrm>
              <a:off x="0" y="914400"/>
              <a:ext cx="6780960" cy="228240"/>
              <a:chOff x="0" y="914400"/>
              <a:chExt cx="6780960" cy="228240"/>
            </a:xfrm>
          </p:grpSpPr>
          <p:sp>
            <p:nvSpPr>
              <p:cNvPr id="842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4" name=""/>
            <p:cNvGrpSpPr/>
            <p:nvPr/>
          </p:nvGrpSpPr>
          <p:grpSpPr>
            <a:xfrm>
              <a:off x="0" y="1143000"/>
              <a:ext cx="6780960" cy="228240"/>
              <a:chOff x="0" y="1143000"/>
              <a:chExt cx="6780960" cy="228240"/>
            </a:xfrm>
          </p:grpSpPr>
          <p:sp>
            <p:nvSpPr>
              <p:cNvPr id="845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( i + 1 ) % 4 == 0 )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4 numbers per row of outpu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7" name=""/>
            <p:cNvGrpSpPr/>
            <p:nvPr/>
          </p:nvGrpSpPr>
          <p:grpSpPr>
            <a:xfrm>
              <a:off x="0" y="1371600"/>
              <a:ext cx="6780960" cy="228600"/>
              <a:chOff x="0" y="1371600"/>
              <a:chExt cx="6780960" cy="228600"/>
            </a:xfrm>
          </p:grpSpPr>
          <p:sp>
            <p:nvSpPr>
              <p:cNvPr id="848" name=""/>
              <p:cNvSpPr/>
              <p:nvPr/>
            </p:nvSpPr>
            <p:spPr>
              <a:xfrm>
                <a:off x="0" y="13716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0" y="13716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outp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"/>
            <p:cNvGrpSpPr/>
            <p:nvPr/>
          </p:nvGrpSpPr>
          <p:grpSpPr>
            <a:xfrm>
              <a:off x="0" y="1600200"/>
              <a:ext cx="6780960" cy="228240"/>
              <a:chOff x="0" y="1600200"/>
              <a:chExt cx="6780960" cy="228240"/>
            </a:xfrm>
          </p:grpSpPr>
          <p:sp>
            <p:nvSpPr>
              <p:cNvPr id="851" name="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3" name=""/>
            <p:cNvGrpSpPr/>
            <p:nvPr/>
          </p:nvGrpSpPr>
          <p:grpSpPr>
            <a:xfrm>
              <a:off x="0" y="1828800"/>
              <a:ext cx="6780960" cy="228240"/>
              <a:chOff x="0" y="1828800"/>
              <a:chExt cx="6780960" cy="228240"/>
            </a:xfrm>
          </p:grpSpPr>
          <p:sp>
            <p:nvSpPr>
              <p:cNvPr id="854" name="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6" name=""/>
            <p:cNvGrpSpPr/>
            <p:nvPr/>
          </p:nvGrpSpPr>
          <p:grpSpPr>
            <a:xfrm>
              <a:off x="0" y="2057400"/>
              <a:ext cx="6780960" cy="228240"/>
              <a:chOff x="0" y="2057400"/>
              <a:chExt cx="6780960" cy="228240"/>
            </a:xfrm>
          </p:grpSpPr>
          <p:sp>
            <p:nvSpPr>
              <p:cNvPr id="857" name="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i % 4 != 0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9" name=""/>
            <p:cNvGrpSpPr/>
            <p:nvPr/>
          </p:nvGrpSpPr>
          <p:grpSpPr>
            <a:xfrm>
              <a:off x="0" y="2286000"/>
              <a:ext cx="6780960" cy="228600"/>
              <a:chOff x="0" y="2286000"/>
              <a:chExt cx="6780960" cy="228600"/>
            </a:xfrm>
          </p:grpSpPr>
          <p:sp>
            <p:nvSpPr>
              <p:cNvPr id="860" name="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outp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2514600"/>
              <a:ext cx="6780960" cy="228240"/>
              <a:chOff x="0" y="2514600"/>
              <a:chExt cx="6780960" cy="22824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5" name=""/>
            <p:cNvGrpSpPr/>
            <p:nvPr/>
          </p:nvGrpSpPr>
          <p:grpSpPr>
            <a:xfrm>
              <a:off x="0" y="2743200"/>
              <a:ext cx="6780960" cy="228240"/>
              <a:chOff x="0" y="2743200"/>
              <a:chExt cx="6780960" cy="228240"/>
            </a:xfrm>
          </p:grpSpPr>
          <p:sp>
            <p:nvSpPr>
              <p:cNvPr id="866" name="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output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enables cout &lt;&lt; x &lt;&lt; y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8" name=""/>
            <p:cNvGrpSpPr/>
            <p:nvPr/>
          </p:nvGrpSpPr>
          <p:grpSpPr>
            <a:xfrm>
              <a:off x="0" y="2971800"/>
              <a:ext cx="6780960" cy="228240"/>
              <a:chOff x="0" y="2971800"/>
              <a:chExt cx="6780960" cy="228240"/>
            </a:xfrm>
          </p:grpSpPr>
          <p:sp>
            <p:nvSpPr>
              <p:cNvPr id="869" name="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71" name=""/>
          <p:cNvGrpSpPr/>
          <p:nvPr/>
        </p:nvGrpSpPr>
        <p:grpSpPr>
          <a:xfrm>
            <a:off x="0" y="3200400"/>
            <a:ext cx="6780960" cy="3657240"/>
            <a:chOff x="0" y="3200400"/>
            <a:chExt cx="6780960" cy="3657240"/>
          </a:xfrm>
        </p:grpSpPr>
        <p:grpSp>
          <p:nvGrpSpPr>
            <p:cNvPr id="872" name=""/>
            <p:cNvGrpSpPr/>
            <p:nvPr/>
          </p:nvGrpSpPr>
          <p:grpSpPr>
            <a:xfrm>
              <a:off x="0" y="3200400"/>
              <a:ext cx="6780960" cy="228240"/>
              <a:chOff x="0" y="3200400"/>
              <a:chExt cx="6780960" cy="228240"/>
            </a:xfrm>
          </p:grpSpPr>
          <p:sp>
            <p:nvSpPr>
              <p:cNvPr id="873" name=""/>
              <p:cNvSpPr/>
              <p:nvPr/>
            </p:nvSpPr>
            <p:spPr>
              <a:xfrm>
                <a:off x="0" y="3200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0" y="3200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Fig. 8.4: fig08_04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5" name=""/>
            <p:cNvGrpSpPr/>
            <p:nvPr/>
          </p:nvGrpSpPr>
          <p:grpSpPr>
            <a:xfrm>
              <a:off x="0" y="3428640"/>
              <a:ext cx="6780960" cy="228240"/>
              <a:chOff x="0" y="3428640"/>
              <a:chExt cx="6780960" cy="228240"/>
            </a:xfrm>
          </p:grpSpPr>
          <p:sp>
            <p:nvSpPr>
              <p:cNvPr id="876" name=""/>
              <p:cNvSpPr/>
              <p:nvPr/>
            </p:nvSpPr>
            <p:spPr>
              <a:xfrm>
                <a:off x="0" y="34286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0" y="34286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Driver for simple class Arr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8" name=""/>
            <p:cNvGrpSpPr/>
            <p:nvPr/>
          </p:nvGrpSpPr>
          <p:grpSpPr>
            <a:xfrm>
              <a:off x="0" y="3657240"/>
              <a:ext cx="6780960" cy="228600"/>
              <a:chOff x="0" y="3657240"/>
              <a:chExt cx="6780960" cy="228600"/>
            </a:xfrm>
          </p:grpSpPr>
          <p:sp>
            <p:nvSpPr>
              <p:cNvPr id="879" name=""/>
              <p:cNvSpPr/>
              <p:nvPr/>
            </p:nvSpPr>
            <p:spPr>
              <a:xfrm>
                <a:off x="0" y="3657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0" y="3657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1" name=""/>
            <p:cNvGrpSpPr/>
            <p:nvPr/>
          </p:nvGrpSpPr>
          <p:grpSpPr>
            <a:xfrm>
              <a:off x="0" y="3886200"/>
              <a:ext cx="6780960" cy="228240"/>
              <a:chOff x="0" y="3886200"/>
              <a:chExt cx="6780960" cy="228240"/>
            </a:xfrm>
          </p:grpSpPr>
          <p:sp>
            <p:nvSpPr>
              <p:cNvPr id="882" name="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4" name=""/>
            <p:cNvGrpSpPr/>
            <p:nvPr/>
          </p:nvGrpSpPr>
          <p:grpSpPr>
            <a:xfrm>
              <a:off x="0" y="4114800"/>
              <a:ext cx="6780960" cy="228240"/>
              <a:chOff x="0" y="4114800"/>
              <a:chExt cx="6780960" cy="228240"/>
            </a:xfrm>
          </p:grpSpPr>
          <p:sp>
            <p:nvSpPr>
              <p:cNvPr id="885" name="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7" name=""/>
            <p:cNvGrpSpPr/>
            <p:nvPr/>
          </p:nvGrpSpPr>
          <p:grpSpPr>
            <a:xfrm>
              <a:off x="0" y="4343400"/>
              <a:ext cx="6780960" cy="228240"/>
              <a:chOff x="0" y="4343400"/>
              <a:chExt cx="6780960" cy="228240"/>
            </a:xfrm>
          </p:grpSpPr>
          <p:sp>
            <p:nvSpPr>
              <p:cNvPr id="888" name=""/>
              <p:cNvSpPr/>
              <p:nvPr/>
            </p:nvSpPr>
            <p:spPr>
              <a:xfrm>
                <a:off x="0" y="4343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0" y="4343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ci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0" name=""/>
            <p:cNvGrpSpPr/>
            <p:nvPr/>
          </p:nvGrpSpPr>
          <p:grpSpPr>
            <a:xfrm>
              <a:off x="0" y="4572000"/>
              <a:ext cx="6780960" cy="228600"/>
              <a:chOff x="0" y="4572000"/>
              <a:chExt cx="6780960" cy="228600"/>
            </a:xfrm>
          </p:grpSpPr>
          <p:sp>
            <p:nvSpPr>
              <p:cNvPr id="891" name=""/>
              <p:cNvSpPr/>
              <p:nvPr/>
            </p:nvSpPr>
            <p:spPr>
              <a:xfrm>
                <a:off x="0" y="4572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0" y="4572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3" name=""/>
            <p:cNvGrpSpPr/>
            <p:nvPr/>
          </p:nvGrpSpPr>
          <p:grpSpPr>
            <a:xfrm>
              <a:off x="0" y="4800600"/>
              <a:ext cx="6780960" cy="228240"/>
              <a:chOff x="0" y="4800600"/>
              <a:chExt cx="6780960" cy="228240"/>
            </a:xfrm>
          </p:grpSpPr>
          <p:sp>
            <p:nvSpPr>
              <p:cNvPr id="894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6" name=""/>
            <p:cNvGrpSpPr/>
            <p:nvPr/>
          </p:nvGrpSpPr>
          <p:grpSpPr>
            <a:xfrm>
              <a:off x="0" y="5029200"/>
              <a:ext cx="6780960" cy="228240"/>
              <a:chOff x="0" y="5029200"/>
              <a:chExt cx="6780960" cy="228240"/>
            </a:xfrm>
          </p:grpSpPr>
          <p:sp>
            <p:nvSpPr>
              <p:cNvPr id="897" name="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"array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9" name=""/>
            <p:cNvGrpSpPr/>
            <p:nvPr/>
          </p:nvGrpSpPr>
          <p:grpSpPr>
            <a:xfrm>
              <a:off x="0" y="5257800"/>
              <a:ext cx="6780960" cy="228240"/>
              <a:chOff x="0" y="5257800"/>
              <a:chExt cx="6780960" cy="228240"/>
            </a:xfrm>
          </p:grpSpPr>
          <p:sp>
            <p:nvSpPr>
              <p:cNvPr id="900" name=""/>
              <p:cNvSpPr/>
              <p:nvPr/>
            </p:nvSpPr>
            <p:spPr>
              <a:xfrm>
                <a:off x="0" y="5257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0" y="5257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2" name=""/>
            <p:cNvGrpSpPr/>
            <p:nvPr/>
          </p:nvGrpSpPr>
          <p:grpSpPr>
            <a:xfrm>
              <a:off x="0" y="5486400"/>
              <a:ext cx="6780960" cy="228600"/>
              <a:chOff x="0" y="5486400"/>
              <a:chExt cx="6780960" cy="228600"/>
            </a:xfrm>
          </p:grpSpPr>
          <p:sp>
            <p:nvSpPr>
              <p:cNvPr id="903" name=""/>
              <p:cNvSpPr/>
              <p:nvPr/>
            </p:nvSpPr>
            <p:spPr>
              <a:xfrm>
                <a:off x="0" y="5486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0" y="5486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5" name=""/>
            <p:cNvGrpSpPr/>
            <p:nvPr/>
          </p:nvGrpSpPr>
          <p:grpSpPr>
            <a:xfrm>
              <a:off x="0" y="5715000"/>
              <a:ext cx="6780960" cy="228240"/>
              <a:chOff x="0" y="5715000"/>
              <a:chExt cx="6780960" cy="228240"/>
            </a:xfrm>
          </p:grpSpPr>
          <p:sp>
            <p:nvSpPr>
              <p:cNvPr id="906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8" name=""/>
            <p:cNvGrpSpPr/>
            <p:nvPr/>
          </p:nvGrpSpPr>
          <p:grpSpPr>
            <a:xfrm>
              <a:off x="0" y="5943600"/>
              <a:ext cx="6780960" cy="228240"/>
              <a:chOff x="0" y="5943600"/>
              <a:chExt cx="6780960" cy="228240"/>
            </a:xfrm>
          </p:grpSpPr>
          <p:sp>
            <p:nvSpPr>
              <p:cNvPr id="909" name="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no objects ye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1" name=""/>
            <p:cNvGrpSpPr/>
            <p:nvPr/>
          </p:nvGrpSpPr>
          <p:grpSpPr>
            <a:xfrm>
              <a:off x="0" y="6172200"/>
              <a:ext cx="6780960" cy="228240"/>
              <a:chOff x="0" y="6172200"/>
              <a:chExt cx="6780960" cy="228240"/>
            </a:xfrm>
          </p:grpSpPr>
          <p:sp>
            <p:nvSpPr>
              <p:cNvPr id="912" name=""/>
              <p:cNvSpPr/>
              <p:nvPr/>
            </p:nvSpPr>
            <p:spPr>
              <a:xfrm>
                <a:off x="0" y="6172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0" y="6172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# of arrays instantiated =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4" name=""/>
            <p:cNvGrpSpPr/>
            <p:nvPr/>
          </p:nvGrpSpPr>
          <p:grpSpPr>
            <a:xfrm>
              <a:off x="0" y="6400800"/>
              <a:ext cx="6780960" cy="228600"/>
              <a:chOff x="0" y="6400800"/>
              <a:chExt cx="6780960" cy="228600"/>
            </a:xfrm>
          </p:grpSpPr>
          <p:sp>
            <p:nvSpPr>
              <p:cNvPr id="915" name=""/>
              <p:cNvSpPr/>
              <p:nvPr/>
            </p:nvSpPr>
            <p:spPr>
              <a:xfrm>
                <a:off x="0" y="6400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0" y="6400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Array::getArrayCount()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7" name=""/>
            <p:cNvGrpSpPr/>
            <p:nvPr/>
          </p:nvGrpSpPr>
          <p:grpSpPr>
            <a:xfrm>
              <a:off x="0" y="6629400"/>
              <a:ext cx="6780960" cy="228240"/>
              <a:chOff x="0" y="6629400"/>
              <a:chExt cx="6780960" cy="228240"/>
            </a:xfrm>
          </p:grpSpPr>
          <p:sp>
            <p:nvSpPr>
              <p:cNvPr id="918" name="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20" name=""/>
          <p:cNvSpPr/>
          <p:nvPr/>
        </p:nvSpPr>
        <p:spPr>
          <a:xfrm>
            <a:off x="4739760" y="6095880"/>
            <a:ext cx="274104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 of arrays instantiated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D7B34-26EE-4855-95E8-A5A1D3F26F2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Initialize objec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923" name=""/>
            <p:cNvGrpSpPr/>
            <p:nvPr/>
          </p:nvGrpSpPr>
          <p:grpSpPr>
            <a:xfrm>
              <a:off x="0" y="0"/>
              <a:ext cx="6780960" cy="207720"/>
              <a:chOff x="0" y="0"/>
              <a:chExt cx="6780960" cy="207720"/>
            </a:xfrm>
          </p:grpSpPr>
          <p:sp>
            <p:nvSpPr>
              <p:cNvPr id="924" name="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create two arrays and print Array cou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6" name=""/>
            <p:cNvGrpSpPr/>
            <p:nvPr/>
          </p:nvGrpSpPr>
          <p:grpSpPr>
            <a:xfrm>
              <a:off x="0" y="207720"/>
              <a:ext cx="6780960" cy="207720"/>
              <a:chOff x="0" y="207720"/>
              <a:chExt cx="6780960" cy="207720"/>
            </a:xfrm>
          </p:grpSpPr>
          <p:sp>
            <p:nvSpPr>
              <p:cNvPr id="927" name="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Array integers1( 7 ), integers2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9" name=""/>
            <p:cNvGrpSpPr/>
            <p:nvPr/>
          </p:nvGrpSpPr>
          <p:grpSpPr>
            <a:xfrm>
              <a:off x="0" y="415440"/>
              <a:ext cx="6780960" cy="207720"/>
              <a:chOff x="0" y="415440"/>
              <a:chExt cx="6780960" cy="207720"/>
            </a:xfrm>
          </p:grpSpPr>
          <p:sp>
            <p:nvSpPr>
              <p:cNvPr id="930" name="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# of arrays instantiated =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2" name=""/>
            <p:cNvGrpSpPr/>
            <p:nvPr/>
          </p:nvGrpSpPr>
          <p:grpSpPr>
            <a:xfrm>
              <a:off x="0" y="623160"/>
              <a:ext cx="6780960" cy="207720"/>
              <a:chOff x="0" y="623160"/>
              <a:chExt cx="6780960" cy="207720"/>
            </a:xfrm>
          </p:grpSpPr>
          <p:sp>
            <p:nvSpPr>
              <p:cNvPr id="933" name="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Array::getArrayCount()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5" name=""/>
            <p:cNvGrpSpPr/>
            <p:nvPr/>
          </p:nvGrpSpPr>
          <p:grpSpPr>
            <a:xfrm>
              <a:off x="0" y="831240"/>
              <a:ext cx="6780960" cy="207720"/>
              <a:chOff x="0" y="831240"/>
              <a:chExt cx="6780960" cy="207720"/>
            </a:xfrm>
          </p:grpSpPr>
          <p:sp>
            <p:nvSpPr>
              <p:cNvPr id="936" name="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8" name=""/>
            <p:cNvGrpSpPr/>
            <p:nvPr/>
          </p:nvGrpSpPr>
          <p:grpSpPr>
            <a:xfrm>
              <a:off x="0" y="1038960"/>
              <a:ext cx="6780960" cy="207720"/>
              <a:chOff x="0" y="1038960"/>
              <a:chExt cx="6780960" cy="207720"/>
            </a:xfrm>
          </p:grpSpPr>
          <p:sp>
            <p:nvSpPr>
              <p:cNvPr id="939" name="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print integers1 size and conten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1" name=""/>
            <p:cNvGrpSpPr/>
            <p:nvPr/>
          </p:nvGrpSpPr>
          <p:grpSpPr>
            <a:xfrm>
              <a:off x="0" y="1246680"/>
              <a:ext cx="6780960" cy="207720"/>
              <a:chOff x="0" y="1246680"/>
              <a:chExt cx="6780960" cy="207720"/>
            </a:xfrm>
          </p:grpSpPr>
          <p:sp>
            <p:nvSpPr>
              <p:cNvPr id="942" name="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Size of array integers1 is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1454760"/>
              <a:ext cx="6780960" cy="207720"/>
              <a:chOff x="0" y="1454760"/>
              <a:chExt cx="6780960" cy="2077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1454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0" y="1454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integers1.getSize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7" name=""/>
            <p:cNvGrpSpPr/>
            <p:nvPr/>
          </p:nvGrpSpPr>
          <p:grpSpPr>
            <a:xfrm>
              <a:off x="0" y="1662480"/>
              <a:ext cx="6780960" cy="207720"/>
              <a:chOff x="0" y="1662480"/>
              <a:chExt cx="6780960" cy="207720"/>
            </a:xfrm>
          </p:grpSpPr>
          <p:sp>
            <p:nvSpPr>
              <p:cNvPr id="948" name="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\nArray after initialization: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0" name=""/>
            <p:cNvGrpSpPr/>
            <p:nvPr/>
          </p:nvGrpSpPr>
          <p:grpSpPr>
            <a:xfrm>
              <a:off x="0" y="1870200"/>
              <a:ext cx="6780960" cy="207720"/>
              <a:chOff x="0" y="1870200"/>
              <a:chExt cx="6780960" cy="207720"/>
            </a:xfrm>
          </p:grpSpPr>
          <p:sp>
            <p:nvSpPr>
              <p:cNvPr id="951" name="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integers1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3" name=""/>
            <p:cNvGrpSpPr/>
            <p:nvPr/>
          </p:nvGrpSpPr>
          <p:grpSpPr>
            <a:xfrm>
              <a:off x="0" y="2077920"/>
              <a:ext cx="6780960" cy="207720"/>
              <a:chOff x="0" y="2077920"/>
              <a:chExt cx="6780960" cy="207720"/>
            </a:xfrm>
          </p:grpSpPr>
          <p:sp>
            <p:nvSpPr>
              <p:cNvPr id="954" name="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6" name=""/>
            <p:cNvGrpSpPr/>
            <p:nvPr/>
          </p:nvGrpSpPr>
          <p:grpSpPr>
            <a:xfrm>
              <a:off x="0" y="2286000"/>
              <a:ext cx="6780960" cy="207720"/>
              <a:chOff x="0" y="2286000"/>
              <a:chExt cx="6780960" cy="207720"/>
            </a:xfrm>
          </p:grpSpPr>
          <p:sp>
            <p:nvSpPr>
              <p:cNvPr id="957" name=""/>
              <p:cNvSpPr/>
              <p:nvPr/>
            </p:nvSpPr>
            <p:spPr>
              <a:xfrm>
                <a:off x="0" y="2286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0" y="2286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print integers2 size and conten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9" name=""/>
            <p:cNvGrpSpPr/>
            <p:nvPr/>
          </p:nvGrpSpPr>
          <p:grpSpPr>
            <a:xfrm>
              <a:off x="0" y="2493720"/>
              <a:ext cx="6780960" cy="207720"/>
              <a:chOff x="0" y="2493720"/>
              <a:chExt cx="6780960" cy="207720"/>
            </a:xfrm>
          </p:grpSpPr>
          <p:sp>
            <p:nvSpPr>
              <p:cNvPr id="960" name="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Size of array integers2 is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2" name=""/>
            <p:cNvGrpSpPr/>
            <p:nvPr/>
          </p:nvGrpSpPr>
          <p:grpSpPr>
            <a:xfrm>
              <a:off x="0" y="2701440"/>
              <a:ext cx="6780960" cy="207720"/>
              <a:chOff x="0" y="2701440"/>
              <a:chExt cx="6780960" cy="207720"/>
            </a:xfrm>
          </p:grpSpPr>
          <p:sp>
            <p:nvSpPr>
              <p:cNvPr id="963" name="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integers2.getSize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5" name=""/>
            <p:cNvGrpSpPr/>
            <p:nvPr/>
          </p:nvGrpSpPr>
          <p:grpSpPr>
            <a:xfrm>
              <a:off x="0" y="2909160"/>
              <a:ext cx="6780960" cy="207720"/>
              <a:chOff x="0" y="2909160"/>
              <a:chExt cx="6780960" cy="207720"/>
            </a:xfrm>
          </p:grpSpPr>
          <p:sp>
            <p:nvSpPr>
              <p:cNvPr id="966" name="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\nArray after initialization: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8" name=""/>
            <p:cNvGrpSpPr/>
            <p:nvPr/>
          </p:nvGrpSpPr>
          <p:grpSpPr>
            <a:xfrm>
              <a:off x="0" y="3117240"/>
              <a:ext cx="6780960" cy="207720"/>
              <a:chOff x="0" y="3117240"/>
              <a:chExt cx="6780960" cy="207720"/>
            </a:xfrm>
          </p:grpSpPr>
          <p:sp>
            <p:nvSpPr>
              <p:cNvPr id="969" name="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integers2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1" name=""/>
            <p:cNvGrpSpPr/>
            <p:nvPr/>
          </p:nvGrpSpPr>
          <p:grpSpPr>
            <a:xfrm>
              <a:off x="0" y="3324960"/>
              <a:ext cx="6780960" cy="207720"/>
              <a:chOff x="0" y="3324960"/>
              <a:chExt cx="6780960" cy="207720"/>
            </a:xfrm>
          </p:grpSpPr>
          <p:sp>
            <p:nvSpPr>
              <p:cNvPr id="972" name="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"/>
            <p:cNvGrpSpPr/>
            <p:nvPr/>
          </p:nvGrpSpPr>
          <p:grpSpPr>
            <a:xfrm>
              <a:off x="0" y="3532680"/>
              <a:ext cx="6780960" cy="207720"/>
              <a:chOff x="0" y="3532680"/>
              <a:chExt cx="6780960" cy="207720"/>
            </a:xfrm>
          </p:grpSpPr>
          <p:sp>
            <p:nvSpPr>
              <p:cNvPr id="975" name="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input and print integers1 and integers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7" name=""/>
            <p:cNvGrpSpPr/>
            <p:nvPr/>
          </p:nvGrpSpPr>
          <p:grpSpPr>
            <a:xfrm>
              <a:off x="0" y="3740760"/>
              <a:ext cx="6780960" cy="207720"/>
              <a:chOff x="0" y="3740760"/>
              <a:chExt cx="6780960" cy="207720"/>
            </a:xfrm>
          </p:grpSpPr>
          <p:sp>
            <p:nvSpPr>
              <p:cNvPr id="978" name="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Input 17 integers: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0" name=""/>
            <p:cNvGrpSpPr/>
            <p:nvPr/>
          </p:nvGrpSpPr>
          <p:grpSpPr>
            <a:xfrm>
              <a:off x="0" y="3948480"/>
              <a:ext cx="6780960" cy="207720"/>
              <a:chOff x="0" y="3948480"/>
              <a:chExt cx="6780960" cy="207720"/>
            </a:xfrm>
          </p:grpSpPr>
          <p:sp>
            <p:nvSpPr>
              <p:cNvPr id="981" name="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in &gt;&gt; integers1 &gt;&gt; integers2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3" name=""/>
            <p:cNvGrpSpPr/>
            <p:nvPr/>
          </p:nvGrpSpPr>
          <p:grpSpPr>
            <a:xfrm>
              <a:off x="0" y="4156200"/>
              <a:ext cx="6780960" cy="207720"/>
              <a:chOff x="0" y="4156200"/>
              <a:chExt cx="6780960" cy="207720"/>
            </a:xfrm>
          </p:grpSpPr>
          <p:sp>
            <p:nvSpPr>
              <p:cNvPr id="984" name="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After input, the arrays contain: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6" name=""/>
            <p:cNvGrpSpPr/>
            <p:nvPr/>
          </p:nvGrpSpPr>
          <p:grpSpPr>
            <a:xfrm>
              <a:off x="0" y="4364280"/>
              <a:ext cx="6780960" cy="207720"/>
              <a:chOff x="0" y="4364280"/>
              <a:chExt cx="6780960" cy="207720"/>
            </a:xfrm>
          </p:grpSpPr>
          <p:sp>
            <p:nvSpPr>
              <p:cNvPr id="987" name="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integers1:\n" &lt;&lt; integers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9" name=""/>
            <p:cNvGrpSpPr/>
            <p:nvPr/>
          </p:nvGrpSpPr>
          <p:grpSpPr>
            <a:xfrm>
              <a:off x="0" y="4572000"/>
              <a:ext cx="6780960" cy="207720"/>
              <a:chOff x="0" y="4572000"/>
              <a:chExt cx="6780960" cy="207720"/>
            </a:xfrm>
          </p:grpSpPr>
          <p:sp>
            <p:nvSpPr>
              <p:cNvPr id="990" name="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integers2:\n" &lt;&lt; integers2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2" name=""/>
            <p:cNvGrpSpPr/>
            <p:nvPr/>
          </p:nvGrpSpPr>
          <p:grpSpPr>
            <a:xfrm>
              <a:off x="0" y="4779720"/>
              <a:ext cx="6780960" cy="207720"/>
              <a:chOff x="0" y="4779720"/>
              <a:chExt cx="6780960" cy="207720"/>
            </a:xfrm>
          </p:grpSpPr>
          <p:sp>
            <p:nvSpPr>
              <p:cNvPr id="993" name="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5" name=""/>
            <p:cNvGrpSpPr/>
            <p:nvPr/>
          </p:nvGrpSpPr>
          <p:grpSpPr>
            <a:xfrm>
              <a:off x="0" y="4987800"/>
              <a:ext cx="6780960" cy="207720"/>
              <a:chOff x="0" y="4987800"/>
              <a:chExt cx="6780960" cy="207720"/>
            </a:xfrm>
          </p:grpSpPr>
          <p:sp>
            <p:nvSpPr>
              <p:cNvPr id="996" name=""/>
              <p:cNvSpPr/>
              <p:nvPr/>
            </p:nvSpPr>
            <p:spPr>
              <a:xfrm>
                <a:off x="0" y="49878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0" y="49878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use overloaded inequality (!=) opera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8" name=""/>
            <p:cNvGrpSpPr/>
            <p:nvPr/>
          </p:nvGrpSpPr>
          <p:grpSpPr>
            <a:xfrm>
              <a:off x="0" y="5195520"/>
              <a:ext cx="6780960" cy="207720"/>
              <a:chOff x="0" y="5195520"/>
              <a:chExt cx="6780960" cy="207720"/>
            </a:xfrm>
          </p:grpSpPr>
          <p:sp>
            <p:nvSpPr>
              <p:cNvPr id="999" name="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Evaluating: integers1 != integers2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1" name=""/>
            <p:cNvGrpSpPr/>
            <p:nvPr/>
          </p:nvGrpSpPr>
          <p:grpSpPr>
            <a:xfrm>
              <a:off x="0" y="5403240"/>
              <a:ext cx="6780960" cy="207720"/>
              <a:chOff x="0" y="5403240"/>
              <a:chExt cx="6780960" cy="207720"/>
            </a:xfrm>
          </p:grpSpPr>
          <p:sp>
            <p:nvSpPr>
              <p:cNvPr id="1002" name="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integers1 != integers2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4" name=""/>
            <p:cNvGrpSpPr/>
            <p:nvPr/>
          </p:nvGrpSpPr>
          <p:grpSpPr>
            <a:xfrm>
              <a:off x="0" y="5610960"/>
              <a:ext cx="6780960" cy="207720"/>
              <a:chOff x="0" y="5610960"/>
              <a:chExt cx="6780960" cy="207720"/>
            </a:xfrm>
          </p:grpSpPr>
          <p:sp>
            <p:nvSpPr>
              <p:cNvPr id="1005" name="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cout &lt;&lt; "They are not equal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7" name=""/>
            <p:cNvGrpSpPr/>
            <p:nvPr/>
          </p:nvGrpSpPr>
          <p:grpSpPr>
            <a:xfrm>
              <a:off x="0" y="5819040"/>
              <a:ext cx="6780960" cy="207720"/>
              <a:chOff x="0" y="5819040"/>
              <a:chExt cx="6780960" cy="207720"/>
            </a:xfrm>
          </p:grpSpPr>
          <p:sp>
            <p:nvSpPr>
              <p:cNvPr id="1008" name=""/>
              <p:cNvSpPr/>
              <p:nvPr/>
            </p:nvSpPr>
            <p:spPr>
              <a:xfrm>
                <a:off x="0" y="58190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0" y="58190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0" name=""/>
            <p:cNvGrpSpPr/>
            <p:nvPr/>
          </p:nvGrpSpPr>
          <p:grpSpPr>
            <a:xfrm>
              <a:off x="0" y="6026760"/>
              <a:ext cx="6780960" cy="207720"/>
              <a:chOff x="0" y="6026760"/>
              <a:chExt cx="6780960" cy="207720"/>
            </a:xfrm>
          </p:grpSpPr>
          <p:sp>
            <p:nvSpPr>
              <p:cNvPr id="1011" name="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create array integers3 using integers1 as a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3" name=""/>
            <p:cNvGrpSpPr/>
            <p:nvPr/>
          </p:nvGrpSpPr>
          <p:grpSpPr>
            <a:xfrm>
              <a:off x="0" y="6234480"/>
              <a:ext cx="6780960" cy="207720"/>
              <a:chOff x="0" y="6234480"/>
              <a:chExt cx="6780960" cy="207720"/>
            </a:xfrm>
          </p:grpSpPr>
          <p:sp>
            <p:nvSpPr>
              <p:cNvPr id="1014" name="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initializer; print size and conten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6" name=""/>
            <p:cNvGrpSpPr/>
            <p:nvPr/>
          </p:nvGrpSpPr>
          <p:grpSpPr>
            <a:xfrm>
              <a:off x="0" y="6442200"/>
              <a:ext cx="6780960" cy="207720"/>
              <a:chOff x="0" y="6442200"/>
              <a:chExt cx="6780960" cy="207720"/>
            </a:xfrm>
          </p:grpSpPr>
          <p:sp>
            <p:nvSpPr>
              <p:cNvPr id="1017" name="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Array integers3( integers1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9" name=""/>
            <p:cNvGrpSpPr/>
            <p:nvPr/>
          </p:nvGrpSpPr>
          <p:grpSpPr>
            <a:xfrm>
              <a:off x="0" y="6650280"/>
              <a:ext cx="6780960" cy="207720"/>
              <a:chOff x="0" y="6650280"/>
              <a:chExt cx="6780960" cy="207720"/>
            </a:xfrm>
          </p:grpSpPr>
          <p:sp>
            <p:nvSpPr>
              <p:cNvPr id="1020" name=""/>
              <p:cNvSpPr/>
              <p:nvPr/>
            </p:nvSpPr>
            <p:spPr>
              <a:xfrm>
                <a:off x="0" y="6650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0" y="6650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2" name=""/>
          <p:cNvSpPr/>
          <p:nvPr/>
        </p:nvSpPr>
        <p:spPr>
          <a:xfrm>
            <a:off x="4282560" y="304920"/>
            <a:ext cx="274104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 of arrays instantiated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4517280" y="1371600"/>
            <a:ext cx="4569840" cy="8240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ize of array integers1 is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ray after initializ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          0           0        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          0        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517280" y="2490840"/>
            <a:ext cx="4569840" cy="1006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ize of array integers2 is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ray after initializ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          0           0        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          0           0        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       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4724280" y="3581280"/>
            <a:ext cx="4724640" cy="1919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 17 integ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2 3 4 5 6 7 8 9 10 11 12 13 14 15 16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fter input, the arrays conta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egers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          2           3        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5           6          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egers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8           9          10       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2          13          14       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6         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4665600" y="5638680"/>
            <a:ext cx="3289680" cy="459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valuating: integers1 != integers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y are not eq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15383-FEAD-4C15-A5B8-7D66A7CB2A0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7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1028" name=""/>
            <p:cNvGrpSpPr/>
            <p:nvPr/>
          </p:nvGrpSpPr>
          <p:grpSpPr>
            <a:xfrm>
              <a:off x="0" y="0"/>
              <a:ext cx="6780960" cy="228240"/>
              <a:chOff x="0" y="0"/>
              <a:chExt cx="6780960" cy="228240"/>
            </a:xfrm>
          </p:grpSpPr>
          <p:sp>
            <p:nvSpPr>
              <p:cNvPr id="1029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\nSize of array integers3 is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1" name=""/>
            <p:cNvGrpSpPr/>
            <p:nvPr/>
          </p:nvGrpSpPr>
          <p:grpSpPr>
            <a:xfrm>
              <a:off x="0" y="228240"/>
              <a:ext cx="6780960" cy="228240"/>
              <a:chOff x="0" y="228240"/>
              <a:chExt cx="6780960" cy="228240"/>
            </a:xfrm>
          </p:grpSpPr>
          <p:sp>
            <p:nvSpPr>
              <p:cNvPr id="1032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integers3.getSize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4" name=""/>
            <p:cNvGrpSpPr/>
            <p:nvPr/>
          </p:nvGrpSpPr>
          <p:grpSpPr>
            <a:xfrm>
              <a:off x="0" y="456840"/>
              <a:ext cx="6780960" cy="228600"/>
              <a:chOff x="0" y="456840"/>
              <a:chExt cx="6780960" cy="228600"/>
            </a:xfrm>
          </p:grpSpPr>
          <p:sp>
            <p:nvSpPr>
              <p:cNvPr id="1035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\nArray after initialization: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7" name=""/>
            <p:cNvGrpSpPr/>
            <p:nvPr/>
          </p:nvGrpSpPr>
          <p:grpSpPr>
            <a:xfrm>
              <a:off x="0" y="685800"/>
              <a:ext cx="6780960" cy="228240"/>
              <a:chOff x="0" y="685800"/>
              <a:chExt cx="6780960" cy="228240"/>
            </a:xfrm>
          </p:grpSpPr>
          <p:sp>
            <p:nvSpPr>
              <p:cNvPr id="1038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integers3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0" name=""/>
            <p:cNvGrpSpPr/>
            <p:nvPr/>
          </p:nvGrpSpPr>
          <p:grpSpPr>
            <a:xfrm>
              <a:off x="0" y="914400"/>
              <a:ext cx="6780960" cy="228240"/>
              <a:chOff x="0" y="914400"/>
              <a:chExt cx="6780960" cy="228240"/>
            </a:xfrm>
          </p:grpSpPr>
          <p:sp>
            <p:nvSpPr>
              <p:cNvPr id="1041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3" name=""/>
            <p:cNvGrpSpPr/>
            <p:nvPr/>
          </p:nvGrpSpPr>
          <p:grpSpPr>
            <a:xfrm>
              <a:off x="0" y="1143000"/>
              <a:ext cx="6780960" cy="228240"/>
              <a:chOff x="0" y="1143000"/>
              <a:chExt cx="6780960" cy="228240"/>
            </a:xfrm>
          </p:grpSpPr>
          <p:sp>
            <p:nvSpPr>
              <p:cNvPr id="1044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use overloaded assignment (=) opera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6" name=""/>
            <p:cNvGrpSpPr/>
            <p:nvPr/>
          </p:nvGrpSpPr>
          <p:grpSpPr>
            <a:xfrm>
              <a:off x="0" y="1371240"/>
              <a:ext cx="6780960" cy="228600"/>
              <a:chOff x="0" y="1371240"/>
              <a:chExt cx="6780960" cy="228600"/>
            </a:xfrm>
          </p:grpSpPr>
          <p:sp>
            <p:nvSpPr>
              <p:cNvPr id="1047" name=""/>
              <p:cNvSpPr/>
              <p:nvPr/>
            </p:nvSpPr>
            <p:spPr>
              <a:xfrm>
                <a:off x="0" y="1371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0" y="1371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Assigning integers2 to integers1: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9" name=""/>
            <p:cNvGrpSpPr/>
            <p:nvPr/>
          </p:nvGrpSpPr>
          <p:grpSpPr>
            <a:xfrm>
              <a:off x="0" y="1600200"/>
              <a:ext cx="6780960" cy="228240"/>
              <a:chOff x="0" y="1600200"/>
              <a:chExt cx="6780960" cy="228240"/>
            </a:xfrm>
          </p:grpSpPr>
          <p:sp>
            <p:nvSpPr>
              <p:cNvPr id="1050" name="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integers1 = integers2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2" name=""/>
            <p:cNvGrpSpPr/>
            <p:nvPr/>
          </p:nvGrpSpPr>
          <p:grpSpPr>
            <a:xfrm>
              <a:off x="0" y="1828800"/>
              <a:ext cx="6780960" cy="228240"/>
              <a:chOff x="0" y="1828800"/>
              <a:chExt cx="6780960" cy="228240"/>
            </a:xfrm>
          </p:grpSpPr>
          <p:sp>
            <p:nvSpPr>
              <p:cNvPr id="1053" name="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integers1:\n" &lt;&lt; integers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5" name=""/>
            <p:cNvGrpSpPr/>
            <p:nvPr/>
          </p:nvGrpSpPr>
          <p:grpSpPr>
            <a:xfrm>
              <a:off x="0" y="2057400"/>
              <a:ext cx="6780960" cy="228240"/>
              <a:chOff x="0" y="2057400"/>
              <a:chExt cx="6780960" cy="228240"/>
            </a:xfrm>
          </p:grpSpPr>
          <p:sp>
            <p:nvSpPr>
              <p:cNvPr id="1056" name="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integers2:\n" &lt;&lt; integers2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8" name=""/>
            <p:cNvGrpSpPr/>
            <p:nvPr/>
          </p:nvGrpSpPr>
          <p:grpSpPr>
            <a:xfrm>
              <a:off x="0" y="2286000"/>
              <a:ext cx="6780960" cy="228600"/>
              <a:chOff x="0" y="2286000"/>
              <a:chExt cx="6780960" cy="228600"/>
            </a:xfrm>
          </p:grpSpPr>
          <p:sp>
            <p:nvSpPr>
              <p:cNvPr id="1059" name="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1" name=""/>
            <p:cNvGrpSpPr/>
            <p:nvPr/>
          </p:nvGrpSpPr>
          <p:grpSpPr>
            <a:xfrm>
              <a:off x="0" y="2514600"/>
              <a:ext cx="6780960" cy="228240"/>
              <a:chOff x="0" y="2514600"/>
              <a:chExt cx="6780960" cy="228240"/>
            </a:xfrm>
          </p:grpSpPr>
          <p:sp>
            <p:nvSpPr>
              <p:cNvPr id="1062" name="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use overloaded equality (==) opera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4" name=""/>
            <p:cNvGrpSpPr/>
            <p:nvPr/>
          </p:nvGrpSpPr>
          <p:grpSpPr>
            <a:xfrm>
              <a:off x="0" y="2743200"/>
              <a:ext cx="6780960" cy="228240"/>
              <a:chOff x="0" y="2743200"/>
              <a:chExt cx="6780960" cy="228240"/>
            </a:xfrm>
          </p:grpSpPr>
          <p:sp>
            <p:nvSpPr>
              <p:cNvPr id="1065" name="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Evaluating: integers1 == integers2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7" name=""/>
            <p:cNvGrpSpPr/>
            <p:nvPr/>
          </p:nvGrpSpPr>
          <p:grpSpPr>
            <a:xfrm>
              <a:off x="0" y="2971800"/>
              <a:ext cx="6780960" cy="228240"/>
              <a:chOff x="0" y="2971800"/>
              <a:chExt cx="6780960" cy="228240"/>
            </a:xfrm>
          </p:grpSpPr>
          <p:sp>
            <p:nvSpPr>
              <p:cNvPr id="1068" name="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integers1 == integers2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0" name=""/>
            <p:cNvGrpSpPr/>
            <p:nvPr/>
          </p:nvGrpSpPr>
          <p:grpSpPr>
            <a:xfrm>
              <a:off x="0" y="3200400"/>
              <a:ext cx="6780960" cy="228600"/>
              <a:chOff x="0" y="3200400"/>
              <a:chExt cx="6780960" cy="228600"/>
            </a:xfrm>
          </p:grpSpPr>
          <p:sp>
            <p:nvSpPr>
              <p:cNvPr id="1071" name="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cout &lt;&lt; "They are equal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3" name=""/>
            <p:cNvGrpSpPr/>
            <p:nvPr/>
          </p:nvGrpSpPr>
          <p:grpSpPr>
            <a:xfrm>
              <a:off x="0" y="3429000"/>
              <a:ext cx="6780960" cy="228240"/>
              <a:chOff x="0" y="3429000"/>
              <a:chExt cx="6780960" cy="228240"/>
            </a:xfrm>
          </p:grpSpPr>
          <p:sp>
            <p:nvSpPr>
              <p:cNvPr id="1074" name="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6" name=""/>
            <p:cNvGrpSpPr/>
            <p:nvPr/>
          </p:nvGrpSpPr>
          <p:grpSpPr>
            <a:xfrm>
              <a:off x="0" y="3657600"/>
              <a:ext cx="6780960" cy="228240"/>
              <a:chOff x="0" y="3657600"/>
              <a:chExt cx="6780960" cy="228240"/>
            </a:xfrm>
          </p:grpSpPr>
          <p:sp>
            <p:nvSpPr>
              <p:cNvPr id="1077" name="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use overloaded subscript operator to create r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9" name=""/>
            <p:cNvGrpSpPr/>
            <p:nvPr/>
          </p:nvGrpSpPr>
          <p:grpSpPr>
            <a:xfrm>
              <a:off x="0" y="3886200"/>
              <a:ext cx="6780960" cy="228240"/>
              <a:chOff x="0" y="3886200"/>
              <a:chExt cx="6780960" cy="228240"/>
            </a:xfrm>
          </p:grpSpPr>
          <p:sp>
            <p:nvSpPr>
              <p:cNvPr id="1080" name="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integers1[5] is " &lt;&lt; integers1[ 5 ]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2" name=""/>
            <p:cNvGrpSpPr/>
            <p:nvPr/>
          </p:nvGrpSpPr>
          <p:grpSpPr>
            <a:xfrm>
              <a:off x="0" y="4114800"/>
              <a:ext cx="6780960" cy="228240"/>
              <a:chOff x="0" y="4114800"/>
              <a:chExt cx="6780960" cy="228240"/>
            </a:xfrm>
          </p:grpSpPr>
          <p:sp>
            <p:nvSpPr>
              <p:cNvPr id="1083" name="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5" name=""/>
            <p:cNvGrpSpPr/>
            <p:nvPr/>
          </p:nvGrpSpPr>
          <p:grpSpPr>
            <a:xfrm>
              <a:off x="0" y="4343400"/>
              <a:ext cx="6780960" cy="228600"/>
              <a:chOff x="0" y="4343400"/>
              <a:chExt cx="6780960" cy="228600"/>
            </a:xfrm>
          </p:grpSpPr>
          <p:sp>
            <p:nvSpPr>
              <p:cNvPr id="1086" name="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use overloaded subscript operator to create l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8" name=""/>
            <p:cNvGrpSpPr/>
            <p:nvPr/>
          </p:nvGrpSpPr>
          <p:grpSpPr>
            <a:xfrm>
              <a:off x="0" y="4572000"/>
              <a:ext cx="6780960" cy="228240"/>
              <a:chOff x="0" y="4572000"/>
              <a:chExt cx="6780960" cy="228240"/>
            </a:xfrm>
          </p:grpSpPr>
          <p:sp>
            <p:nvSpPr>
              <p:cNvPr id="1089" name="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Assigning 1000 to integers1[5]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1" name=""/>
            <p:cNvGrpSpPr/>
            <p:nvPr/>
          </p:nvGrpSpPr>
          <p:grpSpPr>
            <a:xfrm>
              <a:off x="0" y="4800600"/>
              <a:ext cx="6780960" cy="228240"/>
              <a:chOff x="0" y="4800600"/>
              <a:chExt cx="6780960" cy="228240"/>
            </a:xfrm>
          </p:grpSpPr>
          <p:sp>
            <p:nvSpPr>
              <p:cNvPr id="1092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integers1[ 5 ] = 100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4" name=""/>
            <p:cNvGrpSpPr/>
            <p:nvPr/>
          </p:nvGrpSpPr>
          <p:grpSpPr>
            <a:xfrm>
              <a:off x="0" y="5029200"/>
              <a:ext cx="6780960" cy="228240"/>
              <a:chOff x="0" y="5029200"/>
              <a:chExt cx="6780960" cy="228240"/>
            </a:xfrm>
          </p:grpSpPr>
          <p:sp>
            <p:nvSpPr>
              <p:cNvPr id="1095" name="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integers1:\n" &lt;&lt; integers1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7" name=""/>
            <p:cNvGrpSpPr/>
            <p:nvPr/>
          </p:nvGrpSpPr>
          <p:grpSpPr>
            <a:xfrm>
              <a:off x="0" y="5257800"/>
              <a:ext cx="6780960" cy="228600"/>
              <a:chOff x="0" y="5257800"/>
              <a:chExt cx="6780960" cy="228600"/>
            </a:xfrm>
          </p:grpSpPr>
          <p:sp>
            <p:nvSpPr>
              <p:cNvPr id="1098" name=""/>
              <p:cNvSpPr/>
              <p:nvPr/>
            </p:nvSpPr>
            <p:spPr>
              <a:xfrm>
                <a:off x="0" y="5257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0" y="5257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0" name=""/>
            <p:cNvGrpSpPr/>
            <p:nvPr/>
          </p:nvGrpSpPr>
          <p:grpSpPr>
            <a:xfrm>
              <a:off x="0" y="5486400"/>
              <a:ext cx="6780960" cy="228240"/>
              <a:chOff x="0" y="5486400"/>
              <a:chExt cx="6780960" cy="228240"/>
            </a:xfrm>
          </p:grpSpPr>
          <p:sp>
            <p:nvSpPr>
              <p:cNvPr id="1101" name="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attempt to use out of range subscrip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3" name=""/>
            <p:cNvGrpSpPr/>
            <p:nvPr/>
          </p:nvGrpSpPr>
          <p:grpSpPr>
            <a:xfrm>
              <a:off x="0" y="5715000"/>
              <a:ext cx="6780960" cy="228240"/>
              <a:chOff x="0" y="5715000"/>
              <a:chExt cx="6780960" cy="228240"/>
            </a:xfrm>
          </p:grpSpPr>
          <p:sp>
            <p:nvSpPr>
              <p:cNvPr id="1104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Attempt to assign 1000 to integers1[15]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6" name=""/>
            <p:cNvGrpSpPr/>
            <p:nvPr/>
          </p:nvGrpSpPr>
          <p:grpSpPr>
            <a:xfrm>
              <a:off x="0" y="5943600"/>
              <a:ext cx="6780960" cy="228240"/>
              <a:chOff x="0" y="5943600"/>
              <a:chExt cx="6780960" cy="228240"/>
            </a:xfrm>
          </p:grpSpPr>
          <p:sp>
            <p:nvSpPr>
              <p:cNvPr id="1107" name="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integers1[ 15 ] = 1000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ERROR: out of rang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9" name=""/>
            <p:cNvGrpSpPr/>
            <p:nvPr/>
          </p:nvGrpSpPr>
          <p:grpSpPr>
            <a:xfrm>
              <a:off x="0" y="6172200"/>
              <a:ext cx="6780960" cy="228600"/>
              <a:chOff x="0" y="6172200"/>
              <a:chExt cx="6780960" cy="228600"/>
            </a:xfrm>
          </p:grpSpPr>
          <p:sp>
            <p:nvSpPr>
              <p:cNvPr id="1110" name=""/>
              <p:cNvSpPr/>
              <p:nvPr/>
            </p:nvSpPr>
            <p:spPr>
              <a:xfrm>
                <a:off x="0" y="6172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0" y="6172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2" name=""/>
            <p:cNvGrpSpPr/>
            <p:nvPr/>
          </p:nvGrpSpPr>
          <p:grpSpPr>
            <a:xfrm>
              <a:off x="0" y="6400800"/>
              <a:ext cx="6780960" cy="228240"/>
              <a:chOff x="0" y="6400800"/>
              <a:chExt cx="6780960" cy="228240"/>
            </a:xfrm>
          </p:grpSpPr>
          <p:sp>
            <p:nvSpPr>
              <p:cNvPr id="1113" name="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5" name=""/>
            <p:cNvGrpSpPr/>
            <p:nvPr/>
          </p:nvGrpSpPr>
          <p:grpSpPr>
            <a:xfrm>
              <a:off x="0" y="6629400"/>
              <a:ext cx="6780960" cy="228240"/>
              <a:chOff x="0" y="6629400"/>
              <a:chExt cx="6780960" cy="228240"/>
            </a:xfrm>
          </p:grpSpPr>
          <p:sp>
            <p:nvSpPr>
              <p:cNvPr id="1116" name="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18" name=""/>
          <p:cNvSpPr/>
          <p:nvPr/>
        </p:nvSpPr>
        <p:spPr>
          <a:xfrm>
            <a:off x="3809880" y="2438280"/>
            <a:ext cx="4953240" cy="249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ssigning integers2 to integers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s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           9          10         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2          13          14         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6         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s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           9          10         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2          13          14         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6         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120" name=""/>
          <p:cNvSpPr/>
          <p:nvPr/>
        </p:nvSpPr>
        <p:spPr>
          <a:xfrm>
            <a:off x="3429000" y="914400"/>
            <a:ext cx="4876920" cy="1110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ize of array integers3 is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ray after initializ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          2           3          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5           6          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5650920" y="3678120"/>
            <a:ext cx="182664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s1[5] is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5181480" y="3124080"/>
            <a:ext cx="3886200" cy="55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uating: integers1 == integers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y are eq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3657600" y="5322960"/>
            <a:ext cx="5334120" cy="1388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ssigning 1000 to integers1[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s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           9          10         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2        1000          14         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6         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3962520" y="4648320"/>
            <a:ext cx="4572000" cy="919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tempt to assign 1000 to integers1[1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ssertion failed: 0 &lt;= subscript &amp;&amp; subscript &lt; size, file Array1.cpp, line 95 abnormal program termina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FE21E-11E0-4384-B3B6-F0082F2E1B1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126" name=""/>
          <p:cNvSpPr/>
          <p:nvPr/>
        </p:nvSpPr>
        <p:spPr>
          <a:xfrm>
            <a:off x="0" y="0"/>
            <a:ext cx="6781680" cy="6117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 of arrays instantiated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 of arrays instantiated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ize of array integers1 is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ray after initializ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          0           0        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          0        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ize of array integers2 is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ray after initializ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          0           0        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          0           0        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       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 17 integ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2 3 4 5 6 7 8 9 10 11 12 13 14 15 16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fter input, the arrays conta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egers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          2           3          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5           6          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egers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8           9          10         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2          13          14         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6         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valuating: integers1 != integers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y are not eq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ize of array integers3 is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ray after initializ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          2           3          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5           6          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DBD8D-4102-4F85-ADD3-79AE395A0AA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128" name=""/>
          <p:cNvGrpSpPr/>
          <p:nvPr/>
        </p:nvGrpSpPr>
        <p:grpSpPr>
          <a:xfrm>
            <a:off x="0" y="0"/>
            <a:ext cx="6705720" cy="4344840"/>
            <a:chOff x="0" y="0"/>
            <a:chExt cx="6705720" cy="4344840"/>
          </a:xfrm>
        </p:grpSpPr>
        <p:sp>
          <p:nvSpPr>
            <p:cNvPr id="1129" name=""/>
            <p:cNvSpPr/>
            <p:nvPr/>
          </p:nvSpPr>
          <p:spPr>
            <a:xfrm>
              <a:off x="0" y="1878120"/>
              <a:ext cx="6705720" cy="2466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valuating: integers1 == integers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hey are equ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ntegers1[5] is 1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ssigning 1000 to integers1[5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ntegers1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8           9          10          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2        1000          14          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6          1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ttempt to assign 1000 to integers1[15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ssertion failed: 0 &lt;= subscript &amp;&amp; subscript &lt; size, file Array1.cpp, line 95 abnormal program termination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0" y="0"/>
              <a:ext cx="6705720" cy="1919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ssigning integers2 to integers1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ntegers1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8           9          10          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2          13          14          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6          1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ntegers2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8           9          10          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2          13          14          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6          1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FD38C-188B-499B-8FE0-BCE3C63FA8E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9  Converting between Typ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0769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t op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ces conversions among built-in 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cifies conversions between user defined and built-in 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version operator must be a non-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not be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 not specify return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type is the type to which the object is being conv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user-defined 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::operator char *() con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an overloaded cast operator function for creating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ut of 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C5963-9242-4438-9654-8469A8768F6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9  Converting between Typ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0769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::operator int() con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an overloaded cast operator function for converting an object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to an 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::operator otherClass() con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an overloaded cast operator function for converting an object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to an object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ther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iler and ca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sting can prevent the need for overloa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If an object s of user-defined class String appears in a program where an ordinary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is expected, such 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ut &lt;&lt; 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mpiler calls the overloaded cast operator functio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a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convert the object into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uses the result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the 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DC406-CD86-4993-B516-8B3320CA6E4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10  Case Study: A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String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Clas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 a class to handle st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 standard library (more Chapter 19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sion constru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ngle-argument constructors that turn objects of other types into class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F0690-866A-4546-AC84-8AC8E2893D6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Class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Member functions, some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138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139" name=""/>
            <p:cNvGrpSpPr/>
            <p:nvPr/>
          </p:nvGrpSpPr>
          <p:grpSpPr>
            <a:xfrm>
              <a:off x="0" y="0"/>
              <a:ext cx="6780960" cy="207720"/>
              <a:chOff x="0" y="0"/>
              <a:chExt cx="6780960" cy="207720"/>
            </a:xfrm>
          </p:grpSpPr>
          <p:sp>
            <p:nvSpPr>
              <p:cNvPr id="1140" name="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Fig. 8.5: string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2" name=""/>
            <p:cNvGrpSpPr/>
            <p:nvPr/>
          </p:nvGrpSpPr>
          <p:grpSpPr>
            <a:xfrm>
              <a:off x="0" y="207720"/>
              <a:ext cx="6780960" cy="207720"/>
              <a:chOff x="0" y="207720"/>
              <a:chExt cx="6780960" cy="207720"/>
            </a:xfrm>
          </p:grpSpPr>
          <p:sp>
            <p:nvSpPr>
              <p:cNvPr id="1143" name="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Definition of a String cl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5" name=""/>
            <p:cNvGrpSpPr/>
            <p:nvPr/>
          </p:nvGrpSpPr>
          <p:grpSpPr>
            <a:xfrm>
              <a:off x="0" y="415440"/>
              <a:ext cx="6780960" cy="207720"/>
              <a:chOff x="0" y="415440"/>
              <a:chExt cx="6780960" cy="207720"/>
            </a:xfrm>
          </p:grpSpPr>
          <p:sp>
            <p:nvSpPr>
              <p:cNvPr id="1146" name="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ING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8" name=""/>
            <p:cNvGrpSpPr/>
            <p:nvPr/>
          </p:nvGrpSpPr>
          <p:grpSpPr>
            <a:xfrm>
              <a:off x="0" y="623160"/>
              <a:ext cx="6780960" cy="207720"/>
              <a:chOff x="0" y="623160"/>
              <a:chExt cx="6780960" cy="207720"/>
            </a:xfrm>
          </p:grpSpPr>
          <p:sp>
            <p:nvSpPr>
              <p:cNvPr id="1149" name="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ING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1" name=""/>
            <p:cNvGrpSpPr/>
            <p:nvPr/>
          </p:nvGrpSpPr>
          <p:grpSpPr>
            <a:xfrm>
              <a:off x="0" y="831240"/>
              <a:ext cx="6780960" cy="207720"/>
              <a:chOff x="0" y="831240"/>
              <a:chExt cx="6780960" cy="207720"/>
            </a:xfrm>
          </p:grpSpPr>
          <p:sp>
            <p:nvSpPr>
              <p:cNvPr id="1152" name="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4" name=""/>
            <p:cNvGrpSpPr/>
            <p:nvPr/>
          </p:nvGrpSpPr>
          <p:grpSpPr>
            <a:xfrm>
              <a:off x="0" y="1038960"/>
              <a:ext cx="6780960" cy="207720"/>
              <a:chOff x="0" y="1038960"/>
              <a:chExt cx="6780960" cy="207720"/>
            </a:xfrm>
          </p:grpSpPr>
          <p:sp>
            <p:nvSpPr>
              <p:cNvPr id="1155" name="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7" name=""/>
            <p:cNvGrpSpPr/>
            <p:nvPr/>
          </p:nvGrpSpPr>
          <p:grpSpPr>
            <a:xfrm>
              <a:off x="0" y="1246680"/>
              <a:ext cx="6780960" cy="207720"/>
              <a:chOff x="0" y="1246680"/>
              <a:chExt cx="6780960" cy="207720"/>
            </a:xfrm>
          </p:grpSpPr>
          <p:sp>
            <p:nvSpPr>
              <p:cNvPr id="1158" name="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0" name=""/>
            <p:cNvGrpSpPr/>
            <p:nvPr/>
          </p:nvGrpSpPr>
          <p:grpSpPr>
            <a:xfrm>
              <a:off x="0" y="1454760"/>
              <a:ext cx="6780960" cy="207720"/>
              <a:chOff x="0" y="1454760"/>
              <a:chExt cx="6780960" cy="207720"/>
            </a:xfrm>
          </p:grpSpPr>
          <p:sp>
            <p:nvSpPr>
              <p:cNvPr id="1161" name=""/>
              <p:cNvSpPr/>
              <p:nvPr/>
            </p:nvSpPr>
            <p:spPr>
              <a:xfrm>
                <a:off x="0" y="1454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0" y="1454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ostrea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3" name=""/>
            <p:cNvGrpSpPr/>
            <p:nvPr/>
          </p:nvGrpSpPr>
          <p:grpSpPr>
            <a:xfrm>
              <a:off x="0" y="1662480"/>
              <a:ext cx="6780960" cy="207720"/>
              <a:chOff x="0" y="1662480"/>
              <a:chExt cx="6780960" cy="207720"/>
            </a:xfrm>
          </p:grpSpPr>
          <p:sp>
            <p:nvSpPr>
              <p:cNvPr id="1164" name="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istrea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6" name=""/>
            <p:cNvGrpSpPr/>
            <p:nvPr/>
          </p:nvGrpSpPr>
          <p:grpSpPr>
            <a:xfrm>
              <a:off x="0" y="1870200"/>
              <a:ext cx="6780960" cy="207720"/>
              <a:chOff x="0" y="1870200"/>
              <a:chExt cx="6780960" cy="207720"/>
            </a:xfrm>
          </p:grpSpPr>
          <p:sp>
            <p:nvSpPr>
              <p:cNvPr id="1167" name="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9" name=""/>
            <p:cNvGrpSpPr/>
            <p:nvPr/>
          </p:nvGrpSpPr>
          <p:grpSpPr>
            <a:xfrm>
              <a:off x="0" y="2077920"/>
              <a:ext cx="6780960" cy="207720"/>
              <a:chOff x="0" y="2077920"/>
              <a:chExt cx="6780960" cy="207720"/>
            </a:xfrm>
          </p:grpSpPr>
          <p:sp>
            <p:nvSpPr>
              <p:cNvPr id="1170" name="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ing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2" name=""/>
            <p:cNvGrpSpPr/>
            <p:nvPr/>
          </p:nvGrpSpPr>
          <p:grpSpPr>
            <a:xfrm>
              <a:off x="0" y="2286000"/>
              <a:ext cx="6780960" cy="207720"/>
              <a:chOff x="0" y="2286000"/>
              <a:chExt cx="6780960" cy="207720"/>
            </a:xfrm>
          </p:grpSpPr>
          <p:sp>
            <p:nvSpPr>
              <p:cNvPr id="1173" name=""/>
              <p:cNvSpPr/>
              <p:nvPr/>
            </p:nvSpPr>
            <p:spPr>
              <a:xfrm>
                <a:off x="0" y="2286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0" y="2286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rien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ostream &amp;operator&lt;&lt;( ostream &amp;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ing &amp;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5" name=""/>
            <p:cNvGrpSpPr/>
            <p:nvPr/>
          </p:nvGrpSpPr>
          <p:grpSpPr>
            <a:xfrm>
              <a:off x="0" y="2493720"/>
              <a:ext cx="6780960" cy="207720"/>
              <a:chOff x="0" y="2493720"/>
              <a:chExt cx="6780960" cy="207720"/>
            </a:xfrm>
          </p:grpSpPr>
          <p:sp>
            <p:nvSpPr>
              <p:cNvPr id="1176" name="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rien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istream &amp;operator&gt;&gt;( istream &amp;, String &amp;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8" name=""/>
            <p:cNvGrpSpPr/>
            <p:nvPr/>
          </p:nvGrpSpPr>
          <p:grpSpPr>
            <a:xfrm>
              <a:off x="0" y="2701440"/>
              <a:ext cx="6780960" cy="207720"/>
              <a:chOff x="0" y="2701440"/>
              <a:chExt cx="6780960" cy="207720"/>
            </a:xfrm>
          </p:grpSpPr>
          <p:sp>
            <p:nvSpPr>
              <p:cNvPr id="1179" name="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1" name=""/>
            <p:cNvGrpSpPr/>
            <p:nvPr/>
          </p:nvGrpSpPr>
          <p:grpSpPr>
            <a:xfrm>
              <a:off x="0" y="2909160"/>
              <a:ext cx="6780960" cy="207720"/>
              <a:chOff x="0" y="2909160"/>
              <a:chExt cx="6780960" cy="207720"/>
            </a:xfrm>
          </p:grpSpPr>
          <p:sp>
            <p:nvSpPr>
              <p:cNvPr id="1182" name="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4" name=""/>
            <p:cNvGrpSpPr/>
            <p:nvPr/>
          </p:nvGrpSpPr>
          <p:grpSpPr>
            <a:xfrm>
              <a:off x="0" y="3117240"/>
              <a:ext cx="6780960" cy="207720"/>
              <a:chOff x="0" y="3117240"/>
              <a:chExt cx="6780960" cy="207720"/>
            </a:xfrm>
          </p:grpSpPr>
          <p:sp>
            <p:nvSpPr>
              <p:cNvPr id="1185" name="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String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 = ""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onversion/default 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7" name=""/>
            <p:cNvGrpSpPr/>
            <p:nvPr/>
          </p:nvGrpSpPr>
          <p:grpSpPr>
            <a:xfrm>
              <a:off x="0" y="3324960"/>
              <a:ext cx="6780960" cy="207720"/>
              <a:chOff x="0" y="3324960"/>
              <a:chExt cx="6780960" cy="207720"/>
            </a:xfrm>
          </p:grpSpPr>
          <p:sp>
            <p:nvSpPr>
              <p:cNvPr id="1188" name="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String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ing &amp; )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copy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0" name=""/>
            <p:cNvGrpSpPr/>
            <p:nvPr/>
          </p:nvGrpSpPr>
          <p:grpSpPr>
            <a:xfrm>
              <a:off x="0" y="3532680"/>
              <a:ext cx="6780960" cy="207720"/>
              <a:chOff x="0" y="3532680"/>
              <a:chExt cx="6780960" cy="207720"/>
            </a:xfrm>
          </p:grpSpPr>
          <p:sp>
            <p:nvSpPr>
              <p:cNvPr id="1191" name="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~String();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de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3" name=""/>
            <p:cNvGrpSpPr/>
            <p:nvPr/>
          </p:nvGrpSpPr>
          <p:grpSpPr>
            <a:xfrm>
              <a:off x="0" y="3740760"/>
              <a:ext cx="6780960" cy="207720"/>
              <a:chOff x="0" y="3740760"/>
              <a:chExt cx="6780960" cy="207720"/>
            </a:xfrm>
          </p:grpSpPr>
          <p:sp>
            <p:nvSpPr>
              <p:cNvPr id="1194" name="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ing &amp;operator=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ing &amp;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assignm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6" name=""/>
            <p:cNvGrpSpPr/>
            <p:nvPr/>
          </p:nvGrpSpPr>
          <p:grpSpPr>
            <a:xfrm>
              <a:off x="0" y="3948480"/>
              <a:ext cx="6780960" cy="207720"/>
              <a:chOff x="0" y="3948480"/>
              <a:chExt cx="6780960" cy="207720"/>
            </a:xfrm>
          </p:grpSpPr>
          <p:sp>
            <p:nvSpPr>
              <p:cNvPr id="1197" name="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ing &amp;operator+=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ing &amp;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oncaten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9" name=""/>
            <p:cNvGrpSpPr/>
            <p:nvPr/>
          </p:nvGrpSpPr>
          <p:grpSpPr>
            <a:xfrm>
              <a:off x="0" y="4156200"/>
              <a:ext cx="6780960" cy="207720"/>
              <a:chOff x="0" y="4156200"/>
              <a:chExt cx="6780960" cy="207720"/>
            </a:xfrm>
          </p:grpSpPr>
          <p:sp>
            <p:nvSpPr>
              <p:cNvPr id="1200" name="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operator!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;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is String empty?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2" name=""/>
            <p:cNvGrpSpPr/>
            <p:nvPr/>
          </p:nvGrpSpPr>
          <p:grpSpPr>
            <a:xfrm>
              <a:off x="0" y="4364280"/>
              <a:ext cx="6780960" cy="207720"/>
              <a:chOff x="0" y="4364280"/>
              <a:chExt cx="6780960" cy="207720"/>
            </a:xfrm>
          </p:grpSpPr>
          <p:sp>
            <p:nvSpPr>
              <p:cNvPr id="1203" name="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operator==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ing &amp; 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test s1 == s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5" name=""/>
            <p:cNvGrpSpPr/>
            <p:nvPr/>
          </p:nvGrpSpPr>
          <p:grpSpPr>
            <a:xfrm>
              <a:off x="0" y="4572000"/>
              <a:ext cx="6780960" cy="207720"/>
              <a:chOff x="0" y="4572000"/>
              <a:chExt cx="6780960" cy="207720"/>
            </a:xfrm>
          </p:grpSpPr>
          <p:sp>
            <p:nvSpPr>
              <p:cNvPr id="1206" name="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operator&lt;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ing &amp; 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test s1 &lt; s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8" name=""/>
            <p:cNvGrpSpPr/>
            <p:nvPr/>
          </p:nvGrpSpPr>
          <p:grpSpPr>
            <a:xfrm>
              <a:off x="0" y="4779720"/>
              <a:ext cx="6780960" cy="207720"/>
              <a:chOff x="0" y="4779720"/>
              <a:chExt cx="6780960" cy="207720"/>
            </a:xfrm>
          </p:grpSpPr>
          <p:sp>
            <p:nvSpPr>
              <p:cNvPr id="1209" name="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1" name=""/>
            <p:cNvGrpSpPr/>
            <p:nvPr/>
          </p:nvGrpSpPr>
          <p:grpSpPr>
            <a:xfrm>
              <a:off x="0" y="4987800"/>
              <a:ext cx="6780960" cy="207720"/>
              <a:chOff x="0" y="4987800"/>
              <a:chExt cx="6780960" cy="207720"/>
            </a:xfrm>
          </p:grpSpPr>
          <p:sp>
            <p:nvSpPr>
              <p:cNvPr id="1212" name=""/>
              <p:cNvSpPr/>
              <p:nvPr/>
            </p:nvSpPr>
            <p:spPr>
              <a:xfrm>
                <a:off x="0" y="49878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0" y="49878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test s1 != s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4" name=""/>
            <p:cNvGrpSpPr/>
            <p:nvPr/>
          </p:nvGrpSpPr>
          <p:grpSpPr>
            <a:xfrm>
              <a:off x="0" y="5195520"/>
              <a:ext cx="6780960" cy="207720"/>
              <a:chOff x="0" y="5195520"/>
              <a:chExt cx="6780960" cy="207720"/>
            </a:xfrm>
          </p:grpSpPr>
          <p:sp>
            <p:nvSpPr>
              <p:cNvPr id="1215" name="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operator!=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ing &amp; right 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7" name=""/>
            <p:cNvGrpSpPr/>
            <p:nvPr/>
          </p:nvGrpSpPr>
          <p:grpSpPr>
            <a:xfrm>
              <a:off x="0" y="5403240"/>
              <a:ext cx="6780960" cy="207720"/>
              <a:chOff x="0" y="5403240"/>
              <a:chExt cx="6780960" cy="207720"/>
            </a:xfrm>
          </p:grpSpPr>
          <p:sp>
            <p:nvSpPr>
              <p:cNvPr id="1218" name="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!( *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thi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== right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0" name=""/>
            <p:cNvGrpSpPr/>
            <p:nvPr/>
          </p:nvGrpSpPr>
          <p:grpSpPr>
            <a:xfrm>
              <a:off x="0" y="5610960"/>
              <a:ext cx="6780960" cy="207720"/>
              <a:chOff x="0" y="5610960"/>
              <a:chExt cx="6780960" cy="207720"/>
            </a:xfrm>
          </p:grpSpPr>
          <p:sp>
            <p:nvSpPr>
              <p:cNvPr id="1221" name="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3" name=""/>
            <p:cNvGrpSpPr/>
            <p:nvPr/>
          </p:nvGrpSpPr>
          <p:grpSpPr>
            <a:xfrm>
              <a:off x="0" y="5819040"/>
              <a:ext cx="6780960" cy="207720"/>
              <a:chOff x="0" y="5819040"/>
              <a:chExt cx="6780960" cy="207720"/>
            </a:xfrm>
          </p:grpSpPr>
          <p:sp>
            <p:nvSpPr>
              <p:cNvPr id="1224" name=""/>
              <p:cNvSpPr/>
              <p:nvPr/>
            </p:nvSpPr>
            <p:spPr>
              <a:xfrm>
                <a:off x="0" y="58190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0" y="58190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test s1 &gt; s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6" name=""/>
            <p:cNvGrpSpPr/>
            <p:nvPr/>
          </p:nvGrpSpPr>
          <p:grpSpPr>
            <a:xfrm>
              <a:off x="0" y="6026760"/>
              <a:ext cx="6780960" cy="207720"/>
              <a:chOff x="0" y="6026760"/>
              <a:chExt cx="6780960" cy="207720"/>
            </a:xfrm>
          </p:grpSpPr>
          <p:sp>
            <p:nvSpPr>
              <p:cNvPr id="1227" name="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operator&gt;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ing &amp;right 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9" name=""/>
            <p:cNvGrpSpPr/>
            <p:nvPr/>
          </p:nvGrpSpPr>
          <p:grpSpPr>
            <a:xfrm>
              <a:off x="0" y="6234480"/>
              <a:ext cx="6780960" cy="207720"/>
              <a:chOff x="0" y="6234480"/>
              <a:chExt cx="6780960" cy="207720"/>
            </a:xfrm>
          </p:grpSpPr>
          <p:sp>
            <p:nvSpPr>
              <p:cNvPr id="1230" name="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right &lt; *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thi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2" name=""/>
            <p:cNvGrpSpPr/>
            <p:nvPr/>
          </p:nvGrpSpPr>
          <p:grpSpPr>
            <a:xfrm>
              <a:off x="0" y="6442200"/>
              <a:ext cx="6780960" cy="207720"/>
              <a:chOff x="0" y="6442200"/>
              <a:chExt cx="6780960" cy="207720"/>
            </a:xfrm>
          </p:grpSpPr>
          <p:sp>
            <p:nvSpPr>
              <p:cNvPr id="1233" name="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5" name=""/>
            <p:cNvGrpSpPr/>
            <p:nvPr/>
          </p:nvGrpSpPr>
          <p:grpSpPr>
            <a:xfrm>
              <a:off x="0" y="6650280"/>
              <a:ext cx="6780960" cy="207720"/>
              <a:chOff x="0" y="6650280"/>
              <a:chExt cx="6780960" cy="207720"/>
            </a:xfrm>
          </p:grpSpPr>
          <p:sp>
            <p:nvSpPr>
              <p:cNvPr id="1236" name=""/>
              <p:cNvSpPr/>
              <p:nvPr/>
            </p:nvSpPr>
            <p:spPr>
              <a:xfrm>
                <a:off x="0" y="6650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0" y="6650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test s1 &lt;= s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822F8-78BF-48C6-BE4D-A5604C78C12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2  Fundamentals of Operator Overloading</a:t>
            </a:r>
            <a:br>
              <a:rPr sz="2800"/>
            </a:b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1532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oading an op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rite function definition as norm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name is keywor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perat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ollowed by the symbol for the operator being overload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perator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used to overload the addition operator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use an operator on a class object it must be overloaded unless the assignment operator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=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r the address operator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&amp;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gnment operator by default performs memberwise assign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ress operator (&amp;) by default returns the address of an objec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E73E1-1742-43B9-9322-936BE120313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Member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239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240" name=""/>
            <p:cNvGrpSpPr/>
            <p:nvPr/>
          </p:nvGrpSpPr>
          <p:grpSpPr>
            <a:xfrm>
              <a:off x="0" y="0"/>
              <a:ext cx="6780960" cy="4572000"/>
              <a:chOff x="0" y="0"/>
              <a:chExt cx="6780960" cy="4572000"/>
            </a:xfrm>
          </p:grpSpPr>
          <p:grpSp>
            <p:nvGrpSpPr>
              <p:cNvPr id="1241" name=""/>
              <p:cNvGrpSpPr/>
              <p:nvPr/>
            </p:nvGrpSpPr>
            <p:grpSpPr>
              <a:xfrm>
                <a:off x="0" y="0"/>
                <a:ext cx="6780960" cy="228240"/>
                <a:chOff x="0" y="0"/>
                <a:chExt cx="6780960" cy="228240"/>
              </a:xfrm>
            </p:grpSpPr>
            <p:sp>
              <p:nvSpPr>
                <p:cNvPr id="1242" name=""/>
                <p:cNvSpPr/>
                <p:nvPr/>
              </p:nvSpPr>
              <p:spPr>
                <a:xfrm>
                  <a:off x="0" y="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0" y="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 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bool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operator&lt;=(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cons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String &amp;right )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cons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4" name=""/>
              <p:cNvGrpSpPr/>
              <p:nvPr/>
            </p:nvGrpSpPr>
            <p:grpSpPr>
              <a:xfrm>
                <a:off x="0" y="228240"/>
                <a:ext cx="6780960" cy="228240"/>
                <a:chOff x="0" y="228240"/>
                <a:chExt cx="6780960" cy="228240"/>
              </a:xfrm>
            </p:grpSpPr>
            <p:sp>
              <p:nvSpPr>
                <p:cNvPr id="1245" name=""/>
                <p:cNvSpPr/>
                <p:nvPr/>
              </p:nvSpPr>
              <p:spPr>
                <a:xfrm>
                  <a:off x="0" y="22824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>
                  <a:off x="0" y="22824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5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     {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return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!( right &lt; *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this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); 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7" name=""/>
              <p:cNvGrpSpPr/>
              <p:nvPr/>
            </p:nvGrpSpPr>
            <p:grpSpPr>
              <a:xfrm>
                <a:off x="0" y="456840"/>
                <a:ext cx="6780960" cy="228600"/>
                <a:chOff x="0" y="456840"/>
                <a:chExt cx="6780960" cy="228600"/>
              </a:xfrm>
            </p:grpSpPr>
            <p:sp>
              <p:nvSpPr>
                <p:cNvPr id="1248" name=""/>
                <p:cNvSpPr/>
                <p:nvPr/>
              </p:nvSpPr>
              <p:spPr>
                <a:xfrm>
                  <a:off x="0" y="456840"/>
                  <a:ext cx="6780960" cy="2286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0" y="456840"/>
                  <a:ext cx="6780960" cy="2286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0" name=""/>
              <p:cNvGrpSpPr/>
              <p:nvPr/>
            </p:nvGrpSpPr>
            <p:grpSpPr>
              <a:xfrm>
                <a:off x="0" y="685800"/>
                <a:ext cx="6780960" cy="228240"/>
                <a:chOff x="0" y="685800"/>
                <a:chExt cx="6780960" cy="228240"/>
              </a:xfrm>
            </p:grpSpPr>
            <p:sp>
              <p:nvSpPr>
                <p:cNvPr id="1251" name=""/>
                <p:cNvSpPr/>
                <p:nvPr/>
              </p:nvSpPr>
              <p:spPr>
                <a:xfrm>
                  <a:off x="0" y="68580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0" y="68580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Courier New"/>
                    </a:rPr>
                    <a:t>   // test s1 &gt;= s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3" name=""/>
              <p:cNvGrpSpPr/>
              <p:nvPr/>
            </p:nvGrpSpPr>
            <p:grpSpPr>
              <a:xfrm>
                <a:off x="0" y="914400"/>
                <a:ext cx="6780960" cy="228240"/>
                <a:chOff x="0" y="914400"/>
                <a:chExt cx="6780960" cy="228240"/>
              </a:xfrm>
            </p:grpSpPr>
            <p:sp>
              <p:nvSpPr>
                <p:cNvPr id="1254" name=""/>
                <p:cNvSpPr/>
                <p:nvPr/>
              </p:nvSpPr>
              <p:spPr>
                <a:xfrm>
                  <a:off x="0" y="91440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0" y="91440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8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 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bool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operator&gt;=(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cons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String &amp;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righ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) cons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6" name=""/>
              <p:cNvGrpSpPr/>
              <p:nvPr/>
            </p:nvGrpSpPr>
            <p:grpSpPr>
              <a:xfrm>
                <a:off x="0" y="1143000"/>
                <a:ext cx="6780960" cy="228240"/>
                <a:chOff x="0" y="1143000"/>
                <a:chExt cx="6780960" cy="228240"/>
              </a:xfrm>
            </p:grpSpPr>
            <p:sp>
              <p:nvSpPr>
                <p:cNvPr id="1257" name=""/>
                <p:cNvSpPr/>
                <p:nvPr/>
              </p:nvSpPr>
              <p:spPr>
                <a:xfrm>
                  <a:off x="0" y="114300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>
                  <a:off x="0" y="114300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9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     {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return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!( *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this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&lt; right ); 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9" name=""/>
              <p:cNvGrpSpPr/>
              <p:nvPr/>
            </p:nvGrpSpPr>
            <p:grpSpPr>
              <a:xfrm>
                <a:off x="0" y="1371240"/>
                <a:ext cx="6780960" cy="228600"/>
                <a:chOff x="0" y="1371240"/>
                <a:chExt cx="6780960" cy="228600"/>
              </a:xfrm>
            </p:grpSpPr>
            <p:sp>
              <p:nvSpPr>
                <p:cNvPr id="1260" name=""/>
                <p:cNvSpPr/>
                <p:nvPr/>
              </p:nvSpPr>
              <p:spPr>
                <a:xfrm>
                  <a:off x="0" y="1371240"/>
                  <a:ext cx="6780960" cy="2286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0" y="1371240"/>
                  <a:ext cx="6780960" cy="2286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0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2" name=""/>
              <p:cNvGrpSpPr/>
              <p:nvPr/>
            </p:nvGrpSpPr>
            <p:grpSpPr>
              <a:xfrm>
                <a:off x="0" y="1600200"/>
                <a:ext cx="6780960" cy="228240"/>
                <a:chOff x="0" y="1600200"/>
                <a:chExt cx="6780960" cy="228240"/>
              </a:xfrm>
            </p:grpSpPr>
            <p:sp>
              <p:nvSpPr>
                <p:cNvPr id="1263" name=""/>
                <p:cNvSpPr/>
                <p:nvPr/>
              </p:nvSpPr>
              <p:spPr>
                <a:xfrm>
                  <a:off x="0" y="160020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0" y="160020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 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char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&amp;operator[](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in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);             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Courier New"/>
                    </a:rPr>
                    <a:t>// subscript operat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5" name=""/>
              <p:cNvGrpSpPr/>
              <p:nvPr/>
            </p:nvGrpSpPr>
            <p:grpSpPr>
              <a:xfrm>
                <a:off x="0" y="1828800"/>
                <a:ext cx="6780960" cy="228240"/>
                <a:chOff x="0" y="1828800"/>
                <a:chExt cx="6780960" cy="228240"/>
              </a:xfrm>
            </p:grpSpPr>
            <p:sp>
              <p:nvSpPr>
                <p:cNvPr id="1266" name=""/>
                <p:cNvSpPr/>
                <p:nvPr/>
              </p:nvSpPr>
              <p:spPr>
                <a:xfrm>
                  <a:off x="0" y="182880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0" y="182880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2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 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const char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&amp;operator[](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in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)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cons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; 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Courier New"/>
                    </a:rPr>
                    <a:t>// subscript operat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8" name=""/>
              <p:cNvGrpSpPr/>
              <p:nvPr/>
            </p:nvGrpSpPr>
            <p:grpSpPr>
              <a:xfrm>
                <a:off x="0" y="2057400"/>
                <a:ext cx="6780960" cy="228240"/>
                <a:chOff x="0" y="2057400"/>
                <a:chExt cx="6780960" cy="228240"/>
              </a:xfrm>
            </p:grpSpPr>
            <p:sp>
              <p:nvSpPr>
                <p:cNvPr id="1269" name=""/>
                <p:cNvSpPr/>
                <p:nvPr/>
              </p:nvSpPr>
              <p:spPr>
                <a:xfrm>
                  <a:off x="0" y="205740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0" y="205740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  String operator()(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in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,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in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);       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Courier New"/>
                    </a:rPr>
                    <a:t>// return a substring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1" name=""/>
              <p:cNvGrpSpPr/>
              <p:nvPr/>
            </p:nvGrpSpPr>
            <p:grpSpPr>
              <a:xfrm>
                <a:off x="0" y="2286000"/>
                <a:ext cx="6780960" cy="228600"/>
                <a:chOff x="0" y="2286000"/>
                <a:chExt cx="6780960" cy="228600"/>
              </a:xfrm>
            </p:grpSpPr>
            <p:sp>
              <p:nvSpPr>
                <p:cNvPr id="1272" name=""/>
                <p:cNvSpPr/>
                <p:nvPr/>
              </p:nvSpPr>
              <p:spPr>
                <a:xfrm>
                  <a:off x="0" y="2286000"/>
                  <a:ext cx="6780960" cy="2286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0" y="2286000"/>
                  <a:ext cx="6780960" cy="2286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 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in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getLength()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cons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;       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Courier New"/>
                    </a:rPr>
                    <a:t>        // return string lengt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4" name=""/>
              <p:cNvGrpSpPr/>
              <p:nvPr/>
            </p:nvGrpSpPr>
            <p:grpSpPr>
              <a:xfrm>
                <a:off x="0" y="2514600"/>
                <a:ext cx="6780960" cy="228240"/>
                <a:chOff x="0" y="2514600"/>
                <a:chExt cx="6780960" cy="228240"/>
              </a:xfrm>
            </p:grpSpPr>
            <p:sp>
              <p:nvSpPr>
                <p:cNvPr id="1275" name=""/>
                <p:cNvSpPr/>
                <p:nvPr/>
              </p:nvSpPr>
              <p:spPr>
                <a:xfrm>
                  <a:off x="0" y="251460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0" y="251460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5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7" name=""/>
              <p:cNvGrpSpPr/>
              <p:nvPr/>
            </p:nvGrpSpPr>
            <p:grpSpPr>
              <a:xfrm>
                <a:off x="0" y="2743200"/>
                <a:ext cx="6780960" cy="228240"/>
                <a:chOff x="0" y="2743200"/>
                <a:chExt cx="6780960" cy="228240"/>
              </a:xfrm>
            </p:grpSpPr>
            <p:sp>
              <p:nvSpPr>
                <p:cNvPr id="1278" name=""/>
                <p:cNvSpPr/>
                <p:nvPr/>
              </p:nvSpPr>
              <p:spPr>
                <a:xfrm>
                  <a:off x="0" y="274320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0" y="274320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private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0" name=""/>
              <p:cNvGrpSpPr/>
              <p:nvPr/>
            </p:nvGrpSpPr>
            <p:grpSpPr>
              <a:xfrm>
                <a:off x="0" y="2971800"/>
                <a:ext cx="6780960" cy="228240"/>
                <a:chOff x="0" y="2971800"/>
                <a:chExt cx="6780960" cy="228240"/>
              </a:xfrm>
            </p:grpSpPr>
            <p:sp>
              <p:nvSpPr>
                <p:cNvPr id="1281" name=""/>
                <p:cNvSpPr/>
                <p:nvPr/>
              </p:nvSpPr>
              <p:spPr>
                <a:xfrm>
                  <a:off x="0" y="297180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0" y="297180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 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in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length;                   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Courier New"/>
                    </a:rPr>
                    <a:t>// string length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3" name=""/>
              <p:cNvGrpSpPr/>
              <p:nvPr/>
            </p:nvGrpSpPr>
            <p:grpSpPr>
              <a:xfrm>
                <a:off x="0" y="3200400"/>
                <a:ext cx="6780960" cy="228600"/>
                <a:chOff x="0" y="3200400"/>
                <a:chExt cx="6780960" cy="228600"/>
              </a:xfrm>
            </p:grpSpPr>
            <p:sp>
              <p:nvSpPr>
                <p:cNvPr id="1284" name=""/>
                <p:cNvSpPr/>
                <p:nvPr/>
              </p:nvSpPr>
              <p:spPr>
                <a:xfrm>
                  <a:off x="0" y="3200400"/>
                  <a:ext cx="6780960" cy="2286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0" y="3200400"/>
                  <a:ext cx="6780960" cy="2286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8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 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char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*sPtr;                  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Courier New"/>
                    </a:rPr>
                    <a:t> // pointer to start of string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6" name=""/>
              <p:cNvGrpSpPr/>
              <p:nvPr/>
            </p:nvGrpSpPr>
            <p:grpSpPr>
              <a:xfrm>
                <a:off x="0" y="3429000"/>
                <a:ext cx="6780960" cy="228240"/>
                <a:chOff x="0" y="3429000"/>
                <a:chExt cx="6780960" cy="228240"/>
              </a:xfrm>
            </p:grpSpPr>
            <p:sp>
              <p:nvSpPr>
                <p:cNvPr id="1287" name=""/>
                <p:cNvSpPr/>
                <p:nvPr/>
              </p:nvSpPr>
              <p:spPr>
                <a:xfrm>
                  <a:off x="0" y="342900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>
                  <a:off x="0" y="342900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9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9" name=""/>
              <p:cNvGrpSpPr/>
              <p:nvPr/>
            </p:nvGrpSpPr>
            <p:grpSpPr>
              <a:xfrm>
                <a:off x="0" y="3657600"/>
                <a:ext cx="6780960" cy="228240"/>
                <a:chOff x="0" y="3657600"/>
                <a:chExt cx="6780960" cy="228240"/>
              </a:xfrm>
            </p:grpSpPr>
            <p:sp>
              <p:nvSpPr>
                <p:cNvPr id="1290" name=""/>
                <p:cNvSpPr/>
                <p:nvPr/>
              </p:nvSpPr>
              <p:spPr>
                <a:xfrm>
                  <a:off x="0" y="365760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0" y="365760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0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 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void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setString(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const char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* );  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Courier New"/>
                    </a:rPr>
                    <a:t>// utility func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2" name=""/>
              <p:cNvGrpSpPr/>
              <p:nvPr/>
            </p:nvGrpSpPr>
            <p:grpSpPr>
              <a:xfrm>
                <a:off x="0" y="3886200"/>
                <a:ext cx="6780960" cy="228240"/>
                <a:chOff x="0" y="3886200"/>
                <a:chExt cx="6780960" cy="228240"/>
              </a:xfrm>
            </p:grpSpPr>
            <p:sp>
              <p:nvSpPr>
                <p:cNvPr id="1293" name=""/>
                <p:cNvSpPr/>
                <p:nvPr/>
              </p:nvSpPr>
              <p:spPr>
                <a:xfrm>
                  <a:off x="0" y="388620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0" y="388620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}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5" name=""/>
              <p:cNvGrpSpPr/>
              <p:nvPr/>
            </p:nvGrpSpPr>
            <p:grpSpPr>
              <a:xfrm>
                <a:off x="0" y="4114800"/>
                <a:ext cx="6780960" cy="228240"/>
                <a:chOff x="0" y="4114800"/>
                <a:chExt cx="6780960" cy="228240"/>
              </a:xfrm>
            </p:grpSpPr>
            <p:sp>
              <p:nvSpPr>
                <p:cNvPr id="1296" name=""/>
                <p:cNvSpPr/>
                <p:nvPr/>
              </p:nvSpPr>
              <p:spPr>
                <a:xfrm>
                  <a:off x="0" y="411480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0" y="4114800"/>
                  <a:ext cx="678096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2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8" name=""/>
              <p:cNvGrpSpPr/>
              <p:nvPr/>
            </p:nvGrpSpPr>
            <p:grpSpPr>
              <a:xfrm>
                <a:off x="0" y="4343400"/>
                <a:ext cx="6780960" cy="228600"/>
                <a:chOff x="0" y="4343400"/>
                <a:chExt cx="6780960" cy="228600"/>
              </a:xfrm>
            </p:grpSpPr>
            <p:sp>
              <p:nvSpPr>
                <p:cNvPr id="1299" name=""/>
                <p:cNvSpPr/>
                <p:nvPr/>
              </p:nvSpPr>
              <p:spPr>
                <a:xfrm>
                  <a:off x="0" y="4343400"/>
                  <a:ext cx="6780960" cy="2286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00" name=""/>
                <p:cNvGrpSpPr/>
                <p:nvPr/>
              </p:nvGrpSpPr>
              <p:grpSpPr>
                <a:xfrm>
                  <a:off x="0" y="4343400"/>
                  <a:ext cx="6780600" cy="228600"/>
                  <a:chOff x="0" y="4343400"/>
                  <a:chExt cx="6780600" cy="228600"/>
                </a:xfrm>
              </p:grpSpPr>
              <p:sp>
                <p:nvSpPr>
                  <p:cNvPr id="1301" name=""/>
                  <p:cNvSpPr/>
                  <p:nvPr/>
                </p:nvSpPr>
                <p:spPr>
                  <a:xfrm>
                    <a:off x="0" y="4343400"/>
                    <a:ext cx="6780600" cy="228600"/>
                  </a:xfrm>
                  <a:prstGeom prst="rect">
                    <a:avLst/>
                  </a:prstGeom>
                  <a:solidFill>
                    <a:srgbClr val="ffe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r" pos="139680"/>
                        <a:tab algn="l" pos="29196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4d8dff"/>
                        </a:solidFill>
                        <a:latin typeface="Courier New"/>
                        <a:ea typeface="Times New Roman"/>
                      </a:rPr>
                      <a:t>	</a:t>
                    </a:r>
                    <a:r>
                      <a:rPr b="1" lang="en-US" sz="1200" spc="-1" strike="noStrike">
                        <a:solidFill>
                          <a:srgbClr val="4d8dff"/>
                        </a:solidFill>
                        <a:latin typeface="Courier New"/>
                        <a:ea typeface="Times New Roman"/>
                      </a:rPr>
                      <a:t>53</a:t>
                    </a:r>
                    <a:r>
                      <a:rPr b="1" lang="en-US" sz="1200" spc="-1" strike="noStrike">
                        <a:solidFill>
                          <a:srgbClr val="4d8dff"/>
                        </a:solidFill>
                        <a:latin typeface="Courier New"/>
                        <a:ea typeface="Times New Roman"/>
                      </a:rPr>
                      <a:t>	</a:t>
                    </a:r>
                    <a:r>
                      <a:rPr b="1" lang="en-US" sz="1200" spc="-1" strike="noStrike">
                        <a:solidFill>
                          <a:srgbClr val="275aff"/>
                        </a:solidFill>
                        <a:latin typeface="Courier New"/>
                        <a:ea typeface="Courier New"/>
                      </a:rPr>
                      <a:t>#endif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r" pos="139680"/>
                        <a:tab algn="l" pos="29196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2" name=""/>
                  <p:cNvSpPr/>
                  <p:nvPr/>
                </p:nvSpPr>
                <p:spPr>
                  <a:xfrm>
                    <a:off x="0" y="4343400"/>
                    <a:ext cx="678060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303" name=""/>
            <p:cNvGrpSpPr/>
            <p:nvPr/>
          </p:nvGrpSpPr>
          <p:grpSpPr>
            <a:xfrm>
              <a:off x="0" y="4572000"/>
              <a:ext cx="6780960" cy="2286000"/>
              <a:chOff x="0" y="4572000"/>
              <a:chExt cx="6780960" cy="2286000"/>
            </a:xfrm>
          </p:grpSpPr>
          <p:grpSp>
            <p:nvGrpSpPr>
              <p:cNvPr id="1304" name=""/>
              <p:cNvGrpSpPr/>
              <p:nvPr/>
            </p:nvGrpSpPr>
            <p:grpSpPr>
              <a:xfrm>
                <a:off x="0" y="4572000"/>
                <a:ext cx="6780960" cy="207720"/>
                <a:chOff x="0" y="4572000"/>
                <a:chExt cx="6780960" cy="207720"/>
              </a:xfrm>
            </p:grpSpPr>
            <p:sp>
              <p:nvSpPr>
                <p:cNvPr id="1305" name=""/>
                <p:cNvSpPr/>
                <p:nvPr/>
              </p:nvSpPr>
              <p:spPr>
                <a:xfrm>
                  <a:off x="0" y="4572000"/>
                  <a:ext cx="6780960" cy="207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>
                  <a:off x="0" y="4572000"/>
                  <a:ext cx="6780960" cy="207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Courier New"/>
                    </a:rPr>
                    <a:t>// Fig. 8.5: string1.cpp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7" name=""/>
              <p:cNvGrpSpPr/>
              <p:nvPr/>
            </p:nvGrpSpPr>
            <p:grpSpPr>
              <a:xfrm>
                <a:off x="0" y="4779720"/>
                <a:ext cx="6780960" cy="207720"/>
                <a:chOff x="0" y="4779720"/>
                <a:chExt cx="6780960" cy="207720"/>
              </a:xfrm>
            </p:grpSpPr>
            <p:sp>
              <p:nvSpPr>
                <p:cNvPr id="1308" name=""/>
                <p:cNvSpPr/>
                <p:nvPr/>
              </p:nvSpPr>
              <p:spPr>
                <a:xfrm>
                  <a:off x="0" y="4779720"/>
                  <a:ext cx="6780960" cy="207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>
                  <a:off x="0" y="4779720"/>
                  <a:ext cx="6780960" cy="207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5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Courier New"/>
                    </a:rPr>
                    <a:t>// Member function definitions for class String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0" name=""/>
              <p:cNvGrpSpPr/>
              <p:nvPr/>
            </p:nvGrpSpPr>
            <p:grpSpPr>
              <a:xfrm>
                <a:off x="0" y="4987440"/>
                <a:ext cx="6780960" cy="207720"/>
                <a:chOff x="0" y="4987440"/>
                <a:chExt cx="6780960" cy="207720"/>
              </a:xfrm>
            </p:grpSpPr>
            <p:sp>
              <p:nvSpPr>
                <p:cNvPr id="1311" name=""/>
                <p:cNvSpPr/>
                <p:nvPr/>
              </p:nvSpPr>
              <p:spPr>
                <a:xfrm>
                  <a:off x="0" y="4987440"/>
                  <a:ext cx="6780960" cy="207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0" y="4987440"/>
                  <a:ext cx="6780960" cy="207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#include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&lt;iostream&gt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3" name=""/>
              <p:cNvGrpSpPr/>
              <p:nvPr/>
            </p:nvGrpSpPr>
            <p:grpSpPr>
              <a:xfrm>
                <a:off x="0" y="5195520"/>
                <a:ext cx="6780960" cy="207720"/>
                <a:chOff x="0" y="5195520"/>
                <a:chExt cx="6780960" cy="207720"/>
              </a:xfrm>
            </p:grpSpPr>
            <p:sp>
              <p:nvSpPr>
                <p:cNvPr id="1314" name=""/>
                <p:cNvSpPr/>
                <p:nvPr/>
              </p:nvSpPr>
              <p:spPr>
                <a:xfrm>
                  <a:off x="0" y="5195520"/>
                  <a:ext cx="6780960" cy="207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0" y="5195520"/>
                  <a:ext cx="6780960" cy="207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6" name=""/>
              <p:cNvGrpSpPr/>
              <p:nvPr/>
            </p:nvGrpSpPr>
            <p:grpSpPr>
              <a:xfrm>
                <a:off x="0" y="5403240"/>
                <a:ext cx="6780960" cy="207720"/>
                <a:chOff x="0" y="5403240"/>
                <a:chExt cx="6780960" cy="207720"/>
              </a:xfrm>
            </p:grpSpPr>
            <p:sp>
              <p:nvSpPr>
                <p:cNvPr id="1317" name=""/>
                <p:cNvSpPr/>
                <p:nvPr/>
              </p:nvSpPr>
              <p:spPr>
                <a:xfrm>
                  <a:off x="0" y="5403240"/>
                  <a:ext cx="6780960" cy="207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0" y="5403240"/>
                  <a:ext cx="6780960" cy="207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8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using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std::cout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9" name=""/>
              <p:cNvGrpSpPr/>
              <p:nvPr/>
            </p:nvGrpSpPr>
            <p:grpSpPr>
              <a:xfrm>
                <a:off x="0" y="5610960"/>
                <a:ext cx="6780960" cy="207720"/>
                <a:chOff x="0" y="5610960"/>
                <a:chExt cx="6780960" cy="207720"/>
              </a:xfrm>
            </p:grpSpPr>
            <p:sp>
              <p:nvSpPr>
                <p:cNvPr id="1320" name=""/>
                <p:cNvSpPr/>
                <p:nvPr/>
              </p:nvSpPr>
              <p:spPr>
                <a:xfrm>
                  <a:off x="0" y="5610960"/>
                  <a:ext cx="6780960" cy="207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0" y="5610960"/>
                  <a:ext cx="6780960" cy="207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9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using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std::endl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2" name=""/>
              <p:cNvGrpSpPr/>
              <p:nvPr/>
            </p:nvGrpSpPr>
            <p:grpSpPr>
              <a:xfrm>
                <a:off x="0" y="5818680"/>
                <a:ext cx="6780960" cy="207720"/>
                <a:chOff x="0" y="5818680"/>
                <a:chExt cx="6780960" cy="207720"/>
              </a:xfrm>
            </p:grpSpPr>
            <p:sp>
              <p:nvSpPr>
                <p:cNvPr id="1323" name=""/>
                <p:cNvSpPr/>
                <p:nvPr/>
              </p:nvSpPr>
              <p:spPr>
                <a:xfrm>
                  <a:off x="0" y="5818680"/>
                  <a:ext cx="6780960" cy="207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0" y="5818680"/>
                  <a:ext cx="6780960" cy="207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60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5" name=""/>
              <p:cNvGrpSpPr/>
              <p:nvPr/>
            </p:nvGrpSpPr>
            <p:grpSpPr>
              <a:xfrm>
                <a:off x="0" y="6026760"/>
                <a:ext cx="6780960" cy="207720"/>
                <a:chOff x="0" y="6026760"/>
                <a:chExt cx="6780960" cy="207720"/>
              </a:xfrm>
            </p:grpSpPr>
            <p:sp>
              <p:nvSpPr>
                <p:cNvPr id="1326" name=""/>
                <p:cNvSpPr/>
                <p:nvPr/>
              </p:nvSpPr>
              <p:spPr>
                <a:xfrm>
                  <a:off x="0" y="6026760"/>
                  <a:ext cx="6780960" cy="207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0" y="6026760"/>
                  <a:ext cx="6780960" cy="207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6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#include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&lt;iomanip&gt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8" name=""/>
              <p:cNvGrpSpPr/>
              <p:nvPr/>
            </p:nvGrpSpPr>
            <p:grpSpPr>
              <a:xfrm>
                <a:off x="0" y="6234480"/>
                <a:ext cx="6780960" cy="207720"/>
                <a:chOff x="0" y="6234480"/>
                <a:chExt cx="6780960" cy="207720"/>
              </a:xfrm>
            </p:grpSpPr>
            <p:sp>
              <p:nvSpPr>
                <p:cNvPr id="1329" name=""/>
                <p:cNvSpPr/>
                <p:nvPr/>
              </p:nvSpPr>
              <p:spPr>
                <a:xfrm>
                  <a:off x="0" y="6234480"/>
                  <a:ext cx="6780960" cy="207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0" y="6234480"/>
                  <a:ext cx="6780960" cy="207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62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1" name=""/>
              <p:cNvGrpSpPr/>
              <p:nvPr/>
            </p:nvGrpSpPr>
            <p:grpSpPr>
              <a:xfrm>
                <a:off x="0" y="6442200"/>
                <a:ext cx="6780960" cy="207720"/>
                <a:chOff x="0" y="6442200"/>
                <a:chExt cx="6780960" cy="207720"/>
              </a:xfrm>
            </p:grpSpPr>
            <p:sp>
              <p:nvSpPr>
                <p:cNvPr id="1332" name=""/>
                <p:cNvSpPr/>
                <p:nvPr/>
              </p:nvSpPr>
              <p:spPr>
                <a:xfrm>
                  <a:off x="0" y="6442200"/>
                  <a:ext cx="6780960" cy="207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0" y="6442200"/>
                  <a:ext cx="6780960" cy="207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6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Courier New"/>
                    </a:rPr>
                    <a:t>using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std::setw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4" name=""/>
              <p:cNvGrpSpPr/>
              <p:nvPr/>
            </p:nvGrpSpPr>
            <p:grpSpPr>
              <a:xfrm>
                <a:off x="0" y="6650280"/>
                <a:ext cx="6780960" cy="207720"/>
                <a:chOff x="0" y="6650280"/>
                <a:chExt cx="6780960" cy="207720"/>
              </a:xfrm>
            </p:grpSpPr>
            <p:sp>
              <p:nvSpPr>
                <p:cNvPr id="1335" name=""/>
                <p:cNvSpPr/>
                <p:nvPr/>
              </p:nvSpPr>
              <p:spPr>
                <a:xfrm>
                  <a:off x="0" y="6650280"/>
                  <a:ext cx="6780960" cy="207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0" y="6650280"/>
                  <a:ext cx="6780960" cy="207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6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C863B-2D79-4BB0-AA60-B34B6438845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Conversion constructo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3 Copy constructo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4 Destructo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5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rator=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(assignment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338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339" name=""/>
            <p:cNvGrpSpPr/>
            <p:nvPr/>
          </p:nvGrpSpPr>
          <p:grpSpPr>
            <a:xfrm>
              <a:off x="0" y="0"/>
              <a:ext cx="6780960" cy="221040"/>
              <a:chOff x="0" y="0"/>
              <a:chExt cx="6780960" cy="221040"/>
            </a:xfrm>
          </p:grpSpPr>
          <p:sp>
            <p:nvSpPr>
              <p:cNvPr id="1340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cstring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2" name=""/>
            <p:cNvGrpSpPr/>
            <p:nvPr/>
          </p:nvGrpSpPr>
          <p:grpSpPr>
            <a:xfrm>
              <a:off x="0" y="221040"/>
              <a:ext cx="6780960" cy="221040"/>
              <a:chOff x="0" y="221040"/>
              <a:chExt cx="6780960" cy="221040"/>
            </a:xfrm>
          </p:grpSpPr>
          <p:sp>
            <p:nvSpPr>
              <p:cNvPr id="1343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cassert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5" name=""/>
            <p:cNvGrpSpPr/>
            <p:nvPr/>
          </p:nvGrpSpPr>
          <p:grpSpPr>
            <a:xfrm>
              <a:off x="0" y="442080"/>
              <a:ext cx="6780960" cy="221040"/>
              <a:chOff x="0" y="442080"/>
              <a:chExt cx="6780960" cy="221040"/>
            </a:xfrm>
          </p:grpSpPr>
          <p:sp>
            <p:nvSpPr>
              <p:cNvPr id="1346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"string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8" name=""/>
            <p:cNvGrpSpPr/>
            <p:nvPr/>
          </p:nvGrpSpPr>
          <p:grpSpPr>
            <a:xfrm>
              <a:off x="0" y="663480"/>
              <a:ext cx="6780960" cy="221040"/>
              <a:chOff x="0" y="663480"/>
              <a:chExt cx="6780960" cy="221040"/>
            </a:xfrm>
          </p:grpSpPr>
          <p:sp>
            <p:nvSpPr>
              <p:cNvPr id="1349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1" name=""/>
            <p:cNvGrpSpPr/>
            <p:nvPr/>
          </p:nvGrpSpPr>
          <p:grpSpPr>
            <a:xfrm>
              <a:off x="0" y="884880"/>
              <a:ext cx="6780960" cy="221040"/>
              <a:chOff x="0" y="884880"/>
              <a:chExt cx="6780960" cy="221040"/>
            </a:xfrm>
          </p:grpSpPr>
          <p:sp>
            <p:nvSpPr>
              <p:cNvPr id="1352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onversion constructor: Convert char * to Str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4" name=""/>
            <p:cNvGrpSpPr/>
            <p:nvPr/>
          </p:nvGrpSpPr>
          <p:grpSpPr>
            <a:xfrm>
              <a:off x="0" y="1105920"/>
              <a:ext cx="6780960" cy="221040"/>
              <a:chOff x="0" y="1105920"/>
              <a:chExt cx="6780960" cy="221040"/>
            </a:xfrm>
          </p:grpSpPr>
          <p:sp>
            <p:nvSpPr>
              <p:cNvPr id="1355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String::String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s ) : length( strlen( s )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7" name=""/>
            <p:cNvGrpSpPr/>
            <p:nvPr/>
          </p:nvGrpSpPr>
          <p:grpSpPr>
            <a:xfrm>
              <a:off x="0" y="1327320"/>
              <a:ext cx="6780960" cy="221040"/>
              <a:chOff x="0" y="1327320"/>
              <a:chExt cx="6780960" cy="221040"/>
            </a:xfrm>
          </p:grpSpPr>
          <p:sp>
            <p:nvSpPr>
              <p:cNvPr id="1358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0" name=""/>
            <p:cNvGrpSpPr/>
            <p:nvPr/>
          </p:nvGrpSpPr>
          <p:grpSpPr>
            <a:xfrm>
              <a:off x="0" y="1548360"/>
              <a:ext cx="6780960" cy="221040"/>
              <a:chOff x="0" y="1548360"/>
              <a:chExt cx="6780960" cy="221040"/>
            </a:xfrm>
          </p:grpSpPr>
          <p:sp>
            <p:nvSpPr>
              <p:cNvPr id="1361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Conversion constructor: " &lt;&lt; s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3" name=""/>
            <p:cNvGrpSpPr/>
            <p:nvPr/>
          </p:nvGrpSpPr>
          <p:grpSpPr>
            <a:xfrm>
              <a:off x="0" y="1769760"/>
              <a:ext cx="6780960" cy="221040"/>
              <a:chOff x="0" y="1769760"/>
              <a:chExt cx="6780960" cy="221040"/>
            </a:xfrm>
          </p:grpSpPr>
          <p:sp>
            <p:nvSpPr>
              <p:cNvPr id="1364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setString( s )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call utility func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6" name=""/>
            <p:cNvGrpSpPr/>
            <p:nvPr/>
          </p:nvGrpSpPr>
          <p:grpSpPr>
            <a:xfrm>
              <a:off x="0" y="1990800"/>
              <a:ext cx="6780960" cy="221040"/>
              <a:chOff x="0" y="1990800"/>
              <a:chExt cx="6780960" cy="221040"/>
            </a:xfrm>
          </p:grpSpPr>
          <p:sp>
            <p:nvSpPr>
              <p:cNvPr id="1367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9" name=""/>
            <p:cNvGrpSpPr/>
            <p:nvPr/>
          </p:nvGrpSpPr>
          <p:grpSpPr>
            <a:xfrm>
              <a:off x="0" y="2212200"/>
              <a:ext cx="6780960" cy="221040"/>
              <a:chOff x="0" y="2212200"/>
              <a:chExt cx="6780960" cy="221040"/>
            </a:xfrm>
          </p:grpSpPr>
          <p:sp>
            <p:nvSpPr>
              <p:cNvPr id="1370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2" name=""/>
            <p:cNvGrpSpPr/>
            <p:nvPr/>
          </p:nvGrpSpPr>
          <p:grpSpPr>
            <a:xfrm>
              <a:off x="0" y="2433600"/>
              <a:ext cx="6780960" cy="221040"/>
              <a:chOff x="0" y="2433600"/>
              <a:chExt cx="6780960" cy="221040"/>
            </a:xfrm>
          </p:grpSpPr>
          <p:sp>
            <p:nvSpPr>
              <p:cNvPr id="1373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opy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5" name=""/>
            <p:cNvGrpSpPr/>
            <p:nvPr/>
          </p:nvGrpSpPr>
          <p:grpSpPr>
            <a:xfrm>
              <a:off x="0" y="2654640"/>
              <a:ext cx="6780960" cy="221040"/>
              <a:chOff x="0" y="2654640"/>
              <a:chExt cx="6780960" cy="221040"/>
            </a:xfrm>
          </p:grpSpPr>
          <p:sp>
            <p:nvSpPr>
              <p:cNvPr id="1376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String::String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ing &amp;copy ) : length( copy.length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8" name=""/>
            <p:cNvGrpSpPr/>
            <p:nvPr/>
          </p:nvGrpSpPr>
          <p:grpSpPr>
            <a:xfrm>
              <a:off x="0" y="2875680"/>
              <a:ext cx="6780960" cy="221040"/>
              <a:chOff x="0" y="2875680"/>
              <a:chExt cx="6780960" cy="221040"/>
            </a:xfrm>
          </p:grpSpPr>
          <p:sp>
            <p:nvSpPr>
              <p:cNvPr id="1379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1" name=""/>
            <p:cNvGrpSpPr/>
            <p:nvPr/>
          </p:nvGrpSpPr>
          <p:grpSpPr>
            <a:xfrm>
              <a:off x="0" y="3097080"/>
              <a:ext cx="6780960" cy="221040"/>
              <a:chOff x="0" y="3097080"/>
              <a:chExt cx="6780960" cy="221040"/>
            </a:xfrm>
          </p:grpSpPr>
          <p:sp>
            <p:nvSpPr>
              <p:cNvPr id="1382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Copy constructor: " &lt;&lt; copy.sPtr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4" name=""/>
            <p:cNvGrpSpPr/>
            <p:nvPr/>
          </p:nvGrpSpPr>
          <p:grpSpPr>
            <a:xfrm>
              <a:off x="0" y="3318480"/>
              <a:ext cx="6780960" cy="221040"/>
              <a:chOff x="0" y="3318480"/>
              <a:chExt cx="6780960" cy="221040"/>
            </a:xfrm>
          </p:grpSpPr>
          <p:sp>
            <p:nvSpPr>
              <p:cNvPr id="1385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setString( copy.sPtr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all utility func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7" name=""/>
            <p:cNvGrpSpPr/>
            <p:nvPr/>
          </p:nvGrpSpPr>
          <p:grpSpPr>
            <a:xfrm>
              <a:off x="0" y="3539520"/>
              <a:ext cx="6780960" cy="221040"/>
              <a:chOff x="0" y="3539520"/>
              <a:chExt cx="6780960" cy="221040"/>
            </a:xfrm>
          </p:grpSpPr>
          <p:sp>
            <p:nvSpPr>
              <p:cNvPr id="1388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0" name=""/>
            <p:cNvGrpSpPr/>
            <p:nvPr/>
          </p:nvGrpSpPr>
          <p:grpSpPr>
            <a:xfrm>
              <a:off x="0" y="3760920"/>
              <a:ext cx="6780960" cy="221040"/>
              <a:chOff x="0" y="3760920"/>
              <a:chExt cx="6780960" cy="221040"/>
            </a:xfrm>
          </p:grpSpPr>
          <p:sp>
            <p:nvSpPr>
              <p:cNvPr id="1391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3" name=""/>
            <p:cNvGrpSpPr/>
            <p:nvPr/>
          </p:nvGrpSpPr>
          <p:grpSpPr>
            <a:xfrm>
              <a:off x="0" y="3981960"/>
              <a:ext cx="6780960" cy="221040"/>
              <a:chOff x="0" y="3981960"/>
              <a:chExt cx="6780960" cy="221040"/>
            </a:xfrm>
          </p:grpSpPr>
          <p:sp>
            <p:nvSpPr>
              <p:cNvPr id="1394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De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6" name=""/>
            <p:cNvGrpSpPr/>
            <p:nvPr/>
          </p:nvGrpSpPr>
          <p:grpSpPr>
            <a:xfrm>
              <a:off x="0" y="4203360"/>
              <a:ext cx="6780960" cy="221040"/>
              <a:chOff x="0" y="4203360"/>
              <a:chExt cx="6780960" cy="221040"/>
            </a:xfrm>
          </p:grpSpPr>
          <p:sp>
            <p:nvSpPr>
              <p:cNvPr id="1397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String::~String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9" name=""/>
            <p:cNvGrpSpPr/>
            <p:nvPr/>
          </p:nvGrpSpPr>
          <p:grpSpPr>
            <a:xfrm>
              <a:off x="0" y="4424400"/>
              <a:ext cx="6780960" cy="221040"/>
              <a:chOff x="0" y="4424400"/>
              <a:chExt cx="6780960" cy="221040"/>
            </a:xfrm>
          </p:grpSpPr>
          <p:sp>
            <p:nvSpPr>
              <p:cNvPr id="1400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2" name=""/>
            <p:cNvGrpSpPr/>
            <p:nvPr/>
          </p:nvGrpSpPr>
          <p:grpSpPr>
            <a:xfrm>
              <a:off x="0" y="4645800"/>
              <a:ext cx="6780960" cy="221040"/>
              <a:chOff x="0" y="4645800"/>
              <a:chExt cx="6780960" cy="221040"/>
            </a:xfrm>
          </p:grpSpPr>
          <p:sp>
            <p:nvSpPr>
              <p:cNvPr id="1403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Destructor: " &lt;&lt; sPtr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5" name=""/>
            <p:cNvGrpSpPr/>
            <p:nvPr/>
          </p:nvGrpSpPr>
          <p:grpSpPr>
            <a:xfrm>
              <a:off x="0" y="4866840"/>
              <a:ext cx="6780960" cy="221040"/>
              <a:chOff x="0" y="4866840"/>
              <a:chExt cx="6780960" cy="221040"/>
            </a:xfrm>
          </p:grpSpPr>
          <p:sp>
            <p:nvSpPr>
              <p:cNvPr id="1406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dele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[] sPtr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reclaim str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8" name=""/>
            <p:cNvGrpSpPr/>
            <p:nvPr/>
          </p:nvGrpSpPr>
          <p:grpSpPr>
            <a:xfrm>
              <a:off x="0" y="5088240"/>
              <a:ext cx="6780960" cy="221040"/>
              <a:chOff x="0" y="5088240"/>
              <a:chExt cx="6780960" cy="221040"/>
            </a:xfrm>
          </p:grpSpPr>
          <p:sp>
            <p:nvSpPr>
              <p:cNvPr id="1409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1" name=""/>
            <p:cNvGrpSpPr/>
            <p:nvPr/>
          </p:nvGrpSpPr>
          <p:grpSpPr>
            <a:xfrm>
              <a:off x="0" y="5309640"/>
              <a:ext cx="6780960" cy="221040"/>
              <a:chOff x="0" y="5309640"/>
              <a:chExt cx="6780960" cy="221040"/>
            </a:xfrm>
          </p:grpSpPr>
          <p:sp>
            <p:nvSpPr>
              <p:cNvPr id="1412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4" name=""/>
            <p:cNvGrpSpPr/>
            <p:nvPr/>
          </p:nvGrpSpPr>
          <p:grpSpPr>
            <a:xfrm>
              <a:off x="0" y="5530680"/>
              <a:ext cx="6780960" cy="221040"/>
              <a:chOff x="0" y="5530680"/>
              <a:chExt cx="6780960" cy="221040"/>
            </a:xfrm>
          </p:grpSpPr>
          <p:sp>
            <p:nvSpPr>
              <p:cNvPr id="1415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Overloaded = operator; avoids self assignm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7" name=""/>
            <p:cNvGrpSpPr/>
            <p:nvPr/>
          </p:nvGrpSpPr>
          <p:grpSpPr>
            <a:xfrm>
              <a:off x="0" y="5751720"/>
              <a:ext cx="6780960" cy="221040"/>
              <a:chOff x="0" y="5751720"/>
              <a:chExt cx="6780960" cy="221040"/>
            </a:xfrm>
          </p:grpSpPr>
          <p:sp>
            <p:nvSpPr>
              <p:cNvPr id="1418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ing &amp;String::operator=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ing &amp;right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0" name=""/>
            <p:cNvGrpSpPr/>
            <p:nvPr/>
          </p:nvGrpSpPr>
          <p:grpSpPr>
            <a:xfrm>
              <a:off x="0" y="5973120"/>
              <a:ext cx="6780960" cy="221040"/>
              <a:chOff x="0" y="5973120"/>
              <a:chExt cx="6780960" cy="221040"/>
            </a:xfrm>
          </p:grpSpPr>
          <p:sp>
            <p:nvSpPr>
              <p:cNvPr id="1421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3" name=""/>
            <p:cNvGrpSpPr/>
            <p:nvPr/>
          </p:nvGrpSpPr>
          <p:grpSpPr>
            <a:xfrm>
              <a:off x="0" y="6194520"/>
              <a:ext cx="6780960" cy="221040"/>
              <a:chOff x="0" y="6194520"/>
              <a:chExt cx="6780960" cy="221040"/>
            </a:xfrm>
          </p:grpSpPr>
          <p:sp>
            <p:nvSpPr>
              <p:cNvPr id="1424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operator= called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6" name=""/>
            <p:cNvGrpSpPr/>
            <p:nvPr/>
          </p:nvGrpSpPr>
          <p:grpSpPr>
            <a:xfrm>
              <a:off x="0" y="6415560"/>
              <a:ext cx="6780960" cy="221040"/>
              <a:chOff x="0" y="6415560"/>
              <a:chExt cx="6780960" cy="221040"/>
            </a:xfrm>
          </p:grpSpPr>
          <p:sp>
            <p:nvSpPr>
              <p:cNvPr id="1427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9" name=""/>
            <p:cNvGrpSpPr/>
            <p:nvPr/>
          </p:nvGrpSpPr>
          <p:grpSpPr>
            <a:xfrm>
              <a:off x="0" y="6636960"/>
              <a:ext cx="6780960" cy="221040"/>
              <a:chOff x="0" y="6636960"/>
              <a:chExt cx="6780960" cy="221040"/>
            </a:xfrm>
          </p:grpSpPr>
          <p:sp>
            <p:nvSpPr>
              <p:cNvPr id="1430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&amp;right !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thi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) {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avoid self assignm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32" name=""/>
          <p:cNvGrpSpPr/>
          <p:nvPr/>
        </p:nvGrpSpPr>
        <p:grpSpPr>
          <a:xfrm>
            <a:off x="1752480" y="1371240"/>
            <a:ext cx="5410440" cy="1023480"/>
            <a:chOff x="1752480" y="1371240"/>
            <a:chExt cx="5410440" cy="1023480"/>
          </a:xfrm>
        </p:grpSpPr>
        <p:grpSp>
          <p:nvGrpSpPr>
            <p:cNvPr id="1433" name=""/>
            <p:cNvGrpSpPr/>
            <p:nvPr/>
          </p:nvGrpSpPr>
          <p:grpSpPr>
            <a:xfrm>
              <a:off x="2666520" y="1371240"/>
              <a:ext cx="4496400" cy="1023480"/>
              <a:chOff x="2666520" y="1371240"/>
              <a:chExt cx="4496400" cy="1023480"/>
            </a:xfrm>
          </p:grpSpPr>
          <p:sp>
            <p:nvSpPr>
              <p:cNvPr id="1434" name=""/>
              <p:cNvSpPr/>
              <p:nvPr/>
            </p:nvSpPr>
            <p:spPr>
              <a:xfrm>
                <a:off x="2666880" y="2057400"/>
                <a:ext cx="4496040" cy="33732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onversion constructor: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har *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to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String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 flipH="1" flipV="1">
                <a:off x="2666520" y="1371240"/>
                <a:ext cx="121932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6" name=""/>
            <p:cNvSpPr/>
            <p:nvPr/>
          </p:nvSpPr>
          <p:spPr>
            <a:xfrm flipH="1" flipV="1">
              <a:off x="1752480" y="2057040"/>
              <a:ext cx="9144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7" name=""/>
          <p:cNvGrpSpPr/>
          <p:nvPr/>
        </p:nvGrpSpPr>
        <p:grpSpPr>
          <a:xfrm>
            <a:off x="2437920" y="1828440"/>
            <a:ext cx="5258160" cy="3324240"/>
            <a:chOff x="2437920" y="1828440"/>
            <a:chExt cx="5258160" cy="3324240"/>
          </a:xfrm>
        </p:grpSpPr>
        <p:sp>
          <p:nvSpPr>
            <p:cNvPr id="1438" name=""/>
            <p:cNvSpPr/>
            <p:nvPr/>
          </p:nvSpPr>
          <p:spPr>
            <a:xfrm>
              <a:off x="5105520" y="4572000"/>
              <a:ext cx="25905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structors and destructors will print when call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 flipH="1" flipV="1">
              <a:off x="4266720" y="4800600"/>
              <a:ext cx="8384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 flipH="1" flipV="1">
              <a:off x="2971440" y="3352680"/>
              <a:ext cx="213372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 flipV="1">
              <a:off x="2437920" y="1828440"/>
              <a:ext cx="2667240" cy="304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A48AD-B5F5-4F1E-9060-FBB9783FA82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6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rator+=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(concatenation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7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rator!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(string empty?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8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rator==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(equality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443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444" name=""/>
            <p:cNvGrpSpPr/>
            <p:nvPr/>
          </p:nvGrpSpPr>
          <p:grpSpPr>
            <a:xfrm>
              <a:off x="0" y="0"/>
              <a:ext cx="6780960" cy="214200"/>
              <a:chOff x="0" y="0"/>
              <a:chExt cx="6780960" cy="214200"/>
            </a:xfrm>
          </p:grpSpPr>
          <p:sp>
            <p:nvSpPr>
              <p:cNvPr id="1445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dele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[] sPtr;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prevents memory lea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7" name=""/>
            <p:cNvGrpSpPr/>
            <p:nvPr/>
          </p:nvGrpSpPr>
          <p:grpSpPr>
            <a:xfrm>
              <a:off x="0" y="214200"/>
              <a:ext cx="6780960" cy="214200"/>
              <a:chOff x="0" y="214200"/>
              <a:chExt cx="6780960" cy="214200"/>
            </a:xfrm>
          </p:grpSpPr>
          <p:sp>
            <p:nvSpPr>
              <p:cNvPr id="1448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length = right.length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new String lengt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0" name=""/>
            <p:cNvGrpSpPr/>
            <p:nvPr/>
          </p:nvGrpSpPr>
          <p:grpSpPr>
            <a:xfrm>
              <a:off x="0" y="428400"/>
              <a:ext cx="6780960" cy="214200"/>
              <a:chOff x="0" y="428400"/>
              <a:chExt cx="6780960" cy="214200"/>
            </a:xfrm>
          </p:grpSpPr>
          <p:sp>
            <p:nvSpPr>
              <p:cNvPr id="1451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setString( right.sPtr )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call utility func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3" name=""/>
            <p:cNvGrpSpPr/>
            <p:nvPr/>
          </p:nvGrpSpPr>
          <p:grpSpPr>
            <a:xfrm>
              <a:off x="0" y="642960"/>
              <a:ext cx="6780960" cy="214200"/>
              <a:chOff x="0" y="642960"/>
              <a:chExt cx="6780960" cy="214200"/>
            </a:xfrm>
          </p:grpSpPr>
          <p:sp>
            <p:nvSpPr>
              <p:cNvPr id="1454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6" name=""/>
            <p:cNvGrpSpPr/>
            <p:nvPr/>
          </p:nvGrpSpPr>
          <p:grpSpPr>
            <a:xfrm>
              <a:off x="0" y="857160"/>
              <a:ext cx="6780960" cy="214200"/>
              <a:chOff x="0" y="857160"/>
              <a:chExt cx="6780960" cy="214200"/>
            </a:xfrm>
          </p:grpSpPr>
          <p:sp>
            <p:nvSpPr>
              <p:cNvPr id="1457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el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9" name=""/>
            <p:cNvGrpSpPr/>
            <p:nvPr/>
          </p:nvGrpSpPr>
          <p:grpSpPr>
            <a:xfrm>
              <a:off x="0" y="1071360"/>
              <a:ext cx="6780960" cy="214200"/>
              <a:chOff x="0" y="1071360"/>
              <a:chExt cx="6780960" cy="214200"/>
            </a:xfrm>
          </p:grpSpPr>
          <p:sp>
            <p:nvSpPr>
              <p:cNvPr id="1460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cout &lt;&lt; "Attempted assignment of a String to itself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2" name=""/>
            <p:cNvGrpSpPr/>
            <p:nvPr/>
          </p:nvGrpSpPr>
          <p:grpSpPr>
            <a:xfrm>
              <a:off x="0" y="1285560"/>
              <a:ext cx="6780960" cy="214200"/>
              <a:chOff x="0" y="1285560"/>
              <a:chExt cx="6780960" cy="214200"/>
            </a:xfrm>
          </p:grpSpPr>
          <p:sp>
            <p:nvSpPr>
              <p:cNvPr id="1463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5" name=""/>
            <p:cNvGrpSpPr/>
            <p:nvPr/>
          </p:nvGrpSpPr>
          <p:grpSpPr>
            <a:xfrm>
              <a:off x="0" y="1500120"/>
              <a:ext cx="6780960" cy="214200"/>
              <a:chOff x="0" y="1500120"/>
              <a:chExt cx="6780960" cy="214200"/>
            </a:xfrm>
          </p:grpSpPr>
          <p:sp>
            <p:nvSpPr>
              <p:cNvPr id="1466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this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enables cascaded assignmen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8" name=""/>
            <p:cNvGrpSpPr/>
            <p:nvPr/>
          </p:nvGrpSpPr>
          <p:grpSpPr>
            <a:xfrm>
              <a:off x="0" y="1714320"/>
              <a:ext cx="6780960" cy="214200"/>
              <a:chOff x="0" y="1714320"/>
              <a:chExt cx="6780960" cy="214200"/>
            </a:xfrm>
          </p:grpSpPr>
          <p:sp>
            <p:nvSpPr>
              <p:cNvPr id="1469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1" name=""/>
            <p:cNvGrpSpPr/>
            <p:nvPr/>
          </p:nvGrpSpPr>
          <p:grpSpPr>
            <a:xfrm>
              <a:off x="0" y="1928520"/>
              <a:ext cx="6780960" cy="214200"/>
              <a:chOff x="0" y="1928520"/>
              <a:chExt cx="6780960" cy="214200"/>
            </a:xfrm>
          </p:grpSpPr>
          <p:sp>
            <p:nvSpPr>
              <p:cNvPr id="1472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4" name=""/>
            <p:cNvGrpSpPr/>
            <p:nvPr/>
          </p:nvGrpSpPr>
          <p:grpSpPr>
            <a:xfrm>
              <a:off x="0" y="2143080"/>
              <a:ext cx="6780960" cy="214200"/>
              <a:chOff x="0" y="2143080"/>
              <a:chExt cx="6780960" cy="214200"/>
            </a:xfrm>
          </p:grpSpPr>
          <p:sp>
            <p:nvSpPr>
              <p:cNvPr id="1475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oncatenate right operand to this object a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7" name=""/>
            <p:cNvGrpSpPr/>
            <p:nvPr/>
          </p:nvGrpSpPr>
          <p:grpSpPr>
            <a:xfrm>
              <a:off x="0" y="2357280"/>
              <a:ext cx="6780960" cy="214200"/>
              <a:chOff x="0" y="2357280"/>
              <a:chExt cx="6780960" cy="214200"/>
            </a:xfrm>
          </p:grpSpPr>
          <p:sp>
            <p:nvSpPr>
              <p:cNvPr id="1478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store in this object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0" name=""/>
            <p:cNvGrpSpPr/>
            <p:nvPr/>
          </p:nvGrpSpPr>
          <p:grpSpPr>
            <a:xfrm>
              <a:off x="0" y="2571480"/>
              <a:ext cx="6780960" cy="214200"/>
              <a:chOff x="0" y="2571480"/>
              <a:chExt cx="6780960" cy="214200"/>
            </a:xfrm>
          </p:grpSpPr>
          <p:sp>
            <p:nvSpPr>
              <p:cNvPr id="1481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ing &amp;String::operator+=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ing &amp;right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3" name=""/>
            <p:cNvGrpSpPr/>
            <p:nvPr/>
          </p:nvGrpSpPr>
          <p:grpSpPr>
            <a:xfrm>
              <a:off x="0" y="2786040"/>
              <a:ext cx="6780960" cy="214200"/>
              <a:chOff x="0" y="2786040"/>
              <a:chExt cx="6780960" cy="214200"/>
            </a:xfrm>
          </p:grpSpPr>
          <p:sp>
            <p:nvSpPr>
              <p:cNvPr id="1484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6" name=""/>
            <p:cNvGrpSpPr/>
            <p:nvPr/>
          </p:nvGrpSpPr>
          <p:grpSpPr>
            <a:xfrm>
              <a:off x="0" y="3000240"/>
              <a:ext cx="6780960" cy="214200"/>
              <a:chOff x="0" y="3000240"/>
              <a:chExt cx="6780960" cy="214200"/>
            </a:xfrm>
          </p:grpSpPr>
          <p:sp>
            <p:nvSpPr>
              <p:cNvPr id="1487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tempPtr = sPtr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hold to be able to dele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9" name=""/>
            <p:cNvGrpSpPr/>
            <p:nvPr/>
          </p:nvGrpSpPr>
          <p:grpSpPr>
            <a:xfrm>
              <a:off x="0" y="3214800"/>
              <a:ext cx="6780960" cy="214200"/>
              <a:chOff x="0" y="3214800"/>
              <a:chExt cx="6780960" cy="214200"/>
            </a:xfrm>
          </p:grpSpPr>
          <p:sp>
            <p:nvSpPr>
              <p:cNvPr id="1490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length += right.length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new String lengt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2" name=""/>
            <p:cNvGrpSpPr/>
            <p:nvPr/>
          </p:nvGrpSpPr>
          <p:grpSpPr>
            <a:xfrm>
              <a:off x="0" y="3429000"/>
              <a:ext cx="6780960" cy="214200"/>
              <a:chOff x="0" y="3429000"/>
              <a:chExt cx="6780960" cy="214200"/>
            </a:xfrm>
          </p:grpSpPr>
          <p:sp>
            <p:nvSpPr>
              <p:cNvPr id="1493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sPtr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new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[ length + 1 ];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create spa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5" name=""/>
            <p:cNvGrpSpPr/>
            <p:nvPr/>
          </p:nvGrpSpPr>
          <p:grpSpPr>
            <a:xfrm>
              <a:off x="0" y="3643200"/>
              <a:ext cx="6780960" cy="214200"/>
              <a:chOff x="0" y="3643200"/>
              <a:chExt cx="6780960" cy="214200"/>
            </a:xfrm>
          </p:grpSpPr>
          <p:sp>
            <p:nvSpPr>
              <p:cNvPr id="1496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assert( sPtr != 0 )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terminate if memory not alloca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8" name=""/>
            <p:cNvGrpSpPr/>
            <p:nvPr/>
          </p:nvGrpSpPr>
          <p:grpSpPr>
            <a:xfrm>
              <a:off x="0" y="3857400"/>
              <a:ext cx="6780960" cy="214200"/>
              <a:chOff x="0" y="3857400"/>
              <a:chExt cx="6780960" cy="214200"/>
            </a:xfrm>
          </p:grpSpPr>
          <p:sp>
            <p:nvSpPr>
              <p:cNvPr id="1499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strcpy( sPtr, tempPtr );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left part of new Str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1" name=""/>
            <p:cNvGrpSpPr/>
            <p:nvPr/>
          </p:nvGrpSpPr>
          <p:grpSpPr>
            <a:xfrm>
              <a:off x="0" y="4071960"/>
              <a:ext cx="6780960" cy="214200"/>
              <a:chOff x="0" y="4071960"/>
              <a:chExt cx="6780960" cy="214200"/>
            </a:xfrm>
          </p:grpSpPr>
          <p:sp>
            <p:nvSpPr>
              <p:cNvPr id="1502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strcat( sPtr, right.sPtr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right part of new Str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4" name=""/>
            <p:cNvGrpSpPr/>
            <p:nvPr/>
          </p:nvGrpSpPr>
          <p:grpSpPr>
            <a:xfrm>
              <a:off x="0" y="4286160"/>
              <a:ext cx="6780960" cy="214200"/>
              <a:chOff x="0" y="4286160"/>
              <a:chExt cx="6780960" cy="214200"/>
            </a:xfrm>
          </p:grpSpPr>
          <p:sp>
            <p:nvSpPr>
              <p:cNvPr id="1505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dele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[] tempPtr;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reclaim old spa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7" name=""/>
            <p:cNvGrpSpPr/>
            <p:nvPr/>
          </p:nvGrpSpPr>
          <p:grpSpPr>
            <a:xfrm>
              <a:off x="0" y="4500360"/>
              <a:ext cx="6780960" cy="214200"/>
              <a:chOff x="0" y="4500360"/>
              <a:chExt cx="6780960" cy="214200"/>
            </a:xfrm>
          </p:grpSpPr>
          <p:sp>
            <p:nvSpPr>
              <p:cNvPr id="1508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this;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enables cascaded call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0" name=""/>
            <p:cNvGrpSpPr/>
            <p:nvPr/>
          </p:nvGrpSpPr>
          <p:grpSpPr>
            <a:xfrm>
              <a:off x="0" y="4714920"/>
              <a:ext cx="6780960" cy="214200"/>
              <a:chOff x="0" y="4714920"/>
              <a:chExt cx="6780960" cy="214200"/>
            </a:xfrm>
          </p:grpSpPr>
          <p:sp>
            <p:nvSpPr>
              <p:cNvPr id="1511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3" name=""/>
            <p:cNvGrpSpPr/>
            <p:nvPr/>
          </p:nvGrpSpPr>
          <p:grpSpPr>
            <a:xfrm>
              <a:off x="0" y="4929120"/>
              <a:ext cx="6780960" cy="214200"/>
              <a:chOff x="0" y="4929120"/>
              <a:chExt cx="6780960" cy="214200"/>
            </a:xfrm>
          </p:grpSpPr>
          <p:sp>
            <p:nvSpPr>
              <p:cNvPr id="1514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6" name=""/>
            <p:cNvGrpSpPr/>
            <p:nvPr/>
          </p:nvGrpSpPr>
          <p:grpSpPr>
            <a:xfrm>
              <a:off x="0" y="5143320"/>
              <a:ext cx="6780960" cy="214200"/>
              <a:chOff x="0" y="5143320"/>
              <a:chExt cx="6780960" cy="214200"/>
            </a:xfrm>
          </p:grpSpPr>
          <p:sp>
            <p:nvSpPr>
              <p:cNvPr id="1517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Is this String empty?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9" name=""/>
            <p:cNvGrpSpPr/>
            <p:nvPr/>
          </p:nvGrpSpPr>
          <p:grpSpPr>
            <a:xfrm>
              <a:off x="0" y="5357880"/>
              <a:ext cx="6780960" cy="214200"/>
              <a:chOff x="0" y="5357880"/>
              <a:chExt cx="6780960" cy="214200"/>
            </a:xfrm>
          </p:grpSpPr>
          <p:sp>
            <p:nvSpPr>
              <p:cNvPr id="1520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ing::operator!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length ==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2" name=""/>
            <p:cNvGrpSpPr/>
            <p:nvPr/>
          </p:nvGrpSpPr>
          <p:grpSpPr>
            <a:xfrm>
              <a:off x="0" y="5572080"/>
              <a:ext cx="6780960" cy="214200"/>
              <a:chOff x="0" y="5572080"/>
              <a:chExt cx="6780960" cy="214200"/>
            </a:xfrm>
          </p:grpSpPr>
          <p:sp>
            <p:nvSpPr>
              <p:cNvPr id="1523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5" name=""/>
            <p:cNvGrpSpPr/>
            <p:nvPr/>
          </p:nvGrpSpPr>
          <p:grpSpPr>
            <a:xfrm>
              <a:off x="0" y="5786280"/>
              <a:ext cx="6780960" cy="214200"/>
              <a:chOff x="0" y="5786280"/>
              <a:chExt cx="6780960" cy="214200"/>
            </a:xfrm>
          </p:grpSpPr>
          <p:sp>
            <p:nvSpPr>
              <p:cNvPr id="1526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Is this String equal to right String?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8" name=""/>
            <p:cNvGrpSpPr/>
            <p:nvPr/>
          </p:nvGrpSpPr>
          <p:grpSpPr>
            <a:xfrm>
              <a:off x="0" y="6000840"/>
              <a:ext cx="6780960" cy="214200"/>
              <a:chOff x="0" y="6000840"/>
              <a:chExt cx="6780960" cy="214200"/>
            </a:xfrm>
          </p:grpSpPr>
          <p:sp>
            <p:nvSpPr>
              <p:cNvPr id="1529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ing::operator==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ing &amp;right 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1" name=""/>
            <p:cNvGrpSpPr/>
            <p:nvPr/>
          </p:nvGrpSpPr>
          <p:grpSpPr>
            <a:xfrm>
              <a:off x="0" y="6215040"/>
              <a:ext cx="6780960" cy="214200"/>
              <a:chOff x="0" y="6215040"/>
              <a:chExt cx="6780960" cy="214200"/>
            </a:xfrm>
          </p:grpSpPr>
          <p:sp>
            <p:nvSpPr>
              <p:cNvPr id="1532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cmp( sPtr, right.sPtr ) ==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4" name=""/>
            <p:cNvGrpSpPr/>
            <p:nvPr/>
          </p:nvGrpSpPr>
          <p:grpSpPr>
            <a:xfrm>
              <a:off x="0" y="6429240"/>
              <a:ext cx="6780960" cy="214200"/>
              <a:chOff x="0" y="6429240"/>
              <a:chExt cx="6780960" cy="214200"/>
            </a:xfrm>
          </p:grpSpPr>
          <p:sp>
            <p:nvSpPr>
              <p:cNvPr id="1535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7" name=""/>
            <p:cNvGrpSpPr/>
            <p:nvPr/>
          </p:nvGrpSpPr>
          <p:grpSpPr>
            <a:xfrm>
              <a:off x="0" y="6643800"/>
              <a:ext cx="6780960" cy="214200"/>
              <a:chOff x="0" y="6643800"/>
              <a:chExt cx="6780960" cy="214200"/>
            </a:xfrm>
          </p:grpSpPr>
          <p:sp>
            <p:nvSpPr>
              <p:cNvPr id="1538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Is this String less than right String?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8EBA6-2B59-412A-8076-1216673E90F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9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rator&lt;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(less than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0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rator[]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(subscript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1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rator[]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subscript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2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rator(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(return substring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541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542" name=""/>
            <p:cNvGrpSpPr/>
            <p:nvPr/>
          </p:nvGrpSpPr>
          <p:grpSpPr>
            <a:xfrm>
              <a:off x="0" y="0"/>
              <a:ext cx="6780960" cy="221040"/>
              <a:chOff x="0" y="0"/>
              <a:chExt cx="6780960" cy="221040"/>
            </a:xfrm>
          </p:grpSpPr>
          <p:sp>
            <p:nvSpPr>
              <p:cNvPr id="1543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ing::operator&lt;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ing &amp;right 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5" name=""/>
            <p:cNvGrpSpPr/>
            <p:nvPr/>
          </p:nvGrpSpPr>
          <p:grpSpPr>
            <a:xfrm>
              <a:off x="0" y="221040"/>
              <a:ext cx="6780960" cy="221040"/>
              <a:chOff x="0" y="221040"/>
              <a:chExt cx="6780960" cy="221040"/>
            </a:xfrm>
          </p:grpSpPr>
          <p:sp>
            <p:nvSpPr>
              <p:cNvPr id="1546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cmp( sPtr, right.sPtr ) &lt;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8" name=""/>
            <p:cNvGrpSpPr/>
            <p:nvPr/>
          </p:nvGrpSpPr>
          <p:grpSpPr>
            <a:xfrm>
              <a:off x="0" y="442080"/>
              <a:ext cx="6780960" cy="221040"/>
              <a:chOff x="0" y="442080"/>
              <a:chExt cx="6780960" cy="221040"/>
            </a:xfrm>
          </p:grpSpPr>
          <p:sp>
            <p:nvSpPr>
              <p:cNvPr id="1549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1" name=""/>
            <p:cNvGrpSpPr/>
            <p:nvPr/>
          </p:nvGrpSpPr>
          <p:grpSpPr>
            <a:xfrm>
              <a:off x="0" y="663480"/>
              <a:ext cx="6780960" cy="221040"/>
              <a:chOff x="0" y="663480"/>
              <a:chExt cx="6780960" cy="221040"/>
            </a:xfrm>
          </p:grpSpPr>
          <p:sp>
            <p:nvSpPr>
              <p:cNvPr id="1552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Return a reference to a character in a String as an lvalue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4" name=""/>
            <p:cNvGrpSpPr/>
            <p:nvPr/>
          </p:nvGrpSpPr>
          <p:grpSpPr>
            <a:xfrm>
              <a:off x="0" y="884880"/>
              <a:ext cx="6780960" cy="221040"/>
              <a:chOff x="0" y="884880"/>
              <a:chExt cx="6780960" cy="221040"/>
            </a:xfrm>
          </p:grpSpPr>
          <p:sp>
            <p:nvSpPr>
              <p:cNvPr id="1555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amp;String::operator[]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ubscript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7" name=""/>
            <p:cNvGrpSpPr/>
            <p:nvPr/>
          </p:nvGrpSpPr>
          <p:grpSpPr>
            <a:xfrm>
              <a:off x="0" y="1105920"/>
              <a:ext cx="6780960" cy="221040"/>
              <a:chOff x="0" y="1105920"/>
              <a:chExt cx="6780960" cy="221040"/>
            </a:xfrm>
          </p:grpSpPr>
          <p:sp>
            <p:nvSpPr>
              <p:cNvPr id="1558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0" name=""/>
            <p:cNvGrpSpPr/>
            <p:nvPr/>
          </p:nvGrpSpPr>
          <p:grpSpPr>
            <a:xfrm>
              <a:off x="0" y="1327320"/>
              <a:ext cx="6780960" cy="221040"/>
              <a:chOff x="0" y="1327320"/>
              <a:chExt cx="6780960" cy="221040"/>
            </a:xfrm>
          </p:grpSpPr>
          <p:sp>
            <p:nvSpPr>
              <p:cNvPr id="1561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First test for subscript out of rang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3" name=""/>
            <p:cNvGrpSpPr/>
            <p:nvPr/>
          </p:nvGrpSpPr>
          <p:grpSpPr>
            <a:xfrm>
              <a:off x="0" y="1548360"/>
              <a:ext cx="6780960" cy="221040"/>
              <a:chOff x="0" y="1548360"/>
              <a:chExt cx="6780960" cy="221040"/>
            </a:xfrm>
          </p:grpSpPr>
          <p:sp>
            <p:nvSpPr>
              <p:cNvPr id="1564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assert( subscript &gt;= 0 &amp;&amp; subscript &lt; length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6" name=""/>
            <p:cNvGrpSpPr/>
            <p:nvPr/>
          </p:nvGrpSpPr>
          <p:grpSpPr>
            <a:xfrm>
              <a:off x="0" y="1769760"/>
              <a:ext cx="6780960" cy="221040"/>
              <a:chOff x="0" y="1769760"/>
              <a:chExt cx="6780960" cy="221040"/>
            </a:xfrm>
          </p:grpSpPr>
          <p:sp>
            <p:nvSpPr>
              <p:cNvPr id="1567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9" name=""/>
            <p:cNvGrpSpPr/>
            <p:nvPr/>
          </p:nvGrpSpPr>
          <p:grpSpPr>
            <a:xfrm>
              <a:off x="0" y="1990800"/>
              <a:ext cx="6780960" cy="221040"/>
              <a:chOff x="0" y="1990800"/>
              <a:chExt cx="6780960" cy="221040"/>
            </a:xfrm>
          </p:grpSpPr>
          <p:sp>
            <p:nvSpPr>
              <p:cNvPr id="1570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Ptr[ subscript ]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creates l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2" name=""/>
            <p:cNvGrpSpPr/>
            <p:nvPr/>
          </p:nvGrpSpPr>
          <p:grpSpPr>
            <a:xfrm>
              <a:off x="0" y="2212200"/>
              <a:ext cx="6780960" cy="221040"/>
              <a:chOff x="0" y="2212200"/>
              <a:chExt cx="6780960" cy="221040"/>
            </a:xfrm>
          </p:grpSpPr>
          <p:sp>
            <p:nvSpPr>
              <p:cNvPr id="1573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5" name=""/>
            <p:cNvGrpSpPr/>
            <p:nvPr/>
          </p:nvGrpSpPr>
          <p:grpSpPr>
            <a:xfrm>
              <a:off x="0" y="2433600"/>
              <a:ext cx="6780960" cy="221040"/>
              <a:chOff x="0" y="2433600"/>
              <a:chExt cx="6780960" cy="221040"/>
            </a:xfrm>
          </p:grpSpPr>
          <p:sp>
            <p:nvSpPr>
              <p:cNvPr id="1576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8" name=""/>
            <p:cNvGrpSpPr/>
            <p:nvPr/>
          </p:nvGrpSpPr>
          <p:grpSpPr>
            <a:xfrm>
              <a:off x="0" y="2654640"/>
              <a:ext cx="6780960" cy="221040"/>
              <a:chOff x="0" y="2654640"/>
              <a:chExt cx="6780960" cy="221040"/>
            </a:xfrm>
          </p:grpSpPr>
          <p:sp>
            <p:nvSpPr>
              <p:cNvPr id="1579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Return a reference to a character in a String as an rvalue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1" name=""/>
            <p:cNvGrpSpPr/>
            <p:nvPr/>
          </p:nvGrpSpPr>
          <p:grpSpPr>
            <a:xfrm>
              <a:off x="0" y="2875680"/>
              <a:ext cx="6780960" cy="221040"/>
              <a:chOff x="0" y="2875680"/>
              <a:chExt cx="6780960" cy="221040"/>
            </a:xfrm>
          </p:grpSpPr>
          <p:sp>
            <p:nvSpPr>
              <p:cNvPr id="1582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amp;String::operator[]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ubscript 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4" name=""/>
            <p:cNvGrpSpPr/>
            <p:nvPr/>
          </p:nvGrpSpPr>
          <p:grpSpPr>
            <a:xfrm>
              <a:off x="0" y="3097080"/>
              <a:ext cx="6780960" cy="221040"/>
              <a:chOff x="0" y="3097080"/>
              <a:chExt cx="6780960" cy="221040"/>
            </a:xfrm>
          </p:grpSpPr>
          <p:sp>
            <p:nvSpPr>
              <p:cNvPr id="1585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7" name=""/>
            <p:cNvGrpSpPr/>
            <p:nvPr/>
          </p:nvGrpSpPr>
          <p:grpSpPr>
            <a:xfrm>
              <a:off x="0" y="3318480"/>
              <a:ext cx="6780960" cy="221040"/>
              <a:chOff x="0" y="3318480"/>
              <a:chExt cx="6780960" cy="221040"/>
            </a:xfrm>
          </p:grpSpPr>
          <p:sp>
            <p:nvSpPr>
              <p:cNvPr id="1588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First test for subscript out of rang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0" name=""/>
            <p:cNvGrpSpPr/>
            <p:nvPr/>
          </p:nvGrpSpPr>
          <p:grpSpPr>
            <a:xfrm>
              <a:off x="0" y="3539520"/>
              <a:ext cx="6780960" cy="221040"/>
              <a:chOff x="0" y="3539520"/>
              <a:chExt cx="6780960" cy="221040"/>
            </a:xfrm>
          </p:grpSpPr>
          <p:sp>
            <p:nvSpPr>
              <p:cNvPr id="1591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assert( subscript &gt;= 0 &amp;&amp; subscript &lt; length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3" name=""/>
            <p:cNvGrpSpPr/>
            <p:nvPr/>
          </p:nvGrpSpPr>
          <p:grpSpPr>
            <a:xfrm>
              <a:off x="0" y="3760920"/>
              <a:ext cx="6780960" cy="221040"/>
              <a:chOff x="0" y="3760920"/>
              <a:chExt cx="6780960" cy="221040"/>
            </a:xfrm>
          </p:grpSpPr>
          <p:sp>
            <p:nvSpPr>
              <p:cNvPr id="1594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6" name=""/>
            <p:cNvGrpSpPr/>
            <p:nvPr/>
          </p:nvGrpSpPr>
          <p:grpSpPr>
            <a:xfrm>
              <a:off x="0" y="3981960"/>
              <a:ext cx="6780960" cy="221040"/>
              <a:chOff x="0" y="3981960"/>
              <a:chExt cx="6780960" cy="221040"/>
            </a:xfrm>
          </p:grpSpPr>
          <p:sp>
            <p:nvSpPr>
              <p:cNvPr id="1597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Ptr[ subscript ]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reates r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9" name=""/>
            <p:cNvGrpSpPr/>
            <p:nvPr/>
          </p:nvGrpSpPr>
          <p:grpSpPr>
            <a:xfrm>
              <a:off x="0" y="4203360"/>
              <a:ext cx="6780960" cy="221040"/>
              <a:chOff x="0" y="4203360"/>
              <a:chExt cx="6780960" cy="221040"/>
            </a:xfrm>
          </p:grpSpPr>
          <p:sp>
            <p:nvSpPr>
              <p:cNvPr id="1600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2" name=""/>
            <p:cNvGrpSpPr/>
            <p:nvPr/>
          </p:nvGrpSpPr>
          <p:grpSpPr>
            <a:xfrm>
              <a:off x="0" y="4424400"/>
              <a:ext cx="6780960" cy="221040"/>
              <a:chOff x="0" y="4424400"/>
              <a:chExt cx="6780960" cy="221040"/>
            </a:xfrm>
          </p:grpSpPr>
          <p:sp>
            <p:nvSpPr>
              <p:cNvPr id="1603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5" name=""/>
            <p:cNvGrpSpPr/>
            <p:nvPr/>
          </p:nvGrpSpPr>
          <p:grpSpPr>
            <a:xfrm>
              <a:off x="0" y="4645800"/>
              <a:ext cx="6780960" cy="221040"/>
              <a:chOff x="0" y="4645800"/>
              <a:chExt cx="6780960" cy="221040"/>
            </a:xfrm>
          </p:grpSpPr>
          <p:sp>
            <p:nvSpPr>
              <p:cNvPr id="1606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Return a substring beginning at index a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8" name=""/>
            <p:cNvGrpSpPr/>
            <p:nvPr/>
          </p:nvGrpSpPr>
          <p:grpSpPr>
            <a:xfrm>
              <a:off x="0" y="4866840"/>
              <a:ext cx="6780960" cy="221040"/>
              <a:chOff x="0" y="4866840"/>
              <a:chExt cx="6780960" cy="221040"/>
            </a:xfrm>
          </p:grpSpPr>
          <p:sp>
            <p:nvSpPr>
              <p:cNvPr id="1609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of length subLengt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1" name=""/>
            <p:cNvGrpSpPr/>
            <p:nvPr/>
          </p:nvGrpSpPr>
          <p:grpSpPr>
            <a:xfrm>
              <a:off x="0" y="5088240"/>
              <a:ext cx="6780960" cy="221040"/>
              <a:chOff x="0" y="5088240"/>
              <a:chExt cx="6780960" cy="221040"/>
            </a:xfrm>
          </p:grpSpPr>
          <p:sp>
            <p:nvSpPr>
              <p:cNvPr id="1612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String String::operator()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index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ubLength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4" name=""/>
            <p:cNvGrpSpPr/>
            <p:nvPr/>
          </p:nvGrpSpPr>
          <p:grpSpPr>
            <a:xfrm>
              <a:off x="0" y="5309640"/>
              <a:ext cx="6780960" cy="221040"/>
              <a:chOff x="0" y="5309640"/>
              <a:chExt cx="6780960" cy="221040"/>
            </a:xfrm>
          </p:grpSpPr>
          <p:sp>
            <p:nvSpPr>
              <p:cNvPr id="1615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7" name=""/>
            <p:cNvGrpSpPr/>
            <p:nvPr/>
          </p:nvGrpSpPr>
          <p:grpSpPr>
            <a:xfrm>
              <a:off x="0" y="5530680"/>
              <a:ext cx="6780960" cy="221040"/>
              <a:chOff x="0" y="5530680"/>
              <a:chExt cx="6780960" cy="221040"/>
            </a:xfrm>
          </p:grpSpPr>
          <p:sp>
            <p:nvSpPr>
              <p:cNvPr id="1618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ensure index is in range and substring length &gt;= 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0" name=""/>
            <p:cNvGrpSpPr/>
            <p:nvPr/>
          </p:nvGrpSpPr>
          <p:grpSpPr>
            <a:xfrm>
              <a:off x="0" y="5751720"/>
              <a:ext cx="6780960" cy="221040"/>
              <a:chOff x="0" y="5751720"/>
              <a:chExt cx="6780960" cy="221040"/>
            </a:xfrm>
          </p:grpSpPr>
          <p:sp>
            <p:nvSpPr>
              <p:cNvPr id="1621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assert( index &gt;= 0 &amp;&amp; index &lt; length &amp;&amp; subLength &gt;= 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3" name=""/>
            <p:cNvGrpSpPr/>
            <p:nvPr/>
          </p:nvGrpSpPr>
          <p:grpSpPr>
            <a:xfrm>
              <a:off x="0" y="5973120"/>
              <a:ext cx="6780960" cy="221040"/>
              <a:chOff x="0" y="5973120"/>
              <a:chExt cx="6780960" cy="221040"/>
            </a:xfrm>
          </p:grpSpPr>
          <p:sp>
            <p:nvSpPr>
              <p:cNvPr id="1624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6" name=""/>
            <p:cNvGrpSpPr/>
            <p:nvPr/>
          </p:nvGrpSpPr>
          <p:grpSpPr>
            <a:xfrm>
              <a:off x="0" y="6194520"/>
              <a:ext cx="6780960" cy="221040"/>
              <a:chOff x="0" y="6194520"/>
              <a:chExt cx="6780960" cy="221040"/>
            </a:xfrm>
          </p:grpSpPr>
          <p:sp>
            <p:nvSpPr>
              <p:cNvPr id="1627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determine length of substr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9" name=""/>
            <p:cNvGrpSpPr/>
            <p:nvPr/>
          </p:nvGrpSpPr>
          <p:grpSpPr>
            <a:xfrm>
              <a:off x="0" y="6415560"/>
              <a:ext cx="6780960" cy="221040"/>
              <a:chOff x="0" y="6415560"/>
              <a:chExt cx="6780960" cy="221040"/>
            </a:xfrm>
          </p:grpSpPr>
          <p:sp>
            <p:nvSpPr>
              <p:cNvPr id="1630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le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2" name=""/>
            <p:cNvGrpSpPr/>
            <p:nvPr/>
          </p:nvGrpSpPr>
          <p:grpSpPr>
            <a:xfrm>
              <a:off x="0" y="6636960"/>
              <a:ext cx="6780960" cy="221040"/>
              <a:chOff x="0" y="6636960"/>
              <a:chExt cx="6780960" cy="221040"/>
            </a:xfrm>
          </p:grpSpPr>
          <p:sp>
            <p:nvSpPr>
              <p:cNvPr id="1633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35" name=""/>
          <p:cNvGrpSpPr/>
          <p:nvPr/>
        </p:nvGrpSpPr>
        <p:grpSpPr>
          <a:xfrm>
            <a:off x="2514600" y="3962520"/>
            <a:ext cx="3886200" cy="1066680"/>
            <a:chOff x="2514600" y="3962520"/>
            <a:chExt cx="3886200" cy="1066680"/>
          </a:xfrm>
        </p:grpSpPr>
        <p:sp>
          <p:nvSpPr>
            <p:cNvPr id="1636" name=""/>
            <p:cNvSpPr/>
            <p:nvPr/>
          </p:nvSpPr>
          <p:spPr>
            <a:xfrm>
              <a:off x="3809880" y="3962520"/>
              <a:ext cx="2590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the overloaded function call operat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 flipH="1">
              <a:off x="2514600" y="4343400"/>
              <a:ext cx="1295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EE3ED-1B0B-4DEF-83E9-9D1A7A1A6A5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3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Length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4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String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639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640" name=""/>
            <p:cNvGrpSpPr/>
            <p:nvPr/>
          </p:nvGrpSpPr>
          <p:grpSpPr>
            <a:xfrm>
              <a:off x="0" y="0"/>
              <a:ext cx="6780960" cy="214200"/>
              <a:chOff x="0" y="0"/>
              <a:chExt cx="6780960" cy="214200"/>
            </a:xfrm>
          </p:grpSpPr>
          <p:sp>
            <p:nvSpPr>
              <p:cNvPr id="1641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( subLength == 0 ) || ( index + subLength &gt; length )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3" name=""/>
            <p:cNvGrpSpPr/>
            <p:nvPr/>
          </p:nvGrpSpPr>
          <p:grpSpPr>
            <a:xfrm>
              <a:off x="0" y="214200"/>
              <a:ext cx="6780960" cy="214200"/>
              <a:chOff x="0" y="214200"/>
              <a:chExt cx="6780960" cy="214200"/>
            </a:xfrm>
          </p:grpSpPr>
          <p:sp>
            <p:nvSpPr>
              <p:cNvPr id="1644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len = length - index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6" name=""/>
            <p:cNvGrpSpPr/>
            <p:nvPr/>
          </p:nvGrpSpPr>
          <p:grpSpPr>
            <a:xfrm>
              <a:off x="0" y="428400"/>
              <a:ext cx="6780960" cy="214200"/>
              <a:chOff x="0" y="428400"/>
              <a:chExt cx="6780960" cy="214200"/>
            </a:xfrm>
          </p:grpSpPr>
          <p:sp>
            <p:nvSpPr>
              <p:cNvPr id="1647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el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9" name=""/>
            <p:cNvGrpSpPr/>
            <p:nvPr/>
          </p:nvGrpSpPr>
          <p:grpSpPr>
            <a:xfrm>
              <a:off x="0" y="642960"/>
              <a:ext cx="6780960" cy="214200"/>
              <a:chOff x="0" y="642960"/>
              <a:chExt cx="6780960" cy="214200"/>
            </a:xfrm>
          </p:grpSpPr>
          <p:sp>
            <p:nvSpPr>
              <p:cNvPr id="1650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len = subLength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2" name=""/>
            <p:cNvGrpSpPr/>
            <p:nvPr/>
          </p:nvGrpSpPr>
          <p:grpSpPr>
            <a:xfrm>
              <a:off x="0" y="857160"/>
              <a:ext cx="6780960" cy="214200"/>
              <a:chOff x="0" y="857160"/>
              <a:chExt cx="6780960" cy="214200"/>
            </a:xfrm>
          </p:grpSpPr>
          <p:sp>
            <p:nvSpPr>
              <p:cNvPr id="1653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5" name=""/>
            <p:cNvGrpSpPr/>
            <p:nvPr/>
          </p:nvGrpSpPr>
          <p:grpSpPr>
            <a:xfrm>
              <a:off x="0" y="1071360"/>
              <a:ext cx="6780960" cy="214200"/>
              <a:chOff x="0" y="1071360"/>
              <a:chExt cx="6780960" cy="214200"/>
            </a:xfrm>
          </p:grpSpPr>
          <p:sp>
            <p:nvSpPr>
              <p:cNvPr id="1656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allocate temporary array for substring and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8" name=""/>
            <p:cNvGrpSpPr/>
            <p:nvPr/>
          </p:nvGrpSpPr>
          <p:grpSpPr>
            <a:xfrm>
              <a:off x="0" y="1285560"/>
              <a:ext cx="6780960" cy="214200"/>
              <a:chOff x="0" y="1285560"/>
              <a:chExt cx="6780960" cy="214200"/>
            </a:xfrm>
          </p:grpSpPr>
          <p:sp>
            <p:nvSpPr>
              <p:cNvPr id="1659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terminating null charac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1" name=""/>
            <p:cNvGrpSpPr/>
            <p:nvPr/>
          </p:nvGrpSpPr>
          <p:grpSpPr>
            <a:xfrm>
              <a:off x="0" y="1500120"/>
              <a:ext cx="6780960" cy="214200"/>
              <a:chOff x="0" y="1500120"/>
              <a:chExt cx="6780960" cy="214200"/>
            </a:xfrm>
          </p:grpSpPr>
          <p:sp>
            <p:nvSpPr>
              <p:cNvPr id="1662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tempPtr = new char[ len + 1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4" name=""/>
            <p:cNvGrpSpPr/>
            <p:nvPr/>
          </p:nvGrpSpPr>
          <p:grpSpPr>
            <a:xfrm>
              <a:off x="0" y="1714320"/>
              <a:ext cx="6780960" cy="214200"/>
              <a:chOff x="0" y="1714320"/>
              <a:chExt cx="6780960" cy="214200"/>
            </a:xfrm>
          </p:grpSpPr>
          <p:sp>
            <p:nvSpPr>
              <p:cNvPr id="1665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assert( tempPtr != 0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ensure space alloca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7" name=""/>
            <p:cNvGrpSpPr/>
            <p:nvPr/>
          </p:nvGrpSpPr>
          <p:grpSpPr>
            <a:xfrm>
              <a:off x="0" y="1928520"/>
              <a:ext cx="6780960" cy="214200"/>
              <a:chOff x="0" y="1928520"/>
              <a:chExt cx="6780960" cy="214200"/>
            </a:xfrm>
          </p:grpSpPr>
          <p:sp>
            <p:nvSpPr>
              <p:cNvPr id="1668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0" name=""/>
            <p:cNvGrpSpPr/>
            <p:nvPr/>
          </p:nvGrpSpPr>
          <p:grpSpPr>
            <a:xfrm>
              <a:off x="0" y="2143080"/>
              <a:ext cx="6780960" cy="214200"/>
              <a:chOff x="0" y="2143080"/>
              <a:chExt cx="6780960" cy="214200"/>
            </a:xfrm>
          </p:grpSpPr>
          <p:sp>
            <p:nvSpPr>
              <p:cNvPr id="1671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copy substring into char array and terminate str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3" name=""/>
            <p:cNvGrpSpPr/>
            <p:nvPr/>
          </p:nvGrpSpPr>
          <p:grpSpPr>
            <a:xfrm>
              <a:off x="0" y="2357280"/>
              <a:ext cx="6780960" cy="214200"/>
              <a:chOff x="0" y="2357280"/>
              <a:chExt cx="6780960" cy="214200"/>
            </a:xfrm>
          </p:grpSpPr>
          <p:sp>
            <p:nvSpPr>
              <p:cNvPr id="1674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strncpy( tempPtr, &amp;sPtr[ index ], len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6" name=""/>
            <p:cNvGrpSpPr/>
            <p:nvPr/>
          </p:nvGrpSpPr>
          <p:grpSpPr>
            <a:xfrm>
              <a:off x="0" y="2571480"/>
              <a:ext cx="6780960" cy="214200"/>
              <a:chOff x="0" y="2571480"/>
              <a:chExt cx="6780960" cy="214200"/>
            </a:xfrm>
          </p:grpSpPr>
          <p:sp>
            <p:nvSpPr>
              <p:cNvPr id="1677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tempPtr[ len ] = '\0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9" name=""/>
            <p:cNvGrpSpPr/>
            <p:nvPr/>
          </p:nvGrpSpPr>
          <p:grpSpPr>
            <a:xfrm>
              <a:off x="0" y="2786040"/>
              <a:ext cx="6780960" cy="214200"/>
              <a:chOff x="0" y="2786040"/>
              <a:chExt cx="6780960" cy="214200"/>
            </a:xfrm>
          </p:grpSpPr>
          <p:sp>
            <p:nvSpPr>
              <p:cNvPr id="1680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2" name=""/>
            <p:cNvGrpSpPr/>
            <p:nvPr/>
          </p:nvGrpSpPr>
          <p:grpSpPr>
            <a:xfrm>
              <a:off x="0" y="3000240"/>
              <a:ext cx="6780960" cy="214200"/>
              <a:chOff x="0" y="3000240"/>
              <a:chExt cx="6780960" cy="214200"/>
            </a:xfrm>
          </p:grpSpPr>
          <p:sp>
            <p:nvSpPr>
              <p:cNvPr id="1683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Create temporary String object containing the substr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5" name=""/>
            <p:cNvGrpSpPr/>
            <p:nvPr/>
          </p:nvGrpSpPr>
          <p:grpSpPr>
            <a:xfrm>
              <a:off x="0" y="3214800"/>
              <a:ext cx="6780960" cy="214200"/>
              <a:chOff x="0" y="3214800"/>
              <a:chExt cx="6780960" cy="214200"/>
            </a:xfrm>
          </p:grpSpPr>
          <p:sp>
            <p:nvSpPr>
              <p:cNvPr id="1686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String tempString( tempPtr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8" name=""/>
            <p:cNvGrpSpPr/>
            <p:nvPr/>
          </p:nvGrpSpPr>
          <p:grpSpPr>
            <a:xfrm>
              <a:off x="0" y="3429000"/>
              <a:ext cx="6780960" cy="214200"/>
              <a:chOff x="0" y="3429000"/>
              <a:chExt cx="6780960" cy="214200"/>
            </a:xfrm>
          </p:grpSpPr>
          <p:sp>
            <p:nvSpPr>
              <p:cNvPr id="1689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dele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[] tempPtr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delete the temporary arr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1" name=""/>
            <p:cNvGrpSpPr/>
            <p:nvPr/>
          </p:nvGrpSpPr>
          <p:grpSpPr>
            <a:xfrm>
              <a:off x="0" y="3643200"/>
              <a:ext cx="6780960" cy="214200"/>
              <a:chOff x="0" y="3643200"/>
              <a:chExt cx="6780960" cy="214200"/>
            </a:xfrm>
          </p:grpSpPr>
          <p:sp>
            <p:nvSpPr>
              <p:cNvPr id="1692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4" name=""/>
            <p:cNvGrpSpPr/>
            <p:nvPr/>
          </p:nvGrpSpPr>
          <p:grpSpPr>
            <a:xfrm>
              <a:off x="0" y="3857400"/>
              <a:ext cx="6780960" cy="214200"/>
              <a:chOff x="0" y="3857400"/>
              <a:chExt cx="6780960" cy="214200"/>
            </a:xfrm>
          </p:grpSpPr>
          <p:sp>
            <p:nvSpPr>
              <p:cNvPr id="1695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tempString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return copy of the temporary Str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7" name=""/>
            <p:cNvGrpSpPr/>
            <p:nvPr/>
          </p:nvGrpSpPr>
          <p:grpSpPr>
            <a:xfrm>
              <a:off x="0" y="4071960"/>
              <a:ext cx="6780960" cy="214200"/>
              <a:chOff x="0" y="4071960"/>
              <a:chExt cx="6780960" cy="214200"/>
            </a:xfrm>
          </p:grpSpPr>
          <p:sp>
            <p:nvSpPr>
              <p:cNvPr id="1698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0" name=""/>
            <p:cNvGrpSpPr/>
            <p:nvPr/>
          </p:nvGrpSpPr>
          <p:grpSpPr>
            <a:xfrm>
              <a:off x="0" y="4286160"/>
              <a:ext cx="6780960" cy="214200"/>
              <a:chOff x="0" y="4286160"/>
              <a:chExt cx="6780960" cy="214200"/>
            </a:xfrm>
          </p:grpSpPr>
          <p:sp>
            <p:nvSpPr>
              <p:cNvPr id="1701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3" name=""/>
            <p:cNvGrpSpPr/>
            <p:nvPr/>
          </p:nvGrpSpPr>
          <p:grpSpPr>
            <a:xfrm>
              <a:off x="0" y="4500360"/>
              <a:ext cx="6780960" cy="214200"/>
              <a:chOff x="0" y="4500360"/>
              <a:chExt cx="6780960" cy="214200"/>
            </a:xfrm>
          </p:grpSpPr>
          <p:sp>
            <p:nvSpPr>
              <p:cNvPr id="1704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Return string lengt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6" name=""/>
            <p:cNvGrpSpPr/>
            <p:nvPr/>
          </p:nvGrpSpPr>
          <p:grpSpPr>
            <a:xfrm>
              <a:off x="0" y="4714920"/>
              <a:ext cx="6780960" cy="214200"/>
              <a:chOff x="0" y="4714920"/>
              <a:chExt cx="6780960" cy="214200"/>
            </a:xfrm>
          </p:grpSpPr>
          <p:sp>
            <p:nvSpPr>
              <p:cNvPr id="1707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ing::getLength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length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9" name=""/>
            <p:cNvGrpSpPr/>
            <p:nvPr/>
          </p:nvGrpSpPr>
          <p:grpSpPr>
            <a:xfrm>
              <a:off x="0" y="4929120"/>
              <a:ext cx="6780960" cy="214200"/>
              <a:chOff x="0" y="4929120"/>
              <a:chExt cx="6780960" cy="214200"/>
            </a:xfrm>
          </p:grpSpPr>
          <p:sp>
            <p:nvSpPr>
              <p:cNvPr id="1710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2" name=""/>
            <p:cNvGrpSpPr/>
            <p:nvPr/>
          </p:nvGrpSpPr>
          <p:grpSpPr>
            <a:xfrm>
              <a:off x="0" y="5143320"/>
              <a:ext cx="6780960" cy="214200"/>
              <a:chOff x="0" y="5143320"/>
              <a:chExt cx="6780960" cy="214200"/>
            </a:xfrm>
          </p:grpSpPr>
          <p:sp>
            <p:nvSpPr>
              <p:cNvPr id="1713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Utility function to be called by constructors and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5" name=""/>
            <p:cNvGrpSpPr/>
            <p:nvPr/>
          </p:nvGrpSpPr>
          <p:grpSpPr>
            <a:xfrm>
              <a:off x="0" y="5357880"/>
              <a:ext cx="6780960" cy="214200"/>
              <a:chOff x="0" y="5357880"/>
              <a:chExt cx="6780960" cy="214200"/>
            </a:xfrm>
          </p:grpSpPr>
          <p:sp>
            <p:nvSpPr>
              <p:cNvPr id="1716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assignment operator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8" name=""/>
            <p:cNvGrpSpPr/>
            <p:nvPr/>
          </p:nvGrpSpPr>
          <p:grpSpPr>
            <a:xfrm>
              <a:off x="0" y="5572080"/>
              <a:ext cx="6780960" cy="214200"/>
              <a:chOff x="0" y="5572080"/>
              <a:chExt cx="6780960" cy="214200"/>
            </a:xfrm>
          </p:grpSpPr>
          <p:sp>
            <p:nvSpPr>
              <p:cNvPr id="1719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ing::setString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string2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1" name=""/>
            <p:cNvGrpSpPr/>
            <p:nvPr/>
          </p:nvGrpSpPr>
          <p:grpSpPr>
            <a:xfrm>
              <a:off x="0" y="5786280"/>
              <a:ext cx="6780960" cy="214200"/>
              <a:chOff x="0" y="5786280"/>
              <a:chExt cx="6780960" cy="214200"/>
            </a:xfrm>
          </p:grpSpPr>
          <p:sp>
            <p:nvSpPr>
              <p:cNvPr id="1722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4" name=""/>
            <p:cNvGrpSpPr/>
            <p:nvPr/>
          </p:nvGrpSpPr>
          <p:grpSpPr>
            <a:xfrm>
              <a:off x="0" y="6000840"/>
              <a:ext cx="6780960" cy="214200"/>
              <a:chOff x="0" y="6000840"/>
              <a:chExt cx="6780960" cy="214200"/>
            </a:xfrm>
          </p:grpSpPr>
          <p:sp>
            <p:nvSpPr>
              <p:cNvPr id="1725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sPtr = new char[ length + 1 ]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allocate storag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7" name=""/>
            <p:cNvGrpSpPr/>
            <p:nvPr/>
          </p:nvGrpSpPr>
          <p:grpSpPr>
            <a:xfrm>
              <a:off x="0" y="6215040"/>
              <a:ext cx="6780960" cy="214200"/>
              <a:chOff x="0" y="6215040"/>
              <a:chExt cx="6780960" cy="214200"/>
            </a:xfrm>
          </p:grpSpPr>
          <p:sp>
            <p:nvSpPr>
              <p:cNvPr id="1728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assert( sPtr != 0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terminate if memory not alloca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0" name=""/>
            <p:cNvGrpSpPr/>
            <p:nvPr/>
          </p:nvGrpSpPr>
          <p:grpSpPr>
            <a:xfrm>
              <a:off x="0" y="6429240"/>
              <a:ext cx="6780960" cy="214200"/>
              <a:chOff x="0" y="6429240"/>
              <a:chExt cx="6780960" cy="214200"/>
            </a:xfrm>
          </p:grpSpPr>
          <p:sp>
            <p:nvSpPr>
              <p:cNvPr id="1731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strcpy( sPtr, string2 );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opy literal to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3" name=""/>
            <p:cNvGrpSpPr/>
            <p:nvPr/>
          </p:nvGrpSpPr>
          <p:grpSpPr>
            <a:xfrm>
              <a:off x="0" y="6643800"/>
              <a:ext cx="6780960" cy="214200"/>
              <a:chOff x="0" y="6643800"/>
              <a:chExt cx="6780960" cy="214200"/>
            </a:xfrm>
          </p:grpSpPr>
          <p:sp>
            <p:nvSpPr>
              <p:cNvPr id="1734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1CBE8-3EF5-4A35-997D-CDE6A2D3642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5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rator&lt;&lt;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(outpu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6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rator&gt;&gt;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(inpu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-----------------------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Initialize objec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737" name=""/>
          <p:cNvGrpSpPr/>
          <p:nvPr/>
        </p:nvGrpSpPr>
        <p:grpSpPr>
          <a:xfrm>
            <a:off x="0" y="0"/>
            <a:ext cx="6780960" cy="3809880"/>
            <a:chOff x="0" y="0"/>
            <a:chExt cx="6780960" cy="3809880"/>
          </a:xfrm>
        </p:grpSpPr>
        <p:grpSp>
          <p:nvGrpSpPr>
            <p:cNvPr id="1738" name=""/>
            <p:cNvGrpSpPr/>
            <p:nvPr/>
          </p:nvGrpSpPr>
          <p:grpSpPr>
            <a:xfrm>
              <a:off x="0" y="0"/>
              <a:ext cx="6780960" cy="223920"/>
              <a:chOff x="0" y="0"/>
              <a:chExt cx="6780960" cy="223920"/>
            </a:xfrm>
          </p:grpSpPr>
          <p:sp>
            <p:nvSpPr>
              <p:cNvPr id="1739" name=""/>
              <p:cNvSpPr/>
              <p:nvPr/>
            </p:nvSpPr>
            <p:spPr>
              <a:xfrm>
                <a:off x="0" y="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0" y="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1" name=""/>
            <p:cNvGrpSpPr/>
            <p:nvPr/>
          </p:nvGrpSpPr>
          <p:grpSpPr>
            <a:xfrm>
              <a:off x="0" y="223920"/>
              <a:ext cx="6780960" cy="223920"/>
              <a:chOff x="0" y="223920"/>
              <a:chExt cx="6780960" cy="223920"/>
            </a:xfrm>
          </p:grpSpPr>
          <p:sp>
            <p:nvSpPr>
              <p:cNvPr id="1742" name=""/>
              <p:cNvSpPr/>
              <p:nvPr/>
            </p:nvSpPr>
            <p:spPr>
              <a:xfrm>
                <a:off x="0" y="22392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0" y="22392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Overloaded output opera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4" name=""/>
            <p:cNvGrpSpPr/>
            <p:nvPr/>
          </p:nvGrpSpPr>
          <p:grpSpPr>
            <a:xfrm>
              <a:off x="0" y="447840"/>
              <a:ext cx="6780960" cy="223920"/>
              <a:chOff x="0" y="447840"/>
              <a:chExt cx="6780960" cy="223920"/>
            </a:xfrm>
          </p:grpSpPr>
          <p:sp>
            <p:nvSpPr>
              <p:cNvPr id="1745" name=""/>
              <p:cNvSpPr/>
              <p:nvPr/>
            </p:nvSpPr>
            <p:spPr>
              <a:xfrm>
                <a:off x="0" y="44784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0" y="44784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ostream &amp;operator&lt;&lt;( ostream &amp;outpu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ing &amp;s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7" name=""/>
            <p:cNvGrpSpPr/>
            <p:nvPr/>
          </p:nvGrpSpPr>
          <p:grpSpPr>
            <a:xfrm>
              <a:off x="0" y="672120"/>
              <a:ext cx="6780960" cy="223920"/>
              <a:chOff x="0" y="672120"/>
              <a:chExt cx="6780960" cy="223920"/>
            </a:xfrm>
          </p:grpSpPr>
          <p:sp>
            <p:nvSpPr>
              <p:cNvPr id="1748" name=""/>
              <p:cNvSpPr/>
              <p:nvPr/>
            </p:nvSpPr>
            <p:spPr>
              <a:xfrm>
                <a:off x="0" y="67212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0" y="67212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0" name=""/>
            <p:cNvGrpSpPr/>
            <p:nvPr/>
          </p:nvGrpSpPr>
          <p:grpSpPr>
            <a:xfrm>
              <a:off x="0" y="896400"/>
              <a:ext cx="6780960" cy="223920"/>
              <a:chOff x="0" y="896400"/>
              <a:chExt cx="6780960" cy="223920"/>
            </a:xfrm>
          </p:grpSpPr>
          <p:sp>
            <p:nvSpPr>
              <p:cNvPr id="1751" name=""/>
              <p:cNvSpPr/>
              <p:nvPr/>
            </p:nvSpPr>
            <p:spPr>
              <a:xfrm>
                <a:off x="0" y="89640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0" y="89640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output &lt;&lt; s.sPt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3" name=""/>
            <p:cNvGrpSpPr/>
            <p:nvPr/>
          </p:nvGrpSpPr>
          <p:grpSpPr>
            <a:xfrm>
              <a:off x="0" y="1120320"/>
              <a:ext cx="6780960" cy="223920"/>
              <a:chOff x="0" y="1120320"/>
              <a:chExt cx="6780960" cy="223920"/>
            </a:xfrm>
          </p:grpSpPr>
          <p:sp>
            <p:nvSpPr>
              <p:cNvPr id="1754" name=""/>
              <p:cNvSpPr/>
              <p:nvPr/>
            </p:nvSpPr>
            <p:spPr>
              <a:xfrm>
                <a:off x="0" y="112032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0" y="112032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output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enables casca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6" name=""/>
            <p:cNvGrpSpPr/>
            <p:nvPr/>
          </p:nvGrpSpPr>
          <p:grpSpPr>
            <a:xfrm>
              <a:off x="0" y="1344600"/>
              <a:ext cx="6780960" cy="223920"/>
              <a:chOff x="0" y="1344600"/>
              <a:chExt cx="6780960" cy="223920"/>
            </a:xfrm>
          </p:grpSpPr>
          <p:sp>
            <p:nvSpPr>
              <p:cNvPr id="1757" name=""/>
              <p:cNvSpPr/>
              <p:nvPr/>
            </p:nvSpPr>
            <p:spPr>
              <a:xfrm>
                <a:off x="0" y="134460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0" y="134460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9" name=""/>
            <p:cNvGrpSpPr/>
            <p:nvPr/>
          </p:nvGrpSpPr>
          <p:grpSpPr>
            <a:xfrm>
              <a:off x="0" y="1568880"/>
              <a:ext cx="6780960" cy="223920"/>
              <a:chOff x="0" y="1568880"/>
              <a:chExt cx="6780960" cy="223920"/>
            </a:xfrm>
          </p:grpSpPr>
          <p:sp>
            <p:nvSpPr>
              <p:cNvPr id="1760" name=""/>
              <p:cNvSpPr/>
              <p:nvPr/>
            </p:nvSpPr>
            <p:spPr>
              <a:xfrm>
                <a:off x="0" y="156888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0" y="156888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2" name=""/>
            <p:cNvGrpSpPr/>
            <p:nvPr/>
          </p:nvGrpSpPr>
          <p:grpSpPr>
            <a:xfrm>
              <a:off x="0" y="1792800"/>
              <a:ext cx="6780960" cy="223920"/>
              <a:chOff x="0" y="1792800"/>
              <a:chExt cx="6780960" cy="223920"/>
            </a:xfrm>
          </p:grpSpPr>
          <p:sp>
            <p:nvSpPr>
              <p:cNvPr id="1763" name=""/>
              <p:cNvSpPr/>
              <p:nvPr/>
            </p:nvSpPr>
            <p:spPr>
              <a:xfrm>
                <a:off x="0" y="179280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0" y="179280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Overloaded input opera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5" name=""/>
            <p:cNvGrpSpPr/>
            <p:nvPr/>
          </p:nvGrpSpPr>
          <p:grpSpPr>
            <a:xfrm>
              <a:off x="0" y="2017080"/>
              <a:ext cx="6780960" cy="223920"/>
              <a:chOff x="0" y="2017080"/>
              <a:chExt cx="6780960" cy="223920"/>
            </a:xfrm>
          </p:grpSpPr>
          <p:sp>
            <p:nvSpPr>
              <p:cNvPr id="1766" name=""/>
              <p:cNvSpPr/>
              <p:nvPr/>
            </p:nvSpPr>
            <p:spPr>
              <a:xfrm>
                <a:off x="0" y="201708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0" y="201708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istream &amp;operator&gt;&gt;( istream &amp;input, String &amp;s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8" name=""/>
            <p:cNvGrpSpPr/>
            <p:nvPr/>
          </p:nvGrpSpPr>
          <p:grpSpPr>
            <a:xfrm>
              <a:off x="0" y="2241000"/>
              <a:ext cx="6780960" cy="223920"/>
              <a:chOff x="0" y="2241000"/>
              <a:chExt cx="6780960" cy="223920"/>
            </a:xfrm>
          </p:grpSpPr>
          <p:sp>
            <p:nvSpPr>
              <p:cNvPr id="1769" name=""/>
              <p:cNvSpPr/>
              <p:nvPr/>
            </p:nvSpPr>
            <p:spPr>
              <a:xfrm>
                <a:off x="0" y="224100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0" y="224100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1" name=""/>
            <p:cNvGrpSpPr/>
            <p:nvPr/>
          </p:nvGrpSpPr>
          <p:grpSpPr>
            <a:xfrm>
              <a:off x="0" y="2465280"/>
              <a:ext cx="6780960" cy="223920"/>
              <a:chOff x="0" y="2465280"/>
              <a:chExt cx="6780960" cy="223920"/>
            </a:xfrm>
          </p:grpSpPr>
          <p:sp>
            <p:nvSpPr>
              <p:cNvPr id="1772" name=""/>
              <p:cNvSpPr/>
              <p:nvPr/>
            </p:nvSpPr>
            <p:spPr>
              <a:xfrm>
                <a:off x="0" y="246528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0" y="246528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temp[ 100 ]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buffer to store inpu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4" name=""/>
            <p:cNvGrpSpPr/>
            <p:nvPr/>
          </p:nvGrpSpPr>
          <p:grpSpPr>
            <a:xfrm>
              <a:off x="0" y="2689200"/>
              <a:ext cx="6780960" cy="223920"/>
              <a:chOff x="0" y="2689200"/>
              <a:chExt cx="6780960" cy="223920"/>
            </a:xfrm>
          </p:grpSpPr>
          <p:sp>
            <p:nvSpPr>
              <p:cNvPr id="1775" name=""/>
              <p:cNvSpPr/>
              <p:nvPr/>
            </p:nvSpPr>
            <p:spPr>
              <a:xfrm>
                <a:off x="0" y="268920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0" y="268920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7" name=""/>
            <p:cNvGrpSpPr/>
            <p:nvPr/>
          </p:nvGrpSpPr>
          <p:grpSpPr>
            <a:xfrm>
              <a:off x="0" y="2913480"/>
              <a:ext cx="6780960" cy="223920"/>
              <a:chOff x="0" y="2913480"/>
              <a:chExt cx="6780960" cy="223920"/>
            </a:xfrm>
          </p:grpSpPr>
          <p:sp>
            <p:nvSpPr>
              <p:cNvPr id="1778" name=""/>
              <p:cNvSpPr/>
              <p:nvPr/>
            </p:nvSpPr>
            <p:spPr>
              <a:xfrm>
                <a:off x="0" y="291348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0" y="291348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input &gt;&gt; setw( 100 ) &gt;&gt; temp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0" name=""/>
            <p:cNvGrpSpPr/>
            <p:nvPr/>
          </p:nvGrpSpPr>
          <p:grpSpPr>
            <a:xfrm>
              <a:off x="0" y="3137400"/>
              <a:ext cx="6780960" cy="223920"/>
              <a:chOff x="0" y="3137400"/>
              <a:chExt cx="6780960" cy="223920"/>
            </a:xfrm>
          </p:grpSpPr>
          <p:sp>
            <p:nvSpPr>
              <p:cNvPr id="1781" name=""/>
              <p:cNvSpPr/>
              <p:nvPr/>
            </p:nvSpPr>
            <p:spPr>
              <a:xfrm>
                <a:off x="0" y="313740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0" y="313740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s = temp;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use String class assignment opera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3" name=""/>
            <p:cNvGrpSpPr/>
            <p:nvPr/>
          </p:nvGrpSpPr>
          <p:grpSpPr>
            <a:xfrm>
              <a:off x="0" y="3361680"/>
              <a:ext cx="6780960" cy="223920"/>
              <a:chOff x="0" y="3361680"/>
              <a:chExt cx="6780960" cy="223920"/>
            </a:xfrm>
          </p:grpSpPr>
          <p:sp>
            <p:nvSpPr>
              <p:cNvPr id="1784" name=""/>
              <p:cNvSpPr/>
              <p:nvPr/>
            </p:nvSpPr>
            <p:spPr>
              <a:xfrm>
                <a:off x="0" y="336168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0" y="336168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input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enables casca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6" name=""/>
            <p:cNvGrpSpPr/>
            <p:nvPr/>
          </p:nvGrpSpPr>
          <p:grpSpPr>
            <a:xfrm>
              <a:off x="0" y="3585960"/>
              <a:ext cx="6780960" cy="223920"/>
              <a:chOff x="0" y="3585960"/>
              <a:chExt cx="6780960" cy="223920"/>
            </a:xfrm>
          </p:grpSpPr>
          <p:sp>
            <p:nvSpPr>
              <p:cNvPr id="1787" name=""/>
              <p:cNvSpPr/>
              <p:nvPr/>
            </p:nvSpPr>
            <p:spPr>
              <a:xfrm>
                <a:off x="0" y="3585960"/>
                <a:ext cx="6780960" cy="223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88" name=""/>
              <p:cNvGrpSpPr/>
              <p:nvPr/>
            </p:nvGrpSpPr>
            <p:grpSpPr>
              <a:xfrm>
                <a:off x="0" y="3585960"/>
                <a:ext cx="6780600" cy="223920"/>
                <a:chOff x="0" y="3585960"/>
                <a:chExt cx="6780600" cy="223920"/>
              </a:xfrm>
            </p:grpSpPr>
            <p:sp>
              <p:nvSpPr>
                <p:cNvPr id="1789" name=""/>
                <p:cNvSpPr/>
                <p:nvPr/>
              </p:nvSpPr>
              <p:spPr>
                <a:xfrm>
                  <a:off x="0" y="3585960"/>
                  <a:ext cx="6780600" cy="2239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0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0" name=""/>
                <p:cNvSpPr/>
                <p:nvPr/>
              </p:nvSpPr>
              <p:spPr>
                <a:xfrm>
                  <a:off x="0" y="3585960"/>
                  <a:ext cx="6780600" cy="22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791" name=""/>
          <p:cNvGrpSpPr/>
          <p:nvPr/>
        </p:nvGrpSpPr>
        <p:grpSpPr>
          <a:xfrm>
            <a:off x="0" y="3809880"/>
            <a:ext cx="6780960" cy="3048120"/>
            <a:chOff x="0" y="3809880"/>
            <a:chExt cx="6780960" cy="3048120"/>
          </a:xfrm>
        </p:grpSpPr>
        <p:grpSp>
          <p:nvGrpSpPr>
            <p:cNvPr id="1792" name=""/>
            <p:cNvGrpSpPr/>
            <p:nvPr/>
          </p:nvGrpSpPr>
          <p:grpSpPr>
            <a:xfrm>
              <a:off x="0" y="3809880"/>
              <a:ext cx="6780960" cy="234360"/>
              <a:chOff x="0" y="3809880"/>
              <a:chExt cx="6780960" cy="234360"/>
            </a:xfrm>
          </p:grpSpPr>
          <p:sp>
            <p:nvSpPr>
              <p:cNvPr id="1793" name=""/>
              <p:cNvSpPr/>
              <p:nvPr/>
            </p:nvSpPr>
            <p:spPr>
              <a:xfrm>
                <a:off x="0" y="3809880"/>
                <a:ext cx="6780960" cy="234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0" y="3809880"/>
                <a:ext cx="6780960" cy="234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Fig. 8.5: fig08_05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5" name=""/>
            <p:cNvGrpSpPr/>
            <p:nvPr/>
          </p:nvGrpSpPr>
          <p:grpSpPr>
            <a:xfrm>
              <a:off x="0" y="4044240"/>
              <a:ext cx="6780960" cy="234360"/>
              <a:chOff x="0" y="4044240"/>
              <a:chExt cx="6780960" cy="234360"/>
            </a:xfrm>
          </p:grpSpPr>
          <p:sp>
            <p:nvSpPr>
              <p:cNvPr id="1796" name=""/>
              <p:cNvSpPr/>
              <p:nvPr/>
            </p:nvSpPr>
            <p:spPr>
              <a:xfrm>
                <a:off x="0" y="4044240"/>
                <a:ext cx="6780960" cy="234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0" y="4044240"/>
                <a:ext cx="6780960" cy="234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Driver for class Str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8" name=""/>
            <p:cNvGrpSpPr/>
            <p:nvPr/>
          </p:nvGrpSpPr>
          <p:grpSpPr>
            <a:xfrm>
              <a:off x="0" y="4278600"/>
              <a:ext cx="6780960" cy="234360"/>
              <a:chOff x="0" y="4278600"/>
              <a:chExt cx="6780960" cy="234360"/>
            </a:xfrm>
          </p:grpSpPr>
          <p:sp>
            <p:nvSpPr>
              <p:cNvPr id="1799" name=""/>
              <p:cNvSpPr/>
              <p:nvPr/>
            </p:nvSpPr>
            <p:spPr>
              <a:xfrm>
                <a:off x="0" y="4278600"/>
                <a:ext cx="6780960" cy="234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0" y="4278600"/>
                <a:ext cx="6780960" cy="234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1" name=""/>
            <p:cNvGrpSpPr/>
            <p:nvPr/>
          </p:nvGrpSpPr>
          <p:grpSpPr>
            <a:xfrm>
              <a:off x="0" y="4513320"/>
              <a:ext cx="6780960" cy="234360"/>
              <a:chOff x="0" y="4513320"/>
              <a:chExt cx="6780960" cy="234360"/>
            </a:xfrm>
          </p:grpSpPr>
          <p:sp>
            <p:nvSpPr>
              <p:cNvPr id="1802" name=""/>
              <p:cNvSpPr/>
              <p:nvPr/>
            </p:nvSpPr>
            <p:spPr>
              <a:xfrm>
                <a:off x="0" y="4513320"/>
                <a:ext cx="6780960" cy="234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0" y="4513320"/>
                <a:ext cx="6780960" cy="234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4" name=""/>
            <p:cNvGrpSpPr/>
            <p:nvPr/>
          </p:nvGrpSpPr>
          <p:grpSpPr>
            <a:xfrm>
              <a:off x="0" y="4747680"/>
              <a:ext cx="6780960" cy="234360"/>
              <a:chOff x="0" y="4747680"/>
              <a:chExt cx="6780960" cy="234360"/>
            </a:xfrm>
          </p:grpSpPr>
          <p:sp>
            <p:nvSpPr>
              <p:cNvPr id="1805" name=""/>
              <p:cNvSpPr/>
              <p:nvPr/>
            </p:nvSpPr>
            <p:spPr>
              <a:xfrm>
                <a:off x="0" y="4747680"/>
                <a:ext cx="6780960" cy="234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0" y="4747680"/>
                <a:ext cx="6780960" cy="234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7" name=""/>
            <p:cNvGrpSpPr/>
            <p:nvPr/>
          </p:nvGrpSpPr>
          <p:grpSpPr>
            <a:xfrm>
              <a:off x="0" y="4982040"/>
              <a:ext cx="6780960" cy="234360"/>
              <a:chOff x="0" y="4982040"/>
              <a:chExt cx="6780960" cy="234360"/>
            </a:xfrm>
          </p:grpSpPr>
          <p:sp>
            <p:nvSpPr>
              <p:cNvPr id="1808" name=""/>
              <p:cNvSpPr/>
              <p:nvPr/>
            </p:nvSpPr>
            <p:spPr>
              <a:xfrm>
                <a:off x="0" y="4982040"/>
                <a:ext cx="6780960" cy="234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0" y="4982040"/>
                <a:ext cx="6780960" cy="234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0" name=""/>
            <p:cNvGrpSpPr/>
            <p:nvPr/>
          </p:nvGrpSpPr>
          <p:grpSpPr>
            <a:xfrm>
              <a:off x="0" y="5216400"/>
              <a:ext cx="6780960" cy="234360"/>
              <a:chOff x="0" y="5216400"/>
              <a:chExt cx="6780960" cy="234360"/>
            </a:xfrm>
          </p:grpSpPr>
          <p:sp>
            <p:nvSpPr>
              <p:cNvPr id="1811" name=""/>
              <p:cNvSpPr/>
              <p:nvPr/>
            </p:nvSpPr>
            <p:spPr>
              <a:xfrm>
                <a:off x="0" y="5216400"/>
                <a:ext cx="6780960" cy="234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0" y="5216400"/>
                <a:ext cx="6780960" cy="234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3" name=""/>
            <p:cNvGrpSpPr/>
            <p:nvPr/>
          </p:nvGrpSpPr>
          <p:grpSpPr>
            <a:xfrm>
              <a:off x="0" y="5451120"/>
              <a:ext cx="6780960" cy="234360"/>
              <a:chOff x="0" y="5451120"/>
              <a:chExt cx="6780960" cy="234360"/>
            </a:xfrm>
          </p:grpSpPr>
          <p:sp>
            <p:nvSpPr>
              <p:cNvPr id="1814" name=""/>
              <p:cNvSpPr/>
              <p:nvPr/>
            </p:nvSpPr>
            <p:spPr>
              <a:xfrm>
                <a:off x="0" y="5451120"/>
                <a:ext cx="6780960" cy="234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0" y="5451120"/>
                <a:ext cx="6780960" cy="234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"string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6" name=""/>
            <p:cNvGrpSpPr/>
            <p:nvPr/>
          </p:nvGrpSpPr>
          <p:grpSpPr>
            <a:xfrm>
              <a:off x="0" y="5685480"/>
              <a:ext cx="6780960" cy="234360"/>
              <a:chOff x="0" y="5685480"/>
              <a:chExt cx="6780960" cy="234360"/>
            </a:xfrm>
          </p:grpSpPr>
          <p:sp>
            <p:nvSpPr>
              <p:cNvPr id="1817" name=""/>
              <p:cNvSpPr/>
              <p:nvPr/>
            </p:nvSpPr>
            <p:spPr>
              <a:xfrm>
                <a:off x="0" y="5685480"/>
                <a:ext cx="6780960" cy="234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0" y="5685480"/>
                <a:ext cx="6780960" cy="234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9" name=""/>
            <p:cNvGrpSpPr/>
            <p:nvPr/>
          </p:nvGrpSpPr>
          <p:grpSpPr>
            <a:xfrm>
              <a:off x="0" y="5920200"/>
              <a:ext cx="6780960" cy="234360"/>
              <a:chOff x="0" y="5920200"/>
              <a:chExt cx="6780960" cy="234360"/>
            </a:xfrm>
          </p:grpSpPr>
          <p:sp>
            <p:nvSpPr>
              <p:cNvPr id="1820" name=""/>
              <p:cNvSpPr/>
              <p:nvPr/>
            </p:nvSpPr>
            <p:spPr>
              <a:xfrm>
                <a:off x="0" y="5920200"/>
                <a:ext cx="6780960" cy="234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0" y="5920200"/>
                <a:ext cx="6780960" cy="234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2" name=""/>
            <p:cNvGrpSpPr/>
            <p:nvPr/>
          </p:nvGrpSpPr>
          <p:grpSpPr>
            <a:xfrm>
              <a:off x="0" y="6154560"/>
              <a:ext cx="6780960" cy="234360"/>
              <a:chOff x="0" y="6154560"/>
              <a:chExt cx="6780960" cy="234360"/>
            </a:xfrm>
          </p:grpSpPr>
          <p:sp>
            <p:nvSpPr>
              <p:cNvPr id="1823" name=""/>
              <p:cNvSpPr/>
              <p:nvPr/>
            </p:nvSpPr>
            <p:spPr>
              <a:xfrm>
                <a:off x="0" y="6154560"/>
                <a:ext cx="6780960" cy="234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0" y="6154560"/>
                <a:ext cx="6780960" cy="234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5" name=""/>
            <p:cNvGrpSpPr/>
            <p:nvPr/>
          </p:nvGrpSpPr>
          <p:grpSpPr>
            <a:xfrm>
              <a:off x="0" y="6389280"/>
              <a:ext cx="6780960" cy="234360"/>
              <a:chOff x="0" y="6389280"/>
              <a:chExt cx="6780960" cy="234360"/>
            </a:xfrm>
          </p:grpSpPr>
          <p:sp>
            <p:nvSpPr>
              <p:cNvPr id="1826" name=""/>
              <p:cNvSpPr/>
              <p:nvPr/>
            </p:nvSpPr>
            <p:spPr>
              <a:xfrm>
                <a:off x="0" y="6389280"/>
                <a:ext cx="6780960" cy="234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0" y="6389280"/>
                <a:ext cx="6780960" cy="234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String s1( "happy" ), s2( " birthday" ), s3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8" name=""/>
            <p:cNvGrpSpPr/>
            <p:nvPr/>
          </p:nvGrpSpPr>
          <p:grpSpPr>
            <a:xfrm>
              <a:off x="0" y="6623640"/>
              <a:ext cx="6780960" cy="234360"/>
              <a:chOff x="0" y="6623640"/>
              <a:chExt cx="6780960" cy="234360"/>
            </a:xfrm>
          </p:grpSpPr>
          <p:sp>
            <p:nvSpPr>
              <p:cNvPr id="1829" name=""/>
              <p:cNvSpPr/>
              <p:nvPr/>
            </p:nvSpPr>
            <p:spPr>
              <a:xfrm>
                <a:off x="0" y="6623640"/>
                <a:ext cx="6780960" cy="234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0" y="6623640"/>
                <a:ext cx="6780960" cy="234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31" name=""/>
          <p:cNvGrpSpPr/>
          <p:nvPr/>
        </p:nvGrpSpPr>
        <p:grpSpPr>
          <a:xfrm>
            <a:off x="2895480" y="5334120"/>
            <a:ext cx="5105520" cy="990360"/>
            <a:chOff x="2895480" y="5334120"/>
            <a:chExt cx="5105520" cy="990360"/>
          </a:xfrm>
        </p:grpSpPr>
        <p:sp>
          <p:nvSpPr>
            <p:cNvPr id="1832" name=""/>
            <p:cNvSpPr/>
            <p:nvPr/>
          </p:nvSpPr>
          <p:spPr>
            <a:xfrm>
              <a:off x="3429000" y="5334120"/>
              <a:ext cx="4572000" cy="832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onversion constructor: happ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onversion constructor:  birthd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onversion constructor: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 flipH="1">
              <a:off x="2895480" y="5791320"/>
              <a:ext cx="5335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35593-460C-4EBC-9C79-17EC9A7FD5B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835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836" name=""/>
            <p:cNvGrpSpPr/>
            <p:nvPr/>
          </p:nvGrpSpPr>
          <p:grpSpPr>
            <a:xfrm>
              <a:off x="0" y="0"/>
              <a:ext cx="6780960" cy="207720"/>
              <a:chOff x="0" y="0"/>
              <a:chExt cx="6780960" cy="207720"/>
            </a:xfrm>
          </p:grpSpPr>
          <p:sp>
            <p:nvSpPr>
              <p:cNvPr id="1837" name="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test overloaded equality and relational operator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9" name=""/>
            <p:cNvGrpSpPr/>
            <p:nvPr/>
          </p:nvGrpSpPr>
          <p:grpSpPr>
            <a:xfrm>
              <a:off x="0" y="207720"/>
              <a:ext cx="6780960" cy="207720"/>
              <a:chOff x="0" y="207720"/>
              <a:chExt cx="6780960" cy="207720"/>
            </a:xfrm>
          </p:grpSpPr>
          <p:sp>
            <p:nvSpPr>
              <p:cNvPr id="1840" name="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s1 is \"" &lt;&lt; s1 &lt;&lt; "\"; s2 is \"" &lt;&lt; s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2" name=""/>
            <p:cNvGrpSpPr/>
            <p:nvPr/>
          </p:nvGrpSpPr>
          <p:grpSpPr>
            <a:xfrm>
              <a:off x="0" y="415440"/>
              <a:ext cx="6780960" cy="207720"/>
              <a:chOff x="0" y="415440"/>
              <a:chExt cx="6780960" cy="207720"/>
            </a:xfrm>
          </p:grpSpPr>
          <p:sp>
            <p:nvSpPr>
              <p:cNvPr id="1843" name="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\"; s3 is \"" &lt;&lt; s3 &lt;&lt; '\"'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5" name=""/>
            <p:cNvGrpSpPr/>
            <p:nvPr/>
          </p:nvGrpSpPr>
          <p:grpSpPr>
            <a:xfrm>
              <a:off x="0" y="623160"/>
              <a:ext cx="6780960" cy="207720"/>
              <a:chOff x="0" y="623160"/>
              <a:chExt cx="6780960" cy="207720"/>
            </a:xfrm>
          </p:grpSpPr>
          <p:sp>
            <p:nvSpPr>
              <p:cNvPr id="1846" name="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\nThe results of comparing s2 and s1: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8" name=""/>
            <p:cNvGrpSpPr/>
            <p:nvPr/>
          </p:nvGrpSpPr>
          <p:grpSpPr>
            <a:xfrm>
              <a:off x="0" y="831240"/>
              <a:ext cx="6780960" cy="207720"/>
              <a:chOff x="0" y="831240"/>
              <a:chExt cx="6780960" cy="207720"/>
            </a:xfrm>
          </p:grpSpPr>
          <p:sp>
            <p:nvSpPr>
              <p:cNvPr id="1849" name="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\ns2 == s1 yields 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1" name=""/>
            <p:cNvGrpSpPr/>
            <p:nvPr/>
          </p:nvGrpSpPr>
          <p:grpSpPr>
            <a:xfrm>
              <a:off x="0" y="1038960"/>
              <a:ext cx="6780960" cy="207720"/>
              <a:chOff x="0" y="1038960"/>
              <a:chExt cx="6780960" cy="207720"/>
            </a:xfrm>
          </p:grpSpPr>
          <p:sp>
            <p:nvSpPr>
              <p:cNvPr id="1852" name="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( s2 == s1 ? "true" : "false"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4" name=""/>
            <p:cNvGrpSpPr/>
            <p:nvPr/>
          </p:nvGrpSpPr>
          <p:grpSpPr>
            <a:xfrm>
              <a:off x="0" y="1246680"/>
              <a:ext cx="6780960" cy="207720"/>
              <a:chOff x="0" y="1246680"/>
              <a:chExt cx="6780960" cy="207720"/>
            </a:xfrm>
          </p:grpSpPr>
          <p:sp>
            <p:nvSpPr>
              <p:cNvPr id="1855" name="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\ns2 != s1 yields 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7" name=""/>
            <p:cNvGrpSpPr/>
            <p:nvPr/>
          </p:nvGrpSpPr>
          <p:grpSpPr>
            <a:xfrm>
              <a:off x="0" y="1454760"/>
              <a:ext cx="6780960" cy="207720"/>
              <a:chOff x="0" y="1454760"/>
              <a:chExt cx="6780960" cy="207720"/>
            </a:xfrm>
          </p:grpSpPr>
          <p:sp>
            <p:nvSpPr>
              <p:cNvPr id="1858" name=""/>
              <p:cNvSpPr/>
              <p:nvPr/>
            </p:nvSpPr>
            <p:spPr>
              <a:xfrm>
                <a:off x="0" y="1454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0" y="1454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( s2 != s1 ? "true" : "false"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0" name=""/>
            <p:cNvGrpSpPr/>
            <p:nvPr/>
          </p:nvGrpSpPr>
          <p:grpSpPr>
            <a:xfrm>
              <a:off x="0" y="1662480"/>
              <a:ext cx="6780960" cy="207720"/>
              <a:chOff x="0" y="1662480"/>
              <a:chExt cx="6780960" cy="207720"/>
            </a:xfrm>
          </p:grpSpPr>
          <p:sp>
            <p:nvSpPr>
              <p:cNvPr id="1861" name="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\ns2 &gt;  s1 yields 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3" name=""/>
            <p:cNvGrpSpPr/>
            <p:nvPr/>
          </p:nvGrpSpPr>
          <p:grpSpPr>
            <a:xfrm>
              <a:off x="0" y="1870200"/>
              <a:ext cx="6780960" cy="207720"/>
              <a:chOff x="0" y="1870200"/>
              <a:chExt cx="6780960" cy="207720"/>
            </a:xfrm>
          </p:grpSpPr>
          <p:sp>
            <p:nvSpPr>
              <p:cNvPr id="1864" name="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( s2 &gt; s1 ? "true" : "false"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6" name=""/>
            <p:cNvGrpSpPr/>
            <p:nvPr/>
          </p:nvGrpSpPr>
          <p:grpSpPr>
            <a:xfrm>
              <a:off x="0" y="2077920"/>
              <a:ext cx="6780960" cy="207720"/>
              <a:chOff x="0" y="2077920"/>
              <a:chExt cx="6780960" cy="207720"/>
            </a:xfrm>
          </p:grpSpPr>
          <p:sp>
            <p:nvSpPr>
              <p:cNvPr id="1867" name="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\ns2 &lt;  s1 yields 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9" name=""/>
            <p:cNvGrpSpPr/>
            <p:nvPr/>
          </p:nvGrpSpPr>
          <p:grpSpPr>
            <a:xfrm>
              <a:off x="0" y="2286000"/>
              <a:ext cx="6780960" cy="207720"/>
              <a:chOff x="0" y="2286000"/>
              <a:chExt cx="6780960" cy="207720"/>
            </a:xfrm>
          </p:grpSpPr>
          <p:sp>
            <p:nvSpPr>
              <p:cNvPr id="1870" name=""/>
              <p:cNvSpPr/>
              <p:nvPr/>
            </p:nvSpPr>
            <p:spPr>
              <a:xfrm>
                <a:off x="0" y="2286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0" y="2286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( s2 &lt; s1 ? "true" : "false"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2" name=""/>
            <p:cNvGrpSpPr/>
            <p:nvPr/>
          </p:nvGrpSpPr>
          <p:grpSpPr>
            <a:xfrm>
              <a:off x="0" y="2493720"/>
              <a:ext cx="6780960" cy="207720"/>
              <a:chOff x="0" y="2493720"/>
              <a:chExt cx="6780960" cy="207720"/>
            </a:xfrm>
          </p:grpSpPr>
          <p:sp>
            <p:nvSpPr>
              <p:cNvPr id="1873" name="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\ns2 &gt;= s1 yields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5" name=""/>
            <p:cNvGrpSpPr/>
            <p:nvPr/>
          </p:nvGrpSpPr>
          <p:grpSpPr>
            <a:xfrm>
              <a:off x="0" y="2701440"/>
              <a:ext cx="6780960" cy="207720"/>
              <a:chOff x="0" y="2701440"/>
              <a:chExt cx="6780960" cy="207720"/>
            </a:xfrm>
          </p:grpSpPr>
          <p:sp>
            <p:nvSpPr>
              <p:cNvPr id="1876" name="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( s2 &gt;= s1 ? "true" : "false"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8" name=""/>
            <p:cNvGrpSpPr/>
            <p:nvPr/>
          </p:nvGrpSpPr>
          <p:grpSpPr>
            <a:xfrm>
              <a:off x="0" y="2909160"/>
              <a:ext cx="6780960" cy="207720"/>
              <a:chOff x="0" y="2909160"/>
              <a:chExt cx="6780960" cy="207720"/>
            </a:xfrm>
          </p:grpSpPr>
          <p:sp>
            <p:nvSpPr>
              <p:cNvPr id="1879" name="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\ns2 &lt;= s1 yields 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1" name=""/>
            <p:cNvGrpSpPr/>
            <p:nvPr/>
          </p:nvGrpSpPr>
          <p:grpSpPr>
            <a:xfrm>
              <a:off x="0" y="3117240"/>
              <a:ext cx="6780960" cy="207720"/>
              <a:chOff x="0" y="3117240"/>
              <a:chExt cx="6780960" cy="207720"/>
            </a:xfrm>
          </p:grpSpPr>
          <p:sp>
            <p:nvSpPr>
              <p:cNvPr id="1882" name="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( s2 &lt;= s1 ? "true" : "false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4" name=""/>
            <p:cNvGrpSpPr/>
            <p:nvPr/>
          </p:nvGrpSpPr>
          <p:grpSpPr>
            <a:xfrm>
              <a:off x="0" y="3324960"/>
              <a:ext cx="6780960" cy="207720"/>
              <a:chOff x="0" y="3324960"/>
              <a:chExt cx="6780960" cy="207720"/>
            </a:xfrm>
          </p:grpSpPr>
          <p:sp>
            <p:nvSpPr>
              <p:cNvPr id="1885" name="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7" name=""/>
            <p:cNvGrpSpPr/>
            <p:nvPr/>
          </p:nvGrpSpPr>
          <p:grpSpPr>
            <a:xfrm>
              <a:off x="0" y="3532680"/>
              <a:ext cx="6780960" cy="207720"/>
              <a:chOff x="0" y="3532680"/>
              <a:chExt cx="6780960" cy="207720"/>
            </a:xfrm>
          </p:grpSpPr>
          <p:sp>
            <p:nvSpPr>
              <p:cNvPr id="1888" name="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test overloaded String empty (!) opera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0" name=""/>
            <p:cNvGrpSpPr/>
            <p:nvPr/>
          </p:nvGrpSpPr>
          <p:grpSpPr>
            <a:xfrm>
              <a:off x="0" y="3740760"/>
              <a:ext cx="6780960" cy="207720"/>
              <a:chOff x="0" y="3740760"/>
              <a:chExt cx="6780960" cy="207720"/>
            </a:xfrm>
          </p:grpSpPr>
          <p:sp>
            <p:nvSpPr>
              <p:cNvPr id="1891" name="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\n\nTesting !s3: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3" name=""/>
            <p:cNvGrpSpPr/>
            <p:nvPr/>
          </p:nvGrpSpPr>
          <p:grpSpPr>
            <a:xfrm>
              <a:off x="0" y="3948480"/>
              <a:ext cx="6780960" cy="207720"/>
              <a:chOff x="0" y="3948480"/>
              <a:chExt cx="6780960" cy="207720"/>
            </a:xfrm>
          </p:grpSpPr>
          <p:sp>
            <p:nvSpPr>
              <p:cNvPr id="1894" name="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!s3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6" name=""/>
            <p:cNvGrpSpPr/>
            <p:nvPr/>
          </p:nvGrpSpPr>
          <p:grpSpPr>
            <a:xfrm>
              <a:off x="0" y="4156200"/>
              <a:ext cx="6780960" cy="207720"/>
              <a:chOff x="0" y="4156200"/>
              <a:chExt cx="6780960" cy="207720"/>
            </a:xfrm>
          </p:grpSpPr>
          <p:sp>
            <p:nvSpPr>
              <p:cNvPr id="1897" name="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cout &lt;&lt; "s3 is empty; assigning s1 to s3;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9" name=""/>
            <p:cNvGrpSpPr/>
            <p:nvPr/>
          </p:nvGrpSpPr>
          <p:grpSpPr>
            <a:xfrm>
              <a:off x="0" y="4364280"/>
              <a:ext cx="6780960" cy="207720"/>
              <a:chOff x="0" y="4364280"/>
              <a:chExt cx="6780960" cy="207720"/>
            </a:xfrm>
          </p:grpSpPr>
          <p:sp>
            <p:nvSpPr>
              <p:cNvPr id="1900" name="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s3 = s1;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test overloaded assignm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2" name=""/>
            <p:cNvGrpSpPr/>
            <p:nvPr/>
          </p:nvGrpSpPr>
          <p:grpSpPr>
            <a:xfrm>
              <a:off x="0" y="4572000"/>
              <a:ext cx="6780960" cy="207720"/>
              <a:chOff x="0" y="4572000"/>
              <a:chExt cx="6780960" cy="207720"/>
            </a:xfrm>
          </p:grpSpPr>
          <p:sp>
            <p:nvSpPr>
              <p:cNvPr id="1903" name="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cout &lt;&lt; "s3 is \"" &lt;&lt; s3 &lt;&lt; "\"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5" name=""/>
            <p:cNvGrpSpPr/>
            <p:nvPr/>
          </p:nvGrpSpPr>
          <p:grpSpPr>
            <a:xfrm>
              <a:off x="0" y="4779720"/>
              <a:ext cx="6780960" cy="207720"/>
              <a:chOff x="0" y="4779720"/>
              <a:chExt cx="6780960" cy="207720"/>
            </a:xfrm>
          </p:grpSpPr>
          <p:sp>
            <p:nvSpPr>
              <p:cNvPr id="1906" name="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8" name=""/>
            <p:cNvGrpSpPr/>
            <p:nvPr/>
          </p:nvGrpSpPr>
          <p:grpSpPr>
            <a:xfrm>
              <a:off x="0" y="4987800"/>
              <a:ext cx="6780960" cy="207720"/>
              <a:chOff x="0" y="4987800"/>
              <a:chExt cx="6780960" cy="207720"/>
            </a:xfrm>
          </p:grpSpPr>
          <p:sp>
            <p:nvSpPr>
              <p:cNvPr id="1909" name=""/>
              <p:cNvSpPr/>
              <p:nvPr/>
            </p:nvSpPr>
            <p:spPr>
              <a:xfrm>
                <a:off x="0" y="49878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0" y="49878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1" name=""/>
            <p:cNvGrpSpPr/>
            <p:nvPr/>
          </p:nvGrpSpPr>
          <p:grpSpPr>
            <a:xfrm>
              <a:off x="0" y="5195520"/>
              <a:ext cx="6780960" cy="207720"/>
              <a:chOff x="0" y="5195520"/>
              <a:chExt cx="6780960" cy="207720"/>
            </a:xfrm>
          </p:grpSpPr>
          <p:sp>
            <p:nvSpPr>
              <p:cNvPr id="1912" name="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test overloaded String concatenation opera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4" name=""/>
            <p:cNvGrpSpPr/>
            <p:nvPr/>
          </p:nvGrpSpPr>
          <p:grpSpPr>
            <a:xfrm>
              <a:off x="0" y="5403240"/>
              <a:ext cx="6780960" cy="207720"/>
              <a:chOff x="0" y="5403240"/>
              <a:chExt cx="6780960" cy="207720"/>
            </a:xfrm>
          </p:grpSpPr>
          <p:sp>
            <p:nvSpPr>
              <p:cNvPr id="1915" name="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\n\ns1 += s2 yields s1 =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7" name=""/>
            <p:cNvGrpSpPr/>
            <p:nvPr/>
          </p:nvGrpSpPr>
          <p:grpSpPr>
            <a:xfrm>
              <a:off x="0" y="5610960"/>
              <a:ext cx="6780960" cy="207720"/>
              <a:chOff x="0" y="5610960"/>
              <a:chExt cx="6780960" cy="207720"/>
            </a:xfrm>
          </p:grpSpPr>
          <p:sp>
            <p:nvSpPr>
              <p:cNvPr id="1918" name="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s1 += s2;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test overloaded concaten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0" name=""/>
            <p:cNvGrpSpPr/>
            <p:nvPr/>
          </p:nvGrpSpPr>
          <p:grpSpPr>
            <a:xfrm>
              <a:off x="0" y="5819040"/>
              <a:ext cx="6780960" cy="207720"/>
              <a:chOff x="0" y="5819040"/>
              <a:chExt cx="6780960" cy="207720"/>
            </a:xfrm>
          </p:grpSpPr>
          <p:sp>
            <p:nvSpPr>
              <p:cNvPr id="1921" name=""/>
              <p:cNvSpPr/>
              <p:nvPr/>
            </p:nvSpPr>
            <p:spPr>
              <a:xfrm>
                <a:off x="0" y="58190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0" y="58190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s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3" name=""/>
            <p:cNvGrpSpPr/>
            <p:nvPr/>
          </p:nvGrpSpPr>
          <p:grpSpPr>
            <a:xfrm>
              <a:off x="0" y="6026760"/>
              <a:ext cx="6780960" cy="207720"/>
              <a:chOff x="0" y="6026760"/>
              <a:chExt cx="6780960" cy="207720"/>
            </a:xfrm>
          </p:grpSpPr>
          <p:sp>
            <p:nvSpPr>
              <p:cNvPr id="1924" name="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6" name=""/>
            <p:cNvGrpSpPr/>
            <p:nvPr/>
          </p:nvGrpSpPr>
          <p:grpSpPr>
            <a:xfrm>
              <a:off x="0" y="6234480"/>
              <a:ext cx="6780960" cy="207720"/>
              <a:chOff x="0" y="6234480"/>
              <a:chExt cx="6780960" cy="207720"/>
            </a:xfrm>
          </p:grpSpPr>
          <p:sp>
            <p:nvSpPr>
              <p:cNvPr id="1927" name="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test conversion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9" name=""/>
            <p:cNvGrpSpPr/>
            <p:nvPr/>
          </p:nvGrpSpPr>
          <p:grpSpPr>
            <a:xfrm>
              <a:off x="0" y="6442200"/>
              <a:ext cx="6780960" cy="207720"/>
              <a:chOff x="0" y="6442200"/>
              <a:chExt cx="6780960" cy="207720"/>
            </a:xfrm>
          </p:grpSpPr>
          <p:sp>
            <p:nvSpPr>
              <p:cNvPr id="1930" name="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\n\ns1 += \" to you\" yields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2" name=""/>
            <p:cNvGrpSpPr/>
            <p:nvPr/>
          </p:nvGrpSpPr>
          <p:grpSpPr>
            <a:xfrm>
              <a:off x="0" y="6650280"/>
              <a:ext cx="6780960" cy="207720"/>
              <a:chOff x="0" y="6650280"/>
              <a:chExt cx="6780960" cy="207720"/>
            </a:xfrm>
          </p:grpSpPr>
          <p:sp>
            <p:nvSpPr>
              <p:cNvPr id="1933" name=""/>
              <p:cNvSpPr/>
              <p:nvPr/>
            </p:nvSpPr>
            <p:spPr>
              <a:xfrm>
                <a:off x="0" y="6650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0" y="6650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s1 += " to you"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test conversion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35" name=""/>
          <p:cNvSpPr/>
          <p:nvPr/>
        </p:nvSpPr>
        <p:spPr>
          <a:xfrm>
            <a:off x="4495680" y="1219320"/>
            <a:ext cx="4572000" cy="2221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1 is "happy"; s2 is " birthday"; s3 is "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results of comparing s2 and s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2 == s1 yields 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2 != s1 yields 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2 &gt;  s1 yields 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2 &lt;  s1 yields 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2 &gt;= s1 yields 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2 &lt;= s1 yields 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5334120" y="3505320"/>
            <a:ext cx="3504960" cy="1110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sting !s3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3 is empty; assigning s1 to s3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= ca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3 is "happ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5440320" y="5029200"/>
            <a:ext cx="338112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1 += s2 yields s1 = happy birth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4572000" y="5715000"/>
            <a:ext cx="4343400" cy="832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1 += " to you" yiel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version constructor:  to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structor:  to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1F1C9-F6B9-45BA-9297-6F91AA482EF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940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1941" name=""/>
            <p:cNvGrpSpPr/>
            <p:nvPr/>
          </p:nvGrpSpPr>
          <p:grpSpPr>
            <a:xfrm>
              <a:off x="0" y="0"/>
              <a:ext cx="6780960" cy="228240"/>
              <a:chOff x="0" y="0"/>
              <a:chExt cx="6780960" cy="228240"/>
            </a:xfrm>
          </p:grpSpPr>
          <p:sp>
            <p:nvSpPr>
              <p:cNvPr id="1942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s1 = " &lt;&lt; s1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4" name=""/>
            <p:cNvGrpSpPr/>
            <p:nvPr/>
          </p:nvGrpSpPr>
          <p:grpSpPr>
            <a:xfrm>
              <a:off x="0" y="228240"/>
              <a:ext cx="6780960" cy="228240"/>
              <a:chOff x="0" y="228240"/>
              <a:chExt cx="6780960" cy="228240"/>
            </a:xfrm>
          </p:grpSpPr>
          <p:sp>
            <p:nvSpPr>
              <p:cNvPr id="1945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7" name=""/>
            <p:cNvGrpSpPr/>
            <p:nvPr/>
          </p:nvGrpSpPr>
          <p:grpSpPr>
            <a:xfrm>
              <a:off x="0" y="456840"/>
              <a:ext cx="6780960" cy="228600"/>
              <a:chOff x="0" y="456840"/>
              <a:chExt cx="6780960" cy="228600"/>
            </a:xfrm>
          </p:grpSpPr>
          <p:sp>
            <p:nvSpPr>
              <p:cNvPr id="1948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test overloaded function call operator () for substr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0" name=""/>
            <p:cNvGrpSpPr/>
            <p:nvPr/>
          </p:nvGrpSpPr>
          <p:grpSpPr>
            <a:xfrm>
              <a:off x="0" y="685800"/>
              <a:ext cx="6780960" cy="228240"/>
              <a:chOff x="0" y="685800"/>
              <a:chExt cx="6780960" cy="228240"/>
            </a:xfrm>
          </p:grpSpPr>
          <p:sp>
            <p:nvSpPr>
              <p:cNvPr id="1951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The substring of s1 starting at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3" name=""/>
            <p:cNvGrpSpPr/>
            <p:nvPr/>
          </p:nvGrpSpPr>
          <p:grpSpPr>
            <a:xfrm>
              <a:off x="0" y="914400"/>
              <a:ext cx="6780960" cy="228240"/>
              <a:chOff x="0" y="914400"/>
              <a:chExt cx="6780960" cy="228240"/>
            </a:xfrm>
          </p:grpSpPr>
          <p:sp>
            <p:nvSpPr>
              <p:cNvPr id="1954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location 0 for 14 characters, s1(0, 14), is: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6" name=""/>
            <p:cNvGrpSpPr/>
            <p:nvPr/>
          </p:nvGrpSpPr>
          <p:grpSpPr>
            <a:xfrm>
              <a:off x="0" y="1143000"/>
              <a:ext cx="6780960" cy="228240"/>
              <a:chOff x="0" y="1143000"/>
              <a:chExt cx="6780960" cy="228240"/>
            </a:xfrm>
          </p:grpSpPr>
          <p:sp>
            <p:nvSpPr>
              <p:cNvPr id="1957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s1( 0, 14 )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9" name=""/>
            <p:cNvGrpSpPr/>
            <p:nvPr/>
          </p:nvGrpSpPr>
          <p:grpSpPr>
            <a:xfrm>
              <a:off x="0" y="1371240"/>
              <a:ext cx="6780960" cy="228600"/>
              <a:chOff x="0" y="1371240"/>
              <a:chExt cx="6780960" cy="228600"/>
            </a:xfrm>
          </p:grpSpPr>
          <p:sp>
            <p:nvSpPr>
              <p:cNvPr id="1960" name=""/>
              <p:cNvSpPr/>
              <p:nvPr/>
            </p:nvSpPr>
            <p:spPr>
              <a:xfrm>
                <a:off x="0" y="1371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0" y="1371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2" name=""/>
            <p:cNvGrpSpPr/>
            <p:nvPr/>
          </p:nvGrpSpPr>
          <p:grpSpPr>
            <a:xfrm>
              <a:off x="0" y="1600200"/>
              <a:ext cx="6780960" cy="228240"/>
              <a:chOff x="0" y="1600200"/>
              <a:chExt cx="6780960" cy="228240"/>
            </a:xfrm>
          </p:grpSpPr>
          <p:sp>
            <p:nvSpPr>
              <p:cNvPr id="1963" name="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test substring "to-end-of-String" op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5" name=""/>
            <p:cNvGrpSpPr/>
            <p:nvPr/>
          </p:nvGrpSpPr>
          <p:grpSpPr>
            <a:xfrm>
              <a:off x="0" y="1828800"/>
              <a:ext cx="6780960" cy="228240"/>
              <a:chOff x="0" y="1828800"/>
              <a:chExt cx="6780960" cy="228240"/>
            </a:xfrm>
          </p:grpSpPr>
          <p:sp>
            <p:nvSpPr>
              <p:cNvPr id="1966" name="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The substring of s1 starting at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8" name=""/>
            <p:cNvGrpSpPr/>
            <p:nvPr/>
          </p:nvGrpSpPr>
          <p:grpSpPr>
            <a:xfrm>
              <a:off x="0" y="2057400"/>
              <a:ext cx="6780960" cy="228240"/>
              <a:chOff x="0" y="2057400"/>
              <a:chExt cx="6780960" cy="228240"/>
            </a:xfrm>
          </p:grpSpPr>
          <p:sp>
            <p:nvSpPr>
              <p:cNvPr id="1969" name="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location 15, s1(15, 0), is: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1" name=""/>
            <p:cNvGrpSpPr/>
            <p:nvPr/>
          </p:nvGrpSpPr>
          <p:grpSpPr>
            <a:xfrm>
              <a:off x="0" y="2286000"/>
              <a:ext cx="6780960" cy="228600"/>
              <a:chOff x="0" y="2286000"/>
              <a:chExt cx="6780960" cy="228600"/>
            </a:xfrm>
          </p:grpSpPr>
          <p:sp>
            <p:nvSpPr>
              <p:cNvPr id="1972" name="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s1( 15, 0 ) &lt;&lt; "\n\n"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0 is "to end of string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4" name=""/>
            <p:cNvGrpSpPr/>
            <p:nvPr/>
          </p:nvGrpSpPr>
          <p:grpSpPr>
            <a:xfrm>
              <a:off x="0" y="2514600"/>
              <a:ext cx="6780960" cy="228240"/>
              <a:chOff x="0" y="2514600"/>
              <a:chExt cx="6780960" cy="228240"/>
            </a:xfrm>
          </p:grpSpPr>
          <p:sp>
            <p:nvSpPr>
              <p:cNvPr id="1975" name="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7" name=""/>
            <p:cNvGrpSpPr/>
            <p:nvPr/>
          </p:nvGrpSpPr>
          <p:grpSpPr>
            <a:xfrm>
              <a:off x="0" y="2743200"/>
              <a:ext cx="6780960" cy="228240"/>
              <a:chOff x="0" y="2743200"/>
              <a:chExt cx="6780960" cy="228240"/>
            </a:xfrm>
          </p:grpSpPr>
          <p:sp>
            <p:nvSpPr>
              <p:cNvPr id="1978" name="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test copy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0" name=""/>
            <p:cNvGrpSpPr/>
            <p:nvPr/>
          </p:nvGrpSpPr>
          <p:grpSpPr>
            <a:xfrm>
              <a:off x="0" y="2971800"/>
              <a:ext cx="6780960" cy="228240"/>
              <a:chOff x="0" y="2971800"/>
              <a:chExt cx="6780960" cy="228240"/>
            </a:xfrm>
          </p:grpSpPr>
          <p:sp>
            <p:nvSpPr>
              <p:cNvPr id="1981" name="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String *s4Ptr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new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ring( s1 );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3" name=""/>
            <p:cNvGrpSpPr/>
            <p:nvPr/>
          </p:nvGrpSpPr>
          <p:grpSpPr>
            <a:xfrm>
              <a:off x="0" y="3200400"/>
              <a:ext cx="6780960" cy="228600"/>
              <a:chOff x="0" y="3200400"/>
              <a:chExt cx="6780960" cy="228600"/>
            </a:xfrm>
          </p:grpSpPr>
          <p:sp>
            <p:nvSpPr>
              <p:cNvPr id="1984" name="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*s4Ptr = " &lt;&lt; *s4Ptr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6" name=""/>
            <p:cNvGrpSpPr/>
            <p:nvPr/>
          </p:nvGrpSpPr>
          <p:grpSpPr>
            <a:xfrm>
              <a:off x="0" y="3429000"/>
              <a:ext cx="6780960" cy="228240"/>
              <a:chOff x="0" y="3429000"/>
              <a:chExt cx="6780960" cy="228240"/>
            </a:xfrm>
          </p:grpSpPr>
          <p:sp>
            <p:nvSpPr>
              <p:cNvPr id="1987" name="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9" name=""/>
            <p:cNvGrpSpPr/>
            <p:nvPr/>
          </p:nvGrpSpPr>
          <p:grpSpPr>
            <a:xfrm>
              <a:off x="0" y="3657600"/>
              <a:ext cx="6780960" cy="228240"/>
              <a:chOff x="0" y="3657600"/>
              <a:chExt cx="6780960" cy="228240"/>
            </a:xfrm>
          </p:grpSpPr>
          <p:sp>
            <p:nvSpPr>
              <p:cNvPr id="1990" name="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test assignment (=) operator with self-assignm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2" name=""/>
            <p:cNvGrpSpPr/>
            <p:nvPr/>
          </p:nvGrpSpPr>
          <p:grpSpPr>
            <a:xfrm>
              <a:off x="0" y="3886200"/>
              <a:ext cx="6780960" cy="228240"/>
              <a:chOff x="0" y="3886200"/>
              <a:chExt cx="6780960" cy="228240"/>
            </a:xfrm>
          </p:grpSpPr>
          <p:sp>
            <p:nvSpPr>
              <p:cNvPr id="1993" name="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assigning *s4Ptr to *s4Ptr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5" name=""/>
            <p:cNvGrpSpPr/>
            <p:nvPr/>
          </p:nvGrpSpPr>
          <p:grpSpPr>
            <a:xfrm>
              <a:off x="0" y="4114800"/>
              <a:ext cx="6780960" cy="228240"/>
              <a:chOff x="0" y="4114800"/>
              <a:chExt cx="6780960" cy="228240"/>
            </a:xfrm>
          </p:grpSpPr>
          <p:sp>
            <p:nvSpPr>
              <p:cNvPr id="1996" name="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*s4Ptr = *s4Ptr;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test overloaded assignm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8" name=""/>
            <p:cNvGrpSpPr/>
            <p:nvPr/>
          </p:nvGrpSpPr>
          <p:grpSpPr>
            <a:xfrm>
              <a:off x="0" y="4343400"/>
              <a:ext cx="6780960" cy="228600"/>
              <a:chOff x="0" y="4343400"/>
              <a:chExt cx="6780960" cy="228600"/>
            </a:xfrm>
          </p:grpSpPr>
          <p:sp>
            <p:nvSpPr>
              <p:cNvPr id="1999" name="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*s4Ptr = " &lt;&lt; *s4Ptr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1" name=""/>
            <p:cNvGrpSpPr/>
            <p:nvPr/>
          </p:nvGrpSpPr>
          <p:grpSpPr>
            <a:xfrm>
              <a:off x="0" y="4572000"/>
              <a:ext cx="6780960" cy="228240"/>
              <a:chOff x="0" y="4572000"/>
              <a:chExt cx="6780960" cy="228240"/>
            </a:xfrm>
          </p:grpSpPr>
          <p:sp>
            <p:nvSpPr>
              <p:cNvPr id="2002" name="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4" name=""/>
            <p:cNvGrpSpPr/>
            <p:nvPr/>
          </p:nvGrpSpPr>
          <p:grpSpPr>
            <a:xfrm>
              <a:off x="0" y="4800600"/>
              <a:ext cx="6780960" cy="228240"/>
              <a:chOff x="0" y="4800600"/>
              <a:chExt cx="6780960" cy="228240"/>
            </a:xfrm>
          </p:grpSpPr>
          <p:sp>
            <p:nvSpPr>
              <p:cNvPr id="2005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test de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7" name=""/>
            <p:cNvGrpSpPr/>
            <p:nvPr/>
          </p:nvGrpSpPr>
          <p:grpSpPr>
            <a:xfrm>
              <a:off x="0" y="5029200"/>
              <a:ext cx="6780960" cy="228240"/>
              <a:chOff x="0" y="5029200"/>
              <a:chExt cx="6780960" cy="228240"/>
            </a:xfrm>
          </p:grpSpPr>
          <p:sp>
            <p:nvSpPr>
              <p:cNvPr id="2008" name="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dele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4Ptr;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0" name=""/>
            <p:cNvGrpSpPr/>
            <p:nvPr/>
          </p:nvGrpSpPr>
          <p:grpSpPr>
            <a:xfrm>
              <a:off x="0" y="5257800"/>
              <a:ext cx="6780960" cy="228600"/>
              <a:chOff x="0" y="5257800"/>
              <a:chExt cx="6780960" cy="228600"/>
            </a:xfrm>
          </p:grpSpPr>
          <p:sp>
            <p:nvSpPr>
              <p:cNvPr id="2011" name=""/>
              <p:cNvSpPr/>
              <p:nvPr/>
            </p:nvSpPr>
            <p:spPr>
              <a:xfrm>
                <a:off x="0" y="5257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0" y="5257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3" name=""/>
            <p:cNvGrpSpPr/>
            <p:nvPr/>
          </p:nvGrpSpPr>
          <p:grpSpPr>
            <a:xfrm>
              <a:off x="0" y="5486400"/>
              <a:ext cx="6780960" cy="228240"/>
              <a:chOff x="0" y="5486400"/>
              <a:chExt cx="6780960" cy="228240"/>
            </a:xfrm>
          </p:grpSpPr>
          <p:sp>
            <p:nvSpPr>
              <p:cNvPr id="2014" name="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test using subscript operator to create l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6" name=""/>
            <p:cNvGrpSpPr/>
            <p:nvPr/>
          </p:nvGrpSpPr>
          <p:grpSpPr>
            <a:xfrm>
              <a:off x="0" y="5715000"/>
              <a:ext cx="6780960" cy="228240"/>
              <a:chOff x="0" y="5715000"/>
              <a:chExt cx="6780960" cy="228240"/>
            </a:xfrm>
          </p:grpSpPr>
          <p:sp>
            <p:nvSpPr>
              <p:cNvPr id="2017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s1[ 0 ] = 'H';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9" name=""/>
            <p:cNvGrpSpPr/>
            <p:nvPr/>
          </p:nvGrpSpPr>
          <p:grpSpPr>
            <a:xfrm>
              <a:off x="0" y="5943600"/>
              <a:ext cx="6780960" cy="228240"/>
              <a:chOff x="0" y="5943600"/>
              <a:chExt cx="6780960" cy="228240"/>
            </a:xfrm>
          </p:grpSpPr>
          <p:sp>
            <p:nvSpPr>
              <p:cNvPr id="2020" name="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s1[ 6 ] = 'B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2" name=""/>
            <p:cNvGrpSpPr/>
            <p:nvPr/>
          </p:nvGrpSpPr>
          <p:grpSpPr>
            <a:xfrm>
              <a:off x="0" y="6172200"/>
              <a:ext cx="6780960" cy="228600"/>
              <a:chOff x="0" y="6172200"/>
              <a:chExt cx="6780960" cy="228600"/>
            </a:xfrm>
          </p:grpSpPr>
          <p:sp>
            <p:nvSpPr>
              <p:cNvPr id="2023" name=""/>
              <p:cNvSpPr/>
              <p:nvPr/>
            </p:nvSpPr>
            <p:spPr>
              <a:xfrm>
                <a:off x="0" y="6172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0" y="6172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\ns1 after s1[0] = 'H' and s1[6] = 'B' is: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5" name=""/>
            <p:cNvGrpSpPr/>
            <p:nvPr/>
          </p:nvGrpSpPr>
          <p:grpSpPr>
            <a:xfrm>
              <a:off x="0" y="6400800"/>
              <a:ext cx="6780960" cy="228240"/>
              <a:chOff x="0" y="6400800"/>
              <a:chExt cx="6780960" cy="228240"/>
            </a:xfrm>
          </p:grpSpPr>
          <p:sp>
            <p:nvSpPr>
              <p:cNvPr id="2026" name="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s1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8" name=""/>
            <p:cNvGrpSpPr/>
            <p:nvPr/>
          </p:nvGrpSpPr>
          <p:grpSpPr>
            <a:xfrm>
              <a:off x="0" y="6629400"/>
              <a:ext cx="6780960" cy="228240"/>
              <a:chOff x="0" y="6629400"/>
              <a:chExt cx="6780960" cy="228240"/>
            </a:xfrm>
          </p:grpSpPr>
          <p:sp>
            <p:nvSpPr>
              <p:cNvPr id="2029" name="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31" name=""/>
          <p:cNvSpPr/>
          <p:nvPr/>
        </p:nvSpPr>
        <p:spPr>
          <a:xfrm>
            <a:off x="3809880" y="76320"/>
            <a:ext cx="289584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1 = happy birthday to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4419720" y="1162080"/>
            <a:ext cx="4572000" cy="1666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version constructor: happy birth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py constructor: happy birth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structor: happy birth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ubstring of s1 starting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cation 0 for 14 characters, s1(0, 14),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appy birth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4343400" y="2514600"/>
            <a:ext cx="4572000" cy="1666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structor: happy birth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version constructor: to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py constructor: to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structor: to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ubstring of s1 starting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cation 15, s1(15, 0), is: to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4343400" y="2895480"/>
            <a:ext cx="4572000" cy="832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structor: to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py constructor: happy birthday to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*s4Ptr = happy birthday to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4343400" y="3616200"/>
            <a:ext cx="4572000" cy="1110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ssigning *s4Ptr to *s4Pt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= ca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tempted assignment of a String to it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*s4Ptr = happy birthday to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4404600" y="4973760"/>
            <a:ext cx="319824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structor: happy birthday to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3039120" y="5735520"/>
            <a:ext cx="585000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1 after s1[0] = 'H' and s1[6] = 'B' is: Happy Birthday to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E0751-8921-4BC0-B5DB-13131C18926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039" name=""/>
          <p:cNvGrpSpPr/>
          <p:nvPr/>
        </p:nvGrpSpPr>
        <p:grpSpPr>
          <a:xfrm>
            <a:off x="0" y="0"/>
            <a:ext cx="6780960" cy="1599840"/>
            <a:chOff x="0" y="0"/>
            <a:chExt cx="6780960" cy="1599840"/>
          </a:xfrm>
        </p:grpSpPr>
        <p:grpSp>
          <p:nvGrpSpPr>
            <p:cNvPr id="2040" name=""/>
            <p:cNvGrpSpPr/>
            <p:nvPr/>
          </p:nvGrpSpPr>
          <p:grpSpPr>
            <a:xfrm>
              <a:off x="0" y="0"/>
              <a:ext cx="6780960" cy="266400"/>
              <a:chOff x="0" y="0"/>
              <a:chExt cx="6780960" cy="266400"/>
            </a:xfrm>
          </p:grpSpPr>
          <p:sp>
            <p:nvSpPr>
              <p:cNvPr id="2041" name=""/>
              <p:cNvSpPr/>
              <p:nvPr/>
            </p:nvSpPr>
            <p:spPr>
              <a:xfrm>
                <a:off x="0" y="0"/>
                <a:ext cx="678096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0" y="0"/>
                <a:ext cx="678096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test subscript out of rang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3" name=""/>
            <p:cNvGrpSpPr/>
            <p:nvPr/>
          </p:nvGrpSpPr>
          <p:grpSpPr>
            <a:xfrm>
              <a:off x="0" y="266400"/>
              <a:ext cx="6780960" cy="266400"/>
              <a:chOff x="0" y="266400"/>
              <a:chExt cx="6780960" cy="266400"/>
            </a:xfrm>
          </p:grpSpPr>
          <p:sp>
            <p:nvSpPr>
              <p:cNvPr id="2044" name=""/>
              <p:cNvSpPr/>
              <p:nvPr/>
            </p:nvSpPr>
            <p:spPr>
              <a:xfrm>
                <a:off x="0" y="266400"/>
                <a:ext cx="678096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0" y="266400"/>
                <a:ext cx="678096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Attempt to assign 'd' to s1[30] yields: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6" name=""/>
            <p:cNvGrpSpPr/>
            <p:nvPr/>
          </p:nvGrpSpPr>
          <p:grpSpPr>
            <a:xfrm>
              <a:off x="0" y="533160"/>
              <a:ext cx="6780960" cy="266760"/>
              <a:chOff x="0" y="533160"/>
              <a:chExt cx="6780960" cy="266760"/>
            </a:xfrm>
          </p:grpSpPr>
          <p:sp>
            <p:nvSpPr>
              <p:cNvPr id="2047" name=""/>
              <p:cNvSpPr/>
              <p:nvPr/>
            </p:nvSpPr>
            <p:spPr>
              <a:xfrm>
                <a:off x="0" y="533160"/>
                <a:ext cx="6780960" cy="266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0" y="533160"/>
                <a:ext cx="6780960" cy="266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s1[ 30 ] = 'd';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ERROR: subscript out of rang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9" name=""/>
            <p:cNvGrpSpPr/>
            <p:nvPr/>
          </p:nvGrpSpPr>
          <p:grpSpPr>
            <a:xfrm>
              <a:off x="0" y="800280"/>
              <a:ext cx="6780960" cy="266400"/>
              <a:chOff x="0" y="800280"/>
              <a:chExt cx="6780960" cy="266400"/>
            </a:xfrm>
          </p:grpSpPr>
          <p:sp>
            <p:nvSpPr>
              <p:cNvPr id="2050" name=""/>
              <p:cNvSpPr/>
              <p:nvPr/>
            </p:nvSpPr>
            <p:spPr>
              <a:xfrm>
                <a:off x="0" y="800280"/>
                <a:ext cx="678096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0" y="800280"/>
                <a:ext cx="678096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2" name=""/>
            <p:cNvGrpSpPr/>
            <p:nvPr/>
          </p:nvGrpSpPr>
          <p:grpSpPr>
            <a:xfrm>
              <a:off x="0" y="1066680"/>
              <a:ext cx="6780960" cy="266400"/>
              <a:chOff x="0" y="1066680"/>
              <a:chExt cx="6780960" cy="266400"/>
            </a:xfrm>
          </p:grpSpPr>
          <p:sp>
            <p:nvSpPr>
              <p:cNvPr id="2053" name=""/>
              <p:cNvSpPr/>
              <p:nvPr/>
            </p:nvSpPr>
            <p:spPr>
              <a:xfrm>
                <a:off x="0" y="1066680"/>
                <a:ext cx="678096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0" y="1066680"/>
                <a:ext cx="678096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5" name=""/>
            <p:cNvGrpSpPr/>
            <p:nvPr/>
          </p:nvGrpSpPr>
          <p:grpSpPr>
            <a:xfrm>
              <a:off x="0" y="1333440"/>
              <a:ext cx="6780960" cy="266400"/>
              <a:chOff x="0" y="1333440"/>
              <a:chExt cx="6780960" cy="266400"/>
            </a:xfrm>
          </p:grpSpPr>
          <p:sp>
            <p:nvSpPr>
              <p:cNvPr id="2056" name=""/>
              <p:cNvSpPr/>
              <p:nvPr/>
            </p:nvSpPr>
            <p:spPr>
              <a:xfrm>
                <a:off x="0" y="1333440"/>
                <a:ext cx="678096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0" y="1333440"/>
                <a:ext cx="678096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58" name=""/>
          <p:cNvGrpSpPr/>
          <p:nvPr/>
        </p:nvGrpSpPr>
        <p:grpSpPr>
          <a:xfrm>
            <a:off x="0" y="1676520"/>
            <a:ext cx="6781680" cy="4637880"/>
            <a:chOff x="0" y="1676520"/>
            <a:chExt cx="6781680" cy="4637880"/>
          </a:xfrm>
        </p:grpSpPr>
        <p:sp>
          <p:nvSpPr>
            <p:cNvPr id="2059" name=""/>
            <p:cNvSpPr/>
            <p:nvPr/>
          </p:nvSpPr>
          <p:spPr>
            <a:xfrm>
              <a:off x="0" y="1676520"/>
              <a:ext cx="6781680" cy="30142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onversion constructor: happ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onversion constructor:  birthd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onversion constructor: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1 is "happy"; s2 is " birthday"; s3 is "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he results of comparing s2 and s1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2 == s1 yields fal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2 != s1 yields tr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2 &gt;  s1 yields fal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2 &lt;  s1 yields tr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2 &gt;= s1 yields fal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2 &lt;= s1 yields tr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esting !s3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3 is empty; assigning s1 to s3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perator= call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3 is "happy"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0" y="4648320"/>
              <a:ext cx="6781680" cy="1666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1 += s2 yields s1 = happy birthd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1 += " to you" yield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onversion constructor:  to yo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estructor:  to yo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1 = happy birthday to yo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1" name=""/>
          <p:cNvGrpSpPr/>
          <p:nvPr/>
        </p:nvGrpSpPr>
        <p:grpSpPr>
          <a:xfrm>
            <a:off x="2666880" y="533160"/>
            <a:ext cx="5639040" cy="2256840"/>
            <a:chOff x="2666880" y="533160"/>
            <a:chExt cx="5639040" cy="2256840"/>
          </a:xfrm>
        </p:grpSpPr>
        <p:sp>
          <p:nvSpPr>
            <p:cNvPr id="2062" name=""/>
            <p:cNvSpPr/>
            <p:nvPr/>
          </p:nvSpPr>
          <p:spPr>
            <a:xfrm>
              <a:off x="3733920" y="1219320"/>
              <a:ext cx="4572000" cy="1570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ttempt to assign 'd' to s1[30] yield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ssertion failed: subscript &gt;= 0 &amp;&amp; subscript &lt; length, file string1.cpp, line 8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bnormal program termin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 flipH="1" flipV="1">
              <a:off x="2666880" y="533160"/>
              <a:ext cx="106704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E7FC2-9B16-4FAA-AD88-16600978EC1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065" name=""/>
          <p:cNvSpPr/>
          <p:nvPr/>
        </p:nvSpPr>
        <p:spPr>
          <a:xfrm>
            <a:off x="0" y="0"/>
            <a:ext cx="6705720" cy="6117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version constructor: happy birth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py constructor: happy birth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structor: happy birth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ubstring of s1 starting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cation 0 for 14 characters, s1(0, 14),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appy birth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structor: happy birth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version constructor: to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py constructor: to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structor: to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ubstring of s1 starting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cation 15, s1(15, 0), is: to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structor: to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py constructor: happy birthday to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*s4Ptr = happy birthday to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ssigning *s4Ptr to *s4Pt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= ca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tempted assignment of a String to it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*s4Ptr = happy birthday to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structor: happy birthday to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1 after s1[0] = 'H' and s1[6] = 'B' is: Happy Birthday to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tempt to assign 'd' to s1[30] yield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ssertion failed: subscript &gt;= 0 &amp;&amp; subscript &lt; length, file string1.cpp, line 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bnormal program term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B3D84-A326-49EE-84F0-0C92A3D6FB2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8.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 Restrictions on Operator Overloading </a:t>
            </a:r>
            <a:br>
              <a:rPr sz="2800"/>
            </a:b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operators that can be overloa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Operators that cannot be overloa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533520" y="4876920"/>
          <a:ext cx="8076960" cy="99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876920"/>
                    <a:ext cx="8076960" cy="99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-304920" y="1752480"/>
          <a:ext cx="9677520" cy="2287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304920" y="1752480"/>
                    <a:ext cx="9677520" cy="22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D9F07-FAC3-455A-B47D-E9BCC266266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11  Overloading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++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--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67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/post incrementing/decrementing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owed to be overload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tinguishing between pre and post opera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fix versions are overloaded the same as other prefix unary oper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1.operator++();      // for ++d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ntion adopted that when compiler sees postincrementing expression, it will generate the member-function c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1.operator++( 0 );   // for d1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 dummy value to make the argument list o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operator++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inguishable from the argument list f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++op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BA069-21CA-4BC2-B325-E3A0CF178B3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12  Case Study: A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Dat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Clas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ollowing example creates a Date class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 overloaded increment operator to change the day, month and ye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 overloade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per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function to test for leap yea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function to determine if a day is last day of a mon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DEF4C-5916-4D99-A979-ADD5B4ED976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Class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Member func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Member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071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2072" name=""/>
            <p:cNvGrpSpPr/>
            <p:nvPr/>
          </p:nvGrpSpPr>
          <p:grpSpPr>
            <a:xfrm>
              <a:off x="0" y="0"/>
              <a:ext cx="6780960" cy="228240"/>
              <a:chOff x="0" y="0"/>
              <a:chExt cx="6780960" cy="228240"/>
            </a:xfrm>
          </p:grpSpPr>
          <p:sp>
            <p:nvSpPr>
              <p:cNvPr id="2073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Fig. 8.6: date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5" name=""/>
            <p:cNvGrpSpPr/>
            <p:nvPr/>
          </p:nvGrpSpPr>
          <p:grpSpPr>
            <a:xfrm>
              <a:off x="0" y="228240"/>
              <a:ext cx="6780960" cy="228240"/>
              <a:chOff x="0" y="228240"/>
              <a:chExt cx="6780960" cy="228240"/>
            </a:xfrm>
          </p:grpSpPr>
          <p:sp>
            <p:nvSpPr>
              <p:cNvPr id="2076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Definition of class D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8" name=""/>
            <p:cNvGrpSpPr/>
            <p:nvPr/>
          </p:nvGrpSpPr>
          <p:grpSpPr>
            <a:xfrm>
              <a:off x="0" y="456840"/>
              <a:ext cx="6780960" cy="228600"/>
              <a:chOff x="0" y="456840"/>
              <a:chExt cx="6780960" cy="228600"/>
            </a:xfrm>
          </p:grpSpPr>
          <p:sp>
            <p:nvSpPr>
              <p:cNvPr id="2079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TE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1" name=""/>
            <p:cNvGrpSpPr/>
            <p:nvPr/>
          </p:nvGrpSpPr>
          <p:grpSpPr>
            <a:xfrm>
              <a:off x="0" y="685800"/>
              <a:ext cx="6780960" cy="228240"/>
              <a:chOff x="0" y="685800"/>
              <a:chExt cx="6780960" cy="228240"/>
            </a:xfrm>
          </p:grpSpPr>
          <p:sp>
            <p:nvSpPr>
              <p:cNvPr id="2082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TE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4" name=""/>
            <p:cNvGrpSpPr/>
            <p:nvPr/>
          </p:nvGrpSpPr>
          <p:grpSpPr>
            <a:xfrm>
              <a:off x="0" y="914400"/>
              <a:ext cx="6780960" cy="228240"/>
              <a:chOff x="0" y="914400"/>
              <a:chExt cx="6780960" cy="228240"/>
            </a:xfrm>
          </p:grpSpPr>
          <p:sp>
            <p:nvSpPr>
              <p:cNvPr id="2085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7" name=""/>
            <p:cNvGrpSpPr/>
            <p:nvPr/>
          </p:nvGrpSpPr>
          <p:grpSpPr>
            <a:xfrm>
              <a:off x="0" y="1143000"/>
              <a:ext cx="6780960" cy="228240"/>
              <a:chOff x="0" y="1143000"/>
              <a:chExt cx="6780960" cy="228240"/>
            </a:xfrm>
          </p:grpSpPr>
          <p:sp>
            <p:nvSpPr>
              <p:cNvPr id="2088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0" name=""/>
            <p:cNvGrpSpPr/>
            <p:nvPr/>
          </p:nvGrpSpPr>
          <p:grpSpPr>
            <a:xfrm>
              <a:off x="0" y="1371240"/>
              <a:ext cx="6780960" cy="228600"/>
              <a:chOff x="0" y="1371240"/>
              <a:chExt cx="6780960" cy="228600"/>
            </a:xfrm>
          </p:grpSpPr>
          <p:sp>
            <p:nvSpPr>
              <p:cNvPr id="2091" name=""/>
              <p:cNvSpPr/>
              <p:nvPr/>
            </p:nvSpPr>
            <p:spPr>
              <a:xfrm>
                <a:off x="0" y="1371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0" y="1371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ostrea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3" name=""/>
            <p:cNvGrpSpPr/>
            <p:nvPr/>
          </p:nvGrpSpPr>
          <p:grpSpPr>
            <a:xfrm>
              <a:off x="0" y="1600200"/>
              <a:ext cx="6780960" cy="228240"/>
              <a:chOff x="0" y="1600200"/>
              <a:chExt cx="6780960" cy="228240"/>
            </a:xfrm>
          </p:grpSpPr>
          <p:sp>
            <p:nvSpPr>
              <p:cNvPr id="2094" name="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6" name=""/>
            <p:cNvGrpSpPr/>
            <p:nvPr/>
          </p:nvGrpSpPr>
          <p:grpSpPr>
            <a:xfrm>
              <a:off x="0" y="1828800"/>
              <a:ext cx="6780960" cy="228240"/>
              <a:chOff x="0" y="1828800"/>
              <a:chExt cx="6780960" cy="228240"/>
            </a:xfrm>
          </p:grpSpPr>
          <p:sp>
            <p:nvSpPr>
              <p:cNvPr id="2097" name="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t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9" name=""/>
            <p:cNvGrpSpPr/>
            <p:nvPr/>
          </p:nvGrpSpPr>
          <p:grpSpPr>
            <a:xfrm>
              <a:off x="0" y="2057400"/>
              <a:ext cx="6780960" cy="228240"/>
              <a:chOff x="0" y="2057400"/>
              <a:chExt cx="6780960" cy="228240"/>
            </a:xfrm>
          </p:grpSpPr>
          <p:sp>
            <p:nvSpPr>
              <p:cNvPr id="2100" name="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rien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ostream &amp;operator&lt;&lt;( ostream &amp;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te &amp;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2" name=""/>
            <p:cNvGrpSpPr/>
            <p:nvPr/>
          </p:nvGrpSpPr>
          <p:grpSpPr>
            <a:xfrm>
              <a:off x="0" y="2286000"/>
              <a:ext cx="6780960" cy="228600"/>
              <a:chOff x="0" y="2286000"/>
              <a:chExt cx="6780960" cy="228600"/>
            </a:xfrm>
          </p:grpSpPr>
          <p:sp>
            <p:nvSpPr>
              <p:cNvPr id="2103" name="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5" name=""/>
            <p:cNvGrpSpPr/>
            <p:nvPr/>
          </p:nvGrpSpPr>
          <p:grpSpPr>
            <a:xfrm>
              <a:off x="0" y="2514600"/>
              <a:ext cx="6780960" cy="228240"/>
              <a:chOff x="0" y="2514600"/>
              <a:chExt cx="6780960" cy="228240"/>
            </a:xfrm>
          </p:grpSpPr>
          <p:sp>
            <p:nvSpPr>
              <p:cNvPr id="2106" name="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8" name=""/>
            <p:cNvGrpSpPr/>
            <p:nvPr/>
          </p:nvGrpSpPr>
          <p:grpSpPr>
            <a:xfrm>
              <a:off x="0" y="2743200"/>
              <a:ext cx="6780960" cy="228240"/>
              <a:chOff x="0" y="2743200"/>
              <a:chExt cx="6780960" cy="228240"/>
            </a:xfrm>
          </p:grpSpPr>
          <p:sp>
            <p:nvSpPr>
              <p:cNvPr id="2109" name="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Da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m = 1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 = 1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y = 1900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1" name=""/>
            <p:cNvGrpSpPr/>
            <p:nvPr/>
          </p:nvGrpSpPr>
          <p:grpSpPr>
            <a:xfrm>
              <a:off x="0" y="2971800"/>
              <a:ext cx="6780960" cy="228240"/>
              <a:chOff x="0" y="2971800"/>
              <a:chExt cx="6780960" cy="228240"/>
            </a:xfrm>
          </p:grpSpPr>
          <p:sp>
            <p:nvSpPr>
              <p:cNvPr id="2112" name="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etDa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set the d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4" name=""/>
            <p:cNvGrpSpPr/>
            <p:nvPr/>
          </p:nvGrpSpPr>
          <p:grpSpPr>
            <a:xfrm>
              <a:off x="0" y="3200400"/>
              <a:ext cx="6780960" cy="228600"/>
              <a:chOff x="0" y="3200400"/>
              <a:chExt cx="6780960" cy="228600"/>
            </a:xfrm>
          </p:grpSpPr>
          <p:sp>
            <p:nvSpPr>
              <p:cNvPr id="2115" name="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Date &amp;operator++();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preincrement opera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7" name=""/>
            <p:cNvGrpSpPr/>
            <p:nvPr/>
          </p:nvGrpSpPr>
          <p:grpSpPr>
            <a:xfrm>
              <a:off x="0" y="3429000"/>
              <a:ext cx="6780960" cy="228240"/>
              <a:chOff x="0" y="3429000"/>
              <a:chExt cx="6780960" cy="228240"/>
            </a:xfrm>
          </p:grpSpPr>
          <p:sp>
            <p:nvSpPr>
              <p:cNvPr id="2118" name="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Date operator++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)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// postincrement opera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0" name=""/>
            <p:cNvGrpSpPr/>
            <p:nvPr/>
          </p:nvGrpSpPr>
          <p:grpSpPr>
            <a:xfrm>
              <a:off x="0" y="3657600"/>
              <a:ext cx="6780960" cy="228240"/>
              <a:chOff x="0" y="3657600"/>
              <a:chExt cx="6780960" cy="228240"/>
            </a:xfrm>
          </p:grpSpPr>
          <p:sp>
            <p:nvSpPr>
              <p:cNvPr id="2121" name="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te &amp;operator+=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add days, modify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3" name=""/>
            <p:cNvGrpSpPr/>
            <p:nvPr/>
          </p:nvGrpSpPr>
          <p:grpSpPr>
            <a:xfrm>
              <a:off x="0" y="3886200"/>
              <a:ext cx="6780960" cy="228240"/>
              <a:chOff x="0" y="3886200"/>
              <a:chExt cx="6780960" cy="228240"/>
            </a:xfrm>
          </p:grpSpPr>
          <p:sp>
            <p:nvSpPr>
              <p:cNvPr id="2124" name="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leapYea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is this a leap year?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6" name=""/>
            <p:cNvGrpSpPr/>
            <p:nvPr/>
          </p:nvGrpSpPr>
          <p:grpSpPr>
            <a:xfrm>
              <a:off x="0" y="4114800"/>
              <a:ext cx="6780960" cy="228240"/>
              <a:chOff x="0" y="4114800"/>
              <a:chExt cx="6780960" cy="228240"/>
            </a:xfrm>
          </p:grpSpPr>
          <p:sp>
            <p:nvSpPr>
              <p:cNvPr id="2127" name="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endOfMonth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is this end of month?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9" name=""/>
            <p:cNvGrpSpPr/>
            <p:nvPr/>
          </p:nvGrpSpPr>
          <p:grpSpPr>
            <a:xfrm>
              <a:off x="0" y="4343400"/>
              <a:ext cx="6780960" cy="228600"/>
              <a:chOff x="0" y="4343400"/>
              <a:chExt cx="6780960" cy="228600"/>
            </a:xfrm>
          </p:grpSpPr>
          <p:sp>
            <p:nvSpPr>
              <p:cNvPr id="2130" name="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2" name=""/>
            <p:cNvGrpSpPr/>
            <p:nvPr/>
          </p:nvGrpSpPr>
          <p:grpSpPr>
            <a:xfrm>
              <a:off x="0" y="4572000"/>
              <a:ext cx="6780960" cy="228240"/>
              <a:chOff x="0" y="4572000"/>
              <a:chExt cx="6780960" cy="228240"/>
            </a:xfrm>
          </p:grpSpPr>
          <p:sp>
            <p:nvSpPr>
              <p:cNvPr id="2133" name="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5" name=""/>
            <p:cNvGrpSpPr/>
            <p:nvPr/>
          </p:nvGrpSpPr>
          <p:grpSpPr>
            <a:xfrm>
              <a:off x="0" y="4800600"/>
              <a:ext cx="6780960" cy="228240"/>
              <a:chOff x="0" y="4800600"/>
              <a:chExt cx="6780960" cy="228240"/>
            </a:xfrm>
          </p:grpSpPr>
          <p:sp>
            <p:nvSpPr>
              <p:cNvPr id="2136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month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8" name=""/>
            <p:cNvGrpSpPr/>
            <p:nvPr/>
          </p:nvGrpSpPr>
          <p:grpSpPr>
            <a:xfrm>
              <a:off x="0" y="5029200"/>
              <a:ext cx="6780960" cy="228240"/>
              <a:chOff x="0" y="5029200"/>
              <a:chExt cx="6780960" cy="228240"/>
            </a:xfrm>
          </p:grpSpPr>
          <p:sp>
            <p:nvSpPr>
              <p:cNvPr id="2139" name="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y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1" name=""/>
            <p:cNvGrpSpPr/>
            <p:nvPr/>
          </p:nvGrpSpPr>
          <p:grpSpPr>
            <a:xfrm>
              <a:off x="0" y="5257800"/>
              <a:ext cx="6780960" cy="228600"/>
              <a:chOff x="0" y="5257800"/>
              <a:chExt cx="6780960" cy="228600"/>
            </a:xfrm>
          </p:grpSpPr>
          <p:sp>
            <p:nvSpPr>
              <p:cNvPr id="2142" name=""/>
              <p:cNvSpPr/>
              <p:nvPr/>
            </p:nvSpPr>
            <p:spPr>
              <a:xfrm>
                <a:off x="0" y="5257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0" y="5257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yea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4" name=""/>
            <p:cNvGrpSpPr/>
            <p:nvPr/>
          </p:nvGrpSpPr>
          <p:grpSpPr>
            <a:xfrm>
              <a:off x="0" y="5486400"/>
              <a:ext cx="6780960" cy="228240"/>
              <a:chOff x="0" y="5486400"/>
              <a:chExt cx="6780960" cy="228240"/>
            </a:xfrm>
          </p:grpSpPr>
          <p:sp>
            <p:nvSpPr>
              <p:cNvPr id="2145" name="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7" name=""/>
            <p:cNvGrpSpPr/>
            <p:nvPr/>
          </p:nvGrpSpPr>
          <p:grpSpPr>
            <a:xfrm>
              <a:off x="0" y="5715000"/>
              <a:ext cx="6780960" cy="228240"/>
              <a:chOff x="0" y="5715000"/>
              <a:chExt cx="6780960" cy="228240"/>
            </a:xfrm>
          </p:grpSpPr>
          <p:sp>
            <p:nvSpPr>
              <p:cNvPr id="2148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static const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ys[];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array of days per mont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0" name=""/>
            <p:cNvGrpSpPr/>
            <p:nvPr/>
          </p:nvGrpSpPr>
          <p:grpSpPr>
            <a:xfrm>
              <a:off x="0" y="5943600"/>
              <a:ext cx="6780960" cy="228240"/>
              <a:chOff x="0" y="5943600"/>
              <a:chExt cx="6780960" cy="228240"/>
            </a:xfrm>
          </p:grpSpPr>
          <p:sp>
            <p:nvSpPr>
              <p:cNvPr id="2151" name="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helpIncrement();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utility func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3" name=""/>
            <p:cNvGrpSpPr/>
            <p:nvPr/>
          </p:nvGrpSpPr>
          <p:grpSpPr>
            <a:xfrm>
              <a:off x="0" y="6172200"/>
              <a:ext cx="6780960" cy="228600"/>
              <a:chOff x="0" y="6172200"/>
              <a:chExt cx="6780960" cy="228600"/>
            </a:xfrm>
          </p:grpSpPr>
          <p:sp>
            <p:nvSpPr>
              <p:cNvPr id="2154" name=""/>
              <p:cNvSpPr/>
              <p:nvPr/>
            </p:nvSpPr>
            <p:spPr>
              <a:xfrm>
                <a:off x="0" y="6172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0" y="6172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6" name=""/>
            <p:cNvGrpSpPr/>
            <p:nvPr/>
          </p:nvGrpSpPr>
          <p:grpSpPr>
            <a:xfrm>
              <a:off x="0" y="6400800"/>
              <a:ext cx="6780960" cy="228240"/>
              <a:chOff x="0" y="6400800"/>
              <a:chExt cx="6780960" cy="228240"/>
            </a:xfrm>
          </p:grpSpPr>
          <p:sp>
            <p:nvSpPr>
              <p:cNvPr id="2157" name="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9" name=""/>
            <p:cNvGrpSpPr/>
            <p:nvPr/>
          </p:nvGrpSpPr>
          <p:grpSpPr>
            <a:xfrm>
              <a:off x="0" y="6629400"/>
              <a:ext cx="6780960" cy="228240"/>
              <a:chOff x="0" y="6629400"/>
              <a:chExt cx="6780960" cy="228240"/>
            </a:xfrm>
          </p:grpSpPr>
          <p:sp>
            <p:nvSpPr>
              <p:cNvPr id="2160" name="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A7570-6421-4117-8D76-63AB4C65B9E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Defin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ys[]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Function definitions 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3 Constructo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4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rator++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(preincrement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163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2164" name=""/>
            <p:cNvGrpSpPr/>
            <p:nvPr/>
          </p:nvGrpSpPr>
          <p:grpSpPr>
            <a:xfrm>
              <a:off x="0" y="0"/>
              <a:ext cx="6780960" cy="207720"/>
              <a:chOff x="0" y="0"/>
              <a:chExt cx="6780960" cy="207720"/>
            </a:xfrm>
          </p:grpSpPr>
          <p:sp>
            <p:nvSpPr>
              <p:cNvPr id="2165" name="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Fig. 8.6: date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7" name=""/>
            <p:cNvGrpSpPr/>
            <p:nvPr/>
          </p:nvGrpSpPr>
          <p:grpSpPr>
            <a:xfrm>
              <a:off x="0" y="207720"/>
              <a:ext cx="6780960" cy="207720"/>
              <a:chOff x="0" y="207720"/>
              <a:chExt cx="6780960" cy="207720"/>
            </a:xfrm>
          </p:grpSpPr>
          <p:sp>
            <p:nvSpPr>
              <p:cNvPr id="2168" name="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Member function definitions for Date cl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0" name=""/>
            <p:cNvGrpSpPr/>
            <p:nvPr/>
          </p:nvGrpSpPr>
          <p:grpSpPr>
            <a:xfrm>
              <a:off x="0" y="415440"/>
              <a:ext cx="6780960" cy="207720"/>
              <a:chOff x="0" y="415440"/>
              <a:chExt cx="6780960" cy="207720"/>
            </a:xfrm>
          </p:grpSpPr>
          <p:sp>
            <p:nvSpPr>
              <p:cNvPr id="2171" name="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3" name=""/>
            <p:cNvGrpSpPr/>
            <p:nvPr/>
          </p:nvGrpSpPr>
          <p:grpSpPr>
            <a:xfrm>
              <a:off x="0" y="623160"/>
              <a:ext cx="6780960" cy="207720"/>
              <a:chOff x="0" y="623160"/>
              <a:chExt cx="6780960" cy="207720"/>
            </a:xfrm>
          </p:grpSpPr>
          <p:sp>
            <p:nvSpPr>
              <p:cNvPr id="2174" name="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"date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6" name=""/>
            <p:cNvGrpSpPr/>
            <p:nvPr/>
          </p:nvGrpSpPr>
          <p:grpSpPr>
            <a:xfrm>
              <a:off x="0" y="831240"/>
              <a:ext cx="6780960" cy="207720"/>
              <a:chOff x="0" y="831240"/>
              <a:chExt cx="6780960" cy="207720"/>
            </a:xfrm>
          </p:grpSpPr>
          <p:sp>
            <p:nvSpPr>
              <p:cNvPr id="2177" name="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9" name=""/>
            <p:cNvGrpSpPr/>
            <p:nvPr/>
          </p:nvGrpSpPr>
          <p:grpSpPr>
            <a:xfrm>
              <a:off x="0" y="1038960"/>
              <a:ext cx="6780960" cy="207720"/>
              <a:chOff x="0" y="1038960"/>
              <a:chExt cx="6780960" cy="207720"/>
            </a:xfrm>
          </p:grpSpPr>
          <p:sp>
            <p:nvSpPr>
              <p:cNvPr id="2180" name="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Initialize static member at file scope;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2" name=""/>
            <p:cNvGrpSpPr/>
            <p:nvPr/>
          </p:nvGrpSpPr>
          <p:grpSpPr>
            <a:xfrm>
              <a:off x="0" y="1246680"/>
              <a:ext cx="6780960" cy="207720"/>
              <a:chOff x="0" y="1246680"/>
              <a:chExt cx="6780960" cy="207720"/>
            </a:xfrm>
          </p:grpSpPr>
          <p:sp>
            <p:nvSpPr>
              <p:cNvPr id="2183" name="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one class-wide copy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5" name=""/>
            <p:cNvGrpSpPr/>
            <p:nvPr/>
          </p:nvGrpSpPr>
          <p:grpSpPr>
            <a:xfrm>
              <a:off x="0" y="1454760"/>
              <a:ext cx="6780960" cy="207720"/>
              <a:chOff x="0" y="1454760"/>
              <a:chExt cx="6780960" cy="207720"/>
            </a:xfrm>
          </p:grpSpPr>
          <p:sp>
            <p:nvSpPr>
              <p:cNvPr id="2186" name=""/>
              <p:cNvSpPr/>
              <p:nvPr/>
            </p:nvSpPr>
            <p:spPr>
              <a:xfrm>
                <a:off x="0" y="1454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0" y="1454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te::days[] = { 0, 31, 28, 31, 30, 31, 30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8" name=""/>
            <p:cNvGrpSpPr/>
            <p:nvPr/>
          </p:nvGrpSpPr>
          <p:grpSpPr>
            <a:xfrm>
              <a:off x="0" y="1662480"/>
              <a:ext cx="6780960" cy="207720"/>
              <a:chOff x="0" y="1662480"/>
              <a:chExt cx="6780960" cy="207720"/>
            </a:xfrm>
          </p:grpSpPr>
          <p:sp>
            <p:nvSpPr>
              <p:cNvPr id="2189" name="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                  31, 31, 30, 31, 30, 31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1" name=""/>
            <p:cNvGrpSpPr/>
            <p:nvPr/>
          </p:nvGrpSpPr>
          <p:grpSpPr>
            <a:xfrm>
              <a:off x="0" y="1870200"/>
              <a:ext cx="6780960" cy="207720"/>
              <a:chOff x="0" y="1870200"/>
              <a:chExt cx="6780960" cy="207720"/>
            </a:xfrm>
          </p:grpSpPr>
          <p:sp>
            <p:nvSpPr>
              <p:cNvPr id="2192" name="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4" name=""/>
            <p:cNvGrpSpPr/>
            <p:nvPr/>
          </p:nvGrpSpPr>
          <p:grpSpPr>
            <a:xfrm>
              <a:off x="0" y="2077920"/>
              <a:ext cx="6780960" cy="207720"/>
              <a:chOff x="0" y="2077920"/>
              <a:chExt cx="6780960" cy="207720"/>
            </a:xfrm>
          </p:grpSpPr>
          <p:sp>
            <p:nvSpPr>
              <p:cNvPr id="2195" name="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Date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7" name=""/>
            <p:cNvGrpSpPr/>
            <p:nvPr/>
          </p:nvGrpSpPr>
          <p:grpSpPr>
            <a:xfrm>
              <a:off x="0" y="2286000"/>
              <a:ext cx="6780960" cy="207720"/>
              <a:chOff x="0" y="2286000"/>
              <a:chExt cx="6780960" cy="207720"/>
            </a:xfrm>
          </p:grpSpPr>
          <p:sp>
            <p:nvSpPr>
              <p:cNvPr id="2198" name=""/>
              <p:cNvSpPr/>
              <p:nvPr/>
            </p:nvSpPr>
            <p:spPr>
              <a:xfrm>
                <a:off x="0" y="2286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0" y="2286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Date::Da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m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y ) { setDate( m, d, y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0" name=""/>
            <p:cNvGrpSpPr/>
            <p:nvPr/>
          </p:nvGrpSpPr>
          <p:grpSpPr>
            <a:xfrm>
              <a:off x="0" y="2493720"/>
              <a:ext cx="6780960" cy="207720"/>
              <a:chOff x="0" y="2493720"/>
              <a:chExt cx="6780960" cy="207720"/>
            </a:xfrm>
          </p:grpSpPr>
          <p:sp>
            <p:nvSpPr>
              <p:cNvPr id="2201" name="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3" name=""/>
            <p:cNvGrpSpPr/>
            <p:nvPr/>
          </p:nvGrpSpPr>
          <p:grpSpPr>
            <a:xfrm>
              <a:off x="0" y="2701440"/>
              <a:ext cx="6780960" cy="207720"/>
              <a:chOff x="0" y="2701440"/>
              <a:chExt cx="6780960" cy="207720"/>
            </a:xfrm>
          </p:grpSpPr>
          <p:sp>
            <p:nvSpPr>
              <p:cNvPr id="2204" name="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Set the d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6" name=""/>
            <p:cNvGrpSpPr/>
            <p:nvPr/>
          </p:nvGrpSpPr>
          <p:grpSpPr>
            <a:xfrm>
              <a:off x="0" y="2909160"/>
              <a:ext cx="6780960" cy="207720"/>
              <a:chOff x="0" y="2909160"/>
              <a:chExt cx="6780960" cy="207720"/>
            </a:xfrm>
          </p:grpSpPr>
          <p:sp>
            <p:nvSpPr>
              <p:cNvPr id="2207" name="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te::setDa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mm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d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yy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9" name=""/>
            <p:cNvGrpSpPr/>
            <p:nvPr/>
          </p:nvGrpSpPr>
          <p:grpSpPr>
            <a:xfrm>
              <a:off x="0" y="3117240"/>
              <a:ext cx="6780960" cy="207720"/>
              <a:chOff x="0" y="3117240"/>
              <a:chExt cx="6780960" cy="207720"/>
            </a:xfrm>
          </p:grpSpPr>
          <p:sp>
            <p:nvSpPr>
              <p:cNvPr id="2210" name="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2" name=""/>
            <p:cNvGrpSpPr/>
            <p:nvPr/>
          </p:nvGrpSpPr>
          <p:grpSpPr>
            <a:xfrm>
              <a:off x="0" y="3324960"/>
              <a:ext cx="6780960" cy="207720"/>
              <a:chOff x="0" y="3324960"/>
              <a:chExt cx="6780960" cy="207720"/>
            </a:xfrm>
          </p:grpSpPr>
          <p:sp>
            <p:nvSpPr>
              <p:cNvPr id="2213" name="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month = ( mm &gt;= 1 &amp;&amp; mm &lt;= 12 ) ? mm : 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5" name=""/>
            <p:cNvGrpSpPr/>
            <p:nvPr/>
          </p:nvGrpSpPr>
          <p:grpSpPr>
            <a:xfrm>
              <a:off x="0" y="3532680"/>
              <a:ext cx="6780960" cy="207720"/>
              <a:chOff x="0" y="3532680"/>
              <a:chExt cx="6780960" cy="207720"/>
            </a:xfrm>
          </p:grpSpPr>
          <p:sp>
            <p:nvSpPr>
              <p:cNvPr id="2216" name="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year = ( yy &gt;= 1900 &amp;&amp; yy &lt;= 2100 ) ? yy : 190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8" name=""/>
            <p:cNvGrpSpPr/>
            <p:nvPr/>
          </p:nvGrpSpPr>
          <p:grpSpPr>
            <a:xfrm>
              <a:off x="0" y="3740760"/>
              <a:ext cx="6780960" cy="207720"/>
              <a:chOff x="0" y="3740760"/>
              <a:chExt cx="6780960" cy="207720"/>
            </a:xfrm>
          </p:grpSpPr>
          <p:sp>
            <p:nvSpPr>
              <p:cNvPr id="2219" name="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1" name=""/>
            <p:cNvGrpSpPr/>
            <p:nvPr/>
          </p:nvGrpSpPr>
          <p:grpSpPr>
            <a:xfrm>
              <a:off x="0" y="3948480"/>
              <a:ext cx="6780960" cy="207720"/>
              <a:chOff x="0" y="3948480"/>
              <a:chExt cx="6780960" cy="207720"/>
            </a:xfrm>
          </p:grpSpPr>
          <p:sp>
            <p:nvSpPr>
              <p:cNvPr id="2222" name="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test for a leap ye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4" name=""/>
            <p:cNvGrpSpPr/>
            <p:nvPr/>
          </p:nvGrpSpPr>
          <p:grpSpPr>
            <a:xfrm>
              <a:off x="0" y="4156200"/>
              <a:ext cx="6780960" cy="207720"/>
              <a:chOff x="0" y="4156200"/>
              <a:chExt cx="6780960" cy="207720"/>
            </a:xfrm>
          </p:grpSpPr>
          <p:sp>
            <p:nvSpPr>
              <p:cNvPr id="2225" name="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month == 2 &amp;&amp; leapYear( year )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7" name=""/>
            <p:cNvGrpSpPr/>
            <p:nvPr/>
          </p:nvGrpSpPr>
          <p:grpSpPr>
            <a:xfrm>
              <a:off x="0" y="4364280"/>
              <a:ext cx="6780960" cy="207720"/>
              <a:chOff x="0" y="4364280"/>
              <a:chExt cx="6780960" cy="207720"/>
            </a:xfrm>
          </p:grpSpPr>
          <p:sp>
            <p:nvSpPr>
              <p:cNvPr id="2228" name="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day = ( dd &gt;= 1 &amp;&amp; dd &lt;= 29 ) ? dd : 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0" name=""/>
            <p:cNvGrpSpPr/>
            <p:nvPr/>
          </p:nvGrpSpPr>
          <p:grpSpPr>
            <a:xfrm>
              <a:off x="0" y="4572000"/>
              <a:ext cx="6780960" cy="207720"/>
              <a:chOff x="0" y="4572000"/>
              <a:chExt cx="6780960" cy="207720"/>
            </a:xfrm>
          </p:grpSpPr>
          <p:sp>
            <p:nvSpPr>
              <p:cNvPr id="2231" name="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el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3" name=""/>
            <p:cNvGrpSpPr/>
            <p:nvPr/>
          </p:nvGrpSpPr>
          <p:grpSpPr>
            <a:xfrm>
              <a:off x="0" y="4779720"/>
              <a:ext cx="6780960" cy="207720"/>
              <a:chOff x="0" y="4779720"/>
              <a:chExt cx="6780960" cy="207720"/>
            </a:xfrm>
          </p:grpSpPr>
          <p:sp>
            <p:nvSpPr>
              <p:cNvPr id="2234" name="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day = ( dd &gt;= 1 &amp;&amp; dd &lt;= days[ month ] ) ? dd : 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6" name=""/>
            <p:cNvGrpSpPr/>
            <p:nvPr/>
          </p:nvGrpSpPr>
          <p:grpSpPr>
            <a:xfrm>
              <a:off x="0" y="4987800"/>
              <a:ext cx="6780960" cy="207720"/>
              <a:chOff x="0" y="4987800"/>
              <a:chExt cx="6780960" cy="207720"/>
            </a:xfrm>
          </p:grpSpPr>
          <p:sp>
            <p:nvSpPr>
              <p:cNvPr id="2237" name=""/>
              <p:cNvSpPr/>
              <p:nvPr/>
            </p:nvSpPr>
            <p:spPr>
              <a:xfrm>
                <a:off x="0" y="49878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0" y="49878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9" name=""/>
            <p:cNvGrpSpPr/>
            <p:nvPr/>
          </p:nvGrpSpPr>
          <p:grpSpPr>
            <a:xfrm>
              <a:off x="0" y="5195520"/>
              <a:ext cx="6780960" cy="207720"/>
              <a:chOff x="0" y="5195520"/>
              <a:chExt cx="6780960" cy="207720"/>
            </a:xfrm>
          </p:grpSpPr>
          <p:sp>
            <p:nvSpPr>
              <p:cNvPr id="2240" name="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2" name=""/>
            <p:cNvGrpSpPr/>
            <p:nvPr/>
          </p:nvGrpSpPr>
          <p:grpSpPr>
            <a:xfrm>
              <a:off x="0" y="5403240"/>
              <a:ext cx="6780960" cy="207720"/>
              <a:chOff x="0" y="5403240"/>
              <a:chExt cx="6780960" cy="207720"/>
            </a:xfrm>
          </p:grpSpPr>
          <p:sp>
            <p:nvSpPr>
              <p:cNvPr id="2243" name="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Preincrement operator overloaded as a member function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5" name=""/>
            <p:cNvGrpSpPr/>
            <p:nvPr/>
          </p:nvGrpSpPr>
          <p:grpSpPr>
            <a:xfrm>
              <a:off x="0" y="5610960"/>
              <a:ext cx="6780960" cy="207720"/>
              <a:chOff x="0" y="5610960"/>
              <a:chExt cx="6780960" cy="207720"/>
            </a:xfrm>
          </p:grpSpPr>
          <p:sp>
            <p:nvSpPr>
              <p:cNvPr id="2246" name="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Date &amp;Date::operator++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8" name=""/>
            <p:cNvGrpSpPr/>
            <p:nvPr/>
          </p:nvGrpSpPr>
          <p:grpSpPr>
            <a:xfrm>
              <a:off x="0" y="5819040"/>
              <a:ext cx="6780960" cy="207720"/>
              <a:chOff x="0" y="5819040"/>
              <a:chExt cx="6780960" cy="207720"/>
            </a:xfrm>
          </p:grpSpPr>
          <p:sp>
            <p:nvSpPr>
              <p:cNvPr id="2249" name=""/>
              <p:cNvSpPr/>
              <p:nvPr/>
            </p:nvSpPr>
            <p:spPr>
              <a:xfrm>
                <a:off x="0" y="58190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0" y="58190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1" name=""/>
            <p:cNvGrpSpPr/>
            <p:nvPr/>
          </p:nvGrpSpPr>
          <p:grpSpPr>
            <a:xfrm>
              <a:off x="0" y="6026760"/>
              <a:ext cx="6780960" cy="207720"/>
              <a:chOff x="0" y="6026760"/>
              <a:chExt cx="6780960" cy="207720"/>
            </a:xfrm>
          </p:grpSpPr>
          <p:sp>
            <p:nvSpPr>
              <p:cNvPr id="2252" name="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helpIncreme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4" name=""/>
            <p:cNvGrpSpPr/>
            <p:nvPr/>
          </p:nvGrpSpPr>
          <p:grpSpPr>
            <a:xfrm>
              <a:off x="0" y="6234480"/>
              <a:ext cx="6780960" cy="207720"/>
              <a:chOff x="0" y="6234480"/>
              <a:chExt cx="6780960" cy="207720"/>
            </a:xfrm>
          </p:grpSpPr>
          <p:sp>
            <p:nvSpPr>
              <p:cNvPr id="2255" name="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thi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reference return to create an l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7" name=""/>
            <p:cNvGrpSpPr/>
            <p:nvPr/>
          </p:nvGrpSpPr>
          <p:grpSpPr>
            <a:xfrm>
              <a:off x="0" y="6442200"/>
              <a:ext cx="6780960" cy="207720"/>
              <a:chOff x="0" y="6442200"/>
              <a:chExt cx="6780960" cy="207720"/>
            </a:xfrm>
          </p:grpSpPr>
          <p:sp>
            <p:nvSpPr>
              <p:cNvPr id="2258" name="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0" name=""/>
            <p:cNvGrpSpPr/>
            <p:nvPr/>
          </p:nvGrpSpPr>
          <p:grpSpPr>
            <a:xfrm>
              <a:off x="0" y="6650280"/>
              <a:ext cx="6780960" cy="207720"/>
              <a:chOff x="0" y="6650280"/>
              <a:chExt cx="6780960" cy="207720"/>
            </a:xfrm>
          </p:grpSpPr>
          <p:sp>
            <p:nvSpPr>
              <p:cNvPr id="2261" name=""/>
              <p:cNvSpPr/>
              <p:nvPr/>
            </p:nvSpPr>
            <p:spPr>
              <a:xfrm>
                <a:off x="0" y="6650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0" y="6650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28486-1EB9-4672-8C88-DE124170CF5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5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rator++(int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(postincrement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6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rator+=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7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apYea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8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OfMonth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264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2265" name=""/>
            <p:cNvGrpSpPr/>
            <p:nvPr/>
          </p:nvGrpSpPr>
          <p:grpSpPr>
            <a:xfrm>
              <a:off x="0" y="0"/>
              <a:ext cx="6780960" cy="201600"/>
              <a:chOff x="0" y="0"/>
              <a:chExt cx="6780960" cy="201600"/>
            </a:xfrm>
          </p:grpSpPr>
          <p:sp>
            <p:nvSpPr>
              <p:cNvPr id="2266" name="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Postincrement operator overloaded as a member function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8" name=""/>
            <p:cNvGrpSpPr/>
            <p:nvPr/>
          </p:nvGrpSpPr>
          <p:grpSpPr>
            <a:xfrm>
              <a:off x="0" y="201600"/>
              <a:ext cx="6780960" cy="201600"/>
              <a:chOff x="0" y="201600"/>
              <a:chExt cx="6780960" cy="201600"/>
            </a:xfrm>
          </p:grpSpPr>
          <p:sp>
            <p:nvSpPr>
              <p:cNvPr id="2269" name="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Note that the dummy integer parameter does not have 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1" name=""/>
            <p:cNvGrpSpPr/>
            <p:nvPr/>
          </p:nvGrpSpPr>
          <p:grpSpPr>
            <a:xfrm>
              <a:off x="0" y="403200"/>
              <a:ext cx="6780960" cy="201600"/>
              <a:chOff x="0" y="403200"/>
              <a:chExt cx="6780960" cy="201600"/>
            </a:xfrm>
          </p:grpSpPr>
          <p:sp>
            <p:nvSpPr>
              <p:cNvPr id="2272" name="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parameter name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4" name=""/>
            <p:cNvGrpSpPr/>
            <p:nvPr/>
          </p:nvGrpSpPr>
          <p:grpSpPr>
            <a:xfrm>
              <a:off x="0" y="605160"/>
              <a:ext cx="6780960" cy="201600"/>
              <a:chOff x="0" y="605160"/>
              <a:chExt cx="6780960" cy="201600"/>
            </a:xfrm>
          </p:grpSpPr>
          <p:sp>
            <p:nvSpPr>
              <p:cNvPr id="2275" name="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Date Date::operator++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7" name=""/>
            <p:cNvGrpSpPr/>
            <p:nvPr/>
          </p:nvGrpSpPr>
          <p:grpSpPr>
            <a:xfrm>
              <a:off x="0" y="806760"/>
              <a:ext cx="6780960" cy="201600"/>
              <a:chOff x="0" y="806760"/>
              <a:chExt cx="6780960" cy="201600"/>
            </a:xfrm>
          </p:grpSpPr>
          <p:sp>
            <p:nvSpPr>
              <p:cNvPr id="2278" name="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0" name=""/>
            <p:cNvGrpSpPr/>
            <p:nvPr/>
          </p:nvGrpSpPr>
          <p:grpSpPr>
            <a:xfrm>
              <a:off x="0" y="1008360"/>
              <a:ext cx="6780960" cy="201600"/>
              <a:chOff x="0" y="1008360"/>
              <a:chExt cx="6780960" cy="201600"/>
            </a:xfrm>
          </p:grpSpPr>
          <p:sp>
            <p:nvSpPr>
              <p:cNvPr id="2281" name="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Date temp = *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thi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3" name=""/>
            <p:cNvGrpSpPr/>
            <p:nvPr/>
          </p:nvGrpSpPr>
          <p:grpSpPr>
            <a:xfrm>
              <a:off x="0" y="1209960"/>
              <a:ext cx="6780960" cy="201600"/>
              <a:chOff x="0" y="1209960"/>
              <a:chExt cx="6780960" cy="201600"/>
            </a:xfrm>
          </p:grpSpPr>
          <p:sp>
            <p:nvSpPr>
              <p:cNvPr id="2284" name="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helpIncreme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6" name=""/>
            <p:cNvGrpSpPr/>
            <p:nvPr/>
          </p:nvGrpSpPr>
          <p:grpSpPr>
            <a:xfrm>
              <a:off x="0" y="1411920"/>
              <a:ext cx="6780960" cy="201600"/>
              <a:chOff x="0" y="1411920"/>
              <a:chExt cx="6780960" cy="201600"/>
            </a:xfrm>
          </p:grpSpPr>
          <p:sp>
            <p:nvSpPr>
              <p:cNvPr id="2287" name="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9" name=""/>
            <p:cNvGrpSpPr/>
            <p:nvPr/>
          </p:nvGrpSpPr>
          <p:grpSpPr>
            <a:xfrm>
              <a:off x="0" y="1613520"/>
              <a:ext cx="6780960" cy="201600"/>
              <a:chOff x="0" y="1613520"/>
              <a:chExt cx="6780960" cy="201600"/>
            </a:xfrm>
          </p:grpSpPr>
          <p:sp>
            <p:nvSpPr>
              <p:cNvPr id="2290" name="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return non-incremented, saved, temporary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2" name=""/>
            <p:cNvGrpSpPr/>
            <p:nvPr/>
          </p:nvGrpSpPr>
          <p:grpSpPr>
            <a:xfrm>
              <a:off x="0" y="1815120"/>
              <a:ext cx="6780960" cy="201600"/>
              <a:chOff x="0" y="1815120"/>
              <a:chExt cx="6780960" cy="201600"/>
            </a:xfrm>
          </p:grpSpPr>
          <p:sp>
            <p:nvSpPr>
              <p:cNvPr id="2293" name="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temp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value return; not a reference retur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5" name=""/>
            <p:cNvGrpSpPr/>
            <p:nvPr/>
          </p:nvGrpSpPr>
          <p:grpSpPr>
            <a:xfrm>
              <a:off x="0" y="2017080"/>
              <a:ext cx="6780960" cy="201600"/>
              <a:chOff x="0" y="2017080"/>
              <a:chExt cx="6780960" cy="201600"/>
            </a:xfrm>
          </p:grpSpPr>
          <p:sp>
            <p:nvSpPr>
              <p:cNvPr id="2296" name="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8" name=""/>
            <p:cNvGrpSpPr/>
            <p:nvPr/>
          </p:nvGrpSpPr>
          <p:grpSpPr>
            <a:xfrm>
              <a:off x="0" y="2218680"/>
              <a:ext cx="6780960" cy="201600"/>
              <a:chOff x="0" y="2218680"/>
              <a:chExt cx="6780960" cy="201600"/>
            </a:xfrm>
          </p:grpSpPr>
          <p:sp>
            <p:nvSpPr>
              <p:cNvPr id="2299" name="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1" name=""/>
            <p:cNvGrpSpPr/>
            <p:nvPr/>
          </p:nvGrpSpPr>
          <p:grpSpPr>
            <a:xfrm>
              <a:off x="0" y="2420280"/>
              <a:ext cx="6780960" cy="201600"/>
              <a:chOff x="0" y="2420280"/>
              <a:chExt cx="6780960" cy="201600"/>
            </a:xfrm>
          </p:grpSpPr>
          <p:sp>
            <p:nvSpPr>
              <p:cNvPr id="2302" name="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Add a specific number of days to a d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4" name=""/>
            <p:cNvGrpSpPr/>
            <p:nvPr/>
          </p:nvGrpSpPr>
          <p:grpSpPr>
            <a:xfrm>
              <a:off x="0" y="2622240"/>
              <a:ext cx="6780960" cy="201600"/>
              <a:chOff x="0" y="2622240"/>
              <a:chExt cx="6780960" cy="201600"/>
            </a:xfrm>
          </p:grpSpPr>
          <p:sp>
            <p:nvSpPr>
              <p:cNvPr id="2305" name="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te &amp;Date::operator+=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dditionalDays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7" name=""/>
            <p:cNvGrpSpPr/>
            <p:nvPr/>
          </p:nvGrpSpPr>
          <p:grpSpPr>
            <a:xfrm>
              <a:off x="0" y="2823840"/>
              <a:ext cx="6780960" cy="201600"/>
              <a:chOff x="0" y="2823840"/>
              <a:chExt cx="6780960" cy="201600"/>
            </a:xfrm>
          </p:grpSpPr>
          <p:sp>
            <p:nvSpPr>
              <p:cNvPr id="2308" name="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0" name=""/>
            <p:cNvGrpSpPr/>
            <p:nvPr/>
          </p:nvGrpSpPr>
          <p:grpSpPr>
            <a:xfrm>
              <a:off x="0" y="3025440"/>
              <a:ext cx="6780960" cy="201600"/>
              <a:chOff x="0" y="3025440"/>
              <a:chExt cx="6780960" cy="201600"/>
            </a:xfrm>
          </p:grpSpPr>
          <p:sp>
            <p:nvSpPr>
              <p:cNvPr id="2311" name="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i = 0; i &lt; additionalDays; i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3" name=""/>
            <p:cNvGrpSpPr/>
            <p:nvPr/>
          </p:nvGrpSpPr>
          <p:grpSpPr>
            <a:xfrm>
              <a:off x="0" y="3227400"/>
              <a:ext cx="6780960" cy="201600"/>
              <a:chOff x="0" y="3227400"/>
              <a:chExt cx="6780960" cy="201600"/>
            </a:xfrm>
          </p:grpSpPr>
          <p:sp>
            <p:nvSpPr>
              <p:cNvPr id="2314" name="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helpIncreme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6" name=""/>
            <p:cNvGrpSpPr/>
            <p:nvPr/>
          </p:nvGrpSpPr>
          <p:grpSpPr>
            <a:xfrm>
              <a:off x="0" y="3429000"/>
              <a:ext cx="6780960" cy="201600"/>
              <a:chOff x="0" y="3429000"/>
              <a:chExt cx="6780960" cy="201600"/>
            </a:xfrm>
          </p:grpSpPr>
          <p:sp>
            <p:nvSpPr>
              <p:cNvPr id="2317" name="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9" name=""/>
            <p:cNvGrpSpPr/>
            <p:nvPr/>
          </p:nvGrpSpPr>
          <p:grpSpPr>
            <a:xfrm>
              <a:off x="0" y="3630600"/>
              <a:ext cx="6780960" cy="201600"/>
              <a:chOff x="0" y="3630600"/>
              <a:chExt cx="6780960" cy="201600"/>
            </a:xfrm>
          </p:grpSpPr>
          <p:sp>
            <p:nvSpPr>
              <p:cNvPr id="2320" name="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thi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enables casca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2" name=""/>
            <p:cNvGrpSpPr/>
            <p:nvPr/>
          </p:nvGrpSpPr>
          <p:grpSpPr>
            <a:xfrm>
              <a:off x="0" y="3832200"/>
              <a:ext cx="6780960" cy="201600"/>
              <a:chOff x="0" y="3832200"/>
              <a:chExt cx="6780960" cy="201600"/>
            </a:xfrm>
          </p:grpSpPr>
          <p:sp>
            <p:nvSpPr>
              <p:cNvPr id="2323" name="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5" name=""/>
            <p:cNvGrpSpPr/>
            <p:nvPr/>
          </p:nvGrpSpPr>
          <p:grpSpPr>
            <a:xfrm>
              <a:off x="0" y="4034160"/>
              <a:ext cx="6780960" cy="201600"/>
              <a:chOff x="0" y="4034160"/>
              <a:chExt cx="6780960" cy="201600"/>
            </a:xfrm>
          </p:grpSpPr>
          <p:sp>
            <p:nvSpPr>
              <p:cNvPr id="2326" name="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8" name=""/>
            <p:cNvGrpSpPr/>
            <p:nvPr/>
          </p:nvGrpSpPr>
          <p:grpSpPr>
            <a:xfrm>
              <a:off x="0" y="4235760"/>
              <a:ext cx="6780960" cy="201600"/>
              <a:chOff x="0" y="4235760"/>
              <a:chExt cx="6780960" cy="201600"/>
            </a:xfrm>
          </p:grpSpPr>
          <p:sp>
            <p:nvSpPr>
              <p:cNvPr id="2329" name="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If the year is a leap year, return true;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1" name=""/>
            <p:cNvGrpSpPr/>
            <p:nvPr/>
          </p:nvGrpSpPr>
          <p:grpSpPr>
            <a:xfrm>
              <a:off x="0" y="4437360"/>
              <a:ext cx="6780960" cy="201600"/>
              <a:chOff x="0" y="4437360"/>
              <a:chExt cx="6780960" cy="201600"/>
            </a:xfrm>
          </p:grpSpPr>
          <p:sp>
            <p:nvSpPr>
              <p:cNvPr id="2332" name="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otherwise, return fal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4" name=""/>
            <p:cNvGrpSpPr/>
            <p:nvPr/>
          </p:nvGrpSpPr>
          <p:grpSpPr>
            <a:xfrm>
              <a:off x="0" y="4639320"/>
              <a:ext cx="6780960" cy="201600"/>
              <a:chOff x="0" y="4639320"/>
              <a:chExt cx="6780960" cy="201600"/>
            </a:xfrm>
          </p:grpSpPr>
          <p:sp>
            <p:nvSpPr>
              <p:cNvPr id="2335" name="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te::leapYea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y 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7" name=""/>
            <p:cNvGrpSpPr/>
            <p:nvPr/>
          </p:nvGrpSpPr>
          <p:grpSpPr>
            <a:xfrm>
              <a:off x="0" y="4840920"/>
              <a:ext cx="6780960" cy="201600"/>
              <a:chOff x="0" y="4840920"/>
              <a:chExt cx="6780960" cy="201600"/>
            </a:xfrm>
          </p:grpSpPr>
          <p:sp>
            <p:nvSpPr>
              <p:cNvPr id="2338" name="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0" name=""/>
            <p:cNvGrpSpPr/>
            <p:nvPr/>
          </p:nvGrpSpPr>
          <p:grpSpPr>
            <a:xfrm>
              <a:off x="0" y="5042520"/>
              <a:ext cx="6780960" cy="201600"/>
              <a:chOff x="0" y="5042520"/>
              <a:chExt cx="6780960" cy="201600"/>
            </a:xfrm>
          </p:grpSpPr>
          <p:sp>
            <p:nvSpPr>
              <p:cNvPr id="2341" name="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y % 400 == 0 || ( y % 100 != 0 &amp;&amp; y % 4 == 0 )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3" name=""/>
            <p:cNvGrpSpPr/>
            <p:nvPr/>
          </p:nvGrpSpPr>
          <p:grpSpPr>
            <a:xfrm>
              <a:off x="0" y="5244480"/>
              <a:ext cx="6780960" cy="201600"/>
              <a:chOff x="0" y="5244480"/>
              <a:chExt cx="6780960" cy="201600"/>
            </a:xfrm>
          </p:grpSpPr>
          <p:sp>
            <p:nvSpPr>
              <p:cNvPr id="2344" name="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true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a leap ye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6" name=""/>
            <p:cNvGrpSpPr/>
            <p:nvPr/>
          </p:nvGrpSpPr>
          <p:grpSpPr>
            <a:xfrm>
              <a:off x="0" y="5446080"/>
              <a:ext cx="6780960" cy="201600"/>
              <a:chOff x="0" y="5446080"/>
              <a:chExt cx="6780960" cy="201600"/>
            </a:xfrm>
          </p:grpSpPr>
          <p:sp>
            <p:nvSpPr>
              <p:cNvPr id="2347" name="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el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9" name=""/>
            <p:cNvGrpSpPr/>
            <p:nvPr/>
          </p:nvGrpSpPr>
          <p:grpSpPr>
            <a:xfrm>
              <a:off x="0" y="5647680"/>
              <a:ext cx="6780960" cy="201600"/>
              <a:chOff x="0" y="5647680"/>
              <a:chExt cx="6780960" cy="201600"/>
            </a:xfrm>
          </p:grpSpPr>
          <p:sp>
            <p:nvSpPr>
              <p:cNvPr id="2350" name="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false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not a leap ye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2" name=""/>
            <p:cNvGrpSpPr/>
            <p:nvPr/>
          </p:nvGrpSpPr>
          <p:grpSpPr>
            <a:xfrm>
              <a:off x="0" y="5849640"/>
              <a:ext cx="6780960" cy="201600"/>
              <a:chOff x="0" y="5849640"/>
              <a:chExt cx="6780960" cy="201600"/>
            </a:xfrm>
          </p:grpSpPr>
          <p:sp>
            <p:nvSpPr>
              <p:cNvPr id="2353" name="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5" name=""/>
            <p:cNvGrpSpPr/>
            <p:nvPr/>
          </p:nvGrpSpPr>
          <p:grpSpPr>
            <a:xfrm>
              <a:off x="0" y="6051240"/>
              <a:ext cx="6780960" cy="201600"/>
              <a:chOff x="0" y="6051240"/>
              <a:chExt cx="6780960" cy="201600"/>
            </a:xfrm>
          </p:grpSpPr>
          <p:sp>
            <p:nvSpPr>
              <p:cNvPr id="2356" name="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8" name=""/>
            <p:cNvGrpSpPr/>
            <p:nvPr/>
          </p:nvGrpSpPr>
          <p:grpSpPr>
            <a:xfrm>
              <a:off x="0" y="6252840"/>
              <a:ext cx="6780960" cy="201600"/>
              <a:chOff x="0" y="6252840"/>
              <a:chExt cx="6780960" cy="201600"/>
            </a:xfrm>
          </p:grpSpPr>
          <p:sp>
            <p:nvSpPr>
              <p:cNvPr id="2359" name="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Determine if the day is the end of the mont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1" name=""/>
            <p:cNvGrpSpPr/>
            <p:nvPr/>
          </p:nvGrpSpPr>
          <p:grpSpPr>
            <a:xfrm>
              <a:off x="0" y="6454800"/>
              <a:ext cx="6780960" cy="201600"/>
              <a:chOff x="0" y="6454800"/>
              <a:chExt cx="6780960" cy="201600"/>
            </a:xfrm>
          </p:grpSpPr>
          <p:sp>
            <p:nvSpPr>
              <p:cNvPr id="2362" name="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te::endOfMonth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 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4" name=""/>
            <p:cNvGrpSpPr/>
            <p:nvPr/>
          </p:nvGrpSpPr>
          <p:grpSpPr>
            <a:xfrm>
              <a:off x="0" y="6656400"/>
              <a:ext cx="6780960" cy="201600"/>
              <a:chOff x="0" y="6656400"/>
              <a:chExt cx="6780960" cy="201600"/>
            </a:xfrm>
          </p:grpSpPr>
          <p:sp>
            <p:nvSpPr>
              <p:cNvPr id="2365" name="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67" name=""/>
          <p:cNvGrpSpPr/>
          <p:nvPr/>
        </p:nvGrpSpPr>
        <p:grpSpPr>
          <a:xfrm>
            <a:off x="2819160" y="838080"/>
            <a:ext cx="3504960" cy="657000"/>
            <a:chOff x="2819160" y="838080"/>
            <a:chExt cx="3504960" cy="657000"/>
          </a:xfrm>
        </p:grpSpPr>
        <p:sp>
          <p:nvSpPr>
            <p:cNvPr id="2368" name=""/>
            <p:cNvSpPr/>
            <p:nvPr/>
          </p:nvSpPr>
          <p:spPr>
            <a:xfrm flipH="1" flipV="1">
              <a:off x="2819160" y="838080"/>
              <a:ext cx="13539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4014360" y="914400"/>
              <a:ext cx="23097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ostincrement operator has a dumm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valu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2F2CD-9521-4BC0-873F-6E101F59824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9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elpIncremen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perator&lt;&lt;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(outpu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t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371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2372" name=""/>
            <p:cNvGrpSpPr/>
            <p:nvPr/>
          </p:nvGrpSpPr>
          <p:grpSpPr>
            <a:xfrm>
              <a:off x="0" y="0"/>
              <a:ext cx="6780960" cy="195840"/>
              <a:chOff x="0" y="0"/>
              <a:chExt cx="6780960" cy="195840"/>
            </a:xfrm>
          </p:grpSpPr>
          <p:sp>
            <p:nvSpPr>
              <p:cNvPr id="2373" name=""/>
              <p:cNvSpPr/>
              <p:nvPr/>
            </p:nvSpPr>
            <p:spPr>
              <a:xfrm>
                <a:off x="0" y="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0" y="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month == 2 &amp;&amp; leapYear( year )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5" name=""/>
            <p:cNvGrpSpPr/>
            <p:nvPr/>
          </p:nvGrpSpPr>
          <p:grpSpPr>
            <a:xfrm>
              <a:off x="0" y="195840"/>
              <a:ext cx="6780960" cy="195840"/>
              <a:chOff x="0" y="195840"/>
              <a:chExt cx="6780960" cy="195840"/>
            </a:xfrm>
          </p:grpSpPr>
          <p:sp>
            <p:nvSpPr>
              <p:cNvPr id="2376" name=""/>
              <p:cNvSpPr/>
              <p:nvPr/>
            </p:nvSpPr>
            <p:spPr>
              <a:xfrm>
                <a:off x="0" y="1958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0" y="1958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 == 29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last day of Feb. in leap ye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8" name=""/>
            <p:cNvGrpSpPr/>
            <p:nvPr/>
          </p:nvGrpSpPr>
          <p:grpSpPr>
            <a:xfrm>
              <a:off x="0" y="391680"/>
              <a:ext cx="6780960" cy="195840"/>
              <a:chOff x="0" y="391680"/>
              <a:chExt cx="6780960" cy="195840"/>
            </a:xfrm>
          </p:grpSpPr>
          <p:sp>
            <p:nvSpPr>
              <p:cNvPr id="2379" name=""/>
              <p:cNvSpPr/>
              <p:nvPr/>
            </p:nvSpPr>
            <p:spPr>
              <a:xfrm>
                <a:off x="0" y="3916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0" y="3916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el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1" name=""/>
            <p:cNvGrpSpPr/>
            <p:nvPr/>
          </p:nvGrpSpPr>
          <p:grpSpPr>
            <a:xfrm>
              <a:off x="0" y="587880"/>
              <a:ext cx="6780960" cy="195840"/>
              <a:chOff x="0" y="587880"/>
              <a:chExt cx="6780960" cy="195840"/>
            </a:xfrm>
          </p:grpSpPr>
          <p:sp>
            <p:nvSpPr>
              <p:cNvPr id="2382" name=""/>
              <p:cNvSpPr/>
              <p:nvPr/>
            </p:nvSpPr>
            <p:spPr>
              <a:xfrm>
                <a:off x="0" y="5878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0" y="5878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 == days[ month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4" name=""/>
            <p:cNvGrpSpPr/>
            <p:nvPr/>
          </p:nvGrpSpPr>
          <p:grpSpPr>
            <a:xfrm>
              <a:off x="0" y="783720"/>
              <a:ext cx="6780960" cy="195840"/>
              <a:chOff x="0" y="783720"/>
              <a:chExt cx="6780960" cy="195840"/>
            </a:xfrm>
          </p:grpSpPr>
          <p:sp>
            <p:nvSpPr>
              <p:cNvPr id="2385" name=""/>
              <p:cNvSpPr/>
              <p:nvPr/>
            </p:nvSpPr>
            <p:spPr>
              <a:xfrm>
                <a:off x="0" y="7837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0" y="7837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7" name=""/>
            <p:cNvGrpSpPr/>
            <p:nvPr/>
          </p:nvGrpSpPr>
          <p:grpSpPr>
            <a:xfrm>
              <a:off x="0" y="979560"/>
              <a:ext cx="6780960" cy="195840"/>
              <a:chOff x="0" y="979560"/>
              <a:chExt cx="6780960" cy="195840"/>
            </a:xfrm>
          </p:grpSpPr>
          <p:sp>
            <p:nvSpPr>
              <p:cNvPr id="2388" name=""/>
              <p:cNvSpPr/>
              <p:nvPr/>
            </p:nvSpPr>
            <p:spPr>
              <a:xfrm>
                <a:off x="0" y="9795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0" y="9795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0" name=""/>
            <p:cNvGrpSpPr/>
            <p:nvPr/>
          </p:nvGrpSpPr>
          <p:grpSpPr>
            <a:xfrm>
              <a:off x="0" y="1175400"/>
              <a:ext cx="6780960" cy="195840"/>
              <a:chOff x="0" y="1175400"/>
              <a:chExt cx="6780960" cy="195840"/>
            </a:xfrm>
          </p:grpSpPr>
          <p:sp>
            <p:nvSpPr>
              <p:cNvPr id="2391" name=""/>
              <p:cNvSpPr/>
              <p:nvPr/>
            </p:nvSpPr>
            <p:spPr>
              <a:xfrm>
                <a:off x="0" y="11754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0" y="11754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Function to help increment the d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3" name=""/>
            <p:cNvGrpSpPr/>
            <p:nvPr/>
          </p:nvGrpSpPr>
          <p:grpSpPr>
            <a:xfrm>
              <a:off x="0" y="1371600"/>
              <a:ext cx="6780960" cy="195840"/>
              <a:chOff x="0" y="1371600"/>
              <a:chExt cx="6780960" cy="195840"/>
            </a:xfrm>
          </p:grpSpPr>
          <p:sp>
            <p:nvSpPr>
              <p:cNvPr id="2394" name=""/>
              <p:cNvSpPr/>
              <p:nvPr/>
            </p:nvSpPr>
            <p:spPr>
              <a:xfrm>
                <a:off x="0" y="13716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0" y="13716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te::helpIncrement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6" name=""/>
            <p:cNvGrpSpPr/>
            <p:nvPr/>
          </p:nvGrpSpPr>
          <p:grpSpPr>
            <a:xfrm>
              <a:off x="0" y="1567440"/>
              <a:ext cx="6780960" cy="195840"/>
              <a:chOff x="0" y="1567440"/>
              <a:chExt cx="6780960" cy="195840"/>
            </a:xfrm>
          </p:grpSpPr>
          <p:sp>
            <p:nvSpPr>
              <p:cNvPr id="2397" name=""/>
              <p:cNvSpPr/>
              <p:nvPr/>
            </p:nvSpPr>
            <p:spPr>
              <a:xfrm>
                <a:off x="0" y="15674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0" y="15674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9" name=""/>
            <p:cNvGrpSpPr/>
            <p:nvPr/>
          </p:nvGrpSpPr>
          <p:grpSpPr>
            <a:xfrm>
              <a:off x="0" y="1763280"/>
              <a:ext cx="6780960" cy="195840"/>
              <a:chOff x="0" y="1763280"/>
              <a:chExt cx="6780960" cy="195840"/>
            </a:xfrm>
          </p:grpSpPr>
          <p:sp>
            <p:nvSpPr>
              <p:cNvPr id="2400" name=""/>
              <p:cNvSpPr/>
              <p:nvPr/>
            </p:nvSpPr>
            <p:spPr>
              <a:xfrm>
                <a:off x="0" y="17632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0" y="17632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endOfMonth( day ) &amp;&amp; month == 12 ) {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end ye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2" name=""/>
            <p:cNvGrpSpPr/>
            <p:nvPr/>
          </p:nvGrpSpPr>
          <p:grpSpPr>
            <a:xfrm>
              <a:off x="0" y="1959120"/>
              <a:ext cx="6780960" cy="195840"/>
              <a:chOff x="0" y="1959120"/>
              <a:chExt cx="6780960" cy="195840"/>
            </a:xfrm>
          </p:grpSpPr>
          <p:sp>
            <p:nvSpPr>
              <p:cNvPr id="2403" name=""/>
              <p:cNvSpPr/>
              <p:nvPr/>
            </p:nvSpPr>
            <p:spPr>
              <a:xfrm>
                <a:off x="0" y="19591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0" y="19591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day = 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5" name=""/>
            <p:cNvGrpSpPr/>
            <p:nvPr/>
          </p:nvGrpSpPr>
          <p:grpSpPr>
            <a:xfrm>
              <a:off x="0" y="2155320"/>
              <a:ext cx="6780960" cy="195840"/>
              <a:chOff x="0" y="2155320"/>
              <a:chExt cx="6780960" cy="195840"/>
            </a:xfrm>
          </p:grpSpPr>
          <p:sp>
            <p:nvSpPr>
              <p:cNvPr id="2406" name=""/>
              <p:cNvSpPr/>
              <p:nvPr/>
            </p:nvSpPr>
            <p:spPr>
              <a:xfrm>
                <a:off x="0" y="21553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0" y="21553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month = 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8" name=""/>
            <p:cNvGrpSpPr/>
            <p:nvPr/>
          </p:nvGrpSpPr>
          <p:grpSpPr>
            <a:xfrm>
              <a:off x="0" y="2351160"/>
              <a:ext cx="6780960" cy="195840"/>
              <a:chOff x="0" y="2351160"/>
              <a:chExt cx="6780960" cy="195840"/>
            </a:xfrm>
          </p:grpSpPr>
          <p:sp>
            <p:nvSpPr>
              <p:cNvPr id="2409" name=""/>
              <p:cNvSpPr/>
              <p:nvPr/>
            </p:nvSpPr>
            <p:spPr>
              <a:xfrm>
                <a:off x="0" y="23511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0" y="23511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++yea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1" name=""/>
            <p:cNvGrpSpPr/>
            <p:nvPr/>
          </p:nvGrpSpPr>
          <p:grpSpPr>
            <a:xfrm>
              <a:off x="0" y="2547000"/>
              <a:ext cx="6780960" cy="195840"/>
              <a:chOff x="0" y="2547000"/>
              <a:chExt cx="6780960" cy="195840"/>
            </a:xfrm>
          </p:grpSpPr>
          <p:sp>
            <p:nvSpPr>
              <p:cNvPr id="2412" name=""/>
              <p:cNvSpPr/>
              <p:nvPr/>
            </p:nvSpPr>
            <p:spPr>
              <a:xfrm>
                <a:off x="0" y="25470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0" y="25470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4" name=""/>
            <p:cNvGrpSpPr/>
            <p:nvPr/>
          </p:nvGrpSpPr>
          <p:grpSpPr>
            <a:xfrm>
              <a:off x="0" y="2743200"/>
              <a:ext cx="6780960" cy="195840"/>
              <a:chOff x="0" y="2743200"/>
              <a:chExt cx="6780960" cy="195840"/>
            </a:xfrm>
          </p:grpSpPr>
          <p:sp>
            <p:nvSpPr>
              <p:cNvPr id="2415" name=""/>
              <p:cNvSpPr/>
              <p:nvPr/>
            </p:nvSpPr>
            <p:spPr>
              <a:xfrm>
                <a:off x="0" y="27432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0" y="27432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el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endOfMonth( day ) ) {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// end mont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7" name=""/>
            <p:cNvGrpSpPr/>
            <p:nvPr/>
          </p:nvGrpSpPr>
          <p:grpSpPr>
            <a:xfrm>
              <a:off x="0" y="2939040"/>
              <a:ext cx="6780960" cy="195840"/>
              <a:chOff x="0" y="2939040"/>
              <a:chExt cx="6780960" cy="195840"/>
            </a:xfrm>
          </p:grpSpPr>
          <p:sp>
            <p:nvSpPr>
              <p:cNvPr id="2418" name=""/>
              <p:cNvSpPr/>
              <p:nvPr/>
            </p:nvSpPr>
            <p:spPr>
              <a:xfrm>
                <a:off x="0" y="29390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0" y="29390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day = 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0" name=""/>
            <p:cNvGrpSpPr/>
            <p:nvPr/>
          </p:nvGrpSpPr>
          <p:grpSpPr>
            <a:xfrm>
              <a:off x="0" y="3134880"/>
              <a:ext cx="6780960" cy="195840"/>
              <a:chOff x="0" y="3134880"/>
              <a:chExt cx="6780960" cy="195840"/>
            </a:xfrm>
          </p:grpSpPr>
          <p:sp>
            <p:nvSpPr>
              <p:cNvPr id="2421" name=""/>
              <p:cNvSpPr/>
              <p:nvPr/>
            </p:nvSpPr>
            <p:spPr>
              <a:xfrm>
                <a:off x="0" y="31348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0" y="31348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++month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3" name=""/>
            <p:cNvGrpSpPr/>
            <p:nvPr/>
          </p:nvGrpSpPr>
          <p:grpSpPr>
            <a:xfrm>
              <a:off x="0" y="3331080"/>
              <a:ext cx="6780960" cy="195840"/>
              <a:chOff x="0" y="3331080"/>
              <a:chExt cx="6780960" cy="195840"/>
            </a:xfrm>
          </p:grpSpPr>
          <p:sp>
            <p:nvSpPr>
              <p:cNvPr id="2424" name=""/>
              <p:cNvSpPr/>
              <p:nvPr/>
            </p:nvSpPr>
            <p:spPr>
              <a:xfrm>
                <a:off x="0" y="33310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0" y="33310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6" name=""/>
            <p:cNvGrpSpPr/>
            <p:nvPr/>
          </p:nvGrpSpPr>
          <p:grpSpPr>
            <a:xfrm>
              <a:off x="0" y="3526920"/>
              <a:ext cx="6780960" cy="195840"/>
              <a:chOff x="0" y="3526920"/>
              <a:chExt cx="6780960" cy="195840"/>
            </a:xfrm>
          </p:grpSpPr>
          <p:sp>
            <p:nvSpPr>
              <p:cNvPr id="2427" name=""/>
              <p:cNvSpPr/>
              <p:nvPr/>
            </p:nvSpPr>
            <p:spPr>
              <a:xfrm>
                <a:off x="0" y="35269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0" y="35269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el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not end of month or year; increment d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9" name=""/>
            <p:cNvGrpSpPr/>
            <p:nvPr/>
          </p:nvGrpSpPr>
          <p:grpSpPr>
            <a:xfrm>
              <a:off x="0" y="3722760"/>
              <a:ext cx="6780960" cy="195840"/>
              <a:chOff x="0" y="3722760"/>
              <a:chExt cx="6780960" cy="195840"/>
            </a:xfrm>
          </p:grpSpPr>
          <p:sp>
            <p:nvSpPr>
              <p:cNvPr id="2430" name=""/>
              <p:cNvSpPr/>
              <p:nvPr/>
            </p:nvSpPr>
            <p:spPr>
              <a:xfrm>
                <a:off x="0" y="37227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0" y="37227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++day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2" name=""/>
            <p:cNvGrpSpPr/>
            <p:nvPr/>
          </p:nvGrpSpPr>
          <p:grpSpPr>
            <a:xfrm>
              <a:off x="0" y="3918960"/>
              <a:ext cx="6780960" cy="195840"/>
              <a:chOff x="0" y="3918960"/>
              <a:chExt cx="6780960" cy="195840"/>
            </a:xfrm>
          </p:grpSpPr>
          <p:sp>
            <p:nvSpPr>
              <p:cNvPr id="2433" name=""/>
              <p:cNvSpPr/>
              <p:nvPr/>
            </p:nvSpPr>
            <p:spPr>
              <a:xfrm>
                <a:off x="0" y="39189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0" y="39189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5" name=""/>
            <p:cNvGrpSpPr/>
            <p:nvPr/>
          </p:nvGrpSpPr>
          <p:grpSpPr>
            <a:xfrm>
              <a:off x="0" y="4114800"/>
              <a:ext cx="6780960" cy="195840"/>
              <a:chOff x="0" y="4114800"/>
              <a:chExt cx="6780960" cy="195840"/>
            </a:xfrm>
          </p:grpSpPr>
          <p:sp>
            <p:nvSpPr>
              <p:cNvPr id="2436" name=""/>
              <p:cNvSpPr/>
              <p:nvPr/>
            </p:nvSpPr>
            <p:spPr>
              <a:xfrm>
                <a:off x="0" y="41148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0" y="41148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8" name=""/>
            <p:cNvGrpSpPr/>
            <p:nvPr/>
          </p:nvGrpSpPr>
          <p:grpSpPr>
            <a:xfrm>
              <a:off x="0" y="4310640"/>
              <a:ext cx="6780960" cy="195840"/>
              <a:chOff x="0" y="4310640"/>
              <a:chExt cx="6780960" cy="195840"/>
            </a:xfrm>
          </p:grpSpPr>
          <p:sp>
            <p:nvSpPr>
              <p:cNvPr id="2439" name=""/>
              <p:cNvSpPr/>
              <p:nvPr/>
            </p:nvSpPr>
            <p:spPr>
              <a:xfrm>
                <a:off x="0" y="43106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0" y="43106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Overloaded output opera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1" name=""/>
            <p:cNvGrpSpPr/>
            <p:nvPr/>
          </p:nvGrpSpPr>
          <p:grpSpPr>
            <a:xfrm>
              <a:off x="0" y="4506480"/>
              <a:ext cx="6780960" cy="195840"/>
              <a:chOff x="0" y="4506480"/>
              <a:chExt cx="6780960" cy="195840"/>
            </a:xfrm>
          </p:grpSpPr>
          <p:sp>
            <p:nvSpPr>
              <p:cNvPr id="2442" name=""/>
              <p:cNvSpPr/>
              <p:nvPr/>
            </p:nvSpPr>
            <p:spPr>
              <a:xfrm>
                <a:off x="0" y="45064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0" y="45064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ostream &amp;operator&lt;&lt;( ostream &amp;outpu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te &amp;d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4" name=""/>
            <p:cNvGrpSpPr/>
            <p:nvPr/>
          </p:nvGrpSpPr>
          <p:grpSpPr>
            <a:xfrm>
              <a:off x="0" y="4702680"/>
              <a:ext cx="6780960" cy="195840"/>
              <a:chOff x="0" y="4702680"/>
              <a:chExt cx="6780960" cy="195840"/>
            </a:xfrm>
          </p:grpSpPr>
          <p:sp>
            <p:nvSpPr>
              <p:cNvPr id="2445" name=""/>
              <p:cNvSpPr/>
              <p:nvPr/>
            </p:nvSpPr>
            <p:spPr>
              <a:xfrm>
                <a:off x="0" y="47026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0" y="47026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7" name=""/>
            <p:cNvGrpSpPr/>
            <p:nvPr/>
          </p:nvGrpSpPr>
          <p:grpSpPr>
            <a:xfrm>
              <a:off x="0" y="4898520"/>
              <a:ext cx="6780960" cy="195840"/>
              <a:chOff x="0" y="4898520"/>
              <a:chExt cx="6780960" cy="195840"/>
            </a:xfrm>
          </p:grpSpPr>
          <p:sp>
            <p:nvSpPr>
              <p:cNvPr id="2448" name=""/>
              <p:cNvSpPr/>
              <p:nvPr/>
            </p:nvSpPr>
            <p:spPr>
              <a:xfrm>
                <a:off x="0" y="48985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0" y="48985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static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monthName[ 13 ] = { "", "January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0" name=""/>
            <p:cNvGrpSpPr/>
            <p:nvPr/>
          </p:nvGrpSpPr>
          <p:grpSpPr>
            <a:xfrm>
              <a:off x="0" y="5094360"/>
              <a:ext cx="6780960" cy="195840"/>
              <a:chOff x="0" y="5094360"/>
              <a:chExt cx="6780960" cy="195840"/>
            </a:xfrm>
          </p:grpSpPr>
          <p:sp>
            <p:nvSpPr>
              <p:cNvPr id="2451" name=""/>
              <p:cNvSpPr/>
              <p:nvPr/>
            </p:nvSpPr>
            <p:spPr>
              <a:xfrm>
                <a:off x="0" y="50943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0" y="50943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"February", "March", "April", "May", "June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3" name=""/>
            <p:cNvGrpSpPr/>
            <p:nvPr/>
          </p:nvGrpSpPr>
          <p:grpSpPr>
            <a:xfrm>
              <a:off x="0" y="5290560"/>
              <a:ext cx="6780960" cy="195840"/>
              <a:chOff x="0" y="5290560"/>
              <a:chExt cx="6780960" cy="195840"/>
            </a:xfrm>
          </p:grpSpPr>
          <p:sp>
            <p:nvSpPr>
              <p:cNvPr id="2454" name=""/>
              <p:cNvSpPr/>
              <p:nvPr/>
            </p:nvSpPr>
            <p:spPr>
              <a:xfrm>
                <a:off x="0" y="52905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0" y="52905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"July", "August", "September", "October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6" name=""/>
            <p:cNvGrpSpPr/>
            <p:nvPr/>
          </p:nvGrpSpPr>
          <p:grpSpPr>
            <a:xfrm>
              <a:off x="0" y="5486400"/>
              <a:ext cx="6780960" cy="195840"/>
              <a:chOff x="0" y="5486400"/>
              <a:chExt cx="6780960" cy="195840"/>
            </a:xfrm>
          </p:grpSpPr>
          <p:sp>
            <p:nvSpPr>
              <p:cNvPr id="2457" name=""/>
              <p:cNvSpPr/>
              <p:nvPr/>
            </p:nvSpPr>
            <p:spPr>
              <a:xfrm>
                <a:off x="0" y="54864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0" y="54864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"November", "December"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9" name=""/>
            <p:cNvGrpSpPr/>
            <p:nvPr/>
          </p:nvGrpSpPr>
          <p:grpSpPr>
            <a:xfrm>
              <a:off x="0" y="5682240"/>
              <a:ext cx="6780960" cy="195840"/>
              <a:chOff x="0" y="5682240"/>
              <a:chExt cx="6780960" cy="195840"/>
            </a:xfrm>
          </p:grpSpPr>
          <p:sp>
            <p:nvSpPr>
              <p:cNvPr id="2460" name=""/>
              <p:cNvSpPr/>
              <p:nvPr/>
            </p:nvSpPr>
            <p:spPr>
              <a:xfrm>
                <a:off x="0" y="56822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0" y="56822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2" name=""/>
            <p:cNvGrpSpPr/>
            <p:nvPr/>
          </p:nvGrpSpPr>
          <p:grpSpPr>
            <a:xfrm>
              <a:off x="0" y="5878440"/>
              <a:ext cx="6780960" cy="195840"/>
              <a:chOff x="0" y="5878440"/>
              <a:chExt cx="6780960" cy="195840"/>
            </a:xfrm>
          </p:grpSpPr>
          <p:sp>
            <p:nvSpPr>
              <p:cNvPr id="2463" name=""/>
              <p:cNvSpPr/>
              <p:nvPr/>
            </p:nvSpPr>
            <p:spPr>
              <a:xfrm>
                <a:off x="0" y="58784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0" y="58784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output &lt;&lt; monthName[ d.month ] &lt;&lt; ' '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5" name=""/>
            <p:cNvGrpSpPr/>
            <p:nvPr/>
          </p:nvGrpSpPr>
          <p:grpSpPr>
            <a:xfrm>
              <a:off x="0" y="6074280"/>
              <a:ext cx="6780960" cy="195840"/>
              <a:chOff x="0" y="6074280"/>
              <a:chExt cx="6780960" cy="195840"/>
            </a:xfrm>
          </p:grpSpPr>
          <p:sp>
            <p:nvSpPr>
              <p:cNvPr id="2466" name=""/>
              <p:cNvSpPr/>
              <p:nvPr/>
            </p:nvSpPr>
            <p:spPr>
              <a:xfrm>
                <a:off x="0" y="60742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0" y="60742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 &lt;&lt; d.day &lt;&lt; ", " &lt;&lt; d.yea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8" name=""/>
            <p:cNvGrpSpPr/>
            <p:nvPr/>
          </p:nvGrpSpPr>
          <p:grpSpPr>
            <a:xfrm>
              <a:off x="0" y="6270120"/>
              <a:ext cx="6780960" cy="195840"/>
              <a:chOff x="0" y="6270120"/>
              <a:chExt cx="6780960" cy="195840"/>
            </a:xfrm>
          </p:grpSpPr>
          <p:sp>
            <p:nvSpPr>
              <p:cNvPr id="2469" name=""/>
              <p:cNvSpPr/>
              <p:nvPr/>
            </p:nvSpPr>
            <p:spPr>
              <a:xfrm>
                <a:off x="0" y="62701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0" y="62701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1" name=""/>
            <p:cNvGrpSpPr/>
            <p:nvPr/>
          </p:nvGrpSpPr>
          <p:grpSpPr>
            <a:xfrm>
              <a:off x="0" y="6466320"/>
              <a:ext cx="6780960" cy="195840"/>
              <a:chOff x="0" y="6466320"/>
              <a:chExt cx="6780960" cy="195840"/>
            </a:xfrm>
          </p:grpSpPr>
          <p:sp>
            <p:nvSpPr>
              <p:cNvPr id="2472" name=""/>
              <p:cNvSpPr/>
              <p:nvPr/>
            </p:nvSpPr>
            <p:spPr>
              <a:xfrm>
                <a:off x="0" y="64663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0" y="64663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output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enables casca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4" name=""/>
            <p:cNvGrpSpPr/>
            <p:nvPr/>
          </p:nvGrpSpPr>
          <p:grpSpPr>
            <a:xfrm>
              <a:off x="0" y="6662160"/>
              <a:ext cx="6780960" cy="195840"/>
              <a:chOff x="0" y="6662160"/>
              <a:chExt cx="6780960" cy="195840"/>
            </a:xfrm>
          </p:grpSpPr>
          <p:sp>
            <p:nvSpPr>
              <p:cNvPr id="2475" name=""/>
              <p:cNvSpPr/>
              <p:nvPr/>
            </p:nvSpPr>
            <p:spPr>
              <a:xfrm>
                <a:off x="0" y="66621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0" y="66621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EB277-8BD9-4A59-8CDE-44DFF04556C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Initialize objec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Print resul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478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2479" name=""/>
            <p:cNvGrpSpPr/>
            <p:nvPr/>
          </p:nvGrpSpPr>
          <p:grpSpPr>
            <a:xfrm>
              <a:off x="0" y="0"/>
              <a:ext cx="6780960" cy="190440"/>
              <a:chOff x="0" y="0"/>
              <a:chExt cx="6780960" cy="190440"/>
            </a:xfrm>
          </p:grpSpPr>
          <p:sp>
            <p:nvSpPr>
              <p:cNvPr id="2480" name=""/>
              <p:cNvSpPr/>
              <p:nvPr/>
            </p:nvSpPr>
            <p:spPr>
              <a:xfrm>
                <a:off x="0" y="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0" y="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Fig. 8.6: fig08_06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2" name=""/>
            <p:cNvGrpSpPr/>
            <p:nvPr/>
          </p:nvGrpSpPr>
          <p:grpSpPr>
            <a:xfrm>
              <a:off x="0" y="190440"/>
              <a:ext cx="6780960" cy="190440"/>
              <a:chOff x="0" y="190440"/>
              <a:chExt cx="6780960" cy="190440"/>
            </a:xfrm>
          </p:grpSpPr>
          <p:sp>
            <p:nvSpPr>
              <p:cNvPr id="2483" name=""/>
              <p:cNvSpPr/>
              <p:nvPr/>
            </p:nvSpPr>
            <p:spPr>
              <a:xfrm>
                <a:off x="0" y="190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0" y="190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Driver for class D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5" name=""/>
            <p:cNvGrpSpPr/>
            <p:nvPr/>
          </p:nvGrpSpPr>
          <p:grpSpPr>
            <a:xfrm>
              <a:off x="0" y="380880"/>
              <a:ext cx="6780960" cy="190440"/>
              <a:chOff x="0" y="380880"/>
              <a:chExt cx="6780960" cy="190440"/>
            </a:xfrm>
          </p:grpSpPr>
          <p:sp>
            <p:nvSpPr>
              <p:cNvPr id="2486" name=""/>
              <p:cNvSpPr/>
              <p:nvPr/>
            </p:nvSpPr>
            <p:spPr>
              <a:xfrm>
                <a:off x="0" y="380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0" y="380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8" name=""/>
            <p:cNvGrpSpPr/>
            <p:nvPr/>
          </p:nvGrpSpPr>
          <p:grpSpPr>
            <a:xfrm>
              <a:off x="0" y="571320"/>
              <a:ext cx="6780960" cy="190440"/>
              <a:chOff x="0" y="571320"/>
              <a:chExt cx="6780960" cy="190440"/>
            </a:xfrm>
          </p:grpSpPr>
          <p:sp>
            <p:nvSpPr>
              <p:cNvPr id="2489" name=""/>
              <p:cNvSpPr/>
              <p:nvPr/>
            </p:nvSpPr>
            <p:spPr>
              <a:xfrm>
                <a:off x="0" y="571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0" y="571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1" name=""/>
            <p:cNvGrpSpPr/>
            <p:nvPr/>
          </p:nvGrpSpPr>
          <p:grpSpPr>
            <a:xfrm>
              <a:off x="0" y="761760"/>
              <a:ext cx="6780960" cy="190440"/>
              <a:chOff x="0" y="761760"/>
              <a:chExt cx="6780960" cy="190440"/>
            </a:xfrm>
          </p:grpSpPr>
          <p:sp>
            <p:nvSpPr>
              <p:cNvPr id="2492" name=""/>
              <p:cNvSpPr/>
              <p:nvPr/>
            </p:nvSpPr>
            <p:spPr>
              <a:xfrm>
                <a:off x="0" y="7617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0" y="7617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4" name=""/>
            <p:cNvGrpSpPr/>
            <p:nvPr/>
          </p:nvGrpSpPr>
          <p:grpSpPr>
            <a:xfrm>
              <a:off x="0" y="952200"/>
              <a:ext cx="6780960" cy="190440"/>
              <a:chOff x="0" y="952200"/>
              <a:chExt cx="6780960" cy="190440"/>
            </a:xfrm>
          </p:grpSpPr>
          <p:sp>
            <p:nvSpPr>
              <p:cNvPr id="2495" name=""/>
              <p:cNvSpPr/>
              <p:nvPr/>
            </p:nvSpPr>
            <p:spPr>
              <a:xfrm>
                <a:off x="0" y="9522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0" y="9522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7" name=""/>
            <p:cNvGrpSpPr/>
            <p:nvPr/>
          </p:nvGrpSpPr>
          <p:grpSpPr>
            <a:xfrm>
              <a:off x="0" y="1142640"/>
              <a:ext cx="6780960" cy="190440"/>
              <a:chOff x="0" y="1142640"/>
              <a:chExt cx="6780960" cy="190440"/>
            </a:xfrm>
          </p:grpSpPr>
          <p:sp>
            <p:nvSpPr>
              <p:cNvPr id="2498" name=""/>
              <p:cNvSpPr/>
              <p:nvPr/>
            </p:nvSpPr>
            <p:spPr>
              <a:xfrm>
                <a:off x="0" y="11426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0" y="11426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0" name=""/>
            <p:cNvGrpSpPr/>
            <p:nvPr/>
          </p:nvGrpSpPr>
          <p:grpSpPr>
            <a:xfrm>
              <a:off x="0" y="1333440"/>
              <a:ext cx="6780960" cy="190440"/>
              <a:chOff x="0" y="1333440"/>
              <a:chExt cx="6780960" cy="190440"/>
            </a:xfrm>
          </p:grpSpPr>
          <p:sp>
            <p:nvSpPr>
              <p:cNvPr id="2501" name=""/>
              <p:cNvSpPr/>
              <p:nvPr/>
            </p:nvSpPr>
            <p:spPr>
              <a:xfrm>
                <a:off x="0" y="1333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0" y="1333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"date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3" name=""/>
            <p:cNvGrpSpPr/>
            <p:nvPr/>
          </p:nvGrpSpPr>
          <p:grpSpPr>
            <a:xfrm>
              <a:off x="0" y="1523880"/>
              <a:ext cx="6780960" cy="190440"/>
              <a:chOff x="0" y="1523880"/>
              <a:chExt cx="6780960" cy="190440"/>
            </a:xfrm>
          </p:grpSpPr>
          <p:sp>
            <p:nvSpPr>
              <p:cNvPr id="2504" name=""/>
              <p:cNvSpPr/>
              <p:nvPr/>
            </p:nvSpPr>
            <p:spPr>
              <a:xfrm>
                <a:off x="0" y="1523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0" y="1523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6" name=""/>
            <p:cNvGrpSpPr/>
            <p:nvPr/>
          </p:nvGrpSpPr>
          <p:grpSpPr>
            <a:xfrm>
              <a:off x="0" y="1714320"/>
              <a:ext cx="6780960" cy="190440"/>
              <a:chOff x="0" y="1714320"/>
              <a:chExt cx="6780960" cy="190440"/>
            </a:xfrm>
          </p:grpSpPr>
          <p:sp>
            <p:nvSpPr>
              <p:cNvPr id="2507" name=""/>
              <p:cNvSpPr/>
              <p:nvPr/>
            </p:nvSpPr>
            <p:spPr>
              <a:xfrm>
                <a:off x="0" y="1714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0" y="1714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9" name=""/>
            <p:cNvGrpSpPr/>
            <p:nvPr/>
          </p:nvGrpSpPr>
          <p:grpSpPr>
            <a:xfrm>
              <a:off x="0" y="1904760"/>
              <a:ext cx="6780960" cy="190440"/>
              <a:chOff x="0" y="1904760"/>
              <a:chExt cx="6780960" cy="190440"/>
            </a:xfrm>
          </p:grpSpPr>
          <p:sp>
            <p:nvSpPr>
              <p:cNvPr id="2510" name=""/>
              <p:cNvSpPr/>
              <p:nvPr/>
            </p:nvSpPr>
            <p:spPr>
              <a:xfrm>
                <a:off x="0" y="19047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0" y="19047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2" name=""/>
            <p:cNvGrpSpPr/>
            <p:nvPr/>
          </p:nvGrpSpPr>
          <p:grpSpPr>
            <a:xfrm>
              <a:off x="0" y="2095560"/>
              <a:ext cx="6780960" cy="190440"/>
              <a:chOff x="0" y="2095560"/>
              <a:chExt cx="6780960" cy="190440"/>
            </a:xfrm>
          </p:grpSpPr>
          <p:sp>
            <p:nvSpPr>
              <p:cNvPr id="2513" name=""/>
              <p:cNvSpPr/>
              <p:nvPr/>
            </p:nvSpPr>
            <p:spPr>
              <a:xfrm>
                <a:off x="0" y="2095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0" y="2095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Date d1, d2( 12, 27, 1992 ), d3( 0, 99, 8045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5" name=""/>
            <p:cNvGrpSpPr/>
            <p:nvPr/>
          </p:nvGrpSpPr>
          <p:grpSpPr>
            <a:xfrm>
              <a:off x="0" y="2286000"/>
              <a:ext cx="6780960" cy="190440"/>
              <a:chOff x="0" y="2286000"/>
              <a:chExt cx="6780960" cy="190440"/>
            </a:xfrm>
          </p:grpSpPr>
          <p:sp>
            <p:nvSpPr>
              <p:cNvPr id="2516" name=""/>
              <p:cNvSpPr/>
              <p:nvPr/>
            </p:nvSpPr>
            <p:spPr>
              <a:xfrm>
                <a:off x="0" y="22860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0" y="22860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d1 is " &lt;&lt; d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8" name=""/>
            <p:cNvGrpSpPr/>
            <p:nvPr/>
          </p:nvGrpSpPr>
          <p:grpSpPr>
            <a:xfrm>
              <a:off x="0" y="2476440"/>
              <a:ext cx="6780960" cy="190440"/>
              <a:chOff x="0" y="2476440"/>
              <a:chExt cx="6780960" cy="190440"/>
            </a:xfrm>
          </p:grpSpPr>
          <p:sp>
            <p:nvSpPr>
              <p:cNvPr id="2519" name=""/>
              <p:cNvSpPr/>
              <p:nvPr/>
            </p:nvSpPr>
            <p:spPr>
              <a:xfrm>
                <a:off x="0" y="2476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0" y="2476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\nd2 is " &lt;&lt; d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1" name=""/>
            <p:cNvGrpSpPr/>
            <p:nvPr/>
          </p:nvGrpSpPr>
          <p:grpSpPr>
            <a:xfrm>
              <a:off x="0" y="2666880"/>
              <a:ext cx="6780960" cy="190440"/>
              <a:chOff x="0" y="2666880"/>
              <a:chExt cx="6780960" cy="190440"/>
            </a:xfrm>
          </p:grpSpPr>
          <p:sp>
            <p:nvSpPr>
              <p:cNvPr id="2522" name=""/>
              <p:cNvSpPr/>
              <p:nvPr/>
            </p:nvSpPr>
            <p:spPr>
              <a:xfrm>
                <a:off x="0" y="2666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0" y="2666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\nd3 is " &lt;&lt; d3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4" name=""/>
            <p:cNvGrpSpPr/>
            <p:nvPr/>
          </p:nvGrpSpPr>
          <p:grpSpPr>
            <a:xfrm>
              <a:off x="0" y="2857320"/>
              <a:ext cx="6780960" cy="190440"/>
              <a:chOff x="0" y="2857320"/>
              <a:chExt cx="6780960" cy="190440"/>
            </a:xfrm>
          </p:grpSpPr>
          <p:sp>
            <p:nvSpPr>
              <p:cNvPr id="2525" name=""/>
              <p:cNvSpPr/>
              <p:nvPr/>
            </p:nvSpPr>
            <p:spPr>
              <a:xfrm>
                <a:off x="0" y="2857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0" y="2857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7" name=""/>
            <p:cNvGrpSpPr/>
            <p:nvPr/>
          </p:nvGrpSpPr>
          <p:grpSpPr>
            <a:xfrm>
              <a:off x="0" y="3047760"/>
              <a:ext cx="6780960" cy="190440"/>
              <a:chOff x="0" y="3047760"/>
              <a:chExt cx="6780960" cy="190440"/>
            </a:xfrm>
          </p:grpSpPr>
          <p:sp>
            <p:nvSpPr>
              <p:cNvPr id="2528" name=""/>
              <p:cNvSpPr/>
              <p:nvPr/>
            </p:nvSpPr>
            <p:spPr>
              <a:xfrm>
                <a:off x="0" y="30477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0" y="30477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d2 += 7 is " &lt;&lt; ( d2 += 7 )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0" name=""/>
            <p:cNvGrpSpPr/>
            <p:nvPr/>
          </p:nvGrpSpPr>
          <p:grpSpPr>
            <a:xfrm>
              <a:off x="0" y="3238560"/>
              <a:ext cx="6780960" cy="190440"/>
              <a:chOff x="0" y="3238560"/>
              <a:chExt cx="6780960" cy="190440"/>
            </a:xfrm>
          </p:grpSpPr>
          <p:sp>
            <p:nvSpPr>
              <p:cNvPr id="2531" name=""/>
              <p:cNvSpPr/>
              <p:nvPr/>
            </p:nvSpPr>
            <p:spPr>
              <a:xfrm>
                <a:off x="0" y="3238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0" y="3238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3" name=""/>
            <p:cNvGrpSpPr/>
            <p:nvPr/>
          </p:nvGrpSpPr>
          <p:grpSpPr>
            <a:xfrm>
              <a:off x="0" y="3429000"/>
              <a:ext cx="6780960" cy="190440"/>
              <a:chOff x="0" y="3429000"/>
              <a:chExt cx="6780960" cy="190440"/>
            </a:xfrm>
          </p:grpSpPr>
          <p:sp>
            <p:nvSpPr>
              <p:cNvPr id="2534" name=""/>
              <p:cNvSpPr/>
              <p:nvPr/>
            </p:nvSpPr>
            <p:spPr>
              <a:xfrm>
                <a:off x="0" y="34290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0" y="34290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d3.setDate( 2, 28, 1992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6" name=""/>
            <p:cNvGrpSpPr/>
            <p:nvPr/>
          </p:nvGrpSpPr>
          <p:grpSpPr>
            <a:xfrm>
              <a:off x="0" y="3619440"/>
              <a:ext cx="6780960" cy="190440"/>
              <a:chOff x="0" y="3619440"/>
              <a:chExt cx="6780960" cy="190440"/>
            </a:xfrm>
          </p:grpSpPr>
          <p:sp>
            <p:nvSpPr>
              <p:cNvPr id="2537" name=""/>
              <p:cNvSpPr/>
              <p:nvPr/>
            </p:nvSpPr>
            <p:spPr>
              <a:xfrm>
                <a:off x="0" y="3619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0" y="3619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  d3 is " &lt;&lt; d3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9" name=""/>
            <p:cNvGrpSpPr/>
            <p:nvPr/>
          </p:nvGrpSpPr>
          <p:grpSpPr>
            <a:xfrm>
              <a:off x="0" y="3809880"/>
              <a:ext cx="6780960" cy="190440"/>
              <a:chOff x="0" y="3809880"/>
              <a:chExt cx="6780960" cy="190440"/>
            </a:xfrm>
          </p:grpSpPr>
          <p:sp>
            <p:nvSpPr>
              <p:cNvPr id="2540" name=""/>
              <p:cNvSpPr/>
              <p:nvPr/>
            </p:nvSpPr>
            <p:spPr>
              <a:xfrm>
                <a:off x="0" y="3809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0" y="3809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\n++d3 is " &lt;&lt; ++d3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2" name=""/>
            <p:cNvGrpSpPr/>
            <p:nvPr/>
          </p:nvGrpSpPr>
          <p:grpSpPr>
            <a:xfrm>
              <a:off x="0" y="4000320"/>
              <a:ext cx="6780960" cy="190440"/>
              <a:chOff x="0" y="4000320"/>
              <a:chExt cx="6780960" cy="190440"/>
            </a:xfrm>
          </p:grpSpPr>
          <p:sp>
            <p:nvSpPr>
              <p:cNvPr id="2543" name=""/>
              <p:cNvSpPr/>
              <p:nvPr/>
            </p:nvSpPr>
            <p:spPr>
              <a:xfrm>
                <a:off x="0" y="4000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0" y="4000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5" name=""/>
            <p:cNvGrpSpPr/>
            <p:nvPr/>
          </p:nvGrpSpPr>
          <p:grpSpPr>
            <a:xfrm>
              <a:off x="0" y="4190760"/>
              <a:ext cx="6780960" cy="190440"/>
              <a:chOff x="0" y="4190760"/>
              <a:chExt cx="6780960" cy="190440"/>
            </a:xfrm>
          </p:grpSpPr>
          <p:sp>
            <p:nvSpPr>
              <p:cNvPr id="2546" name=""/>
              <p:cNvSpPr/>
              <p:nvPr/>
            </p:nvSpPr>
            <p:spPr>
              <a:xfrm>
                <a:off x="0" y="41907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0" y="41907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Date d4( 3, 18, 1969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8" name=""/>
            <p:cNvGrpSpPr/>
            <p:nvPr/>
          </p:nvGrpSpPr>
          <p:grpSpPr>
            <a:xfrm>
              <a:off x="0" y="4381560"/>
              <a:ext cx="6780960" cy="190440"/>
              <a:chOff x="0" y="4381560"/>
              <a:chExt cx="6780960" cy="190440"/>
            </a:xfrm>
          </p:grpSpPr>
          <p:sp>
            <p:nvSpPr>
              <p:cNvPr id="2549" name=""/>
              <p:cNvSpPr/>
              <p:nvPr/>
            </p:nvSpPr>
            <p:spPr>
              <a:xfrm>
                <a:off x="0" y="4381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0" y="4381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1" name=""/>
            <p:cNvGrpSpPr/>
            <p:nvPr/>
          </p:nvGrpSpPr>
          <p:grpSpPr>
            <a:xfrm>
              <a:off x="0" y="4572000"/>
              <a:ext cx="6780960" cy="190440"/>
              <a:chOff x="0" y="4572000"/>
              <a:chExt cx="6780960" cy="190440"/>
            </a:xfrm>
          </p:grpSpPr>
          <p:sp>
            <p:nvSpPr>
              <p:cNvPr id="2552" name=""/>
              <p:cNvSpPr/>
              <p:nvPr/>
            </p:nvSpPr>
            <p:spPr>
              <a:xfrm>
                <a:off x="0" y="45720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0" y="45720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Testing the preincrement operator: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4" name=""/>
            <p:cNvGrpSpPr/>
            <p:nvPr/>
          </p:nvGrpSpPr>
          <p:grpSpPr>
            <a:xfrm>
              <a:off x="0" y="4762440"/>
              <a:ext cx="6780960" cy="190440"/>
              <a:chOff x="0" y="4762440"/>
              <a:chExt cx="6780960" cy="190440"/>
            </a:xfrm>
          </p:grpSpPr>
          <p:sp>
            <p:nvSpPr>
              <p:cNvPr id="2555" name=""/>
              <p:cNvSpPr/>
              <p:nvPr/>
            </p:nvSpPr>
            <p:spPr>
              <a:xfrm>
                <a:off x="0" y="4762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0" y="4762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  d4 is " &lt;&lt; d4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7" name=""/>
            <p:cNvGrpSpPr/>
            <p:nvPr/>
          </p:nvGrpSpPr>
          <p:grpSpPr>
            <a:xfrm>
              <a:off x="0" y="4952880"/>
              <a:ext cx="6780960" cy="190440"/>
              <a:chOff x="0" y="4952880"/>
              <a:chExt cx="6780960" cy="190440"/>
            </a:xfrm>
          </p:grpSpPr>
          <p:sp>
            <p:nvSpPr>
              <p:cNvPr id="2558" name=""/>
              <p:cNvSpPr/>
              <p:nvPr/>
            </p:nvSpPr>
            <p:spPr>
              <a:xfrm>
                <a:off x="0" y="4952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0" y="4952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++d4 is " &lt;&lt; ++d4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0" name=""/>
            <p:cNvGrpSpPr/>
            <p:nvPr/>
          </p:nvGrpSpPr>
          <p:grpSpPr>
            <a:xfrm>
              <a:off x="0" y="5143320"/>
              <a:ext cx="6780960" cy="190440"/>
              <a:chOff x="0" y="5143320"/>
              <a:chExt cx="6780960" cy="190440"/>
            </a:xfrm>
          </p:grpSpPr>
          <p:sp>
            <p:nvSpPr>
              <p:cNvPr id="2561" name=""/>
              <p:cNvSpPr/>
              <p:nvPr/>
            </p:nvSpPr>
            <p:spPr>
              <a:xfrm>
                <a:off x="0" y="5143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0" y="5143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  d4 is " &lt;&lt; d4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3" name=""/>
            <p:cNvGrpSpPr/>
            <p:nvPr/>
          </p:nvGrpSpPr>
          <p:grpSpPr>
            <a:xfrm>
              <a:off x="0" y="5334120"/>
              <a:ext cx="6780960" cy="190440"/>
              <a:chOff x="0" y="5334120"/>
              <a:chExt cx="6780960" cy="190440"/>
            </a:xfrm>
          </p:grpSpPr>
          <p:sp>
            <p:nvSpPr>
              <p:cNvPr id="2564" name=""/>
              <p:cNvSpPr/>
              <p:nvPr/>
            </p:nvSpPr>
            <p:spPr>
              <a:xfrm>
                <a:off x="0" y="53341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0" y="53341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6" name=""/>
            <p:cNvGrpSpPr/>
            <p:nvPr/>
          </p:nvGrpSpPr>
          <p:grpSpPr>
            <a:xfrm>
              <a:off x="0" y="5524560"/>
              <a:ext cx="6780960" cy="190440"/>
              <a:chOff x="0" y="5524560"/>
              <a:chExt cx="6780960" cy="190440"/>
            </a:xfrm>
          </p:grpSpPr>
          <p:sp>
            <p:nvSpPr>
              <p:cNvPr id="2567" name=""/>
              <p:cNvSpPr/>
              <p:nvPr/>
            </p:nvSpPr>
            <p:spPr>
              <a:xfrm>
                <a:off x="0" y="5524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0" y="5524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Testing the postincrement operator: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9" name=""/>
            <p:cNvGrpSpPr/>
            <p:nvPr/>
          </p:nvGrpSpPr>
          <p:grpSpPr>
            <a:xfrm>
              <a:off x="0" y="5715000"/>
              <a:ext cx="6780960" cy="190440"/>
              <a:chOff x="0" y="5715000"/>
              <a:chExt cx="6780960" cy="190440"/>
            </a:xfrm>
          </p:grpSpPr>
          <p:sp>
            <p:nvSpPr>
              <p:cNvPr id="2570" name=""/>
              <p:cNvSpPr/>
              <p:nvPr/>
            </p:nvSpPr>
            <p:spPr>
              <a:xfrm>
                <a:off x="0" y="57150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0" y="57150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  d4 is " &lt;&lt; d4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2" name=""/>
            <p:cNvGrpSpPr/>
            <p:nvPr/>
          </p:nvGrpSpPr>
          <p:grpSpPr>
            <a:xfrm>
              <a:off x="0" y="5905440"/>
              <a:ext cx="6780960" cy="190440"/>
              <a:chOff x="0" y="5905440"/>
              <a:chExt cx="6780960" cy="190440"/>
            </a:xfrm>
          </p:grpSpPr>
          <p:sp>
            <p:nvSpPr>
              <p:cNvPr id="2573" name=""/>
              <p:cNvSpPr/>
              <p:nvPr/>
            </p:nvSpPr>
            <p:spPr>
              <a:xfrm>
                <a:off x="0" y="5905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0" y="5905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d4++ is " &lt;&lt; d4++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5" name=""/>
            <p:cNvGrpSpPr/>
            <p:nvPr/>
          </p:nvGrpSpPr>
          <p:grpSpPr>
            <a:xfrm>
              <a:off x="0" y="6095880"/>
              <a:ext cx="6780960" cy="190440"/>
              <a:chOff x="0" y="6095880"/>
              <a:chExt cx="6780960" cy="190440"/>
            </a:xfrm>
          </p:grpSpPr>
          <p:sp>
            <p:nvSpPr>
              <p:cNvPr id="2576" name=""/>
              <p:cNvSpPr/>
              <p:nvPr/>
            </p:nvSpPr>
            <p:spPr>
              <a:xfrm>
                <a:off x="0" y="6095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0" y="6095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  d4 is " &lt;&lt; d4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8" name=""/>
            <p:cNvGrpSpPr/>
            <p:nvPr/>
          </p:nvGrpSpPr>
          <p:grpSpPr>
            <a:xfrm>
              <a:off x="0" y="6286680"/>
              <a:ext cx="6780960" cy="190440"/>
              <a:chOff x="0" y="6286680"/>
              <a:chExt cx="6780960" cy="190440"/>
            </a:xfrm>
          </p:grpSpPr>
          <p:sp>
            <p:nvSpPr>
              <p:cNvPr id="2579" name=""/>
              <p:cNvSpPr/>
              <p:nvPr/>
            </p:nvSpPr>
            <p:spPr>
              <a:xfrm>
                <a:off x="0" y="62866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0" y="62866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1" name=""/>
            <p:cNvGrpSpPr/>
            <p:nvPr/>
          </p:nvGrpSpPr>
          <p:grpSpPr>
            <a:xfrm>
              <a:off x="0" y="6477120"/>
              <a:ext cx="6780960" cy="190440"/>
              <a:chOff x="0" y="6477120"/>
              <a:chExt cx="6780960" cy="190440"/>
            </a:xfrm>
          </p:grpSpPr>
          <p:sp>
            <p:nvSpPr>
              <p:cNvPr id="2582" name=""/>
              <p:cNvSpPr/>
              <p:nvPr/>
            </p:nvSpPr>
            <p:spPr>
              <a:xfrm>
                <a:off x="0" y="64771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0" y="64771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4" name=""/>
            <p:cNvGrpSpPr/>
            <p:nvPr/>
          </p:nvGrpSpPr>
          <p:grpSpPr>
            <a:xfrm>
              <a:off x="0" y="6667560"/>
              <a:ext cx="6780960" cy="190440"/>
              <a:chOff x="0" y="6667560"/>
              <a:chExt cx="6780960" cy="190440"/>
            </a:xfrm>
          </p:grpSpPr>
          <p:sp>
            <p:nvSpPr>
              <p:cNvPr id="2585" name=""/>
              <p:cNvSpPr/>
              <p:nvPr/>
            </p:nvSpPr>
            <p:spPr>
              <a:xfrm>
                <a:off x="0" y="6667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0" y="6667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87" name=""/>
          <p:cNvSpPr/>
          <p:nvPr/>
        </p:nvSpPr>
        <p:spPr>
          <a:xfrm>
            <a:off x="3352680" y="1143000"/>
            <a:ext cx="4572000" cy="832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1 is January 1, 19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2 is December 27, 19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3 is January 1, 19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5199480" y="2971800"/>
            <a:ext cx="255816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2 += 7 is January 3, 19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4419720" y="3429000"/>
            <a:ext cx="3504960" cy="55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3 is February 28, 19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+d3 is February 29, 19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>
            <a:off x="5029200" y="4114800"/>
            <a:ext cx="3962520" cy="1110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sting the preincrement opera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4 is March 18, 19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+d4 is March 19, 19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4 is March 19, 19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5257800" y="5486400"/>
            <a:ext cx="3429000" cy="1110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sting the preincrement opera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4 is March 18, 19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+d4 is March 19, 19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4 is March 19, 19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8244B-2A1B-412B-ABFA-5DD43E9D9A4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593" name=""/>
          <p:cNvSpPr/>
          <p:nvPr/>
        </p:nvSpPr>
        <p:spPr>
          <a:xfrm>
            <a:off x="0" y="0"/>
            <a:ext cx="6781680" cy="3561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1 is January 1, 19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2 is December 27, 19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3 is January 1, 19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2 += 7 is January 3, 19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3 is February 28, 19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+d3 is February 29, 19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sting the preincrement opera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4 is March 18, 19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+d4 is March 19, 19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4 is March 19, 19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sting the postincrement opera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4 is March 19, 19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4++ is March 19, 19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4 is March 20, 19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1CDBB-5E83-4543-B759-B7FEAF3A82D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8.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 Restrictions on Operator Overloadin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0773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oading restri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cedence of an operator cannot be chang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ociativity of an operator cannot be chang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ity (number of operands) cannot be chang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ary operators remain unary, and binary operators remain bin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ach have unary and binary ver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ary and binary versions can be overloaded separat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new operators can be cre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only existing opera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overloading operators for built-in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not change how two integers are add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duces a syntax err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657BC-3707-428E-84D9-5A7082F4AFD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4  Operator Functions as Class Members vs. as friend Function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er vs non-m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erator functions can be member or non-member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en overload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-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any of the assignment operators, must use a member function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or functions as member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eftmost operand must be an object (or reference to an object) of the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left operand of a different type, operator function must be a non-member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or functions as non-member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st b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 if needs to access private or protected me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able the operator to be commutati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21EC5-DA77-49EC-9DA8-142CD15449F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5  Overloading Stream-Insertion and Stream-Extraction Operator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oade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&l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verloaded to perform input/output for user-defined 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eft operand of type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strea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trea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amp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st be a non-member function because left operand is not an object of the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st be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 to access private data me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93FC9-79B2-449B-A036-BC1AEFDD7B5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Class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15" name=""/>
            <p:cNvGrpSpPr/>
            <p:nvPr/>
          </p:nvGrpSpPr>
          <p:grpSpPr>
            <a:xfrm>
              <a:off x="0" y="0"/>
              <a:ext cx="6780960" cy="245520"/>
              <a:chOff x="0" y="0"/>
              <a:chExt cx="6780960" cy="245520"/>
            </a:xfrm>
          </p:grpSpPr>
          <p:sp>
            <p:nvSpPr>
              <p:cNvPr id="116" name=""/>
              <p:cNvSpPr/>
              <p:nvPr/>
            </p:nvSpPr>
            <p:spPr>
              <a:xfrm>
                <a:off x="0" y="0"/>
                <a:ext cx="6780960" cy="245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0"/>
                <a:ext cx="6780960" cy="245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8.3: fig08_03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0" y="245520"/>
              <a:ext cx="6780960" cy="227880"/>
              <a:chOff x="0" y="245520"/>
              <a:chExt cx="6780960" cy="2278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455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455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Overloading the stream-insertion and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0" y="473400"/>
              <a:ext cx="6780960" cy="227880"/>
              <a:chOff x="0" y="473400"/>
              <a:chExt cx="6780960" cy="227880"/>
            </a:xfrm>
          </p:grpSpPr>
          <p:sp>
            <p:nvSpPr>
              <p:cNvPr id="122" name=""/>
              <p:cNvSpPr/>
              <p:nvPr/>
            </p:nvSpPr>
            <p:spPr>
              <a:xfrm>
                <a:off x="0" y="47340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47340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stream-extraction operator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0" y="701640"/>
              <a:ext cx="6780960" cy="227880"/>
              <a:chOff x="0" y="701640"/>
              <a:chExt cx="6780960" cy="227880"/>
            </a:xfrm>
          </p:grpSpPr>
          <p:sp>
            <p:nvSpPr>
              <p:cNvPr id="125" name=""/>
              <p:cNvSpPr/>
              <p:nvPr/>
            </p:nvSpPr>
            <p:spPr>
              <a:xfrm>
                <a:off x="0" y="701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701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0" y="929520"/>
              <a:ext cx="6780960" cy="227880"/>
              <a:chOff x="0" y="929520"/>
              <a:chExt cx="6780960" cy="227880"/>
            </a:xfrm>
          </p:grpSpPr>
          <p:sp>
            <p:nvSpPr>
              <p:cNvPr id="128" name=""/>
              <p:cNvSpPr/>
              <p:nvPr/>
            </p:nvSpPr>
            <p:spPr>
              <a:xfrm>
                <a:off x="0" y="9295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9295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0" y="1157760"/>
              <a:ext cx="6780960" cy="227880"/>
              <a:chOff x="0" y="1157760"/>
              <a:chExt cx="6780960" cy="227880"/>
            </a:xfrm>
          </p:grpSpPr>
          <p:sp>
            <p:nvSpPr>
              <p:cNvPr id="131" name=""/>
              <p:cNvSpPr/>
              <p:nvPr/>
            </p:nvSpPr>
            <p:spPr>
              <a:xfrm>
                <a:off x="0" y="1157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157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0" y="1385640"/>
              <a:ext cx="6780960" cy="227880"/>
              <a:chOff x="0" y="1385640"/>
              <a:chExt cx="6780960" cy="227880"/>
            </a:xfrm>
          </p:grpSpPr>
          <p:sp>
            <p:nvSpPr>
              <p:cNvPr id="134" name=""/>
              <p:cNvSpPr/>
              <p:nvPr/>
            </p:nvSpPr>
            <p:spPr>
              <a:xfrm>
                <a:off x="0" y="1385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0" y="1385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ci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0" y="1613520"/>
              <a:ext cx="6780960" cy="227880"/>
              <a:chOff x="0" y="1613520"/>
              <a:chExt cx="6780960" cy="227880"/>
            </a:xfrm>
          </p:grpSpPr>
          <p:sp>
            <p:nvSpPr>
              <p:cNvPr id="137" name=""/>
              <p:cNvSpPr/>
              <p:nvPr/>
            </p:nvSpPr>
            <p:spPr>
              <a:xfrm>
                <a:off x="0" y="16135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0" y="16135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0" y="1841760"/>
              <a:ext cx="6780960" cy="227880"/>
              <a:chOff x="0" y="1841760"/>
              <a:chExt cx="6780960" cy="227880"/>
            </a:xfrm>
          </p:grpSpPr>
          <p:sp>
            <p:nvSpPr>
              <p:cNvPr id="140" name=""/>
              <p:cNvSpPr/>
              <p:nvPr/>
            </p:nvSpPr>
            <p:spPr>
              <a:xfrm>
                <a:off x="0" y="1841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0" y="1841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ostrea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0" y="2069640"/>
              <a:ext cx="6780960" cy="227880"/>
              <a:chOff x="0" y="2069640"/>
              <a:chExt cx="6780960" cy="227880"/>
            </a:xfrm>
          </p:grpSpPr>
          <p:sp>
            <p:nvSpPr>
              <p:cNvPr id="143" name=""/>
              <p:cNvSpPr/>
              <p:nvPr/>
            </p:nvSpPr>
            <p:spPr>
              <a:xfrm>
                <a:off x="0" y="2069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0" y="2069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istrea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0" y="2297520"/>
              <a:ext cx="6780960" cy="227880"/>
              <a:chOff x="0" y="2297520"/>
              <a:chExt cx="6780960" cy="227880"/>
            </a:xfrm>
          </p:grpSpPr>
          <p:sp>
            <p:nvSpPr>
              <p:cNvPr id="146" name=""/>
              <p:cNvSpPr/>
              <p:nvPr/>
            </p:nvSpPr>
            <p:spPr>
              <a:xfrm>
                <a:off x="0" y="22975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0" y="22975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0" y="2525760"/>
              <a:ext cx="6780960" cy="227880"/>
              <a:chOff x="0" y="2525760"/>
              <a:chExt cx="6780960" cy="2278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2525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2525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iomanip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0" y="2753640"/>
              <a:ext cx="6780960" cy="227880"/>
              <a:chOff x="0" y="2753640"/>
              <a:chExt cx="6780960" cy="227880"/>
            </a:xfrm>
          </p:grpSpPr>
          <p:sp>
            <p:nvSpPr>
              <p:cNvPr id="152" name=""/>
              <p:cNvSpPr/>
              <p:nvPr/>
            </p:nvSpPr>
            <p:spPr>
              <a:xfrm>
                <a:off x="0" y="2753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2753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0" y="2981880"/>
              <a:ext cx="6780960" cy="227880"/>
              <a:chOff x="0" y="2981880"/>
              <a:chExt cx="6780960" cy="227880"/>
            </a:xfrm>
          </p:grpSpPr>
          <p:sp>
            <p:nvSpPr>
              <p:cNvPr id="155" name=""/>
              <p:cNvSpPr/>
              <p:nvPr/>
            </p:nvSpPr>
            <p:spPr>
              <a:xfrm>
                <a:off x="0" y="298188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298188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setw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0" y="3209760"/>
              <a:ext cx="6780960" cy="227880"/>
              <a:chOff x="0" y="3209760"/>
              <a:chExt cx="6780960" cy="227880"/>
            </a:xfrm>
          </p:grpSpPr>
          <p:sp>
            <p:nvSpPr>
              <p:cNvPr id="158" name=""/>
              <p:cNvSpPr/>
              <p:nvPr/>
            </p:nvSpPr>
            <p:spPr>
              <a:xfrm>
                <a:off x="0" y="3209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3209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0" y="3437640"/>
              <a:ext cx="6780960" cy="227880"/>
              <a:chOff x="0" y="3437640"/>
              <a:chExt cx="6780960" cy="227880"/>
            </a:xfrm>
          </p:grpSpPr>
          <p:sp>
            <p:nvSpPr>
              <p:cNvPr id="161" name=""/>
              <p:cNvSpPr/>
              <p:nvPr/>
            </p:nvSpPr>
            <p:spPr>
              <a:xfrm>
                <a:off x="0" y="3437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3437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PhoneNumber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0" y="3665880"/>
              <a:ext cx="6780960" cy="227880"/>
              <a:chOff x="0" y="3665880"/>
              <a:chExt cx="6780960" cy="227880"/>
            </a:xfrm>
          </p:grpSpPr>
          <p:sp>
            <p:nvSpPr>
              <p:cNvPr id="164" name=""/>
              <p:cNvSpPr/>
              <p:nvPr/>
            </p:nvSpPr>
            <p:spPr>
              <a:xfrm>
                <a:off x="0" y="366588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366588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rien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ostream &amp;operator&lt;&lt;( ostream&amp;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PhoneNumber &amp;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0" y="3893760"/>
              <a:ext cx="6780960" cy="227880"/>
              <a:chOff x="0" y="3893760"/>
              <a:chExt cx="6780960" cy="227880"/>
            </a:xfrm>
          </p:grpSpPr>
          <p:sp>
            <p:nvSpPr>
              <p:cNvPr id="167" name=""/>
              <p:cNvSpPr/>
              <p:nvPr/>
            </p:nvSpPr>
            <p:spPr>
              <a:xfrm>
                <a:off x="0" y="3893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3893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rien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istream &amp;operator&gt;&gt;( istream&amp;, PhoneNumber &amp;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0" y="4121640"/>
              <a:ext cx="6780960" cy="227880"/>
              <a:chOff x="0" y="4121640"/>
              <a:chExt cx="6780960" cy="227880"/>
            </a:xfrm>
          </p:grpSpPr>
          <p:sp>
            <p:nvSpPr>
              <p:cNvPr id="170" name=""/>
              <p:cNvSpPr/>
              <p:nvPr/>
            </p:nvSpPr>
            <p:spPr>
              <a:xfrm>
                <a:off x="0" y="4121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121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0" y="4349880"/>
              <a:ext cx="6780960" cy="227880"/>
              <a:chOff x="0" y="4349880"/>
              <a:chExt cx="6780960" cy="227880"/>
            </a:xfrm>
          </p:grpSpPr>
          <p:sp>
            <p:nvSpPr>
              <p:cNvPr id="173" name=""/>
              <p:cNvSpPr/>
              <p:nvPr/>
            </p:nvSpPr>
            <p:spPr>
              <a:xfrm>
                <a:off x="0" y="434988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434988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0" y="4577760"/>
              <a:ext cx="6780960" cy="227880"/>
              <a:chOff x="0" y="4577760"/>
              <a:chExt cx="6780960" cy="227880"/>
            </a:xfrm>
          </p:grpSpPr>
          <p:sp>
            <p:nvSpPr>
              <p:cNvPr id="176" name=""/>
              <p:cNvSpPr/>
              <p:nvPr/>
            </p:nvSpPr>
            <p:spPr>
              <a:xfrm>
                <a:off x="0" y="4577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577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reaCode[ 4 ]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3-digit area code and nul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0" y="4806000"/>
              <a:ext cx="6780960" cy="227880"/>
              <a:chOff x="0" y="4806000"/>
              <a:chExt cx="6780960" cy="227880"/>
            </a:xfrm>
          </p:grpSpPr>
          <p:sp>
            <p:nvSpPr>
              <p:cNvPr id="179" name=""/>
              <p:cNvSpPr/>
              <p:nvPr/>
            </p:nvSpPr>
            <p:spPr>
              <a:xfrm>
                <a:off x="0" y="480600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480600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exchange[ 4 ]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3-digit exchange and nul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0" y="5033880"/>
              <a:ext cx="6780960" cy="227880"/>
              <a:chOff x="0" y="5033880"/>
              <a:chExt cx="6780960" cy="227880"/>
            </a:xfrm>
          </p:grpSpPr>
          <p:sp>
            <p:nvSpPr>
              <p:cNvPr id="182" name=""/>
              <p:cNvSpPr/>
              <p:nvPr/>
            </p:nvSpPr>
            <p:spPr>
              <a:xfrm>
                <a:off x="0" y="503388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503388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line[ 5 ]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4-digit line and nul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0" y="5261760"/>
              <a:ext cx="6780960" cy="227880"/>
              <a:chOff x="0" y="5261760"/>
              <a:chExt cx="6780960" cy="227880"/>
            </a:xfrm>
          </p:grpSpPr>
          <p:sp>
            <p:nvSpPr>
              <p:cNvPr id="185" name=""/>
              <p:cNvSpPr/>
              <p:nvPr/>
            </p:nvSpPr>
            <p:spPr>
              <a:xfrm>
                <a:off x="0" y="5261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5261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0" y="5490000"/>
              <a:ext cx="6780960" cy="227880"/>
              <a:chOff x="0" y="5490000"/>
              <a:chExt cx="6780960" cy="227880"/>
            </a:xfrm>
          </p:grpSpPr>
          <p:sp>
            <p:nvSpPr>
              <p:cNvPr id="188" name=""/>
              <p:cNvSpPr/>
              <p:nvPr/>
            </p:nvSpPr>
            <p:spPr>
              <a:xfrm>
                <a:off x="0" y="549000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549000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0" y="5717880"/>
              <a:ext cx="6780960" cy="227880"/>
              <a:chOff x="0" y="5717880"/>
              <a:chExt cx="6780960" cy="227880"/>
            </a:xfrm>
          </p:grpSpPr>
          <p:sp>
            <p:nvSpPr>
              <p:cNvPr id="191" name=""/>
              <p:cNvSpPr/>
              <p:nvPr/>
            </p:nvSpPr>
            <p:spPr>
              <a:xfrm>
                <a:off x="0" y="571788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571788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Overloaded stream-insertion operator (cannot b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0" y="5946120"/>
              <a:ext cx="6780960" cy="227880"/>
              <a:chOff x="0" y="5946120"/>
              <a:chExt cx="6780960" cy="227880"/>
            </a:xfrm>
          </p:grpSpPr>
          <p:sp>
            <p:nvSpPr>
              <p:cNvPr id="194" name=""/>
              <p:cNvSpPr/>
              <p:nvPr/>
            </p:nvSpPr>
            <p:spPr>
              <a:xfrm>
                <a:off x="0" y="59461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59461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a member function if we would like to invoke it wit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0" y="6174000"/>
              <a:ext cx="6780960" cy="227880"/>
              <a:chOff x="0" y="6174000"/>
              <a:chExt cx="6780960" cy="227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617400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617400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out &lt;&lt; somePhoneNumber;)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0" y="6401880"/>
              <a:ext cx="6780960" cy="227880"/>
              <a:chOff x="0" y="6401880"/>
              <a:chExt cx="6780960" cy="227880"/>
            </a:xfrm>
          </p:grpSpPr>
          <p:sp>
            <p:nvSpPr>
              <p:cNvPr id="200" name=""/>
              <p:cNvSpPr/>
              <p:nvPr/>
            </p:nvSpPr>
            <p:spPr>
              <a:xfrm>
                <a:off x="0" y="640188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640188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ostream &amp;operator&lt;&lt;( ostream &amp;outpu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PhoneNumber &amp;num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0" y="6630120"/>
              <a:ext cx="6780960" cy="227880"/>
              <a:chOff x="0" y="6630120"/>
              <a:chExt cx="6780960" cy="227880"/>
            </a:xfrm>
          </p:grpSpPr>
          <p:sp>
            <p:nvSpPr>
              <p:cNvPr id="203" name=""/>
              <p:cNvSpPr/>
              <p:nvPr/>
            </p:nvSpPr>
            <p:spPr>
              <a:xfrm>
                <a:off x="0" y="66301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66301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5" name=""/>
          <p:cNvGrpSpPr/>
          <p:nvPr/>
        </p:nvGrpSpPr>
        <p:grpSpPr>
          <a:xfrm>
            <a:off x="3809880" y="2362320"/>
            <a:ext cx="4419720" cy="1295280"/>
            <a:chOff x="3809880" y="2362320"/>
            <a:chExt cx="4419720" cy="1295280"/>
          </a:xfrm>
        </p:grpSpPr>
        <p:sp>
          <p:nvSpPr>
            <p:cNvPr id="206" name=""/>
            <p:cNvSpPr/>
            <p:nvPr/>
          </p:nvSpPr>
          <p:spPr>
            <a:xfrm>
              <a:off x="4876920" y="2362320"/>
              <a:ext cx="3352680" cy="951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function prototypes for overloaded operator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&gt;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&lt;&l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y must b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rien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unct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3809880" y="2743200"/>
              <a:ext cx="106704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78D39-0085-43BF-B2FF-A1859C756AB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Get in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Assign to objec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2 Output data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0" y="0"/>
            <a:ext cx="6705000" cy="6858000"/>
            <a:chOff x="0" y="0"/>
            <a:chExt cx="6705000" cy="6858000"/>
          </a:xfrm>
        </p:grpSpPr>
        <p:grpSp>
          <p:nvGrpSpPr>
            <p:cNvPr id="210" name=""/>
            <p:cNvGrpSpPr/>
            <p:nvPr/>
          </p:nvGrpSpPr>
          <p:grpSpPr>
            <a:xfrm>
              <a:off x="0" y="0"/>
              <a:ext cx="6705000" cy="221040"/>
              <a:chOff x="0" y="0"/>
              <a:chExt cx="6705000" cy="221040"/>
            </a:xfrm>
          </p:grpSpPr>
          <p:sp>
            <p:nvSpPr>
              <p:cNvPr id="211" name=""/>
              <p:cNvSpPr/>
              <p:nvPr/>
            </p:nvSpPr>
            <p:spPr>
              <a:xfrm>
                <a:off x="0" y="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output &lt;&lt; "(" &lt;&lt; num.areaCode &lt;&lt; ")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0" y="221040"/>
              <a:ext cx="6705000" cy="221040"/>
              <a:chOff x="0" y="221040"/>
              <a:chExt cx="6705000" cy="221040"/>
            </a:xfrm>
          </p:grpSpPr>
          <p:sp>
            <p:nvSpPr>
              <p:cNvPr id="214" name=""/>
              <p:cNvSpPr/>
              <p:nvPr/>
            </p:nvSpPr>
            <p:spPr>
              <a:xfrm>
                <a:off x="0" y="2210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210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 &lt;&lt; num.exchange &lt;&lt; "-" &lt;&lt; num.lin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0" y="442080"/>
              <a:ext cx="6705000" cy="221040"/>
              <a:chOff x="0" y="442080"/>
              <a:chExt cx="6705000" cy="221040"/>
            </a:xfrm>
          </p:grpSpPr>
          <p:sp>
            <p:nvSpPr>
              <p:cNvPr id="217" name=""/>
              <p:cNvSpPr/>
              <p:nvPr/>
            </p:nvSpPr>
            <p:spPr>
              <a:xfrm>
                <a:off x="0" y="4420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4420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output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enables cout &lt;&lt; a &lt;&lt; b &lt;&lt; c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0" y="663480"/>
              <a:ext cx="6705000" cy="221040"/>
              <a:chOff x="0" y="663480"/>
              <a:chExt cx="6705000" cy="221040"/>
            </a:xfrm>
          </p:grpSpPr>
          <p:sp>
            <p:nvSpPr>
              <p:cNvPr id="220" name=""/>
              <p:cNvSpPr/>
              <p:nvPr/>
            </p:nvSpPr>
            <p:spPr>
              <a:xfrm>
                <a:off x="0" y="6634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6634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0" y="884880"/>
              <a:ext cx="6705000" cy="221040"/>
              <a:chOff x="0" y="884880"/>
              <a:chExt cx="6705000" cy="221040"/>
            </a:xfrm>
          </p:grpSpPr>
          <p:sp>
            <p:nvSpPr>
              <p:cNvPr id="223" name=""/>
              <p:cNvSpPr/>
              <p:nvPr/>
            </p:nvSpPr>
            <p:spPr>
              <a:xfrm>
                <a:off x="0" y="8848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8848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0" y="1105920"/>
              <a:ext cx="6705000" cy="221040"/>
              <a:chOff x="0" y="1105920"/>
              <a:chExt cx="6705000" cy="221040"/>
            </a:xfrm>
          </p:grpSpPr>
          <p:sp>
            <p:nvSpPr>
              <p:cNvPr id="226" name=""/>
              <p:cNvSpPr/>
              <p:nvPr/>
            </p:nvSpPr>
            <p:spPr>
              <a:xfrm>
                <a:off x="0" y="11059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1059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istream &amp;operator&gt;&gt;( istream &amp;input, PhoneNumber &amp;num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0" y="1327320"/>
              <a:ext cx="6705000" cy="221040"/>
              <a:chOff x="0" y="1327320"/>
              <a:chExt cx="6705000" cy="221040"/>
            </a:xfrm>
          </p:grpSpPr>
          <p:sp>
            <p:nvSpPr>
              <p:cNvPr id="229" name=""/>
              <p:cNvSpPr/>
              <p:nvPr/>
            </p:nvSpPr>
            <p:spPr>
              <a:xfrm>
                <a:off x="0" y="13273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3273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0" y="1548360"/>
              <a:ext cx="6705000" cy="221040"/>
              <a:chOff x="0" y="1548360"/>
              <a:chExt cx="6705000" cy="221040"/>
            </a:xfrm>
          </p:grpSpPr>
          <p:sp>
            <p:nvSpPr>
              <p:cNvPr id="232" name=""/>
              <p:cNvSpPr/>
              <p:nvPr/>
            </p:nvSpPr>
            <p:spPr>
              <a:xfrm>
                <a:off x="0" y="15483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15483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input.ignore();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skip (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0" y="1769760"/>
              <a:ext cx="6705000" cy="221040"/>
              <a:chOff x="0" y="1769760"/>
              <a:chExt cx="6705000" cy="221040"/>
            </a:xfrm>
          </p:grpSpPr>
          <p:sp>
            <p:nvSpPr>
              <p:cNvPr id="235" name=""/>
              <p:cNvSpPr/>
              <p:nvPr/>
            </p:nvSpPr>
            <p:spPr>
              <a:xfrm>
                <a:off x="0" y="17697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17697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input &gt;&gt; setw( 4 ) &gt;&gt; num.areaCode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input area cod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0" y="1990800"/>
              <a:ext cx="6705000" cy="221040"/>
              <a:chOff x="0" y="1990800"/>
              <a:chExt cx="6705000" cy="221040"/>
            </a:xfrm>
          </p:grpSpPr>
          <p:sp>
            <p:nvSpPr>
              <p:cNvPr id="238" name=""/>
              <p:cNvSpPr/>
              <p:nvPr/>
            </p:nvSpPr>
            <p:spPr>
              <a:xfrm>
                <a:off x="0" y="19908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19908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input.ignore( 2 );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skip ) and spa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0" y="2212200"/>
              <a:ext cx="6705000" cy="221040"/>
              <a:chOff x="0" y="2212200"/>
              <a:chExt cx="6705000" cy="221040"/>
            </a:xfrm>
          </p:grpSpPr>
          <p:sp>
            <p:nvSpPr>
              <p:cNvPr id="241" name=""/>
              <p:cNvSpPr/>
              <p:nvPr/>
            </p:nvSpPr>
            <p:spPr>
              <a:xfrm>
                <a:off x="0" y="22122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22122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input &gt;&gt; setw( 4 ) &gt;&gt; num.exchange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input exchang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0" y="2433600"/>
              <a:ext cx="6705000" cy="221040"/>
              <a:chOff x="0" y="2433600"/>
              <a:chExt cx="6705000" cy="221040"/>
            </a:xfrm>
          </p:grpSpPr>
          <p:sp>
            <p:nvSpPr>
              <p:cNvPr id="244" name=""/>
              <p:cNvSpPr/>
              <p:nvPr/>
            </p:nvSpPr>
            <p:spPr>
              <a:xfrm>
                <a:off x="0" y="24336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4336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input.ignore();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skip dash (-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0" y="2654640"/>
              <a:ext cx="6705000" cy="221040"/>
              <a:chOff x="0" y="2654640"/>
              <a:chExt cx="6705000" cy="221040"/>
            </a:xfrm>
          </p:grpSpPr>
          <p:sp>
            <p:nvSpPr>
              <p:cNvPr id="247" name=""/>
              <p:cNvSpPr/>
              <p:nvPr/>
            </p:nvSpPr>
            <p:spPr>
              <a:xfrm>
                <a:off x="0" y="26546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0" y="26546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input &gt;&gt; setw( 5 ) &gt;&gt; num.line;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input lin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0" y="2875680"/>
              <a:ext cx="6705000" cy="221040"/>
              <a:chOff x="0" y="2875680"/>
              <a:chExt cx="6705000" cy="221040"/>
            </a:xfrm>
          </p:grpSpPr>
          <p:sp>
            <p:nvSpPr>
              <p:cNvPr id="250" name=""/>
              <p:cNvSpPr/>
              <p:nvPr/>
            </p:nvSpPr>
            <p:spPr>
              <a:xfrm>
                <a:off x="0" y="28756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0" y="28756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input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enables cin &gt;&gt; a &gt;&gt; b &gt;&gt; c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0" y="3097080"/>
              <a:ext cx="6705000" cy="221040"/>
              <a:chOff x="0" y="3097080"/>
              <a:chExt cx="6705000" cy="221040"/>
            </a:xfrm>
          </p:grpSpPr>
          <p:sp>
            <p:nvSpPr>
              <p:cNvPr id="253" name=""/>
              <p:cNvSpPr/>
              <p:nvPr/>
            </p:nvSpPr>
            <p:spPr>
              <a:xfrm>
                <a:off x="0" y="30970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30970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0" y="3318480"/>
              <a:ext cx="6705000" cy="221040"/>
              <a:chOff x="0" y="3318480"/>
              <a:chExt cx="6705000" cy="221040"/>
            </a:xfrm>
          </p:grpSpPr>
          <p:sp>
            <p:nvSpPr>
              <p:cNvPr id="256" name=""/>
              <p:cNvSpPr/>
              <p:nvPr/>
            </p:nvSpPr>
            <p:spPr>
              <a:xfrm>
                <a:off x="0" y="33184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0" y="33184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0" y="3539520"/>
              <a:ext cx="6705000" cy="221040"/>
              <a:chOff x="0" y="3539520"/>
              <a:chExt cx="6705000" cy="221040"/>
            </a:xfrm>
          </p:grpSpPr>
          <p:sp>
            <p:nvSpPr>
              <p:cNvPr id="259" name=""/>
              <p:cNvSpPr/>
              <p:nvPr/>
            </p:nvSpPr>
            <p:spPr>
              <a:xfrm>
                <a:off x="0" y="35395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0" y="35395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0" y="3760920"/>
              <a:ext cx="6705000" cy="221040"/>
              <a:chOff x="0" y="3760920"/>
              <a:chExt cx="6705000" cy="221040"/>
            </a:xfrm>
          </p:grpSpPr>
          <p:sp>
            <p:nvSpPr>
              <p:cNvPr id="262" name=""/>
              <p:cNvSpPr/>
              <p:nvPr/>
            </p:nvSpPr>
            <p:spPr>
              <a:xfrm>
                <a:off x="0" y="37609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0" y="37609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0" y="3981960"/>
              <a:ext cx="6705000" cy="221040"/>
              <a:chOff x="0" y="3981960"/>
              <a:chExt cx="6705000" cy="221040"/>
            </a:xfrm>
          </p:grpSpPr>
          <p:sp>
            <p:nvSpPr>
              <p:cNvPr id="265" name=""/>
              <p:cNvSpPr/>
              <p:nvPr/>
            </p:nvSpPr>
            <p:spPr>
              <a:xfrm>
                <a:off x="0" y="39819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0" y="39819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PhoneNumber phone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reate object phon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0" y="4203360"/>
              <a:ext cx="6705000" cy="221040"/>
              <a:chOff x="0" y="4203360"/>
              <a:chExt cx="6705000" cy="221040"/>
            </a:xfrm>
          </p:grpSpPr>
          <p:sp>
            <p:nvSpPr>
              <p:cNvPr id="268" name=""/>
              <p:cNvSpPr/>
              <p:nvPr/>
            </p:nvSpPr>
            <p:spPr>
              <a:xfrm>
                <a:off x="0" y="42033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42033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0" y="4424400"/>
              <a:ext cx="6705000" cy="221040"/>
              <a:chOff x="0" y="4424400"/>
              <a:chExt cx="6705000" cy="221040"/>
            </a:xfrm>
          </p:grpSpPr>
          <p:sp>
            <p:nvSpPr>
              <p:cNvPr id="271" name=""/>
              <p:cNvSpPr/>
              <p:nvPr/>
            </p:nvSpPr>
            <p:spPr>
              <a:xfrm>
                <a:off x="0" y="44244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0" y="44244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Enter phone number in the form (123) 456-7890: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0" y="4645800"/>
              <a:ext cx="6705000" cy="221040"/>
              <a:chOff x="0" y="4645800"/>
              <a:chExt cx="6705000" cy="221040"/>
            </a:xfrm>
          </p:grpSpPr>
          <p:sp>
            <p:nvSpPr>
              <p:cNvPr id="274" name=""/>
              <p:cNvSpPr/>
              <p:nvPr/>
            </p:nvSpPr>
            <p:spPr>
              <a:xfrm>
                <a:off x="0" y="46458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0" y="46458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0" y="4866840"/>
              <a:ext cx="6705000" cy="221040"/>
              <a:chOff x="0" y="4866840"/>
              <a:chExt cx="6705000" cy="221040"/>
            </a:xfrm>
          </p:grpSpPr>
          <p:sp>
            <p:nvSpPr>
              <p:cNvPr id="277" name=""/>
              <p:cNvSpPr/>
              <p:nvPr/>
            </p:nvSpPr>
            <p:spPr>
              <a:xfrm>
                <a:off x="0" y="48668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0" y="48668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cin &gt;&gt; phone invokes operator&gt;&gt; function by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0" y="5088240"/>
              <a:ext cx="6705000" cy="221040"/>
              <a:chOff x="0" y="5088240"/>
              <a:chExt cx="6705000" cy="221040"/>
            </a:xfrm>
          </p:grpSpPr>
          <p:sp>
            <p:nvSpPr>
              <p:cNvPr id="280" name=""/>
              <p:cNvSpPr/>
              <p:nvPr/>
            </p:nvSpPr>
            <p:spPr>
              <a:xfrm>
                <a:off x="0" y="50882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0" y="50882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issuing the call operator&gt;&gt;( cin, phone )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0" y="5309640"/>
              <a:ext cx="6705000" cy="221040"/>
              <a:chOff x="0" y="5309640"/>
              <a:chExt cx="6705000" cy="221040"/>
            </a:xfrm>
          </p:grpSpPr>
          <p:sp>
            <p:nvSpPr>
              <p:cNvPr id="283" name=""/>
              <p:cNvSpPr/>
              <p:nvPr/>
            </p:nvSpPr>
            <p:spPr>
              <a:xfrm>
                <a:off x="0" y="53096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0" y="53096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in &gt;&gt; phon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0" y="5530680"/>
              <a:ext cx="6705000" cy="221040"/>
              <a:chOff x="0" y="5530680"/>
              <a:chExt cx="6705000" cy="221040"/>
            </a:xfrm>
          </p:grpSpPr>
          <p:sp>
            <p:nvSpPr>
              <p:cNvPr id="286" name=""/>
              <p:cNvSpPr/>
              <p:nvPr/>
            </p:nvSpPr>
            <p:spPr>
              <a:xfrm>
                <a:off x="0" y="55306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0" y="55306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0" y="5751720"/>
              <a:ext cx="6705000" cy="221040"/>
              <a:chOff x="0" y="5751720"/>
              <a:chExt cx="6705000" cy="221040"/>
            </a:xfrm>
          </p:grpSpPr>
          <p:sp>
            <p:nvSpPr>
              <p:cNvPr id="289" name=""/>
              <p:cNvSpPr/>
              <p:nvPr/>
            </p:nvSpPr>
            <p:spPr>
              <a:xfrm>
                <a:off x="0" y="57517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57517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cout &lt;&lt; phone invokes operator&lt;&lt; function b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0" y="5973120"/>
              <a:ext cx="6705000" cy="221040"/>
              <a:chOff x="0" y="5973120"/>
              <a:chExt cx="6705000" cy="221040"/>
            </a:xfrm>
          </p:grpSpPr>
          <p:sp>
            <p:nvSpPr>
              <p:cNvPr id="292" name=""/>
              <p:cNvSpPr/>
              <p:nvPr/>
            </p:nvSpPr>
            <p:spPr>
              <a:xfrm>
                <a:off x="0" y="59731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0" y="59731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issuing the call operator&lt;&lt;( cout, phone ).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0" y="6194520"/>
              <a:ext cx="6705000" cy="221040"/>
              <a:chOff x="0" y="6194520"/>
              <a:chExt cx="6705000" cy="221040"/>
            </a:xfrm>
          </p:grpSpPr>
          <p:sp>
            <p:nvSpPr>
              <p:cNvPr id="295" name=""/>
              <p:cNvSpPr/>
              <p:nvPr/>
            </p:nvSpPr>
            <p:spPr>
              <a:xfrm>
                <a:off x="0" y="61945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0" y="61945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The phone number entered was: " &lt;&lt; phone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0" y="6415560"/>
              <a:ext cx="6705000" cy="221040"/>
              <a:chOff x="0" y="6415560"/>
              <a:chExt cx="6705000" cy="221040"/>
            </a:xfrm>
          </p:grpSpPr>
          <p:sp>
            <p:nvSpPr>
              <p:cNvPr id="298" name=""/>
              <p:cNvSpPr/>
              <p:nvPr/>
            </p:nvSpPr>
            <p:spPr>
              <a:xfrm>
                <a:off x="0" y="64155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0" y="64155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0" y="6636960"/>
              <a:ext cx="6705000" cy="221040"/>
              <a:chOff x="0" y="6636960"/>
              <a:chExt cx="6705000" cy="221040"/>
            </a:xfrm>
          </p:grpSpPr>
          <p:sp>
            <p:nvSpPr>
              <p:cNvPr id="301" name=""/>
              <p:cNvSpPr/>
              <p:nvPr/>
            </p:nvSpPr>
            <p:spPr>
              <a:xfrm>
                <a:off x="0" y="66369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0" y="66369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3" name=""/>
          <p:cNvGrpSpPr/>
          <p:nvPr/>
        </p:nvGrpSpPr>
        <p:grpSpPr>
          <a:xfrm>
            <a:off x="1905120" y="1371600"/>
            <a:ext cx="6324480" cy="4038480"/>
            <a:chOff x="1905120" y="1371600"/>
            <a:chExt cx="6324480" cy="4038480"/>
          </a:xfrm>
        </p:grpSpPr>
        <p:sp>
          <p:nvSpPr>
            <p:cNvPr id="304" name=""/>
            <p:cNvSpPr/>
            <p:nvPr/>
          </p:nvSpPr>
          <p:spPr>
            <a:xfrm>
              <a:off x="5029200" y="2362320"/>
              <a:ext cx="3200400" cy="20624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function ca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in &gt;&gt; phone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terpreted 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operator&gt;&gt;(cin, phone)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pu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an alias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i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nu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an alias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ho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flipV="1">
              <a:off x="2895120" y="1371600"/>
              <a:ext cx="213372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1905120" y="2743200"/>
              <a:ext cx="3124080" cy="266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E70F6-0D5A-4788-A228-CC7BB8DDDA7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9T15:46:59Z</dcterms:created>
  <dc:creator>aftab bukhari</dc:creator>
  <dc:description/>
  <dc:language>en-US</dc:language>
  <cp:lastModifiedBy>Jason Rosenfeld</cp:lastModifiedBy>
  <dcterms:modified xsi:type="dcterms:W3CDTF">2000-08-30T20:56:30Z</dcterms:modified>
  <cp:revision>271</cp:revision>
  <dc:subject/>
  <dc:title>PowerPoint Presentation</dc:title>
</cp:coreProperties>
</file>