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0FFD-3F3C-4152-B705-7B8AF2A4F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A340-71A8-4C44-B963-F632BC888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1F7E-901C-40AC-BA3A-0911A5184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50F8-E281-4FDA-A41B-386E48080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2079-C3DB-4BC3-8716-8F80F1366F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34CB-00EA-4213-89AD-43BECAD14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C79D-FB73-43C9-96DF-9601883BB6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8553-C351-42D4-9D1D-8FEB3C086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0E15-13C5-46BE-B8E8-A1A5220319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CF93-D0C4-4486-BC12-D2C1962EE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2A19-6943-4CCC-AE85-2B7F0FD74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4156-C998-4AC9-AF2C-83D3D8B37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C57A-1FF3-4353-A147-9D951829E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0130-720C-4876-B95A-A1453EFB5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D4EB-3E3F-4900-8A0C-5AA2789BC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0286-CCD4-4737-A0D0-898229F8B7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F2F5-2D63-4572-8CE6-40392098A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18F7-1523-45AA-803E-91E356E42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5C41-78FB-48F2-BFA7-FC3F15444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83D0-45A2-4046-89A0-39DDA69C7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930F-A6DA-4964-BAC8-7D66D0569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E2E4-E700-4402-81D9-DD1FD8FA2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D9E6-FB20-4B77-B4B4-48E80D095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9D98-6949-4F9F-9E81-F5EA43BA4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439-6A54-4F87-8A20-228F0DFF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7F8-584A-4DF9-9489-B7211C6DD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0- Virtual Functions 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ype Fields and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witch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Statement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Function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bstract Base Classes and Concrete Classe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A Payroll System Using 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New Classes and Dynamic Binding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Destructor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Inheriting Interface and Implementa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irtual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 and Dynamic Bind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              “Under the Hood”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4BDB-A586-44D7-B0E9-9EC149802A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7392-F36F-41E5-9786-FF34A136BF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9" name="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5D78-FF79-490C-8353-CBB4BD477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7" name="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4573-AAB2-4359-A017-0269CED57F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CB94-E84B-4134-95B4-044DB7C5EA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5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B2ED-1BFF-4644-8DFC-F5FA8AD7E1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6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A9FB-384C-4EF9-A7F0-9E23FE410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1" name="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79" name="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0" name="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471D-D5A6-4EC3-B6A8-60F29A9775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5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84EC-1320-4802-AAA7-9185D8B67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7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3" name="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2798-ABCD-4F41-A13C-0B626B137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59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BA21-5A08-4755-A370-201681A31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and polymorph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and implement systems that are more easily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to generically process objects of all existing classes in a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44AA-10C7-4260-A728-6B100BB831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1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0948-8199-4979-847B-F5F8285C71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47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6D2A-190D-42FC-B3BC-4660448491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52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2DB9-FB83-4C31-8795-A9B6E9FDAB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8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42" name="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45" name="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48" name="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56" name="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FBD4-8EE8-4977-8108-E253A1C404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61" name="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87" name="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0959-586B-4043-AC73-985C5F5711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New Classes and 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0BFB-650B-4CBC-8846-2D22695B1F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2952-5F6D-4984-A8DE-A41FE87156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9E21-FEA6-47C6-9130-941DB4A0EF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298" name="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20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23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26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29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32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35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47" name="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02" name="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05" name="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D202-8D51-4462-B40F-975772F91D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0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31" name="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26A-9E94-46C8-96CD-CA970396B8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Type Fields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witch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n action on a object based on it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witch structure could determine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call based on which type in a hierarchy of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ay forget to test all possible cases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this down can be time consuming and prone to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c programming can eliminate the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B38C-67CD-44B5-8158-FB5177E8C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75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7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7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8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48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48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39" name="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170B-D740-4A1B-8EFA-8CCC7A26EC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3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E665-4E56-4D32-8D21-F056A47DEC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17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684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6" name="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687" name="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C843-BB22-4830-848A-464A0E1C08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FB0D-02F1-4887-8D64-5EEF626D10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6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7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7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7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8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1A95-D896-4DE6-A6B5-D6D681337F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8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3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3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6" name="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1988" name="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1993" name="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D0AE-9C41-48AB-B4E7-0DA74393BE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01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1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32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35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080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083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5" name="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086" name="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4443-B135-4FFD-85C7-85B0C64DBB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D3A0-EEA7-4EA8-AB87-2785199EF2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Polymorphism,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requires a lot of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is 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its vtable has a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erived class has the same function as a base class, then the function pointer points to the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1ED1-3DCC-40D0-BFDE-5024B610F3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F99D-96AA-4B2D-9B79-92CF491951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4DE5-6A37-411F-BDFB-6349205FB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724D-A90E-476A-AAF0-7CB2029B7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for objects of 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defined in multiple classes and called from base-class pointer then the base-class version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1499-7ECF-409C-AEE9-81149DAE5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11AC-A85A-4697-B25A-C8C8FEA0CA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7" name="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9412-7D1C-472B-866C-90E215780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0:58:22Z</dcterms:created>
  <dc:creator>aftab bukhari</dc:creator>
  <dc:description/>
  <dc:language>en-US</dc:language>
  <cp:lastModifiedBy>Antonella Esposito</cp:lastModifiedBy>
  <dcterms:modified xsi:type="dcterms:W3CDTF">2001-01-12T10:45:34Z</dcterms:modified>
  <cp:revision>307</cp:revision>
  <dc:subject/>
  <dc:title>PowerPoint Presentation</dc:title>
</cp:coreProperties>
</file>