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4010-EE34-4D11-AD78-2997D6D0A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EEBB-D7F4-4606-B218-917CDA520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8060-D13A-447E-98C5-FC51A9EF3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BC8A-6CFD-4CA5-BD72-6EE8C47CF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6A5B-2983-42B5-8FA3-8BC877950A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B7B1-A653-4AD2-BC48-67F366EB29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D813-C6EF-43A4-90F8-6046EFAD9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A0DC-BC11-4CB8-B68B-0A61F7766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485B-6EC2-4326-98DE-EBBE127D0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0D0C-86B6-4080-B236-62FF76BAF7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0572-46F6-428B-9401-5CD6C7E1D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ADA7-2982-41B5-8154-77F1422E6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524C-89F9-459A-91EC-95DBE044D6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537B-836B-4DAA-BE09-B150443BA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F1A9-0A4E-4DA1-BB8A-78BB8D65EB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5151-96CF-41D2-9D29-4C7FB612F6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344C-106C-454A-9144-5C38FE49F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4BBB-C2E6-49ED-889A-1160F0030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0784-82EC-4F49-8F31-A58B75420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1A15-6E77-4896-A9C8-EB14B3BF5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3183-AF02-478E-A77B-D37166705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FFE3-0F04-4670-AA0F-BB62F20ED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CD6B-4DEF-4C96-AD00-FD9718F69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E648-F8CF-4E9C-BF7B-2E9E08D1B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2DDC-3B85-4DEB-9409-75B610F4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8170-A3E2-48B1-A20C-4CE8BFE8A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ubscripte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dentifying a Class's Behavi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383B-935B-4C0C-BBB9-5FA4BFF7A0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character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dividuall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Inpu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string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6780960" cy="5410080"/>
            <a:chOff x="0" y="0"/>
            <a:chExt cx="6780960" cy="5410080"/>
          </a:xfrm>
        </p:grpSpPr>
        <p:grpSp>
          <p:nvGrpSpPr>
            <p:cNvPr id="277" name=""/>
            <p:cNvGrpSpPr/>
            <p:nvPr/>
          </p:nvGrpSpPr>
          <p:grpSpPr>
            <a:xfrm>
              <a:off x="0" y="0"/>
              <a:ext cx="6780960" cy="200160"/>
              <a:chOff x="0" y="0"/>
              <a:chExt cx="6780960" cy="20016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_12: fig04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00160"/>
              <a:ext cx="6780960" cy="200160"/>
              <a:chOff x="0" y="200160"/>
              <a:chExt cx="6780960" cy="200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reating character arrays as str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00680"/>
              <a:ext cx="6780960" cy="200160"/>
              <a:chOff x="0" y="400680"/>
              <a:chExt cx="6780960" cy="200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0840"/>
              <a:ext cx="6780960" cy="200160"/>
              <a:chOff x="0" y="600840"/>
              <a:chExt cx="6780960" cy="200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801360"/>
              <a:ext cx="6780960" cy="200160"/>
              <a:chOff x="0" y="801360"/>
              <a:chExt cx="6780960" cy="20016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1001880"/>
              <a:ext cx="6780960" cy="200160"/>
              <a:chOff x="0" y="1001880"/>
              <a:chExt cx="6780960" cy="200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1202040"/>
              <a:ext cx="6780960" cy="200160"/>
              <a:chOff x="0" y="1202040"/>
              <a:chExt cx="6780960" cy="200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1402560"/>
              <a:ext cx="6780960" cy="200160"/>
              <a:chOff x="0" y="1402560"/>
              <a:chExt cx="6780960" cy="2001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1603080"/>
              <a:ext cx="6780960" cy="200160"/>
              <a:chOff x="0" y="1603080"/>
              <a:chExt cx="6780960" cy="20016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803240"/>
              <a:ext cx="6780960" cy="200160"/>
              <a:chOff x="0" y="1803240"/>
              <a:chExt cx="6780960" cy="20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2003760"/>
              <a:ext cx="6780960" cy="200160"/>
              <a:chOff x="0" y="2003760"/>
              <a:chExt cx="6780960" cy="20016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1[ 20 ], string2[] = "string litera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2203920"/>
              <a:ext cx="6780960" cy="200160"/>
              <a:chOff x="0" y="2203920"/>
              <a:chExt cx="6780960" cy="20016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404440"/>
              <a:ext cx="6780960" cy="200160"/>
              <a:chOff x="0" y="2404440"/>
              <a:chExt cx="6780960" cy="20016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tr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604960"/>
              <a:ext cx="6780960" cy="200160"/>
              <a:chOff x="0" y="2604960"/>
              <a:chExt cx="6780960" cy="20016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805120"/>
              <a:ext cx="6780960" cy="200160"/>
              <a:chOff x="0" y="2805120"/>
              <a:chExt cx="6780960" cy="2001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tring1 is: " &lt;&lt; string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3005640"/>
              <a:ext cx="6780960" cy="200160"/>
              <a:chOff x="0" y="3005640"/>
              <a:chExt cx="6780960" cy="20016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2 is: " &lt;&lt; string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3206160"/>
              <a:ext cx="6780960" cy="200160"/>
              <a:chOff x="0" y="3206160"/>
              <a:chExt cx="6780960" cy="20016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1 with spaces between characters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406320"/>
              <a:ext cx="6780960" cy="200160"/>
              <a:chOff x="0" y="3406320"/>
              <a:chExt cx="6780960" cy="20016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606840"/>
              <a:ext cx="6780960" cy="200160"/>
              <a:chOff x="0" y="3606840"/>
              <a:chExt cx="6780960" cy="20016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string1[ i ] != '\0'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3807000"/>
              <a:ext cx="6780960" cy="200160"/>
              <a:chOff x="0" y="3807000"/>
              <a:chExt cx="6780960" cy="20016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1[ i ]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07520"/>
              <a:ext cx="6780960" cy="200160"/>
              <a:chOff x="0" y="4007520"/>
              <a:chExt cx="6780960" cy="20016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208040"/>
              <a:ext cx="6780960" cy="200160"/>
              <a:chOff x="0" y="4208040"/>
              <a:chExt cx="6780960" cy="20016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s "ther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408200"/>
              <a:ext cx="6780960" cy="200160"/>
              <a:chOff x="0" y="4408200"/>
              <a:chExt cx="6780960" cy="20016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ring1 is: " &lt;&lt; string1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4608720"/>
              <a:ext cx="6780960" cy="200160"/>
              <a:chOff x="0" y="4608720"/>
              <a:chExt cx="6780960" cy="20016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4809240"/>
              <a:ext cx="6780960" cy="200160"/>
              <a:chOff x="0" y="4809240"/>
              <a:chExt cx="6780960" cy="20016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5009400"/>
              <a:ext cx="6780960" cy="200160"/>
              <a:chOff x="0" y="5009400"/>
              <a:chExt cx="6780960" cy="20016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5209920"/>
              <a:ext cx="6780960" cy="200160"/>
              <a:chOff x="0" y="5209920"/>
              <a:chExt cx="6780960" cy="20016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0" y="548784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tring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733920" y="3885840"/>
            <a:ext cx="4114800" cy="824400"/>
            <a:chOff x="3733920" y="3885840"/>
            <a:chExt cx="4114800" cy="824400"/>
          </a:xfrm>
        </p:grpSpPr>
        <p:sp>
          <p:nvSpPr>
            <p:cNvPr id="360" name=""/>
            <p:cNvSpPr/>
            <p:nvPr/>
          </p:nvSpPr>
          <p:spPr>
            <a:xfrm>
              <a:off x="5486400" y="388620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tring elements are referenced like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733920" y="388584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28800" y="609480"/>
            <a:ext cx="4876200" cy="3581640"/>
            <a:chOff x="1828800" y="609480"/>
            <a:chExt cx="4876200" cy="3581640"/>
          </a:xfrm>
        </p:grpSpPr>
        <p:sp>
          <p:nvSpPr>
            <p:cNvPr id="363" name=""/>
            <p:cNvSpPr/>
            <p:nvPr/>
          </p:nvSpPr>
          <p:spPr>
            <a:xfrm>
              <a:off x="4592160" y="609480"/>
              <a:ext cx="2112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ted strings are separated by whitespace characters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there"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yed in the buff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990720"/>
              <a:ext cx="27633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828800" y="1066680"/>
              <a:ext cx="276336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2851-1B41-49F9-B0E0-59B7DCDF7A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name without any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e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function call would resem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is usually passed to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the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s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 by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ubscripted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[ 3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4693-BE96-4EC2-8EF1-6D188BC0D7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names optional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rray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91F2-03F2-4CF6-8A52-690F5F6CCF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function to take in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Modify the array (call by referenc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7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4: fig04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assing arrays and individual array elements to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ppears st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a[ arraySize ] = { 0, 1, 2, 3, 4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ffects of passing entire array call-by-referenc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s of the original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a passe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Array( a, arraySize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s of the modified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2285640" y="1447920"/>
            <a:ext cx="4420080" cy="1371600"/>
            <a:chOff x="2285640" y="1447920"/>
            <a:chExt cx="4420080" cy="1371600"/>
          </a:xfrm>
        </p:grpSpPr>
        <p:grpSp>
          <p:nvGrpSpPr>
            <p:cNvPr id="466" name=""/>
            <p:cNvGrpSpPr/>
            <p:nvPr/>
          </p:nvGrpSpPr>
          <p:grpSpPr>
            <a:xfrm>
              <a:off x="2285640" y="1447920"/>
              <a:ext cx="4420080" cy="1067400"/>
              <a:chOff x="2285640" y="1447920"/>
              <a:chExt cx="4420080" cy="1067400"/>
            </a:xfrm>
          </p:grpSpPr>
          <p:sp>
            <p:nvSpPr>
              <p:cNvPr id="467" name=""/>
              <p:cNvSpPr/>
              <p:nvPr/>
            </p:nvSpPr>
            <p:spPr>
              <a:xfrm>
                <a:off x="3962520" y="1447920"/>
                <a:ext cx="274320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unctions can modify entire arrays.  Individual array elements are not modified by default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285640" y="1676520"/>
                <a:ext cx="16765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 flipH="1">
              <a:off x="2742840" y="21337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971440" y="2743200"/>
            <a:ext cx="3353040" cy="809280"/>
            <a:chOff x="2971440" y="2743200"/>
            <a:chExt cx="3353040" cy="809280"/>
          </a:xfrm>
        </p:grpSpPr>
        <p:sp>
          <p:nvSpPr>
            <p:cNvPr id="471" name=""/>
            <p:cNvSpPr/>
            <p:nvPr/>
          </p:nvSpPr>
          <p:spPr>
            <a:xfrm>
              <a:off x="4038480" y="2971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parameter name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2971440" y="27432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33560" y="4724280"/>
            <a:ext cx="5105520" cy="1828800"/>
            <a:chOff x="3733560" y="4724280"/>
            <a:chExt cx="5105520" cy="1828800"/>
          </a:xfrm>
        </p:grpSpPr>
        <p:sp>
          <p:nvSpPr>
            <p:cNvPr id="474" name=""/>
            <p:cNvSpPr/>
            <p:nvPr/>
          </p:nvSpPr>
          <p:spPr>
            <a:xfrm flipH="1" flipV="1">
              <a:off x="3733560" y="47242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733560" y="548640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7080" y="4952880"/>
              <a:ext cx="4572000" cy="1110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original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1  2  3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modified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2  4  6 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94CE-E147-4B07-A4B8-E14868CF1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an element (call by valu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change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7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ffects of passing array element call-by-value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 of a[3] is " &lt;&lt; a[ 3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Element(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a[3] is " &lt;&lt; a[ 3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Array, "b" points to th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"a" in memor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OfArr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OfArray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[ j ] *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Element, "e" is a local copy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element a[ 3 ] passed from mai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in modifyElement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e *= 2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3733920" y="2514600"/>
            <a:ext cx="4800600" cy="1295280"/>
            <a:chOff x="3733920" y="2514600"/>
            <a:chExt cx="4800600" cy="1295280"/>
          </a:xfrm>
        </p:grpSpPr>
        <p:sp>
          <p:nvSpPr>
            <p:cNvPr id="570" name=""/>
            <p:cNvSpPr/>
            <p:nvPr/>
          </p:nvSpPr>
          <p:spPr>
            <a:xfrm flipH="1">
              <a:off x="3733920" y="289548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51460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ameter names required in function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809520" y="1676160"/>
            <a:ext cx="5105880" cy="4419720"/>
            <a:chOff x="3809520" y="1676160"/>
            <a:chExt cx="5105880" cy="4419720"/>
          </a:xfrm>
        </p:grpSpPr>
        <p:grpSp>
          <p:nvGrpSpPr>
            <p:cNvPr id="573" name=""/>
            <p:cNvGrpSpPr/>
            <p:nvPr/>
          </p:nvGrpSpPr>
          <p:grpSpPr>
            <a:xfrm>
              <a:off x="3962520" y="1676160"/>
              <a:ext cx="4952880" cy="3903120"/>
              <a:chOff x="3962520" y="1676160"/>
              <a:chExt cx="4952880" cy="390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43400" y="4191120"/>
                <a:ext cx="4572000" cy="1388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ffects of passing array element call-by-valu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alue in modifyElement is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962520" y="1676160"/>
                <a:ext cx="137160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H="1">
              <a:off x="3809520" y="55627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B3CB-BB3A-415A-ACB4-21CC1F004C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678168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entire array call-by-refer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original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1  2  3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modified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2  4  6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array element call-by-val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in modifyElement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EFD6-5221-4F51-9EF9-0536A410DD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5D17-AA05-4DCE-8485-84F474BCF6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2  4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2  3  4  6  7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2057400"/>
            <a:ext cx="60984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2438280"/>
            <a:ext cx="60948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39A1-EC59-4DE1-B73D-828D0746BD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DAB2-6194-43DA-B497-9CB901CA03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-6610320"/>
            <a:ext cx="914400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90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7: fig04_1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introduces the topic of survey data analysi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t computes the mean, median, and mode of th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454400"/>
              <a:ext cx="6780960" cy="207720"/>
              <a:chOff x="0" y="1454400"/>
              <a:chExt cx="6780960" cy="20772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285640"/>
              <a:ext cx="6780960" cy="207720"/>
              <a:chOff x="0" y="2285640"/>
              <a:chExt cx="6780960" cy="20772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esponseSize = 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4987440"/>
              <a:ext cx="6780960" cy="207720"/>
              <a:chOff x="0" y="4987440"/>
              <a:chExt cx="6780960" cy="20772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uency[ 10 ] = { 0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ponse[ responseSize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6, 7, 8, 9, 8, 7, 8, 9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5, 9, 8, 7, 8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818680"/>
              <a:ext cx="6780960" cy="207720"/>
              <a:chOff x="0" y="5818680"/>
              <a:chExt cx="6780960" cy="20772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9, 3, 9, 8, 7, 8, 7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7, 8, 7, 9, 8, 9, 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5, 3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5, 6, 7, 2, 5, 3, 9, 4, 6, 4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40F5-29E7-4834-B80D-F35320F329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- same size throughou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, pointer-based arr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, arrays as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7A05-E3DD-464B-B0B5-ED0C791D27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6, 8, 7, 8, 9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4, 4, 2, 5, 3, 8, 7, 5, 6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4, 5, 6, 1, 6, 5, 7, 8, 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di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e( frequency,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********\n  Mean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array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4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answer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5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ean is the average value of the data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5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items. The mean is equal to the total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the data items divided by the numbe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6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f data items (" &lt;&lt; array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). The mean value for\nthis run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otal &lt;&lt; " / " &lt;&lt; arraySize &lt;&lt; "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4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arraySize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Median\n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E4CF-F6BC-4882-8856-421F0F17C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1.1 Sor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.2 Print middle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2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2.1 Incre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quency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795" name=""/>
            <p:cNvGrpSpPr/>
            <p:nvPr/>
          </p:nvGrpSpPr>
          <p:grpSpPr>
            <a:xfrm>
              <a:off x="0" y="0"/>
              <a:ext cx="6705000" cy="244800"/>
              <a:chOff x="0" y="0"/>
              <a:chExt cx="6705000" cy="24480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unsorted array of responses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244800"/>
              <a:ext cx="6705000" cy="244800"/>
              <a:chOff x="0" y="244800"/>
              <a:chExt cx="6705000" cy="24480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489600"/>
              <a:ext cx="6705000" cy="244800"/>
              <a:chOff x="0" y="489600"/>
              <a:chExt cx="6705000" cy="24480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734760"/>
              <a:ext cx="6705000" cy="244800"/>
              <a:chOff x="0" y="734760"/>
              <a:chExt cx="6705000" cy="24480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979560"/>
              <a:ext cx="6705000" cy="244800"/>
              <a:chOff x="0" y="979560"/>
              <a:chExt cx="6705000" cy="24480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sorted array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1224360"/>
              <a:ext cx="6705000" cy="244800"/>
              <a:chOff x="0" y="1224360"/>
              <a:chExt cx="6705000" cy="24480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1469520"/>
              <a:ext cx="6705000" cy="244800"/>
              <a:chOff x="0" y="1469520"/>
              <a:chExt cx="6705000" cy="24480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median is element " &lt;&lt; size /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1714320"/>
              <a:ext cx="6705000" cy="244800"/>
              <a:chOff x="0" y="1714320"/>
              <a:chExt cx="6705000" cy="24480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f\nthe sorted " &lt;&lt; 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1959480"/>
              <a:ext cx="6705000" cy="244800"/>
              <a:chOff x="0" y="1959480"/>
              <a:chExt cx="6705000" cy="24480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element array.\nFor this run the media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2204280"/>
              <a:ext cx="6705000" cy="244800"/>
              <a:chOff x="0" y="2204280"/>
              <a:chExt cx="6705000" cy="24480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answer[ size / 2 ]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2449080"/>
              <a:ext cx="6705000" cy="244800"/>
              <a:chOff x="0" y="2449080"/>
              <a:chExt cx="6705000" cy="24480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2694240"/>
              <a:ext cx="6705000" cy="244800"/>
              <a:chOff x="0" y="2694240"/>
              <a:chExt cx="6705000" cy="24480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2939040"/>
              <a:ext cx="6705000" cy="244800"/>
              <a:chOff x="0" y="2939040"/>
              <a:chExt cx="6705000" cy="24480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3183840"/>
              <a:ext cx="6705000" cy="244800"/>
              <a:chOff x="0" y="3183840"/>
              <a:chExt cx="6705000" cy="24480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3429000"/>
              <a:ext cx="6705000" cy="244800"/>
              <a:chOff x="0" y="3429000"/>
              <a:chExt cx="6705000" cy="24480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ting, largest = 0, modeValu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3673800"/>
              <a:ext cx="6705000" cy="244800"/>
              <a:chOff x="0" y="3673800"/>
              <a:chExt cx="6705000" cy="24480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3918960"/>
              <a:ext cx="6705000" cy="244800"/>
              <a:chOff x="0" y="3918960"/>
              <a:chExt cx="6705000" cy="24480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 Mode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4163760"/>
              <a:ext cx="6705000" cy="244800"/>
              <a:chOff x="0" y="4163760"/>
              <a:chExt cx="6705000" cy="24480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4408560"/>
              <a:ext cx="6705000" cy="244800"/>
              <a:chOff x="0" y="4408560"/>
              <a:chExt cx="6705000" cy="24480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4653360"/>
              <a:ext cx="6705000" cy="244800"/>
              <a:chOff x="0" y="4653360"/>
              <a:chExt cx="6705000" cy="24480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req[ rating ]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4898520"/>
              <a:ext cx="6705000" cy="244800"/>
              <a:chOff x="0" y="4898520"/>
              <a:chExt cx="6705000" cy="24480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5143320"/>
              <a:ext cx="6705000" cy="244800"/>
              <a:chOff x="0" y="5143320"/>
              <a:chExt cx="6705000" cy="24480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5388480"/>
              <a:ext cx="6705000" cy="244800"/>
              <a:chOff x="0" y="5388480"/>
              <a:chExt cx="6705000" cy="24480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freq[ answer[ j ]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5633280"/>
              <a:ext cx="6705000" cy="244800"/>
              <a:chOff x="0" y="5633280"/>
              <a:chExt cx="6705000" cy="24480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5878440"/>
              <a:ext cx="6705000" cy="244800"/>
              <a:chOff x="0" y="5878440"/>
              <a:chExt cx="6705000" cy="24480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Response"&lt;&lt; setw( 11 ) &lt;&lt; "Frequency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6123240"/>
              <a:ext cx="6705000" cy="244800"/>
              <a:chOff x="0" y="6123240"/>
              <a:chExt cx="6705000" cy="24480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9 ) &lt;&lt; "Histogram\n\n" &lt;&lt; setw( 5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6368040"/>
              <a:ext cx="6705000" cy="244800"/>
              <a:chOff x="0" y="6368040"/>
              <a:chExt cx="6705000" cy="24480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1    1    2    2\n" &lt;&lt; setw( 56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6612840"/>
              <a:ext cx="6705000" cy="244800"/>
              <a:chOff x="0" y="6612840"/>
              <a:chExt cx="6705000" cy="24480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5    0    5    0    5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438280" y="4803840"/>
            <a:ext cx="4724280" cy="1067400"/>
            <a:chOff x="2438280" y="4803840"/>
            <a:chExt cx="4724280" cy="1067400"/>
          </a:xfrm>
        </p:grpSpPr>
        <p:sp>
          <p:nvSpPr>
            <p:cNvPr id="880" name=""/>
            <p:cNvSpPr/>
            <p:nvPr/>
          </p:nvSpPr>
          <p:spPr>
            <a:xfrm>
              <a:off x="3733560" y="480384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subscrip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 value of an element i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swer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438280" y="4956120"/>
              <a:ext cx="1295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AD54-3492-45CA-997B-AAA6B72A3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8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8 ) &lt;&lt; rating &lt;&lt; setw( 1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freq[ rating ] &lt;&lt; "       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freq[ rating ] &gt; largest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largest = freq[ rating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odeValue = ratin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1; h &lt;= freq[ rating ]; 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'*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ode is the most frequent value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For this run the mode is " &lt;&lt; mode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which occurred " &lt;&lt; largest &lt;&lt; " times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2361960" y="3067200"/>
            <a:ext cx="4648320" cy="580680"/>
            <a:chOff x="2361960" y="3067200"/>
            <a:chExt cx="4648320" cy="580680"/>
          </a:xfrm>
        </p:grpSpPr>
        <p:sp>
          <p:nvSpPr>
            <p:cNvPr id="960" name=""/>
            <p:cNvSpPr/>
            <p:nvPr/>
          </p:nvSpPr>
          <p:spPr>
            <a:xfrm>
              <a:off x="3809880" y="30672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stars depending on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2361960" y="3123720"/>
              <a:ext cx="14475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8025-A60C-4C29-AA8D-D9398864D2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64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[ j ] &gt; a[ j + 1 ]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old =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] = a[ j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+ 1 ]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% 2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2 ) &lt;&lt;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0" y="6531480"/>
                <a:ext cx="6780600" cy="326520"/>
                <a:chOff x="0" y="6531480"/>
                <a:chExt cx="6780600" cy="3265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2971800" y="1676160"/>
            <a:ext cx="4495680" cy="657000"/>
            <a:chOff x="2971800" y="1676160"/>
            <a:chExt cx="4495680" cy="657000"/>
          </a:xfrm>
        </p:grpSpPr>
        <p:sp>
          <p:nvSpPr>
            <p:cNvPr id="1030" name=""/>
            <p:cNvSpPr/>
            <p:nvPr/>
          </p:nvSpPr>
          <p:spPr>
            <a:xfrm>
              <a:off x="4267080" y="17524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bble sort: if elements out of order, swap them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971800" y="167616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5DA4-552F-47AC-9B4B-2F37A81C2D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6781680" cy="575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an is the average value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. The mean is equal to the tot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the data items divided by th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 data items (99). The mean valu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run is: 681 / 99 = 6.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unsorted array of respons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8 7 8 9 8 9 7 8 9 5 9 8 7 8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3 9 8 7 8 7 7 8 9 8 9 8 9 7 8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7 8 7 9 8 9 2 7 8 9 8 9 8 9 7 5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7 2 5 3 9 4 6 4 7 8 9 6 8 7 8 9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4 4 2 5 3 8 7 5 6 4 5 6 1 6 5 7 8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arra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2 2 3 3 3 3 4 4 4 4 4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6 6 6 6 6 6 6 6 7 7 7 7 7 7 7 7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7 7 7 7 7 7 7 7 7 7 7 7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8 8 8 8 8 8 8 8 8 8 8 8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9 9 9 9 9 9 9 9 9 9 9 9 9 9 9 9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dian is element 49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99 element ar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edia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E9D5-05DF-47AF-AA09-78598D1ADA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6781680" cy="374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ponse  Frequency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1    2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0    5    0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1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3  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4          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5  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8          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9  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23          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27          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19  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ode is the most frequ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ode is 8 which occurred 27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40376-CB27-4719-A90C-AFA0250AEC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on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, repeat search through the fir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, repeat search through the la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; at mo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eps, where 2^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&gt; #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6019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0386-7B6E-4626-B19B-1D0E34D9AC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- tables with rows,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matrices: specify row, then colum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914400" y="2057400"/>
            <a:ext cx="6124680" cy="973080"/>
            <a:chOff x="914400" y="2057400"/>
            <a:chExt cx="6124680" cy="973080"/>
          </a:xfrm>
        </p:grpSpPr>
        <p:sp>
          <p:nvSpPr>
            <p:cNvPr id="1043" name=""/>
            <p:cNvSpPr/>
            <p:nvPr/>
          </p:nvSpPr>
          <p:spPr>
            <a:xfrm>
              <a:off x="914400" y="2305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2573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14400" y="2841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997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101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05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3128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797120" y="2227680"/>
              <a:ext cx="1310400" cy="802800"/>
              <a:chOff x="1797120" y="2227680"/>
              <a:chExt cx="1310400" cy="8028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1797120" y="2227680"/>
                <a:ext cx="1310400" cy="267480"/>
                <a:chOff x="1797120" y="2227680"/>
                <a:chExt cx="1310400" cy="2674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7971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8504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797120" y="2495160"/>
                <a:ext cx="1310400" cy="267480"/>
                <a:chOff x="1797120" y="2495160"/>
                <a:chExt cx="1310400" cy="2674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7971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504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1797120" y="2763000"/>
                <a:ext cx="1310400" cy="267480"/>
                <a:chOff x="1797120" y="2763000"/>
                <a:chExt cx="1310400" cy="2674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17971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8504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0" name=""/>
            <p:cNvGrpSpPr/>
            <p:nvPr/>
          </p:nvGrpSpPr>
          <p:grpSpPr>
            <a:xfrm>
              <a:off x="3107520" y="2227680"/>
              <a:ext cx="1310400" cy="802800"/>
              <a:chOff x="3107520" y="2227680"/>
              <a:chExt cx="1310400" cy="8028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107520" y="2227680"/>
                <a:ext cx="1310400" cy="267480"/>
                <a:chOff x="3107520" y="2227680"/>
                <a:chExt cx="1310400" cy="2674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1075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1608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07520" y="2495160"/>
                <a:ext cx="1310400" cy="267480"/>
                <a:chOff x="3107520" y="2495160"/>
                <a:chExt cx="1310400" cy="2674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1075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1608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107520" y="2763000"/>
                <a:ext cx="1310400" cy="267480"/>
                <a:chOff x="3107520" y="2763000"/>
                <a:chExt cx="1310400" cy="2674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1075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1608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4418280" y="2227680"/>
              <a:ext cx="1310400" cy="802800"/>
              <a:chOff x="4418280" y="2227680"/>
              <a:chExt cx="1310400" cy="80280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4418280" y="2227680"/>
                <a:ext cx="1310400" cy="267480"/>
                <a:chOff x="4418280" y="2227680"/>
                <a:chExt cx="1310400" cy="2674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44182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71560" y="2266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4418280" y="2495160"/>
                <a:ext cx="1310400" cy="267480"/>
                <a:chOff x="4418280" y="2495160"/>
                <a:chExt cx="1310400" cy="2674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4182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71560" y="2533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418280" y="2763000"/>
                <a:ext cx="1310400" cy="267480"/>
                <a:chOff x="4418280" y="2763000"/>
                <a:chExt cx="1310400" cy="267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182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71560" y="2801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0" name=""/>
            <p:cNvGrpSpPr/>
            <p:nvPr/>
          </p:nvGrpSpPr>
          <p:grpSpPr>
            <a:xfrm>
              <a:off x="5728680" y="2227680"/>
              <a:ext cx="1310400" cy="802800"/>
              <a:chOff x="5728680" y="2227680"/>
              <a:chExt cx="1310400" cy="8028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5728680" y="2227680"/>
                <a:ext cx="1310400" cy="267480"/>
                <a:chOff x="5728680" y="2227680"/>
                <a:chExt cx="1310400" cy="2674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57286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78196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5728680" y="2495160"/>
                <a:ext cx="1310400" cy="267480"/>
                <a:chOff x="5728680" y="2495160"/>
                <a:chExt cx="1310400" cy="2674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57286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78196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728680" y="2763000"/>
                <a:ext cx="1310400" cy="267480"/>
                <a:chOff x="5728680" y="2763000"/>
                <a:chExt cx="1310400" cy="2674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7286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8196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0" name=""/>
          <p:cNvSpPr/>
          <p:nvPr/>
        </p:nvSpPr>
        <p:spPr>
          <a:xfrm>
            <a:off x="3152880" y="3886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90760" y="3657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00720" y="3305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28840" y="2971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304440" y="2987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86040" y="2971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686040" y="3353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36511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086600" y="4419720"/>
            <a:ext cx="1676520" cy="631440"/>
            <a:chOff x="7086600" y="4419720"/>
            <a:chExt cx="1676520" cy="631440"/>
          </a:xfrm>
        </p:grpSpPr>
        <p:sp>
          <p:nvSpPr>
            <p:cNvPr id="1101" name=""/>
            <p:cNvSpPr/>
            <p:nvPr/>
          </p:nvSpPr>
          <p:spPr>
            <a:xfrm>
              <a:off x="7086600" y="4900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7848720" y="4419720"/>
              <a:ext cx="914400" cy="631440"/>
              <a:chOff x="7848720" y="4419720"/>
              <a:chExt cx="914400" cy="631440"/>
            </a:xfrm>
          </p:grpSpPr>
          <p:sp>
            <p:nvSpPr>
              <p:cNvPr id="1103" name=""/>
              <p:cNvSpPr/>
              <p:nvPr/>
            </p:nvSpPr>
            <p:spPr>
              <a:xfrm>
                <a:off x="7848720" y="441972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30592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48720" y="47246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7086600" y="5638680"/>
            <a:ext cx="1676160" cy="631440"/>
            <a:chOff x="7086600" y="5638680"/>
            <a:chExt cx="1676160" cy="631440"/>
          </a:xfrm>
        </p:grpSpPr>
        <p:grpSp>
          <p:nvGrpSpPr>
            <p:cNvPr id="1107" name=""/>
            <p:cNvGrpSpPr/>
            <p:nvPr/>
          </p:nvGrpSpPr>
          <p:grpSpPr>
            <a:xfrm>
              <a:off x="7848360" y="5638680"/>
              <a:ext cx="914400" cy="631440"/>
              <a:chOff x="7848360" y="5638680"/>
              <a:chExt cx="914400" cy="631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7848360" y="563868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305560" y="5638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848360" y="5943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7086600" y="589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AF66-17A2-4465-946C-7FB0CD7425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output the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with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( 0,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ry to cal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using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8AA4-B73A-4B85-8236-C77AB26226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fine functions to take double scripted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]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1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23: fig04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ouble-subscripted array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s = 3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stud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xams = 4;     </a:t>
                </a:r>
                <a:r>
                  <a:rPr b="1" lang="en-US" sz="1200" spc="-1" strike="noStrike">
                    <a:solidFill>
                      <a:srgbClr val="66ff4d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exa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Grades[ students ][ exams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{ 77, 68, 86, 73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96, 87, 89, 78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70, 90, 86, 81 }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ray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studentGrades, students, exam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Low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inimum( studentGrades, students, exam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3352320" y="4038480"/>
            <a:ext cx="4572360" cy="990360"/>
            <a:chOff x="3352320" y="4038480"/>
            <a:chExt cx="4572360" cy="990360"/>
          </a:xfrm>
        </p:grpSpPr>
        <p:sp>
          <p:nvSpPr>
            <p:cNvPr id="1216" name=""/>
            <p:cNvSpPr/>
            <p:nvPr/>
          </p:nvSpPr>
          <p:spPr>
            <a:xfrm>
              <a:off x="4876560" y="40384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row is a particular student, each column is the grades on the exa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3352320" y="426708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62A2-E284-4B39-B5B9-F18762BE75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and position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[ position number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1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are like norm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operations in subscript.  If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5 – 2 ] == c[ 3 ] == c[ x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ACB9-9063-4EF3-8800-FD14F5486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20" name=""/>
            <p:cNvGrpSpPr/>
            <p:nvPr/>
          </p:nvGrpSpPr>
          <p:grpSpPr>
            <a:xfrm>
              <a:off x="0" y="0"/>
              <a:ext cx="6780960" cy="206280"/>
              <a:chOff x="0" y="0"/>
              <a:chExt cx="6780960" cy="2062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igh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06280"/>
              <a:ext cx="6780960" cy="206280"/>
              <a:chOff x="0" y="206280"/>
              <a:chExt cx="6780960" cy="2062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studentGrades, students, exams 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412560"/>
              <a:ext cx="6780960" cy="206280"/>
              <a:chOff x="0" y="412560"/>
              <a:chExt cx="6780960" cy="20628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18840"/>
              <a:ext cx="6780960" cy="206280"/>
              <a:chOff x="0" y="618840"/>
              <a:chExt cx="6780960" cy="2062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erson = 0; person &lt; students; perso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825480"/>
              <a:ext cx="6780960" cy="253440"/>
              <a:chOff x="0" y="825480"/>
              <a:chExt cx="6780960" cy="253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The average grade for student " &lt;&lt; person &lt;&lt; "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1079280"/>
              <a:ext cx="6780960" cy="206280"/>
              <a:chOff x="0" y="1079280"/>
              <a:chExt cx="6780960" cy="2062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1285560"/>
              <a:ext cx="6780960" cy="206280"/>
              <a:chOff x="0" y="1285560"/>
              <a:chExt cx="6780960" cy="20628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precision( 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1491840"/>
              <a:ext cx="6780960" cy="206280"/>
              <a:chOff x="0" y="1491840"/>
              <a:chExt cx="6780960" cy="20628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( studentGrades[ person ], exams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1698480"/>
              <a:ext cx="6780960" cy="206280"/>
              <a:chOff x="0" y="1698480"/>
              <a:chExt cx="6780960" cy="20628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1904760"/>
              <a:ext cx="6780960" cy="206280"/>
              <a:chOff x="0" y="1904760"/>
              <a:chExt cx="6780960" cy="20628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2111040"/>
              <a:ext cx="6780960" cy="206280"/>
              <a:chOff x="0" y="2111040"/>
              <a:chExt cx="6780960" cy="20628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2317680"/>
              <a:ext cx="6780960" cy="206280"/>
              <a:chOff x="0" y="2317680"/>
              <a:chExt cx="6780960" cy="20628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2523960"/>
              <a:ext cx="6780960" cy="206280"/>
              <a:chOff x="0" y="2523960"/>
              <a:chExt cx="6780960" cy="206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in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2730240"/>
              <a:ext cx="6780960" cy="206280"/>
              <a:chOff x="0" y="2730240"/>
              <a:chExt cx="6780960" cy="20628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2936880"/>
              <a:ext cx="6780960" cy="206280"/>
              <a:chOff x="0" y="2936880"/>
              <a:chExt cx="6780960" cy="206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3143160"/>
              <a:ext cx="6780960" cy="206280"/>
              <a:chOff x="0" y="3143160"/>
              <a:chExt cx="6780960" cy="206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3349440"/>
              <a:ext cx="6780960" cy="206280"/>
              <a:chOff x="0" y="3349440"/>
              <a:chExt cx="6780960" cy="20628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3555720"/>
              <a:ext cx="6780960" cy="206280"/>
              <a:chOff x="0" y="3555720"/>
              <a:chExt cx="6780960" cy="206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0" y="3762360"/>
              <a:ext cx="6780960" cy="206280"/>
              <a:chOff x="0" y="3762360"/>
              <a:chExt cx="6780960" cy="20628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3968640"/>
              <a:ext cx="6780960" cy="206280"/>
              <a:chOff x="0" y="3968640"/>
              <a:chExt cx="6780960" cy="20628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4174920"/>
              <a:ext cx="6780960" cy="206280"/>
              <a:chOff x="0" y="4174920"/>
              <a:chExt cx="6780960" cy="20628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4381560"/>
              <a:ext cx="6780960" cy="206280"/>
              <a:chOff x="0" y="4381560"/>
              <a:chExt cx="6780960" cy="20628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lt; low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4587840"/>
              <a:ext cx="6780960" cy="206280"/>
              <a:chOff x="0" y="4587840"/>
              <a:chExt cx="6780960" cy="206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low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4794120"/>
              <a:ext cx="6780960" cy="206280"/>
              <a:chOff x="0" y="4794120"/>
              <a:chExt cx="6780960" cy="20628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5000760"/>
              <a:ext cx="6780960" cy="206280"/>
              <a:chOff x="0" y="5000760"/>
              <a:chExt cx="6780960" cy="20628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5207040"/>
              <a:ext cx="6780960" cy="206280"/>
              <a:chOff x="0" y="5207040"/>
              <a:chExt cx="6780960" cy="20628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5413320"/>
              <a:ext cx="6780960" cy="206280"/>
              <a:chOff x="0" y="5413320"/>
              <a:chExt cx="6780960" cy="2062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5619960"/>
              <a:ext cx="6780960" cy="206280"/>
              <a:chOff x="0" y="5619960"/>
              <a:chExt cx="6780960" cy="2062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ax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5826240"/>
              <a:ext cx="6780960" cy="206280"/>
              <a:chOff x="0" y="5826240"/>
              <a:chExt cx="6780960" cy="20628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032520"/>
              <a:ext cx="6780960" cy="206280"/>
              <a:chOff x="0" y="6032520"/>
              <a:chExt cx="6780960" cy="206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6238800"/>
              <a:ext cx="6780960" cy="206280"/>
              <a:chOff x="0" y="6238800"/>
              <a:chExt cx="6780960" cy="2062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6445440"/>
              <a:ext cx="6780960" cy="206280"/>
              <a:chOff x="0" y="6445440"/>
              <a:chExt cx="6780960" cy="2062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6651720"/>
              <a:ext cx="6780960" cy="206280"/>
              <a:chOff x="0" y="6651720"/>
              <a:chExt cx="6780960" cy="20628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8084-CB07-4ACE-9A17-3BF8A8E5EC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gt; high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igh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average grade for a particular stu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OfGrades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test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setOfGrades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tes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         [0]  [1]  [2]  [3]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\nstudentGrades[" &lt;&lt; i &lt;&lt; "]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setiosflags( ios::left ) &lt;&lt; setw( 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&lt;&lt;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143E-02D1-4189-BAF2-F21250B35A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ra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0]  [1]  [2]  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0] 77   68   86  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1] 96   87   89   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2] 70   90   86  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west grade: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: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0 is 76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1 is 8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2 is 81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4EBF-A840-4828-AB2A-7D66910CC1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6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7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3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52AE-16AC-4CAC-B5B6-74370A75E1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arrays - 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[ 10 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hi[ 3284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format as oth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936E-819D-4518-9293-2CC53F6BEF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become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any initializers, a syntax error is gener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all the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ize omitted, the initializers determ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initializers, ther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5 element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0BF4-7F23-4E79-A599-DE22BF8A8A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 using a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out each array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6780960" cy="4495680"/>
            <a:chOff x="0" y="0"/>
            <a:chExt cx="6780960" cy="4495680"/>
          </a:xfrm>
        </p:grpSpPr>
        <p:grpSp>
          <p:nvGrpSpPr>
            <p:cNvPr id="162" name=""/>
            <p:cNvGrpSpPr/>
            <p:nvPr/>
          </p:nvGrpSpPr>
          <p:grpSpPr>
            <a:xfrm>
              <a:off x="0" y="0"/>
              <a:ext cx="6780960" cy="219240"/>
              <a:chOff x="0" y="0"/>
              <a:chExt cx="6780960" cy="21924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4: fig04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219240"/>
              <a:ext cx="6780960" cy="203400"/>
              <a:chOff x="0" y="219240"/>
              <a:chExt cx="6780960" cy="2034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ing an array with a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23000"/>
              <a:ext cx="6780960" cy="203400"/>
              <a:chOff x="0" y="423000"/>
              <a:chExt cx="6780960" cy="2034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626760"/>
              <a:ext cx="6780960" cy="203400"/>
              <a:chOff x="0" y="626760"/>
              <a:chExt cx="6780960" cy="2034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830160"/>
              <a:ext cx="6780960" cy="203400"/>
              <a:chOff x="0" y="830160"/>
              <a:chExt cx="6780960" cy="2034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033920"/>
              <a:ext cx="6780960" cy="203400"/>
              <a:chOff x="0" y="1033920"/>
              <a:chExt cx="6780960" cy="2034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237320"/>
              <a:ext cx="6780960" cy="203400"/>
              <a:chOff x="0" y="1237320"/>
              <a:chExt cx="6780960" cy="2034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441080"/>
              <a:ext cx="6780960" cy="203400"/>
              <a:chOff x="0" y="1441080"/>
              <a:chExt cx="6780960" cy="2034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644840"/>
              <a:ext cx="6780960" cy="203400"/>
              <a:chOff x="0" y="1644840"/>
              <a:chExt cx="6780960" cy="2034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848240"/>
              <a:ext cx="6780960" cy="203400"/>
              <a:chOff x="0" y="1848240"/>
              <a:chExt cx="6780960" cy="2034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052000"/>
              <a:ext cx="6780960" cy="203400"/>
              <a:chOff x="0" y="2052000"/>
              <a:chExt cx="6780960" cy="2034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255760"/>
              <a:ext cx="6780960" cy="203400"/>
              <a:chOff x="0" y="2255760"/>
              <a:chExt cx="6780960" cy="2034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459520"/>
              <a:ext cx="6780960" cy="203400"/>
              <a:chOff x="0" y="2459520"/>
              <a:chExt cx="6780960" cy="2034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662920"/>
              <a:ext cx="6780960" cy="203400"/>
              <a:chOff x="0" y="2662920"/>
              <a:chExt cx="6780960" cy="2034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[ 10 ] = { 32, 27, 64, 18, 95, 14, 90, 70, 60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866680"/>
              <a:ext cx="6780960" cy="203400"/>
              <a:chOff x="0" y="2866680"/>
              <a:chExt cx="6780960" cy="2034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070080"/>
              <a:ext cx="6780960" cy="203400"/>
              <a:chOff x="0" y="3070080"/>
              <a:chExt cx="6780960" cy="2034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lement" &lt;&lt; setw( 13 ) &lt;&lt; "Valu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273840"/>
              <a:ext cx="6780960" cy="203400"/>
              <a:chOff x="0" y="3273840"/>
              <a:chExt cx="6780960" cy="2034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477600"/>
              <a:ext cx="6780960" cy="203400"/>
              <a:chOff x="0" y="3477600"/>
              <a:chExt cx="6780960" cy="2034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10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681000"/>
              <a:ext cx="6780960" cy="203400"/>
              <a:chOff x="0" y="3681000"/>
              <a:chExt cx="6780960" cy="2034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7 ) &lt;&lt; i &lt;&lt; setw( 13 ) &lt;&lt; n[ i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884760"/>
              <a:ext cx="6780960" cy="203400"/>
              <a:chOff x="0" y="3884760"/>
              <a:chExt cx="6780960" cy="2034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088520"/>
              <a:ext cx="6780960" cy="203400"/>
              <a:chOff x="0" y="4088520"/>
              <a:chExt cx="6780960" cy="2034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92280"/>
              <a:ext cx="6780960" cy="203400"/>
              <a:chOff x="0" y="4292280"/>
              <a:chExt cx="6780960" cy="2034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0" y="457524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160" y="1600200"/>
            <a:ext cx="4115160" cy="1066680"/>
            <a:chOff x="1676160" y="1600200"/>
            <a:chExt cx="4115160" cy="1066680"/>
          </a:xfrm>
        </p:grpSpPr>
        <p:sp>
          <p:nvSpPr>
            <p:cNvPr id="230" name=""/>
            <p:cNvSpPr/>
            <p:nvPr/>
          </p:nvSpPr>
          <p:spPr>
            <a:xfrm>
              <a:off x="3353040" y="1600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y array is declared and elements referenc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76160" y="182880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9EAC0-6629-45BD-9EC1-9DE2B12F6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Attempt to modify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234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7: fig04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const object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rror: x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cannot modify a const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0" y="32767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4_07.cp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304 Fig04_07.cpp 6: Constant variable 'x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ized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4_07.cpp 8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2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1652760"/>
            <a:ext cx="5334120" cy="1852560"/>
            <a:chOff x="1295280" y="1652760"/>
            <a:chExt cx="5334120" cy="1852560"/>
          </a:xfrm>
        </p:grpSpPr>
        <p:grpSp>
          <p:nvGrpSpPr>
            <p:cNvPr id="269" name=""/>
            <p:cNvGrpSpPr/>
            <p:nvPr/>
          </p:nvGrpSpPr>
          <p:grpSpPr>
            <a:xfrm>
              <a:off x="1295280" y="1652760"/>
              <a:ext cx="5334120" cy="824040"/>
              <a:chOff x="1295280" y="1652760"/>
              <a:chExt cx="5334120" cy="824040"/>
            </a:xfrm>
          </p:grpSpPr>
          <p:sp>
            <p:nvSpPr>
              <p:cNvPr id="270" name=""/>
              <p:cNvSpPr/>
              <p:nvPr/>
            </p:nvSpPr>
            <p:spPr>
              <a:xfrm>
                <a:off x="2819520" y="1652760"/>
                <a:ext cx="3809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a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st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ariables must be initialized because they cannot be modified la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295280" y="1652760"/>
                <a:ext cx="15242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>
              <a:off x="403848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1B61-C6AE-4FD4-BF22-768D22C5C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'o'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 as for a normal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de effect: 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77C1-E422-45F2-BE26-393B1CF64B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21:25:57Z</dcterms:created>
  <dc:creator>kalid</dc:creator>
  <dc:description/>
  <dc:language>en-US</dc:language>
  <cp:lastModifiedBy>Antonella Esposito</cp:lastModifiedBy>
  <dcterms:modified xsi:type="dcterms:W3CDTF">2001-01-12T10:41:19Z</dcterms:modified>
  <cp:revision>166</cp:revision>
  <dc:subject/>
  <dc:title>Chapter 4 - Arrays</dc:title>
</cp:coreProperties>
</file>