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091A-8801-4C9C-8246-CB2A3C97B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7371-2F34-41CA-9423-44050A093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7F1B-56BE-4470-8F56-D2AE8F897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D131-140A-4AFB-A06D-C8B5C86D4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91E1-13AA-4A86-801D-F3D3AF543C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1AF4-89D7-4A72-8F97-934CC488C3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CB6C-17B6-4DBD-9286-EADE6A528F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6698-87D5-475D-BDFA-6C8E5D6EE8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5EDF-B908-4EA9-BE69-35225021B8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1A84-B438-4127-9216-29E8685EE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FA1C-025E-45B7-9029-54E7F43A9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8948-13B0-48CE-A296-C909F18E8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0FBE-1327-4375-9F43-E9A86B258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EE69-7E58-4628-A1B3-B62F66562D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6740-D021-40F6-8570-41B0C86AFB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660D-5B48-410B-A3DB-8CE20D14AE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9586-CDA5-434D-81C6-40DAF56FA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4F3E-4562-4602-9699-893900785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E1A6-8300-489E-8D4D-8502F1350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57C5-EA26-4A9D-9590-A4701D2CB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924D-6C26-4F35-9ED1-4C49E712A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6488-1933-4455-951D-22114F1FB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DA4A-3118-4985-AFCB-045209BAF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B9D4-F125-4AB6-B9AC-AE7DF6A58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ABDD-8111-4A0A-A34E-EF5F21467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0F9-61C6-4D8E-A96A-1CDDB4309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47840"/>
            <a:ext cx="8077320" cy="38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n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9F4F-E8B9-4718-9BCE-7EDEDAD5E0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5720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phone number entered was: (800) 555-12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3F96-1836-4FB0-ACA4-63C82E335F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nd classes because they violate the encapsulation of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2D23-0213-4852-BA80-B5E037F045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27B1-0458-4B22-BBFA-570B889614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F8AD-5F0C-458A-9CFF-DE0B3085DE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63DA-0BC2-48ED-B4F0-B999D55E9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n Array clas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248B-FECA-4D26-8808-E7CC3043F1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arra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mple class Array (for integer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 10 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Array();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mp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if two arrays are not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true, otherwise return false (uses operator==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 ( *this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getArrayCou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unt of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array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pt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inter to first element of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# of Array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9372600" y="25909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200400" y="2666880"/>
            <a:ext cx="5486400" cy="2057400"/>
            <a:chOff x="3200400" y="2666880"/>
            <a:chExt cx="5486400" cy="2057400"/>
          </a:xfrm>
        </p:grpSpPr>
        <p:sp>
          <p:nvSpPr>
            <p:cNvPr id="425" name=""/>
            <p:cNvSpPr/>
            <p:nvPr/>
          </p:nvSpPr>
          <p:spPr>
            <a:xfrm>
              <a:off x="5410080" y="30481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all the overloaded operators used to implement th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3200400" y="266688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343040" y="33526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266720" y="3505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038480" y="358128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86E4-0F41-48C4-B5D3-3F3A1245A9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-4889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6780960" cy="609120"/>
            <a:chOff x="0" y="0"/>
            <a:chExt cx="67809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6780960" cy="203040"/>
              <a:chOff x="0" y="0"/>
              <a:chExt cx="6780960" cy="2030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3040"/>
              <a:ext cx="6780960" cy="203040"/>
              <a:chOff x="0" y="203040"/>
              <a:chExt cx="6780960" cy="2030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6080"/>
              <a:ext cx="6780960" cy="203040"/>
              <a:chOff x="0" y="406080"/>
              <a:chExt cx="6780960" cy="2030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0" y="609480"/>
            <a:ext cx="6780960" cy="6248520"/>
            <a:chOff x="0" y="609480"/>
            <a:chExt cx="6780960" cy="6248520"/>
          </a:xfrm>
        </p:grpSpPr>
        <p:grpSp>
          <p:nvGrpSpPr>
            <p:cNvPr id="443" name=""/>
            <p:cNvGrpSpPr/>
            <p:nvPr/>
          </p:nvGrpSpPr>
          <p:grpSpPr>
            <a:xfrm>
              <a:off x="0" y="609480"/>
              <a:ext cx="6780960" cy="215280"/>
              <a:chOff x="0" y="609480"/>
              <a:chExt cx="6780960" cy="21528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 8.4: arra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824760"/>
              <a:ext cx="6780960" cy="215280"/>
              <a:chOff x="0" y="824760"/>
              <a:chExt cx="6780960" cy="21528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1040040"/>
              <a:ext cx="6780960" cy="215280"/>
              <a:chOff x="0" y="1040040"/>
              <a:chExt cx="6780960" cy="21528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1255680"/>
              <a:ext cx="6780960" cy="215280"/>
              <a:chOff x="0" y="1255680"/>
              <a:chExt cx="6780960" cy="21528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1471320"/>
              <a:ext cx="6780960" cy="215280"/>
              <a:chOff x="0" y="1471320"/>
              <a:chExt cx="6780960" cy="21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1686600"/>
              <a:ext cx="6780960" cy="215280"/>
              <a:chOff x="0" y="1686600"/>
              <a:chExt cx="6780960" cy="21528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1902240"/>
              <a:ext cx="6780960" cy="215280"/>
              <a:chOff x="0" y="1902240"/>
              <a:chExt cx="6780960" cy="21528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117520"/>
              <a:ext cx="6780960" cy="215280"/>
              <a:chOff x="0" y="2117520"/>
              <a:chExt cx="6780960" cy="21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2333160"/>
              <a:ext cx="6780960" cy="215280"/>
              <a:chOff x="0" y="2333160"/>
              <a:chExt cx="6780960" cy="21528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2548440"/>
              <a:ext cx="6780960" cy="215280"/>
              <a:chOff x="0" y="2548440"/>
              <a:chExt cx="6780960" cy="21528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2764080"/>
              <a:ext cx="6780960" cy="215280"/>
              <a:chOff x="0" y="2764080"/>
              <a:chExt cx="6780960" cy="21528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979720"/>
              <a:ext cx="6780960" cy="215280"/>
              <a:chOff x="0" y="2979720"/>
              <a:chExt cx="6780960" cy="2152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3195000"/>
              <a:ext cx="6780960" cy="215280"/>
              <a:chOff x="0" y="3195000"/>
              <a:chExt cx="6780960" cy="21528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3410280"/>
              <a:ext cx="6780960" cy="215280"/>
              <a:chOff x="0" y="3410280"/>
              <a:chExt cx="6780960" cy="21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3625920"/>
              <a:ext cx="6780960" cy="215280"/>
              <a:chOff x="0" y="3625920"/>
              <a:chExt cx="6780960" cy="21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841560"/>
              <a:ext cx="6780960" cy="215280"/>
              <a:chOff x="0" y="3841560"/>
              <a:chExt cx="6780960" cy="2152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4056840"/>
              <a:ext cx="6780960" cy="215280"/>
              <a:chOff x="0" y="4056840"/>
              <a:chExt cx="6780960" cy="2152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data member at file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4272480"/>
              <a:ext cx="6780960" cy="215280"/>
              <a:chOff x="0" y="4272480"/>
              <a:chExt cx="6780960" cy="2152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arrayCount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4487760"/>
              <a:ext cx="6780960" cy="215280"/>
              <a:chOff x="0" y="4487760"/>
              <a:chExt cx="6780960" cy="2152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4703400"/>
              <a:ext cx="6780960" cy="215280"/>
              <a:chOff x="0" y="4703400"/>
              <a:chExt cx="6780960" cy="2152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 for class Array (default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918680"/>
              <a:ext cx="6780960" cy="215280"/>
              <a:chOff x="0" y="4918680"/>
              <a:chExt cx="6780960" cy="21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5134320"/>
              <a:ext cx="6780960" cy="215280"/>
              <a:chOff x="0" y="5134320"/>
              <a:chExt cx="6780960" cy="21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5349600"/>
              <a:ext cx="6780960" cy="215280"/>
              <a:chOff x="0" y="5349600"/>
              <a:chExt cx="6780960" cy="2152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ize = ( arraySize &gt; 0 ? arraySize : 10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5565240"/>
              <a:ext cx="6780960" cy="215280"/>
              <a:chOff x="0" y="5565240"/>
              <a:chExt cx="6780960" cy="21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780880"/>
              <a:ext cx="6780960" cy="215280"/>
              <a:chOff x="0" y="5780880"/>
              <a:chExt cx="6780960" cy="2152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996160"/>
              <a:ext cx="6780960" cy="215280"/>
              <a:chOff x="0" y="5996160"/>
              <a:chExt cx="6780960" cy="2152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6211440"/>
              <a:ext cx="6780960" cy="215280"/>
              <a:chOff x="0" y="6211440"/>
              <a:chExt cx="6780960" cy="2152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6427080"/>
              <a:ext cx="6780960" cy="215280"/>
              <a:chOff x="0" y="6427080"/>
              <a:chExt cx="6780960" cy="2152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642720"/>
              <a:ext cx="6780960" cy="215280"/>
              <a:chOff x="0" y="6642720"/>
              <a:chExt cx="6780960" cy="2152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0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nitializ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DC24-9346-44F1-AE4C-1B341D8508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32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st receive a reference to prevent infinite recu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init ) : size( ini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ini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init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~Arra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--arrayCount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one few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Get the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turn avoids: ( a1 = a2 ) = a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rray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heck for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for arrays of different sizes, deallocat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left side array, then allocate new left sid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05AB-05C7-46B6-B068-23DA93D90B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3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size = right.siz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size thi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assert( 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[ i ] = righ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array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x = y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wo arrays are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rue, otherwise return fals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of different siz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ptr[ i ] != right.ptr[ i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are not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 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rrays 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non-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creates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3CAA-DC28-4051-9236-D30702079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raditional operators with user-define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misused, program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already overloaded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oth the stream-insertion operator and the bitwise left-shif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erform arithmetic on multipl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 based on the manner in which the operator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5171-2312-4BB5-8F6F-8FC71CE94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Array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 creates an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he number of Array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atic functions cannot be con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Array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 for class Arr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s values for entir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.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input &gt;&g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x &gt;&g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 for class Arra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3624-12BD-4D88-963E-0F70E9716E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3200040"/>
            <a:chOff x="0" y="0"/>
            <a:chExt cx="6780960" cy="320004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= 0; i &lt; a.size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setw( 12 ) &lt;&l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i + 1 ) % 4 == 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 numbers per row of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% 4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out &lt;&lt; x &lt;&l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872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fig08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simple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" name=""/>
          <p:cNvSpPr/>
          <p:nvPr/>
        </p:nvSpPr>
        <p:spPr>
          <a:xfrm>
            <a:off x="4739760" y="60958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075C-7CC2-4ABD-B6EB-B8314F3D1B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wo arrays and print Array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1( 7 ),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1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1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2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6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2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6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6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6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7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put and print integers1 and integer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7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put 17 integ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integers1 &gt;&gt;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fter input, the arrays cont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inequality (!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!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!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not equal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array integers3 using integers1 as 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itializer; print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3( integers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"/>
          <p:cNvSpPr/>
          <p:nvPr/>
        </p:nvSpPr>
        <p:spPr>
          <a:xfrm>
            <a:off x="4282560" y="3049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7280" y="1371600"/>
            <a:ext cx="456984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17280" y="2490840"/>
            <a:ext cx="456984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24280" y="3581280"/>
            <a:ext cx="4724640" cy="1919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65600" y="5638680"/>
            <a:ext cx="328968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5720-A012-4CF6-B601-B74D076576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ize of array integers3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assignment (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integers2 to integers1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 =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equality (=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=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=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equal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[5] is " &lt;&lt; integers1[ 5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1000 to integers1[5]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5 ]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ttempt to use out of range subscri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1000 to integers1[15]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15 ] = 100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3809880" y="2438280"/>
            <a:ext cx="4953240" cy="249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0" name=""/>
          <p:cNvSpPr/>
          <p:nvPr/>
        </p:nvSpPr>
        <p:spPr>
          <a:xfrm>
            <a:off x="3429000" y="914400"/>
            <a:ext cx="48769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50920" y="367812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181480" y="3124080"/>
            <a:ext cx="38862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y are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7600" y="5322960"/>
            <a:ext cx="533412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2520" y="4648320"/>
            <a:ext cx="4572000" cy="919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ertion failed: 0 &lt;= subscript &amp;&amp; subscript &lt; size, file Array1.cpp, line 95 abnormal program termin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9C86-6090-4D2F-943E-F8CA04AAE8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0"/>
            <a:ext cx="678168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CD8F-21EE-449E-8125-6D3D4DF927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0"/>
            <a:ext cx="6705720" cy="4344840"/>
            <a:chOff x="0" y="0"/>
            <a:chExt cx="6705720" cy="4344840"/>
          </a:xfrm>
        </p:grpSpPr>
        <p:sp>
          <p:nvSpPr>
            <p:cNvPr id="1129" name=""/>
            <p:cNvSpPr/>
            <p:nvPr/>
          </p:nvSpPr>
          <p:spPr>
            <a:xfrm>
              <a:off x="0" y="1878120"/>
              <a:ext cx="6705720" cy="246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valuating: integers1 == integer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y are eq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[5] is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1000 to integers1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1000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1000 to integers1[1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ion failed: 0 &lt;= subscript &amp;&amp; subscript &lt; size, file Array1.cpp, line 95 abnormal program terminatio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integers2 to 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2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91B5-F56D-4BD2-8388-B90AC05EB1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conversions among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conversions between user defined and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operator must be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is the type to which the object is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user-define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reating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244C-E33B-4B40-ACCD-BDD7330C94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and 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ing can prevent the need for over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an object s of user-defined class String appears in a program where an ordin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s expected, such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iler calls the overloaded cast operato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vert the object in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ses the resul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97EF-B791-4A25-B946-BD51AD9628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class to hand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s that turn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DC9B-C23C-4063-94C0-FD627BF65E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, some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9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string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a String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= ""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/default 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String(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=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!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(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g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g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ight &lt;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lt;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9DE6-366F-4376-B9DE-2925558118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unction definition as n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an operator on a class object it must be overloaded unless the assignment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the address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&amp;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by default performs memberwise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operator (&amp;) by default returns the address of an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6366-9A15-40BF-B5A4-0F589EDAFC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40" name=""/>
            <p:cNvGrpSpPr/>
            <p:nvPr/>
          </p:nvGrpSpPr>
          <p:grpSpPr>
            <a:xfrm>
              <a:off x="0" y="0"/>
              <a:ext cx="6780960" cy="4572000"/>
              <a:chOff x="0" y="0"/>
              <a:chExt cx="6780960" cy="457200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0" y="0"/>
                <a:ext cx="6780960" cy="228240"/>
                <a:chOff x="0" y="0"/>
                <a:chExt cx="6780960" cy="22824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l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right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0" y="228240"/>
                <a:ext cx="6780960" cy="228240"/>
                <a:chOff x="0" y="228240"/>
                <a:chExt cx="6780960" cy="2282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right &lt;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0" y="456840"/>
                <a:ext cx="6780960" cy="228600"/>
                <a:chOff x="0" y="456840"/>
                <a:chExt cx="6780960" cy="22860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0" y="685800"/>
                <a:ext cx="6780960" cy="228240"/>
                <a:chOff x="0" y="685800"/>
                <a:chExt cx="6780960" cy="22824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// test s1 &gt;= s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0" y="914400"/>
                <a:ext cx="6780960" cy="228240"/>
                <a:chOff x="0" y="914400"/>
                <a:chExt cx="6780960" cy="2282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g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igh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0" y="1143000"/>
                <a:ext cx="6780960" cy="228240"/>
                <a:chOff x="0" y="1143000"/>
                <a:chExt cx="6780960" cy="2282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 right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0" y="1371240"/>
                <a:ext cx="6780960" cy="228600"/>
                <a:chOff x="0" y="1371240"/>
                <a:chExt cx="6780960" cy="22860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0" y="1600200"/>
                <a:ext cx="6780960" cy="228240"/>
                <a:chOff x="0" y="1600200"/>
                <a:chExt cx="6780960" cy="22824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0" y="1828800"/>
                <a:ext cx="6780960" cy="228240"/>
                <a:chOff x="0" y="1828800"/>
                <a:chExt cx="6780960" cy="2282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0" y="2057400"/>
                <a:ext cx="6780960" cy="228240"/>
                <a:chOff x="0" y="2057400"/>
                <a:chExt cx="6780960" cy="2282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String operator()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return a sub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0" y="2286000"/>
                <a:ext cx="6780960" cy="228600"/>
                <a:chOff x="0" y="2286000"/>
                <a:chExt cx="6780960" cy="2286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getLength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     // return string leng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0" y="2514600"/>
                <a:ext cx="6780960" cy="228240"/>
                <a:chOff x="0" y="2514600"/>
                <a:chExt cx="6780960" cy="22824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0" y="2743200"/>
                <a:ext cx="6780960" cy="228240"/>
                <a:chOff x="0" y="2743200"/>
                <a:chExt cx="6780960" cy="22824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0" y="2971800"/>
                <a:ext cx="6780960" cy="228240"/>
                <a:chOff x="0" y="2971800"/>
                <a:chExt cx="6780960" cy="2282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length;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tring leng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0" y="3200400"/>
                <a:ext cx="6780960" cy="228600"/>
                <a:chOff x="0" y="3200400"/>
                <a:chExt cx="6780960" cy="22860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sPtr;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// pointer to start of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0" y="3429000"/>
                <a:ext cx="6780960" cy="228240"/>
                <a:chOff x="0" y="3429000"/>
                <a:chExt cx="6780960" cy="22824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0" y="3657600"/>
                <a:ext cx="6780960" cy="228240"/>
                <a:chOff x="0" y="3657600"/>
                <a:chExt cx="6780960" cy="22824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etString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utility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0" y="3886200"/>
                <a:ext cx="6780960" cy="228240"/>
                <a:chOff x="0" y="3886200"/>
                <a:chExt cx="6780960" cy="22824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0" y="4114800"/>
                <a:ext cx="6780960" cy="228240"/>
                <a:chOff x="0" y="4114800"/>
                <a:chExt cx="6780960" cy="22824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0" y="4343400"/>
                <a:ext cx="6780960" cy="228600"/>
                <a:chOff x="0" y="4343400"/>
                <a:chExt cx="6780960" cy="2286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0" y="4343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0" y="4343400"/>
                  <a:ext cx="6780600" cy="228600"/>
                  <a:chOff x="0" y="4343400"/>
                  <a:chExt cx="6780600" cy="22860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53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Courier New"/>
                      </a:rPr>
                      <a:t>#endi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03" name=""/>
            <p:cNvGrpSpPr/>
            <p:nvPr/>
          </p:nvGrpSpPr>
          <p:grpSpPr>
            <a:xfrm>
              <a:off x="0" y="4572000"/>
              <a:ext cx="6780960" cy="2286000"/>
              <a:chOff x="0" y="4572000"/>
              <a:chExt cx="6780960" cy="228600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0" y="4572000"/>
                <a:ext cx="6780960" cy="207720"/>
                <a:chOff x="0" y="4572000"/>
                <a:chExt cx="6780960" cy="207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Fig. 8.5: string1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0" y="4779720"/>
                <a:ext cx="6780960" cy="207720"/>
                <a:chOff x="0" y="4779720"/>
                <a:chExt cx="6780960" cy="2077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Member function definitions for class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0" y="4987440"/>
                <a:ext cx="6780960" cy="207720"/>
                <a:chOff x="0" y="4987440"/>
                <a:chExt cx="6780960" cy="207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0" y="5195520"/>
                <a:ext cx="6780960" cy="207720"/>
                <a:chOff x="0" y="5195520"/>
                <a:chExt cx="6780960" cy="2077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0" y="5403240"/>
                <a:ext cx="6780960" cy="207720"/>
                <a:chOff x="0" y="5403240"/>
                <a:chExt cx="6780960" cy="207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0" y="5610960"/>
                <a:ext cx="6780960" cy="207720"/>
                <a:chOff x="0" y="5610960"/>
                <a:chExt cx="6780960" cy="2077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0" y="5818680"/>
                <a:ext cx="6780960" cy="207720"/>
                <a:chOff x="0" y="5818680"/>
                <a:chExt cx="6780960" cy="207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0" y="6026760"/>
                <a:ext cx="6780960" cy="207720"/>
                <a:chOff x="0" y="6026760"/>
                <a:chExt cx="6780960" cy="2077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manip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0" y="6234480"/>
                <a:ext cx="6780960" cy="207720"/>
                <a:chOff x="0" y="6234480"/>
                <a:chExt cx="6780960" cy="207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0" y="6442200"/>
                <a:ext cx="6780960" cy="207720"/>
                <a:chOff x="0" y="6442200"/>
                <a:chExt cx="6780960" cy="207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setw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0" y="6650280"/>
                <a:ext cx="6780960" cy="207720"/>
                <a:chOff x="0" y="6650280"/>
                <a:chExt cx="6780960" cy="2077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CAE6-A816-40EA-8355-12BAA9E273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Conversion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py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 constructor: Convert char * to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 ) : length( strlen( s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nversion constructor: " &lt;&lt; s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s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copy ) : length( copy.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py constructor: " &lt;&lt; copy.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copy.sPtr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~String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estructor: " &lt;&lt; 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= operator; avoids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operator= called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void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2" name=""/>
          <p:cNvGrpSpPr/>
          <p:nvPr/>
        </p:nvGrpSpPr>
        <p:grpSpPr>
          <a:xfrm>
            <a:off x="1752480" y="1371240"/>
            <a:ext cx="5410440" cy="1023480"/>
            <a:chOff x="1752480" y="1371240"/>
            <a:chExt cx="5410440" cy="1023480"/>
          </a:xfrm>
        </p:grpSpPr>
        <p:grpSp>
          <p:nvGrpSpPr>
            <p:cNvPr id="1433" name=""/>
            <p:cNvGrpSpPr/>
            <p:nvPr/>
          </p:nvGrpSpPr>
          <p:grpSpPr>
            <a:xfrm>
              <a:off x="2666520" y="1371240"/>
              <a:ext cx="4496400" cy="1023480"/>
              <a:chOff x="2666520" y="1371240"/>
              <a:chExt cx="4496400" cy="1023480"/>
            </a:xfrm>
          </p:grpSpPr>
          <p:sp>
            <p:nvSpPr>
              <p:cNvPr id="1434" name=""/>
              <p:cNvSpPr/>
              <p:nvPr/>
            </p:nvSpPr>
            <p:spPr>
              <a:xfrm>
                <a:off x="2666880" y="2057400"/>
                <a:ext cx="449604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version constructor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har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Strin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2666520" y="1371240"/>
                <a:ext cx="1219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 flipH="1" flipV="1">
              <a:off x="1752480" y="20570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2437920" y="1828440"/>
            <a:ext cx="5258160" cy="3324240"/>
            <a:chOff x="2437920" y="1828440"/>
            <a:chExt cx="5258160" cy="3324240"/>
          </a:xfrm>
        </p:grpSpPr>
        <p:sp>
          <p:nvSpPr>
            <p:cNvPr id="1438" name=""/>
            <p:cNvSpPr/>
            <p:nvPr/>
          </p:nvSpPr>
          <p:spPr>
            <a:xfrm>
              <a:off x="5105520" y="45720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s and destructors will print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4266720" y="4800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2971440" y="3352680"/>
              <a:ext cx="21337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2437920" y="1828440"/>
              <a:ext cx="26672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662A-7540-4330-91EE-96DECE8098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concatenatio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tring empty?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4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events memory l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gth 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etString( right.sPtr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Attempted assignment of a String to itself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ed assign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e right operand to this object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ore in this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hold to be able to dele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length +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length + 1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tempPtr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ef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50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at( sPtr, right.sPtr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igh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ol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50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51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51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51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qual to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less than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BA50-06BC-40E3-BD9C-B69D5C5190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less tha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return sub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&lt;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l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s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r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9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9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s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substring beginning at index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f length sub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 String::operator(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de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ensure index is in range and substring length &gt;=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index &gt;= 0 &amp;&amp; index &lt; length &amp;&amp; subLength &gt;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length of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5" name=""/>
          <p:cNvGrpSpPr/>
          <p:nvPr/>
        </p:nvGrpSpPr>
        <p:grpSpPr>
          <a:xfrm>
            <a:off x="2514600" y="3962520"/>
            <a:ext cx="3886200" cy="1066680"/>
            <a:chOff x="2514600" y="3962520"/>
            <a:chExt cx="3886200" cy="1066680"/>
          </a:xfrm>
        </p:grpSpPr>
        <p:sp>
          <p:nvSpPr>
            <p:cNvPr id="1636" name=""/>
            <p:cNvSpPr/>
            <p:nvPr/>
          </p:nvSpPr>
          <p:spPr>
            <a:xfrm>
              <a:off x="3809880" y="39625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overloaded function call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2514600" y="43434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6F2A-D77F-4EDF-8366-F5D4547A62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eng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subLength == 0 ) || ( index + subLength &gt; length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length - ind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subLeng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llocate temporary array for substring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rminating null charac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new char[ len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tempPtr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sure space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py substring into char array and terminate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ncpy( tempPtr, &amp;sPtr[ index ], len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Ptr[ len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emporary String object containing the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tempString( temp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lete the temporary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String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py of the temporary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getLength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 to be called by constructors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 operato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set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tring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new char[ length + 1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llocate 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string2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literal 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7F65-188F-40D0-BB13-16FD537B1B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3809880"/>
            <a:chOff x="0" y="0"/>
            <a:chExt cx="6780960" cy="380988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3920"/>
              <a:chOff x="0" y="0"/>
              <a:chExt cx="6780960" cy="22392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3920"/>
              <a:ext cx="6780960" cy="223920"/>
              <a:chOff x="0" y="223920"/>
              <a:chExt cx="6780960" cy="22392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47840"/>
              <a:ext cx="6780960" cy="223920"/>
              <a:chOff x="0" y="447840"/>
              <a:chExt cx="6780960" cy="22392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72120"/>
              <a:ext cx="6780960" cy="223920"/>
              <a:chOff x="0" y="672120"/>
              <a:chExt cx="6780960" cy="22392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896400"/>
              <a:ext cx="6780960" cy="223920"/>
              <a:chOff x="0" y="896400"/>
              <a:chExt cx="6780960" cy="22392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s.s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20320"/>
              <a:ext cx="6780960" cy="223920"/>
              <a:chOff x="0" y="1120320"/>
              <a:chExt cx="6780960" cy="22392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44600"/>
              <a:ext cx="6780960" cy="223920"/>
              <a:chOff x="0" y="1344600"/>
              <a:chExt cx="6780960" cy="22392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568880"/>
              <a:ext cx="6780960" cy="223920"/>
              <a:chOff x="0" y="1568880"/>
              <a:chExt cx="6780960" cy="22392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792800"/>
              <a:ext cx="6780960" cy="223920"/>
              <a:chOff x="0" y="1792800"/>
              <a:chExt cx="6780960" cy="22392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17080"/>
              <a:ext cx="6780960" cy="223920"/>
              <a:chOff x="0" y="2017080"/>
              <a:chExt cx="6780960" cy="22392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41000"/>
              <a:ext cx="6780960" cy="223920"/>
              <a:chOff x="0" y="2241000"/>
              <a:chExt cx="6780960" cy="22392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465280"/>
              <a:ext cx="6780960" cy="223920"/>
              <a:chOff x="0" y="2465280"/>
              <a:chExt cx="6780960" cy="22392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[ 100 ]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buffer to store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689200"/>
              <a:ext cx="6780960" cy="223920"/>
              <a:chOff x="0" y="2689200"/>
              <a:chExt cx="6780960" cy="22392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13480"/>
              <a:ext cx="6780960" cy="223920"/>
              <a:chOff x="0" y="2913480"/>
              <a:chExt cx="6780960" cy="22392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100 ) &gt;&gt;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137400"/>
              <a:ext cx="6780960" cy="223920"/>
              <a:chOff x="0" y="3137400"/>
              <a:chExt cx="6780960" cy="22392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 = temp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use String class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361680"/>
              <a:ext cx="6780960" cy="223920"/>
              <a:chOff x="0" y="3361680"/>
              <a:chExt cx="6780960" cy="22392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585960"/>
              <a:ext cx="6780960" cy="223920"/>
              <a:chOff x="0" y="3585960"/>
              <a:chExt cx="6780960" cy="22392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58596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8" name=""/>
              <p:cNvGrpSpPr/>
              <p:nvPr/>
            </p:nvGrpSpPr>
            <p:grpSpPr>
              <a:xfrm>
                <a:off x="0" y="3585960"/>
                <a:ext cx="6780600" cy="223920"/>
                <a:chOff x="0" y="3585960"/>
                <a:chExt cx="6780600" cy="2239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1" name=""/>
          <p:cNvGrpSpPr/>
          <p:nvPr/>
        </p:nvGrpSpPr>
        <p:grpSpPr>
          <a:xfrm>
            <a:off x="0" y="3809880"/>
            <a:ext cx="6780960" cy="3048120"/>
            <a:chOff x="0" y="3809880"/>
            <a:chExt cx="6780960" cy="3048120"/>
          </a:xfrm>
        </p:grpSpPr>
        <p:grpSp>
          <p:nvGrpSpPr>
            <p:cNvPr id="1792" name=""/>
            <p:cNvGrpSpPr/>
            <p:nvPr/>
          </p:nvGrpSpPr>
          <p:grpSpPr>
            <a:xfrm>
              <a:off x="0" y="3809880"/>
              <a:ext cx="6780960" cy="234360"/>
              <a:chOff x="0" y="3809880"/>
              <a:chExt cx="6780960" cy="23436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fig08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044240"/>
              <a:ext cx="6780960" cy="234360"/>
              <a:chOff x="0" y="4044240"/>
              <a:chExt cx="6780960" cy="23436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278600"/>
              <a:ext cx="6780960" cy="234360"/>
              <a:chOff x="0" y="4278600"/>
              <a:chExt cx="6780960" cy="23436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513320"/>
              <a:ext cx="6780960" cy="234360"/>
              <a:chOff x="0" y="4513320"/>
              <a:chExt cx="6780960" cy="23436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4747680"/>
              <a:ext cx="6780960" cy="234360"/>
              <a:chOff x="0" y="4747680"/>
              <a:chExt cx="6780960" cy="23436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4982040"/>
              <a:ext cx="6780960" cy="234360"/>
              <a:chOff x="0" y="4982040"/>
              <a:chExt cx="6780960" cy="23436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216400"/>
              <a:ext cx="6780960" cy="234360"/>
              <a:chOff x="0" y="5216400"/>
              <a:chExt cx="6780960" cy="23436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451120"/>
              <a:ext cx="6780960" cy="234360"/>
              <a:chOff x="0" y="5451120"/>
              <a:chExt cx="6780960" cy="23436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685480"/>
              <a:ext cx="6780960" cy="234360"/>
              <a:chOff x="0" y="5685480"/>
              <a:chExt cx="6780960" cy="23436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5920200"/>
              <a:ext cx="6780960" cy="234360"/>
              <a:chOff x="0" y="5920200"/>
              <a:chExt cx="6780960" cy="23436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154560"/>
              <a:ext cx="6780960" cy="234360"/>
              <a:chOff x="0" y="6154560"/>
              <a:chExt cx="6780960" cy="23436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389280"/>
              <a:ext cx="6780960" cy="234360"/>
              <a:chOff x="0" y="6389280"/>
              <a:chExt cx="6780960" cy="23436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s1( "happy" ), s2( " birthday" ), s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6623640"/>
              <a:ext cx="6780960" cy="234360"/>
              <a:chOff x="0" y="6623640"/>
              <a:chExt cx="6780960" cy="23436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1" name=""/>
          <p:cNvGrpSpPr/>
          <p:nvPr/>
        </p:nvGrpSpPr>
        <p:grpSpPr>
          <a:xfrm>
            <a:off x="2895480" y="5334120"/>
            <a:ext cx="5105520" cy="990360"/>
            <a:chOff x="2895480" y="5334120"/>
            <a:chExt cx="5105520" cy="990360"/>
          </a:xfrm>
        </p:grpSpPr>
        <p:sp>
          <p:nvSpPr>
            <p:cNvPr id="1832" name=""/>
            <p:cNvSpPr/>
            <p:nvPr/>
          </p:nvSpPr>
          <p:spPr>
            <a:xfrm>
              <a:off x="3429000" y="5334120"/>
              <a:ext cx="4572000" cy="83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95480" y="57913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BE26-C4E5-475A-8CA0-B64DE865E9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3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equality and relational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is \"" &lt;&lt; s1 &lt;&lt; "\"; s2 is \"" &lt;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"; s3 is \"" &lt;&lt; s3 &lt;&lt; '\"'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results of comparing s2 and s1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=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=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!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!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= s1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= s1 ? "true" : "fals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empty (!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esting !s3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!s3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empty; assigning s1 to s3;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3 = s1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\"" &lt;&lt; s3 &lt;&lt; "\"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concatena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s2 yields s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s2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s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\" to you\" yield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" to you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5" name=""/>
          <p:cNvSpPr/>
          <p:nvPr/>
        </p:nvSpPr>
        <p:spPr>
          <a:xfrm>
            <a:off x="4495680" y="1219320"/>
            <a:ext cx="4572000" cy="2221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34120" y="3505320"/>
            <a:ext cx="350496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3 is 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40320" y="502920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572000" y="5715000"/>
            <a:ext cx="4343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97DA-AF75-4DC9-A564-FF6EC006E3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41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= "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function call operator () for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0 for 14 characters, s1(0, 14),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0, 14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tring "to-end-of-String" o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15, s1(15, 0),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15, 0 ) &lt;&lt; "\n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0 is "to end of string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*s4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( s1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987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990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assignment (=) operator with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2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99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*s4Ptr to *s4Pt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99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s4Ptr = *s4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999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4Ptr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using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0 ] = 'H';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6 ] = 'B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1 after s1[0] = 'H' and s1[6] = 'B'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1" name=""/>
          <p:cNvSpPr/>
          <p:nvPr/>
        </p:nvSpPr>
        <p:spPr>
          <a:xfrm>
            <a:off x="3809880" y="76320"/>
            <a:ext cx="28958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419720" y="116208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343400" y="251460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3400" y="28954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343400" y="3616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04600" y="4973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39120" y="5735520"/>
            <a:ext cx="5850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DCE8-4084-4A3F-8753-A1E7591DC5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0" y="0"/>
            <a:ext cx="6780960" cy="1599840"/>
            <a:chOff x="0" y="0"/>
            <a:chExt cx="6780960" cy="1599840"/>
          </a:xfrm>
        </p:grpSpPr>
        <p:grpSp>
          <p:nvGrpSpPr>
            <p:cNvPr id="2040" name=""/>
            <p:cNvGrpSpPr/>
            <p:nvPr/>
          </p:nvGrpSpPr>
          <p:grpSpPr>
            <a:xfrm>
              <a:off x="0" y="0"/>
              <a:ext cx="6780960" cy="266400"/>
              <a:chOff x="0" y="0"/>
              <a:chExt cx="6780960" cy="2664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266400"/>
              <a:ext cx="6780960" cy="266400"/>
              <a:chOff x="0" y="266400"/>
              <a:chExt cx="6780960" cy="2664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'd' to s1[30] yield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533160"/>
              <a:ext cx="6780960" cy="266760"/>
              <a:chOff x="0" y="533160"/>
              <a:chExt cx="6780960" cy="26676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30 ] = 'd'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800280"/>
              <a:ext cx="6780960" cy="266400"/>
              <a:chOff x="0" y="800280"/>
              <a:chExt cx="6780960" cy="2664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066680"/>
              <a:ext cx="6780960" cy="266400"/>
              <a:chOff x="0" y="1066680"/>
              <a:chExt cx="6780960" cy="2664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333440"/>
              <a:ext cx="6780960" cy="266400"/>
              <a:chOff x="0" y="1333440"/>
              <a:chExt cx="6780960" cy="2664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8" name=""/>
          <p:cNvGrpSpPr/>
          <p:nvPr/>
        </p:nvGrpSpPr>
        <p:grpSpPr>
          <a:xfrm>
            <a:off x="0" y="1676520"/>
            <a:ext cx="6781680" cy="4637880"/>
            <a:chOff x="0" y="1676520"/>
            <a:chExt cx="6781680" cy="4637880"/>
          </a:xfrm>
        </p:grpSpPr>
        <p:sp>
          <p:nvSpPr>
            <p:cNvPr id="2059" name=""/>
            <p:cNvSpPr/>
            <p:nvPr/>
          </p:nvSpPr>
          <p:spPr>
            <a:xfrm>
              <a:off x="0" y="1676520"/>
              <a:ext cx="6781680" cy="301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is "happy"; s2 is " birthday"; s3 is "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 results of comparing s2 and 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=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!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 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 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sting !s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3 is empty; assigning s1 to s3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rator= ca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3 is "happy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0" y="4648320"/>
              <a:ext cx="6781680" cy="1666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s2 yields s1 = happy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" to you" yiel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= happy birthday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666880" y="533160"/>
            <a:ext cx="5639040" cy="2256840"/>
            <a:chOff x="2666880" y="533160"/>
            <a:chExt cx="5639040" cy="2256840"/>
          </a:xfrm>
        </p:grpSpPr>
        <p:sp>
          <p:nvSpPr>
            <p:cNvPr id="2062" name=""/>
            <p:cNvSpPr/>
            <p:nvPr/>
          </p:nvSpPr>
          <p:spPr>
            <a:xfrm>
              <a:off x="3733920" y="1219320"/>
              <a:ext cx="4572000" cy="157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'd' to s1[30] yield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ertion failed: subscript &gt;= 0 &amp;&amp; subscript &lt; length, file string1.cpp, line 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bnormal program term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2666880" y="5331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85A2-FA5D-4C6C-9067-A09858D2F9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0"/>
            <a:ext cx="670572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ion failed: subscript &gt;= 0 &amp;&amp; subscript &lt; length, file string1.cpp, line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DCC4-E5CB-4FA4-AE50-BC4F4355D0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46A1-0B29-4E87-981A-E032A6872E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s are overloaded the same as other prefix unary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adopted that when compiler sees postincrementing expression, it will generate the member-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417C-00B2-4424-9C54-D1A2382FAE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creates a Date clas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increment operator to change the day, month and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determine if a day is last day of a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1CDB-C3A4-404D-8912-395C8376AA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1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1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6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A353-E40E-4923-BC91-A74522947B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6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216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216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217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217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217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218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218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218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218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219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219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219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220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220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220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221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221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221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222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222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222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223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223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223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224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224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224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224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225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225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225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226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B61C-E3F5-4EDF-BFA8-B385D805B4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65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226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227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227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227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228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228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228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229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229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5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229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229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230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230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230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231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231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6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231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232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232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232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8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232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233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233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34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34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34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35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35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35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35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1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36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36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7" name="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2368" name="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7896-35A6-4988-B916-EE57B81E50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7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237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237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237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238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238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238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239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239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239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240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240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240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241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241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241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242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242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242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243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243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243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243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244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244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244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245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245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245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246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246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246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246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247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247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DACA-0E55-40A3-BA50-EBE7A29C22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479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2480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2483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2486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2489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2492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2495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2498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2501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2504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2507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9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2510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2513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2516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2519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2522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2525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2528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0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2531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2534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6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2537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2540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2543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2546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2549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2552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2555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2558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2561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2564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2567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2570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2573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2576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2579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1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2582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2585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7" name="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6635-DBF6-47F7-AFB1-E480DDB214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93" name="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873D-DD0F-4663-9C42-1183C8F0B53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85AE-FCD1-4127-A102-B30504E78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must use a member funct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(or reference to an object)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35B4-4AA0-4EA7-A970-6142C9163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 because left operand is not an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access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C84B-C6E2-4E0F-B659-99AE3ACAD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06" name="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B9DD-8C25-4BAF-95F6-05AEB5782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4" name="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1ECE-17AA-45A3-8CB5-4488F8D140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5:46:59Z</dcterms:created>
  <dc:creator>aftab bukhari</dc:creator>
  <dc:description/>
  <dc:language>en-US</dc:language>
  <cp:lastModifiedBy>Jason Rosenfeld</cp:lastModifiedBy>
  <dcterms:modified xsi:type="dcterms:W3CDTF">2000-08-30T20:56:30Z</dcterms:modified>
  <cp:revision>271</cp:revision>
  <dc:subject/>
  <dc:title>PowerPoint Presentation</dc:title>
</cp:coreProperties>
</file>