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3FEF-DA61-4586-96DB-ADFF66D9F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2512-D2CE-4BF5-82F5-5FD59DB9C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8CAB-1CF1-4C1B-89BD-93EC7E269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0328-B157-4C62-B0FB-262A73EA7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01AC-B99F-407A-BB6C-DDF00D1A3D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299EB-B037-4438-8587-F281FE08F1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D60B8-BF41-429E-A678-DD51D2CEFA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AC9E-4980-471D-ACA5-E30BA066D8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788C0-B092-4107-A1B8-0D34F541BE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73611-2593-4A3B-B831-D9E2B7BC42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6BAC-EDCB-46C4-8522-6186ECFE54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8265-E1C1-4EA1-9307-4C50246A0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2601E-ED4E-4741-9031-4EBFC2EA15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91100-936E-4FE9-9577-26031C417B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74A24-C10F-458D-94AA-9DDA235D16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C133-5886-4B36-A492-9AB0E78805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B3EF8-EC6F-4D9E-B370-A1DA0CB366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567D-B82D-409F-859E-06ED64190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42DD-D934-4619-AE58-CF04BC593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6E4E-0702-4D23-BA4A-E42E32A33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37C6-42E6-484A-A75B-383E106C6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AC1E-6DDD-4777-9B27-795660EA2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7800-4A41-4A9B-AE8D-D43F39924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41B9-96BD-44F4-9D44-5D2A89685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1DAC-E633-4B47-8325-2955CA09F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B785-DD2A-4654-97CA-66A6A412F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3 - Functions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gram Components in C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th Library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Defini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Proto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eader Fi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andom Number Gen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 Game of Chance and Introduc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orage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cope Ru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 Using Recursion: The Fibonacci Seri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 vs. It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 with Empty Parameter Lis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7B23-C13D-4ACB-A65C-71B9C5B1AB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0"/>
            <a:ext cx="6780960" cy="5257440"/>
            <a:chOff x="0" y="0"/>
            <a:chExt cx="6780960" cy="5257440"/>
          </a:xfrm>
        </p:grpSpPr>
        <p:grpSp>
          <p:nvGrpSpPr>
            <p:cNvPr id="107" name=""/>
            <p:cNvGrpSpPr/>
            <p:nvPr/>
          </p:nvGrpSpPr>
          <p:grpSpPr>
            <a:xfrm>
              <a:off x="0" y="0"/>
              <a:ext cx="6780960" cy="245160"/>
              <a:chOff x="0" y="0"/>
              <a:chExt cx="6780960" cy="24516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0"/>
                <a:ext cx="678096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0"/>
                <a:ext cx="678096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3: fig03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0" y="245160"/>
              <a:ext cx="6780960" cy="227520"/>
              <a:chOff x="0" y="245160"/>
              <a:chExt cx="6780960" cy="227520"/>
            </a:xfrm>
          </p:grpSpPr>
          <p:sp>
            <p:nvSpPr>
              <p:cNvPr id="111" name=""/>
              <p:cNvSpPr/>
              <p:nvPr/>
            </p:nvSpPr>
            <p:spPr>
              <a:xfrm>
                <a:off x="0" y="2451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451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ing and using a programmer-defined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0" y="473040"/>
              <a:ext cx="6780960" cy="227880"/>
              <a:chOff x="0" y="473040"/>
              <a:chExt cx="6780960" cy="227880"/>
            </a:xfrm>
          </p:grpSpPr>
          <p:sp>
            <p:nvSpPr>
              <p:cNvPr id="114" name=""/>
              <p:cNvSpPr/>
              <p:nvPr/>
            </p:nvSpPr>
            <p:spPr>
              <a:xfrm>
                <a:off x="0" y="4730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730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0" y="700920"/>
              <a:ext cx="6780960" cy="227520"/>
              <a:chOff x="0" y="700920"/>
              <a:chExt cx="6780960" cy="227520"/>
            </a:xfrm>
          </p:grpSpPr>
          <p:sp>
            <p:nvSpPr>
              <p:cNvPr id="117" name=""/>
              <p:cNvSpPr/>
              <p:nvPr/>
            </p:nvSpPr>
            <p:spPr>
              <a:xfrm>
                <a:off x="0" y="7009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7009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928800"/>
              <a:ext cx="6780960" cy="227520"/>
              <a:chOff x="0" y="928800"/>
              <a:chExt cx="6780960" cy="22752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9288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9288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1156680"/>
              <a:ext cx="6780960" cy="227520"/>
              <a:chOff x="0" y="1156680"/>
              <a:chExt cx="6780960" cy="22752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11566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11566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0" y="1384560"/>
              <a:ext cx="6780960" cy="227880"/>
              <a:chOff x="0" y="1384560"/>
              <a:chExt cx="6780960" cy="22788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13845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13845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0" y="1612440"/>
              <a:ext cx="6780960" cy="227520"/>
              <a:chOff x="0" y="1612440"/>
              <a:chExt cx="6780960" cy="22752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16124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6124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1840320"/>
              <a:ext cx="6780960" cy="227520"/>
              <a:chOff x="0" y="1840320"/>
              <a:chExt cx="6780960" cy="22752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18403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8403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0" y="2068200"/>
              <a:ext cx="6780960" cy="227520"/>
              <a:chOff x="0" y="2068200"/>
              <a:chExt cx="6780960" cy="22752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20682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0682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0" y="2295720"/>
              <a:ext cx="6780960" cy="227520"/>
              <a:chOff x="0" y="2295720"/>
              <a:chExt cx="6780960" cy="22752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22957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957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0" y="2523600"/>
              <a:ext cx="6780960" cy="227880"/>
              <a:chOff x="0" y="2523600"/>
              <a:chExt cx="6780960" cy="227880"/>
            </a:xfrm>
          </p:grpSpPr>
          <p:sp>
            <p:nvSpPr>
              <p:cNvPr id="141" name=""/>
              <p:cNvSpPr/>
              <p:nvPr/>
            </p:nvSpPr>
            <p:spPr>
              <a:xfrm>
                <a:off x="0" y="25236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25236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; x &lt;= 10; x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0" y="2751480"/>
              <a:ext cx="6780960" cy="227520"/>
              <a:chOff x="0" y="2751480"/>
              <a:chExt cx="6780960" cy="227520"/>
            </a:xfrm>
          </p:grpSpPr>
          <p:sp>
            <p:nvSpPr>
              <p:cNvPr id="144" name=""/>
              <p:cNvSpPr/>
              <p:nvPr/>
            </p:nvSpPr>
            <p:spPr>
              <a:xfrm>
                <a:off x="0" y="27514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27514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quare( x ) &lt;&lt; "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0" y="2979360"/>
              <a:ext cx="6780960" cy="227520"/>
              <a:chOff x="0" y="2979360"/>
              <a:chExt cx="6780960" cy="22752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29793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29793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3207240"/>
              <a:ext cx="6780960" cy="227520"/>
              <a:chOff x="0" y="3207240"/>
              <a:chExt cx="6780960" cy="22752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32072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32072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0" y="3435120"/>
              <a:ext cx="6780960" cy="227880"/>
              <a:chOff x="0" y="3435120"/>
              <a:chExt cx="6780960" cy="22788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3435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3435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0" y="3663000"/>
              <a:ext cx="6780960" cy="227520"/>
              <a:chOff x="0" y="3663000"/>
              <a:chExt cx="6780960" cy="22752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36630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36630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3890880"/>
              <a:ext cx="6780960" cy="227520"/>
              <a:chOff x="0" y="3890880"/>
              <a:chExt cx="6780960" cy="22752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38908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8908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0" y="4118760"/>
              <a:ext cx="6780960" cy="227520"/>
              <a:chOff x="0" y="4118760"/>
              <a:chExt cx="6780960" cy="22752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41187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41187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definitio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4346640"/>
              <a:ext cx="6780960" cy="227880"/>
              <a:chOff x="0" y="4346640"/>
              <a:chExt cx="6780960" cy="22788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4346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4346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4574520"/>
              <a:ext cx="6780960" cy="227520"/>
              <a:chOff x="0" y="4574520"/>
              <a:chExt cx="6780960" cy="22752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45745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45745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0" y="4802400"/>
              <a:ext cx="6780960" cy="227520"/>
              <a:chOff x="0" y="4802400"/>
              <a:chExt cx="6780960" cy="22752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48024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8024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*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5029920"/>
              <a:ext cx="6780960" cy="227520"/>
              <a:chOff x="0" y="5029920"/>
              <a:chExt cx="6780960" cy="22752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50299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0299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0" y="5715000"/>
            <a:ext cx="67816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4  9  16  25  36  49  64  81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828440" y="1143000"/>
            <a:ext cx="4648680" cy="580680"/>
            <a:chOff x="1828440" y="1143000"/>
            <a:chExt cx="4648680" cy="580680"/>
          </a:xfrm>
        </p:grpSpPr>
        <p:sp>
          <p:nvSpPr>
            <p:cNvPr id="178" name=""/>
            <p:cNvSpPr/>
            <p:nvPr/>
          </p:nvSpPr>
          <p:spPr>
            <a:xfrm>
              <a:off x="3048120" y="114300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parameters and return value ar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828440" y="1295280"/>
              <a:ext cx="12193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6BFE5-F79F-48F2-B6DE-04AA34C2ED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 (3 parameter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valu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82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4: fig03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nding the maximum of three integ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207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210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216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219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b,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222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225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three integer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228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a &gt;&gt; b &gt;&g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, b and c below are arguments to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237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he maximum function c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Maximum is: " &lt;&lt; maximum( a, b, c 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ABAA-EB95-47F8-805E-E53DC2656F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0"/>
            <a:ext cx="6780960" cy="4266720"/>
            <a:chOff x="0" y="0"/>
            <a:chExt cx="6780960" cy="4266720"/>
          </a:xfrm>
        </p:grpSpPr>
        <p:grpSp>
          <p:nvGrpSpPr>
            <p:cNvPr id="244" name=""/>
            <p:cNvGrpSpPr/>
            <p:nvPr/>
          </p:nvGrpSpPr>
          <p:grpSpPr>
            <a:xfrm>
              <a:off x="0" y="0"/>
              <a:ext cx="6780960" cy="224280"/>
              <a:chOff x="0" y="0"/>
              <a:chExt cx="6780960" cy="22428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224280"/>
              <a:ext cx="6780960" cy="224280"/>
              <a:chOff x="0" y="224280"/>
              <a:chExt cx="6780960" cy="22428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242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242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448920"/>
              <a:ext cx="6780960" cy="224640"/>
              <a:chOff x="0" y="448920"/>
              <a:chExt cx="6780960" cy="22464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4489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4489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673560"/>
              <a:ext cx="6780960" cy="224280"/>
              <a:chOff x="0" y="673560"/>
              <a:chExt cx="6780960" cy="22428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6735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6735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898200"/>
              <a:ext cx="6780960" cy="224280"/>
              <a:chOff x="0" y="898200"/>
              <a:chExt cx="6780960" cy="22428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8982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8982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maximum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122840"/>
              <a:ext cx="6780960" cy="224280"/>
              <a:chOff x="0" y="1122840"/>
              <a:chExt cx="6780960" cy="22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1228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11228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x, y and z below are parameters to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1347480"/>
              <a:ext cx="6780960" cy="224640"/>
              <a:chOff x="0" y="1347480"/>
              <a:chExt cx="6780960" cy="22464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13474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13474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maximum function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1572120"/>
              <a:ext cx="6780960" cy="224280"/>
              <a:chOff x="0" y="1572120"/>
              <a:chExt cx="6780960" cy="22428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15721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15721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z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1796760"/>
              <a:ext cx="6780960" cy="224280"/>
              <a:chOff x="0" y="1796760"/>
              <a:chExt cx="6780960" cy="22428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17967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17967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021040"/>
              <a:ext cx="6780960" cy="224280"/>
              <a:chOff x="0" y="2021040"/>
              <a:chExt cx="6780960" cy="22428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0210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20210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 =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2245680"/>
              <a:ext cx="6780960" cy="224640"/>
              <a:chOff x="0" y="2245680"/>
              <a:chExt cx="6780960" cy="22464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22456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22456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2470320"/>
              <a:ext cx="6780960" cy="224280"/>
              <a:chOff x="0" y="2470320"/>
              <a:chExt cx="6780960" cy="22428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24703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24703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y &gt; max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2694960"/>
              <a:ext cx="6780960" cy="224280"/>
              <a:chOff x="0" y="2694960"/>
              <a:chExt cx="6780960" cy="22428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26949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26949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ax =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2919600"/>
              <a:ext cx="6780960" cy="224280"/>
              <a:chOff x="0" y="2919600"/>
              <a:chExt cx="6780960" cy="22428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29196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29196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3144240"/>
              <a:ext cx="6780960" cy="224640"/>
              <a:chOff x="0" y="3144240"/>
              <a:chExt cx="6780960" cy="22464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314424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314424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z &gt; max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3368880"/>
              <a:ext cx="6780960" cy="224280"/>
              <a:chOff x="0" y="3368880"/>
              <a:chExt cx="6780960" cy="22428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33688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33688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ax = z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3593520"/>
              <a:ext cx="6780960" cy="224280"/>
              <a:chOff x="0" y="3593520"/>
              <a:chExt cx="6780960" cy="22428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35935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35935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3818160"/>
              <a:ext cx="6780960" cy="224280"/>
              <a:chOff x="0" y="3818160"/>
              <a:chExt cx="6780960" cy="22428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38181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38181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4042440"/>
              <a:ext cx="6780960" cy="224280"/>
              <a:chOff x="0" y="4042440"/>
              <a:chExt cx="6780960" cy="22428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40424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40424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0" y="44956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ree integers: 22 85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 is: 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510552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ree integers: 92 35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 is: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57150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ree integers: 45 19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 is: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169D-ABC2-437B-B8D1-5684815782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Prototyp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proto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the function take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information the function passes back to caller (defaul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ifies the function returns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needed if function definition comes after the function call in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ximum( int, int, i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in 3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E07F-5D48-4D7A-A16B-42D635A621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7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eader Fi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function prototypes for library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math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nclude &lt;filena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cm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by the programm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v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name.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ed into program u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"filename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9DEA-DC12-4919-808D-DCD08B8FE2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andom Number Genera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ran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a pseudorandom number betwe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_MA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usually 3276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seudorandom number is a preset sequence of "random"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ame sequence is generated upon every program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r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umps to a seeded location in a "random" 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and( see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and( time( 0 ) );   //must include &lt;c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( 0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ime at which the program was compi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the seed every time the program is compiled, thereby allow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generate random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F281-7F2E-441A-9B2B-36DCACF8A8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andom Number Genera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s random number to a certain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us 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number between 0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_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 number between 0 and the scaling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rand() % 6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s a number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1785-2284-4AEF-8D0A-1DC78AB429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fin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Output random num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0" y="0"/>
            <a:ext cx="6780960" cy="5333760"/>
            <a:chOff x="0" y="0"/>
            <a:chExt cx="6780960" cy="5333760"/>
          </a:xfrm>
        </p:grpSpPr>
        <p:grpSp>
          <p:nvGrpSpPr>
            <p:cNvPr id="314" name=""/>
            <p:cNvGrpSpPr/>
            <p:nvPr/>
          </p:nvGrpSpPr>
          <p:grpSpPr>
            <a:xfrm>
              <a:off x="0" y="0"/>
              <a:ext cx="6780960" cy="222120"/>
              <a:chOff x="0" y="0"/>
              <a:chExt cx="6780960" cy="222120"/>
            </a:xfrm>
          </p:grpSpPr>
          <p:sp>
            <p:nvSpPr>
              <p:cNvPr id="315" name=""/>
              <p:cNvSpPr/>
              <p:nvPr/>
            </p:nvSpPr>
            <p:spPr>
              <a:xfrm>
                <a:off x="0" y="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7: fig03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0" y="222120"/>
              <a:ext cx="6780960" cy="222120"/>
              <a:chOff x="0" y="222120"/>
              <a:chExt cx="6780960" cy="22212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2221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2221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ifted, scaled integers produced by 1 + rand() %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0" y="444240"/>
              <a:ext cx="6780960" cy="222120"/>
              <a:chOff x="0" y="444240"/>
              <a:chExt cx="6780960" cy="22212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4442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4442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666720"/>
              <a:ext cx="6780960" cy="222120"/>
              <a:chOff x="0" y="666720"/>
              <a:chExt cx="6780960" cy="22212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6667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6667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888840"/>
              <a:ext cx="6780960" cy="222120"/>
              <a:chOff x="0" y="888840"/>
              <a:chExt cx="6780960" cy="22212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8888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8888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1110960"/>
              <a:ext cx="6780960" cy="222120"/>
              <a:chOff x="0" y="1110960"/>
              <a:chExt cx="6780960" cy="22212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11109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11109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1333440"/>
              <a:ext cx="6780960" cy="222120"/>
              <a:chOff x="0" y="1333440"/>
              <a:chExt cx="6780960" cy="22212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13334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13334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1555560"/>
              <a:ext cx="6780960" cy="222120"/>
              <a:chOff x="0" y="1555560"/>
              <a:chExt cx="6780960" cy="22212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15555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15555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1778040"/>
              <a:ext cx="6780960" cy="222120"/>
              <a:chOff x="0" y="1778040"/>
              <a:chExt cx="6780960" cy="22212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17780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17780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2000160"/>
              <a:ext cx="6780960" cy="222120"/>
              <a:chOff x="0" y="2000160"/>
              <a:chExt cx="6780960" cy="22212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20001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20001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2222280"/>
              <a:ext cx="6780960" cy="222120"/>
              <a:chOff x="0" y="2222280"/>
              <a:chExt cx="6780960" cy="22212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22222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22222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2444760"/>
              <a:ext cx="6780960" cy="222120"/>
              <a:chOff x="0" y="2444760"/>
              <a:chExt cx="6780960" cy="22212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24447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24447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2666880"/>
              <a:ext cx="6780960" cy="222120"/>
              <a:chOff x="0" y="2666880"/>
              <a:chExt cx="6780960" cy="2221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26668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26668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2889360"/>
              <a:ext cx="6780960" cy="222120"/>
              <a:chOff x="0" y="2889360"/>
              <a:chExt cx="6780960" cy="22212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28893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28893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111480"/>
              <a:ext cx="6780960" cy="222120"/>
              <a:chOff x="0" y="3111480"/>
              <a:chExt cx="6780960" cy="22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1114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31114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3333960"/>
              <a:ext cx="6780960" cy="222120"/>
              <a:chOff x="0" y="3333960"/>
              <a:chExt cx="6780960" cy="22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33339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33339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; i &lt;= 20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3556080"/>
              <a:ext cx="6780960" cy="222120"/>
              <a:chOff x="0" y="3556080"/>
              <a:chExt cx="6780960" cy="22212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35560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560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10 ) &lt;&lt; ( 1 + rand() %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3778200"/>
              <a:ext cx="6780960" cy="222120"/>
              <a:chOff x="0" y="3778200"/>
              <a:chExt cx="6780960" cy="22212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37782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37782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4000680"/>
              <a:ext cx="6780960" cy="222120"/>
              <a:chOff x="0" y="4000680"/>
              <a:chExt cx="6780960" cy="22212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40006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40006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% 5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4222800"/>
              <a:ext cx="6780960" cy="222120"/>
              <a:chOff x="0" y="4222800"/>
              <a:chExt cx="6780960" cy="22212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42228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42228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4445280"/>
              <a:ext cx="6780960" cy="222120"/>
              <a:chOff x="0" y="4445280"/>
              <a:chExt cx="6780960" cy="22212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44452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44452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4667400"/>
              <a:ext cx="6780960" cy="222120"/>
              <a:chOff x="0" y="4667400"/>
              <a:chExt cx="6780960" cy="22212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46674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46674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4889520"/>
              <a:ext cx="6780960" cy="222120"/>
              <a:chOff x="0" y="4889520"/>
              <a:chExt cx="6780960" cy="22212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48895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8895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0" y="5111640"/>
              <a:ext cx="6780960" cy="222120"/>
              <a:chOff x="0" y="5111640"/>
              <a:chExt cx="6780960" cy="22212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51116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51116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4114800" y="2917800"/>
            <a:ext cx="4800600" cy="824040"/>
            <a:chOff x="4114800" y="2917800"/>
            <a:chExt cx="4800600" cy="824040"/>
          </a:xfrm>
        </p:grpSpPr>
        <p:sp>
          <p:nvSpPr>
            <p:cNvPr id="387" name=""/>
            <p:cNvSpPr/>
            <p:nvPr/>
          </p:nvSpPr>
          <p:spPr>
            <a:xfrm>
              <a:off x="4876560" y="2917800"/>
              <a:ext cx="4038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and() % 6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This returns a number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scaling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Add 1 to get a number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114800" y="3146400"/>
              <a:ext cx="761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191120" y="4876920"/>
            <a:ext cx="4343400" cy="609480"/>
            <a:chOff x="4191120" y="4876920"/>
            <a:chExt cx="4343400" cy="609480"/>
          </a:xfrm>
        </p:grpSpPr>
        <p:sp>
          <p:nvSpPr>
            <p:cNvPr id="390" name=""/>
            <p:cNvSpPr/>
            <p:nvPr/>
          </p:nvSpPr>
          <p:spPr>
            <a:xfrm>
              <a:off x="5029200" y="487692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ing the program again gives the same "random" dice roll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4191120" y="510552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0" y="5486400"/>
            <a:ext cx="6781680" cy="100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5         3         5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4         2         5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3         2         2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1         4         6        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BC95-35C0-44BF-8CB0-0EF11461D4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see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value for see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ran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to change random sequ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Define Loop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Generate and output random number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95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9: fig03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andomizing die-rolling 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408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411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414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420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e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seed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see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see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; i &lt;= 10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10 ) &lt;&lt; 1 + rand() %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% 5 == 0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C02A-287C-442C-8BBB-2E046E1E64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0" y="0"/>
            <a:ext cx="6705720" cy="2271960"/>
            <a:chOff x="0" y="0"/>
            <a:chExt cx="6705720" cy="2271960"/>
          </a:xfrm>
        </p:grpSpPr>
        <p:sp>
          <p:nvSpPr>
            <p:cNvPr id="490" name=""/>
            <p:cNvSpPr/>
            <p:nvPr/>
          </p:nvSpPr>
          <p:spPr>
            <a:xfrm>
              <a:off x="0" y="0"/>
              <a:ext cx="6705720" cy="824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er seed: 6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         6         5         1        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         6         3         1        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762120"/>
              <a:ext cx="6705720" cy="824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er seed: 4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4         2         6         4     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         5         1         4        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1447920"/>
              <a:ext cx="6705720" cy="824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er seed: 6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         6         5         1        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         6         3         1        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437920" y="2286000"/>
            <a:ext cx="4039200" cy="1114200"/>
            <a:chOff x="2437920" y="2286000"/>
            <a:chExt cx="4039200" cy="1114200"/>
          </a:xfrm>
        </p:grpSpPr>
        <p:sp>
          <p:nvSpPr>
            <p:cNvPr id="494" name=""/>
            <p:cNvSpPr/>
            <p:nvPr/>
          </p:nvSpPr>
          <p:spPr>
            <a:xfrm>
              <a:off x="4038480" y="28195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die rolls change with the se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2437920" y="2286000"/>
              <a:ext cx="1600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9DF35-9C12-4F5A-BE30-F2570354AB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3 - Functions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line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ferences and Reference Parame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Argumen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ary Scope Resolution Operato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46C4-6B45-4D3C-8ABA-104A4A2167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 Game of Chance and Introduc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- set of integers with 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start 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efault), incremented by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que constant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 Status {CONTINUE, WON, LOST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enumeration variable of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is constant, its value may not be reassig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us enumVar;  // creat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Var = WON;   // set equal to W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Var = 1;     //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6B65-6B28-4D5B-8F2F-0EE59347BC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 Game of Chance and Introduc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Courier New"/>
              </a:rPr>
              <a:t>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constants can have values pre-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um Months { JAN = 1, FEB, MAR, APR, MAY, JUN, JUL, AUG, SEP, OCT, NOV, DEC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crements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ps simulator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ll two 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or 11 on first throw, player w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, 3, or 12 on first throw, player l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, 5, 6, 8, 9,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becomes player's "poin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er must roll his point before rolling 7 to 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B734-A100-4E83-A2A9-621A90C853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Di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Se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r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itch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statement for win/loss/continu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02" name="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10: fig03_1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a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509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515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521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527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530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time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ti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542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ollDi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num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atus { CONTINUE, WON, LOST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um, myPoi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tus gameStat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time( 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um = rollDice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roll of the d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witch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um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7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1: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win on first ro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W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2: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ose on first ro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LOS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605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4038480" y="3276720"/>
            <a:ext cx="2590920" cy="580680"/>
            <a:chOff x="4038480" y="3276720"/>
            <a:chExt cx="2590920" cy="580680"/>
          </a:xfrm>
        </p:grpSpPr>
        <p:sp>
          <p:nvSpPr>
            <p:cNvPr id="608" name=""/>
            <p:cNvSpPr/>
            <p:nvPr/>
          </p:nvSpPr>
          <p:spPr>
            <a:xfrm>
              <a:off x="5029200" y="327672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def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03848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3BDDD-5DDD-44DC-A370-5D6210C350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Define loop to continue play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win/los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612" name=""/>
            <p:cNvGrpSpPr/>
            <p:nvPr/>
          </p:nvGrpSpPr>
          <p:grpSpPr>
            <a:xfrm>
              <a:off x="0" y="0"/>
              <a:ext cx="6705000" cy="273960"/>
              <a:chOff x="0" y="0"/>
              <a:chExt cx="6705000" cy="27396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faul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: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membe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273960"/>
              <a:ext cx="6705000" cy="273960"/>
              <a:chOff x="0" y="273960"/>
              <a:chExt cx="6705000" cy="273960"/>
            </a:xfrm>
          </p:grpSpPr>
          <p:sp>
            <p:nvSpPr>
              <p:cNvPr id="616" name="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CONTINU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548280"/>
              <a:ext cx="6705000" cy="274320"/>
              <a:chOff x="0" y="548280"/>
              <a:chExt cx="6705000" cy="27432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myPoint = 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0" y="822960"/>
              <a:ext cx="6705000" cy="273960"/>
              <a:chOff x="0" y="822960"/>
              <a:chExt cx="6705000" cy="273960"/>
            </a:xfrm>
          </p:grpSpPr>
          <p:sp>
            <p:nvSpPr>
              <p:cNvPr id="622" name="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"Point is " &lt;&lt; myPoin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1097280"/>
              <a:ext cx="6705000" cy="273960"/>
              <a:chOff x="0" y="1097280"/>
              <a:chExt cx="6705000" cy="27396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optional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1371600"/>
              <a:ext cx="6705000" cy="273960"/>
              <a:chOff x="0" y="1371600"/>
              <a:chExt cx="6705000" cy="27396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1645560"/>
              <a:ext cx="6705000" cy="274320"/>
              <a:chOff x="0" y="1645560"/>
              <a:chExt cx="6705000" cy="27432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1920240"/>
              <a:ext cx="6705000" cy="273960"/>
              <a:chOff x="0" y="1920240"/>
              <a:chExt cx="6705000" cy="27396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ameStatus == CONTINUE ) {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keep rol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2194560"/>
              <a:ext cx="6705000" cy="273960"/>
              <a:chOff x="0" y="2194560"/>
              <a:chExt cx="6705000" cy="27396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m = rollDic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468880"/>
              <a:ext cx="6705000" cy="273960"/>
              <a:chOff x="0" y="2468880"/>
              <a:chExt cx="6705000" cy="27396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2743200"/>
              <a:ext cx="6705000" cy="274320"/>
              <a:chOff x="0" y="2743200"/>
              <a:chExt cx="6705000" cy="27432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um == myPoint )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n by making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3017520"/>
              <a:ext cx="6705000" cy="273960"/>
              <a:chOff x="0" y="3017520"/>
              <a:chExt cx="6705000" cy="27396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W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0" y="3291840"/>
              <a:ext cx="6705000" cy="273960"/>
              <a:chOff x="0" y="3291840"/>
              <a:chExt cx="6705000" cy="273960"/>
            </a:xfrm>
          </p:grpSpPr>
          <p:sp>
            <p:nvSpPr>
              <p:cNvPr id="649" name="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0" y="3566160"/>
              <a:ext cx="6705000" cy="273960"/>
              <a:chOff x="0" y="3566160"/>
              <a:chExt cx="6705000" cy="27396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um == 7 )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ose by rolling 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3840480"/>
              <a:ext cx="6705000" cy="274320"/>
              <a:chOff x="0" y="3840480"/>
              <a:chExt cx="6705000" cy="27432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gameStatus = LOS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4114800"/>
              <a:ext cx="6705000" cy="273960"/>
              <a:chOff x="0" y="4114800"/>
              <a:chExt cx="6705000" cy="27396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4389120"/>
              <a:ext cx="6705000" cy="273960"/>
              <a:chOff x="0" y="4389120"/>
              <a:chExt cx="6705000" cy="27396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4663440"/>
              <a:ext cx="6705000" cy="273960"/>
              <a:chOff x="0" y="4663440"/>
              <a:chExt cx="6705000" cy="27396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ameStatus == WON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4937760"/>
              <a:ext cx="6705000" cy="273960"/>
              <a:chOff x="0" y="4937760"/>
              <a:chExt cx="6705000" cy="27396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Player wins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5212080"/>
              <a:ext cx="6705000" cy="274320"/>
              <a:chOff x="0" y="5212080"/>
              <a:chExt cx="6705000" cy="27432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5486400"/>
              <a:ext cx="6705000" cy="273960"/>
              <a:chOff x="0" y="5486400"/>
              <a:chExt cx="6705000" cy="27396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Player loses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5760720"/>
              <a:ext cx="6705000" cy="273960"/>
              <a:chOff x="0" y="5760720"/>
              <a:chExt cx="6705000" cy="27396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6035040"/>
              <a:ext cx="6705000" cy="273960"/>
              <a:chOff x="0" y="6035040"/>
              <a:chExt cx="6705000" cy="27396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6309360"/>
              <a:ext cx="6705000" cy="274320"/>
              <a:chOff x="0" y="6309360"/>
              <a:chExt cx="6705000" cy="27432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6583680"/>
              <a:ext cx="6705000" cy="273960"/>
              <a:chOff x="0" y="6583680"/>
              <a:chExt cx="6705000" cy="27396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F161-B877-4056-9375-DBA6DB5661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Di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functi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0" y="2341440"/>
            <a:ext cx="6705720" cy="4517640"/>
            <a:chOff x="0" y="2341440"/>
            <a:chExt cx="6705720" cy="4517640"/>
          </a:xfrm>
        </p:grpSpPr>
        <p:sp>
          <p:nvSpPr>
            <p:cNvPr id="689" name=""/>
            <p:cNvSpPr/>
            <p:nvPr/>
          </p:nvSpPr>
          <p:spPr>
            <a:xfrm>
              <a:off x="0" y="2341440"/>
              <a:ext cx="6705720" cy="641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5 =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w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2935080"/>
              <a:ext cx="6705720" cy="641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5 =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w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3489120"/>
              <a:ext cx="6705720" cy="1554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4 + 6 =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 is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2 + 4 =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5 =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3 + 3 =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4 =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w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0" y="4939920"/>
              <a:ext cx="6705720" cy="1919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1 + 3 =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 is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1 + 4 =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5 + 4 =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4 + 6 =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3 =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1 + 2 =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5 + 2 =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lo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0" y="-57240"/>
            <a:ext cx="6705000" cy="2419560"/>
            <a:chOff x="0" y="-57240"/>
            <a:chExt cx="6705000" cy="2419560"/>
          </a:xfrm>
        </p:grpSpPr>
        <p:grpSp>
          <p:nvGrpSpPr>
            <p:cNvPr id="694" name=""/>
            <p:cNvGrpSpPr/>
            <p:nvPr/>
          </p:nvGrpSpPr>
          <p:grpSpPr>
            <a:xfrm>
              <a:off x="0" y="-57240"/>
              <a:ext cx="6705000" cy="201600"/>
              <a:chOff x="0" y="-57240"/>
              <a:chExt cx="6705000" cy="20160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-5724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-5724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ollDi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144360"/>
              <a:ext cx="6705000" cy="201600"/>
              <a:chOff x="0" y="144360"/>
              <a:chExt cx="6705000" cy="20160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1443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1443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345960"/>
              <a:ext cx="6705000" cy="201600"/>
              <a:chOff x="0" y="345960"/>
              <a:chExt cx="6705000" cy="20160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3459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3459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e1, die2, work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547560"/>
              <a:ext cx="6705000" cy="201600"/>
              <a:chOff x="0" y="547560"/>
              <a:chExt cx="6705000" cy="20160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5475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5475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0" y="749160"/>
              <a:ext cx="6705000" cy="201600"/>
              <a:chOff x="0" y="749160"/>
              <a:chExt cx="6705000" cy="201600"/>
            </a:xfrm>
          </p:grpSpPr>
          <p:sp>
            <p:nvSpPr>
              <p:cNvPr id="707" name=""/>
              <p:cNvSpPr/>
              <p:nvPr/>
            </p:nvSpPr>
            <p:spPr>
              <a:xfrm>
                <a:off x="0" y="7491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7491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e1 = 1 + rand() %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0" y="950760"/>
              <a:ext cx="6705000" cy="201600"/>
              <a:chOff x="0" y="950760"/>
              <a:chExt cx="6705000" cy="201600"/>
            </a:xfrm>
          </p:grpSpPr>
          <p:sp>
            <p:nvSpPr>
              <p:cNvPr id="710" name=""/>
              <p:cNvSpPr/>
              <p:nvPr/>
            </p:nvSpPr>
            <p:spPr>
              <a:xfrm>
                <a:off x="0" y="9507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9507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e2 = 1 + rand() %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0" y="1152360"/>
              <a:ext cx="6705000" cy="201600"/>
              <a:chOff x="0" y="1152360"/>
              <a:chExt cx="6705000" cy="201600"/>
            </a:xfrm>
          </p:grpSpPr>
          <p:sp>
            <p:nvSpPr>
              <p:cNvPr id="713" name=""/>
              <p:cNvSpPr/>
              <p:nvPr/>
            </p:nvSpPr>
            <p:spPr>
              <a:xfrm>
                <a:off x="0" y="11523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11523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orkSum = die1 + die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0" y="1354320"/>
              <a:ext cx="6705000" cy="201600"/>
              <a:chOff x="0" y="1354320"/>
              <a:chExt cx="6705000" cy="201600"/>
            </a:xfrm>
          </p:grpSpPr>
          <p:sp>
            <p:nvSpPr>
              <p:cNvPr id="716" name=""/>
              <p:cNvSpPr/>
              <p:nvPr/>
            </p:nvSpPr>
            <p:spPr>
              <a:xfrm>
                <a:off x="0" y="13543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13543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Player rolled " &lt;&lt; die1 &lt;&lt; " + " &lt;&lt; di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0" y="1555920"/>
              <a:ext cx="6705000" cy="201600"/>
              <a:chOff x="0" y="1555920"/>
              <a:chExt cx="6705000" cy="201600"/>
            </a:xfrm>
          </p:grpSpPr>
          <p:sp>
            <p:nvSpPr>
              <p:cNvPr id="719" name=""/>
              <p:cNvSpPr/>
              <p:nvPr/>
            </p:nvSpPr>
            <p:spPr>
              <a:xfrm>
                <a:off x="0" y="15559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15559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= " &lt;&lt; workSum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0" y="1757520"/>
              <a:ext cx="6705000" cy="201600"/>
              <a:chOff x="0" y="1757520"/>
              <a:chExt cx="6705000" cy="201600"/>
            </a:xfrm>
          </p:grpSpPr>
          <p:sp>
            <p:nvSpPr>
              <p:cNvPr id="722" name=""/>
              <p:cNvSpPr/>
              <p:nvPr/>
            </p:nvSpPr>
            <p:spPr>
              <a:xfrm>
                <a:off x="0" y="17575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17575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0" y="1959120"/>
              <a:ext cx="6705000" cy="201600"/>
              <a:chOff x="0" y="1959120"/>
              <a:chExt cx="6705000" cy="201600"/>
            </a:xfrm>
          </p:grpSpPr>
          <p:sp>
            <p:nvSpPr>
              <p:cNvPr id="725" name=""/>
              <p:cNvSpPr/>
              <p:nvPr/>
            </p:nvSpPr>
            <p:spPr>
              <a:xfrm>
                <a:off x="0" y="19591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19591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ork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0" y="2160720"/>
              <a:ext cx="6705000" cy="201600"/>
              <a:chOff x="0" y="2160720"/>
              <a:chExt cx="6705000" cy="201600"/>
            </a:xfrm>
          </p:grpSpPr>
          <p:sp>
            <p:nvSpPr>
              <p:cNvPr id="728" name=""/>
              <p:cNvSpPr/>
              <p:nvPr/>
            </p:nvSpPr>
            <p:spPr>
              <a:xfrm>
                <a:off x="0" y="21607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9" name=""/>
              <p:cNvGrpSpPr/>
              <p:nvPr/>
            </p:nvGrpSpPr>
            <p:grpSpPr>
              <a:xfrm>
                <a:off x="0" y="2160720"/>
                <a:ext cx="6704640" cy="201600"/>
                <a:chOff x="0" y="2160720"/>
                <a:chExt cx="6704640" cy="20160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0" y="2160720"/>
                  <a:ext cx="6704640" cy="201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1</a:t>
                  </a:r>
                  <a:r>
                    <a:rPr b="0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0" y="2160720"/>
                  <a:ext cx="670464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A068B-3EFE-432D-9FB8-3521B7DD80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orage Class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class spec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ag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object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object is referenced 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n identifier i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sto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created and destroyed within its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for local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o float x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gi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es to put variables into high-speed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used with local variables and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D654-95FD-46D3-A6B3-AAED4A92FD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orage Class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torag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exist for entire program exec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bles defined i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value after function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known in their ow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t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for global variables and func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in any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DCE9-7977-4CA4-BA4E-C81087CCFB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1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dentifier Scope Ru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outside a function, known in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include, global variables, function definitions and functions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referenced inside a function 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label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cop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d inside a block.  Begins at declaration, ends at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, function parameters (local variables of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er blocks “hidden” from inner blocks if same variabl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iers in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in function prototype optional, and can be used any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0AB4-13AD-4C98-899A-6148B0444B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global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Initialize local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3  Initialize local variable in block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Output result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40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12: fig03_1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scoping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lobal vari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777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783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5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cal variable to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local x in outer scope of main is "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rt new sco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local x in inner scope of main is "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d new sco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local x in outer scope of main is "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has automatic local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 has static local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 uses global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831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reinitializes automatic local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local x retains its previous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837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lobal x also retains its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2" name=""/>
          <p:cNvGrpSpPr/>
          <p:nvPr/>
        </p:nvGrpSpPr>
        <p:grpSpPr>
          <a:xfrm>
            <a:off x="1371240" y="1981080"/>
            <a:ext cx="4724640" cy="1143000"/>
            <a:chOff x="1371240" y="1981080"/>
            <a:chExt cx="4724640" cy="1143000"/>
          </a:xfrm>
        </p:grpSpPr>
        <p:sp>
          <p:nvSpPr>
            <p:cNvPr id="843" name=""/>
            <p:cNvSpPr/>
            <p:nvPr/>
          </p:nvSpPr>
          <p:spPr>
            <a:xfrm>
              <a:off x="3048120" y="198108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different inside and outside the block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1371240" y="2057400"/>
              <a:ext cx="167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1600200" y="2438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1752480" y="3657240"/>
            <a:ext cx="6477120" cy="2703960"/>
            <a:chOff x="1752480" y="3657240"/>
            <a:chExt cx="6477120" cy="2703960"/>
          </a:xfrm>
        </p:grpSpPr>
        <p:sp>
          <p:nvSpPr>
            <p:cNvPr id="847" name=""/>
            <p:cNvSpPr/>
            <p:nvPr/>
          </p:nvSpPr>
          <p:spPr>
            <a:xfrm>
              <a:off x="3657600" y="5719680"/>
              <a:ext cx="4572000" cy="641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outer scope of main is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inner scope of main is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outer scope of main is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2057040" y="3657240"/>
              <a:ext cx="16002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1752480" y="4723920"/>
              <a:ext cx="1905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1752480" y="5333760"/>
              <a:ext cx="1905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F9CE-2D1F-43F7-A2CC-AE66A9A846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853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local x in main is "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25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ed each time a is call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 &lt;&lt; "local x in a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after entering a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++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local x in a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893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before exiting a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896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899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5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initialization on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time b is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out &lt;&lt; endl &lt;&lt; "local static x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&lt;&lt; " on entering b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++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out &lt;&lt; "local static x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&lt;&lt; " on exiting b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 &lt;&lt; "global x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on entering c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*= 1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global x is " &lt;&lt; x &lt;&lt; " on exiting c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5" name=""/>
          <p:cNvGrpSpPr/>
          <p:nvPr/>
        </p:nvGrpSpPr>
        <p:grpSpPr>
          <a:xfrm>
            <a:off x="1828800" y="457200"/>
            <a:ext cx="5410080" cy="1067400"/>
            <a:chOff x="1828800" y="457200"/>
            <a:chExt cx="5410080" cy="1067400"/>
          </a:xfrm>
        </p:grpSpPr>
        <p:sp>
          <p:nvSpPr>
            <p:cNvPr id="956" name=""/>
            <p:cNvSpPr/>
            <p:nvPr/>
          </p:nvSpPr>
          <p:spPr>
            <a:xfrm>
              <a:off x="4495680" y="45720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l automatic variables are created and destroyed each ti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1828800" y="990720"/>
              <a:ext cx="2666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2438280" y="3429000"/>
            <a:ext cx="5181480" cy="824040"/>
            <a:chOff x="2438280" y="3429000"/>
            <a:chExt cx="5181480" cy="824040"/>
          </a:xfrm>
        </p:grpSpPr>
        <p:sp>
          <p:nvSpPr>
            <p:cNvPr id="959" name=""/>
            <p:cNvSpPr/>
            <p:nvPr/>
          </p:nvSpPr>
          <p:spPr>
            <a:xfrm>
              <a:off x="5105160" y="34290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l static variables are not destroyed when the function end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2438280" y="3657600"/>
              <a:ext cx="26668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286000" y="5105520"/>
            <a:ext cx="4724280" cy="824040"/>
            <a:chOff x="2286000" y="5105520"/>
            <a:chExt cx="4724280" cy="824040"/>
          </a:xfrm>
        </p:grpSpPr>
        <p:sp>
          <p:nvSpPr>
            <p:cNvPr id="962" name=""/>
            <p:cNvSpPr/>
            <p:nvPr/>
          </p:nvSpPr>
          <p:spPr>
            <a:xfrm>
              <a:off x="4114800" y="51055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lobal variables are always accessible.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erences the global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2286000" y="5334120"/>
              <a:ext cx="1828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962160" y="1981080"/>
            <a:ext cx="5105160" cy="685800"/>
            <a:chOff x="3962160" y="1981080"/>
            <a:chExt cx="5105160" cy="685800"/>
          </a:xfrm>
        </p:grpSpPr>
        <p:sp>
          <p:nvSpPr>
            <p:cNvPr id="965" name=""/>
            <p:cNvSpPr/>
            <p:nvPr/>
          </p:nvSpPr>
          <p:spPr>
            <a:xfrm>
              <a:off x="5029200" y="1981080"/>
              <a:ext cx="403812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a is 25 after entering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a is 26 before exiting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3962160" y="21337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3962160" y="2362320"/>
              <a:ext cx="1066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809520" y="4419360"/>
            <a:ext cx="5258160" cy="554760"/>
            <a:chOff x="3809520" y="4419360"/>
            <a:chExt cx="5258160" cy="554760"/>
          </a:xfrm>
        </p:grpSpPr>
        <p:sp>
          <p:nvSpPr>
            <p:cNvPr id="969" name=""/>
            <p:cNvSpPr/>
            <p:nvPr/>
          </p:nvSpPr>
          <p:spPr>
            <a:xfrm>
              <a:off x="5486400" y="4419720"/>
              <a:ext cx="358128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static x is 50 on entering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static x is 51 on exiting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 flipV="1">
              <a:off x="3885840" y="4419360"/>
              <a:ext cx="16002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3809520" y="4800600"/>
              <a:ext cx="16765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3809880" y="5943600"/>
            <a:ext cx="5029200" cy="554400"/>
            <a:chOff x="3809880" y="5943600"/>
            <a:chExt cx="5029200" cy="554400"/>
          </a:xfrm>
        </p:grpSpPr>
        <p:sp>
          <p:nvSpPr>
            <p:cNvPr id="973" name=""/>
            <p:cNvSpPr/>
            <p:nvPr/>
          </p:nvSpPr>
          <p:spPr>
            <a:xfrm>
              <a:off x="5791320" y="5943600"/>
              <a:ext cx="304776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lobal x is 1 on entering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lobal x is 10 on exiting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3809880" y="6095880"/>
              <a:ext cx="198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5334120" y="63244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B8A6-BC62-472F-94ED-5544DEB82E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program from smaller pieces or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iece more manageable than the original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A0C7-B045-4E92-85CB-F0A864C5B0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0"/>
            <a:ext cx="6781680" cy="465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outer scope of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inner scope of main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outer scope of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5 after enter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6 before exit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0 on enter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1 on exit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 on enter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 on exit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5 after enter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6 before exit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1 on enter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2 on exit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 on enter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0 on exit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186E7-10D3-4332-ABB4-EC16A5DFFA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 functions that calls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solve a base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base case, the function breaks the problem into a slightly smaller, slightly simpler, problem that resembles the original problem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unches a new copy of itself to work on the smaller problem, slowly converging towards the 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a call to itself inside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ually the base case gets solved and then that value works its way back up to solve the whol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EFEA-C9FB-400D-BBF2-7BCA329CB1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ac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! = n * ( n – 1 ) * ( n – 2 ) * … *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ve relationship (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! = n * ( n – 1 )!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5! = 5 * 4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4! = 4 * 3!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ase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1! = 0! =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D229-96A2-4D37-8D05-7346A08DBDD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 Using Recursion: The Fibonacci Seri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onacci series: 0, 1, 1, 2, 3, 5, 8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number sum of two previous 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recursive formul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b(n) = fib(n-1) + fib(n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 f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fibonacci( long 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n == 0 || n == 1 )  // 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return fibonacci( n - 1 ) + fibonacci( n – 2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1619280"/>
            <a:ext cx="548640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300024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39625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4B83-23D3-4532-940E-BB568046C6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 Using Recursion: The Fibonacci Seri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 of Fibonnaci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1752480" y="2057400"/>
            <a:ext cx="4571640" cy="1954080"/>
            <a:chOff x="1752480" y="2057400"/>
            <a:chExt cx="4571640" cy="1954080"/>
          </a:xfrm>
        </p:grpSpPr>
        <p:sp>
          <p:nvSpPr>
            <p:cNvPr id="990" name=""/>
            <p:cNvSpPr/>
            <p:nvPr/>
          </p:nvSpPr>
          <p:spPr>
            <a:xfrm>
              <a:off x="2226960" y="3719520"/>
              <a:ext cx="124560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636360" y="3719520"/>
              <a:ext cx="124488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078520" y="3160440"/>
              <a:ext cx="124560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52480" y="3160440"/>
              <a:ext cx="286416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74880" y="2609640"/>
              <a:ext cx="298872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54160" y="205740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666960" y="26668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840200" y="26668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203080" y="322416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773520" y="322416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87680" y="322416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354400" y="378288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58040" y="378288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48360" y="2292120"/>
              <a:ext cx="360" cy="317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6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12960" y="2901960"/>
              <a:ext cx="423000" cy="258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1"/>
                  </a:moveTo>
                  <a:lnTo>
                    <a:pt x="1995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34400" y="2898720"/>
              <a:ext cx="270000" cy="26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23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68920" y="345420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160160" y="345420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98080" y="208584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3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886640" y="269856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19160" y="269712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2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624400" y="325728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812400" y="325728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0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49520" y="325728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09120" y="382248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799440" y="382248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22320" y="325728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495600" y="3262320"/>
              <a:ext cx="1663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75240" y="2698560"/>
              <a:ext cx="165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17440" y="269532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29FD-AB4E-4F7C-809A-AF4B5BC482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an integ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Output results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recursivel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22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1023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15: fig03_1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ursive fibonacci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1029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1032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1035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1038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fibonacci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sult,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out &lt;&lt; "Enter an integ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in &gt;&gt;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result = fibonacci( 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out &lt;&lt; "Fibonacci(" &lt;&lt; number &lt;&lt; ") = " &lt;&lt; resul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ursive definition of function fibonacc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bonacci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 == 0 || n == 1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ase c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ursive c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bonacci( n - 1 ) + fibonacci( n -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9" name=""/>
          <p:cNvGrpSpPr/>
          <p:nvPr/>
        </p:nvGrpSpPr>
        <p:grpSpPr>
          <a:xfrm>
            <a:off x="3581280" y="5181480"/>
            <a:ext cx="4724640" cy="824040"/>
            <a:chOff x="3581280" y="5181480"/>
            <a:chExt cx="4724640" cy="824040"/>
          </a:xfrm>
        </p:grpSpPr>
        <p:sp>
          <p:nvSpPr>
            <p:cNvPr id="1110" name=""/>
            <p:cNvSpPr/>
            <p:nvPr/>
          </p:nvSpPr>
          <p:spPr>
            <a:xfrm>
              <a:off x="5029200" y="5181480"/>
              <a:ext cx="3276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 the base cases return values.  All other cases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ibonacci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 agai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3581280" y="548640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6D65-FBCF-4213-865E-B4ACBAD9082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0) =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572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1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91440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2) = 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0" y="137160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) = 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0" y="18288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4)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0" y="236232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5)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0" y="32004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6) = 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289548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10) = 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380988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20) = 676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42670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0) = 832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0" y="464832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5) = 922746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8B371-3FC6-47A7-B6F3-96F6F5665FE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 vs. Itera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explicit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repeated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loop condition f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base case recogn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 have infinite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between performance (iteration) and good software engineering (recu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5AA1-B8D6-4879-82E4-44C754C5F73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 with Empty Parameter List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paramet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ither wri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 leaving a parameter list empty indicates that the function takes n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 voi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no arguments and returns no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090F-645D-4AAE-BFB1-38BF7007AD2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 (take no argument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th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0" y="0"/>
            <a:ext cx="6780960" cy="5943600"/>
            <a:chOff x="0" y="0"/>
            <a:chExt cx="6780960" cy="5943600"/>
          </a:xfrm>
        </p:grpSpPr>
        <p:grpSp>
          <p:nvGrpSpPr>
            <p:cNvPr id="1130" name=""/>
            <p:cNvGrpSpPr/>
            <p:nvPr/>
          </p:nvGrpSpPr>
          <p:grpSpPr>
            <a:xfrm>
              <a:off x="0" y="0"/>
              <a:ext cx="6780960" cy="219960"/>
              <a:chOff x="0" y="0"/>
              <a:chExt cx="6780960" cy="21996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18: fig03_1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219960"/>
              <a:ext cx="6780960" cy="219960"/>
              <a:chOff x="0" y="219960"/>
              <a:chExt cx="6780960" cy="21996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2199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2199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s that take no arg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439920"/>
              <a:ext cx="6780960" cy="219960"/>
              <a:chOff x="0" y="439920"/>
              <a:chExt cx="6780960" cy="21996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439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439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660240"/>
              <a:ext cx="6780960" cy="219960"/>
              <a:chOff x="0" y="660240"/>
              <a:chExt cx="6780960" cy="21996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6602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6602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880560"/>
              <a:ext cx="6780960" cy="219960"/>
              <a:chOff x="0" y="880560"/>
              <a:chExt cx="6780960" cy="21996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8805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8805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1100520"/>
              <a:ext cx="6780960" cy="219960"/>
              <a:chOff x="0" y="1100520"/>
              <a:chExt cx="6780960" cy="21996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11005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11005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1320480"/>
              <a:ext cx="6780960" cy="219960"/>
              <a:chOff x="0" y="1320480"/>
              <a:chExt cx="6780960" cy="21996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1320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1320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1540800"/>
              <a:ext cx="6780960" cy="219960"/>
              <a:chOff x="0" y="1540800"/>
              <a:chExt cx="6780960" cy="21996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15408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15408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unction1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1761120"/>
              <a:ext cx="6780960" cy="219960"/>
              <a:chOff x="0" y="1761120"/>
              <a:chExt cx="6780960" cy="21996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17611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17611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unction2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1981080"/>
              <a:ext cx="6780960" cy="219960"/>
              <a:chOff x="0" y="1981080"/>
              <a:chExt cx="6780960" cy="21996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19810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19810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0" y="2201040"/>
              <a:ext cx="6780960" cy="219960"/>
              <a:chOff x="0" y="2201040"/>
              <a:chExt cx="6780960" cy="219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0" y="2201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2201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0" y="2421360"/>
              <a:ext cx="6780960" cy="219960"/>
              <a:chOff x="0" y="2421360"/>
              <a:chExt cx="6780960" cy="219960"/>
            </a:xfrm>
          </p:grpSpPr>
          <p:sp>
            <p:nvSpPr>
              <p:cNvPr id="1164" name=""/>
              <p:cNvSpPr/>
              <p:nvPr/>
            </p:nvSpPr>
            <p:spPr>
              <a:xfrm>
                <a:off x="0" y="24213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24213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0" y="2641680"/>
              <a:ext cx="6780960" cy="219960"/>
              <a:chOff x="0" y="2641680"/>
              <a:chExt cx="6780960" cy="219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0" y="26416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26416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unction1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0" y="2861640"/>
              <a:ext cx="6780960" cy="219960"/>
              <a:chOff x="0" y="2861640"/>
              <a:chExt cx="6780960" cy="21996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28616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28616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unction2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3081960"/>
              <a:ext cx="6780960" cy="219960"/>
              <a:chOff x="0" y="3081960"/>
              <a:chExt cx="6780960" cy="21996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30819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30819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3301920"/>
              <a:ext cx="6780960" cy="219960"/>
              <a:chOff x="0" y="3301920"/>
              <a:chExt cx="6780960" cy="21996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3301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3301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3522240"/>
              <a:ext cx="6780960" cy="219960"/>
              <a:chOff x="0" y="3522240"/>
              <a:chExt cx="6780960" cy="21996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35222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35222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3742200"/>
              <a:ext cx="6780960" cy="219960"/>
              <a:chOff x="0" y="3742200"/>
              <a:chExt cx="6780960" cy="21996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37422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37422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3962520"/>
              <a:ext cx="6780960" cy="219960"/>
              <a:chOff x="0" y="3962520"/>
              <a:chExt cx="6780960" cy="21996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39625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39625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unction1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4182480"/>
              <a:ext cx="6780960" cy="219960"/>
              <a:chOff x="0" y="4182480"/>
              <a:chExt cx="6780960" cy="21996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4182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4182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4402800"/>
              <a:ext cx="6780960" cy="219960"/>
              <a:chOff x="0" y="4402800"/>
              <a:chExt cx="6780960" cy="21996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44028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44028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function1 takes no arguments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4622760"/>
              <a:ext cx="6780960" cy="219960"/>
              <a:chOff x="0" y="4622760"/>
              <a:chExt cx="6780960" cy="21996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46227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46227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4843080"/>
              <a:ext cx="6780960" cy="219960"/>
              <a:chOff x="0" y="4843080"/>
              <a:chExt cx="6780960" cy="21996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48430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48430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5063040"/>
              <a:ext cx="6780960" cy="219960"/>
              <a:chOff x="0" y="5063040"/>
              <a:chExt cx="6780960" cy="21996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5063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5063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unction2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5283360"/>
              <a:ext cx="6780960" cy="219960"/>
              <a:chOff x="0" y="5283360"/>
              <a:chExt cx="6780960" cy="21996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52833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52833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5503320"/>
              <a:ext cx="6780960" cy="219960"/>
              <a:chOff x="0" y="5503320"/>
              <a:chExt cx="6780960" cy="21996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55033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55033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function2 also takes no arguments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5723640"/>
              <a:ext cx="6780960" cy="219960"/>
              <a:chOff x="0" y="5723640"/>
              <a:chExt cx="6780960" cy="21996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57236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57236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1" name=""/>
          <p:cNvSpPr/>
          <p:nvPr/>
        </p:nvSpPr>
        <p:spPr>
          <a:xfrm>
            <a:off x="0" y="614196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1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2 also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2057400" y="1219320"/>
            <a:ext cx="3733920" cy="580680"/>
            <a:chOff x="2057400" y="1219320"/>
            <a:chExt cx="3733920" cy="580680"/>
          </a:xfrm>
        </p:grpSpPr>
        <p:sp>
          <p:nvSpPr>
            <p:cNvPr id="1213" name=""/>
            <p:cNvSpPr/>
            <p:nvPr/>
          </p:nvSpPr>
          <p:spPr>
            <a:xfrm>
              <a:off x="3429000" y="12193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two ways of declaring no argument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2057400" y="1523880"/>
              <a:ext cx="1371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6516-A208-4CA6-BFEC-1FBF33A050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gram Components in C++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written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 new functions with “prepackaged” functions in the C+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librar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ndard library provides a rich collection of fun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are invoked by a function c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nction call specifies the function name and provides information (as arguments) that the called function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ss to worker analog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ss (the calling function or caller) asks a worker (the called function) to perform a task and return (i.e., report back) the results when the task is d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5680-951F-4E0D-A723-74F25173C1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line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function-call overh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s the compiler to copy code into program instead of using a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can ign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be used with small, often-use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line double cube( const double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return s * s * s;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90F4-D9C2-4227-B4B7-870BBC78A00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7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ferences and Reference Paramete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of data passed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to copy do not change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prevent unwanted side eff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n directly access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affect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parameter alias for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sed to signify a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change( int &amp;variabl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variable += 3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s 3 to the variable inpu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&amp;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hange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ll now aff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6450-BC37-4126-8FB3-7816229DF72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6477120" y="761760"/>
            <a:ext cx="2666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and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3  Call function and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Function Definition of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uareByValu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0" y="0"/>
            <a:ext cx="6552360" cy="6858000"/>
            <a:chOff x="0" y="0"/>
            <a:chExt cx="6552360" cy="6858000"/>
          </a:xfrm>
        </p:grpSpPr>
        <p:grpSp>
          <p:nvGrpSpPr>
            <p:cNvPr id="1221" name=""/>
            <p:cNvGrpSpPr/>
            <p:nvPr/>
          </p:nvGrpSpPr>
          <p:grpSpPr>
            <a:xfrm>
              <a:off x="0" y="0"/>
              <a:ext cx="6552360" cy="221040"/>
              <a:chOff x="0" y="0"/>
              <a:chExt cx="6552360" cy="221040"/>
            </a:xfrm>
          </p:grpSpPr>
          <p:sp>
            <p:nvSpPr>
              <p:cNvPr id="1222" name=""/>
              <p:cNvSpPr/>
              <p:nvPr/>
            </p:nvSpPr>
            <p:spPr>
              <a:xfrm>
                <a:off x="0" y="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0" y="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20: fig03_2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0" y="221040"/>
              <a:ext cx="6552360" cy="221040"/>
              <a:chOff x="0" y="221040"/>
              <a:chExt cx="6552360" cy="221040"/>
            </a:xfrm>
          </p:grpSpPr>
          <p:sp>
            <p:nvSpPr>
              <p:cNvPr id="1225" name=""/>
              <p:cNvSpPr/>
              <p:nvPr/>
            </p:nvSpPr>
            <p:spPr>
              <a:xfrm>
                <a:off x="0" y="2210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0" y="2210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mparing call-by-value and call-by-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0" y="442080"/>
              <a:ext cx="6552360" cy="221040"/>
              <a:chOff x="0" y="442080"/>
              <a:chExt cx="6552360" cy="221040"/>
            </a:xfrm>
          </p:grpSpPr>
          <p:sp>
            <p:nvSpPr>
              <p:cNvPr id="1228" name=""/>
              <p:cNvSpPr/>
              <p:nvPr/>
            </p:nvSpPr>
            <p:spPr>
              <a:xfrm>
                <a:off x="0" y="4420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0" y="4420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referenc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0" y="663480"/>
              <a:ext cx="6552360" cy="221040"/>
              <a:chOff x="0" y="663480"/>
              <a:chExt cx="6552360" cy="221040"/>
            </a:xfrm>
          </p:grpSpPr>
          <p:sp>
            <p:nvSpPr>
              <p:cNvPr id="1231" name=""/>
              <p:cNvSpPr/>
              <p:nvPr/>
            </p:nvSpPr>
            <p:spPr>
              <a:xfrm>
                <a:off x="0" y="6634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0" y="6634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0" y="884880"/>
              <a:ext cx="6552360" cy="221040"/>
              <a:chOff x="0" y="884880"/>
              <a:chExt cx="6552360" cy="221040"/>
            </a:xfrm>
          </p:grpSpPr>
          <p:sp>
            <p:nvSpPr>
              <p:cNvPr id="1234" name=""/>
              <p:cNvSpPr/>
              <p:nvPr/>
            </p:nvSpPr>
            <p:spPr>
              <a:xfrm>
                <a:off x="0" y="8848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0" y="8848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0" y="1105920"/>
              <a:ext cx="6552360" cy="221040"/>
              <a:chOff x="0" y="1105920"/>
              <a:chExt cx="6552360" cy="221040"/>
            </a:xfrm>
          </p:grpSpPr>
          <p:sp>
            <p:nvSpPr>
              <p:cNvPr id="1237" name=""/>
              <p:cNvSpPr/>
              <p:nvPr/>
            </p:nvSpPr>
            <p:spPr>
              <a:xfrm>
                <a:off x="0" y="11059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11059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0" y="1327320"/>
              <a:ext cx="6552360" cy="221040"/>
              <a:chOff x="0" y="1327320"/>
              <a:chExt cx="6552360" cy="221040"/>
            </a:xfrm>
          </p:grpSpPr>
          <p:sp>
            <p:nvSpPr>
              <p:cNvPr id="1240" name=""/>
              <p:cNvSpPr/>
              <p:nvPr/>
            </p:nvSpPr>
            <p:spPr>
              <a:xfrm>
                <a:off x="0" y="13273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0" y="13273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0" y="1548360"/>
              <a:ext cx="6552360" cy="221040"/>
              <a:chOff x="0" y="1548360"/>
              <a:chExt cx="6552360" cy="221040"/>
            </a:xfrm>
          </p:grpSpPr>
          <p:sp>
            <p:nvSpPr>
              <p:cNvPr id="1243" name=""/>
              <p:cNvSpPr/>
              <p:nvPr/>
            </p:nvSpPr>
            <p:spPr>
              <a:xfrm>
                <a:off x="0" y="15483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15483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0" y="1769760"/>
              <a:ext cx="6552360" cy="221040"/>
              <a:chOff x="0" y="1769760"/>
              <a:chExt cx="6552360" cy="221040"/>
            </a:xfrm>
          </p:grpSpPr>
          <p:sp>
            <p:nvSpPr>
              <p:cNvPr id="1246" name=""/>
              <p:cNvSpPr/>
              <p:nvPr/>
            </p:nvSpPr>
            <p:spPr>
              <a:xfrm>
                <a:off x="0" y="17697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0" y="17697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Valu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0" y="1990800"/>
              <a:ext cx="6552360" cy="221040"/>
              <a:chOff x="0" y="1990800"/>
              <a:chExt cx="6552360" cy="221040"/>
            </a:xfrm>
          </p:grpSpPr>
          <p:sp>
            <p:nvSpPr>
              <p:cNvPr id="1249" name=""/>
              <p:cNvSpPr/>
              <p:nvPr/>
            </p:nvSpPr>
            <p:spPr>
              <a:xfrm>
                <a:off x="0" y="19908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0" y="19908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0" y="2212200"/>
              <a:ext cx="6552360" cy="221040"/>
              <a:chOff x="0" y="2212200"/>
              <a:chExt cx="6552360" cy="221040"/>
            </a:xfrm>
          </p:grpSpPr>
          <p:sp>
            <p:nvSpPr>
              <p:cNvPr id="1252" name=""/>
              <p:cNvSpPr/>
              <p:nvPr/>
            </p:nvSpPr>
            <p:spPr>
              <a:xfrm>
                <a:off x="0" y="22122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22122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0" y="2433600"/>
              <a:ext cx="6552360" cy="221040"/>
              <a:chOff x="0" y="2433600"/>
              <a:chExt cx="6552360" cy="221040"/>
            </a:xfrm>
          </p:grpSpPr>
          <p:sp>
            <p:nvSpPr>
              <p:cNvPr id="1255" name=""/>
              <p:cNvSpPr/>
              <p:nvPr/>
            </p:nvSpPr>
            <p:spPr>
              <a:xfrm>
                <a:off x="0" y="24336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24336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0" y="2654640"/>
              <a:ext cx="6552360" cy="221040"/>
              <a:chOff x="0" y="2654640"/>
              <a:chExt cx="6552360" cy="221040"/>
            </a:xfrm>
          </p:grpSpPr>
          <p:sp>
            <p:nvSpPr>
              <p:cNvPr id="1258" name=""/>
              <p:cNvSpPr/>
              <p:nvPr/>
            </p:nvSpPr>
            <p:spPr>
              <a:xfrm>
                <a:off x="0" y="26546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0" y="26546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0" y="2875680"/>
              <a:ext cx="6552360" cy="221040"/>
              <a:chOff x="0" y="2875680"/>
              <a:chExt cx="6552360" cy="221040"/>
            </a:xfrm>
          </p:grpSpPr>
          <p:sp>
            <p:nvSpPr>
              <p:cNvPr id="1261" name=""/>
              <p:cNvSpPr/>
              <p:nvPr/>
            </p:nvSpPr>
            <p:spPr>
              <a:xfrm>
                <a:off x="0" y="28756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0" y="28756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2, z =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0" y="3097080"/>
              <a:ext cx="6552360" cy="221040"/>
              <a:chOff x="0" y="3097080"/>
              <a:chExt cx="6552360" cy="221040"/>
            </a:xfrm>
          </p:grpSpPr>
          <p:sp>
            <p:nvSpPr>
              <p:cNvPr id="1264" name=""/>
              <p:cNvSpPr/>
              <p:nvPr/>
            </p:nvSpPr>
            <p:spPr>
              <a:xfrm>
                <a:off x="0" y="30970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30970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0" y="3318480"/>
              <a:ext cx="6552360" cy="221040"/>
              <a:chOff x="0" y="3318480"/>
              <a:chExt cx="6552360" cy="221040"/>
            </a:xfrm>
          </p:grpSpPr>
          <p:sp>
            <p:nvSpPr>
              <p:cNvPr id="1267" name=""/>
              <p:cNvSpPr/>
              <p:nvPr/>
            </p:nvSpPr>
            <p:spPr>
              <a:xfrm>
                <a:off x="0" y="33184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0" y="33184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x = " &lt;&lt; x &lt;&lt; " before squareByValue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0" y="3539520"/>
              <a:ext cx="6552360" cy="221040"/>
              <a:chOff x="0" y="3539520"/>
              <a:chExt cx="6552360" cy="221040"/>
            </a:xfrm>
          </p:grpSpPr>
          <p:sp>
            <p:nvSpPr>
              <p:cNvPr id="1270" name=""/>
              <p:cNvSpPr/>
              <p:nvPr/>
            </p:nvSpPr>
            <p:spPr>
              <a:xfrm>
                <a:off x="0" y="35395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0" y="35395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Value returned by squareByValue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0" y="3760920"/>
              <a:ext cx="6552360" cy="221040"/>
              <a:chOff x="0" y="3760920"/>
              <a:chExt cx="6552360" cy="221040"/>
            </a:xfrm>
          </p:grpSpPr>
          <p:sp>
            <p:nvSpPr>
              <p:cNvPr id="1273" name=""/>
              <p:cNvSpPr/>
              <p:nvPr/>
            </p:nvSpPr>
            <p:spPr>
              <a:xfrm>
                <a:off x="0" y="37609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0" y="37609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quareByValue( x ) &lt;&lt; en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0" y="3981960"/>
              <a:ext cx="6552360" cy="221040"/>
              <a:chOff x="0" y="3981960"/>
              <a:chExt cx="6552360" cy="221040"/>
            </a:xfrm>
          </p:grpSpPr>
          <p:sp>
            <p:nvSpPr>
              <p:cNvPr id="1276" name=""/>
              <p:cNvSpPr/>
              <p:nvPr/>
            </p:nvSpPr>
            <p:spPr>
              <a:xfrm>
                <a:off x="0" y="39819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0" y="39819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x = " &lt;&lt; x &lt;&lt; " after squareByValue\n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0" y="4203360"/>
              <a:ext cx="6552360" cy="221040"/>
              <a:chOff x="0" y="4203360"/>
              <a:chExt cx="6552360" cy="221040"/>
            </a:xfrm>
          </p:grpSpPr>
          <p:sp>
            <p:nvSpPr>
              <p:cNvPr id="1279" name=""/>
              <p:cNvSpPr/>
              <p:nvPr/>
            </p:nvSpPr>
            <p:spPr>
              <a:xfrm>
                <a:off x="0" y="42033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0" y="42033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0" y="4424400"/>
              <a:ext cx="6552360" cy="221040"/>
              <a:chOff x="0" y="4424400"/>
              <a:chExt cx="6552360" cy="221040"/>
            </a:xfrm>
          </p:grpSpPr>
          <p:sp>
            <p:nvSpPr>
              <p:cNvPr id="1282" name=""/>
              <p:cNvSpPr/>
              <p:nvPr/>
            </p:nvSpPr>
            <p:spPr>
              <a:xfrm>
                <a:off x="0" y="44244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0" y="44244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z = " &lt;&lt; z &lt;&lt; " before squareByReference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0" y="4645800"/>
              <a:ext cx="6552360" cy="221040"/>
              <a:chOff x="0" y="4645800"/>
              <a:chExt cx="6552360" cy="221040"/>
            </a:xfrm>
          </p:grpSpPr>
          <p:sp>
            <p:nvSpPr>
              <p:cNvPr id="1285" name=""/>
              <p:cNvSpPr/>
              <p:nvPr/>
            </p:nvSpPr>
            <p:spPr>
              <a:xfrm>
                <a:off x="0" y="46458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0" y="46458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quareByReference( z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0" y="4866840"/>
              <a:ext cx="6552360" cy="221040"/>
              <a:chOff x="0" y="4866840"/>
              <a:chExt cx="6552360" cy="22104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48668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48668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z = " &lt;&lt; z &lt;&lt; " after squareByReference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0" y="5088240"/>
              <a:ext cx="6552360" cy="221040"/>
              <a:chOff x="0" y="5088240"/>
              <a:chExt cx="6552360" cy="221040"/>
            </a:xfrm>
          </p:grpSpPr>
          <p:sp>
            <p:nvSpPr>
              <p:cNvPr id="1291" name=""/>
              <p:cNvSpPr/>
              <p:nvPr/>
            </p:nvSpPr>
            <p:spPr>
              <a:xfrm>
                <a:off x="0" y="50882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50882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0" y="5309640"/>
              <a:ext cx="6552360" cy="221040"/>
              <a:chOff x="0" y="5309640"/>
              <a:chExt cx="6552360" cy="221040"/>
            </a:xfrm>
          </p:grpSpPr>
          <p:sp>
            <p:nvSpPr>
              <p:cNvPr id="1294" name=""/>
              <p:cNvSpPr/>
              <p:nvPr/>
            </p:nvSpPr>
            <p:spPr>
              <a:xfrm>
                <a:off x="0" y="53096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0" y="53096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0" y="5530680"/>
              <a:ext cx="6552360" cy="221040"/>
              <a:chOff x="0" y="5530680"/>
              <a:chExt cx="6552360" cy="221040"/>
            </a:xfrm>
          </p:grpSpPr>
          <p:sp>
            <p:nvSpPr>
              <p:cNvPr id="1297" name=""/>
              <p:cNvSpPr/>
              <p:nvPr/>
            </p:nvSpPr>
            <p:spPr>
              <a:xfrm>
                <a:off x="0" y="55306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0" y="55306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0" y="5751720"/>
              <a:ext cx="6552360" cy="221040"/>
              <a:chOff x="0" y="5751720"/>
              <a:chExt cx="6552360" cy="221040"/>
            </a:xfrm>
          </p:grpSpPr>
          <p:sp>
            <p:nvSpPr>
              <p:cNvPr id="1300" name=""/>
              <p:cNvSpPr/>
              <p:nvPr/>
            </p:nvSpPr>
            <p:spPr>
              <a:xfrm>
                <a:off x="0" y="57517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0" y="57517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0" y="5973120"/>
              <a:ext cx="6552360" cy="221040"/>
              <a:chOff x="0" y="5973120"/>
              <a:chExt cx="6552360" cy="221040"/>
            </a:xfrm>
          </p:grpSpPr>
          <p:sp>
            <p:nvSpPr>
              <p:cNvPr id="1303" name=""/>
              <p:cNvSpPr/>
              <p:nvPr/>
            </p:nvSpPr>
            <p:spPr>
              <a:xfrm>
                <a:off x="0" y="59731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0" y="59731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Valu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0" y="6194520"/>
              <a:ext cx="6552360" cy="221040"/>
              <a:chOff x="0" y="6194520"/>
              <a:chExt cx="6552360" cy="221040"/>
            </a:xfrm>
          </p:grpSpPr>
          <p:sp>
            <p:nvSpPr>
              <p:cNvPr id="1306" name=""/>
              <p:cNvSpPr/>
              <p:nvPr/>
            </p:nvSpPr>
            <p:spPr>
              <a:xfrm>
                <a:off x="0" y="61945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0" y="61945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0" y="6415560"/>
              <a:ext cx="6552360" cy="221040"/>
              <a:chOff x="0" y="6415560"/>
              <a:chExt cx="6552360" cy="221040"/>
            </a:xfrm>
          </p:grpSpPr>
          <p:sp>
            <p:nvSpPr>
              <p:cNvPr id="1309" name=""/>
              <p:cNvSpPr/>
              <p:nvPr/>
            </p:nvSpPr>
            <p:spPr>
              <a:xfrm>
                <a:off x="0" y="64155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0" y="64155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 *=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er's argument not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0" y="6636960"/>
              <a:ext cx="6552360" cy="221040"/>
              <a:chOff x="0" y="6636960"/>
              <a:chExt cx="6552360" cy="221040"/>
            </a:xfrm>
          </p:grpSpPr>
          <p:sp>
            <p:nvSpPr>
              <p:cNvPr id="1312" name=""/>
              <p:cNvSpPr/>
              <p:nvPr/>
            </p:nvSpPr>
            <p:spPr>
              <a:xfrm>
                <a:off x="0" y="66369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0" y="66369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4" name=""/>
          <p:cNvGrpSpPr/>
          <p:nvPr/>
        </p:nvGrpSpPr>
        <p:grpSpPr>
          <a:xfrm>
            <a:off x="3048120" y="1066680"/>
            <a:ext cx="3352680" cy="990720"/>
            <a:chOff x="3048120" y="1066680"/>
            <a:chExt cx="3352680" cy="990720"/>
          </a:xfrm>
        </p:grpSpPr>
        <p:sp>
          <p:nvSpPr>
            <p:cNvPr id="1315" name=""/>
            <p:cNvSpPr/>
            <p:nvPr/>
          </p:nvSpPr>
          <p:spPr>
            <a:xfrm flipH="1">
              <a:off x="3048120" y="137160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429000" y="106668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us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p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C278-3506-4C0C-998A-DD483853FEE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6477120" y="761760"/>
            <a:ext cx="2666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uareByRefer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18" name=""/>
          <p:cNvSpPr/>
          <p:nvPr/>
        </p:nvSpPr>
        <p:spPr>
          <a:xfrm>
            <a:off x="0" y="1447920"/>
            <a:ext cx="65530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2 before squareBy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returned by squareByValue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2 after squareBy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 = 4 before squareBy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 = 16 after squareBy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0" y="0"/>
            <a:ext cx="6552360" cy="1219320"/>
            <a:chOff x="0" y="0"/>
            <a:chExt cx="6552360" cy="1219320"/>
          </a:xfrm>
        </p:grpSpPr>
        <p:grpSp>
          <p:nvGrpSpPr>
            <p:cNvPr id="1320" name=""/>
            <p:cNvGrpSpPr/>
            <p:nvPr/>
          </p:nvGrpSpPr>
          <p:grpSpPr>
            <a:xfrm>
              <a:off x="0" y="0"/>
              <a:ext cx="6552360" cy="243720"/>
              <a:chOff x="0" y="0"/>
              <a:chExt cx="6552360" cy="243720"/>
            </a:xfrm>
          </p:grpSpPr>
          <p:sp>
            <p:nvSpPr>
              <p:cNvPr id="1321" name=""/>
              <p:cNvSpPr/>
              <p:nvPr/>
            </p:nvSpPr>
            <p:spPr>
              <a:xfrm>
                <a:off x="0" y="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0" y="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0" y="243720"/>
              <a:ext cx="6552360" cy="243720"/>
              <a:chOff x="0" y="243720"/>
              <a:chExt cx="6552360" cy="243720"/>
            </a:xfrm>
          </p:grpSpPr>
          <p:sp>
            <p:nvSpPr>
              <p:cNvPr id="1324" name=""/>
              <p:cNvSpPr/>
              <p:nvPr/>
            </p:nvSpPr>
            <p:spPr>
              <a:xfrm>
                <a:off x="0" y="24372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0" y="24372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c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0" y="487440"/>
              <a:ext cx="6552360" cy="243720"/>
              <a:chOff x="0" y="487440"/>
              <a:chExt cx="6552360" cy="243720"/>
            </a:xfrm>
          </p:grpSpPr>
          <p:sp>
            <p:nvSpPr>
              <p:cNvPr id="1327" name=""/>
              <p:cNvSpPr/>
              <p:nvPr/>
            </p:nvSpPr>
            <p:spPr>
              <a:xfrm>
                <a:off x="0" y="48744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0" y="48744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0" y="731520"/>
              <a:ext cx="6552360" cy="243720"/>
              <a:chOff x="0" y="731520"/>
              <a:chExt cx="6552360" cy="243720"/>
            </a:xfrm>
          </p:grpSpPr>
          <p:sp>
            <p:nvSpPr>
              <p:cNvPr id="1330" name=""/>
              <p:cNvSpPr/>
              <p:nvPr/>
            </p:nvSpPr>
            <p:spPr>
              <a:xfrm>
                <a:off x="0" y="73152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0" y="73152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f *= cRef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er's argument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0" y="975600"/>
              <a:ext cx="6552360" cy="243720"/>
              <a:chOff x="0" y="975600"/>
              <a:chExt cx="6552360" cy="243720"/>
            </a:xfrm>
          </p:grpSpPr>
          <p:sp>
            <p:nvSpPr>
              <p:cNvPr id="1333" name=""/>
              <p:cNvSpPr/>
              <p:nvPr/>
            </p:nvSpPr>
            <p:spPr>
              <a:xfrm>
                <a:off x="0" y="97560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0" y="97560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2427-2BE5-4978-B069-1582156828F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Arguments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unction parameter omitted, gets default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constants, global variables, or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parameters specified, rightmost go to their defa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defaults in 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efaultFunction( int x =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2, int z = 3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3121-8115-428B-A3D2-0CE0B760BDD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default volum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rint volume with one paramet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with 2 paramet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3  Print with all parameters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339" name="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23: fig03_2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efault arg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xVolu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idth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 = 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default box volume is: " &lt;&lt; boxVolume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olume of a box with length 10,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width 1 and height 1 is: " &lt;&lt; boxVolume( 10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olume of a box with length 10,\n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width 5 and height 1 is: " &lt;&lt; boxVolume( 10, 5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olume of a box with length 10,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width 5 and height 2 is: " &lt;&lt; boxVolume( 10, 5, 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the volume of a bo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xVolu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id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1418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 * width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1421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010C0-3FA4-4EC9-9177-7EEF04FEC0E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default box volume is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1 and height 1 is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5 and height 1 is: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5 and height 2 is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666520" y="1162080"/>
            <a:ext cx="4267800" cy="1799640"/>
            <a:chOff x="2666520" y="1162080"/>
            <a:chExt cx="4267800" cy="1799640"/>
          </a:xfrm>
        </p:grpSpPr>
        <p:sp>
          <p:nvSpPr>
            <p:cNvPr id="1426" name=""/>
            <p:cNvSpPr/>
            <p:nvPr/>
          </p:nvSpPr>
          <p:spPr>
            <a:xfrm>
              <a:off x="4267080" y="23810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rightmost values are default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2666520" y="1162080"/>
              <a:ext cx="1600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6BB5D-66B4-4C71-8A95-548FFC40FC5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ary Scope Resolution Operator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global variables if a local variable has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needed if names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4442-38EE-4C03-AC72-2F089663072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rint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0" y="0"/>
            <a:ext cx="6705000" cy="4952880"/>
            <a:chOff x="0" y="0"/>
            <a:chExt cx="6705000" cy="4952880"/>
          </a:xfrm>
        </p:grpSpPr>
        <p:grpSp>
          <p:nvGrpSpPr>
            <p:cNvPr id="1432" name=""/>
            <p:cNvGrpSpPr/>
            <p:nvPr/>
          </p:nvGrpSpPr>
          <p:grpSpPr>
            <a:xfrm>
              <a:off x="0" y="0"/>
              <a:ext cx="6705000" cy="215280"/>
              <a:chOff x="0" y="0"/>
              <a:chExt cx="6705000" cy="215280"/>
            </a:xfrm>
          </p:grpSpPr>
          <p:sp>
            <p:nvSpPr>
              <p:cNvPr id="1433" name=""/>
              <p:cNvSpPr/>
              <p:nvPr/>
            </p:nvSpPr>
            <p:spPr>
              <a:xfrm>
                <a:off x="0" y="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0" y="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24: fig03_2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0" y="215280"/>
              <a:ext cx="6705000" cy="215280"/>
              <a:chOff x="0" y="215280"/>
              <a:chExt cx="6705000" cy="215280"/>
            </a:xfrm>
          </p:grpSpPr>
          <p:sp>
            <p:nvSpPr>
              <p:cNvPr id="1436" name=""/>
              <p:cNvSpPr/>
              <p:nvPr/>
            </p:nvSpPr>
            <p:spPr>
              <a:xfrm>
                <a:off x="0" y="2152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0" y="2152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the unary scope resolution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0" y="430560"/>
              <a:ext cx="6705000" cy="215280"/>
              <a:chOff x="0" y="430560"/>
              <a:chExt cx="6705000" cy="215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0" y="4305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0" y="4305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"/>
            <p:cNvGrpSpPr/>
            <p:nvPr/>
          </p:nvGrpSpPr>
          <p:grpSpPr>
            <a:xfrm>
              <a:off x="0" y="645840"/>
              <a:ext cx="6705000" cy="215280"/>
              <a:chOff x="0" y="645840"/>
              <a:chExt cx="6705000" cy="215280"/>
            </a:xfrm>
          </p:grpSpPr>
          <p:sp>
            <p:nvSpPr>
              <p:cNvPr id="1442" name=""/>
              <p:cNvSpPr/>
              <p:nvPr/>
            </p:nvSpPr>
            <p:spPr>
              <a:xfrm>
                <a:off x="0" y="6458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0" y="6458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0" y="861120"/>
              <a:ext cx="6705000" cy="215280"/>
              <a:chOff x="0" y="861120"/>
              <a:chExt cx="6705000" cy="215280"/>
            </a:xfrm>
          </p:grpSpPr>
          <p:sp>
            <p:nvSpPr>
              <p:cNvPr id="1445" name=""/>
              <p:cNvSpPr/>
              <p:nvPr/>
            </p:nvSpPr>
            <p:spPr>
              <a:xfrm>
                <a:off x="0" y="8611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0" y="8611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0" y="1076400"/>
              <a:ext cx="6705000" cy="215280"/>
              <a:chOff x="0" y="1076400"/>
              <a:chExt cx="6705000" cy="215280"/>
            </a:xfrm>
          </p:grpSpPr>
          <p:sp>
            <p:nvSpPr>
              <p:cNvPr id="1448" name=""/>
              <p:cNvSpPr/>
              <p:nvPr/>
            </p:nvSpPr>
            <p:spPr>
              <a:xfrm>
                <a:off x="0" y="10764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0" y="10764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0" y="1292040"/>
              <a:ext cx="6705000" cy="215280"/>
              <a:chOff x="0" y="1292040"/>
              <a:chExt cx="6705000" cy="215280"/>
            </a:xfrm>
          </p:grpSpPr>
          <p:sp>
            <p:nvSpPr>
              <p:cNvPr id="1451" name=""/>
              <p:cNvSpPr/>
              <p:nvPr/>
            </p:nvSpPr>
            <p:spPr>
              <a:xfrm>
                <a:off x="0" y="12920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12920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0" y="1507320"/>
              <a:ext cx="6705000" cy="215280"/>
              <a:chOff x="0" y="1507320"/>
              <a:chExt cx="6705000" cy="215280"/>
            </a:xfrm>
          </p:grpSpPr>
          <p:sp>
            <p:nvSpPr>
              <p:cNvPr id="1454" name=""/>
              <p:cNvSpPr/>
              <p:nvPr/>
            </p:nvSpPr>
            <p:spPr>
              <a:xfrm>
                <a:off x="0" y="15073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0" y="15073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0" y="1722600"/>
              <a:ext cx="6705000" cy="215280"/>
              <a:chOff x="0" y="1722600"/>
              <a:chExt cx="6705000" cy="215280"/>
            </a:xfrm>
          </p:grpSpPr>
          <p:sp>
            <p:nvSpPr>
              <p:cNvPr id="1457" name=""/>
              <p:cNvSpPr/>
              <p:nvPr/>
            </p:nvSpPr>
            <p:spPr>
              <a:xfrm>
                <a:off x="0" y="17226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0" y="17226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0" y="1937880"/>
              <a:ext cx="6705000" cy="215280"/>
              <a:chOff x="0" y="1937880"/>
              <a:chExt cx="6705000" cy="215280"/>
            </a:xfrm>
          </p:grpSpPr>
          <p:sp>
            <p:nvSpPr>
              <p:cNvPr id="1460" name=""/>
              <p:cNvSpPr/>
              <p:nvPr/>
            </p:nvSpPr>
            <p:spPr>
              <a:xfrm>
                <a:off x="0" y="19378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0" y="19378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0" y="2153160"/>
              <a:ext cx="6705000" cy="215280"/>
              <a:chOff x="0" y="2153160"/>
              <a:chExt cx="6705000" cy="215280"/>
            </a:xfrm>
          </p:grpSpPr>
          <p:sp>
            <p:nvSpPr>
              <p:cNvPr id="1463" name=""/>
              <p:cNvSpPr/>
              <p:nvPr/>
            </p:nvSpPr>
            <p:spPr>
              <a:xfrm>
                <a:off x="0" y="21531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0" y="21531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0" y="2368800"/>
              <a:ext cx="6705000" cy="215280"/>
              <a:chOff x="0" y="2368800"/>
              <a:chExt cx="6705000" cy="215280"/>
            </a:xfrm>
          </p:grpSpPr>
          <p:sp>
            <p:nvSpPr>
              <p:cNvPr id="1466" name=""/>
              <p:cNvSpPr/>
              <p:nvPr/>
            </p:nvSpPr>
            <p:spPr>
              <a:xfrm>
                <a:off x="0" y="23688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0" y="23688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 = 3.1415926535897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0" y="2584080"/>
              <a:ext cx="6705000" cy="215280"/>
              <a:chOff x="0" y="2584080"/>
              <a:chExt cx="6705000" cy="215280"/>
            </a:xfrm>
          </p:grpSpPr>
          <p:sp>
            <p:nvSpPr>
              <p:cNvPr id="1469" name=""/>
              <p:cNvSpPr/>
              <p:nvPr/>
            </p:nvSpPr>
            <p:spPr>
              <a:xfrm>
                <a:off x="0" y="25840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0" y="25840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"/>
            <p:cNvGrpSpPr/>
            <p:nvPr/>
          </p:nvGrpSpPr>
          <p:grpSpPr>
            <a:xfrm>
              <a:off x="0" y="2799360"/>
              <a:ext cx="6705000" cy="215280"/>
              <a:chOff x="0" y="2799360"/>
              <a:chExt cx="6705000" cy="215280"/>
            </a:xfrm>
          </p:grpSpPr>
          <p:sp>
            <p:nvSpPr>
              <p:cNvPr id="1472" name=""/>
              <p:cNvSpPr/>
              <p:nvPr/>
            </p:nvSpPr>
            <p:spPr>
              <a:xfrm>
                <a:off x="0" y="27993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0" y="27993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0" y="3014640"/>
              <a:ext cx="6705000" cy="215280"/>
              <a:chOff x="0" y="3014640"/>
              <a:chExt cx="6705000" cy="215280"/>
            </a:xfrm>
          </p:grpSpPr>
          <p:sp>
            <p:nvSpPr>
              <p:cNvPr id="1475" name=""/>
              <p:cNvSpPr/>
              <p:nvPr/>
            </p:nvSpPr>
            <p:spPr>
              <a:xfrm>
                <a:off x="0" y="30146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0" y="30146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0" y="3230280"/>
              <a:ext cx="6705000" cy="215280"/>
              <a:chOff x="0" y="3230280"/>
              <a:chExt cx="6705000" cy="215280"/>
            </a:xfrm>
          </p:grpSpPr>
          <p:sp>
            <p:nvSpPr>
              <p:cNvPr id="1478" name=""/>
              <p:cNvSpPr/>
              <p:nvPr/>
            </p:nvSpPr>
            <p:spPr>
              <a:xfrm>
                <a:off x="0" y="32302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0" y="32302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floa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loa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( ::PI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0" y="3445560"/>
              <a:ext cx="6705000" cy="215280"/>
              <a:chOff x="0" y="3445560"/>
              <a:chExt cx="6705000" cy="215280"/>
            </a:xfrm>
          </p:grpSpPr>
          <p:sp>
            <p:nvSpPr>
              <p:cNvPr id="1481" name=""/>
              <p:cNvSpPr/>
              <p:nvPr/>
            </p:nvSpPr>
            <p:spPr>
              <a:xfrm>
                <a:off x="0" y="34455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0" y="34455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0" y="3660840"/>
              <a:ext cx="6705000" cy="215280"/>
              <a:chOff x="0" y="3660840"/>
              <a:chExt cx="6705000" cy="215280"/>
            </a:xfrm>
          </p:grpSpPr>
          <p:sp>
            <p:nvSpPr>
              <p:cNvPr id="1484" name=""/>
              <p:cNvSpPr/>
              <p:nvPr/>
            </p:nvSpPr>
            <p:spPr>
              <a:xfrm>
                <a:off x="0" y="36608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0" y="36608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precision( 2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0" y="3876120"/>
              <a:ext cx="6705000" cy="215280"/>
              <a:chOff x="0" y="3876120"/>
              <a:chExt cx="6705000" cy="215280"/>
            </a:xfrm>
          </p:grpSpPr>
          <p:sp>
            <p:nvSpPr>
              <p:cNvPr id="1487" name=""/>
              <p:cNvSpPr/>
              <p:nvPr/>
            </p:nvSpPr>
            <p:spPr>
              <a:xfrm>
                <a:off x="0" y="38761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0" y="38761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 Local float value of PI = " &lt;&lt; 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0" y="4091400"/>
              <a:ext cx="6705000" cy="215280"/>
              <a:chOff x="0" y="4091400"/>
              <a:chExt cx="6705000" cy="215280"/>
            </a:xfrm>
          </p:grpSpPr>
          <p:sp>
            <p:nvSpPr>
              <p:cNvPr id="1490" name=""/>
              <p:cNvSpPr/>
              <p:nvPr/>
            </p:nvSpPr>
            <p:spPr>
              <a:xfrm>
                <a:off x="0" y="40914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0" y="40914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Global double value of PI = " &lt;&lt; ::PI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0" y="4307040"/>
              <a:ext cx="6705000" cy="215280"/>
              <a:chOff x="0" y="4307040"/>
              <a:chExt cx="6705000" cy="215280"/>
            </a:xfrm>
          </p:grpSpPr>
          <p:sp>
            <p:nvSpPr>
              <p:cNvPr id="1493" name=""/>
              <p:cNvSpPr/>
              <p:nvPr/>
            </p:nvSpPr>
            <p:spPr>
              <a:xfrm>
                <a:off x="0" y="43070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0" y="43070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0" y="4522320"/>
              <a:ext cx="6705000" cy="215280"/>
              <a:chOff x="0" y="4522320"/>
              <a:chExt cx="6705000" cy="215280"/>
            </a:xfrm>
          </p:grpSpPr>
          <p:sp>
            <p:nvSpPr>
              <p:cNvPr id="1496" name=""/>
              <p:cNvSpPr/>
              <p:nvPr/>
            </p:nvSpPr>
            <p:spPr>
              <a:xfrm>
                <a:off x="0" y="45223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0" y="45223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0" y="4737600"/>
              <a:ext cx="6705000" cy="215280"/>
              <a:chOff x="0" y="4737600"/>
              <a:chExt cx="6705000" cy="215280"/>
            </a:xfrm>
          </p:grpSpPr>
          <p:sp>
            <p:nvSpPr>
              <p:cNvPr id="1499" name=""/>
              <p:cNvSpPr/>
              <p:nvPr/>
            </p:nvSpPr>
            <p:spPr>
              <a:xfrm>
                <a:off x="0" y="47376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0" y="47376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1" name=""/>
          <p:cNvSpPr/>
          <p:nvPr/>
        </p:nvSpPr>
        <p:spPr>
          <a:xfrm>
            <a:off x="0" y="5486400"/>
            <a:ext cx="67057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float value of PI = 3.1415927410125732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double value of PI = 3.141592653589790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5105160" y="3276720"/>
            <a:ext cx="2972160" cy="761760"/>
            <a:chOff x="5105160" y="3276720"/>
            <a:chExt cx="2972160" cy="761760"/>
          </a:xfrm>
        </p:grpSpPr>
        <p:sp>
          <p:nvSpPr>
            <p:cNvPr id="1503" name=""/>
            <p:cNvSpPr/>
            <p:nvPr/>
          </p:nvSpPr>
          <p:spPr>
            <a:xfrm>
              <a:off x="6172200" y="327672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: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5105160" y="358128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A694-313B-445D-83B5-2F82117F77E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Overloading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ing functions with same name and different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perform similar tasks ( i.e., a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, and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quare( int x) {return x *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square(float x) { return x * x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chooses function by signa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ture determined by function name and paramete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have the same return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93B7-266B-401B-9C0F-93CA28B4DCD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gram Components in C++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written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statements are hidden from other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ss to worker analog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ss does not know how the worker gets the job done; he just wants it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7319-2E49-4CBB-BD59-158E03A1EC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514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overloaded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0" y="0"/>
            <a:ext cx="6705000" cy="4495680"/>
            <a:chOff x="0" y="0"/>
            <a:chExt cx="6705000" cy="4495680"/>
          </a:xfrm>
        </p:grpSpPr>
        <p:grpSp>
          <p:nvGrpSpPr>
            <p:cNvPr id="1509" name=""/>
            <p:cNvGrpSpPr/>
            <p:nvPr/>
          </p:nvGrpSpPr>
          <p:grpSpPr>
            <a:xfrm>
              <a:off x="0" y="0"/>
              <a:ext cx="6705000" cy="236520"/>
              <a:chOff x="0" y="0"/>
              <a:chExt cx="6705000" cy="236520"/>
            </a:xfrm>
          </p:grpSpPr>
          <p:sp>
            <p:nvSpPr>
              <p:cNvPr id="1510" name=""/>
              <p:cNvSpPr/>
              <p:nvPr/>
            </p:nvSpPr>
            <p:spPr>
              <a:xfrm>
                <a:off x="0" y="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0" y="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25: fig03_2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0" y="236520"/>
              <a:ext cx="6705000" cy="236520"/>
              <a:chOff x="0" y="236520"/>
              <a:chExt cx="6705000" cy="236520"/>
            </a:xfrm>
          </p:grpSpPr>
          <p:sp>
            <p:nvSpPr>
              <p:cNvPr id="1513" name=""/>
              <p:cNvSpPr/>
              <p:nvPr/>
            </p:nvSpPr>
            <p:spPr>
              <a:xfrm>
                <a:off x="0" y="2365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0" y="2365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overloaded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0" y="473040"/>
              <a:ext cx="6705000" cy="236520"/>
              <a:chOff x="0" y="473040"/>
              <a:chExt cx="6705000" cy="236520"/>
            </a:xfrm>
          </p:grpSpPr>
          <p:sp>
            <p:nvSpPr>
              <p:cNvPr id="1516" name=""/>
              <p:cNvSpPr/>
              <p:nvPr/>
            </p:nvSpPr>
            <p:spPr>
              <a:xfrm>
                <a:off x="0" y="4730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0" y="4730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0" y="709920"/>
              <a:ext cx="6705000" cy="236520"/>
              <a:chOff x="0" y="709920"/>
              <a:chExt cx="6705000" cy="236520"/>
            </a:xfrm>
          </p:grpSpPr>
          <p:sp>
            <p:nvSpPr>
              <p:cNvPr id="1519" name=""/>
              <p:cNvSpPr/>
              <p:nvPr/>
            </p:nvSpPr>
            <p:spPr>
              <a:xfrm>
                <a:off x="0" y="7099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0" y="7099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0" y="946440"/>
              <a:ext cx="6705000" cy="236520"/>
              <a:chOff x="0" y="946440"/>
              <a:chExt cx="6705000" cy="236520"/>
            </a:xfrm>
          </p:grpSpPr>
          <p:sp>
            <p:nvSpPr>
              <p:cNvPr id="1522" name=""/>
              <p:cNvSpPr/>
              <p:nvPr/>
            </p:nvSpPr>
            <p:spPr>
              <a:xfrm>
                <a:off x="0" y="9464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0" y="9464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0" y="1182960"/>
              <a:ext cx="6705000" cy="236520"/>
              <a:chOff x="0" y="1182960"/>
              <a:chExt cx="6705000" cy="236520"/>
            </a:xfrm>
          </p:grpSpPr>
          <p:sp>
            <p:nvSpPr>
              <p:cNvPr id="1525" name=""/>
              <p:cNvSpPr/>
              <p:nvPr/>
            </p:nvSpPr>
            <p:spPr>
              <a:xfrm>
                <a:off x="0" y="11829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0" y="11829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0" y="1419480"/>
              <a:ext cx="6705000" cy="236520"/>
              <a:chOff x="0" y="1419480"/>
              <a:chExt cx="6705000" cy="236520"/>
            </a:xfrm>
          </p:grpSpPr>
          <p:sp>
            <p:nvSpPr>
              <p:cNvPr id="1528" name=""/>
              <p:cNvSpPr/>
              <p:nvPr/>
            </p:nvSpPr>
            <p:spPr>
              <a:xfrm>
                <a:off x="0" y="141948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0" y="141948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0" y="1656360"/>
              <a:ext cx="6705000" cy="236520"/>
              <a:chOff x="0" y="1656360"/>
              <a:chExt cx="6705000" cy="236520"/>
            </a:xfrm>
          </p:grpSpPr>
          <p:sp>
            <p:nvSpPr>
              <p:cNvPr id="1531" name=""/>
              <p:cNvSpPr/>
              <p:nvPr/>
            </p:nvSpPr>
            <p:spPr>
              <a:xfrm>
                <a:off x="0" y="16563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0" y="16563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*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0" y="1892880"/>
              <a:ext cx="6705000" cy="236520"/>
              <a:chOff x="0" y="1892880"/>
              <a:chExt cx="6705000" cy="236520"/>
            </a:xfrm>
          </p:grpSpPr>
          <p:sp>
            <p:nvSpPr>
              <p:cNvPr id="1534" name=""/>
              <p:cNvSpPr/>
              <p:nvPr/>
            </p:nvSpPr>
            <p:spPr>
              <a:xfrm>
                <a:off x="0" y="189288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0" y="189288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0" y="2129400"/>
              <a:ext cx="6705000" cy="236520"/>
              <a:chOff x="0" y="2129400"/>
              <a:chExt cx="6705000" cy="236520"/>
            </a:xfrm>
          </p:grpSpPr>
          <p:sp>
            <p:nvSpPr>
              <p:cNvPr id="1537" name=""/>
              <p:cNvSpPr/>
              <p:nvPr/>
            </p:nvSpPr>
            <p:spPr>
              <a:xfrm>
                <a:off x="0" y="212940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0" y="212940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* 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0" y="2365920"/>
              <a:ext cx="6705000" cy="236520"/>
              <a:chOff x="0" y="2365920"/>
              <a:chExt cx="6705000" cy="236520"/>
            </a:xfrm>
          </p:grpSpPr>
          <p:sp>
            <p:nvSpPr>
              <p:cNvPr id="1540" name=""/>
              <p:cNvSpPr/>
              <p:nvPr/>
            </p:nvSpPr>
            <p:spPr>
              <a:xfrm>
                <a:off x="0" y="23659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0" y="23659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0" y="2602800"/>
              <a:ext cx="6705000" cy="236520"/>
              <a:chOff x="0" y="2602800"/>
              <a:chExt cx="6705000" cy="236520"/>
            </a:xfrm>
          </p:grpSpPr>
          <p:sp>
            <p:nvSpPr>
              <p:cNvPr id="1543" name=""/>
              <p:cNvSpPr/>
              <p:nvPr/>
            </p:nvSpPr>
            <p:spPr>
              <a:xfrm>
                <a:off x="0" y="260280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0" y="260280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0" y="2839320"/>
              <a:ext cx="6705000" cy="236520"/>
              <a:chOff x="0" y="2839320"/>
              <a:chExt cx="6705000" cy="236520"/>
            </a:xfrm>
          </p:grpSpPr>
          <p:sp>
            <p:nvSpPr>
              <p:cNvPr id="1546" name=""/>
              <p:cNvSpPr/>
              <p:nvPr/>
            </p:nvSpPr>
            <p:spPr>
              <a:xfrm>
                <a:off x="0" y="28393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0" y="28393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0" y="3075840"/>
              <a:ext cx="6705000" cy="236520"/>
              <a:chOff x="0" y="3075840"/>
              <a:chExt cx="6705000" cy="236520"/>
            </a:xfrm>
          </p:grpSpPr>
          <p:sp>
            <p:nvSpPr>
              <p:cNvPr id="1549" name=""/>
              <p:cNvSpPr/>
              <p:nvPr/>
            </p:nvSpPr>
            <p:spPr>
              <a:xfrm>
                <a:off x="0" y="30758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0" y="30758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square of integer 7 is " &lt;&lt; square( 7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0" y="3312720"/>
              <a:ext cx="6705000" cy="236520"/>
              <a:chOff x="0" y="3312720"/>
              <a:chExt cx="6705000" cy="236520"/>
            </a:xfrm>
          </p:grpSpPr>
          <p:sp>
            <p:nvSpPr>
              <p:cNvPr id="1552" name=""/>
              <p:cNvSpPr/>
              <p:nvPr/>
            </p:nvSpPr>
            <p:spPr>
              <a:xfrm>
                <a:off x="0" y="33127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0" y="33127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The square of double 7.5 is " &lt;&lt; square( 7.5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0" y="3549240"/>
              <a:ext cx="6705000" cy="236520"/>
              <a:chOff x="0" y="3549240"/>
              <a:chExt cx="6705000" cy="236520"/>
            </a:xfrm>
          </p:grpSpPr>
          <p:sp>
            <p:nvSpPr>
              <p:cNvPr id="1555" name=""/>
              <p:cNvSpPr/>
              <p:nvPr/>
            </p:nvSpPr>
            <p:spPr>
              <a:xfrm>
                <a:off x="0" y="35492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0" y="35492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ndl;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0" y="3785760"/>
              <a:ext cx="6705000" cy="236520"/>
              <a:chOff x="0" y="3785760"/>
              <a:chExt cx="6705000" cy="236520"/>
            </a:xfrm>
          </p:grpSpPr>
          <p:sp>
            <p:nvSpPr>
              <p:cNvPr id="1558" name=""/>
              <p:cNvSpPr/>
              <p:nvPr/>
            </p:nvSpPr>
            <p:spPr>
              <a:xfrm>
                <a:off x="0" y="37857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0" y="37857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0" y="4022640"/>
              <a:ext cx="6705000" cy="236520"/>
              <a:chOff x="0" y="4022640"/>
              <a:chExt cx="6705000" cy="236520"/>
            </a:xfrm>
          </p:grpSpPr>
          <p:sp>
            <p:nvSpPr>
              <p:cNvPr id="1561" name=""/>
              <p:cNvSpPr/>
              <p:nvPr/>
            </p:nvSpPr>
            <p:spPr>
              <a:xfrm>
                <a:off x="0" y="40226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0" y="40226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0" y="4259160"/>
              <a:ext cx="6705000" cy="236520"/>
              <a:chOff x="0" y="4259160"/>
              <a:chExt cx="6705000" cy="236520"/>
            </a:xfrm>
          </p:grpSpPr>
          <p:sp>
            <p:nvSpPr>
              <p:cNvPr id="1564" name=""/>
              <p:cNvSpPr/>
              <p:nvPr/>
            </p:nvSpPr>
            <p:spPr>
              <a:xfrm>
                <a:off x="0" y="42591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42591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6" name=""/>
          <p:cNvSpPr/>
          <p:nvPr/>
        </p:nvSpPr>
        <p:spPr>
          <a:xfrm>
            <a:off x="0" y="5105520"/>
            <a:ext cx="6705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quare of integer 7 is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quare of double 7.5 is 56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828440" y="609480"/>
            <a:ext cx="4420080" cy="1524240"/>
            <a:chOff x="1828440" y="609480"/>
            <a:chExt cx="4420080" cy="1524240"/>
          </a:xfrm>
        </p:grpSpPr>
        <p:sp>
          <p:nvSpPr>
            <p:cNvPr id="1568" name=""/>
            <p:cNvSpPr/>
            <p:nvPr/>
          </p:nvSpPr>
          <p:spPr>
            <a:xfrm>
              <a:off x="3505320" y="6094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s have same name but different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1828440" y="99072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2285640" y="1143000"/>
              <a:ext cx="1600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BE3E4-6F1B-42CE-9E6C-22B902EFD36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1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templ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ct way to make overloade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every formal type parameter (built in or user defin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 &lt; class T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or template&lt; typename T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 square( T value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ue1 * value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placed by type parameter in function c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square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s beco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3F36-389F-40B5-B242-A75C7979C8A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th Library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 librar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the programmer to perform common mathematical calcu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ed by including the header f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mat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called by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 &lt;&lt; sqrt( 900.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quare root) function. The preceding statement would pr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 takes an argument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turns a result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do all functions in the math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4B29-A8CE-4A8D-9C24-1425D18DF5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th Library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arguments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( 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(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( sqrt( x )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( 3 - 6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69CA-D359-48EC-8B0D-ED3F0EB6FE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the programmer to modularize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only in the function in which they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variables declared in function definitions are local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 passed when the function is called that provide the function with outside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091D-4E2A-497F-9961-5DD1A5E56C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Defini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ized function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in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the res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for function 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-value-type  function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-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ations and stat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quare( int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*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5A19-7D6E-4630-B97A-C244EBDAAD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14:51:05Z</dcterms:created>
  <dc:creator>kalid</dc:creator>
  <dc:description/>
  <dc:language>en-US</dc:language>
  <cp:lastModifiedBy>Antonella Esposito</cp:lastModifiedBy>
  <dcterms:modified xsi:type="dcterms:W3CDTF">2001-01-12T10:40:57Z</dcterms:modified>
  <cp:revision>407</cp:revision>
  <dc:subject/>
  <dc:title>Chapter 3 - Functions</dc:title>
</cp:coreProperties>
</file>