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C6005-227B-40F4-B376-AB9209534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F041-D7B9-4320-B581-76BE8478E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94BDA-3864-451B-89A9-236EA6AE6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D08A-A7F8-4D56-A173-95048F9D3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BAC17-CA80-43B6-85D1-F86A3308BC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23712-0277-4032-8EEA-42B4C6F908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A8B3A-2799-486D-88D9-3F9AFA7910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229CA-D186-4CF4-9F12-D375779BBE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F580D-A2A6-4F4C-896E-A072F35853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968D3-2711-4104-8D70-A0012F3036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61B7C-2B1E-47B0-9E7B-850FB35B9D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04B0-132B-4A4C-A2CB-11092BD4A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90BFE-5FBA-4002-AF3D-B8C3EEF330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59624-00B5-4E13-80DD-A88B50FDE7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6E68E-9D72-41EE-9FF2-461566DEA8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74701-7892-418D-9539-99E11C8A56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557BA-6089-4326-81E2-907105682C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E327-93B7-4EFE-9454-ABDC58B1C8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C6AB-26B8-46A1-8E76-F70DEE104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FF38-A15D-4333-A472-C1F0918F9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6A62-5D19-4E2B-89CC-0736F5603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6BF8-7EA6-469E-BDF1-226FEFD59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34008-8828-4737-A419-07F2B3526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FB6A-0866-45D1-96A4-1E6D7B9A0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FBCF-CC1B-4749-8EDA-9C1DD4A75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22DD-874F-480D-8D5B-7CB5DE826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10- Virtual Functions and Polymorphism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1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2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Type Fields and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switch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 Statements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3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Virtual Functions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4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bstract Base Classes and Concrete Classes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5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Polymorphism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6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Case Study: A Payroll System Using Polymorphism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7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New Classes and Dynamic Binding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8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Virtual Destructors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9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Case Study: Inheriting Interface and Implementation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0.10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Polymorphism,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virtual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 Functions and Dynamic Binding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               “Under the Hood”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A997-88A3-4E6F-A172-B5E060647C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81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employ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bstract base class Employe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te: No definitions given for pure virtual function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20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dynamically allocates space for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rst and last name and uses strcpy to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e first and last names into the objec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23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r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fir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23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firstName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est that new work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23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firstName, fir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24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a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la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lastName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test that new work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lastName, la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 deallocates dynamically allocated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08CED-B92E-4529-8D58-F7521810B3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705720" y="761760"/>
            <a:ext cx="259056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79" name=""/>
            <p:cNvGrpSpPr/>
            <p:nvPr/>
          </p:nvGrpSpPr>
          <p:grpSpPr>
            <a:xfrm>
              <a:off x="0" y="0"/>
              <a:ext cx="6780960" cy="311400"/>
              <a:chOff x="0" y="0"/>
              <a:chExt cx="6780960" cy="31140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0" y="311400"/>
              <a:ext cx="6780960" cy="311400"/>
              <a:chOff x="0" y="311400"/>
              <a:chExt cx="6780960" cy="311400"/>
            </a:xfrm>
          </p:grpSpPr>
          <p:sp>
            <p:nvSpPr>
              <p:cNvPr id="283" name="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a pointer to the fir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0" y="623160"/>
              <a:ext cx="6780960" cy="311760"/>
              <a:chOff x="0" y="623160"/>
              <a:chExt cx="6780960" cy="31176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return type prevents caller from modifying priva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0" y="934920"/>
              <a:ext cx="6780960" cy="311400"/>
              <a:chOff x="0" y="934920"/>
              <a:chExt cx="6780960" cy="31140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ata. Caller should copy returned string before destructo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0" y="1246680"/>
              <a:ext cx="6780960" cy="311400"/>
              <a:chOff x="0" y="1246680"/>
              <a:chExt cx="6780960" cy="311400"/>
            </a:xfrm>
          </p:grpSpPr>
          <p:sp>
            <p:nvSpPr>
              <p:cNvPr id="292" name="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letes dynamic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0" y="1558440"/>
              <a:ext cx="6780960" cy="311400"/>
              <a:chOff x="0" y="1558440"/>
              <a:chExt cx="6780960" cy="311400"/>
            </a:xfrm>
          </p:grpSpPr>
          <p:sp>
            <p:nvSpPr>
              <p:cNvPr id="295" name="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mployee::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0" y="1870200"/>
              <a:ext cx="6780960" cy="311760"/>
              <a:chOff x="0" y="1870200"/>
              <a:chExt cx="6780960" cy="31176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0" y="2181960"/>
              <a:ext cx="6780960" cy="311400"/>
              <a:chOff x="0" y="2181960"/>
              <a:chExt cx="6780960" cy="31140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r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er must delet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0" y="2493720"/>
              <a:ext cx="6780960" cy="311400"/>
              <a:chOff x="0" y="2493720"/>
              <a:chExt cx="6780960" cy="31140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0" y="2805480"/>
              <a:ext cx="6780960" cy="311400"/>
              <a:chOff x="0" y="2805480"/>
              <a:chExt cx="6780960" cy="311400"/>
            </a:xfrm>
          </p:grpSpPr>
          <p:sp>
            <p:nvSpPr>
              <p:cNvPr id="307" name="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0" y="3117240"/>
              <a:ext cx="6780960" cy="311760"/>
              <a:chOff x="0" y="3117240"/>
              <a:chExt cx="6780960" cy="311760"/>
            </a:xfrm>
          </p:grpSpPr>
          <p:sp>
            <p:nvSpPr>
              <p:cNvPr id="310" name="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a pointer to the la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0" y="3429000"/>
              <a:ext cx="6780960" cy="311400"/>
              <a:chOff x="0" y="3429000"/>
              <a:chExt cx="6780960" cy="311400"/>
            </a:xfrm>
          </p:grpSpPr>
          <p:sp>
            <p:nvSpPr>
              <p:cNvPr id="313" name="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return type prevents caller from modifying priva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3740760"/>
              <a:ext cx="6780960" cy="311400"/>
              <a:chOff x="0" y="3740760"/>
              <a:chExt cx="6780960" cy="31140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ata. Caller should copy returned string before destructo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0" y="4052520"/>
              <a:ext cx="6780960" cy="311400"/>
              <a:chOff x="0" y="4052520"/>
              <a:chExt cx="6780960" cy="311400"/>
            </a:xfrm>
          </p:grpSpPr>
          <p:sp>
            <p:nvSpPr>
              <p:cNvPr id="319" name="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letes dynamic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0" y="4363920"/>
              <a:ext cx="6780960" cy="311760"/>
              <a:chOff x="0" y="4363920"/>
              <a:chExt cx="6780960" cy="31176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mployee::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4676040"/>
              <a:ext cx="6780960" cy="311400"/>
              <a:chOff x="0" y="4676040"/>
              <a:chExt cx="6780960" cy="31140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4987800"/>
              <a:ext cx="6780960" cy="311400"/>
              <a:chOff x="0" y="4987800"/>
              <a:chExt cx="6780960" cy="31140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a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er must delet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5299200"/>
              <a:ext cx="6780960" cy="311400"/>
              <a:chOff x="0" y="5299200"/>
              <a:chExt cx="6780960" cy="31140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5610960"/>
              <a:ext cx="6780960" cy="311400"/>
              <a:chOff x="0" y="5610960"/>
              <a:chExt cx="6780960" cy="31140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5922720"/>
              <a:ext cx="6780960" cy="311760"/>
              <a:chOff x="0" y="5922720"/>
              <a:chExt cx="6780960" cy="31176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name of the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6234480"/>
              <a:ext cx="6780960" cy="311400"/>
              <a:chOff x="0" y="6234480"/>
              <a:chExt cx="6780960" cy="31140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6546240"/>
              <a:ext cx="6780960" cy="311400"/>
              <a:chOff x="0" y="6546240"/>
              <a:chExt cx="6780960" cy="31140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firstName &lt;&lt; ' ' &lt;&lt; lastNam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ABA4C-BA76-415E-AED0-E1D7676FD5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s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derived clas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47" name=""/>
            <p:cNvGrpSpPr/>
            <p:nvPr/>
          </p:nvGrpSpPr>
          <p:grpSpPr>
            <a:xfrm>
              <a:off x="0" y="0"/>
              <a:ext cx="6780960" cy="403200"/>
              <a:chOff x="0" y="0"/>
              <a:chExt cx="6780960" cy="40320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boss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0" y="403200"/>
              <a:ext cx="6780960" cy="403200"/>
              <a:chOff x="0" y="403200"/>
              <a:chExt cx="6780960" cy="40320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4032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4032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oss class derived from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806400"/>
              <a:ext cx="6780960" cy="403560"/>
              <a:chOff x="0" y="806400"/>
              <a:chExt cx="6780960" cy="40356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8064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8064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S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1210320"/>
              <a:ext cx="6780960" cy="403200"/>
              <a:chOff x="0" y="1210320"/>
              <a:chExt cx="6780960" cy="40320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12103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12103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S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0" y="1613520"/>
              <a:ext cx="6780960" cy="403200"/>
              <a:chOff x="0" y="1613520"/>
              <a:chExt cx="6780960" cy="403200"/>
            </a:xfrm>
          </p:grpSpPr>
          <p:sp>
            <p:nvSpPr>
              <p:cNvPr id="360" name=""/>
              <p:cNvSpPr/>
              <p:nvPr/>
            </p:nvSpPr>
            <p:spPr>
              <a:xfrm>
                <a:off x="0" y="16135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16135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0" y="2016720"/>
              <a:ext cx="6780960" cy="403200"/>
              <a:chOff x="0" y="2016720"/>
              <a:chExt cx="6780960" cy="40320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20167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20167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0" y="2420280"/>
              <a:ext cx="6780960" cy="403560"/>
              <a:chOff x="0" y="2420280"/>
              <a:chExt cx="6780960" cy="40356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24202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4202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ss : public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0" y="2823840"/>
              <a:ext cx="6780960" cy="403200"/>
              <a:chOff x="0" y="2823840"/>
              <a:chExt cx="6780960" cy="40320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28238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8238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3227040"/>
              <a:ext cx="6780960" cy="403200"/>
              <a:chOff x="0" y="3227040"/>
              <a:chExt cx="6780960" cy="40320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32270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32270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os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.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0" y="3630600"/>
              <a:ext cx="6780960" cy="403200"/>
              <a:chOff x="0" y="3630600"/>
              <a:chExt cx="6780960" cy="40320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36306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363060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WeeklySalary( doubl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0" y="4033800"/>
              <a:ext cx="6780960" cy="403560"/>
              <a:chOff x="0" y="4033800"/>
              <a:chExt cx="6780960" cy="403560"/>
            </a:xfrm>
          </p:grpSpPr>
          <p:sp>
            <p:nvSpPr>
              <p:cNvPr id="378" name=""/>
              <p:cNvSpPr/>
              <p:nvPr/>
            </p:nvSpPr>
            <p:spPr>
              <a:xfrm>
                <a:off x="0" y="40338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403380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0" y="4437360"/>
              <a:ext cx="6780960" cy="403200"/>
              <a:chOff x="0" y="4437360"/>
              <a:chExt cx="6780960" cy="403200"/>
            </a:xfrm>
          </p:grpSpPr>
          <p:sp>
            <p:nvSpPr>
              <p:cNvPr id="381" name=""/>
              <p:cNvSpPr/>
              <p:nvPr/>
            </p:nvSpPr>
            <p:spPr>
              <a:xfrm>
                <a:off x="0" y="443736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3736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0" y="4840920"/>
              <a:ext cx="6780960" cy="403200"/>
              <a:chOff x="0" y="4840920"/>
              <a:chExt cx="6780960" cy="403200"/>
            </a:xfrm>
          </p:grpSpPr>
          <p:sp>
            <p:nvSpPr>
              <p:cNvPr id="384" name=""/>
              <p:cNvSpPr/>
              <p:nvPr/>
            </p:nvSpPr>
            <p:spPr>
              <a:xfrm>
                <a:off x="0" y="48409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0" y="48409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0" y="5244120"/>
              <a:ext cx="6780960" cy="403200"/>
              <a:chOff x="0" y="5244120"/>
              <a:chExt cx="6780960" cy="403200"/>
            </a:xfrm>
          </p:grpSpPr>
          <p:sp>
            <p:nvSpPr>
              <p:cNvPr id="387" name=""/>
              <p:cNvSpPr/>
              <p:nvPr/>
            </p:nvSpPr>
            <p:spPr>
              <a:xfrm>
                <a:off x="0" y="52441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0" y="524412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eeklySalary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0" y="5647680"/>
              <a:ext cx="6780960" cy="403560"/>
              <a:chOff x="0" y="5647680"/>
              <a:chExt cx="6780960" cy="403560"/>
            </a:xfrm>
          </p:grpSpPr>
          <p:sp>
            <p:nvSpPr>
              <p:cNvPr id="390" name=""/>
              <p:cNvSpPr/>
              <p:nvPr/>
            </p:nvSpPr>
            <p:spPr>
              <a:xfrm>
                <a:off x="0" y="56476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0" y="5647680"/>
                <a:ext cx="6780960" cy="403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0" y="6051240"/>
              <a:ext cx="6780960" cy="403200"/>
              <a:chOff x="0" y="6051240"/>
              <a:chExt cx="6780960" cy="403200"/>
            </a:xfrm>
          </p:grpSpPr>
          <p:sp>
            <p:nvSpPr>
              <p:cNvPr id="393" name=""/>
              <p:cNvSpPr/>
              <p:nvPr/>
            </p:nvSpPr>
            <p:spPr>
              <a:xfrm>
                <a:off x="0" y="60512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0" y="60512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0" y="6454440"/>
              <a:ext cx="6780960" cy="403200"/>
              <a:chOff x="0" y="6454440"/>
              <a:chExt cx="6780960" cy="40320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64544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0" y="6454440"/>
                <a:ext cx="6780960" cy="40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9FA49-C562-4399-8319-913453DCD1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00" name=""/>
            <p:cNvGrpSpPr/>
            <p:nvPr/>
          </p:nvGrpSpPr>
          <p:grpSpPr>
            <a:xfrm>
              <a:off x="0" y="0"/>
              <a:ext cx="6780960" cy="263520"/>
              <a:chOff x="0" y="0"/>
              <a:chExt cx="6780960" cy="263520"/>
            </a:xfrm>
          </p:grpSpPr>
          <p:sp>
            <p:nvSpPr>
              <p:cNvPr id="401" name="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boss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0" y="263520"/>
              <a:ext cx="6780960" cy="263520"/>
              <a:chOff x="0" y="263520"/>
              <a:chExt cx="6780960" cy="263520"/>
            </a:xfrm>
          </p:grpSpPr>
          <p:sp>
            <p:nvSpPr>
              <p:cNvPr id="404" name="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B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0" y="527400"/>
              <a:ext cx="6780960" cy="263880"/>
              <a:chOff x="0" y="527400"/>
              <a:chExt cx="6780960" cy="263880"/>
            </a:xfrm>
          </p:grpSpPr>
          <p:sp>
            <p:nvSpPr>
              <p:cNvPr id="407" name="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0" y="791280"/>
              <a:ext cx="6780960" cy="263520"/>
              <a:chOff x="0" y="791280"/>
              <a:chExt cx="6780960" cy="263520"/>
            </a:xfrm>
          </p:grpSpPr>
          <p:sp>
            <p:nvSpPr>
              <p:cNvPr id="410" name="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0" y="1054800"/>
              <a:ext cx="6780960" cy="263520"/>
              <a:chOff x="0" y="1054800"/>
              <a:chExt cx="6780960" cy="263520"/>
            </a:xfrm>
          </p:grpSpPr>
          <p:sp>
            <p:nvSpPr>
              <p:cNvPr id="413" name="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0" y="1318680"/>
              <a:ext cx="6780960" cy="263520"/>
              <a:chOff x="0" y="1318680"/>
              <a:chExt cx="6780960" cy="263520"/>
            </a:xfrm>
          </p:grpSpPr>
          <p:sp>
            <p:nvSpPr>
              <p:cNvPr id="416" name="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0" y="1582560"/>
              <a:ext cx="6780960" cy="263880"/>
              <a:chOff x="0" y="1582560"/>
              <a:chExt cx="6780960" cy="263880"/>
            </a:xfrm>
          </p:grpSpPr>
          <p:sp>
            <p:nvSpPr>
              <p:cNvPr id="419" name="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bos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0" y="1846440"/>
              <a:ext cx="6780960" cy="263520"/>
              <a:chOff x="0" y="1846440"/>
              <a:chExt cx="6780960" cy="263520"/>
            </a:xfrm>
          </p:grpSpPr>
          <p:sp>
            <p:nvSpPr>
              <p:cNvPr id="422" name="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0" y="2109960"/>
              <a:ext cx="6780960" cy="263520"/>
              <a:chOff x="0" y="2109960"/>
              <a:chExt cx="6780960" cy="263520"/>
            </a:xfrm>
          </p:grpSpPr>
          <p:sp>
            <p:nvSpPr>
              <p:cNvPr id="425" name="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unction for class Bo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0" y="2373840"/>
              <a:ext cx="6780960" cy="263520"/>
              <a:chOff x="0" y="2373840"/>
              <a:chExt cx="6780960" cy="263520"/>
            </a:xfrm>
          </p:grpSpPr>
          <p:sp>
            <p:nvSpPr>
              <p:cNvPr id="428" name="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Boss::Bos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0" y="2637720"/>
              <a:ext cx="6780960" cy="263880"/>
              <a:chOff x="0" y="2637720"/>
              <a:chExt cx="6780960" cy="263880"/>
            </a:xfrm>
          </p:grpSpPr>
          <p:sp>
            <p:nvSpPr>
              <p:cNvPr id="431" name="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Employee( first, last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0" y="2901600"/>
              <a:ext cx="6780960" cy="263520"/>
              <a:chOff x="0" y="2901600"/>
              <a:chExt cx="6780960" cy="26352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WeeklySalary( s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0" y="3165120"/>
              <a:ext cx="6780960" cy="263520"/>
              <a:chOff x="0" y="3165120"/>
              <a:chExt cx="6780960" cy="263520"/>
            </a:xfrm>
          </p:grpSpPr>
          <p:sp>
            <p:nvSpPr>
              <p:cNvPr id="437" name="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0" y="3429000"/>
              <a:ext cx="6780960" cy="263520"/>
              <a:chOff x="0" y="3429000"/>
              <a:chExt cx="6780960" cy="263520"/>
            </a:xfrm>
          </p:grpSpPr>
          <p:sp>
            <p:nvSpPr>
              <p:cNvPr id="440" name="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Boss's sal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0" y="3692520"/>
              <a:ext cx="6780960" cy="263880"/>
              <a:chOff x="0" y="3692520"/>
              <a:chExt cx="6780960" cy="263880"/>
            </a:xfrm>
          </p:grpSpPr>
          <p:sp>
            <p:nvSpPr>
              <p:cNvPr id="443" name="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ss::setWeeklySal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0" y="3956400"/>
              <a:ext cx="6780960" cy="263520"/>
              <a:chOff x="0" y="3956400"/>
              <a:chExt cx="6780960" cy="263520"/>
            </a:xfrm>
          </p:grpSpPr>
          <p:sp>
            <p:nvSpPr>
              <p:cNvPr id="446" name="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weeklySalary = s &gt; 0 ? s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0" y="4220280"/>
              <a:ext cx="6780960" cy="263520"/>
              <a:chOff x="0" y="4220280"/>
              <a:chExt cx="6780960" cy="263520"/>
            </a:xfrm>
          </p:grpSpPr>
          <p:sp>
            <p:nvSpPr>
              <p:cNvPr id="449" name="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0" y="4484160"/>
              <a:ext cx="6780960" cy="263520"/>
              <a:chOff x="0" y="4484160"/>
              <a:chExt cx="6780960" cy="263520"/>
            </a:xfrm>
          </p:grpSpPr>
          <p:sp>
            <p:nvSpPr>
              <p:cNvPr id="452" name="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Boss's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0" y="4747680"/>
              <a:ext cx="6780960" cy="263520"/>
              <a:chOff x="0" y="4747680"/>
              <a:chExt cx="6780960" cy="263520"/>
            </a:xfrm>
          </p:grpSpPr>
          <p:sp>
            <p:nvSpPr>
              <p:cNvPr id="455" name="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ss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eeklySalar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0" y="5011560"/>
              <a:ext cx="6780960" cy="263880"/>
              <a:chOff x="0" y="5011560"/>
              <a:chExt cx="6780960" cy="263880"/>
            </a:xfrm>
          </p:grpSpPr>
          <p:sp>
            <p:nvSpPr>
              <p:cNvPr id="458" name="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0" y="5275440"/>
              <a:ext cx="6780960" cy="263520"/>
              <a:chOff x="0" y="5275440"/>
              <a:chExt cx="6780960" cy="263520"/>
            </a:xfrm>
          </p:grpSpPr>
          <p:sp>
            <p:nvSpPr>
              <p:cNvPr id="461" name="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Boss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0" y="5539320"/>
              <a:ext cx="6780960" cy="263520"/>
              <a:chOff x="0" y="5539320"/>
              <a:chExt cx="6780960" cy="263520"/>
            </a:xfrm>
          </p:grpSpPr>
          <p:sp>
            <p:nvSpPr>
              <p:cNvPr id="464" name="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ss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0" y="5802840"/>
              <a:ext cx="6780960" cy="263520"/>
              <a:chOff x="0" y="5802840"/>
              <a:chExt cx="6780960" cy="263520"/>
            </a:xfrm>
          </p:grpSpPr>
          <p:sp>
            <p:nvSpPr>
              <p:cNvPr id="467" name="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0" y="6066720"/>
              <a:ext cx="6780960" cy="263880"/>
              <a:chOff x="0" y="6066720"/>
              <a:chExt cx="6780960" cy="263880"/>
            </a:xfrm>
          </p:grpSpPr>
          <p:sp>
            <p:nvSpPr>
              <p:cNvPr id="470" name="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          Boss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0" y="6330600"/>
              <a:ext cx="6780960" cy="263520"/>
              <a:chOff x="0" y="6330600"/>
              <a:chExt cx="6780960" cy="263520"/>
            </a:xfrm>
          </p:grpSpPr>
          <p:sp>
            <p:nvSpPr>
              <p:cNvPr id="473" name="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0" y="6594120"/>
              <a:ext cx="6780960" cy="263520"/>
              <a:chOff x="0" y="6594120"/>
              <a:chExt cx="6780960" cy="263520"/>
            </a:xfrm>
          </p:grpSpPr>
          <p:sp>
            <p:nvSpPr>
              <p:cNvPr id="476" name="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2361960" y="3733920"/>
            <a:ext cx="5029560" cy="2361960"/>
            <a:chOff x="2361960" y="3733920"/>
            <a:chExt cx="5029560" cy="2361960"/>
          </a:xfrm>
        </p:grpSpPr>
        <p:grpSp>
          <p:nvGrpSpPr>
            <p:cNvPr id="479" name=""/>
            <p:cNvGrpSpPr/>
            <p:nvPr/>
          </p:nvGrpSpPr>
          <p:grpSpPr>
            <a:xfrm>
              <a:off x="2819160" y="3733920"/>
              <a:ext cx="4572360" cy="1681200"/>
              <a:chOff x="2819160" y="3733920"/>
              <a:chExt cx="4572360" cy="1681200"/>
            </a:xfrm>
          </p:grpSpPr>
          <p:sp>
            <p:nvSpPr>
              <p:cNvPr id="480" name=""/>
              <p:cNvSpPr/>
              <p:nvPr/>
            </p:nvSpPr>
            <p:spPr>
              <a:xfrm>
                <a:off x="5334120" y="3733920"/>
                <a:ext cx="2057400" cy="1681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ice the overrid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arning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an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function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hey were declar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n the base clas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2819160" y="4038480"/>
                <a:ext cx="2514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 flipH="1">
              <a:off x="2361960" y="4038480"/>
              <a:ext cx="29718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7F63-9B62-42BC-8A32-7707E1060E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missionWork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Definition (derived clas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85" name=""/>
            <p:cNvGrpSpPr/>
            <p:nvPr/>
          </p:nvGrpSpPr>
          <p:grpSpPr>
            <a:xfrm>
              <a:off x="0" y="0"/>
              <a:ext cx="6780960" cy="298080"/>
              <a:chOff x="0" y="0"/>
              <a:chExt cx="6780960" cy="29808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commis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298080"/>
              <a:ext cx="6780960" cy="298080"/>
              <a:chOff x="0" y="298080"/>
              <a:chExt cx="6780960" cy="29808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mmissionWorker class derived from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596160"/>
              <a:ext cx="6780960" cy="298080"/>
              <a:chOff x="0" y="596160"/>
              <a:chExt cx="6780960" cy="29808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894600"/>
              <a:ext cx="6780960" cy="298080"/>
              <a:chOff x="0" y="894600"/>
              <a:chExt cx="6780960" cy="29808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1192680"/>
              <a:ext cx="6780960" cy="298080"/>
              <a:chOff x="0" y="1192680"/>
              <a:chExt cx="6780960" cy="29808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1490760"/>
              <a:ext cx="6780960" cy="298080"/>
              <a:chOff x="0" y="1490760"/>
              <a:chExt cx="6780960" cy="29808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1788840"/>
              <a:ext cx="6780960" cy="298080"/>
              <a:chOff x="0" y="1788840"/>
              <a:chExt cx="6780960" cy="29808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2087280"/>
              <a:ext cx="6780960" cy="298080"/>
              <a:chOff x="0" y="2087280"/>
              <a:chExt cx="6780960" cy="29808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2385360"/>
              <a:ext cx="6780960" cy="298080"/>
              <a:chOff x="0" y="2385360"/>
              <a:chExt cx="6780960" cy="29808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mmission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2683440"/>
              <a:ext cx="6780960" cy="298080"/>
              <a:chOff x="0" y="2683440"/>
              <a:chExt cx="6780960" cy="29808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2981520"/>
              <a:ext cx="6780960" cy="298080"/>
              <a:chOff x="0" y="2981520"/>
              <a:chExt cx="6780960" cy="29808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3279960"/>
              <a:ext cx="6780960" cy="298080"/>
              <a:chOff x="0" y="3279960"/>
              <a:chExt cx="6780960" cy="29808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Sal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3578040"/>
              <a:ext cx="6780960" cy="298080"/>
              <a:chOff x="0" y="3578040"/>
              <a:chExt cx="6780960" cy="29808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Commissio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3876120"/>
              <a:ext cx="6780960" cy="298080"/>
              <a:chOff x="0" y="3876120"/>
              <a:chExt cx="6780960" cy="29808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4174200"/>
              <a:ext cx="6780960" cy="298080"/>
              <a:chOff x="0" y="4174200"/>
              <a:chExt cx="6780960" cy="29808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0" y="4472640"/>
              <a:ext cx="6780960" cy="298080"/>
              <a:chOff x="0" y="4472640"/>
              <a:chExt cx="6780960" cy="298080"/>
            </a:xfrm>
          </p:grpSpPr>
          <p:sp>
            <p:nvSpPr>
              <p:cNvPr id="531" name="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0" y="4770720"/>
              <a:ext cx="6780960" cy="298080"/>
              <a:chOff x="0" y="4770720"/>
              <a:chExt cx="6780960" cy="29808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0" y="5068800"/>
              <a:ext cx="6780960" cy="298080"/>
              <a:chOff x="0" y="5068800"/>
              <a:chExt cx="6780960" cy="29808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alary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ase salary pe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0" y="5367240"/>
              <a:ext cx="6780960" cy="298080"/>
              <a:chOff x="0" y="5367240"/>
              <a:chExt cx="6780960" cy="298080"/>
            </a:xfrm>
          </p:grpSpPr>
          <p:sp>
            <p:nvSpPr>
              <p:cNvPr id="540" name="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amount per item sol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0" y="5665320"/>
              <a:ext cx="6780960" cy="298080"/>
              <a:chOff x="0" y="5665320"/>
              <a:chExt cx="6780960" cy="298080"/>
            </a:xfrm>
          </p:grpSpPr>
          <p:sp>
            <p:nvSpPr>
              <p:cNvPr id="543" name="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uantity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otal items sold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0" y="5963400"/>
              <a:ext cx="6780960" cy="298080"/>
              <a:chOff x="0" y="5963400"/>
              <a:chExt cx="6780960" cy="29808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0" y="6261840"/>
              <a:ext cx="6780960" cy="298080"/>
              <a:chOff x="0" y="6261840"/>
              <a:chExt cx="6780960" cy="298080"/>
            </a:xfrm>
          </p:grpSpPr>
          <p:sp>
            <p:nvSpPr>
              <p:cNvPr id="549" name="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0" y="6559920"/>
              <a:ext cx="6780960" cy="298080"/>
              <a:chOff x="0" y="6559920"/>
              <a:chExt cx="6780960" cy="298080"/>
            </a:xfrm>
          </p:grpSpPr>
          <p:sp>
            <p:nvSpPr>
              <p:cNvPr id="552" name="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16106-BA2D-45DC-98D8-30717D08BC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56" name="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557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commis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560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ommission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566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569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572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575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ommi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578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581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Commission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584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ommissionWorker::Commission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587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590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Employee( first, last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593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596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Salary( 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599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Commission( c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602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Quantity( q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605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608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611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CommissionWorker's weekly base sal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614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Worker::setSal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617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salary = s &gt; 0 ? s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FAC86-7B38-4134-8C6C-D7152381A9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621" name=""/>
            <p:cNvGrpSpPr/>
            <p:nvPr/>
          </p:nvGrpSpPr>
          <p:grpSpPr>
            <a:xfrm>
              <a:off x="0" y="0"/>
              <a:ext cx="6780960" cy="360720"/>
              <a:chOff x="0" y="0"/>
              <a:chExt cx="6780960" cy="360720"/>
            </a:xfrm>
          </p:grpSpPr>
          <p:sp>
            <p:nvSpPr>
              <p:cNvPr id="622" name=""/>
              <p:cNvSpPr/>
              <p:nvPr/>
            </p:nvSpPr>
            <p:spPr>
              <a:xfrm>
                <a:off x="0" y="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0" y="360720"/>
              <a:ext cx="6780960" cy="360720"/>
              <a:chOff x="0" y="360720"/>
              <a:chExt cx="6780960" cy="360720"/>
            </a:xfrm>
          </p:grpSpPr>
          <p:sp>
            <p:nvSpPr>
              <p:cNvPr id="625" name=""/>
              <p:cNvSpPr/>
              <p:nvPr/>
            </p:nvSpPr>
            <p:spPr>
              <a:xfrm>
                <a:off x="0" y="3607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3607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CommissionWorker's commis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0" y="721800"/>
              <a:ext cx="6780960" cy="361080"/>
              <a:chOff x="0" y="721800"/>
              <a:chExt cx="6780960" cy="361080"/>
            </a:xfrm>
          </p:grpSpPr>
          <p:sp>
            <p:nvSpPr>
              <p:cNvPr id="628" name=""/>
              <p:cNvSpPr/>
              <p:nvPr/>
            </p:nvSpPr>
            <p:spPr>
              <a:xfrm>
                <a:off x="0" y="7218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7218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Worker::setCommissio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0" y="1082880"/>
              <a:ext cx="6780960" cy="360720"/>
              <a:chOff x="0" y="1082880"/>
              <a:chExt cx="6780960" cy="360720"/>
            </a:xfrm>
          </p:grpSpPr>
          <p:sp>
            <p:nvSpPr>
              <p:cNvPr id="631" name=""/>
              <p:cNvSpPr/>
              <p:nvPr/>
            </p:nvSpPr>
            <p:spPr>
              <a:xfrm>
                <a:off x="0" y="10828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10828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mmission = c &gt; 0 ? c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0" y="1443600"/>
              <a:ext cx="6780960" cy="360720"/>
              <a:chOff x="0" y="1443600"/>
              <a:chExt cx="6780960" cy="360720"/>
            </a:xfrm>
          </p:grpSpPr>
          <p:sp>
            <p:nvSpPr>
              <p:cNvPr id="634" name=""/>
              <p:cNvSpPr/>
              <p:nvPr/>
            </p:nvSpPr>
            <p:spPr>
              <a:xfrm>
                <a:off x="0" y="14436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14436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0" y="1804680"/>
              <a:ext cx="6780960" cy="360720"/>
              <a:chOff x="0" y="1804680"/>
              <a:chExt cx="6780960" cy="360720"/>
            </a:xfrm>
          </p:grpSpPr>
          <p:sp>
            <p:nvSpPr>
              <p:cNvPr id="637" name=""/>
              <p:cNvSpPr/>
              <p:nvPr/>
            </p:nvSpPr>
            <p:spPr>
              <a:xfrm>
                <a:off x="0" y="18046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18046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CommissionWorker's quantity sol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0" y="2165400"/>
              <a:ext cx="6780960" cy="361080"/>
              <a:chOff x="0" y="2165400"/>
              <a:chExt cx="6780960" cy="36108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21654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216540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Worker::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0" y="2526480"/>
              <a:ext cx="6780960" cy="360720"/>
              <a:chOff x="0" y="2526480"/>
              <a:chExt cx="6780960" cy="360720"/>
            </a:xfrm>
          </p:grpSpPr>
          <p:sp>
            <p:nvSpPr>
              <p:cNvPr id="643" name=""/>
              <p:cNvSpPr/>
              <p:nvPr/>
            </p:nvSpPr>
            <p:spPr>
              <a:xfrm>
                <a:off x="0" y="25264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25264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quantity = q &gt; 0 ? q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0" y="2887560"/>
              <a:ext cx="6780960" cy="360720"/>
              <a:chOff x="0" y="2887560"/>
              <a:chExt cx="6780960" cy="360720"/>
            </a:xfrm>
          </p:grpSpPr>
          <p:sp>
            <p:nvSpPr>
              <p:cNvPr id="646" name=""/>
              <p:cNvSpPr/>
              <p:nvPr/>
            </p:nvSpPr>
            <p:spPr>
              <a:xfrm>
                <a:off x="0" y="288756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288756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0" y="3248280"/>
              <a:ext cx="6780960" cy="360720"/>
              <a:chOff x="0" y="3248280"/>
              <a:chExt cx="6780960" cy="360720"/>
            </a:xfrm>
          </p:grpSpPr>
          <p:sp>
            <p:nvSpPr>
              <p:cNvPr id="649" name=""/>
              <p:cNvSpPr/>
              <p:nvPr/>
            </p:nvSpPr>
            <p:spPr>
              <a:xfrm>
                <a:off x="0" y="32482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324828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termine CommissionWorker's earn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0" y="3609360"/>
              <a:ext cx="6780960" cy="361080"/>
              <a:chOff x="0" y="3609360"/>
              <a:chExt cx="6780960" cy="361080"/>
            </a:xfrm>
          </p:grpSpPr>
          <p:sp>
            <p:nvSpPr>
              <p:cNvPr id="652" name=""/>
              <p:cNvSpPr/>
              <p:nvPr/>
            </p:nvSpPr>
            <p:spPr>
              <a:xfrm>
                <a:off x="0" y="360936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360936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Worker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0" y="3970440"/>
              <a:ext cx="6780960" cy="360720"/>
              <a:chOff x="0" y="3970440"/>
              <a:chExt cx="6780960" cy="36072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39704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39704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alary + commission * quantit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0" y="4331520"/>
              <a:ext cx="6780960" cy="360720"/>
              <a:chOff x="0" y="4331520"/>
              <a:chExt cx="6780960" cy="360720"/>
            </a:xfrm>
          </p:grpSpPr>
          <p:sp>
            <p:nvSpPr>
              <p:cNvPr id="658" name=""/>
              <p:cNvSpPr/>
              <p:nvPr/>
            </p:nvSpPr>
            <p:spPr>
              <a:xfrm>
                <a:off x="0" y="43315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43315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0" y="4692240"/>
              <a:ext cx="6780960" cy="360720"/>
              <a:chOff x="0" y="4692240"/>
              <a:chExt cx="6780960" cy="360720"/>
            </a:xfrm>
          </p:grpSpPr>
          <p:sp>
            <p:nvSpPr>
              <p:cNvPr id="661" name=""/>
              <p:cNvSpPr/>
              <p:nvPr/>
            </p:nvSpPr>
            <p:spPr>
              <a:xfrm>
                <a:off x="0" y="46922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469224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CommissionWorker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0" y="5053320"/>
              <a:ext cx="6780960" cy="361080"/>
              <a:chOff x="0" y="5053320"/>
              <a:chExt cx="6780960" cy="361080"/>
            </a:xfrm>
          </p:grpSpPr>
          <p:sp>
            <p:nvSpPr>
              <p:cNvPr id="664" name=""/>
              <p:cNvSpPr/>
              <p:nvPr/>
            </p:nvSpPr>
            <p:spPr>
              <a:xfrm>
                <a:off x="0" y="505332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5053320"/>
                <a:ext cx="6780960" cy="361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mmission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0" y="5414400"/>
              <a:ext cx="6780960" cy="360720"/>
              <a:chOff x="0" y="5414400"/>
              <a:chExt cx="6780960" cy="360720"/>
            </a:xfrm>
          </p:grpSpPr>
          <p:sp>
            <p:nvSpPr>
              <p:cNvPr id="667" name=""/>
              <p:cNvSpPr/>
              <p:nvPr/>
            </p:nvSpPr>
            <p:spPr>
              <a:xfrm>
                <a:off x="0" y="54144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54144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0" y="5775120"/>
              <a:ext cx="6780960" cy="360720"/>
              <a:chOff x="0" y="5775120"/>
              <a:chExt cx="6780960" cy="360720"/>
            </a:xfrm>
          </p:grpSpPr>
          <p:sp>
            <p:nvSpPr>
              <p:cNvPr id="670" name=""/>
              <p:cNvSpPr/>
              <p:nvPr/>
            </p:nvSpPr>
            <p:spPr>
              <a:xfrm>
                <a:off x="0" y="57751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57751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Commission work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0" y="6136200"/>
              <a:ext cx="6780960" cy="360720"/>
              <a:chOff x="0" y="6136200"/>
              <a:chExt cx="6780960" cy="360720"/>
            </a:xfrm>
          </p:grpSpPr>
          <p:sp>
            <p:nvSpPr>
              <p:cNvPr id="673" name=""/>
              <p:cNvSpPr/>
              <p:nvPr/>
            </p:nvSpPr>
            <p:spPr>
              <a:xfrm>
                <a:off x="0" y="61362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613620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0" y="6496920"/>
              <a:ext cx="6780960" cy="360720"/>
              <a:chOff x="0" y="6496920"/>
              <a:chExt cx="6780960" cy="360720"/>
            </a:xfrm>
          </p:grpSpPr>
          <p:sp>
            <p:nvSpPr>
              <p:cNvPr id="676" name=""/>
              <p:cNvSpPr/>
              <p:nvPr/>
            </p:nvSpPr>
            <p:spPr>
              <a:xfrm>
                <a:off x="0" y="64969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6496920"/>
                <a:ext cx="6780960" cy="360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8" name=""/>
          <p:cNvGrpSpPr/>
          <p:nvPr/>
        </p:nvGrpSpPr>
        <p:grpSpPr>
          <a:xfrm>
            <a:off x="3276360" y="2666880"/>
            <a:ext cx="5029560" cy="2361960"/>
            <a:chOff x="3276360" y="2666880"/>
            <a:chExt cx="5029560" cy="2361960"/>
          </a:xfrm>
        </p:grpSpPr>
        <p:grpSp>
          <p:nvGrpSpPr>
            <p:cNvPr id="679" name=""/>
            <p:cNvGrpSpPr/>
            <p:nvPr/>
          </p:nvGrpSpPr>
          <p:grpSpPr>
            <a:xfrm>
              <a:off x="3733560" y="2666880"/>
              <a:ext cx="4572360" cy="1681200"/>
              <a:chOff x="3733560" y="2666880"/>
              <a:chExt cx="4572360" cy="1681200"/>
            </a:xfrm>
          </p:grpSpPr>
          <p:sp>
            <p:nvSpPr>
              <p:cNvPr id="680" name=""/>
              <p:cNvSpPr/>
              <p:nvPr/>
            </p:nvSpPr>
            <p:spPr>
              <a:xfrm>
                <a:off x="6248520" y="2666880"/>
                <a:ext cx="2057400" cy="1681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ice the overrid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arning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an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function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hey were declar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n the base clas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3733560" y="2971440"/>
                <a:ext cx="2514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 flipH="1">
              <a:off x="3276360" y="2971440"/>
              <a:ext cx="29718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FBAC3-8247-4D7C-9CBA-F1C65644FF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eceWork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Definition (derived clas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685" name="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686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piec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689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ieceWorker class derived from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692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695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701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704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707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710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iece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713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716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719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722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725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728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agePerPiec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age for each piece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uantity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737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743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C92A9-B393-4CCE-AE10-EB90EBC84D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47" name=""/>
            <p:cNvGrpSpPr/>
            <p:nvPr/>
          </p:nvGrpSpPr>
          <p:grpSpPr>
            <a:xfrm>
              <a:off x="0" y="0"/>
              <a:ext cx="6780960" cy="195840"/>
              <a:chOff x="0" y="0"/>
              <a:chExt cx="6780960" cy="195840"/>
            </a:xfrm>
          </p:grpSpPr>
          <p:sp>
            <p:nvSpPr>
              <p:cNvPr id="748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piec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0" y="195840"/>
              <a:ext cx="6780960" cy="195840"/>
              <a:chOff x="0" y="195840"/>
              <a:chExt cx="6780960" cy="195840"/>
            </a:xfrm>
          </p:grpSpPr>
          <p:sp>
            <p:nvSpPr>
              <p:cNvPr id="751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Piece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0" y="391680"/>
              <a:ext cx="6780960" cy="195840"/>
              <a:chOff x="0" y="391680"/>
              <a:chExt cx="6780960" cy="195840"/>
            </a:xfrm>
          </p:grpSpPr>
          <p:sp>
            <p:nvSpPr>
              <p:cNvPr id="754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0" y="587880"/>
              <a:ext cx="6780960" cy="195840"/>
              <a:chOff x="0" y="587880"/>
              <a:chExt cx="6780960" cy="195840"/>
            </a:xfrm>
          </p:grpSpPr>
          <p:sp>
            <p:nvSpPr>
              <p:cNvPr id="757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0" y="783720"/>
              <a:ext cx="6780960" cy="195840"/>
              <a:chOff x="0" y="783720"/>
              <a:chExt cx="6780960" cy="195840"/>
            </a:xfrm>
          </p:grpSpPr>
          <p:sp>
            <p:nvSpPr>
              <p:cNvPr id="760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0" y="979560"/>
              <a:ext cx="6780960" cy="195840"/>
              <a:chOff x="0" y="979560"/>
              <a:chExt cx="6780960" cy="195840"/>
            </a:xfrm>
          </p:grpSpPr>
          <p:sp>
            <p:nvSpPr>
              <p:cNvPr id="763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0" y="1175400"/>
              <a:ext cx="6780960" cy="195840"/>
              <a:chOff x="0" y="1175400"/>
              <a:chExt cx="6780960" cy="195840"/>
            </a:xfrm>
          </p:grpSpPr>
          <p:sp>
            <p:nvSpPr>
              <p:cNvPr id="766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iec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0" y="1371600"/>
              <a:ext cx="6780960" cy="195840"/>
              <a:chOff x="0" y="1371600"/>
              <a:chExt cx="6780960" cy="195840"/>
            </a:xfrm>
          </p:grpSpPr>
          <p:sp>
            <p:nvSpPr>
              <p:cNvPr id="769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0" y="1567440"/>
              <a:ext cx="6780960" cy="195840"/>
              <a:chOff x="0" y="1567440"/>
              <a:chExt cx="6780960" cy="195840"/>
            </a:xfrm>
          </p:grpSpPr>
          <p:sp>
            <p:nvSpPr>
              <p:cNvPr id="772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Piece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0" y="1763280"/>
              <a:ext cx="6780960" cy="195840"/>
              <a:chOff x="0" y="1763280"/>
              <a:chExt cx="6780960" cy="195840"/>
            </a:xfrm>
          </p:grpSpPr>
          <p:sp>
            <p:nvSpPr>
              <p:cNvPr id="775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ieceWorker::Piece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0" y="1959120"/>
              <a:ext cx="6780960" cy="195840"/>
              <a:chOff x="0" y="1959120"/>
              <a:chExt cx="6780960" cy="195840"/>
            </a:xfrm>
          </p:grpSpPr>
          <p:sp>
            <p:nvSpPr>
              <p:cNvPr id="778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2155320"/>
              <a:ext cx="6780960" cy="195840"/>
              <a:chOff x="0" y="2155320"/>
              <a:chExt cx="6780960" cy="19584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Employee( first, last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0" y="2351160"/>
              <a:ext cx="6780960" cy="195840"/>
              <a:chOff x="0" y="2351160"/>
              <a:chExt cx="6780960" cy="195840"/>
            </a:xfrm>
          </p:grpSpPr>
          <p:sp>
            <p:nvSpPr>
              <p:cNvPr id="784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0" y="2547000"/>
              <a:ext cx="6780960" cy="195840"/>
              <a:chOff x="0" y="2547000"/>
              <a:chExt cx="6780960" cy="195840"/>
            </a:xfrm>
          </p:grpSpPr>
          <p:sp>
            <p:nvSpPr>
              <p:cNvPr id="787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Wage( w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0" y="2743200"/>
              <a:ext cx="6780960" cy="195840"/>
              <a:chOff x="0" y="2743200"/>
              <a:chExt cx="6780960" cy="195840"/>
            </a:xfrm>
          </p:grpSpPr>
          <p:sp>
            <p:nvSpPr>
              <p:cNvPr id="790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Quantity( q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0" y="2939040"/>
              <a:ext cx="6780960" cy="195840"/>
              <a:chOff x="0" y="2939040"/>
              <a:chExt cx="6780960" cy="195840"/>
            </a:xfrm>
          </p:grpSpPr>
          <p:sp>
            <p:nvSpPr>
              <p:cNvPr id="793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0" y="3134880"/>
              <a:ext cx="6780960" cy="195840"/>
              <a:chOff x="0" y="3134880"/>
              <a:chExt cx="6780960" cy="195840"/>
            </a:xfrm>
          </p:grpSpPr>
          <p:sp>
            <p:nvSpPr>
              <p:cNvPr id="796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0" y="3331080"/>
              <a:ext cx="6780960" cy="195840"/>
              <a:chOff x="0" y="3331080"/>
              <a:chExt cx="6780960" cy="195840"/>
            </a:xfrm>
          </p:grpSpPr>
          <p:sp>
            <p:nvSpPr>
              <p:cNvPr id="799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w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0" y="3526920"/>
              <a:ext cx="6780960" cy="195840"/>
              <a:chOff x="0" y="3526920"/>
              <a:chExt cx="6780960" cy="195840"/>
            </a:xfrm>
          </p:grpSpPr>
          <p:sp>
            <p:nvSpPr>
              <p:cNvPr id="802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Worker::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0" y="3722760"/>
              <a:ext cx="6780960" cy="195840"/>
              <a:chOff x="0" y="3722760"/>
              <a:chExt cx="6780960" cy="195840"/>
            </a:xfrm>
          </p:grpSpPr>
          <p:sp>
            <p:nvSpPr>
              <p:cNvPr id="805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wagePerPiece = w &gt; 0 ? w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0" y="3918960"/>
              <a:ext cx="6780960" cy="195840"/>
              <a:chOff x="0" y="3918960"/>
              <a:chExt cx="6780960" cy="195840"/>
            </a:xfrm>
          </p:grpSpPr>
          <p:sp>
            <p:nvSpPr>
              <p:cNvPr id="808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0" y="4114800"/>
              <a:ext cx="6780960" cy="195840"/>
              <a:chOff x="0" y="4114800"/>
              <a:chExt cx="6780960" cy="195840"/>
            </a:xfrm>
          </p:grpSpPr>
          <p:sp>
            <p:nvSpPr>
              <p:cNvPr id="811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number of items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0" y="4310640"/>
              <a:ext cx="6780960" cy="195840"/>
              <a:chOff x="0" y="4310640"/>
              <a:chExt cx="6780960" cy="195840"/>
            </a:xfrm>
          </p:grpSpPr>
          <p:sp>
            <p:nvSpPr>
              <p:cNvPr id="814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Worker::setQuantit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0" y="4506480"/>
              <a:ext cx="6780960" cy="195840"/>
              <a:chOff x="0" y="4506480"/>
              <a:chExt cx="6780960" cy="195840"/>
            </a:xfrm>
          </p:grpSpPr>
          <p:sp>
            <p:nvSpPr>
              <p:cNvPr id="817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quantity = q &gt; 0 ? q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0" y="4702680"/>
              <a:ext cx="6780960" cy="195840"/>
              <a:chOff x="0" y="4702680"/>
              <a:chExt cx="6780960" cy="195840"/>
            </a:xfrm>
          </p:grpSpPr>
          <p:sp>
            <p:nvSpPr>
              <p:cNvPr id="820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0" y="4898520"/>
              <a:ext cx="6780960" cy="195840"/>
              <a:chOff x="0" y="4898520"/>
              <a:chExt cx="6780960" cy="195840"/>
            </a:xfrm>
          </p:grpSpPr>
          <p:sp>
            <p:nvSpPr>
              <p:cNvPr id="823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termine the PieceWorker's earn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0" y="5094360"/>
              <a:ext cx="6780960" cy="195840"/>
              <a:chOff x="0" y="5094360"/>
              <a:chExt cx="6780960" cy="195840"/>
            </a:xfrm>
          </p:grpSpPr>
          <p:sp>
            <p:nvSpPr>
              <p:cNvPr id="826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Worker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0" y="5290560"/>
              <a:ext cx="6780960" cy="195840"/>
              <a:chOff x="0" y="5290560"/>
              <a:chExt cx="6780960" cy="195840"/>
            </a:xfrm>
          </p:grpSpPr>
          <p:sp>
            <p:nvSpPr>
              <p:cNvPr id="829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quantity * wagePerPiec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0" y="5486400"/>
              <a:ext cx="6780960" cy="195840"/>
              <a:chOff x="0" y="5486400"/>
              <a:chExt cx="6780960" cy="195840"/>
            </a:xfrm>
          </p:grpSpPr>
          <p:sp>
            <p:nvSpPr>
              <p:cNvPr id="832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0" y="5682240"/>
              <a:ext cx="6780960" cy="195840"/>
              <a:chOff x="0" y="5682240"/>
              <a:chExt cx="6780960" cy="195840"/>
            </a:xfrm>
          </p:grpSpPr>
          <p:sp>
            <p:nvSpPr>
              <p:cNvPr id="835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PieceWorker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0" y="5878440"/>
              <a:ext cx="6780960" cy="195840"/>
              <a:chOff x="0" y="5878440"/>
              <a:chExt cx="6780960" cy="195840"/>
            </a:xfrm>
          </p:grpSpPr>
          <p:sp>
            <p:nvSpPr>
              <p:cNvPr id="838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ece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0" y="6074280"/>
              <a:ext cx="6780960" cy="195840"/>
              <a:chOff x="0" y="6074280"/>
              <a:chExt cx="6780960" cy="195840"/>
            </a:xfrm>
          </p:grpSpPr>
          <p:sp>
            <p:nvSpPr>
              <p:cNvPr id="841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0" y="6270120"/>
              <a:ext cx="6780960" cy="195840"/>
              <a:chOff x="0" y="6270120"/>
              <a:chExt cx="6780960" cy="195840"/>
            </a:xfrm>
          </p:grpSpPr>
          <p:sp>
            <p:nvSpPr>
              <p:cNvPr id="844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  Piece work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0" y="6466320"/>
              <a:ext cx="6780960" cy="195840"/>
              <a:chOff x="0" y="6466320"/>
              <a:chExt cx="6780960" cy="195840"/>
            </a:xfrm>
          </p:grpSpPr>
          <p:sp>
            <p:nvSpPr>
              <p:cNvPr id="847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0" y="6662160"/>
              <a:ext cx="6780960" cy="195840"/>
              <a:chOff x="0" y="6662160"/>
              <a:chExt cx="6780960" cy="195840"/>
            </a:xfrm>
          </p:grpSpPr>
          <p:sp>
            <p:nvSpPr>
              <p:cNvPr id="850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2" name=""/>
          <p:cNvGrpSpPr/>
          <p:nvPr/>
        </p:nvGrpSpPr>
        <p:grpSpPr>
          <a:xfrm>
            <a:off x="3352320" y="4191120"/>
            <a:ext cx="5029560" cy="1924560"/>
            <a:chOff x="3352320" y="4191120"/>
            <a:chExt cx="5029560" cy="1924560"/>
          </a:xfrm>
        </p:grpSpPr>
        <p:grpSp>
          <p:nvGrpSpPr>
            <p:cNvPr id="853" name=""/>
            <p:cNvGrpSpPr/>
            <p:nvPr/>
          </p:nvGrpSpPr>
          <p:grpSpPr>
            <a:xfrm>
              <a:off x="3809520" y="4191120"/>
              <a:ext cx="4572360" cy="1924560"/>
              <a:chOff x="3809520" y="4191120"/>
              <a:chExt cx="4572360" cy="1924560"/>
            </a:xfrm>
          </p:grpSpPr>
          <p:sp>
            <p:nvSpPr>
              <p:cNvPr id="854" name=""/>
              <p:cNvSpPr/>
              <p:nvPr/>
            </p:nvSpPr>
            <p:spPr>
              <a:xfrm>
                <a:off x="6324480" y="4191120"/>
                <a:ext cx="2057400" cy="192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gain, notice the overridde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arning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an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function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hey were declar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n the base clas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3809520" y="4495680"/>
                <a:ext cx="2514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 flipH="1">
              <a:off x="3352320" y="4495680"/>
              <a:ext cx="29718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D0B90-65CD-4225-B261-9B3BBA03FF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lyWorker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Definition (derived clas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859" name="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hourl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872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875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878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881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884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887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.0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890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893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Hour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896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899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902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905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ag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age per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908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s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hours worked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911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917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B9444-7F23-48BD-B1B1-08FFF23B9E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and polymorph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 and implement systems that are more easily exten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written to generically process objects of all existing classes in a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7DAC8-5957-4D34-9E0B-3A16C76D92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21" name="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922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hourl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925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928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931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934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937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940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hour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943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946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949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HourlyWorker::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952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955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958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Employee( first, last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961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964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Wage( w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967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Hours( 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970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973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976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w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979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setW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982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wage = w &gt; 0 ? w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21E85-3A7B-430A-8270-AE7AB54E87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986" name="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987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990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hours work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993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setHour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996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hours = h &gt;= 0 &amp;&amp; h &lt; 168 ? h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999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1002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HourlyWorker's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1005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1008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1011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hours &lt;= 40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 over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1014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age * hour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1017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vertime is paid at wage * 1.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1020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40 * wage + ( hours - 40 ) * wage * 1.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1023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1026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1029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HourlyWorker's na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1032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1035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1038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 Hourly work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1041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1044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6" name=""/>
          <p:cNvGrpSpPr/>
          <p:nvPr/>
        </p:nvGrpSpPr>
        <p:grpSpPr>
          <a:xfrm>
            <a:off x="2971440" y="2362320"/>
            <a:ext cx="4572360" cy="2361960"/>
            <a:chOff x="2971440" y="2362320"/>
            <a:chExt cx="4572360" cy="2361960"/>
          </a:xfrm>
        </p:grpSpPr>
        <p:sp>
          <p:nvSpPr>
            <p:cNvPr id="1047" name=""/>
            <p:cNvSpPr/>
            <p:nvPr/>
          </p:nvSpPr>
          <p:spPr>
            <a:xfrm>
              <a:off x="5105520" y="266688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erridden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 flipV="1">
              <a:off x="3428640" y="2362320"/>
              <a:ext cx="1676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2971440" y="2819520"/>
              <a:ext cx="21337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BD4D3-FB9F-4EEF-8A1C-EBAC955BA3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052" name=""/>
            <p:cNvGrpSpPr/>
            <p:nvPr/>
          </p:nvGrpSpPr>
          <p:grpSpPr>
            <a:xfrm>
              <a:off x="0" y="0"/>
              <a:ext cx="6780960" cy="244800"/>
              <a:chOff x="0" y="0"/>
              <a:chExt cx="6780960" cy="244800"/>
            </a:xfrm>
          </p:grpSpPr>
          <p:sp>
            <p:nvSpPr>
              <p:cNvPr id="1053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fig10_0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0" y="244800"/>
              <a:ext cx="6780960" cy="244800"/>
              <a:chOff x="0" y="244800"/>
              <a:chExt cx="6780960" cy="244800"/>
            </a:xfrm>
          </p:grpSpPr>
          <p:sp>
            <p:nvSpPr>
              <p:cNvPr id="1056" name="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for Employee hierarch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0" y="489600"/>
              <a:ext cx="6780960" cy="244800"/>
              <a:chOff x="0" y="489600"/>
              <a:chExt cx="6780960" cy="244800"/>
            </a:xfrm>
          </p:grpSpPr>
          <p:sp>
            <p:nvSpPr>
              <p:cNvPr id="1059" name="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0" y="734760"/>
              <a:ext cx="6780960" cy="244800"/>
              <a:chOff x="0" y="734760"/>
              <a:chExt cx="6780960" cy="244800"/>
            </a:xfrm>
          </p:grpSpPr>
          <p:sp>
            <p:nvSpPr>
              <p:cNvPr id="1062" name="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0" y="979560"/>
              <a:ext cx="6780960" cy="244800"/>
              <a:chOff x="0" y="979560"/>
              <a:chExt cx="6780960" cy="24480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1224360"/>
              <a:ext cx="6780960" cy="244800"/>
              <a:chOff x="0" y="1224360"/>
              <a:chExt cx="6780960" cy="24480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1469520"/>
              <a:ext cx="6780960" cy="244800"/>
              <a:chOff x="0" y="1469520"/>
              <a:chExt cx="6780960" cy="24480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1714320"/>
              <a:ext cx="6780960" cy="244800"/>
              <a:chOff x="0" y="1714320"/>
              <a:chExt cx="6780960" cy="24480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1959480"/>
              <a:ext cx="6780960" cy="244800"/>
              <a:chOff x="0" y="1959480"/>
              <a:chExt cx="6780960" cy="24480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2204280"/>
              <a:ext cx="6780960" cy="244800"/>
              <a:chOff x="0" y="2204280"/>
              <a:chExt cx="6780960" cy="24480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2449080"/>
              <a:ext cx="6780960" cy="244800"/>
              <a:chOff x="0" y="2449080"/>
              <a:chExt cx="6780960" cy="24480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2694240"/>
              <a:ext cx="6780960" cy="244800"/>
              <a:chOff x="0" y="2694240"/>
              <a:chExt cx="6780960" cy="24480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2939040"/>
              <a:ext cx="6780960" cy="244800"/>
              <a:chOff x="0" y="2939040"/>
              <a:chExt cx="6780960" cy="24480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3183840"/>
              <a:ext cx="6780960" cy="244800"/>
              <a:chOff x="0" y="3183840"/>
              <a:chExt cx="6780960" cy="24480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3429000"/>
              <a:ext cx="6780960" cy="244800"/>
              <a:chOff x="0" y="3429000"/>
              <a:chExt cx="6780960" cy="24480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bos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3673800"/>
              <a:ext cx="6780960" cy="244800"/>
              <a:chOff x="0" y="3673800"/>
              <a:chExt cx="6780960" cy="24480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ommis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0" y="3918960"/>
              <a:ext cx="6780960" cy="244800"/>
              <a:chOff x="0" y="3918960"/>
              <a:chExt cx="6780960" cy="244800"/>
            </a:xfrm>
          </p:grpSpPr>
          <p:sp>
            <p:nvSpPr>
              <p:cNvPr id="1101" name="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iec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0" y="4163760"/>
              <a:ext cx="6780960" cy="244800"/>
              <a:chOff x="0" y="4163760"/>
              <a:chExt cx="6780960" cy="24480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hour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4408560"/>
              <a:ext cx="6780960" cy="244800"/>
              <a:chOff x="0" y="4408560"/>
              <a:chExt cx="6780960" cy="24480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0" y="4653360"/>
              <a:ext cx="6780960" cy="244800"/>
              <a:chOff x="0" y="4653360"/>
              <a:chExt cx="6780960" cy="244800"/>
            </a:xfrm>
          </p:grpSpPr>
          <p:sp>
            <p:nvSpPr>
              <p:cNvPr id="1110" name="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0" y="4898520"/>
              <a:ext cx="6780960" cy="244800"/>
              <a:chOff x="0" y="4898520"/>
              <a:chExt cx="6780960" cy="244800"/>
            </a:xfrm>
          </p:grpSpPr>
          <p:sp>
            <p:nvSpPr>
              <p:cNvPr id="1113" name="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0" y="5143320"/>
              <a:ext cx="6780960" cy="244800"/>
              <a:chOff x="0" y="5143320"/>
              <a:chExt cx="6780960" cy="244800"/>
            </a:xfrm>
          </p:grpSpPr>
          <p:sp>
            <p:nvSpPr>
              <p:cNvPr id="1116" name="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0" y="5388480"/>
              <a:ext cx="6780960" cy="244800"/>
              <a:chOff x="0" y="5388480"/>
              <a:chExt cx="6780960" cy="244800"/>
            </a:xfrm>
          </p:grpSpPr>
          <p:sp>
            <p:nvSpPr>
              <p:cNvPr id="1119" name="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0" y="5633280"/>
              <a:ext cx="6780960" cy="244800"/>
              <a:chOff x="0" y="5633280"/>
              <a:chExt cx="6780960" cy="244800"/>
            </a:xfrm>
          </p:grpSpPr>
          <p:sp>
            <p:nvSpPr>
              <p:cNvPr id="1122" name="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0" y="5878440"/>
              <a:ext cx="6780960" cy="244800"/>
              <a:chOff x="0" y="5878440"/>
              <a:chExt cx="6780960" cy="244800"/>
            </a:xfrm>
          </p:grpSpPr>
          <p:sp>
            <p:nvSpPr>
              <p:cNvPr id="1125" name="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et output formatt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0" y="6123240"/>
              <a:ext cx="6780960" cy="244800"/>
              <a:chOff x="0" y="6123240"/>
              <a:chExt cx="6780960" cy="244800"/>
            </a:xfrm>
          </p:grpSpPr>
          <p:sp>
            <p:nvSpPr>
              <p:cNvPr id="1128" name="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iosflags( ios::fixed | ios::showpoint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0" y="6368040"/>
              <a:ext cx="6780960" cy="244800"/>
              <a:chOff x="0" y="6368040"/>
              <a:chExt cx="6780960" cy="244800"/>
            </a:xfrm>
          </p:grpSpPr>
          <p:sp>
            <p:nvSpPr>
              <p:cNvPr id="1131" name="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precision(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0" y="6612840"/>
              <a:ext cx="6780960" cy="244800"/>
              <a:chOff x="0" y="6612840"/>
              <a:chExt cx="6780960" cy="24480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B9973-1264-4E2E-BB31-89687A343C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38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139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oss b( "John", "Smith", 800.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142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.print(); 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145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earned $" &lt;&lt; b.earnings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148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Pointer( &amp;b 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151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Reference( b 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154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157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mmissionWorker c( "Sue", "Jones", 200.0, 3.0, 15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160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.print();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163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earned $" &lt;&lt; c.earnings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166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Pointer( &amp;c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169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Reference( c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172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175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ieceWorker p( "Bob", "Lewis", 2.5, 2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178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.print(); 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181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earned $" &lt;&lt; p.earnings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184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Pointer( &amp;p 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187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Reference( p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190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193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lyWorker h( "Karen", "Price", 13.75, 4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196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.print();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199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earned $" &lt;&lt; h.earnings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202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Pointer( &amp;h 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205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irtualViaReference( h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uses dynam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208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211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return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217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220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ake virtual function calls off a base-class 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223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226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*baseClass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229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1232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ClassPtr-&gt;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1235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earned $" &lt;&lt; baseClassPtr-&gt;earnings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1238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0" name=""/>
          <p:cNvSpPr/>
          <p:nvPr/>
        </p:nvSpPr>
        <p:spPr>
          <a:xfrm>
            <a:off x="3826080" y="9684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3429000" y="609120"/>
            <a:ext cx="4647960" cy="871200"/>
            <a:chOff x="3429000" y="609120"/>
            <a:chExt cx="4647960" cy="871200"/>
          </a:xfrm>
        </p:grpSpPr>
        <p:sp>
          <p:nvSpPr>
            <p:cNvPr id="1242" name=""/>
            <p:cNvSpPr/>
            <p:nvPr/>
          </p:nvSpPr>
          <p:spPr>
            <a:xfrm>
              <a:off x="4280760" y="1143000"/>
              <a:ext cx="3796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ing the object itse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 flipV="1">
              <a:off x="3429000" y="609120"/>
              <a:ext cx="8517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2590920" y="838080"/>
            <a:ext cx="5029200" cy="2032920"/>
            <a:chOff x="2590920" y="838080"/>
            <a:chExt cx="5029200" cy="2032920"/>
          </a:xfrm>
        </p:grpSpPr>
        <p:sp>
          <p:nvSpPr>
            <p:cNvPr id="1245" name=""/>
            <p:cNvSpPr/>
            <p:nvPr/>
          </p:nvSpPr>
          <p:spPr>
            <a:xfrm>
              <a:off x="4267080" y="1676520"/>
              <a:ext cx="3353040" cy="1194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 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using a base-class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unctions and dynamic bind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 flipV="1">
              <a:off x="2590920" y="838080"/>
              <a:ext cx="16761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1905120" y="1066320"/>
            <a:ext cx="5638680" cy="3117600"/>
            <a:chOff x="1905120" y="1066320"/>
            <a:chExt cx="5638680" cy="3117600"/>
          </a:xfrm>
        </p:grpSpPr>
        <p:sp>
          <p:nvSpPr>
            <p:cNvPr id="1248" name=""/>
            <p:cNvSpPr/>
            <p:nvPr/>
          </p:nvSpPr>
          <p:spPr>
            <a:xfrm>
              <a:off x="4191120" y="2989440"/>
              <a:ext cx="3352680" cy="1194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 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using a base-class 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unctions and dynamic bind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 flipV="1">
              <a:off x="1905120" y="1066320"/>
              <a:ext cx="22860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3978720" y="60948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978720" y="101124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114800" y="167652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114800" y="274320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505320" y="441972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2743200" y="6019920"/>
            <a:ext cx="5866920" cy="580680"/>
            <a:chOff x="2743200" y="6019920"/>
            <a:chExt cx="5866920" cy="580680"/>
          </a:xfrm>
        </p:grpSpPr>
        <p:sp>
          <p:nvSpPr>
            <p:cNvPr id="1256" name=""/>
            <p:cNvSpPr/>
            <p:nvPr/>
          </p:nvSpPr>
          <p:spPr>
            <a:xfrm>
              <a:off x="5595120" y="6019920"/>
              <a:ext cx="3015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ke in a baseclass pointer,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 flipV="1">
              <a:off x="5024520" y="6076440"/>
              <a:ext cx="569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2743200" y="6305400"/>
              <a:ext cx="2851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FCA1A-39B9-4356-AD4A-14D54DAEDC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0" y="0"/>
            <a:ext cx="6780960" cy="2590560"/>
            <a:chOff x="0" y="0"/>
            <a:chExt cx="6780960" cy="2590560"/>
          </a:xfrm>
        </p:grpSpPr>
        <p:grpSp>
          <p:nvGrpSpPr>
            <p:cNvPr id="1261" name=""/>
            <p:cNvGrpSpPr/>
            <p:nvPr/>
          </p:nvGrpSpPr>
          <p:grpSpPr>
            <a:xfrm>
              <a:off x="0" y="0"/>
              <a:ext cx="6780960" cy="323640"/>
              <a:chOff x="0" y="0"/>
              <a:chExt cx="6780960" cy="323640"/>
            </a:xfrm>
          </p:grpSpPr>
          <p:sp>
            <p:nvSpPr>
              <p:cNvPr id="1262" name=""/>
              <p:cNvSpPr/>
              <p:nvPr/>
            </p:nvSpPr>
            <p:spPr>
              <a:xfrm>
                <a:off x="0" y="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0" y="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0" y="323640"/>
              <a:ext cx="6780960" cy="323640"/>
              <a:chOff x="0" y="323640"/>
              <a:chExt cx="6780960" cy="323640"/>
            </a:xfrm>
          </p:grpSpPr>
          <p:sp>
            <p:nvSpPr>
              <p:cNvPr id="1265" name=""/>
              <p:cNvSpPr/>
              <p:nvPr/>
            </p:nvSpPr>
            <p:spPr>
              <a:xfrm>
                <a:off x="0" y="323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0" y="323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ake virtual function calls off a base-class 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7" name=""/>
            <p:cNvGrpSpPr/>
            <p:nvPr/>
          </p:nvGrpSpPr>
          <p:grpSpPr>
            <a:xfrm>
              <a:off x="0" y="647640"/>
              <a:ext cx="6780960" cy="324000"/>
              <a:chOff x="0" y="647640"/>
              <a:chExt cx="6780960" cy="324000"/>
            </a:xfrm>
          </p:grpSpPr>
          <p:sp>
            <p:nvSpPr>
              <p:cNvPr id="1268" name=""/>
              <p:cNvSpPr/>
              <p:nvPr/>
            </p:nvSpPr>
            <p:spPr>
              <a:xfrm>
                <a:off x="0" y="64764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0" y="64764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0" y="971640"/>
              <a:ext cx="6780960" cy="323640"/>
              <a:chOff x="0" y="971640"/>
              <a:chExt cx="6780960" cy="323640"/>
            </a:xfrm>
          </p:grpSpPr>
          <p:sp>
            <p:nvSpPr>
              <p:cNvPr id="1271" name=""/>
              <p:cNvSpPr/>
              <p:nvPr/>
            </p:nvSpPr>
            <p:spPr>
              <a:xfrm>
                <a:off x="0" y="971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0" y="97164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&amp;baseClassRe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0" y="1295280"/>
              <a:ext cx="6780960" cy="323640"/>
              <a:chOff x="0" y="1295280"/>
              <a:chExt cx="6780960" cy="323640"/>
            </a:xfrm>
          </p:grpSpPr>
          <p:sp>
            <p:nvSpPr>
              <p:cNvPr id="1274" name=""/>
              <p:cNvSpPr/>
              <p:nvPr/>
            </p:nvSpPr>
            <p:spPr>
              <a:xfrm>
                <a:off x="0" y="1295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0" y="1295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0" y="1619280"/>
              <a:ext cx="6780960" cy="323640"/>
              <a:chOff x="0" y="1619280"/>
              <a:chExt cx="6780960" cy="323640"/>
            </a:xfrm>
          </p:grpSpPr>
          <p:sp>
            <p:nvSpPr>
              <p:cNvPr id="1277" name=""/>
              <p:cNvSpPr/>
              <p:nvPr/>
            </p:nvSpPr>
            <p:spPr>
              <a:xfrm>
                <a:off x="0" y="1619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0" y="161928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ClassRef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0" y="1942920"/>
              <a:ext cx="6780960" cy="324000"/>
              <a:chOff x="0" y="1942920"/>
              <a:chExt cx="6780960" cy="324000"/>
            </a:xfrm>
          </p:grpSpPr>
          <p:sp>
            <p:nvSpPr>
              <p:cNvPr id="1280" name=""/>
              <p:cNvSpPr/>
              <p:nvPr/>
            </p:nvSpPr>
            <p:spPr>
              <a:xfrm>
                <a:off x="0" y="194292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0" y="1942920"/>
                <a:ext cx="6780960" cy="32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earned $" &lt;&lt; baseClassRef.earnings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0" y="2266920"/>
              <a:ext cx="6780960" cy="323640"/>
              <a:chOff x="0" y="2266920"/>
              <a:chExt cx="6780960" cy="323640"/>
            </a:xfrm>
          </p:grpSpPr>
          <p:sp>
            <p:nvSpPr>
              <p:cNvPr id="1283" name=""/>
              <p:cNvSpPr/>
              <p:nvPr/>
            </p:nvSpPr>
            <p:spPr>
              <a:xfrm>
                <a:off x="0" y="226692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0" y="2266920"/>
                <a:ext cx="6780960" cy="323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0" y="2895480"/>
            <a:ext cx="678168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ss: John Smith earned $8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mission worker: Sue Jones earned $6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iece worker: Bob Lewis earned $50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 worker: Karen Price earned $55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 worker: Karen Price earned $550.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666880" y="1219320"/>
            <a:ext cx="5410440" cy="656640"/>
            <a:chOff x="2666880" y="1219320"/>
            <a:chExt cx="5410440" cy="656640"/>
          </a:xfrm>
        </p:grpSpPr>
        <p:sp>
          <p:nvSpPr>
            <p:cNvPr id="1287" name=""/>
            <p:cNvSpPr/>
            <p:nvPr/>
          </p:nvSpPr>
          <p:spPr>
            <a:xfrm>
              <a:off x="4952880" y="1295280"/>
              <a:ext cx="31244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ke in base class reference,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 flipV="1">
              <a:off x="4648320" y="12193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2666880" y="1523880"/>
              <a:ext cx="2286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FB061-4AB1-4ED1-BA27-542E4F4FD7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7   New Classes and Dynamic Bin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 and virtual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k well when all classes are not known in adv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dynamic binding to accommodate new classes being added to a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binding (late bin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's type need not be know at compile time for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call is matched at ru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D1F8-9056-4E9E-9150-E27684634A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8  Virtual Destruc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base-class pointer to a derived object is deleted, the base-class destructor will act on the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ase-class destructor to ensure that the appropriate destructor will be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249E-EBF7-4F18-9A07-4609453B7D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9 Case Study: Inheriting Interface and Implement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 of point, circle, cylinder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he abstract 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head the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ure virtual functio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ha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other virtual functio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l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inherits these implemen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6B2FA-9FBB-4BD0-A368-A28178E00A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abstract ba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deriv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97" name=""/>
          <p:cNvGrpSpPr/>
          <p:nvPr/>
        </p:nvGrpSpPr>
        <p:grpSpPr>
          <a:xfrm>
            <a:off x="0" y="0"/>
            <a:ext cx="6705000" cy="3276360"/>
            <a:chOff x="0" y="0"/>
            <a:chExt cx="6705000" cy="3276360"/>
          </a:xfrm>
        </p:grpSpPr>
        <p:grpSp>
          <p:nvGrpSpPr>
            <p:cNvPr id="1298" name=""/>
            <p:cNvGrpSpPr/>
            <p:nvPr/>
          </p:nvGrpSpPr>
          <p:grpSpPr>
            <a:xfrm>
              <a:off x="0" y="0"/>
              <a:ext cx="6705000" cy="204480"/>
              <a:chOff x="0" y="0"/>
              <a:chExt cx="6705000" cy="204480"/>
            </a:xfrm>
          </p:grpSpPr>
          <p:sp>
            <p:nvSpPr>
              <p:cNvPr id="1299" name=""/>
              <p:cNvSpPr/>
              <p:nvPr/>
            </p:nvSpPr>
            <p:spPr>
              <a:xfrm>
                <a:off x="0" y="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0" y="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shape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0" y="204480"/>
              <a:ext cx="6705000" cy="204480"/>
              <a:chOff x="0" y="204480"/>
              <a:chExt cx="6705000" cy="204480"/>
            </a:xfrm>
          </p:grpSpPr>
          <p:sp>
            <p:nvSpPr>
              <p:cNvPr id="1302" name=""/>
              <p:cNvSpPr/>
              <p:nvPr/>
            </p:nvSpPr>
            <p:spPr>
              <a:xfrm>
                <a:off x="0" y="2044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0" y="2044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abstract base class Sha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0" y="409320"/>
              <a:ext cx="6705000" cy="204840"/>
              <a:chOff x="0" y="409320"/>
              <a:chExt cx="6705000" cy="204840"/>
            </a:xfrm>
          </p:grpSpPr>
          <p:sp>
            <p:nvSpPr>
              <p:cNvPr id="1305" name=""/>
              <p:cNvSpPr/>
              <p:nvPr/>
            </p:nvSpPr>
            <p:spPr>
              <a:xfrm>
                <a:off x="0" y="40932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0" y="40932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0" y="614160"/>
              <a:ext cx="6705000" cy="204480"/>
              <a:chOff x="0" y="614160"/>
              <a:chExt cx="6705000" cy="204480"/>
            </a:xfrm>
          </p:grpSpPr>
          <p:sp>
            <p:nvSpPr>
              <p:cNvPr id="1308" name=""/>
              <p:cNvSpPr/>
              <p:nvPr/>
            </p:nvSpPr>
            <p:spPr>
              <a:xfrm>
                <a:off x="0" y="6141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0" y="6141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0" name=""/>
            <p:cNvGrpSpPr/>
            <p:nvPr/>
          </p:nvGrpSpPr>
          <p:grpSpPr>
            <a:xfrm>
              <a:off x="0" y="819000"/>
              <a:ext cx="6705000" cy="204480"/>
              <a:chOff x="0" y="819000"/>
              <a:chExt cx="6705000" cy="204480"/>
            </a:xfrm>
          </p:grpSpPr>
          <p:sp>
            <p:nvSpPr>
              <p:cNvPr id="1311" name=""/>
              <p:cNvSpPr/>
              <p:nvPr/>
            </p:nvSpPr>
            <p:spPr>
              <a:xfrm>
                <a:off x="0" y="8190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0" y="8190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3" name=""/>
            <p:cNvGrpSpPr/>
            <p:nvPr/>
          </p:nvGrpSpPr>
          <p:grpSpPr>
            <a:xfrm>
              <a:off x="0" y="1023840"/>
              <a:ext cx="6705000" cy="204480"/>
              <a:chOff x="0" y="1023840"/>
              <a:chExt cx="6705000" cy="204480"/>
            </a:xfrm>
          </p:grpSpPr>
          <p:sp>
            <p:nvSpPr>
              <p:cNvPr id="1314" name=""/>
              <p:cNvSpPr/>
              <p:nvPr/>
            </p:nvSpPr>
            <p:spPr>
              <a:xfrm>
                <a:off x="0" y="102384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0" y="102384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lass Shap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0" y="1228680"/>
              <a:ext cx="6705000" cy="204840"/>
              <a:chOff x="0" y="1228680"/>
              <a:chExt cx="6705000" cy="204840"/>
            </a:xfrm>
          </p:grpSpPr>
          <p:sp>
            <p:nvSpPr>
              <p:cNvPr id="1317" name=""/>
              <p:cNvSpPr/>
              <p:nvPr/>
            </p:nvSpPr>
            <p:spPr>
              <a:xfrm>
                <a:off x="0" y="1228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0" y="1228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0" y="1433520"/>
              <a:ext cx="6705000" cy="204480"/>
              <a:chOff x="0" y="1433520"/>
              <a:chExt cx="6705000" cy="204480"/>
            </a:xfrm>
          </p:grpSpPr>
          <p:sp>
            <p:nvSpPr>
              <p:cNvPr id="1320" name=""/>
              <p:cNvSpPr/>
              <p:nvPr/>
            </p:nvSpPr>
            <p:spPr>
              <a:xfrm>
                <a:off x="0" y="143352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0" y="143352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.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2" name=""/>
            <p:cNvGrpSpPr/>
            <p:nvPr/>
          </p:nvGrpSpPr>
          <p:grpSpPr>
            <a:xfrm>
              <a:off x="0" y="1638360"/>
              <a:ext cx="6705000" cy="204480"/>
              <a:chOff x="0" y="1638360"/>
              <a:chExt cx="6705000" cy="204480"/>
            </a:xfrm>
          </p:grpSpPr>
          <p:sp>
            <p:nvSpPr>
              <p:cNvPr id="1323" name=""/>
              <p:cNvSpPr/>
              <p:nvPr/>
            </p:nvSpPr>
            <p:spPr>
              <a:xfrm>
                <a:off x="0" y="1638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0" y="1638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.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5" name=""/>
            <p:cNvGrpSpPr/>
            <p:nvPr/>
          </p:nvGrpSpPr>
          <p:grpSpPr>
            <a:xfrm>
              <a:off x="0" y="1843200"/>
              <a:ext cx="6705000" cy="204480"/>
              <a:chOff x="0" y="1843200"/>
              <a:chExt cx="6705000" cy="204480"/>
            </a:xfrm>
          </p:grpSpPr>
          <p:sp>
            <p:nvSpPr>
              <p:cNvPr id="1326" name=""/>
              <p:cNvSpPr/>
              <p:nvPr/>
            </p:nvSpPr>
            <p:spPr>
              <a:xfrm>
                <a:off x="0" y="1843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0" y="1843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0" y="2047680"/>
              <a:ext cx="6705000" cy="204840"/>
              <a:chOff x="0" y="2047680"/>
              <a:chExt cx="6705000" cy="204840"/>
            </a:xfrm>
          </p:grpSpPr>
          <p:sp>
            <p:nvSpPr>
              <p:cNvPr id="1329" name=""/>
              <p:cNvSpPr/>
              <p:nvPr/>
            </p:nvSpPr>
            <p:spPr>
              <a:xfrm>
                <a:off x="0" y="2047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0" y="204768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ure virtual functions overridden in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1" name=""/>
            <p:cNvGrpSpPr/>
            <p:nvPr/>
          </p:nvGrpSpPr>
          <p:grpSpPr>
            <a:xfrm>
              <a:off x="0" y="2252880"/>
              <a:ext cx="6705000" cy="204480"/>
              <a:chOff x="0" y="2252880"/>
              <a:chExt cx="6705000" cy="204480"/>
            </a:xfrm>
          </p:grpSpPr>
          <p:sp>
            <p:nvSpPr>
              <p:cNvPr id="1332" name=""/>
              <p:cNvSpPr/>
              <p:nvPr/>
            </p:nvSpPr>
            <p:spPr>
              <a:xfrm>
                <a:off x="0" y="2252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0" y="2252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"/>
            <p:cNvGrpSpPr/>
            <p:nvPr/>
          </p:nvGrpSpPr>
          <p:grpSpPr>
            <a:xfrm>
              <a:off x="0" y="2457360"/>
              <a:ext cx="6705000" cy="204480"/>
              <a:chOff x="0" y="2457360"/>
              <a:chExt cx="6705000" cy="204480"/>
            </a:xfrm>
          </p:grpSpPr>
          <p:sp>
            <p:nvSpPr>
              <p:cNvPr id="1335" name=""/>
              <p:cNvSpPr/>
              <p:nvPr/>
            </p:nvSpPr>
            <p:spPr>
              <a:xfrm>
                <a:off x="0" y="2457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0" y="245736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0" y="2662200"/>
              <a:ext cx="6705000" cy="204480"/>
              <a:chOff x="0" y="2662200"/>
              <a:chExt cx="6705000" cy="204480"/>
            </a:xfrm>
          </p:grpSpPr>
          <p:sp>
            <p:nvSpPr>
              <p:cNvPr id="1338" name=""/>
              <p:cNvSpPr/>
              <p:nvPr/>
            </p:nvSpPr>
            <p:spPr>
              <a:xfrm>
                <a:off x="0" y="2662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0" y="266220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0" y="2867040"/>
              <a:ext cx="6705000" cy="204840"/>
              <a:chOff x="0" y="2867040"/>
              <a:chExt cx="6705000" cy="204840"/>
            </a:xfrm>
          </p:grpSpPr>
          <p:sp>
            <p:nvSpPr>
              <p:cNvPr id="1341" name=""/>
              <p:cNvSpPr/>
              <p:nvPr/>
            </p:nvSpPr>
            <p:spPr>
              <a:xfrm>
                <a:off x="0" y="286704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0" y="2867040"/>
                <a:ext cx="6705000" cy="204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0" y="3071880"/>
              <a:ext cx="6705000" cy="204480"/>
              <a:chOff x="0" y="3071880"/>
              <a:chExt cx="6705000" cy="204480"/>
            </a:xfrm>
          </p:grpSpPr>
          <p:sp>
            <p:nvSpPr>
              <p:cNvPr id="1344" name=""/>
              <p:cNvSpPr/>
              <p:nvPr/>
            </p:nvSpPr>
            <p:spPr>
              <a:xfrm>
                <a:off x="0" y="3071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0" y="3071880"/>
                <a:ext cx="6705000" cy="204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6" name=""/>
          <p:cNvGrpSpPr/>
          <p:nvPr/>
        </p:nvGrpSpPr>
        <p:grpSpPr>
          <a:xfrm>
            <a:off x="0" y="3276720"/>
            <a:ext cx="6705000" cy="3581280"/>
            <a:chOff x="0" y="3276720"/>
            <a:chExt cx="6705000" cy="3581280"/>
          </a:xfrm>
        </p:grpSpPr>
        <p:grpSp>
          <p:nvGrpSpPr>
            <p:cNvPr id="1347" name=""/>
            <p:cNvGrpSpPr/>
            <p:nvPr/>
          </p:nvGrpSpPr>
          <p:grpSpPr>
            <a:xfrm>
              <a:off x="0" y="3276720"/>
              <a:ext cx="6705000" cy="198720"/>
              <a:chOff x="0" y="3276720"/>
              <a:chExt cx="6705000" cy="198720"/>
            </a:xfrm>
          </p:grpSpPr>
          <p:sp>
            <p:nvSpPr>
              <p:cNvPr id="1348" name=""/>
              <p:cNvSpPr/>
              <p:nvPr/>
            </p:nvSpPr>
            <p:spPr>
              <a:xfrm>
                <a:off x="0" y="32767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0" y="32767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point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0" name=""/>
            <p:cNvGrpSpPr/>
            <p:nvPr/>
          </p:nvGrpSpPr>
          <p:grpSpPr>
            <a:xfrm>
              <a:off x="0" y="3475440"/>
              <a:ext cx="6705000" cy="198720"/>
              <a:chOff x="0" y="3475440"/>
              <a:chExt cx="6705000" cy="198720"/>
            </a:xfrm>
          </p:grpSpPr>
          <p:sp>
            <p:nvSpPr>
              <p:cNvPr id="1351" name=""/>
              <p:cNvSpPr/>
              <p:nvPr/>
            </p:nvSpPr>
            <p:spPr>
              <a:xfrm>
                <a:off x="0" y="34754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0" y="34754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3" name=""/>
            <p:cNvGrpSpPr/>
            <p:nvPr/>
          </p:nvGrpSpPr>
          <p:grpSpPr>
            <a:xfrm>
              <a:off x="0" y="3674520"/>
              <a:ext cx="6705000" cy="198720"/>
              <a:chOff x="0" y="3674520"/>
              <a:chExt cx="6705000" cy="198720"/>
            </a:xfrm>
          </p:grpSpPr>
          <p:sp>
            <p:nvSpPr>
              <p:cNvPr id="1354" name=""/>
              <p:cNvSpPr/>
              <p:nvPr/>
            </p:nvSpPr>
            <p:spPr>
              <a:xfrm>
                <a:off x="0" y="36745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0" y="36745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6" name=""/>
            <p:cNvGrpSpPr/>
            <p:nvPr/>
          </p:nvGrpSpPr>
          <p:grpSpPr>
            <a:xfrm>
              <a:off x="0" y="3873600"/>
              <a:ext cx="6705000" cy="198720"/>
              <a:chOff x="0" y="3873600"/>
              <a:chExt cx="6705000" cy="198720"/>
            </a:xfrm>
          </p:grpSpPr>
          <p:sp>
            <p:nvSpPr>
              <p:cNvPr id="1357" name=""/>
              <p:cNvSpPr/>
              <p:nvPr/>
            </p:nvSpPr>
            <p:spPr>
              <a:xfrm>
                <a:off x="0" y="38736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0" y="38736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9" name=""/>
            <p:cNvGrpSpPr/>
            <p:nvPr/>
          </p:nvGrpSpPr>
          <p:grpSpPr>
            <a:xfrm>
              <a:off x="0" y="4072320"/>
              <a:ext cx="6705000" cy="198720"/>
              <a:chOff x="0" y="4072320"/>
              <a:chExt cx="6705000" cy="198720"/>
            </a:xfrm>
          </p:grpSpPr>
          <p:sp>
            <p:nvSpPr>
              <p:cNvPr id="1360" name=""/>
              <p:cNvSpPr/>
              <p:nvPr/>
            </p:nvSpPr>
            <p:spPr>
              <a:xfrm>
                <a:off x="0" y="4072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0" y="4072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0" y="4271400"/>
              <a:ext cx="6705000" cy="198720"/>
              <a:chOff x="0" y="4271400"/>
              <a:chExt cx="6705000" cy="198720"/>
            </a:xfrm>
          </p:grpSpPr>
          <p:sp>
            <p:nvSpPr>
              <p:cNvPr id="1363" name=""/>
              <p:cNvSpPr/>
              <p:nvPr/>
            </p:nvSpPr>
            <p:spPr>
              <a:xfrm>
                <a:off x="0" y="42714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0" y="42714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0" y="4470480"/>
              <a:ext cx="6705000" cy="198720"/>
              <a:chOff x="0" y="4470480"/>
              <a:chExt cx="6705000" cy="198720"/>
            </a:xfrm>
          </p:grpSpPr>
          <p:sp>
            <p:nvSpPr>
              <p:cNvPr id="1366" name=""/>
              <p:cNvSpPr/>
              <p:nvPr/>
            </p:nvSpPr>
            <p:spPr>
              <a:xfrm>
                <a:off x="0" y="44704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0" y="44704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0" y="4669560"/>
              <a:ext cx="6705000" cy="198720"/>
              <a:chOff x="0" y="4669560"/>
              <a:chExt cx="6705000" cy="198720"/>
            </a:xfrm>
          </p:grpSpPr>
          <p:sp>
            <p:nvSpPr>
              <p:cNvPr id="1369" name=""/>
              <p:cNvSpPr/>
              <p:nvPr/>
            </p:nvSpPr>
            <p:spPr>
              <a:xfrm>
                <a:off x="0" y="46695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0" y="46695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0" y="4868280"/>
              <a:ext cx="6705000" cy="198720"/>
              <a:chOff x="0" y="4868280"/>
              <a:chExt cx="6705000" cy="198720"/>
            </a:xfrm>
          </p:grpSpPr>
          <p:sp>
            <p:nvSpPr>
              <p:cNvPr id="1372" name=""/>
              <p:cNvSpPr/>
              <p:nvPr/>
            </p:nvSpPr>
            <p:spPr>
              <a:xfrm>
                <a:off x="0" y="4868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0" y="4868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0" y="5067360"/>
              <a:ext cx="6705000" cy="198720"/>
              <a:chOff x="0" y="5067360"/>
              <a:chExt cx="6705000" cy="198720"/>
            </a:xfrm>
          </p:grpSpPr>
          <p:sp>
            <p:nvSpPr>
              <p:cNvPr id="1375" name=""/>
              <p:cNvSpPr/>
              <p:nvPr/>
            </p:nvSpPr>
            <p:spPr>
              <a:xfrm>
                <a:off x="0" y="50673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0" y="50673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shap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0" y="5266080"/>
              <a:ext cx="6705000" cy="198720"/>
              <a:chOff x="0" y="5266080"/>
              <a:chExt cx="6705000" cy="198720"/>
            </a:xfrm>
          </p:grpSpPr>
          <p:sp>
            <p:nvSpPr>
              <p:cNvPr id="1378" name=""/>
              <p:cNvSpPr/>
              <p:nvPr/>
            </p:nvSpPr>
            <p:spPr>
              <a:xfrm>
                <a:off x="0" y="52660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0" y="52660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0" y="5465160"/>
              <a:ext cx="6705000" cy="198720"/>
              <a:chOff x="0" y="5465160"/>
              <a:chExt cx="6705000" cy="198720"/>
            </a:xfrm>
          </p:grpSpPr>
          <p:sp>
            <p:nvSpPr>
              <p:cNvPr id="1381" name=""/>
              <p:cNvSpPr/>
              <p:nvPr/>
            </p:nvSpPr>
            <p:spPr>
              <a:xfrm>
                <a:off x="0" y="54651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0" y="546516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0" y="5664240"/>
              <a:ext cx="6705000" cy="198720"/>
              <a:chOff x="0" y="5664240"/>
              <a:chExt cx="6705000" cy="198720"/>
            </a:xfrm>
          </p:grpSpPr>
          <p:sp>
            <p:nvSpPr>
              <p:cNvPr id="1384" name=""/>
              <p:cNvSpPr/>
              <p:nvPr/>
            </p:nvSpPr>
            <p:spPr>
              <a:xfrm>
                <a:off x="0" y="56642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0" y="56642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0" y="5863320"/>
              <a:ext cx="6705000" cy="198720"/>
              <a:chOff x="0" y="5863320"/>
              <a:chExt cx="6705000" cy="198720"/>
            </a:xfrm>
          </p:grpSpPr>
          <p:sp>
            <p:nvSpPr>
              <p:cNvPr id="1387" name=""/>
              <p:cNvSpPr/>
              <p:nvPr/>
            </p:nvSpPr>
            <p:spPr>
              <a:xfrm>
                <a:off x="0" y="5863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0" y="58633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9" name=""/>
            <p:cNvGrpSpPr/>
            <p:nvPr/>
          </p:nvGrpSpPr>
          <p:grpSpPr>
            <a:xfrm>
              <a:off x="0" y="6062040"/>
              <a:ext cx="6705000" cy="198720"/>
              <a:chOff x="0" y="6062040"/>
              <a:chExt cx="6705000" cy="198720"/>
            </a:xfrm>
          </p:grpSpPr>
          <p:sp>
            <p:nvSpPr>
              <p:cNvPr id="1390" name=""/>
              <p:cNvSpPr/>
              <p:nvPr/>
            </p:nvSpPr>
            <p:spPr>
              <a:xfrm>
                <a:off x="0" y="60620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0" y="606204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2" name=""/>
            <p:cNvGrpSpPr/>
            <p:nvPr/>
          </p:nvGrpSpPr>
          <p:grpSpPr>
            <a:xfrm>
              <a:off x="0" y="6261120"/>
              <a:ext cx="6705000" cy="198720"/>
              <a:chOff x="0" y="6261120"/>
              <a:chExt cx="6705000" cy="198720"/>
            </a:xfrm>
          </p:grpSpPr>
          <p:sp>
            <p:nvSpPr>
              <p:cNvPr id="1393" name=""/>
              <p:cNvSpPr/>
              <p:nvPr/>
            </p:nvSpPr>
            <p:spPr>
              <a:xfrm>
                <a:off x="0" y="62611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0" y="626112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X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5" name=""/>
            <p:cNvGrpSpPr/>
            <p:nvPr/>
          </p:nvGrpSpPr>
          <p:grpSpPr>
            <a:xfrm>
              <a:off x="0" y="6460200"/>
              <a:ext cx="6705000" cy="198720"/>
              <a:chOff x="0" y="6460200"/>
              <a:chExt cx="6705000" cy="198720"/>
            </a:xfrm>
          </p:grpSpPr>
          <p:sp>
            <p:nvSpPr>
              <p:cNvPr id="1396" name=""/>
              <p:cNvSpPr/>
              <p:nvPr/>
            </p:nvSpPr>
            <p:spPr>
              <a:xfrm>
                <a:off x="0" y="64602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0" y="646020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0" y="6659280"/>
              <a:ext cx="6705000" cy="198720"/>
              <a:chOff x="0" y="6659280"/>
              <a:chExt cx="6705000" cy="198720"/>
            </a:xfrm>
          </p:grpSpPr>
          <p:sp>
            <p:nvSpPr>
              <p:cNvPr id="1399" name=""/>
              <p:cNvSpPr/>
              <p:nvPr/>
            </p:nvSpPr>
            <p:spPr>
              <a:xfrm>
                <a:off x="0" y="6659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0" y="6659280"/>
                <a:ext cx="670500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1" name=""/>
          <p:cNvGrpSpPr/>
          <p:nvPr/>
        </p:nvGrpSpPr>
        <p:grpSpPr>
          <a:xfrm>
            <a:off x="3200400" y="5257800"/>
            <a:ext cx="4343400" cy="580680"/>
            <a:chOff x="3200400" y="5257800"/>
            <a:chExt cx="4343400" cy="580680"/>
          </a:xfrm>
        </p:grpSpPr>
        <p:sp>
          <p:nvSpPr>
            <p:cNvPr id="1402" name=""/>
            <p:cNvSpPr/>
            <p:nvPr/>
          </p:nvSpPr>
          <p:spPr>
            <a:xfrm>
              <a:off x="4952880" y="525780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herits from the abstract base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3200400" y="556236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3123720" y="2819520"/>
            <a:ext cx="3200760" cy="900000"/>
            <a:chOff x="3123720" y="2819520"/>
            <a:chExt cx="3200760" cy="900000"/>
          </a:xfrm>
        </p:grpSpPr>
        <p:sp>
          <p:nvSpPr>
            <p:cNvPr id="1405" name=""/>
            <p:cNvSpPr/>
            <p:nvPr/>
          </p:nvSpPr>
          <p:spPr>
            <a:xfrm>
              <a:off x="3886200" y="28954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unctions which will be overridden by each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 flipV="1">
              <a:off x="3123720" y="281952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B41DB-0837-45A8-8A3E-33B3331446C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deriv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0" y="0"/>
            <a:ext cx="6780960" cy="1600200"/>
            <a:chOff x="0" y="0"/>
            <a:chExt cx="6780960" cy="1600200"/>
          </a:xfrm>
        </p:grpSpPr>
        <p:grpSp>
          <p:nvGrpSpPr>
            <p:cNvPr id="1409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41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cout &lt;&lt; "Point: "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2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41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5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41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8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41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y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x and y coordinates of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42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42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0" y="1371600"/>
              <a:ext cx="6780960" cy="228600"/>
              <a:chOff x="0" y="1371600"/>
              <a:chExt cx="6780960" cy="228600"/>
            </a:xfrm>
          </p:grpSpPr>
          <p:sp>
            <p:nvSpPr>
              <p:cNvPr id="1428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0" name=""/>
          <p:cNvGrpSpPr/>
          <p:nvPr/>
        </p:nvGrpSpPr>
        <p:grpSpPr>
          <a:xfrm>
            <a:off x="0" y="1600200"/>
            <a:ext cx="6780960" cy="3962520"/>
            <a:chOff x="0" y="1600200"/>
            <a:chExt cx="6780960" cy="3962520"/>
          </a:xfrm>
        </p:grpSpPr>
        <p:grpSp>
          <p:nvGrpSpPr>
            <p:cNvPr id="1431" name=""/>
            <p:cNvGrpSpPr/>
            <p:nvPr/>
          </p:nvGrpSpPr>
          <p:grpSpPr>
            <a:xfrm>
              <a:off x="0" y="1600200"/>
              <a:ext cx="6780960" cy="282960"/>
              <a:chOff x="0" y="1600200"/>
              <a:chExt cx="6780960" cy="282960"/>
            </a:xfrm>
          </p:grpSpPr>
          <p:sp>
            <p:nvSpPr>
              <p:cNvPr id="1432" name=""/>
              <p:cNvSpPr/>
              <p:nvPr/>
            </p:nvSpPr>
            <p:spPr>
              <a:xfrm>
                <a:off x="0" y="16002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0" y="16002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point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0" y="1883160"/>
              <a:ext cx="6780960" cy="282960"/>
              <a:chOff x="0" y="1883160"/>
              <a:chExt cx="6780960" cy="282960"/>
            </a:xfrm>
          </p:grpSpPr>
          <p:sp>
            <p:nvSpPr>
              <p:cNvPr id="1435" name=""/>
              <p:cNvSpPr/>
              <p:nvPr/>
            </p:nvSpPr>
            <p:spPr>
              <a:xfrm>
                <a:off x="0" y="18831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0" y="18831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0" y="2166120"/>
              <a:ext cx="6780960" cy="282960"/>
              <a:chOff x="0" y="2166120"/>
              <a:chExt cx="6780960" cy="282960"/>
            </a:xfrm>
          </p:grpSpPr>
          <p:sp>
            <p:nvSpPr>
              <p:cNvPr id="1438" name=""/>
              <p:cNvSpPr/>
              <p:nvPr/>
            </p:nvSpPr>
            <p:spPr>
              <a:xfrm>
                <a:off x="0" y="21661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0" y="21661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0" y="2449080"/>
              <a:ext cx="6780960" cy="282960"/>
              <a:chOff x="0" y="2449080"/>
              <a:chExt cx="6780960" cy="282960"/>
            </a:xfrm>
          </p:grpSpPr>
          <p:sp>
            <p:nvSpPr>
              <p:cNvPr id="1441" name=""/>
              <p:cNvSpPr/>
              <p:nvPr/>
            </p:nvSpPr>
            <p:spPr>
              <a:xfrm>
                <a:off x="0" y="244908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0" y="244908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0" y="2732400"/>
              <a:ext cx="6780960" cy="282960"/>
              <a:chOff x="0" y="2732400"/>
              <a:chExt cx="6780960" cy="282960"/>
            </a:xfrm>
          </p:grpSpPr>
          <p:sp>
            <p:nvSpPr>
              <p:cNvPr id="1444" name=""/>
              <p:cNvSpPr/>
              <p:nvPr/>
            </p:nvSpPr>
            <p:spPr>
              <a:xfrm>
                <a:off x="0" y="27324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0" y="27324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 { setPoint( a, b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0" y="3015360"/>
              <a:ext cx="6780960" cy="282960"/>
              <a:chOff x="0" y="3015360"/>
              <a:chExt cx="6780960" cy="282960"/>
            </a:xfrm>
          </p:grpSpPr>
          <p:sp>
            <p:nvSpPr>
              <p:cNvPr id="1447" name=""/>
              <p:cNvSpPr/>
              <p:nvPr/>
            </p:nvSpPr>
            <p:spPr>
              <a:xfrm>
                <a:off x="0" y="30153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0" y="30153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0" y="3298320"/>
              <a:ext cx="6780960" cy="282960"/>
              <a:chOff x="0" y="3298320"/>
              <a:chExt cx="6780960" cy="282960"/>
            </a:xfrm>
          </p:grpSpPr>
          <p:sp>
            <p:nvSpPr>
              <p:cNvPr id="1450" name=""/>
              <p:cNvSpPr/>
              <p:nvPr/>
            </p:nvSpPr>
            <p:spPr>
              <a:xfrm>
                <a:off x="0" y="32983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0" y="32983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::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0" y="3581640"/>
              <a:ext cx="6780960" cy="282960"/>
              <a:chOff x="0" y="3581640"/>
              <a:chExt cx="6780960" cy="282960"/>
            </a:xfrm>
          </p:grpSpPr>
          <p:sp>
            <p:nvSpPr>
              <p:cNvPr id="1453" name=""/>
              <p:cNvSpPr/>
              <p:nvPr/>
            </p:nvSpPr>
            <p:spPr>
              <a:xfrm>
                <a:off x="0" y="35816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0" y="35816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0" y="3864600"/>
              <a:ext cx="6780960" cy="282960"/>
              <a:chOff x="0" y="3864600"/>
              <a:chExt cx="6780960" cy="282960"/>
            </a:xfrm>
          </p:grpSpPr>
          <p:sp>
            <p:nvSpPr>
              <p:cNvPr id="1456" name=""/>
              <p:cNvSpPr/>
              <p:nvPr/>
            </p:nvSpPr>
            <p:spPr>
              <a:xfrm>
                <a:off x="0" y="38646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0" y="38646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8" name=""/>
            <p:cNvGrpSpPr/>
            <p:nvPr/>
          </p:nvGrpSpPr>
          <p:grpSpPr>
            <a:xfrm>
              <a:off x="0" y="4147560"/>
              <a:ext cx="6780960" cy="282960"/>
              <a:chOff x="0" y="4147560"/>
              <a:chExt cx="6780960" cy="282960"/>
            </a:xfrm>
          </p:grpSpPr>
          <p:sp>
            <p:nvSpPr>
              <p:cNvPr id="1459" name=""/>
              <p:cNvSpPr/>
              <p:nvPr/>
            </p:nvSpPr>
            <p:spPr>
              <a:xfrm>
                <a:off x="0" y="41475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0" y="41475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0" y="4430520"/>
              <a:ext cx="6780960" cy="282960"/>
              <a:chOff x="0" y="4430520"/>
              <a:chExt cx="6780960" cy="282960"/>
            </a:xfrm>
          </p:grpSpPr>
          <p:sp>
            <p:nvSpPr>
              <p:cNvPr id="1462" name=""/>
              <p:cNvSpPr/>
              <p:nvPr/>
            </p:nvSpPr>
            <p:spPr>
              <a:xfrm>
                <a:off x="0" y="44305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0" y="443052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4" name=""/>
            <p:cNvGrpSpPr/>
            <p:nvPr/>
          </p:nvGrpSpPr>
          <p:grpSpPr>
            <a:xfrm>
              <a:off x="0" y="4713840"/>
              <a:ext cx="6780960" cy="282960"/>
              <a:chOff x="0" y="4713840"/>
              <a:chExt cx="6780960" cy="282960"/>
            </a:xfrm>
          </p:grpSpPr>
          <p:sp>
            <p:nvSpPr>
              <p:cNvPr id="1465" name=""/>
              <p:cNvSpPr/>
              <p:nvPr/>
            </p:nvSpPr>
            <p:spPr>
              <a:xfrm>
                <a:off x="0" y="47138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0" y="471384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0" y="4996800"/>
              <a:ext cx="6780960" cy="282960"/>
              <a:chOff x="0" y="4996800"/>
              <a:chExt cx="6780960" cy="282960"/>
            </a:xfrm>
          </p:grpSpPr>
          <p:sp>
            <p:nvSpPr>
              <p:cNvPr id="1468" name=""/>
              <p:cNvSpPr/>
              <p:nvPr/>
            </p:nvSpPr>
            <p:spPr>
              <a:xfrm>
                <a:off x="0" y="49968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0" y="499680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0" name=""/>
            <p:cNvGrpSpPr/>
            <p:nvPr/>
          </p:nvGrpSpPr>
          <p:grpSpPr>
            <a:xfrm>
              <a:off x="0" y="5279760"/>
              <a:ext cx="6780960" cy="282960"/>
              <a:chOff x="0" y="5279760"/>
              <a:chExt cx="6780960" cy="282960"/>
            </a:xfrm>
          </p:grpSpPr>
          <p:sp>
            <p:nvSpPr>
              <p:cNvPr id="1471" name=""/>
              <p:cNvSpPr/>
              <p:nvPr/>
            </p:nvSpPr>
            <p:spPr>
              <a:xfrm>
                <a:off x="0" y="52797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0" y="5279760"/>
                <a:ext cx="6780960" cy="28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'[' &lt;&lt; x &lt;&lt; ", " &lt;&lt; y &lt;&lt; ']'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3548E-2EE3-42EA-B69B-07CEE8D7A4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Type Fields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witch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Statement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 an action on a object based on its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witch structure could determine whic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to call based on which type in a hierarchy of sha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 may forget to test all possible cases in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this down can be time consuming and prone to err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nd polymorphic programming can eliminate the need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og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7779-D3CC-4CFE-8F17-D91ABAAC31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ircle Definition (derived clas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475" name="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1476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circl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8" name="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1479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1482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4" name="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1485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7" name="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1488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1491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1494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1497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1500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1503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1506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8" name="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1509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1" name="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1512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4" name="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1515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7" name="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1518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cout &lt;&lt; "Circle: "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0" name="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1521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1524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6" name="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1527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adius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1530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1533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1536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3429000" y="1828800"/>
            <a:ext cx="3505320" cy="580680"/>
            <a:chOff x="3429000" y="1828800"/>
            <a:chExt cx="3505320" cy="580680"/>
          </a:xfrm>
        </p:grpSpPr>
        <p:sp>
          <p:nvSpPr>
            <p:cNvPr id="1539" name=""/>
            <p:cNvSpPr/>
            <p:nvPr/>
          </p:nvSpPr>
          <p:spPr>
            <a:xfrm>
              <a:off x="5181480" y="1828800"/>
              <a:ext cx="1752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3429000" y="2133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14F2C-190F-4773-9819-B9E140F8A00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4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543" name=""/>
            <p:cNvGrpSpPr/>
            <p:nvPr/>
          </p:nvGrpSpPr>
          <p:grpSpPr>
            <a:xfrm>
              <a:off x="0" y="0"/>
              <a:ext cx="6780960" cy="285480"/>
              <a:chOff x="0" y="0"/>
              <a:chExt cx="6780960" cy="285480"/>
            </a:xfrm>
          </p:grpSpPr>
          <p:sp>
            <p:nvSpPr>
              <p:cNvPr id="1544" name="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circl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0" y="285480"/>
              <a:ext cx="6780960" cy="285480"/>
              <a:chOff x="0" y="285480"/>
              <a:chExt cx="6780960" cy="285480"/>
            </a:xfrm>
          </p:grpSpPr>
          <p:sp>
            <p:nvSpPr>
              <p:cNvPr id="1547" name="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0" y="571320"/>
              <a:ext cx="6780960" cy="285840"/>
              <a:chOff x="0" y="571320"/>
              <a:chExt cx="6780960" cy="285840"/>
            </a:xfrm>
          </p:grpSpPr>
          <p:sp>
            <p:nvSpPr>
              <p:cNvPr id="1550" name="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2" name=""/>
            <p:cNvGrpSpPr/>
            <p:nvPr/>
          </p:nvGrpSpPr>
          <p:grpSpPr>
            <a:xfrm>
              <a:off x="0" y="857160"/>
              <a:ext cx="6780960" cy="285480"/>
              <a:chOff x="0" y="857160"/>
              <a:chExt cx="6780960" cy="285480"/>
            </a:xfrm>
          </p:grpSpPr>
          <p:sp>
            <p:nvSpPr>
              <p:cNvPr id="1553" name="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0" y="1143000"/>
              <a:ext cx="6780960" cy="285480"/>
              <a:chOff x="0" y="1143000"/>
              <a:chExt cx="6780960" cy="285480"/>
            </a:xfrm>
          </p:grpSpPr>
          <p:sp>
            <p:nvSpPr>
              <p:cNvPr id="1556" name="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0" y="1428480"/>
              <a:ext cx="6780960" cy="285480"/>
              <a:chOff x="0" y="1428480"/>
              <a:chExt cx="6780960" cy="285480"/>
            </a:xfrm>
          </p:grpSpPr>
          <p:sp>
            <p:nvSpPr>
              <p:cNvPr id="1559" name="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0" y="1714320"/>
              <a:ext cx="6780960" cy="285840"/>
              <a:chOff x="0" y="1714320"/>
              <a:chExt cx="6780960" cy="285840"/>
            </a:xfrm>
          </p:grpSpPr>
          <p:sp>
            <p:nvSpPr>
              <p:cNvPr id="1562" name="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0" y="2000160"/>
              <a:ext cx="6780960" cy="285480"/>
              <a:chOff x="0" y="2000160"/>
              <a:chExt cx="6780960" cy="285480"/>
            </a:xfrm>
          </p:grpSpPr>
          <p:sp>
            <p:nvSpPr>
              <p:cNvPr id="1565" name="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0" y="2286000"/>
              <a:ext cx="6780960" cy="285480"/>
              <a:chOff x="0" y="2286000"/>
              <a:chExt cx="6780960" cy="285480"/>
            </a:xfrm>
          </p:grpSpPr>
          <p:sp>
            <p:nvSpPr>
              <p:cNvPr id="1568" name="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0" y="2571480"/>
              <a:ext cx="6780960" cy="285480"/>
              <a:chOff x="0" y="2571480"/>
              <a:chExt cx="6780960" cy="285480"/>
            </a:xfrm>
          </p:grpSpPr>
          <p:sp>
            <p:nvSpPr>
              <p:cNvPr id="1571" name="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Point( a, b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0" y="2857320"/>
              <a:ext cx="6780960" cy="285840"/>
              <a:chOff x="0" y="2857320"/>
              <a:chExt cx="6780960" cy="285840"/>
            </a:xfrm>
          </p:grpSpPr>
          <p:sp>
            <p:nvSpPr>
              <p:cNvPr id="1574" name="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Radius( r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0" y="3143160"/>
              <a:ext cx="6780960" cy="285480"/>
              <a:chOff x="0" y="3143160"/>
              <a:chExt cx="6780960" cy="285480"/>
            </a:xfrm>
          </p:grpSpPr>
          <p:sp>
            <p:nvSpPr>
              <p:cNvPr id="1577" name="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0" y="3429000"/>
              <a:ext cx="6780960" cy="285480"/>
              <a:chOff x="0" y="3429000"/>
              <a:chExt cx="6780960" cy="285480"/>
            </a:xfrm>
          </p:grpSpPr>
          <p:sp>
            <p:nvSpPr>
              <p:cNvPr id="1580" name="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) { radius = r &gt; 0 ? r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0" y="3714480"/>
              <a:ext cx="6780960" cy="285480"/>
              <a:chOff x="0" y="3714480"/>
              <a:chExt cx="6780960" cy="285480"/>
            </a:xfrm>
          </p:grpSpPr>
          <p:sp>
            <p:nvSpPr>
              <p:cNvPr id="1583" name="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0" y="4000320"/>
              <a:ext cx="6780960" cy="285840"/>
              <a:chOff x="0" y="4000320"/>
              <a:chExt cx="6780960" cy="285840"/>
            </a:xfrm>
          </p:grpSpPr>
          <p:sp>
            <p:nvSpPr>
              <p:cNvPr id="1586" name="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0" y="4286160"/>
              <a:ext cx="6780960" cy="285480"/>
              <a:chOff x="0" y="4286160"/>
              <a:chExt cx="6780960" cy="285480"/>
            </a:xfrm>
          </p:grpSpPr>
          <p:sp>
            <p:nvSpPr>
              <p:cNvPr id="1589" name="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1" name=""/>
            <p:cNvGrpSpPr/>
            <p:nvPr/>
          </p:nvGrpSpPr>
          <p:grpSpPr>
            <a:xfrm>
              <a:off x="0" y="4572000"/>
              <a:ext cx="6780960" cy="285480"/>
              <a:chOff x="0" y="4572000"/>
              <a:chExt cx="6780960" cy="285480"/>
            </a:xfrm>
          </p:grpSpPr>
          <p:sp>
            <p:nvSpPr>
              <p:cNvPr id="1592" name="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0" y="4857480"/>
              <a:ext cx="6780960" cy="285480"/>
              <a:chOff x="0" y="4857480"/>
              <a:chExt cx="6780960" cy="285480"/>
            </a:xfrm>
          </p:grpSpPr>
          <p:sp>
            <p:nvSpPr>
              <p:cNvPr id="1595" name="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3.14159 * radius *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0" y="5143320"/>
              <a:ext cx="6780960" cy="285480"/>
              <a:chOff x="0" y="5143320"/>
              <a:chExt cx="6780960" cy="285480"/>
            </a:xfrm>
          </p:grpSpPr>
          <p:sp>
            <p:nvSpPr>
              <p:cNvPr id="1598" name="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0" y="5429160"/>
              <a:ext cx="6780960" cy="285840"/>
              <a:chOff x="0" y="5429160"/>
              <a:chExt cx="6780960" cy="285840"/>
            </a:xfrm>
          </p:grpSpPr>
          <p:sp>
            <p:nvSpPr>
              <p:cNvPr id="1601" name="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0" y="5715000"/>
              <a:ext cx="6780960" cy="285480"/>
              <a:chOff x="0" y="5715000"/>
              <a:chExt cx="6780960" cy="285480"/>
            </a:xfrm>
          </p:grpSpPr>
          <p:sp>
            <p:nvSpPr>
              <p:cNvPr id="1604" name="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0" y="6000840"/>
              <a:ext cx="6780960" cy="285480"/>
              <a:chOff x="0" y="6000840"/>
              <a:chExt cx="6780960" cy="285480"/>
            </a:xfrm>
          </p:grpSpPr>
          <p:sp>
            <p:nvSpPr>
              <p:cNvPr id="1607" name="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0" y="6286320"/>
              <a:ext cx="6780960" cy="285480"/>
              <a:chOff x="0" y="6286320"/>
              <a:chExt cx="6780960" cy="285480"/>
            </a:xfrm>
          </p:grpSpPr>
          <p:sp>
            <p:nvSpPr>
              <p:cNvPr id="1610" name="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; Radius = " &lt;&lt; 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0" y="6572160"/>
              <a:ext cx="6780960" cy="285840"/>
              <a:chOff x="0" y="6572160"/>
              <a:chExt cx="6780960" cy="285840"/>
            </a:xfrm>
          </p:grpSpPr>
          <p:sp>
            <p:nvSpPr>
              <p:cNvPr id="1613" name="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61AC9-C227-4A46-821A-666AFA70BA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 (deriv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16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617" name=""/>
            <p:cNvGrpSpPr/>
            <p:nvPr/>
          </p:nvGrpSpPr>
          <p:grpSpPr>
            <a:xfrm>
              <a:off x="0" y="0"/>
              <a:ext cx="6780960" cy="298080"/>
              <a:chOff x="0" y="0"/>
              <a:chExt cx="6780960" cy="298080"/>
            </a:xfrm>
          </p:grpSpPr>
          <p:sp>
            <p:nvSpPr>
              <p:cNvPr id="1618" name="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cylindr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0" name=""/>
            <p:cNvGrpSpPr/>
            <p:nvPr/>
          </p:nvGrpSpPr>
          <p:grpSpPr>
            <a:xfrm>
              <a:off x="0" y="298080"/>
              <a:ext cx="6780960" cy="298080"/>
              <a:chOff x="0" y="298080"/>
              <a:chExt cx="6780960" cy="298080"/>
            </a:xfrm>
          </p:grpSpPr>
          <p:sp>
            <p:nvSpPr>
              <p:cNvPr id="1621" name="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3" name=""/>
            <p:cNvGrpSpPr/>
            <p:nvPr/>
          </p:nvGrpSpPr>
          <p:grpSpPr>
            <a:xfrm>
              <a:off x="0" y="596160"/>
              <a:ext cx="6780960" cy="298080"/>
              <a:chOff x="0" y="596160"/>
              <a:chExt cx="6780960" cy="298080"/>
            </a:xfrm>
          </p:grpSpPr>
          <p:sp>
            <p:nvSpPr>
              <p:cNvPr id="1624" name="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R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0" y="894600"/>
              <a:ext cx="6780960" cy="298080"/>
              <a:chOff x="0" y="894600"/>
              <a:chExt cx="6780960" cy="298080"/>
            </a:xfrm>
          </p:grpSpPr>
          <p:sp>
            <p:nvSpPr>
              <p:cNvPr id="1627" name="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R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0" y="1192680"/>
              <a:ext cx="6780960" cy="298080"/>
              <a:chOff x="0" y="1192680"/>
              <a:chExt cx="6780960" cy="298080"/>
            </a:xfrm>
          </p:grpSpPr>
          <p:sp>
            <p:nvSpPr>
              <p:cNvPr id="1630" name="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2" name=""/>
            <p:cNvGrpSpPr/>
            <p:nvPr/>
          </p:nvGrpSpPr>
          <p:grpSpPr>
            <a:xfrm>
              <a:off x="0" y="1490760"/>
              <a:ext cx="6780960" cy="298080"/>
              <a:chOff x="0" y="1490760"/>
              <a:chExt cx="6780960" cy="298080"/>
            </a:xfrm>
          </p:grpSpPr>
          <p:sp>
            <p:nvSpPr>
              <p:cNvPr id="1633" name="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5" name=""/>
            <p:cNvGrpSpPr/>
            <p:nvPr/>
          </p:nvGrpSpPr>
          <p:grpSpPr>
            <a:xfrm>
              <a:off x="0" y="1788840"/>
              <a:ext cx="6780960" cy="298080"/>
              <a:chOff x="0" y="1788840"/>
              <a:chExt cx="6780960" cy="298080"/>
            </a:xfrm>
          </p:grpSpPr>
          <p:sp>
            <p:nvSpPr>
              <p:cNvPr id="1636" name="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8" name=""/>
            <p:cNvGrpSpPr/>
            <p:nvPr/>
          </p:nvGrpSpPr>
          <p:grpSpPr>
            <a:xfrm>
              <a:off x="0" y="2087280"/>
              <a:ext cx="6780960" cy="298080"/>
              <a:chOff x="0" y="2087280"/>
              <a:chExt cx="6780960" cy="298080"/>
            </a:xfrm>
          </p:grpSpPr>
          <p:sp>
            <p:nvSpPr>
              <p:cNvPr id="1639" name="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1" name=""/>
            <p:cNvGrpSpPr/>
            <p:nvPr/>
          </p:nvGrpSpPr>
          <p:grpSpPr>
            <a:xfrm>
              <a:off x="0" y="2385360"/>
              <a:ext cx="6780960" cy="298080"/>
              <a:chOff x="0" y="2385360"/>
              <a:chExt cx="6780960" cy="298080"/>
            </a:xfrm>
          </p:grpSpPr>
          <p:sp>
            <p:nvSpPr>
              <p:cNvPr id="1642" name="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0" y="2683440"/>
              <a:ext cx="6780960" cy="298080"/>
              <a:chOff x="0" y="2683440"/>
              <a:chExt cx="6780960" cy="298080"/>
            </a:xfrm>
          </p:grpSpPr>
          <p:sp>
            <p:nvSpPr>
              <p:cNvPr id="1645" name="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7" name=""/>
            <p:cNvGrpSpPr/>
            <p:nvPr/>
          </p:nvGrpSpPr>
          <p:grpSpPr>
            <a:xfrm>
              <a:off x="0" y="2981520"/>
              <a:ext cx="6780960" cy="298080"/>
              <a:chOff x="0" y="2981520"/>
              <a:chExt cx="6780960" cy="298080"/>
            </a:xfrm>
          </p:grpSpPr>
          <p:sp>
            <p:nvSpPr>
              <p:cNvPr id="1648" name="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0" name=""/>
            <p:cNvGrpSpPr/>
            <p:nvPr/>
          </p:nvGrpSpPr>
          <p:grpSpPr>
            <a:xfrm>
              <a:off x="0" y="3279960"/>
              <a:ext cx="6780960" cy="298080"/>
              <a:chOff x="0" y="3279960"/>
              <a:chExt cx="6780960" cy="298080"/>
            </a:xfrm>
          </p:grpSpPr>
          <p:sp>
            <p:nvSpPr>
              <p:cNvPr id="1651" name="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0" y="3578040"/>
              <a:ext cx="6780960" cy="298080"/>
              <a:chOff x="0" y="3578040"/>
              <a:chExt cx="6780960" cy="298080"/>
            </a:xfrm>
          </p:grpSpPr>
          <p:sp>
            <p:nvSpPr>
              <p:cNvPr id="1654" name="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6" name=""/>
            <p:cNvGrpSpPr/>
            <p:nvPr/>
          </p:nvGrpSpPr>
          <p:grpSpPr>
            <a:xfrm>
              <a:off x="0" y="3876120"/>
              <a:ext cx="6780960" cy="298080"/>
              <a:chOff x="0" y="3876120"/>
              <a:chExt cx="6780960" cy="298080"/>
            </a:xfrm>
          </p:grpSpPr>
          <p:sp>
            <p:nvSpPr>
              <p:cNvPr id="1657" name="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Heigh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9" name=""/>
            <p:cNvGrpSpPr/>
            <p:nvPr/>
          </p:nvGrpSpPr>
          <p:grpSpPr>
            <a:xfrm>
              <a:off x="0" y="4174200"/>
              <a:ext cx="6780960" cy="298080"/>
              <a:chOff x="0" y="4174200"/>
              <a:chExt cx="6780960" cy="298080"/>
            </a:xfrm>
          </p:grpSpPr>
          <p:sp>
            <p:nvSpPr>
              <p:cNvPr id="1660" name="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2" name=""/>
            <p:cNvGrpSpPr/>
            <p:nvPr/>
          </p:nvGrpSpPr>
          <p:grpSpPr>
            <a:xfrm>
              <a:off x="0" y="4472640"/>
              <a:ext cx="6780960" cy="298080"/>
              <a:chOff x="0" y="4472640"/>
              <a:chExt cx="6780960" cy="298080"/>
            </a:xfrm>
          </p:grpSpPr>
          <p:sp>
            <p:nvSpPr>
              <p:cNvPr id="1663" name="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0" y="4770720"/>
              <a:ext cx="6780960" cy="298080"/>
              <a:chOff x="0" y="4770720"/>
              <a:chExt cx="6780960" cy="298080"/>
            </a:xfrm>
          </p:grpSpPr>
          <p:sp>
            <p:nvSpPr>
              <p:cNvPr id="1666" name="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hape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cout &lt;&lt; "Cylinder: "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0" y="5068800"/>
              <a:ext cx="6780960" cy="298080"/>
              <a:chOff x="0" y="5068800"/>
              <a:chExt cx="6780960" cy="298080"/>
            </a:xfrm>
          </p:grpSpPr>
          <p:sp>
            <p:nvSpPr>
              <p:cNvPr id="1669" name="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1" name=""/>
            <p:cNvGrpSpPr/>
            <p:nvPr/>
          </p:nvGrpSpPr>
          <p:grpSpPr>
            <a:xfrm>
              <a:off x="0" y="5367240"/>
              <a:ext cx="6780960" cy="298080"/>
              <a:chOff x="0" y="5367240"/>
              <a:chExt cx="6780960" cy="298080"/>
            </a:xfrm>
          </p:grpSpPr>
          <p:sp>
            <p:nvSpPr>
              <p:cNvPr id="1672" name="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4" name=""/>
            <p:cNvGrpSpPr/>
            <p:nvPr/>
          </p:nvGrpSpPr>
          <p:grpSpPr>
            <a:xfrm>
              <a:off x="0" y="5665320"/>
              <a:ext cx="6780960" cy="298080"/>
              <a:chOff x="0" y="5665320"/>
              <a:chExt cx="6780960" cy="298080"/>
            </a:xfrm>
          </p:grpSpPr>
          <p:sp>
            <p:nvSpPr>
              <p:cNvPr id="1675" name="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7" name=""/>
            <p:cNvGrpSpPr/>
            <p:nvPr/>
          </p:nvGrpSpPr>
          <p:grpSpPr>
            <a:xfrm>
              <a:off x="0" y="5963400"/>
              <a:ext cx="6780960" cy="298080"/>
              <a:chOff x="0" y="5963400"/>
              <a:chExt cx="6780960" cy="298080"/>
            </a:xfrm>
          </p:grpSpPr>
          <p:sp>
            <p:nvSpPr>
              <p:cNvPr id="1678" name="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0" y="6261840"/>
              <a:ext cx="6780960" cy="298080"/>
              <a:chOff x="0" y="6261840"/>
              <a:chExt cx="6780960" cy="298080"/>
            </a:xfrm>
          </p:grpSpPr>
          <p:sp>
            <p:nvSpPr>
              <p:cNvPr id="1681" name="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"/>
            <p:cNvGrpSpPr/>
            <p:nvPr/>
          </p:nvGrpSpPr>
          <p:grpSpPr>
            <a:xfrm>
              <a:off x="0" y="6559920"/>
              <a:ext cx="6780960" cy="298080"/>
              <a:chOff x="0" y="6559920"/>
              <a:chExt cx="6780960" cy="298080"/>
            </a:xfrm>
          </p:grpSpPr>
          <p:sp>
            <p:nvSpPr>
              <p:cNvPr id="1684" name="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6" name=""/>
          <p:cNvGrpSpPr/>
          <p:nvPr/>
        </p:nvGrpSpPr>
        <p:grpSpPr>
          <a:xfrm>
            <a:off x="3504960" y="1600200"/>
            <a:ext cx="3504960" cy="824040"/>
            <a:chOff x="3504960" y="1600200"/>
            <a:chExt cx="3504960" cy="824040"/>
          </a:xfrm>
        </p:grpSpPr>
        <p:sp>
          <p:nvSpPr>
            <p:cNvPr id="1687" name=""/>
            <p:cNvSpPr/>
            <p:nvPr/>
          </p:nvSpPr>
          <p:spPr>
            <a:xfrm>
              <a:off x="5257440" y="1600200"/>
              <a:ext cx="1752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ylind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herits from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3504960" y="1905120"/>
              <a:ext cx="175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60559-E9C8-4849-AE61-D5E06CF3A7F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9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691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69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cylindr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69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and friend function definitions for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69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70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70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6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70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71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ylindr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71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5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71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ylinder::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71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Circle( r, x, y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72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Height( h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72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72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0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73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height = h &gt; 0 ? h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73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6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73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getHeight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9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74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2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74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5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74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74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urface area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75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2 * Circle::area()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75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2 * 3.14159 * getRadius() *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7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75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0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76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3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76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76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area() *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77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2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77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5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77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8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77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::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1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78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; Height = " &lt;&lt;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4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78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634C7-1EFB-4C54-BF59-B47169C7F4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78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789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79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2: fig10_0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2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79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for shape, point, circle, cylinder hierarch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796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799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1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802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805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7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808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811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814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817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820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823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826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829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shap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1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832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4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835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7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838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ylindr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0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841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844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847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850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853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856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859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862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precision(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4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865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7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868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 point( 7, 11 );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0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871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 circle( 3.5, 22, 8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3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874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 cylinder( 10, 3.3, 10, 1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a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6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877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9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880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.printShapeName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640F5-C0AC-4DBD-A5D6-370B14F0EB5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8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884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885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.print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7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888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0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891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3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894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.printShapeName(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6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897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.print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9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900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2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903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5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906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.printShapeName(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909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.print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bin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912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4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915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918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hape *arrayOfShapes[ 3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rray of base-class point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921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924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aim arrayOfShapes[0] at derived-class Point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927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rrayOfShapes[ 0 ] = &amp;poi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9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930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2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933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aim arrayOfShapes[1] at derived-class Circle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5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936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rrayOfShapes[ 1 ] = &amp;circl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8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939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1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942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aim arrayOfShapes[2] at derived-class Cylinder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4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945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rrayOfShapes[ 2 ] = &amp;cylind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7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948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0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951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Loop through arrayOfShapes and call virtualVia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3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954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o print the shape name, attributes, area, and volu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6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957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of each object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9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960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Virtual function calls made of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2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963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base-class pointers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5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966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8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969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3; i++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1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972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virtualViaPointer( arrayOfShapes[ i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4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975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7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1978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Loop through arrayOfShapes and call virtualVia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0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1981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o print the shape name, attributes, area, and volu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3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1984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of each object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6" name=""/>
          <p:cNvSpPr/>
          <p:nvPr/>
        </p:nvSpPr>
        <p:spPr>
          <a:xfrm>
            <a:off x="2296800" y="228600"/>
            <a:ext cx="14608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1523520" y="228600"/>
            <a:ext cx="3886560" cy="946800"/>
            <a:chOff x="1523520" y="228600"/>
            <a:chExt cx="3886560" cy="946800"/>
          </a:xfrm>
        </p:grpSpPr>
        <p:sp>
          <p:nvSpPr>
            <p:cNvPr id="1988" name=""/>
            <p:cNvSpPr/>
            <p:nvPr/>
          </p:nvSpPr>
          <p:spPr>
            <a:xfrm>
              <a:off x="2819520" y="838080"/>
              <a:ext cx="25905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 using the object itsel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 flipV="1">
              <a:off x="1523520" y="228600"/>
              <a:ext cx="1295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3308400" y="838080"/>
            <a:ext cx="29239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2403360" y="1752480"/>
            <a:ext cx="46612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2437920" y="2514600"/>
            <a:ext cx="4725000" cy="2102400"/>
            <a:chOff x="2437920" y="2514600"/>
            <a:chExt cx="4725000" cy="2102400"/>
          </a:xfrm>
        </p:grpSpPr>
        <p:sp>
          <p:nvSpPr>
            <p:cNvPr id="1993" name=""/>
            <p:cNvSpPr/>
            <p:nvPr/>
          </p:nvSpPr>
          <p:spPr>
            <a:xfrm>
              <a:off x="4572000" y="2819520"/>
              <a:ext cx="259092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an array of base class pointers.  Assign these to the objects, then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functions again, using the base class pointers.  The appropri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unctions will be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 flipV="1">
              <a:off x="2437920" y="2514600"/>
              <a:ext cx="21337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4724280" y="5562720"/>
            <a:ext cx="4191120" cy="1014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342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896280" y="4516560"/>
            <a:ext cx="4844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rtual function calls made off base-class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800600" y="5029200"/>
            <a:ext cx="20574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257800" y="5257800"/>
            <a:ext cx="304812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6859D-18FB-4867-8724-4C73A29A74F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00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001" name=""/>
            <p:cNvGrpSpPr/>
            <p:nvPr/>
          </p:nvGrpSpPr>
          <p:grpSpPr>
            <a:xfrm>
              <a:off x="0" y="0"/>
              <a:ext cx="6780960" cy="244800"/>
              <a:chOff x="0" y="0"/>
              <a:chExt cx="6780960" cy="244800"/>
            </a:xfrm>
          </p:grpSpPr>
          <p:sp>
            <p:nvSpPr>
              <p:cNvPr id="2002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Virtual function calls made of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4" name=""/>
            <p:cNvGrpSpPr/>
            <p:nvPr/>
          </p:nvGrpSpPr>
          <p:grpSpPr>
            <a:xfrm>
              <a:off x="0" y="244800"/>
              <a:ext cx="6780960" cy="244800"/>
              <a:chOff x="0" y="244800"/>
              <a:chExt cx="6780960" cy="244800"/>
            </a:xfrm>
          </p:grpSpPr>
          <p:sp>
            <p:nvSpPr>
              <p:cNvPr id="2005" name="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base-class references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7" name=""/>
            <p:cNvGrpSpPr/>
            <p:nvPr/>
          </p:nvGrpSpPr>
          <p:grpSpPr>
            <a:xfrm>
              <a:off x="0" y="489600"/>
              <a:ext cx="6780960" cy="244800"/>
              <a:chOff x="0" y="489600"/>
              <a:chExt cx="6780960" cy="244800"/>
            </a:xfrm>
          </p:grpSpPr>
          <p:sp>
            <p:nvSpPr>
              <p:cNvPr id="2008" name="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0" y="734760"/>
              <a:ext cx="6780960" cy="244800"/>
              <a:chOff x="0" y="734760"/>
              <a:chExt cx="6780960" cy="244800"/>
            </a:xfrm>
          </p:grpSpPr>
          <p:sp>
            <p:nvSpPr>
              <p:cNvPr id="2011" name="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3; j++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3" name=""/>
            <p:cNvGrpSpPr/>
            <p:nvPr/>
          </p:nvGrpSpPr>
          <p:grpSpPr>
            <a:xfrm>
              <a:off x="0" y="979560"/>
              <a:ext cx="6780960" cy="244800"/>
              <a:chOff x="0" y="979560"/>
              <a:chExt cx="6780960" cy="244800"/>
            </a:xfrm>
          </p:grpSpPr>
          <p:sp>
            <p:nvSpPr>
              <p:cNvPr id="2014" name="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virtualViaReference( *arrayOfShapes[ j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6" name=""/>
            <p:cNvGrpSpPr/>
            <p:nvPr/>
          </p:nvGrpSpPr>
          <p:grpSpPr>
            <a:xfrm>
              <a:off x="0" y="1224360"/>
              <a:ext cx="6780960" cy="244800"/>
              <a:chOff x="0" y="1224360"/>
              <a:chExt cx="6780960" cy="244800"/>
            </a:xfrm>
          </p:grpSpPr>
          <p:sp>
            <p:nvSpPr>
              <p:cNvPr id="2017" name="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9" name=""/>
            <p:cNvGrpSpPr/>
            <p:nvPr/>
          </p:nvGrpSpPr>
          <p:grpSpPr>
            <a:xfrm>
              <a:off x="0" y="1469520"/>
              <a:ext cx="6780960" cy="244800"/>
              <a:chOff x="0" y="1469520"/>
              <a:chExt cx="6780960" cy="244800"/>
            </a:xfrm>
          </p:grpSpPr>
          <p:sp>
            <p:nvSpPr>
              <p:cNvPr id="2020" name="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2" name=""/>
            <p:cNvGrpSpPr/>
            <p:nvPr/>
          </p:nvGrpSpPr>
          <p:grpSpPr>
            <a:xfrm>
              <a:off x="0" y="1714320"/>
              <a:ext cx="6780960" cy="244800"/>
              <a:chOff x="0" y="1714320"/>
              <a:chExt cx="6780960" cy="244800"/>
            </a:xfrm>
          </p:grpSpPr>
          <p:sp>
            <p:nvSpPr>
              <p:cNvPr id="2023" name="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5" name=""/>
            <p:cNvGrpSpPr/>
            <p:nvPr/>
          </p:nvGrpSpPr>
          <p:grpSpPr>
            <a:xfrm>
              <a:off x="0" y="1959480"/>
              <a:ext cx="6780960" cy="244800"/>
              <a:chOff x="0" y="1959480"/>
              <a:chExt cx="6780960" cy="244800"/>
            </a:xfrm>
          </p:grpSpPr>
          <p:sp>
            <p:nvSpPr>
              <p:cNvPr id="2026" name="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8" name=""/>
            <p:cNvGrpSpPr/>
            <p:nvPr/>
          </p:nvGrpSpPr>
          <p:grpSpPr>
            <a:xfrm>
              <a:off x="0" y="2204280"/>
              <a:ext cx="6780960" cy="244800"/>
              <a:chOff x="0" y="2204280"/>
              <a:chExt cx="6780960" cy="244800"/>
            </a:xfrm>
          </p:grpSpPr>
          <p:sp>
            <p:nvSpPr>
              <p:cNvPr id="2029" name="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ake virtual function calls off a base-class 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1" name=""/>
            <p:cNvGrpSpPr/>
            <p:nvPr/>
          </p:nvGrpSpPr>
          <p:grpSpPr>
            <a:xfrm>
              <a:off x="0" y="2449080"/>
              <a:ext cx="6780960" cy="244800"/>
              <a:chOff x="0" y="2449080"/>
              <a:chExt cx="6780960" cy="244800"/>
            </a:xfrm>
          </p:grpSpPr>
          <p:sp>
            <p:nvSpPr>
              <p:cNvPr id="2032" name="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0" y="2694240"/>
              <a:ext cx="6780960" cy="244800"/>
              <a:chOff x="0" y="2694240"/>
              <a:chExt cx="6780960" cy="244800"/>
            </a:xfrm>
          </p:grpSpPr>
          <p:sp>
            <p:nvSpPr>
              <p:cNvPr id="2035" name="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Point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 *baseClass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0" y="2939040"/>
              <a:ext cx="6780960" cy="244800"/>
              <a:chOff x="0" y="2939040"/>
              <a:chExt cx="6780960" cy="244800"/>
            </a:xfrm>
          </p:grpSpPr>
          <p:sp>
            <p:nvSpPr>
              <p:cNvPr id="2038" name="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0" y="3183840"/>
              <a:ext cx="6780960" cy="244800"/>
              <a:chOff x="0" y="3183840"/>
              <a:chExt cx="6780960" cy="244800"/>
            </a:xfrm>
          </p:grpSpPr>
          <p:sp>
            <p:nvSpPr>
              <p:cNvPr id="2041" name="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ClassPtr-&gt;printShapeNam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0" y="3429000"/>
              <a:ext cx="6780960" cy="244800"/>
              <a:chOff x="0" y="3429000"/>
              <a:chExt cx="6780960" cy="244800"/>
            </a:xfrm>
          </p:grpSpPr>
          <p:sp>
            <p:nvSpPr>
              <p:cNvPr id="2044" name="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ClassPtr-&gt;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0" y="3673800"/>
              <a:ext cx="6780960" cy="244800"/>
              <a:chOff x="0" y="3673800"/>
              <a:chExt cx="6780960" cy="244800"/>
            </a:xfrm>
          </p:grpSpPr>
          <p:sp>
            <p:nvSpPr>
              <p:cNvPr id="2047" name="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Area = " &lt;&lt; baseClassPtr-&gt;are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9" name=""/>
            <p:cNvGrpSpPr/>
            <p:nvPr/>
          </p:nvGrpSpPr>
          <p:grpSpPr>
            <a:xfrm>
              <a:off x="0" y="3918960"/>
              <a:ext cx="6780960" cy="244800"/>
              <a:chOff x="0" y="3918960"/>
              <a:chExt cx="6780960" cy="244800"/>
            </a:xfrm>
          </p:grpSpPr>
          <p:sp>
            <p:nvSpPr>
              <p:cNvPr id="2050" name="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Volume = " &lt;&lt; baseClassPtr-&gt;volume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2" name=""/>
            <p:cNvGrpSpPr/>
            <p:nvPr/>
          </p:nvGrpSpPr>
          <p:grpSpPr>
            <a:xfrm>
              <a:off x="0" y="4163760"/>
              <a:ext cx="6780960" cy="244800"/>
              <a:chOff x="0" y="4163760"/>
              <a:chExt cx="6780960" cy="244800"/>
            </a:xfrm>
          </p:grpSpPr>
          <p:sp>
            <p:nvSpPr>
              <p:cNvPr id="2053" name="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5" name=""/>
            <p:cNvGrpSpPr/>
            <p:nvPr/>
          </p:nvGrpSpPr>
          <p:grpSpPr>
            <a:xfrm>
              <a:off x="0" y="4408560"/>
              <a:ext cx="6780960" cy="244800"/>
              <a:chOff x="0" y="4408560"/>
              <a:chExt cx="6780960" cy="244800"/>
            </a:xfrm>
          </p:grpSpPr>
          <p:sp>
            <p:nvSpPr>
              <p:cNvPr id="2056" name="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8" name=""/>
            <p:cNvGrpSpPr/>
            <p:nvPr/>
          </p:nvGrpSpPr>
          <p:grpSpPr>
            <a:xfrm>
              <a:off x="0" y="4653360"/>
              <a:ext cx="6780960" cy="244800"/>
              <a:chOff x="0" y="4653360"/>
              <a:chExt cx="6780960" cy="244800"/>
            </a:xfrm>
          </p:grpSpPr>
          <p:sp>
            <p:nvSpPr>
              <p:cNvPr id="2059" name="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ake virtual function calls off a base-class 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1" name=""/>
            <p:cNvGrpSpPr/>
            <p:nvPr/>
          </p:nvGrpSpPr>
          <p:grpSpPr>
            <a:xfrm>
              <a:off x="0" y="4898520"/>
              <a:ext cx="6780960" cy="244800"/>
              <a:chOff x="0" y="4898520"/>
              <a:chExt cx="6780960" cy="244800"/>
            </a:xfrm>
          </p:grpSpPr>
          <p:sp>
            <p:nvSpPr>
              <p:cNvPr id="2062" name="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dynamic binding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4" name=""/>
            <p:cNvGrpSpPr/>
            <p:nvPr/>
          </p:nvGrpSpPr>
          <p:grpSpPr>
            <a:xfrm>
              <a:off x="0" y="5143320"/>
              <a:ext cx="6780960" cy="244800"/>
              <a:chOff x="0" y="5143320"/>
              <a:chExt cx="6780960" cy="244800"/>
            </a:xfrm>
          </p:grpSpPr>
          <p:sp>
            <p:nvSpPr>
              <p:cNvPr id="2065" name="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irtualVia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ape &amp;baseClassRe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7" name=""/>
            <p:cNvGrpSpPr/>
            <p:nvPr/>
          </p:nvGrpSpPr>
          <p:grpSpPr>
            <a:xfrm>
              <a:off x="0" y="5388480"/>
              <a:ext cx="6780960" cy="244800"/>
              <a:chOff x="0" y="5388480"/>
              <a:chExt cx="6780960" cy="244800"/>
            </a:xfrm>
          </p:grpSpPr>
          <p:sp>
            <p:nvSpPr>
              <p:cNvPr id="2068" name="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0" name=""/>
            <p:cNvGrpSpPr/>
            <p:nvPr/>
          </p:nvGrpSpPr>
          <p:grpSpPr>
            <a:xfrm>
              <a:off x="0" y="5633280"/>
              <a:ext cx="6780960" cy="244800"/>
              <a:chOff x="0" y="5633280"/>
              <a:chExt cx="6780960" cy="244800"/>
            </a:xfrm>
          </p:grpSpPr>
          <p:sp>
            <p:nvSpPr>
              <p:cNvPr id="2071" name="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ClassRef.printShapeNam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3" name=""/>
            <p:cNvGrpSpPr/>
            <p:nvPr/>
          </p:nvGrpSpPr>
          <p:grpSpPr>
            <a:xfrm>
              <a:off x="0" y="5878440"/>
              <a:ext cx="6780960" cy="244800"/>
              <a:chOff x="0" y="5878440"/>
              <a:chExt cx="6780960" cy="244800"/>
            </a:xfrm>
          </p:grpSpPr>
          <p:sp>
            <p:nvSpPr>
              <p:cNvPr id="2074" name="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ClassRef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0" y="6123240"/>
              <a:ext cx="6780960" cy="244800"/>
              <a:chOff x="0" y="6123240"/>
              <a:chExt cx="6780960" cy="244800"/>
            </a:xfrm>
          </p:grpSpPr>
          <p:sp>
            <p:nvSpPr>
              <p:cNvPr id="2077" name="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Area = " &lt;&lt; baseClassRef.are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0" y="6368040"/>
              <a:ext cx="6780960" cy="244800"/>
              <a:chOff x="0" y="6368040"/>
              <a:chExt cx="6780960" cy="244800"/>
            </a:xfrm>
          </p:grpSpPr>
          <p:sp>
            <p:nvSpPr>
              <p:cNvPr id="2080" name="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Volume = " &lt;&lt; baseClassRef.volume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0" y="6612840"/>
              <a:ext cx="6780960" cy="244800"/>
              <a:chOff x="0" y="6612840"/>
              <a:chExt cx="6780960" cy="244800"/>
            </a:xfrm>
          </p:grpSpPr>
          <p:sp>
            <p:nvSpPr>
              <p:cNvPr id="2083" name="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5" name=""/>
          <p:cNvGrpSpPr/>
          <p:nvPr/>
        </p:nvGrpSpPr>
        <p:grpSpPr>
          <a:xfrm>
            <a:off x="4038480" y="1294920"/>
            <a:ext cx="3886200" cy="657360"/>
            <a:chOff x="4038480" y="1294920"/>
            <a:chExt cx="3886200" cy="657360"/>
          </a:xfrm>
        </p:grpSpPr>
        <p:sp>
          <p:nvSpPr>
            <p:cNvPr id="2086" name=""/>
            <p:cNvSpPr/>
            <p:nvPr/>
          </p:nvSpPr>
          <p:spPr>
            <a:xfrm>
              <a:off x="5029200" y="137160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eat process using base-class referenc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H="1" flipV="1">
              <a:off x="4038480" y="1294920"/>
              <a:ext cx="990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8" name=""/>
          <p:cNvSpPr/>
          <p:nvPr/>
        </p:nvSpPr>
        <p:spPr>
          <a:xfrm>
            <a:off x="3200400" y="1603440"/>
            <a:ext cx="4572000" cy="3142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rtual function calls made off base-class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342.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C423B-D80C-4E2B-BCCF-C98BFFB5527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90" name=""/>
          <p:cNvSpPr/>
          <p:nvPr/>
        </p:nvSpPr>
        <p:spPr>
          <a:xfrm>
            <a:off x="0" y="0"/>
            <a:ext cx="6781680" cy="4291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rtual function calls made off base-class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342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rtual function calls made off base-class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: [7, 1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: [22, 8]; Radius = 3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38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: [10, 10]; Radius = 3.30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275.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lume = 342.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FAB1-7A1E-432F-B382-87F4681927F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0 Polymorphism,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virtua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Functions and Dynamic Binding “Under the Hood”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o use 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lymorphism requires a lot of overh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lymorphism is not used in STL (Standard Template Library) to optimiz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table (vt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class with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has a vt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, its vtable has a pointer to the prop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derived class has the same function as a base class, then the function pointer points to the base-class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ailed explanation in Fig. 10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13294-C966-46A0-A246-523FD0B631F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3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virtual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a set of shape classes such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shape has own unique draw function but possible to call them by calling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of base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ha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determines dynamically (i.e., at run time) which to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base-class decl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ri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each of the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clar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fore function prototype in base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void draw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base-class pointer to a derived class object will call the corr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-&gt;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derived class does not defin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, the function is inherited from the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4D02-C562-49C3-9D23-E9D65184B0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3 Virtual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Ptr-&gt;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implements dynamic binding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termined during executio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Object.Draw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implements static bin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termined during compile-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2C82-F5C6-43F9-99CF-66CEB2F6ED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4  Abstract and Concret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class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le purpose is to provide a base class for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objects of an abstract base class can be instantiat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 generic to define real objects (i.e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woDimensionalSha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pointers and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rete cla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that can instantiate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specifics to make real objects (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bstract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one or m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s “pure” by initializing the function to z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of a pu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double earnings() cons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8E54-E1CE-444E-8F9E-A867A235C5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5   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ility for objects of different classes to respond differently to the same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ed throug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-class pointer (or reference) call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chooses the correct overridden function i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 defined in multiple classes and called from base-class pointer then the base-class version is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alled from derived-class pointer then derived-class version i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not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mployee e, *ePtr = &amp;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urlyWorker h, *hPtr = &amp;h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Ptr-&gt;print();    // call base-class print fun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Ptr-&gt;print();    // call derived-class print fun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Ptr=&amp;h;          // allowable implicit convers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Ptr-&gt;print();    // still calls base-class pri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6486-E657-4271-BD2F-094D42CB66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  Case Study: A Payroll System Using Polymorphis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example is a payroll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ir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nd polymorphism to perform payroll calculations based on the type of an employ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F4175-F989-419E-B61E-D890F1CEE8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base clas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12" name=""/>
            <p:cNvGrpSpPr/>
            <p:nvPr/>
          </p:nvGrpSpPr>
          <p:grpSpPr>
            <a:xfrm>
              <a:off x="0" y="0"/>
              <a:ext cx="6780960" cy="350280"/>
              <a:chOff x="0" y="0"/>
              <a:chExt cx="6780960" cy="350280"/>
            </a:xfrm>
          </p:grpSpPr>
          <p:sp>
            <p:nvSpPr>
              <p:cNvPr id="113" name="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0.1: employ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0" y="350280"/>
              <a:ext cx="6780960" cy="325080"/>
              <a:chOff x="0" y="350280"/>
              <a:chExt cx="6780960" cy="32508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35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bstract base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0" y="675720"/>
              <a:ext cx="6780960" cy="325440"/>
              <a:chOff x="0" y="675720"/>
              <a:chExt cx="6780960" cy="32544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67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67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0" y="1001160"/>
              <a:ext cx="6780960" cy="325080"/>
              <a:chOff x="0" y="1001160"/>
              <a:chExt cx="6780960" cy="3250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100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100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0" y="1326600"/>
              <a:ext cx="6780960" cy="325080"/>
              <a:chOff x="0" y="1326600"/>
              <a:chExt cx="6780960" cy="32508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132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32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0" y="1652040"/>
              <a:ext cx="6780960" cy="325080"/>
              <a:chOff x="0" y="1652040"/>
              <a:chExt cx="6780960" cy="325080"/>
            </a:xfrm>
          </p:grpSpPr>
          <p:sp>
            <p:nvSpPr>
              <p:cNvPr id="128" name=""/>
              <p:cNvSpPr/>
              <p:nvPr/>
            </p:nvSpPr>
            <p:spPr>
              <a:xfrm>
                <a:off x="0" y="16520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6520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0" y="1977120"/>
              <a:ext cx="6780960" cy="325440"/>
              <a:chOff x="0" y="1977120"/>
              <a:chExt cx="6780960" cy="32544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197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97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0" y="2302920"/>
              <a:ext cx="6780960" cy="325080"/>
              <a:chOff x="0" y="2302920"/>
              <a:chExt cx="6780960" cy="325080"/>
            </a:xfrm>
          </p:grpSpPr>
          <p:sp>
            <p:nvSpPr>
              <p:cNvPr id="134" name=""/>
              <p:cNvSpPr/>
              <p:nvPr/>
            </p:nvSpPr>
            <p:spPr>
              <a:xfrm>
                <a:off x="0" y="230292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230292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0" y="2628000"/>
              <a:ext cx="6780960" cy="325080"/>
              <a:chOff x="0" y="2628000"/>
              <a:chExt cx="6780960" cy="32508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26280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6280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Employee();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// destructor reclaims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0" y="2953440"/>
              <a:ext cx="6780960" cy="325080"/>
              <a:chOff x="0" y="2953440"/>
              <a:chExt cx="6780960" cy="325080"/>
            </a:xfrm>
          </p:grpSpPr>
          <p:sp>
            <p:nvSpPr>
              <p:cNvPr id="140" name=""/>
              <p:cNvSpPr/>
              <p:nvPr/>
            </p:nvSpPr>
            <p:spPr>
              <a:xfrm>
                <a:off x="0" y="29534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9534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0" y="3278880"/>
              <a:ext cx="6780960" cy="325080"/>
              <a:chOff x="0" y="3278880"/>
              <a:chExt cx="6780960" cy="32508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32788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32788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3603960"/>
              <a:ext cx="6780960" cy="325440"/>
              <a:chOff x="0" y="3603960"/>
              <a:chExt cx="6780960" cy="325440"/>
            </a:xfrm>
          </p:grpSpPr>
          <p:sp>
            <p:nvSpPr>
              <p:cNvPr id="146" name=""/>
              <p:cNvSpPr/>
              <p:nvPr/>
            </p:nvSpPr>
            <p:spPr>
              <a:xfrm>
                <a:off x="0" y="360396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360396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0" y="3929760"/>
              <a:ext cx="6780960" cy="325080"/>
              <a:chOff x="0" y="3929760"/>
              <a:chExt cx="6780960" cy="3250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39297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9297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ure virtual function makes Employee abstract bas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4254840"/>
              <a:ext cx="6780960" cy="325080"/>
              <a:chOff x="0" y="4254840"/>
              <a:chExt cx="6780960" cy="32508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42548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425484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arning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ure virt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4580280"/>
              <a:ext cx="6780960" cy="325080"/>
              <a:chOff x="0" y="4580280"/>
              <a:chExt cx="6780960" cy="32508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458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45802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irtual 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virt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4905720"/>
              <a:ext cx="6780960" cy="325440"/>
              <a:chOff x="0" y="4905720"/>
              <a:chExt cx="6780960" cy="32544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490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49057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0" y="5231160"/>
              <a:ext cx="6780960" cy="325080"/>
              <a:chOff x="0" y="5231160"/>
              <a:chExt cx="6780960" cy="325080"/>
            </a:xfrm>
          </p:grpSpPr>
          <p:sp>
            <p:nvSpPr>
              <p:cNvPr id="161" name=""/>
              <p:cNvSpPr/>
              <p:nvPr/>
            </p:nvSpPr>
            <p:spPr>
              <a:xfrm>
                <a:off x="0" y="523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2311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0" y="5556600"/>
              <a:ext cx="6780960" cy="325080"/>
              <a:chOff x="0" y="5556600"/>
              <a:chExt cx="6780960" cy="325080"/>
            </a:xfrm>
          </p:grpSpPr>
          <p:sp>
            <p:nvSpPr>
              <p:cNvPr id="164" name=""/>
              <p:cNvSpPr/>
              <p:nvPr/>
            </p:nvSpPr>
            <p:spPr>
              <a:xfrm>
                <a:off x="0" y="555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5660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0" y="5881680"/>
              <a:ext cx="6780960" cy="325080"/>
              <a:chOff x="0" y="5881680"/>
              <a:chExt cx="6780960" cy="32508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58816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88168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6207120"/>
              <a:ext cx="6780960" cy="325440"/>
              <a:chOff x="0" y="6207120"/>
              <a:chExt cx="6780960" cy="32544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620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6207120"/>
                <a:ext cx="6780960" cy="325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6532560"/>
              <a:ext cx="6780960" cy="325080"/>
              <a:chOff x="0" y="6532560"/>
              <a:chExt cx="6780960" cy="32508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65325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6532560"/>
                <a:ext cx="6780960" cy="325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" name=""/>
          <p:cNvSpPr/>
          <p:nvPr/>
        </p:nvSpPr>
        <p:spPr>
          <a:xfrm>
            <a:off x="6553080" y="350532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114800" y="3200400"/>
            <a:ext cx="4343040" cy="2411280"/>
            <a:chOff x="4114800" y="3200400"/>
            <a:chExt cx="4343040" cy="2411280"/>
          </a:xfrm>
        </p:grpSpPr>
        <p:sp>
          <p:nvSpPr>
            <p:cNvPr id="177" name=""/>
            <p:cNvSpPr/>
            <p:nvPr/>
          </p:nvSpPr>
          <p:spPr>
            <a:xfrm flipH="1">
              <a:off x="4114800" y="4267080"/>
              <a:ext cx="24321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60200" y="3200400"/>
              <a:ext cx="1997640" cy="2411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arn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declared pu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irtu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ecause the implementation will depend on which derived class it will be used 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n abstract base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C2A9B-C1C2-4D97-AB66-14B9479FA3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20:58:22Z</dcterms:created>
  <dc:creator>aftab bukhari</dc:creator>
  <dc:description/>
  <dc:language>en-US</dc:language>
  <cp:lastModifiedBy>Antonella Esposito</cp:lastModifiedBy>
  <dcterms:modified xsi:type="dcterms:W3CDTF">2001-01-12T10:45:34Z</dcterms:modified>
  <cp:revision>307</cp:revision>
  <dc:subject/>
  <dc:title>PowerPoint Presentation</dc:title>
</cp:coreProperties>
</file>