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D0BE-BF12-480A-AF73-1AD74674B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1879-EE08-4170-A414-4EB8FC174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47BB-798E-4853-A4A1-3EE97FA65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813C-ED49-4D34-82E3-94C1BDB53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FB59-7C50-4E66-A4BB-242D1C9533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8820-982F-4A3F-974B-1EA0EDE10A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5A03-7BD5-407D-9142-3B19414B40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9728-9BE6-409B-B67F-19BF4949FC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F68D-DB75-455D-B326-019FD457B7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FB46-D1A7-464D-9623-BEB0BE5B0C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45BB-D7A6-423C-BC6F-CBC41A451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05FF-C199-4681-9DDD-F12248EF0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8B9D-C7EE-4DFE-8A22-E6FB141587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2AA2-1AEB-4CA8-8CAF-9AC48873D4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ABD1-BC71-4346-A405-01BBBAC04E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2E8C-74D2-4160-BCFD-7C31A926ED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78AE-3879-4CB2-9D80-0CC5A2C931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DA17-F723-48F7-A28A-2326FB221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3A5F-79B2-475F-B673-08B3A98ED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9DC6-0BA2-4BE6-85B4-33F89A4BB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0B28-2565-4D92-A560-0FA79C7F1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639D-115A-48B7-BE2C-FBE8E02D2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EBA2-496A-4FED-9E4B-6DA46083B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E976-4DDD-4B65-B6F8-7D0425F68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EB3A-C136-47F3-A54D-0C7B1F88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9E2F-DB2D-49BD-B58B-8ADCD091D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3 - Functions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 with Empty Parameter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F502-DA2C-435D-99AA-E988EC48D6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6780960" cy="5257440"/>
            <a:chOff x="0" y="0"/>
            <a:chExt cx="6780960" cy="5257440"/>
          </a:xfrm>
        </p:grpSpPr>
        <p:grpSp>
          <p:nvGrpSpPr>
            <p:cNvPr id="107" name=""/>
            <p:cNvGrpSpPr/>
            <p:nvPr/>
          </p:nvGrpSpPr>
          <p:grpSpPr>
            <a:xfrm>
              <a:off x="0" y="0"/>
              <a:ext cx="6780960" cy="245160"/>
              <a:chOff x="0" y="0"/>
              <a:chExt cx="6780960" cy="24516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0"/>
                <a:ext cx="678096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0"/>
                <a:ext cx="678096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3: fig03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0" y="245160"/>
              <a:ext cx="6780960" cy="227520"/>
              <a:chOff x="0" y="245160"/>
              <a:chExt cx="6780960" cy="22752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245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45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ing and using a programmer-defined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0" y="473040"/>
              <a:ext cx="6780960" cy="227880"/>
              <a:chOff x="0" y="473040"/>
              <a:chExt cx="6780960" cy="22788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4730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730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700920"/>
              <a:ext cx="6780960" cy="227520"/>
              <a:chOff x="0" y="700920"/>
              <a:chExt cx="6780960" cy="22752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700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700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928800"/>
              <a:ext cx="6780960" cy="227520"/>
              <a:chOff x="0" y="928800"/>
              <a:chExt cx="6780960" cy="22752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9288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9288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1156680"/>
              <a:ext cx="6780960" cy="227520"/>
              <a:chOff x="0" y="1156680"/>
              <a:chExt cx="6780960" cy="22752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1156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156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1384560"/>
              <a:ext cx="6780960" cy="227880"/>
              <a:chOff x="0" y="1384560"/>
              <a:chExt cx="6780960" cy="2278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13845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3845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612440"/>
              <a:ext cx="6780960" cy="227520"/>
              <a:chOff x="0" y="1612440"/>
              <a:chExt cx="6780960" cy="22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6124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6124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840320"/>
              <a:ext cx="6780960" cy="227520"/>
              <a:chOff x="0" y="1840320"/>
              <a:chExt cx="6780960" cy="22752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8403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8403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2068200"/>
              <a:ext cx="6780960" cy="227520"/>
              <a:chOff x="0" y="2068200"/>
              <a:chExt cx="6780960" cy="22752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20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0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2295720"/>
              <a:ext cx="6780960" cy="227520"/>
              <a:chOff x="0" y="2295720"/>
              <a:chExt cx="6780960" cy="22752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22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2523600"/>
              <a:ext cx="6780960" cy="227880"/>
              <a:chOff x="0" y="2523600"/>
              <a:chExt cx="6780960" cy="22788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25236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25236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x &lt;= 10; x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751480"/>
              <a:ext cx="6780960" cy="227520"/>
              <a:chOff x="0" y="2751480"/>
              <a:chExt cx="6780960" cy="22752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751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751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quare( x ) &lt;&lt; "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979360"/>
              <a:ext cx="6780960" cy="227520"/>
              <a:chOff x="0" y="2979360"/>
              <a:chExt cx="6780960" cy="22752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979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979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3207240"/>
              <a:ext cx="6780960" cy="227520"/>
              <a:chOff x="0" y="3207240"/>
              <a:chExt cx="6780960" cy="2275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3207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3207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3435120"/>
              <a:ext cx="6780960" cy="227880"/>
              <a:chOff x="0" y="3435120"/>
              <a:chExt cx="6780960" cy="2278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3435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3435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663000"/>
              <a:ext cx="6780960" cy="227520"/>
              <a:chOff x="0" y="3663000"/>
              <a:chExt cx="6780960" cy="22752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663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663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890880"/>
              <a:ext cx="6780960" cy="227520"/>
              <a:chOff x="0" y="3890880"/>
              <a:chExt cx="6780960" cy="22752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8908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8908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4118760"/>
              <a:ext cx="6780960" cy="227520"/>
              <a:chOff x="0" y="4118760"/>
              <a:chExt cx="6780960" cy="22752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41187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41187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defini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4346640"/>
              <a:ext cx="6780960" cy="227880"/>
              <a:chOff x="0" y="4346640"/>
              <a:chExt cx="6780960" cy="22788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4346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4346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4574520"/>
              <a:ext cx="6780960" cy="227520"/>
              <a:chOff x="0" y="4574520"/>
              <a:chExt cx="6780960" cy="22752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4574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574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802400"/>
              <a:ext cx="6780960" cy="227520"/>
              <a:chOff x="0" y="4802400"/>
              <a:chExt cx="6780960" cy="22752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8024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8024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*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5029920"/>
              <a:ext cx="6780960" cy="227520"/>
              <a:chOff x="0" y="5029920"/>
              <a:chExt cx="6780960" cy="22752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5029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029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0" y="5715000"/>
            <a:ext cx="67816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4  9  16  25  36  49  64  81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828440" y="1143000"/>
            <a:ext cx="4648680" cy="580680"/>
            <a:chOff x="1828440" y="1143000"/>
            <a:chExt cx="4648680" cy="580680"/>
          </a:xfrm>
        </p:grpSpPr>
        <p:sp>
          <p:nvSpPr>
            <p:cNvPr id="178" name=""/>
            <p:cNvSpPr/>
            <p:nvPr/>
          </p:nvSpPr>
          <p:spPr>
            <a:xfrm>
              <a:off x="3048120" y="11430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parameters and return value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828440" y="1295280"/>
              <a:ext cx="12193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3E76-A3C2-4457-8FCD-345A9A9421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(3 parameter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4: fig03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ing the maximum of three inte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210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b,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hree integer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, b and c below are arguments t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he maximum function c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aximum is: " &lt;&lt; maximum( a, b, c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E0F1-E3DF-4B78-A692-79ADEC64D0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244" name=""/>
            <p:cNvGrpSpPr/>
            <p:nvPr/>
          </p:nvGrpSpPr>
          <p:grpSpPr>
            <a:xfrm>
              <a:off x="0" y="0"/>
              <a:ext cx="6780960" cy="224280"/>
              <a:chOff x="0" y="0"/>
              <a:chExt cx="6780960" cy="22428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224280"/>
              <a:ext cx="6780960" cy="224280"/>
              <a:chOff x="0" y="224280"/>
              <a:chExt cx="6780960" cy="2242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448920"/>
              <a:ext cx="6780960" cy="224640"/>
              <a:chOff x="0" y="448920"/>
              <a:chExt cx="6780960" cy="22464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673560"/>
              <a:ext cx="6780960" cy="224280"/>
              <a:chOff x="0" y="673560"/>
              <a:chExt cx="6780960" cy="22428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898200"/>
              <a:ext cx="6780960" cy="224280"/>
              <a:chOff x="0" y="898200"/>
              <a:chExt cx="6780960" cy="22428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maximum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122840"/>
              <a:ext cx="6780960" cy="224280"/>
              <a:chOff x="0" y="1122840"/>
              <a:chExt cx="6780960" cy="22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x, y and z below are parameters t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347480"/>
              <a:ext cx="6780960" cy="224640"/>
              <a:chOff x="0" y="1347480"/>
              <a:chExt cx="6780960" cy="22464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maximum function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1572120"/>
              <a:ext cx="6780960" cy="224280"/>
              <a:chOff x="0" y="1572120"/>
              <a:chExt cx="6780960" cy="22428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1796760"/>
              <a:ext cx="6780960" cy="224280"/>
              <a:chOff x="0" y="1796760"/>
              <a:chExt cx="6780960" cy="22428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21040"/>
              <a:ext cx="6780960" cy="224280"/>
              <a:chOff x="0" y="2021040"/>
              <a:chExt cx="6780960" cy="22428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 =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245680"/>
              <a:ext cx="6780960" cy="224640"/>
              <a:chOff x="0" y="2245680"/>
              <a:chExt cx="6780960" cy="22464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2470320"/>
              <a:ext cx="6780960" cy="224280"/>
              <a:chOff x="0" y="2470320"/>
              <a:chExt cx="6780960" cy="22428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y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2694960"/>
              <a:ext cx="6780960" cy="224280"/>
              <a:chOff x="0" y="2694960"/>
              <a:chExt cx="6780960" cy="22428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2919600"/>
              <a:ext cx="6780960" cy="224280"/>
              <a:chOff x="0" y="2919600"/>
              <a:chExt cx="6780960" cy="22428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144240"/>
              <a:ext cx="6780960" cy="224640"/>
              <a:chOff x="0" y="3144240"/>
              <a:chExt cx="6780960" cy="22464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z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3368880"/>
              <a:ext cx="6780960" cy="224280"/>
              <a:chOff x="0" y="3368880"/>
              <a:chExt cx="6780960" cy="22428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3593520"/>
              <a:ext cx="6780960" cy="224280"/>
              <a:chOff x="0" y="3593520"/>
              <a:chExt cx="6780960" cy="22428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3818160"/>
              <a:ext cx="6780960" cy="224280"/>
              <a:chOff x="0" y="3818160"/>
              <a:chExt cx="6780960" cy="22428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042440"/>
              <a:ext cx="6780960" cy="224280"/>
              <a:chOff x="0" y="4042440"/>
              <a:chExt cx="6780960" cy="22428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0" y="44956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22 85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1055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92 35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7150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45 19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FA33-F0AC-4E7A-BFD0-A96C0913D4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prot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the function take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information the function passes back to caller (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ifies the function returns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eded if function definition comes after the function call i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ximum( int, int,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in 3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2ACA-DFB7-4110-BCC1-EDF92D8439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function prototypes for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mat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&lt;filena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by the program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name.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ed into program u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"filename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7B21-C4F6-4245-A77F-A49EE7DF91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a pseudorandom number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usually 3276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seudorandom number is a preset sequence of "random"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sequence is generated upon every program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r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mps to a seeded location in a "random"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see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time( 0 ) );   //must include &lt;c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( 0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at which the program was compi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he seed every time the program is compiled, thereby allow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generate random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E1D6-FDBF-47EE-8154-A91825A012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s random number to a certain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number between 0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 number between 0 and the scaling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 % 6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s a 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2EFE-2547-4CC7-A002-7EA4F01A6F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utput random num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0" y="0"/>
            <a:ext cx="6780960" cy="5333760"/>
            <a:chOff x="0" y="0"/>
            <a:chExt cx="6780960" cy="5333760"/>
          </a:xfrm>
        </p:grpSpPr>
        <p:grpSp>
          <p:nvGrpSpPr>
            <p:cNvPr id="314" name=""/>
            <p:cNvGrpSpPr/>
            <p:nvPr/>
          </p:nvGrpSpPr>
          <p:grpSpPr>
            <a:xfrm>
              <a:off x="0" y="0"/>
              <a:ext cx="6780960" cy="222120"/>
              <a:chOff x="0" y="0"/>
              <a:chExt cx="6780960" cy="2221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7: fig03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222120"/>
              <a:ext cx="6780960" cy="222120"/>
              <a:chOff x="0" y="222120"/>
              <a:chExt cx="6780960" cy="22212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2221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2221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ifted, scaled integers produced by 1 + rand() %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444240"/>
              <a:ext cx="6780960" cy="222120"/>
              <a:chOff x="0" y="444240"/>
              <a:chExt cx="6780960" cy="22212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4442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4442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666720"/>
              <a:ext cx="6780960" cy="222120"/>
              <a:chOff x="0" y="666720"/>
              <a:chExt cx="6780960" cy="2221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6667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667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888840"/>
              <a:ext cx="6780960" cy="222120"/>
              <a:chOff x="0" y="888840"/>
              <a:chExt cx="6780960" cy="2221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8888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8888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110960"/>
              <a:ext cx="6780960" cy="222120"/>
              <a:chOff x="0" y="1110960"/>
              <a:chExt cx="6780960" cy="2221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110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110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1333440"/>
              <a:ext cx="6780960" cy="222120"/>
              <a:chOff x="0" y="1333440"/>
              <a:chExt cx="6780960" cy="2221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13334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3334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555560"/>
              <a:ext cx="6780960" cy="222120"/>
              <a:chOff x="0" y="1555560"/>
              <a:chExt cx="6780960" cy="2221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5555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5555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778040"/>
              <a:ext cx="6780960" cy="222120"/>
              <a:chOff x="0" y="1778040"/>
              <a:chExt cx="6780960" cy="2221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7780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7780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2000160"/>
              <a:ext cx="6780960" cy="222120"/>
              <a:chOff x="0" y="2000160"/>
              <a:chExt cx="6780960" cy="22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20001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20001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2222280"/>
              <a:ext cx="6780960" cy="222120"/>
              <a:chOff x="0" y="2222280"/>
              <a:chExt cx="6780960" cy="2221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2222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2222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444760"/>
              <a:ext cx="6780960" cy="222120"/>
              <a:chOff x="0" y="2444760"/>
              <a:chExt cx="6780960" cy="2221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4447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4447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666880"/>
              <a:ext cx="6780960" cy="222120"/>
              <a:chOff x="0" y="2666880"/>
              <a:chExt cx="6780960" cy="2221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6668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6668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2889360"/>
              <a:ext cx="6780960" cy="222120"/>
              <a:chOff x="0" y="2889360"/>
              <a:chExt cx="6780960" cy="2221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28893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8893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111480"/>
              <a:ext cx="6780960" cy="222120"/>
              <a:chOff x="0" y="3111480"/>
              <a:chExt cx="67809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1114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31114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333960"/>
              <a:ext cx="6780960" cy="222120"/>
              <a:chOff x="0" y="3333960"/>
              <a:chExt cx="67809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333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333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; i &lt;= 2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556080"/>
              <a:ext cx="6780960" cy="222120"/>
              <a:chOff x="0" y="3556080"/>
              <a:chExt cx="67809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5560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560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10 ) &lt;&lt; ( 1 + rand() %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778200"/>
              <a:ext cx="6780960" cy="222120"/>
              <a:chOff x="0" y="3778200"/>
              <a:chExt cx="67809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7782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7782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4000680"/>
              <a:ext cx="6780960" cy="222120"/>
              <a:chOff x="0" y="4000680"/>
              <a:chExt cx="67809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40006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40006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222800"/>
              <a:ext cx="6780960" cy="222120"/>
              <a:chOff x="0" y="4222800"/>
              <a:chExt cx="67809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2228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2228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445280"/>
              <a:ext cx="6780960" cy="222120"/>
              <a:chOff x="0" y="4445280"/>
              <a:chExt cx="67809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445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445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667400"/>
              <a:ext cx="6780960" cy="222120"/>
              <a:chOff x="0" y="4667400"/>
              <a:chExt cx="6780960" cy="2221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6674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6674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889520"/>
              <a:ext cx="6780960" cy="222120"/>
              <a:chOff x="0" y="4889520"/>
              <a:chExt cx="6780960" cy="22212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8895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8895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5111640"/>
              <a:ext cx="6780960" cy="222120"/>
              <a:chOff x="0" y="5111640"/>
              <a:chExt cx="6780960" cy="22212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51116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51116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114800" y="2917800"/>
            <a:ext cx="4800600" cy="824040"/>
            <a:chOff x="4114800" y="2917800"/>
            <a:chExt cx="4800600" cy="824040"/>
          </a:xfrm>
        </p:grpSpPr>
        <p:sp>
          <p:nvSpPr>
            <p:cNvPr id="387" name=""/>
            <p:cNvSpPr/>
            <p:nvPr/>
          </p:nvSpPr>
          <p:spPr>
            <a:xfrm>
              <a:off x="4876560" y="2917800"/>
              <a:ext cx="403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and() % 6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This returns a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caling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Add 1 to get a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114800" y="314640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191120" y="4876920"/>
            <a:ext cx="4343400" cy="609480"/>
            <a:chOff x="4191120" y="4876920"/>
            <a:chExt cx="4343400" cy="609480"/>
          </a:xfrm>
        </p:grpSpPr>
        <p:sp>
          <p:nvSpPr>
            <p:cNvPr id="390" name=""/>
            <p:cNvSpPr/>
            <p:nvPr/>
          </p:nvSpPr>
          <p:spPr>
            <a:xfrm>
              <a:off x="5029200" y="487692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ing the program again gives the same "random" dice roll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191120" y="51055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5486400"/>
            <a:ext cx="6781680" cy="100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5         3         5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4         2         5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3         2         2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1         4         6        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0EB3-EC30-4EDC-BA20-4C02ACB8A8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 for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to change random sequ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Define Loop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Generate and output random number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9: fig03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ndomizing die-rolling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se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see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; i &lt;= 1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10 ) &lt;&lt;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D160-8396-4C2A-8D26-C10C62B804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0" y="0"/>
            <a:ext cx="6705720" cy="2271960"/>
            <a:chOff x="0" y="0"/>
            <a:chExt cx="6705720" cy="2271960"/>
          </a:xfrm>
        </p:grpSpPr>
        <p:sp>
          <p:nvSpPr>
            <p:cNvPr id="490" name=""/>
            <p:cNvSpPr/>
            <p:nvPr/>
          </p:nvSpPr>
          <p:spPr>
            <a:xfrm>
              <a:off x="0" y="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     6         5         1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         6         3         1        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76212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4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         2         6         4     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         5         1         4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144792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     6         5         1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         6         3         1        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437920" y="2286000"/>
            <a:ext cx="4039200" cy="1114200"/>
            <a:chOff x="2437920" y="2286000"/>
            <a:chExt cx="4039200" cy="1114200"/>
          </a:xfrm>
        </p:grpSpPr>
        <p:sp>
          <p:nvSpPr>
            <p:cNvPr id="494" name=""/>
            <p:cNvSpPr/>
            <p:nvPr/>
          </p:nvSpPr>
          <p:spPr>
            <a:xfrm>
              <a:off x="4038480" y="28195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die rolls change with the se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2437920" y="228600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751D-FF2E-4E7C-A49E-7167044176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3 - Functions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4A40-F99D-4DC3-BFC9-F7ED0C5FD9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- set of integers with 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start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, incremented by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constan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Status {CONTINUE, WON, LOST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enumeration variable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is constant, its value may not be reas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 enumVar;  // creat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Var = WON;   // set equal to W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Var = 1;     //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1E87-4D1E-4312-9800-8A24E88F5A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Courier New"/>
              </a:rPr>
              <a:t>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constants can have values pre-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um Months { JAN = 1, FEB, MAR, APR, MAY, JUN, JUL, AUG, SEP, OCT, NOV, DEC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crements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ps simulato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or 11 on first throw, player w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 3, or 12 on first throw, player l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, 5, 6, 8, 9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5DE5-0B30-4A9A-AD47-5A41B1DFE9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Se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statement for win/loss/contin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02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0: fig03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a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tim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ti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tus { CONTINUE, WON, LOST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um, my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us gameStat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rollDice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roll of the d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7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1: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win on first ro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W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2: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ose on first ro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LOS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4038480" y="3276720"/>
            <a:ext cx="2590920" cy="580680"/>
            <a:chOff x="4038480" y="3276720"/>
            <a:chExt cx="2590920" cy="580680"/>
          </a:xfrm>
        </p:grpSpPr>
        <p:sp>
          <p:nvSpPr>
            <p:cNvPr id="608" name=""/>
            <p:cNvSpPr/>
            <p:nvPr/>
          </p:nvSpPr>
          <p:spPr>
            <a:xfrm>
              <a:off x="5029200" y="32767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0384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FBEE-F0E8-4446-A200-EA57D648F7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 to continue play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n/lo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612" name="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membe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CONTIN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yPoint = 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"Point is " &lt;&lt; myPoi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ptional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CONTINUE ) {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keep rol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= rollDic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myPoint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n by making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W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7 )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ose by rolling 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gameStatus = LOS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WO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Player win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Player lose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62B6-E57D-4582-AAB8-90B9F470F0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fun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0" y="2341440"/>
            <a:ext cx="6705720" cy="4517640"/>
            <a:chOff x="0" y="2341440"/>
            <a:chExt cx="6705720" cy="4517640"/>
          </a:xfrm>
        </p:grpSpPr>
        <p:sp>
          <p:nvSpPr>
            <p:cNvPr id="689" name=""/>
            <p:cNvSpPr/>
            <p:nvPr/>
          </p:nvSpPr>
          <p:spPr>
            <a:xfrm>
              <a:off x="0" y="2341440"/>
              <a:ext cx="670572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2935080"/>
              <a:ext cx="670572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3489120"/>
              <a:ext cx="6705720" cy="155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4 + 6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 is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2 + 4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3 + 3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4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4939920"/>
              <a:ext cx="6705720" cy="191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3 =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 is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4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5 + 4 =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4 + 6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3 =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2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5 + 2 =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lo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0" y="-57240"/>
            <a:ext cx="6705000" cy="2419560"/>
            <a:chOff x="0" y="-57240"/>
            <a:chExt cx="6705000" cy="2419560"/>
          </a:xfrm>
        </p:grpSpPr>
        <p:grpSp>
          <p:nvGrpSpPr>
            <p:cNvPr id="694" name=""/>
            <p:cNvGrpSpPr/>
            <p:nvPr/>
          </p:nvGrpSpPr>
          <p:grpSpPr>
            <a:xfrm>
              <a:off x="0" y="-57240"/>
              <a:ext cx="6705000" cy="201600"/>
              <a:chOff x="0" y="-57240"/>
              <a:chExt cx="6705000" cy="2016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-5724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-5724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144360"/>
              <a:ext cx="6705000" cy="201600"/>
              <a:chOff x="0" y="144360"/>
              <a:chExt cx="6705000" cy="2016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144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44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345960"/>
              <a:ext cx="6705000" cy="201600"/>
              <a:chOff x="0" y="345960"/>
              <a:chExt cx="6705000" cy="20160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3459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3459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e1, die2,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547560"/>
              <a:ext cx="6705000" cy="201600"/>
              <a:chOff x="0" y="547560"/>
              <a:chExt cx="6705000" cy="20160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5475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5475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749160"/>
              <a:ext cx="6705000" cy="201600"/>
              <a:chOff x="0" y="749160"/>
              <a:chExt cx="6705000" cy="20160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7491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7491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1 =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950760"/>
              <a:ext cx="6705000" cy="201600"/>
              <a:chOff x="0" y="950760"/>
              <a:chExt cx="6705000" cy="20160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9507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9507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2 =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1152360"/>
              <a:ext cx="6705000" cy="201600"/>
              <a:chOff x="0" y="1152360"/>
              <a:chExt cx="6705000" cy="20160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1152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152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orkSum = die1 + die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1354320"/>
              <a:ext cx="6705000" cy="201600"/>
              <a:chOff x="0" y="1354320"/>
              <a:chExt cx="6705000" cy="20160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13543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13543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layer rolled " &lt;&lt; die1 &lt;&lt; " + " &lt;&lt; di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1555920"/>
              <a:ext cx="6705000" cy="201600"/>
              <a:chOff x="0" y="1555920"/>
              <a:chExt cx="6705000" cy="20160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15559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5559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= " &lt;&lt; workSum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1757520"/>
              <a:ext cx="6705000" cy="201600"/>
              <a:chOff x="0" y="1757520"/>
              <a:chExt cx="6705000" cy="20160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17575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17575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1959120"/>
              <a:ext cx="6705000" cy="201600"/>
              <a:chOff x="0" y="1959120"/>
              <a:chExt cx="6705000" cy="20160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19591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19591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2160720"/>
              <a:ext cx="6705000" cy="201600"/>
              <a:chOff x="0" y="2160720"/>
              <a:chExt cx="6705000" cy="20160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21607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0" y="2160720"/>
                <a:ext cx="6704640" cy="201600"/>
                <a:chOff x="0" y="2160720"/>
                <a:chExt cx="6704640" cy="20160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0" y="2160720"/>
                  <a:ext cx="6704640" cy="201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1</a:t>
                  </a: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0" y="2160720"/>
                  <a:ext cx="670464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DA75-1EC3-4C60-B945-BC1A90F36C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cla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object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object is referenced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n identifier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created and destroyed within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for local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 floa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put variables into high-spee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with local variables and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9893-A70D-4358-9CD0-9393CB3314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defined i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value after function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known in their ow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for global variables and func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in an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5871-5E31-40C1-A975-8F17D449B0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dentifier Scope Ru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a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include, global variables, function definitions and functions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a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abel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inside a block.  Begins at declaration, ends at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, function parameters (local variables of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er blocks “hidden” from inner blocks if same variabl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iers in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in function prototype optional, and can be used any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3A2E-3315-4E23-96C3-A26F1B42A0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glob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loc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3  Initialize local variable in blo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40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2: fig03_1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scoping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variable to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out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rt new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local x in inn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d new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out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has autom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 has st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 uses glob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reinitializes autom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local x retains its previous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x also retains its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2" name=""/>
          <p:cNvGrpSpPr/>
          <p:nvPr/>
        </p:nvGrpSpPr>
        <p:grpSpPr>
          <a:xfrm>
            <a:off x="1371240" y="1981080"/>
            <a:ext cx="4724640" cy="1143000"/>
            <a:chOff x="1371240" y="1981080"/>
            <a:chExt cx="4724640" cy="1143000"/>
          </a:xfrm>
        </p:grpSpPr>
        <p:sp>
          <p:nvSpPr>
            <p:cNvPr id="843" name=""/>
            <p:cNvSpPr/>
            <p:nvPr/>
          </p:nvSpPr>
          <p:spPr>
            <a:xfrm>
              <a:off x="3048120" y="19810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different inside and outside the block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1371240" y="2057400"/>
              <a:ext cx="167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16002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752480" y="3657240"/>
            <a:ext cx="6477120" cy="2703960"/>
            <a:chOff x="1752480" y="3657240"/>
            <a:chExt cx="6477120" cy="2703960"/>
          </a:xfrm>
        </p:grpSpPr>
        <p:sp>
          <p:nvSpPr>
            <p:cNvPr id="847" name=""/>
            <p:cNvSpPr/>
            <p:nvPr/>
          </p:nvSpPr>
          <p:spPr>
            <a:xfrm>
              <a:off x="3657600" y="5719680"/>
              <a:ext cx="4572000" cy="641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outer scope of main is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inner scope of main i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outer scope of main is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2057040" y="3657240"/>
              <a:ext cx="16002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1752480" y="47239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1752480" y="533376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5A3A-DE2B-45DB-A244-B05AC84ED6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5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5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d each time a is cal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 &lt;&lt; "local x in a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after entering a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a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before exiting a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initialization on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time b is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endl &lt;&lt; "local static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lt;&lt; " on entering b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local static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lt;&lt; " on exiting b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 &lt;&lt; "global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on entering c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*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global x is " &lt;&lt; x &lt;&lt; " on exiting c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5" name=""/>
          <p:cNvGrpSpPr/>
          <p:nvPr/>
        </p:nvGrpSpPr>
        <p:grpSpPr>
          <a:xfrm>
            <a:off x="1828800" y="457200"/>
            <a:ext cx="5410080" cy="1067400"/>
            <a:chOff x="1828800" y="457200"/>
            <a:chExt cx="5410080" cy="1067400"/>
          </a:xfrm>
        </p:grpSpPr>
        <p:sp>
          <p:nvSpPr>
            <p:cNvPr id="956" name=""/>
            <p:cNvSpPr/>
            <p:nvPr/>
          </p:nvSpPr>
          <p:spPr>
            <a:xfrm>
              <a:off x="4495680" y="4572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l automatic variables are created and destroyed each ti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1828800" y="990720"/>
              <a:ext cx="2666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438280" y="3429000"/>
            <a:ext cx="5181480" cy="824040"/>
            <a:chOff x="2438280" y="3429000"/>
            <a:chExt cx="5181480" cy="824040"/>
          </a:xfrm>
        </p:grpSpPr>
        <p:sp>
          <p:nvSpPr>
            <p:cNvPr id="959" name=""/>
            <p:cNvSpPr/>
            <p:nvPr/>
          </p:nvSpPr>
          <p:spPr>
            <a:xfrm>
              <a:off x="5105160" y="3429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l static variables are not destroyed when the function end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2438280" y="3657600"/>
              <a:ext cx="2666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286000" y="5105520"/>
            <a:ext cx="4724280" cy="824040"/>
            <a:chOff x="2286000" y="5105520"/>
            <a:chExt cx="4724280" cy="824040"/>
          </a:xfrm>
        </p:grpSpPr>
        <p:sp>
          <p:nvSpPr>
            <p:cNvPr id="962" name=""/>
            <p:cNvSpPr/>
            <p:nvPr/>
          </p:nvSpPr>
          <p:spPr>
            <a:xfrm>
              <a:off x="4114800" y="51055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lobal variables are always accessible.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s the globa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2286000" y="5334120"/>
              <a:ext cx="1828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962160" y="1981080"/>
            <a:ext cx="5105160" cy="685800"/>
            <a:chOff x="3962160" y="1981080"/>
            <a:chExt cx="5105160" cy="685800"/>
          </a:xfrm>
        </p:grpSpPr>
        <p:sp>
          <p:nvSpPr>
            <p:cNvPr id="965" name=""/>
            <p:cNvSpPr/>
            <p:nvPr/>
          </p:nvSpPr>
          <p:spPr>
            <a:xfrm>
              <a:off x="5029200" y="1981080"/>
              <a:ext cx="403812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a is 25 after entering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a is 26 before exiting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96216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962160" y="23623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809520" y="4419360"/>
            <a:ext cx="5258160" cy="554760"/>
            <a:chOff x="3809520" y="4419360"/>
            <a:chExt cx="5258160" cy="554760"/>
          </a:xfrm>
        </p:grpSpPr>
        <p:sp>
          <p:nvSpPr>
            <p:cNvPr id="969" name=""/>
            <p:cNvSpPr/>
            <p:nvPr/>
          </p:nvSpPr>
          <p:spPr>
            <a:xfrm>
              <a:off x="5486400" y="4419720"/>
              <a:ext cx="358128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static x is 50 on entering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static x is 51 on exiting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3885840" y="4419360"/>
              <a:ext cx="1600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3809520" y="480060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809880" y="5943600"/>
            <a:ext cx="5029200" cy="554400"/>
            <a:chOff x="3809880" y="5943600"/>
            <a:chExt cx="5029200" cy="554400"/>
          </a:xfrm>
        </p:grpSpPr>
        <p:sp>
          <p:nvSpPr>
            <p:cNvPr id="973" name=""/>
            <p:cNvSpPr/>
            <p:nvPr/>
          </p:nvSpPr>
          <p:spPr>
            <a:xfrm>
              <a:off x="5791320" y="5943600"/>
              <a:ext cx="304776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lobal x is 1 on entering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lobal x is 10 on exiting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809880" y="6095880"/>
              <a:ext cx="198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5334120" y="63244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A4EE-96B5-4C17-82C6-AA752CFEF5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0A7C-53E0-4249-A6C3-0B85A67DC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inner scope of mai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0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2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2513-0DBA-4E63-A112-652F44D72C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functions that call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base case, the function breaks the problem into a slightly smaller, slightly simpler, problem that resembles the original problem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es a new copy of itself to work on the smaller problem, slowly converging towards the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a call to itself inside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the base case gets solved and then that value works its way back up to solve the whol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962F-D81A-46D7-8EAF-5B57B1280C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! = n * ( n – 1 ) * ( n – 2 ) * … *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ve relationship 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! = n * ( n – 1 )!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! = 5 * 4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! = 4 * 3!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ase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! = 0! =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C026-6B8D-49E9-B00C-872BC631DD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sum of two previous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recursive formu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b(n) = fib(n-1) + fib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n == 0 || n == 1 )  //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turn fibonacci( n - 1 ) + fibonacci( n – 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1619280"/>
            <a:ext cx="54864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00024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FDBD-DC32-4205-B909-57D110469C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of Fibonnaci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752480" y="2057400"/>
            <a:ext cx="4571640" cy="1954080"/>
            <a:chOff x="1752480" y="2057400"/>
            <a:chExt cx="4571640" cy="1954080"/>
          </a:xfrm>
        </p:grpSpPr>
        <p:sp>
          <p:nvSpPr>
            <p:cNvPr id="990" name=""/>
            <p:cNvSpPr/>
            <p:nvPr/>
          </p:nvSpPr>
          <p:spPr>
            <a:xfrm>
              <a:off x="2226960" y="3719520"/>
              <a:ext cx="124560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636360" y="3719520"/>
              <a:ext cx="124488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78520" y="3160440"/>
              <a:ext cx="124560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52480" y="3160440"/>
              <a:ext cx="286416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74880" y="2609640"/>
              <a:ext cx="298872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54160" y="20574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66960" y="26668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40200" y="26668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03080" y="322416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73520" y="322416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87680" y="322416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54400" y="37828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58040" y="37828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48360" y="2292120"/>
              <a:ext cx="360" cy="317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12960" y="2901960"/>
              <a:ext cx="423000" cy="25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34400" y="2898720"/>
              <a:ext cx="270000" cy="26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68920" y="345420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60160" y="345420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98080" y="208584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3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86640" y="269856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19160" y="269712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2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24400" y="325728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12400" y="32572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0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49520" y="32572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09120" y="38224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99440" y="38224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22320" y="32572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95600" y="3262320"/>
              <a:ext cx="166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5240" y="2698560"/>
              <a:ext cx="165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17440" y="269532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6710-7FCA-4863-B112-E3CE8CDB90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an integ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Output result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recursivel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22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5: fig03_1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fibonacci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ult,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Enter an integ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in &gt;&gt;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result = fibonacci(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Fibonacci(" &lt;&lt; number &lt;&lt; ") = " &lt;&lt; resul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definition of function fibonacc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 == 0 || n == 1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 c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c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n - 1 ) + fibonacci( n -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3581280" y="5181480"/>
            <a:ext cx="4724640" cy="824040"/>
            <a:chOff x="3581280" y="5181480"/>
            <a:chExt cx="4724640" cy="824040"/>
          </a:xfrm>
        </p:grpSpPr>
        <p:sp>
          <p:nvSpPr>
            <p:cNvPr id="1110" name=""/>
            <p:cNvSpPr/>
            <p:nvPr/>
          </p:nvSpPr>
          <p:spPr>
            <a:xfrm>
              <a:off x="5029200" y="518148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the base cases return values.  All other cases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ibonacci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agai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581280" y="548640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8E65-1528-4EB0-A716-5E381C5963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0) =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572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9144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) = 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13716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) = 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18288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4)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23623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5)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32004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6) =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28954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0) = 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38098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0) = 67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42670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0) = 832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46483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5) = 92274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1808-B606-4FD8-B6BD-6E02BF965F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between performance (iteration) and good software engineering (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514B-72DC-4BB0-901A-07C645FBBC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 with Empty Parameter Lis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ither wri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leaving a parameter list empty indicates that the function take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no arguments and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C9A6-4DF1-4E20-977B-7191469BF4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 (take no argument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th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0" y="0"/>
            <a:ext cx="6780960" cy="5943600"/>
            <a:chOff x="0" y="0"/>
            <a:chExt cx="6780960" cy="5943600"/>
          </a:xfrm>
        </p:grpSpPr>
        <p:grpSp>
          <p:nvGrpSpPr>
            <p:cNvPr id="1130" name=""/>
            <p:cNvGrpSpPr/>
            <p:nvPr/>
          </p:nvGrpSpPr>
          <p:grpSpPr>
            <a:xfrm>
              <a:off x="0" y="0"/>
              <a:ext cx="6780960" cy="219960"/>
              <a:chOff x="0" y="0"/>
              <a:chExt cx="6780960" cy="21996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8: fig03_1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219960"/>
              <a:ext cx="6780960" cy="219960"/>
              <a:chOff x="0" y="219960"/>
              <a:chExt cx="6780960" cy="21996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219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19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s that take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439920"/>
              <a:ext cx="6780960" cy="219960"/>
              <a:chOff x="0" y="439920"/>
              <a:chExt cx="6780960" cy="21996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439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439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660240"/>
              <a:ext cx="6780960" cy="219960"/>
              <a:chOff x="0" y="660240"/>
              <a:chExt cx="6780960" cy="21996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660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660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880560"/>
              <a:ext cx="6780960" cy="219960"/>
              <a:chOff x="0" y="880560"/>
              <a:chExt cx="6780960" cy="21996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8805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8805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1100520"/>
              <a:ext cx="6780960" cy="219960"/>
              <a:chOff x="0" y="1100520"/>
              <a:chExt cx="6780960" cy="21996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1100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1100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1320480"/>
              <a:ext cx="6780960" cy="219960"/>
              <a:chOff x="0" y="1320480"/>
              <a:chExt cx="6780960" cy="21996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1320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320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1540800"/>
              <a:ext cx="6780960" cy="219960"/>
              <a:chOff x="0" y="1540800"/>
              <a:chExt cx="6780960" cy="21996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1540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1540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1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1761120"/>
              <a:ext cx="6780960" cy="219960"/>
              <a:chOff x="0" y="1761120"/>
              <a:chExt cx="6780960" cy="21996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17611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7611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1981080"/>
              <a:ext cx="6780960" cy="219960"/>
              <a:chOff x="0" y="1981080"/>
              <a:chExt cx="6780960" cy="21996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1981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1981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2201040"/>
              <a:ext cx="6780960" cy="219960"/>
              <a:chOff x="0" y="2201040"/>
              <a:chExt cx="6780960" cy="219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2201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2201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2421360"/>
              <a:ext cx="6780960" cy="219960"/>
              <a:chOff x="0" y="2421360"/>
              <a:chExt cx="6780960" cy="21996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2421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2421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2641680"/>
              <a:ext cx="6780960" cy="219960"/>
              <a:chOff x="0" y="2641680"/>
              <a:chExt cx="6780960" cy="21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26416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26416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unction1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2861640"/>
              <a:ext cx="6780960" cy="219960"/>
              <a:chOff x="0" y="2861640"/>
              <a:chExt cx="6780960" cy="21996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2861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2861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unction2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3081960"/>
              <a:ext cx="6780960" cy="219960"/>
              <a:chOff x="0" y="3081960"/>
              <a:chExt cx="6780960" cy="21996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3081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3081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3301920"/>
              <a:ext cx="6780960" cy="219960"/>
              <a:chOff x="0" y="3301920"/>
              <a:chExt cx="6780960" cy="21996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3301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3301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3522240"/>
              <a:ext cx="6780960" cy="219960"/>
              <a:chOff x="0" y="3522240"/>
              <a:chExt cx="6780960" cy="21996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3522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3522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3742200"/>
              <a:ext cx="6780960" cy="219960"/>
              <a:chOff x="0" y="3742200"/>
              <a:chExt cx="6780960" cy="219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37422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37422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3962520"/>
              <a:ext cx="6780960" cy="219960"/>
              <a:chOff x="0" y="3962520"/>
              <a:chExt cx="6780960" cy="21996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3962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3962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1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4182480"/>
              <a:ext cx="6780960" cy="219960"/>
              <a:chOff x="0" y="4182480"/>
              <a:chExt cx="6780960" cy="21996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4182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4182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402800"/>
              <a:ext cx="6780960" cy="219960"/>
              <a:chOff x="0" y="4402800"/>
              <a:chExt cx="6780960" cy="21996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402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402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unction1 takes no argument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4622760"/>
              <a:ext cx="6780960" cy="219960"/>
              <a:chOff x="0" y="4622760"/>
              <a:chExt cx="6780960" cy="21996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46227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46227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4843080"/>
              <a:ext cx="6780960" cy="219960"/>
              <a:chOff x="0" y="4843080"/>
              <a:chExt cx="6780960" cy="21996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4843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4843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5063040"/>
              <a:ext cx="6780960" cy="219960"/>
              <a:chOff x="0" y="5063040"/>
              <a:chExt cx="6780960" cy="21996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5063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5063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5283360"/>
              <a:ext cx="6780960" cy="219960"/>
              <a:chOff x="0" y="5283360"/>
              <a:chExt cx="6780960" cy="21996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5283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5283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5503320"/>
              <a:ext cx="6780960" cy="219960"/>
              <a:chOff x="0" y="5503320"/>
              <a:chExt cx="6780960" cy="21996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55033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55033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unction2 also takes no argument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5723640"/>
              <a:ext cx="6780960" cy="219960"/>
              <a:chOff x="0" y="5723640"/>
              <a:chExt cx="6780960" cy="21996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5723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5723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1" name=""/>
          <p:cNvSpPr/>
          <p:nvPr/>
        </p:nvSpPr>
        <p:spPr>
          <a:xfrm>
            <a:off x="0" y="614196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1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2 also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2057400" y="1219320"/>
            <a:ext cx="3733920" cy="580680"/>
            <a:chOff x="2057400" y="1219320"/>
            <a:chExt cx="3733920" cy="580680"/>
          </a:xfrm>
        </p:grpSpPr>
        <p:sp>
          <p:nvSpPr>
            <p:cNvPr id="1213" name=""/>
            <p:cNvSpPr/>
            <p:nvPr/>
          </p:nvSpPr>
          <p:spPr>
            <a:xfrm>
              <a:off x="3429000" y="12193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two ways of declaring no argument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2057400" y="1523880"/>
              <a:ext cx="1371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A5DB-B74D-4F92-8AB2-3FB39335CB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writt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new functions with “prepackaged” functions in the C+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libra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ndard library provides a rich collection of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are invoked by a function c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nction call specifies the function name and provides information (as arguments) that the called function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s to worker analog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ss (the calling function or caller) asks a worker (the called function) to perform a task and return (i.e., report back) the results when the task is 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7FAA-F160-41D6-B2BF-BF31E84C02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function-call overh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compiler to copy code into program instead of using a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can ign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used with small, often-us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643D-86C4-49DA-98ED-4E4FE8C60A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prevent unwanted side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 alias for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to signify a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change( int &amp;variabl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variable += 3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s 3 to the variable inpu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&amp;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hange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ll now aff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C34F-7F99-466B-9335-C1520F1587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647712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 of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uareByVal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0" y="0"/>
            <a:ext cx="6552360" cy="6858000"/>
            <a:chOff x="0" y="0"/>
            <a:chExt cx="6552360" cy="6858000"/>
          </a:xfrm>
        </p:grpSpPr>
        <p:grpSp>
          <p:nvGrpSpPr>
            <p:cNvPr id="1221" name=""/>
            <p:cNvGrpSpPr/>
            <p:nvPr/>
          </p:nvGrpSpPr>
          <p:grpSpPr>
            <a:xfrm>
              <a:off x="0" y="0"/>
              <a:ext cx="6552360" cy="221040"/>
              <a:chOff x="0" y="0"/>
              <a:chExt cx="6552360" cy="221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0: fig03_2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221040"/>
              <a:ext cx="6552360" cy="221040"/>
              <a:chOff x="0" y="221040"/>
              <a:chExt cx="6552360" cy="22104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2210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2210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aring call-by-value an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442080"/>
              <a:ext cx="6552360" cy="221040"/>
              <a:chOff x="0" y="442080"/>
              <a:chExt cx="6552360" cy="221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442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442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referenc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663480"/>
              <a:ext cx="6552360" cy="221040"/>
              <a:chOff x="0" y="663480"/>
              <a:chExt cx="6552360" cy="221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663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663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884880"/>
              <a:ext cx="6552360" cy="221040"/>
              <a:chOff x="0" y="884880"/>
              <a:chExt cx="6552360" cy="22104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8848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8848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0" y="1105920"/>
              <a:ext cx="6552360" cy="221040"/>
              <a:chOff x="0" y="1105920"/>
              <a:chExt cx="6552360" cy="22104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1105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1105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1327320"/>
              <a:ext cx="6552360" cy="221040"/>
              <a:chOff x="0" y="1327320"/>
              <a:chExt cx="6552360" cy="22104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13273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13273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1548360"/>
              <a:ext cx="6552360" cy="221040"/>
              <a:chOff x="0" y="1548360"/>
              <a:chExt cx="6552360" cy="22104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1548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1548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1769760"/>
              <a:ext cx="6552360" cy="221040"/>
              <a:chOff x="0" y="1769760"/>
              <a:chExt cx="6552360" cy="22104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17697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17697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1990800"/>
              <a:ext cx="6552360" cy="221040"/>
              <a:chOff x="0" y="1990800"/>
              <a:chExt cx="6552360" cy="22104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1990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1990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2212200"/>
              <a:ext cx="6552360" cy="221040"/>
              <a:chOff x="0" y="2212200"/>
              <a:chExt cx="6552360" cy="22104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22122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22122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2433600"/>
              <a:ext cx="6552360" cy="221040"/>
              <a:chOff x="0" y="2433600"/>
              <a:chExt cx="6552360" cy="221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24336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24336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2654640"/>
              <a:ext cx="6552360" cy="221040"/>
              <a:chOff x="0" y="2654640"/>
              <a:chExt cx="6552360" cy="22104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2654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2654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2875680"/>
              <a:ext cx="6552360" cy="221040"/>
              <a:chOff x="0" y="2875680"/>
              <a:chExt cx="6552360" cy="22104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2875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2875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, z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3097080"/>
              <a:ext cx="6552360" cy="221040"/>
              <a:chOff x="0" y="3097080"/>
              <a:chExt cx="6552360" cy="22104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3097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3097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3318480"/>
              <a:ext cx="6552360" cy="221040"/>
              <a:chOff x="0" y="3318480"/>
              <a:chExt cx="6552360" cy="22104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3318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3318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= " &lt;&lt; x &lt;&lt; " before squareByValue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3539520"/>
              <a:ext cx="6552360" cy="221040"/>
              <a:chOff x="0" y="3539520"/>
              <a:chExt cx="6552360" cy="22104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3539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3539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Value returned by squareByValu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3760920"/>
              <a:ext cx="6552360" cy="221040"/>
              <a:chOff x="0" y="3760920"/>
              <a:chExt cx="6552360" cy="22104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3760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3760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quareByValue( x )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3981960"/>
              <a:ext cx="6552360" cy="221040"/>
              <a:chOff x="0" y="3981960"/>
              <a:chExt cx="6552360" cy="22104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3981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3981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x = " &lt;&lt; x &lt;&lt; " after squareByValue\n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4203360"/>
              <a:ext cx="6552360" cy="221040"/>
              <a:chOff x="0" y="4203360"/>
              <a:chExt cx="6552360" cy="22104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4203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4203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4424400"/>
              <a:ext cx="6552360" cy="221040"/>
              <a:chOff x="0" y="4424400"/>
              <a:chExt cx="6552360" cy="22104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44244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44244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before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4645800"/>
              <a:ext cx="6552360" cy="221040"/>
              <a:chOff x="0" y="4645800"/>
              <a:chExt cx="6552360" cy="22104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4645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4645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quareByReference( z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4866840"/>
              <a:ext cx="6552360" cy="221040"/>
              <a:chOff x="0" y="4866840"/>
              <a:chExt cx="6552360" cy="22104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48668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48668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after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5088240"/>
              <a:ext cx="6552360" cy="221040"/>
              <a:chOff x="0" y="5088240"/>
              <a:chExt cx="6552360" cy="22104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50882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50882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5309640"/>
              <a:ext cx="6552360" cy="221040"/>
              <a:chOff x="0" y="5309640"/>
              <a:chExt cx="6552360" cy="22104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5309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5309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5530680"/>
              <a:ext cx="6552360" cy="221040"/>
              <a:chOff x="0" y="5530680"/>
              <a:chExt cx="6552360" cy="22104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5530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5530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5751720"/>
              <a:ext cx="6552360" cy="221040"/>
              <a:chOff x="0" y="5751720"/>
              <a:chExt cx="6552360" cy="22104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57517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57517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0" y="5973120"/>
              <a:ext cx="6552360" cy="221040"/>
              <a:chOff x="0" y="5973120"/>
              <a:chExt cx="6552360" cy="221040"/>
            </a:xfrm>
          </p:grpSpPr>
          <p:sp>
            <p:nvSpPr>
              <p:cNvPr id="1303" name=""/>
              <p:cNvSpPr/>
              <p:nvPr/>
            </p:nvSpPr>
            <p:spPr>
              <a:xfrm>
                <a:off x="0" y="59731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59731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0" y="6194520"/>
              <a:ext cx="6552360" cy="221040"/>
              <a:chOff x="0" y="6194520"/>
              <a:chExt cx="6552360" cy="221040"/>
            </a:xfrm>
          </p:grpSpPr>
          <p:sp>
            <p:nvSpPr>
              <p:cNvPr id="1306" name=""/>
              <p:cNvSpPr/>
              <p:nvPr/>
            </p:nvSpPr>
            <p:spPr>
              <a:xfrm>
                <a:off x="0" y="6194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6194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0" y="6415560"/>
              <a:ext cx="6552360" cy="221040"/>
              <a:chOff x="0" y="6415560"/>
              <a:chExt cx="6552360" cy="22104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64155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64155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*=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's argument no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6636960"/>
              <a:ext cx="6552360" cy="221040"/>
              <a:chOff x="0" y="6636960"/>
              <a:chExt cx="6552360" cy="22104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6636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6636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"/>
          <p:cNvGrpSpPr/>
          <p:nvPr/>
        </p:nvGrpSpPr>
        <p:grpSpPr>
          <a:xfrm>
            <a:off x="3048120" y="1066680"/>
            <a:ext cx="3352680" cy="990720"/>
            <a:chOff x="3048120" y="1066680"/>
            <a:chExt cx="3352680" cy="990720"/>
          </a:xfrm>
        </p:grpSpPr>
        <p:sp>
          <p:nvSpPr>
            <p:cNvPr id="1315" name=""/>
            <p:cNvSpPr/>
            <p:nvPr/>
          </p:nvSpPr>
          <p:spPr>
            <a:xfrm flipH="1">
              <a:off x="3048120" y="137160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29000" y="10666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668D-F065-4BE0-B70A-A18FFD19A58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647712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By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18" name=""/>
          <p:cNvSpPr/>
          <p:nvPr/>
        </p:nvSpPr>
        <p:spPr>
          <a:xfrm>
            <a:off x="0" y="1447920"/>
            <a:ext cx="65530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before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returned by squareByValue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after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4 before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16 after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0" y="0"/>
            <a:ext cx="6552360" cy="1219320"/>
            <a:chOff x="0" y="0"/>
            <a:chExt cx="6552360" cy="1219320"/>
          </a:xfrm>
        </p:grpSpPr>
        <p:grpSp>
          <p:nvGrpSpPr>
            <p:cNvPr id="1320" name=""/>
            <p:cNvGrpSpPr/>
            <p:nvPr/>
          </p:nvGrpSpPr>
          <p:grpSpPr>
            <a:xfrm>
              <a:off x="0" y="0"/>
              <a:ext cx="6552360" cy="243720"/>
              <a:chOff x="0" y="0"/>
              <a:chExt cx="6552360" cy="24372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243720"/>
              <a:ext cx="6552360" cy="243720"/>
              <a:chOff x="0" y="243720"/>
              <a:chExt cx="6552360" cy="24372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2437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2437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c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487440"/>
              <a:ext cx="6552360" cy="243720"/>
              <a:chOff x="0" y="487440"/>
              <a:chExt cx="6552360" cy="24372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48744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48744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731520"/>
              <a:ext cx="6552360" cy="243720"/>
              <a:chOff x="0" y="731520"/>
              <a:chExt cx="6552360" cy="24372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7315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7315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f *= cRef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er's argumen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0" y="975600"/>
              <a:ext cx="6552360" cy="243720"/>
              <a:chOff x="0" y="975600"/>
              <a:chExt cx="6552360" cy="243720"/>
            </a:xfrm>
          </p:grpSpPr>
          <p:sp>
            <p:nvSpPr>
              <p:cNvPr id="1333" name=""/>
              <p:cNvSpPr/>
              <p:nvPr/>
            </p:nvSpPr>
            <p:spPr>
              <a:xfrm>
                <a:off x="0" y="97560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97560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A643-D957-4E34-A211-28E398BBC5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unction parameter omitted, gets defaul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 specified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efaultFunction( int x =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2, int z = 3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3123-CE5B-49FC-B917-E3FD748EB3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default volu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volume with one parame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th 2 paramet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Print with all parameter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339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3: fig03_2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efault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default box volume is: " &lt;&lt; boxVolume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1 and height 1 is: " &lt;&lt; boxVolume( 10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1 is: " &lt;&lt; boxVolume( 10, 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2 is: " &lt;&lt; boxVolume( 10, 5,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the volume of a bo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* width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40CE-D055-4393-AB74-49B53CD26B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666520" y="1162080"/>
            <a:ext cx="4267800" cy="1799640"/>
            <a:chOff x="2666520" y="1162080"/>
            <a:chExt cx="4267800" cy="1799640"/>
          </a:xfrm>
        </p:grpSpPr>
        <p:sp>
          <p:nvSpPr>
            <p:cNvPr id="1426" name=""/>
            <p:cNvSpPr/>
            <p:nvPr/>
          </p:nvSpPr>
          <p:spPr>
            <a:xfrm>
              <a:off x="4267080" y="2381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rightmost values are default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2666520" y="1162080"/>
              <a:ext cx="160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8326-7D40-4C54-8D56-1EDCB6E9500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s if a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eded if names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0E0F-A28B-4EFE-ADC5-B4107B25FA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0" y="0"/>
            <a:ext cx="6705000" cy="4952880"/>
            <a:chOff x="0" y="0"/>
            <a:chExt cx="6705000" cy="4952880"/>
          </a:xfrm>
        </p:grpSpPr>
        <p:grpSp>
          <p:nvGrpSpPr>
            <p:cNvPr id="1432" name=""/>
            <p:cNvGrpSpPr/>
            <p:nvPr/>
          </p:nvGrpSpPr>
          <p:grpSpPr>
            <a:xfrm>
              <a:off x="0" y="0"/>
              <a:ext cx="6705000" cy="215280"/>
              <a:chOff x="0" y="0"/>
              <a:chExt cx="6705000" cy="21528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4: fig03_2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215280"/>
              <a:ext cx="6705000" cy="215280"/>
              <a:chOff x="0" y="215280"/>
              <a:chExt cx="6705000" cy="21528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215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215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unary scope resolution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430560"/>
              <a:ext cx="6705000" cy="215280"/>
              <a:chOff x="0" y="430560"/>
              <a:chExt cx="6705000" cy="215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430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430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645840"/>
              <a:ext cx="6705000" cy="215280"/>
              <a:chOff x="0" y="645840"/>
              <a:chExt cx="6705000" cy="21528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645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645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861120"/>
              <a:ext cx="6705000" cy="215280"/>
              <a:chOff x="0" y="861120"/>
              <a:chExt cx="6705000" cy="21528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861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861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1076400"/>
              <a:ext cx="6705000" cy="215280"/>
              <a:chOff x="0" y="1076400"/>
              <a:chExt cx="6705000" cy="21528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1076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1076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1292040"/>
              <a:ext cx="6705000" cy="215280"/>
              <a:chOff x="0" y="1292040"/>
              <a:chExt cx="6705000" cy="21528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1292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1292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1507320"/>
              <a:ext cx="6705000" cy="215280"/>
              <a:chOff x="0" y="1507320"/>
              <a:chExt cx="6705000" cy="21528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1507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1507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1722600"/>
              <a:ext cx="6705000" cy="215280"/>
              <a:chOff x="0" y="1722600"/>
              <a:chExt cx="6705000" cy="21528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1722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1722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1937880"/>
              <a:ext cx="6705000" cy="215280"/>
              <a:chOff x="0" y="1937880"/>
              <a:chExt cx="6705000" cy="21528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19378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19378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2153160"/>
              <a:ext cx="6705000" cy="215280"/>
              <a:chOff x="0" y="2153160"/>
              <a:chExt cx="6705000" cy="21528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21531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21531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2368800"/>
              <a:ext cx="6705000" cy="215280"/>
              <a:chOff x="0" y="2368800"/>
              <a:chExt cx="6705000" cy="21528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23688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23688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 = 3.1415926535897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2584080"/>
              <a:ext cx="6705000" cy="215280"/>
              <a:chOff x="0" y="2584080"/>
              <a:chExt cx="6705000" cy="21528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25840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25840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2799360"/>
              <a:ext cx="6705000" cy="215280"/>
              <a:chOff x="0" y="2799360"/>
              <a:chExt cx="6705000" cy="21528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27993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27993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3014640"/>
              <a:ext cx="6705000" cy="215280"/>
              <a:chOff x="0" y="3014640"/>
              <a:chExt cx="6705000" cy="21528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30146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30146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3230280"/>
              <a:ext cx="6705000" cy="215280"/>
              <a:chOff x="0" y="3230280"/>
              <a:chExt cx="6705000" cy="21528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3230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3230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::PI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3445560"/>
              <a:ext cx="6705000" cy="215280"/>
              <a:chOff x="0" y="3445560"/>
              <a:chExt cx="6705000" cy="21528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3445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3445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3660840"/>
              <a:ext cx="6705000" cy="215280"/>
              <a:chOff x="0" y="3660840"/>
              <a:chExt cx="6705000" cy="21528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3660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3660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precision( 2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3876120"/>
              <a:ext cx="6705000" cy="215280"/>
              <a:chOff x="0" y="3876120"/>
              <a:chExt cx="6705000" cy="21528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3876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3876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 Local float value of PI = " &lt;&lt; 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4091400"/>
              <a:ext cx="6705000" cy="215280"/>
              <a:chOff x="0" y="4091400"/>
              <a:chExt cx="6705000" cy="21528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4091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4091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Global double value of PI = " &lt;&lt; ::PI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4307040"/>
              <a:ext cx="6705000" cy="215280"/>
              <a:chOff x="0" y="4307040"/>
              <a:chExt cx="6705000" cy="21528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4307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4307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4522320"/>
              <a:ext cx="6705000" cy="215280"/>
              <a:chOff x="0" y="4522320"/>
              <a:chExt cx="6705000" cy="21528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4522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4522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4737600"/>
              <a:ext cx="6705000" cy="215280"/>
              <a:chOff x="0" y="4737600"/>
              <a:chExt cx="6705000" cy="21528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4737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4737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1" name=""/>
          <p:cNvSpPr/>
          <p:nvPr/>
        </p:nvSpPr>
        <p:spPr>
          <a:xfrm>
            <a:off x="0" y="548640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5105160" y="3276720"/>
            <a:ext cx="2972160" cy="761760"/>
            <a:chOff x="5105160" y="3276720"/>
            <a:chExt cx="2972160" cy="761760"/>
          </a:xfrm>
        </p:grpSpPr>
        <p:sp>
          <p:nvSpPr>
            <p:cNvPr id="1503" name=""/>
            <p:cNvSpPr/>
            <p:nvPr/>
          </p:nvSpPr>
          <p:spPr>
            <a:xfrm>
              <a:off x="6172200" y="32767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: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105160" y="35812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6BA1-08A7-4C51-93FE-85AB8FAB071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ing 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perform similar tasks ( i.e., a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,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chooses function by signa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 determined by function name and paramet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the same retur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2D48-1FE1-4A44-A5A1-DC38CA62B0A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written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tatements are hidden from other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s to worker analog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ss does not know how the worker gets the job done; he just wants it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803B-80B3-4D15-AB3B-8D0A01877C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514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overloaded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0" y="0"/>
            <a:ext cx="6705000" cy="4495680"/>
            <a:chOff x="0" y="0"/>
            <a:chExt cx="6705000" cy="4495680"/>
          </a:xfrm>
        </p:grpSpPr>
        <p:grpSp>
          <p:nvGrpSpPr>
            <p:cNvPr id="1509" name=""/>
            <p:cNvGrpSpPr/>
            <p:nvPr/>
          </p:nvGrpSpPr>
          <p:grpSpPr>
            <a:xfrm>
              <a:off x="0" y="0"/>
              <a:ext cx="6705000" cy="236520"/>
              <a:chOff x="0" y="0"/>
              <a:chExt cx="6705000" cy="236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0" y="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5: fig03_2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0" y="236520"/>
              <a:ext cx="6705000" cy="236520"/>
              <a:chOff x="0" y="236520"/>
              <a:chExt cx="6705000" cy="236520"/>
            </a:xfrm>
          </p:grpSpPr>
          <p:sp>
            <p:nvSpPr>
              <p:cNvPr id="1513" name=""/>
              <p:cNvSpPr/>
              <p:nvPr/>
            </p:nvSpPr>
            <p:spPr>
              <a:xfrm>
                <a:off x="0" y="2365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2365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overloaded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0" y="473040"/>
              <a:ext cx="6705000" cy="236520"/>
              <a:chOff x="0" y="473040"/>
              <a:chExt cx="6705000" cy="236520"/>
            </a:xfrm>
          </p:grpSpPr>
          <p:sp>
            <p:nvSpPr>
              <p:cNvPr id="1516" name=""/>
              <p:cNvSpPr/>
              <p:nvPr/>
            </p:nvSpPr>
            <p:spPr>
              <a:xfrm>
                <a:off x="0" y="4730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4730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0" y="709920"/>
              <a:ext cx="6705000" cy="236520"/>
              <a:chOff x="0" y="709920"/>
              <a:chExt cx="6705000" cy="236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0" y="709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0" y="709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0" y="946440"/>
              <a:ext cx="6705000" cy="236520"/>
              <a:chOff x="0" y="946440"/>
              <a:chExt cx="6705000" cy="236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0" y="9464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0" y="9464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0" y="1182960"/>
              <a:ext cx="6705000" cy="236520"/>
              <a:chOff x="0" y="1182960"/>
              <a:chExt cx="6705000" cy="236520"/>
            </a:xfrm>
          </p:grpSpPr>
          <p:sp>
            <p:nvSpPr>
              <p:cNvPr id="1525" name=""/>
              <p:cNvSpPr/>
              <p:nvPr/>
            </p:nvSpPr>
            <p:spPr>
              <a:xfrm>
                <a:off x="0" y="11829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0" y="11829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0" y="1419480"/>
              <a:ext cx="6705000" cy="236520"/>
              <a:chOff x="0" y="1419480"/>
              <a:chExt cx="6705000" cy="236520"/>
            </a:xfrm>
          </p:grpSpPr>
          <p:sp>
            <p:nvSpPr>
              <p:cNvPr id="1528" name=""/>
              <p:cNvSpPr/>
              <p:nvPr/>
            </p:nvSpPr>
            <p:spPr>
              <a:xfrm>
                <a:off x="0" y="14194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14194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0" y="1656360"/>
              <a:ext cx="6705000" cy="236520"/>
              <a:chOff x="0" y="1656360"/>
              <a:chExt cx="6705000" cy="236520"/>
            </a:xfrm>
          </p:grpSpPr>
          <p:sp>
            <p:nvSpPr>
              <p:cNvPr id="1531" name=""/>
              <p:cNvSpPr/>
              <p:nvPr/>
            </p:nvSpPr>
            <p:spPr>
              <a:xfrm>
                <a:off x="0" y="16563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0" y="16563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*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0" y="1892880"/>
              <a:ext cx="6705000" cy="236520"/>
              <a:chOff x="0" y="1892880"/>
              <a:chExt cx="6705000" cy="236520"/>
            </a:xfrm>
          </p:grpSpPr>
          <p:sp>
            <p:nvSpPr>
              <p:cNvPr id="1534" name=""/>
              <p:cNvSpPr/>
              <p:nvPr/>
            </p:nvSpPr>
            <p:spPr>
              <a:xfrm>
                <a:off x="0" y="18928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18928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0" y="2129400"/>
              <a:ext cx="6705000" cy="236520"/>
              <a:chOff x="0" y="2129400"/>
              <a:chExt cx="6705000" cy="236520"/>
            </a:xfrm>
          </p:grpSpPr>
          <p:sp>
            <p:nvSpPr>
              <p:cNvPr id="1537" name=""/>
              <p:cNvSpPr/>
              <p:nvPr/>
            </p:nvSpPr>
            <p:spPr>
              <a:xfrm>
                <a:off x="0" y="21294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0" y="21294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*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0" y="2365920"/>
              <a:ext cx="6705000" cy="236520"/>
              <a:chOff x="0" y="2365920"/>
              <a:chExt cx="6705000" cy="236520"/>
            </a:xfrm>
          </p:grpSpPr>
          <p:sp>
            <p:nvSpPr>
              <p:cNvPr id="1540" name=""/>
              <p:cNvSpPr/>
              <p:nvPr/>
            </p:nvSpPr>
            <p:spPr>
              <a:xfrm>
                <a:off x="0" y="2365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0" y="2365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0" y="2602800"/>
              <a:ext cx="6705000" cy="236520"/>
              <a:chOff x="0" y="2602800"/>
              <a:chExt cx="6705000" cy="23652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26028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26028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839320"/>
              <a:ext cx="6705000" cy="236520"/>
              <a:chOff x="0" y="2839320"/>
              <a:chExt cx="6705000" cy="23652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8393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8393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3075840"/>
              <a:ext cx="6705000" cy="236520"/>
              <a:chOff x="0" y="3075840"/>
              <a:chExt cx="6705000" cy="23652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30758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30758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square of integer 7 is " &lt;&lt; square( 7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3312720"/>
              <a:ext cx="6705000" cy="236520"/>
              <a:chOff x="0" y="3312720"/>
              <a:chExt cx="6705000" cy="23652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33127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33127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The square of double 7.5 is " &lt;&lt; square( 7.5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3549240"/>
              <a:ext cx="6705000" cy="236520"/>
              <a:chOff x="0" y="3549240"/>
              <a:chExt cx="6705000" cy="23652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35492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35492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3785760"/>
              <a:ext cx="6705000" cy="236520"/>
              <a:chOff x="0" y="3785760"/>
              <a:chExt cx="6705000" cy="23652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37857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37857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4022640"/>
              <a:ext cx="6705000" cy="236520"/>
              <a:chOff x="0" y="4022640"/>
              <a:chExt cx="6705000" cy="23652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40226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40226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4259160"/>
              <a:ext cx="6705000" cy="236520"/>
              <a:chOff x="0" y="4259160"/>
              <a:chExt cx="6705000" cy="23652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2591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2591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6" name=""/>
          <p:cNvSpPr/>
          <p:nvPr/>
        </p:nvSpPr>
        <p:spPr>
          <a:xfrm>
            <a:off x="0" y="51055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double 7.5 is 56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828440" y="609480"/>
            <a:ext cx="4420080" cy="1524240"/>
            <a:chOff x="1828440" y="609480"/>
            <a:chExt cx="4420080" cy="1524240"/>
          </a:xfrm>
        </p:grpSpPr>
        <p:sp>
          <p:nvSpPr>
            <p:cNvPr id="1568" name=""/>
            <p:cNvSpPr/>
            <p:nvPr/>
          </p:nvSpPr>
          <p:spPr>
            <a:xfrm>
              <a:off x="3505320" y="6094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s have same name but different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1828440" y="99072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2285640" y="114300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DCE2-8241-41D9-A3F1-5A16EF391E9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every formal type parameter (built in or user 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or template&lt; typename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ue1 * value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laced by type parameter in function c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5335-BC31-44AA-8D65-D0A92CC838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the programmer to perform common mathematical calc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by including the header 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mat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called by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 &lt;&lt; sqrt( 900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quare root) function. The preceding statement would pr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takes an argumen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turns a resul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do all functions in the math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B0A0-5A17-479A-AF72-1209A0786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argument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sqrt( x )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3 - 6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0840-163F-4266-B3BD-C252E2DEB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the programmer to 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only in the function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riables declared in function defini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passed when the function is called that provide the function with outsid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5F45-4C40-48A5-B9D0-BCCC6EE112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ed function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i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he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for function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-value-type  function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-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ons and stat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*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EDE9-CEBC-4510-9D57-4F925AFDF9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4:51:05Z</dcterms:created>
  <dc:creator>kalid</dc:creator>
  <dc:description/>
  <dc:language>en-US</dc:language>
  <cp:lastModifiedBy>Antonella Esposito</cp:lastModifiedBy>
  <dcterms:modified xsi:type="dcterms:W3CDTF">2001-01-12T10:40:57Z</dcterms:modified>
  <cp:revision>407</cp:revision>
  <dc:subject/>
  <dc:title>Chapter 3 - Functions</dc:title>
</cp:coreProperties>
</file>