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7008813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6EC4B-917B-4B15-8DF2-DC7A17F8D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A22CE-4CA2-4C8F-B5BF-7E49F700D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0A798-363E-450F-AE9A-33F224B0A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B3531-248F-4F60-8FC2-15411DA5FB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1F089-719B-4487-989A-562E758260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B7BFF-09F0-4993-88C0-E7F31C4837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99D44-3297-4570-A117-7952E69A01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CD7DD-4259-4C8E-8A39-0C6EBD4FC9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84B9A-D8E0-495F-9526-A19B17B732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F048E-CAF5-4F45-B919-F4BC6B5E52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C3FF2-A429-4FDB-85A0-B7C7C39709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2329D-9523-459D-83EF-F1FDC21B17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86710-70E2-4F93-B6DB-6CB9AB3333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9F1CE-9C0A-4BBC-BB54-0A947D72BE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A7525-3917-4EB0-9C08-BB781B110E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86EE4-D82C-44BF-9AD8-77056E23DE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D51D0-6B59-4308-9FED-0E8DD0C4DE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7786A-838D-4F6E-9CF0-B4C4D0E31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09594-7AA4-4D2C-815C-891C287E3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E357C-7C55-4C2E-9569-B6F51A8A68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A7E85-C41D-4E3C-91A2-84B17E85BA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74553-3570-45C2-9888-28A07F746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471C1-C8EC-419F-85E0-D91656735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2542E-E6B4-4DC9-BC84-F444FCEF9A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8E4F-1C7C-435D-B932-17CF522A2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9A4F-577B-42C8-805D-F47F21233D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6: Classes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Abstraction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219320"/>
            <a:ext cx="7772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ucture Definition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ccessing Members of Structure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mplementing a User-Defined Type Time with a Struct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mplementing a Time Abstract Data Type with a Clas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ass Scope and Accessing Class Members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parating Interface from Implementation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trolling Access to Members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ccess Functions and Utility Function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itializing Class Objects: Constructor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Default Arguments with Constructor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Destructor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When Constructors and Destructors Are Called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Data Members and Member Function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 Subtle Trap: Returning a Reference to a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rivate Data 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6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ssignment by Default Memberwise Copy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7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oftware Reusabil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2CA4D-BDCC-4928-95BB-5F900FC7C2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Time Abstract Data Type with a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access spec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can limit the access to their member functions and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three types of access a class can grant a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ible wherever the program has access to an object of th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ible only to member functions of th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private and discussed 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al member function that initializes the data members of a class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return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the same name as th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AA89D-976B-45E3-AB08-A48B425C6D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Time Abstract Data Type with a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definition and 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ce a class has been defined, it can be used as a type in object, array and pointer decla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9480" y="289548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 sunset,                  // object of type Tim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arrayOfTimes[ 5 ],       // array of Time object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*pointerToTime,          // pointer to a Time objec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&amp;dinnerTime = sunset;    // reference to a Time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6212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4191120"/>
            <a:ext cx="21337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The class name becomes the new type specif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4A7A7-7BF9-4632-8DC7-B9CC41C46B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348" name=""/>
            <p:cNvGrpSpPr/>
            <p:nvPr/>
          </p:nvGrpSpPr>
          <p:grpSpPr>
            <a:xfrm>
              <a:off x="0" y="0"/>
              <a:ext cx="6705000" cy="214200"/>
              <a:chOff x="0" y="0"/>
              <a:chExt cx="6705000" cy="214200"/>
            </a:xfrm>
          </p:grpSpPr>
          <p:sp>
            <p:nvSpPr>
              <p:cNvPr id="349" name=""/>
              <p:cNvSpPr/>
              <p:nvPr/>
            </p:nvSpPr>
            <p:spPr>
              <a:xfrm>
                <a:off x="0" y="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3: fig06_0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0" y="214200"/>
              <a:ext cx="6705000" cy="214200"/>
              <a:chOff x="0" y="214200"/>
              <a:chExt cx="6705000" cy="21420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214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214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0" y="428400"/>
              <a:ext cx="6705000" cy="214200"/>
              <a:chOff x="0" y="428400"/>
              <a:chExt cx="6705000" cy="214200"/>
            </a:xfrm>
          </p:grpSpPr>
          <p:sp>
            <p:nvSpPr>
              <p:cNvPr id="355" name=""/>
              <p:cNvSpPr/>
              <p:nvPr/>
            </p:nvSpPr>
            <p:spPr>
              <a:xfrm>
                <a:off x="0" y="428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428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642960"/>
              <a:ext cx="6705000" cy="214200"/>
              <a:chOff x="0" y="642960"/>
              <a:chExt cx="6705000" cy="21420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642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642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0" y="857160"/>
              <a:ext cx="6705000" cy="214200"/>
              <a:chOff x="0" y="857160"/>
              <a:chExt cx="6705000" cy="21420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857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857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0" y="1071360"/>
              <a:ext cx="6705000" cy="214200"/>
              <a:chOff x="0" y="1071360"/>
              <a:chExt cx="6705000" cy="214200"/>
            </a:xfrm>
          </p:grpSpPr>
          <p:sp>
            <p:nvSpPr>
              <p:cNvPr id="364" name=""/>
              <p:cNvSpPr/>
              <p:nvPr/>
            </p:nvSpPr>
            <p:spPr>
              <a:xfrm>
                <a:off x="0" y="1071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1071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0" y="1285560"/>
              <a:ext cx="6705000" cy="214200"/>
              <a:chOff x="0" y="1285560"/>
              <a:chExt cx="6705000" cy="214200"/>
            </a:xfrm>
          </p:grpSpPr>
          <p:sp>
            <p:nvSpPr>
              <p:cNvPr id="367" name=""/>
              <p:cNvSpPr/>
              <p:nvPr/>
            </p:nvSpPr>
            <p:spPr>
              <a:xfrm>
                <a:off x="0" y="12855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12855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0" y="1500120"/>
              <a:ext cx="6705000" cy="214200"/>
              <a:chOff x="0" y="1500120"/>
              <a:chExt cx="6705000" cy="214200"/>
            </a:xfrm>
          </p:grpSpPr>
          <p:sp>
            <p:nvSpPr>
              <p:cNvPr id="370" name=""/>
              <p:cNvSpPr/>
              <p:nvPr/>
            </p:nvSpPr>
            <p:spPr>
              <a:xfrm>
                <a:off x="0" y="1500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1500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ime abstract data type (ADT)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0" y="1714320"/>
              <a:ext cx="6705000" cy="214200"/>
              <a:chOff x="0" y="1714320"/>
              <a:chExt cx="6705000" cy="21420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1714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1714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0" y="1928520"/>
              <a:ext cx="6705000" cy="214200"/>
              <a:chOff x="0" y="1928520"/>
              <a:chExt cx="6705000" cy="214200"/>
            </a:xfrm>
          </p:grpSpPr>
          <p:sp>
            <p:nvSpPr>
              <p:cNvPr id="376" name=""/>
              <p:cNvSpPr/>
              <p:nvPr/>
            </p:nvSpPr>
            <p:spPr>
              <a:xfrm>
                <a:off x="0" y="19285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19285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0" y="2143080"/>
              <a:ext cx="6705000" cy="214200"/>
              <a:chOff x="0" y="2143080"/>
              <a:chExt cx="6705000" cy="214200"/>
            </a:xfrm>
          </p:grpSpPr>
          <p:sp>
            <p:nvSpPr>
              <p:cNvPr id="379" name=""/>
              <p:cNvSpPr/>
              <p:nvPr/>
            </p:nvSpPr>
            <p:spPr>
              <a:xfrm>
                <a:off x="0" y="2143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2143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();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0" y="2357280"/>
              <a:ext cx="6705000" cy="214200"/>
              <a:chOff x="0" y="2357280"/>
              <a:chExt cx="6705000" cy="214200"/>
            </a:xfrm>
          </p:grpSpPr>
          <p:sp>
            <p:nvSpPr>
              <p:cNvPr id="382" name=""/>
              <p:cNvSpPr/>
              <p:nvPr/>
            </p:nvSpPr>
            <p:spPr>
              <a:xfrm>
                <a:off x="0" y="2357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0" y="2357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Time( int, int, int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hour, minute,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0" y="2571480"/>
              <a:ext cx="6705000" cy="214200"/>
              <a:chOff x="0" y="2571480"/>
              <a:chExt cx="6705000" cy="214200"/>
            </a:xfrm>
          </p:grpSpPr>
          <p:sp>
            <p:nvSpPr>
              <p:cNvPr id="385" name=""/>
              <p:cNvSpPr/>
              <p:nvPr/>
            </p:nvSpPr>
            <p:spPr>
              <a:xfrm>
                <a:off x="0" y="25714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0" y="25714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Military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military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0" y="2786040"/>
              <a:ext cx="6705000" cy="214200"/>
              <a:chOff x="0" y="2786040"/>
              <a:chExt cx="6705000" cy="214200"/>
            </a:xfrm>
          </p:grpSpPr>
          <p:sp>
            <p:nvSpPr>
              <p:cNvPr id="388" name=""/>
              <p:cNvSpPr/>
              <p:nvPr/>
            </p:nvSpPr>
            <p:spPr>
              <a:xfrm>
                <a:off x="0" y="2786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2786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tandard(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int standard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0" y="3000240"/>
              <a:ext cx="6705000" cy="214200"/>
              <a:chOff x="0" y="3000240"/>
              <a:chExt cx="6705000" cy="214200"/>
            </a:xfrm>
          </p:grpSpPr>
          <p:sp>
            <p:nvSpPr>
              <p:cNvPr id="391" name=""/>
              <p:cNvSpPr/>
              <p:nvPr/>
            </p:nvSpPr>
            <p:spPr>
              <a:xfrm>
                <a:off x="0" y="3000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3000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0" y="3214800"/>
              <a:ext cx="6705000" cy="214200"/>
              <a:chOff x="0" y="3214800"/>
              <a:chExt cx="6705000" cy="21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3214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3214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–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3429000"/>
              <a:ext cx="6705000" cy="214200"/>
              <a:chOff x="0" y="3429000"/>
              <a:chExt cx="6705000" cy="21420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34290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34290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0 –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3643200"/>
              <a:ext cx="6705000" cy="214200"/>
              <a:chOff x="0" y="3643200"/>
              <a:chExt cx="6705000" cy="21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3643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3643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0 –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3857400"/>
              <a:ext cx="6705000" cy="214200"/>
              <a:chOff x="0" y="3857400"/>
              <a:chExt cx="6705000" cy="21420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3857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3857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4071960"/>
              <a:ext cx="6705000" cy="214200"/>
              <a:chOff x="0" y="4071960"/>
              <a:chExt cx="6705000" cy="21420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4071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4071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4286160"/>
              <a:ext cx="6705000" cy="214200"/>
              <a:chOff x="0" y="4286160"/>
              <a:chExt cx="6705000" cy="21420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4286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4286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ime constructor initializes each data member to zero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4500360"/>
              <a:ext cx="6705000" cy="214200"/>
              <a:chOff x="0" y="4500360"/>
              <a:chExt cx="6705000" cy="21420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4500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4500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sures all Time objects start in a consistent stat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4714920"/>
              <a:ext cx="6705000" cy="214200"/>
              <a:chOff x="0" y="4714920"/>
              <a:chExt cx="6705000" cy="21420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47149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47149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::Time() { hour = minute = second =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4929120"/>
              <a:ext cx="6705000" cy="214200"/>
              <a:chOff x="0" y="4929120"/>
              <a:chExt cx="6705000" cy="21420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4929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4929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5143320"/>
              <a:ext cx="6705000" cy="214200"/>
              <a:chOff x="0" y="5143320"/>
              <a:chExt cx="6705000" cy="21420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5143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5143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a new Time value using military time. Perform validit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0" y="5357880"/>
              <a:ext cx="6705000" cy="214200"/>
              <a:chOff x="0" y="5357880"/>
              <a:chExt cx="6705000" cy="21420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53578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53578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hecks on the data values. Set invalid values to zero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0" y="5572080"/>
              <a:ext cx="6705000" cy="214200"/>
              <a:chOff x="0" y="5572080"/>
              <a:chExt cx="6705000" cy="214200"/>
            </a:xfrm>
          </p:grpSpPr>
          <p:sp>
            <p:nvSpPr>
              <p:cNvPr id="427" name=""/>
              <p:cNvSpPr/>
              <p:nvPr/>
            </p:nvSpPr>
            <p:spPr>
              <a:xfrm>
                <a:off x="0" y="5572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572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0" y="5786280"/>
              <a:ext cx="6705000" cy="214200"/>
              <a:chOff x="0" y="5786280"/>
              <a:chExt cx="6705000" cy="214200"/>
            </a:xfrm>
          </p:grpSpPr>
          <p:sp>
            <p:nvSpPr>
              <p:cNvPr id="430" name=""/>
              <p:cNvSpPr/>
              <p:nvPr/>
            </p:nvSpPr>
            <p:spPr>
              <a:xfrm>
                <a:off x="0" y="5786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5786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0" y="6000840"/>
              <a:ext cx="6705000" cy="214200"/>
              <a:chOff x="0" y="6000840"/>
              <a:chExt cx="6705000" cy="214200"/>
            </a:xfrm>
          </p:grpSpPr>
          <p:sp>
            <p:nvSpPr>
              <p:cNvPr id="433" name=""/>
              <p:cNvSpPr/>
              <p:nvPr/>
            </p:nvSpPr>
            <p:spPr>
              <a:xfrm>
                <a:off x="0" y="60008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60008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 = ( h &gt;= 0 &amp;&amp; h &lt; 24 ) ? h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0" y="6215040"/>
              <a:ext cx="6705000" cy="214200"/>
              <a:chOff x="0" y="6215040"/>
              <a:chExt cx="6705000" cy="214200"/>
            </a:xfrm>
          </p:grpSpPr>
          <p:sp>
            <p:nvSpPr>
              <p:cNvPr id="436" name=""/>
              <p:cNvSpPr/>
              <p:nvPr/>
            </p:nvSpPr>
            <p:spPr>
              <a:xfrm>
                <a:off x="0" y="6215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6215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inute = ( m &gt;= 0 &amp;&amp; m &lt; 60 ) ? m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429240"/>
              <a:ext cx="6705000" cy="214200"/>
              <a:chOff x="0" y="6429240"/>
              <a:chExt cx="6705000" cy="21420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429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0" y="6429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cond = ( s &gt;= 0 &amp;&amp; s &lt; 60 ) ? s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0" y="6643800"/>
              <a:ext cx="6705000" cy="214200"/>
              <a:chOff x="0" y="6643800"/>
              <a:chExt cx="6705000" cy="214200"/>
            </a:xfrm>
          </p:grpSpPr>
          <p:sp>
            <p:nvSpPr>
              <p:cNvPr id="442" name=""/>
              <p:cNvSpPr/>
              <p:nvPr/>
            </p:nvSpPr>
            <p:spPr>
              <a:xfrm>
                <a:off x="0" y="6643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0" y="6643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4647960" y="4495680"/>
            <a:ext cx="4038480" cy="580680"/>
            <a:chOff x="4647960" y="4495680"/>
            <a:chExt cx="4038480" cy="580680"/>
          </a:xfrm>
        </p:grpSpPr>
        <p:sp>
          <p:nvSpPr>
            <p:cNvPr id="445" name=""/>
            <p:cNvSpPr/>
            <p:nvPr/>
          </p:nvSpPr>
          <p:spPr>
            <a:xfrm>
              <a:off x="6553080" y="4495680"/>
              <a:ext cx="2133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eceding the function nam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647960" y="487692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Define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Define default values for the tim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147CC-D2EA-462A-9406-AC2536459A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6705000" cy="6324480"/>
            <a:chOff x="0" y="0"/>
            <a:chExt cx="6705000" cy="6324480"/>
          </a:xfrm>
        </p:grpSpPr>
        <p:grpSp>
          <p:nvGrpSpPr>
            <p:cNvPr id="449" name=""/>
            <p:cNvGrpSpPr/>
            <p:nvPr/>
          </p:nvGrpSpPr>
          <p:grpSpPr>
            <a:xfrm>
              <a:off x="0" y="0"/>
              <a:ext cx="6705000" cy="234000"/>
              <a:chOff x="0" y="0"/>
              <a:chExt cx="6705000" cy="234000"/>
            </a:xfrm>
          </p:grpSpPr>
          <p:sp>
            <p:nvSpPr>
              <p:cNvPr id="450" name=""/>
              <p:cNvSpPr/>
              <p:nvPr/>
            </p:nvSpPr>
            <p:spPr>
              <a:xfrm>
                <a:off x="0" y="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0" y="234000"/>
              <a:ext cx="6705000" cy="234000"/>
              <a:chOff x="0" y="234000"/>
              <a:chExt cx="6705000" cy="234000"/>
            </a:xfrm>
          </p:grpSpPr>
          <p:sp>
            <p:nvSpPr>
              <p:cNvPr id="453" name=""/>
              <p:cNvSpPr/>
              <p:nvPr/>
            </p:nvSpPr>
            <p:spPr>
              <a:xfrm>
                <a:off x="0" y="2340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2340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ime in military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0" y="468360"/>
              <a:ext cx="6705000" cy="234000"/>
              <a:chOff x="0" y="468360"/>
              <a:chExt cx="6705000" cy="234000"/>
            </a:xfrm>
          </p:grpSpPr>
          <p:sp>
            <p:nvSpPr>
              <p:cNvPr id="456" name=""/>
              <p:cNvSpPr/>
              <p:nvPr/>
            </p:nvSpPr>
            <p:spPr>
              <a:xfrm>
                <a:off x="0" y="4683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0" y="4683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printMilitary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0" y="702720"/>
              <a:ext cx="6705000" cy="234000"/>
              <a:chOff x="0" y="702720"/>
              <a:chExt cx="6705000" cy="234000"/>
            </a:xfrm>
          </p:grpSpPr>
          <p:sp>
            <p:nvSpPr>
              <p:cNvPr id="459" name=""/>
              <p:cNvSpPr/>
              <p:nvPr/>
            </p:nvSpPr>
            <p:spPr>
              <a:xfrm>
                <a:off x="0" y="7027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7027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0" y="936720"/>
              <a:ext cx="6705000" cy="234000"/>
              <a:chOff x="0" y="936720"/>
              <a:chExt cx="6705000" cy="234000"/>
            </a:xfrm>
          </p:grpSpPr>
          <p:sp>
            <p:nvSpPr>
              <p:cNvPr id="462" name=""/>
              <p:cNvSpPr/>
              <p:nvPr/>
            </p:nvSpPr>
            <p:spPr>
              <a:xfrm>
                <a:off x="0" y="9367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9367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hour &lt; 10 ? "0" : "" ) &lt;&lt; hour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0" y="1171080"/>
              <a:ext cx="6705000" cy="234000"/>
              <a:chOff x="0" y="1171080"/>
              <a:chExt cx="6705000" cy="234000"/>
            </a:xfrm>
          </p:grpSpPr>
          <p:sp>
            <p:nvSpPr>
              <p:cNvPr id="465" name=""/>
              <p:cNvSpPr/>
              <p:nvPr/>
            </p:nvSpPr>
            <p:spPr>
              <a:xfrm>
                <a:off x="0" y="11710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11710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minute &lt; 10 ? "0" : "" ) &lt;&lt; 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0" y="1405440"/>
              <a:ext cx="6705000" cy="234000"/>
              <a:chOff x="0" y="1405440"/>
              <a:chExt cx="6705000" cy="234000"/>
            </a:xfrm>
          </p:grpSpPr>
          <p:sp>
            <p:nvSpPr>
              <p:cNvPr id="468" name=""/>
              <p:cNvSpPr/>
              <p:nvPr/>
            </p:nvSpPr>
            <p:spPr>
              <a:xfrm>
                <a:off x="0" y="14054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14054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0" y="1639440"/>
              <a:ext cx="6705000" cy="234000"/>
              <a:chOff x="0" y="1639440"/>
              <a:chExt cx="6705000" cy="234000"/>
            </a:xfrm>
          </p:grpSpPr>
          <p:sp>
            <p:nvSpPr>
              <p:cNvPr id="471" name=""/>
              <p:cNvSpPr/>
              <p:nvPr/>
            </p:nvSpPr>
            <p:spPr>
              <a:xfrm>
                <a:off x="0" y="16394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16394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0" y="1873800"/>
              <a:ext cx="6705000" cy="234000"/>
              <a:chOff x="0" y="1873800"/>
              <a:chExt cx="6705000" cy="234000"/>
            </a:xfrm>
          </p:grpSpPr>
          <p:sp>
            <p:nvSpPr>
              <p:cNvPr id="474" name=""/>
              <p:cNvSpPr/>
              <p:nvPr/>
            </p:nvSpPr>
            <p:spPr>
              <a:xfrm>
                <a:off x="0" y="18738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18738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ime in standard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0" y="2108160"/>
              <a:ext cx="6705000" cy="234000"/>
              <a:chOff x="0" y="2108160"/>
              <a:chExt cx="6705000" cy="234000"/>
            </a:xfrm>
          </p:grpSpPr>
          <p:sp>
            <p:nvSpPr>
              <p:cNvPr id="477" name=""/>
              <p:cNvSpPr/>
              <p:nvPr/>
            </p:nvSpPr>
            <p:spPr>
              <a:xfrm>
                <a:off x="0" y="21081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21081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printStandard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0" y="2342160"/>
              <a:ext cx="6705000" cy="234000"/>
              <a:chOff x="0" y="2342160"/>
              <a:chExt cx="6705000" cy="234000"/>
            </a:xfrm>
          </p:grpSpPr>
          <p:sp>
            <p:nvSpPr>
              <p:cNvPr id="480" name=""/>
              <p:cNvSpPr/>
              <p:nvPr/>
            </p:nvSpPr>
            <p:spPr>
              <a:xfrm>
                <a:off x="0" y="23421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23421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0" y="2576520"/>
              <a:ext cx="6705000" cy="234000"/>
              <a:chOff x="0" y="2576520"/>
              <a:chExt cx="6705000" cy="234000"/>
            </a:xfrm>
          </p:grpSpPr>
          <p:sp>
            <p:nvSpPr>
              <p:cNvPr id="483" name=""/>
              <p:cNvSpPr/>
              <p:nvPr/>
            </p:nvSpPr>
            <p:spPr>
              <a:xfrm>
                <a:off x="0" y="25765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25765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( hour == 0 || hour == 12 ) ? 12 : hour % 1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0" y="2810880"/>
              <a:ext cx="6705000" cy="234000"/>
              <a:chOff x="0" y="2810880"/>
              <a:chExt cx="6705000" cy="234000"/>
            </a:xfrm>
          </p:grpSpPr>
          <p:sp>
            <p:nvSpPr>
              <p:cNvPr id="486" name=""/>
              <p:cNvSpPr/>
              <p:nvPr/>
            </p:nvSpPr>
            <p:spPr>
              <a:xfrm>
                <a:off x="0" y="28108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28108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:" &lt;&lt; ( minute &lt; 10 ? "0" : "" ) &lt;&lt;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0" y="3045240"/>
              <a:ext cx="6705000" cy="234000"/>
              <a:chOff x="0" y="3045240"/>
              <a:chExt cx="6705000" cy="234000"/>
            </a:xfrm>
          </p:grpSpPr>
          <p:sp>
            <p:nvSpPr>
              <p:cNvPr id="489" name=""/>
              <p:cNvSpPr/>
              <p:nvPr/>
            </p:nvSpPr>
            <p:spPr>
              <a:xfrm>
                <a:off x="0" y="30452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30452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:" &lt;&lt; ( second &lt; 10 ? "0" : "" ) &lt;&lt;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0" y="3279240"/>
              <a:ext cx="6705000" cy="234000"/>
              <a:chOff x="0" y="3279240"/>
              <a:chExt cx="6705000" cy="234000"/>
            </a:xfrm>
          </p:grpSpPr>
          <p:sp>
            <p:nvSpPr>
              <p:cNvPr id="492" name=""/>
              <p:cNvSpPr/>
              <p:nvPr/>
            </p:nvSpPr>
            <p:spPr>
              <a:xfrm>
                <a:off x="0" y="32792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32792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hour &lt; 12 ? " AM" : " PM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0" y="3513600"/>
              <a:ext cx="6705000" cy="234000"/>
              <a:chOff x="0" y="3513600"/>
              <a:chExt cx="6705000" cy="234000"/>
            </a:xfrm>
          </p:grpSpPr>
          <p:sp>
            <p:nvSpPr>
              <p:cNvPr id="495" name=""/>
              <p:cNvSpPr/>
              <p:nvPr/>
            </p:nvSpPr>
            <p:spPr>
              <a:xfrm>
                <a:off x="0" y="35136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35136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0" y="3747960"/>
              <a:ext cx="6705000" cy="234000"/>
              <a:chOff x="0" y="3747960"/>
              <a:chExt cx="6705000" cy="234000"/>
            </a:xfrm>
          </p:grpSpPr>
          <p:sp>
            <p:nvSpPr>
              <p:cNvPr id="498" name=""/>
              <p:cNvSpPr/>
              <p:nvPr/>
            </p:nvSpPr>
            <p:spPr>
              <a:xfrm>
                <a:off x="0" y="37479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37479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0" y="3981960"/>
              <a:ext cx="6705000" cy="234000"/>
              <a:chOff x="0" y="3981960"/>
              <a:chExt cx="6705000" cy="234000"/>
            </a:xfrm>
          </p:grpSpPr>
          <p:sp>
            <p:nvSpPr>
              <p:cNvPr id="501" name=""/>
              <p:cNvSpPr/>
              <p:nvPr/>
            </p:nvSpPr>
            <p:spPr>
              <a:xfrm>
                <a:off x="0" y="39819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39819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river to test simple class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0" y="4216320"/>
              <a:ext cx="6705000" cy="234000"/>
              <a:chOff x="0" y="4216320"/>
              <a:chExt cx="6705000" cy="234000"/>
            </a:xfrm>
          </p:grpSpPr>
          <p:sp>
            <p:nvSpPr>
              <p:cNvPr id="504" name=""/>
              <p:cNvSpPr/>
              <p:nvPr/>
            </p:nvSpPr>
            <p:spPr>
              <a:xfrm>
                <a:off x="0" y="42163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42163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0" y="4450680"/>
              <a:ext cx="6705000" cy="234000"/>
              <a:chOff x="0" y="4450680"/>
              <a:chExt cx="6705000" cy="234000"/>
            </a:xfrm>
          </p:grpSpPr>
          <p:sp>
            <p:nvSpPr>
              <p:cNvPr id="507" name=""/>
              <p:cNvSpPr/>
              <p:nvPr/>
            </p:nvSpPr>
            <p:spPr>
              <a:xfrm>
                <a:off x="0" y="44506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44506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0" y="4685040"/>
              <a:ext cx="6705000" cy="234000"/>
              <a:chOff x="0" y="4685040"/>
              <a:chExt cx="6705000" cy="23400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46850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46850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stantiate object t of class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0" y="4919040"/>
              <a:ext cx="6705000" cy="234000"/>
              <a:chOff x="0" y="4919040"/>
              <a:chExt cx="6705000" cy="234000"/>
            </a:xfrm>
          </p:grpSpPr>
          <p:sp>
            <p:nvSpPr>
              <p:cNvPr id="513" name=""/>
              <p:cNvSpPr/>
              <p:nvPr/>
            </p:nvSpPr>
            <p:spPr>
              <a:xfrm>
                <a:off x="0" y="49190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49190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0" y="5153400"/>
              <a:ext cx="6705000" cy="234000"/>
              <a:chOff x="0" y="5153400"/>
              <a:chExt cx="6705000" cy="234000"/>
            </a:xfrm>
          </p:grpSpPr>
          <p:sp>
            <p:nvSpPr>
              <p:cNvPr id="516" name=""/>
              <p:cNvSpPr/>
              <p:nvPr/>
            </p:nvSpPr>
            <p:spPr>
              <a:xfrm>
                <a:off x="0" y="51534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51534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initial military time is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0" y="5387400"/>
              <a:ext cx="6705000" cy="234000"/>
              <a:chOff x="0" y="5387400"/>
              <a:chExt cx="6705000" cy="234000"/>
            </a:xfrm>
          </p:grpSpPr>
          <p:sp>
            <p:nvSpPr>
              <p:cNvPr id="519" name=""/>
              <p:cNvSpPr/>
              <p:nvPr/>
            </p:nvSpPr>
            <p:spPr>
              <a:xfrm>
                <a:off x="0" y="53874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53874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0" y="5621760"/>
              <a:ext cx="6705000" cy="234000"/>
              <a:chOff x="0" y="5621760"/>
              <a:chExt cx="6705000" cy="234000"/>
            </a:xfrm>
          </p:grpSpPr>
          <p:sp>
            <p:nvSpPr>
              <p:cNvPr id="522" name=""/>
              <p:cNvSpPr/>
              <p:nvPr/>
            </p:nvSpPr>
            <p:spPr>
              <a:xfrm>
                <a:off x="0" y="56217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56217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The initial standard time is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0" y="5856120"/>
              <a:ext cx="6705000" cy="234000"/>
              <a:chOff x="0" y="5856120"/>
              <a:chExt cx="6705000" cy="234000"/>
            </a:xfrm>
          </p:grpSpPr>
          <p:sp>
            <p:nvSpPr>
              <p:cNvPr id="525" name=""/>
              <p:cNvSpPr/>
              <p:nvPr/>
            </p:nvSpPr>
            <p:spPr>
              <a:xfrm>
                <a:off x="0" y="58561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58561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6090480"/>
              <a:ext cx="6705000" cy="234000"/>
              <a:chOff x="0" y="6090480"/>
              <a:chExt cx="6705000" cy="234000"/>
            </a:xfrm>
          </p:grpSpPr>
          <p:sp>
            <p:nvSpPr>
              <p:cNvPr id="528" name=""/>
              <p:cNvSpPr/>
              <p:nvPr/>
            </p:nvSpPr>
            <p:spPr>
              <a:xfrm>
                <a:off x="0" y="60904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60904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0" name=""/>
          <p:cNvGrpSpPr/>
          <p:nvPr/>
        </p:nvGrpSpPr>
        <p:grpSpPr>
          <a:xfrm>
            <a:off x="2590560" y="5334120"/>
            <a:ext cx="6019920" cy="824040"/>
            <a:chOff x="2590560" y="5334120"/>
            <a:chExt cx="6019920" cy="824040"/>
          </a:xfrm>
        </p:grpSpPr>
        <p:sp>
          <p:nvSpPr>
            <p:cNvPr id="531" name=""/>
            <p:cNvSpPr/>
            <p:nvPr/>
          </p:nvSpPr>
          <p:spPr>
            <a:xfrm>
              <a:off x="6324480" y="533412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functions are called using the dot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oper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2590560" y="571500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629400" y="838080"/>
            <a:ext cx="2371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Define the two function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Militar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standard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, create an object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Print the initial (default) time</a:t>
            </a:r>
            <a:endParaRPr b="0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34" name=""/>
          <p:cNvSpPr/>
          <p:nvPr/>
        </p:nvSpPr>
        <p:spPr>
          <a:xfrm>
            <a:off x="4419720" y="4622760"/>
            <a:ext cx="45720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initial military time is 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initial standard time is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0DAB5-9A49-4CCD-AF88-D9A9A9F926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"/>
          <p:cNvGrpSpPr/>
          <p:nvPr/>
        </p:nvGrpSpPr>
        <p:grpSpPr>
          <a:xfrm>
            <a:off x="0" y="0"/>
            <a:ext cx="6705000" cy="3571560"/>
            <a:chOff x="0" y="0"/>
            <a:chExt cx="6705000" cy="3571560"/>
          </a:xfrm>
        </p:grpSpPr>
        <p:grpSp>
          <p:nvGrpSpPr>
            <p:cNvPr id="536" name=""/>
            <p:cNvGrpSpPr/>
            <p:nvPr/>
          </p:nvGrpSpPr>
          <p:grpSpPr>
            <a:xfrm>
              <a:off x="0" y="0"/>
              <a:ext cx="6705000" cy="237960"/>
              <a:chOff x="0" y="0"/>
              <a:chExt cx="6705000" cy="237960"/>
            </a:xfrm>
          </p:grpSpPr>
          <p:sp>
            <p:nvSpPr>
              <p:cNvPr id="537" name=""/>
              <p:cNvSpPr/>
              <p:nvPr/>
            </p:nvSpPr>
            <p:spPr>
              <a:xfrm>
                <a:off x="0" y="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setTime( 13, 27, 6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0" y="237960"/>
              <a:ext cx="6705000" cy="237960"/>
              <a:chOff x="0" y="237960"/>
              <a:chExt cx="6705000" cy="237960"/>
            </a:xfrm>
          </p:grpSpPr>
          <p:sp>
            <p:nvSpPr>
              <p:cNvPr id="540" name=""/>
              <p:cNvSpPr/>
              <p:nvPr/>
            </p:nvSpPr>
            <p:spPr>
              <a:xfrm>
                <a:off x="0" y="2379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0" y="2379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Military time after setTime is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0" y="475920"/>
              <a:ext cx="6705000" cy="237960"/>
              <a:chOff x="0" y="475920"/>
              <a:chExt cx="6705000" cy="237960"/>
            </a:xfrm>
          </p:grpSpPr>
          <p:sp>
            <p:nvSpPr>
              <p:cNvPr id="543" name=""/>
              <p:cNvSpPr/>
              <p:nvPr/>
            </p:nvSpPr>
            <p:spPr>
              <a:xfrm>
                <a:off x="0" y="4759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0" y="4759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0" y="714240"/>
              <a:ext cx="6705000" cy="237960"/>
              <a:chOff x="0" y="714240"/>
              <a:chExt cx="6705000" cy="237960"/>
            </a:xfrm>
          </p:grpSpPr>
          <p:sp>
            <p:nvSpPr>
              <p:cNvPr id="546" name=""/>
              <p:cNvSpPr/>
              <p:nvPr/>
            </p:nvSpPr>
            <p:spPr>
              <a:xfrm>
                <a:off x="0" y="7142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0" y="7142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Standard time after setTime is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0" y="952200"/>
              <a:ext cx="6705000" cy="237960"/>
              <a:chOff x="0" y="952200"/>
              <a:chExt cx="6705000" cy="237960"/>
            </a:xfrm>
          </p:grpSpPr>
          <p:sp>
            <p:nvSpPr>
              <p:cNvPr id="549" name=""/>
              <p:cNvSpPr/>
              <p:nvPr/>
            </p:nvSpPr>
            <p:spPr>
              <a:xfrm>
                <a:off x="0" y="9522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0" y="9522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0" y="1190520"/>
              <a:ext cx="6705000" cy="237960"/>
              <a:chOff x="0" y="1190520"/>
              <a:chExt cx="6705000" cy="237960"/>
            </a:xfrm>
          </p:grpSpPr>
          <p:sp>
            <p:nvSpPr>
              <p:cNvPr id="552" name=""/>
              <p:cNvSpPr/>
              <p:nvPr/>
            </p:nvSpPr>
            <p:spPr>
              <a:xfrm>
                <a:off x="0" y="11905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0" y="11905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0" y="1428480"/>
              <a:ext cx="6705000" cy="237960"/>
              <a:chOff x="0" y="1428480"/>
              <a:chExt cx="6705000" cy="237960"/>
            </a:xfrm>
          </p:grpSpPr>
          <p:sp>
            <p:nvSpPr>
              <p:cNvPr id="555" name=""/>
              <p:cNvSpPr/>
              <p:nvPr/>
            </p:nvSpPr>
            <p:spPr>
              <a:xfrm>
                <a:off x="0" y="142848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0" y="142848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setTime( 99, 99, 99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ttempt invalid set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0" y="1666800"/>
              <a:ext cx="6705000" cy="237960"/>
              <a:chOff x="0" y="1666800"/>
              <a:chExt cx="6705000" cy="237960"/>
            </a:xfrm>
          </p:grpSpPr>
          <p:sp>
            <p:nvSpPr>
              <p:cNvPr id="558" name=""/>
              <p:cNvSpPr/>
              <p:nvPr/>
            </p:nvSpPr>
            <p:spPr>
              <a:xfrm>
                <a:off x="0" y="16668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0" y="16668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After attempting invalid settings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0" y="1904760"/>
              <a:ext cx="6705000" cy="237960"/>
              <a:chOff x="0" y="1904760"/>
              <a:chExt cx="6705000" cy="237960"/>
            </a:xfrm>
          </p:grpSpPr>
          <p:sp>
            <p:nvSpPr>
              <p:cNvPr id="561" name=""/>
              <p:cNvSpPr/>
              <p:nvPr/>
            </p:nvSpPr>
            <p:spPr>
              <a:xfrm>
                <a:off x="0" y="19047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0" y="19047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Military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0" y="2143080"/>
              <a:ext cx="6705000" cy="237960"/>
              <a:chOff x="0" y="2143080"/>
              <a:chExt cx="6705000" cy="237960"/>
            </a:xfrm>
          </p:grpSpPr>
          <p:sp>
            <p:nvSpPr>
              <p:cNvPr id="564" name=""/>
              <p:cNvSpPr/>
              <p:nvPr/>
            </p:nvSpPr>
            <p:spPr>
              <a:xfrm>
                <a:off x="0" y="214308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0" y="214308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0" y="2381040"/>
              <a:ext cx="6705000" cy="237960"/>
              <a:chOff x="0" y="2381040"/>
              <a:chExt cx="6705000" cy="237960"/>
            </a:xfrm>
          </p:grpSpPr>
          <p:sp>
            <p:nvSpPr>
              <p:cNvPr id="567" name=""/>
              <p:cNvSpPr/>
              <p:nvPr/>
            </p:nvSpPr>
            <p:spPr>
              <a:xfrm>
                <a:off x="0" y="23810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0" y="23810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Standard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0" y="2619360"/>
              <a:ext cx="6705000" cy="237960"/>
              <a:chOff x="0" y="2619360"/>
              <a:chExt cx="6705000" cy="237960"/>
            </a:xfrm>
          </p:grpSpPr>
          <p:sp>
            <p:nvSpPr>
              <p:cNvPr id="570" name=""/>
              <p:cNvSpPr/>
              <p:nvPr/>
            </p:nvSpPr>
            <p:spPr>
              <a:xfrm>
                <a:off x="0" y="26193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0" y="26193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0" y="2857320"/>
              <a:ext cx="6705000" cy="237960"/>
              <a:chOff x="0" y="2857320"/>
              <a:chExt cx="6705000" cy="237960"/>
            </a:xfrm>
          </p:grpSpPr>
          <p:sp>
            <p:nvSpPr>
              <p:cNvPr id="573" name=""/>
              <p:cNvSpPr/>
              <p:nvPr/>
            </p:nvSpPr>
            <p:spPr>
              <a:xfrm>
                <a:off x="0" y="28573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0" y="28573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0" y="3095640"/>
              <a:ext cx="6705000" cy="237960"/>
              <a:chOff x="0" y="3095640"/>
              <a:chExt cx="6705000" cy="237960"/>
            </a:xfrm>
          </p:grpSpPr>
          <p:sp>
            <p:nvSpPr>
              <p:cNvPr id="576" name=""/>
              <p:cNvSpPr/>
              <p:nvPr/>
            </p:nvSpPr>
            <p:spPr>
              <a:xfrm>
                <a:off x="0" y="30956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0" y="30956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0" y="3333600"/>
              <a:ext cx="6705000" cy="237960"/>
              <a:chOff x="0" y="3333600"/>
              <a:chExt cx="6705000" cy="237960"/>
            </a:xfrm>
          </p:grpSpPr>
          <p:sp>
            <p:nvSpPr>
              <p:cNvPr id="579" name=""/>
              <p:cNvSpPr/>
              <p:nvPr/>
            </p:nvSpPr>
            <p:spPr>
              <a:xfrm>
                <a:off x="0" y="33336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0" y="33336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1" name=""/>
          <p:cNvSpPr/>
          <p:nvPr/>
        </p:nvSpPr>
        <p:spPr>
          <a:xfrm>
            <a:off x="0" y="3886200"/>
            <a:ext cx="6705720" cy="1919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initial military time is 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initial standard time is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litary time after setTime is 13: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ndard time after setTime is 1:27:06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attempting invalid sett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litary time: 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ndard time: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629400" y="838080"/>
            <a:ext cx="2371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Set and print the tim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3 Set the time to an invalid hour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4 Print the time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br>
              <a:rPr sz="1600"/>
            </a:br>
            <a:br>
              <a:rPr sz="1200"/>
            </a:br>
            <a:endParaRPr b="0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83" name=""/>
          <p:cNvSpPr/>
          <p:nvPr/>
        </p:nvSpPr>
        <p:spPr>
          <a:xfrm>
            <a:off x="3352680" y="1041480"/>
            <a:ext cx="45720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litary time after setTime is 13: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ndard time after setTime is 1:27:06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581280" y="266688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attempting invalid sett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litary time: 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ndard time: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96E20-CDE4-41D5-A01F-AFF27FEEE8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Time Abstract Data Type with a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with the same name as the class but preceded with a tilde characte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~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take arguments and cannot be overloa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s “termination housekeeping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ope resolution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bines the class name with the member function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fferent classes can have member functions with the sam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 for defining 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turnType ClassName::MemberFunctionName( 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08612-974B-4A8E-86F3-702F26DC3D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Time Abstract Data Type with a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member function is defined inside th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ope resolution operator and class name are not needed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ng a function outside a class does not change it be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 encourage software r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eritance allows new classes to be derived from old 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C6148-2C38-405B-8083-CED2C9F4F5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6 Class Scope and Accessing Class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members and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ide a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s accessible by all member func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d by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side a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s are referenced through hand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name, a reference to an object or a pointer to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F8CC7-2872-4A72-8C92-BC15C9AA97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6 Class Scope and Accessing Class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only known to function they are defined 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are destroyed after function comple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ing class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as struc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t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objects and arrow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ho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Ptr-&gt;ho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2067A-EEB5-432D-B143-1F638B124E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2. Create an object of the class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2.1 Assign a value to the object. Print the value using the dot operator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2.2 Set a new value and print it using a reference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Create an object of the clas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Assign a value to the object. Print the value using the dot operator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Set a new value and print it using a referenc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0" y="0"/>
            <a:ext cx="6705000" cy="6857640"/>
            <a:chOff x="0" y="0"/>
            <a:chExt cx="6705000" cy="6857640"/>
          </a:xfrm>
        </p:grpSpPr>
        <p:grpSp>
          <p:nvGrpSpPr>
            <p:cNvPr id="596" name=""/>
            <p:cNvGrpSpPr/>
            <p:nvPr/>
          </p:nvGrpSpPr>
          <p:grpSpPr>
            <a:xfrm>
              <a:off x="0" y="0"/>
              <a:ext cx="6705000" cy="228240"/>
              <a:chOff x="0" y="0"/>
              <a:chExt cx="6705000" cy="228240"/>
            </a:xfrm>
          </p:grpSpPr>
          <p:sp>
            <p:nvSpPr>
              <p:cNvPr id="597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4: fig06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0" y="228240"/>
              <a:ext cx="6705000" cy="228240"/>
              <a:chOff x="0" y="228240"/>
              <a:chExt cx="6705000" cy="228240"/>
            </a:xfrm>
          </p:grpSpPr>
          <p:sp>
            <p:nvSpPr>
              <p:cNvPr id="600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the class member access operators . and -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0" y="456840"/>
              <a:ext cx="6705000" cy="228600"/>
              <a:chOff x="0" y="456840"/>
              <a:chExt cx="6705000" cy="228600"/>
            </a:xfrm>
          </p:grpSpPr>
          <p:sp>
            <p:nvSpPr>
              <p:cNvPr id="603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0" y="685800"/>
              <a:ext cx="6705000" cy="228240"/>
              <a:chOff x="0" y="685800"/>
              <a:chExt cx="6705000" cy="228240"/>
            </a:xfrm>
          </p:grpSpPr>
          <p:sp>
            <p:nvSpPr>
              <p:cNvPr id="606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UTION: IN FUTURE EXAMPLES WE AVOID PUBLIC DATA!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0" y="914400"/>
              <a:ext cx="6705000" cy="228240"/>
              <a:chOff x="0" y="914400"/>
              <a:chExt cx="6705000" cy="228240"/>
            </a:xfrm>
          </p:grpSpPr>
          <p:sp>
            <p:nvSpPr>
              <p:cNvPr id="609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0" y="1143000"/>
              <a:ext cx="6705000" cy="228240"/>
              <a:chOff x="0" y="1143000"/>
              <a:chExt cx="6705000" cy="228240"/>
            </a:xfrm>
          </p:grpSpPr>
          <p:sp>
            <p:nvSpPr>
              <p:cNvPr id="612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0" y="1371240"/>
              <a:ext cx="6705000" cy="228600"/>
              <a:chOff x="0" y="1371240"/>
              <a:chExt cx="6705000" cy="228600"/>
            </a:xfrm>
          </p:grpSpPr>
          <p:sp>
            <p:nvSpPr>
              <p:cNvPr id="615" name="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0" y="1600200"/>
              <a:ext cx="6705000" cy="228240"/>
              <a:chOff x="0" y="1600200"/>
              <a:chExt cx="6705000" cy="228240"/>
            </a:xfrm>
          </p:grpSpPr>
          <p:sp>
            <p:nvSpPr>
              <p:cNvPr id="618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0" y="1828800"/>
              <a:ext cx="6705000" cy="228240"/>
              <a:chOff x="0" y="1828800"/>
              <a:chExt cx="6705000" cy="228240"/>
            </a:xfrm>
          </p:grpSpPr>
          <p:sp>
            <p:nvSpPr>
              <p:cNvPr id="621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0" y="2057400"/>
              <a:ext cx="6705000" cy="228240"/>
              <a:chOff x="0" y="2057400"/>
              <a:chExt cx="6705000" cy="228240"/>
            </a:xfrm>
          </p:grpSpPr>
          <p:sp>
            <p:nvSpPr>
              <p:cNvPr id="624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// Simple class 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0" y="2286000"/>
              <a:ext cx="6705000" cy="228600"/>
              <a:chOff x="0" y="2286000"/>
              <a:chExt cx="6705000" cy="228600"/>
            </a:xfrm>
          </p:grpSpPr>
          <p:sp>
            <p:nvSpPr>
              <p:cNvPr id="627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u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0" y="2514600"/>
              <a:ext cx="6705000" cy="228240"/>
              <a:chOff x="0" y="2514600"/>
              <a:chExt cx="6705000" cy="228240"/>
            </a:xfrm>
          </p:grpSpPr>
          <p:sp>
            <p:nvSpPr>
              <p:cNvPr id="630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0" y="2743200"/>
              <a:ext cx="6705000" cy="228240"/>
              <a:chOff x="0" y="2743200"/>
              <a:chExt cx="6705000" cy="228240"/>
            </a:xfrm>
          </p:grpSpPr>
          <p:sp>
            <p:nvSpPr>
              <p:cNvPr id="633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0" y="2971800"/>
              <a:ext cx="6705000" cy="228240"/>
              <a:chOff x="0" y="2971800"/>
              <a:chExt cx="6705000" cy="228240"/>
            </a:xfrm>
          </p:grpSpPr>
          <p:sp>
            <p:nvSpPr>
              <p:cNvPr id="636" name="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{ cout &lt;&lt; x &lt;&lt; endl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0" y="3200400"/>
              <a:ext cx="6705000" cy="228600"/>
              <a:chOff x="0" y="3200400"/>
              <a:chExt cx="6705000" cy="228600"/>
            </a:xfrm>
          </p:grpSpPr>
          <p:sp>
            <p:nvSpPr>
              <p:cNvPr id="639" name="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0" y="3429000"/>
              <a:ext cx="6705000" cy="228240"/>
              <a:chOff x="0" y="3429000"/>
              <a:chExt cx="6705000" cy="228240"/>
            </a:xfrm>
          </p:grpSpPr>
          <p:sp>
            <p:nvSpPr>
              <p:cNvPr id="642" name="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0" y="3657600"/>
              <a:ext cx="6705000" cy="228240"/>
              <a:chOff x="0" y="3657600"/>
              <a:chExt cx="6705000" cy="228240"/>
            </a:xfrm>
          </p:grpSpPr>
          <p:sp>
            <p:nvSpPr>
              <p:cNvPr id="645" name="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0" y="3886200"/>
              <a:ext cx="6705000" cy="228240"/>
              <a:chOff x="0" y="3886200"/>
              <a:chExt cx="6705000" cy="228240"/>
            </a:xfrm>
          </p:grpSpPr>
          <p:sp>
            <p:nvSpPr>
              <p:cNvPr id="648" name="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0" y="4114800"/>
              <a:ext cx="6705000" cy="228240"/>
              <a:chOff x="0" y="4114800"/>
              <a:chExt cx="6705000" cy="228240"/>
            </a:xfrm>
          </p:grpSpPr>
          <p:sp>
            <p:nvSpPr>
              <p:cNvPr id="651" name="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 counter,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reate counter objec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0" y="4343400"/>
              <a:ext cx="6705000" cy="228600"/>
              <a:chOff x="0" y="4343400"/>
              <a:chExt cx="6705000" cy="228600"/>
            </a:xfrm>
          </p:grpSpPr>
          <p:sp>
            <p:nvSpPr>
              <p:cNvPr id="654" name="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*counterPtr = &amp;counter,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ointer to cou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0" y="4572000"/>
              <a:ext cx="6705000" cy="228240"/>
              <a:chOff x="0" y="4572000"/>
              <a:chExt cx="6705000" cy="228240"/>
            </a:xfrm>
          </p:grpSpPr>
          <p:sp>
            <p:nvSpPr>
              <p:cNvPr id="657" name="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&amp;counterRef = counter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ference to cou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0" y="4800600"/>
              <a:ext cx="6705000" cy="228240"/>
              <a:chOff x="0" y="4800600"/>
              <a:chExt cx="6705000" cy="228240"/>
            </a:xfrm>
          </p:grpSpPr>
          <p:sp>
            <p:nvSpPr>
              <p:cNvPr id="660" name="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0" y="5029200"/>
              <a:ext cx="6705000" cy="228240"/>
              <a:chOff x="0" y="5029200"/>
              <a:chExt cx="6705000" cy="228240"/>
            </a:xfrm>
          </p:grpSpPr>
          <p:sp>
            <p:nvSpPr>
              <p:cNvPr id="663" name="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Assign 7 to x and print using the object's na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0" y="5257800"/>
              <a:ext cx="6705000" cy="228600"/>
              <a:chOff x="0" y="5257800"/>
              <a:chExt cx="6705000" cy="228600"/>
            </a:xfrm>
          </p:grpSpPr>
          <p:sp>
            <p:nvSpPr>
              <p:cNvPr id="666" name="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.x = 7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ssign 7 to data member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0" y="5486400"/>
              <a:ext cx="6705000" cy="228240"/>
              <a:chOff x="0" y="5486400"/>
              <a:chExt cx="6705000" cy="228240"/>
            </a:xfrm>
          </p:grpSpPr>
          <p:sp>
            <p:nvSpPr>
              <p:cNvPr id="669" name="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.print(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call member function pr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0" y="5715000"/>
              <a:ext cx="6705000" cy="228240"/>
              <a:chOff x="0" y="5715000"/>
              <a:chExt cx="6705000" cy="228240"/>
            </a:xfrm>
          </p:grpSpPr>
          <p:sp>
            <p:nvSpPr>
              <p:cNvPr id="672" name="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0" y="5943600"/>
              <a:ext cx="6705000" cy="228240"/>
              <a:chOff x="0" y="5943600"/>
              <a:chExt cx="6705000" cy="228240"/>
            </a:xfrm>
          </p:grpSpPr>
          <p:sp>
            <p:nvSpPr>
              <p:cNvPr id="675" name="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Assign 8 to x and print using a referenc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0" y="6172200"/>
              <a:ext cx="6705000" cy="228600"/>
              <a:chOff x="0" y="6172200"/>
              <a:chExt cx="6705000" cy="228600"/>
            </a:xfrm>
          </p:grpSpPr>
          <p:sp>
            <p:nvSpPr>
              <p:cNvPr id="678" name="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Ref.x = 8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assign 8 to data member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0" y="6400800"/>
              <a:ext cx="6705000" cy="228240"/>
              <a:chOff x="0" y="6400800"/>
              <a:chExt cx="6705000" cy="228240"/>
            </a:xfrm>
          </p:grpSpPr>
          <p:sp>
            <p:nvSpPr>
              <p:cNvPr id="681" name="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Ref.print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member function pr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0" y="6629400"/>
              <a:ext cx="6705000" cy="228240"/>
              <a:chOff x="0" y="6629400"/>
              <a:chExt cx="6705000" cy="228240"/>
            </a:xfrm>
          </p:grpSpPr>
          <p:sp>
            <p:nvSpPr>
              <p:cNvPr id="684" name=""/>
              <p:cNvSpPr/>
              <p:nvPr/>
            </p:nvSpPr>
            <p:spPr>
              <a:xfrm>
                <a:off x="0" y="6629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0" y="6629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6" name=""/>
          <p:cNvGrpSpPr/>
          <p:nvPr/>
        </p:nvGrpSpPr>
        <p:grpSpPr>
          <a:xfrm>
            <a:off x="1066320" y="914400"/>
            <a:ext cx="5182200" cy="2284200"/>
            <a:chOff x="1066320" y="914400"/>
            <a:chExt cx="5182200" cy="2284200"/>
          </a:xfrm>
        </p:grpSpPr>
        <p:sp>
          <p:nvSpPr>
            <p:cNvPr id="687" name=""/>
            <p:cNvSpPr/>
            <p:nvPr/>
          </p:nvSpPr>
          <p:spPr>
            <a:xfrm flipH="1">
              <a:off x="1066320" y="2057400"/>
              <a:ext cx="35816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419720" y="914400"/>
              <a:ext cx="1828800" cy="2284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 is rare to ha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 variables.  Usually only member functions 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 this keeps as much information hidden as possib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3C685-2413-4D20-A952-60CFC28998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programming (OOP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capsulates data (attributes) and functions (behavior) into packages call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hi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details are hidden within the classes themsel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are the standard unit of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lass is like a blueprint – reus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s are instantiated (created) from the clas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example, a house is an instance of a “blueprint clas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45EEC-0DA6-47A2-8B6E-EE82811A5D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3  Set a new value and print it using a pointer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0" y="0"/>
            <a:ext cx="6705000" cy="1523520"/>
            <a:chOff x="0" y="0"/>
            <a:chExt cx="6705000" cy="1523520"/>
          </a:xfrm>
        </p:grpSpPr>
        <p:grpSp>
          <p:nvGrpSpPr>
            <p:cNvPr id="691" name=""/>
            <p:cNvGrpSpPr/>
            <p:nvPr/>
          </p:nvGrpSpPr>
          <p:grpSpPr>
            <a:xfrm>
              <a:off x="0" y="0"/>
              <a:ext cx="6705000" cy="304560"/>
              <a:chOff x="0" y="0"/>
              <a:chExt cx="6705000" cy="30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0" y="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0" y="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Assign 10 to x and print using a point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0" y="304560"/>
              <a:ext cx="6705000" cy="304560"/>
              <a:chOff x="0" y="304560"/>
              <a:chExt cx="6705000" cy="304560"/>
            </a:xfrm>
          </p:grpSpPr>
          <p:sp>
            <p:nvSpPr>
              <p:cNvPr id="695" name=""/>
              <p:cNvSpPr/>
              <p:nvPr/>
            </p:nvSpPr>
            <p:spPr>
              <a:xfrm>
                <a:off x="0" y="30456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0" y="30456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Ptr-&gt;x = 1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ssign 10 to data member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0" y="609480"/>
              <a:ext cx="6705000" cy="304920"/>
              <a:chOff x="0" y="609480"/>
              <a:chExt cx="6705000" cy="304920"/>
            </a:xfrm>
          </p:grpSpPr>
          <p:sp>
            <p:nvSpPr>
              <p:cNvPr id="698" name=""/>
              <p:cNvSpPr/>
              <p:nvPr/>
            </p:nvSpPr>
            <p:spPr>
              <a:xfrm>
                <a:off x="0" y="609480"/>
                <a:ext cx="670500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0" y="609480"/>
                <a:ext cx="670500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Ptr-&gt;print();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all member function pr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0" y="914400"/>
              <a:ext cx="6705000" cy="304560"/>
              <a:chOff x="0" y="914400"/>
              <a:chExt cx="6705000" cy="304560"/>
            </a:xfrm>
          </p:grpSpPr>
          <p:sp>
            <p:nvSpPr>
              <p:cNvPr id="701" name=""/>
              <p:cNvSpPr/>
              <p:nvPr/>
            </p:nvSpPr>
            <p:spPr>
              <a:xfrm>
                <a:off x="0" y="91440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0" y="91440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0" y="1218960"/>
              <a:ext cx="6705000" cy="304560"/>
              <a:chOff x="0" y="1218960"/>
              <a:chExt cx="6705000" cy="304560"/>
            </a:xfrm>
          </p:grpSpPr>
          <p:sp>
            <p:nvSpPr>
              <p:cNvPr id="704" name=""/>
              <p:cNvSpPr/>
              <p:nvPr/>
            </p:nvSpPr>
            <p:spPr>
              <a:xfrm>
                <a:off x="0" y="121896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0" y="121896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6" name=""/>
          <p:cNvSpPr/>
          <p:nvPr/>
        </p:nvSpPr>
        <p:spPr>
          <a:xfrm>
            <a:off x="0" y="2209680"/>
            <a:ext cx="67057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ssign 7 to x and print using the object's name: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ssign 8 to x and print using a reference: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ssign 10 to x and print using a pointer: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48B23-D311-46FC-A99B-EE7A27E6A8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7 Separating Interface from Implementation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rating interface from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s it easier to modify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class definitions and function proto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urce-code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member function defin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A8007-86C2-4787-AC24-DDECBAF8AA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"/>
          <p:cNvGrpSpPr/>
          <p:nvPr/>
        </p:nvGrpSpPr>
        <p:grpSpPr>
          <a:xfrm>
            <a:off x="0" y="0"/>
            <a:ext cx="6705000" cy="6400800"/>
            <a:chOff x="0" y="0"/>
            <a:chExt cx="6705000" cy="6400800"/>
          </a:xfrm>
        </p:grpSpPr>
        <p:grpSp>
          <p:nvGrpSpPr>
            <p:cNvPr id="710" name=""/>
            <p:cNvGrpSpPr/>
            <p:nvPr/>
          </p:nvGrpSpPr>
          <p:grpSpPr>
            <a:xfrm>
              <a:off x="0" y="0"/>
              <a:ext cx="6705000" cy="290880"/>
              <a:chOff x="0" y="0"/>
              <a:chExt cx="6705000" cy="290880"/>
            </a:xfrm>
          </p:grpSpPr>
          <p:sp>
            <p:nvSpPr>
              <p:cNvPr id="711" name=""/>
              <p:cNvSpPr/>
              <p:nvPr/>
            </p:nvSpPr>
            <p:spPr>
              <a:xfrm>
                <a:off x="0" y="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0" y="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5: tim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0" y="290880"/>
              <a:ext cx="6705000" cy="290880"/>
              <a:chOff x="0" y="290880"/>
              <a:chExt cx="6705000" cy="290880"/>
            </a:xfrm>
          </p:grpSpPr>
          <p:sp>
            <p:nvSpPr>
              <p:cNvPr id="714" name=""/>
              <p:cNvSpPr/>
              <p:nvPr/>
            </p:nvSpPr>
            <p:spPr>
              <a:xfrm>
                <a:off x="0" y="2908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0" y="2908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 of the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0" y="581760"/>
              <a:ext cx="6705000" cy="290880"/>
              <a:chOff x="0" y="581760"/>
              <a:chExt cx="6705000" cy="290880"/>
            </a:xfrm>
          </p:grpSpPr>
          <p:sp>
            <p:nvSpPr>
              <p:cNvPr id="717" name=""/>
              <p:cNvSpPr/>
              <p:nvPr/>
            </p:nvSpPr>
            <p:spPr>
              <a:xfrm>
                <a:off x="0" y="5817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0" y="5817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are defined in tim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0" y="872640"/>
              <a:ext cx="6705000" cy="290880"/>
              <a:chOff x="0" y="872640"/>
              <a:chExt cx="6705000" cy="290880"/>
            </a:xfrm>
          </p:grpSpPr>
          <p:sp>
            <p:nvSpPr>
              <p:cNvPr id="720" name=""/>
              <p:cNvSpPr/>
              <p:nvPr/>
            </p:nvSpPr>
            <p:spPr>
              <a:xfrm>
                <a:off x="0" y="8726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0" y="8726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0" y="1163520"/>
              <a:ext cx="6705000" cy="290880"/>
              <a:chOff x="0" y="1163520"/>
              <a:chExt cx="6705000" cy="290880"/>
            </a:xfrm>
          </p:grpSpPr>
          <p:sp>
            <p:nvSpPr>
              <p:cNvPr id="723" name=""/>
              <p:cNvSpPr/>
              <p:nvPr/>
            </p:nvSpPr>
            <p:spPr>
              <a:xfrm>
                <a:off x="0" y="11635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0" y="11635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event multiple inclusions of header f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0" y="1454400"/>
              <a:ext cx="6705000" cy="290880"/>
              <a:chOff x="0" y="1454400"/>
              <a:chExt cx="6705000" cy="290880"/>
            </a:xfrm>
          </p:grpSpPr>
          <p:sp>
            <p:nvSpPr>
              <p:cNvPr id="726" name=""/>
              <p:cNvSpPr/>
              <p:nvPr/>
            </p:nvSpPr>
            <p:spPr>
              <a:xfrm>
                <a:off x="0" y="1454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0" y="1454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fndef TIM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0" y="1745640"/>
              <a:ext cx="6705000" cy="290880"/>
              <a:chOff x="0" y="1745640"/>
              <a:chExt cx="6705000" cy="290880"/>
            </a:xfrm>
          </p:grpSpPr>
          <p:sp>
            <p:nvSpPr>
              <p:cNvPr id="729" name=""/>
              <p:cNvSpPr/>
              <p:nvPr/>
            </p:nvSpPr>
            <p:spPr>
              <a:xfrm>
                <a:off x="0" y="17456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0" y="17456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define TIM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0" y="2036520"/>
              <a:ext cx="6705000" cy="290880"/>
              <a:chOff x="0" y="2036520"/>
              <a:chExt cx="6705000" cy="290880"/>
            </a:xfrm>
          </p:grpSpPr>
          <p:sp>
            <p:nvSpPr>
              <p:cNvPr id="732" name=""/>
              <p:cNvSpPr/>
              <p:nvPr/>
            </p:nvSpPr>
            <p:spPr>
              <a:xfrm>
                <a:off x="0" y="20365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0" y="20365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0" y="2327400"/>
              <a:ext cx="6705000" cy="290880"/>
              <a:chOff x="0" y="2327400"/>
              <a:chExt cx="6705000" cy="290880"/>
            </a:xfrm>
          </p:grpSpPr>
          <p:sp>
            <p:nvSpPr>
              <p:cNvPr id="735" name=""/>
              <p:cNvSpPr/>
              <p:nvPr/>
            </p:nvSpPr>
            <p:spPr>
              <a:xfrm>
                <a:off x="0" y="2327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0" y="2327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ime abstract data type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0" y="2618280"/>
              <a:ext cx="6705000" cy="290880"/>
              <a:chOff x="0" y="2618280"/>
              <a:chExt cx="6705000" cy="290880"/>
            </a:xfrm>
          </p:grpSpPr>
          <p:sp>
            <p:nvSpPr>
              <p:cNvPr id="738" name=""/>
              <p:cNvSpPr/>
              <p:nvPr/>
            </p:nvSpPr>
            <p:spPr>
              <a:xfrm>
                <a:off x="0" y="2618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2618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0" y="2909160"/>
              <a:ext cx="6705000" cy="290880"/>
              <a:chOff x="0" y="2909160"/>
              <a:chExt cx="6705000" cy="290880"/>
            </a:xfrm>
          </p:grpSpPr>
          <p:sp>
            <p:nvSpPr>
              <p:cNvPr id="741" name=""/>
              <p:cNvSpPr/>
              <p:nvPr/>
            </p:nvSpPr>
            <p:spPr>
              <a:xfrm>
                <a:off x="0" y="2909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0" y="2909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0" y="3200400"/>
              <a:ext cx="6705000" cy="290880"/>
              <a:chOff x="0" y="3200400"/>
              <a:chExt cx="6705000" cy="290880"/>
            </a:xfrm>
          </p:grpSpPr>
          <p:sp>
            <p:nvSpPr>
              <p:cNvPr id="744" name=""/>
              <p:cNvSpPr/>
              <p:nvPr/>
            </p:nvSpPr>
            <p:spPr>
              <a:xfrm>
                <a:off x="0" y="3200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3200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();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0" y="3491280"/>
              <a:ext cx="6705000" cy="290880"/>
              <a:chOff x="0" y="3491280"/>
              <a:chExt cx="6705000" cy="290880"/>
            </a:xfrm>
          </p:grpSpPr>
          <p:sp>
            <p:nvSpPr>
              <p:cNvPr id="747" name=""/>
              <p:cNvSpPr/>
              <p:nvPr/>
            </p:nvSpPr>
            <p:spPr>
              <a:xfrm>
                <a:off x="0" y="3491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0" y="3491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Time( int, int, int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hour, minute,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0" y="3782160"/>
              <a:ext cx="6705000" cy="290880"/>
              <a:chOff x="0" y="3782160"/>
              <a:chExt cx="6705000" cy="290880"/>
            </a:xfrm>
          </p:grpSpPr>
          <p:sp>
            <p:nvSpPr>
              <p:cNvPr id="750" name=""/>
              <p:cNvSpPr/>
              <p:nvPr/>
            </p:nvSpPr>
            <p:spPr>
              <a:xfrm>
                <a:off x="0" y="3782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0" y="3782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Military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military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0" y="4073040"/>
              <a:ext cx="6705000" cy="290880"/>
              <a:chOff x="0" y="4073040"/>
              <a:chExt cx="6705000" cy="290880"/>
            </a:xfrm>
          </p:grpSpPr>
          <p:sp>
            <p:nvSpPr>
              <p:cNvPr id="753" name=""/>
              <p:cNvSpPr/>
              <p:nvPr/>
            </p:nvSpPr>
            <p:spPr>
              <a:xfrm>
                <a:off x="0" y="4073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0" y="4073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tandard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standard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0" y="4364280"/>
              <a:ext cx="6705000" cy="290880"/>
              <a:chOff x="0" y="4364280"/>
              <a:chExt cx="6705000" cy="290880"/>
            </a:xfrm>
          </p:grpSpPr>
          <p:sp>
            <p:nvSpPr>
              <p:cNvPr id="756" name=""/>
              <p:cNvSpPr/>
              <p:nvPr/>
            </p:nvSpPr>
            <p:spPr>
              <a:xfrm>
                <a:off x="0" y="4364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0" y="4364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0" y="4655160"/>
              <a:ext cx="6705000" cy="290880"/>
              <a:chOff x="0" y="4655160"/>
              <a:chExt cx="6705000" cy="290880"/>
            </a:xfrm>
          </p:grpSpPr>
          <p:sp>
            <p:nvSpPr>
              <p:cNvPr id="759" name=""/>
              <p:cNvSpPr/>
              <p:nvPr/>
            </p:nvSpPr>
            <p:spPr>
              <a:xfrm>
                <a:off x="0" y="4655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4655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0" y="4946040"/>
              <a:ext cx="6705000" cy="290880"/>
              <a:chOff x="0" y="4946040"/>
              <a:chExt cx="6705000" cy="290880"/>
            </a:xfrm>
          </p:grpSpPr>
          <p:sp>
            <p:nvSpPr>
              <p:cNvPr id="762" name=""/>
              <p:cNvSpPr/>
              <p:nvPr/>
            </p:nvSpPr>
            <p:spPr>
              <a:xfrm>
                <a:off x="0" y="4946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0" y="4946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0" y="5236920"/>
              <a:ext cx="6705000" cy="290880"/>
              <a:chOff x="0" y="5236920"/>
              <a:chExt cx="6705000" cy="290880"/>
            </a:xfrm>
          </p:grpSpPr>
          <p:sp>
            <p:nvSpPr>
              <p:cNvPr id="765" name=""/>
              <p:cNvSpPr/>
              <p:nvPr/>
            </p:nvSpPr>
            <p:spPr>
              <a:xfrm>
                <a:off x="0" y="52369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0" y="52369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0" y="5527800"/>
              <a:ext cx="6705000" cy="290880"/>
              <a:chOff x="0" y="5527800"/>
              <a:chExt cx="6705000" cy="290880"/>
            </a:xfrm>
          </p:grpSpPr>
          <p:sp>
            <p:nvSpPr>
              <p:cNvPr id="768" name=""/>
              <p:cNvSpPr/>
              <p:nvPr/>
            </p:nvSpPr>
            <p:spPr>
              <a:xfrm>
                <a:off x="0" y="55278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55278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0" y="5819040"/>
              <a:ext cx="6705000" cy="290880"/>
              <a:chOff x="0" y="5819040"/>
              <a:chExt cx="6705000" cy="290880"/>
            </a:xfrm>
          </p:grpSpPr>
          <p:sp>
            <p:nvSpPr>
              <p:cNvPr id="771" name=""/>
              <p:cNvSpPr/>
              <p:nvPr/>
            </p:nvSpPr>
            <p:spPr>
              <a:xfrm>
                <a:off x="0" y="5819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0" y="5819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0" y="6109920"/>
              <a:ext cx="6705000" cy="290880"/>
              <a:chOff x="0" y="6109920"/>
              <a:chExt cx="6705000" cy="290880"/>
            </a:xfrm>
          </p:grpSpPr>
          <p:sp>
            <p:nvSpPr>
              <p:cNvPr id="774" name=""/>
              <p:cNvSpPr/>
              <p:nvPr/>
            </p:nvSpPr>
            <p:spPr>
              <a:xfrm>
                <a:off x="0" y="61099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61099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6" name=""/>
          <p:cNvGrpSpPr/>
          <p:nvPr/>
        </p:nvGrpSpPr>
        <p:grpSpPr>
          <a:xfrm>
            <a:off x="1295280" y="2057400"/>
            <a:ext cx="7508880" cy="2000880"/>
            <a:chOff x="1295280" y="2057400"/>
            <a:chExt cx="7508880" cy="2000880"/>
          </a:xfrm>
        </p:grpSpPr>
        <p:sp>
          <p:nvSpPr>
            <p:cNvPr id="777" name=""/>
            <p:cNvSpPr/>
            <p:nvPr/>
          </p:nvSpPr>
          <p:spPr>
            <a:xfrm flipH="1" flipV="1">
              <a:off x="1295280" y="2057400"/>
              <a:ext cx="51818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105520" y="2133720"/>
              <a:ext cx="3698640" cy="192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me1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ME1_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is not define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#ifnd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then it is loade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#defi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ME1_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.  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ME1_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lready defined, then everything up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#endif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 igno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prevents loading a header file multiple tim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Using the sam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as before, create a header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2057400" y="1371600"/>
            <a:ext cx="6629400" cy="580680"/>
            <a:chOff x="2057400" y="1371600"/>
            <a:chExt cx="6629400" cy="580680"/>
          </a:xfrm>
        </p:grpSpPr>
        <p:sp>
          <p:nvSpPr>
            <p:cNvPr id="781" name=""/>
            <p:cNvSpPr/>
            <p:nvPr/>
          </p:nvSpPr>
          <p:spPr>
            <a:xfrm>
              <a:off x="4776840" y="1371600"/>
              <a:ext cx="3909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t (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) replaced with underscore (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_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) in file n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2057400" y="1828440"/>
              <a:ext cx="271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F898C-2B89-46CC-AC4C-B343D91840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 Create a source code fil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 Load the header file to get the class definition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.  Define the member functions of the clas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785" name=""/>
            <p:cNvGrpSpPr/>
            <p:nvPr/>
          </p:nvGrpSpPr>
          <p:grpSpPr>
            <a:xfrm>
              <a:off x="0" y="0"/>
              <a:ext cx="6705000" cy="190440"/>
              <a:chOff x="0" y="0"/>
              <a:chExt cx="6705000" cy="190440"/>
            </a:xfrm>
          </p:grpSpPr>
          <p:sp>
            <p:nvSpPr>
              <p:cNvPr id="786" name=""/>
              <p:cNvSpPr/>
              <p:nvPr/>
            </p:nvSpPr>
            <p:spPr>
              <a:xfrm>
                <a:off x="0" y="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0" y="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5: time1.cp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0" y="190440"/>
              <a:ext cx="6705000" cy="190440"/>
              <a:chOff x="0" y="190440"/>
              <a:chExt cx="6705000" cy="190440"/>
            </a:xfrm>
          </p:grpSpPr>
          <p:sp>
            <p:nvSpPr>
              <p:cNvPr id="789" name=""/>
              <p:cNvSpPr/>
              <p:nvPr/>
            </p:nvSpPr>
            <p:spPr>
              <a:xfrm>
                <a:off x="0" y="190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0" y="190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Time class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0" y="380880"/>
              <a:ext cx="6705000" cy="190440"/>
              <a:chOff x="0" y="380880"/>
              <a:chExt cx="6705000" cy="190440"/>
            </a:xfrm>
          </p:grpSpPr>
          <p:sp>
            <p:nvSpPr>
              <p:cNvPr id="792" name=""/>
              <p:cNvSpPr/>
              <p:nvPr/>
            </p:nvSpPr>
            <p:spPr>
              <a:xfrm>
                <a:off x="0" y="380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0" y="380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0" y="571320"/>
              <a:ext cx="6705000" cy="190440"/>
              <a:chOff x="0" y="571320"/>
              <a:chExt cx="6705000" cy="190440"/>
            </a:xfrm>
          </p:grpSpPr>
          <p:sp>
            <p:nvSpPr>
              <p:cNvPr id="795" name=""/>
              <p:cNvSpPr/>
              <p:nvPr/>
            </p:nvSpPr>
            <p:spPr>
              <a:xfrm>
                <a:off x="0" y="571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571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0" y="761760"/>
              <a:ext cx="6705000" cy="190440"/>
              <a:chOff x="0" y="761760"/>
              <a:chExt cx="6705000" cy="190440"/>
            </a:xfrm>
          </p:grpSpPr>
          <p:sp>
            <p:nvSpPr>
              <p:cNvPr id="798" name=""/>
              <p:cNvSpPr/>
              <p:nvPr/>
            </p:nvSpPr>
            <p:spPr>
              <a:xfrm>
                <a:off x="0" y="761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0" y="761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0" y="952200"/>
              <a:ext cx="6705000" cy="190440"/>
              <a:chOff x="0" y="952200"/>
              <a:chExt cx="6705000" cy="190440"/>
            </a:xfrm>
          </p:grpSpPr>
          <p:sp>
            <p:nvSpPr>
              <p:cNvPr id="801" name=""/>
              <p:cNvSpPr/>
              <p:nvPr/>
            </p:nvSpPr>
            <p:spPr>
              <a:xfrm>
                <a:off x="0" y="9522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0" y="9522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0" y="1142640"/>
              <a:ext cx="6705000" cy="190440"/>
              <a:chOff x="0" y="1142640"/>
              <a:chExt cx="6705000" cy="190440"/>
            </a:xfrm>
          </p:grpSpPr>
          <p:sp>
            <p:nvSpPr>
              <p:cNvPr id="804" name=""/>
              <p:cNvSpPr/>
              <p:nvPr/>
            </p:nvSpPr>
            <p:spPr>
              <a:xfrm>
                <a:off x="0" y="11426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0" y="11426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time1.h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0" y="1333440"/>
              <a:ext cx="6705000" cy="190440"/>
              <a:chOff x="0" y="1333440"/>
              <a:chExt cx="6705000" cy="190440"/>
            </a:xfrm>
          </p:grpSpPr>
          <p:sp>
            <p:nvSpPr>
              <p:cNvPr id="807" name=""/>
              <p:cNvSpPr/>
              <p:nvPr/>
            </p:nvSpPr>
            <p:spPr>
              <a:xfrm>
                <a:off x="0" y="1333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0" y="1333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0" y="1523880"/>
              <a:ext cx="6705000" cy="190440"/>
              <a:chOff x="0" y="1523880"/>
              <a:chExt cx="6705000" cy="190440"/>
            </a:xfrm>
          </p:grpSpPr>
          <p:sp>
            <p:nvSpPr>
              <p:cNvPr id="810" name=""/>
              <p:cNvSpPr/>
              <p:nvPr/>
            </p:nvSpPr>
            <p:spPr>
              <a:xfrm>
                <a:off x="0" y="1523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1523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ime constructor initializes each data member to zero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0" y="1714320"/>
              <a:ext cx="6705000" cy="190440"/>
              <a:chOff x="0" y="1714320"/>
              <a:chExt cx="6705000" cy="190440"/>
            </a:xfrm>
          </p:grpSpPr>
          <p:sp>
            <p:nvSpPr>
              <p:cNvPr id="813" name=""/>
              <p:cNvSpPr/>
              <p:nvPr/>
            </p:nvSpPr>
            <p:spPr>
              <a:xfrm>
                <a:off x="0" y="1714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0" y="1714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sures all Time objects start in a consistent state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0" y="1904760"/>
              <a:ext cx="6705000" cy="190440"/>
              <a:chOff x="0" y="1904760"/>
              <a:chExt cx="6705000" cy="190440"/>
            </a:xfrm>
          </p:grpSpPr>
          <p:sp>
            <p:nvSpPr>
              <p:cNvPr id="816" name=""/>
              <p:cNvSpPr/>
              <p:nvPr/>
            </p:nvSpPr>
            <p:spPr>
              <a:xfrm>
                <a:off x="0" y="1904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0" y="1904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::Time() { hour = minute = second = 0; }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0" y="2095560"/>
              <a:ext cx="6705000" cy="190440"/>
              <a:chOff x="0" y="2095560"/>
              <a:chExt cx="6705000" cy="190440"/>
            </a:xfrm>
          </p:grpSpPr>
          <p:sp>
            <p:nvSpPr>
              <p:cNvPr id="819" name=""/>
              <p:cNvSpPr/>
              <p:nvPr/>
            </p:nvSpPr>
            <p:spPr>
              <a:xfrm>
                <a:off x="0" y="2095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0" y="2095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286000"/>
              <a:ext cx="6705000" cy="190440"/>
              <a:chOff x="0" y="2286000"/>
              <a:chExt cx="6705000" cy="19044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286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2286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a new Time value using military time. Perform validity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0" y="2476440"/>
              <a:ext cx="6705000" cy="190440"/>
              <a:chOff x="0" y="2476440"/>
              <a:chExt cx="6705000" cy="190440"/>
            </a:xfrm>
          </p:grpSpPr>
          <p:sp>
            <p:nvSpPr>
              <p:cNvPr id="825" name=""/>
              <p:cNvSpPr/>
              <p:nvPr/>
            </p:nvSpPr>
            <p:spPr>
              <a:xfrm>
                <a:off x="0" y="2476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0" y="2476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hecks on the data values. Set invalid values to zero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0" y="2666880"/>
              <a:ext cx="6705000" cy="190440"/>
              <a:chOff x="0" y="2666880"/>
              <a:chExt cx="6705000" cy="190440"/>
            </a:xfrm>
          </p:grpSpPr>
          <p:sp>
            <p:nvSpPr>
              <p:cNvPr id="828" name=""/>
              <p:cNvSpPr/>
              <p:nvPr/>
            </p:nvSpPr>
            <p:spPr>
              <a:xfrm>
                <a:off x="0" y="2666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0" y="2666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setTime( int h, int m, int s 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0" y="2857320"/>
              <a:ext cx="6705000" cy="190440"/>
              <a:chOff x="0" y="2857320"/>
              <a:chExt cx="6705000" cy="190440"/>
            </a:xfrm>
          </p:grpSpPr>
          <p:sp>
            <p:nvSpPr>
              <p:cNvPr id="831" name=""/>
              <p:cNvSpPr/>
              <p:nvPr/>
            </p:nvSpPr>
            <p:spPr>
              <a:xfrm>
                <a:off x="0" y="2857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57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0" y="3047760"/>
              <a:ext cx="6705000" cy="190440"/>
              <a:chOff x="0" y="3047760"/>
              <a:chExt cx="6705000" cy="190440"/>
            </a:xfrm>
          </p:grpSpPr>
          <p:sp>
            <p:nvSpPr>
              <p:cNvPr id="834" name=""/>
              <p:cNvSpPr/>
              <p:nvPr/>
            </p:nvSpPr>
            <p:spPr>
              <a:xfrm>
                <a:off x="0" y="3047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0" y="3047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   = ( h &gt;= 0 &amp;&amp; h &lt; 24 ) ? h : 0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0" y="3238560"/>
              <a:ext cx="6705000" cy="190440"/>
              <a:chOff x="0" y="3238560"/>
              <a:chExt cx="6705000" cy="190440"/>
            </a:xfrm>
          </p:grpSpPr>
          <p:sp>
            <p:nvSpPr>
              <p:cNvPr id="837" name=""/>
              <p:cNvSpPr/>
              <p:nvPr/>
            </p:nvSpPr>
            <p:spPr>
              <a:xfrm>
                <a:off x="0" y="3238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0" y="3238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inute = ( m &gt;= 0 &amp;&amp; m &lt; 60 ) ? m : 0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0" y="3429000"/>
              <a:ext cx="6705000" cy="190440"/>
              <a:chOff x="0" y="3429000"/>
              <a:chExt cx="6705000" cy="190440"/>
            </a:xfrm>
          </p:grpSpPr>
          <p:sp>
            <p:nvSpPr>
              <p:cNvPr id="840" name=""/>
              <p:cNvSpPr/>
              <p:nvPr/>
            </p:nvSpPr>
            <p:spPr>
              <a:xfrm>
                <a:off x="0" y="3429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0" y="3429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cond = ( s &gt;= 0 &amp;&amp; s &lt; 60 ) ? s : 0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0" y="3619440"/>
              <a:ext cx="6705000" cy="190440"/>
              <a:chOff x="0" y="3619440"/>
              <a:chExt cx="6705000" cy="190440"/>
            </a:xfrm>
          </p:grpSpPr>
          <p:sp>
            <p:nvSpPr>
              <p:cNvPr id="843" name=""/>
              <p:cNvSpPr/>
              <p:nvPr/>
            </p:nvSpPr>
            <p:spPr>
              <a:xfrm>
                <a:off x="0" y="3619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0" y="3619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0" y="3809880"/>
              <a:ext cx="6705000" cy="190440"/>
              <a:chOff x="0" y="3809880"/>
              <a:chExt cx="6705000" cy="190440"/>
            </a:xfrm>
          </p:grpSpPr>
          <p:sp>
            <p:nvSpPr>
              <p:cNvPr id="846" name=""/>
              <p:cNvSpPr/>
              <p:nvPr/>
            </p:nvSpPr>
            <p:spPr>
              <a:xfrm>
                <a:off x="0" y="3809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809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0" y="4000320"/>
              <a:ext cx="6705000" cy="190440"/>
              <a:chOff x="0" y="4000320"/>
              <a:chExt cx="6705000" cy="190440"/>
            </a:xfrm>
          </p:grpSpPr>
          <p:sp>
            <p:nvSpPr>
              <p:cNvPr id="849" name=""/>
              <p:cNvSpPr/>
              <p:nvPr/>
            </p:nvSpPr>
            <p:spPr>
              <a:xfrm>
                <a:off x="0" y="4000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0" y="4000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ime in military forma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0" y="4190760"/>
              <a:ext cx="6705000" cy="190440"/>
              <a:chOff x="0" y="4190760"/>
              <a:chExt cx="6705000" cy="190440"/>
            </a:xfrm>
          </p:grpSpPr>
          <p:sp>
            <p:nvSpPr>
              <p:cNvPr id="852" name=""/>
              <p:cNvSpPr/>
              <p:nvPr/>
            </p:nvSpPr>
            <p:spPr>
              <a:xfrm>
                <a:off x="0" y="4190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0" y="4190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printMilitary(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0" y="4381560"/>
              <a:ext cx="6705000" cy="190440"/>
              <a:chOff x="0" y="4381560"/>
              <a:chExt cx="6705000" cy="190440"/>
            </a:xfrm>
          </p:grpSpPr>
          <p:sp>
            <p:nvSpPr>
              <p:cNvPr id="855" name=""/>
              <p:cNvSpPr/>
              <p:nvPr/>
            </p:nvSpPr>
            <p:spPr>
              <a:xfrm>
                <a:off x="0" y="4381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0" y="4381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0" y="4572000"/>
              <a:ext cx="6705000" cy="190440"/>
              <a:chOff x="0" y="4572000"/>
              <a:chExt cx="6705000" cy="190440"/>
            </a:xfrm>
          </p:grpSpPr>
          <p:sp>
            <p:nvSpPr>
              <p:cNvPr id="858" name=""/>
              <p:cNvSpPr/>
              <p:nvPr/>
            </p:nvSpPr>
            <p:spPr>
              <a:xfrm>
                <a:off x="0" y="4572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0" y="4572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hour &lt; 10 ? "0" : "" ) &lt;&lt; hour &lt;&lt; ":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"/>
            <p:cNvGrpSpPr/>
            <p:nvPr/>
          </p:nvGrpSpPr>
          <p:grpSpPr>
            <a:xfrm>
              <a:off x="0" y="4762440"/>
              <a:ext cx="6705000" cy="190440"/>
              <a:chOff x="0" y="4762440"/>
              <a:chExt cx="6705000" cy="190440"/>
            </a:xfrm>
          </p:grpSpPr>
          <p:sp>
            <p:nvSpPr>
              <p:cNvPr id="861" name=""/>
              <p:cNvSpPr/>
              <p:nvPr/>
            </p:nvSpPr>
            <p:spPr>
              <a:xfrm>
                <a:off x="0" y="4762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0" y="4762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minute &lt; 10 ? "0" : "" ) &lt;&lt; minute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"/>
            <p:cNvGrpSpPr/>
            <p:nvPr/>
          </p:nvGrpSpPr>
          <p:grpSpPr>
            <a:xfrm>
              <a:off x="0" y="4952880"/>
              <a:ext cx="6705000" cy="190440"/>
              <a:chOff x="0" y="4952880"/>
              <a:chExt cx="6705000" cy="190440"/>
            </a:xfrm>
          </p:grpSpPr>
          <p:sp>
            <p:nvSpPr>
              <p:cNvPr id="864" name=""/>
              <p:cNvSpPr/>
              <p:nvPr/>
            </p:nvSpPr>
            <p:spPr>
              <a:xfrm>
                <a:off x="0" y="4952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0" y="4952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0" y="5143320"/>
              <a:ext cx="6705000" cy="190440"/>
              <a:chOff x="0" y="5143320"/>
              <a:chExt cx="6705000" cy="190440"/>
            </a:xfrm>
          </p:grpSpPr>
          <p:sp>
            <p:nvSpPr>
              <p:cNvPr id="867" name=""/>
              <p:cNvSpPr/>
              <p:nvPr/>
            </p:nvSpPr>
            <p:spPr>
              <a:xfrm>
                <a:off x="0" y="5143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5143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"/>
            <p:cNvGrpSpPr/>
            <p:nvPr/>
          </p:nvGrpSpPr>
          <p:grpSpPr>
            <a:xfrm>
              <a:off x="0" y="5334120"/>
              <a:ext cx="6705000" cy="190440"/>
              <a:chOff x="0" y="5334120"/>
              <a:chExt cx="6705000" cy="190440"/>
            </a:xfrm>
          </p:grpSpPr>
          <p:sp>
            <p:nvSpPr>
              <p:cNvPr id="870" name=""/>
              <p:cNvSpPr/>
              <p:nvPr/>
            </p:nvSpPr>
            <p:spPr>
              <a:xfrm>
                <a:off x="0" y="53341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0" y="53341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ime in standard forma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2" name=""/>
            <p:cNvGrpSpPr/>
            <p:nvPr/>
          </p:nvGrpSpPr>
          <p:grpSpPr>
            <a:xfrm>
              <a:off x="0" y="5524560"/>
              <a:ext cx="6705000" cy="190440"/>
              <a:chOff x="0" y="5524560"/>
              <a:chExt cx="6705000" cy="190440"/>
            </a:xfrm>
          </p:grpSpPr>
          <p:sp>
            <p:nvSpPr>
              <p:cNvPr id="873" name=""/>
              <p:cNvSpPr/>
              <p:nvPr/>
            </p:nvSpPr>
            <p:spPr>
              <a:xfrm>
                <a:off x="0" y="5524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0" y="5524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printStandard(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5" name=""/>
            <p:cNvGrpSpPr/>
            <p:nvPr/>
          </p:nvGrpSpPr>
          <p:grpSpPr>
            <a:xfrm>
              <a:off x="0" y="5715000"/>
              <a:ext cx="6705000" cy="190440"/>
              <a:chOff x="0" y="5715000"/>
              <a:chExt cx="6705000" cy="190440"/>
            </a:xfrm>
          </p:grpSpPr>
          <p:sp>
            <p:nvSpPr>
              <p:cNvPr id="876" name=""/>
              <p:cNvSpPr/>
              <p:nvPr/>
            </p:nvSpPr>
            <p:spPr>
              <a:xfrm>
                <a:off x="0" y="5715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0" y="5715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0" y="5905440"/>
              <a:ext cx="6705000" cy="190440"/>
              <a:chOff x="0" y="5905440"/>
              <a:chExt cx="6705000" cy="190440"/>
            </a:xfrm>
          </p:grpSpPr>
          <p:sp>
            <p:nvSpPr>
              <p:cNvPr id="879" name=""/>
              <p:cNvSpPr/>
              <p:nvPr/>
            </p:nvSpPr>
            <p:spPr>
              <a:xfrm>
                <a:off x="0" y="5905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0" y="5905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( hour == 0 || hour == 12 ) ? 12 : hour % 12 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0" y="6095880"/>
              <a:ext cx="6705000" cy="190440"/>
              <a:chOff x="0" y="6095880"/>
              <a:chExt cx="6705000" cy="190440"/>
            </a:xfrm>
          </p:grpSpPr>
          <p:sp>
            <p:nvSpPr>
              <p:cNvPr id="882" name=""/>
              <p:cNvSpPr/>
              <p:nvPr/>
            </p:nvSpPr>
            <p:spPr>
              <a:xfrm>
                <a:off x="0" y="6095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6095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:" &lt;&lt; ( minute &lt; 10 ? "0" : "" ) &lt;&lt; minut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0" y="6286680"/>
              <a:ext cx="6705000" cy="190440"/>
              <a:chOff x="0" y="6286680"/>
              <a:chExt cx="6705000" cy="190440"/>
            </a:xfrm>
          </p:grpSpPr>
          <p:sp>
            <p:nvSpPr>
              <p:cNvPr id="885" name=""/>
              <p:cNvSpPr/>
              <p:nvPr/>
            </p:nvSpPr>
            <p:spPr>
              <a:xfrm>
                <a:off x="0" y="62866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0" y="62866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:" &lt;&lt; ( second &lt; 10 ? "0" : "" ) &lt;&lt; secon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0" y="6477120"/>
              <a:ext cx="6705000" cy="190440"/>
              <a:chOff x="0" y="6477120"/>
              <a:chExt cx="6705000" cy="190440"/>
            </a:xfrm>
          </p:grpSpPr>
          <p:sp>
            <p:nvSpPr>
              <p:cNvPr id="888" name=""/>
              <p:cNvSpPr/>
              <p:nvPr/>
            </p:nvSpPr>
            <p:spPr>
              <a:xfrm>
                <a:off x="0" y="64771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0" y="64771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hour &lt; 12 ? " AM" : " PM" )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0" y="6667560"/>
              <a:ext cx="6705000" cy="190440"/>
              <a:chOff x="0" y="6667560"/>
              <a:chExt cx="6705000" cy="190440"/>
            </a:xfrm>
          </p:grpSpPr>
          <p:sp>
            <p:nvSpPr>
              <p:cNvPr id="891" name=""/>
              <p:cNvSpPr/>
              <p:nvPr/>
            </p:nvSpPr>
            <p:spPr>
              <a:xfrm>
                <a:off x="0" y="6667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0" y="6667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3" name=""/>
          <p:cNvGrpSpPr/>
          <p:nvPr/>
        </p:nvGrpSpPr>
        <p:grpSpPr>
          <a:xfrm>
            <a:off x="2133720" y="920880"/>
            <a:ext cx="4495680" cy="580680"/>
            <a:chOff x="2133720" y="920880"/>
            <a:chExt cx="4495680" cy="580680"/>
          </a:xfrm>
        </p:grpSpPr>
        <p:sp>
          <p:nvSpPr>
            <p:cNvPr id="894" name=""/>
            <p:cNvSpPr/>
            <p:nvPr/>
          </p:nvSpPr>
          <p:spPr>
            <a:xfrm>
              <a:off x="3962520" y="920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urce file 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#inclu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load the header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2133720" y="12952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3505320" y="2895120"/>
            <a:ext cx="4724280" cy="2819880"/>
            <a:chOff x="3505320" y="2895120"/>
            <a:chExt cx="4724280" cy="2819880"/>
          </a:xfrm>
        </p:grpSpPr>
        <p:sp>
          <p:nvSpPr>
            <p:cNvPr id="897" name=""/>
            <p:cNvSpPr/>
            <p:nvPr/>
          </p:nvSpPr>
          <p:spPr>
            <a:xfrm>
              <a:off x="6095880" y="342900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urce file contains function defini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flipV="1">
              <a:off x="4114440" y="2895120"/>
              <a:ext cx="19810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3505320" y="3733920"/>
              <a:ext cx="2590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3886200" y="3733920"/>
              <a:ext cx="220968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C864F-C0C6-40D4-B7D9-6D9A519CF9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8 Controlling Access to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sents clients with a view of the services the class provides (interfa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and member functions are access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access m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only accessible to member functions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only accessible through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interface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6BF3D-C166-4290-9876-0C940EB390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" name=""/>
          <p:cNvGrpSpPr/>
          <p:nvPr/>
        </p:nvGrpSpPr>
        <p:grpSpPr>
          <a:xfrm>
            <a:off x="0" y="0"/>
            <a:ext cx="6705000" cy="4343400"/>
            <a:chOff x="0" y="0"/>
            <a:chExt cx="6705000" cy="4343400"/>
          </a:xfrm>
        </p:grpSpPr>
        <p:grpSp>
          <p:nvGrpSpPr>
            <p:cNvPr id="904" name=""/>
            <p:cNvGrpSpPr/>
            <p:nvPr/>
          </p:nvGrpSpPr>
          <p:grpSpPr>
            <a:xfrm>
              <a:off x="0" y="0"/>
              <a:ext cx="6705000" cy="206640"/>
              <a:chOff x="0" y="0"/>
              <a:chExt cx="6705000" cy="206640"/>
            </a:xfrm>
          </p:grpSpPr>
          <p:sp>
            <p:nvSpPr>
              <p:cNvPr id="905" name=""/>
              <p:cNvSpPr/>
              <p:nvPr/>
            </p:nvSpPr>
            <p:spPr>
              <a:xfrm>
                <a:off x="0" y="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0" y="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6: fig06_06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0" y="206640"/>
              <a:ext cx="6705000" cy="206640"/>
              <a:chOff x="0" y="206640"/>
              <a:chExt cx="6705000" cy="206640"/>
            </a:xfrm>
          </p:grpSpPr>
          <p:sp>
            <p:nvSpPr>
              <p:cNvPr id="908" name=""/>
              <p:cNvSpPr/>
              <p:nvPr/>
            </p:nvSpPr>
            <p:spPr>
              <a:xfrm>
                <a:off x="0" y="2066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2066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e errors resulting from attemp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0" y="413280"/>
              <a:ext cx="6705000" cy="206640"/>
              <a:chOff x="0" y="413280"/>
              <a:chExt cx="6705000" cy="206640"/>
            </a:xfrm>
          </p:grpSpPr>
          <p:sp>
            <p:nvSpPr>
              <p:cNvPr id="911" name=""/>
              <p:cNvSpPr/>
              <p:nvPr/>
            </p:nvSpPr>
            <p:spPr>
              <a:xfrm>
                <a:off x="0" y="413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0" y="413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o access private class member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0" y="620280"/>
              <a:ext cx="6705000" cy="206640"/>
              <a:chOff x="0" y="620280"/>
              <a:chExt cx="6705000" cy="206640"/>
            </a:xfrm>
          </p:grpSpPr>
          <p:sp>
            <p:nvSpPr>
              <p:cNvPr id="914" name=""/>
              <p:cNvSpPr/>
              <p:nvPr/>
            </p:nvSpPr>
            <p:spPr>
              <a:xfrm>
                <a:off x="0" y="620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0" y="620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0" y="827280"/>
              <a:ext cx="6705000" cy="206640"/>
              <a:chOff x="0" y="827280"/>
              <a:chExt cx="6705000" cy="206640"/>
            </a:xfrm>
          </p:grpSpPr>
          <p:sp>
            <p:nvSpPr>
              <p:cNvPr id="917" name=""/>
              <p:cNvSpPr/>
              <p:nvPr/>
            </p:nvSpPr>
            <p:spPr>
              <a:xfrm>
                <a:off x="0" y="827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0" y="827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0" y="1033920"/>
              <a:ext cx="6705000" cy="206640"/>
              <a:chOff x="0" y="1033920"/>
              <a:chExt cx="6705000" cy="206640"/>
            </a:xfrm>
          </p:grpSpPr>
          <p:sp>
            <p:nvSpPr>
              <p:cNvPr id="920" name=""/>
              <p:cNvSpPr/>
              <p:nvPr/>
            </p:nvSpPr>
            <p:spPr>
              <a:xfrm>
                <a:off x="0" y="1033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0" y="1033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0" y="1240920"/>
              <a:ext cx="6705000" cy="206640"/>
              <a:chOff x="0" y="1240920"/>
              <a:chExt cx="6705000" cy="206640"/>
            </a:xfrm>
          </p:grpSpPr>
          <p:sp>
            <p:nvSpPr>
              <p:cNvPr id="923" name=""/>
              <p:cNvSpPr/>
              <p:nvPr/>
            </p:nvSpPr>
            <p:spPr>
              <a:xfrm>
                <a:off x="0" y="1240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1240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0" y="1447920"/>
              <a:ext cx="6705000" cy="206640"/>
              <a:chOff x="0" y="1447920"/>
              <a:chExt cx="6705000" cy="206640"/>
            </a:xfrm>
          </p:grpSpPr>
          <p:sp>
            <p:nvSpPr>
              <p:cNvPr id="926" name=""/>
              <p:cNvSpPr/>
              <p:nvPr/>
            </p:nvSpPr>
            <p:spPr>
              <a:xfrm>
                <a:off x="0" y="1447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0" y="1447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tim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0" y="1654560"/>
              <a:ext cx="6705000" cy="206640"/>
              <a:chOff x="0" y="1654560"/>
              <a:chExt cx="6705000" cy="206640"/>
            </a:xfrm>
          </p:grpSpPr>
          <p:sp>
            <p:nvSpPr>
              <p:cNvPr id="929" name=""/>
              <p:cNvSpPr/>
              <p:nvPr/>
            </p:nvSpPr>
            <p:spPr>
              <a:xfrm>
                <a:off x="0" y="16545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0" y="16545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0" y="1861200"/>
              <a:ext cx="6705000" cy="206640"/>
              <a:chOff x="0" y="1861200"/>
              <a:chExt cx="6705000" cy="206640"/>
            </a:xfrm>
          </p:grpSpPr>
          <p:sp>
            <p:nvSpPr>
              <p:cNvPr id="932" name=""/>
              <p:cNvSpPr/>
              <p:nvPr/>
            </p:nvSpPr>
            <p:spPr>
              <a:xfrm>
                <a:off x="0" y="1861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0" y="1861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0" y="2068200"/>
              <a:ext cx="6705000" cy="206640"/>
              <a:chOff x="0" y="2068200"/>
              <a:chExt cx="6705000" cy="206640"/>
            </a:xfrm>
          </p:grpSpPr>
          <p:sp>
            <p:nvSpPr>
              <p:cNvPr id="935" name=""/>
              <p:cNvSpPr/>
              <p:nvPr/>
            </p:nvSpPr>
            <p:spPr>
              <a:xfrm>
                <a:off x="0" y="2068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0" y="2068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0" y="2275200"/>
              <a:ext cx="6705000" cy="206640"/>
              <a:chOff x="0" y="2275200"/>
              <a:chExt cx="6705000" cy="206640"/>
            </a:xfrm>
          </p:grpSpPr>
          <p:sp>
            <p:nvSpPr>
              <p:cNvPr id="938" name=""/>
              <p:cNvSpPr/>
              <p:nvPr/>
            </p:nvSpPr>
            <p:spPr>
              <a:xfrm>
                <a:off x="0" y="2275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2275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0" y="2481840"/>
              <a:ext cx="6705000" cy="206640"/>
              <a:chOff x="0" y="2481840"/>
              <a:chExt cx="6705000" cy="206640"/>
            </a:xfrm>
          </p:grpSpPr>
          <p:sp>
            <p:nvSpPr>
              <p:cNvPr id="941" name=""/>
              <p:cNvSpPr/>
              <p:nvPr/>
            </p:nvSpPr>
            <p:spPr>
              <a:xfrm>
                <a:off x="0" y="24818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0" y="24818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0" y="2688840"/>
              <a:ext cx="6705000" cy="206640"/>
              <a:chOff x="0" y="2688840"/>
              <a:chExt cx="6705000" cy="206640"/>
            </a:xfrm>
          </p:grpSpPr>
          <p:sp>
            <p:nvSpPr>
              <p:cNvPr id="944" name=""/>
              <p:cNvSpPr/>
              <p:nvPr/>
            </p:nvSpPr>
            <p:spPr>
              <a:xfrm>
                <a:off x="0" y="26888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0" y="26888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Error: 'Time::hour' is not accessi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0" y="2895480"/>
              <a:ext cx="6705000" cy="206640"/>
              <a:chOff x="0" y="2895480"/>
              <a:chExt cx="6705000" cy="206640"/>
            </a:xfrm>
          </p:grpSpPr>
          <p:sp>
            <p:nvSpPr>
              <p:cNvPr id="947" name=""/>
              <p:cNvSpPr/>
              <p:nvPr/>
            </p:nvSpPr>
            <p:spPr>
              <a:xfrm>
                <a:off x="0" y="28954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0" y="28954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hour = 7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0" y="3102480"/>
              <a:ext cx="6705000" cy="206640"/>
              <a:chOff x="0" y="3102480"/>
              <a:chExt cx="6705000" cy="206640"/>
            </a:xfrm>
          </p:grpSpPr>
          <p:sp>
            <p:nvSpPr>
              <p:cNvPr id="950" name=""/>
              <p:cNvSpPr/>
              <p:nvPr/>
            </p:nvSpPr>
            <p:spPr>
              <a:xfrm>
                <a:off x="0" y="31024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0" y="31024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0" y="3309120"/>
              <a:ext cx="6705000" cy="206640"/>
              <a:chOff x="0" y="3309120"/>
              <a:chExt cx="6705000" cy="206640"/>
            </a:xfrm>
          </p:grpSpPr>
          <p:sp>
            <p:nvSpPr>
              <p:cNvPr id="953" name=""/>
              <p:cNvSpPr/>
              <p:nvPr/>
            </p:nvSpPr>
            <p:spPr>
              <a:xfrm>
                <a:off x="0" y="33091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0" y="33091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Error: 'Time::minute' is not accessi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0" y="3516120"/>
              <a:ext cx="6705000" cy="206640"/>
              <a:chOff x="0" y="3516120"/>
              <a:chExt cx="6705000" cy="206640"/>
            </a:xfrm>
          </p:grpSpPr>
          <p:sp>
            <p:nvSpPr>
              <p:cNvPr id="956" name=""/>
              <p:cNvSpPr/>
              <p:nvPr/>
            </p:nvSpPr>
            <p:spPr>
              <a:xfrm>
                <a:off x="0" y="35161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0" y="35161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minute = " &lt;&lt; t.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0" y="3722760"/>
              <a:ext cx="6705000" cy="206640"/>
              <a:chOff x="0" y="3722760"/>
              <a:chExt cx="6705000" cy="206640"/>
            </a:xfrm>
          </p:grpSpPr>
          <p:sp>
            <p:nvSpPr>
              <p:cNvPr id="959" name=""/>
              <p:cNvSpPr/>
              <p:nvPr/>
            </p:nvSpPr>
            <p:spPr>
              <a:xfrm>
                <a:off x="0" y="3722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3722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0" y="3929760"/>
              <a:ext cx="6705000" cy="206640"/>
              <a:chOff x="0" y="3929760"/>
              <a:chExt cx="6705000" cy="206640"/>
            </a:xfrm>
          </p:grpSpPr>
          <p:sp>
            <p:nvSpPr>
              <p:cNvPr id="962" name=""/>
              <p:cNvSpPr/>
              <p:nvPr/>
            </p:nvSpPr>
            <p:spPr>
              <a:xfrm>
                <a:off x="0" y="3929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0" y="3929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0" y="4136760"/>
              <a:ext cx="6705000" cy="206640"/>
              <a:chOff x="0" y="4136760"/>
              <a:chExt cx="6705000" cy="206640"/>
            </a:xfrm>
          </p:grpSpPr>
          <p:sp>
            <p:nvSpPr>
              <p:cNvPr id="965" name=""/>
              <p:cNvSpPr/>
              <p:nvPr/>
            </p:nvSpPr>
            <p:spPr>
              <a:xfrm>
                <a:off x="0" y="4136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0" y="4136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7" name=""/>
          <p:cNvSpPr/>
          <p:nvPr/>
        </p:nvSpPr>
        <p:spPr>
          <a:xfrm>
            <a:off x="0" y="4672080"/>
            <a:ext cx="6705720" cy="2101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piling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06_06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Fig06_06.cpp(15) : error C2248: 'hour' : cannot access priv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mber declared in class 'Tim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Fig6_06\time1.h(18) : see declaration of 'hour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Fig06_06.cpp(18) : error C2248: 'minute' : cannot access 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mber declared in class 'Tim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time1.h(19) : see declaration of 'minut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executing cl.ex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st.exe - 2 error(s), 0 warning(s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3657600" y="3657600"/>
            <a:ext cx="5257800" cy="1981080"/>
            <a:chOff x="3657600" y="3657600"/>
            <a:chExt cx="5257800" cy="1981080"/>
          </a:xfrm>
        </p:grpSpPr>
        <p:sp>
          <p:nvSpPr>
            <p:cNvPr id="969" name=""/>
            <p:cNvSpPr/>
            <p:nvPr/>
          </p:nvSpPr>
          <p:spPr>
            <a:xfrm>
              <a:off x="5562720" y="3657600"/>
              <a:ext cx="3352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tempt to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3657600" y="37339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6324120" y="4267080"/>
              <a:ext cx="6858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 file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Create an object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Attempt to set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variabl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Attempt to access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variable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981080" y="2819520"/>
            <a:ext cx="6172200" cy="2286000"/>
            <a:chOff x="1981080" y="2819520"/>
            <a:chExt cx="6172200" cy="2286000"/>
          </a:xfrm>
        </p:grpSpPr>
        <p:sp>
          <p:nvSpPr>
            <p:cNvPr id="974" name=""/>
            <p:cNvSpPr/>
            <p:nvPr/>
          </p:nvSpPr>
          <p:spPr>
            <a:xfrm>
              <a:off x="4724280" y="281952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tempt to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1981080" y="30481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4495680" y="3429000"/>
              <a:ext cx="4572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7D576-9579-4924-ABAB-6157F4B4E24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9 Access Functions and Utility Function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ty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that support the operation of public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intended to be used directly by cl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that read/display data or check condi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to check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to take in monthly sales and output the to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not shown, only access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59433-CB65-4420-8DD1-F64CF858E4D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9" name=""/>
          <p:cNvGrpSpPr/>
          <p:nvPr/>
        </p:nvGrpSpPr>
        <p:grpSpPr>
          <a:xfrm>
            <a:off x="0" y="0"/>
            <a:ext cx="6705000" cy="3124080"/>
            <a:chOff x="0" y="0"/>
            <a:chExt cx="6705000" cy="3124080"/>
          </a:xfrm>
        </p:grpSpPr>
        <p:grpSp>
          <p:nvGrpSpPr>
            <p:cNvPr id="980" name=""/>
            <p:cNvGrpSpPr/>
            <p:nvPr/>
          </p:nvGrpSpPr>
          <p:grpSpPr>
            <a:xfrm>
              <a:off x="0" y="0"/>
              <a:ext cx="6705000" cy="240120"/>
              <a:chOff x="0" y="0"/>
              <a:chExt cx="6705000" cy="240120"/>
            </a:xfrm>
          </p:grpSpPr>
          <p:sp>
            <p:nvSpPr>
              <p:cNvPr id="981" name=""/>
              <p:cNvSpPr/>
              <p:nvPr/>
            </p:nvSpPr>
            <p:spPr>
              <a:xfrm>
                <a:off x="0" y="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0" y="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7: fig06_0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0" y="240120"/>
              <a:ext cx="6705000" cy="240120"/>
              <a:chOff x="0" y="240120"/>
              <a:chExt cx="6705000" cy="240120"/>
            </a:xfrm>
          </p:grpSpPr>
          <p:sp>
            <p:nvSpPr>
              <p:cNvPr id="984" name=""/>
              <p:cNvSpPr/>
              <p:nvPr/>
            </p:nvSpPr>
            <p:spPr>
              <a:xfrm>
                <a:off x="0" y="2401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0" y="2401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a utility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0" y="480240"/>
              <a:ext cx="6705000" cy="240120"/>
              <a:chOff x="0" y="480240"/>
              <a:chExt cx="6705000" cy="240120"/>
            </a:xfrm>
          </p:grpSpPr>
          <p:sp>
            <p:nvSpPr>
              <p:cNvPr id="987" name=""/>
              <p:cNvSpPr/>
              <p:nvPr/>
            </p:nvSpPr>
            <p:spPr>
              <a:xfrm>
                <a:off x="0" y="4802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0" y="4802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mpile with salesp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0" y="720720"/>
              <a:ext cx="6705000" cy="240120"/>
              <a:chOff x="0" y="720720"/>
              <a:chExt cx="6705000" cy="240120"/>
            </a:xfrm>
          </p:grpSpPr>
          <p:sp>
            <p:nvSpPr>
              <p:cNvPr id="990" name=""/>
              <p:cNvSpPr/>
              <p:nvPr/>
            </p:nvSpPr>
            <p:spPr>
              <a:xfrm>
                <a:off x="0" y="7207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0" y="7207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salesp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0" y="961200"/>
              <a:ext cx="6705000" cy="240120"/>
              <a:chOff x="0" y="961200"/>
              <a:chExt cx="6705000" cy="240120"/>
            </a:xfrm>
          </p:grpSpPr>
          <p:sp>
            <p:nvSpPr>
              <p:cNvPr id="993" name=""/>
              <p:cNvSpPr/>
              <p:nvPr/>
            </p:nvSpPr>
            <p:spPr>
              <a:xfrm>
                <a:off x="0" y="9612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0" y="9612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0" y="1201320"/>
              <a:ext cx="6705000" cy="240120"/>
              <a:chOff x="0" y="1201320"/>
              <a:chExt cx="6705000" cy="240120"/>
            </a:xfrm>
          </p:grpSpPr>
          <p:sp>
            <p:nvSpPr>
              <p:cNvPr id="996" name=""/>
              <p:cNvSpPr/>
              <p:nvPr/>
            </p:nvSpPr>
            <p:spPr>
              <a:xfrm>
                <a:off x="0" y="12013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0" y="12013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0" y="1441800"/>
              <a:ext cx="6705000" cy="240120"/>
              <a:chOff x="0" y="1441800"/>
              <a:chExt cx="6705000" cy="240120"/>
            </a:xfrm>
          </p:grpSpPr>
          <p:sp>
            <p:nvSpPr>
              <p:cNvPr id="999" name=""/>
              <p:cNvSpPr/>
              <p:nvPr/>
            </p:nvSpPr>
            <p:spPr>
              <a:xfrm>
                <a:off x="0" y="14418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0" y="14418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1" name=""/>
            <p:cNvGrpSpPr/>
            <p:nvPr/>
          </p:nvGrpSpPr>
          <p:grpSpPr>
            <a:xfrm>
              <a:off x="0" y="1682280"/>
              <a:ext cx="6705000" cy="240120"/>
              <a:chOff x="0" y="1682280"/>
              <a:chExt cx="6705000" cy="240120"/>
            </a:xfrm>
          </p:grpSpPr>
          <p:sp>
            <p:nvSpPr>
              <p:cNvPr id="1002" name=""/>
              <p:cNvSpPr/>
              <p:nvPr/>
            </p:nvSpPr>
            <p:spPr>
              <a:xfrm>
                <a:off x="0" y="16822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0" y="16822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alesPerson s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e SalesPerson object 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"/>
            <p:cNvGrpSpPr/>
            <p:nvPr/>
          </p:nvGrpSpPr>
          <p:grpSpPr>
            <a:xfrm>
              <a:off x="0" y="1922400"/>
              <a:ext cx="6705000" cy="240120"/>
              <a:chOff x="0" y="1922400"/>
              <a:chExt cx="6705000" cy="240120"/>
            </a:xfrm>
          </p:grpSpPr>
          <p:sp>
            <p:nvSpPr>
              <p:cNvPr id="1005" name=""/>
              <p:cNvSpPr/>
              <p:nvPr/>
            </p:nvSpPr>
            <p:spPr>
              <a:xfrm>
                <a:off x="0" y="19224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0" y="19224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0" y="2162880"/>
              <a:ext cx="6705000" cy="240120"/>
              <a:chOff x="0" y="2162880"/>
              <a:chExt cx="6705000" cy="240120"/>
            </a:xfrm>
          </p:grpSpPr>
          <p:sp>
            <p:nvSpPr>
              <p:cNvPr id="1008" name=""/>
              <p:cNvSpPr/>
              <p:nvPr/>
            </p:nvSpPr>
            <p:spPr>
              <a:xfrm>
                <a:off x="0" y="21628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0" y="21628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.getSalesFromUser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te simple sequential co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0" y="2403000"/>
              <a:ext cx="6705000" cy="240120"/>
              <a:chOff x="0" y="2403000"/>
              <a:chExt cx="6705000" cy="240120"/>
            </a:xfrm>
          </p:grpSpPr>
          <p:sp>
            <p:nvSpPr>
              <p:cNvPr id="1011" name=""/>
              <p:cNvSpPr/>
              <p:nvPr/>
            </p:nvSpPr>
            <p:spPr>
              <a:xfrm>
                <a:off x="0" y="24030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0" y="24030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.printAnnualSales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 control structures in ma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0" y="2643480"/>
              <a:ext cx="6705000" cy="240120"/>
              <a:chOff x="0" y="2643480"/>
              <a:chExt cx="6705000" cy="240120"/>
            </a:xfrm>
          </p:grpSpPr>
          <p:sp>
            <p:nvSpPr>
              <p:cNvPr id="1014" name=""/>
              <p:cNvSpPr/>
              <p:nvPr/>
            </p:nvSpPr>
            <p:spPr>
              <a:xfrm>
                <a:off x="0" y="26434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0" y="26434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0" y="2883960"/>
              <a:ext cx="6705000" cy="240120"/>
              <a:chOff x="0" y="2883960"/>
              <a:chExt cx="6705000" cy="240120"/>
            </a:xfrm>
          </p:grpSpPr>
          <p:sp>
            <p:nvSpPr>
              <p:cNvPr id="1017" name=""/>
              <p:cNvSpPr/>
              <p:nvPr/>
            </p:nvSpPr>
            <p:spPr>
              <a:xfrm>
                <a:off x="0" y="288396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0" y="288396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9" name=""/>
          <p:cNvSpPr/>
          <p:nvPr/>
        </p:nvSpPr>
        <p:spPr>
          <a:xfrm>
            <a:off x="0" y="3352680"/>
            <a:ext cx="6705720" cy="301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1: 5314.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2: 4292.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3: 4589.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4: 5534.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5: 4376.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6: 5698.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7: 4439.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8: 5893.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9: 4909.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10: 5123.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11: 4024.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12: 5923.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total annual sales are: $60120.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1980720" y="762120"/>
            <a:ext cx="4267800" cy="990360"/>
            <a:chOff x="1980720" y="762120"/>
            <a:chExt cx="4267800" cy="990360"/>
          </a:xfrm>
        </p:grpSpPr>
        <p:sp>
          <p:nvSpPr>
            <p:cNvPr id="1021" name=""/>
            <p:cNvSpPr/>
            <p:nvPr/>
          </p:nvSpPr>
          <p:spPr>
            <a:xfrm>
              <a:off x="3733920" y="76212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 instance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alesPers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1980720" y="1143000"/>
              <a:ext cx="1752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 Load header file and compile with the file that contains the function definition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 Create an object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 Use the object’s member functions to get and print sales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2361960" y="2666520"/>
            <a:ext cx="6629760" cy="3522960"/>
            <a:chOff x="2361960" y="2666520"/>
            <a:chExt cx="6629760" cy="3522960"/>
          </a:xfrm>
        </p:grpSpPr>
        <p:sp>
          <p:nvSpPr>
            <p:cNvPr id="1025" name=""/>
            <p:cNvSpPr/>
            <p:nvPr/>
          </p:nvSpPr>
          <p:spPr>
            <a:xfrm>
              <a:off x="6095880" y="3048120"/>
              <a:ext cx="2895840" cy="3141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access functions to gather and print data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SalesFromUs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ntAnnualSal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.  Utility functions actually calculate the total sales, but the user is not aware of these function calls.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simp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– there are no control structures, only function calls. This hides the implementation of the progra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 flipV="1">
              <a:off x="2361960" y="2666520"/>
              <a:ext cx="3733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2BF5D-F79E-4F3D-AD2E-E6C960D86F3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0 Initializing Class Objects: Constructo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 class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name as th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return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variables can be initialized by the constructor or set afterwa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ng arguments to a construc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an object of a class is declared, initializers can be provi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 of declaration with initializer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ass-type ObjectName( value1,value2,…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arguments may also be specified in the constructor 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E4423-7D2F-4C73-9444-AFCE250F371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"/>
          <p:cNvGrpSpPr/>
          <p:nvPr/>
        </p:nvGrpSpPr>
        <p:grpSpPr>
          <a:xfrm>
            <a:off x="0" y="0"/>
            <a:ext cx="6705000" cy="6324120"/>
            <a:chOff x="0" y="0"/>
            <a:chExt cx="6705000" cy="6324120"/>
          </a:xfrm>
        </p:grpSpPr>
        <p:grpSp>
          <p:nvGrpSpPr>
            <p:cNvPr id="1030" name=""/>
            <p:cNvGrpSpPr/>
            <p:nvPr/>
          </p:nvGrpSpPr>
          <p:grpSpPr>
            <a:xfrm>
              <a:off x="0" y="0"/>
              <a:ext cx="6705000" cy="274680"/>
              <a:chOff x="0" y="0"/>
              <a:chExt cx="6705000" cy="274680"/>
            </a:xfrm>
          </p:grpSpPr>
          <p:sp>
            <p:nvSpPr>
              <p:cNvPr id="1031" name=""/>
              <p:cNvSpPr/>
              <p:nvPr/>
            </p:nvSpPr>
            <p:spPr>
              <a:xfrm>
                <a:off x="0" y="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0" y="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8: time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0" y="274680"/>
              <a:ext cx="6705000" cy="274680"/>
              <a:chOff x="0" y="274680"/>
              <a:chExt cx="6705000" cy="274680"/>
            </a:xfrm>
          </p:grpSpPr>
          <p:sp>
            <p:nvSpPr>
              <p:cNvPr id="1034" name=""/>
              <p:cNvSpPr/>
              <p:nvPr/>
            </p:nvSpPr>
            <p:spPr>
              <a:xfrm>
                <a:off x="0" y="27468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0" y="27468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 of the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0" y="549720"/>
              <a:ext cx="6705000" cy="275040"/>
              <a:chOff x="0" y="549720"/>
              <a:chExt cx="6705000" cy="275040"/>
            </a:xfrm>
          </p:grpSpPr>
          <p:sp>
            <p:nvSpPr>
              <p:cNvPr id="1037" name=""/>
              <p:cNvSpPr/>
              <p:nvPr/>
            </p:nvSpPr>
            <p:spPr>
              <a:xfrm>
                <a:off x="0" y="5497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0" y="5497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are defined in time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0" y="824760"/>
              <a:ext cx="6705000" cy="274680"/>
              <a:chOff x="0" y="824760"/>
              <a:chExt cx="6705000" cy="274680"/>
            </a:xfrm>
          </p:grpSpPr>
          <p:sp>
            <p:nvSpPr>
              <p:cNvPr id="1040" name=""/>
              <p:cNvSpPr/>
              <p:nvPr/>
            </p:nvSpPr>
            <p:spPr>
              <a:xfrm>
                <a:off x="0" y="824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0" y="824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0" y="1099800"/>
              <a:ext cx="6705000" cy="274680"/>
              <a:chOff x="0" y="1099800"/>
              <a:chExt cx="6705000" cy="274680"/>
            </a:xfrm>
          </p:grpSpPr>
          <p:sp>
            <p:nvSpPr>
              <p:cNvPr id="1043" name=""/>
              <p:cNvSpPr/>
              <p:nvPr/>
            </p:nvSpPr>
            <p:spPr>
              <a:xfrm>
                <a:off x="0" y="1099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0" y="1099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eprocessor directives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0" y="1374840"/>
              <a:ext cx="6705000" cy="274680"/>
              <a:chOff x="0" y="1374840"/>
              <a:chExt cx="6705000" cy="274680"/>
            </a:xfrm>
          </p:grpSpPr>
          <p:sp>
            <p:nvSpPr>
              <p:cNvPr id="1046" name=""/>
              <p:cNvSpPr/>
              <p:nvPr/>
            </p:nvSpPr>
            <p:spPr>
              <a:xfrm>
                <a:off x="0" y="13748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0" y="13748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event multiple inclusions of header f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"/>
            <p:cNvGrpSpPr/>
            <p:nvPr/>
          </p:nvGrpSpPr>
          <p:grpSpPr>
            <a:xfrm>
              <a:off x="0" y="1649520"/>
              <a:ext cx="6705000" cy="275040"/>
              <a:chOff x="0" y="1649520"/>
              <a:chExt cx="6705000" cy="275040"/>
            </a:xfrm>
          </p:grpSpPr>
          <p:sp>
            <p:nvSpPr>
              <p:cNvPr id="1049" name=""/>
              <p:cNvSpPr/>
              <p:nvPr/>
            </p:nvSpPr>
            <p:spPr>
              <a:xfrm>
                <a:off x="0" y="16495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0" y="16495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fndef TIM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0" y="1924920"/>
              <a:ext cx="6705000" cy="274680"/>
              <a:chOff x="0" y="1924920"/>
              <a:chExt cx="6705000" cy="274680"/>
            </a:xfrm>
          </p:grpSpPr>
          <p:sp>
            <p:nvSpPr>
              <p:cNvPr id="1052" name=""/>
              <p:cNvSpPr/>
              <p:nvPr/>
            </p:nvSpPr>
            <p:spPr>
              <a:xfrm>
                <a:off x="0" y="19249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0" y="19249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define TIM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0" y="2199600"/>
              <a:ext cx="6705000" cy="274680"/>
              <a:chOff x="0" y="2199600"/>
              <a:chExt cx="6705000" cy="274680"/>
            </a:xfrm>
          </p:grpSpPr>
          <p:sp>
            <p:nvSpPr>
              <p:cNvPr id="1055" name=""/>
              <p:cNvSpPr/>
              <p:nvPr/>
            </p:nvSpPr>
            <p:spPr>
              <a:xfrm>
                <a:off x="0" y="21996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0" y="21996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0" y="2474640"/>
              <a:ext cx="6705000" cy="274680"/>
              <a:chOff x="0" y="2474640"/>
              <a:chExt cx="6705000" cy="274680"/>
            </a:xfrm>
          </p:grpSpPr>
          <p:sp>
            <p:nvSpPr>
              <p:cNvPr id="1058" name=""/>
              <p:cNvSpPr/>
              <p:nvPr/>
            </p:nvSpPr>
            <p:spPr>
              <a:xfrm>
                <a:off x="0" y="2474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0" y="2474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ime abstract data type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0" y="2749680"/>
              <a:ext cx="6705000" cy="275040"/>
              <a:chOff x="0" y="2749680"/>
              <a:chExt cx="6705000" cy="275040"/>
            </a:xfrm>
          </p:grpSpPr>
          <p:sp>
            <p:nvSpPr>
              <p:cNvPr id="1061" name=""/>
              <p:cNvSpPr/>
              <p:nvPr/>
            </p:nvSpPr>
            <p:spPr>
              <a:xfrm>
                <a:off x="0" y="27496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0" y="27496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3" name=""/>
            <p:cNvGrpSpPr/>
            <p:nvPr/>
          </p:nvGrpSpPr>
          <p:grpSpPr>
            <a:xfrm>
              <a:off x="0" y="3024720"/>
              <a:ext cx="6705000" cy="274680"/>
              <a:chOff x="0" y="3024720"/>
              <a:chExt cx="6705000" cy="274680"/>
            </a:xfrm>
          </p:grpSpPr>
          <p:sp>
            <p:nvSpPr>
              <p:cNvPr id="1064" name=""/>
              <p:cNvSpPr/>
              <p:nvPr/>
            </p:nvSpPr>
            <p:spPr>
              <a:xfrm>
                <a:off x="0" y="30247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0" y="30247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"/>
            <p:cNvGrpSpPr/>
            <p:nvPr/>
          </p:nvGrpSpPr>
          <p:grpSpPr>
            <a:xfrm>
              <a:off x="0" y="3299760"/>
              <a:ext cx="6705000" cy="274680"/>
              <a:chOff x="0" y="3299760"/>
              <a:chExt cx="6705000" cy="274680"/>
            </a:xfrm>
          </p:grpSpPr>
          <p:sp>
            <p:nvSpPr>
              <p:cNvPr id="1067" name=""/>
              <p:cNvSpPr/>
              <p:nvPr/>
            </p:nvSpPr>
            <p:spPr>
              <a:xfrm>
                <a:off x="0" y="3299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0" y="3299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0" y="3574800"/>
              <a:ext cx="6705000" cy="274680"/>
              <a:chOff x="0" y="3574800"/>
              <a:chExt cx="6705000" cy="274680"/>
            </a:xfrm>
          </p:grpSpPr>
          <p:sp>
            <p:nvSpPr>
              <p:cNvPr id="1070" name=""/>
              <p:cNvSpPr/>
              <p:nvPr/>
            </p:nvSpPr>
            <p:spPr>
              <a:xfrm>
                <a:off x="0" y="3574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0" y="3574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hour, minute,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2" name=""/>
            <p:cNvGrpSpPr/>
            <p:nvPr/>
          </p:nvGrpSpPr>
          <p:grpSpPr>
            <a:xfrm>
              <a:off x="0" y="3849480"/>
              <a:ext cx="6705000" cy="275040"/>
              <a:chOff x="0" y="3849480"/>
              <a:chExt cx="6705000" cy="275040"/>
            </a:xfrm>
          </p:grpSpPr>
          <p:sp>
            <p:nvSpPr>
              <p:cNvPr id="1073" name=""/>
              <p:cNvSpPr/>
              <p:nvPr/>
            </p:nvSpPr>
            <p:spPr>
              <a:xfrm>
                <a:off x="0" y="3849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0" y="3849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Military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military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0" y="4124880"/>
              <a:ext cx="6705000" cy="274680"/>
              <a:chOff x="0" y="4124880"/>
              <a:chExt cx="6705000" cy="274680"/>
            </a:xfrm>
          </p:grpSpPr>
          <p:sp>
            <p:nvSpPr>
              <p:cNvPr id="1076" name=""/>
              <p:cNvSpPr/>
              <p:nvPr/>
            </p:nvSpPr>
            <p:spPr>
              <a:xfrm>
                <a:off x="0" y="412488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0" y="412488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tandard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standard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0" y="4399560"/>
              <a:ext cx="6705000" cy="274680"/>
              <a:chOff x="0" y="4399560"/>
              <a:chExt cx="6705000" cy="274680"/>
            </a:xfrm>
          </p:grpSpPr>
          <p:sp>
            <p:nvSpPr>
              <p:cNvPr id="1079" name=""/>
              <p:cNvSpPr/>
              <p:nvPr/>
            </p:nvSpPr>
            <p:spPr>
              <a:xfrm>
                <a:off x="0" y="43995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0" y="43995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0" y="4674600"/>
              <a:ext cx="6705000" cy="274680"/>
              <a:chOff x="0" y="4674600"/>
              <a:chExt cx="6705000" cy="274680"/>
            </a:xfrm>
          </p:grpSpPr>
          <p:sp>
            <p:nvSpPr>
              <p:cNvPr id="1082" name=""/>
              <p:cNvSpPr/>
              <p:nvPr/>
            </p:nvSpPr>
            <p:spPr>
              <a:xfrm>
                <a:off x="0" y="46746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0" y="46746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0" y="4949640"/>
              <a:ext cx="6705000" cy="274680"/>
              <a:chOff x="0" y="4949640"/>
              <a:chExt cx="6705000" cy="274680"/>
            </a:xfrm>
          </p:grpSpPr>
          <p:sp>
            <p:nvSpPr>
              <p:cNvPr id="1085" name=""/>
              <p:cNvSpPr/>
              <p:nvPr/>
            </p:nvSpPr>
            <p:spPr>
              <a:xfrm>
                <a:off x="0" y="4949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0" y="4949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0" y="5224680"/>
              <a:ext cx="6705000" cy="275040"/>
              <a:chOff x="0" y="5224680"/>
              <a:chExt cx="6705000" cy="275040"/>
            </a:xfrm>
          </p:grpSpPr>
          <p:sp>
            <p:nvSpPr>
              <p:cNvPr id="1088" name=""/>
              <p:cNvSpPr/>
              <p:nvPr/>
            </p:nvSpPr>
            <p:spPr>
              <a:xfrm>
                <a:off x="0" y="52246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0" y="52246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0" name=""/>
            <p:cNvGrpSpPr/>
            <p:nvPr/>
          </p:nvGrpSpPr>
          <p:grpSpPr>
            <a:xfrm>
              <a:off x="0" y="5499720"/>
              <a:ext cx="6705000" cy="274680"/>
              <a:chOff x="0" y="5499720"/>
              <a:chExt cx="6705000" cy="274680"/>
            </a:xfrm>
          </p:grpSpPr>
          <p:sp>
            <p:nvSpPr>
              <p:cNvPr id="1091" name=""/>
              <p:cNvSpPr/>
              <p:nvPr/>
            </p:nvSpPr>
            <p:spPr>
              <a:xfrm>
                <a:off x="0" y="54997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0" y="54997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3" name=""/>
            <p:cNvGrpSpPr/>
            <p:nvPr/>
          </p:nvGrpSpPr>
          <p:grpSpPr>
            <a:xfrm>
              <a:off x="0" y="5774760"/>
              <a:ext cx="6705000" cy="274680"/>
              <a:chOff x="0" y="5774760"/>
              <a:chExt cx="6705000" cy="274680"/>
            </a:xfrm>
          </p:grpSpPr>
          <p:sp>
            <p:nvSpPr>
              <p:cNvPr id="1094" name=""/>
              <p:cNvSpPr/>
              <p:nvPr/>
            </p:nvSpPr>
            <p:spPr>
              <a:xfrm>
                <a:off x="0" y="5774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0" y="5774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6" name=""/>
            <p:cNvGrpSpPr/>
            <p:nvPr/>
          </p:nvGrpSpPr>
          <p:grpSpPr>
            <a:xfrm>
              <a:off x="0" y="6049440"/>
              <a:ext cx="6705000" cy="274680"/>
              <a:chOff x="0" y="6049440"/>
              <a:chExt cx="6705000" cy="274680"/>
            </a:xfrm>
          </p:grpSpPr>
          <p:sp>
            <p:nvSpPr>
              <p:cNvPr id="1097" name=""/>
              <p:cNvSpPr/>
              <p:nvPr/>
            </p:nvSpPr>
            <p:spPr>
              <a:xfrm>
                <a:off x="0" y="60494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0" y="60494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9" name=""/>
          <p:cNvGrpSpPr/>
          <p:nvPr/>
        </p:nvGrpSpPr>
        <p:grpSpPr>
          <a:xfrm>
            <a:off x="3733560" y="2971800"/>
            <a:ext cx="5334120" cy="2040840"/>
            <a:chOff x="3733560" y="2971800"/>
            <a:chExt cx="5334120" cy="2040840"/>
          </a:xfrm>
        </p:grpSpPr>
        <p:sp>
          <p:nvSpPr>
            <p:cNvPr id="1100" name=""/>
            <p:cNvSpPr/>
            <p:nvPr/>
          </p:nvSpPr>
          <p:spPr>
            <a:xfrm flipH="1">
              <a:off x="3733560" y="3124080"/>
              <a:ext cx="28191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477120" y="2971800"/>
              <a:ext cx="259056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at default settings for the three member variables are set in constructor prototype.  No names are needed; the defaults are applied in the order the member variables are decla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Define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and its default valu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3DA1B-8E31-46FC-94BA-EC89662CCF4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Structure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ggregate data types built using elements of other typ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Tim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hou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inut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eco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s of the same structure must have uniqu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different structures may contain members of the sam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structure definition must end with a semicol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038120" y="2362320"/>
            <a:ext cx="4724640" cy="1218960"/>
            <a:chOff x="4038120" y="2362320"/>
            <a:chExt cx="4724640" cy="1218960"/>
          </a:xfrm>
        </p:grpSpPr>
        <p:sp>
          <p:nvSpPr>
            <p:cNvPr id="101" name=""/>
            <p:cNvSpPr/>
            <p:nvPr/>
          </p:nvSpPr>
          <p:spPr>
            <a:xfrm flipH="1">
              <a:off x="4038120" y="25146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38680" y="2362320"/>
              <a:ext cx="1752480" cy="368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ructure t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4876560" y="327672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81680" y="2895480"/>
              <a:ext cx="1981080" cy="368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ructure memb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76560" y="27432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5F6D3-D3E0-4972-8ECA-EC58DCCC91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3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1104" name=""/>
            <p:cNvGrpSpPr/>
            <p:nvPr/>
          </p:nvGrpSpPr>
          <p:grpSpPr>
            <a:xfrm>
              <a:off x="0" y="0"/>
              <a:ext cx="6705000" cy="207720"/>
              <a:chOff x="0" y="0"/>
              <a:chExt cx="6705000" cy="207720"/>
            </a:xfrm>
          </p:grpSpPr>
          <p:sp>
            <p:nvSpPr>
              <p:cNvPr id="1105" name=""/>
              <p:cNvSpPr/>
              <p:nvPr/>
            </p:nvSpPr>
            <p:spPr>
              <a:xfrm>
                <a:off x="0" y="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0" y="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8: fig06_08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0" y="207720"/>
              <a:ext cx="6705000" cy="207720"/>
              <a:chOff x="0" y="207720"/>
              <a:chExt cx="6705000" cy="207720"/>
            </a:xfrm>
          </p:grpSpPr>
          <p:sp>
            <p:nvSpPr>
              <p:cNvPr id="1108" name=""/>
              <p:cNvSpPr/>
              <p:nvPr/>
            </p:nvSpPr>
            <p:spPr>
              <a:xfrm>
                <a:off x="0" y="207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0" y="207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a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0" y="415440"/>
              <a:ext cx="6705000" cy="207720"/>
              <a:chOff x="0" y="415440"/>
              <a:chExt cx="6705000" cy="207720"/>
            </a:xfrm>
          </p:grpSpPr>
          <p:sp>
            <p:nvSpPr>
              <p:cNvPr id="1111" name=""/>
              <p:cNvSpPr/>
              <p:nvPr/>
            </p:nvSpPr>
            <p:spPr>
              <a:xfrm>
                <a:off x="0" y="415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0" y="415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for class Tim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0" y="623160"/>
              <a:ext cx="6705000" cy="207720"/>
              <a:chOff x="0" y="623160"/>
              <a:chExt cx="6705000" cy="207720"/>
            </a:xfrm>
          </p:grpSpPr>
          <p:sp>
            <p:nvSpPr>
              <p:cNvPr id="1114" name=""/>
              <p:cNvSpPr/>
              <p:nvPr/>
            </p:nvSpPr>
            <p:spPr>
              <a:xfrm>
                <a:off x="0" y="623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0" y="623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6" name=""/>
            <p:cNvGrpSpPr/>
            <p:nvPr/>
          </p:nvGrpSpPr>
          <p:grpSpPr>
            <a:xfrm>
              <a:off x="0" y="831240"/>
              <a:ext cx="6705000" cy="207720"/>
              <a:chOff x="0" y="831240"/>
              <a:chExt cx="6705000" cy="207720"/>
            </a:xfrm>
          </p:grpSpPr>
          <p:sp>
            <p:nvSpPr>
              <p:cNvPr id="1117" name=""/>
              <p:cNvSpPr/>
              <p:nvPr/>
            </p:nvSpPr>
            <p:spPr>
              <a:xfrm>
                <a:off x="0" y="831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0" y="831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9" name=""/>
            <p:cNvGrpSpPr/>
            <p:nvPr/>
          </p:nvGrpSpPr>
          <p:grpSpPr>
            <a:xfrm>
              <a:off x="0" y="1038960"/>
              <a:ext cx="6705000" cy="207720"/>
              <a:chOff x="0" y="1038960"/>
              <a:chExt cx="6705000" cy="207720"/>
            </a:xfrm>
          </p:grpSpPr>
          <p:sp>
            <p:nvSpPr>
              <p:cNvPr id="1120" name=""/>
              <p:cNvSpPr/>
              <p:nvPr/>
            </p:nvSpPr>
            <p:spPr>
              <a:xfrm>
                <a:off x="0" y="1038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0" y="1038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"/>
            <p:cNvGrpSpPr/>
            <p:nvPr/>
          </p:nvGrpSpPr>
          <p:grpSpPr>
            <a:xfrm>
              <a:off x="0" y="1246680"/>
              <a:ext cx="6705000" cy="207720"/>
              <a:chOff x="0" y="1246680"/>
              <a:chExt cx="6705000" cy="207720"/>
            </a:xfrm>
          </p:grpSpPr>
          <p:sp>
            <p:nvSpPr>
              <p:cNvPr id="1123" name=""/>
              <p:cNvSpPr/>
              <p:nvPr/>
            </p:nvSpPr>
            <p:spPr>
              <a:xfrm>
                <a:off x="0" y="1246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0" y="1246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5" name=""/>
            <p:cNvGrpSpPr/>
            <p:nvPr/>
          </p:nvGrpSpPr>
          <p:grpSpPr>
            <a:xfrm>
              <a:off x="0" y="1454760"/>
              <a:ext cx="6705000" cy="207720"/>
              <a:chOff x="0" y="1454760"/>
              <a:chExt cx="6705000" cy="207720"/>
            </a:xfrm>
          </p:grpSpPr>
          <p:sp>
            <p:nvSpPr>
              <p:cNvPr id="1126" name=""/>
              <p:cNvSpPr/>
              <p:nvPr/>
            </p:nvSpPr>
            <p:spPr>
              <a:xfrm>
                <a:off x="0" y="1454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0" y="1454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"/>
            <p:cNvGrpSpPr/>
            <p:nvPr/>
          </p:nvGrpSpPr>
          <p:grpSpPr>
            <a:xfrm>
              <a:off x="0" y="1662480"/>
              <a:ext cx="6705000" cy="207720"/>
              <a:chOff x="0" y="1662480"/>
              <a:chExt cx="6705000" cy="207720"/>
            </a:xfrm>
          </p:grpSpPr>
          <p:sp>
            <p:nvSpPr>
              <p:cNvPr id="1129" name=""/>
              <p:cNvSpPr/>
              <p:nvPr/>
            </p:nvSpPr>
            <p:spPr>
              <a:xfrm>
                <a:off x="0" y="1662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0" y="1662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tim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1" name=""/>
            <p:cNvGrpSpPr/>
            <p:nvPr/>
          </p:nvGrpSpPr>
          <p:grpSpPr>
            <a:xfrm>
              <a:off x="0" y="1870200"/>
              <a:ext cx="6705000" cy="207720"/>
              <a:chOff x="0" y="1870200"/>
              <a:chExt cx="6705000" cy="207720"/>
            </a:xfrm>
          </p:grpSpPr>
          <p:sp>
            <p:nvSpPr>
              <p:cNvPr id="1132" name=""/>
              <p:cNvSpPr/>
              <p:nvPr/>
            </p:nvSpPr>
            <p:spPr>
              <a:xfrm>
                <a:off x="0" y="1870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0" y="1870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0" y="2077920"/>
              <a:ext cx="6705000" cy="207720"/>
              <a:chOff x="0" y="2077920"/>
              <a:chExt cx="6705000" cy="207720"/>
            </a:xfrm>
          </p:grpSpPr>
          <p:sp>
            <p:nvSpPr>
              <p:cNvPr id="1135" name=""/>
              <p:cNvSpPr/>
              <p:nvPr/>
            </p:nvSpPr>
            <p:spPr>
              <a:xfrm>
                <a:off x="0" y="20779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0" y="20779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7" name=""/>
            <p:cNvGrpSpPr/>
            <p:nvPr/>
          </p:nvGrpSpPr>
          <p:grpSpPr>
            <a:xfrm>
              <a:off x="0" y="2286000"/>
              <a:ext cx="6705000" cy="207720"/>
              <a:chOff x="0" y="2286000"/>
              <a:chExt cx="6705000" cy="207720"/>
            </a:xfrm>
          </p:grpSpPr>
          <p:sp>
            <p:nvSpPr>
              <p:cNvPr id="1138" name=""/>
              <p:cNvSpPr/>
              <p:nvPr/>
            </p:nvSpPr>
            <p:spPr>
              <a:xfrm>
                <a:off x="0" y="2286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0" y="2286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0" name=""/>
            <p:cNvGrpSpPr/>
            <p:nvPr/>
          </p:nvGrpSpPr>
          <p:grpSpPr>
            <a:xfrm>
              <a:off x="0" y="2493720"/>
              <a:ext cx="6705000" cy="207720"/>
              <a:chOff x="0" y="2493720"/>
              <a:chExt cx="6705000" cy="207720"/>
            </a:xfrm>
          </p:grpSpPr>
          <p:sp>
            <p:nvSpPr>
              <p:cNvPr id="1141" name=""/>
              <p:cNvSpPr/>
              <p:nvPr/>
            </p:nvSpPr>
            <p:spPr>
              <a:xfrm>
                <a:off x="0" y="2493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0" y="2493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t1,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ll arguments defaul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3" name=""/>
            <p:cNvGrpSpPr/>
            <p:nvPr/>
          </p:nvGrpSpPr>
          <p:grpSpPr>
            <a:xfrm>
              <a:off x="0" y="2701440"/>
              <a:ext cx="6705000" cy="207720"/>
              <a:chOff x="0" y="2701440"/>
              <a:chExt cx="6705000" cy="207720"/>
            </a:xfrm>
          </p:grpSpPr>
          <p:sp>
            <p:nvSpPr>
              <p:cNvPr id="1144" name=""/>
              <p:cNvSpPr/>
              <p:nvPr/>
            </p:nvSpPr>
            <p:spPr>
              <a:xfrm>
                <a:off x="0" y="2701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0" y="2701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t2(2),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inute and second defaul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6" name=""/>
            <p:cNvGrpSpPr/>
            <p:nvPr/>
          </p:nvGrpSpPr>
          <p:grpSpPr>
            <a:xfrm>
              <a:off x="0" y="2909160"/>
              <a:ext cx="6705000" cy="207720"/>
              <a:chOff x="0" y="2909160"/>
              <a:chExt cx="6705000" cy="207720"/>
            </a:xfrm>
          </p:grpSpPr>
          <p:sp>
            <p:nvSpPr>
              <p:cNvPr id="1147" name=""/>
              <p:cNvSpPr/>
              <p:nvPr/>
            </p:nvSpPr>
            <p:spPr>
              <a:xfrm>
                <a:off x="0" y="2909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0" y="2909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t3(21, 34),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cond defaulte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0" y="3117240"/>
              <a:ext cx="6705000" cy="207720"/>
              <a:chOff x="0" y="3117240"/>
              <a:chExt cx="6705000" cy="207720"/>
            </a:xfrm>
          </p:grpSpPr>
          <p:sp>
            <p:nvSpPr>
              <p:cNvPr id="1150" name=""/>
              <p:cNvSpPr/>
              <p:nvPr/>
            </p:nvSpPr>
            <p:spPr>
              <a:xfrm>
                <a:off x="0" y="3117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0" y="3117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t4(12, 25, 42),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ll values spec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2" name=""/>
            <p:cNvGrpSpPr/>
            <p:nvPr/>
          </p:nvGrpSpPr>
          <p:grpSpPr>
            <a:xfrm>
              <a:off x="0" y="3324960"/>
              <a:ext cx="6705000" cy="207720"/>
              <a:chOff x="0" y="3324960"/>
              <a:chExt cx="6705000" cy="207720"/>
            </a:xfrm>
          </p:grpSpPr>
          <p:sp>
            <p:nvSpPr>
              <p:cNvPr id="1153" name=""/>
              <p:cNvSpPr/>
              <p:nvPr/>
            </p:nvSpPr>
            <p:spPr>
              <a:xfrm>
                <a:off x="0" y="3324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0" y="3324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t5(27, 74, 99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ll bad values spec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5" name=""/>
            <p:cNvGrpSpPr/>
            <p:nvPr/>
          </p:nvGrpSpPr>
          <p:grpSpPr>
            <a:xfrm>
              <a:off x="0" y="3532680"/>
              <a:ext cx="6705000" cy="207720"/>
              <a:chOff x="0" y="3532680"/>
              <a:chExt cx="6705000" cy="207720"/>
            </a:xfrm>
          </p:grpSpPr>
          <p:sp>
            <p:nvSpPr>
              <p:cNvPr id="1156" name=""/>
              <p:cNvSpPr/>
              <p:nvPr/>
            </p:nvSpPr>
            <p:spPr>
              <a:xfrm>
                <a:off x="0" y="3532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0" y="3532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0" y="3740760"/>
              <a:ext cx="6705000" cy="207720"/>
              <a:chOff x="0" y="3740760"/>
              <a:chExt cx="6705000" cy="207720"/>
            </a:xfrm>
          </p:grpSpPr>
          <p:sp>
            <p:nvSpPr>
              <p:cNvPr id="1159" name=""/>
              <p:cNvSpPr/>
              <p:nvPr/>
            </p:nvSpPr>
            <p:spPr>
              <a:xfrm>
                <a:off x="0" y="3740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0" y="3740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onstructed with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0" y="3948480"/>
              <a:ext cx="6705000" cy="207720"/>
              <a:chOff x="0" y="3948480"/>
              <a:chExt cx="6705000" cy="207720"/>
            </a:xfrm>
          </p:grpSpPr>
          <p:sp>
            <p:nvSpPr>
              <p:cNvPr id="1162" name=""/>
              <p:cNvSpPr/>
              <p:nvPr/>
            </p:nvSpPr>
            <p:spPr>
              <a:xfrm>
                <a:off x="0" y="3948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0" y="3948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all arguments defaulted: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"/>
            <p:cNvGrpSpPr/>
            <p:nvPr/>
          </p:nvGrpSpPr>
          <p:grpSpPr>
            <a:xfrm>
              <a:off x="0" y="4156200"/>
              <a:ext cx="6705000" cy="207720"/>
              <a:chOff x="0" y="4156200"/>
              <a:chExt cx="6705000" cy="207720"/>
            </a:xfrm>
          </p:grpSpPr>
          <p:sp>
            <p:nvSpPr>
              <p:cNvPr id="1165" name=""/>
              <p:cNvSpPr/>
              <p:nvPr/>
            </p:nvSpPr>
            <p:spPr>
              <a:xfrm>
                <a:off x="0" y="4156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0" y="4156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1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0" y="4364280"/>
              <a:ext cx="6705000" cy="207720"/>
              <a:chOff x="0" y="4364280"/>
              <a:chExt cx="6705000" cy="207720"/>
            </a:xfrm>
          </p:grpSpPr>
          <p:sp>
            <p:nvSpPr>
              <p:cNvPr id="1168" name=""/>
              <p:cNvSpPr/>
              <p:nvPr/>
            </p:nvSpPr>
            <p:spPr>
              <a:xfrm>
                <a:off x="0" y="4364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0" y="4364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0" y="4572000"/>
              <a:ext cx="6705000" cy="207720"/>
              <a:chOff x="0" y="4572000"/>
              <a:chExt cx="6705000" cy="207720"/>
            </a:xfrm>
          </p:grpSpPr>
          <p:sp>
            <p:nvSpPr>
              <p:cNvPr id="1171" name=""/>
              <p:cNvSpPr/>
              <p:nvPr/>
            </p:nvSpPr>
            <p:spPr>
              <a:xfrm>
                <a:off x="0" y="4572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0" y="4572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1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0" y="4779720"/>
              <a:ext cx="6705000" cy="207720"/>
              <a:chOff x="0" y="4779720"/>
              <a:chExt cx="6705000" cy="207720"/>
            </a:xfrm>
          </p:grpSpPr>
          <p:sp>
            <p:nvSpPr>
              <p:cNvPr id="1174" name=""/>
              <p:cNvSpPr/>
              <p:nvPr/>
            </p:nvSpPr>
            <p:spPr>
              <a:xfrm>
                <a:off x="0" y="4779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0" y="4779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6" name=""/>
            <p:cNvGrpSpPr/>
            <p:nvPr/>
          </p:nvGrpSpPr>
          <p:grpSpPr>
            <a:xfrm>
              <a:off x="0" y="4987800"/>
              <a:ext cx="6705000" cy="207720"/>
              <a:chOff x="0" y="4987800"/>
              <a:chExt cx="6705000" cy="207720"/>
            </a:xfrm>
          </p:grpSpPr>
          <p:sp>
            <p:nvSpPr>
              <p:cNvPr id="1177" name=""/>
              <p:cNvSpPr/>
              <p:nvPr/>
            </p:nvSpPr>
            <p:spPr>
              <a:xfrm>
                <a:off x="0" y="49878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0" y="49878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hour specified; minute and second default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0" y="5195520"/>
              <a:ext cx="6705000" cy="207720"/>
              <a:chOff x="0" y="5195520"/>
              <a:chExt cx="6705000" cy="207720"/>
            </a:xfrm>
          </p:grpSpPr>
          <p:sp>
            <p:nvSpPr>
              <p:cNvPr id="1180" name=""/>
              <p:cNvSpPr/>
              <p:nvPr/>
            </p:nvSpPr>
            <p:spPr>
              <a:xfrm>
                <a:off x="0" y="51955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0" y="51955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2" name=""/>
            <p:cNvGrpSpPr/>
            <p:nvPr/>
          </p:nvGrpSpPr>
          <p:grpSpPr>
            <a:xfrm>
              <a:off x="0" y="5403240"/>
              <a:ext cx="6705000" cy="207720"/>
              <a:chOff x="0" y="5403240"/>
              <a:chExt cx="6705000" cy="207720"/>
            </a:xfrm>
          </p:grpSpPr>
          <p:sp>
            <p:nvSpPr>
              <p:cNvPr id="1183" name=""/>
              <p:cNvSpPr/>
              <p:nvPr/>
            </p:nvSpPr>
            <p:spPr>
              <a:xfrm>
                <a:off x="0" y="5403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0" y="5403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2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5" name=""/>
            <p:cNvGrpSpPr/>
            <p:nvPr/>
          </p:nvGrpSpPr>
          <p:grpSpPr>
            <a:xfrm>
              <a:off x="0" y="5610960"/>
              <a:ext cx="6705000" cy="207720"/>
              <a:chOff x="0" y="5610960"/>
              <a:chExt cx="6705000" cy="207720"/>
            </a:xfrm>
          </p:grpSpPr>
          <p:sp>
            <p:nvSpPr>
              <p:cNvPr id="1186" name=""/>
              <p:cNvSpPr/>
              <p:nvPr/>
            </p:nvSpPr>
            <p:spPr>
              <a:xfrm>
                <a:off x="0" y="5610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0" y="5610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0" y="5819040"/>
              <a:ext cx="6705000" cy="207720"/>
              <a:chOff x="0" y="5819040"/>
              <a:chExt cx="6705000" cy="207720"/>
            </a:xfrm>
          </p:grpSpPr>
          <p:sp>
            <p:nvSpPr>
              <p:cNvPr id="1189" name=""/>
              <p:cNvSpPr/>
              <p:nvPr/>
            </p:nvSpPr>
            <p:spPr>
              <a:xfrm>
                <a:off x="0" y="58190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0" y="58190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2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1" name=""/>
            <p:cNvGrpSpPr/>
            <p:nvPr/>
          </p:nvGrpSpPr>
          <p:grpSpPr>
            <a:xfrm>
              <a:off x="0" y="6026760"/>
              <a:ext cx="6705000" cy="207720"/>
              <a:chOff x="0" y="6026760"/>
              <a:chExt cx="6705000" cy="207720"/>
            </a:xfrm>
          </p:grpSpPr>
          <p:sp>
            <p:nvSpPr>
              <p:cNvPr id="1192" name=""/>
              <p:cNvSpPr/>
              <p:nvPr/>
            </p:nvSpPr>
            <p:spPr>
              <a:xfrm>
                <a:off x="0" y="6026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0" y="6026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"/>
            <p:cNvGrpSpPr/>
            <p:nvPr/>
          </p:nvGrpSpPr>
          <p:grpSpPr>
            <a:xfrm>
              <a:off x="0" y="6234480"/>
              <a:ext cx="6705000" cy="207720"/>
              <a:chOff x="0" y="6234480"/>
              <a:chExt cx="6705000" cy="207720"/>
            </a:xfrm>
          </p:grpSpPr>
          <p:sp>
            <p:nvSpPr>
              <p:cNvPr id="1195" name=""/>
              <p:cNvSpPr/>
              <p:nvPr/>
            </p:nvSpPr>
            <p:spPr>
              <a:xfrm>
                <a:off x="0" y="6234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0" y="6234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hour and minute specified; second default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7" name=""/>
            <p:cNvGrpSpPr/>
            <p:nvPr/>
          </p:nvGrpSpPr>
          <p:grpSpPr>
            <a:xfrm>
              <a:off x="0" y="6442200"/>
              <a:ext cx="6705000" cy="207720"/>
              <a:chOff x="0" y="6442200"/>
              <a:chExt cx="6705000" cy="207720"/>
            </a:xfrm>
          </p:grpSpPr>
          <p:sp>
            <p:nvSpPr>
              <p:cNvPr id="1198" name=""/>
              <p:cNvSpPr/>
              <p:nvPr/>
            </p:nvSpPr>
            <p:spPr>
              <a:xfrm>
                <a:off x="0" y="6442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0" y="6442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0" y="6650280"/>
              <a:ext cx="6705000" cy="207720"/>
              <a:chOff x="0" y="6650280"/>
              <a:chExt cx="6705000" cy="207720"/>
            </a:xfrm>
          </p:grpSpPr>
          <p:sp>
            <p:nvSpPr>
              <p:cNvPr id="1201" name=""/>
              <p:cNvSpPr/>
              <p:nvPr/>
            </p:nvSpPr>
            <p:spPr>
              <a:xfrm>
                <a:off x="0" y="6650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0" y="6650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3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3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reate objects using default argument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Print th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1905120" y="762120"/>
            <a:ext cx="4876560" cy="1828800"/>
            <a:chOff x="1905120" y="762120"/>
            <a:chExt cx="4876560" cy="1828800"/>
          </a:xfrm>
        </p:grpSpPr>
        <p:sp>
          <p:nvSpPr>
            <p:cNvPr id="1205" name=""/>
            <p:cNvSpPr/>
            <p:nvPr/>
          </p:nvSpPr>
          <p:spPr>
            <a:xfrm>
              <a:off x="2514600" y="762120"/>
              <a:ext cx="4267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objects are initialized:</a:t>
              </a:r>
              <a:br>
                <a:rPr sz="1600"/>
              </a:b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Name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ue1,value2…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)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not enough values are specified, the rightmost values are set to their defaul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1905120" y="182880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A9D11-5ED3-4D3C-803F-D9CA7772ED3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(continued)  Print the objects.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08" name=""/>
          <p:cNvSpPr/>
          <p:nvPr/>
        </p:nvSpPr>
        <p:spPr>
          <a:xfrm>
            <a:off x="0" y="3657600"/>
            <a:ext cx="6705720" cy="3196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ructed wi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l arguments defaul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 specified; minute and second defaul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2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 and minute specified; second defaul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1: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:34:00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, minute, and second specifi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: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:25:42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l invalid values specifi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:00:00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9" name=""/>
          <p:cNvGrpSpPr/>
          <p:nvPr/>
        </p:nvGrpSpPr>
        <p:grpSpPr>
          <a:xfrm>
            <a:off x="4343040" y="3689280"/>
            <a:ext cx="3200760" cy="1554120"/>
            <a:chOff x="4343040" y="3689280"/>
            <a:chExt cx="3200760" cy="1554120"/>
          </a:xfrm>
        </p:grpSpPr>
        <p:sp>
          <p:nvSpPr>
            <p:cNvPr id="1210" name=""/>
            <p:cNvSpPr/>
            <p:nvPr/>
          </p:nvSpPr>
          <p:spPr>
            <a:xfrm>
              <a:off x="5867280" y="3689280"/>
              <a:ext cx="167652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onl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 specified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cond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 set to their default value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>
              <a:off x="4343040" y="4191120"/>
              <a:ext cx="1523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0" y="0"/>
            <a:ext cx="6705000" cy="3657600"/>
            <a:chOff x="0" y="0"/>
            <a:chExt cx="6705000" cy="3657600"/>
          </a:xfrm>
        </p:grpSpPr>
        <p:grpSp>
          <p:nvGrpSpPr>
            <p:cNvPr id="1213" name=""/>
            <p:cNvGrpSpPr/>
            <p:nvPr/>
          </p:nvGrpSpPr>
          <p:grpSpPr>
            <a:xfrm>
              <a:off x="0" y="0"/>
              <a:ext cx="6705000" cy="203040"/>
              <a:chOff x="0" y="0"/>
              <a:chExt cx="6705000" cy="203040"/>
            </a:xfrm>
          </p:grpSpPr>
          <p:sp>
            <p:nvSpPr>
              <p:cNvPr id="1214" name=""/>
              <p:cNvSpPr/>
              <p:nvPr/>
            </p:nvSpPr>
            <p:spPr>
              <a:xfrm>
                <a:off x="0" y="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0" y="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6" name=""/>
            <p:cNvGrpSpPr/>
            <p:nvPr/>
          </p:nvGrpSpPr>
          <p:grpSpPr>
            <a:xfrm>
              <a:off x="0" y="203040"/>
              <a:ext cx="6705000" cy="203040"/>
              <a:chOff x="0" y="203040"/>
              <a:chExt cx="6705000" cy="203040"/>
            </a:xfrm>
          </p:grpSpPr>
          <p:sp>
            <p:nvSpPr>
              <p:cNvPr id="1217" name=""/>
              <p:cNvSpPr/>
              <p:nvPr/>
            </p:nvSpPr>
            <p:spPr>
              <a:xfrm>
                <a:off x="0" y="2030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0" y="2030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3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0" y="406080"/>
              <a:ext cx="6705000" cy="203040"/>
              <a:chOff x="0" y="406080"/>
              <a:chExt cx="6705000" cy="203040"/>
            </a:xfrm>
          </p:grpSpPr>
          <p:sp>
            <p:nvSpPr>
              <p:cNvPr id="1220" name=""/>
              <p:cNvSpPr/>
              <p:nvPr/>
            </p:nvSpPr>
            <p:spPr>
              <a:xfrm>
                <a:off x="0" y="4060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0" y="4060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" name=""/>
            <p:cNvGrpSpPr/>
            <p:nvPr/>
          </p:nvGrpSpPr>
          <p:grpSpPr>
            <a:xfrm>
              <a:off x="0" y="609480"/>
              <a:ext cx="6705000" cy="203040"/>
              <a:chOff x="0" y="609480"/>
              <a:chExt cx="6705000" cy="203040"/>
            </a:xfrm>
          </p:grpSpPr>
          <p:sp>
            <p:nvSpPr>
              <p:cNvPr id="1223" name=""/>
              <p:cNvSpPr/>
              <p:nvPr/>
            </p:nvSpPr>
            <p:spPr>
              <a:xfrm>
                <a:off x="0" y="6094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0" y="6094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hour, minute, and second specifi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0" y="812520"/>
              <a:ext cx="6705000" cy="203040"/>
              <a:chOff x="0" y="812520"/>
              <a:chExt cx="6705000" cy="203040"/>
            </a:xfrm>
          </p:grpSpPr>
          <p:sp>
            <p:nvSpPr>
              <p:cNvPr id="1226" name=""/>
              <p:cNvSpPr/>
              <p:nvPr/>
            </p:nvSpPr>
            <p:spPr>
              <a:xfrm>
                <a:off x="0" y="8125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0" y="8125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0" y="1015920"/>
              <a:ext cx="6705000" cy="203040"/>
              <a:chOff x="0" y="1015920"/>
              <a:chExt cx="6705000" cy="203040"/>
            </a:xfrm>
          </p:grpSpPr>
          <p:sp>
            <p:nvSpPr>
              <p:cNvPr id="1229" name=""/>
              <p:cNvSpPr/>
              <p:nvPr/>
            </p:nvSpPr>
            <p:spPr>
              <a:xfrm>
                <a:off x="0" y="10159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0" y="10159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4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1" name=""/>
            <p:cNvGrpSpPr/>
            <p:nvPr/>
          </p:nvGrpSpPr>
          <p:grpSpPr>
            <a:xfrm>
              <a:off x="0" y="1218960"/>
              <a:ext cx="6705000" cy="203040"/>
              <a:chOff x="0" y="1218960"/>
              <a:chExt cx="6705000" cy="203040"/>
            </a:xfrm>
          </p:grpSpPr>
          <p:sp>
            <p:nvSpPr>
              <p:cNvPr id="1232" name=""/>
              <p:cNvSpPr/>
              <p:nvPr/>
            </p:nvSpPr>
            <p:spPr>
              <a:xfrm>
                <a:off x="0" y="12189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0" y="12189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0" y="1422360"/>
              <a:ext cx="6705000" cy="203040"/>
              <a:chOff x="0" y="1422360"/>
              <a:chExt cx="6705000" cy="203040"/>
            </a:xfrm>
          </p:grpSpPr>
          <p:sp>
            <p:nvSpPr>
              <p:cNvPr id="1235" name=""/>
              <p:cNvSpPr/>
              <p:nvPr/>
            </p:nvSpPr>
            <p:spPr>
              <a:xfrm>
                <a:off x="0" y="14223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0" y="14223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4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0" y="1625400"/>
              <a:ext cx="6705000" cy="203040"/>
              <a:chOff x="0" y="1625400"/>
              <a:chExt cx="6705000" cy="203040"/>
            </a:xfrm>
          </p:grpSpPr>
          <p:sp>
            <p:nvSpPr>
              <p:cNvPr id="1238" name=""/>
              <p:cNvSpPr/>
              <p:nvPr/>
            </p:nvSpPr>
            <p:spPr>
              <a:xfrm>
                <a:off x="0" y="162540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0" y="162540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0" name=""/>
            <p:cNvGrpSpPr/>
            <p:nvPr/>
          </p:nvGrpSpPr>
          <p:grpSpPr>
            <a:xfrm>
              <a:off x="0" y="1828800"/>
              <a:ext cx="6705000" cy="203040"/>
              <a:chOff x="0" y="1828800"/>
              <a:chExt cx="6705000" cy="203040"/>
            </a:xfrm>
          </p:grpSpPr>
          <p:sp>
            <p:nvSpPr>
              <p:cNvPr id="1241" name=""/>
              <p:cNvSpPr/>
              <p:nvPr/>
            </p:nvSpPr>
            <p:spPr>
              <a:xfrm>
                <a:off x="0" y="182880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0" y="182880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all invalid values specifi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0" y="2031840"/>
              <a:ext cx="6705000" cy="203040"/>
              <a:chOff x="0" y="2031840"/>
              <a:chExt cx="6705000" cy="203040"/>
            </a:xfrm>
          </p:grpSpPr>
          <p:sp>
            <p:nvSpPr>
              <p:cNvPr id="1244" name=""/>
              <p:cNvSpPr/>
              <p:nvPr/>
            </p:nvSpPr>
            <p:spPr>
              <a:xfrm>
                <a:off x="0" y="20318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0" y="20318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0" y="2235240"/>
              <a:ext cx="6705000" cy="203040"/>
              <a:chOff x="0" y="2235240"/>
              <a:chExt cx="6705000" cy="203040"/>
            </a:xfrm>
          </p:grpSpPr>
          <p:sp>
            <p:nvSpPr>
              <p:cNvPr id="1247" name=""/>
              <p:cNvSpPr/>
              <p:nvPr/>
            </p:nvSpPr>
            <p:spPr>
              <a:xfrm>
                <a:off x="0" y="22352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0" y="22352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5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0" y="2438280"/>
              <a:ext cx="6705000" cy="203040"/>
              <a:chOff x="0" y="2438280"/>
              <a:chExt cx="6705000" cy="203040"/>
            </a:xfrm>
          </p:grpSpPr>
          <p:sp>
            <p:nvSpPr>
              <p:cNvPr id="1250" name=""/>
              <p:cNvSpPr/>
              <p:nvPr/>
            </p:nvSpPr>
            <p:spPr>
              <a:xfrm>
                <a:off x="0" y="24382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0" y="24382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2" name=""/>
            <p:cNvGrpSpPr/>
            <p:nvPr/>
          </p:nvGrpSpPr>
          <p:grpSpPr>
            <a:xfrm>
              <a:off x="0" y="2641680"/>
              <a:ext cx="6705000" cy="203040"/>
              <a:chOff x="0" y="2641680"/>
              <a:chExt cx="6705000" cy="203040"/>
            </a:xfrm>
          </p:grpSpPr>
          <p:sp>
            <p:nvSpPr>
              <p:cNvPr id="1253" name=""/>
              <p:cNvSpPr/>
              <p:nvPr/>
            </p:nvSpPr>
            <p:spPr>
              <a:xfrm>
                <a:off x="0" y="26416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0" y="26416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5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5" name=""/>
            <p:cNvGrpSpPr/>
            <p:nvPr/>
          </p:nvGrpSpPr>
          <p:grpSpPr>
            <a:xfrm>
              <a:off x="0" y="2844720"/>
              <a:ext cx="6705000" cy="203040"/>
              <a:chOff x="0" y="2844720"/>
              <a:chExt cx="6705000" cy="203040"/>
            </a:xfrm>
          </p:grpSpPr>
          <p:sp>
            <p:nvSpPr>
              <p:cNvPr id="1256" name=""/>
              <p:cNvSpPr/>
              <p:nvPr/>
            </p:nvSpPr>
            <p:spPr>
              <a:xfrm>
                <a:off x="0" y="28447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0" y="28447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8" name=""/>
            <p:cNvGrpSpPr/>
            <p:nvPr/>
          </p:nvGrpSpPr>
          <p:grpSpPr>
            <a:xfrm>
              <a:off x="0" y="3048120"/>
              <a:ext cx="6705000" cy="203040"/>
              <a:chOff x="0" y="3048120"/>
              <a:chExt cx="6705000" cy="203040"/>
            </a:xfrm>
          </p:grpSpPr>
          <p:sp>
            <p:nvSpPr>
              <p:cNvPr id="1259" name=""/>
              <p:cNvSpPr/>
              <p:nvPr/>
            </p:nvSpPr>
            <p:spPr>
              <a:xfrm>
                <a:off x="0" y="30481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0" y="30481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1" name=""/>
            <p:cNvGrpSpPr/>
            <p:nvPr/>
          </p:nvGrpSpPr>
          <p:grpSpPr>
            <a:xfrm>
              <a:off x="0" y="3251160"/>
              <a:ext cx="6705000" cy="203040"/>
              <a:chOff x="0" y="3251160"/>
              <a:chExt cx="6705000" cy="203040"/>
            </a:xfrm>
          </p:grpSpPr>
          <p:sp>
            <p:nvSpPr>
              <p:cNvPr id="1262" name=""/>
              <p:cNvSpPr/>
              <p:nvPr/>
            </p:nvSpPr>
            <p:spPr>
              <a:xfrm>
                <a:off x="0" y="32511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0" y="32511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0" y="3454560"/>
              <a:ext cx="6705000" cy="203040"/>
              <a:chOff x="0" y="3454560"/>
              <a:chExt cx="6705000" cy="203040"/>
            </a:xfrm>
          </p:grpSpPr>
          <p:sp>
            <p:nvSpPr>
              <p:cNvPr id="1265" name=""/>
              <p:cNvSpPr/>
              <p:nvPr/>
            </p:nvSpPr>
            <p:spPr>
              <a:xfrm>
                <a:off x="0" y="34545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0" y="34545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9F548-C1EE-4A52-9BA6-671FF328D45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2 Using Destructo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e member function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 termination housekeeping before the system reclaims the object’s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ement of the construct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 is tild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~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llowed by the class name (i.e.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~Ti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all that the constructor’s name is the class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eives no parameters, returns no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e destructor per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overloading all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CD718-1E84-4BAC-8636-D980FD3E68C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3   When Constructors and Destructors Are Called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and destructors called automat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der depends on scope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cope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s called before any other function (inclu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called wh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erminates (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called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not called if program terminate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loc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s called when objects are 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called when objects leave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, when the block in which they are defined is ex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not called if the program end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BD681-C91A-4826-982F-671C6409F24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3   When Constructors and Destructors Are Called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loc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s called when execution reaches the point where the objects are 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called wh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erminates or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is ca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not called if the program end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38935-318A-44F5-B1F7-3580C1E7BBA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3" name=""/>
          <p:cNvGrpSpPr/>
          <p:nvPr/>
        </p:nvGrpSpPr>
        <p:grpSpPr>
          <a:xfrm>
            <a:off x="0" y="0"/>
            <a:ext cx="6705000" cy="3886200"/>
            <a:chOff x="0" y="0"/>
            <a:chExt cx="6705000" cy="3886200"/>
          </a:xfrm>
        </p:grpSpPr>
        <p:grpSp>
          <p:nvGrpSpPr>
            <p:cNvPr id="1274" name=""/>
            <p:cNvGrpSpPr/>
            <p:nvPr/>
          </p:nvGrpSpPr>
          <p:grpSpPr>
            <a:xfrm>
              <a:off x="0" y="0"/>
              <a:ext cx="6705000" cy="258840"/>
              <a:chOff x="0" y="0"/>
              <a:chExt cx="6705000" cy="258840"/>
            </a:xfrm>
          </p:grpSpPr>
          <p:sp>
            <p:nvSpPr>
              <p:cNvPr id="1275" name=""/>
              <p:cNvSpPr/>
              <p:nvPr/>
            </p:nvSpPr>
            <p:spPr>
              <a:xfrm>
                <a:off x="0" y="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0" y="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9: create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7" name=""/>
            <p:cNvGrpSpPr/>
            <p:nvPr/>
          </p:nvGrpSpPr>
          <p:grpSpPr>
            <a:xfrm>
              <a:off x="0" y="258840"/>
              <a:ext cx="6705000" cy="258840"/>
              <a:chOff x="0" y="258840"/>
              <a:chExt cx="6705000" cy="258840"/>
            </a:xfrm>
          </p:grpSpPr>
          <p:sp>
            <p:nvSpPr>
              <p:cNvPr id="1278" name=""/>
              <p:cNvSpPr/>
              <p:nvPr/>
            </p:nvSpPr>
            <p:spPr>
              <a:xfrm>
                <a:off x="0" y="25884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0" y="25884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CreateAndDestro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0" name=""/>
            <p:cNvGrpSpPr/>
            <p:nvPr/>
          </p:nvGrpSpPr>
          <p:grpSpPr>
            <a:xfrm>
              <a:off x="0" y="518040"/>
              <a:ext cx="6705000" cy="259200"/>
              <a:chOff x="0" y="518040"/>
              <a:chExt cx="6705000" cy="259200"/>
            </a:xfrm>
          </p:grpSpPr>
          <p:sp>
            <p:nvSpPr>
              <p:cNvPr id="1281" name=""/>
              <p:cNvSpPr/>
              <p:nvPr/>
            </p:nvSpPr>
            <p:spPr>
              <a:xfrm>
                <a:off x="0" y="51804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0" y="51804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defined in create.cpp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3" name=""/>
            <p:cNvGrpSpPr/>
            <p:nvPr/>
          </p:nvGrpSpPr>
          <p:grpSpPr>
            <a:xfrm>
              <a:off x="0" y="777240"/>
              <a:ext cx="6705000" cy="258840"/>
              <a:chOff x="0" y="777240"/>
              <a:chExt cx="6705000" cy="258840"/>
            </a:xfrm>
          </p:grpSpPr>
          <p:sp>
            <p:nvSpPr>
              <p:cNvPr id="1284" name=""/>
              <p:cNvSpPr/>
              <p:nvPr/>
            </p:nvSpPr>
            <p:spPr>
              <a:xfrm>
                <a:off x="0" y="77724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0" y="77724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fndef CREAT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"/>
            <p:cNvGrpSpPr/>
            <p:nvPr/>
          </p:nvGrpSpPr>
          <p:grpSpPr>
            <a:xfrm>
              <a:off x="0" y="1036080"/>
              <a:ext cx="6705000" cy="258840"/>
              <a:chOff x="0" y="1036080"/>
              <a:chExt cx="6705000" cy="258840"/>
            </a:xfrm>
          </p:grpSpPr>
          <p:sp>
            <p:nvSpPr>
              <p:cNvPr id="1287" name=""/>
              <p:cNvSpPr/>
              <p:nvPr/>
            </p:nvSpPr>
            <p:spPr>
              <a:xfrm>
                <a:off x="0" y="103608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0" y="103608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define CREAT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9" name=""/>
            <p:cNvGrpSpPr/>
            <p:nvPr/>
          </p:nvGrpSpPr>
          <p:grpSpPr>
            <a:xfrm>
              <a:off x="0" y="1295280"/>
              <a:ext cx="6705000" cy="258840"/>
              <a:chOff x="0" y="1295280"/>
              <a:chExt cx="6705000" cy="258840"/>
            </a:xfrm>
          </p:grpSpPr>
          <p:sp>
            <p:nvSpPr>
              <p:cNvPr id="1290" name=""/>
              <p:cNvSpPr/>
              <p:nvPr/>
            </p:nvSpPr>
            <p:spPr>
              <a:xfrm>
                <a:off x="0" y="129528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0" y="129528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2" name=""/>
            <p:cNvGrpSpPr/>
            <p:nvPr/>
          </p:nvGrpSpPr>
          <p:grpSpPr>
            <a:xfrm>
              <a:off x="0" y="1554120"/>
              <a:ext cx="6705000" cy="259200"/>
              <a:chOff x="0" y="1554120"/>
              <a:chExt cx="6705000" cy="259200"/>
            </a:xfrm>
          </p:grpSpPr>
          <p:sp>
            <p:nvSpPr>
              <p:cNvPr id="1293" name=""/>
              <p:cNvSpPr/>
              <p:nvPr/>
            </p:nvSpPr>
            <p:spPr>
              <a:xfrm>
                <a:off x="0" y="155412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0" y="155412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reateAndDestroy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5" name=""/>
            <p:cNvGrpSpPr/>
            <p:nvPr/>
          </p:nvGrpSpPr>
          <p:grpSpPr>
            <a:xfrm>
              <a:off x="0" y="1813320"/>
              <a:ext cx="6705000" cy="258840"/>
              <a:chOff x="0" y="1813320"/>
              <a:chExt cx="6705000" cy="258840"/>
            </a:xfrm>
          </p:grpSpPr>
          <p:sp>
            <p:nvSpPr>
              <p:cNvPr id="1296" name=""/>
              <p:cNvSpPr/>
              <p:nvPr/>
            </p:nvSpPr>
            <p:spPr>
              <a:xfrm>
                <a:off x="0" y="181332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0" y="181332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8" name=""/>
            <p:cNvGrpSpPr/>
            <p:nvPr/>
          </p:nvGrpSpPr>
          <p:grpSpPr>
            <a:xfrm>
              <a:off x="0" y="2072520"/>
              <a:ext cx="6705000" cy="258840"/>
              <a:chOff x="0" y="2072520"/>
              <a:chExt cx="6705000" cy="258840"/>
            </a:xfrm>
          </p:grpSpPr>
          <p:sp>
            <p:nvSpPr>
              <p:cNvPr id="1299" name=""/>
              <p:cNvSpPr/>
              <p:nvPr/>
            </p:nvSpPr>
            <p:spPr>
              <a:xfrm>
                <a:off x="0" y="207252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0" y="207252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ateAndDestroy( int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1" name=""/>
            <p:cNvGrpSpPr/>
            <p:nvPr/>
          </p:nvGrpSpPr>
          <p:grpSpPr>
            <a:xfrm>
              <a:off x="0" y="2331720"/>
              <a:ext cx="6705000" cy="258840"/>
              <a:chOff x="0" y="2331720"/>
              <a:chExt cx="6705000" cy="258840"/>
            </a:xfrm>
          </p:grpSpPr>
          <p:sp>
            <p:nvSpPr>
              <p:cNvPr id="1302" name=""/>
              <p:cNvSpPr/>
              <p:nvPr/>
            </p:nvSpPr>
            <p:spPr>
              <a:xfrm>
                <a:off x="0" y="233172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0" y="233172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~CreateAndDestroy(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0" y="2590560"/>
              <a:ext cx="6705000" cy="259200"/>
              <a:chOff x="0" y="2590560"/>
              <a:chExt cx="6705000" cy="259200"/>
            </a:xfrm>
          </p:grpSpPr>
          <p:sp>
            <p:nvSpPr>
              <p:cNvPr id="1305" name=""/>
              <p:cNvSpPr/>
              <p:nvPr/>
            </p:nvSpPr>
            <p:spPr>
              <a:xfrm>
                <a:off x="0" y="259056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0" y="259056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0" y="2849760"/>
              <a:ext cx="6705000" cy="258840"/>
              <a:chOff x="0" y="2849760"/>
              <a:chExt cx="6705000" cy="258840"/>
            </a:xfrm>
          </p:grpSpPr>
          <p:sp>
            <p:nvSpPr>
              <p:cNvPr id="1308" name=""/>
              <p:cNvSpPr/>
              <p:nvPr/>
            </p:nvSpPr>
            <p:spPr>
              <a:xfrm>
                <a:off x="0" y="284976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0" y="284976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t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0" name=""/>
            <p:cNvGrpSpPr/>
            <p:nvPr/>
          </p:nvGrpSpPr>
          <p:grpSpPr>
            <a:xfrm>
              <a:off x="0" y="3108960"/>
              <a:ext cx="6705000" cy="258840"/>
              <a:chOff x="0" y="3108960"/>
              <a:chExt cx="6705000" cy="258840"/>
            </a:xfrm>
          </p:grpSpPr>
          <p:sp>
            <p:nvSpPr>
              <p:cNvPr id="1311" name=""/>
              <p:cNvSpPr/>
              <p:nvPr/>
            </p:nvSpPr>
            <p:spPr>
              <a:xfrm>
                <a:off x="0" y="310896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0" y="310896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3" name=""/>
            <p:cNvGrpSpPr/>
            <p:nvPr/>
          </p:nvGrpSpPr>
          <p:grpSpPr>
            <a:xfrm>
              <a:off x="0" y="3367800"/>
              <a:ext cx="6705000" cy="258840"/>
              <a:chOff x="0" y="3367800"/>
              <a:chExt cx="6705000" cy="258840"/>
            </a:xfrm>
          </p:grpSpPr>
          <p:sp>
            <p:nvSpPr>
              <p:cNvPr id="1314" name=""/>
              <p:cNvSpPr/>
              <p:nvPr/>
            </p:nvSpPr>
            <p:spPr>
              <a:xfrm>
                <a:off x="0" y="336780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0" y="336780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6" name=""/>
            <p:cNvGrpSpPr/>
            <p:nvPr/>
          </p:nvGrpSpPr>
          <p:grpSpPr>
            <a:xfrm>
              <a:off x="0" y="3627000"/>
              <a:ext cx="6705000" cy="259200"/>
              <a:chOff x="0" y="3627000"/>
              <a:chExt cx="6705000" cy="259200"/>
            </a:xfrm>
          </p:grpSpPr>
          <p:sp>
            <p:nvSpPr>
              <p:cNvPr id="1317" name=""/>
              <p:cNvSpPr/>
              <p:nvPr/>
            </p:nvSpPr>
            <p:spPr>
              <a:xfrm>
                <a:off x="0" y="362700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0" y="362700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9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Create a header fil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clude function prototypes for the destructor and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B2E24-1CBD-4AC5-B4D3-14F3F178534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0" name=""/>
          <p:cNvGrpSpPr/>
          <p:nvPr/>
        </p:nvGrpSpPr>
        <p:grpSpPr>
          <a:xfrm>
            <a:off x="0" y="0"/>
            <a:ext cx="6705000" cy="6477120"/>
            <a:chOff x="0" y="0"/>
            <a:chExt cx="6705000" cy="6477120"/>
          </a:xfrm>
        </p:grpSpPr>
        <p:grpSp>
          <p:nvGrpSpPr>
            <p:cNvPr id="1321" name=""/>
            <p:cNvGrpSpPr/>
            <p:nvPr/>
          </p:nvGrpSpPr>
          <p:grpSpPr>
            <a:xfrm>
              <a:off x="0" y="0"/>
              <a:ext cx="6705000" cy="380880"/>
              <a:chOff x="0" y="0"/>
              <a:chExt cx="6705000" cy="380880"/>
            </a:xfrm>
          </p:grpSpPr>
          <p:sp>
            <p:nvSpPr>
              <p:cNvPr id="1322" name=""/>
              <p:cNvSpPr/>
              <p:nvPr/>
            </p:nvSpPr>
            <p:spPr>
              <a:xfrm>
                <a:off x="0" y="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0" y="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9: create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4" name=""/>
            <p:cNvGrpSpPr/>
            <p:nvPr/>
          </p:nvGrpSpPr>
          <p:grpSpPr>
            <a:xfrm>
              <a:off x="0" y="380880"/>
              <a:ext cx="6705000" cy="380880"/>
              <a:chOff x="0" y="380880"/>
              <a:chExt cx="6705000" cy="380880"/>
            </a:xfrm>
          </p:grpSpPr>
          <p:sp>
            <p:nvSpPr>
              <p:cNvPr id="1325" name=""/>
              <p:cNvSpPr/>
              <p:nvPr/>
            </p:nvSpPr>
            <p:spPr>
              <a:xfrm>
                <a:off x="0" y="380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0" y="380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CreateAndDestro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7" name=""/>
            <p:cNvGrpSpPr/>
            <p:nvPr/>
          </p:nvGrpSpPr>
          <p:grpSpPr>
            <a:xfrm>
              <a:off x="0" y="761760"/>
              <a:ext cx="6705000" cy="380880"/>
              <a:chOff x="0" y="761760"/>
              <a:chExt cx="6705000" cy="380880"/>
            </a:xfrm>
          </p:grpSpPr>
          <p:sp>
            <p:nvSpPr>
              <p:cNvPr id="1328" name=""/>
              <p:cNvSpPr/>
              <p:nvPr/>
            </p:nvSpPr>
            <p:spPr>
              <a:xfrm>
                <a:off x="0" y="761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0" y="761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0" name=""/>
            <p:cNvGrpSpPr/>
            <p:nvPr/>
          </p:nvGrpSpPr>
          <p:grpSpPr>
            <a:xfrm>
              <a:off x="0" y="1143000"/>
              <a:ext cx="6705000" cy="380880"/>
              <a:chOff x="0" y="1143000"/>
              <a:chExt cx="6705000" cy="380880"/>
            </a:xfrm>
          </p:grpSpPr>
          <p:sp>
            <p:nvSpPr>
              <p:cNvPr id="1331" name=""/>
              <p:cNvSpPr/>
              <p:nvPr/>
            </p:nvSpPr>
            <p:spPr>
              <a:xfrm>
                <a:off x="0" y="1143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0" y="1143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3" name=""/>
            <p:cNvGrpSpPr/>
            <p:nvPr/>
          </p:nvGrpSpPr>
          <p:grpSpPr>
            <a:xfrm>
              <a:off x="0" y="1523880"/>
              <a:ext cx="6705000" cy="380880"/>
              <a:chOff x="0" y="1523880"/>
              <a:chExt cx="6705000" cy="380880"/>
            </a:xfrm>
          </p:grpSpPr>
          <p:sp>
            <p:nvSpPr>
              <p:cNvPr id="1334" name=""/>
              <p:cNvSpPr/>
              <p:nvPr/>
            </p:nvSpPr>
            <p:spPr>
              <a:xfrm>
                <a:off x="0" y="1523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0" y="1523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6" name=""/>
            <p:cNvGrpSpPr/>
            <p:nvPr/>
          </p:nvGrpSpPr>
          <p:grpSpPr>
            <a:xfrm>
              <a:off x="0" y="1904760"/>
              <a:ext cx="6705000" cy="380880"/>
              <a:chOff x="0" y="1904760"/>
              <a:chExt cx="6705000" cy="380880"/>
            </a:xfrm>
          </p:grpSpPr>
          <p:sp>
            <p:nvSpPr>
              <p:cNvPr id="1337" name=""/>
              <p:cNvSpPr/>
              <p:nvPr/>
            </p:nvSpPr>
            <p:spPr>
              <a:xfrm>
                <a:off x="0" y="1904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0" y="1904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9" name=""/>
            <p:cNvGrpSpPr/>
            <p:nvPr/>
          </p:nvGrpSpPr>
          <p:grpSpPr>
            <a:xfrm>
              <a:off x="0" y="2285640"/>
              <a:ext cx="6705000" cy="380880"/>
              <a:chOff x="0" y="2285640"/>
              <a:chExt cx="6705000" cy="380880"/>
            </a:xfrm>
          </p:grpSpPr>
          <p:sp>
            <p:nvSpPr>
              <p:cNvPr id="1340" name=""/>
              <p:cNvSpPr/>
              <p:nvPr/>
            </p:nvSpPr>
            <p:spPr>
              <a:xfrm>
                <a:off x="0" y="228564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0" y="228564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0" y="2666880"/>
              <a:ext cx="6705000" cy="380880"/>
              <a:chOff x="0" y="2666880"/>
              <a:chExt cx="6705000" cy="380880"/>
            </a:xfrm>
          </p:grpSpPr>
          <p:sp>
            <p:nvSpPr>
              <p:cNvPr id="1343" name=""/>
              <p:cNvSpPr/>
              <p:nvPr/>
            </p:nvSpPr>
            <p:spPr>
              <a:xfrm>
                <a:off x="0" y="2666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0" y="2666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creat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5" name=""/>
            <p:cNvGrpSpPr/>
            <p:nvPr/>
          </p:nvGrpSpPr>
          <p:grpSpPr>
            <a:xfrm>
              <a:off x="0" y="3048120"/>
              <a:ext cx="6705000" cy="380880"/>
              <a:chOff x="0" y="3048120"/>
              <a:chExt cx="6705000" cy="380880"/>
            </a:xfrm>
          </p:grpSpPr>
          <p:sp>
            <p:nvSpPr>
              <p:cNvPr id="1346" name=""/>
              <p:cNvSpPr/>
              <p:nvPr/>
            </p:nvSpPr>
            <p:spPr>
              <a:xfrm>
                <a:off x="0" y="3048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0" y="3048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8" name=""/>
            <p:cNvGrpSpPr/>
            <p:nvPr/>
          </p:nvGrpSpPr>
          <p:grpSpPr>
            <a:xfrm>
              <a:off x="0" y="3429000"/>
              <a:ext cx="6705000" cy="380880"/>
              <a:chOff x="0" y="3429000"/>
              <a:chExt cx="6705000" cy="380880"/>
            </a:xfrm>
          </p:grpSpPr>
          <p:sp>
            <p:nvSpPr>
              <p:cNvPr id="1349" name=""/>
              <p:cNvSpPr/>
              <p:nvPr/>
            </p:nvSpPr>
            <p:spPr>
              <a:xfrm>
                <a:off x="0" y="3429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0" y="3429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reateAndDestroy::CreateAndDestro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alu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0" y="3809880"/>
              <a:ext cx="6705000" cy="380880"/>
              <a:chOff x="0" y="3809880"/>
              <a:chExt cx="6705000" cy="380880"/>
            </a:xfrm>
          </p:grpSpPr>
          <p:sp>
            <p:nvSpPr>
              <p:cNvPr id="1352" name=""/>
              <p:cNvSpPr/>
              <p:nvPr/>
            </p:nvSpPr>
            <p:spPr>
              <a:xfrm>
                <a:off x="0" y="3809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0" y="3809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0" y="4191120"/>
              <a:ext cx="6705000" cy="380880"/>
              <a:chOff x="0" y="4191120"/>
              <a:chExt cx="6705000" cy="380880"/>
            </a:xfrm>
          </p:grpSpPr>
          <p:sp>
            <p:nvSpPr>
              <p:cNvPr id="1355" name=""/>
              <p:cNvSpPr/>
              <p:nvPr/>
            </p:nvSpPr>
            <p:spPr>
              <a:xfrm>
                <a:off x="0" y="4191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0" y="4191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a = valu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0" y="4572000"/>
              <a:ext cx="6705000" cy="380880"/>
              <a:chOff x="0" y="4572000"/>
              <a:chExt cx="6705000" cy="380880"/>
            </a:xfrm>
          </p:grpSpPr>
          <p:sp>
            <p:nvSpPr>
              <p:cNvPr id="1358" name=""/>
              <p:cNvSpPr/>
              <p:nvPr/>
            </p:nvSpPr>
            <p:spPr>
              <a:xfrm>
                <a:off x="0" y="4572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0" y="4572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Object " &lt;&lt; data &lt;&lt; "   constructor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0" y="4952880"/>
              <a:ext cx="6705000" cy="380880"/>
              <a:chOff x="0" y="4952880"/>
              <a:chExt cx="6705000" cy="380880"/>
            </a:xfrm>
          </p:grpSpPr>
          <p:sp>
            <p:nvSpPr>
              <p:cNvPr id="1361" name=""/>
              <p:cNvSpPr/>
              <p:nvPr/>
            </p:nvSpPr>
            <p:spPr>
              <a:xfrm>
                <a:off x="0" y="4952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0" y="4952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0" y="5334120"/>
              <a:ext cx="6705000" cy="380880"/>
              <a:chOff x="0" y="5334120"/>
              <a:chExt cx="6705000" cy="380880"/>
            </a:xfrm>
          </p:grpSpPr>
          <p:sp>
            <p:nvSpPr>
              <p:cNvPr id="1364" name=""/>
              <p:cNvSpPr/>
              <p:nvPr/>
            </p:nvSpPr>
            <p:spPr>
              <a:xfrm>
                <a:off x="0" y="5334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0" y="5334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0" y="5715000"/>
              <a:ext cx="6705000" cy="380880"/>
              <a:chOff x="0" y="5715000"/>
              <a:chExt cx="6705000" cy="380880"/>
            </a:xfrm>
          </p:grpSpPr>
          <p:sp>
            <p:nvSpPr>
              <p:cNvPr id="1367" name=""/>
              <p:cNvSpPr/>
              <p:nvPr/>
            </p:nvSpPr>
            <p:spPr>
              <a:xfrm>
                <a:off x="0" y="5715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0" y="5715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reateAndDestroy::~CreateAndDestroy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0" y="6096240"/>
              <a:ext cx="6705000" cy="380880"/>
              <a:chOff x="0" y="6096240"/>
              <a:chExt cx="6705000" cy="380880"/>
            </a:xfrm>
          </p:grpSpPr>
          <p:sp>
            <p:nvSpPr>
              <p:cNvPr id="1370" name=""/>
              <p:cNvSpPr/>
              <p:nvPr/>
            </p:nvSpPr>
            <p:spPr>
              <a:xfrm>
                <a:off x="0" y="609624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0" y="609624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cout &lt;&lt; "Object " &lt;&lt; data &lt;&lt; "   destructor " &lt;&lt; endl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2" name=""/>
          <p:cNvGrpSpPr/>
          <p:nvPr/>
        </p:nvGrpSpPr>
        <p:grpSpPr>
          <a:xfrm>
            <a:off x="4952520" y="3809880"/>
            <a:ext cx="3962880" cy="2362320"/>
            <a:chOff x="4952520" y="3809880"/>
            <a:chExt cx="3962880" cy="2362320"/>
          </a:xfrm>
        </p:grpSpPr>
        <p:sp>
          <p:nvSpPr>
            <p:cNvPr id="1373" name=""/>
            <p:cNvSpPr/>
            <p:nvPr/>
          </p:nvSpPr>
          <p:spPr>
            <a:xfrm>
              <a:off x="5486400" y="380988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 and Destructor changed to print when they are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>
              <a:off x="4952520" y="4724280"/>
              <a:ext cx="11430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4952880" y="43434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6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Load the header fil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Modify the constructor and de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F6CF0-8B69-44C2-9189-EC73156FBAD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Create multiple objects of varying 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0" y="0"/>
            <a:ext cx="6705000" cy="6857640"/>
            <a:chOff x="0" y="0"/>
            <a:chExt cx="6705000" cy="6857640"/>
          </a:xfrm>
        </p:grpSpPr>
        <p:grpSp>
          <p:nvGrpSpPr>
            <p:cNvPr id="1379" name=""/>
            <p:cNvGrpSpPr/>
            <p:nvPr/>
          </p:nvGrpSpPr>
          <p:grpSpPr>
            <a:xfrm>
              <a:off x="0" y="0"/>
              <a:ext cx="6705000" cy="228240"/>
              <a:chOff x="0" y="0"/>
              <a:chExt cx="6705000" cy="228240"/>
            </a:xfrm>
          </p:grpSpPr>
          <p:sp>
            <p:nvSpPr>
              <p:cNvPr id="1380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9: fig06_09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2" name=""/>
            <p:cNvGrpSpPr/>
            <p:nvPr/>
          </p:nvGrpSpPr>
          <p:grpSpPr>
            <a:xfrm>
              <a:off x="0" y="228240"/>
              <a:ext cx="6705000" cy="228240"/>
              <a:chOff x="0" y="228240"/>
              <a:chExt cx="6705000" cy="228240"/>
            </a:xfrm>
          </p:grpSpPr>
          <p:sp>
            <p:nvSpPr>
              <p:cNvPr id="1383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the order in which constructors 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5" name=""/>
            <p:cNvGrpSpPr/>
            <p:nvPr/>
          </p:nvGrpSpPr>
          <p:grpSpPr>
            <a:xfrm>
              <a:off x="0" y="456840"/>
              <a:ext cx="6705000" cy="228600"/>
              <a:chOff x="0" y="456840"/>
              <a:chExt cx="6705000" cy="228600"/>
            </a:xfrm>
          </p:grpSpPr>
          <p:sp>
            <p:nvSpPr>
              <p:cNvPr id="1386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s are call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8" name=""/>
            <p:cNvGrpSpPr/>
            <p:nvPr/>
          </p:nvGrpSpPr>
          <p:grpSpPr>
            <a:xfrm>
              <a:off x="0" y="685800"/>
              <a:ext cx="6705000" cy="228240"/>
              <a:chOff x="0" y="685800"/>
              <a:chExt cx="6705000" cy="228240"/>
            </a:xfrm>
          </p:grpSpPr>
          <p:sp>
            <p:nvSpPr>
              <p:cNvPr id="1389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1" name=""/>
            <p:cNvGrpSpPr/>
            <p:nvPr/>
          </p:nvGrpSpPr>
          <p:grpSpPr>
            <a:xfrm>
              <a:off x="0" y="914400"/>
              <a:ext cx="6705000" cy="228240"/>
              <a:chOff x="0" y="914400"/>
              <a:chExt cx="6705000" cy="228240"/>
            </a:xfrm>
          </p:grpSpPr>
          <p:sp>
            <p:nvSpPr>
              <p:cNvPr id="1392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4" name=""/>
            <p:cNvGrpSpPr/>
            <p:nvPr/>
          </p:nvGrpSpPr>
          <p:grpSpPr>
            <a:xfrm>
              <a:off x="0" y="1143000"/>
              <a:ext cx="6705000" cy="228240"/>
              <a:chOff x="0" y="1143000"/>
              <a:chExt cx="6705000" cy="228240"/>
            </a:xfrm>
          </p:grpSpPr>
          <p:sp>
            <p:nvSpPr>
              <p:cNvPr id="1395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7" name=""/>
            <p:cNvGrpSpPr/>
            <p:nvPr/>
          </p:nvGrpSpPr>
          <p:grpSpPr>
            <a:xfrm>
              <a:off x="0" y="1371240"/>
              <a:ext cx="6705000" cy="228600"/>
              <a:chOff x="0" y="1371240"/>
              <a:chExt cx="6705000" cy="228600"/>
            </a:xfrm>
          </p:grpSpPr>
          <p:sp>
            <p:nvSpPr>
              <p:cNvPr id="1398" name="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0" name=""/>
            <p:cNvGrpSpPr/>
            <p:nvPr/>
          </p:nvGrpSpPr>
          <p:grpSpPr>
            <a:xfrm>
              <a:off x="0" y="1600200"/>
              <a:ext cx="6705000" cy="228240"/>
              <a:chOff x="0" y="1600200"/>
              <a:chExt cx="6705000" cy="228240"/>
            </a:xfrm>
          </p:grpSpPr>
          <p:sp>
            <p:nvSpPr>
              <p:cNvPr id="1401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0" y="1828800"/>
              <a:ext cx="6705000" cy="228240"/>
              <a:chOff x="0" y="1828800"/>
              <a:chExt cx="6705000" cy="228240"/>
            </a:xfrm>
          </p:grpSpPr>
          <p:sp>
            <p:nvSpPr>
              <p:cNvPr id="1404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creat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6" name=""/>
            <p:cNvGrpSpPr/>
            <p:nvPr/>
          </p:nvGrpSpPr>
          <p:grpSpPr>
            <a:xfrm>
              <a:off x="0" y="2057400"/>
              <a:ext cx="6705000" cy="228240"/>
              <a:chOff x="0" y="2057400"/>
              <a:chExt cx="6705000" cy="228240"/>
            </a:xfrm>
          </p:grpSpPr>
          <p:sp>
            <p:nvSpPr>
              <p:cNvPr id="1407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9" name=""/>
            <p:cNvGrpSpPr/>
            <p:nvPr/>
          </p:nvGrpSpPr>
          <p:grpSpPr>
            <a:xfrm>
              <a:off x="0" y="2286000"/>
              <a:ext cx="6705000" cy="228600"/>
              <a:chOff x="0" y="2286000"/>
              <a:chExt cx="6705000" cy="228600"/>
            </a:xfrm>
          </p:grpSpPr>
          <p:sp>
            <p:nvSpPr>
              <p:cNvPr id="1410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re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2" name=""/>
            <p:cNvGrpSpPr/>
            <p:nvPr/>
          </p:nvGrpSpPr>
          <p:grpSpPr>
            <a:xfrm>
              <a:off x="0" y="2514600"/>
              <a:ext cx="6705000" cy="228240"/>
              <a:chOff x="0" y="2514600"/>
              <a:chExt cx="6705000" cy="228240"/>
            </a:xfrm>
          </p:grpSpPr>
          <p:sp>
            <p:nvSpPr>
              <p:cNvPr id="1413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5" name=""/>
            <p:cNvGrpSpPr/>
            <p:nvPr/>
          </p:nvGrpSpPr>
          <p:grpSpPr>
            <a:xfrm>
              <a:off x="0" y="2743200"/>
              <a:ext cx="6705000" cy="228240"/>
              <a:chOff x="0" y="2743200"/>
              <a:chExt cx="6705000" cy="228240"/>
            </a:xfrm>
          </p:grpSpPr>
          <p:sp>
            <p:nvSpPr>
              <p:cNvPr id="1416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reateAndDestroy first( 1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lob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8" name=""/>
            <p:cNvGrpSpPr/>
            <p:nvPr/>
          </p:nvGrpSpPr>
          <p:grpSpPr>
            <a:xfrm>
              <a:off x="0" y="2971800"/>
              <a:ext cx="6705000" cy="228240"/>
              <a:chOff x="0" y="2971800"/>
              <a:chExt cx="6705000" cy="228240"/>
            </a:xfrm>
          </p:grpSpPr>
          <p:sp>
            <p:nvSpPr>
              <p:cNvPr id="1419" name="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1" name=""/>
            <p:cNvGrpSpPr/>
            <p:nvPr/>
          </p:nvGrpSpPr>
          <p:grpSpPr>
            <a:xfrm>
              <a:off x="0" y="3200400"/>
              <a:ext cx="6705000" cy="228600"/>
              <a:chOff x="0" y="3200400"/>
              <a:chExt cx="6705000" cy="228600"/>
            </a:xfrm>
          </p:grpSpPr>
          <p:sp>
            <p:nvSpPr>
              <p:cNvPr id="1422" name="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4" name=""/>
            <p:cNvGrpSpPr/>
            <p:nvPr/>
          </p:nvGrpSpPr>
          <p:grpSpPr>
            <a:xfrm>
              <a:off x="0" y="3429000"/>
              <a:ext cx="6705000" cy="228240"/>
              <a:chOff x="0" y="3429000"/>
              <a:chExt cx="6705000" cy="228240"/>
            </a:xfrm>
          </p:grpSpPr>
          <p:sp>
            <p:nvSpPr>
              <p:cNvPr id="1425" name="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7" name=""/>
            <p:cNvGrpSpPr/>
            <p:nvPr/>
          </p:nvGrpSpPr>
          <p:grpSpPr>
            <a:xfrm>
              <a:off x="0" y="3657600"/>
              <a:ext cx="6705000" cy="228240"/>
              <a:chOff x="0" y="3657600"/>
              <a:chExt cx="6705000" cy="228240"/>
            </a:xfrm>
          </p:grpSpPr>
          <p:sp>
            <p:nvSpPr>
              <p:cNvPr id="1428" name="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(global created before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0" name=""/>
            <p:cNvGrpSpPr/>
            <p:nvPr/>
          </p:nvGrpSpPr>
          <p:grpSpPr>
            <a:xfrm>
              <a:off x="0" y="3886200"/>
              <a:ext cx="6705000" cy="228240"/>
              <a:chOff x="0" y="3886200"/>
              <a:chExt cx="6705000" cy="228240"/>
            </a:xfrm>
          </p:grpSpPr>
          <p:sp>
            <p:nvSpPr>
              <p:cNvPr id="1431" name="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3" name=""/>
            <p:cNvGrpSpPr/>
            <p:nvPr/>
          </p:nvGrpSpPr>
          <p:grpSpPr>
            <a:xfrm>
              <a:off x="0" y="4114800"/>
              <a:ext cx="6705000" cy="228240"/>
              <a:chOff x="0" y="4114800"/>
              <a:chExt cx="6705000" cy="228240"/>
            </a:xfrm>
          </p:grpSpPr>
          <p:sp>
            <p:nvSpPr>
              <p:cNvPr id="1434" name="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ateAndDestroy second( 2 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loc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6" name=""/>
            <p:cNvGrpSpPr/>
            <p:nvPr/>
          </p:nvGrpSpPr>
          <p:grpSpPr>
            <a:xfrm>
              <a:off x="0" y="4343400"/>
              <a:ext cx="6705000" cy="228600"/>
              <a:chOff x="0" y="4343400"/>
              <a:chExt cx="6705000" cy="228600"/>
            </a:xfrm>
          </p:grpSpPr>
          <p:sp>
            <p:nvSpPr>
              <p:cNvPr id="1437" name="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(local automatic in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9" name=""/>
            <p:cNvGrpSpPr/>
            <p:nvPr/>
          </p:nvGrpSpPr>
          <p:grpSpPr>
            <a:xfrm>
              <a:off x="0" y="4572000"/>
              <a:ext cx="6705000" cy="228240"/>
              <a:chOff x="0" y="4572000"/>
              <a:chExt cx="6705000" cy="228240"/>
            </a:xfrm>
          </p:grpSpPr>
          <p:sp>
            <p:nvSpPr>
              <p:cNvPr id="1440" name="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2" name=""/>
            <p:cNvGrpSpPr/>
            <p:nvPr/>
          </p:nvGrpSpPr>
          <p:grpSpPr>
            <a:xfrm>
              <a:off x="0" y="4800600"/>
              <a:ext cx="6705000" cy="228240"/>
              <a:chOff x="0" y="4800600"/>
              <a:chExt cx="6705000" cy="228240"/>
            </a:xfrm>
          </p:grpSpPr>
          <p:sp>
            <p:nvSpPr>
              <p:cNvPr id="1443" name="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atic CreateAndDestroy third( 3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loc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0" y="5029200"/>
              <a:ext cx="6705000" cy="228240"/>
              <a:chOff x="0" y="5029200"/>
              <a:chExt cx="6705000" cy="228240"/>
            </a:xfrm>
          </p:grpSpPr>
          <p:sp>
            <p:nvSpPr>
              <p:cNvPr id="1446" name="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(local static in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8" name=""/>
            <p:cNvGrpSpPr/>
            <p:nvPr/>
          </p:nvGrpSpPr>
          <p:grpSpPr>
            <a:xfrm>
              <a:off x="0" y="5257800"/>
              <a:ext cx="6705000" cy="228600"/>
              <a:chOff x="0" y="5257800"/>
              <a:chExt cx="6705000" cy="228600"/>
            </a:xfrm>
          </p:grpSpPr>
          <p:sp>
            <p:nvSpPr>
              <p:cNvPr id="1449" name="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1" name=""/>
            <p:cNvGrpSpPr/>
            <p:nvPr/>
          </p:nvGrpSpPr>
          <p:grpSpPr>
            <a:xfrm>
              <a:off x="0" y="5486400"/>
              <a:ext cx="6705000" cy="228240"/>
              <a:chOff x="0" y="5486400"/>
              <a:chExt cx="6705000" cy="228240"/>
            </a:xfrm>
          </p:grpSpPr>
          <p:sp>
            <p:nvSpPr>
              <p:cNvPr id="1452" name="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ate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function to create objec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4" name=""/>
            <p:cNvGrpSpPr/>
            <p:nvPr/>
          </p:nvGrpSpPr>
          <p:grpSpPr>
            <a:xfrm>
              <a:off x="0" y="5715000"/>
              <a:ext cx="6705000" cy="228240"/>
              <a:chOff x="0" y="5715000"/>
              <a:chExt cx="6705000" cy="228240"/>
            </a:xfrm>
          </p:grpSpPr>
          <p:sp>
            <p:nvSpPr>
              <p:cNvPr id="1455" name="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7" name=""/>
            <p:cNvGrpSpPr/>
            <p:nvPr/>
          </p:nvGrpSpPr>
          <p:grpSpPr>
            <a:xfrm>
              <a:off x="0" y="5943600"/>
              <a:ext cx="6705000" cy="228240"/>
              <a:chOff x="0" y="5943600"/>
              <a:chExt cx="6705000" cy="228240"/>
            </a:xfrm>
          </p:grpSpPr>
          <p:sp>
            <p:nvSpPr>
              <p:cNvPr id="1458" name="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ateAndDestroy fourth( 4 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loc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0" name=""/>
            <p:cNvGrpSpPr/>
            <p:nvPr/>
          </p:nvGrpSpPr>
          <p:grpSpPr>
            <a:xfrm>
              <a:off x="0" y="6172200"/>
              <a:ext cx="6705000" cy="228600"/>
              <a:chOff x="0" y="6172200"/>
              <a:chExt cx="6705000" cy="228600"/>
            </a:xfrm>
          </p:grpSpPr>
          <p:sp>
            <p:nvSpPr>
              <p:cNvPr id="1461" name="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(local automatic in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3" name=""/>
            <p:cNvGrpSpPr/>
            <p:nvPr/>
          </p:nvGrpSpPr>
          <p:grpSpPr>
            <a:xfrm>
              <a:off x="0" y="6400800"/>
              <a:ext cx="6705000" cy="228240"/>
              <a:chOff x="0" y="6400800"/>
              <a:chExt cx="6705000" cy="228240"/>
            </a:xfrm>
          </p:grpSpPr>
          <p:sp>
            <p:nvSpPr>
              <p:cNvPr id="1464" name="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6" name=""/>
            <p:cNvGrpSpPr/>
            <p:nvPr/>
          </p:nvGrpSpPr>
          <p:grpSpPr>
            <a:xfrm>
              <a:off x="0" y="6629400"/>
              <a:ext cx="6705000" cy="228240"/>
              <a:chOff x="0" y="6629400"/>
              <a:chExt cx="6705000" cy="228240"/>
            </a:xfrm>
          </p:grpSpPr>
          <p:sp>
            <p:nvSpPr>
              <p:cNvPr id="1467" name=""/>
              <p:cNvSpPr/>
              <p:nvPr/>
            </p:nvSpPr>
            <p:spPr>
              <a:xfrm>
                <a:off x="0" y="6629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0" y="6629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83B36-D539-41D1-B0F6-55489647E8D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9" name=""/>
          <p:cNvGrpSpPr/>
          <p:nvPr/>
        </p:nvGrpSpPr>
        <p:grpSpPr>
          <a:xfrm>
            <a:off x="0" y="0"/>
            <a:ext cx="6705000" cy="2971440"/>
            <a:chOff x="0" y="0"/>
            <a:chExt cx="6705000" cy="2971440"/>
          </a:xfrm>
        </p:grpSpPr>
        <p:grpSp>
          <p:nvGrpSpPr>
            <p:cNvPr id="1470" name=""/>
            <p:cNvGrpSpPr/>
            <p:nvPr/>
          </p:nvGrpSpPr>
          <p:grpSpPr>
            <a:xfrm>
              <a:off x="0" y="0"/>
              <a:ext cx="6705000" cy="228240"/>
              <a:chOff x="0" y="0"/>
              <a:chExt cx="6705000" cy="228240"/>
            </a:xfrm>
          </p:grpSpPr>
          <p:sp>
            <p:nvSpPr>
              <p:cNvPr id="1471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3" name=""/>
            <p:cNvGrpSpPr/>
            <p:nvPr/>
          </p:nvGrpSpPr>
          <p:grpSpPr>
            <a:xfrm>
              <a:off x="0" y="228240"/>
              <a:ext cx="6705000" cy="228240"/>
              <a:chOff x="0" y="228240"/>
              <a:chExt cx="6705000" cy="228240"/>
            </a:xfrm>
          </p:grpSpPr>
          <p:sp>
            <p:nvSpPr>
              <p:cNvPr id="1474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to create objec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6" name=""/>
            <p:cNvGrpSpPr/>
            <p:nvPr/>
          </p:nvGrpSpPr>
          <p:grpSpPr>
            <a:xfrm>
              <a:off x="0" y="456840"/>
              <a:ext cx="6705000" cy="228600"/>
              <a:chOff x="0" y="456840"/>
              <a:chExt cx="6705000" cy="228600"/>
            </a:xfrm>
          </p:grpSpPr>
          <p:sp>
            <p:nvSpPr>
              <p:cNvPr id="1477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re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9" name=""/>
            <p:cNvGrpSpPr/>
            <p:nvPr/>
          </p:nvGrpSpPr>
          <p:grpSpPr>
            <a:xfrm>
              <a:off x="0" y="685800"/>
              <a:ext cx="6705000" cy="228240"/>
              <a:chOff x="0" y="685800"/>
              <a:chExt cx="6705000" cy="228240"/>
            </a:xfrm>
          </p:grpSpPr>
          <p:sp>
            <p:nvSpPr>
              <p:cNvPr id="1480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0" y="914400"/>
              <a:ext cx="6705000" cy="228240"/>
              <a:chOff x="0" y="914400"/>
              <a:chExt cx="6705000" cy="228240"/>
            </a:xfrm>
          </p:grpSpPr>
          <p:sp>
            <p:nvSpPr>
              <p:cNvPr id="1483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ateAndDestroy fifth(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0" y="1143000"/>
              <a:ext cx="6705000" cy="228240"/>
              <a:chOff x="0" y="1143000"/>
              <a:chExt cx="6705000" cy="228240"/>
            </a:xfrm>
          </p:grpSpPr>
          <p:sp>
            <p:nvSpPr>
              <p:cNvPr id="1486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(local automatic in create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8" name=""/>
            <p:cNvGrpSpPr/>
            <p:nvPr/>
          </p:nvGrpSpPr>
          <p:grpSpPr>
            <a:xfrm>
              <a:off x="0" y="1371600"/>
              <a:ext cx="6705000" cy="228600"/>
              <a:chOff x="0" y="1371600"/>
              <a:chExt cx="6705000" cy="228600"/>
            </a:xfrm>
          </p:grpSpPr>
          <p:sp>
            <p:nvSpPr>
              <p:cNvPr id="1489" name=""/>
              <p:cNvSpPr/>
              <p:nvPr/>
            </p:nvSpPr>
            <p:spPr>
              <a:xfrm>
                <a:off x="0" y="13716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0" y="13716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0" y="1600200"/>
              <a:ext cx="6705000" cy="228240"/>
              <a:chOff x="0" y="1600200"/>
              <a:chExt cx="6705000" cy="228240"/>
            </a:xfrm>
          </p:grpSpPr>
          <p:sp>
            <p:nvSpPr>
              <p:cNvPr id="1492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atic CreateAndDestroy sixth( 6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4" name=""/>
            <p:cNvGrpSpPr/>
            <p:nvPr/>
          </p:nvGrpSpPr>
          <p:grpSpPr>
            <a:xfrm>
              <a:off x="0" y="1828800"/>
              <a:ext cx="6705000" cy="228240"/>
              <a:chOff x="0" y="1828800"/>
              <a:chExt cx="6705000" cy="228240"/>
            </a:xfrm>
          </p:grpSpPr>
          <p:sp>
            <p:nvSpPr>
              <p:cNvPr id="1495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(local static in create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7" name=""/>
            <p:cNvGrpSpPr/>
            <p:nvPr/>
          </p:nvGrpSpPr>
          <p:grpSpPr>
            <a:xfrm>
              <a:off x="0" y="2057400"/>
              <a:ext cx="6705000" cy="228240"/>
              <a:chOff x="0" y="2057400"/>
              <a:chExt cx="6705000" cy="228240"/>
            </a:xfrm>
          </p:grpSpPr>
          <p:sp>
            <p:nvSpPr>
              <p:cNvPr id="1498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0" name=""/>
            <p:cNvGrpSpPr/>
            <p:nvPr/>
          </p:nvGrpSpPr>
          <p:grpSpPr>
            <a:xfrm>
              <a:off x="0" y="2286000"/>
              <a:ext cx="6705000" cy="228600"/>
              <a:chOff x="0" y="2286000"/>
              <a:chExt cx="6705000" cy="228600"/>
            </a:xfrm>
          </p:grpSpPr>
          <p:sp>
            <p:nvSpPr>
              <p:cNvPr id="1501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ateAndDestroy seventh( 7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3" name=""/>
            <p:cNvGrpSpPr/>
            <p:nvPr/>
          </p:nvGrpSpPr>
          <p:grpSpPr>
            <a:xfrm>
              <a:off x="0" y="2514600"/>
              <a:ext cx="6705000" cy="228240"/>
              <a:chOff x="0" y="2514600"/>
              <a:chExt cx="6705000" cy="228240"/>
            </a:xfrm>
          </p:grpSpPr>
          <p:sp>
            <p:nvSpPr>
              <p:cNvPr id="1504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(local automatic in create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6" name=""/>
            <p:cNvGrpSpPr/>
            <p:nvPr/>
          </p:nvGrpSpPr>
          <p:grpSpPr>
            <a:xfrm>
              <a:off x="0" y="2743200"/>
              <a:ext cx="6705000" cy="228240"/>
              <a:chOff x="0" y="2743200"/>
              <a:chExt cx="6705000" cy="228240"/>
            </a:xfrm>
          </p:grpSpPr>
          <p:sp>
            <p:nvSpPr>
              <p:cNvPr id="1507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9" name=""/>
          <p:cNvSpPr/>
          <p:nvPr/>
        </p:nvSpPr>
        <p:spPr>
          <a:xfrm>
            <a:off x="0" y="3276720"/>
            <a:ext cx="6705720" cy="283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1   constructor   (global created before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2   constructor   (local automatic in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3   constructor   (local static in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5   constructor   (local automatic in cre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6   constructor   (local static in cre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7   constructor   (local automatic in cre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7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5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4   constructor   (local automatic in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4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2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6   de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3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1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0" name=""/>
          <p:cNvGrpSpPr/>
          <p:nvPr/>
        </p:nvGrpSpPr>
        <p:grpSpPr>
          <a:xfrm>
            <a:off x="5105160" y="4343040"/>
            <a:ext cx="3657960" cy="1692000"/>
            <a:chOff x="5105160" y="4343040"/>
            <a:chExt cx="3657960" cy="1692000"/>
          </a:xfrm>
        </p:grpSpPr>
        <p:sp>
          <p:nvSpPr>
            <p:cNvPr id="1511" name=""/>
            <p:cNvSpPr/>
            <p:nvPr/>
          </p:nvSpPr>
          <p:spPr>
            <a:xfrm>
              <a:off x="5638680" y="4724280"/>
              <a:ext cx="31244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 order of the constructor and destructor call depends on the types of variables (automatic, global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they are associated wit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flipV="1">
              <a:off x="5105160" y="4343040"/>
              <a:ext cx="5331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3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5CE13-F52F-477C-93A8-38BAE073A2F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4 Using Data Members and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 clients of the class t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i.e., write) 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i.e., read) the values of private data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djusting a customer’s bank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memb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l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nkAccou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be modified through the use of member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e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ember function that sets data memb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est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ld be call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Interest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a member function that returns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est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ld be call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Interest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ing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does not mak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set function should ensure that the new value is val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D3242-22A5-4969-BC91-530551726F0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Structure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referential stru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a member that is a pointer to the same structure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for linked lists, queues, stacks and tr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a new data type that is used to declare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 variables are declared like variables of other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 timeObject, timeArray[ 10 ]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timePtr, &amp;timeRef = timeObj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0D9C3-77B7-4328-A913-22808208A4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5 A Subtle Trap: Returning a Reference to a Private Data Member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to an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ias for the name of the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be used on the left side of an assignment stat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ence can receive a value, which changes the original object as w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ing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s can return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ference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be avoided, breaks encaps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7F3C-A6DC-404B-8C3F-F73692B1176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"/>
          <p:cNvGrpSpPr/>
          <p:nvPr/>
        </p:nvGrpSpPr>
        <p:grpSpPr>
          <a:xfrm>
            <a:off x="0" y="0"/>
            <a:ext cx="6705000" cy="5866920"/>
            <a:chOff x="0" y="0"/>
            <a:chExt cx="6705000" cy="5866920"/>
          </a:xfrm>
        </p:grpSpPr>
        <p:grpSp>
          <p:nvGrpSpPr>
            <p:cNvPr id="1519" name=""/>
            <p:cNvGrpSpPr/>
            <p:nvPr/>
          </p:nvGrpSpPr>
          <p:grpSpPr>
            <a:xfrm>
              <a:off x="0" y="0"/>
              <a:ext cx="6705000" cy="266400"/>
              <a:chOff x="0" y="0"/>
              <a:chExt cx="6705000" cy="266400"/>
            </a:xfrm>
          </p:grpSpPr>
          <p:sp>
            <p:nvSpPr>
              <p:cNvPr id="1520" name=""/>
              <p:cNvSpPr/>
              <p:nvPr/>
            </p:nvSpPr>
            <p:spPr>
              <a:xfrm>
                <a:off x="0" y="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0" y="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11: time4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2" name=""/>
            <p:cNvGrpSpPr/>
            <p:nvPr/>
          </p:nvGrpSpPr>
          <p:grpSpPr>
            <a:xfrm>
              <a:off x="0" y="266400"/>
              <a:ext cx="6705000" cy="266400"/>
              <a:chOff x="0" y="266400"/>
              <a:chExt cx="6705000" cy="266400"/>
            </a:xfrm>
          </p:grpSpPr>
          <p:sp>
            <p:nvSpPr>
              <p:cNvPr id="1523" name=""/>
              <p:cNvSpPr/>
              <p:nvPr/>
            </p:nvSpPr>
            <p:spPr>
              <a:xfrm>
                <a:off x="0" y="2664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0" y="2664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 of the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5" name=""/>
            <p:cNvGrpSpPr/>
            <p:nvPr/>
          </p:nvGrpSpPr>
          <p:grpSpPr>
            <a:xfrm>
              <a:off x="0" y="533160"/>
              <a:ext cx="6705000" cy="266760"/>
              <a:chOff x="0" y="533160"/>
              <a:chExt cx="6705000" cy="266760"/>
            </a:xfrm>
          </p:grpSpPr>
          <p:sp>
            <p:nvSpPr>
              <p:cNvPr id="1526" name=""/>
              <p:cNvSpPr/>
              <p:nvPr/>
            </p:nvSpPr>
            <p:spPr>
              <a:xfrm>
                <a:off x="0" y="53316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0" y="53316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defined in time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8" name=""/>
            <p:cNvGrpSpPr/>
            <p:nvPr/>
          </p:nvGrpSpPr>
          <p:grpSpPr>
            <a:xfrm>
              <a:off x="0" y="799920"/>
              <a:ext cx="6705000" cy="266400"/>
              <a:chOff x="0" y="799920"/>
              <a:chExt cx="6705000" cy="266400"/>
            </a:xfrm>
          </p:grpSpPr>
          <p:sp>
            <p:nvSpPr>
              <p:cNvPr id="1529" name=""/>
              <p:cNvSpPr/>
              <p:nvPr/>
            </p:nvSpPr>
            <p:spPr>
              <a:xfrm>
                <a:off x="0" y="7999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0" y="7999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1" name=""/>
            <p:cNvGrpSpPr/>
            <p:nvPr/>
          </p:nvGrpSpPr>
          <p:grpSpPr>
            <a:xfrm>
              <a:off x="0" y="1066680"/>
              <a:ext cx="6705000" cy="266400"/>
              <a:chOff x="0" y="1066680"/>
              <a:chExt cx="6705000" cy="266400"/>
            </a:xfrm>
          </p:grpSpPr>
          <p:sp>
            <p:nvSpPr>
              <p:cNvPr id="1532" name=""/>
              <p:cNvSpPr/>
              <p:nvPr/>
            </p:nvSpPr>
            <p:spPr>
              <a:xfrm>
                <a:off x="0" y="106668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0" y="106668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eprocessor directives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4" name=""/>
            <p:cNvGrpSpPr/>
            <p:nvPr/>
          </p:nvGrpSpPr>
          <p:grpSpPr>
            <a:xfrm>
              <a:off x="0" y="1333440"/>
              <a:ext cx="6705000" cy="266400"/>
              <a:chOff x="0" y="1333440"/>
              <a:chExt cx="6705000" cy="266400"/>
            </a:xfrm>
          </p:grpSpPr>
          <p:sp>
            <p:nvSpPr>
              <p:cNvPr id="1535" name=""/>
              <p:cNvSpPr/>
              <p:nvPr/>
            </p:nvSpPr>
            <p:spPr>
              <a:xfrm>
                <a:off x="0" y="13334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0" y="13334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event multiple inclusions of header f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"/>
            <p:cNvGrpSpPr/>
            <p:nvPr/>
          </p:nvGrpSpPr>
          <p:grpSpPr>
            <a:xfrm>
              <a:off x="0" y="1599840"/>
              <a:ext cx="6705000" cy="266760"/>
              <a:chOff x="0" y="1599840"/>
              <a:chExt cx="6705000" cy="266760"/>
            </a:xfrm>
          </p:grpSpPr>
          <p:sp>
            <p:nvSpPr>
              <p:cNvPr id="1538" name=""/>
              <p:cNvSpPr/>
              <p:nvPr/>
            </p:nvSpPr>
            <p:spPr>
              <a:xfrm>
                <a:off x="0" y="159984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0" y="159984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fndef TIME4_H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0" name=""/>
            <p:cNvGrpSpPr/>
            <p:nvPr/>
          </p:nvGrpSpPr>
          <p:grpSpPr>
            <a:xfrm>
              <a:off x="0" y="1866960"/>
              <a:ext cx="6705000" cy="266400"/>
              <a:chOff x="0" y="1866960"/>
              <a:chExt cx="6705000" cy="266400"/>
            </a:xfrm>
          </p:grpSpPr>
          <p:sp>
            <p:nvSpPr>
              <p:cNvPr id="1541" name=""/>
              <p:cNvSpPr/>
              <p:nvPr/>
            </p:nvSpPr>
            <p:spPr>
              <a:xfrm>
                <a:off x="0" y="186696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0" y="186696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define TIME4_H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3" name=""/>
            <p:cNvGrpSpPr/>
            <p:nvPr/>
          </p:nvGrpSpPr>
          <p:grpSpPr>
            <a:xfrm>
              <a:off x="0" y="2133360"/>
              <a:ext cx="6705000" cy="266400"/>
              <a:chOff x="0" y="2133360"/>
              <a:chExt cx="6705000" cy="266400"/>
            </a:xfrm>
          </p:grpSpPr>
          <p:sp>
            <p:nvSpPr>
              <p:cNvPr id="1544" name=""/>
              <p:cNvSpPr/>
              <p:nvPr/>
            </p:nvSpPr>
            <p:spPr>
              <a:xfrm>
                <a:off x="0" y="213336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0" y="213336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6" name=""/>
            <p:cNvGrpSpPr/>
            <p:nvPr/>
          </p:nvGrpSpPr>
          <p:grpSpPr>
            <a:xfrm>
              <a:off x="0" y="2400120"/>
              <a:ext cx="6705000" cy="266400"/>
              <a:chOff x="0" y="2400120"/>
              <a:chExt cx="6705000" cy="266400"/>
            </a:xfrm>
          </p:grpSpPr>
          <p:sp>
            <p:nvSpPr>
              <p:cNvPr id="1547" name=""/>
              <p:cNvSpPr/>
              <p:nvPr/>
            </p:nvSpPr>
            <p:spPr>
              <a:xfrm>
                <a:off x="0" y="24001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0" y="24001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0" y="2666880"/>
              <a:ext cx="6705000" cy="266760"/>
              <a:chOff x="0" y="2666880"/>
              <a:chExt cx="6705000" cy="266760"/>
            </a:xfrm>
          </p:grpSpPr>
          <p:sp>
            <p:nvSpPr>
              <p:cNvPr id="1550" name=""/>
              <p:cNvSpPr/>
              <p:nvPr/>
            </p:nvSpPr>
            <p:spPr>
              <a:xfrm>
                <a:off x="0" y="266688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0" y="266688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2" name=""/>
            <p:cNvGrpSpPr/>
            <p:nvPr/>
          </p:nvGrpSpPr>
          <p:grpSpPr>
            <a:xfrm>
              <a:off x="0" y="2933640"/>
              <a:ext cx="6705000" cy="266400"/>
              <a:chOff x="0" y="2933640"/>
              <a:chExt cx="6705000" cy="266400"/>
            </a:xfrm>
          </p:grpSpPr>
          <p:sp>
            <p:nvSpPr>
              <p:cNvPr id="1553" name=""/>
              <p:cNvSpPr/>
              <p:nvPr/>
            </p:nvSpPr>
            <p:spPr>
              <a:xfrm>
                <a:off x="0" y="29336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0" y="29336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0" y="3200400"/>
              <a:ext cx="6705000" cy="266400"/>
              <a:chOff x="0" y="3200400"/>
              <a:chExt cx="6705000" cy="266400"/>
            </a:xfrm>
          </p:grpSpPr>
          <p:sp>
            <p:nvSpPr>
              <p:cNvPr id="1556" name=""/>
              <p:cNvSpPr/>
              <p:nvPr/>
            </p:nvSpPr>
            <p:spPr>
              <a:xfrm>
                <a:off x="0" y="32004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0" y="32004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8" name=""/>
            <p:cNvGrpSpPr/>
            <p:nvPr/>
          </p:nvGrpSpPr>
          <p:grpSpPr>
            <a:xfrm>
              <a:off x="0" y="3466800"/>
              <a:ext cx="6705000" cy="266400"/>
              <a:chOff x="0" y="3466800"/>
              <a:chExt cx="6705000" cy="266400"/>
            </a:xfrm>
          </p:grpSpPr>
          <p:sp>
            <p:nvSpPr>
              <p:cNvPr id="1559" name=""/>
              <p:cNvSpPr/>
              <p:nvPr/>
            </p:nvSpPr>
            <p:spPr>
              <a:xfrm>
                <a:off x="0" y="34668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0" y="34668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Hour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0" y="3733560"/>
              <a:ext cx="6705000" cy="266760"/>
              <a:chOff x="0" y="3733560"/>
              <a:chExt cx="6705000" cy="266760"/>
            </a:xfrm>
          </p:grpSpPr>
          <p:sp>
            <p:nvSpPr>
              <p:cNvPr id="1562" name=""/>
              <p:cNvSpPr/>
              <p:nvPr/>
            </p:nvSpPr>
            <p:spPr>
              <a:xfrm>
                <a:off x="0" y="373356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0" y="373356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amp;bad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ANGEROUS reference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4" name=""/>
            <p:cNvGrpSpPr/>
            <p:nvPr/>
          </p:nvGrpSpPr>
          <p:grpSpPr>
            <a:xfrm>
              <a:off x="0" y="4000320"/>
              <a:ext cx="6705000" cy="266400"/>
              <a:chOff x="0" y="4000320"/>
              <a:chExt cx="6705000" cy="266400"/>
            </a:xfrm>
          </p:grpSpPr>
          <p:sp>
            <p:nvSpPr>
              <p:cNvPr id="1565" name=""/>
              <p:cNvSpPr/>
              <p:nvPr/>
            </p:nvSpPr>
            <p:spPr>
              <a:xfrm>
                <a:off x="0" y="40003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0" y="40003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7" name=""/>
            <p:cNvGrpSpPr/>
            <p:nvPr/>
          </p:nvGrpSpPr>
          <p:grpSpPr>
            <a:xfrm>
              <a:off x="0" y="4267080"/>
              <a:ext cx="6705000" cy="266400"/>
              <a:chOff x="0" y="4267080"/>
              <a:chExt cx="6705000" cy="266400"/>
            </a:xfrm>
          </p:grpSpPr>
          <p:sp>
            <p:nvSpPr>
              <p:cNvPr id="1568" name=""/>
              <p:cNvSpPr/>
              <p:nvPr/>
            </p:nvSpPr>
            <p:spPr>
              <a:xfrm>
                <a:off x="0" y="426708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0" y="426708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0" name=""/>
            <p:cNvGrpSpPr/>
            <p:nvPr/>
          </p:nvGrpSpPr>
          <p:grpSpPr>
            <a:xfrm>
              <a:off x="0" y="4533840"/>
              <a:ext cx="6705000" cy="266400"/>
              <a:chOff x="0" y="4533840"/>
              <a:chExt cx="6705000" cy="266400"/>
            </a:xfrm>
          </p:grpSpPr>
          <p:sp>
            <p:nvSpPr>
              <p:cNvPr id="1571" name=""/>
              <p:cNvSpPr/>
              <p:nvPr/>
            </p:nvSpPr>
            <p:spPr>
              <a:xfrm>
                <a:off x="0" y="45338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0" y="45338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0" y="4800600"/>
              <a:ext cx="6705000" cy="266400"/>
              <a:chOff x="0" y="4800600"/>
              <a:chExt cx="6705000" cy="266400"/>
            </a:xfrm>
          </p:grpSpPr>
          <p:sp>
            <p:nvSpPr>
              <p:cNvPr id="1574" name=""/>
              <p:cNvSpPr/>
              <p:nvPr/>
            </p:nvSpPr>
            <p:spPr>
              <a:xfrm>
                <a:off x="0" y="48006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0" y="48006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6" name=""/>
            <p:cNvGrpSpPr/>
            <p:nvPr/>
          </p:nvGrpSpPr>
          <p:grpSpPr>
            <a:xfrm>
              <a:off x="0" y="5067000"/>
              <a:ext cx="6705000" cy="266760"/>
              <a:chOff x="0" y="5067000"/>
              <a:chExt cx="6705000" cy="266760"/>
            </a:xfrm>
          </p:grpSpPr>
          <p:sp>
            <p:nvSpPr>
              <p:cNvPr id="1577" name=""/>
              <p:cNvSpPr/>
              <p:nvPr/>
            </p:nvSpPr>
            <p:spPr>
              <a:xfrm>
                <a:off x="0" y="506700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0" y="506700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9" name=""/>
            <p:cNvGrpSpPr/>
            <p:nvPr/>
          </p:nvGrpSpPr>
          <p:grpSpPr>
            <a:xfrm>
              <a:off x="0" y="5334120"/>
              <a:ext cx="6705000" cy="266400"/>
              <a:chOff x="0" y="5334120"/>
              <a:chExt cx="6705000" cy="266400"/>
            </a:xfrm>
          </p:grpSpPr>
          <p:sp>
            <p:nvSpPr>
              <p:cNvPr id="1580" name=""/>
              <p:cNvSpPr/>
              <p:nvPr/>
            </p:nvSpPr>
            <p:spPr>
              <a:xfrm>
                <a:off x="0" y="53341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0" y="53341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2" name=""/>
            <p:cNvGrpSpPr/>
            <p:nvPr/>
          </p:nvGrpSpPr>
          <p:grpSpPr>
            <a:xfrm>
              <a:off x="0" y="5600520"/>
              <a:ext cx="6705000" cy="266400"/>
              <a:chOff x="0" y="5600520"/>
              <a:chExt cx="6705000" cy="266400"/>
            </a:xfrm>
          </p:grpSpPr>
          <p:sp>
            <p:nvSpPr>
              <p:cNvPr id="1583" name=""/>
              <p:cNvSpPr/>
              <p:nvPr/>
            </p:nvSpPr>
            <p:spPr>
              <a:xfrm>
                <a:off x="0" y="56005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0" y="56005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5" name=""/>
          <p:cNvGrpSpPr/>
          <p:nvPr/>
        </p:nvGrpSpPr>
        <p:grpSpPr>
          <a:xfrm>
            <a:off x="1219320" y="1905120"/>
            <a:ext cx="4419360" cy="1885680"/>
            <a:chOff x="1219320" y="1905120"/>
            <a:chExt cx="4419360" cy="1885680"/>
          </a:xfrm>
        </p:grpSpPr>
        <p:sp>
          <p:nvSpPr>
            <p:cNvPr id="1586" name=""/>
            <p:cNvSpPr/>
            <p:nvPr/>
          </p:nvSpPr>
          <p:spPr>
            <a:xfrm flipH="1">
              <a:off x="1219320" y="2743200"/>
              <a:ext cx="3124080" cy="10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286000" y="1905120"/>
              <a:ext cx="3352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member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dSet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a reference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the return type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8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Define clas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Function prototype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2 Member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B7A53-4577-4A2B-ADAB-93BF4CFFF91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Load header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590" name=""/>
          <p:cNvGrpSpPr/>
          <p:nvPr/>
        </p:nvGrpSpPr>
        <p:grpSpPr>
          <a:xfrm>
            <a:off x="0" y="0"/>
            <a:ext cx="6705000" cy="6629040"/>
            <a:chOff x="0" y="0"/>
            <a:chExt cx="6705000" cy="6629040"/>
          </a:xfrm>
        </p:grpSpPr>
        <p:grpSp>
          <p:nvGrpSpPr>
            <p:cNvPr id="1591" name=""/>
            <p:cNvGrpSpPr/>
            <p:nvPr/>
          </p:nvGrpSpPr>
          <p:grpSpPr>
            <a:xfrm>
              <a:off x="0" y="0"/>
              <a:ext cx="6705000" cy="228240"/>
              <a:chOff x="0" y="0"/>
              <a:chExt cx="6705000" cy="228240"/>
            </a:xfrm>
          </p:grpSpPr>
          <p:sp>
            <p:nvSpPr>
              <p:cNvPr id="1592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11: time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0" y="228240"/>
              <a:ext cx="6705000" cy="228240"/>
              <a:chOff x="0" y="228240"/>
              <a:chExt cx="6705000" cy="228240"/>
            </a:xfrm>
          </p:grpSpPr>
          <p:sp>
            <p:nvSpPr>
              <p:cNvPr id="1595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7" name=""/>
            <p:cNvGrpSpPr/>
            <p:nvPr/>
          </p:nvGrpSpPr>
          <p:grpSpPr>
            <a:xfrm>
              <a:off x="0" y="456840"/>
              <a:ext cx="6705000" cy="228600"/>
              <a:chOff x="0" y="456840"/>
              <a:chExt cx="6705000" cy="228600"/>
            </a:xfrm>
          </p:grpSpPr>
          <p:sp>
            <p:nvSpPr>
              <p:cNvPr id="1598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time4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0" name=""/>
            <p:cNvGrpSpPr/>
            <p:nvPr/>
          </p:nvGrpSpPr>
          <p:grpSpPr>
            <a:xfrm>
              <a:off x="0" y="685800"/>
              <a:ext cx="6705000" cy="228240"/>
              <a:chOff x="0" y="685800"/>
              <a:chExt cx="6705000" cy="228240"/>
            </a:xfrm>
          </p:grpSpPr>
          <p:sp>
            <p:nvSpPr>
              <p:cNvPr id="1601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3" name=""/>
            <p:cNvGrpSpPr/>
            <p:nvPr/>
          </p:nvGrpSpPr>
          <p:grpSpPr>
            <a:xfrm>
              <a:off x="0" y="914400"/>
              <a:ext cx="6705000" cy="228240"/>
              <a:chOff x="0" y="914400"/>
              <a:chExt cx="6705000" cy="228240"/>
            </a:xfrm>
          </p:grpSpPr>
          <p:sp>
            <p:nvSpPr>
              <p:cNvPr id="1604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unction to initialize private data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6" name=""/>
            <p:cNvGrpSpPr/>
            <p:nvPr/>
          </p:nvGrpSpPr>
          <p:grpSpPr>
            <a:xfrm>
              <a:off x="0" y="1143000"/>
              <a:ext cx="6705000" cy="228240"/>
              <a:chOff x="0" y="1143000"/>
              <a:chExt cx="6705000" cy="228240"/>
            </a:xfrm>
          </p:grpSpPr>
          <p:sp>
            <p:nvSpPr>
              <p:cNvPr id="1607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s member function setTime to set variable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0" y="1371240"/>
              <a:ext cx="6705000" cy="228600"/>
              <a:chOff x="0" y="1371240"/>
              <a:chExt cx="6705000" cy="228600"/>
            </a:xfrm>
          </p:grpSpPr>
          <p:sp>
            <p:nvSpPr>
              <p:cNvPr id="1610" name="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values are 0 (see class definition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0" y="1600200"/>
              <a:ext cx="6705000" cy="228240"/>
              <a:chOff x="0" y="1600200"/>
              <a:chExt cx="6705000" cy="228240"/>
            </a:xfrm>
          </p:grpSpPr>
          <p:sp>
            <p:nvSpPr>
              <p:cNvPr id="1613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::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0" y="1828800"/>
              <a:ext cx="6705000" cy="228240"/>
              <a:chOff x="0" y="1828800"/>
              <a:chExt cx="6705000" cy="228240"/>
            </a:xfrm>
          </p:grpSpPr>
          <p:sp>
            <p:nvSpPr>
              <p:cNvPr id="1616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setTime( hr, min, sec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0" y="2057400"/>
              <a:ext cx="6705000" cy="228240"/>
              <a:chOff x="0" y="2057400"/>
              <a:chExt cx="6705000" cy="228240"/>
            </a:xfrm>
          </p:grpSpPr>
          <p:sp>
            <p:nvSpPr>
              <p:cNvPr id="1619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0" y="2286000"/>
              <a:ext cx="6705000" cy="228600"/>
              <a:chOff x="0" y="2286000"/>
              <a:chExt cx="6705000" cy="228600"/>
            </a:xfrm>
          </p:grpSpPr>
          <p:sp>
            <p:nvSpPr>
              <p:cNvPr id="1622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values of hour, minute, and secon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4" name=""/>
            <p:cNvGrpSpPr/>
            <p:nvPr/>
          </p:nvGrpSpPr>
          <p:grpSpPr>
            <a:xfrm>
              <a:off x="0" y="2514600"/>
              <a:ext cx="6705000" cy="228240"/>
              <a:chOff x="0" y="2514600"/>
              <a:chExt cx="6705000" cy="228240"/>
            </a:xfrm>
          </p:grpSpPr>
          <p:sp>
            <p:nvSpPr>
              <p:cNvPr id="1625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7" name=""/>
            <p:cNvGrpSpPr/>
            <p:nvPr/>
          </p:nvGrpSpPr>
          <p:grpSpPr>
            <a:xfrm>
              <a:off x="0" y="2743200"/>
              <a:ext cx="6705000" cy="228240"/>
              <a:chOff x="0" y="2743200"/>
              <a:chExt cx="6705000" cy="228240"/>
            </a:xfrm>
          </p:grpSpPr>
          <p:sp>
            <p:nvSpPr>
              <p:cNvPr id="1628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0" name=""/>
            <p:cNvGrpSpPr/>
            <p:nvPr/>
          </p:nvGrpSpPr>
          <p:grpSpPr>
            <a:xfrm>
              <a:off x="0" y="2971800"/>
              <a:ext cx="6705000" cy="228240"/>
              <a:chOff x="0" y="2971800"/>
              <a:chExt cx="6705000" cy="228240"/>
            </a:xfrm>
          </p:grpSpPr>
          <p:sp>
            <p:nvSpPr>
              <p:cNvPr id="1631" name="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   = ( h &gt;= 0 &amp;&amp; h &lt; 24 ) ? h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3" name=""/>
            <p:cNvGrpSpPr/>
            <p:nvPr/>
          </p:nvGrpSpPr>
          <p:grpSpPr>
            <a:xfrm>
              <a:off x="0" y="3200400"/>
              <a:ext cx="6705000" cy="228600"/>
              <a:chOff x="0" y="3200400"/>
              <a:chExt cx="6705000" cy="228600"/>
            </a:xfrm>
          </p:grpSpPr>
          <p:sp>
            <p:nvSpPr>
              <p:cNvPr id="1634" name="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inute = ( m &gt;= 0 &amp;&amp; m &lt; 60 ) ? m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6" name=""/>
            <p:cNvGrpSpPr/>
            <p:nvPr/>
          </p:nvGrpSpPr>
          <p:grpSpPr>
            <a:xfrm>
              <a:off x="0" y="3429000"/>
              <a:ext cx="6705000" cy="228240"/>
              <a:chOff x="0" y="3429000"/>
              <a:chExt cx="6705000" cy="228240"/>
            </a:xfrm>
          </p:grpSpPr>
          <p:sp>
            <p:nvSpPr>
              <p:cNvPr id="1637" name="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cond = ( s &gt;= 0 &amp;&amp; s &lt; 60 ) ? s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9" name=""/>
            <p:cNvGrpSpPr/>
            <p:nvPr/>
          </p:nvGrpSpPr>
          <p:grpSpPr>
            <a:xfrm>
              <a:off x="0" y="3657600"/>
              <a:ext cx="6705000" cy="228240"/>
              <a:chOff x="0" y="3657600"/>
              <a:chExt cx="6705000" cy="228240"/>
            </a:xfrm>
          </p:grpSpPr>
          <p:sp>
            <p:nvSpPr>
              <p:cNvPr id="1640" name="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2" name=""/>
            <p:cNvGrpSpPr/>
            <p:nvPr/>
          </p:nvGrpSpPr>
          <p:grpSpPr>
            <a:xfrm>
              <a:off x="0" y="3886200"/>
              <a:ext cx="6705000" cy="228240"/>
              <a:chOff x="0" y="3886200"/>
              <a:chExt cx="6705000" cy="228240"/>
            </a:xfrm>
          </p:grpSpPr>
          <p:sp>
            <p:nvSpPr>
              <p:cNvPr id="1643" name="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5" name=""/>
            <p:cNvGrpSpPr/>
            <p:nvPr/>
          </p:nvGrpSpPr>
          <p:grpSpPr>
            <a:xfrm>
              <a:off x="0" y="4114800"/>
              <a:ext cx="6705000" cy="228240"/>
              <a:chOff x="0" y="4114800"/>
              <a:chExt cx="6705000" cy="228240"/>
            </a:xfrm>
          </p:grpSpPr>
          <p:sp>
            <p:nvSpPr>
              <p:cNvPr id="1646" name="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8" name=""/>
            <p:cNvGrpSpPr/>
            <p:nvPr/>
          </p:nvGrpSpPr>
          <p:grpSpPr>
            <a:xfrm>
              <a:off x="0" y="4343400"/>
              <a:ext cx="6705000" cy="228600"/>
              <a:chOff x="0" y="4343400"/>
              <a:chExt cx="6705000" cy="228600"/>
            </a:xfrm>
          </p:grpSpPr>
          <p:sp>
            <p:nvSpPr>
              <p:cNvPr id="1649" name="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getHour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1" name=""/>
            <p:cNvGrpSpPr/>
            <p:nvPr/>
          </p:nvGrpSpPr>
          <p:grpSpPr>
            <a:xfrm>
              <a:off x="0" y="4572000"/>
              <a:ext cx="6705000" cy="228240"/>
              <a:chOff x="0" y="4572000"/>
              <a:chExt cx="6705000" cy="228240"/>
            </a:xfrm>
          </p:grpSpPr>
          <p:sp>
            <p:nvSpPr>
              <p:cNvPr id="1652" name="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4" name=""/>
            <p:cNvGrpSpPr/>
            <p:nvPr/>
          </p:nvGrpSpPr>
          <p:grpSpPr>
            <a:xfrm>
              <a:off x="0" y="4800600"/>
              <a:ext cx="6705000" cy="228240"/>
              <a:chOff x="0" y="4800600"/>
              <a:chExt cx="6705000" cy="228240"/>
            </a:xfrm>
          </p:grpSpPr>
          <p:sp>
            <p:nvSpPr>
              <p:cNvPr id="1655" name="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OOR PROGRAMMING PRACTIC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7" name=""/>
            <p:cNvGrpSpPr/>
            <p:nvPr/>
          </p:nvGrpSpPr>
          <p:grpSpPr>
            <a:xfrm>
              <a:off x="0" y="5029200"/>
              <a:ext cx="6705000" cy="228240"/>
              <a:chOff x="0" y="5029200"/>
              <a:chExt cx="6705000" cy="228240"/>
            </a:xfrm>
          </p:grpSpPr>
          <p:sp>
            <p:nvSpPr>
              <p:cNvPr id="1658" name="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ing a reference to a private data memb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0" name=""/>
            <p:cNvGrpSpPr/>
            <p:nvPr/>
          </p:nvGrpSpPr>
          <p:grpSpPr>
            <a:xfrm>
              <a:off x="0" y="5257800"/>
              <a:ext cx="6705000" cy="228600"/>
              <a:chOff x="0" y="5257800"/>
              <a:chExt cx="6705000" cy="228600"/>
            </a:xfrm>
          </p:grpSpPr>
          <p:sp>
            <p:nvSpPr>
              <p:cNvPr id="1661" name="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amp;Time::bad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3" name=""/>
            <p:cNvGrpSpPr/>
            <p:nvPr/>
          </p:nvGrpSpPr>
          <p:grpSpPr>
            <a:xfrm>
              <a:off x="0" y="5486400"/>
              <a:ext cx="6705000" cy="228240"/>
              <a:chOff x="0" y="5486400"/>
              <a:chExt cx="6705000" cy="228240"/>
            </a:xfrm>
          </p:grpSpPr>
          <p:sp>
            <p:nvSpPr>
              <p:cNvPr id="1664" name="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6" name=""/>
            <p:cNvGrpSpPr/>
            <p:nvPr/>
          </p:nvGrpSpPr>
          <p:grpSpPr>
            <a:xfrm>
              <a:off x="0" y="5715000"/>
              <a:ext cx="6705000" cy="228240"/>
              <a:chOff x="0" y="5715000"/>
              <a:chExt cx="6705000" cy="228240"/>
            </a:xfrm>
          </p:grpSpPr>
          <p:sp>
            <p:nvSpPr>
              <p:cNvPr id="1667" name="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 = ( hh &gt;= 0 &amp;&amp; hh &lt; 24 ) ? hh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9" name=""/>
            <p:cNvGrpSpPr/>
            <p:nvPr/>
          </p:nvGrpSpPr>
          <p:grpSpPr>
            <a:xfrm>
              <a:off x="0" y="5943600"/>
              <a:ext cx="6705000" cy="228240"/>
              <a:chOff x="0" y="5943600"/>
              <a:chExt cx="6705000" cy="228240"/>
            </a:xfrm>
          </p:grpSpPr>
          <p:sp>
            <p:nvSpPr>
              <p:cNvPr id="1670" name="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2" name=""/>
            <p:cNvGrpSpPr/>
            <p:nvPr/>
          </p:nvGrpSpPr>
          <p:grpSpPr>
            <a:xfrm>
              <a:off x="0" y="6172200"/>
              <a:ext cx="6705000" cy="228600"/>
              <a:chOff x="0" y="6172200"/>
              <a:chExt cx="6705000" cy="228600"/>
            </a:xfrm>
          </p:grpSpPr>
          <p:sp>
            <p:nvSpPr>
              <p:cNvPr id="1673" name="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DANGEROUS reference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5" name=""/>
            <p:cNvGrpSpPr/>
            <p:nvPr/>
          </p:nvGrpSpPr>
          <p:grpSpPr>
            <a:xfrm>
              <a:off x="0" y="6400800"/>
              <a:ext cx="6705000" cy="228240"/>
              <a:chOff x="0" y="6400800"/>
              <a:chExt cx="6705000" cy="228240"/>
            </a:xfrm>
          </p:grpSpPr>
          <p:sp>
            <p:nvSpPr>
              <p:cNvPr id="1676" name="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8" name=""/>
          <p:cNvGrpSpPr/>
          <p:nvPr/>
        </p:nvGrpSpPr>
        <p:grpSpPr>
          <a:xfrm>
            <a:off x="4495680" y="4419720"/>
            <a:ext cx="3353040" cy="1676160"/>
            <a:chOff x="4495680" y="4419720"/>
            <a:chExt cx="3353040" cy="1676160"/>
          </a:xfrm>
        </p:grpSpPr>
        <p:sp>
          <p:nvSpPr>
            <p:cNvPr id="1679" name=""/>
            <p:cNvSpPr/>
            <p:nvPr/>
          </p:nvSpPr>
          <p:spPr>
            <a:xfrm>
              <a:off x="5486400" y="4419720"/>
              <a:ext cx="23623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dSetHour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s a referenc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.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nging this reference will al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wel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H="1">
              <a:off x="4495680" y="548640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5A9F3-30E3-4F67-9421-722DB951F87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 Declare referenc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Change data using a referenc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83" name=""/>
          <p:cNvGrpSpPr/>
          <p:nvPr/>
        </p:nvGrpSpPr>
        <p:grpSpPr>
          <a:xfrm>
            <a:off x="0" y="0"/>
            <a:ext cx="6705000" cy="6324480"/>
            <a:chOff x="0" y="0"/>
            <a:chExt cx="6705000" cy="6324480"/>
          </a:xfrm>
        </p:grpSpPr>
        <p:grpSp>
          <p:nvGrpSpPr>
            <p:cNvPr id="1684" name=""/>
            <p:cNvGrpSpPr/>
            <p:nvPr/>
          </p:nvGrpSpPr>
          <p:grpSpPr>
            <a:xfrm>
              <a:off x="0" y="0"/>
              <a:ext cx="6705000" cy="203760"/>
              <a:chOff x="0" y="0"/>
              <a:chExt cx="6705000" cy="203760"/>
            </a:xfrm>
          </p:grpSpPr>
          <p:sp>
            <p:nvSpPr>
              <p:cNvPr id="1685" name=""/>
              <p:cNvSpPr/>
              <p:nvPr/>
            </p:nvSpPr>
            <p:spPr>
              <a:xfrm>
                <a:off x="0" y="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0" y="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11: fig06_1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7" name=""/>
            <p:cNvGrpSpPr/>
            <p:nvPr/>
          </p:nvGrpSpPr>
          <p:grpSpPr>
            <a:xfrm>
              <a:off x="0" y="203760"/>
              <a:ext cx="6705000" cy="203760"/>
              <a:chOff x="0" y="203760"/>
              <a:chExt cx="6705000" cy="203760"/>
            </a:xfrm>
          </p:grpSpPr>
          <p:sp>
            <p:nvSpPr>
              <p:cNvPr id="1688" name=""/>
              <p:cNvSpPr/>
              <p:nvPr/>
            </p:nvSpPr>
            <p:spPr>
              <a:xfrm>
                <a:off x="0" y="2037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0" y="2037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a public member function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0" name=""/>
            <p:cNvGrpSpPr/>
            <p:nvPr/>
          </p:nvGrpSpPr>
          <p:grpSpPr>
            <a:xfrm>
              <a:off x="0" y="407880"/>
              <a:ext cx="6705000" cy="203760"/>
              <a:chOff x="0" y="407880"/>
              <a:chExt cx="6705000" cy="203760"/>
            </a:xfrm>
          </p:grpSpPr>
          <p:sp>
            <p:nvSpPr>
              <p:cNvPr id="1691" name=""/>
              <p:cNvSpPr/>
              <p:nvPr/>
            </p:nvSpPr>
            <p:spPr>
              <a:xfrm>
                <a:off x="0" y="407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0" y="407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s a reference to a private data memb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0" y="612000"/>
              <a:ext cx="6705000" cy="203760"/>
              <a:chOff x="0" y="612000"/>
              <a:chExt cx="6705000" cy="203760"/>
            </a:xfrm>
          </p:grpSpPr>
          <p:sp>
            <p:nvSpPr>
              <p:cNvPr id="1694" name=""/>
              <p:cNvSpPr/>
              <p:nvPr/>
            </p:nvSpPr>
            <p:spPr>
              <a:xfrm>
                <a:off x="0" y="612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0" y="612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ime class has been trimmed for this exampl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6" name=""/>
            <p:cNvGrpSpPr/>
            <p:nvPr/>
          </p:nvGrpSpPr>
          <p:grpSpPr>
            <a:xfrm>
              <a:off x="0" y="815760"/>
              <a:ext cx="6705000" cy="203760"/>
              <a:chOff x="0" y="815760"/>
              <a:chExt cx="6705000" cy="203760"/>
            </a:xfrm>
          </p:grpSpPr>
          <p:sp>
            <p:nvSpPr>
              <p:cNvPr id="1697" name=""/>
              <p:cNvSpPr/>
              <p:nvPr/>
            </p:nvSpPr>
            <p:spPr>
              <a:xfrm>
                <a:off x="0" y="8157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0" y="8157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9" name=""/>
            <p:cNvGrpSpPr/>
            <p:nvPr/>
          </p:nvGrpSpPr>
          <p:grpSpPr>
            <a:xfrm>
              <a:off x="0" y="1019880"/>
              <a:ext cx="6705000" cy="203760"/>
              <a:chOff x="0" y="1019880"/>
              <a:chExt cx="6705000" cy="203760"/>
            </a:xfrm>
          </p:grpSpPr>
          <p:sp>
            <p:nvSpPr>
              <p:cNvPr id="1700" name=""/>
              <p:cNvSpPr/>
              <p:nvPr/>
            </p:nvSpPr>
            <p:spPr>
              <a:xfrm>
                <a:off x="0" y="1019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0" y="1019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2" name=""/>
            <p:cNvGrpSpPr/>
            <p:nvPr/>
          </p:nvGrpSpPr>
          <p:grpSpPr>
            <a:xfrm>
              <a:off x="0" y="1224000"/>
              <a:ext cx="6705000" cy="203760"/>
              <a:chOff x="0" y="1224000"/>
              <a:chExt cx="6705000" cy="203760"/>
            </a:xfrm>
          </p:grpSpPr>
          <p:sp>
            <p:nvSpPr>
              <p:cNvPr id="1703" name=""/>
              <p:cNvSpPr/>
              <p:nvPr/>
            </p:nvSpPr>
            <p:spPr>
              <a:xfrm>
                <a:off x="0" y="1224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0" y="1224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0" y="1428120"/>
              <a:ext cx="6705000" cy="203760"/>
              <a:chOff x="0" y="1428120"/>
              <a:chExt cx="6705000" cy="203760"/>
            </a:xfrm>
          </p:grpSpPr>
          <p:sp>
            <p:nvSpPr>
              <p:cNvPr id="1706" name=""/>
              <p:cNvSpPr/>
              <p:nvPr/>
            </p:nvSpPr>
            <p:spPr>
              <a:xfrm>
                <a:off x="0" y="1428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0" y="1428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8" name=""/>
            <p:cNvGrpSpPr/>
            <p:nvPr/>
          </p:nvGrpSpPr>
          <p:grpSpPr>
            <a:xfrm>
              <a:off x="0" y="1631880"/>
              <a:ext cx="6705000" cy="203760"/>
              <a:chOff x="0" y="1631880"/>
              <a:chExt cx="6705000" cy="203760"/>
            </a:xfrm>
          </p:grpSpPr>
          <p:sp>
            <p:nvSpPr>
              <p:cNvPr id="1709" name=""/>
              <p:cNvSpPr/>
              <p:nvPr/>
            </p:nvSpPr>
            <p:spPr>
              <a:xfrm>
                <a:off x="0" y="1631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0" y="1631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1" name=""/>
            <p:cNvGrpSpPr/>
            <p:nvPr/>
          </p:nvGrpSpPr>
          <p:grpSpPr>
            <a:xfrm>
              <a:off x="0" y="1836000"/>
              <a:ext cx="6705000" cy="203760"/>
              <a:chOff x="0" y="1836000"/>
              <a:chExt cx="6705000" cy="203760"/>
            </a:xfrm>
          </p:grpSpPr>
          <p:sp>
            <p:nvSpPr>
              <p:cNvPr id="1712" name=""/>
              <p:cNvSpPr/>
              <p:nvPr/>
            </p:nvSpPr>
            <p:spPr>
              <a:xfrm>
                <a:off x="0" y="1836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0" y="1836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time4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4" name=""/>
            <p:cNvGrpSpPr/>
            <p:nvPr/>
          </p:nvGrpSpPr>
          <p:grpSpPr>
            <a:xfrm>
              <a:off x="0" y="2040120"/>
              <a:ext cx="6705000" cy="203760"/>
              <a:chOff x="0" y="2040120"/>
              <a:chExt cx="6705000" cy="203760"/>
            </a:xfrm>
          </p:grpSpPr>
          <p:sp>
            <p:nvSpPr>
              <p:cNvPr id="1715" name=""/>
              <p:cNvSpPr/>
              <p:nvPr/>
            </p:nvSpPr>
            <p:spPr>
              <a:xfrm>
                <a:off x="0" y="2040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0" y="2040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0" y="2244240"/>
              <a:ext cx="6705000" cy="203760"/>
              <a:chOff x="0" y="2244240"/>
              <a:chExt cx="6705000" cy="203760"/>
            </a:xfrm>
          </p:grpSpPr>
          <p:sp>
            <p:nvSpPr>
              <p:cNvPr id="1718" name=""/>
              <p:cNvSpPr/>
              <p:nvPr/>
            </p:nvSpPr>
            <p:spPr>
              <a:xfrm>
                <a:off x="0" y="2244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0" y="2244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0" name=""/>
            <p:cNvGrpSpPr/>
            <p:nvPr/>
          </p:nvGrpSpPr>
          <p:grpSpPr>
            <a:xfrm>
              <a:off x="0" y="2448000"/>
              <a:ext cx="6705000" cy="203760"/>
              <a:chOff x="0" y="2448000"/>
              <a:chExt cx="6705000" cy="203760"/>
            </a:xfrm>
          </p:grpSpPr>
          <p:sp>
            <p:nvSpPr>
              <p:cNvPr id="1721" name=""/>
              <p:cNvSpPr/>
              <p:nvPr/>
            </p:nvSpPr>
            <p:spPr>
              <a:xfrm>
                <a:off x="0" y="2448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0" y="2448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3" name=""/>
            <p:cNvGrpSpPr/>
            <p:nvPr/>
          </p:nvGrpSpPr>
          <p:grpSpPr>
            <a:xfrm>
              <a:off x="0" y="2652120"/>
              <a:ext cx="6705000" cy="203760"/>
              <a:chOff x="0" y="2652120"/>
              <a:chExt cx="6705000" cy="203760"/>
            </a:xfrm>
          </p:grpSpPr>
          <p:sp>
            <p:nvSpPr>
              <p:cNvPr id="1724" name=""/>
              <p:cNvSpPr/>
              <p:nvPr/>
            </p:nvSpPr>
            <p:spPr>
              <a:xfrm>
                <a:off x="0" y="2652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0" y="2652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6" name=""/>
            <p:cNvGrpSpPr/>
            <p:nvPr/>
          </p:nvGrpSpPr>
          <p:grpSpPr>
            <a:xfrm>
              <a:off x="0" y="2856240"/>
              <a:ext cx="6705000" cy="203760"/>
              <a:chOff x="0" y="2856240"/>
              <a:chExt cx="6705000" cy="203760"/>
            </a:xfrm>
          </p:grpSpPr>
          <p:sp>
            <p:nvSpPr>
              <p:cNvPr id="1727" name=""/>
              <p:cNvSpPr/>
              <p:nvPr/>
            </p:nvSpPr>
            <p:spPr>
              <a:xfrm>
                <a:off x="0" y="2856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0" y="2856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amp;hourRef = t.badSetHour( 2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0" y="3060360"/>
              <a:ext cx="6705000" cy="203760"/>
              <a:chOff x="0" y="3060360"/>
              <a:chExt cx="6705000" cy="203760"/>
            </a:xfrm>
          </p:grpSpPr>
          <p:sp>
            <p:nvSpPr>
              <p:cNvPr id="1730" name=""/>
              <p:cNvSpPr/>
              <p:nvPr/>
            </p:nvSpPr>
            <p:spPr>
              <a:xfrm>
                <a:off x="0" y="3060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0" y="3060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2" name=""/>
            <p:cNvGrpSpPr/>
            <p:nvPr/>
          </p:nvGrpSpPr>
          <p:grpSpPr>
            <a:xfrm>
              <a:off x="0" y="3264120"/>
              <a:ext cx="6705000" cy="203760"/>
              <a:chOff x="0" y="3264120"/>
              <a:chExt cx="6705000" cy="203760"/>
            </a:xfrm>
          </p:grpSpPr>
          <p:sp>
            <p:nvSpPr>
              <p:cNvPr id="1733" name=""/>
              <p:cNvSpPr/>
              <p:nvPr/>
            </p:nvSpPr>
            <p:spPr>
              <a:xfrm>
                <a:off x="0" y="3264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0" y="3264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Hour before modification: " &lt;&lt; hourRef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5" name=""/>
            <p:cNvGrpSpPr/>
            <p:nvPr/>
          </p:nvGrpSpPr>
          <p:grpSpPr>
            <a:xfrm>
              <a:off x="0" y="3468240"/>
              <a:ext cx="6705000" cy="203760"/>
              <a:chOff x="0" y="3468240"/>
              <a:chExt cx="6705000" cy="203760"/>
            </a:xfrm>
          </p:grpSpPr>
          <p:sp>
            <p:nvSpPr>
              <p:cNvPr id="1736" name=""/>
              <p:cNvSpPr/>
              <p:nvPr/>
            </p:nvSpPr>
            <p:spPr>
              <a:xfrm>
                <a:off x="0" y="3468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0" y="3468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Ref = 3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odification with invali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8" name=""/>
            <p:cNvGrpSpPr/>
            <p:nvPr/>
          </p:nvGrpSpPr>
          <p:grpSpPr>
            <a:xfrm>
              <a:off x="0" y="3672360"/>
              <a:ext cx="6705000" cy="203760"/>
              <a:chOff x="0" y="3672360"/>
              <a:chExt cx="6705000" cy="203760"/>
            </a:xfrm>
          </p:grpSpPr>
          <p:sp>
            <p:nvSpPr>
              <p:cNvPr id="1739" name=""/>
              <p:cNvSpPr/>
              <p:nvPr/>
            </p:nvSpPr>
            <p:spPr>
              <a:xfrm>
                <a:off x="0" y="3672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0" y="3672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Hour after modification: " &lt;&lt; t.getHour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1" name=""/>
            <p:cNvGrpSpPr/>
            <p:nvPr/>
          </p:nvGrpSpPr>
          <p:grpSpPr>
            <a:xfrm>
              <a:off x="0" y="3876120"/>
              <a:ext cx="6705000" cy="203760"/>
              <a:chOff x="0" y="3876120"/>
              <a:chExt cx="6705000" cy="203760"/>
            </a:xfrm>
          </p:grpSpPr>
          <p:sp>
            <p:nvSpPr>
              <p:cNvPr id="1742" name=""/>
              <p:cNvSpPr/>
              <p:nvPr/>
            </p:nvSpPr>
            <p:spPr>
              <a:xfrm>
                <a:off x="0" y="3876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0" y="3876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4" name=""/>
            <p:cNvGrpSpPr/>
            <p:nvPr/>
          </p:nvGrpSpPr>
          <p:grpSpPr>
            <a:xfrm>
              <a:off x="0" y="4080240"/>
              <a:ext cx="6705000" cy="203760"/>
              <a:chOff x="0" y="4080240"/>
              <a:chExt cx="6705000" cy="203760"/>
            </a:xfrm>
          </p:grpSpPr>
          <p:sp>
            <p:nvSpPr>
              <p:cNvPr id="1745" name=""/>
              <p:cNvSpPr/>
              <p:nvPr/>
            </p:nvSpPr>
            <p:spPr>
              <a:xfrm>
                <a:off x="0" y="4080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0" y="4080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angerous: Function call that retur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7" name=""/>
            <p:cNvGrpSpPr/>
            <p:nvPr/>
          </p:nvGrpSpPr>
          <p:grpSpPr>
            <a:xfrm>
              <a:off x="0" y="4284360"/>
              <a:ext cx="6705000" cy="203760"/>
              <a:chOff x="0" y="4284360"/>
              <a:chExt cx="6705000" cy="203760"/>
            </a:xfrm>
          </p:grpSpPr>
          <p:sp>
            <p:nvSpPr>
              <p:cNvPr id="1748" name=""/>
              <p:cNvSpPr/>
              <p:nvPr/>
            </p:nvSpPr>
            <p:spPr>
              <a:xfrm>
                <a:off x="0" y="4284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0" y="4284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a reference can be used as an lvalue!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0" name=""/>
            <p:cNvGrpSpPr/>
            <p:nvPr/>
          </p:nvGrpSpPr>
          <p:grpSpPr>
            <a:xfrm>
              <a:off x="0" y="4488480"/>
              <a:ext cx="6705000" cy="203760"/>
              <a:chOff x="0" y="4488480"/>
              <a:chExt cx="6705000" cy="203760"/>
            </a:xfrm>
          </p:grpSpPr>
          <p:sp>
            <p:nvSpPr>
              <p:cNvPr id="1751" name=""/>
              <p:cNvSpPr/>
              <p:nvPr/>
            </p:nvSpPr>
            <p:spPr>
              <a:xfrm>
                <a:off x="0" y="4488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0" y="4488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badSetHour(12) = 74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3" name=""/>
            <p:cNvGrpSpPr/>
            <p:nvPr/>
          </p:nvGrpSpPr>
          <p:grpSpPr>
            <a:xfrm>
              <a:off x="0" y="4692240"/>
              <a:ext cx="6705000" cy="203760"/>
              <a:chOff x="0" y="4692240"/>
              <a:chExt cx="6705000" cy="203760"/>
            </a:xfrm>
          </p:grpSpPr>
          <p:sp>
            <p:nvSpPr>
              <p:cNvPr id="1754" name=""/>
              <p:cNvSpPr/>
              <p:nvPr/>
            </p:nvSpPr>
            <p:spPr>
              <a:xfrm>
                <a:off x="0" y="4692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0" y="4692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*********************************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6" name=""/>
            <p:cNvGrpSpPr/>
            <p:nvPr/>
          </p:nvGrpSpPr>
          <p:grpSpPr>
            <a:xfrm>
              <a:off x="0" y="4896360"/>
              <a:ext cx="6705000" cy="203760"/>
              <a:chOff x="0" y="4896360"/>
              <a:chExt cx="6705000" cy="203760"/>
            </a:xfrm>
          </p:grpSpPr>
          <p:sp>
            <p:nvSpPr>
              <p:cNvPr id="1757" name=""/>
              <p:cNvSpPr/>
              <p:nvPr/>
            </p:nvSpPr>
            <p:spPr>
              <a:xfrm>
                <a:off x="0" y="4896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0" y="4896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POOR PROGRAMMING PRACTICE!!!!!!!!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0" y="5100480"/>
              <a:ext cx="6705000" cy="203760"/>
              <a:chOff x="0" y="5100480"/>
              <a:chExt cx="6705000" cy="203760"/>
            </a:xfrm>
          </p:grpSpPr>
          <p:sp>
            <p:nvSpPr>
              <p:cNvPr id="1760" name=""/>
              <p:cNvSpPr/>
              <p:nvPr/>
            </p:nvSpPr>
            <p:spPr>
              <a:xfrm>
                <a:off x="0" y="5100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0" y="5100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badSetHour as an lvalue, Hour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2" name=""/>
            <p:cNvGrpSpPr/>
            <p:nvPr/>
          </p:nvGrpSpPr>
          <p:grpSpPr>
            <a:xfrm>
              <a:off x="0" y="5304600"/>
              <a:ext cx="6705000" cy="203760"/>
              <a:chOff x="0" y="5304600"/>
              <a:chExt cx="6705000" cy="203760"/>
            </a:xfrm>
          </p:grpSpPr>
          <p:sp>
            <p:nvSpPr>
              <p:cNvPr id="1763" name=""/>
              <p:cNvSpPr/>
              <p:nvPr/>
            </p:nvSpPr>
            <p:spPr>
              <a:xfrm>
                <a:off x="0" y="53046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0" y="53046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t.getHour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5" name=""/>
            <p:cNvGrpSpPr/>
            <p:nvPr/>
          </p:nvGrpSpPr>
          <p:grpSpPr>
            <a:xfrm>
              <a:off x="0" y="5508360"/>
              <a:ext cx="6705000" cy="203760"/>
              <a:chOff x="0" y="5508360"/>
              <a:chExt cx="6705000" cy="203760"/>
            </a:xfrm>
          </p:grpSpPr>
          <p:sp>
            <p:nvSpPr>
              <p:cNvPr id="1766" name=""/>
              <p:cNvSpPr/>
              <p:nvPr/>
            </p:nvSpPr>
            <p:spPr>
              <a:xfrm>
                <a:off x="0" y="5508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0" y="5508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*********************************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8" name=""/>
            <p:cNvGrpSpPr/>
            <p:nvPr/>
          </p:nvGrpSpPr>
          <p:grpSpPr>
            <a:xfrm>
              <a:off x="0" y="5712480"/>
              <a:ext cx="6705000" cy="203760"/>
              <a:chOff x="0" y="5712480"/>
              <a:chExt cx="6705000" cy="203760"/>
            </a:xfrm>
          </p:grpSpPr>
          <p:sp>
            <p:nvSpPr>
              <p:cNvPr id="1769" name=""/>
              <p:cNvSpPr/>
              <p:nvPr/>
            </p:nvSpPr>
            <p:spPr>
              <a:xfrm>
                <a:off x="0" y="5712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0" y="5712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1" name=""/>
            <p:cNvGrpSpPr/>
            <p:nvPr/>
          </p:nvGrpSpPr>
          <p:grpSpPr>
            <a:xfrm>
              <a:off x="0" y="5916600"/>
              <a:ext cx="6705000" cy="203760"/>
              <a:chOff x="0" y="5916600"/>
              <a:chExt cx="6705000" cy="203760"/>
            </a:xfrm>
          </p:grpSpPr>
          <p:sp>
            <p:nvSpPr>
              <p:cNvPr id="1772" name=""/>
              <p:cNvSpPr/>
              <p:nvPr/>
            </p:nvSpPr>
            <p:spPr>
              <a:xfrm>
                <a:off x="0" y="59166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0" y="59166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4" name=""/>
            <p:cNvGrpSpPr/>
            <p:nvPr/>
          </p:nvGrpSpPr>
          <p:grpSpPr>
            <a:xfrm>
              <a:off x="0" y="6120720"/>
              <a:ext cx="6705000" cy="203760"/>
              <a:chOff x="0" y="6120720"/>
              <a:chExt cx="6705000" cy="203760"/>
            </a:xfrm>
          </p:grpSpPr>
          <p:sp>
            <p:nvSpPr>
              <p:cNvPr id="1775" name=""/>
              <p:cNvSpPr/>
              <p:nvPr/>
            </p:nvSpPr>
            <p:spPr>
              <a:xfrm>
                <a:off x="0" y="61207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0" y="61207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7" name=""/>
          <p:cNvGrpSpPr/>
          <p:nvPr/>
        </p:nvGrpSpPr>
        <p:grpSpPr>
          <a:xfrm>
            <a:off x="1599840" y="1371600"/>
            <a:ext cx="4953240" cy="1523880"/>
            <a:chOff x="1599840" y="1371600"/>
            <a:chExt cx="4953240" cy="1523880"/>
          </a:xfrm>
        </p:grpSpPr>
        <p:sp>
          <p:nvSpPr>
            <p:cNvPr id="1778" name=""/>
            <p:cNvSpPr/>
            <p:nvPr/>
          </p:nvSpPr>
          <p:spPr>
            <a:xfrm flipH="1">
              <a:off x="1599840" y="2057400"/>
              <a:ext cx="22431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429000" y="1371600"/>
              <a:ext cx="3124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referen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Ref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at is assigned the reference returned by the c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.badSetHour(20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5486400" y="3352680"/>
            <a:ext cx="3123720" cy="824040"/>
            <a:chOff x="5486400" y="3352680"/>
            <a:chExt cx="3123720" cy="824040"/>
          </a:xfrm>
        </p:grpSpPr>
        <p:sp>
          <p:nvSpPr>
            <p:cNvPr id="1781" name=""/>
            <p:cNvSpPr/>
            <p:nvPr/>
          </p:nvSpPr>
          <p:spPr>
            <a:xfrm>
              <a:off x="6248160" y="3352680"/>
              <a:ext cx="2361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ias used to set the 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30 (an invalid value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H="1">
              <a:off x="5486400" y="38098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2819160" y="4495680"/>
            <a:ext cx="5867640" cy="824040"/>
            <a:chOff x="2819160" y="4495680"/>
            <a:chExt cx="5867640" cy="824040"/>
          </a:xfrm>
        </p:grpSpPr>
        <p:sp>
          <p:nvSpPr>
            <p:cNvPr id="1784" name=""/>
            <p:cNvSpPr/>
            <p:nvPr/>
          </p:nvSpPr>
          <p:spPr>
            <a:xfrm>
              <a:off x="5791320" y="449568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ction call used as an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assigned the valu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7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another invalid value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2819160" y="457200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5349240" y="304812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 before modification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663080" y="4038480"/>
            <a:ext cx="264960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 after modification: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638680" y="5597640"/>
            <a:ext cx="335304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OR PROGRAMMING PRACTICE!!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dSetHour as an lvalue, Hour: 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712F5-9738-4A51-960B-FBA3CCC4869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990720" y="1523880"/>
            <a:ext cx="2895480" cy="2715120"/>
            <a:chOff x="990720" y="1523880"/>
            <a:chExt cx="2895480" cy="2715120"/>
          </a:xfrm>
        </p:grpSpPr>
        <p:sp>
          <p:nvSpPr>
            <p:cNvPr id="1791" name=""/>
            <p:cNvSpPr/>
            <p:nvPr/>
          </p:nvSpPr>
          <p:spPr>
            <a:xfrm>
              <a:off x="990720" y="2441520"/>
              <a:ext cx="289548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R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ed to chang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n invalid value.  Normally, the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badSetHour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ould not have allowed this. However, because it returned a reference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as changed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rect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V="1">
              <a:off x="1676520" y="1523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3" name=""/>
          <p:cNvSpPr/>
          <p:nvPr/>
        </p:nvSpPr>
        <p:spPr>
          <a:xfrm>
            <a:off x="0" y="228600"/>
            <a:ext cx="670572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 before modification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 after modification: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OR PROGRAMMING PRACTICE!!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dSetHour as an lvalue, Hour: 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D20AF-1783-45C8-B3B6-880F0228A6B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6 Assignment by Default Memberwise Copy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object can be assigned to another object of the same type using the assignment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by member cop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may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ed as function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ed from functions (call-by-value defaul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78D9-351A-4CEB-8FC8-A654599E4FA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6" name=""/>
          <p:cNvGrpSpPr/>
          <p:nvPr/>
        </p:nvGrpSpPr>
        <p:grpSpPr>
          <a:xfrm>
            <a:off x="0" y="0"/>
            <a:ext cx="6705000" cy="6324480"/>
            <a:chOff x="0" y="0"/>
            <a:chExt cx="6705000" cy="6324480"/>
          </a:xfrm>
        </p:grpSpPr>
        <p:grpSp>
          <p:nvGrpSpPr>
            <p:cNvPr id="1797" name=""/>
            <p:cNvGrpSpPr/>
            <p:nvPr/>
          </p:nvGrpSpPr>
          <p:grpSpPr>
            <a:xfrm>
              <a:off x="0" y="0"/>
              <a:ext cx="6705000" cy="210600"/>
              <a:chOff x="0" y="0"/>
              <a:chExt cx="6705000" cy="210600"/>
            </a:xfrm>
          </p:grpSpPr>
          <p:sp>
            <p:nvSpPr>
              <p:cNvPr id="1798" name=""/>
              <p:cNvSpPr/>
              <p:nvPr/>
            </p:nvSpPr>
            <p:spPr>
              <a:xfrm>
                <a:off x="0" y="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0" y="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12: fig06_12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0" name=""/>
            <p:cNvGrpSpPr/>
            <p:nvPr/>
          </p:nvGrpSpPr>
          <p:grpSpPr>
            <a:xfrm>
              <a:off x="0" y="210600"/>
              <a:ext cx="6705000" cy="210600"/>
              <a:chOff x="0" y="210600"/>
              <a:chExt cx="6705000" cy="210600"/>
            </a:xfrm>
          </p:grpSpPr>
          <p:sp>
            <p:nvSpPr>
              <p:cNvPr id="1801" name=""/>
              <p:cNvSpPr/>
              <p:nvPr/>
            </p:nvSpPr>
            <p:spPr>
              <a:xfrm>
                <a:off x="0" y="2106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0" y="2106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that class objects can be assign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3" name=""/>
            <p:cNvGrpSpPr/>
            <p:nvPr/>
          </p:nvGrpSpPr>
          <p:grpSpPr>
            <a:xfrm>
              <a:off x="0" y="421560"/>
              <a:ext cx="6705000" cy="210600"/>
              <a:chOff x="0" y="421560"/>
              <a:chExt cx="6705000" cy="210600"/>
            </a:xfrm>
          </p:grpSpPr>
          <p:sp>
            <p:nvSpPr>
              <p:cNvPr id="1804" name=""/>
              <p:cNvSpPr/>
              <p:nvPr/>
            </p:nvSpPr>
            <p:spPr>
              <a:xfrm>
                <a:off x="0" y="4215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0" y="4215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o each other using default memberwise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6" name=""/>
            <p:cNvGrpSpPr/>
            <p:nvPr/>
          </p:nvGrpSpPr>
          <p:grpSpPr>
            <a:xfrm>
              <a:off x="0" y="632160"/>
              <a:ext cx="6705000" cy="210600"/>
              <a:chOff x="0" y="632160"/>
              <a:chExt cx="6705000" cy="210600"/>
            </a:xfrm>
          </p:grpSpPr>
          <p:sp>
            <p:nvSpPr>
              <p:cNvPr id="1807" name=""/>
              <p:cNvSpPr/>
              <p:nvPr/>
            </p:nvSpPr>
            <p:spPr>
              <a:xfrm>
                <a:off x="0" y="6321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0" y="6321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9" name=""/>
            <p:cNvGrpSpPr/>
            <p:nvPr/>
          </p:nvGrpSpPr>
          <p:grpSpPr>
            <a:xfrm>
              <a:off x="0" y="843120"/>
              <a:ext cx="6705000" cy="210600"/>
              <a:chOff x="0" y="843120"/>
              <a:chExt cx="6705000" cy="210600"/>
            </a:xfrm>
          </p:grpSpPr>
          <p:sp>
            <p:nvSpPr>
              <p:cNvPr id="1810" name=""/>
              <p:cNvSpPr/>
              <p:nvPr/>
            </p:nvSpPr>
            <p:spPr>
              <a:xfrm>
                <a:off x="0" y="8431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0" y="8431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2" name=""/>
            <p:cNvGrpSpPr/>
            <p:nvPr/>
          </p:nvGrpSpPr>
          <p:grpSpPr>
            <a:xfrm>
              <a:off x="0" y="1054080"/>
              <a:ext cx="6705000" cy="210600"/>
              <a:chOff x="0" y="1054080"/>
              <a:chExt cx="6705000" cy="210600"/>
            </a:xfrm>
          </p:grpSpPr>
          <p:sp>
            <p:nvSpPr>
              <p:cNvPr id="1813" name=""/>
              <p:cNvSpPr/>
              <p:nvPr/>
            </p:nvSpPr>
            <p:spPr>
              <a:xfrm>
                <a:off x="0" y="10540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0" y="10540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5" name=""/>
            <p:cNvGrpSpPr/>
            <p:nvPr/>
          </p:nvGrpSpPr>
          <p:grpSpPr>
            <a:xfrm>
              <a:off x="0" y="1264680"/>
              <a:ext cx="6705000" cy="210600"/>
              <a:chOff x="0" y="1264680"/>
              <a:chExt cx="6705000" cy="210600"/>
            </a:xfrm>
          </p:grpSpPr>
          <p:sp>
            <p:nvSpPr>
              <p:cNvPr id="1816" name=""/>
              <p:cNvSpPr/>
              <p:nvPr/>
            </p:nvSpPr>
            <p:spPr>
              <a:xfrm>
                <a:off x="0" y="12646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0" y="12646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8" name=""/>
            <p:cNvGrpSpPr/>
            <p:nvPr/>
          </p:nvGrpSpPr>
          <p:grpSpPr>
            <a:xfrm>
              <a:off x="0" y="1475640"/>
              <a:ext cx="6705000" cy="210600"/>
              <a:chOff x="0" y="1475640"/>
              <a:chExt cx="6705000" cy="210600"/>
            </a:xfrm>
          </p:grpSpPr>
          <p:sp>
            <p:nvSpPr>
              <p:cNvPr id="1819" name=""/>
              <p:cNvSpPr/>
              <p:nvPr/>
            </p:nvSpPr>
            <p:spPr>
              <a:xfrm>
                <a:off x="0" y="14756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0" y="14756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1" name=""/>
            <p:cNvGrpSpPr/>
            <p:nvPr/>
          </p:nvGrpSpPr>
          <p:grpSpPr>
            <a:xfrm>
              <a:off x="0" y="1686600"/>
              <a:ext cx="6705000" cy="210600"/>
              <a:chOff x="0" y="1686600"/>
              <a:chExt cx="6705000" cy="210600"/>
            </a:xfrm>
          </p:grpSpPr>
          <p:sp>
            <p:nvSpPr>
              <p:cNvPr id="1822" name=""/>
              <p:cNvSpPr/>
              <p:nvPr/>
            </p:nvSpPr>
            <p:spPr>
              <a:xfrm>
                <a:off x="0" y="16866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0" y="16866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imple Dat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4" name=""/>
            <p:cNvGrpSpPr/>
            <p:nvPr/>
          </p:nvGrpSpPr>
          <p:grpSpPr>
            <a:xfrm>
              <a:off x="0" y="1897200"/>
              <a:ext cx="6705000" cy="210600"/>
              <a:chOff x="0" y="1897200"/>
              <a:chExt cx="6705000" cy="210600"/>
            </a:xfrm>
          </p:grpSpPr>
          <p:sp>
            <p:nvSpPr>
              <p:cNvPr id="1825" name=""/>
              <p:cNvSpPr/>
              <p:nvPr/>
            </p:nvSpPr>
            <p:spPr>
              <a:xfrm>
                <a:off x="0" y="18972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0" y="18972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t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7" name=""/>
            <p:cNvGrpSpPr/>
            <p:nvPr/>
          </p:nvGrpSpPr>
          <p:grpSpPr>
            <a:xfrm>
              <a:off x="0" y="2108160"/>
              <a:ext cx="6705000" cy="210600"/>
              <a:chOff x="0" y="2108160"/>
              <a:chExt cx="6705000" cy="210600"/>
            </a:xfrm>
          </p:grpSpPr>
          <p:sp>
            <p:nvSpPr>
              <p:cNvPr id="1828" name=""/>
              <p:cNvSpPr/>
              <p:nvPr/>
            </p:nvSpPr>
            <p:spPr>
              <a:xfrm>
                <a:off x="0" y="21081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0" y="21081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0" name=""/>
            <p:cNvGrpSpPr/>
            <p:nvPr/>
          </p:nvGrpSpPr>
          <p:grpSpPr>
            <a:xfrm>
              <a:off x="0" y="2318760"/>
              <a:ext cx="6705000" cy="210600"/>
              <a:chOff x="0" y="2318760"/>
              <a:chExt cx="6705000" cy="210600"/>
            </a:xfrm>
          </p:grpSpPr>
          <p:sp>
            <p:nvSpPr>
              <p:cNvPr id="1831" name=""/>
              <p:cNvSpPr/>
              <p:nvPr/>
            </p:nvSpPr>
            <p:spPr>
              <a:xfrm>
                <a:off x="0" y="23187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0" y="23187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199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3" name=""/>
            <p:cNvGrpSpPr/>
            <p:nvPr/>
          </p:nvGrpSpPr>
          <p:grpSpPr>
            <a:xfrm>
              <a:off x="0" y="2529720"/>
              <a:ext cx="6705000" cy="210600"/>
              <a:chOff x="0" y="2529720"/>
              <a:chExt cx="6705000" cy="210600"/>
            </a:xfrm>
          </p:grpSpPr>
          <p:sp>
            <p:nvSpPr>
              <p:cNvPr id="1834" name=""/>
              <p:cNvSpPr/>
              <p:nvPr/>
            </p:nvSpPr>
            <p:spPr>
              <a:xfrm>
                <a:off x="0" y="25297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0" y="25297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6" name=""/>
            <p:cNvGrpSpPr/>
            <p:nvPr/>
          </p:nvGrpSpPr>
          <p:grpSpPr>
            <a:xfrm>
              <a:off x="0" y="2740680"/>
              <a:ext cx="6705000" cy="210600"/>
              <a:chOff x="0" y="2740680"/>
              <a:chExt cx="6705000" cy="210600"/>
            </a:xfrm>
          </p:grpSpPr>
          <p:sp>
            <p:nvSpPr>
              <p:cNvPr id="1837" name=""/>
              <p:cNvSpPr/>
              <p:nvPr/>
            </p:nvSpPr>
            <p:spPr>
              <a:xfrm>
                <a:off x="0" y="27406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0" y="27406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9" name=""/>
            <p:cNvGrpSpPr/>
            <p:nvPr/>
          </p:nvGrpSpPr>
          <p:grpSpPr>
            <a:xfrm>
              <a:off x="0" y="2951280"/>
              <a:ext cx="6705000" cy="210600"/>
              <a:chOff x="0" y="2951280"/>
              <a:chExt cx="6705000" cy="210600"/>
            </a:xfrm>
          </p:grpSpPr>
          <p:sp>
            <p:nvSpPr>
              <p:cNvPr id="1840" name=""/>
              <p:cNvSpPr/>
              <p:nvPr/>
            </p:nvSpPr>
            <p:spPr>
              <a:xfrm>
                <a:off x="0" y="29512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0" y="29512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n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2" name=""/>
            <p:cNvGrpSpPr/>
            <p:nvPr/>
          </p:nvGrpSpPr>
          <p:grpSpPr>
            <a:xfrm>
              <a:off x="0" y="3162240"/>
              <a:ext cx="6705000" cy="210600"/>
              <a:chOff x="0" y="3162240"/>
              <a:chExt cx="6705000" cy="210600"/>
            </a:xfrm>
          </p:grpSpPr>
          <p:sp>
            <p:nvSpPr>
              <p:cNvPr id="1843" name=""/>
              <p:cNvSpPr/>
              <p:nvPr/>
            </p:nvSpPr>
            <p:spPr>
              <a:xfrm>
                <a:off x="0" y="31622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0" y="31622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5" name=""/>
            <p:cNvGrpSpPr/>
            <p:nvPr/>
          </p:nvGrpSpPr>
          <p:grpSpPr>
            <a:xfrm>
              <a:off x="0" y="3373200"/>
              <a:ext cx="6705000" cy="210600"/>
              <a:chOff x="0" y="3373200"/>
              <a:chExt cx="6705000" cy="210600"/>
            </a:xfrm>
          </p:grpSpPr>
          <p:sp>
            <p:nvSpPr>
              <p:cNvPr id="1846" name=""/>
              <p:cNvSpPr/>
              <p:nvPr/>
            </p:nvSpPr>
            <p:spPr>
              <a:xfrm>
                <a:off x="0" y="33732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0" y="33732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ea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8" name=""/>
            <p:cNvGrpSpPr/>
            <p:nvPr/>
          </p:nvGrpSpPr>
          <p:grpSpPr>
            <a:xfrm>
              <a:off x="0" y="3583800"/>
              <a:ext cx="6705000" cy="210600"/>
              <a:chOff x="0" y="3583800"/>
              <a:chExt cx="6705000" cy="210600"/>
            </a:xfrm>
          </p:grpSpPr>
          <p:sp>
            <p:nvSpPr>
              <p:cNvPr id="1849" name=""/>
              <p:cNvSpPr/>
              <p:nvPr/>
            </p:nvSpPr>
            <p:spPr>
              <a:xfrm>
                <a:off x="0" y="35838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0" y="35838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1" name=""/>
            <p:cNvGrpSpPr/>
            <p:nvPr/>
          </p:nvGrpSpPr>
          <p:grpSpPr>
            <a:xfrm>
              <a:off x="0" y="3794760"/>
              <a:ext cx="6705000" cy="210600"/>
              <a:chOff x="0" y="3794760"/>
              <a:chExt cx="6705000" cy="210600"/>
            </a:xfrm>
          </p:grpSpPr>
          <p:sp>
            <p:nvSpPr>
              <p:cNvPr id="1852" name=""/>
              <p:cNvSpPr/>
              <p:nvPr/>
            </p:nvSpPr>
            <p:spPr>
              <a:xfrm>
                <a:off x="0" y="37947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0" y="37947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4" name=""/>
            <p:cNvGrpSpPr/>
            <p:nvPr/>
          </p:nvGrpSpPr>
          <p:grpSpPr>
            <a:xfrm>
              <a:off x="0" y="4005360"/>
              <a:ext cx="6705000" cy="210600"/>
              <a:chOff x="0" y="4005360"/>
              <a:chExt cx="6705000" cy="210600"/>
            </a:xfrm>
          </p:grpSpPr>
          <p:sp>
            <p:nvSpPr>
              <p:cNvPr id="1855" name=""/>
              <p:cNvSpPr/>
              <p:nvPr/>
            </p:nvSpPr>
            <p:spPr>
              <a:xfrm>
                <a:off x="0" y="40053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0" y="40053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imple Date constructor with no range check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7" name=""/>
            <p:cNvGrpSpPr/>
            <p:nvPr/>
          </p:nvGrpSpPr>
          <p:grpSpPr>
            <a:xfrm>
              <a:off x="0" y="4216320"/>
              <a:ext cx="6705000" cy="210600"/>
              <a:chOff x="0" y="4216320"/>
              <a:chExt cx="6705000" cy="210600"/>
            </a:xfrm>
          </p:grpSpPr>
          <p:sp>
            <p:nvSpPr>
              <p:cNvPr id="1858" name=""/>
              <p:cNvSpPr/>
              <p:nvPr/>
            </p:nvSpPr>
            <p:spPr>
              <a:xfrm>
                <a:off x="0" y="42163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0" y="42163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Date::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0" name=""/>
            <p:cNvGrpSpPr/>
            <p:nvPr/>
          </p:nvGrpSpPr>
          <p:grpSpPr>
            <a:xfrm>
              <a:off x="0" y="4427280"/>
              <a:ext cx="6705000" cy="210600"/>
              <a:chOff x="0" y="4427280"/>
              <a:chExt cx="6705000" cy="210600"/>
            </a:xfrm>
          </p:grpSpPr>
          <p:sp>
            <p:nvSpPr>
              <p:cNvPr id="1861" name=""/>
              <p:cNvSpPr/>
              <p:nvPr/>
            </p:nvSpPr>
            <p:spPr>
              <a:xfrm>
                <a:off x="0" y="44272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0" y="44272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3" name=""/>
            <p:cNvGrpSpPr/>
            <p:nvPr/>
          </p:nvGrpSpPr>
          <p:grpSpPr>
            <a:xfrm>
              <a:off x="0" y="4637880"/>
              <a:ext cx="6705000" cy="210600"/>
              <a:chOff x="0" y="4637880"/>
              <a:chExt cx="6705000" cy="210600"/>
            </a:xfrm>
          </p:grpSpPr>
          <p:sp>
            <p:nvSpPr>
              <p:cNvPr id="1864" name=""/>
              <p:cNvSpPr/>
              <p:nvPr/>
            </p:nvSpPr>
            <p:spPr>
              <a:xfrm>
                <a:off x="0" y="46378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0" y="46378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onth = 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6" name=""/>
            <p:cNvGrpSpPr/>
            <p:nvPr/>
          </p:nvGrpSpPr>
          <p:grpSpPr>
            <a:xfrm>
              <a:off x="0" y="4848840"/>
              <a:ext cx="6705000" cy="210600"/>
              <a:chOff x="0" y="4848840"/>
              <a:chExt cx="6705000" cy="210600"/>
            </a:xfrm>
          </p:grpSpPr>
          <p:sp>
            <p:nvSpPr>
              <p:cNvPr id="1867" name=""/>
              <p:cNvSpPr/>
              <p:nvPr/>
            </p:nvSpPr>
            <p:spPr>
              <a:xfrm>
                <a:off x="0" y="48488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0" y="48488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y = 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9" name=""/>
            <p:cNvGrpSpPr/>
            <p:nvPr/>
          </p:nvGrpSpPr>
          <p:grpSpPr>
            <a:xfrm>
              <a:off x="0" y="5059800"/>
              <a:ext cx="6705000" cy="210600"/>
              <a:chOff x="0" y="5059800"/>
              <a:chExt cx="6705000" cy="210600"/>
            </a:xfrm>
          </p:grpSpPr>
          <p:sp>
            <p:nvSpPr>
              <p:cNvPr id="1870" name=""/>
              <p:cNvSpPr/>
              <p:nvPr/>
            </p:nvSpPr>
            <p:spPr>
              <a:xfrm>
                <a:off x="0" y="50598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0" y="50598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year = 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2" name=""/>
            <p:cNvGrpSpPr/>
            <p:nvPr/>
          </p:nvGrpSpPr>
          <p:grpSpPr>
            <a:xfrm>
              <a:off x="0" y="5270400"/>
              <a:ext cx="6705000" cy="210600"/>
              <a:chOff x="0" y="5270400"/>
              <a:chExt cx="6705000" cy="210600"/>
            </a:xfrm>
          </p:grpSpPr>
          <p:sp>
            <p:nvSpPr>
              <p:cNvPr id="1873" name=""/>
              <p:cNvSpPr/>
              <p:nvPr/>
            </p:nvSpPr>
            <p:spPr>
              <a:xfrm>
                <a:off x="0" y="52704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0" y="52704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5" name=""/>
            <p:cNvGrpSpPr/>
            <p:nvPr/>
          </p:nvGrpSpPr>
          <p:grpSpPr>
            <a:xfrm>
              <a:off x="0" y="5481360"/>
              <a:ext cx="6705000" cy="210600"/>
              <a:chOff x="0" y="5481360"/>
              <a:chExt cx="6705000" cy="210600"/>
            </a:xfrm>
          </p:grpSpPr>
          <p:sp>
            <p:nvSpPr>
              <p:cNvPr id="1876" name=""/>
              <p:cNvSpPr/>
              <p:nvPr/>
            </p:nvSpPr>
            <p:spPr>
              <a:xfrm>
                <a:off x="0" y="54813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0" y="54813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8" name=""/>
            <p:cNvGrpSpPr/>
            <p:nvPr/>
          </p:nvGrpSpPr>
          <p:grpSpPr>
            <a:xfrm>
              <a:off x="0" y="5691960"/>
              <a:ext cx="6705000" cy="210600"/>
              <a:chOff x="0" y="5691960"/>
              <a:chExt cx="6705000" cy="210600"/>
            </a:xfrm>
          </p:grpSpPr>
          <p:sp>
            <p:nvSpPr>
              <p:cNvPr id="1879" name=""/>
              <p:cNvSpPr/>
              <p:nvPr/>
            </p:nvSpPr>
            <p:spPr>
              <a:xfrm>
                <a:off x="0" y="56919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0" y="56919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Date in the form mm-dd-yyy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1" name=""/>
            <p:cNvGrpSpPr/>
            <p:nvPr/>
          </p:nvGrpSpPr>
          <p:grpSpPr>
            <a:xfrm>
              <a:off x="0" y="5902920"/>
              <a:ext cx="6705000" cy="210600"/>
              <a:chOff x="0" y="5902920"/>
              <a:chExt cx="6705000" cy="210600"/>
            </a:xfrm>
          </p:grpSpPr>
          <p:sp>
            <p:nvSpPr>
              <p:cNvPr id="1882" name=""/>
              <p:cNvSpPr/>
              <p:nvPr/>
            </p:nvSpPr>
            <p:spPr>
              <a:xfrm>
                <a:off x="0" y="59029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0" y="59029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te::print(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4" name=""/>
            <p:cNvGrpSpPr/>
            <p:nvPr/>
          </p:nvGrpSpPr>
          <p:grpSpPr>
            <a:xfrm>
              <a:off x="0" y="6113880"/>
              <a:ext cx="6705000" cy="210600"/>
              <a:chOff x="0" y="6113880"/>
              <a:chExt cx="6705000" cy="210600"/>
            </a:xfrm>
          </p:grpSpPr>
          <p:sp>
            <p:nvSpPr>
              <p:cNvPr id="1885" name=""/>
              <p:cNvSpPr/>
              <p:nvPr/>
            </p:nvSpPr>
            <p:spPr>
              <a:xfrm>
                <a:off x="0" y="61138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0" y="61138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cout &lt;&lt; month &lt;&lt; '-' &lt;&lt; day &lt;&lt; '-' &lt;&lt; yea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8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Define clas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Define member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4E6FC-8A50-4806-A596-FDBC3192B7F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8" name=""/>
          <p:cNvGrpSpPr/>
          <p:nvPr/>
        </p:nvGrpSpPr>
        <p:grpSpPr>
          <a:xfrm>
            <a:off x="0" y="0"/>
            <a:ext cx="6705000" cy="3885840"/>
            <a:chOff x="0" y="0"/>
            <a:chExt cx="6705000" cy="3885840"/>
          </a:xfrm>
        </p:grpSpPr>
        <p:grpSp>
          <p:nvGrpSpPr>
            <p:cNvPr id="1889" name=""/>
            <p:cNvGrpSpPr/>
            <p:nvPr/>
          </p:nvGrpSpPr>
          <p:grpSpPr>
            <a:xfrm>
              <a:off x="0" y="0"/>
              <a:ext cx="6705000" cy="228240"/>
              <a:chOff x="0" y="0"/>
              <a:chExt cx="6705000" cy="228240"/>
            </a:xfrm>
          </p:grpSpPr>
          <p:sp>
            <p:nvSpPr>
              <p:cNvPr id="1890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2" name=""/>
            <p:cNvGrpSpPr/>
            <p:nvPr/>
          </p:nvGrpSpPr>
          <p:grpSpPr>
            <a:xfrm>
              <a:off x="0" y="228240"/>
              <a:ext cx="6705000" cy="228240"/>
              <a:chOff x="0" y="228240"/>
              <a:chExt cx="6705000" cy="228240"/>
            </a:xfrm>
          </p:grpSpPr>
          <p:sp>
            <p:nvSpPr>
              <p:cNvPr id="1893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5" name=""/>
            <p:cNvGrpSpPr/>
            <p:nvPr/>
          </p:nvGrpSpPr>
          <p:grpSpPr>
            <a:xfrm>
              <a:off x="0" y="456840"/>
              <a:ext cx="6705000" cy="228600"/>
              <a:chOff x="0" y="456840"/>
              <a:chExt cx="6705000" cy="228600"/>
            </a:xfrm>
          </p:grpSpPr>
          <p:sp>
            <p:nvSpPr>
              <p:cNvPr id="1896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8" name=""/>
            <p:cNvGrpSpPr/>
            <p:nvPr/>
          </p:nvGrpSpPr>
          <p:grpSpPr>
            <a:xfrm>
              <a:off x="0" y="685800"/>
              <a:ext cx="6705000" cy="228240"/>
              <a:chOff x="0" y="685800"/>
              <a:chExt cx="6705000" cy="228240"/>
            </a:xfrm>
          </p:grpSpPr>
          <p:sp>
            <p:nvSpPr>
              <p:cNvPr id="1899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e date1( 7, 4, 1993 ), date2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d2 defaults to 1/1/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1" name=""/>
            <p:cNvGrpSpPr/>
            <p:nvPr/>
          </p:nvGrpSpPr>
          <p:grpSpPr>
            <a:xfrm>
              <a:off x="0" y="914400"/>
              <a:ext cx="6705000" cy="228240"/>
              <a:chOff x="0" y="914400"/>
              <a:chExt cx="6705000" cy="228240"/>
            </a:xfrm>
          </p:grpSpPr>
          <p:sp>
            <p:nvSpPr>
              <p:cNvPr id="1902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4" name=""/>
            <p:cNvGrpSpPr/>
            <p:nvPr/>
          </p:nvGrpSpPr>
          <p:grpSpPr>
            <a:xfrm>
              <a:off x="0" y="1143000"/>
              <a:ext cx="6705000" cy="228240"/>
              <a:chOff x="0" y="1143000"/>
              <a:chExt cx="6705000" cy="228240"/>
            </a:xfrm>
          </p:grpSpPr>
          <p:sp>
            <p:nvSpPr>
              <p:cNvPr id="1905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ate1 =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7" name=""/>
            <p:cNvGrpSpPr/>
            <p:nvPr/>
          </p:nvGrpSpPr>
          <p:grpSpPr>
            <a:xfrm>
              <a:off x="0" y="1371600"/>
              <a:ext cx="6705000" cy="228600"/>
              <a:chOff x="0" y="1371600"/>
              <a:chExt cx="6705000" cy="228600"/>
            </a:xfrm>
          </p:grpSpPr>
          <p:sp>
            <p:nvSpPr>
              <p:cNvPr id="1908" name=""/>
              <p:cNvSpPr/>
              <p:nvPr/>
            </p:nvSpPr>
            <p:spPr>
              <a:xfrm>
                <a:off x="0" y="13716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0" y="13716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e1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0" name=""/>
            <p:cNvGrpSpPr/>
            <p:nvPr/>
          </p:nvGrpSpPr>
          <p:grpSpPr>
            <a:xfrm>
              <a:off x="0" y="1600200"/>
              <a:ext cx="6705000" cy="228240"/>
              <a:chOff x="0" y="1600200"/>
              <a:chExt cx="6705000" cy="228240"/>
            </a:xfrm>
          </p:grpSpPr>
          <p:sp>
            <p:nvSpPr>
              <p:cNvPr id="1911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date2 =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3" name=""/>
            <p:cNvGrpSpPr/>
            <p:nvPr/>
          </p:nvGrpSpPr>
          <p:grpSpPr>
            <a:xfrm>
              <a:off x="0" y="1828800"/>
              <a:ext cx="6705000" cy="228240"/>
              <a:chOff x="0" y="1828800"/>
              <a:chExt cx="6705000" cy="228240"/>
            </a:xfrm>
          </p:grpSpPr>
          <p:sp>
            <p:nvSpPr>
              <p:cNvPr id="1914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e2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6" name=""/>
            <p:cNvGrpSpPr/>
            <p:nvPr/>
          </p:nvGrpSpPr>
          <p:grpSpPr>
            <a:xfrm>
              <a:off x="0" y="2057400"/>
              <a:ext cx="6705000" cy="228240"/>
              <a:chOff x="0" y="2057400"/>
              <a:chExt cx="6705000" cy="228240"/>
            </a:xfrm>
          </p:grpSpPr>
          <p:sp>
            <p:nvSpPr>
              <p:cNvPr id="1917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9" name=""/>
            <p:cNvGrpSpPr/>
            <p:nvPr/>
          </p:nvGrpSpPr>
          <p:grpSpPr>
            <a:xfrm>
              <a:off x="0" y="2286000"/>
              <a:ext cx="6705000" cy="228600"/>
              <a:chOff x="0" y="2286000"/>
              <a:chExt cx="6705000" cy="228600"/>
            </a:xfrm>
          </p:grpSpPr>
          <p:sp>
            <p:nvSpPr>
              <p:cNvPr id="1920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e2 = date1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assignment by default memberwise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2" name=""/>
            <p:cNvGrpSpPr/>
            <p:nvPr/>
          </p:nvGrpSpPr>
          <p:grpSpPr>
            <a:xfrm>
              <a:off x="0" y="2514600"/>
              <a:ext cx="6705000" cy="228240"/>
              <a:chOff x="0" y="2514600"/>
              <a:chExt cx="6705000" cy="228240"/>
            </a:xfrm>
          </p:grpSpPr>
          <p:sp>
            <p:nvSpPr>
              <p:cNvPr id="1923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After default memberwise copy, date2 =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5" name=""/>
            <p:cNvGrpSpPr/>
            <p:nvPr/>
          </p:nvGrpSpPr>
          <p:grpSpPr>
            <a:xfrm>
              <a:off x="0" y="2743200"/>
              <a:ext cx="6705000" cy="228240"/>
              <a:chOff x="0" y="2743200"/>
              <a:chExt cx="6705000" cy="228240"/>
            </a:xfrm>
          </p:grpSpPr>
          <p:sp>
            <p:nvSpPr>
              <p:cNvPr id="1926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e2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8" name=""/>
            <p:cNvGrpSpPr/>
            <p:nvPr/>
          </p:nvGrpSpPr>
          <p:grpSpPr>
            <a:xfrm>
              <a:off x="0" y="2971800"/>
              <a:ext cx="6705000" cy="228240"/>
              <a:chOff x="0" y="2971800"/>
              <a:chExt cx="6705000" cy="228240"/>
            </a:xfrm>
          </p:grpSpPr>
          <p:sp>
            <p:nvSpPr>
              <p:cNvPr id="1929" name="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1" name=""/>
            <p:cNvGrpSpPr/>
            <p:nvPr/>
          </p:nvGrpSpPr>
          <p:grpSpPr>
            <a:xfrm>
              <a:off x="0" y="3200400"/>
              <a:ext cx="6705000" cy="228600"/>
              <a:chOff x="0" y="3200400"/>
              <a:chExt cx="6705000" cy="228600"/>
            </a:xfrm>
          </p:grpSpPr>
          <p:sp>
            <p:nvSpPr>
              <p:cNvPr id="1932" name="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4" name=""/>
            <p:cNvGrpSpPr/>
            <p:nvPr/>
          </p:nvGrpSpPr>
          <p:grpSpPr>
            <a:xfrm>
              <a:off x="0" y="3429000"/>
              <a:ext cx="6705000" cy="228240"/>
              <a:chOff x="0" y="3429000"/>
              <a:chExt cx="6705000" cy="228240"/>
            </a:xfrm>
          </p:grpSpPr>
          <p:sp>
            <p:nvSpPr>
              <p:cNvPr id="1935" name="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7" name=""/>
            <p:cNvGrpSpPr/>
            <p:nvPr/>
          </p:nvGrpSpPr>
          <p:grpSpPr>
            <a:xfrm>
              <a:off x="0" y="3657600"/>
              <a:ext cx="6705000" cy="228240"/>
              <a:chOff x="0" y="3657600"/>
              <a:chExt cx="6705000" cy="228240"/>
            </a:xfrm>
          </p:grpSpPr>
          <p:sp>
            <p:nvSpPr>
              <p:cNvPr id="1938" name="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0" name=""/>
          <p:cNvSpPr/>
          <p:nvPr/>
        </p:nvSpPr>
        <p:spPr>
          <a:xfrm>
            <a:off x="0" y="4267080"/>
            <a:ext cx="670572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1 = 7-4-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2 = 1-1-1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default memberwise copy, date2 = 7-4-199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1" name=""/>
          <p:cNvGrpSpPr/>
          <p:nvPr/>
        </p:nvGrpSpPr>
        <p:grpSpPr>
          <a:xfrm>
            <a:off x="1142640" y="2437920"/>
            <a:ext cx="4800960" cy="2514960"/>
            <a:chOff x="1142640" y="2437920"/>
            <a:chExt cx="4800960" cy="2514960"/>
          </a:xfrm>
        </p:grpSpPr>
        <p:sp>
          <p:nvSpPr>
            <p:cNvPr id="1942" name=""/>
            <p:cNvSpPr/>
            <p:nvPr/>
          </p:nvSpPr>
          <p:spPr>
            <a:xfrm flipH="1" flipV="1">
              <a:off x="1905120" y="2437920"/>
              <a:ext cx="1752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809880" y="3657600"/>
              <a:ext cx="763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H="1">
              <a:off x="1142640" y="3581280"/>
              <a:ext cx="30481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29000" y="274320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e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t equal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e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d all member variables are copi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6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Cre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object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Memberwise copy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 Print values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6C4DB-1133-4D38-9324-5F2E326FFAD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7    Software Reusability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resus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of useful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libraries exist to promote reus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for construction of programs from existing, well-defined, carefully tested, well-documented, portable, widely available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eds development of powerful, high-quality soft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1FF6C-7912-4BDE-96CA-71C14C04FE8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3 Accessing Members of Structure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access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t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structures and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ow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 memb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ou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Obj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timeObject.hour;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Ptr = &amp;timeObjec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cout &lt;&lt; timePtr-&gt;hou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Ptr-&gt;hou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the same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 *timePtr ).ho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entheses required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as lower precedence th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909F0-7317-4021-B73C-6C86EC4FA4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2.  Create a struct data type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Define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Define prototypes for th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Create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ata ty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Set and print the tim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113" name=""/>
            <p:cNvGrpSpPr/>
            <p:nvPr/>
          </p:nvGrpSpPr>
          <p:grpSpPr>
            <a:xfrm>
              <a:off x="0" y="0"/>
              <a:ext cx="6705000" cy="221040"/>
              <a:chOff x="0" y="0"/>
              <a:chExt cx="6705000" cy="221040"/>
            </a:xfrm>
          </p:grpSpPr>
          <p:sp>
            <p:nvSpPr>
              <p:cNvPr id="114" name=""/>
              <p:cNvSpPr/>
              <p:nvPr/>
            </p:nvSpPr>
            <p:spPr>
              <a:xfrm>
                <a:off x="0" y="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1: fig06_0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0" y="221040"/>
              <a:ext cx="6705000" cy="221040"/>
              <a:chOff x="0" y="221040"/>
              <a:chExt cx="6705000" cy="221040"/>
            </a:xfrm>
          </p:grpSpPr>
          <p:sp>
            <p:nvSpPr>
              <p:cNvPr id="117" name=""/>
              <p:cNvSpPr/>
              <p:nvPr/>
            </p:nvSpPr>
            <p:spPr>
              <a:xfrm>
                <a:off x="0" y="2210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210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e a structure, set its members, and print i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0" y="442080"/>
              <a:ext cx="6705000" cy="221040"/>
              <a:chOff x="0" y="442080"/>
              <a:chExt cx="6705000" cy="22104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442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442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0" y="663480"/>
              <a:ext cx="6705000" cy="221040"/>
              <a:chOff x="0" y="663480"/>
              <a:chExt cx="6705000" cy="22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0" y="663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663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0" y="884880"/>
              <a:ext cx="6705000" cy="221040"/>
              <a:chOff x="0" y="884880"/>
              <a:chExt cx="6705000" cy="221040"/>
            </a:xfrm>
          </p:grpSpPr>
          <p:sp>
            <p:nvSpPr>
              <p:cNvPr id="126" name=""/>
              <p:cNvSpPr/>
              <p:nvPr/>
            </p:nvSpPr>
            <p:spPr>
              <a:xfrm>
                <a:off x="0" y="8848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8848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0" y="1105920"/>
              <a:ext cx="6705000" cy="221040"/>
              <a:chOff x="0" y="1105920"/>
              <a:chExt cx="6705000" cy="221040"/>
            </a:xfrm>
          </p:grpSpPr>
          <p:sp>
            <p:nvSpPr>
              <p:cNvPr id="129" name=""/>
              <p:cNvSpPr/>
              <p:nvPr/>
            </p:nvSpPr>
            <p:spPr>
              <a:xfrm>
                <a:off x="0" y="1105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1105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0" y="1327320"/>
              <a:ext cx="6705000" cy="221040"/>
              <a:chOff x="0" y="1327320"/>
              <a:chExt cx="6705000" cy="221040"/>
            </a:xfrm>
          </p:grpSpPr>
          <p:sp>
            <p:nvSpPr>
              <p:cNvPr id="132" name=""/>
              <p:cNvSpPr/>
              <p:nvPr/>
            </p:nvSpPr>
            <p:spPr>
              <a:xfrm>
                <a:off x="0" y="13273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273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0" y="1548360"/>
              <a:ext cx="6705000" cy="221040"/>
              <a:chOff x="0" y="1548360"/>
              <a:chExt cx="6705000" cy="221040"/>
            </a:xfrm>
          </p:grpSpPr>
          <p:sp>
            <p:nvSpPr>
              <p:cNvPr id="135" name=""/>
              <p:cNvSpPr/>
              <p:nvPr/>
            </p:nvSpPr>
            <p:spPr>
              <a:xfrm>
                <a:off x="0" y="1548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1548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{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ructure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0" y="1769760"/>
              <a:ext cx="6705000" cy="221040"/>
              <a:chOff x="0" y="1769760"/>
              <a:chExt cx="6705000" cy="221040"/>
            </a:xfrm>
          </p:grpSpPr>
          <p:sp>
            <p:nvSpPr>
              <p:cNvPr id="138" name=""/>
              <p:cNvSpPr/>
              <p:nvPr/>
            </p:nvSpPr>
            <p:spPr>
              <a:xfrm>
                <a:off x="0" y="17697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17697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0-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0" y="1990800"/>
              <a:ext cx="6705000" cy="221040"/>
              <a:chOff x="0" y="1990800"/>
              <a:chExt cx="6705000" cy="221040"/>
            </a:xfrm>
          </p:grpSpPr>
          <p:sp>
            <p:nvSpPr>
              <p:cNvPr id="141" name=""/>
              <p:cNvSpPr/>
              <p:nvPr/>
            </p:nvSpPr>
            <p:spPr>
              <a:xfrm>
                <a:off x="0" y="1990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1990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0-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0" y="2212200"/>
              <a:ext cx="6705000" cy="221040"/>
              <a:chOff x="0" y="2212200"/>
              <a:chExt cx="6705000" cy="221040"/>
            </a:xfrm>
          </p:grpSpPr>
          <p:sp>
            <p:nvSpPr>
              <p:cNvPr id="144" name=""/>
              <p:cNvSpPr/>
              <p:nvPr/>
            </p:nvSpPr>
            <p:spPr>
              <a:xfrm>
                <a:off x="0" y="22122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22122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-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0" y="2433600"/>
              <a:ext cx="6705000" cy="221040"/>
              <a:chOff x="0" y="2433600"/>
              <a:chExt cx="6705000" cy="221040"/>
            </a:xfrm>
          </p:grpSpPr>
          <p:sp>
            <p:nvSpPr>
              <p:cNvPr id="147" name=""/>
              <p:cNvSpPr/>
              <p:nvPr/>
            </p:nvSpPr>
            <p:spPr>
              <a:xfrm>
                <a:off x="0" y="24336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24336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0" y="2654640"/>
              <a:ext cx="6705000" cy="221040"/>
              <a:chOff x="0" y="2654640"/>
              <a:chExt cx="6705000" cy="221040"/>
            </a:xfrm>
          </p:grpSpPr>
          <p:sp>
            <p:nvSpPr>
              <p:cNvPr id="150" name=""/>
              <p:cNvSpPr/>
              <p:nvPr/>
            </p:nvSpPr>
            <p:spPr>
              <a:xfrm>
                <a:off x="0" y="2654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654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0" y="2875680"/>
              <a:ext cx="6705000" cy="221040"/>
              <a:chOff x="0" y="2875680"/>
              <a:chExt cx="6705000" cy="221040"/>
            </a:xfrm>
          </p:grpSpPr>
          <p:sp>
            <p:nvSpPr>
              <p:cNvPr id="153" name=""/>
              <p:cNvSpPr/>
              <p:nvPr/>
            </p:nvSpPr>
            <p:spPr>
              <a:xfrm>
                <a:off x="0" y="2875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2875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Militar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&amp;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0" y="3097080"/>
              <a:ext cx="6705000" cy="221040"/>
              <a:chOff x="0" y="3097080"/>
              <a:chExt cx="6705000" cy="221040"/>
            </a:xfrm>
          </p:grpSpPr>
          <p:sp>
            <p:nvSpPr>
              <p:cNvPr id="156" name=""/>
              <p:cNvSpPr/>
              <p:nvPr/>
            </p:nvSpPr>
            <p:spPr>
              <a:xfrm>
                <a:off x="0" y="3097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3097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tandar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&amp;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0" y="3318480"/>
              <a:ext cx="6705000" cy="221040"/>
              <a:chOff x="0" y="3318480"/>
              <a:chExt cx="6705000" cy="221040"/>
            </a:xfrm>
          </p:grpSpPr>
          <p:sp>
            <p:nvSpPr>
              <p:cNvPr id="159" name=""/>
              <p:cNvSpPr/>
              <p:nvPr/>
            </p:nvSpPr>
            <p:spPr>
              <a:xfrm>
                <a:off x="0" y="3318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3318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0" y="3539520"/>
              <a:ext cx="6705000" cy="221040"/>
              <a:chOff x="0" y="3539520"/>
              <a:chExt cx="6705000" cy="22104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3539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3539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0" y="3760920"/>
              <a:ext cx="6705000" cy="221040"/>
              <a:chOff x="0" y="3760920"/>
              <a:chExt cx="6705000" cy="221040"/>
            </a:xfrm>
          </p:grpSpPr>
          <p:sp>
            <p:nvSpPr>
              <p:cNvPr id="165" name=""/>
              <p:cNvSpPr/>
              <p:nvPr/>
            </p:nvSpPr>
            <p:spPr>
              <a:xfrm>
                <a:off x="0" y="3760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3760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0" y="3981960"/>
              <a:ext cx="6705000" cy="221040"/>
              <a:chOff x="0" y="3981960"/>
              <a:chExt cx="6705000" cy="221040"/>
            </a:xfrm>
          </p:grpSpPr>
          <p:sp>
            <p:nvSpPr>
              <p:cNvPr id="168" name=""/>
              <p:cNvSpPr/>
              <p:nvPr/>
            </p:nvSpPr>
            <p:spPr>
              <a:xfrm>
                <a:off x="0" y="3981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3981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dinnerTime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variable of new type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0" y="4203360"/>
              <a:ext cx="6705000" cy="221040"/>
              <a:chOff x="0" y="4203360"/>
              <a:chExt cx="6705000" cy="221040"/>
            </a:xfrm>
          </p:grpSpPr>
          <p:sp>
            <p:nvSpPr>
              <p:cNvPr id="171" name=""/>
              <p:cNvSpPr/>
              <p:nvPr/>
            </p:nvSpPr>
            <p:spPr>
              <a:xfrm>
                <a:off x="0" y="4203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203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0" y="4424400"/>
              <a:ext cx="6705000" cy="221040"/>
              <a:chOff x="0" y="4424400"/>
              <a:chExt cx="6705000" cy="221040"/>
            </a:xfrm>
          </p:grpSpPr>
          <p:sp>
            <p:nvSpPr>
              <p:cNvPr id="174" name=""/>
              <p:cNvSpPr/>
              <p:nvPr/>
            </p:nvSpPr>
            <p:spPr>
              <a:xfrm>
                <a:off x="0" y="44244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4244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members to valid valu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0" y="4645800"/>
              <a:ext cx="6705000" cy="221040"/>
              <a:chOff x="0" y="4645800"/>
              <a:chExt cx="6705000" cy="221040"/>
            </a:xfrm>
          </p:grpSpPr>
          <p:sp>
            <p:nvSpPr>
              <p:cNvPr id="177" name=""/>
              <p:cNvSpPr/>
              <p:nvPr/>
            </p:nvSpPr>
            <p:spPr>
              <a:xfrm>
                <a:off x="0" y="4645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645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nnerTime.hour = 18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0" y="4866840"/>
              <a:ext cx="6705000" cy="221040"/>
              <a:chOff x="0" y="4866840"/>
              <a:chExt cx="6705000" cy="221040"/>
            </a:xfrm>
          </p:grpSpPr>
          <p:sp>
            <p:nvSpPr>
              <p:cNvPr id="180" name=""/>
              <p:cNvSpPr/>
              <p:nvPr/>
            </p:nvSpPr>
            <p:spPr>
              <a:xfrm>
                <a:off x="0" y="48668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8668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nnerTime.minute = 3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0" y="5088240"/>
              <a:ext cx="6705000" cy="221040"/>
              <a:chOff x="0" y="5088240"/>
              <a:chExt cx="6705000" cy="221040"/>
            </a:xfrm>
          </p:grpSpPr>
          <p:sp>
            <p:nvSpPr>
              <p:cNvPr id="183" name=""/>
              <p:cNvSpPr/>
              <p:nvPr/>
            </p:nvSpPr>
            <p:spPr>
              <a:xfrm>
                <a:off x="0" y="50882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50882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nnerTime.second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0" y="5309640"/>
              <a:ext cx="6705000" cy="221040"/>
              <a:chOff x="0" y="5309640"/>
              <a:chExt cx="6705000" cy="221040"/>
            </a:xfrm>
          </p:grpSpPr>
          <p:sp>
            <p:nvSpPr>
              <p:cNvPr id="186" name=""/>
              <p:cNvSpPr/>
              <p:nvPr/>
            </p:nvSpPr>
            <p:spPr>
              <a:xfrm>
                <a:off x="0" y="5309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5309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0" y="5530680"/>
              <a:ext cx="6705000" cy="221040"/>
              <a:chOff x="0" y="5530680"/>
              <a:chExt cx="6705000" cy="221040"/>
            </a:xfrm>
          </p:grpSpPr>
          <p:sp>
            <p:nvSpPr>
              <p:cNvPr id="189" name=""/>
              <p:cNvSpPr/>
              <p:nvPr/>
            </p:nvSpPr>
            <p:spPr>
              <a:xfrm>
                <a:off x="0" y="5530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5530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inner will be held at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0" y="5751720"/>
              <a:ext cx="6705000" cy="221040"/>
              <a:chOff x="0" y="5751720"/>
              <a:chExt cx="6705000" cy="221040"/>
            </a:xfrm>
          </p:grpSpPr>
          <p:sp>
            <p:nvSpPr>
              <p:cNvPr id="192" name=""/>
              <p:cNvSpPr/>
              <p:nvPr/>
            </p:nvSpPr>
            <p:spPr>
              <a:xfrm>
                <a:off x="0" y="57517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57517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Military( dinnerTim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0" y="5973120"/>
              <a:ext cx="6705000" cy="221040"/>
              <a:chOff x="0" y="5973120"/>
              <a:chExt cx="6705000" cy="221040"/>
            </a:xfrm>
          </p:grpSpPr>
          <p:sp>
            <p:nvSpPr>
              <p:cNvPr id="195" name=""/>
              <p:cNvSpPr/>
              <p:nvPr/>
            </p:nvSpPr>
            <p:spPr>
              <a:xfrm>
                <a:off x="0" y="59731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59731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military time,\nwhich is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0" y="6194520"/>
              <a:ext cx="6705000" cy="221040"/>
              <a:chOff x="0" y="6194520"/>
              <a:chExt cx="6705000" cy="221040"/>
            </a:xfrm>
          </p:grpSpPr>
          <p:sp>
            <p:nvSpPr>
              <p:cNvPr id="198" name=""/>
              <p:cNvSpPr/>
              <p:nvPr/>
            </p:nvSpPr>
            <p:spPr>
              <a:xfrm>
                <a:off x="0" y="6194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6194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Standard( dinnerTim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0" y="6415560"/>
              <a:ext cx="6705000" cy="221040"/>
              <a:chOff x="0" y="6415560"/>
              <a:chExt cx="6705000" cy="221040"/>
            </a:xfrm>
          </p:grpSpPr>
          <p:sp>
            <p:nvSpPr>
              <p:cNvPr id="201" name=""/>
              <p:cNvSpPr/>
              <p:nvPr/>
            </p:nvSpPr>
            <p:spPr>
              <a:xfrm>
                <a:off x="0" y="64155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64155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standard time.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0" y="6636960"/>
              <a:ext cx="6705000" cy="221040"/>
              <a:chOff x="0" y="6636960"/>
              <a:chExt cx="6705000" cy="221040"/>
            </a:xfrm>
          </p:grpSpPr>
          <p:sp>
            <p:nvSpPr>
              <p:cNvPr id="204" name=""/>
              <p:cNvSpPr/>
              <p:nvPr/>
            </p:nvSpPr>
            <p:spPr>
              <a:xfrm>
                <a:off x="0" y="6636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6636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2438280" y="2057400"/>
            <a:ext cx="4267080" cy="1067400"/>
            <a:chOff x="2438280" y="2057400"/>
            <a:chExt cx="4267080" cy="1067400"/>
          </a:xfrm>
        </p:grpSpPr>
        <p:sp>
          <p:nvSpPr>
            <p:cNvPr id="207" name=""/>
            <p:cNvSpPr/>
            <p:nvPr/>
          </p:nvSpPr>
          <p:spPr>
            <a:xfrm>
              <a:off x="3657240" y="2057400"/>
              <a:ext cx="30481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the user-defined structure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three integer members: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co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2438280" y="2209320"/>
              <a:ext cx="1218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4343400" y="5765760"/>
            <a:ext cx="45720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nner will be held at 18:30 military tim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ch is 6:30:00 PM standard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7AA66-F20C-4DC4-B963-2E128F4F7B5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Set the time to an invalid hour, then print i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Define the function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Militar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Standard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0"/>
            <a:ext cx="6705000" cy="6857640"/>
            <a:chOff x="0" y="0"/>
            <a:chExt cx="6705000" cy="6857640"/>
          </a:xfrm>
        </p:grpSpPr>
        <p:grpSp>
          <p:nvGrpSpPr>
            <p:cNvPr id="212" name=""/>
            <p:cNvGrpSpPr/>
            <p:nvPr/>
          </p:nvGrpSpPr>
          <p:grpSpPr>
            <a:xfrm>
              <a:off x="0" y="0"/>
              <a:ext cx="6705000" cy="263520"/>
              <a:chOff x="0" y="0"/>
              <a:chExt cx="6705000" cy="263520"/>
            </a:xfrm>
          </p:grpSpPr>
          <p:sp>
            <p:nvSpPr>
              <p:cNvPr id="213" name=""/>
              <p:cNvSpPr/>
              <p:nvPr/>
            </p:nvSpPr>
            <p:spPr>
              <a:xfrm>
                <a:off x="0" y="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members to invalid valu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0" y="263520"/>
              <a:ext cx="6705000" cy="263520"/>
              <a:chOff x="0" y="263520"/>
              <a:chExt cx="6705000" cy="263520"/>
            </a:xfrm>
          </p:grpSpPr>
          <p:sp>
            <p:nvSpPr>
              <p:cNvPr id="216" name=""/>
              <p:cNvSpPr/>
              <p:nvPr/>
            </p:nvSpPr>
            <p:spPr>
              <a:xfrm>
                <a:off x="0" y="26352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6352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nnerTime.hour = 29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0" y="527400"/>
              <a:ext cx="6705000" cy="263880"/>
              <a:chOff x="0" y="527400"/>
              <a:chExt cx="6705000" cy="263880"/>
            </a:xfrm>
          </p:grpSpPr>
          <p:sp>
            <p:nvSpPr>
              <p:cNvPr id="219" name=""/>
              <p:cNvSpPr/>
              <p:nvPr/>
            </p:nvSpPr>
            <p:spPr>
              <a:xfrm>
                <a:off x="0" y="52740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52740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nnerTime.minute = 73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0" y="791280"/>
              <a:ext cx="6705000" cy="263520"/>
              <a:chOff x="0" y="791280"/>
              <a:chExt cx="6705000" cy="263520"/>
            </a:xfrm>
          </p:grpSpPr>
          <p:sp>
            <p:nvSpPr>
              <p:cNvPr id="222" name=""/>
              <p:cNvSpPr/>
              <p:nvPr/>
            </p:nvSpPr>
            <p:spPr>
              <a:xfrm>
                <a:off x="0" y="79128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79128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0" y="1054800"/>
              <a:ext cx="6705000" cy="263520"/>
              <a:chOff x="0" y="1054800"/>
              <a:chExt cx="6705000" cy="263520"/>
            </a:xfrm>
          </p:grpSpPr>
          <p:sp>
            <p:nvSpPr>
              <p:cNvPr id="225" name=""/>
              <p:cNvSpPr/>
              <p:nvPr/>
            </p:nvSpPr>
            <p:spPr>
              <a:xfrm>
                <a:off x="0" y="10548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0548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Time with invalid values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0" y="1318680"/>
              <a:ext cx="6705000" cy="263520"/>
              <a:chOff x="0" y="1318680"/>
              <a:chExt cx="6705000" cy="263520"/>
            </a:xfrm>
          </p:grpSpPr>
          <p:sp>
            <p:nvSpPr>
              <p:cNvPr id="228" name=""/>
              <p:cNvSpPr/>
              <p:nvPr/>
            </p:nvSpPr>
            <p:spPr>
              <a:xfrm>
                <a:off x="0" y="131868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31868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Military( dinnerTim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0" y="1582560"/>
              <a:ext cx="6705000" cy="263880"/>
              <a:chOff x="0" y="1582560"/>
              <a:chExt cx="6705000" cy="263880"/>
            </a:xfrm>
          </p:grpSpPr>
          <p:sp>
            <p:nvSpPr>
              <p:cNvPr id="231" name=""/>
              <p:cNvSpPr/>
              <p:nvPr/>
            </p:nvSpPr>
            <p:spPr>
              <a:xfrm>
                <a:off x="0" y="158256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58256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0" y="1846440"/>
              <a:ext cx="6705000" cy="263520"/>
              <a:chOff x="0" y="1846440"/>
              <a:chExt cx="6705000" cy="2635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184644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184644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0" y="2109960"/>
              <a:ext cx="6705000" cy="263520"/>
              <a:chOff x="0" y="2109960"/>
              <a:chExt cx="6705000" cy="263520"/>
            </a:xfrm>
          </p:grpSpPr>
          <p:sp>
            <p:nvSpPr>
              <p:cNvPr id="237" name=""/>
              <p:cNvSpPr/>
              <p:nvPr/>
            </p:nvSpPr>
            <p:spPr>
              <a:xfrm>
                <a:off x="0" y="210996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210996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0" y="2373840"/>
              <a:ext cx="6705000" cy="263520"/>
              <a:chOff x="0" y="2373840"/>
              <a:chExt cx="6705000" cy="263520"/>
            </a:xfrm>
          </p:grpSpPr>
          <p:sp>
            <p:nvSpPr>
              <p:cNvPr id="240" name=""/>
              <p:cNvSpPr/>
              <p:nvPr/>
            </p:nvSpPr>
            <p:spPr>
              <a:xfrm>
                <a:off x="0" y="237384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237384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0" y="2637720"/>
              <a:ext cx="6705000" cy="263880"/>
              <a:chOff x="0" y="2637720"/>
              <a:chExt cx="6705000" cy="26388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63772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63772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time in military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0" y="2901600"/>
              <a:ext cx="6705000" cy="263520"/>
              <a:chOff x="0" y="2901600"/>
              <a:chExt cx="6705000" cy="263520"/>
            </a:xfrm>
          </p:grpSpPr>
          <p:sp>
            <p:nvSpPr>
              <p:cNvPr id="246" name=""/>
              <p:cNvSpPr/>
              <p:nvPr/>
            </p:nvSpPr>
            <p:spPr>
              <a:xfrm>
                <a:off x="0" y="29016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29016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Militar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&amp;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0" y="3165120"/>
              <a:ext cx="6705000" cy="263520"/>
              <a:chOff x="0" y="3165120"/>
              <a:chExt cx="6705000" cy="263520"/>
            </a:xfrm>
          </p:grpSpPr>
          <p:sp>
            <p:nvSpPr>
              <p:cNvPr id="249" name=""/>
              <p:cNvSpPr/>
              <p:nvPr/>
            </p:nvSpPr>
            <p:spPr>
              <a:xfrm>
                <a:off x="0" y="316512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316512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0" y="3429000"/>
              <a:ext cx="6705000" cy="263520"/>
              <a:chOff x="0" y="3429000"/>
              <a:chExt cx="6705000" cy="263520"/>
            </a:xfrm>
          </p:grpSpPr>
          <p:sp>
            <p:nvSpPr>
              <p:cNvPr id="252" name=""/>
              <p:cNvSpPr/>
              <p:nvPr/>
            </p:nvSpPr>
            <p:spPr>
              <a:xfrm>
                <a:off x="0" y="34290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34290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t.hour &lt; 10 ? "0" : "" ) &lt;&lt; t.hour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0" y="3692520"/>
              <a:ext cx="6705000" cy="263880"/>
              <a:chOff x="0" y="3692520"/>
              <a:chExt cx="6705000" cy="263880"/>
            </a:xfrm>
          </p:grpSpPr>
          <p:sp>
            <p:nvSpPr>
              <p:cNvPr id="255" name=""/>
              <p:cNvSpPr/>
              <p:nvPr/>
            </p:nvSpPr>
            <p:spPr>
              <a:xfrm>
                <a:off x="0" y="369252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0" y="369252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t.minute &lt; 10 ? "0" : "" ) &lt;&lt; t.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0" y="3956400"/>
              <a:ext cx="6705000" cy="263520"/>
              <a:chOff x="0" y="3956400"/>
              <a:chExt cx="6705000" cy="263520"/>
            </a:xfrm>
          </p:grpSpPr>
          <p:sp>
            <p:nvSpPr>
              <p:cNvPr id="258" name=""/>
              <p:cNvSpPr/>
              <p:nvPr/>
            </p:nvSpPr>
            <p:spPr>
              <a:xfrm>
                <a:off x="0" y="39564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39564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0" y="4220280"/>
              <a:ext cx="6705000" cy="263520"/>
              <a:chOff x="0" y="4220280"/>
              <a:chExt cx="6705000" cy="263520"/>
            </a:xfrm>
          </p:grpSpPr>
          <p:sp>
            <p:nvSpPr>
              <p:cNvPr id="261" name=""/>
              <p:cNvSpPr/>
              <p:nvPr/>
            </p:nvSpPr>
            <p:spPr>
              <a:xfrm>
                <a:off x="0" y="422028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0" y="422028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0" y="4484160"/>
              <a:ext cx="6705000" cy="263520"/>
              <a:chOff x="0" y="4484160"/>
              <a:chExt cx="6705000" cy="263520"/>
            </a:xfrm>
          </p:grpSpPr>
          <p:sp>
            <p:nvSpPr>
              <p:cNvPr id="264" name=""/>
              <p:cNvSpPr/>
              <p:nvPr/>
            </p:nvSpPr>
            <p:spPr>
              <a:xfrm>
                <a:off x="0" y="448416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0" y="448416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time in standard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0" y="4747680"/>
              <a:ext cx="6705000" cy="263520"/>
              <a:chOff x="0" y="4747680"/>
              <a:chExt cx="6705000" cy="263520"/>
            </a:xfrm>
          </p:grpSpPr>
          <p:sp>
            <p:nvSpPr>
              <p:cNvPr id="267" name=""/>
              <p:cNvSpPr/>
              <p:nvPr/>
            </p:nvSpPr>
            <p:spPr>
              <a:xfrm>
                <a:off x="0" y="474768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0" y="474768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tandar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&amp;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0" y="5011560"/>
              <a:ext cx="6705000" cy="263880"/>
              <a:chOff x="0" y="5011560"/>
              <a:chExt cx="6705000" cy="263880"/>
            </a:xfrm>
          </p:grpSpPr>
          <p:sp>
            <p:nvSpPr>
              <p:cNvPr id="270" name=""/>
              <p:cNvSpPr/>
              <p:nvPr/>
            </p:nvSpPr>
            <p:spPr>
              <a:xfrm>
                <a:off x="0" y="501156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0" y="501156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0" y="5275440"/>
              <a:ext cx="6705000" cy="263520"/>
              <a:chOff x="0" y="5275440"/>
              <a:chExt cx="6705000" cy="263520"/>
            </a:xfrm>
          </p:grpSpPr>
          <p:sp>
            <p:nvSpPr>
              <p:cNvPr id="273" name=""/>
              <p:cNvSpPr/>
              <p:nvPr/>
            </p:nvSpPr>
            <p:spPr>
              <a:xfrm>
                <a:off x="0" y="527544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0" y="527544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( t.hour == 0 || t.hour == 12 ) ?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0" y="5539320"/>
              <a:ext cx="6705000" cy="263520"/>
              <a:chOff x="0" y="5539320"/>
              <a:chExt cx="6705000" cy="263520"/>
            </a:xfrm>
          </p:grpSpPr>
          <p:sp>
            <p:nvSpPr>
              <p:cNvPr id="276" name=""/>
              <p:cNvSpPr/>
              <p:nvPr/>
            </p:nvSpPr>
            <p:spPr>
              <a:xfrm>
                <a:off x="0" y="553932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0" y="553932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12 : t.hour % 1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0" y="5802840"/>
              <a:ext cx="6705000" cy="263520"/>
              <a:chOff x="0" y="5802840"/>
              <a:chExt cx="6705000" cy="263520"/>
            </a:xfrm>
          </p:grpSpPr>
          <p:sp>
            <p:nvSpPr>
              <p:cNvPr id="279" name=""/>
              <p:cNvSpPr/>
              <p:nvPr/>
            </p:nvSpPr>
            <p:spPr>
              <a:xfrm>
                <a:off x="0" y="580284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580284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:" &lt;&lt; ( t.minute &lt; 10 ? "0" : "" ) &lt;&lt; t.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0" y="6066720"/>
              <a:ext cx="6705000" cy="263880"/>
              <a:chOff x="0" y="6066720"/>
              <a:chExt cx="6705000" cy="263880"/>
            </a:xfrm>
          </p:grpSpPr>
          <p:sp>
            <p:nvSpPr>
              <p:cNvPr id="282" name=""/>
              <p:cNvSpPr/>
              <p:nvPr/>
            </p:nvSpPr>
            <p:spPr>
              <a:xfrm>
                <a:off x="0" y="606672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0" y="606672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:" &lt;&lt; ( t.second &lt; 10 ? "0" : "" ) &lt;&lt; t.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0" y="6330600"/>
              <a:ext cx="6705000" cy="263520"/>
              <a:chOff x="0" y="6330600"/>
              <a:chExt cx="6705000" cy="263520"/>
            </a:xfrm>
          </p:grpSpPr>
          <p:sp>
            <p:nvSpPr>
              <p:cNvPr id="285" name=""/>
              <p:cNvSpPr/>
              <p:nvPr/>
            </p:nvSpPr>
            <p:spPr>
              <a:xfrm>
                <a:off x="0" y="63306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63306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t.hour &lt; 12 ? " AM" : " PM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0" y="6594120"/>
              <a:ext cx="6705000" cy="263520"/>
              <a:chOff x="0" y="6594120"/>
              <a:chExt cx="6705000" cy="263520"/>
            </a:xfrm>
          </p:grpSpPr>
          <p:sp>
            <p:nvSpPr>
              <p:cNvPr id="288" name=""/>
              <p:cNvSpPr/>
              <p:nvPr/>
            </p:nvSpPr>
            <p:spPr>
              <a:xfrm>
                <a:off x="0" y="659412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0" y="659412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0" name=""/>
          <p:cNvSpPr/>
          <p:nvPr/>
        </p:nvSpPr>
        <p:spPr>
          <a:xfrm>
            <a:off x="3368880" y="1447920"/>
            <a:ext cx="30153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 with invalid values: 29: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479D7-7A7A-4BFC-82FC-0A1E28DD3F6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0"/>
            <a:ext cx="662940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nner will be held at 18:30 military tim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ch is 6:30:00 PM standard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 with invalid values: 29: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54E3E-3CDD-4483-8523-A534D77F6E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1143000" y="3981600"/>
            <a:ext cx="4876920" cy="2286000"/>
            <a:chOff x="1143000" y="3981600"/>
            <a:chExt cx="4876920" cy="2286000"/>
          </a:xfrm>
        </p:grpSpPr>
        <p:grpSp>
          <p:nvGrpSpPr>
            <p:cNvPr id="294" name=""/>
            <p:cNvGrpSpPr/>
            <p:nvPr/>
          </p:nvGrpSpPr>
          <p:grpSpPr>
            <a:xfrm>
              <a:off x="1143000" y="3981600"/>
              <a:ext cx="4876920" cy="207720"/>
              <a:chOff x="1143000" y="3981600"/>
              <a:chExt cx="4876920" cy="207720"/>
            </a:xfrm>
          </p:grpSpPr>
          <p:sp>
            <p:nvSpPr>
              <p:cNvPr id="295" name=""/>
              <p:cNvSpPr/>
              <p:nvPr/>
            </p:nvSpPr>
            <p:spPr>
              <a:xfrm>
                <a:off x="1143000" y="398160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43000" y="398160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1143000" y="4189320"/>
              <a:ext cx="4876920" cy="207720"/>
              <a:chOff x="1143000" y="4189320"/>
              <a:chExt cx="4876920" cy="207720"/>
            </a:xfrm>
          </p:grpSpPr>
          <p:sp>
            <p:nvSpPr>
              <p:cNvPr id="298" name=""/>
              <p:cNvSpPr/>
              <p:nvPr/>
            </p:nvSpPr>
            <p:spPr>
              <a:xfrm>
                <a:off x="1143000" y="418932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143000" y="418932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4397040"/>
              <a:ext cx="4876920" cy="207720"/>
              <a:chOff x="1143000" y="4397040"/>
              <a:chExt cx="4876920" cy="20772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439704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439704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1143000" y="4605120"/>
              <a:ext cx="4876920" cy="207720"/>
              <a:chOff x="1143000" y="4605120"/>
              <a:chExt cx="4876920" cy="207720"/>
            </a:xfrm>
          </p:grpSpPr>
          <p:sp>
            <p:nvSpPr>
              <p:cNvPr id="304" name=""/>
              <p:cNvSpPr/>
              <p:nvPr/>
            </p:nvSpPr>
            <p:spPr>
              <a:xfrm>
                <a:off x="1143000" y="460512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143000" y="460512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oid setTime( int, int, in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1143000" y="4812840"/>
              <a:ext cx="4876920" cy="207720"/>
              <a:chOff x="1143000" y="4812840"/>
              <a:chExt cx="4876920" cy="207720"/>
            </a:xfrm>
          </p:grpSpPr>
          <p:sp>
            <p:nvSpPr>
              <p:cNvPr id="307" name=""/>
              <p:cNvSpPr/>
              <p:nvPr/>
            </p:nvSpPr>
            <p:spPr>
              <a:xfrm>
                <a:off x="1143000" y="481284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43000" y="481284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oid 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143000" y="5020560"/>
              <a:ext cx="4876920" cy="207720"/>
              <a:chOff x="1143000" y="5020560"/>
              <a:chExt cx="4876920" cy="207720"/>
            </a:xfrm>
          </p:grpSpPr>
          <p:sp>
            <p:nvSpPr>
              <p:cNvPr id="310" name=""/>
              <p:cNvSpPr/>
              <p:nvPr/>
            </p:nvSpPr>
            <p:spPr>
              <a:xfrm>
                <a:off x="1143000" y="502056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143000" y="502056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oid 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1143000" y="5228280"/>
              <a:ext cx="4876920" cy="207720"/>
              <a:chOff x="1143000" y="5228280"/>
              <a:chExt cx="4876920" cy="207720"/>
            </a:xfrm>
          </p:grpSpPr>
          <p:sp>
            <p:nvSpPr>
              <p:cNvPr id="313" name=""/>
              <p:cNvSpPr/>
              <p:nvPr/>
            </p:nvSpPr>
            <p:spPr>
              <a:xfrm>
                <a:off x="1143000" y="52282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143000" y="52282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1143000" y="5436360"/>
              <a:ext cx="4876920" cy="207720"/>
              <a:chOff x="1143000" y="5436360"/>
              <a:chExt cx="4876920" cy="207720"/>
            </a:xfrm>
          </p:grpSpPr>
          <p:sp>
            <p:nvSpPr>
              <p:cNvPr id="316" name=""/>
              <p:cNvSpPr/>
              <p:nvPr/>
            </p:nvSpPr>
            <p:spPr>
              <a:xfrm>
                <a:off x="1143000" y="543636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143000" y="543636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    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1143000" y="5644080"/>
              <a:ext cx="4876920" cy="207720"/>
              <a:chOff x="1143000" y="5644080"/>
              <a:chExt cx="4876920" cy="207720"/>
            </a:xfrm>
          </p:grpSpPr>
          <p:sp>
            <p:nvSpPr>
              <p:cNvPr id="319" name=""/>
              <p:cNvSpPr/>
              <p:nvPr/>
            </p:nvSpPr>
            <p:spPr>
              <a:xfrm>
                <a:off x="1143000" y="56440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143000" y="56440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  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1143000" y="5851800"/>
              <a:ext cx="4876920" cy="207720"/>
              <a:chOff x="1143000" y="5851800"/>
              <a:chExt cx="4876920" cy="207720"/>
            </a:xfrm>
          </p:grpSpPr>
          <p:sp>
            <p:nvSpPr>
              <p:cNvPr id="322" name=""/>
              <p:cNvSpPr/>
              <p:nvPr/>
            </p:nvSpPr>
            <p:spPr>
              <a:xfrm>
                <a:off x="1143000" y="585180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143000" y="585180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  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1143000" y="6059880"/>
              <a:ext cx="4876920" cy="207720"/>
              <a:chOff x="1143000" y="6059880"/>
              <a:chExt cx="4876920" cy="207720"/>
            </a:xfrm>
          </p:grpSpPr>
          <p:sp>
            <p:nvSpPr>
              <p:cNvPr id="325" name=""/>
              <p:cNvSpPr/>
              <p:nvPr/>
            </p:nvSpPr>
            <p:spPr>
              <a:xfrm>
                <a:off x="1143000" y="60598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143000" y="60598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Time Abstract Data Type with a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el objects that have attributes (data members) and behaviors (member function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d using 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a body delineated with brace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definitions terminate with a semicol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514600" y="3505320"/>
            <a:ext cx="2209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90920" y="4191120"/>
            <a:ext cx="2133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514240" y="3505320"/>
            <a:ext cx="2133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4057560"/>
            <a:ext cx="76320" cy="1295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2514240" y="3505320"/>
            <a:ext cx="2057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09680" y="43624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4495320" y="481932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4038120" y="5810400"/>
            <a:ext cx="1295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10080" y="4057560"/>
            <a:ext cx="28958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member-access specifi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4120" y="4743360"/>
            <a:ext cx="350496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Ti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Milita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Standar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func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4120" y="5886360"/>
            <a:ext cx="26668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nu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co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membe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39911-971E-41B7-B906-2A6C9E8287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4T15:47:53Z</dcterms:created>
  <dc:creator>Llama</dc:creator>
  <dc:description/>
  <dc:language>en-US</dc:language>
  <cp:lastModifiedBy>Antonella Esposito</cp:lastModifiedBy>
  <dcterms:modified xsi:type="dcterms:W3CDTF">2001-01-12T10:42:44Z</dcterms:modified>
  <cp:revision>1004</cp:revision>
  <dc:subject/>
  <dc:title>Classes and Data Abstraction </dc:title>
</cp:coreProperties>
</file>