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1D1BD-ADB5-42DE-8B96-7BF167B7D3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F9AFE-DCBD-45B2-BB49-3C3E0A5097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9E83E-C41B-4230-ACD9-B491797C4D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31D7A-F5DD-45F2-B462-361744E33F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7509F-E598-4046-A43C-69CB8814EA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ABE68-3C07-4AF4-AF6F-EB65CE2203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5CC9E-4A92-4D3C-9790-9B7A09D8D6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23317-F8B0-4C2B-858E-0505A02B98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78CAF-FCDF-4480-8A87-EA0B5A1EF1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D2AE2-D6B7-49A5-B4EE-4E653F7143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295DF-C409-4E01-B591-D777BDAC06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223A5-1372-45BC-8A09-83ADD92495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EDB25-E916-4395-A4AE-F5DA6D5724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Deitel &amp; Associates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Deitel &amp; Associates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Deitel &amp; Associates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Deitel &amp; Associates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47" name="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vantGarde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pitolo 5 - Pointers and Strings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295280"/>
            <a:ext cx="8001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5.1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roduction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5.2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Pointer Variable Declarations and Initialization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5.3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Pointer Operator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5.4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alling Functions by Reference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5.5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Using the Const Qualifier with Pointer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5.6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Bubble Sort Using Call-by-reference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5.7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Pointer Expressions and Pointer Arithmetic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5.8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The Relationship Between Pointers and Array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5.9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Arrays of Pointer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5.10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ase Study: A Card Shuffling and Dealing Simulation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5.11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Function Pointer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5.12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roduction to Character and String Processing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5.12.1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Fundamentals of Characters and String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5.12.2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tring Manipulation Functions of th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tring-handling Library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5.13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Thinking About Objects: Interactions Among Objects</a:t>
            </a:r>
            <a:r>
              <a:rPr b="1" lang="en-US" sz="1800" spc="-1" strike="noStrike">
                <a:solidFill>
                  <a:srgbClr val="000000"/>
                </a:solidFill>
                <a:latin typeface="AvantGarde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B0A70-07BF-4D39-9812-B9DE49C7BFC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5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Using the Const Qualifier with Point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440" y="1066320"/>
            <a:ext cx="80010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qual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riable cannot be chang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used when function does not need to change a vari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ttempting to change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variable is a compiler err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in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int to same memory loc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st be initialized when declar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*const myPtr = &amp;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ant pointer to a non-consta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t int *myPtr = &amp;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n-constant pointer to a consta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t int *const Ptr = &amp;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ant pointer to a consta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4ED9D-FF11-48A2-8997-FBFAD6C91B4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 Declar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1  Declar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s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 pointer to a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Chang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pt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 (which i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).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1  Attempt to chang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tr.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.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0" y="0"/>
            <a:ext cx="6780960" cy="4648320"/>
            <a:chOff x="0" y="0"/>
            <a:chExt cx="6780960" cy="4648320"/>
          </a:xfrm>
        </p:grpSpPr>
        <p:grpSp>
          <p:nvGrpSpPr>
            <p:cNvPr id="323" name=""/>
            <p:cNvGrpSpPr/>
            <p:nvPr/>
          </p:nvGrpSpPr>
          <p:grpSpPr>
            <a:xfrm>
              <a:off x="0" y="0"/>
              <a:ext cx="6780960" cy="258120"/>
              <a:chOff x="0" y="0"/>
              <a:chExt cx="6780960" cy="258120"/>
            </a:xfrm>
          </p:grpSpPr>
          <p:sp>
            <p:nvSpPr>
              <p:cNvPr id="324" name=""/>
              <p:cNvSpPr/>
              <p:nvPr/>
            </p:nvSpPr>
            <p:spPr>
              <a:xfrm>
                <a:off x="0" y="0"/>
                <a:ext cx="6780960" cy="258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0" y="0"/>
                <a:ext cx="6780960" cy="258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Fig. 5.13: fig05_13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"/>
            <p:cNvGrpSpPr/>
            <p:nvPr/>
          </p:nvGrpSpPr>
          <p:grpSpPr>
            <a:xfrm>
              <a:off x="0" y="258120"/>
              <a:ext cx="6780960" cy="258120"/>
              <a:chOff x="0" y="258120"/>
              <a:chExt cx="6780960" cy="258120"/>
            </a:xfrm>
          </p:grpSpPr>
          <p:sp>
            <p:nvSpPr>
              <p:cNvPr id="327" name=""/>
              <p:cNvSpPr/>
              <p:nvPr/>
            </p:nvSpPr>
            <p:spPr>
              <a:xfrm>
                <a:off x="0" y="258120"/>
                <a:ext cx="6780960" cy="258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0" y="258120"/>
                <a:ext cx="6780960" cy="258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Attempting to modify a constant pointer t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0" y="516240"/>
              <a:ext cx="6780960" cy="258120"/>
              <a:chOff x="0" y="516240"/>
              <a:chExt cx="6780960" cy="258120"/>
            </a:xfrm>
          </p:grpSpPr>
          <p:sp>
            <p:nvSpPr>
              <p:cNvPr id="330" name=""/>
              <p:cNvSpPr/>
              <p:nvPr/>
            </p:nvSpPr>
            <p:spPr>
              <a:xfrm>
                <a:off x="0" y="516240"/>
                <a:ext cx="6780960" cy="258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516240"/>
                <a:ext cx="6780960" cy="258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non-constant dat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" name=""/>
            <p:cNvGrpSpPr/>
            <p:nvPr/>
          </p:nvGrpSpPr>
          <p:grpSpPr>
            <a:xfrm>
              <a:off x="0" y="774720"/>
              <a:ext cx="6780960" cy="258120"/>
              <a:chOff x="0" y="774720"/>
              <a:chExt cx="6780960" cy="258120"/>
            </a:xfrm>
          </p:grpSpPr>
          <p:sp>
            <p:nvSpPr>
              <p:cNvPr id="333" name=""/>
              <p:cNvSpPr/>
              <p:nvPr/>
            </p:nvSpPr>
            <p:spPr>
              <a:xfrm>
                <a:off x="0" y="774720"/>
                <a:ext cx="6780960" cy="258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0" y="774720"/>
                <a:ext cx="6780960" cy="258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0" y="1032840"/>
              <a:ext cx="6780960" cy="258120"/>
              <a:chOff x="0" y="1032840"/>
              <a:chExt cx="6780960" cy="258120"/>
            </a:xfrm>
          </p:grpSpPr>
          <p:sp>
            <p:nvSpPr>
              <p:cNvPr id="336" name=""/>
              <p:cNvSpPr/>
              <p:nvPr/>
            </p:nvSpPr>
            <p:spPr>
              <a:xfrm>
                <a:off x="0" y="1032840"/>
                <a:ext cx="6780960" cy="258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0" y="1032840"/>
                <a:ext cx="6780960" cy="258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0" y="1290960"/>
              <a:ext cx="6780960" cy="258120"/>
              <a:chOff x="0" y="1290960"/>
              <a:chExt cx="6780960" cy="258120"/>
            </a:xfrm>
          </p:grpSpPr>
          <p:sp>
            <p:nvSpPr>
              <p:cNvPr id="339" name=""/>
              <p:cNvSpPr/>
              <p:nvPr/>
            </p:nvSpPr>
            <p:spPr>
              <a:xfrm>
                <a:off x="0" y="1290960"/>
                <a:ext cx="6780960" cy="258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0" y="1290960"/>
                <a:ext cx="6780960" cy="258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0" y="1549440"/>
              <a:ext cx="6780960" cy="258120"/>
              <a:chOff x="0" y="1549440"/>
              <a:chExt cx="6780960" cy="258120"/>
            </a:xfrm>
          </p:grpSpPr>
          <p:sp>
            <p:nvSpPr>
              <p:cNvPr id="342" name=""/>
              <p:cNvSpPr/>
              <p:nvPr/>
            </p:nvSpPr>
            <p:spPr>
              <a:xfrm>
                <a:off x="0" y="1549440"/>
                <a:ext cx="6780960" cy="258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0" y="1549440"/>
                <a:ext cx="6780960" cy="258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4" name=""/>
            <p:cNvGrpSpPr/>
            <p:nvPr/>
          </p:nvGrpSpPr>
          <p:grpSpPr>
            <a:xfrm>
              <a:off x="0" y="1807560"/>
              <a:ext cx="6780960" cy="258120"/>
              <a:chOff x="0" y="1807560"/>
              <a:chExt cx="6780960" cy="258120"/>
            </a:xfrm>
          </p:grpSpPr>
          <p:sp>
            <p:nvSpPr>
              <p:cNvPr id="345" name=""/>
              <p:cNvSpPr/>
              <p:nvPr/>
            </p:nvSpPr>
            <p:spPr>
              <a:xfrm>
                <a:off x="0" y="1807560"/>
                <a:ext cx="6780960" cy="258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1807560"/>
                <a:ext cx="6780960" cy="258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x, y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0" y="2066040"/>
              <a:ext cx="6780960" cy="258120"/>
              <a:chOff x="0" y="2066040"/>
              <a:chExt cx="6780960" cy="258120"/>
            </a:xfrm>
          </p:grpSpPr>
          <p:sp>
            <p:nvSpPr>
              <p:cNvPr id="348" name=""/>
              <p:cNvSpPr/>
              <p:nvPr/>
            </p:nvSpPr>
            <p:spPr>
              <a:xfrm>
                <a:off x="0" y="2066040"/>
                <a:ext cx="6780960" cy="258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0" y="2066040"/>
                <a:ext cx="6780960" cy="258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0" y="2324160"/>
              <a:ext cx="6780960" cy="258120"/>
              <a:chOff x="0" y="2324160"/>
              <a:chExt cx="6780960" cy="258120"/>
            </a:xfrm>
          </p:grpSpPr>
          <p:sp>
            <p:nvSpPr>
              <p:cNvPr id="351" name=""/>
              <p:cNvSpPr/>
              <p:nvPr/>
            </p:nvSpPr>
            <p:spPr>
              <a:xfrm>
                <a:off x="0" y="2324160"/>
                <a:ext cx="6780960" cy="258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0" y="2324160"/>
                <a:ext cx="6780960" cy="258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*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ptr = &amp;x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ptr is a constant pointer to an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0" y="2582280"/>
              <a:ext cx="6780960" cy="258120"/>
              <a:chOff x="0" y="2582280"/>
              <a:chExt cx="6780960" cy="258120"/>
            </a:xfrm>
          </p:grpSpPr>
          <p:sp>
            <p:nvSpPr>
              <p:cNvPr id="354" name=""/>
              <p:cNvSpPr/>
              <p:nvPr/>
            </p:nvSpPr>
            <p:spPr>
              <a:xfrm>
                <a:off x="0" y="2582280"/>
                <a:ext cx="6780960" cy="258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0" y="2582280"/>
                <a:ext cx="6780960" cy="258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integer. An integer can be modifi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2840760"/>
              <a:ext cx="6780960" cy="258120"/>
              <a:chOff x="0" y="2840760"/>
              <a:chExt cx="6780960" cy="2581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2840760"/>
                <a:ext cx="6780960" cy="258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0" y="2840760"/>
                <a:ext cx="6780960" cy="258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through ptr, but ptr always points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9" name=""/>
            <p:cNvGrpSpPr/>
            <p:nvPr/>
          </p:nvGrpSpPr>
          <p:grpSpPr>
            <a:xfrm>
              <a:off x="0" y="3098880"/>
              <a:ext cx="6780960" cy="258120"/>
              <a:chOff x="0" y="3098880"/>
              <a:chExt cx="6780960" cy="258120"/>
            </a:xfrm>
          </p:grpSpPr>
          <p:sp>
            <p:nvSpPr>
              <p:cNvPr id="360" name=""/>
              <p:cNvSpPr/>
              <p:nvPr/>
            </p:nvSpPr>
            <p:spPr>
              <a:xfrm>
                <a:off x="0" y="3098880"/>
                <a:ext cx="6780960" cy="258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0" y="3098880"/>
                <a:ext cx="6780960" cy="258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// to the same memory location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0" y="3357000"/>
              <a:ext cx="6780960" cy="258120"/>
              <a:chOff x="0" y="3357000"/>
              <a:chExt cx="6780960" cy="258120"/>
            </a:xfrm>
          </p:grpSpPr>
          <p:sp>
            <p:nvSpPr>
              <p:cNvPr id="363" name=""/>
              <p:cNvSpPr/>
              <p:nvPr/>
            </p:nvSpPr>
            <p:spPr>
              <a:xfrm>
                <a:off x="0" y="3357000"/>
                <a:ext cx="6780960" cy="258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0" y="3357000"/>
                <a:ext cx="6780960" cy="258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*ptr = 7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0" y="3615480"/>
              <a:ext cx="6780960" cy="258120"/>
              <a:chOff x="0" y="3615480"/>
              <a:chExt cx="6780960" cy="258120"/>
            </a:xfrm>
          </p:grpSpPr>
          <p:sp>
            <p:nvSpPr>
              <p:cNvPr id="366" name=""/>
              <p:cNvSpPr/>
              <p:nvPr/>
            </p:nvSpPr>
            <p:spPr>
              <a:xfrm>
                <a:off x="0" y="3615480"/>
                <a:ext cx="6780960" cy="258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3615480"/>
                <a:ext cx="6780960" cy="258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ptr = &amp;y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0" y="3873600"/>
              <a:ext cx="6780960" cy="258120"/>
              <a:chOff x="0" y="3873600"/>
              <a:chExt cx="6780960" cy="258120"/>
            </a:xfrm>
          </p:grpSpPr>
          <p:sp>
            <p:nvSpPr>
              <p:cNvPr id="369" name=""/>
              <p:cNvSpPr/>
              <p:nvPr/>
            </p:nvSpPr>
            <p:spPr>
              <a:xfrm>
                <a:off x="0" y="3873600"/>
                <a:ext cx="6780960" cy="258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0" y="3873600"/>
                <a:ext cx="6780960" cy="258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0" y="4132080"/>
              <a:ext cx="6780960" cy="258120"/>
              <a:chOff x="0" y="4132080"/>
              <a:chExt cx="6780960" cy="258120"/>
            </a:xfrm>
          </p:grpSpPr>
          <p:sp>
            <p:nvSpPr>
              <p:cNvPr id="372" name=""/>
              <p:cNvSpPr/>
              <p:nvPr/>
            </p:nvSpPr>
            <p:spPr>
              <a:xfrm>
                <a:off x="0" y="4132080"/>
                <a:ext cx="6780960" cy="258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0" y="4132080"/>
                <a:ext cx="6780960" cy="258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4" name=""/>
            <p:cNvGrpSpPr/>
            <p:nvPr/>
          </p:nvGrpSpPr>
          <p:grpSpPr>
            <a:xfrm>
              <a:off x="0" y="4390200"/>
              <a:ext cx="6780960" cy="258120"/>
              <a:chOff x="0" y="4390200"/>
              <a:chExt cx="6780960" cy="258120"/>
            </a:xfrm>
          </p:grpSpPr>
          <p:sp>
            <p:nvSpPr>
              <p:cNvPr id="375" name=""/>
              <p:cNvSpPr/>
              <p:nvPr/>
            </p:nvSpPr>
            <p:spPr>
              <a:xfrm>
                <a:off x="0" y="4390200"/>
                <a:ext cx="6780960" cy="258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0" y="4390200"/>
                <a:ext cx="6780960" cy="258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7" name=""/>
          <p:cNvSpPr/>
          <p:nvPr/>
        </p:nvSpPr>
        <p:spPr>
          <a:xfrm>
            <a:off x="0" y="5105520"/>
            <a:ext cx="6781680" cy="489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rror E2024 Fig05_13.cpp 15: Cannot modify a const object in function main(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1143000" y="1542960"/>
            <a:ext cx="4724280" cy="1809720"/>
            <a:chOff x="1143000" y="1542960"/>
            <a:chExt cx="4724280" cy="1809720"/>
          </a:xfrm>
        </p:grpSpPr>
        <p:sp>
          <p:nvSpPr>
            <p:cNvPr id="379" name=""/>
            <p:cNvSpPr/>
            <p:nvPr/>
          </p:nvSpPr>
          <p:spPr>
            <a:xfrm flipH="1">
              <a:off x="1143000" y="1905120"/>
              <a:ext cx="220968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1542960"/>
              <a:ext cx="2971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ang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*pt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allowed -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not a consta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1523520" y="3429000"/>
            <a:ext cx="5029560" cy="1676520"/>
            <a:chOff x="1523520" y="3429000"/>
            <a:chExt cx="5029560" cy="1676520"/>
          </a:xfrm>
        </p:grpSpPr>
        <p:grpSp>
          <p:nvGrpSpPr>
            <p:cNvPr id="382" name=""/>
            <p:cNvGrpSpPr/>
            <p:nvPr/>
          </p:nvGrpSpPr>
          <p:grpSpPr>
            <a:xfrm>
              <a:off x="1523520" y="3429000"/>
              <a:ext cx="5029560" cy="580680"/>
              <a:chOff x="1523520" y="3429000"/>
              <a:chExt cx="5029560" cy="580680"/>
            </a:xfrm>
          </p:grpSpPr>
          <p:sp>
            <p:nvSpPr>
              <p:cNvPr id="383" name=""/>
              <p:cNvSpPr/>
              <p:nvPr/>
            </p:nvSpPr>
            <p:spPr>
              <a:xfrm flipH="1">
                <a:off x="1523520" y="3657600"/>
                <a:ext cx="251460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3809880" y="3429000"/>
                <a:ext cx="2743200" cy="58068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hanging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ptr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is an error -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ptr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is a constant pointer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5" name=""/>
            <p:cNvSpPr/>
            <p:nvPr/>
          </p:nvSpPr>
          <p:spPr>
            <a:xfrm flipH="1">
              <a:off x="4343400" y="4038480"/>
              <a:ext cx="7632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6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Bubble Sort Using Call-by-referen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 bubblesort using poin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wa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 must receive the address (us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of the array el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ay elements have call-by-value defa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ing pointers and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perator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wa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able to switch the values of the actual array el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suedo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Initialize ar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rint data in original 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Call function bubbles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rint sorted ar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Define bubbles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18E7C-B3AA-451B-A227-B79B0679267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6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Bubble Sort Using Call-by-referen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ize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size of operand in by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 arrays, sizeof retur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 the size of 1 element ) * ( number of elements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izeof( int ) = 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th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myArray[10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 &lt;&lt; sizeof(myArray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ill print 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izeo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riable na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ype na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tant valu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E1318-A32B-4148-89D7-F2DAA45A183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"/>
          <p:cNvGrpSpPr/>
          <p:nvPr/>
        </p:nvGrpSpPr>
        <p:grpSpPr>
          <a:xfrm>
            <a:off x="0" y="0"/>
            <a:ext cx="6628680" cy="6858000"/>
            <a:chOff x="0" y="0"/>
            <a:chExt cx="6628680" cy="6858000"/>
          </a:xfrm>
        </p:grpSpPr>
        <p:grpSp>
          <p:nvGrpSpPr>
            <p:cNvPr id="391" name=""/>
            <p:cNvGrpSpPr/>
            <p:nvPr/>
          </p:nvGrpSpPr>
          <p:grpSpPr>
            <a:xfrm>
              <a:off x="0" y="0"/>
              <a:ext cx="6628680" cy="201600"/>
              <a:chOff x="0" y="0"/>
              <a:chExt cx="6628680" cy="201600"/>
            </a:xfrm>
          </p:grpSpPr>
          <p:sp>
            <p:nvSpPr>
              <p:cNvPr id="392" name=""/>
              <p:cNvSpPr/>
              <p:nvPr/>
            </p:nvSpPr>
            <p:spPr>
              <a:xfrm>
                <a:off x="0" y="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0" y="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5.15: fig05_15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4" name=""/>
            <p:cNvGrpSpPr/>
            <p:nvPr/>
          </p:nvGrpSpPr>
          <p:grpSpPr>
            <a:xfrm>
              <a:off x="0" y="201600"/>
              <a:ext cx="6628680" cy="201600"/>
              <a:chOff x="0" y="201600"/>
              <a:chExt cx="6628680" cy="201600"/>
            </a:xfrm>
          </p:grpSpPr>
          <p:sp>
            <p:nvSpPr>
              <p:cNvPr id="395" name=""/>
              <p:cNvSpPr/>
              <p:nvPr/>
            </p:nvSpPr>
            <p:spPr>
              <a:xfrm>
                <a:off x="0" y="20160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0" y="20160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This program puts values into an array, sorts the values int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03200"/>
              <a:ext cx="6628680" cy="201600"/>
              <a:chOff x="0" y="403200"/>
              <a:chExt cx="6628680" cy="20160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0320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0" y="40320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ascending order, and prints the resulting array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0" name=""/>
            <p:cNvGrpSpPr/>
            <p:nvPr/>
          </p:nvGrpSpPr>
          <p:grpSpPr>
            <a:xfrm>
              <a:off x="0" y="605160"/>
              <a:ext cx="6628680" cy="201600"/>
              <a:chOff x="0" y="605160"/>
              <a:chExt cx="6628680" cy="201600"/>
            </a:xfrm>
          </p:grpSpPr>
          <p:sp>
            <p:nvSpPr>
              <p:cNvPr id="401" name=""/>
              <p:cNvSpPr/>
              <p:nvPr/>
            </p:nvSpPr>
            <p:spPr>
              <a:xfrm>
                <a:off x="0" y="60516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0" y="60516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3" name=""/>
            <p:cNvGrpSpPr/>
            <p:nvPr/>
          </p:nvGrpSpPr>
          <p:grpSpPr>
            <a:xfrm>
              <a:off x="0" y="806760"/>
              <a:ext cx="6628680" cy="201600"/>
              <a:chOff x="0" y="806760"/>
              <a:chExt cx="6628680" cy="201600"/>
            </a:xfrm>
          </p:grpSpPr>
          <p:sp>
            <p:nvSpPr>
              <p:cNvPr id="404" name=""/>
              <p:cNvSpPr/>
              <p:nvPr/>
            </p:nvSpPr>
            <p:spPr>
              <a:xfrm>
                <a:off x="0" y="80676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0" y="80676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6" name=""/>
            <p:cNvGrpSpPr/>
            <p:nvPr/>
          </p:nvGrpSpPr>
          <p:grpSpPr>
            <a:xfrm>
              <a:off x="0" y="1008360"/>
              <a:ext cx="6628680" cy="201600"/>
              <a:chOff x="0" y="1008360"/>
              <a:chExt cx="6628680" cy="201600"/>
            </a:xfrm>
          </p:grpSpPr>
          <p:sp>
            <p:nvSpPr>
              <p:cNvPr id="407" name=""/>
              <p:cNvSpPr/>
              <p:nvPr/>
            </p:nvSpPr>
            <p:spPr>
              <a:xfrm>
                <a:off x="0" y="100836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100836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9" name=""/>
            <p:cNvGrpSpPr/>
            <p:nvPr/>
          </p:nvGrpSpPr>
          <p:grpSpPr>
            <a:xfrm>
              <a:off x="0" y="1209960"/>
              <a:ext cx="6628680" cy="201600"/>
              <a:chOff x="0" y="1209960"/>
              <a:chExt cx="6628680" cy="201600"/>
            </a:xfrm>
          </p:grpSpPr>
          <p:sp>
            <p:nvSpPr>
              <p:cNvPr id="410" name=""/>
              <p:cNvSpPr/>
              <p:nvPr/>
            </p:nvSpPr>
            <p:spPr>
              <a:xfrm>
                <a:off x="0" y="120996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0" y="120996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2" name=""/>
            <p:cNvGrpSpPr/>
            <p:nvPr/>
          </p:nvGrpSpPr>
          <p:grpSpPr>
            <a:xfrm>
              <a:off x="0" y="1411920"/>
              <a:ext cx="6628680" cy="201600"/>
              <a:chOff x="0" y="1411920"/>
              <a:chExt cx="6628680" cy="201600"/>
            </a:xfrm>
          </p:grpSpPr>
          <p:sp>
            <p:nvSpPr>
              <p:cNvPr id="413" name=""/>
              <p:cNvSpPr/>
              <p:nvPr/>
            </p:nvSpPr>
            <p:spPr>
              <a:xfrm>
                <a:off x="0" y="141192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0" y="141192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5" name=""/>
            <p:cNvGrpSpPr/>
            <p:nvPr/>
          </p:nvGrpSpPr>
          <p:grpSpPr>
            <a:xfrm>
              <a:off x="0" y="1613520"/>
              <a:ext cx="6628680" cy="201600"/>
              <a:chOff x="0" y="1613520"/>
              <a:chExt cx="6628680" cy="201600"/>
            </a:xfrm>
          </p:grpSpPr>
          <p:sp>
            <p:nvSpPr>
              <p:cNvPr id="416" name=""/>
              <p:cNvSpPr/>
              <p:nvPr/>
            </p:nvSpPr>
            <p:spPr>
              <a:xfrm>
                <a:off x="0" y="161352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0" y="161352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manip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8" name=""/>
            <p:cNvGrpSpPr/>
            <p:nvPr/>
          </p:nvGrpSpPr>
          <p:grpSpPr>
            <a:xfrm>
              <a:off x="0" y="1815120"/>
              <a:ext cx="6628680" cy="201600"/>
              <a:chOff x="0" y="1815120"/>
              <a:chExt cx="6628680" cy="201600"/>
            </a:xfrm>
          </p:grpSpPr>
          <p:sp>
            <p:nvSpPr>
              <p:cNvPr id="419" name=""/>
              <p:cNvSpPr/>
              <p:nvPr/>
            </p:nvSpPr>
            <p:spPr>
              <a:xfrm>
                <a:off x="0" y="181512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0" y="181512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1" name=""/>
            <p:cNvGrpSpPr/>
            <p:nvPr/>
          </p:nvGrpSpPr>
          <p:grpSpPr>
            <a:xfrm>
              <a:off x="0" y="2017080"/>
              <a:ext cx="6628680" cy="201600"/>
              <a:chOff x="0" y="2017080"/>
              <a:chExt cx="6628680" cy="201600"/>
            </a:xfrm>
          </p:grpSpPr>
          <p:sp>
            <p:nvSpPr>
              <p:cNvPr id="422" name=""/>
              <p:cNvSpPr/>
              <p:nvPr/>
            </p:nvSpPr>
            <p:spPr>
              <a:xfrm>
                <a:off x="0" y="201708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201708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setw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0" y="2218680"/>
              <a:ext cx="6628680" cy="201600"/>
              <a:chOff x="0" y="2218680"/>
              <a:chExt cx="6628680" cy="201600"/>
            </a:xfrm>
          </p:grpSpPr>
          <p:sp>
            <p:nvSpPr>
              <p:cNvPr id="425" name=""/>
              <p:cNvSpPr/>
              <p:nvPr/>
            </p:nvSpPr>
            <p:spPr>
              <a:xfrm>
                <a:off x="0" y="221868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0" y="221868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7" name=""/>
            <p:cNvGrpSpPr/>
            <p:nvPr/>
          </p:nvGrpSpPr>
          <p:grpSpPr>
            <a:xfrm>
              <a:off x="0" y="2420280"/>
              <a:ext cx="6628680" cy="201600"/>
              <a:chOff x="0" y="2420280"/>
              <a:chExt cx="6628680" cy="201600"/>
            </a:xfrm>
          </p:grpSpPr>
          <p:sp>
            <p:nvSpPr>
              <p:cNvPr id="428" name=""/>
              <p:cNvSpPr/>
              <p:nvPr/>
            </p:nvSpPr>
            <p:spPr>
              <a:xfrm>
                <a:off x="0" y="242028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0" y="242028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ubbleSor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0" name=""/>
            <p:cNvGrpSpPr/>
            <p:nvPr/>
          </p:nvGrpSpPr>
          <p:grpSpPr>
            <a:xfrm>
              <a:off x="0" y="2622240"/>
              <a:ext cx="6628680" cy="201600"/>
              <a:chOff x="0" y="2622240"/>
              <a:chExt cx="6628680" cy="201600"/>
            </a:xfrm>
          </p:grpSpPr>
          <p:sp>
            <p:nvSpPr>
              <p:cNvPr id="431" name=""/>
              <p:cNvSpPr/>
              <p:nvPr/>
            </p:nvSpPr>
            <p:spPr>
              <a:xfrm>
                <a:off x="0" y="262224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0" y="262224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0" y="2823840"/>
              <a:ext cx="6628680" cy="201600"/>
              <a:chOff x="0" y="2823840"/>
              <a:chExt cx="6628680" cy="201600"/>
            </a:xfrm>
          </p:grpSpPr>
          <p:sp>
            <p:nvSpPr>
              <p:cNvPr id="434" name=""/>
              <p:cNvSpPr/>
              <p:nvPr/>
            </p:nvSpPr>
            <p:spPr>
              <a:xfrm>
                <a:off x="0" y="282384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0" y="282384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0" y="3025440"/>
              <a:ext cx="6628680" cy="201600"/>
              <a:chOff x="0" y="3025440"/>
              <a:chExt cx="6628680" cy="201600"/>
            </a:xfrm>
          </p:grpSpPr>
          <p:sp>
            <p:nvSpPr>
              <p:cNvPr id="437" name=""/>
              <p:cNvSpPr/>
              <p:nvPr/>
            </p:nvSpPr>
            <p:spPr>
              <a:xfrm>
                <a:off x="0" y="302544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0" y="302544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9" name=""/>
            <p:cNvGrpSpPr/>
            <p:nvPr/>
          </p:nvGrpSpPr>
          <p:grpSpPr>
            <a:xfrm>
              <a:off x="0" y="3227400"/>
              <a:ext cx="6628680" cy="201600"/>
              <a:chOff x="0" y="3227400"/>
              <a:chExt cx="6628680" cy="201600"/>
            </a:xfrm>
          </p:grpSpPr>
          <p:sp>
            <p:nvSpPr>
              <p:cNvPr id="440" name=""/>
              <p:cNvSpPr/>
              <p:nvPr/>
            </p:nvSpPr>
            <p:spPr>
              <a:xfrm>
                <a:off x="0" y="322740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0" y="322740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rraySize = 1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0" y="3429000"/>
              <a:ext cx="6628680" cy="201600"/>
              <a:chOff x="0" y="3429000"/>
              <a:chExt cx="6628680" cy="201600"/>
            </a:xfrm>
          </p:grpSpPr>
          <p:sp>
            <p:nvSpPr>
              <p:cNvPr id="443" name=""/>
              <p:cNvSpPr/>
              <p:nvPr/>
            </p:nvSpPr>
            <p:spPr>
              <a:xfrm>
                <a:off x="0" y="342900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342900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[ arraySize ] = { 2, 6, 4, 8, 10, 12, 89, 68, 45, 37 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5" name=""/>
            <p:cNvGrpSpPr/>
            <p:nvPr/>
          </p:nvGrpSpPr>
          <p:grpSpPr>
            <a:xfrm>
              <a:off x="0" y="3630600"/>
              <a:ext cx="6628680" cy="201600"/>
              <a:chOff x="0" y="3630600"/>
              <a:chExt cx="6628680" cy="201600"/>
            </a:xfrm>
          </p:grpSpPr>
          <p:sp>
            <p:nvSpPr>
              <p:cNvPr id="446" name=""/>
              <p:cNvSpPr/>
              <p:nvPr/>
            </p:nvSpPr>
            <p:spPr>
              <a:xfrm>
                <a:off x="0" y="363060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0" y="363060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8" name=""/>
            <p:cNvGrpSpPr/>
            <p:nvPr/>
          </p:nvGrpSpPr>
          <p:grpSpPr>
            <a:xfrm>
              <a:off x="0" y="3832200"/>
              <a:ext cx="6628680" cy="201600"/>
              <a:chOff x="0" y="3832200"/>
              <a:chExt cx="6628680" cy="201600"/>
            </a:xfrm>
          </p:grpSpPr>
          <p:sp>
            <p:nvSpPr>
              <p:cNvPr id="449" name=""/>
              <p:cNvSpPr/>
              <p:nvPr/>
            </p:nvSpPr>
            <p:spPr>
              <a:xfrm>
                <a:off x="0" y="383220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0" y="383220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0" y="4034160"/>
              <a:ext cx="6628680" cy="201600"/>
              <a:chOff x="0" y="4034160"/>
              <a:chExt cx="6628680" cy="201600"/>
            </a:xfrm>
          </p:grpSpPr>
          <p:sp>
            <p:nvSpPr>
              <p:cNvPr id="452" name=""/>
              <p:cNvSpPr/>
              <p:nvPr/>
            </p:nvSpPr>
            <p:spPr>
              <a:xfrm>
                <a:off x="0" y="403416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0" y="403416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Data items in original order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0" y="4235760"/>
              <a:ext cx="6628680" cy="201600"/>
              <a:chOff x="0" y="4235760"/>
              <a:chExt cx="6628680" cy="201600"/>
            </a:xfrm>
          </p:grpSpPr>
          <p:sp>
            <p:nvSpPr>
              <p:cNvPr id="455" name=""/>
              <p:cNvSpPr/>
              <p:nvPr/>
            </p:nvSpPr>
            <p:spPr>
              <a:xfrm>
                <a:off x="0" y="423576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0" y="423576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7" name=""/>
            <p:cNvGrpSpPr/>
            <p:nvPr/>
          </p:nvGrpSpPr>
          <p:grpSpPr>
            <a:xfrm>
              <a:off x="0" y="4437360"/>
              <a:ext cx="6628680" cy="201600"/>
              <a:chOff x="0" y="4437360"/>
              <a:chExt cx="6628680" cy="201600"/>
            </a:xfrm>
          </p:grpSpPr>
          <p:sp>
            <p:nvSpPr>
              <p:cNvPr id="458" name=""/>
              <p:cNvSpPr/>
              <p:nvPr/>
            </p:nvSpPr>
            <p:spPr>
              <a:xfrm>
                <a:off x="0" y="443736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443736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i = 0; i &lt; arraySize; i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0" name=""/>
            <p:cNvGrpSpPr/>
            <p:nvPr/>
          </p:nvGrpSpPr>
          <p:grpSpPr>
            <a:xfrm>
              <a:off x="0" y="4639320"/>
              <a:ext cx="6628680" cy="201600"/>
              <a:chOff x="0" y="4639320"/>
              <a:chExt cx="6628680" cy="201600"/>
            </a:xfrm>
          </p:grpSpPr>
          <p:sp>
            <p:nvSpPr>
              <p:cNvPr id="461" name=""/>
              <p:cNvSpPr/>
              <p:nvPr/>
            </p:nvSpPr>
            <p:spPr>
              <a:xfrm>
                <a:off x="0" y="463932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0" y="463932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out &lt;&lt; setw( 4 ) &lt;&lt; a[ i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3" name=""/>
            <p:cNvGrpSpPr/>
            <p:nvPr/>
          </p:nvGrpSpPr>
          <p:grpSpPr>
            <a:xfrm>
              <a:off x="0" y="4840920"/>
              <a:ext cx="6628680" cy="201600"/>
              <a:chOff x="0" y="4840920"/>
              <a:chExt cx="6628680" cy="201600"/>
            </a:xfrm>
          </p:grpSpPr>
          <p:sp>
            <p:nvSpPr>
              <p:cNvPr id="464" name=""/>
              <p:cNvSpPr/>
              <p:nvPr/>
            </p:nvSpPr>
            <p:spPr>
              <a:xfrm>
                <a:off x="0" y="484092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0" y="484092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6" name=""/>
            <p:cNvGrpSpPr/>
            <p:nvPr/>
          </p:nvGrpSpPr>
          <p:grpSpPr>
            <a:xfrm>
              <a:off x="0" y="5042520"/>
              <a:ext cx="6628680" cy="201600"/>
              <a:chOff x="0" y="5042520"/>
              <a:chExt cx="6628680" cy="201600"/>
            </a:xfrm>
          </p:grpSpPr>
          <p:sp>
            <p:nvSpPr>
              <p:cNvPr id="467" name=""/>
              <p:cNvSpPr/>
              <p:nvPr/>
            </p:nvSpPr>
            <p:spPr>
              <a:xfrm>
                <a:off x="0" y="504252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0" y="504252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bubbleSort( a, arraySize );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ort the arra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9" name=""/>
            <p:cNvGrpSpPr/>
            <p:nvPr/>
          </p:nvGrpSpPr>
          <p:grpSpPr>
            <a:xfrm>
              <a:off x="0" y="5244480"/>
              <a:ext cx="6628680" cy="201600"/>
              <a:chOff x="0" y="5244480"/>
              <a:chExt cx="6628680" cy="201600"/>
            </a:xfrm>
          </p:grpSpPr>
          <p:sp>
            <p:nvSpPr>
              <p:cNvPr id="470" name=""/>
              <p:cNvSpPr/>
              <p:nvPr/>
            </p:nvSpPr>
            <p:spPr>
              <a:xfrm>
                <a:off x="0" y="524448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0" y="524448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Data items in ascending order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0" y="5446080"/>
              <a:ext cx="6628680" cy="201600"/>
              <a:chOff x="0" y="5446080"/>
              <a:chExt cx="6628680" cy="201600"/>
            </a:xfrm>
          </p:grpSpPr>
          <p:sp>
            <p:nvSpPr>
              <p:cNvPr id="473" name=""/>
              <p:cNvSpPr/>
              <p:nvPr/>
            </p:nvSpPr>
            <p:spPr>
              <a:xfrm>
                <a:off x="0" y="544608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0" y="544608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5" name=""/>
            <p:cNvGrpSpPr/>
            <p:nvPr/>
          </p:nvGrpSpPr>
          <p:grpSpPr>
            <a:xfrm>
              <a:off x="0" y="5647680"/>
              <a:ext cx="6628680" cy="201600"/>
              <a:chOff x="0" y="5647680"/>
              <a:chExt cx="6628680" cy="201600"/>
            </a:xfrm>
          </p:grpSpPr>
          <p:sp>
            <p:nvSpPr>
              <p:cNvPr id="476" name=""/>
              <p:cNvSpPr/>
              <p:nvPr/>
            </p:nvSpPr>
            <p:spPr>
              <a:xfrm>
                <a:off x="0" y="564768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0" y="564768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i = 0; i &lt; arraySize; i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8" name=""/>
            <p:cNvGrpSpPr/>
            <p:nvPr/>
          </p:nvGrpSpPr>
          <p:grpSpPr>
            <a:xfrm>
              <a:off x="0" y="5849640"/>
              <a:ext cx="6628680" cy="201600"/>
              <a:chOff x="0" y="5849640"/>
              <a:chExt cx="6628680" cy="201600"/>
            </a:xfrm>
          </p:grpSpPr>
          <p:sp>
            <p:nvSpPr>
              <p:cNvPr id="479" name=""/>
              <p:cNvSpPr/>
              <p:nvPr/>
            </p:nvSpPr>
            <p:spPr>
              <a:xfrm>
                <a:off x="0" y="584964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0" y="584964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out &lt;&lt; setw( 4 ) &lt;&lt; a[ i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1" name=""/>
            <p:cNvGrpSpPr/>
            <p:nvPr/>
          </p:nvGrpSpPr>
          <p:grpSpPr>
            <a:xfrm>
              <a:off x="0" y="6051240"/>
              <a:ext cx="6628680" cy="201600"/>
              <a:chOff x="0" y="6051240"/>
              <a:chExt cx="6628680" cy="201600"/>
            </a:xfrm>
          </p:grpSpPr>
          <p:sp>
            <p:nvSpPr>
              <p:cNvPr id="482" name=""/>
              <p:cNvSpPr/>
              <p:nvPr/>
            </p:nvSpPr>
            <p:spPr>
              <a:xfrm>
                <a:off x="0" y="605124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0" y="605124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4" name=""/>
            <p:cNvGrpSpPr/>
            <p:nvPr/>
          </p:nvGrpSpPr>
          <p:grpSpPr>
            <a:xfrm>
              <a:off x="0" y="6252840"/>
              <a:ext cx="6628680" cy="201600"/>
              <a:chOff x="0" y="6252840"/>
              <a:chExt cx="6628680" cy="201600"/>
            </a:xfrm>
          </p:grpSpPr>
          <p:sp>
            <p:nvSpPr>
              <p:cNvPr id="485" name=""/>
              <p:cNvSpPr/>
              <p:nvPr/>
            </p:nvSpPr>
            <p:spPr>
              <a:xfrm>
                <a:off x="0" y="625284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0" y="625284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7" name=""/>
            <p:cNvGrpSpPr/>
            <p:nvPr/>
          </p:nvGrpSpPr>
          <p:grpSpPr>
            <a:xfrm>
              <a:off x="0" y="6454800"/>
              <a:ext cx="6628680" cy="201600"/>
              <a:chOff x="0" y="6454800"/>
              <a:chExt cx="6628680" cy="201600"/>
            </a:xfrm>
          </p:grpSpPr>
          <p:sp>
            <p:nvSpPr>
              <p:cNvPr id="488" name=""/>
              <p:cNvSpPr/>
              <p:nvPr/>
            </p:nvSpPr>
            <p:spPr>
              <a:xfrm>
                <a:off x="0" y="645480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0" y="645480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0" name=""/>
            <p:cNvGrpSpPr/>
            <p:nvPr/>
          </p:nvGrpSpPr>
          <p:grpSpPr>
            <a:xfrm>
              <a:off x="0" y="6656400"/>
              <a:ext cx="6628680" cy="201600"/>
              <a:chOff x="0" y="6656400"/>
              <a:chExt cx="6628680" cy="201600"/>
            </a:xfrm>
          </p:grpSpPr>
          <p:sp>
            <p:nvSpPr>
              <p:cNvPr id="491" name=""/>
              <p:cNvSpPr/>
              <p:nvPr/>
            </p:nvSpPr>
            <p:spPr>
              <a:xfrm>
                <a:off x="0" y="665640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0" y="665640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 Initialize array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1  Declar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Print array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1  Call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ubbleSor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2  Print array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2133360" y="914400"/>
            <a:ext cx="4419360" cy="1523880"/>
            <a:chOff x="2133360" y="914400"/>
            <a:chExt cx="4419360" cy="1523880"/>
          </a:xfrm>
        </p:grpSpPr>
        <p:sp>
          <p:nvSpPr>
            <p:cNvPr id="495" name=""/>
            <p:cNvSpPr/>
            <p:nvPr/>
          </p:nvSpPr>
          <p:spPr>
            <a:xfrm flipH="1">
              <a:off x="2133360" y="1447920"/>
              <a:ext cx="175212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809880" y="914400"/>
              <a:ext cx="27428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ubblesor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gets passed the address of array elements (pointers).  The name of an array is a point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  Defin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ubbleSor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1  Defin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wap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0" y="0"/>
            <a:ext cx="6705000" cy="4952880"/>
            <a:chOff x="0" y="0"/>
            <a:chExt cx="6705000" cy="4952880"/>
          </a:xfrm>
        </p:grpSpPr>
        <p:grpSp>
          <p:nvGrpSpPr>
            <p:cNvPr id="499" name=""/>
            <p:cNvGrpSpPr/>
            <p:nvPr/>
          </p:nvGrpSpPr>
          <p:grpSpPr>
            <a:xfrm>
              <a:off x="0" y="0"/>
              <a:ext cx="6705000" cy="275040"/>
              <a:chOff x="0" y="0"/>
              <a:chExt cx="6705000" cy="275040"/>
            </a:xfrm>
          </p:grpSpPr>
          <p:sp>
            <p:nvSpPr>
              <p:cNvPr id="500" name=""/>
              <p:cNvSpPr/>
              <p:nvPr/>
            </p:nvSpPr>
            <p:spPr>
              <a:xfrm>
                <a:off x="0" y="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0" y="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ubbleSor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array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ize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2" name=""/>
            <p:cNvGrpSpPr/>
            <p:nvPr/>
          </p:nvGrpSpPr>
          <p:grpSpPr>
            <a:xfrm>
              <a:off x="0" y="275040"/>
              <a:ext cx="6705000" cy="275040"/>
              <a:chOff x="0" y="275040"/>
              <a:chExt cx="6705000" cy="275040"/>
            </a:xfrm>
          </p:grpSpPr>
          <p:sp>
            <p:nvSpPr>
              <p:cNvPr id="503" name=""/>
              <p:cNvSpPr/>
              <p:nvPr/>
            </p:nvSpPr>
            <p:spPr>
              <a:xfrm>
                <a:off x="0" y="27504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0" y="27504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5" name=""/>
            <p:cNvGrpSpPr/>
            <p:nvPr/>
          </p:nvGrpSpPr>
          <p:grpSpPr>
            <a:xfrm>
              <a:off x="0" y="550080"/>
              <a:ext cx="6705000" cy="275040"/>
              <a:chOff x="0" y="550080"/>
              <a:chExt cx="6705000" cy="275040"/>
            </a:xfrm>
          </p:grpSpPr>
          <p:sp>
            <p:nvSpPr>
              <p:cNvPr id="506" name=""/>
              <p:cNvSpPr/>
              <p:nvPr/>
            </p:nvSpPr>
            <p:spPr>
              <a:xfrm>
                <a:off x="0" y="55008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0" y="55008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wap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8" name=""/>
            <p:cNvGrpSpPr/>
            <p:nvPr/>
          </p:nvGrpSpPr>
          <p:grpSpPr>
            <a:xfrm>
              <a:off x="0" y="825480"/>
              <a:ext cx="6705000" cy="275040"/>
              <a:chOff x="0" y="825480"/>
              <a:chExt cx="6705000" cy="275040"/>
            </a:xfrm>
          </p:grpSpPr>
          <p:sp>
            <p:nvSpPr>
              <p:cNvPr id="509" name=""/>
              <p:cNvSpPr/>
              <p:nvPr/>
            </p:nvSpPr>
            <p:spPr>
              <a:xfrm>
                <a:off x="0" y="82548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0" y="82548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1" name=""/>
            <p:cNvGrpSpPr/>
            <p:nvPr/>
          </p:nvGrpSpPr>
          <p:grpSpPr>
            <a:xfrm>
              <a:off x="0" y="1100520"/>
              <a:ext cx="6705000" cy="275040"/>
              <a:chOff x="0" y="1100520"/>
              <a:chExt cx="6705000" cy="275040"/>
            </a:xfrm>
          </p:grpSpPr>
          <p:sp>
            <p:nvSpPr>
              <p:cNvPr id="512" name=""/>
              <p:cNvSpPr/>
              <p:nvPr/>
            </p:nvSpPr>
            <p:spPr>
              <a:xfrm>
                <a:off x="0" y="110052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0" y="110052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ass = 0; pass &lt; size - 1; pass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4" name=""/>
            <p:cNvGrpSpPr/>
            <p:nvPr/>
          </p:nvGrpSpPr>
          <p:grpSpPr>
            <a:xfrm>
              <a:off x="0" y="1375560"/>
              <a:ext cx="6705000" cy="275040"/>
              <a:chOff x="0" y="1375560"/>
              <a:chExt cx="6705000" cy="275040"/>
            </a:xfrm>
          </p:grpSpPr>
          <p:sp>
            <p:nvSpPr>
              <p:cNvPr id="515" name=""/>
              <p:cNvSpPr/>
              <p:nvPr/>
            </p:nvSpPr>
            <p:spPr>
              <a:xfrm>
                <a:off x="0" y="137556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0" y="137556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0" y="1650960"/>
              <a:ext cx="6705000" cy="275040"/>
              <a:chOff x="0" y="1650960"/>
              <a:chExt cx="6705000" cy="275040"/>
            </a:xfrm>
          </p:grpSpPr>
          <p:sp>
            <p:nvSpPr>
              <p:cNvPr id="518" name=""/>
              <p:cNvSpPr/>
              <p:nvPr/>
            </p:nvSpPr>
            <p:spPr>
              <a:xfrm>
                <a:off x="0" y="165096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0" y="165096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j = 0; j &lt; size - 1; j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0" name=""/>
            <p:cNvGrpSpPr/>
            <p:nvPr/>
          </p:nvGrpSpPr>
          <p:grpSpPr>
            <a:xfrm>
              <a:off x="0" y="1926000"/>
              <a:ext cx="6705000" cy="275040"/>
              <a:chOff x="0" y="1926000"/>
              <a:chExt cx="6705000" cy="275040"/>
            </a:xfrm>
          </p:grpSpPr>
          <p:sp>
            <p:nvSpPr>
              <p:cNvPr id="521" name=""/>
              <p:cNvSpPr/>
              <p:nvPr/>
            </p:nvSpPr>
            <p:spPr>
              <a:xfrm>
                <a:off x="0" y="192600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0" y="192600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3" name=""/>
            <p:cNvGrpSpPr/>
            <p:nvPr/>
          </p:nvGrpSpPr>
          <p:grpSpPr>
            <a:xfrm>
              <a:off x="0" y="2201400"/>
              <a:ext cx="6705000" cy="275040"/>
              <a:chOff x="0" y="2201400"/>
              <a:chExt cx="6705000" cy="275040"/>
            </a:xfrm>
          </p:grpSpPr>
          <p:sp>
            <p:nvSpPr>
              <p:cNvPr id="524" name=""/>
              <p:cNvSpPr/>
              <p:nvPr/>
            </p:nvSpPr>
            <p:spPr>
              <a:xfrm>
                <a:off x="0" y="220140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0" y="220140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array[ j ] &gt; array[ j + 1 ]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6" name=""/>
            <p:cNvGrpSpPr/>
            <p:nvPr/>
          </p:nvGrpSpPr>
          <p:grpSpPr>
            <a:xfrm>
              <a:off x="0" y="2476440"/>
              <a:ext cx="6705000" cy="275040"/>
              <a:chOff x="0" y="2476440"/>
              <a:chExt cx="6705000" cy="275040"/>
            </a:xfrm>
          </p:grpSpPr>
          <p:sp>
            <p:nvSpPr>
              <p:cNvPr id="527" name=""/>
              <p:cNvSpPr/>
              <p:nvPr/>
            </p:nvSpPr>
            <p:spPr>
              <a:xfrm>
                <a:off x="0" y="247644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0" y="247644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swap( &amp;array[ j ], &amp;array[ j + 1 ]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9" name=""/>
            <p:cNvGrpSpPr/>
            <p:nvPr/>
          </p:nvGrpSpPr>
          <p:grpSpPr>
            <a:xfrm>
              <a:off x="0" y="2751480"/>
              <a:ext cx="6705000" cy="275040"/>
              <a:chOff x="0" y="2751480"/>
              <a:chExt cx="6705000" cy="275040"/>
            </a:xfrm>
          </p:grpSpPr>
          <p:sp>
            <p:nvSpPr>
              <p:cNvPr id="530" name=""/>
              <p:cNvSpPr/>
              <p:nvPr/>
            </p:nvSpPr>
            <p:spPr>
              <a:xfrm>
                <a:off x="0" y="275148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0" y="275148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2" name=""/>
            <p:cNvGrpSpPr/>
            <p:nvPr/>
          </p:nvGrpSpPr>
          <p:grpSpPr>
            <a:xfrm>
              <a:off x="0" y="3026880"/>
              <a:ext cx="6705000" cy="275040"/>
              <a:chOff x="0" y="3026880"/>
              <a:chExt cx="6705000" cy="275040"/>
            </a:xfrm>
          </p:grpSpPr>
          <p:sp>
            <p:nvSpPr>
              <p:cNvPr id="533" name=""/>
              <p:cNvSpPr/>
              <p:nvPr/>
            </p:nvSpPr>
            <p:spPr>
              <a:xfrm>
                <a:off x="0" y="302688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0" y="302688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5" name=""/>
            <p:cNvGrpSpPr/>
            <p:nvPr/>
          </p:nvGrpSpPr>
          <p:grpSpPr>
            <a:xfrm>
              <a:off x="0" y="3301920"/>
              <a:ext cx="6705000" cy="275040"/>
              <a:chOff x="0" y="3301920"/>
              <a:chExt cx="6705000" cy="275040"/>
            </a:xfrm>
          </p:grpSpPr>
          <p:sp>
            <p:nvSpPr>
              <p:cNvPr id="536" name=""/>
              <p:cNvSpPr/>
              <p:nvPr/>
            </p:nvSpPr>
            <p:spPr>
              <a:xfrm>
                <a:off x="0" y="330192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0" y="330192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wap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lement1Ptr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lement2Ptr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8" name=""/>
            <p:cNvGrpSpPr/>
            <p:nvPr/>
          </p:nvGrpSpPr>
          <p:grpSpPr>
            <a:xfrm>
              <a:off x="0" y="3576960"/>
              <a:ext cx="6705000" cy="275040"/>
              <a:chOff x="0" y="3576960"/>
              <a:chExt cx="6705000" cy="275040"/>
            </a:xfrm>
          </p:grpSpPr>
          <p:sp>
            <p:nvSpPr>
              <p:cNvPr id="539" name=""/>
              <p:cNvSpPr/>
              <p:nvPr/>
            </p:nvSpPr>
            <p:spPr>
              <a:xfrm>
                <a:off x="0" y="357696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0" y="357696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1" name=""/>
            <p:cNvGrpSpPr/>
            <p:nvPr/>
          </p:nvGrpSpPr>
          <p:grpSpPr>
            <a:xfrm>
              <a:off x="0" y="3852360"/>
              <a:ext cx="6705000" cy="275040"/>
              <a:chOff x="0" y="3852360"/>
              <a:chExt cx="6705000" cy="275040"/>
            </a:xfrm>
          </p:grpSpPr>
          <p:sp>
            <p:nvSpPr>
              <p:cNvPr id="542" name=""/>
              <p:cNvSpPr/>
              <p:nvPr/>
            </p:nvSpPr>
            <p:spPr>
              <a:xfrm>
                <a:off x="0" y="385236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0" y="385236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old = *element1Pt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4" name=""/>
            <p:cNvGrpSpPr/>
            <p:nvPr/>
          </p:nvGrpSpPr>
          <p:grpSpPr>
            <a:xfrm>
              <a:off x="0" y="4127400"/>
              <a:ext cx="6705000" cy="275040"/>
              <a:chOff x="0" y="4127400"/>
              <a:chExt cx="6705000" cy="275040"/>
            </a:xfrm>
          </p:grpSpPr>
          <p:sp>
            <p:nvSpPr>
              <p:cNvPr id="545" name=""/>
              <p:cNvSpPr/>
              <p:nvPr/>
            </p:nvSpPr>
            <p:spPr>
              <a:xfrm>
                <a:off x="0" y="412740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0" y="412740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*element1Ptr = *element2Pt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7" name=""/>
            <p:cNvGrpSpPr/>
            <p:nvPr/>
          </p:nvGrpSpPr>
          <p:grpSpPr>
            <a:xfrm>
              <a:off x="0" y="4402800"/>
              <a:ext cx="6705000" cy="275040"/>
              <a:chOff x="0" y="4402800"/>
              <a:chExt cx="6705000" cy="275040"/>
            </a:xfrm>
          </p:grpSpPr>
          <p:sp>
            <p:nvSpPr>
              <p:cNvPr id="548" name=""/>
              <p:cNvSpPr/>
              <p:nvPr/>
            </p:nvSpPr>
            <p:spPr>
              <a:xfrm>
                <a:off x="0" y="440280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0" y="440280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*element2Ptr = hold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0" name=""/>
            <p:cNvGrpSpPr/>
            <p:nvPr/>
          </p:nvGrpSpPr>
          <p:grpSpPr>
            <a:xfrm>
              <a:off x="0" y="4677840"/>
              <a:ext cx="6705000" cy="275040"/>
              <a:chOff x="0" y="4677840"/>
              <a:chExt cx="6705000" cy="275040"/>
            </a:xfrm>
          </p:grpSpPr>
          <p:sp>
            <p:nvSpPr>
              <p:cNvPr id="551" name=""/>
              <p:cNvSpPr/>
              <p:nvPr/>
            </p:nvSpPr>
            <p:spPr>
              <a:xfrm>
                <a:off x="0" y="467784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0" y="467784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53" name=""/>
          <p:cNvGrpSpPr/>
          <p:nvPr/>
        </p:nvGrpSpPr>
        <p:grpSpPr>
          <a:xfrm>
            <a:off x="3885840" y="990720"/>
            <a:ext cx="5105880" cy="2286000"/>
            <a:chOff x="3885840" y="990720"/>
            <a:chExt cx="5105880" cy="2286000"/>
          </a:xfrm>
        </p:grpSpPr>
        <p:sp>
          <p:nvSpPr>
            <p:cNvPr id="554" name=""/>
            <p:cNvSpPr/>
            <p:nvPr/>
          </p:nvSpPr>
          <p:spPr>
            <a:xfrm flipH="1">
              <a:off x="3885840" y="1447920"/>
              <a:ext cx="160020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410080" y="990720"/>
              <a:ext cx="35816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wa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akes pointers (addresses of array elements) and dereferences them to modify the original array elements.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6" name=""/>
          <p:cNvSpPr/>
          <p:nvPr/>
        </p:nvSpPr>
        <p:spPr>
          <a:xfrm>
            <a:off x="0" y="5257800"/>
            <a:ext cx="6705720" cy="824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ata items in original 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   6   4   8  10  12  89  68  45  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ata items in ascending 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   4   6   8  10  12  37  45  68  89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7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ointer Expressions and Pointer Arithmetic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059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er arithme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crement/decrement pointer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+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-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dd/subtract an integer to/from a pointer(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+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-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inters may be subtracted from each oth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inter arithmetic is meaningless unless performed on an arra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 element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ray on a machine using 4 byt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Pt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points to first eleme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[ 0 ]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which is at location 3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Ptr = 3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Ptr += 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; se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Pt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300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Pt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oints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[ 2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5253120" y="4199040"/>
            <a:ext cx="3661920" cy="1667520"/>
            <a:chOff x="5253120" y="4199040"/>
            <a:chExt cx="3661920" cy="1667520"/>
          </a:xfrm>
        </p:grpSpPr>
        <p:sp>
          <p:nvSpPr>
            <p:cNvPr id="560" name=""/>
            <p:cNvSpPr/>
            <p:nvPr/>
          </p:nvSpPr>
          <p:spPr>
            <a:xfrm>
              <a:off x="5253120" y="5630040"/>
              <a:ext cx="193536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ointer variable </a:t>
              </a: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vPt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273640" y="5327640"/>
              <a:ext cx="330840" cy="327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44"/>
                  </a:lnTo>
                  <a:lnTo>
                    <a:pt x="0" y="19944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384160" y="5436720"/>
              <a:ext cx="109800" cy="10908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6156360" y="4813200"/>
              <a:ext cx="551880" cy="327600"/>
              <a:chOff x="6156360" y="4813200"/>
              <a:chExt cx="551880" cy="327600"/>
            </a:xfrm>
          </p:grpSpPr>
          <p:sp>
            <p:nvSpPr>
              <p:cNvPr id="564" name=""/>
              <p:cNvSpPr/>
              <p:nvPr/>
            </p:nvSpPr>
            <p:spPr>
              <a:xfrm>
                <a:off x="6156360" y="4813200"/>
                <a:ext cx="551880" cy="3276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67" y="0"/>
                    </a:moveTo>
                    <a:lnTo>
                      <a:pt x="19967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67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214320" y="4878720"/>
                <a:ext cx="435240" cy="23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v[0]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6" name=""/>
            <p:cNvGrpSpPr/>
            <p:nvPr/>
          </p:nvGrpSpPr>
          <p:grpSpPr>
            <a:xfrm>
              <a:off x="6708240" y="4813200"/>
              <a:ext cx="551520" cy="327600"/>
              <a:chOff x="6708240" y="4813200"/>
              <a:chExt cx="551520" cy="327600"/>
            </a:xfrm>
          </p:grpSpPr>
          <p:sp>
            <p:nvSpPr>
              <p:cNvPr id="567" name=""/>
              <p:cNvSpPr/>
              <p:nvPr/>
            </p:nvSpPr>
            <p:spPr>
              <a:xfrm>
                <a:off x="6708240" y="4813200"/>
                <a:ext cx="551520" cy="3276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67" y="0"/>
                    </a:moveTo>
                    <a:lnTo>
                      <a:pt x="19967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67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6765840" y="4878720"/>
                <a:ext cx="434880" cy="23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v[1]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9" name=""/>
            <p:cNvGrpSpPr/>
            <p:nvPr/>
          </p:nvGrpSpPr>
          <p:grpSpPr>
            <a:xfrm>
              <a:off x="7259760" y="4813200"/>
              <a:ext cx="551520" cy="327600"/>
              <a:chOff x="7259760" y="4813200"/>
              <a:chExt cx="551520" cy="327600"/>
            </a:xfrm>
          </p:grpSpPr>
          <p:sp>
            <p:nvSpPr>
              <p:cNvPr id="570" name=""/>
              <p:cNvSpPr/>
              <p:nvPr/>
            </p:nvSpPr>
            <p:spPr>
              <a:xfrm>
                <a:off x="7259760" y="4813200"/>
                <a:ext cx="551520" cy="3276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67" y="0"/>
                    </a:moveTo>
                    <a:lnTo>
                      <a:pt x="19967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67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7317360" y="4878720"/>
                <a:ext cx="434880" cy="23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v[2]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2" name=""/>
            <p:cNvGrpSpPr/>
            <p:nvPr/>
          </p:nvGrpSpPr>
          <p:grpSpPr>
            <a:xfrm>
              <a:off x="8363520" y="4813200"/>
              <a:ext cx="551520" cy="327600"/>
              <a:chOff x="8363520" y="4813200"/>
              <a:chExt cx="551520" cy="327600"/>
            </a:xfrm>
          </p:grpSpPr>
          <p:sp>
            <p:nvSpPr>
              <p:cNvPr id="573" name=""/>
              <p:cNvSpPr/>
              <p:nvPr/>
            </p:nvSpPr>
            <p:spPr>
              <a:xfrm>
                <a:off x="8363520" y="4813200"/>
                <a:ext cx="551520" cy="3276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67" y="0"/>
                    </a:moveTo>
                    <a:lnTo>
                      <a:pt x="19967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67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421120" y="4878720"/>
                <a:ext cx="434880" cy="23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v[4]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5" name=""/>
            <p:cNvGrpSpPr/>
            <p:nvPr/>
          </p:nvGrpSpPr>
          <p:grpSpPr>
            <a:xfrm>
              <a:off x="7811640" y="4813200"/>
              <a:ext cx="551880" cy="327600"/>
              <a:chOff x="7811640" y="4813200"/>
              <a:chExt cx="551880" cy="327600"/>
            </a:xfrm>
          </p:grpSpPr>
          <p:sp>
            <p:nvSpPr>
              <p:cNvPr id="576" name=""/>
              <p:cNvSpPr/>
              <p:nvPr/>
            </p:nvSpPr>
            <p:spPr>
              <a:xfrm>
                <a:off x="7811640" y="4813200"/>
                <a:ext cx="551880" cy="3276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67" y="0"/>
                    </a:moveTo>
                    <a:lnTo>
                      <a:pt x="19967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67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869600" y="4878720"/>
                <a:ext cx="435240" cy="23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v[3]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8" name=""/>
            <p:cNvSpPr/>
            <p:nvPr/>
          </p:nvSpPr>
          <p:spPr>
            <a:xfrm>
              <a:off x="6156360" y="4595040"/>
              <a:ext cx="360" cy="218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1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708240" y="4595040"/>
              <a:ext cx="360" cy="218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1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259760" y="4595040"/>
              <a:ext cx="360" cy="218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1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811640" y="4595040"/>
              <a:ext cx="360" cy="218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1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8363520" y="4595040"/>
              <a:ext cx="360" cy="218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1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961240" y="4390200"/>
              <a:ext cx="434160" cy="23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512760" y="4390200"/>
              <a:ext cx="434160" cy="23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00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064280" y="4390200"/>
              <a:ext cx="434520" cy="23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00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616520" y="4390200"/>
              <a:ext cx="434160" cy="23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0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8168040" y="4390200"/>
              <a:ext cx="434160" cy="23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01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901480" y="4199040"/>
              <a:ext cx="744840" cy="21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loc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434920" y="4956840"/>
              <a:ext cx="723960" cy="486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5" y="0"/>
                  </a:moveTo>
                  <a:lnTo>
                    <a:pt x="0" y="0"/>
                  </a:lnTo>
                  <a:lnTo>
                    <a:pt x="0" y="1996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0" name=""/>
          <p:cNvSpPr/>
          <p:nvPr/>
        </p:nvSpPr>
        <p:spPr>
          <a:xfrm>
            <a:off x="1828800" y="1989000"/>
            <a:ext cx="5486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828800" y="3433680"/>
            <a:ext cx="548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B1542-E902-4FCA-8F55-B4BDBD4D0F2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7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ointer Expressions and Pointer Arithmetic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tracting poin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the number of elements between two addre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Ptr2 = v[ 2 ]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Ptr = v[ 0 ]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Ptr2 - vPtr ==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er compari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est which pointer points to the higher numbered array el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est if a pointer points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 vPtr == ‘0’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7A570-E48A-4D72-AD04-81C7C024B8B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7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ointer Expressions and Pointer Arithmetic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ers assig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not the same type, a cast operator must be us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ception: pointer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typ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oid *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ic pointer, represents any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casting needed to convert a pointer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oi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ointers cannot be derefere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2B633-F341-4BE1-96ED-356B6D71F6F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8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The Relationship Between Pointers and Array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s and pointers closely rel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ray name like constant poin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inters can do array subscripting oper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aving declared an array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[ 5 ]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a pointe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Pt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Pt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equal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ptr ==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pt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equal to the address of the first element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ptr == &amp;b[ 0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766F8-77B3-4D99-8CC2-E92A40C8415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1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werful, but difficult to mas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mulate call-by-referenc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ose relationship with arrays and string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830E0-372D-48DF-AE16-50E511CF8BB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8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The Relationship Between Pointers and Array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ssing array elements with poin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leme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[ n ]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an be accessed by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*( bPtr + n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led pointer/offset no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ray itself can use pointer arithmeti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[ 3 ]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ame a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(b + 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inters can be subscripted (pointer/subscript notatio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Ptr[ 3 ]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ame a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[ 3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BACFD-7FC1-4F79-9138-CCCBA7BC00A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9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Arrays of Point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s can contain poin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monly used to store an array of string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 *suit[ 4 ] = {"Hearts", "Diamonds"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Clubs", "Spades" 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ach element of suit is a pointer to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har *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a string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strings are not in the array, only pointers to the strings are in the arra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ui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rray has a fixed size, but strings can be of any siz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0" y="2297160"/>
            <a:ext cx="5486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533520" y="4038480"/>
            <a:ext cx="7848360" cy="1447920"/>
            <a:chOff x="533520" y="4038480"/>
            <a:chExt cx="7848360" cy="1447920"/>
          </a:xfrm>
        </p:grpSpPr>
        <p:grpSp>
          <p:nvGrpSpPr>
            <p:cNvPr id="604" name=""/>
            <p:cNvGrpSpPr/>
            <p:nvPr/>
          </p:nvGrpSpPr>
          <p:grpSpPr>
            <a:xfrm>
              <a:off x="533520" y="5124600"/>
              <a:ext cx="2190960" cy="361800"/>
              <a:chOff x="533520" y="5124600"/>
              <a:chExt cx="2190960" cy="361800"/>
            </a:xfrm>
          </p:grpSpPr>
          <p:grpSp>
            <p:nvGrpSpPr>
              <p:cNvPr id="605" name=""/>
              <p:cNvGrpSpPr/>
              <p:nvPr/>
            </p:nvGrpSpPr>
            <p:grpSpPr>
              <a:xfrm>
                <a:off x="533520" y="5124600"/>
                <a:ext cx="1565280" cy="361800"/>
                <a:chOff x="533520" y="5124600"/>
                <a:chExt cx="1565280" cy="361800"/>
              </a:xfrm>
            </p:grpSpPr>
            <p:grpSp>
              <p:nvGrpSpPr>
                <p:cNvPr id="606" name=""/>
                <p:cNvGrpSpPr/>
                <p:nvPr/>
              </p:nvGrpSpPr>
              <p:grpSpPr>
                <a:xfrm>
                  <a:off x="1629720" y="5124600"/>
                  <a:ext cx="469080" cy="361800"/>
                  <a:chOff x="1629720" y="5124600"/>
                  <a:chExt cx="469080" cy="361800"/>
                </a:xfrm>
              </p:grpSpPr>
              <p:sp>
                <p:nvSpPr>
                  <p:cNvPr id="607" name=""/>
                  <p:cNvSpPr/>
                  <p:nvPr/>
                </p:nvSpPr>
                <p:spPr>
                  <a:xfrm>
                    <a:off x="1629720" y="5124600"/>
                    <a:ext cx="469080" cy="36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44" y="0"/>
                        </a:moveTo>
                        <a:lnTo>
                          <a:pt x="19944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44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>
                    <a:off x="1784520" y="5245200"/>
                    <a:ext cx="157680" cy="1216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09" name=""/>
                <p:cNvSpPr/>
                <p:nvPr/>
              </p:nvSpPr>
              <p:spPr>
                <a:xfrm>
                  <a:off x="533520" y="5184720"/>
                  <a:ext cx="1148400" cy="28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suit[3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0" name=""/>
              <p:cNvSpPr/>
              <p:nvPr/>
            </p:nvSpPr>
            <p:spPr>
              <a:xfrm>
                <a:off x="1942200" y="5305320"/>
                <a:ext cx="782280" cy="7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67" y="0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1" name=""/>
            <p:cNvGrpSpPr/>
            <p:nvPr/>
          </p:nvGrpSpPr>
          <p:grpSpPr>
            <a:xfrm>
              <a:off x="533520" y="4762440"/>
              <a:ext cx="2190960" cy="361800"/>
              <a:chOff x="533520" y="4762440"/>
              <a:chExt cx="2190960" cy="361800"/>
            </a:xfrm>
          </p:grpSpPr>
          <p:grpSp>
            <p:nvGrpSpPr>
              <p:cNvPr id="612" name=""/>
              <p:cNvGrpSpPr/>
              <p:nvPr/>
            </p:nvGrpSpPr>
            <p:grpSpPr>
              <a:xfrm>
                <a:off x="533520" y="4762440"/>
                <a:ext cx="1565280" cy="361800"/>
                <a:chOff x="533520" y="4762440"/>
                <a:chExt cx="1565280" cy="361800"/>
              </a:xfrm>
            </p:grpSpPr>
            <p:grpSp>
              <p:nvGrpSpPr>
                <p:cNvPr id="613" name=""/>
                <p:cNvGrpSpPr/>
                <p:nvPr/>
              </p:nvGrpSpPr>
              <p:grpSpPr>
                <a:xfrm>
                  <a:off x="1629720" y="4762440"/>
                  <a:ext cx="469080" cy="361800"/>
                  <a:chOff x="1629720" y="4762440"/>
                  <a:chExt cx="469080" cy="361800"/>
                </a:xfrm>
              </p:grpSpPr>
              <p:sp>
                <p:nvSpPr>
                  <p:cNvPr id="614" name=""/>
                  <p:cNvSpPr/>
                  <p:nvPr/>
                </p:nvSpPr>
                <p:spPr>
                  <a:xfrm>
                    <a:off x="1629720" y="4762440"/>
                    <a:ext cx="469080" cy="36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44" y="0"/>
                        </a:moveTo>
                        <a:lnTo>
                          <a:pt x="19944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44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>
                    <a:off x="1784880" y="4883040"/>
                    <a:ext cx="157680" cy="1216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16" name=""/>
                <p:cNvSpPr/>
                <p:nvPr/>
              </p:nvSpPr>
              <p:spPr>
                <a:xfrm>
                  <a:off x="533520" y="4822560"/>
                  <a:ext cx="1148400" cy="28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suit[2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7" name=""/>
              <p:cNvSpPr/>
              <p:nvPr/>
            </p:nvSpPr>
            <p:spPr>
              <a:xfrm>
                <a:off x="1942560" y="4943160"/>
                <a:ext cx="781920" cy="7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67" y="0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8" name=""/>
            <p:cNvGrpSpPr/>
            <p:nvPr/>
          </p:nvGrpSpPr>
          <p:grpSpPr>
            <a:xfrm>
              <a:off x="533520" y="4400280"/>
              <a:ext cx="2190960" cy="361800"/>
              <a:chOff x="533520" y="4400280"/>
              <a:chExt cx="2190960" cy="361800"/>
            </a:xfrm>
          </p:grpSpPr>
          <p:grpSp>
            <p:nvGrpSpPr>
              <p:cNvPr id="619" name=""/>
              <p:cNvGrpSpPr/>
              <p:nvPr/>
            </p:nvGrpSpPr>
            <p:grpSpPr>
              <a:xfrm>
                <a:off x="533520" y="4400280"/>
                <a:ext cx="1565280" cy="361800"/>
                <a:chOff x="533520" y="4400280"/>
                <a:chExt cx="1565280" cy="361800"/>
              </a:xfrm>
            </p:grpSpPr>
            <p:grpSp>
              <p:nvGrpSpPr>
                <p:cNvPr id="620" name=""/>
                <p:cNvGrpSpPr/>
                <p:nvPr/>
              </p:nvGrpSpPr>
              <p:grpSpPr>
                <a:xfrm>
                  <a:off x="1629720" y="4400280"/>
                  <a:ext cx="469080" cy="361800"/>
                  <a:chOff x="1629720" y="4400280"/>
                  <a:chExt cx="469080" cy="361800"/>
                </a:xfrm>
              </p:grpSpPr>
              <p:sp>
                <p:nvSpPr>
                  <p:cNvPr id="621" name=""/>
                  <p:cNvSpPr/>
                  <p:nvPr/>
                </p:nvSpPr>
                <p:spPr>
                  <a:xfrm>
                    <a:off x="1629720" y="4400280"/>
                    <a:ext cx="469080" cy="36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44" y="0"/>
                        </a:moveTo>
                        <a:lnTo>
                          <a:pt x="19944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44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2" name=""/>
                  <p:cNvSpPr/>
                  <p:nvPr/>
                </p:nvSpPr>
                <p:spPr>
                  <a:xfrm>
                    <a:off x="1784880" y="4520880"/>
                    <a:ext cx="157680" cy="1216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23" name=""/>
                <p:cNvSpPr/>
                <p:nvPr/>
              </p:nvSpPr>
              <p:spPr>
                <a:xfrm>
                  <a:off x="533520" y="4460400"/>
                  <a:ext cx="1148400" cy="28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suit[1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4" name=""/>
              <p:cNvSpPr/>
              <p:nvPr/>
            </p:nvSpPr>
            <p:spPr>
              <a:xfrm>
                <a:off x="1942560" y="4581000"/>
                <a:ext cx="781920" cy="7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67" y="0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5" name=""/>
            <p:cNvGrpSpPr/>
            <p:nvPr/>
          </p:nvGrpSpPr>
          <p:grpSpPr>
            <a:xfrm>
              <a:off x="533520" y="4038480"/>
              <a:ext cx="2190960" cy="361800"/>
              <a:chOff x="533520" y="4038480"/>
              <a:chExt cx="2190960" cy="361800"/>
            </a:xfrm>
          </p:grpSpPr>
          <p:grpSp>
            <p:nvGrpSpPr>
              <p:cNvPr id="626" name=""/>
              <p:cNvGrpSpPr/>
              <p:nvPr/>
            </p:nvGrpSpPr>
            <p:grpSpPr>
              <a:xfrm>
                <a:off x="533520" y="4038480"/>
                <a:ext cx="1565280" cy="361800"/>
                <a:chOff x="533520" y="4038480"/>
                <a:chExt cx="1565280" cy="361800"/>
              </a:xfrm>
            </p:grpSpPr>
            <p:grpSp>
              <p:nvGrpSpPr>
                <p:cNvPr id="627" name=""/>
                <p:cNvGrpSpPr/>
                <p:nvPr/>
              </p:nvGrpSpPr>
              <p:grpSpPr>
                <a:xfrm>
                  <a:off x="1629720" y="4038480"/>
                  <a:ext cx="469080" cy="361800"/>
                  <a:chOff x="1629720" y="4038480"/>
                  <a:chExt cx="469080" cy="361800"/>
                </a:xfrm>
              </p:grpSpPr>
              <p:sp>
                <p:nvSpPr>
                  <p:cNvPr id="628" name=""/>
                  <p:cNvSpPr/>
                  <p:nvPr/>
                </p:nvSpPr>
                <p:spPr>
                  <a:xfrm>
                    <a:off x="1629720" y="4038480"/>
                    <a:ext cx="469080" cy="36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44" y="0"/>
                        </a:moveTo>
                        <a:lnTo>
                          <a:pt x="19944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44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9" name=""/>
                  <p:cNvSpPr/>
                  <p:nvPr/>
                </p:nvSpPr>
                <p:spPr>
                  <a:xfrm>
                    <a:off x="1784880" y="4159080"/>
                    <a:ext cx="157680" cy="1216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30" name=""/>
                <p:cNvSpPr/>
                <p:nvPr/>
              </p:nvSpPr>
              <p:spPr>
                <a:xfrm>
                  <a:off x="533520" y="4098600"/>
                  <a:ext cx="1148400" cy="28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suit[0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1" name=""/>
              <p:cNvSpPr/>
              <p:nvPr/>
            </p:nvSpPr>
            <p:spPr>
              <a:xfrm>
                <a:off x="1942560" y="4219200"/>
                <a:ext cx="781920" cy="7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67" y="0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2" name=""/>
            <p:cNvGrpSpPr/>
            <p:nvPr/>
          </p:nvGrpSpPr>
          <p:grpSpPr>
            <a:xfrm>
              <a:off x="2724480" y="4098600"/>
              <a:ext cx="625680" cy="282600"/>
              <a:chOff x="2724480" y="4098600"/>
              <a:chExt cx="625680" cy="282600"/>
            </a:xfrm>
          </p:grpSpPr>
          <p:sp>
            <p:nvSpPr>
              <p:cNvPr id="633" name=""/>
              <p:cNvSpPr/>
              <p:nvPr/>
            </p:nvSpPr>
            <p:spPr>
              <a:xfrm>
                <a:off x="2724480" y="409860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2775240" y="4098600"/>
                <a:ext cx="52272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H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5" name=""/>
            <p:cNvGrpSpPr/>
            <p:nvPr/>
          </p:nvGrpSpPr>
          <p:grpSpPr>
            <a:xfrm>
              <a:off x="3350160" y="4098600"/>
              <a:ext cx="625680" cy="282600"/>
              <a:chOff x="3350160" y="4098600"/>
              <a:chExt cx="625680" cy="282600"/>
            </a:xfrm>
          </p:grpSpPr>
          <p:sp>
            <p:nvSpPr>
              <p:cNvPr id="636" name=""/>
              <p:cNvSpPr/>
              <p:nvPr/>
            </p:nvSpPr>
            <p:spPr>
              <a:xfrm>
                <a:off x="3350160" y="409860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3400920" y="4098600"/>
                <a:ext cx="52272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e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8" name=""/>
            <p:cNvGrpSpPr/>
            <p:nvPr/>
          </p:nvGrpSpPr>
          <p:grpSpPr>
            <a:xfrm>
              <a:off x="3976200" y="4098600"/>
              <a:ext cx="625680" cy="282600"/>
              <a:chOff x="3976200" y="4098600"/>
              <a:chExt cx="625680" cy="282600"/>
            </a:xfrm>
          </p:grpSpPr>
          <p:sp>
            <p:nvSpPr>
              <p:cNvPr id="639" name=""/>
              <p:cNvSpPr/>
              <p:nvPr/>
            </p:nvSpPr>
            <p:spPr>
              <a:xfrm>
                <a:off x="3976200" y="409860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4026960" y="4098600"/>
                <a:ext cx="52272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a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1" name=""/>
            <p:cNvGrpSpPr/>
            <p:nvPr/>
          </p:nvGrpSpPr>
          <p:grpSpPr>
            <a:xfrm>
              <a:off x="4601880" y="4098600"/>
              <a:ext cx="625680" cy="282600"/>
              <a:chOff x="4601880" y="4098600"/>
              <a:chExt cx="625680" cy="282600"/>
            </a:xfrm>
          </p:grpSpPr>
          <p:sp>
            <p:nvSpPr>
              <p:cNvPr id="642" name=""/>
              <p:cNvSpPr/>
              <p:nvPr/>
            </p:nvSpPr>
            <p:spPr>
              <a:xfrm>
                <a:off x="4601880" y="409860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4652640" y="4098600"/>
                <a:ext cx="52272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r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4" name=""/>
            <p:cNvGrpSpPr/>
            <p:nvPr/>
          </p:nvGrpSpPr>
          <p:grpSpPr>
            <a:xfrm>
              <a:off x="5227560" y="4098600"/>
              <a:ext cx="625680" cy="282600"/>
              <a:chOff x="5227560" y="4098600"/>
              <a:chExt cx="625680" cy="282600"/>
            </a:xfrm>
          </p:grpSpPr>
          <p:sp>
            <p:nvSpPr>
              <p:cNvPr id="645" name=""/>
              <p:cNvSpPr/>
              <p:nvPr/>
            </p:nvSpPr>
            <p:spPr>
              <a:xfrm>
                <a:off x="5227560" y="409860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5278320" y="4098600"/>
                <a:ext cx="52272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t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7" name=""/>
            <p:cNvGrpSpPr/>
            <p:nvPr/>
          </p:nvGrpSpPr>
          <p:grpSpPr>
            <a:xfrm>
              <a:off x="5853600" y="4098600"/>
              <a:ext cx="625680" cy="282600"/>
              <a:chOff x="5853600" y="4098600"/>
              <a:chExt cx="625680" cy="282600"/>
            </a:xfrm>
          </p:grpSpPr>
          <p:sp>
            <p:nvSpPr>
              <p:cNvPr id="648" name=""/>
              <p:cNvSpPr/>
              <p:nvPr/>
            </p:nvSpPr>
            <p:spPr>
              <a:xfrm>
                <a:off x="5853600" y="409860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904360" y="4098600"/>
                <a:ext cx="52272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s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0" name=""/>
            <p:cNvGrpSpPr/>
            <p:nvPr/>
          </p:nvGrpSpPr>
          <p:grpSpPr>
            <a:xfrm>
              <a:off x="6451920" y="4098600"/>
              <a:ext cx="678960" cy="282600"/>
              <a:chOff x="6451920" y="4098600"/>
              <a:chExt cx="678960" cy="282600"/>
            </a:xfrm>
          </p:grpSpPr>
          <p:sp>
            <p:nvSpPr>
              <p:cNvPr id="651" name=""/>
              <p:cNvSpPr/>
              <p:nvPr/>
            </p:nvSpPr>
            <p:spPr>
              <a:xfrm>
                <a:off x="6479280" y="409860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451920" y="4098600"/>
                <a:ext cx="67896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\0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3" name=""/>
            <p:cNvGrpSpPr/>
            <p:nvPr/>
          </p:nvGrpSpPr>
          <p:grpSpPr>
            <a:xfrm>
              <a:off x="2724480" y="4450680"/>
              <a:ext cx="625680" cy="282600"/>
              <a:chOff x="2724480" y="4450680"/>
              <a:chExt cx="625680" cy="282600"/>
            </a:xfrm>
          </p:grpSpPr>
          <p:sp>
            <p:nvSpPr>
              <p:cNvPr id="654" name=""/>
              <p:cNvSpPr/>
              <p:nvPr/>
            </p:nvSpPr>
            <p:spPr>
              <a:xfrm>
                <a:off x="2724480" y="445068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2775240" y="4450680"/>
                <a:ext cx="52272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D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6" name=""/>
            <p:cNvGrpSpPr/>
            <p:nvPr/>
          </p:nvGrpSpPr>
          <p:grpSpPr>
            <a:xfrm>
              <a:off x="3350160" y="4450680"/>
              <a:ext cx="625680" cy="282600"/>
              <a:chOff x="3350160" y="4450680"/>
              <a:chExt cx="625680" cy="282600"/>
            </a:xfrm>
          </p:grpSpPr>
          <p:sp>
            <p:nvSpPr>
              <p:cNvPr id="657" name=""/>
              <p:cNvSpPr/>
              <p:nvPr/>
            </p:nvSpPr>
            <p:spPr>
              <a:xfrm>
                <a:off x="3350160" y="445068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3400920" y="4450680"/>
                <a:ext cx="52272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i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9" name=""/>
            <p:cNvGrpSpPr/>
            <p:nvPr/>
          </p:nvGrpSpPr>
          <p:grpSpPr>
            <a:xfrm>
              <a:off x="3976200" y="4450680"/>
              <a:ext cx="625680" cy="282600"/>
              <a:chOff x="3976200" y="4450680"/>
              <a:chExt cx="625680" cy="282600"/>
            </a:xfrm>
          </p:grpSpPr>
          <p:sp>
            <p:nvSpPr>
              <p:cNvPr id="660" name=""/>
              <p:cNvSpPr/>
              <p:nvPr/>
            </p:nvSpPr>
            <p:spPr>
              <a:xfrm>
                <a:off x="3976200" y="445068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4026960" y="4450680"/>
                <a:ext cx="52272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a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2" name=""/>
            <p:cNvGrpSpPr/>
            <p:nvPr/>
          </p:nvGrpSpPr>
          <p:grpSpPr>
            <a:xfrm>
              <a:off x="4601880" y="4450680"/>
              <a:ext cx="625680" cy="282600"/>
              <a:chOff x="4601880" y="4450680"/>
              <a:chExt cx="625680" cy="282600"/>
            </a:xfrm>
          </p:grpSpPr>
          <p:sp>
            <p:nvSpPr>
              <p:cNvPr id="663" name=""/>
              <p:cNvSpPr/>
              <p:nvPr/>
            </p:nvSpPr>
            <p:spPr>
              <a:xfrm>
                <a:off x="4601880" y="445068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652640" y="4450680"/>
                <a:ext cx="52272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m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5" name=""/>
            <p:cNvGrpSpPr/>
            <p:nvPr/>
          </p:nvGrpSpPr>
          <p:grpSpPr>
            <a:xfrm>
              <a:off x="5227560" y="4450680"/>
              <a:ext cx="625680" cy="282600"/>
              <a:chOff x="5227560" y="4450680"/>
              <a:chExt cx="625680" cy="282600"/>
            </a:xfrm>
          </p:grpSpPr>
          <p:sp>
            <p:nvSpPr>
              <p:cNvPr id="666" name=""/>
              <p:cNvSpPr/>
              <p:nvPr/>
            </p:nvSpPr>
            <p:spPr>
              <a:xfrm>
                <a:off x="5227560" y="445068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5277960" y="4450680"/>
                <a:ext cx="52308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o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8" name=""/>
            <p:cNvGrpSpPr/>
            <p:nvPr/>
          </p:nvGrpSpPr>
          <p:grpSpPr>
            <a:xfrm>
              <a:off x="5853600" y="4450680"/>
              <a:ext cx="625680" cy="282600"/>
              <a:chOff x="5853600" y="4450680"/>
              <a:chExt cx="625680" cy="282600"/>
            </a:xfrm>
          </p:grpSpPr>
          <p:sp>
            <p:nvSpPr>
              <p:cNvPr id="669" name=""/>
              <p:cNvSpPr/>
              <p:nvPr/>
            </p:nvSpPr>
            <p:spPr>
              <a:xfrm>
                <a:off x="5853600" y="445068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5904000" y="4450680"/>
                <a:ext cx="52308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n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6479280" y="4450680"/>
              <a:ext cx="625680" cy="282600"/>
              <a:chOff x="6479280" y="4450680"/>
              <a:chExt cx="625680" cy="282600"/>
            </a:xfrm>
          </p:grpSpPr>
          <p:sp>
            <p:nvSpPr>
              <p:cNvPr id="672" name=""/>
              <p:cNvSpPr/>
              <p:nvPr/>
            </p:nvSpPr>
            <p:spPr>
              <a:xfrm>
                <a:off x="6479280" y="445068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6529680" y="4450680"/>
                <a:ext cx="52308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d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4" name=""/>
            <p:cNvGrpSpPr/>
            <p:nvPr/>
          </p:nvGrpSpPr>
          <p:grpSpPr>
            <a:xfrm>
              <a:off x="7104600" y="4450680"/>
              <a:ext cx="625680" cy="282600"/>
              <a:chOff x="7104600" y="4450680"/>
              <a:chExt cx="625680" cy="282600"/>
            </a:xfrm>
          </p:grpSpPr>
          <p:sp>
            <p:nvSpPr>
              <p:cNvPr id="675" name=""/>
              <p:cNvSpPr/>
              <p:nvPr/>
            </p:nvSpPr>
            <p:spPr>
              <a:xfrm>
                <a:off x="7104600" y="445068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7155360" y="4450680"/>
                <a:ext cx="52272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s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"/>
            <p:cNvGrpSpPr/>
            <p:nvPr/>
          </p:nvGrpSpPr>
          <p:grpSpPr>
            <a:xfrm>
              <a:off x="7702920" y="4450680"/>
              <a:ext cx="678960" cy="282600"/>
              <a:chOff x="7702920" y="4450680"/>
              <a:chExt cx="678960" cy="282600"/>
            </a:xfrm>
          </p:grpSpPr>
          <p:sp>
            <p:nvSpPr>
              <p:cNvPr id="678" name=""/>
              <p:cNvSpPr/>
              <p:nvPr/>
            </p:nvSpPr>
            <p:spPr>
              <a:xfrm>
                <a:off x="7730280" y="445068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7702920" y="4450680"/>
                <a:ext cx="67896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\0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0" name=""/>
            <p:cNvGrpSpPr/>
            <p:nvPr/>
          </p:nvGrpSpPr>
          <p:grpSpPr>
            <a:xfrm>
              <a:off x="2724480" y="4812840"/>
              <a:ext cx="625680" cy="282600"/>
              <a:chOff x="2724480" y="4812840"/>
              <a:chExt cx="625680" cy="282600"/>
            </a:xfrm>
          </p:grpSpPr>
          <p:sp>
            <p:nvSpPr>
              <p:cNvPr id="681" name=""/>
              <p:cNvSpPr/>
              <p:nvPr/>
            </p:nvSpPr>
            <p:spPr>
              <a:xfrm>
                <a:off x="2724480" y="481284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2775240" y="4812840"/>
                <a:ext cx="52272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C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3" name=""/>
            <p:cNvGrpSpPr/>
            <p:nvPr/>
          </p:nvGrpSpPr>
          <p:grpSpPr>
            <a:xfrm>
              <a:off x="3350160" y="4812840"/>
              <a:ext cx="625680" cy="282600"/>
              <a:chOff x="3350160" y="4812840"/>
              <a:chExt cx="625680" cy="282600"/>
            </a:xfrm>
          </p:grpSpPr>
          <p:sp>
            <p:nvSpPr>
              <p:cNvPr id="684" name=""/>
              <p:cNvSpPr/>
              <p:nvPr/>
            </p:nvSpPr>
            <p:spPr>
              <a:xfrm>
                <a:off x="3350160" y="481284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3400920" y="4812840"/>
                <a:ext cx="52272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l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6" name=""/>
            <p:cNvGrpSpPr/>
            <p:nvPr/>
          </p:nvGrpSpPr>
          <p:grpSpPr>
            <a:xfrm>
              <a:off x="3976200" y="4812840"/>
              <a:ext cx="625680" cy="282600"/>
              <a:chOff x="3976200" y="4812840"/>
              <a:chExt cx="625680" cy="282600"/>
            </a:xfrm>
          </p:grpSpPr>
          <p:sp>
            <p:nvSpPr>
              <p:cNvPr id="687" name=""/>
              <p:cNvSpPr/>
              <p:nvPr/>
            </p:nvSpPr>
            <p:spPr>
              <a:xfrm>
                <a:off x="3976200" y="481284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4026600" y="4812840"/>
                <a:ext cx="52308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u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9" name=""/>
            <p:cNvGrpSpPr/>
            <p:nvPr/>
          </p:nvGrpSpPr>
          <p:grpSpPr>
            <a:xfrm>
              <a:off x="4601880" y="4812840"/>
              <a:ext cx="625320" cy="282600"/>
              <a:chOff x="4601880" y="4812840"/>
              <a:chExt cx="625320" cy="282600"/>
            </a:xfrm>
          </p:grpSpPr>
          <p:sp>
            <p:nvSpPr>
              <p:cNvPr id="690" name=""/>
              <p:cNvSpPr/>
              <p:nvPr/>
            </p:nvSpPr>
            <p:spPr>
              <a:xfrm>
                <a:off x="4601880" y="4812840"/>
                <a:ext cx="62532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4652280" y="4812840"/>
                <a:ext cx="52308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b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2" name=""/>
            <p:cNvGrpSpPr/>
            <p:nvPr/>
          </p:nvGrpSpPr>
          <p:grpSpPr>
            <a:xfrm>
              <a:off x="5227200" y="4812840"/>
              <a:ext cx="625680" cy="282600"/>
              <a:chOff x="5227200" y="4812840"/>
              <a:chExt cx="625680" cy="282600"/>
            </a:xfrm>
          </p:grpSpPr>
          <p:sp>
            <p:nvSpPr>
              <p:cNvPr id="693" name=""/>
              <p:cNvSpPr/>
              <p:nvPr/>
            </p:nvSpPr>
            <p:spPr>
              <a:xfrm>
                <a:off x="5227200" y="481284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5277960" y="4812840"/>
                <a:ext cx="52272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s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5" name=""/>
            <p:cNvGrpSpPr/>
            <p:nvPr/>
          </p:nvGrpSpPr>
          <p:grpSpPr>
            <a:xfrm>
              <a:off x="5825880" y="4812840"/>
              <a:ext cx="678960" cy="282600"/>
              <a:chOff x="5825880" y="4812840"/>
              <a:chExt cx="678960" cy="282600"/>
            </a:xfrm>
          </p:grpSpPr>
          <p:sp>
            <p:nvSpPr>
              <p:cNvPr id="696" name=""/>
              <p:cNvSpPr/>
              <p:nvPr/>
            </p:nvSpPr>
            <p:spPr>
              <a:xfrm>
                <a:off x="5852880" y="481284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5825880" y="4812840"/>
                <a:ext cx="67896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\0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8" name=""/>
            <p:cNvGrpSpPr/>
            <p:nvPr/>
          </p:nvGrpSpPr>
          <p:grpSpPr>
            <a:xfrm>
              <a:off x="2724480" y="5174640"/>
              <a:ext cx="625680" cy="282600"/>
              <a:chOff x="2724480" y="5174640"/>
              <a:chExt cx="625680" cy="282600"/>
            </a:xfrm>
          </p:grpSpPr>
          <p:sp>
            <p:nvSpPr>
              <p:cNvPr id="699" name=""/>
              <p:cNvSpPr/>
              <p:nvPr/>
            </p:nvSpPr>
            <p:spPr>
              <a:xfrm>
                <a:off x="2724480" y="517464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2775240" y="5174640"/>
                <a:ext cx="52272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S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1" name=""/>
            <p:cNvGrpSpPr/>
            <p:nvPr/>
          </p:nvGrpSpPr>
          <p:grpSpPr>
            <a:xfrm>
              <a:off x="3350160" y="5174640"/>
              <a:ext cx="625680" cy="282600"/>
              <a:chOff x="3350160" y="5174640"/>
              <a:chExt cx="625680" cy="282600"/>
            </a:xfrm>
          </p:grpSpPr>
          <p:sp>
            <p:nvSpPr>
              <p:cNvPr id="702" name=""/>
              <p:cNvSpPr/>
              <p:nvPr/>
            </p:nvSpPr>
            <p:spPr>
              <a:xfrm>
                <a:off x="3350160" y="517464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3400920" y="5174640"/>
                <a:ext cx="52272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p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4" name=""/>
            <p:cNvGrpSpPr/>
            <p:nvPr/>
          </p:nvGrpSpPr>
          <p:grpSpPr>
            <a:xfrm>
              <a:off x="3976200" y="5174640"/>
              <a:ext cx="625680" cy="282600"/>
              <a:chOff x="3976200" y="5174640"/>
              <a:chExt cx="625680" cy="282600"/>
            </a:xfrm>
          </p:grpSpPr>
          <p:sp>
            <p:nvSpPr>
              <p:cNvPr id="705" name=""/>
              <p:cNvSpPr/>
              <p:nvPr/>
            </p:nvSpPr>
            <p:spPr>
              <a:xfrm>
                <a:off x="3976200" y="517464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4026600" y="5174640"/>
                <a:ext cx="52308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a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7" name=""/>
            <p:cNvGrpSpPr/>
            <p:nvPr/>
          </p:nvGrpSpPr>
          <p:grpSpPr>
            <a:xfrm>
              <a:off x="4601880" y="5174640"/>
              <a:ext cx="625320" cy="282600"/>
              <a:chOff x="4601880" y="5174640"/>
              <a:chExt cx="625320" cy="282600"/>
            </a:xfrm>
          </p:grpSpPr>
          <p:sp>
            <p:nvSpPr>
              <p:cNvPr id="708" name=""/>
              <p:cNvSpPr/>
              <p:nvPr/>
            </p:nvSpPr>
            <p:spPr>
              <a:xfrm>
                <a:off x="4601880" y="5174640"/>
                <a:ext cx="62532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652280" y="5174640"/>
                <a:ext cx="52308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d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5227200" y="5174640"/>
              <a:ext cx="625680" cy="282600"/>
              <a:chOff x="5227200" y="5174640"/>
              <a:chExt cx="625680" cy="282600"/>
            </a:xfrm>
          </p:grpSpPr>
          <p:sp>
            <p:nvSpPr>
              <p:cNvPr id="711" name=""/>
              <p:cNvSpPr/>
              <p:nvPr/>
            </p:nvSpPr>
            <p:spPr>
              <a:xfrm>
                <a:off x="5227200" y="517464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5277960" y="5174640"/>
                <a:ext cx="52272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e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3" name=""/>
            <p:cNvGrpSpPr/>
            <p:nvPr/>
          </p:nvGrpSpPr>
          <p:grpSpPr>
            <a:xfrm>
              <a:off x="5852880" y="5174640"/>
              <a:ext cx="625680" cy="282600"/>
              <a:chOff x="5852880" y="5174640"/>
              <a:chExt cx="625680" cy="282600"/>
            </a:xfrm>
          </p:grpSpPr>
          <p:sp>
            <p:nvSpPr>
              <p:cNvPr id="714" name=""/>
              <p:cNvSpPr/>
              <p:nvPr/>
            </p:nvSpPr>
            <p:spPr>
              <a:xfrm>
                <a:off x="5852880" y="517464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5903640" y="5174640"/>
                <a:ext cx="52272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s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6" name=""/>
            <p:cNvGrpSpPr/>
            <p:nvPr/>
          </p:nvGrpSpPr>
          <p:grpSpPr>
            <a:xfrm>
              <a:off x="6451200" y="5174640"/>
              <a:ext cx="678960" cy="282600"/>
              <a:chOff x="6451200" y="5174640"/>
              <a:chExt cx="678960" cy="282600"/>
            </a:xfrm>
          </p:grpSpPr>
          <p:sp>
            <p:nvSpPr>
              <p:cNvPr id="717" name=""/>
              <p:cNvSpPr/>
              <p:nvPr/>
            </p:nvSpPr>
            <p:spPr>
              <a:xfrm>
                <a:off x="6478560" y="517464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6451200" y="5174640"/>
                <a:ext cx="67896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\0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9" name=""/>
          <p:cNvSpPr/>
          <p:nvPr/>
        </p:nvSpPr>
        <p:spPr>
          <a:xfrm>
            <a:off x="0" y="3373560"/>
            <a:ext cx="548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0" y="342900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E07CA-49BD-4EF7-8E5E-1D381C3F77F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10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ase Study: A Card Shuffling and Dealing Simul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d shuffling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an array of pointers to strings, to store suit na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a double scripted array (suit by valu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lace 1-52 into the array to specify the order in which the cards are deal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0" y="2054160"/>
            <a:ext cx="5486400" cy="20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191120" y="4343400"/>
            <a:ext cx="594504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ck[2][12]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Mincho"/>
              </a:rPr>
              <a:t> represents the King of Clu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-609480" y="1447920"/>
            <a:ext cx="1280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6" name=""/>
          <p:cNvGrpSpPr/>
          <p:nvPr/>
        </p:nvGrpSpPr>
        <p:grpSpPr>
          <a:xfrm>
            <a:off x="0" y="2774880"/>
            <a:ext cx="9280440" cy="2355840"/>
            <a:chOff x="0" y="2774880"/>
            <a:chExt cx="9280440" cy="2355840"/>
          </a:xfrm>
        </p:grpSpPr>
        <p:sp>
          <p:nvSpPr>
            <p:cNvPr id="727" name=""/>
            <p:cNvSpPr/>
            <p:nvPr/>
          </p:nvSpPr>
          <p:spPr>
            <a:xfrm>
              <a:off x="101520" y="3289320"/>
              <a:ext cx="91440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Hear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01520" y="3533760"/>
              <a:ext cx="120024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Diamond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01520" y="3779640"/>
              <a:ext cx="770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Club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01520" y="4025880"/>
              <a:ext cx="91440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Spad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898640" y="3252600"/>
              <a:ext cx="53352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965320" y="3252600"/>
              <a:ext cx="53352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032360" y="3252600"/>
              <a:ext cx="53316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498840" y="3252600"/>
              <a:ext cx="53352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099040" y="3252600"/>
              <a:ext cx="53352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565520" y="3252600"/>
              <a:ext cx="53352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632560" y="3252600"/>
              <a:ext cx="53316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165720" y="3252600"/>
              <a:ext cx="53352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699240" y="3252600"/>
              <a:ext cx="53352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232760" y="3252600"/>
              <a:ext cx="53316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432160" y="3252600"/>
              <a:ext cx="53316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765920" y="3252600"/>
              <a:ext cx="53352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8299440" y="3252600"/>
              <a:ext cx="53352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898640" y="3498840"/>
              <a:ext cx="533520" cy="244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965320" y="3498840"/>
              <a:ext cx="533520" cy="244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032360" y="3498840"/>
              <a:ext cx="533160" cy="244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498840" y="3498840"/>
              <a:ext cx="533520" cy="244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099040" y="3498840"/>
              <a:ext cx="533520" cy="244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565520" y="3498840"/>
              <a:ext cx="533520" cy="244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632560" y="3498840"/>
              <a:ext cx="533160" cy="244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165720" y="3498840"/>
              <a:ext cx="533520" cy="244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699240" y="3498840"/>
              <a:ext cx="533520" cy="244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232760" y="3498840"/>
              <a:ext cx="533160" cy="244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432160" y="3498840"/>
              <a:ext cx="533160" cy="244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765920" y="3498840"/>
              <a:ext cx="533520" cy="244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8299440" y="3498840"/>
              <a:ext cx="533520" cy="244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898640" y="3743280"/>
              <a:ext cx="533520" cy="245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965320" y="3743280"/>
              <a:ext cx="533520" cy="245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032360" y="3743280"/>
              <a:ext cx="533160" cy="245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498840" y="3743280"/>
              <a:ext cx="533520" cy="245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099040" y="3743280"/>
              <a:ext cx="533520" cy="245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565520" y="3743280"/>
              <a:ext cx="533520" cy="245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632560" y="3743280"/>
              <a:ext cx="533160" cy="245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165720" y="3743280"/>
              <a:ext cx="533520" cy="245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699240" y="3743280"/>
              <a:ext cx="533520" cy="245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232760" y="3743280"/>
              <a:ext cx="533160" cy="245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432160" y="3743280"/>
              <a:ext cx="533160" cy="245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765920" y="3743280"/>
              <a:ext cx="533520" cy="245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8640" y="3989160"/>
              <a:ext cx="53352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965320" y="3989160"/>
              <a:ext cx="53352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032360" y="3989160"/>
              <a:ext cx="53316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98840" y="3989160"/>
              <a:ext cx="53352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099040" y="3989160"/>
              <a:ext cx="53352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565520" y="3989160"/>
              <a:ext cx="53352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5632560" y="3989160"/>
              <a:ext cx="53316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165720" y="3989160"/>
              <a:ext cx="53352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699240" y="3989160"/>
              <a:ext cx="53352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232760" y="3989160"/>
              <a:ext cx="53316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432160" y="3989160"/>
              <a:ext cx="53316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7765920" y="3989160"/>
              <a:ext cx="53352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8299440" y="3989160"/>
              <a:ext cx="53352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560600" y="3235320"/>
              <a:ext cx="2379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560600" y="3479760"/>
              <a:ext cx="23796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560600" y="3725640"/>
              <a:ext cx="23796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560600" y="3971880"/>
              <a:ext cx="2379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8299440" y="3743280"/>
              <a:ext cx="533520" cy="245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249640" y="2774880"/>
              <a:ext cx="488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A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782800" y="2774880"/>
              <a:ext cx="488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Tw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316320" y="2774880"/>
              <a:ext cx="7714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Th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849840" y="2774880"/>
              <a:ext cx="63000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Fou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383000" y="2774880"/>
              <a:ext cx="63036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Fiv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916520" y="2774880"/>
              <a:ext cx="488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450040" y="2774880"/>
              <a:ext cx="7714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Sev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983200" y="2774880"/>
              <a:ext cx="7714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Eigh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516720" y="2774880"/>
              <a:ext cx="63036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N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050240" y="2774880"/>
              <a:ext cx="488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T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583400" y="2774880"/>
              <a:ext cx="63036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Ja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8116920" y="2774880"/>
              <a:ext cx="7714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Que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8650440" y="2774880"/>
              <a:ext cx="63000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K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046240" y="2933640"/>
              <a:ext cx="2365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579760" y="2933640"/>
              <a:ext cx="2365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112920" y="2933640"/>
              <a:ext cx="23688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646440" y="2933640"/>
              <a:ext cx="2365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179960" y="2933640"/>
              <a:ext cx="2365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713120" y="2933640"/>
              <a:ext cx="23688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5246640" y="2933640"/>
              <a:ext cx="2365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5780160" y="2933640"/>
              <a:ext cx="2365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313320" y="2933640"/>
              <a:ext cx="23688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846840" y="2933640"/>
              <a:ext cx="2365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291440" y="2933640"/>
              <a:ext cx="4143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824960" y="2933640"/>
              <a:ext cx="4140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8358120" y="2933640"/>
              <a:ext cx="4143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>
              <a:off x="6780960" y="3882960"/>
              <a:ext cx="1600200" cy="5335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9968" y="1997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V="1">
              <a:off x="3581280" y="4568040"/>
              <a:ext cx="990720" cy="3049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9916" y="19912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198960" y="4884840"/>
              <a:ext cx="76968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Club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410080" y="4873680"/>
              <a:ext cx="62892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K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>
              <a:off x="5029200" y="4645080"/>
              <a:ext cx="457200" cy="228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12"/>
                  </a:moveTo>
                  <a:lnTo>
                    <a:pt x="19916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0" y="4587840"/>
              <a:ext cx="9144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05FCD-2B78-470E-988E-AC2C42660B5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5.10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ase Study: A Card Shuffling and Dealing Simul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eudocode for shuffling and deal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438280" y="2514600"/>
            <a:ext cx="320040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or each of the 52 card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lace card number in randomly selected unoccupied slot of deck</a:t>
            </a:r>
            <a:r>
              <a:rPr b="0" i="1" lang="en-US" sz="1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76320" y="2362320"/>
            <a:ext cx="21333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438280" y="4267080"/>
            <a:ext cx="320040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or each of the 52 card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ind card number in deck array and print face and suit of car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5943600" y="1828800"/>
            <a:ext cx="3124080" cy="179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hoose slot of deck random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While chosen slot of deck has been previously chosen</a:t>
            </a:r>
            <a:br>
              <a:rPr sz="1600"/>
            </a:br>
            <a:r>
              <a:rPr b="0" i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hoose slot of deck random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lace card number in chosen slot of dec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5943600" y="4267080"/>
            <a:ext cx="312408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or each slot of the deck array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f slot contains card number</a:t>
            </a:r>
            <a:br>
              <a:rPr sz="1600"/>
            </a:br>
            <a:r>
              <a:rPr b="0" i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Print the face and suit of the car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3048120" y="198108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ond refin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6705720" y="129528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rd refin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228600" y="19810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refin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-304920" y="2362320"/>
            <a:ext cx="2362320" cy="38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1440" bIns="91440" anchor="t">
            <a:noAutofit/>
          </a:bodyPr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nitialize the suit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nitialize the face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nitialize the deck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huffle the d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eal 52 cards</a:t>
            </a: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D6115-904E-4935-9656-3C7C7A568E8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 Initializ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i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ace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 array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1  Initializ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ck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 array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Call functio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huffl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1  Call functio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al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831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832" name=""/>
            <p:cNvGrpSpPr/>
            <p:nvPr/>
          </p:nvGrpSpPr>
          <p:grpSpPr>
            <a:xfrm>
              <a:off x="0" y="0"/>
              <a:ext cx="6780960" cy="207720"/>
              <a:chOff x="0" y="0"/>
              <a:chExt cx="6780960" cy="207720"/>
            </a:xfrm>
          </p:grpSpPr>
          <p:sp>
            <p:nvSpPr>
              <p:cNvPr id="833" name=""/>
              <p:cNvSpPr/>
              <p:nvPr/>
            </p:nvSpPr>
            <p:spPr>
              <a:xfrm>
                <a:off x="0" y="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0" y="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Fig. 5.24: fig05_24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5" name=""/>
            <p:cNvGrpSpPr/>
            <p:nvPr/>
          </p:nvGrpSpPr>
          <p:grpSpPr>
            <a:xfrm>
              <a:off x="0" y="207720"/>
              <a:ext cx="6780960" cy="207720"/>
              <a:chOff x="0" y="207720"/>
              <a:chExt cx="6780960" cy="207720"/>
            </a:xfrm>
          </p:grpSpPr>
          <p:sp>
            <p:nvSpPr>
              <p:cNvPr id="836" name=""/>
              <p:cNvSpPr/>
              <p:nvPr/>
            </p:nvSpPr>
            <p:spPr>
              <a:xfrm>
                <a:off x="0" y="207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07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Card shuffling dealing progra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8" name=""/>
            <p:cNvGrpSpPr/>
            <p:nvPr/>
          </p:nvGrpSpPr>
          <p:grpSpPr>
            <a:xfrm>
              <a:off x="0" y="415440"/>
              <a:ext cx="6780960" cy="207720"/>
              <a:chOff x="0" y="415440"/>
              <a:chExt cx="6780960" cy="207720"/>
            </a:xfrm>
          </p:grpSpPr>
          <p:sp>
            <p:nvSpPr>
              <p:cNvPr id="839" name=""/>
              <p:cNvSpPr/>
              <p:nvPr/>
            </p:nvSpPr>
            <p:spPr>
              <a:xfrm>
                <a:off x="0" y="415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0" y="415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1" name=""/>
            <p:cNvGrpSpPr/>
            <p:nvPr/>
          </p:nvGrpSpPr>
          <p:grpSpPr>
            <a:xfrm>
              <a:off x="0" y="623160"/>
              <a:ext cx="6780960" cy="207720"/>
              <a:chOff x="0" y="623160"/>
              <a:chExt cx="6780960" cy="207720"/>
            </a:xfrm>
          </p:grpSpPr>
          <p:sp>
            <p:nvSpPr>
              <p:cNvPr id="842" name=""/>
              <p:cNvSpPr/>
              <p:nvPr/>
            </p:nvSpPr>
            <p:spPr>
              <a:xfrm>
                <a:off x="0" y="623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0" y="623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4" name=""/>
            <p:cNvGrpSpPr/>
            <p:nvPr/>
          </p:nvGrpSpPr>
          <p:grpSpPr>
            <a:xfrm>
              <a:off x="0" y="831240"/>
              <a:ext cx="6780960" cy="207720"/>
              <a:chOff x="0" y="831240"/>
              <a:chExt cx="6780960" cy="207720"/>
            </a:xfrm>
          </p:grpSpPr>
          <p:sp>
            <p:nvSpPr>
              <p:cNvPr id="845" name=""/>
              <p:cNvSpPr/>
              <p:nvPr/>
            </p:nvSpPr>
            <p:spPr>
              <a:xfrm>
                <a:off x="0" y="831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0" y="831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7" name=""/>
            <p:cNvGrpSpPr/>
            <p:nvPr/>
          </p:nvGrpSpPr>
          <p:grpSpPr>
            <a:xfrm>
              <a:off x="0" y="1038960"/>
              <a:ext cx="6780960" cy="207720"/>
              <a:chOff x="0" y="1038960"/>
              <a:chExt cx="6780960" cy="207720"/>
            </a:xfrm>
          </p:grpSpPr>
          <p:sp>
            <p:nvSpPr>
              <p:cNvPr id="848" name=""/>
              <p:cNvSpPr/>
              <p:nvPr/>
            </p:nvSpPr>
            <p:spPr>
              <a:xfrm>
                <a:off x="0" y="1038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0" y="1038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io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0" name=""/>
            <p:cNvGrpSpPr/>
            <p:nvPr/>
          </p:nvGrpSpPr>
          <p:grpSpPr>
            <a:xfrm>
              <a:off x="0" y="1246680"/>
              <a:ext cx="6780960" cy="207720"/>
              <a:chOff x="0" y="1246680"/>
              <a:chExt cx="6780960" cy="207720"/>
            </a:xfrm>
          </p:grpSpPr>
          <p:sp>
            <p:nvSpPr>
              <p:cNvPr id="851" name=""/>
              <p:cNvSpPr/>
              <p:nvPr/>
            </p:nvSpPr>
            <p:spPr>
              <a:xfrm>
                <a:off x="0" y="1246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1246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3" name=""/>
            <p:cNvGrpSpPr/>
            <p:nvPr/>
          </p:nvGrpSpPr>
          <p:grpSpPr>
            <a:xfrm>
              <a:off x="0" y="1454760"/>
              <a:ext cx="6780960" cy="207720"/>
              <a:chOff x="0" y="1454760"/>
              <a:chExt cx="6780960" cy="207720"/>
            </a:xfrm>
          </p:grpSpPr>
          <p:sp>
            <p:nvSpPr>
              <p:cNvPr id="854" name=""/>
              <p:cNvSpPr/>
              <p:nvPr/>
            </p:nvSpPr>
            <p:spPr>
              <a:xfrm>
                <a:off x="0" y="1454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0" y="1454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&lt;iomanip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6" name=""/>
            <p:cNvGrpSpPr/>
            <p:nvPr/>
          </p:nvGrpSpPr>
          <p:grpSpPr>
            <a:xfrm>
              <a:off x="0" y="1662480"/>
              <a:ext cx="6780960" cy="207720"/>
              <a:chOff x="0" y="1662480"/>
              <a:chExt cx="6780960" cy="207720"/>
            </a:xfrm>
          </p:grpSpPr>
          <p:sp>
            <p:nvSpPr>
              <p:cNvPr id="857" name=""/>
              <p:cNvSpPr/>
              <p:nvPr/>
            </p:nvSpPr>
            <p:spPr>
              <a:xfrm>
                <a:off x="0" y="1662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0" y="1662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9" name=""/>
            <p:cNvGrpSpPr/>
            <p:nvPr/>
          </p:nvGrpSpPr>
          <p:grpSpPr>
            <a:xfrm>
              <a:off x="0" y="1870200"/>
              <a:ext cx="6780960" cy="207720"/>
              <a:chOff x="0" y="1870200"/>
              <a:chExt cx="6780960" cy="207720"/>
            </a:xfrm>
          </p:grpSpPr>
          <p:sp>
            <p:nvSpPr>
              <p:cNvPr id="860" name=""/>
              <p:cNvSpPr/>
              <p:nvPr/>
            </p:nvSpPr>
            <p:spPr>
              <a:xfrm>
                <a:off x="0" y="1870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0" y="1870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setw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2077920"/>
              <a:ext cx="6780960" cy="207720"/>
              <a:chOff x="0" y="2077920"/>
              <a:chExt cx="6780960" cy="2077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20779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0" y="20779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setiosflag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5" name=""/>
            <p:cNvGrpSpPr/>
            <p:nvPr/>
          </p:nvGrpSpPr>
          <p:grpSpPr>
            <a:xfrm>
              <a:off x="0" y="2286000"/>
              <a:ext cx="6780960" cy="207720"/>
              <a:chOff x="0" y="2286000"/>
              <a:chExt cx="6780960" cy="207720"/>
            </a:xfrm>
          </p:grpSpPr>
          <p:sp>
            <p:nvSpPr>
              <p:cNvPr id="866" name=""/>
              <p:cNvSpPr/>
              <p:nvPr/>
            </p:nvSpPr>
            <p:spPr>
              <a:xfrm>
                <a:off x="0" y="2286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0" y="2286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8" name=""/>
            <p:cNvGrpSpPr/>
            <p:nvPr/>
          </p:nvGrpSpPr>
          <p:grpSpPr>
            <a:xfrm>
              <a:off x="0" y="2493720"/>
              <a:ext cx="6780960" cy="207720"/>
              <a:chOff x="0" y="2493720"/>
              <a:chExt cx="6780960" cy="207720"/>
            </a:xfrm>
          </p:grpSpPr>
          <p:sp>
            <p:nvSpPr>
              <p:cNvPr id="869" name=""/>
              <p:cNvSpPr/>
              <p:nvPr/>
            </p:nvSpPr>
            <p:spPr>
              <a:xfrm>
                <a:off x="0" y="2493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0" y="2493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&lt;cstdlib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1" name=""/>
            <p:cNvGrpSpPr/>
            <p:nvPr/>
          </p:nvGrpSpPr>
          <p:grpSpPr>
            <a:xfrm>
              <a:off x="0" y="2701440"/>
              <a:ext cx="6780960" cy="207720"/>
              <a:chOff x="0" y="2701440"/>
              <a:chExt cx="6780960" cy="207720"/>
            </a:xfrm>
          </p:grpSpPr>
          <p:sp>
            <p:nvSpPr>
              <p:cNvPr id="872" name=""/>
              <p:cNvSpPr/>
              <p:nvPr/>
            </p:nvSpPr>
            <p:spPr>
              <a:xfrm>
                <a:off x="0" y="2701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2701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&lt;ctime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4" name=""/>
            <p:cNvGrpSpPr/>
            <p:nvPr/>
          </p:nvGrpSpPr>
          <p:grpSpPr>
            <a:xfrm>
              <a:off x="0" y="2909160"/>
              <a:ext cx="6780960" cy="207720"/>
              <a:chOff x="0" y="2909160"/>
              <a:chExt cx="6780960" cy="207720"/>
            </a:xfrm>
          </p:grpSpPr>
          <p:sp>
            <p:nvSpPr>
              <p:cNvPr id="875" name=""/>
              <p:cNvSpPr/>
              <p:nvPr/>
            </p:nvSpPr>
            <p:spPr>
              <a:xfrm>
                <a:off x="0" y="2909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0" y="2909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7" name=""/>
            <p:cNvGrpSpPr/>
            <p:nvPr/>
          </p:nvGrpSpPr>
          <p:grpSpPr>
            <a:xfrm>
              <a:off x="0" y="3117240"/>
              <a:ext cx="6780960" cy="207720"/>
              <a:chOff x="0" y="3117240"/>
              <a:chExt cx="6780960" cy="207720"/>
            </a:xfrm>
          </p:grpSpPr>
          <p:sp>
            <p:nvSpPr>
              <p:cNvPr id="878" name=""/>
              <p:cNvSpPr/>
              <p:nvPr/>
            </p:nvSpPr>
            <p:spPr>
              <a:xfrm>
                <a:off x="0" y="3117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0" y="3117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huffl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[][ 13 ]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"/>
            <p:cNvGrpSpPr/>
            <p:nvPr/>
          </p:nvGrpSpPr>
          <p:grpSpPr>
            <a:xfrm>
              <a:off x="0" y="3324960"/>
              <a:ext cx="6780960" cy="207720"/>
              <a:chOff x="0" y="3324960"/>
              <a:chExt cx="6780960" cy="207720"/>
            </a:xfrm>
          </p:grpSpPr>
          <p:sp>
            <p:nvSpPr>
              <p:cNvPr id="881" name=""/>
              <p:cNvSpPr/>
              <p:nvPr/>
            </p:nvSpPr>
            <p:spPr>
              <a:xfrm>
                <a:off x="0" y="3324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0" y="3324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eal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 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[][ 13 ]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*[]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*[]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3" name=""/>
            <p:cNvGrpSpPr/>
            <p:nvPr/>
          </p:nvGrpSpPr>
          <p:grpSpPr>
            <a:xfrm>
              <a:off x="0" y="3532680"/>
              <a:ext cx="6780960" cy="207720"/>
              <a:chOff x="0" y="3532680"/>
              <a:chExt cx="6780960" cy="207720"/>
            </a:xfrm>
          </p:grpSpPr>
          <p:sp>
            <p:nvSpPr>
              <p:cNvPr id="884" name=""/>
              <p:cNvSpPr/>
              <p:nvPr/>
            </p:nvSpPr>
            <p:spPr>
              <a:xfrm>
                <a:off x="0" y="3532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0" y="3532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6" name=""/>
            <p:cNvGrpSpPr/>
            <p:nvPr/>
          </p:nvGrpSpPr>
          <p:grpSpPr>
            <a:xfrm>
              <a:off x="0" y="3740760"/>
              <a:ext cx="6780960" cy="207720"/>
              <a:chOff x="0" y="3740760"/>
              <a:chExt cx="6780960" cy="207720"/>
            </a:xfrm>
          </p:grpSpPr>
          <p:sp>
            <p:nvSpPr>
              <p:cNvPr id="887" name=""/>
              <p:cNvSpPr/>
              <p:nvPr/>
            </p:nvSpPr>
            <p:spPr>
              <a:xfrm>
                <a:off x="0" y="3740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3740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9" name=""/>
            <p:cNvGrpSpPr/>
            <p:nvPr/>
          </p:nvGrpSpPr>
          <p:grpSpPr>
            <a:xfrm>
              <a:off x="0" y="3948480"/>
              <a:ext cx="6780960" cy="207720"/>
              <a:chOff x="0" y="3948480"/>
              <a:chExt cx="6780960" cy="207720"/>
            </a:xfrm>
          </p:grpSpPr>
          <p:sp>
            <p:nvSpPr>
              <p:cNvPr id="890" name=""/>
              <p:cNvSpPr/>
              <p:nvPr/>
            </p:nvSpPr>
            <p:spPr>
              <a:xfrm>
                <a:off x="0" y="3948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0" y="3948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2" name=""/>
            <p:cNvGrpSpPr/>
            <p:nvPr/>
          </p:nvGrpSpPr>
          <p:grpSpPr>
            <a:xfrm>
              <a:off x="0" y="4156200"/>
              <a:ext cx="6780960" cy="207720"/>
              <a:chOff x="0" y="4156200"/>
              <a:chExt cx="6780960" cy="207720"/>
            </a:xfrm>
          </p:grpSpPr>
          <p:sp>
            <p:nvSpPr>
              <p:cNvPr id="893" name=""/>
              <p:cNvSpPr/>
              <p:nvPr/>
            </p:nvSpPr>
            <p:spPr>
              <a:xfrm>
                <a:off x="0" y="4156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0" y="4156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*suit[ 4 ] =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5" name=""/>
            <p:cNvGrpSpPr/>
            <p:nvPr/>
          </p:nvGrpSpPr>
          <p:grpSpPr>
            <a:xfrm>
              <a:off x="0" y="4364280"/>
              <a:ext cx="6780960" cy="207720"/>
              <a:chOff x="0" y="4364280"/>
              <a:chExt cx="6780960" cy="207720"/>
            </a:xfrm>
          </p:grpSpPr>
          <p:sp>
            <p:nvSpPr>
              <p:cNvPr id="896" name=""/>
              <p:cNvSpPr/>
              <p:nvPr/>
            </p:nvSpPr>
            <p:spPr>
              <a:xfrm>
                <a:off x="0" y="4364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0" y="4364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{ "Hearts", "Diamonds", "Clubs", "Spades" 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8" name=""/>
            <p:cNvGrpSpPr/>
            <p:nvPr/>
          </p:nvGrpSpPr>
          <p:grpSpPr>
            <a:xfrm>
              <a:off x="0" y="4572000"/>
              <a:ext cx="6780960" cy="207720"/>
              <a:chOff x="0" y="4572000"/>
              <a:chExt cx="6780960" cy="207720"/>
            </a:xfrm>
          </p:grpSpPr>
          <p:sp>
            <p:nvSpPr>
              <p:cNvPr id="899" name=""/>
              <p:cNvSpPr/>
              <p:nvPr/>
            </p:nvSpPr>
            <p:spPr>
              <a:xfrm>
                <a:off x="0" y="4572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0" y="4572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*face[ 13 ] =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1" name=""/>
            <p:cNvGrpSpPr/>
            <p:nvPr/>
          </p:nvGrpSpPr>
          <p:grpSpPr>
            <a:xfrm>
              <a:off x="0" y="4779720"/>
              <a:ext cx="6780960" cy="207720"/>
              <a:chOff x="0" y="4779720"/>
              <a:chExt cx="6780960" cy="207720"/>
            </a:xfrm>
          </p:grpSpPr>
          <p:sp>
            <p:nvSpPr>
              <p:cNvPr id="902" name=""/>
              <p:cNvSpPr/>
              <p:nvPr/>
            </p:nvSpPr>
            <p:spPr>
              <a:xfrm>
                <a:off x="0" y="4779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0" y="4779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{ "Ace", "Deuce", "Three", "Four"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4" name=""/>
            <p:cNvGrpSpPr/>
            <p:nvPr/>
          </p:nvGrpSpPr>
          <p:grpSpPr>
            <a:xfrm>
              <a:off x="0" y="4987800"/>
              <a:ext cx="6780960" cy="207720"/>
              <a:chOff x="0" y="4987800"/>
              <a:chExt cx="6780960" cy="207720"/>
            </a:xfrm>
          </p:grpSpPr>
          <p:sp>
            <p:nvSpPr>
              <p:cNvPr id="905" name=""/>
              <p:cNvSpPr/>
              <p:nvPr/>
            </p:nvSpPr>
            <p:spPr>
              <a:xfrm>
                <a:off x="0" y="49878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0" y="49878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"Five", "Six", "Seven", "Eight"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7" name=""/>
            <p:cNvGrpSpPr/>
            <p:nvPr/>
          </p:nvGrpSpPr>
          <p:grpSpPr>
            <a:xfrm>
              <a:off x="0" y="5195520"/>
              <a:ext cx="6780960" cy="207720"/>
              <a:chOff x="0" y="5195520"/>
              <a:chExt cx="6780960" cy="207720"/>
            </a:xfrm>
          </p:grpSpPr>
          <p:sp>
            <p:nvSpPr>
              <p:cNvPr id="908" name=""/>
              <p:cNvSpPr/>
              <p:nvPr/>
            </p:nvSpPr>
            <p:spPr>
              <a:xfrm>
                <a:off x="0" y="51955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955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"Nine", "Ten", "Jack", "Queen", "King" 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0" name=""/>
            <p:cNvGrpSpPr/>
            <p:nvPr/>
          </p:nvGrpSpPr>
          <p:grpSpPr>
            <a:xfrm>
              <a:off x="0" y="5403240"/>
              <a:ext cx="6780960" cy="207720"/>
              <a:chOff x="0" y="5403240"/>
              <a:chExt cx="6780960" cy="207720"/>
            </a:xfrm>
          </p:grpSpPr>
          <p:sp>
            <p:nvSpPr>
              <p:cNvPr id="911" name=""/>
              <p:cNvSpPr/>
              <p:nvPr/>
            </p:nvSpPr>
            <p:spPr>
              <a:xfrm>
                <a:off x="0" y="5403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0" y="5403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eck[ 4 ][ 13 ] = { 0 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3" name=""/>
            <p:cNvGrpSpPr/>
            <p:nvPr/>
          </p:nvGrpSpPr>
          <p:grpSpPr>
            <a:xfrm>
              <a:off x="0" y="5610960"/>
              <a:ext cx="6780960" cy="207720"/>
              <a:chOff x="0" y="5610960"/>
              <a:chExt cx="6780960" cy="207720"/>
            </a:xfrm>
          </p:grpSpPr>
          <p:sp>
            <p:nvSpPr>
              <p:cNvPr id="914" name=""/>
              <p:cNvSpPr/>
              <p:nvPr/>
            </p:nvSpPr>
            <p:spPr>
              <a:xfrm>
                <a:off x="0" y="5610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0" y="5610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6" name=""/>
            <p:cNvGrpSpPr/>
            <p:nvPr/>
          </p:nvGrpSpPr>
          <p:grpSpPr>
            <a:xfrm>
              <a:off x="0" y="5819040"/>
              <a:ext cx="6780960" cy="207720"/>
              <a:chOff x="0" y="5819040"/>
              <a:chExt cx="6780960" cy="207720"/>
            </a:xfrm>
          </p:grpSpPr>
          <p:sp>
            <p:nvSpPr>
              <p:cNvPr id="917" name=""/>
              <p:cNvSpPr/>
              <p:nvPr/>
            </p:nvSpPr>
            <p:spPr>
              <a:xfrm>
                <a:off x="0" y="58190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0" y="58190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srand( time( 0 )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9" name=""/>
            <p:cNvGrpSpPr/>
            <p:nvPr/>
          </p:nvGrpSpPr>
          <p:grpSpPr>
            <a:xfrm>
              <a:off x="0" y="6026760"/>
              <a:ext cx="6780960" cy="207720"/>
              <a:chOff x="0" y="6026760"/>
              <a:chExt cx="6780960" cy="207720"/>
            </a:xfrm>
          </p:grpSpPr>
          <p:sp>
            <p:nvSpPr>
              <p:cNvPr id="920" name=""/>
              <p:cNvSpPr/>
              <p:nvPr/>
            </p:nvSpPr>
            <p:spPr>
              <a:xfrm>
                <a:off x="0" y="6026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0" y="6026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"/>
            <p:cNvGrpSpPr/>
            <p:nvPr/>
          </p:nvGrpSpPr>
          <p:grpSpPr>
            <a:xfrm>
              <a:off x="0" y="6234480"/>
              <a:ext cx="6780960" cy="207720"/>
              <a:chOff x="0" y="6234480"/>
              <a:chExt cx="6780960" cy="207720"/>
            </a:xfrm>
          </p:grpSpPr>
          <p:sp>
            <p:nvSpPr>
              <p:cNvPr id="923" name=""/>
              <p:cNvSpPr/>
              <p:nvPr/>
            </p:nvSpPr>
            <p:spPr>
              <a:xfrm>
                <a:off x="0" y="6234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6234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shuffle( deck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5" name=""/>
            <p:cNvGrpSpPr/>
            <p:nvPr/>
          </p:nvGrpSpPr>
          <p:grpSpPr>
            <a:xfrm>
              <a:off x="0" y="6442200"/>
              <a:ext cx="6780960" cy="207720"/>
              <a:chOff x="0" y="6442200"/>
              <a:chExt cx="6780960" cy="207720"/>
            </a:xfrm>
          </p:grpSpPr>
          <p:sp>
            <p:nvSpPr>
              <p:cNvPr id="926" name=""/>
              <p:cNvSpPr/>
              <p:nvPr/>
            </p:nvSpPr>
            <p:spPr>
              <a:xfrm>
                <a:off x="0" y="6442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0" y="6442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deal( deck, face, suit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8" name=""/>
            <p:cNvGrpSpPr/>
            <p:nvPr/>
          </p:nvGrpSpPr>
          <p:grpSpPr>
            <a:xfrm>
              <a:off x="0" y="6650280"/>
              <a:ext cx="6780960" cy="207720"/>
              <a:chOff x="0" y="6650280"/>
              <a:chExt cx="6780960" cy="207720"/>
            </a:xfrm>
          </p:grpSpPr>
          <p:sp>
            <p:nvSpPr>
              <p:cNvPr id="929" name=""/>
              <p:cNvSpPr/>
              <p:nvPr/>
            </p:nvSpPr>
            <p:spPr>
              <a:xfrm>
                <a:off x="0" y="6650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0" y="6650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  Define functions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932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933" name=""/>
            <p:cNvGrpSpPr/>
            <p:nvPr/>
          </p:nvGrpSpPr>
          <p:grpSpPr>
            <a:xfrm>
              <a:off x="0" y="0"/>
              <a:ext cx="6780960" cy="207720"/>
              <a:chOff x="0" y="0"/>
              <a:chExt cx="6780960" cy="207720"/>
            </a:xfrm>
          </p:grpSpPr>
          <p:sp>
            <p:nvSpPr>
              <p:cNvPr id="934" name=""/>
              <p:cNvSpPr/>
              <p:nvPr/>
            </p:nvSpPr>
            <p:spPr>
              <a:xfrm>
                <a:off x="0" y="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0" y="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6" name=""/>
            <p:cNvGrpSpPr/>
            <p:nvPr/>
          </p:nvGrpSpPr>
          <p:grpSpPr>
            <a:xfrm>
              <a:off x="0" y="207720"/>
              <a:ext cx="6780960" cy="207720"/>
              <a:chOff x="0" y="207720"/>
              <a:chExt cx="6780960" cy="207720"/>
            </a:xfrm>
          </p:grpSpPr>
          <p:sp>
            <p:nvSpPr>
              <p:cNvPr id="937" name=""/>
              <p:cNvSpPr/>
              <p:nvPr/>
            </p:nvSpPr>
            <p:spPr>
              <a:xfrm>
                <a:off x="0" y="207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0" y="207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9" name=""/>
            <p:cNvGrpSpPr/>
            <p:nvPr/>
          </p:nvGrpSpPr>
          <p:grpSpPr>
            <a:xfrm>
              <a:off x="0" y="415440"/>
              <a:ext cx="6780960" cy="207720"/>
              <a:chOff x="0" y="415440"/>
              <a:chExt cx="6780960" cy="207720"/>
            </a:xfrm>
          </p:grpSpPr>
          <p:sp>
            <p:nvSpPr>
              <p:cNvPr id="940" name=""/>
              <p:cNvSpPr/>
              <p:nvPr/>
            </p:nvSpPr>
            <p:spPr>
              <a:xfrm>
                <a:off x="0" y="415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0" y="415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2" name=""/>
            <p:cNvGrpSpPr/>
            <p:nvPr/>
          </p:nvGrpSpPr>
          <p:grpSpPr>
            <a:xfrm>
              <a:off x="0" y="623160"/>
              <a:ext cx="6780960" cy="207720"/>
              <a:chOff x="0" y="623160"/>
              <a:chExt cx="6780960" cy="207720"/>
            </a:xfrm>
          </p:grpSpPr>
          <p:sp>
            <p:nvSpPr>
              <p:cNvPr id="943" name=""/>
              <p:cNvSpPr/>
              <p:nvPr/>
            </p:nvSpPr>
            <p:spPr>
              <a:xfrm>
                <a:off x="0" y="623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0" y="623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huffl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wDeck[][ 13 ]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5" name=""/>
            <p:cNvGrpSpPr/>
            <p:nvPr/>
          </p:nvGrpSpPr>
          <p:grpSpPr>
            <a:xfrm>
              <a:off x="0" y="831240"/>
              <a:ext cx="6780960" cy="207720"/>
              <a:chOff x="0" y="831240"/>
              <a:chExt cx="6780960" cy="207720"/>
            </a:xfrm>
          </p:grpSpPr>
          <p:sp>
            <p:nvSpPr>
              <p:cNvPr id="946" name=""/>
              <p:cNvSpPr/>
              <p:nvPr/>
            </p:nvSpPr>
            <p:spPr>
              <a:xfrm>
                <a:off x="0" y="831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0" y="831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8" name=""/>
            <p:cNvGrpSpPr/>
            <p:nvPr/>
          </p:nvGrpSpPr>
          <p:grpSpPr>
            <a:xfrm>
              <a:off x="0" y="1038960"/>
              <a:ext cx="6780960" cy="207720"/>
              <a:chOff x="0" y="1038960"/>
              <a:chExt cx="6780960" cy="207720"/>
            </a:xfrm>
          </p:grpSpPr>
          <p:sp>
            <p:nvSpPr>
              <p:cNvPr id="949" name=""/>
              <p:cNvSpPr/>
              <p:nvPr/>
            </p:nvSpPr>
            <p:spPr>
              <a:xfrm>
                <a:off x="0" y="1038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1038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row, colum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1" name=""/>
            <p:cNvGrpSpPr/>
            <p:nvPr/>
          </p:nvGrpSpPr>
          <p:grpSpPr>
            <a:xfrm>
              <a:off x="0" y="1246680"/>
              <a:ext cx="6780960" cy="207720"/>
              <a:chOff x="0" y="1246680"/>
              <a:chExt cx="6780960" cy="207720"/>
            </a:xfrm>
          </p:grpSpPr>
          <p:sp>
            <p:nvSpPr>
              <p:cNvPr id="952" name=""/>
              <p:cNvSpPr/>
              <p:nvPr/>
            </p:nvSpPr>
            <p:spPr>
              <a:xfrm>
                <a:off x="0" y="1246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0" y="1246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4" name=""/>
            <p:cNvGrpSpPr/>
            <p:nvPr/>
          </p:nvGrpSpPr>
          <p:grpSpPr>
            <a:xfrm>
              <a:off x="0" y="1454760"/>
              <a:ext cx="6780960" cy="207720"/>
              <a:chOff x="0" y="1454760"/>
              <a:chExt cx="6780960" cy="207720"/>
            </a:xfrm>
          </p:grpSpPr>
          <p:sp>
            <p:nvSpPr>
              <p:cNvPr id="955" name=""/>
              <p:cNvSpPr/>
              <p:nvPr/>
            </p:nvSpPr>
            <p:spPr>
              <a:xfrm>
                <a:off x="0" y="1454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0" y="1454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card = 1; card &lt;= 52; card++ )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7" name=""/>
            <p:cNvGrpSpPr/>
            <p:nvPr/>
          </p:nvGrpSpPr>
          <p:grpSpPr>
            <a:xfrm>
              <a:off x="0" y="1662480"/>
              <a:ext cx="6780960" cy="207720"/>
              <a:chOff x="0" y="1662480"/>
              <a:chExt cx="6780960" cy="207720"/>
            </a:xfrm>
          </p:grpSpPr>
          <p:sp>
            <p:nvSpPr>
              <p:cNvPr id="958" name=""/>
              <p:cNvSpPr/>
              <p:nvPr/>
            </p:nvSpPr>
            <p:spPr>
              <a:xfrm>
                <a:off x="0" y="1662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0" y="1662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do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0" name=""/>
            <p:cNvGrpSpPr/>
            <p:nvPr/>
          </p:nvGrpSpPr>
          <p:grpSpPr>
            <a:xfrm>
              <a:off x="0" y="1870200"/>
              <a:ext cx="6780960" cy="207720"/>
              <a:chOff x="0" y="1870200"/>
              <a:chExt cx="6780960" cy="207720"/>
            </a:xfrm>
          </p:grpSpPr>
          <p:sp>
            <p:nvSpPr>
              <p:cNvPr id="961" name=""/>
              <p:cNvSpPr/>
              <p:nvPr/>
            </p:nvSpPr>
            <p:spPr>
              <a:xfrm>
                <a:off x="0" y="1870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0" y="1870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 row = rand() % 4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3" name=""/>
            <p:cNvGrpSpPr/>
            <p:nvPr/>
          </p:nvGrpSpPr>
          <p:grpSpPr>
            <a:xfrm>
              <a:off x="0" y="2077920"/>
              <a:ext cx="6780960" cy="207720"/>
              <a:chOff x="0" y="2077920"/>
              <a:chExt cx="6780960" cy="207720"/>
            </a:xfrm>
          </p:grpSpPr>
          <p:sp>
            <p:nvSpPr>
              <p:cNvPr id="964" name=""/>
              <p:cNvSpPr/>
              <p:nvPr/>
            </p:nvSpPr>
            <p:spPr>
              <a:xfrm>
                <a:off x="0" y="20779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20779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 column = rand() % 13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6" name=""/>
            <p:cNvGrpSpPr/>
            <p:nvPr/>
          </p:nvGrpSpPr>
          <p:grpSpPr>
            <a:xfrm>
              <a:off x="0" y="2286000"/>
              <a:ext cx="6780960" cy="207720"/>
              <a:chOff x="0" y="2286000"/>
              <a:chExt cx="6780960" cy="207720"/>
            </a:xfrm>
          </p:grpSpPr>
          <p:sp>
            <p:nvSpPr>
              <p:cNvPr id="967" name=""/>
              <p:cNvSpPr/>
              <p:nvPr/>
            </p:nvSpPr>
            <p:spPr>
              <a:xfrm>
                <a:off x="0" y="2286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0" y="2286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}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whi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( wDeck[ row ][ column ] != 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9" name=""/>
            <p:cNvGrpSpPr/>
            <p:nvPr/>
          </p:nvGrpSpPr>
          <p:grpSpPr>
            <a:xfrm>
              <a:off x="0" y="2493720"/>
              <a:ext cx="6780960" cy="207720"/>
              <a:chOff x="0" y="2493720"/>
              <a:chExt cx="6780960" cy="207720"/>
            </a:xfrm>
          </p:grpSpPr>
          <p:sp>
            <p:nvSpPr>
              <p:cNvPr id="970" name=""/>
              <p:cNvSpPr/>
              <p:nvPr/>
            </p:nvSpPr>
            <p:spPr>
              <a:xfrm>
                <a:off x="0" y="2493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0" y="2493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2" name=""/>
            <p:cNvGrpSpPr/>
            <p:nvPr/>
          </p:nvGrpSpPr>
          <p:grpSpPr>
            <a:xfrm>
              <a:off x="0" y="2701440"/>
              <a:ext cx="6780960" cy="207720"/>
              <a:chOff x="0" y="2701440"/>
              <a:chExt cx="6780960" cy="207720"/>
            </a:xfrm>
          </p:grpSpPr>
          <p:sp>
            <p:nvSpPr>
              <p:cNvPr id="973" name=""/>
              <p:cNvSpPr/>
              <p:nvPr/>
            </p:nvSpPr>
            <p:spPr>
              <a:xfrm>
                <a:off x="0" y="2701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0" y="2701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wDeck[ row ][ column ] = card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5" name=""/>
            <p:cNvGrpSpPr/>
            <p:nvPr/>
          </p:nvGrpSpPr>
          <p:grpSpPr>
            <a:xfrm>
              <a:off x="0" y="2909160"/>
              <a:ext cx="6780960" cy="207720"/>
              <a:chOff x="0" y="2909160"/>
              <a:chExt cx="6780960" cy="207720"/>
            </a:xfrm>
          </p:grpSpPr>
          <p:sp>
            <p:nvSpPr>
              <p:cNvPr id="976" name=""/>
              <p:cNvSpPr/>
              <p:nvPr/>
            </p:nvSpPr>
            <p:spPr>
              <a:xfrm>
                <a:off x="0" y="2909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0" y="2909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8" name=""/>
            <p:cNvGrpSpPr/>
            <p:nvPr/>
          </p:nvGrpSpPr>
          <p:grpSpPr>
            <a:xfrm>
              <a:off x="0" y="3117240"/>
              <a:ext cx="6780960" cy="207720"/>
              <a:chOff x="0" y="3117240"/>
              <a:chExt cx="6780960" cy="207720"/>
            </a:xfrm>
          </p:grpSpPr>
          <p:sp>
            <p:nvSpPr>
              <p:cNvPr id="979" name=""/>
              <p:cNvSpPr/>
              <p:nvPr/>
            </p:nvSpPr>
            <p:spPr>
              <a:xfrm>
                <a:off x="0" y="3117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0" y="3117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1" name=""/>
            <p:cNvGrpSpPr/>
            <p:nvPr/>
          </p:nvGrpSpPr>
          <p:grpSpPr>
            <a:xfrm>
              <a:off x="0" y="3324960"/>
              <a:ext cx="6780960" cy="207720"/>
              <a:chOff x="0" y="3324960"/>
              <a:chExt cx="6780960" cy="207720"/>
            </a:xfrm>
          </p:grpSpPr>
          <p:sp>
            <p:nvSpPr>
              <p:cNvPr id="982" name=""/>
              <p:cNvSpPr/>
              <p:nvPr/>
            </p:nvSpPr>
            <p:spPr>
              <a:xfrm>
                <a:off x="0" y="3324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0" y="3324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4" name=""/>
            <p:cNvGrpSpPr/>
            <p:nvPr/>
          </p:nvGrpSpPr>
          <p:grpSpPr>
            <a:xfrm>
              <a:off x="0" y="3532680"/>
              <a:ext cx="6780960" cy="207720"/>
              <a:chOff x="0" y="3532680"/>
              <a:chExt cx="6780960" cy="207720"/>
            </a:xfrm>
          </p:grpSpPr>
          <p:sp>
            <p:nvSpPr>
              <p:cNvPr id="985" name=""/>
              <p:cNvSpPr/>
              <p:nvPr/>
            </p:nvSpPr>
            <p:spPr>
              <a:xfrm>
                <a:off x="0" y="3532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0" y="3532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eal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 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wDeck[][ 13 ]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*wFace[]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7" name=""/>
            <p:cNvGrpSpPr/>
            <p:nvPr/>
          </p:nvGrpSpPr>
          <p:grpSpPr>
            <a:xfrm>
              <a:off x="0" y="3740760"/>
              <a:ext cx="6780960" cy="207720"/>
              <a:chOff x="0" y="3740760"/>
              <a:chExt cx="6780960" cy="207720"/>
            </a:xfrm>
          </p:grpSpPr>
          <p:sp>
            <p:nvSpPr>
              <p:cNvPr id="988" name=""/>
              <p:cNvSpPr/>
              <p:nvPr/>
            </p:nvSpPr>
            <p:spPr>
              <a:xfrm>
                <a:off x="0" y="3740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0" y="3740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*wSuit[]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0" name=""/>
            <p:cNvGrpSpPr/>
            <p:nvPr/>
          </p:nvGrpSpPr>
          <p:grpSpPr>
            <a:xfrm>
              <a:off x="0" y="3948480"/>
              <a:ext cx="6780960" cy="207720"/>
              <a:chOff x="0" y="3948480"/>
              <a:chExt cx="6780960" cy="207720"/>
            </a:xfrm>
          </p:grpSpPr>
          <p:sp>
            <p:nvSpPr>
              <p:cNvPr id="991" name=""/>
              <p:cNvSpPr/>
              <p:nvPr/>
            </p:nvSpPr>
            <p:spPr>
              <a:xfrm>
                <a:off x="0" y="3948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0" y="3948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3" name=""/>
            <p:cNvGrpSpPr/>
            <p:nvPr/>
          </p:nvGrpSpPr>
          <p:grpSpPr>
            <a:xfrm>
              <a:off x="0" y="4156200"/>
              <a:ext cx="6780960" cy="207720"/>
              <a:chOff x="0" y="4156200"/>
              <a:chExt cx="6780960" cy="207720"/>
            </a:xfrm>
          </p:grpSpPr>
          <p:sp>
            <p:nvSpPr>
              <p:cNvPr id="994" name=""/>
              <p:cNvSpPr/>
              <p:nvPr/>
            </p:nvSpPr>
            <p:spPr>
              <a:xfrm>
                <a:off x="0" y="4156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0" y="4156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card = 1; card &lt;= 52; card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6" name=""/>
            <p:cNvGrpSpPr/>
            <p:nvPr/>
          </p:nvGrpSpPr>
          <p:grpSpPr>
            <a:xfrm>
              <a:off x="0" y="4364280"/>
              <a:ext cx="6780960" cy="207720"/>
              <a:chOff x="0" y="4364280"/>
              <a:chExt cx="6780960" cy="207720"/>
            </a:xfrm>
          </p:grpSpPr>
          <p:sp>
            <p:nvSpPr>
              <p:cNvPr id="997" name=""/>
              <p:cNvSpPr/>
              <p:nvPr/>
            </p:nvSpPr>
            <p:spPr>
              <a:xfrm>
                <a:off x="0" y="4364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0" y="4364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9" name=""/>
            <p:cNvGrpSpPr/>
            <p:nvPr/>
          </p:nvGrpSpPr>
          <p:grpSpPr>
            <a:xfrm>
              <a:off x="0" y="4572000"/>
              <a:ext cx="6780960" cy="207720"/>
              <a:chOff x="0" y="4572000"/>
              <a:chExt cx="6780960" cy="207720"/>
            </a:xfrm>
          </p:grpSpPr>
          <p:sp>
            <p:nvSpPr>
              <p:cNvPr id="1000" name=""/>
              <p:cNvSpPr/>
              <p:nvPr/>
            </p:nvSpPr>
            <p:spPr>
              <a:xfrm>
                <a:off x="0" y="4572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0" y="4572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row = 0; row &lt;= 3; row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2" name=""/>
            <p:cNvGrpSpPr/>
            <p:nvPr/>
          </p:nvGrpSpPr>
          <p:grpSpPr>
            <a:xfrm>
              <a:off x="0" y="4779720"/>
              <a:ext cx="6780960" cy="207720"/>
              <a:chOff x="0" y="4779720"/>
              <a:chExt cx="6780960" cy="207720"/>
            </a:xfrm>
          </p:grpSpPr>
          <p:sp>
            <p:nvSpPr>
              <p:cNvPr id="1003" name=""/>
              <p:cNvSpPr/>
              <p:nvPr/>
            </p:nvSpPr>
            <p:spPr>
              <a:xfrm>
                <a:off x="0" y="4779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0" y="4779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5" name=""/>
            <p:cNvGrpSpPr/>
            <p:nvPr/>
          </p:nvGrpSpPr>
          <p:grpSpPr>
            <a:xfrm>
              <a:off x="0" y="4987800"/>
              <a:ext cx="6780960" cy="207720"/>
              <a:chOff x="0" y="4987800"/>
              <a:chExt cx="6780960" cy="207720"/>
            </a:xfrm>
          </p:grpSpPr>
          <p:sp>
            <p:nvSpPr>
              <p:cNvPr id="1006" name=""/>
              <p:cNvSpPr/>
              <p:nvPr/>
            </p:nvSpPr>
            <p:spPr>
              <a:xfrm>
                <a:off x="0" y="49878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0" y="49878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column = 0; column &lt;= 12; column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8" name=""/>
            <p:cNvGrpSpPr/>
            <p:nvPr/>
          </p:nvGrpSpPr>
          <p:grpSpPr>
            <a:xfrm>
              <a:off x="0" y="5195520"/>
              <a:ext cx="6780960" cy="207720"/>
              <a:chOff x="0" y="5195520"/>
              <a:chExt cx="6780960" cy="207720"/>
            </a:xfrm>
          </p:grpSpPr>
          <p:sp>
            <p:nvSpPr>
              <p:cNvPr id="1009" name=""/>
              <p:cNvSpPr/>
              <p:nvPr/>
            </p:nvSpPr>
            <p:spPr>
              <a:xfrm>
                <a:off x="0" y="51955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0" y="51955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1" name=""/>
            <p:cNvGrpSpPr/>
            <p:nvPr/>
          </p:nvGrpSpPr>
          <p:grpSpPr>
            <a:xfrm>
              <a:off x="0" y="5403240"/>
              <a:ext cx="6780960" cy="207720"/>
              <a:chOff x="0" y="5403240"/>
              <a:chExt cx="6780960" cy="207720"/>
            </a:xfrm>
          </p:grpSpPr>
          <p:sp>
            <p:nvSpPr>
              <p:cNvPr id="1012" name=""/>
              <p:cNvSpPr/>
              <p:nvPr/>
            </p:nvSpPr>
            <p:spPr>
              <a:xfrm>
                <a:off x="0" y="5403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0" y="5403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wDeck[ row ][ column ] == card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4" name=""/>
            <p:cNvGrpSpPr/>
            <p:nvPr/>
          </p:nvGrpSpPr>
          <p:grpSpPr>
            <a:xfrm>
              <a:off x="0" y="5610960"/>
              <a:ext cx="6780960" cy="207720"/>
              <a:chOff x="0" y="5610960"/>
              <a:chExt cx="6780960" cy="207720"/>
            </a:xfrm>
          </p:grpSpPr>
          <p:sp>
            <p:nvSpPr>
              <p:cNvPr id="1015" name=""/>
              <p:cNvSpPr/>
              <p:nvPr/>
            </p:nvSpPr>
            <p:spPr>
              <a:xfrm>
                <a:off x="0" y="5610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0" y="5610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       cout &lt;&lt; setw( 5 ) &lt;&lt; setiosflags( ios::right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7" name=""/>
            <p:cNvGrpSpPr/>
            <p:nvPr/>
          </p:nvGrpSpPr>
          <p:grpSpPr>
            <a:xfrm>
              <a:off x="0" y="5819040"/>
              <a:ext cx="6780960" cy="207720"/>
              <a:chOff x="0" y="5819040"/>
              <a:chExt cx="6780960" cy="207720"/>
            </a:xfrm>
          </p:grpSpPr>
          <p:sp>
            <p:nvSpPr>
              <p:cNvPr id="1018" name=""/>
              <p:cNvSpPr/>
              <p:nvPr/>
            </p:nvSpPr>
            <p:spPr>
              <a:xfrm>
                <a:off x="0" y="58190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0" y="58190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            &lt;&lt; wFace[ column ] &lt;&lt; " of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0" name=""/>
            <p:cNvGrpSpPr/>
            <p:nvPr/>
          </p:nvGrpSpPr>
          <p:grpSpPr>
            <a:xfrm>
              <a:off x="0" y="6026760"/>
              <a:ext cx="6780960" cy="207720"/>
              <a:chOff x="0" y="6026760"/>
              <a:chExt cx="6780960" cy="207720"/>
            </a:xfrm>
          </p:grpSpPr>
          <p:sp>
            <p:nvSpPr>
              <p:cNvPr id="1021" name=""/>
              <p:cNvSpPr/>
              <p:nvPr/>
            </p:nvSpPr>
            <p:spPr>
              <a:xfrm>
                <a:off x="0" y="6026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0" y="6026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            &lt;&lt; setw( 8 ) &lt;&lt; setiosflags( ios::left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3" name=""/>
            <p:cNvGrpSpPr/>
            <p:nvPr/>
          </p:nvGrpSpPr>
          <p:grpSpPr>
            <a:xfrm>
              <a:off x="0" y="6234480"/>
              <a:ext cx="6780960" cy="207720"/>
              <a:chOff x="0" y="6234480"/>
              <a:chExt cx="6780960" cy="207720"/>
            </a:xfrm>
          </p:grpSpPr>
          <p:sp>
            <p:nvSpPr>
              <p:cNvPr id="1024" name=""/>
              <p:cNvSpPr/>
              <p:nvPr/>
            </p:nvSpPr>
            <p:spPr>
              <a:xfrm>
                <a:off x="0" y="6234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0" y="6234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            &lt;&lt; wSuit[ row ]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6" name=""/>
            <p:cNvGrpSpPr/>
            <p:nvPr/>
          </p:nvGrpSpPr>
          <p:grpSpPr>
            <a:xfrm>
              <a:off x="0" y="6442200"/>
              <a:ext cx="6780960" cy="207720"/>
              <a:chOff x="0" y="6442200"/>
              <a:chExt cx="6780960" cy="207720"/>
            </a:xfrm>
          </p:grpSpPr>
          <p:sp>
            <p:nvSpPr>
              <p:cNvPr id="1027" name=""/>
              <p:cNvSpPr/>
              <p:nvPr/>
            </p:nvSpPr>
            <p:spPr>
              <a:xfrm>
                <a:off x="0" y="6442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0" y="6442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            &lt;&lt; ( card % 2 == 0 ? '\n' : '\t'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9" name=""/>
            <p:cNvGrpSpPr/>
            <p:nvPr/>
          </p:nvGrpSpPr>
          <p:grpSpPr>
            <a:xfrm>
              <a:off x="0" y="6650280"/>
              <a:ext cx="6780960" cy="207720"/>
              <a:chOff x="0" y="6650280"/>
              <a:chExt cx="6780960" cy="207720"/>
            </a:xfrm>
          </p:grpSpPr>
          <p:sp>
            <p:nvSpPr>
              <p:cNvPr id="1030" name=""/>
              <p:cNvSpPr/>
              <p:nvPr/>
            </p:nvSpPr>
            <p:spPr>
              <a:xfrm>
                <a:off x="0" y="6650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0" y="6650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32" name=""/>
          <p:cNvGrpSpPr/>
          <p:nvPr/>
        </p:nvGrpSpPr>
        <p:grpSpPr>
          <a:xfrm>
            <a:off x="2743200" y="685800"/>
            <a:ext cx="4343400" cy="1218960"/>
            <a:chOff x="2743200" y="685800"/>
            <a:chExt cx="4343400" cy="1218960"/>
          </a:xfrm>
        </p:grpSpPr>
        <p:sp>
          <p:nvSpPr>
            <p:cNvPr id="1033" name=""/>
            <p:cNvSpPr/>
            <p:nvPr/>
          </p:nvSpPr>
          <p:spPr>
            <a:xfrm>
              <a:off x="4419360" y="685800"/>
              <a:ext cx="26672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numbers 1-52 are randomly placed into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eck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rra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 flipH="1">
              <a:off x="2743200" y="1218960"/>
              <a:ext cx="16761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5" name=""/>
          <p:cNvGrpSpPr/>
          <p:nvPr/>
        </p:nvGrpSpPr>
        <p:grpSpPr>
          <a:xfrm>
            <a:off x="4038120" y="4038480"/>
            <a:ext cx="4343760" cy="1371600"/>
            <a:chOff x="4038120" y="4038480"/>
            <a:chExt cx="4343760" cy="1371600"/>
          </a:xfrm>
        </p:grpSpPr>
        <p:sp>
          <p:nvSpPr>
            <p:cNvPr id="1036" name=""/>
            <p:cNvSpPr/>
            <p:nvPr/>
          </p:nvSpPr>
          <p:spPr>
            <a:xfrm>
              <a:off x="6019560" y="4038480"/>
              <a:ext cx="23623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arch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eck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ar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number, then print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ac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ui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 flipH="1">
              <a:off x="4038120" y="4419360"/>
              <a:ext cx="198108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039" name=""/>
          <p:cNvSpPr/>
          <p:nvPr/>
        </p:nvSpPr>
        <p:spPr>
          <a:xfrm>
            <a:off x="0" y="0"/>
            <a:ext cx="6705720" cy="483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ix of Clubs          Seven of Diam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ce of Spades           Ace of Diam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ce of Hearts         Queen of Diam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Queen of Clubs          Seven of He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n of Hearts         Deuce of Clu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n of Spades         Three of Spa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n of Diamonds        Four of Spa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our of Diamonds         Ten of Clu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ix of Diamonds         Six of Spa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ight of Hearts         Three of Diam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ine of Hearts         Three of He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uce of Spades           Six of He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ive of Clubs          Eight of Clu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uce of Diamonds       Eight of Spa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ive of Spades          King of Clu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King of Diamonds        Jack of Spa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uce of Hearts         Queen of He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ce of Clubs           King of Spa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ree of Clubs           King of He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ine of Clubs           Nine of Spa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our of Hearts         Queen of Spa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ight of Diamonds        Nine of Diam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Jack of Diamonds       Seven of Clu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ive of Hearts          Five of Diam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our of Clubs           Jack of He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Jack of Clubs          Seven of Spad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11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Function Point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0010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ers to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tain the address of the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milar to how an array name is the address of its first el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name is starting address of code that defines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pointers can b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ed to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ored in array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signed to other function poin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F8E7E-09C6-44C5-848A-0377F013155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11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Function Point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bubbles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ubb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akes a function poin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function determines whether the the array is sorted into ascending or descending sor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argument i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ubb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or the function poin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ol ( *compare )( int, int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ell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ubb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 expect a pointer to a function that takes tw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 and returns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o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the parentheses were left ou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ol *compare( int, int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ould declare a function that receives two integers and returns a pointer to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o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EF180-1775-411C-A803-47053E1E378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Initialize array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Prompt for ascending or descending sorting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1  Put appropriate function pointer into bubblesor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2  Call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ubbl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  Print result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045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046" name=""/>
            <p:cNvGrpSpPr/>
            <p:nvPr/>
          </p:nvGrpSpPr>
          <p:grpSpPr>
            <a:xfrm>
              <a:off x="0" y="0"/>
              <a:ext cx="6780960" cy="201600"/>
              <a:chOff x="0" y="0"/>
              <a:chExt cx="6780960" cy="201600"/>
            </a:xfrm>
          </p:grpSpPr>
          <p:sp>
            <p:nvSpPr>
              <p:cNvPr id="1047" name=""/>
              <p:cNvSpPr/>
              <p:nvPr/>
            </p:nvSpPr>
            <p:spPr>
              <a:xfrm>
                <a:off x="0" y="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0" y="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Fig. 5.26: fig05_26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9" name=""/>
            <p:cNvGrpSpPr/>
            <p:nvPr/>
          </p:nvGrpSpPr>
          <p:grpSpPr>
            <a:xfrm>
              <a:off x="0" y="201600"/>
              <a:ext cx="6780960" cy="201600"/>
              <a:chOff x="0" y="201600"/>
              <a:chExt cx="6780960" cy="201600"/>
            </a:xfrm>
          </p:grpSpPr>
          <p:sp>
            <p:nvSpPr>
              <p:cNvPr id="1050" name=""/>
              <p:cNvSpPr/>
              <p:nvPr/>
            </p:nvSpPr>
            <p:spPr>
              <a:xfrm>
                <a:off x="0" y="201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0" y="201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Multipurpose sorting program using function pointer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2" name=""/>
            <p:cNvGrpSpPr/>
            <p:nvPr/>
          </p:nvGrpSpPr>
          <p:grpSpPr>
            <a:xfrm>
              <a:off x="0" y="403200"/>
              <a:ext cx="6780960" cy="201600"/>
              <a:chOff x="0" y="403200"/>
              <a:chExt cx="6780960" cy="201600"/>
            </a:xfrm>
          </p:grpSpPr>
          <p:sp>
            <p:nvSpPr>
              <p:cNvPr id="1053" name=""/>
              <p:cNvSpPr/>
              <p:nvPr/>
            </p:nvSpPr>
            <p:spPr>
              <a:xfrm>
                <a:off x="0" y="403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0" y="403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5" name=""/>
            <p:cNvGrpSpPr/>
            <p:nvPr/>
          </p:nvGrpSpPr>
          <p:grpSpPr>
            <a:xfrm>
              <a:off x="0" y="605160"/>
              <a:ext cx="6780960" cy="201600"/>
              <a:chOff x="0" y="605160"/>
              <a:chExt cx="6780960" cy="201600"/>
            </a:xfrm>
          </p:grpSpPr>
          <p:sp>
            <p:nvSpPr>
              <p:cNvPr id="1056" name=""/>
              <p:cNvSpPr/>
              <p:nvPr/>
            </p:nvSpPr>
            <p:spPr>
              <a:xfrm>
                <a:off x="0" y="605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0" y="605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8" name=""/>
            <p:cNvGrpSpPr/>
            <p:nvPr/>
          </p:nvGrpSpPr>
          <p:grpSpPr>
            <a:xfrm>
              <a:off x="0" y="806760"/>
              <a:ext cx="6780960" cy="201600"/>
              <a:chOff x="0" y="806760"/>
              <a:chExt cx="6780960" cy="201600"/>
            </a:xfrm>
          </p:grpSpPr>
          <p:sp>
            <p:nvSpPr>
              <p:cNvPr id="1059" name=""/>
              <p:cNvSpPr/>
              <p:nvPr/>
            </p:nvSpPr>
            <p:spPr>
              <a:xfrm>
                <a:off x="0" y="806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0" y="806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1" name=""/>
            <p:cNvGrpSpPr/>
            <p:nvPr/>
          </p:nvGrpSpPr>
          <p:grpSpPr>
            <a:xfrm>
              <a:off x="0" y="1008360"/>
              <a:ext cx="6780960" cy="201600"/>
              <a:chOff x="0" y="1008360"/>
              <a:chExt cx="6780960" cy="201600"/>
            </a:xfrm>
          </p:grpSpPr>
          <p:sp>
            <p:nvSpPr>
              <p:cNvPr id="1062" name=""/>
              <p:cNvSpPr/>
              <p:nvPr/>
            </p:nvSpPr>
            <p:spPr>
              <a:xfrm>
                <a:off x="0" y="1008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0" y="1008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ci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4" name=""/>
            <p:cNvGrpSpPr/>
            <p:nvPr/>
          </p:nvGrpSpPr>
          <p:grpSpPr>
            <a:xfrm>
              <a:off x="0" y="1209960"/>
              <a:ext cx="6780960" cy="201600"/>
              <a:chOff x="0" y="1209960"/>
              <a:chExt cx="6780960" cy="201600"/>
            </a:xfrm>
          </p:grpSpPr>
          <p:sp>
            <p:nvSpPr>
              <p:cNvPr id="1065" name=""/>
              <p:cNvSpPr/>
              <p:nvPr/>
            </p:nvSpPr>
            <p:spPr>
              <a:xfrm>
                <a:off x="0" y="12099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0" y="12099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7" name=""/>
            <p:cNvGrpSpPr/>
            <p:nvPr/>
          </p:nvGrpSpPr>
          <p:grpSpPr>
            <a:xfrm>
              <a:off x="0" y="1411920"/>
              <a:ext cx="6780960" cy="201600"/>
              <a:chOff x="0" y="1411920"/>
              <a:chExt cx="6780960" cy="201600"/>
            </a:xfrm>
          </p:grpSpPr>
          <p:sp>
            <p:nvSpPr>
              <p:cNvPr id="1068" name=""/>
              <p:cNvSpPr/>
              <p:nvPr/>
            </p:nvSpPr>
            <p:spPr>
              <a:xfrm>
                <a:off x="0" y="1411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0" y="1411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0" name=""/>
            <p:cNvGrpSpPr/>
            <p:nvPr/>
          </p:nvGrpSpPr>
          <p:grpSpPr>
            <a:xfrm>
              <a:off x="0" y="1613520"/>
              <a:ext cx="6780960" cy="201600"/>
              <a:chOff x="0" y="1613520"/>
              <a:chExt cx="6780960" cy="201600"/>
            </a:xfrm>
          </p:grpSpPr>
          <p:sp>
            <p:nvSpPr>
              <p:cNvPr id="1071" name=""/>
              <p:cNvSpPr/>
              <p:nvPr/>
            </p:nvSpPr>
            <p:spPr>
              <a:xfrm>
                <a:off x="0" y="1613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0" y="1613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&lt;iomanip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3" name=""/>
            <p:cNvGrpSpPr/>
            <p:nvPr/>
          </p:nvGrpSpPr>
          <p:grpSpPr>
            <a:xfrm>
              <a:off x="0" y="1815120"/>
              <a:ext cx="6780960" cy="201600"/>
              <a:chOff x="0" y="1815120"/>
              <a:chExt cx="6780960" cy="201600"/>
            </a:xfrm>
          </p:grpSpPr>
          <p:sp>
            <p:nvSpPr>
              <p:cNvPr id="1074" name=""/>
              <p:cNvSpPr/>
              <p:nvPr/>
            </p:nvSpPr>
            <p:spPr>
              <a:xfrm>
                <a:off x="0" y="18151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0" y="18151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6" name=""/>
            <p:cNvGrpSpPr/>
            <p:nvPr/>
          </p:nvGrpSpPr>
          <p:grpSpPr>
            <a:xfrm>
              <a:off x="0" y="2017080"/>
              <a:ext cx="6780960" cy="201600"/>
              <a:chOff x="0" y="2017080"/>
              <a:chExt cx="6780960" cy="201600"/>
            </a:xfrm>
          </p:grpSpPr>
          <p:sp>
            <p:nvSpPr>
              <p:cNvPr id="1077" name=""/>
              <p:cNvSpPr/>
              <p:nvPr/>
            </p:nvSpPr>
            <p:spPr>
              <a:xfrm>
                <a:off x="0" y="2017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0" y="2017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setw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9" name=""/>
            <p:cNvGrpSpPr/>
            <p:nvPr/>
          </p:nvGrpSpPr>
          <p:grpSpPr>
            <a:xfrm>
              <a:off x="0" y="2218680"/>
              <a:ext cx="6780960" cy="201600"/>
              <a:chOff x="0" y="2218680"/>
              <a:chExt cx="6780960" cy="201600"/>
            </a:xfrm>
          </p:grpSpPr>
          <p:sp>
            <p:nvSpPr>
              <p:cNvPr id="1080" name=""/>
              <p:cNvSpPr/>
              <p:nvPr/>
            </p:nvSpPr>
            <p:spPr>
              <a:xfrm>
                <a:off x="0" y="2218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0" y="2218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2" name=""/>
            <p:cNvGrpSpPr/>
            <p:nvPr/>
          </p:nvGrpSpPr>
          <p:grpSpPr>
            <a:xfrm>
              <a:off x="0" y="2420280"/>
              <a:ext cx="6780960" cy="201600"/>
              <a:chOff x="0" y="2420280"/>
              <a:chExt cx="6780960" cy="201600"/>
            </a:xfrm>
          </p:grpSpPr>
          <p:sp>
            <p:nvSpPr>
              <p:cNvPr id="1083" name=""/>
              <p:cNvSpPr/>
              <p:nvPr/>
            </p:nvSpPr>
            <p:spPr>
              <a:xfrm>
                <a:off x="0" y="24202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0" y="24202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bubbl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[]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 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boo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*)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)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5" name=""/>
            <p:cNvGrpSpPr/>
            <p:nvPr/>
          </p:nvGrpSpPr>
          <p:grpSpPr>
            <a:xfrm>
              <a:off x="0" y="2622240"/>
              <a:ext cx="6780960" cy="201600"/>
              <a:chOff x="0" y="2622240"/>
              <a:chExt cx="6780960" cy="201600"/>
            </a:xfrm>
          </p:grpSpPr>
          <p:sp>
            <p:nvSpPr>
              <p:cNvPr id="1086" name=""/>
              <p:cNvSpPr/>
              <p:nvPr/>
            </p:nvSpPr>
            <p:spPr>
              <a:xfrm>
                <a:off x="0" y="2622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0" y="2622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boo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ascending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8" name=""/>
            <p:cNvGrpSpPr/>
            <p:nvPr/>
          </p:nvGrpSpPr>
          <p:grpSpPr>
            <a:xfrm>
              <a:off x="0" y="2823840"/>
              <a:ext cx="6780960" cy="201600"/>
              <a:chOff x="0" y="2823840"/>
              <a:chExt cx="6780960" cy="201600"/>
            </a:xfrm>
          </p:grpSpPr>
          <p:sp>
            <p:nvSpPr>
              <p:cNvPr id="1089" name=""/>
              <p:cNvSpPr/>
              <p:nvPr/>
            </p:nvSpPr>
            <p:spPr>
              <a:xfrm>
                <a:off x="0" y="2823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0" y="2823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boo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escending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1" name=""/>
            <p:cNvGrpSpPr/>
            <p:nvPr/>
          </p:nvGrpSpPr>
          <p:grpSpPr>
            <a:xfrm>
              <a:off x="0" y="3025440"/>
              <a:ext cx="6780960" cy="201600"/>
              <a:chOff x="0" y="3025440"/>
              <a:chExt cx="6780960" cy="201600"/>
            </a:xfrm>
          </p:grpSpPr>
          <p:sp>
            <p:nvSpPr>
              <p:cNvPr id="1092" name=""/>
              <p:cNvSpPr/>
              <p:nvPr/>
            </p:nvSpPr>
            <p:spPr>
              <a:xfrm>
                <a:off x="0" y="30254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0" y="30254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4" name=""/>
            <p:cNvGrpSpPr/>
            <p:nvPr/>
          </p:nvGrpSpPr>
          <p:grpSpPr>
            <a:xfrm>
              <a:off x="0" y="3227400"/>
              <a:ext cx="6780960" cy="201600"/>
              <a:chOff x="0" y="3227400"/>
              <a:chExt cx="6780960" cy="201600"/>
            </a:xfrm>
          </p:grpSpPr>
          <p:sp>
            <p:nvSpPr>
              <p:cNvPr id="1095" name=""/>
              <p:cNvSpPr/>
              <p:nvPr/>
            </p:nvSpPr>
            <p:spPr>
              <a:xfrm>
                <a:off x="0" y="3227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0" y="3227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7" name=""/>
            <p:cNvGrpSpPr/>
            <p:nvPr/>
          </p:nvGrpSpPr>
          <p:grpSpPr>
            <a:xfrm>
              <a:off x="0" y="3429000"/>
              <a:ext cx="6780960" cy="201600"/>
              <a:chOff x="0" y="3429000"/>
              <a:chExt cx="6780960" cy="201600"/>
            </a:xfrm>
          </p:grpSpPr>
          <p:sp>
            <p:nvSpPr>
              <p:cNvPr id="1098" name=""/>
              <p:cNvSpPr/>
              <p:nvPr/>
            </p:nvSpPr>
            <p:spPr>
              <a:xfrm>
                <a:off x="0" y="34290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0" y="34290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0" name=""/>
            <p:cNvGrpSpPr/>
            <p:nvPr/>
          </p:nvGrpSpPr>
          <p:grpSpPr>
            <a:xfrm>
              <a:off x="0" y="3630600"/>
              <a:ext cx="6780960" cy="201600"/>
              <a:chOff x="0" y="3630600"/>
              <a:chExt cx="6780960" cy="201600"/>
            </a:xfrm>
          </p:grpSpPr>
          <p:sp>
            <p:nvSpPr>
              <p:cNvPr id="1101" name=""/>
              <p:cNvSpPr/>
              <p:nvPr/>
            </p:nvSpPr>
            <p:spPr>
              <a:xfrm>
                <a:off x="0" y="3630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0" y="3630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 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arraySize = 1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3" name=""/>
            <p:cNvGrpSpPr/>
            <p:nvPr/>
          </p:nvGrpSpPr>
          <p:grpSpPr>
            <a:xfrm>
              <a:off x="0" y="3832200"/>
              <a:ext cx="6780960" cy="201600"/>
              <a:chOff x="0" y="3832200"/>
              <a:chExt cx="6780960" cy="201600"/>
            </a:xfrm>
          </p:grpSpPr>
          <p:sp>
            <p:nvSpPr>
              <p:cNvPr id="1104" name=""/>
              <p:cNvSpPr/>
              <p:nvPr/>
            </p:nvSpPr>
            <p:spPr>
              <a:xfrm>
                <a:off x="0" y="3832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0" y="3832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order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6" name=""/>
            <p:cNvGrpSpPr/>
            <p:nvPr/>
          </p:nvGrpSpPr>
          <p:grpSpPr>
            <a:xfrm>
              <a:off x="0" y="4034160"/>
              <a:ext cx="6780960" cy="201600"/>
              <a:chOff x="0" y="4034160"/>
              <a:chExt cx="6780960" cy="201600"/>
            </a:xfrm>
          </p:grpSpPr>
          <p:sp>
            <p:nvSpPr>
              <p:cNvPr id="1107" name=""/>
              <p:cNvSpPr/>
              <p:nvPr/>
            </p:nvSpPr>
            <p:spPr>
              <a:xfrm>
                <a:off x="0" y="4034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0" y="4034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counter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9" name=""/>
            <p:cNvGrpSpPr/>
            <p:nvPr/>
          </p:nvGrpSpPr>
          <p:grpSpPr>
            <a:xfrm>
              <a:off x="0" y="4235760"/>
              <a:ext cx="6780960" cy="201600"/>
              <a:chOff x="0" y="4235760"/>
              <a:chExt cx="6780960" cy="201600"/>
            </a:xfrm>
          </p:grpSpPr>
          <p:sp>
            <p:nvSpPr>
              <p:cNvPr id="1110" name=""/>
              <p:cNvSpPr/>
              <p:nvPr/>
            </p:nvSpPr>
            <p:spPr>
              <a:xfrm>
                <a:off x="0" y="4235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0" y="4235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a[ arraySize ] = { 2, 6, 4, 8, 10, 12, 89, 68, 45, 37 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2" name=""/>
            <p:cNvGrpSpPr/>
            <p:nvPr/>
          </p:nvGrpSpPr>
          <p:grpSpPr>
            <a:xfrm>
              <a:off x="0" y="4437360"/>
              <a:ext cx="6780960" cy="201600"/>
              <a:chOff x="0" y="4437360"/>
              <a:chExt cx="6780960" cy="201600"/>
            </a:xfrm>
          </p:grpSpPr>
          <p:sp>
            <p:nvSpPr>
              <p:cNvPr id="1113" name=""/>
              <p:cNvSpPr/>
              <p:nvPr/>
            </p:nvSpPr>
            <p:spPr>
              <a:xfrm>
                <a:off x="0" y="4437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0" y="4437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5" name=""/>
            <p:cNvGrpSpPr/>
            <p:nvPr/>
          </p:nvGrpSpPr>
          <p:grpSpPr>
            <a:xfrm>
              <a:off x="0" y="4639320"/>
              <a:ext cx="6780960" cy="201600"/>
              <a:chOff x="0" y="4639320"/>
              <a:chExt cx="6780960" cy="201600"/>
            </a:xfrm>
          </p:grpSpPr>
          <p:sp>
            <p:nvSpPr>
              <p:cNvPr id="1116" name=""/>
              <p:cNvSpPr/>
              <p:nvPr/>
            </p:nvSpPr>
            <p:spPr>
              <a:xfrm>
                <a:off x="0" y="46393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0" y="46393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Enter 1 to sort in ascending order,\n"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8" name=""/>
            <p:cNvGrpSpPr/>
            <p:nvPr/>
          </p:nvGrpSpPr>
          <p:grpSpPr>
            <a:xfrm>
              <a:off x="0" y="4840920"/>
              <a:ext cx="6780960" cy="201600"/>
              <a:chOff x="0" y="4840920"/>
              <a:chExt cx="6780960" cy="201600"/>
            </a:xfrm>
          </p:grpSpPr>
          <p:sp>
            <p:nvSpPr>
              <p:cNvPr id="1119" name=""/>
              <p:cNvSpPr/>
              <p:nvPr/>
            </p:nvSpPr>
            <p:spPr>
              <a:xfrm>
                <a:off x="0" y="4840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0" y="4840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"Enter 2 to sort in descending order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1" name=""/>
            <p:cNvGrpSpPr/>
            <p:nvPr/>
          </p:nvGrpSpPr>
          <p:grpSpPr>
            <a:xfrm>
              <a:off x="0" y="5042520"/>
              <a:ext cx="6780960" cy="201600"/>
              <a:chOff x="0" y="5042520"/>
              <a:chExt cx="6780960" cy="201600"/>
            </a:xfrm>
          </p:grpSpPr>
          <p:sp>
            <p:nvSpPr>
              <p:cNvPr id="1122" name=""/>
              <p:cNvSpPr/>
              <p:nvPr/>
            </p:nvSpPr>
            <p:spPr>
              <a:xfrm>
                <a:off x="0" y="5042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0" y="5042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in &gt;&gt; orde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4" name=""/>
            <p:cNvGrpSpPr/>
            <p:nvPr/>
          </p:nvGrpSpPr>
          <p:grpSpPr>
            <a:xfrm>
              <a:off x="0" y="5244480"/>
              <a:ext cx="6780960" cy="201600"/>
              <a:chOff x="0" y="5244480"/>
              <a:chExt cx="6780960" cy="201600"/>
            </a:xfrm>
          </p:grpSpPr>
          <p:sp>
            <p:nvSpPr>
              <p:cNvPr id="1125" name=""/>
              <p:cNvSpPr/>
              <p:nvPr/>
            </p:nvSpPr>
            <p:spPr>
              <a:xfrm>
                <a:off x="0" y="52444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0" y="52444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\nData items in original order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7" name=""/>
            <p:cNvGrpSpPr/>
            <p:nvPr/>
          </p:nvGrpSpPr>
          <p:grpSpPr>
            <a:xfrm>
              <a:off x="0" y="5446080"/>
              <a:ext cx="6780960" cy="201600"/>
              <a:chOff x="0" y="5446080"/>
              <a:chExt cx="6780960" cy="201600"/>
            </a:xfrm>
          </p:grpSpPr>
          <p:sp>
            <p:nvSpPr>
              <p:cNvPr id="1128" name=""/>
              <p:cNvSpPr/>
              <p:nvPr/>
            </p:nvSpPr>
            <p:spPr>
              <a:xfrm>
                <a:off x="0" y="5446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0" y="5446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0" name=""/>
            <p:cNvGrpSpPr/>
            <p:nvPr/>
          </p:nvGrpSpPr>
          <p:grpSpPr>
            <a:xfrm>
              <a:off x="0" y="5647680"/>
              <a:ext cx="6780960" cy="201600"/>
              <a:chOff x="0" y="5647680"/>
              <a:chExt cx="6780960" cy="201600"/>
            </a:xfrm>
          </p:grpSpPr>
          <p:sp>
            <p:nvSpPr>
              <p:cNvPr id="1131" name=""/>
              <p:cNvSpPr/>
              <p:nvPr/>
            </p:nvSpPr>
            <p:spPr>
              <a:xfrm>
                <a:off x="0" y="5647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0" y="5647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counter = 0; counter &lt; arraySize; counter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3" name=""/>
            <p:cNvGrpSpPr/>
            <p:nvPr/>
          </p:nvGrpSpPr>
          <p:grpSpPr>
            <a:xfrm>
              <a:off x="0" y="5849640"/>
              <a:ext cx="6780960" cy="201600"/>
              <a:chOff x="0" y="5849640"/>
              <a:chExt cx="6780960" cy="201600"/>
            </a:xfrm>
          </p:grpSpPr>
          <p:sp>
            <p:nvSpPr>
              <p:cNvPr id="1134" name=""/>
              <p:cNvSpPr/>
              <p:nvPr/>
            </p:nvSpPr>
            <p:spPr>
              <a:xfrm>
                <a:off x="0" y="58496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0" y="58496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cout &lt;&lt; setw( 4 ) &lt;&lt; a[ counter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6" name=""/>
            <p:cNvGrpSpPr/>
            <p:nvPr/>
          </p:nvGrpSpPr>
          <p:grpSpPr>
            <a:xfrm>
              <a:off x="0" y="6051240"/>
              <a:ext cx="6780960" cy="201600"/>
              <a:chOff x="0" y="6051240"/>
              <a:chExt cx="6780960" cy="201600"/>
            </a:xfrm>
          </p:grpSpPr>
          <p:sp>
            <p:nvSpPr>
              <p:cNvPr id="1137" name=""/>
              <p:cNvSpPr/>
              <p:nvPr/>
            </p:nvSpPr>
            <p:spPr>
              <a:xfrm>
                <a:off x="0" y="6051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0" y="6051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9" name=""/>
            <p:cNvGrpSpPr/>
            <p:nvPr/>
          </p:nvGrpSpPr>
          <p:grpSpPr>
            <a:xfrm>
              <a:off x="0" y="6252840"/>
              <a:ext cx="6780960" cy="201600"/>
              <a:chOff x="0" y="6252840"/>
              <a:chExt cx="6780960" cy="201600"/>
            </a:xfrm>
          </p:grpSpPr>
          <p:sp>
            <p:nvSpPr>
              <p:cNvPr id="1140" name=""/>
              <p:cNvSpPr/>
              <p:nvPr/>
            </p:nvSpPr>
            <p:spPr>
              <a:xfrm>
                <a:off x="0" y="6252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0" y="6252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order == 1 )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2" name=""/>
            <p:cNvGrpSpPr/>
            <p:nvPr/>
          </p:nvGrpSpPr>
          <p:grpSpPr>
            <a:xfrm>
              <a:off x="0" y="6454800"/>
              <a:ext cx="6780960" cy="201600"/>
              <a:chOff x="0" y="6454800"/>
              <a:chExt cx="6780960" cy="201600"/>
            </a:xfrm>
          </p:grpSpPr>
          <p:sp>
            <p:nvSpPr>
              <p:cNvPr id="1143" name=""/>
              <p:cNvSpPr/>
              <p:nvPr/>
            </p:nvSpPr>
            <p:spPr>
              <a:xfrm>
                <a:off x="0" y="64548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0" y="64548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bubble( a, arraySize, ascending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5" name=""/>
            <p:cNvGrpSpPr/>
            <p:nvPr/>
          </p:nvGrpSpPr>
          <p:grpSpPr>
            <a:xfrm>
              <a:off x="0" y="6656400"/>
              <a:ext cx="6780960" cy="201600"/>
              <a:chOff x="0" y="6656400"/>
              <a:chExt cx="6780960" cy="201600"/>
            </a:xfrm>
          </p:grpSpPr>
          <p:sp>
            <p:nvSpPr>
              <p:cNvPr id="1146" name=""/>
              <p:cNvSpPr/>
              <p:nvPr/>
            </p:nvSpPr>
            <p:spPr>
              <a:xfrm>
                <a:off x="0" y="6656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0" y="6656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cout &lt;&lt; "\nData items in ascending order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48" name=""/>
          <p:cNvGrpSpPr/>
          <p:nvPr/>
        </p:nvGrpSpPr>
        <p:grpSpPr>
          <a:xfrm>
            <a:off x="4038480" y="1371600"/>
            <a:ext cx="2895840" cy="990720"/>
            <a:chOff x="4038480" y="1371600"/>
            <a:chExt cx="2895840" cy="990720"/>
          </a:xfrm>
        </p:grpSpPr>
        <p:sp>
          <p:nvSpPr>
            <p:cNvPr id="1149" name=""/>
            <p:cNvSpPr/>
            <p:nvPr/>
          </p:nvSpPr>
          <p:spPr>
            <a:xfrm flipH="1">
              <a:off x="4038480" y="1905120"/>
              <a:ext cx="13716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495680" y="1371600"/>
              <a:ext cx="24386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ce the function pointer parameter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2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ointer Variable Declarations and Initializ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er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tain memory addresses as their valu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rmal variables contain a specific value (direct referenc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inters contain the address of a variable that has a specific value (indirect referenc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ir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ferencing a pointer val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er decla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ndicates variable is a poin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*myPt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clares a pointer to a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a pointer of typ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*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ltiple pointers require multiple asterisk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*myPtr1, *myPtr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4495680" y="2743200"/>
            <a:ext cx="1749600" cy="549360"/>
            <a:chOff x="4495680" y="2743200"/>
            <a:chExt cx="1749600" cy="549360"/>
          </a:xfrm>
        </p:grpSpPr>
        <p:sp>
          <p:nvSpPr>
            <p:cNvPr id="95" name=""/>
            <p:cNvSpPr/>
            <p:nvPr/>
          </p:nvSpPr>
          <p:spPr>
            <a:xfrm>
              <a:off x="5746680" y="2743200"/>
              <a:ext cx="49068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ou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5738760" y="2911680"/>
              <a:ext cx="506520" cy="380880"/>
              <a:chOff x="5738760" y="2911680"/>
              <a:chExt cx="506520" cy="380880"/>
            </a:xfrm>
          </p:grpSpPr>
          <p:sp>
            <p:nvSpPr>
              <p:cNvPr id="97" name=""/>
              <p:cNvSpPr/>
              <p:nvPr/>
            </p:nvSpPr>
            <p:spPr>
              <a:xfrm>
                <a:off x="5738760" y="2911680"/>
                <a:ext cx="506520" cy="380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67" y="0"/>
                    </a:moveTo>
                    <a:lnTo>
                      <a:pt x="19967" y="19967"/>
                    </a:lnTo>
                    <a:lnTo>
                      <a:pt x="0" y="19967"/>
                    </a:lnTo>
                    <a:lnTo>
                      <a:pt x="0" y="0"/>
                    </a:lnTo>
                    <a:lnTo>
                      <a:pt x="19967" y="0"/>
                    </a:lnTo>
                    <a:close/>
                  </a:path>
                </a:pathLst>
              </a:custGeom>
              <a:solidFill>
                <a:srgbClr val="00cc99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5928480" y="3033360"/>
                <a:ext cx="125640" cy="16560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4495680" y="2743200"/>
              <a:ext cx="1243080" cy="549360"/>
              <a:chOff x="4495680" y="2743200"/>
              <a:chExt cx="1243080" cy="54936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4495680" y="2743200"/>
                <a:ext cx="763560" cy="549360"/>
                <a:chOff x="4495680" y="2743200"/>
                <a:chExt cx="763560" cy="54936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4495680" y="2743200"/>
                  <a:ext cx="763560" cy="1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countPt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4624560" y="2911680"/>
                  <a:ext cx="506160" cy="3808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67" y="0"/>
                      </a:moveTo>
                      <a:lnTo>
                        <a:pt x="19967" y="19967"/>
                      </a:lnTo>
                      <a:lnTo>
                        <a:pt x="0" y="19967"/>
                      </a:lnTo>
                      <a:lnTo>
                        <a:pt x="0" y="0"/>
                      </a:lnTo>
                      <a:lnTo>
                        <a:pt x="19967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4826160" y="3063960"/>
                  <a:ext cx="101520" cy="7632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4" name=""/>
              <p:cNvSpPr/>
              <p:nvPr/>
            </p:nvSpPr>
            <p:spPr>
              <a:xfrm>
                <a:off x="4929120" y="3105360"/>
                <a:ext cx="809640" cy="3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9" y="0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"/>
          <p:cNvSpPr/>
          <p:nvPr/>
        </p:nvSpPr>
        <p:spPr>
          <a:xfrm>
            <a:off x="6035760" y="3070080"/>
            <a:ext cx="1508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1946160"/>
            <a:ext cx="5486400" cy="22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2549520"/>
            <a:ext cx="548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8305920" y="1676520"/>
            <a:ext cx="560160" cy="676080"/>
            <a:chOff x="8305920" y="1676520"/>
            <a:chExt cx="560160" cy="676080"/>
          </a:xfrm>
        </p:grpSpPr>
        <p:sp>
          <p:nvSpPr>
            <p:cNvPr id="109" name=""/>
            <p:cNvSpPr/>
            <p:nvPr/>
          </p:nvSpPr>
          <p:spPr>
            <a:xfrm>
              <a:off x="8313480" y="1676520"/>
              <a:ext cx="54252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ou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8305920" y="1882800"/>
              <a:ext cx="560160" cy="469800"/>
              <a:chOff x="8305920" y="1882800"/>
              <a:chExt cx="560160" cy="469800"/>
            </a:xfrm>
          </p:grpSpPr>
          <p:sp>
            <p:nvSpPr>
              <p:cNvPr id="111" name=""/>
              <p:cNvSpPr/>
              <p:nvPr/>
            </p:nvSpPr>
            <p:spPr>
              <a:xfrm>
                <a:off x="8305920" y="1882800"/>
                <a:ext cx="560160" cy="4698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67" y="0"/>
                    </a:moveTo>
                    <a:lnTo>
                      <a:pt x="19967" y="19967"/>
                    </a:lnTo>
                    <a:lnTo>
                      <a:pt x="0" y="19967"/>
                    </a:lnTo>
                    <a:lnTo>
                      <a:pt x="0" y="0"/>
                    </a:lnTo>
                    <a:lnTo>
                      <a:pt x="19967" y="0"/>
                    </a:lnTo>
                    <a:close/>
                  </a:path>
                </a:pathLst>
              </a:custGeom>
              <a:solidFill>
                <a:srgbClr val="00cc99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515800" y="2032920"/>
                <a:ext cx="138960" cy="20448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0436E-2A62-49E1-9D0A-950D2F61D3E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1  Define func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152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153" name=""/>
            <p:cNvGrpSpPr/>
            <p:nvPr/>
          </p:nvGrpSpPr>
          <p:grpSpPr>
            <a:xfrm>
              <a:off x="0" y="0"/>
              <a:ext cx="6780960" cy="201600"/>
              <a:chOff x="0" y="0"/>
              <a:chExt cx="6780960" cy="201600"/>
            </a:xfrm>
          </p:grpSpPr>
          <p:sp>
            <p:nvSpPr>
              <p:cNvPr id="1154" name=""/>
              <p:cNvSpPr/>
              <p:nvPr/>
            </p:nvSpPr>
            <p:spPr>
              <a:xfrm>
                <a:off x="0" y="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0" y="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6" name=""/>
            <p:cNvGrpSpPr/>
            <p:nvPr/>
          </p:nvGrpSpPr>
          <p:grpSpPr>
            <a:xfrm>
              <a:off x="0" y="201600"/>
              <a:ext cx="6780960" cy="201600"/>
              <a:chOff x="0" y="201600"/>
              <a:chExt cx="6780960" cy="201600"/>
            </a:xfrm>
          </p:grpSpPr>
          <p:sp>
            <p:nvSpPr>
              <p:cNvPr id="1157" name=""/>
              <p:cNvSpPr/>
              <p:nvPr/>
            </p:nvSpPr>
            <p:spPr>
              <a:xfrm>
                <a:off x="0" y="201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0" y="201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el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9" name=""/>
            <p:cNvGrpSpPr/>
            <p:nvPr/>
          </p:nvGrpSpPr>
          <p:grpSpPr>
            <a:xfrm>
              <a:off x="0" y="403200"/>
              <a:ext cx="6780960" cy="201600"/>
              <a:chOff x="0" y="403200"/>
              <a:chExt cx="6780960" cy="201600"/>
            </a:xfrm>
          </p:grpSpPr>
          <p:sp>
            <p:nvSpPr>
              <p:cNvPr id="1160" name=""/>
              <p:cNvSpPr/>
              <p:nvPr/>
            </p:nvSpPr>
            <p:spPr>
              <a:xfrm>
                <a:off x="0" y="403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0" y="403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bubble( a, arraySize, descending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2" name=""/>
            <p:cNvGrpSpPr/>
            <p:nvPr/>
          </p:nvGrpSpPr>
          <p:grpSpPr>
            <a:xfrm>
              <a:off x="0" y="605160"/>
              <a:ext cx="6780960" cy="201600"/>
              <a:chOff x="0" y="605160"/>
              <a:chExt cx="6780960" cy="201600"/>
            </a:xfrm>
          </p:grpSpPr>
          <p:sp>
            <p:nvSpPr>
              <p:cNvPr id="1163" name=""/>
              <p:cNvSpPr/>
              <p:nvPr/>
            </p:nvSpPr>
            <p:spPr>
              <a:xfrm>
                <a:off x="0" y="605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0" y="605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cout &lt;&lt; "\nData items in descending order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5" name=""/>
            <p:cNvGrpSpPr/>
            <p:nvPr/>
          </p:nvGrpSpPr>
          <p:grpSpPr>
            <a:xfrm>
              <a:off x="0" y="806760"/>
              <a:ext cx="6780960" cy="201600"/>
              <a:chOff x="0" y="806760"/>
              <a:chExt cx="6780960" cy="201600"/>
            </a:xfrm>
          </p:grpSpPr>
          <p:sp>
            <p:nvSpPr>
              <p:cNvPr id="1166" name=""/>
              <p:cNvSpPr/>
              <p:nvPr/>
            </p:nvSpPr>
            <p:spPr>
              <a:xfrm>
                <a:off x="0" y="806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0" y="806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8" name=""/>
            <p:cNvGrpSpPr/>
            <p:nvPr/>
          </p:nvGrpSpPr>
          <p:grpSpPr>
            <a:xfrm>
              <a:off x="0" y="1008360"/>
              <a:ext cx="6780960" cy="201600"/>
              <a:chOff x="0" y="1008360"/>
              <a:chExt cx="6780960" cy="201600"/>
            </a:xfrm>
          </p:grpSpPr>
          <p:sp>
            <p:nvSpPr>
              <p:cNvPr id="1169" name=""/>
              <p:cNvSpPr/>
              <p:nvPr/>
            </p:nvSpPr>
            <p:spPr>
              <a:xfrm>
                <a:off x="0" y="1008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0" y="1008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1" name=""/>
            <p:cNvGrpSpPr/>
            <p:nvPr/>
          </p:nvGrpSpPr>
          <p:grpSpPr>
            <a:xfrm>
              <a:off x="0" y="1209960"/>
              <a:ext cx="6780960" cy="201600"/>
              <a:chOff x="0" y="1209960"/>
              <a:chExt cx="6780960" cy="201600"/>
            </a:xfrm>
          </p:grpSpPr>
          <p:sp>
            <p:nvSpPr>
              <p:cNvPr id="1172" name=""/>
              <p:cNvSpPr/>
              <p:nvPr/>
            </p:nvSpPr>
            <p:spPr>
              <a:xfrm>
                <a:off x="0" y="12099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0" y="12099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counter = 0; counter &lt; arraySize; counter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4" name=""/>
            <p:cNvGrpSpPr/>
            <p:nvPr/>
          </p:nvGrpSpPr>
          <p:grpSpPr>
            <a:xfrm>
              <a:off x="0" y="1411920"/>
              <a:ext cx="6780960" cy="201600"/>
              <a:chOff x="0" y="1411920"/>
              <a:chExt cx="6780960" cy="201600"/>
            </a:xfrm>
          </p:grpSpPr>
          <p:sp>
            <p:nvSpPr>
              <p:cNvPr id="1175" name=""/>
              <p:cNvSpPr/>
              <p:nvPr/>
            </p:nvSpPr>
            <p:spPr>
              <a:xfrm>
                <a:off x="0" y="1411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0" y="1411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cout &lt;&lt; setw( 4 ) &lt;&lt; a[ counter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7" name=""/>
            <p:cNvGrpSpPr/>
            <p:nvPr/>
          </p:nvGrpSpPr>
          <p:grpSpPr>
            <a:xfrm>
              <a:off x="0" y="1613520"/>
              <a:ext cx="6780960" cy="201600"/>
              <a:chOff x="0" y="1613520"/>
              <a:chExt cx="6780960" cy="201600"/>
            </a:xfrm>
          </p:grpSpPr>
          <p:sp>
            <p:nvSpPr>
              <p:cNvPr id="1178" name=""/>
              <p:cNvSpPr/>
              <p:nvPr/>
            </p:nvSpPr>
            <p:spPr>
              <a:xfrm>
                <a:off x="0" y="1613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0" y="1613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0" name=""/>
            <p:cNvGrpSpPr/>
            <p:nvPr/>
          </p:nvGrpSpPr>
          <p:grpSpPr>
            <a:xfrm>
              <a:off x="0" y="1815120"/>
              <a:ext cx="6780960" cy="201600"/>
              <a:chOff x="0" y="1815120"/>
              <a:chExt cx="6780960" cy="201600"/>
            </a:xfrm>
          </p:grpSpPr>
          <p:sp>
            <p:nvSpPr>
              <p:cNvPr id="1181" name=""/>
              <p:cNvSpPr/>
              <p:nvPr/>
            </p:nvSpPr>
            <p:spPr>
              <a:xfrm>
                <a:off x="0" y="18151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0" y="18151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3" name=""/>
            <p:cNvGrpSpPr/>
            <p:nvPr/>
          </p:nvGrpSpPr>
          <p:grpSpPr>
            <a:xfrm>
              <a:off x="0" y="2017080"/>
              <a:ext cx="6780960" cy="201600"/>
              <a:chOff x="0" y="2017080"/>
              <a:chExt cx="6780960" cy="201600"/>
            </a:xfrm>
          </p:grpSpPr>
          <p:sp>
            <p:nvSpPr>
              <p:cNvPr id="1184" name=""/>
              <p:cNvSpPr/>
              <p:nvPr/>
            </p:nvSpPr>
            <p:spPr>
              <a:xfrm>
                <a:off x="0" y="2017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0" y="2017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6" name=""/>
            <p:cNvGrpSpPr/>
            <p:nvPr/>
          </p:nvGrpSpPr>
          <p:grpSpPr>
            <a:xfrm>
              <a:off x="0" y="2218680"/>
              <a:ext cx="6780960" cy="201600"/>
              <a:chOff x="0" y="2218680"/>
              <a:chExt cx="6780960" cy="201600"/>
            </a:xfrm>
          </p:grpSpPr>
          <p:sp>
            <p:nvSpPr>
              <p:cNvPr id="1187" name=""/>
              <p:cNvSpPr/>
              <p:nvPr/>
            </p:nvSpPr>
            <p:spPr>
              <a:xfrm>
                <a:off x="0" y="2218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0" y="2218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9" name=""/>
            <p:cNvGrpSpPr/>
            <p:nvPr/>
          </p:nvGrpSpPr>
          <p:grpSpPr>
            <a:xfrm>
              <a:off x="0" y="2420280"/>
              <a:ext cx="6780960" cy="201600"/>
              <a:chOff x="0" y="2420280"/>
              <a:chExt cx="6780960" cy="201600"/>
            </a:xfrm>
          </p:grpSpPr>
          <p:sp>
            <p:nvSpPr>
              <p:cNvPr id="1190" name=""/>
              <p:cNvSpPr/>
              <p:nvPr/>
            </p:nvSpPr>
            <p:spPr>
              <a:xfrm>
                <a:off x="0" y="24202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0" y="24202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2" name=""/>
            <p:cNvGrpSpPr/>
            <p:nvPr/>
          </p:nvGrpSpPr>
          <p:grpSpPr>
            <a:xfrm>
              <a:off x="0" y="2622240"/>
              <a:ext cx="6780960" cy="201600"/>
              <a:chOff x="0" y="2622240"/>
              <a:chExt cx="6780960" cy="201600"/>
            </a:xfrm>
          </p:grpSpPr>
          <p:sp>
            <p:nvSpPr>
              <p:cNvPr id="1193" name=""/>
              <p:cNvSpPr/>
              <p:nvPr/>
            </p:nvSpPr>
            <p:spPr>
              <a:xfrm>
                <a:off x="0" y="2622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0" y="2622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bubbl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work[]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 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ize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5" name=""/>
            <p:cNvGrpSpPr/>
            <p:nvPr/>
          </p:nvGrpSpPr>
          <p:grpSpPr>
            <a:xfrm>
              <a:off x="0" y="2823840"/>
              <a:ext cx="6780960" cy="201600"/>
              <a:chOff x="0" y="2823840"/>
              <a:chExt cx="6780960" cy="201600"/>
            </a:xfrm>
          </p:grpSpPr>
          <p:sp>
            <p:nvSpPr>
              <p:cNvPr id="1196" name=""/>
              <p:cNvSpPr/>
              <p:nvPr/>
            </p:nvSpPr>
            <p:spPr>
              <a:xfrm>
                <a:off x="0" y="2823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0" y="2823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boo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*compare)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)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8" name=""/>
            <p:cNvGrpSpPr/>
            <p:nvPr/>
          </p:nvGrpSpPr>
          <p:grpSpPr>
            <a:xfrm>
              <a:off x="0" y="3025440"/>
              <a:ext cx="6780960" cy="201600"/>
              <a:chOff x="0" y="3025440"/>
              <a:chExt cx="6780960" cy="201600"/>
            </a:xfrm>
          </p:grpSpPr>
          <p:sp>
            <p:nvSpPr>
              <p:cNvPr id="1199" name=""/>
              <p:cNvSpPr/>
              <p:nvPr/>
            </p:nvSpPr>
            <p:spPr>
              <a:xfrm>
                <a:off x="0" y="30254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0" y="30254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1" name=""/>
            <p:cNvGrpSpPr/>
            <p:nvPr/>
          </p:nvGrpSpPr>
          <p:grpSpPr>
            <a:xfrm>
              <a:off x="0" y="3227400"/>
              <a:ext cx="6780960" cy="201600"/>
              <a:chOff x="0" y="3227400"/>
              <a:chExt cx="6780960" cy="201600"/>
            </a:xfrm>
          </p:grpSpPr>
          <p:sp>
            <p:nvSpPr>
              <p:cNvPr id="1202" name=""/>
              <p:cNvSpPr/>
              <p:nvPr/>
            </p:nvSpPr>
            <p:spPr>
              <a:xfrm>
                <a:off x="0" y="3227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0" y="3227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wap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* const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* const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// prototyp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4" name=""/>
            <p:cNvGrpSpPr/>
            <p:nvPr/>
          </p:nvGrpSpPr>
          <p:grpSpPr>
            <a:xfrm>
              <a:off x="0" y="3429000"/>
              <a:ext cx="6780960" cy="201600"/>
              <a:chOff x="0" y="3429000"/>
              <a:chExt cx="6780960" cy="201600"/>
            </a:xfrm>
          </p:grpSpPr>
          <p:sp>
            <p:nvSpPr>
              <p:cNvPr id="1205" name=""/>
              <p:cNvSpPr/>
              <p:nvPr/>
            </p:nvSpPr>
            <p:spPr>
              <a:xfrm>
                <a:off x="0" y="34290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0" y="34290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7" name=""/>
            <p:cNvGrpSpPr/>
            <p:nvPr/>
          </p:nvGrpSpPr>
          <p:grpSpPr>
            <a:xfrm>
              <a:off x="0" y="3630600"/>
              <a:ext cx="6780960" cy="201600"/>
              <a:chOff x="0" y="3630600"/>
              <a:chExt cx="6780960" cy="201600"/>
            </a:xfrm>
          </p:grpSpPr>
          <p:sp>
            <p:nvSpPr>
              <p:cNvPr id="1208" name=""/>
              <p:cNvSpPr/>
              <p:nvPr/>
            </p:nvSpPr>
            <p:spPr>
              <a:xfrm>
                <a:off x="0" y="3630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0" y="3630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pass = 1; pass &lt; size; pass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0" name=""/>
            <p:cNvGrpSpPr/>
            <p:nvPr/>
          </p:nvGrpSpPr>
          <p:grpSpPr>
            <a:xfrm>
              <a:off x="0" y="3832200"/>
              <a:ext cx="6780960" cy="201600"/>
              <a:chOff x="0" y="3832200"/>
              <a:chExt cx="6780960" cy="201600"/>
            </a:xfrm>
          </p:grpSpPr>
          <p:sp>
            <p:nvSpPr>
              <p:cNvPr id="1211" name=""/>
              <p:cNvSpPr/>
              <p:nvPr/>
            </p:nvSpPr>
            <p:spPr>
              <a:xfrm>
                <a:off x="0" y="3832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0" y="3832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3" name=""/>
            <p:cNvGrpSpPr/>
            <p:nvPr/>
          </p:nvGrpSpPr>
          <p:grpSpPr>
            <a:xfrm>
              <a:off x="0" y="4034160"/>
              <a:ext cx="6780960" cy="201600"/>
              <a:chOff x="0" y="4034160"/>
              <a:chExt cx="6780960" cy="201600"/>
            </a:xfrm>
          </p:grpSpPr>
          <p:sp>
            <p:nvSpPr>
              <p:cNvPr id="1214" name=""/>
              <p:cNvSpPr/>
              <p:nvPr/>
            </p:nvSpPr>
            <p:spPr>
              <a:xfrm>
                <a:off x="0" y="4034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0" y="4034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count = 0; count &lt; size - 1; count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6" name=""/>
            <p:cNvGrpSpPr/>
            <p:nvPr/>
          </p:nvGrpSpPr>
          <p:grpSpPr>
            <a:xfrm>
              <a:off x="0" y="4235760"/>
              <a:ext cx="6780960" cy="201600"/>
              <a:chOff x="0" y="4235760"/>
              <a:chExt cx="6780960" cy="201600"/>
            </a:xfrm>
          </p:grpSpPr>
          <p:sp>
            <p:nvSpPr>
              <p:cNvPr id="1217" name=""/>
              <p:cNvSpPr/>
              <p:nvPr/>
            </p:nvSpPr>
            <p:spPr>
              <a:xfrm>
                <a:off x="0" y="4235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0" y="4235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9" name=""/>
            <p:cNvGrpSpPr/>
            <p:nvPr/>
          </p:nvGrpSpPr>
          <p:grpSpPr>
            <a:xfrm>
              <a:off x="0" y="4437360"/>
              <a:ext cx="6780960" cy="201600"/>
              <a:chOff x="0" y="4437360"/>
              <a:chExt cx="6780960" cy="201600"/>
            </a:xfrm>
          </p:grpSpPr>
          <p:sp>
            <p:nvSpPr>
              <p:cNvPr id="1220" name=""/>
              <p:cNvSpPr/>
              <p:nvPr/>
            </p:nvSpPr>
            <p:spPr>
              <a:xfrm>
                <a:off x="0" y="4437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0" y="4437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(*compare)( work[ count ], work[ count + 1 ] )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2" name=""/>
            <p:cNvGrpSpPr/>
            <p:nvPr/>
          </p:nvGrpSpPr>
          <p:grpSpPr>
            <a:xfrm>
              <a:off x="0" y="4639320"/>
              <a:ext cx="6780960" cy="201600"/>
              <a:chOff x="0" y="4639320"/>
              <a:chExt cx="6780960" cy="201600"/>
            </a:xfrm>
          </p:grpSpPr>
          <p:sp>
            <p:nvSpPr>
              <p:cNvPr id="1223" name=""/>
              <p:cNvSpPr/>
              <p:nvPr/>
            </p:nvSpPr>
            <p:spPr>
              <a:xfrm>
                <a:off x="0" y="46393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0" y="46393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    swap( &amp;work[ count ], &amp;work[ count + 1 ]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5" name=""/>
            <p:cNvGrpSpPr/>
            <p:nvPr/>
          </p:nvGrpSpPr>
          <p:grpSpPr>
            <a:xfrm>
              <a:off x="0" y="4840920"/>
              <a:ext cx="6780960" cy="201600"/>
              <a:chOff x="0" y="4840920"/>
              <a:chExt cx="6780960" cy="201600"/>
            </a:xfrm>
          </p:grpSpPr>
          <p:sp>
            <p:nvSpPr>
              <p:cNvPr id="1226" name=""/>
              <p:cNvSpPr/>
              <p:nvPr/>
            </p:nvSpPr>
            <p:spPr>
              <a:xfrm>
                <a:off x="0" y="4840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0" y="4840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8" name=""/>
            <p:cNvGrpSpPr/>
            <p:nvPr/>
          </p:nvGrpSpPr>
          <p:grpSpPr>
            <a:xfrm>
              <a:off x="0" y="5042520"/>
              <a:ext cx="6780960" cy="201600"/>
              <a:chOff x="0" y="5042520"/>
              <a:chExt cx="6780960" cy="201600"/>
            </a:xfrm>
          </p:grpSpPr>
          <p:sp>
            <p:nvSpPr>
              <p:cNvPr id="1229" name=""/>
              <p:cNvSpPr/>
              <p:nvPr/>
            </p:nvSpPr>
            <p:spPr>
              <a:xfrm>
                <a:off x="0" y="5042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0" y="5042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1" name=""/>
            <p:cNvGrpSpPr/>
            <p:nvPr/>
          </p:nvGrpSpPr>
          <p:grpSpPr>
            <a:xfrm>
              <a:off x="0" y="5244480"/>
              <a:ext cx="6780960" cy="201600"/>
              <a:chOff x="0" y="5244480"/>
              <a:chExt cx="6780960" cy="201600"/>
            </a:xfrm>
          </p:grpSpPr>
          <p:sp>
            <p:nvSpPr>
              <p:cNvPr id="1232" name=""/>
              <p:cNvSpPr/>
              <p:nvPr/>
            </p:nvSpPr>
            <p:spPr>
              <a:xfrm>
                <a:off x="0" y="52444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0" y="52444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wap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*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element1Ptr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*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element2Ptr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4" name=""/>
            <p:cNvGrpSpPr/>
            <p:nvPr/>
          </p:nvGrpSpPr>
          <p:grpSpPr>
            <a:xfrm>
              <a:off x="0" y="5446080"/>
              <a:ext cx="6780960" cy="201600"/>
              <a:chOff x="0" y="5446080"/>
              <a:chExt cx="6780960" cy="201600"/>
            </a:xfrm>
          </p:grpSpPr>
          <p:sp>
            <p:nvSpPr>
              <p:cNvPr id="1235" name=""/>
              <p:cNvSpPr/>
              <p:nvPr/>
            </p:nvSpPr>
            <p:spPr>
              <a:xfrm>
                <a:off x="0" y="5446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0" y="5446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7" name=""/>
            <p:cNvGrpSpPr/>
            <p:nvPr/>
          </p:nvGrpSpPr>
          <p:grpSpPr>
            <a:xfrm>
              <a:off x="0" y="5647680"/>
              <a:ext cx="6780960" cy="201600"/>
              <a:chOff x="0" y="5647680"/>
              <a:chExt cx="6780960" cy="201600"/>
            </a:xfrm>
          </p:grpSpPr>
          <p:sp>
            <p:nvSpPr>
              <p:cNvPr id="1238" name=""/>
              <p:cNvSpPr/>
              <p:nvPr/>
            </p:nvSpPr>
            <p:spPr>
              <a:xfrm>
                <a:off x="0" y="5647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0" y="5647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temp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0" name=""/>
            <p:cNvGrpSpPr/>
            <p:nvPr/>
          </p:nvGrpSpPr>
          <p:grpSpPr>
            <a:xfrm>
              <a:off x="0" y="5849640"/>
              <a:ext cx="6780960" cy="201600"/>
              <a:chOff x="0" y="5849640"/>
              <a:chExt cx="6780960" cy="201600"/>
            </a:xfrm>
          </p:grpSpPr>
          <p:sp>
            <p:nvSpPr>
              <p:cNvPr id="1241" name=""/>
              <p:cNvSpPr/>
              <p:nvPr/>
            </p:nvSpPr>
            <p:spPr>
              <a:xfrm>
                <a:off x="0" y="58496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0" y="58496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3" name=""/>
            <p:cNvGrpSpPr/>
            <p:nvPr/>
          </p:nvGrpSpPr>
          <p:grpSpPr>
            <a:xfrm>
              <a:off x="0" y="6051240"/>
              <a:ext cx="6780960" cy="201600"/>
              <a:chOff x="0" y="6051240"/>
              <a:chExt cx="6780960" cy="201600"/>
            </a:xfrm>
          </p:grpSpPr>
          <p:sp>
            <p:nvSpPr>
              <p:cNvPr id="1244" name=""/>
              <p:cNvSpPr/>
              <p:nvPr/>
            </p:nvSpPr>
            <p:spPr>
              <a:xfrm>
                <a:off x="0" y="6051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0" y="6051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temp = *element1Pt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6" name=""/>
            <p:cNvGrpSpPr/>
            <p:nvPr/>
          </p:nvGrpSpPr>
          <p:grpSpPr>
            <a:xfrm>
              <a:off x="0" y="6252840"/>
              <a:ext cx="6780960" cy="201600"/>
              <a:chOff x="0" y="6252840"/>
              <a:chExt cx="6780960" cy="201600"/>
            </a:xfrm>
          </p:grpSpPr>
          <p:sp>
            <p:nvSpPr>
              <p:cNvPr id="1247" name=""/>
              <p:cNvSpPr/>
              <p:nvPr/>
            </p:nvSpPr>
            <p:spPr>
              <a:xfrm>
                <a:off x="0" y="6252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0" y="6252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*element1Ptr = *element2Pt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9" name=""/>
            <p:cNvGrpSpPr/>
            <p:nvPr/>
          </p:nvGrpSpPr>
          <p:grpSpPr>
            <a:xfrm>
              <a:off x="0" y="6454800"/>
              <a:ext cx="6780960" cy="201600"/>
              <a:chOff x="0" y="6454800"/>
              <a:chExt cx="6780960" cy="201600"/>
            </a:xfrm>
          </p:grpSpPr>
          <p:sp>
            <p:nvSpPr>
              <p:cNvPr id="1250" name=""/>
              <p:cNvSpPr/>
              <p:nvPr/>
            </p:nvSpPr>
            <p:spPr>
              <a:xfrm>
                <a:off x="0" y="64548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0" y="64548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*element2Ptr = temp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2" name=""/>
            <p:cNvGrpSpPr/>
            <p:nvPr/>
          </p:nvGrpSpPr>
          <p:grpSpPr>
            <a:xfrm>
              <a:off x="0" y="6656400"/>
              <a:ext cx="6780960" cy="201600"/>
              <a:chOff x="0" y="6656400"/>
              <a:chExt cx="6780960" cy="201600"/>
            </a:xfrm>
          </p:grpSpPr>
          <p:sp>
            <p:nvSpPr>
              <p:cNvPr id="1253" name=""/>
              <p:cNvSpPr/>
              <p:nvPr/>
            </p:nvSpPr>
            <p:spPr>
              <a:xfrm>
                <a:off x="0" y="6656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0" y="6656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55" name=""/>
          <p:cNvGrpSpPr/>
          <p:nvPr/>
        </p:nvGrpSpPr>
        <p:grpSpPr>
          <a:xfrm>
            <a:off x="2057400" y="1905120"/>
            <a:ext cx="6477120" cy="2514600"/>
            <a:chOff x="2057400" y="1905120"/>
            <a:chExt cx="6477120" cy="2514600"/>
          </a:xfrm>
        </p:grpSpPr>
        <p:sp>
          <p:nvSpPr>
            <p:cNvPr id="1256" name=""/>
            <p:cNvSpPr/>
            <p:nvPr/>
          </p:nvSpPr>
          <p:spPr>
            <a:xfrm>
              <a:off x="5638680" y="1905120"/>
              <a:ext cx="28958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scend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escend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tur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ru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als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ubb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all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wa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f the function call return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ru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 flipH="1">
              <a:off x="2057400" y="2286000"/>
              <a:ext cx="358128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8" name=""/>
          <p:cNvGrpSpPr/>
          <p:nvPr/>
        </p:nvGrpSpPr>
        <p:grpSpPr>
          <a:xfrm>
            <a:off x="2514600" y="3657600"/>
            <a:ext cx="6477120" cy="1797480"/>
            <a:chOff x="2514600" y="3657600"/>
            <a:chExt cx="6477120" cy="1797480"/>
          </a:xfrm>
        </p:grpSpPr>
        <p:sp>
          <p:nvSpPr>
            <p:cNvPr id="1259" name=""/>
            <p:cNvSpPr/>
            <p:nvPr/>
          </p:nvSpPr>
          <p:spPr>
            <a:xfrm>
              <a:off x="6248520" y="3657600"/>
              <a:ext cx="2743200" cy="17974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ce how function pointers are called using the dereferencing operator. 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*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not required, but emphasizes tha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ompar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a function pointer and not a func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 flipH="1">
              <a:off x="2514600" y="4038480"/>
              <a:ext cx="3733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1  Define func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262" name=""/>
          <p:cNvGrpSpPr/>
          <p:nvPr/>
        </p:nvGrpSpPr>
        <p:grpSpPr>
          <a:xfrm>
            <a:off x="0" y="0"/>
            <a:ext cx="6780960" cy="3276720"/>
            <a:chOff x="0" y="0"/>
            <a:chExt cx="6780960" cy="3276720"/>
          </a:xfrm>
        </p:grpSpPr>
        <p:grpSp>
          <p:nvGrpSpPr>
            <p:cNvPr id="1263" name=""/>
            <p:cNvGrpSpPr/>
            <p:nvPr/>
          </p:nvGrpSpPr>
          <p:grpSpPr>
            <a:xfrm>
              <a:off x="0" y="0"/>
              <a:ext cx="6780960" cy="327600"/>
              <a:chOff x="0" y="0"/>
              <a:chExt cx="6780960" cy="327600"/>
            </a:xfrm>
          </p:grpSpPr>
          <p:sp>
            <p:nvSpPr>
              <p:cNvPr id="1264" name=""/>
              <p:cNvSpPr/>
              <p:nvPr/>
            </p:nvSpPr>
            <p:spPr>
              <a:xfrm>
                <a:off x="0" y="0"/>
                <a:ext cx="6780960" cy="327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0" y="0"/>
                <a:ext cx="6780960" cy="327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6" name=""/>
            <p:cNvGrpSpPr/>
            <p:nvPr/>
          </p:nvGrpSpPr>
          <p:grpSpPr>
            <a:xfrm>
              <a:off x="0" y="327600"/>
              <a:ext cx="6780960" cy="327600"/>
              <a:chOff x="0" y="327600"/>
              <a:chExt cx="6780960" cy="327600"/>
            </a:xfrm>
          </p:grpSpPr>
          <p:sp>
            <p:nvSpPr>
              <p:cNvPr id="1267" name=""/>
              <p:cNvSpPr/>
              <p:nvPr/>
            </p:nvSpPr>
            <p:spPr>
              <a:xfrm>
                <a:off x="0" y="327600"/>
                <a:ext cx="6780960" cy="327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0" y="327600"/>
                <a:ext cx="6780960" cy="327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boo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ascending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a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b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9" name=""/>
            <p:cNvGrpSpPr/>
            <p:nvPr/>
          </p:nvGrpSpPr>
          <p:grpSpPr>
            <a:xfrm>
              <a:off x="0" y="655200"/>
              <a:ext cx="6780960" cy="327600"/>
              <a:chOff x="0" y="655200"/>
              <a:chExt cx="6780960" cy="327600"/>
            </a:xfrm>
          </p:grpSpPr>
          <p:sp>
            <p:nvSpPr>
              <p:cNvPr id="1270" name=""/>
              <p:cNvSpPr/>
              <p:nvPr/>
            </p:nvSpPr>
            <p:spPr>
              <a:xfrm>
                <a:off x="0" y="655200"/>
                <a:ext cx="6780960" cy="327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0" y="655200"/>
                <a:ext cx="6780960" cy="327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2" name=""/>
            <p:cNvGrpSpPr/>
            <p:nvPr/>
          </p:nvGrpSpPr>
          <p:grpSpPr>
            <a:xfrm>
              <a:off x="0" y="982800"/>
              <a:ext cx="6780960" cy="327600"/>
              <a:chOff x="0" y="982800"/>
              <a:chExt cx="6780960" cy="327600"/>
            </a:xfrm>
          </p:grpSpPr>
          <p:sp>
            <p:nvSpPr>
              <p:cNvPr id="1273" name=""/>
              <p:cNvSpPr/>
              <p:nvPr/>
            </p:nvSpPr>
            <p:spPr>
              <a:xfrm>
                <a:off x="0" y="982800"/>
                <a:ext cx="6780960" cy="327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0" y="982800"/>
                <a:ext cx="6780960" cy="327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b &lt; a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swap if b is less than 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5" name=""/>
            <p:cNvGrpSpPr/>
            <p:nvPr/>
          </p:nvGrpSpPr>
          <p:grpSpPr>
            <a:xfrm>
              <a:off x="0" y="1310760"/>
              <a:ext cx="6780960" cy="327600"/>
              <a:chOff x="0" y="1310760"/>
              <a:chExt cx="6780960" cy="327600"/>
            </a:xfrm>
          </p:grpSpPr>
          <p:sp>
            <p:nvSpPr>
              <p:cNvPr id="1276" name=""/>
              <p:cNvSpPr/>
              <p:nvPr/>
            </p:nvSpPr>
            <p:spPr>
              <a:xfrm>
                <a:off x="0" y="1310760"/>
                <a:ext cx="6780960" cy="327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0" y="1310760"/>
                <a:ext cx="6780960" cy="327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8" name=""/>
            <p:cNvGrpSpPr/>
            <p:nvPr/>
          </p:nvGrpSpPr>
          <p:grpSpPr>
            <a:xfrm>
              <a:off x="0" y="1638360"/>
              <a:ext cx="6780960" cy="327600"/>
              <a:chOff x="0" y="1638360"/>
              <a:chExt cx="6780960" cy="327600"/>
            </a:xfrm>
          </p:grpSpPr>
          <p:sp>
            <p:nvSpPr>
              <p:cNvPr id="1279" name=""/>
              <p:cNvSpPr/>
              <p:nvPr/>
            </p:nvSpPr>
            <p:spPr>
              <a:xfrm>
                <a:off x="0" y="1638360"/>
                <a:ext cx="6780960" cy="327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0" y="1638360"/>
                <a:ext cx="6780960" cy="327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1" name=""/>
            <p:cNvGrpSpPr/>
            <p:nvPr/>
          </p:nvGrpSpPr>
          <p:grpSpPr>
            <a:xfrm>
              <a:off x="0" y="1965960"/>
              <a:ext cx="6780960" cy="327600"/>
              <a:chOff x="0" y="1965960"/>
              <a:chExt cx="6780960" cy="327600"/>
            </a:xfrm>
          </p:grpSpPr>
          <p:sp>
            <p:nvSpPr>
              <p:cNvPr id="1282" name=""/>
              <p:cNvSpPr/>
              <p:nvPr/>
            </p:nvSpPr>
            <p:spPr>
              <a:xfrm>
                <a:off x="0" y="1965960"/>
                <a:ext cx="6780960" cy="327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0" y="1965960"/>
                <a:ext cx="6780960" cy="327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boo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escending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a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b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4" name=""/>
            <p:cNvGrpSpPr/>
            <p:nvPr/>
          </p:nvGrpSpPr>
          <p:grpSpPr>
            <a:xfrm>
              <a:off x="0" y="2293920"/>
              <a:ext cx="6780960" cy="327600"/>
              <a:chOff x="0" y="2293920"/>
              <a:chExt cx="6780960" cy="327600"/>
            </a:xfrm>
          </p:grpSpPr>
          <p:sp>
            <p:nvSpPr>
              <p:cNvPr id="1285" name=""/>
              <p:cNvSpPr/>
              <p:nvPr/>
            </p:nvSpPr>
            <p:spPr>
              <a:xfrm>
                <a:off x="0" y="2293920"/>
                <a:ext cx="6780960" cy="327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0" y="2293920"/>
                <a:ext cx="6780960" cy="327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7" name=""/>
            <p:cNvGrpSpPr/>
            <p:nvPr/>
          </p:nvGrpSpPr>
          <p:grpSpPr>
            <a:xfrm>
              <a:off x="0" y="2621520"/>
              <a:ext cx="6780960" cy="327600"/>
              <a:chOff x="0" y="2621520"/>
              <a:chExt cx="6780960" cy="327600"/>
            </a:xfrm>
          </p:grpSpPr>
          <p:sp>
            <p:nvSpPr>
              <p:cNvPr id="1288" name=""/>
              <p:cNvSpPr/>
              <p:nvPr/>
            </p:nvSpPr>
            <p:spPr>
              <a:xfrm>
                <a:off x="0" y="2621520"/>
                <a:ext cx="6780960" cy="327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0" y="2621520"/>
                <a:ext cx="6780960" cy="327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b &gt; a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swap if b is greater than 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0" name=""/>
            <p:cNvGrpSpPr/>
            <p:nvPr/>
          </p:nvGrpSpPr>
          <p:grpSpPr>
            <a:xfrm>
              <a:off x="0" y="2949120"/>
              <a:ext cx="6780960" cy="327600"/>
              <a:chOff x="0" y="2949120"/>
              <a:chExt cx="6780960" cy="327600"/>
            </a:xfrm>
          </p:grpSpPr>
          <p:sp>
            <p:nvSpPr>
              <p:cNvPr id="1291" name=""/>
              <p:cNvSpPr/>
              <p:nvPr/>
            </p:nvSpPr>
            <p:spPr>
              <a:xfrm>
                <a:off x="0" y="2949120"/>
                <a:ext cx="6780960" cy="327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0" y="2949120"/>
                <a:ext cx="6780960" cy="327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93" name=""/>
          <p:cNvSpPr/>
          <p:nvPr/>
        </p:nvSpPr>
        <p:spPr>
          <a:xfrm>
            <a:off x="0" y="3505320"/>
            <a:ext cx="6781680" cy="1371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1 to sort in ascending order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2 to sort in descending order: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ata items in original 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   6   4   8  10  12  89  68  45  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ata items in ascending 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   4   6   8  10  12  37  45  68  89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0" y="5029200"/>
            <a:ext cx="6781680" cy="1554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1 to sort in ascending order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2 to sort in descending order: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ata items in original 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   6   4   8  10  12  89  68  45  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ata items in descending 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9  68  45  37  12  10   8   6   4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12.1 Fundamentals of Characters and String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cter cons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teger value of a charac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ngle quo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'z'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the integer value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which i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12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ries of characters treated as one un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include letters, digits, special characters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ring literal (string constant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closed in double quotes, for 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I like C++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ray of characters, ends with null characte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'\0'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rings are constant pointers (like array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of string is the address of its first charac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470C0-9A76-46A3-BC82-A1622DC2164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12.1 Fundamentals of Characters and String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ng assig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haracter array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 color[] = "blue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s 5 eleme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ray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l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(last element i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'\0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riable of typ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har *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 *colorPtr = "blue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s a pointer to string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“blue”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lorPt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nd stores it somewhere i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8D5EE-3C49-4FC2-864F-C6E468405B7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12.1 Fundamentals of Characters and String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059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ing st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sign input to character array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ord[ 20 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n &gt;&gt; wo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s characters until whitespace or E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ing could exceed array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n &gt;&gt; setw( 20 ) &gt;&gt; wor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s 19 characters (space reserved f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'\0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in.ge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ads a line of tex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in.getli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n.getline( array, size, delimiter character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998E3-F825-425F-9B8A-4ACB62B0839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12.1 Fundamentals of Characters and String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in.ge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pies input into specified array until eith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less than the size is reac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elimiter character is 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 sentence[ 80 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n.getline( sentence, 80, '\n'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F7B48-32C7-44EC-9317-6CBB1EF4ECD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12.2 String Manipulation Functions of the String-handling Librar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0773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ng handling library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cstring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vides functions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e 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are 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kenize strings (separate them into logical piec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CII character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ings are compared using their character c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sy to make comparisons (greater than, less than, equal 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keniz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ing strings into tokens, separated by user-specified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kens are usually logical units, such as words (separated by spac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This is my string"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4 word tokens (separated by spac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78363-6B53-4159-8502-21E3F9A1566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5.12.2</a:t>
            </a:r>
            <a:r>
              <a:rPr b="0" lang="en-US" sz="2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tring Manipulation Functions of the String-handling Library</a:t>
            </a:r>
            <a:endParaRPr b="1" lang="en-US" sz="2000" spc="-1" strike="noStrike">
              <a:solidFill>
                <a:srgbClr val="ff3300"/>
              </a:solidFill>
              <a:latin typeface="AvantGarde"/>
            </a:endParaRPr>
          </a:p>
        </p:txBody>
      </p:sp>
      <p:grpSp>
        <p:nvGrpSpPr>
          <p:cNvPr id="1306" name=""/>
          <p:cNvGrpSpPr/>
          <p:nvPr/>
        </p:nvGrpSpPr>
        <p:grpSpPr>
          <a:xfrm>
            <a:off x="2286000" y="3270240"/>
            <a:ext cx="4572000" cy="317520"/>
            <a:chOff x="2286000" y="3270240"/>
            <a:chExt cx="4572000" cy="317520"/>
          </a:xfrm>
        </p:grpSpPr>
        <p:sp>
          <p:nvSpPr>
            <p:cNvPr id="1307" name=""/>
            <p:cNvSpPr/>
            <p:nvPr/>
          </p:nvSpPr>
          <p:spPr>
            <a:xfrm>
              <a:off x="2286000" y="3270240"/>
              <a:ext cx="12700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556080" y="3270240"/>
              <a:ext cx="33019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309" name=""/>
          <p:cNvGraphicFramePr/>
          <p:nvPr/>
        </p:nvGraphicFramePr>
        <p:xfrm>
          <a:off x="533520" y="1143000"/>
          <a:ext cx="8153280" cy="5118120"/>
        </p:xfrm>
        <a:graphic>
          <a:graphicData uri="http://schemas.openxmlformats.org/drawingml/2006/table">
            <a:tbl>
              <a:tblPr/>
              <a:tblGrid>
                <a:gridCol w="4076640"/>
                <a:gridCol w="407664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har *strcpy( char *s1, const char *s2 );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pies the string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nto the charac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ray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The value of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s returned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har *strncpy( char *s1, const char *s2, size_t n );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pies at most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haracters of the string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nto the character array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The value of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s returned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har *strcat( char *s1, const char *s2 );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pends the string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to the string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The first character of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overwrites the terminating null character of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The value of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s returned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har *strncat( char *s1, const char *s2, size_t n );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pends at most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haracters of string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to string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The first character of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overwrites the terminating null character of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The value of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s returned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t strcmp( const char *s1, const char *s2 );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ares the string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with the string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The function returns a value of zero, less than zero or greater than zero if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s equal to, less than or greater than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respectively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D4D3F-B507-4DD4-B89E-3CB6B6C1545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5.12.2</a:t>
            </a:r>
            <a:r>
              <a:rPr b="0" lang="en-US" sz="2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tring Manipulation Functions of the String-handling Library (III)</a:t>
            </a:r>
            <a:endParaRPr b="1" lang="en-US" sz="20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1311" name=""/>
          <p:cNvGraphicFramePr/>
          <p:nvPr/>
        </p:nvGraphicFramePr>
        <p:xfrm>
          <a:off x="457200" y="1219320"/>
          <a:ext cx="8229600" cy="5029200"/>
        </p:xfrm>
        <a:graphic>
          <a:graphicData uri="http://schemas.openxmlformats.org/drawingml/2006/table">
            <a:tbl>
              <a:tblPr/>
              <a:tblGrid>
                <a:gridCol w="4435560"/>
                <a:gridCol w="379404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t strncmp( const char *s1, const char *s2, size_t n )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ares up to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haracters of the string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with the string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The function returns zero, less than zero or greater than zero if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s equal to, less than or greater than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respectively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har *strtok( char *s1, const char *s2 )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sequence of calls to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trtok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breaks string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nto “tokens”—logical pieces such as words in a line of text—delimited by characters contained in string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The first call contains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as the first argument, and subsequent calls to continue tokenizing the same string contain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ULL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as the first argument. A pointer to the current to­ken is returned by each call. If there are no more tokens when the function is called,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ULL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s returned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ize_t strlen( const char *s );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termines the length of string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The number of characters preceding the terminating null character is returned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9A4C9-BD5F-4603-B1E9-930EA11A7D1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2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ointer Variable Declarations and Initializ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declare pointers to any data 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ers initial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itialized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or an addr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oints to not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F6DE6-6323-4072-957C-1369B3A4DAF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3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ointer Operators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address operato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the address of its opera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y = 5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*yPtr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Ptr = &amp;y;    // yPtr gets address of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yPt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“points to”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609480" y="4041720"/>
            <a:ext cx="7696080" cy="2348280"/>
            <a:chOff x="609480" y="4041720"/>
            <a:chExt cx="7696080" cy="2348280"/>
          </a:xfrm>
        </p:grpSpPr>
        <p:sp>
          <p:nvSpPr>
            <p:cNvPr id="118" name=""/>
            <p:cNvSpPr/>
            <p:nvPr/>
          </p:nvSpPr>
          <p:spPr>
            <a:xfrm>
              <a:off x="623880" y="5006880"/>
              <a:ext cx="550800" cy="3304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6" y="0"/>
                  </a:moveTo>
                  <a:lnTo>
                    <a:pt x="19956" y="19956"/>
                  </a:lnTo>
                  <a:lnTo>
                    <a:pt x="0" y="19956"/>
                  </a:lnTo>
                  <a:lnTo>
                    <a:pt x="0" y="0"/>
                  </a:lnTo>
                  <a:lnTo>
                    <a:pt x="19956" y="0"/>
                  </a:lnTo>
                  <a:close/>
                </a:path>
              </a:pathLst>
            </a:custGeom>
            <a:solidFill>
              <a:srgbClr val="cccc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346120" y="4618080"/>
              <a:ext cx="549360" cy="3301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6" y="0"/>
                  </a:moveTo>
                  <a:lnTo>
                    <a:pt x="19956" y="19956"/>
                  </a:lnTo>
                  <a:lnTo>
                    <a:pt x="0" y="19956"/>
                  </a:lnTo>
                  <a:lnTo>
                    <a:pt x="0" y="0"/>
                  </a:lnTo>
                  <a:lnTo>
                    <a:pt x="19956" y="0"/>
                  </a:lnTo>
                  <a:close/>
                </a:path>
              </a:pathLst>
            </a:custGeom>
            <a:solidFill>
              <a:srgbClr val="00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900000" y="4802400"/>
              <a:ext cx="1446120" cy="3697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3" y="0"/>
                  </a:moveTo>
                  <a:lnTo>
                    <a:pt x="0" y="1996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09480" y="4811760"/>
              <a:ext cx="57780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7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Courier New"/>
                </a:rPr>
                <a:t>yPt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42760" y="5138640"/>
              <a:ext cx="111240" cy="669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28640" y="4422960"/>
              <a:ext cx="1825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7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528640" y="4703760"/>
              <a:ext cx="1825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7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Courier New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3429000" y="4346640"/>
              <a:ext cx="4876560" cy="685800"/>
              <a:chOff x="3429000" y="4346640"/>
              <a:chExt cx="4876560" cy="68580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3429000" y="4346640"/>
                <a:ext cx="2059920" cy="685800"/>
                <a:chOff x="3429000" y="4346640"/>
                <a:chExt cx="2059920" cy="6858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4740840" y="4346640"/>
                  <a:ext cx="515520" cy="2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600" spc="-1" strike="noStrike">
                      <a:solidFill>
                        <a:srgbClr val="000000"/>
                      </a:solidFill>
                      <a:latin typeface="Courier New"/>
                    </a:rPr>
                    <a:t>ypt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8" name=""/>
                <p:cNvGrpSpPr/>
                <p:nvPr/>
              </p:nvGrpSpPr>
              <p:grpSpPr>
                <a:xfrm>
                  <a:off x="3429000" y="4652640"/>
                  <a:ext cx="2059920" cy="379800"/>
                  <a:chOff x="3429000" y="4652640"/>
                  <a:chExt cx="2059920" cy="379800"/>
                </a:xfrm>
              </p:grpSpPr>
              <p:sp>
                <p:nvSpPr>
                  <p:cNvPr id="129" name=""/>
                  <p:cNvSpPr/>
                  <p:nvPr/>
                </p:nvSpPr>
                <p:spPr>
                  <a:xfrm>
                    <a:off x="3429000" y="4715640"/>
                    <a:ext cx="753120" cy="296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8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sz="1600" spc="-1" strike="noStrike">
                        <a:solidFill>
                          <a:srgbClr val="000000"/>
                        </a:solidFill>
                        <a:latin typeface="Courier New"/>
                      </a:rPr>
                      <a:t>500000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0" name=""/>
                  <p:cNvGrpSpPr/>
                  <p:nvPr/>
                </p:nvGrpSpPr>
                <p:grpSpPr>
                  <a:xfrm>
                    <a:off x="4182120" y="4652640"/>
                    <a:ext cx="1306800" cy="379800"/>
                    <a:chOff x="4182120" y="4652640"/>
                    <a:chExt cx="1306800" cy="379800"/>
                  </a:xfrm>
                </p:grpSpPr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4458240" y="4715640"/>
                      <a:ext cx="753120" cy="296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60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4182120" y="4652640"/>
                      <a:ext cx="1306800" cy="37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19985" y="0"/>
                          </a:moveTo>
                          <a:lnTo>
                            <a:pt x="19985" y="19944"/>
                          </a:lnTo>
                          <a:lnTo>
                            <a:pt x="0" y="19944"/>
                          </a:lnTo>
                          <a:lnTo>
                            <a:pt x="0" y="0"/>
                          </a:lnTo>
                          <a:lnTo>
                            <a:pt x="19985" y="0"/>
                          </a:lnTo>
                          <a:close/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33" name=""/>
              <p:cNvGrpSpPr/>
              <p:nvPr/>
            </p:nvGrpSpPr>
            <p:grpSpPr>
              <a:xfrm>
                <a:off x="6245640" y="4346640"/>
                <a:ext cx="2059920" cy="685800"/>
                <a:chOff x="6245640" y="4346640"/>
                <a:chExt cx="2059920" cy="68580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7572240" y="4346640"/>
                  <a:ext cx="159120" cy="2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600" spc="-1" strike="noStrike">
                      <a:solidFill>
                        <a:srgbClr val="000000"/>
                      </a:solidFill>
                      <a:latin typeface="Courier New"/>
                    </a:rPr>
                    <a:t>y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5" name=""/>
                <p:cNvGrpSpPr/>
                <p:nvPr/>
              </p:nvGrpSpPr>
              <p:grpSpPr>
                <a:xfrm>
                  <a:off x="6245640" y="4652640"/>
                  <a:ext cx="2059920" cy="379800"/>
                  <a:chOff x="6245640" y="4652640"/>
                  <a:chExt cx="2059920" cy="379800"/>
                </a:xfrm>
              </p:grpSpPr>
              <p:sp>
                <p:nvSpPr>
                  <p:cNvPr id="136" name=""/>
                  <p:cNvSpPr/>
                  <p:nvPr/>
                </p:nvSpPr>
                <p:spPr>
                  <a:xfrm>
                    <a:off x="6245640" y="4715640"/>
                    <a:ext cx="753120" cy="296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8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sz="1600" spc="-1" strike="noStrike">
                        <a:solidFill>
                          <a:srgbClr val="000000"/>
                        </a:solidFill>
                        <a:latin typeface="Courier New"/>
                      </a:rPr>
                      <a:t>600000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7" name=""/>
                  <p:cNvGrpSpPr/>
                  <p:nvPr/>
                </p:nvGrpSpPr>
                <p:grpSpPr>
                  <a:xfrm>
                    <a:off x="6998760" y="4652640"/>
                    <a:ext cx="1306800" cy="379800"/>
                    <a:chOff x="6998760" y="4652640"/>
                    <a:chExt cx="1306800" cy="379800"/>
                  </a:xfrm>
                </p:grpSpPr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7571880" y="4715640"/>
                      <a:ext cx="159120" cy="296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6998760" y="4652640"/>
                      <a:ext cx="1306800" cy="37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19985" y="0"/>
                          </a:moveTo>
                          <a:lnTo>
                            <a:pt x="19985" y="19944"/>
                          </a:lnTo>
                          <a:lnTo>
                            <a:pt x="0" y="19944"/>
                          </a:lnTo>
                          <a:lnTo>
                            <a:pt x="0" y="0"/>
                          </a:lnTo>
                          <a:lnTo>
                            <a:pt x="19985" y="0"/>
                          </a:lnTo>
                          <a:close/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140" name=""/>
            <p:cNvSpPr/>
            <p:nvPr/>
          </p:nvSpPr>
          <p:spPr>
            <a:xfrm>
              <a:off x="3352680" y="404172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333760" y="5565960"/>
              <a:ext cx="16765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ddress of y is value of ypt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6324480" y="4956120"/>
              <a:ext cx="22860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 flipV="1">
              <a:off x="4952520" y="4879800"/>
              <a:ext cx="6094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4BCC8-C22F-4FB8-954F-BD66B8FA78E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3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ointer Op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direction/dereferencing operato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the value of what its operand points 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*yPt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return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becaus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yPt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points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an be used to assign a value to a location in memo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yptr = 7;      // changes y to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referenced pointer (operand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must be an lvalue (no constant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an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inver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cel each other ou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&amp;myVar == myV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amp;*yPtr == yP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08D86-B242-461B-9767-AFFCE095D22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 Declar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  Initializ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  Prin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0" y="0"/>
            <a:ext cx="6780960" cy="4800600"/>
            <a:chOff x="0" y="0"/>
            <a:chExt cx="6780960" cy="4800600"/>
          </a:xfrm>
        </p:grpSpPr>
        <p:grpSp>
          <p:nvGrpSpPr>
            <p:cNvPr id="148" name=""/>
            <p:cNvGrpSpPr/>
            <p:nvPr/>
          </p:nvGrpSpPr>
          <p:grpSpPr>
            <a:xfrm>
              <a:off x="0" y="0"/>
              <a:ext cx="6780960" cy="198360"/>
              <a:chOff x="0" y="0"/>
              <a:chExt cx="6780960" cy="19836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0"/>
                <a:ext cx="6780960" cy="198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0"/>
                <a:ext cx="6780960" cy="198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Fig. 5.4: fig05_04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0" y="198360"/>
              <a:ext cx="6780960" cy="183960"/>
              <a:chOff x="0" y="198360"/>
              <a:chExt cx="6780960" cy="183960"/>
            </a:xfrm>
          </p:grpSpPr>
          <p:sp>
            <p:nvSpPr>
              <p:cNvPr id="152" name=""/>
              <p:cNvSpPr/>
              <p:nvPr/>
            </p:nvSpPr>
            <p:spPr>
              <a:xfrm>
                <a:off x="0" y="19836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19836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Using the &amp; and * operator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0" y="382320"/>
              <a:ext cx="6780960" cy="183960"/>
              <a:chOff x="0" y="382320"/>
              <a:chExt cx="6780960" cy="183960"/>
            </a:xfrm>
          </p:grpSpPr>
          <p:sp>
            <p:nvSpPr>
              <p:cNvPr id="155" name=""/>
              <p:cNvSpPr/>
              <p:nvPr/>
            </p:nvSpPr>
            <p:spPr>
              <a:xfrm>
                <a:off x="0" y="38232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38232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0" y="566280"/>
              <a:ext cx="6780960" cy="183960"/>
              <a:chOff x="0" y="566280"/>
              <a:chExt cx="6780960" cy="183960"/>
            </a:xfrm>
          </p:grpSpPr>
          <p:sp>
            <p:nvSpPr>
              <p:cNvPr id="158" name=""/>
              <p:cNvSpPr/>
              <p:nvPr/>
            </p:nvSpPr>
            <p:spPr>
              <a:xfrm>
                <a:off x="0" y="56628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56628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0" y="750600"/>
              <a:ext cx="6780960" cy="183960"/>
              <a:chOff x="0" y="750600"/>
              <a:chExt cx="6780960" cy="183960"/>
            </a:xfrm>
          </p:grpSpPr>
          <p:sp>
            <p:nvSpPr>
              <p:cNvPr id="161" name=""/>
              <p:cNvSpPr/>
              <p:nvPr/>
            </p:nvSpPr>
            <p:spPr>
              <a:xfrm>
                <a:off x="0" y="75060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75060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0" y="934560"/>
              <a:ext cx="6780960" cy="183960"/>
              <a:chOff x="0" y="934560"/>
              <a:chExt cx="6780960" cy="183960"/>
            </a:xfrm>
          </p:grpSpPr>
          <p:sp>
            <p:nvSpPr>
              <p:cNvPr id="164" name=""/>
              <p:cNvSpPr/>
              <p:nvPr/>
            </p:nvSpPr>
            <p:spPr>
              <a:xfrm>
                <a:off x="0" y="93456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93456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0" y="1118520"/>
              <a:ext cx="6780960" cy="183960"/>
              <a:chOff x="0" y="1118520"/>
              <a:chExt cx="6780960" cy="183960"/>
            </a:xfrm>
          </p:grpSpPr>
          <p:sp>
            <p:nvSpPr>
              <p:cNvPr id="167" name=""/>
              <p:cNvSpPr/>
              <p:nvPr/>
            </p:nvSpPr>
            <p:spPr>
              <a:xfrm>
                <a:off x="0" y="111852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111852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0" y="1302840"/>
              <a:ext cx="6780960" cy="183960"/>
              <a:chOff x="0" y="1302840"/>
              <a:chExt cx="6780960" cy="183960"/>
            </a:xfrm>
          </p:grpSpPr>
          <p:sp>
            <p:nvSpPr>
              <p:cNvPr id="170" name=""/>
              <p:cNvSpPr/>
              <p:nvPr/>
            </p:nvSpPr>
            <p:spPr>
              <a:xfrm>
                <a:off x="0" y="130284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130284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0" y="1486800"/>
              <a:ext cx="6780960" cy="183960"/>
              <a:chOff x="0" y="1486800"/>
              <a:chExt cx="6780960" cy="183960"/>
            </a:xfrm>
          </p:grpSpPr>
          <p:sp>
            <p:nvSpPr>
              <p:cNvPr id="173" name=""/>
              <p:cNvSpPr/>
              <p:nvPr/>
            </p:nvSpPr>
            <p:spPr>
              <a:xfrm>
                <a:off x="0" y="148680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148680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0" y="1671120"/>
              <a:ext cx="6780960" cy="183960"/>
              <a:chOff x="0" y="1671120"/>
              <a:chExt cx="6780960" cy="183960"/>
            </a:xfrm>
          </p:grpSpPr>
          <p:sp>
            <p:nvSpPr>
              <p:cNvPr id="176" name=""/>
              <p:cNvSpPr/>
              <p:nvPr/>
            </p:nvSpPr>
            <p:spPr>
              <a:xfrm>
                <a:off x="0" y="167112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167112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a;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a is an integ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0" y="1855080"/>
              <a:ext cx="6780960" cy="183960"/>
              <a:chOff x="0" y="1855080"/>
              <a:chExt cx="6780960" cy="183960"/>
            </a:xfrm>
          </p:grpSpPr>
          <p:sp>
            <p:nvSpPr>
              <p:cNvPr id="179" name=""/>
              <p:cNvSpPr/>
              <p:nvPr/>
            </p:nvSpPr>
            <p:spPr>
              <a:xfrm>
                <a:off x="0" y="185508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185508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*aPtr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aPtr is a pointer to an integ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0" y="2039040"/>
              <a:ext cx="6780960" cy="183960"/>
              <a:chOff x="0" y="2039040"/>
              <a:chExt cx="6780960" cy="183960"/>
            </a:xfrm>
          </p:grpSpPr>
          <p:sp>
            <p:nvSpPr>
              <p:cNvPr id="182" name=""/>
              <p:cNvSpPr/>
              <p:nvPr/>
            </p:nvSpPr>
            <p:spPr>
              <a:xfrm>
                <a:off x="0" y="203904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203904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0" y="2223360"/>
              <a:ext cx="6780960" cy="183960"/>
              <a:chOff x="0" y="2223360"/>
              <a:chExt cx="6780960" cy="183960"/>
            </a:xfrm>
          </p:grpSpPr>
          <p:sp>
            <p:nvSpPr>
              <p:cNvPr id="185" name=""/>
              <p:cNvSpPr/>
              <p:nvPr/>
            </p:nvSpPr>
            <p:spPr>
              <a:xfrm>
                <a:off x="0" y="222336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222336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a = 7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0" y="2407320"/>
              <a:ext cx="6780960" cy="183960"/>
              <a:chOff x="0" y="2407320"/>
              <a:chExt cx="6780960" cy="183960"/>
            </a:xfrm>
          </p:grpSpPr>
          <p:sp>
            <p:nvSpPr>
              <p:cNvPr id="188" name=""/>
              <p:cNvSpPr/>
              <p:nvPr/>
            </p:nvSpPr>
            <p:spPr>
              <a:xfrm>
                <a:off x="0" y="240732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240732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aPtr = &amp;a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aPtr set to address of 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0" y="2591640"/>
              <a:ext cx="6780960" cy="183960"/>
              <a:chOff x="0" y="2591640"/>
              <a:chExt cx="6780960" cy="183960"/>
            </a:xfrm>
          </p:grpSpPr>
          <p:sp>
            <p:nvSpPr>
              <p:cNvPr id="191" name=""/>
              <p:cNvSpPr/>
              <p:nvPr/>
            </p:nvSpPr>
            <p:spPr>
              <a:xfrm>
                <a:off x="0" y="259164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259164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0" y="2775600"/>
              <a:ext cx="6780960" cy="183960"/>
              <a:chOff x="0" y="2775600"/>
              <a:chExt cx="6780960" cy="183960"/>
            </a:xfrm>
          </p:grpSpPr>
          <p:sp>
            <p:nvSpPr>
              <p:cNvPr id="194" name=""/>
              <p:cNvSpPr/>
              <p:nvPr/>
            </p:nvSpPr>
            <p:spPr>
              <a:xfrm>
                <a:off x="0" y="277560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277560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The address of a is " &lt;&lt; &amp;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0" y="2959560"/>
              <a:ext cx="6780960" cy="183960"/>
              <a:chOff x="0" y="2959560"/>
              <a:chExt cx="6780960" cy="18396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295956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295956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"\nThe value of aPtr is " &lt;&lt; aPt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0" y="3143880"/>
              <a:ext cx="6780960" cy="183960"/>
              <a:chOff x="0" y="3143880"/>
              <a:chExt cx="6780960" cy="183960"/>
            </a:xfrm>
          </p:grpSpPr>
          <p:sp>
            <p:nvSpPr>
              <p:cNvPr id="200" name=""/>
              <p:cNvSpPr/>
              <p:nvPr/>
            </p:nvSpPr>
            <p:spPr>
              <a:xfrm>
                <a:off x="0" y="314388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4388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0" y="3327840"/>
              <a:ext cx="6780960" cy="183960"/>
              <a:chOff x="0" y="3327840"/>
              <a:chExt cx="6780960" cy="183960"/>
            </a:xfrm>
          </p:grpSpPr>
          <p:sp>
            <p:nvSpPr>
              <p:cNvPr id="203" name=""/>
              <p:cNvSpPr/>
              <p:nvPr/>
            </p:nvSpPr>
            <p:spPr>
              <a:xfrm>
                <a:off x="0" y="332784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332784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\n\nThe value of a is " &lt;&lt; 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0" y="3511800"/>
              <a:ext cx="6780960" cy="183960"/>
              <a:chOff x="0" y="3511800"/>
              <a:chExt cx="6780960" cy="183960"/>
            </a:xfrm>
          </p:grpSpPr>
          <p:sp>
            <p:nvSpPr>
              <p:cNvPr id="206" name=""/>
              <p:cNvSpPr/>
              <p:nvPr/>
            </p:nvSpPr>
            <p:spPr>
              <a:xfrm>
                <a:off x="0" y="351180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351180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"\nThe value of *aPtr is " &lt;&lt; *aPt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0" y="3696120"/>
              <a:ext cx="6780960" cy="183960"/>
              <a:chOff x="0" y="3696120"/>
              <a:chExt cx="6780960" cy="183960"/>
            </a:xfrm>
          </p:grpSpPr>
          <p:sp>
            <p:nvSpPr>
              <p:cNvPr id="209" name=""/>
              <p:cNvSpPr/>
              <p:nvPr/>
            </p:nvSpPr>
            <p:spPr>
              <a:xfrm>
                <a:off x="0" y="369612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369612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0" y="3880080"/>
              <a:ext cx="6780960" cy="183960"/>
              <a:chOff x="0" y="3880080"/>
              <a:chExt cx="6780960" cy="183960"/>
            </a:xfrm>
          </p:grpSpPr>
          <p:sp>
            <p:nvSpPr>
              <p:cNvPr id="212" name=""/>
              <p:cNvSpPr/>
              <p:nvPr/>
            </p:nvSpPr>
            <p:spPr>
              <a:xfrm>
                <a:off x="0" y="388008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388008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\n\nShowing that * and &amp; are inverses of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" name=""/>
            <p:cNvGrpSpPr/>
            <p:nvPr/>
          </p:nvGrpSpPr>
          <p:grpSpPr>
            <a:xfrm>
              <a:off x="0" y="4064400"/>
              <a:ext cx="6780960" cy="183960"/>
              <a:chOff x="0" y="4064400"/>
              <a:chExt cx="6780960" cy="183960"/>
            </a:xfrm>
          </p:grpSpPr>
          <p:sp>
            <p:nvSpPr>
              <p:cNvPr id="215" name=""/>
              <p:cNvSpPr/>
              <p:nvPr/>
            </p:nvSpPr>
            <p:spPr>
              <a:xfrm>
                <a:off x="0" y="406440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406440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"each other.\n&amp;*aPtr = " &lt;&lt; &amp;*aPt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0" y="4248360"/>
              <a:ext cx="6780960" cy="183960"/>
              <a:chOff x="0" y="4248360"/>
              <a:chExt cx="6780960" cy="183960"/>
            </a:xfrm>
          </p:grpSpPr>
          <p:sp>
            <p:nvSpPr>
              <p:cNvPr id="218" name=""/>
              <p:cNvSpPr/>
              <p:nvPr/>
            </p:nvSpPr>
            <p:spPr>
              <a:xfrm>
                <a:off x="0" y="424836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424836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"\n*&amp;aPtr = " &lt;&lt; *&amp;aPtr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0" y="4432680"/>
              <a:ext cx="6780960" cy="183960"/>
              <a:chOff x="0" y="4432680"/>
              <a:chExt cx="6780960" cy="183960"/>
            </a:xfrm>
          </p:grpSpPr>
          <p:sp>
            <p:nvSpPr>
              <p:cNvPr id="221" name=""/>
              <p:cNvSpPr/>
              <p:nvPr/>
            </p:nvSpPr>
            <p:spPr>
              <a:xfrm>
                <a:off x="0" y="443268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443268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0" y="4616640"/>
              <a:ext cx="6780960" cy="183960"/>
              <a:chOff x="0" y="4616640"/>
              <a:chExt cx="6780960" cy="183960"/>
            </a:xfrm>
          </p:grpSpPr>
          <p:sp>
            <p:nvSpPr>
              <p:cNvPr id="224" name=""/>
              <p:cNvSpPr/>
              <p:nvPr/>
            </p:nvSpPr>
            <p:spPr>
              <a:xfrm>
                <a:off x="0" y="461664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461664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6" name=""/>
          <p:cNvGrpSpPr/>
          <p:nvPr/>
        </p:nvGrpSpPr>
        <p:grpSpPr>
          <a:xfrm>
            <a:off x="1447560" y="838080"/>
            <a:ext cx="4572360" cy="1523880"/>
            <a:chOff x="1447560" y="838080"/>
            <a:chExt cx="4572360" cy="1523880"/>
          </a:xfrm>
        </p:grpSpPr>
        <p:sp>
          <p:nvSpPr>
            <p:cNvPr id="227" name=""/>
            <p:cNvSpPr/>
            <p:nvPr/>
          </p:nvSpPr>
          <p:spPr>
            <a:xfrm>
              <a:off x="3352680" y="83808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address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the value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Ptr.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1447560" y="1142640"/>
              <a:ext cx="190476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4190760" y="2104920"/>
            <a:ext cx="3124440" cy="1476360"/>
            <a:chOff x="4190760" y="2104920"/>
            <a:chExt cx="3124440" cy="1476360"/>
          </a:xfrm>
        </p:grpSpPr>
        <p:sp>
          <p:nvSpPr>
            <p:cNvPr id="230" name=""/>
            <p:cNvSpPr/>
            <p:nvPr/>
          </p:nvSpPr>
          <p:spPr>
            <a:xfrm>
              <a:off x="4724280" y="2104920"/>
              <a:ext cx="259092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*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perator returns an alias to what its operand points to.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Pt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oints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s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*aPt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turn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4190760" y="2743200"/>
              <a:ext cx="53316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419360" y="3753000"/>
            <a:ext cx="3657960" cy="580680"/>
            <a:chOff x="4419360" y="3753000"/>
            <a:chExt cx="3657960" cy="580680"/>
          </a:xfrm>
        </p:grpSpPr>
        <p:sp>
          <p:nvSpPr>
            <p:cNvPr id="233" name=""/>
            <p:cNvSpPr/>
            <p:nvPr/>
          </p:nvSpPr>
          <p:spPr>
            <a:xfrm>
              <a:off x="6400800" y="3753000"/>
              <a:ext cx="16765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ce how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*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&amp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re inverse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4419360" y="3981600"/>
              <a:ext cx="19810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0" y="5029200"/>
            <a:ext cx="6781680" cy="1554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address of a is 006AFDF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value of aPtr is 006AFDF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value of a is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value of *aPtr is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ing that * and &amp; are inverses of each 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*aPtr = 006AFDF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*&amp;aPtr = 006AFDF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4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alling Functions by Reference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 by reference with pointer arg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 address of argument us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pera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ows you to change actual location in memo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rays are not passed wit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because the array name is already a poin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perator used as alias/nickname for variable inside of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doubleNum( int *number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*number = 2 * ( *number 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*numb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used as nickname for the variable passed 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hen the function is called, must be passed an addr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ubleNum( &amp;myNum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5D381-5F95-4E8D-B96B-20D07292F72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 Function prototype - takes a pointer to a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1  Initializ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Call func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  Define func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0" y="0"/>
            <a:ext cx="6780960" cy="4724280"/>
            <a:chOff x="0" y="0"/>
            <a:chExt cx="6780960" cy="4724280"/>
          </a:xfrm>
        </p:grpSpPr>
        <p:grpSp>
          <p:nvGrpSpPr>
            <p:cNvPr id="240" name=""/>
            <p:cNvGrpSpPr/>
            <p:nvPr/>
          </p:nvGrpSpPr>
          <p:grpSpPr>
            <a:xfrm>
              <a:off x="0" y="0"/>
              <a:ext cx="6780960" cy="196560"/>
              <a:chOff x="0" y="0"/>
              <a:chExt cx="6780960" cy="196560"/>
            </a:xfrm>
          </p:grpSpPr>
          <p:sp>
            <p:nvSpPr>
              <p:cNvPr id="241" name=""/>
              <p:cNvSpPr/>
              <p:nvPr/>
            </p:nvSpPr>
            <p:spPr>
              <a:xfrm>
                <a:off x="0" y="0"/>
                <a:ext cx="6780960" cy="196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0"/>
                <a:ext cx="6780960" cy="196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Fig. 5.7: fig05_07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0" y="196560"/>
              <a:ext cx="6780960" cy="196560"/>
              <a:chOff x="0" y="196560"/>
              <a:chExt cx="6780960" cy="196560"/>
            </a:xfrm>
          </p:grpSpPr>
          <p:sp>
            <p:nvSpPr>
              <p:cNvPr id="244" name=""/>
              <p:cNvSpPr/>
              <p:nvPr/>
            </p:nvSpPr>
            <p:spPr>
              <a:xfrm>
                <a:off x="0" y="196560"/>
                <a:ext cx="6780960" cy="196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196560"/>
                <a:ext cx="6780960" cy="196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Cube a variable using call-by-referenc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0" y="393480"/>
              <a:ext cx="6780960" cy="196920"/>
              <a:chOff x="0" y="393480"/>
              <a:chExt cx="6780960" cy="196920"/>
            </a:xfrm>
          </p:grpSpPr>
          <p:sp>
            <p:nvSpPr>
              <p:cNvPr id="247" name=""/>
              <p:cNvSpPr/>
              <p:nvPr/>
            </p:nvSpPr>
            <p:spPr>
              <a:xfrm>
                <a:off x="0" y="393480"/>
                <a:ext cx="6780960" cy="196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0" y="393480"/>
                <a:ext cx="6780960" cy="196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with a pointer argum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0" y="590400"/>
              <a:ext cx="6780960" cy="196560"/>
              <a:chOff x="0" y="590400"/>
              <a:chExt cx="6780960" cy="196560"/>
            </a:xfrm>
          </p:grpSpPr>
          <p:sp>
            <p:nvSpPr>
              <p:cNvPr id="250" name=""/>
              <p:cNvSpPr/>
              <p:nvPr/>
            </p:nvSpPr>
            <p:spPr>
              <a:xfrm>
                <a:off x="0" y="590400"/>
                <a:ext cx="6780960" cy="196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0" y="590400"/>
                <a:ext cx="6780960" cy="196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0" y="787320"/>
              <a:ext cx="6780960" cy="196560"/>
              <a:chOff x="0" y="787320"/>
              <a:chExt cx="6780960" cy="196560"/>
            </a:xfrm>
          </p:grpSpPr>
          <p:sp>
            <p:nvSpPr>
              <p:cNvPr id="253" name=""/>
              <p:cNvSpPr/>
              <p:nvPr/>
            </p:nvSpPr>
            <p:spPr>
              <a:xfrm>
                <a:off x="0" y="787320"/>
                <a:ext cx="6780960" cy="196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787320"/>
                <a:ext cx="6780960" cy="196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0" y="984240"/>
              <a:ext cx="6780960" cy="196560"/>
              <a:chOff x="0" y="984240"/>
              <a:chExt cx="6780960" cy="196560"/>
            </a:xfrm>
          </p:grpSpPr>
          <p:sp>
            <p:nvSpPr>
              <p:cNvPr id="256" name=""/>
              <p:cNvSpPr/>
              <p:nvPr/>
            </p:nvSpPr>
            <p:spPr>
              <a:xfrm>
                <a:off x="0" y="984240"/>
                <a:ext cx="6780960" cy="196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0" y="984240"/>
                <a:ext cx="6780960" cy="196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0" y="1180800"/>
              <a:ext cx="6780960" cy="196920"/>
              <a:chOff x="0" y="1180800"/>
              <a:chExt cx="6780960" cy="196920"/>
            </a:xfrm>
          </p:grpSpPr>
          <p:sp>
            <p:nvSpPr>
              <p:cNvPr id="259" name=""/>
              <p:cNvSpPr/>
              <p:nvPr/>
            </p:nvSpPr>
            <p:spPr>
              <a:xfrm>
                <a:off x="0" y="1180800"/>
                <a:ext cx="6780960" cy="196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0" y="1180800"/>
                <a:ext cx="6780960" cy="196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0" y="1377720"/>
              <a:ext cx="6780960" cy="196560"/>
              <a:chOff x="0" y="1377720"/>
              <a:chExt cx="6780960" cy="196560"/>
            </a:xfrm>
          </p:grpSpPr>
          <p:sp>
            <p:nvSpPr>
              <p:cNvPr id="262" name=""/>
              <p:cNvSpPr/>
              <p:nvPr/>
            </p:nvSpPr>
            <p:spPr>
              <a:xfrm>
                <a:off x="0" y="1377720"/>
                <a:ext cx="6780960" cy="196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0" y="1377720"/>
                <a:ext cx="6780960" cy="196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0" y="1574640"/>
              <a:ext cx="6780960" cy="196560"/>
              <a:chOff x="0" y="1574640"/>
              <a:chExt cx="6780960" cy="196560"/>
            </a:xfrm>
          </p:grpSpPr>
          <p:sp>
            <p:nvSpPr>
              <p:cNvPr id="265" name=""/>
              <p:cNvSpPr/>
              <p:nvPr/>
            </p:nvSpPr>
            <p:spPr>
              <a:xfrm>
                <a:off x="0" y="1574640"/>
                <a:ext cx="6780960" cy="196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0" y="1574640"/>
                <a:ext cx="6780960" cy="196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cubeByReferenc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* )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prototyp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0" y="1771560"/>
              <a:ext cx="6780960" cy="196560"/>
              <a:chOff x="0" y="1771560"/>
              <a:chExt cx="6780960" cy="196560"/>
            </a:xfrm>
          </p:grpSpPr>
          <p:sp>
            <p:nvSpPr>
              <p:cNvPr id="268" name=""/>
              <p:cNvSpPr/>
              <p:nvPr/>
            </p:nvSpPr>
            <p:spPr>
              <a:xfrm>
                <a:off x="0" y="1771560"/>
                <a:ext cx="6780960" cy="196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771560"/>
                <a:ext cx="6780960" cy="196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0" y="1968480"/>
              <a:ext cx="6780960" cy="196920"/>
              <a:chOff x="0" y="1968480"/>
              <a:chExt cx="6780960" cy="196920"/>
            </a:xfrm>
          </p:grpSpPr>
          <p:sp>
            <p:nvSpPr>
              <p:cNvPr id="271" name=""/>
              <p:cNvSpPr/>
              <p:nvPr/>
            </p:nvSpPr>
            <p:spPr>
              <a:xfrm>
                <a:off x="0" y="1968480"/>
                <a:ext cx="6780960" cy="196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0" y="1968480"/>
                <a:ext cx="6780960" cy="196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0" y="2165400"/>
              <a:ext cx="6780960" cy="196560"/>
              <a:chOff x="0" y="2165400"/>
              <a:chExt cx="6780960" cy="196560"/>
            </a:xfrm>
          </p:grpSpPr>
          <p:sp>
            <p:nvSpPr>
              <p:cNvPr id="274" name=""/>
              <p:cNvSpPr/>
              <p:nvPr/>
            </p:nvSpPr>
            <p:spPr>
              <a:xfrm>
                <a:off x="0" y="2165400"/>
                <a:ext cx="6780960" cy="196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0" y="2165400"/>
                <a:ext cx="6780960" cy="196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0" y="2361960"/>
              <a:ext cx="6780960" cy="196560"/>
              <a:chOff x="0" y="2361960"/>
              <a:chExt cx="6780960" cy="196560"/>
            </a:xfrm>
          </p:grpSpPr>
          <p:sp>
            <p:nvSpPr>
              <p:cNvPr id="277" name=""/>
              <p:cNvSpPr/>
              <p:nvPr/>
            </p:nvSpPr>
            <p:spPr>
              <a:xfrm>
                <a:off x="0" y="2361960"/>
                <a:ext cx="6780960" cy="196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0" y="2361960"/>
                <a:ext cx="6780960" cy="196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number = 5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0" y="2558880"/>
              <a:ext cx="6780960" cy="196560"/>
              <a:chOff x="0" y="2558880"/>
              <a:chExt cx="6780960" cy="196560"/>
            </a:xfrm>
          </p:grpSpPr>
          <p:sp>
            <p:nvSpPr>
              <p:cNvPr id="280" name=""/>
              <p:cNvSpPr/>
              <p:nvPr/>
            </p:nvSpPr>
            <p:spPr>
              <a:xfrm>
                <a:off x="0" y="2558880"/>
                <a:ext cx="6780960" cy="196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0" y="2558880"/>
                <a:ext cx="6780960" cy="196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0" y="2755800"/>
              <a:ext cx="6780960" cy="196920"/>
              <a:chOff x="0" y="2755800"/>
              <a:chExt cx="6780960" cy="196920"/>
            </a:xfrm>
          </p:grpSpPr>
          <p:sp>
            <p:nvSpPr>
              <p:cNvPr id="283" name=""/>
              <p:cNvSpPr/>
              <p:nvPr/>
            </p:nvSpPr>
            <p:spPr>
              <a:xfrm>
                <a:off x="0" y="2755800"/>
                <a:ext cx="6780960" cy="196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0" y="2755800"/>
                <a:ext cx="6780960" cy="196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The original value of number is " &lt;&lt; numbe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0" y="2952720"/>
              <a:ext cx="6780960" cy="196560"/>
              <a:chOff x="0" y="2952720"/>
              <a:chExt cx="6780960" cy="196560"/>
            </a:xfrm>
          </p:grpSpPr>
          <p:sp>
            <p:nvSpPr>
              <p:cNvPr id="286" name=""/>
              <p:cNvSpPr/>
              <p:nvPr/>
            </p:nvSpPr>
            <p:spPr>
              <a:xfrm>
                <a:off x="0" y="2952720"/>
                <a:ext cx="6780960" cy="196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0" y="2952720"/>
                <a:ext cx="6780960" cy="196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ubeByReference( &amp;number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0" y="3149640"/>
              <a:ext cx="6780960" cy="196560"/>
              <a:chOff x="0" y="3149640"/>
              <a:chExt cx="6780960" cy="196560"/>
            </a:xfrm>
          </p:grpSpPr>
          <p:sp>
            <p:nvSpPr>
              <p:cNvPr id="289" name=""/>
              <p:cNvSpPr/>
              <p:nvPr/>
            </p:nvSpPr>
            <p:spPr>
              <a:xfrm>
                <a:off x="0" y="3149640"/>
                <a:ext cx="6780960" cy="196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3149640"/>
                <a:ext cx="6780960" cy="196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\nThe new value of number is " &lt;&lt; number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0" y="3346200"/>
              <a:ext cx="6780960" cy="196560"/>
              <a:chOff x="0" y="3346200"/>
              <a:chExt cx="6780960" cy="196560"/>
            </a:xfrm>
          </p:grpSpPr>
          <p:sp>
            <p:nvSpPr>
              <p:cNvPr id="292" name=""/>
              <p:cNvSpPr/>
              <p:nvPr/>
            </p:nvSpPr>
            <p:spPr>
              <a:xfrm>
                <a:off x="0" y="3346200"/>
                <a:ext cx="6780960" cy="196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0" y="3346200"/>
                <a:ext cx="6780960" cy="196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0" y="3543120"/>
              <a:ext cx="6780960" cy="196560"/>
              <a:chOff x="0" y="3543120"/>
              <a:chExt cx="6780960" cy="196560"/>
            </a:xfrm>
          </p:grpSpPr>
          <p:sp>
            <p:nvSpPr>
              <p:cNvPr id="295" name=""/>
              <p:cNvSpPr/>
              <p:nvPr/>
            </p:nvSpPr>
            <p:spPr>
              <a:xfrm>
                <a:off x="0" y="3543120"/>
                <a:ext cx="6780960" cy="196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0" y="3543120"/>
                <a:ext cx="6780960" cy="196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0" y="3740040"/>
              <a:ext cx="6780960" cy="196920"/>
              <a:chOff x="0" y="3740040"/>
              <a:chExt cx="6780960" cy="196920"/>
            </a:xfrm>
          </p:grpSpPr>
          <p:sp>
            <p:nvSpPr>
              <p:cNvPr id="298" name=""/>
              <p:cNvSpPr/>
              <p:nvPr/>
            </p:nvSpPr>
            <p:spPr>
              <a:xfrm>
                <a:off x="0" y="3740040"/>
                <a:ext cx="6780960" cy="196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0" y="3740040"/>
                <a:ext cx="6780960" cy="196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0" y="3936960"/>
              <a:ext cx="6780960" cy="196560"/>
              <a:chOff x="0" y="3936960"/>
              <a:chExt cx="6780960" cy="196560"/>
            </a:xfrm>
          </p:grpSpPr>
          <p:sp>
            <p:nvSpPr>
              <p:cNvPr id="301" name=""/>
              <p:cNvSpPr/>
              <p:nvPr/>
            </p:nvSpPr>
            <p:spPr>
              <a:xfrm>
                <a:off x="0" y="3936960"/>
                <a:ext cx="6780960" cy="196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0" y="3936960"/>
                <a:ext cx="6780960" cy="196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cubeByReferenc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*nPtr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0" y="4133880"/>
              <a:ext cx="6780960" cy="196560"/>
              <a:chOff x="0" y="4133880"/>
              <a:chExt cx="6780960" cy="196560"/>
            </a:xfrm>
          </p:grpSpPr>
          <p:sp>
            <p:nvSpPr>
              <p:cNvPr id="304" name=""/>
              <p:cNvSpPr/>
              <p:nvPr/>
            </p:nvSpPr>
            <p:spPr>
              <a:xfrm>
                <a:off x="0" y="4133880"/>
                <a:ext cx="6780960" cy="196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4133880"/>
                <a:ext cx="6780960" cy="196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0" y="4330440"/>
              <a:ext cx="6780960" cy="196560"/>
              <a:chOff x="0" y="4330440"/>
              <a:chExt cx="6780960" cy="196560"/>
            </a:xfrm>
          </p:grpSpPr>
          <p:sp>
            <p:nvSpPr>
              <p:cNvPr id="307" name=""/>
              <p:cNvSpPr/>
              <p:nvPr/>
            </p:nvSpPr>
            <p:spPr>
              <a:xfrm>
                <a:off x="0" y="4330440"/>
                <a:ext cx="6780960" cy="196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0" y="4330440"/>
                <a:ext cx="6780960" cy="196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*nPtr = *nPtr * *nPtr * *nPtr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cube number in mai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0" y="4527360"/>
              <a:ext cx="6780960" cy="196920"/>
              <a:chOff x="0" y="4527360"/>
              <a:chExt cx="6780960" cy="196920"/>
            </a:xfrm>
          </p:grpSpPr>
          <p:sp>
            <p:nvSpPr>
              <p:cNvPr id="310" name=""/>
              <p:cNvSpPr/>
              <p:nvPr/>
            </p:nvSpPr>
            <p:spPr>
              <a:xfrm>
                <a:off x="0" y="4527360"/>
                <a:ext cx="6780960" cy="196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0" y="4527360"/>
                <a:ext cx="6780960" cy="196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2" name=""/>
          <p:cNvGrpSpPr/>
          <p:nvPr/>
        </p:nvGrpSpPr>
        <p:grpSpPr>
          <a:xfrm>
            <a:off x="3276720" y="3352680"/>
            <a:ext cx="4419360" cy="990720"/>
            <a:chOff x="3276720" y="3352680"/>
            <a:chExt cx="4419360" cy="990720"/>
          </a:xfrm>
        </p:grpSpPr>
        <p:sp>
          <p:nvSpPr>
            <p:cNvPr id="313" name=""/>
            <p:cNvSpPr/>
            <p:nvPr/>
          </p:nvSpPr>
          <p:spPr>
            <a:xfrm>
              <a:off x="4572000" y="3352680"/>
              <a:ext cx="31240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sid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ubeByReferenc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*nPt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used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*nPt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numb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3276720" y="3657600"/>
              <a:ext cx="12952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0" y="5105520"/>
            <a:ext cx="6781680" cy="824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original value of number is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new value of number is 1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2742840" y="990720"/>
            <a:ext cx="4038840" cy="1981080"/>
            <a:chOff x="2742840" y="990720"/>
            <a:chExt cx="4038840" cy="1981080"/>
          </a:xfrm>
        </p:grpSpPr>
        <p:sp>
          <p:nvSpPr>
            <p:cNvPr id="317" name=""/>
            <p:cNvSpPr/>
            <p:nvPr/>
          </p:nvSpPr>
          <p:spPr>
            <a:xfrm flipH="1">
              <a:off x="2742840" y="2057400"/>
              <a:ext cx="16765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09880" y="990720"/>
              <a:ext cx="29718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ce how the address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numb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given -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ubeByReferenc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xpects a pointer (an address of a variable)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6T16:08:17Z</dcterms:created>
  <dc:creator>kalid</dc:creator>
  <dc:description/>
  <dc:language>en-US</dc:language>
  <cp:lastModifiedBy>Antonella Esposito</cp:lastModifiedBy>
  <dcterms:modified xsi:type="dcterms:W3CDTF">2001-01-12T10:42:07Z</dcterms:modified>
  <cp:revision>321</cp:revision>
  <dc:subject/>
  <dc:title>PowerPoint Presentation</dc:title>
</cp:coreProperties>
</file>