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7008813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0B4FA-E7A5-42CB-A282-05A8FE6928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523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6E052-6848-4E0A-832E-D359041E67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523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523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4B86B-5ACF-4631-86F2-7C4C424974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523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523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523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8E187-AAD1-4527-A1F5-8D9C244F97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F3991-371E-46CD-9E7F-E6B9FFD3736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5A742-FF12-4BBA-BB00-A8A7F8C63F0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E9422-3E6D-41A3-9943-21B58F3BCDA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0440A-FBA7-46C8-A683-39151A659FD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51148-D5B8-4A6F-BF10-0FEA391786B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4BF71-E3EA-4FCA-B02A-8369F796B10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523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6F415-EE9C-4F08-880D-0B6E7AC63C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3217B-4BC0-4C5B-8124-5C5EA5EFC8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523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272E8-E713-459A-A843-DD0141BC34F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523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F59A2-D425-4499-9901-457D6373835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523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B010A-CB38-486D-99AE-93A3C2D8B00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523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523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2F8E3-7C01-4C7E-8E6F-FA645DBE836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523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523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523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05439-890C-4C27-A093-BB96AF23E0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AA1A2-D3EE-4B7A-9A6D-6CA3B9FA54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C1832-4A7C-4303-875A-D600B78E73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7BF79-95B3-4399-A21E-37F7AE2199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B0EB9-55DE-43CE-9623-155D6974E7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523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C5BBB-495B-40EF-B1D4-B9C543F733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523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4435F-2944-4670-B1B1-B983A2D479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523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80720-E573-4994-9840-B9F36E7F5E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06984-D2CC-4D97-8322-F3D983E3A9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55E94-51BE-45BB-B449-E8F42C06F0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vantGarde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itolo 2 - Control Structures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925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2.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Introduction</a:t>
            </a:r>
            <a:br>
              <a:rPr sz="1800"/>
            </a:b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2.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Algorithms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br>
              <a:rPr sz="1800"/>
            </a:b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2.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Pseudocode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br>
              <a:rPr sz="1800"/>
            </a:b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2.4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Control Structures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br>
              <a:rPr sz="1800"/>
            </a:b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2.5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The </a:t>
            </a:r>
            <a:r>
              <a:rPr b="1" sz="1800" spc="-1" strike="noStrike">
                <a:solidFill>
                  <a:srgbClr val="ff0000"/>
                </a:solidFill>
                <a:latin typeface="Courier New"/>
              </a:rPr>
              <a:t>if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 Selection Structure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br>
              <a:rPr sz="1800"/>
            </a:b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2.6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The </a:t>
            </a:r>
            <a:r>
              <a:rPr b="1" sz="1800" spc="-1" strike="noStrike">
                <a:solidFill>
                  <a:srgbClr val="ff0000"/>
                </a:solidFill>
                <a:latin typeface="Courier New"/>
              </a:rPr>
              <a:t>if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/</a:t>
            </a:r>
            <a:r>
              <a:rPr b="1" sz="1800" spc="-1" strike="noStrike">
                <a:solidFill>
                  <a:srgbClr val="ff0000"/>
                </a:solidFill>
                <a:latin typeface="Courier New"/>
              </a:rPr>
              <a:t>else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 Selection Structure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br>
              <a:rPr sz="1800"/>
            </a:b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2.7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The </a:t>
            </a:r>
            <a:r>
              <a:rPr b="1" sz="1800" spc="-1" strike="noStrike">
                <a:solidFill>
                  <a:srgbClr val="ff0000"/>
                </a:solidFill>
                <a:latin typeface="Courier New"/>
              </a:rPr>
              <a:t>while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 Repetition Structure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br>
              <a:rPr sz="1800"/>
            </a:b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2.8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Formulating Algorithms: Case Study 1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(Counter-Controlled Repetition)</a:t>
            </a:r>
            <a:br>
              <a:rPr sz="1800"/>
            </a:b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2.9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Formulating Algorithms with Top-Down,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 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Stepwise Refinement: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Case Study 2 (Sentinel-Controlled Repetition)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br>
              <a:rPr sz="1800"/>
            </a:b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2.10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Formulating Algorithms with Top-Down, Stepwise Refinement: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Case Study 3 (Nested Control Structures)</a:t>
            </a:r>
            <a:br>
              <a:rPr sz="1800"/>
            </a:b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2.11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Assignment Operators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br>
              <a:rPr sz="1800"/>
            </a:b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2.12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Increment and Decrement Operators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br>
              <a:rPr sz="1800"/>
            </a:b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2.13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Essentials of Counter-Controlled Repetition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br>
              <a:rPr sz="1800"/>
            </a:b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2.14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The </a:t>
            </a:r>
            <a:r>
              <a:rPr b="1" sz="1800" spc="-1" strike="noStrike">
                <a:solidFill>
                  <a:srgbClr val="ff0000"/>
                </a:solidFill>
                <a:latin typeface="Courier New"/>
              </a:rPr>
              <a:t>for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 Repetition Structure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br>
              <a:rPr sz="1800"/>
            </a:b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2.15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Examples Using the </a:t>
            </a:r>
            <a:r>
              <a:rPr b="1" sz="1800" spc="-1" strike="noStrike">
                <a:solidFill>
                  <a:srgbClr val="ff0000"/>
                </a:solidFill>
                <a:latin typeface="Courier New"/>
              </a:rPr>
              <a:t>for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 Structure</a:t>
            </a:r>
            <a:r>
              <a:rPr b="1" sz="16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7B834-D950-4DA5-ABDB-67340151074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5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The if Selection Structu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lation of pseudocode statement into C++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 grade &gt;= 60 )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cout &lt;&lt; "Passed"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amond symbol (decision symb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dicates decision is to be ma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ains an expression that can be true or fals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 the condition, follow appropriate p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ructure is a single-entry/single-exit struct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546200"/>
            <a:ext cx="5486400" cy="15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724200"/>
            <a:ext cx="548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6C4AF-49C5-4761-9C68-DFBEA0528F4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5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The if Selection Structu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owchart of pseudocode 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2120" y="2133720"/>
            <a:ext cx="7467120" cy="2797920"/>
            <a:chOff x="762120" y="2133720"/>
            <a:chExt cx="7467120" cy="2797920"/>
          </a:xfrm>
        </p:grpSpPr>
        <p:grpSp>
          <p:nvGrpSpPr>
            <p:cNvPr id="114" name=""/>
            <p:cNvGrpSpPr/>
            <p:nvPr/>
          </p:nvGrpSpPr>
          <p:grpSpPr>
            <a:xfrm>
              <a:off x="762120" y="2133720"/>
              <a:ext cx="4380480" cy="2797920"/>
              <a:chOff x="762120" y="2133720"/>
              <a:chExt cx="4380480" cy="2797920"/>
            </a:xfrm>
          </p:grpSpPr>
          <p:sp>
            <p:nvSpPr>
              <p:cNvPr id="115" name=""/>
              <p:cNvSpPr/>
              <p:nvPr/>
            </p:nvSpPr>
            <p:spPr>
              <a:xfrm>
                <a:off x="1892880" y="2296080"/>
                <a:ext cx="360" cy="6523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58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892880" y="4116960"/>
                <a:ext cx="360" cy="6523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58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821960" y="2133720"/>
                <a:ext cx="140760" cy="16236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1960" y="4769280"/>
                <a:ext cx="140760" cy="16236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023280" y="3533040"/>
                <a:ext cx="565200" cy="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910160" y="4269240"/>
                <a:ext cx="2543400" cy="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91" y="0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436640" y="3699360"/>
                <a:ext cx="360" cy="569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0" y="19952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052440" y="3257280"/>
                <a:ext cx="500400" cy="32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vantGarde"/>
                    <a:ea typeface="Times New Roman"/>
                  </a:rPr>
                  <a:t>tru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450800" y="4331160"/>
                <a:ext cx="612000" cy="32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vantGarde"/>
                    <a:ea typeface="Times New Roman"/>
                  </a:rPr>
                  <a:t>fals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" name=""/>
              <p:cNvGrpSpPr/>
              <p:nvPr/>
            </p:nvGrpSpPr>
            <p:grpSpPr>
              <a:xfrm>
                <a:off x="762120" y="2948400"/>
                <a:ext cx="2261160" cy="1168200"/>
                <a:chOff x="762120" y="2948400"/>
                <a:chExt cx="2261160" cy="116820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762120" y="2948400"/>
                  <a:ext cx="2261160" cy="11682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90" y="10000"/>
                      </a:moveTo>
                      <a:lnTo>
                        <a:pt x="9990" y="19977"/>
                      </a:lnTo>
                      <a:lnTo>
                        <a:pt x="0" y="10000"/>
                      </a:lnTo>
                      <a:lnTo>
                        <a:pt x="9990" y="0"/>
                      </a:lnTo>
                      <a:lnTo>
                        <a:pt x="19990" y="100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1255680" y="3437280"/>
                  <a:ext cx="1272960" cy="24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vantGarde"/>
                      <a:ea typeface="Times New Roman"/>
                    </a:rPr>
                    <a:t>grade &gt;= 6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3588480" y="3369600"/>
                <a:ext cx="1554120" cy="325800"/>
                <a:chOff x="3588480" y="3369600"/>
                <a:chExt cx="1554120" cy="3258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3588480" y="3369600"/>
                  <a:ext cx="1554120" cy="3258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5" y="0"/>
                      </a:moveTo>
                      <a:lnTo>
                        <a:pt x="19985" y="19917"/>
                      </a:lnTo>
                      <a:lnTo>
                        <a:pt x="0" y="19917"/>
                      </a:lnTo>
                      <a:lnTo>
                        <a:pt x="0" y="0"/>
                      </a:lnTo>
                      <a:lnTo>
                        <a:pt x="19985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686040" y="3444120"/>
                  <a:ext cx="1357560" cy="23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vantGarde"/>
                      <a:ea typeface="Times New Roman"/>
                    </a:rPr>
                    <a:t>print “Passed”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0" name=""/>
            <p:cNvSpPr/>
            <p:nvPr/>
          </p:nvSpPr>
          <p:spPr>
            <a:xfrm>
              <a:off x="5562360" y="2438640"/>
              <a:ext cx="2666880" cy="2311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decision can be made on any expression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zero -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alse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nzero -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ampl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3 - 4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00BAE-9600-4773-B643-10CEBC67CCD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6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The </a:t>
            </a:r>
            <a:r>
              <a:rPr b="1" sz="2800" spc="-1" strike="noStrike">
                <a:solidFill>
                  <a:srgbClr val="ff3300"/>
                </a:solidFill>
                <a:latin typeface="Courier New"/>
              </a:rPr>
              <a:t>if/else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 Selection Structu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performs an action if the condition is tr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f/e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different action is performed when condition is true and when condition is fa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suedo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f student’s grade is greater than or equal to 60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nt “Passe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nt “Failed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 grade &gt;= 60 )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cout &lt;&lt; "Passed"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cout &lt;&lt; "Failed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622520"/>
            <a:ext cx="552132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433680"/>
            <a:ext cx="5521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4732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6FD33-91EB-4E9F-BE3C-AA9C205D038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6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The </a:t>
            </a:r>
            <a:r>
              <a:rPr b="1" sz="2800" spc="-1" strike="noStrike">
                <a:solidFill>
                  <a:srgbClr val="ff3300"/>
                </a:solidFill>
                <a:latin typeface="Courier New"/>
              </a:rPr>
              <a:t>if/else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 Selection Structu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nary conditional operator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?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kes three arguments (condition, value i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value i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pseudocode could be writt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( grade &gt;= 60 ? “Passed” : “Failed”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80880" y="914400"/>
            <a:ext cx="8457120" cy="2437560"/>
            <a:chOff x="380880" y="914400"/>
            <a:chExt cx="8457120" cy="2437560"/>
          </a:xfrm>
        </p:grpSpPr>
        <p:sp>
          <p:nvSpPr>
            <p:cNvPr id="139" name=""/>
            <p:cNvSpPr/>
            <p:nvPr/>
          </p:nvSpPr>
          <p:spPr>
            <a:xfrm>
              <a:off x="4726080" y="2772000"/>
              <a:ext cx="313380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0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112800" y="1642680"/>
              <a:ext cx="6375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385640" y="2772000"/>
              <a:ext cx="316008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1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378080" y="2470320"/>
              <a:ext cx="360" cy="298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3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51320" y="1642680"/>
              <a:ext cx="7794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al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848720" y="1864800"/>
              <a:ext cx="360" cy="360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43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370160" y="1864800"/>
              <a:ext cx="360" cy="360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43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856280" y="2470320"/>
              <a:ext cx="360" cy="298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3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380880" y="2227320"/>
              <a:ext cx="1978920" cy="245520"/>
              <a:chOff x="380880" y="2227320"/>
              <a:chExt cx="1978920" cy="245520"/>
            </a:xfrm>
          </p:grpSpPr>
          <p:sp>
            <p:nvSpPr>
              <p:cNvPr id="148" name=""/>
              <p:cNvSpPr/>
              <p:nvPr/>
            </p:nvSpPr>
            <p:spPr>
              <a:xfrm>
                <a:off x="577080" y="2283480"/>
                <a:ext cx="1583280" cy="17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print “Failed”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80880" y="2227320"/>
                <a:ext cx="1978920" cy="2455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5" y="0"/>
                    </a:moveTo>
                    <a:lnTo>
                      <a:pt x="19985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85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7046280" y="2283480"/>
              <a:ext cx="1619280" cy="1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nt “Passed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859080" y="2227320"/>
              <a:ext cx="1978920" cy="245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5" y="0"/>
                  </a:moveTo>
                  <a:lnTo>
                    <a:pt x="19985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85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4542480" y="2715840"/>
              <a:ext cx="183600" cy="636120"/>
              <a:chOff x="4542480" y="2715840"/>
              <a:chExt cx="183600" cy="636120"/>
            </a:xfrm>
          </p:grpSpPr>
          <p:sp>
            <p:nvSpPr>
              <p:cNvPr id="153" name=""/>
              <p:cNvSpPr/>
              <p:nvPr/>
            </p:nvSpPr>
            <p:spPr>
              <a:xfrm>
                <a:off x="4635000" y="2842200"/>
                <a:ext cx="1440" cy="3859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47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542480" y="3228480"/>
                <a:ext cx="180720" cy="1234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545360" y="2715840"/>
                <a:ext cx="180720" cy="1234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1370160" y="914400"/>
              <a:ext cx="6478200" cy="1384920"/>
              <a:chOff x="1370160" y="914400"/>
              <a:chExt cx="6478200" cy="1384920"/>
            </a:xfrm>
          </p:grpSpPr>
          <p:grpSp>
            <p:nvGrpSpPr>
              <p:cNvPr id="157" name=""/>
              <p:cNvGrpSpPr/>
              <p:nvPr/>
            </p:nvGrpSpPr>
            <p:grpSpPr>
              <a:xfrm>
                <a:off x="4525200" y="914400"/>
                <a:ext cx="181080" cy="502560"/>
                <a:chOff x="4525200" y="914400"/>
                <a:chExt cx="181080" cy="50256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4614840" y="1041120"/>
                  <a:ext cx="1440" cy="375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46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  <a:head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525200" y="914400"/>
                  <a:ext cx="181080" cy="123480"/>
                </a:xfrm>
                <a:prstGeom prst="ellipse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1370160" y="1416960"/>
                <a:ext cx="6478200" cy="882360"/>
                <a:chOff x="1370160" y="1416960"/>
                <a:chExt cx="6478200" cy="88236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6049080" y="1857960"/>
                  <a:ext cx="1799280" cy="72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3" y="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1370160" y="1857960"/>
                  <a:ext cx="1799280" cy="72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3" y="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3" name=""/>
                <p:cNvGrpSpPr/>
                <p:nvPr/>
              </p:nvGrpSpPr>
              <p:grpSpPr>
                <a:xfrm>
                  <a:off x="3163680" y="1416960"/>
                  <a:ext cx="2878920" cy="882360"/>
                  <a:chOff x="3163680" y="1416960"/>
                  <a:chExt cx="2878920" cy="882360"/>
                </a:xfrm>
              </p:grpSpPr>
              <p:sp>
                <p:nvSpPr>
                  <p:cNvPr id="164" name=""/>
                  <p:cNvSpPr/>
                  <p:nvPr/>
                </p:nvSpPr>
                <p:spPr>
                  <a:xfrm>
                    <a:off x="3163680" y="1416960"/>
                    <a:ext cx="2878920" cy="882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90" y="10000"/>
                        </a:moveTo>
                        <a:lnTo>
                          <a:pt x="9990" y="19977"/>
                        </a:lnTo>
                        <a:lnTo>
                          <a:pt x="0" y="10000"/>
                        </a:lnTo>
                        <a:lnTo>
                          <a:pt x="9990" y="0"/>
                        </a:lnTo>
                        <a:lnTo>
                          <a:pt x="19990" y="100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3791880" y="1782360"/>
                    <a:ext cx="1621080" cy="19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Courier New"/>
                        <a:ea typeface="Times New Roman"/>
                      </a:rPr>
                      <a:t>grade &gt;= 6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C363D-23AD-4D59-86F9-725E2F77F44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6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The </a:t>
            </a:r>
            <a:r>
              <a:rPr b="1" sz="2800" spc="-1" strike="noStrike">
                <a:solidFill>
                  <a:srgbClr val="ff3300"/>
                </a:solidFill>
                <a:latin typeface="Courier New"/>
              </a:rPr>
              <a:t>if/else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 Selection Structu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837720"/>
            <a:ext cx="79246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ste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st for multiple cases by plac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election structures insid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election structur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f student’s grade is greater than or equal to 90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  Print “A”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else 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  if student’s grade is greater than or equal to 80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  Print “B”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else 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     if student’s grade is greater than or equal to 70 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     Print “C”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  else 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     if student’s grade is greater than or equal to 60 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        Print “D”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        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              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nt “F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ce a condition is met, the rest of the statements are skipp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7C4EA-D2BB-489A-8363-82640BD937F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6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The if/else Selection Structu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und statemen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of statements within a pair of br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 grade &gt;= 60 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cout &lt;&lt; "Passed.\n"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cout &lt;&lt; "Failed.\n"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cout &lt;&lt; "You must take this course again.\n"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out the brace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"You must take this course again.\n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ld be automatically execu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ound statements with decla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209C6-C3B3-437D-9D2A-5E9C941BB24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6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T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he if/else Selection Structu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tax err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rrors caught by compil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ic err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rrors which have their effect at execution 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-fatal logic err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am runs, but has incorrect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tal logic err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am exits prematur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66BF9-8954-43BF-8023-8E5D5FA701D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7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The while Repetition Structure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br>
              <a:rPr sz="2800"/>
            </a:b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etition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mer specifies an action to be repeated while some condition remains tr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suedoc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while there are more items on my shopping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urchase next item and cross it off my li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loop repeated until condition becomes fals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product =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 product &lt;= 1000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duct = 2 * produc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2184480"/>
            <a:ext cx="5486400" cy="13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3262320"/>
            <a:ext cx="548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56724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3B4AA-48E7-45E4-8DFE-B26BC2C2595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7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The while Repetition Structu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owchart of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600200" y="2057400"/>
            <a:ext cx="4876200" cy="2047320"/>
            <a:chOff x="1600200" y="2057400"/>
            <a:chExt cx="4876200" cy="2047320"/>
          </a:xfrm>
        </p:grpSpPr>
        <p:sp>
          <p:nvSpPr>
            <p:cNvPr id="180" name=""/>
            <p:cNvSpPr/>
            <p:nvPr/>
          </p:nvSpPr>
          <p:spPr>
            <a:xfrm>
              <a:off x="1600200" y="2610720"/>
              <a:ext cx="2091240" cy="1000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0" y="9989"/>
                  </a:moveTo>
                  <a:lnTo>
                    <a:pt x="9990" y="19977"/>
                  </a:lnTo>
                  <a:lnTo>
                    <a:pt x="0" y="9989"/>
                  </a:lnTo>
                  <a:lnTo>
                    <a:pt x="9990" y="0"/>
                  </a:lnTo>
                  <a:lnTo>
                    <a:pt x="19990" y="998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850760" y="3026880"/>
              <a:ext cx="1587240" cy="2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oduct &lt;= 1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642760" y="2197800"/>
              <a:ext cx="360" cy="418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45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42760" y="3611520"/>
              <a:ext cx="360" cy="352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35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577600" y="2057400"/>
              <a:ext cx="130680" cy="1375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77600" y="3967200"/>
              <a:ext cx="130680" cy="1375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91440" y="3118320"/>
              <a:ext cx="52272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255200" y="3029400"/>
              <a:ext cx="2178360" cy="2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oduct = 2 * produ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214160" y="2966400"/>
              <a:ext cx="2262240" cy="3034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0" y="0"/>
                  </a:moveTo>
                  <a:lnTo>
                    <a:pt x="19990" y="19925"/>
                  </a:lnTo>
                  <a:lnTo>
                    <a:pt x="0" y="19925"/>
                  </a:lnTo>
                  <a:lnTo>
                    <a:pt x="0" y="0"/>
                  </a:lnTo>
                  <a:lnTo>
                    <a:pt x="19990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710520" y="2856960"/>
              <a:ext cx="462240" cy="2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773800" y="3617280"/>
              <a:ext cx="565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al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59680" y="2358360"/>
              <a:ext cx="269820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2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49240" y="2358360"/>
              <a:ext cx="360" cy="596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6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03CB6-A60E-48E2-B501-8BAB8B649F0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8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Formulating Algorithms (Counter-Controlled Repetition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nter-controlled repet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op repeated until counter reaches a certain valu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e repet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umber of repetitions is know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 class of ten students took a quiz. The grades (integers in the range 0 to 100) for this quiz are available to you. Determine the class average on the quiz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F58F4-F2FE-4D60-94B5-B13C63C5353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itolo 2 - Control Structures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160640"/>
            <a:ext cx="7543800" cy="19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2.16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The </a:t>
            </a:r>
            <a:r>
              <a:rPr b="1" sz="1800" spc="-1" strike="noStrike">
                <a:solidFill>
                  <a:srgbClr val="ff0000"/>
                </a:solidFill>
                <a:latin typeface="Courier New"/>
              </a:rPr>
              <a:t>switch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 Multiple-Selection Structure</a:t>
            </a:r>
            <a:br>
              <a:rPr sz="1800"/>
            </a:b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2.17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The </a:t>
            </a:r>
            <a:r>
              <a:rPr b="1" sz="1800" spc="-1" strike="noStrike">
                <a:solidFill>
                  <a:srgbClr val="ff0000"/>
                </a:solidFill>
                <a:latin typeface="Courier New"/>
              </a:rPr>
              <a:t>do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/</a:t>
            </a:r>
            <a:r>
              <a:rPr b="1" sz="1800" spc="-1" strike="noStrike">
                <a:solidFill>
                  <a:srgbClr val="ff0000"/>
                </a:solidFill>
                <a:latin typeface="Courier New"/>
              </a:rPr>
              <a:t>while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 Repetition Structure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br>
              <a:rPr sz="1800"/>
            </a:b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2.18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The </a:t>
            </a:r>
            <a:r>
              <a:rPr b="1" sz="1800" spc="-1" strike="noStrike">
                <a:solidFill>
                  <a:srgbClr val="ff0000"/>
                </a:solidFill>
                <a:latin typeface="Courier New"/>
              </a:rPr>
              <a:t>break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1" sz="1800" spc="-1" strike="noStrike">
                <a:solidFill>
                  <a:srgbClr val="ff0000"/>
                </a:solidFill>
                <a:latin typeface="Courier New"/>
              </a:rPr>
              <a:t>continue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 Statements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br>
              <a:rPr sz="1800"/>
            </a:b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2.19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Logical Operators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br>
              <a:rPr sz="1800"/>
            </a:b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2.20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Confusing Equality (</a:t>
            </a:r>
            <a:r>
              <a:rPr b="1" sz="1800" spc="-1" strike="noStrike">
                <a:solidFill>
                  <a:srgbClr val="ff0000"/>
                </a:solidFill>
                <a:latin typeface="Courier New"/>
              </a:rPr>
              <a:t>==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) and Assignment (</a:t>
            </a:r>
            <a:r>
              <a:rPr b="1" sz="1800" spc="-1" strike="noStrike">
                <a:solidFill>
                  <a:srgbClr val="ff0000"/>
                </a:solidFill>
                <a:latin typeface="Courier New"/>
              </a:rPr>
              <a:t>=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) Operators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br>
              <a:rPr sz="1800"/>
            </a:b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2.21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AvantGarde"/>
              </a:rPr>
              <a:t>Structured-Programming Summ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B706D-0FD3-478F-AFB2-0C93CFC1DB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8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Formulating Algorithms (Counter-Controlled Repetition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seudocode for 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Set total to z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Set grade counter to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While grade counter is less than or equal to ten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nput the next grade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Add the grade into the total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Add one to the grade cou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Set the class average to the total divided by ten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nt the class a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ing is the C++ code for this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4A681-1B31-4EA1-A893-15C0851B5A8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Execute Loop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Output resul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99" name=""/>
            <p:cNvGrpSpPr/>
            <p:nvPr/>
          </p:nvGrpSpPr>
          <p:grpSpPr>
            <a:xfrm>
              <a:off x="0" y="0"/>
              <a:ext cx="6780960" cy="223200"/>
              <a:chOff x="0" y="0"/>
              <a:chExt cx="6780960" cy="223200"/>
            </a:xfrm>
          </p:grpSpPr>
          <p:sp>
            <p:nvSpPr>
              <p:cNvPr id="200" name=""/>
              <p:cNvSpPr/>
              <p:nvPr/>
            </p:nvSpPr>
            <p:spPr>
              <a:xfrm>
                <a:off x="0" y="0"/>
                <a:ext cx="6780960" cy="22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0"/>
                <a:ext cx="6780960" cy="223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2.7: fig02_07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0" y="223200"/>
              <a:ext cx="6780960" cy="207000"/>
              <a:chOff x="0" y="223200"/>
              <a:chExt cx="6780960" cy="207000"/>
            </a:xfrm>
          </p:grpSpPr>
          <p:sp>
            <p:nvSpPr>
              <p:cNvPr id="203" name=""/>
              <p:cNvSpPr/>
              <p:nvPr/>
            </p:nvSpPr>
            <p:spPr>
              <a:xfrm>
                <a:off x="0" y="22320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2320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lass average program with counter-controlled repeti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0" y="430560"/>
              <a:ext cx="6780960" cy="207360"/>
              <a:chOff x="0" y="430560"/>
              <a:chExt cx="6780960" cy="207360"/>
            </a:xfrm>
          </p:grpSpPr>
          <p:sp>
            <p:nvSpPr>
              <p:cNvPr id="206" name=""/>
              <p:cNvSpPr/>
              <p:nvPr/>
            </p:nvSpPr>
            <p:spPr>
              <a:xfrm>
                <a:off x="0" y="43056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43056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0" y="637920"/>
              <a:ext cx="6780960" cy="207000"/>
              <a:chOff x="0" y="637920"/>
              <a:chExt cx="6780960" cy="207000"/>
            </a:xfrm>
          </p:grpSpPr>
          <p:sp>
            <p:nvSpPr>
              <p:cNvPr id="209" name=""/>
              <p:cNvSpPr/>
              <p:nvPr/>
            </p:nvSpPr>
            <p:spPr>
              <a:xfrm>
                <a:off x="0" y="63792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63792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0" y="845280"/>
              <a:ext cx="6780960" cy="207000"/>
              <a:chOff x="0" y="845280"/>
              <a:chExt cx="6780960" cy="207000"/>
            </a:xfrm>
          </p:grpSpPr>
          <p:sp>
            <p:nvSpPr>
              <p:cNvPr id="212" name=""/>
              <p:cNvSpPr/>
              <p:nvPr/>
            </p:nvSpPr>
            <p:spPr>
              <a:xfrm>
                <a:off x="0" y="84528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84528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0" y="1052640"/>
              <a:ext cx="6780960" cy="207000"/>
              <a:chOff x="0" y="1052640"/>
              <a:chExt cx="6780960" cy="207000"/>
            </a:xfrm>
          </p:grpSpPr>
          <p:sp>
            <p:nvSpPr>
              <p:cNvPr id="215" name=""/>
              <p:cNvSpPr/>
              <p:nvPr/>
            </p:nvSpPr>
            <p:spPr>
              <a:xfrm>
                <a:off x="0" y="105264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105264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i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0" y="1260000"/>
              <a:ext cx="6780960" cy="207360"/>
              <a:chOff x="0" y="1260000"/>
              <a:chExt cx="6780960" cy="207360"/>
            </a:xfrm>
          </p:grpSpPr>
          <p:sp>
            <p:nvSpPr>
              <p:cNvPr id="218" name=""/>
              <p:cNvSpPr/>
              <p:nvPr/>
            </p:nvSpPr>
            <p:spPr>
              <a:xfrm>
                <a:off x="0" y="126000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26000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0" y="1467360"/>
              <a:ext cx="6780960" cy="207000"/>
              <a:chOff x="0" y="1467360"/>
              <a:chExt cx="6780960" cy="207000"/>
            </a:xfrm>
          </p:grpSpPr>
          <p:sp>
            <p:nvSpPr>
              <p:cNvPr id="221" name=""/>
              <p:cNvSpPr/>
              <p:nvPr/>
            </p:nvSpPr>
            <p:spPr>
              <a:xfrm>
                <a:off x="0" y="146736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46736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0" y="1674720"/>
              <a:ext cx="6780960" cy="207000"/>
              <a:chOff x="0" y="1674720"/>
              <a:chExt cx="6780960" cy="207000"/>
            </a:xfrm>
          </p:grpSpPr>
          <p:sp>
            <p:nvSpPr>
              <p:cNvPr id="224" name=""/>
              <p:cNvSpPr/>
              <p:nvPr/>
            </p:nvSpPr>
            <p:spPr>
              <a:xfrm>
                <a:off x="0" y="167472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167472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0" y="1882080"/>
              <a:ext cx="6780960" cy="207000"/>
              <a:chOff x="0" y="1882080"/>
              <a:chExt cx="6780960" cy="207000"/>
            </a:xfrm>
          </p:grpSpPr>
          <p:sp>
            <p:nvSpPr>
              <p:cNvPr id="227" name=""/>
              <p:cNvSpPr/>
              <p:nvPr/>
            </p:nvSpPr>
            <p:spPr>
              <a:xfrm>
                <a:off x="0" y="188208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88208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0" y="2089080"/>
              <a:ext cx="6780960" cy="207000"/>
              <a:chOff x="0" y="2089080"/>
              <a:chExt cx="6780960" cy="207000"/>
            </a:xfrm>
          </p:grpSpPr>
          <p:sp>
            <p:nvSpPr>
              <p:cNvPr id="230" name=""/>
              <p:cNvSpPr/>
              <p:nvPr/>
            </p:nvSpPr>
            <p:spPr>
              <a:xfrm>
                <a:off x="0" y="208908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208908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otal,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um of grades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0" y="2296440"/>
              <a:ext cx="6780960" cy="207360"/>
              <a:chOff x="0" y="2296440"/>
              <a:chExt cx="6780960" cy="207360"/>
            </a:xfrm>
          </p:grpSpPr>
          <p:sp>
            <p:nvSpPr>
              <p:cNvPr id="233" name=""/>
              <p:cNvSpPr/>
              <p:nvPr/>
            </p:nvSpPr>
            <p:spPr>
              <a:xfrm>
                <a:off x="0" y="229644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229644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gradeCounter,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number of grades enter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0" y="2503800"/>
              <a:ext cx="6780960" cy="207000"/>
              <a:chOff x="0" y="2503800"/>
              <a:chExt cx="6780960" cy="207000"/>
            </a:xfrm>
          </p:grpSpPr>
          <p:sp>
            <p:nvSpPr>
              <p:cNvPr id="236" name=""/>
              <p:cNvSpPr/>
              <p:nvPr/>
            </p:nvSpPr>
            <p:spPr>
              <a:xfrm>
                <a:off x="0" y="250380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250380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grade,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one grad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0" y="2711160"/>
              <a:ext cx="6780960" cy="207000"/>
              <a:chOff x="0" y="2711160"/>
              <a:chExt cx="6780960" cy="207000"/>
            </a:xfrm>
          </p:grpSpPr>
          <p:sp>
            <p:nvSpPr>
              <p:cNvPr id="239" name=""/>
              <p:cNvSpPr/>
              <p:nvPr/>
            </p:nvSpPr>
            <p:spPr>
              <a:xfrm>
                <a:off x="0" y="271116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271116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average;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average of grad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0" y="2918520"/>
              <a:ext cx="6780960" cy="207000"/>
              <a:chOff x="0" y="2918520"/>
              <a:chExt cx="6780960" cy="207000"/>
            </a:xfrm>
          </p:grpSpPr>
          <p:sp>
            <p:nvSpPr>
              <p:cNvPr id="242" name=""/>
              <p:cNvSpPr/>
              <p:nvPr/>
            </p:nvSpPr>
            <p:spPr>
              <a:xfrm>
                <a:off x="0" y="291852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291852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0" y="3125880"/>
              <a:ext cx="6780960" cy="207360"/>
              <a:chOff x="0" y="3125880"/>
              <a:chExt cx="6780960" cy="207360"/>
            </a:xfrm>
          </p:grpSpPr>
          <p:sp>
            <p:nvSpPr>
              <p:cNvPr id="245" name=""/>
              <p:cNvSpPr/>
              <p:nvPr/>
            </p:nvSpPr>
            <p:spPr>
              <a:xfrm>
                <a:off x="0" y="312588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12588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initialization pha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0" y="3333240"/>
              <a:ext cx="6780960" cy="207000"/>
              <a:chOff x="0" y="3333240"/>
              <a:chExt cx="6780960" cy="207000"/>
            </a:xfrm>
          </p:grpSpPr>
          <p:sp>
            <p:nvSpPr>
              <p:cNvPr id="248" name=""/>
              <p:cNvSpPr/>
              <p:nvPr/>
            </p:nvSpPr>
            <p:spPr>
              <a:xfrm>
                <a:off x="0" y="333324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333324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otal = 0;     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clear tot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0" y="3540600"/>
              <a:ext cx="6780960" cy="207000"/>
              <a:chOff x="0" y="3540600"/>
              <a:chExt cx="6780960" cy="207000"/>
            </a:xfrm>
          </p:grpSpPr>
          <p:sp>
            <p:nvSpPr>
              <p:cNvPr id="251" name=""/>
              <p:cNvSpPr/>
              <p:nvPr/>
            </p:nvSpPr>
            <p:spPr>
              <a:xfrm>
                <a:off x="0" y="354060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0" y="354060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gradeCounter = 1;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prepare to loo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0" y="3747960"/>
              <a:ext cx="6780960" cy="207000"/>
              <a:chOff x="0" y="3747960"/>
              <a:chExt cx="6780960" cy="207000"/>
            </a:xfrm>
          </p:grpSpPr>
          <p:sp>
            <p:nvSpPr>
              <p:cNvPr id="254" name=""/>
              <p:cNvSpPr/>
              <p:nvPr/>
            </p:nvSpPr>
            <p:spPr>
              <a:xfrm>
                <a:off x="0" y="374796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0" y="374796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0" y="3955320"/>
              <a:ext cx="6780960" cy="207360"/>
              <a:chOff x="0" y="3955320"/>
              <a:chExt cx="6780960" cy="207360"/>
            </a:xfrm>
          </p:grpSpPr>
          <p:sp>
            <p:nvSpPr>
              <p:cNvPr id="257" name=""/>
              <p:cNvSpPr/>
              <p:nvPr/>
            </p:nvSpPr>
            <p:spPr>
              <a:xfrm>
                <a:off x="0" y="395532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0" y="395532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processing pha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0" y="4162680"/>
              <a:ext cx="6780960" cy="207000"/>
              <a:chOff x="0" y="4162680"/>
              <a:chExt cx="6780960" cy="207000"/>
            </a:xfrm>
          </p:grpSpPr>
          <p:sp>
            <p:nvSpPr>
              <p:cNvPr id="260" name=""/>
              <p:cNvSpPr/>
              <p:nvPr/>
            </p:nvSpPr>
            <p:spPr>
              <a:xfrm>
                <a:off x="0" y="416268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0" y="416268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whi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gradeCounter &lt;= 10 ) {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loop 10 tim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0" y="4370040"/>
              <a:ext cx="6780960" cy="207000"/>
              <a:chOff x="0" y="4370040"/>
              <a:chExt cx="6780960" cy="207000"/>
            </a:xfrm>
          </p:grpSpPr>
          <p:sp>
            <p:nvSpPr>
              <p:cNvPr id="263" name=""/>
              <p:cNvSpPr/>
              <p:nvPr/>
            </p:nvSpPr>
            <p:spPr>
              <a:xfrm>
                <a:off x="0" y="437004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437004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"Enter grade: "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prompt for inpu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0" y="4577400"/>
              <a:ext cx="6780960" cy="207000"/>
              <a:chOff x="0" y="4577400"/>
              <a:chExt cx="6780960" cy="207000"/>
            </a:xfrm>
          </p:grpSpPr>
          <p:sp>
            <p:nvSpPr>
              <p:cNvPr id="266" name=""/>
              <p:cNvSpPr/>
              <p:nvPr/>
            </p:nvSpPr>
            <p:spPr>
              <a:xfrm>
                <a:off x="0" y="457740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0" y="457740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in &gt;&gt; grade;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input grad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0" y="4784760"/>
              <a:ext cx="6780960" cy="207360"/>
              <a:chOff x="0" y="4784760"/>
              <a:chExt cx="6780960" cy="207360"/>
            </a:xfrm>
          </p:grpSpPr>
          <p:sp>
            <p:nvSpPr>
              <p:cNvPr id="269" name=""/>
              <p:cNvSpPr/>
              <p:nvPr/>
            </p:nvSpPr>
            <p:spPr>
              <a:xfrm>
                <a:off x="0" y="478476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0" y="478476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total = total + grade;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dd grade to tot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0" y="4992120"/>
              <a:ext cx="6780960" cy="207000"/>
              <a:chOff x="0" y="4992120"/>
              <a:chExt cx="6780960" cy="207000"/>
            </a:xfrm>
          </p:grpSpPr>
          <p:sp>
            <p:nvSpPr>
              <p:cNvPr id="272" name=""/>
              <p:cNvSpPr/>
              <p:nvPr/>
            </p:nvSpPr>
            <p:spPr>
              <a:xfrm>
                <a:off x="0" y="499212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0" y="499212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gradeCounter = gradeCounter + 1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increment coun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5199480"/>
              <a:ext cx="6780960" cy="207000"/>
              <a:chOff x="0" y="5199480"/>
              <a:chExt cx="6780960" cy="2070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519948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0" y="519948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0" y="5406480"/>
              <a:ext cx="6780960" cy="207000"/>
              <a:chOff x="0" y="5406480"/>
              <a:chExt cx="6780960" cy="207000"/>
            </a:xfrm>
          </p:grpSpPr>
          <p:sp>
            <p:nvSpPr>
              <p:cNvPr id="278" name=""/>
              <p:cNvSpPr/>
              <p:nvPr/>
            </p:nvSpPr>
            <p:spPr>
              <a:xfrm>
                <a:off x="0" y="540648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0" y="540648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0" y="5613840"/>
              <a:ext cx="6780960" cy="207000"/>
              <a:chOff x="0" y="5613840"/>
              <a:chExt cx="6780960" cy="207000"/>
            </a:xfrm>
          </p:grpSpPr>
          <p:sp>
            <p:nvSpPr>
              <p:cNvPr id="281" name=""/>
              <p:cNvSpPr/>
              <p:nvPr/>
            </p:nvSpPr>
            <p:spPr>
              <a:xfrm>
                <a:off x="0" y="561384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0" y="561384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termination pha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0" y="5821200"/>
              <a:ext cx="6780960" cy="207360"/>
              <a:chOff x="0" y="5821200"/>
              <a:chExt cx="6780960" cy="207360"/>
            </a:xfrm>
          </p:grpSpPr>
          <p:sp>
            <p:nvSpPr>
              <p:cNvPr id="284" name=""/>
              <p:cNvSpPr/>
              <p:nvPr/>
            </p:nvSpPr>
            <p:spPr>
              <a:xfrm>
                <a:off x="0" y="582120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582120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average = total / 10;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integer divis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0" y="6028560"/>
              <a:ext cx="6780960" cy="207000"/>
              <a:chOff x="0" y="6028560"/>
              <a:chExt cx="6780960" cy="207000"/>
            </a:xfrm>
          </p:grpSpPr>
          <p:sp>
            <p:nvSpPr>
              <p:cNvPr id="287" name=""/>
              <p:cNvSpPr/>
              <p:nvPr/>
            </p:nvSpPr>
            <p:spPr>
              <a:xfrm>
                <a:off x="0" y="602856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0" y="602856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Class average is " &lt;&lt; average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0" y="6235920"/>
              <a:ext cx="6780960" cy="207000"/>
              <a:chOff x="0" y="6235920"/>
              <a:chExt cx="6780960" cy="207000"/>
            </a:xfrm>
          </p:grpSpPr>
          <p:sp>
            <p:nvSpPr>
              <p:cNvPr id="290" name=""/>
              <p:cNvSpPr/>
              <p:nvPr/>
            </p:nvSpPr>
            <p:spPr>
              <a:xfrm>
                <a:off x="0" y="623592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0" y="623592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0" y="6443280"/>
              <a:ext cx="6780960" cy="207000"/>
              <a:chOff x="0" y="6443280"/>
              <a:chExt cx="6780960" cy="207000"/>
            </a:xfrm>
          </p:grpSpPr>
          <p:sp>
            <p:nvSpPr>
              <p:cNvPr id="293" name=""/>
              <p:cNvSpPr/>
              <p:nvPr/>
            </p:nvSpPr>
            <p:spPr>
              <a:xfrm>
                <a:off x="0" y="644328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0" y="6443280"/>
                <a:ext cx="6780960" cy="207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// indicate program ended successfull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0" y="6650640"/>
              <a:ext cx="6780960" cy="207360"/>
              <a:chOff x="0" y="6650640"/>
              <a:chExt cx="6780960" cy="207360"/>
            </a:xfrm>
          </p:grpSpPr>
          <p:sp>
            <p:nvSpPr>
              <p:cNvPr id="296" name=""/>
              <p:cNvSpPr/>
              <p:nvPr/>
            </p:nvSpPr>
            <p:spPr>
              <a:xfrm>
                <a:off x="0" y="665064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0" y="665064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8" name=""/>
          <p:cNvGrpSpPr/>
          <p:nvPr/>
        </p:nvGrpSpPr>
        <p:grpSpPr>
          <a:xfrm>
            <a:off x="3581280" y="3657600"/>
            <a:ext cx="4800600" cy="1295280"/>
            <a:chOff x="3581280" y="3657600"/>
            <a:chExt cx="4800600" cy="1295280"/>
          </a:xfrm>
        </p:grpSpPr>
        <p:sp>
          <p:nvSpPr>
            <p:cNvPr id="299" name=""/>
            <p:cNvSpPr/>
            <p:nvPr/>
          </p:nvSpPr>
          <p:spPr>
            <a:xfrm>
              <a:off x="4952880" y="3657600"/>
              <a:ext cx="3429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counter gets incremented each time the loop executes.  Eventually, the counter causes the loop to en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3581280" y="4114800"/>
              <a:ext cx="13716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8432F-6CDA-42D0-9601-E54901DC47C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0"/>
            <a:ext cx="6781680" cy="2649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: 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: 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: 7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: 8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: 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: 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: 5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: 7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: 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: 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average is 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3C8FC-C8E6-40DB-9947-9E635BEDA62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9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Formulating Algorithms with Top-Down, Stepwise Refinement (Sentinel-Controlled Repetition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the problem becomes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evelop a class-averaging program that will process an arbitrary number of grades each time the program is ru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known number of students - how will the program know to end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inel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dicates “end of data entry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op ends when sentinel input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ntinel value chosen so it cannot be confused with a regular input (such as -1 in this cas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D1C1E-6347-43E0-AEF5-DD787A49C05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9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Formulating Algorithms with Top-Down, Stepwise Refinement (Sentinel-Controlled Repetition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p-down, stepwise refin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egin with a pseudocode representation of the top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Determine the class average for the qui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vide top into smaller tasks and list them in order: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nitialize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nput, sum and count the quiz gr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Calculate and print the class averag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5FD19-37F6-424C-8FC8-A66247695E5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9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Formulating Algorithms with Top-Down, Stepwise Refinemen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programs can be divided into three phas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itializes the program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s data values and adjusts program variables according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rmin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culates and prints the final resul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lps the breakup of programs for top-down refin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ine the initialization phase f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Times New Roman"/>
              </a:rPr>
              <a:t>Initialize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nitialize total to zero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nitialize counter to zer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BF4E7-6DFD-42BD-AF5A-AFED250532C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9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Formulating Algorithms with Top-Down, Stepwise Refinemen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Input, sum and count the quiz gr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Input the first grade (possibly the sentin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While the user has not as yet entered the senti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Add this grade into the running 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Add one to the grade cou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Input the next grade (possibly the sentinel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Times New Roman"/>
              </a:rPr>
              <a:t>Calculate and print the class a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If the counter is not equal to z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Set the average to the total divided by the cou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Print the a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Print “No grades were entered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62912-3609-4AE7-A444-4A9FA1FC198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Get user in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 Perform Loop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313" name=""/>
            <p:cNvGrpSpPr/>
            <p:nvPr/>
          </p:nvGrpSpPr>
          <p:grpSpPr>
            <a:xfrm>
              <a:off x="0" y="0"/>
              <a:ext cx="6780960" cy="228240"/>
              <a:chOff x="0" y="0"/>
              <a:chExt cx="6780960" cy="228240"/>
            </a:xfrm>
          </p:grpSpPr>
          <p:sp>
            <p:nvSpPr>
              <p:cNvPr id="314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2.9: fig02_09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0" y="228240"/>
              <a:ext cx="6780960" cy="228240"/>
              <a:chOff x="0" y="228240"/>
              <a:chExt cx="6780960" cy="228240"/>
            </a:xfrm>
          </p:grpSpPr>
          <p:sp>
            <p:nvSpPr>
              <p:cNvPr id="317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lass average program with sentinel-controlled repetition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0" y="456840"/>
              <a:ext cx="6780960" cy="228600"/>
              <a:chOff x="0" y="456840"/>
              <a:chExt cx="6780960" cy="228600"/>
            </a:xfrm>
          </p:grpSpPr>
          <p:sp>
            <p:nvSpPr>
              <p:cNvPr id="320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0" y="685800"/>
              <a:ext cx="6780960" cy="228240"/>
              <a:chOff x="0" y="685800"/>
              <a:chExt cx="6780960" cy="228240"/>
            </a:xfrm>
          </p:grpSpPr>
          <p:sp>
            <p:nvSpPr>
              <p:cNvPr id="323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0" y="914400"/>
              <a:ext cx="6780960" cy="228240"/>
              <a:chOff x="0" y="914400"/>
              <a:chExt cx="6780960" cy="228240"/>
            </a:xfrm>
          </p:grpSpPr>
          <p:sp>
            <p:nvSpPr>
              <p:cNvPr id="326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0" y="1143000"/>
              <a:ext cx="6780960" cy="228240"/>
              <a:chOff x="0" y="1143000"/>
              <a:chExt cx="6780960" cy="228240"/>
            </a:xfrm>
          </p:grpSpPr>
          <p:sp>
            <p:nvSpPr>
              <p:cNvPr id="329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i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0" y="1371240"/>
              <a:ext cx="6780960" cy="228600"/>
              <a:chOff x="0" y="1371240"/>
              <a:chExt cx="6780960" cy="228600"/>
            </a:xfrm>
          </p:grpSpPr>
          <p:sp>
            <p:nvSpPr>
              <p:cNvPr id="332" name="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0" y="1600200"/>
              <a:ext cx="6780960" cy="228240"/>
              <a:chOff x="0" y="1600200"/>
              <a:chExt cx="6780960" cy="228240"/>
            </a:xfrm>
          </p:grpSpPr>
          <p:sp>
            <p:nvSpPr>
              <p:cNvPr id="335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io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0" y="1828800"/>
              <a:ext cx="6780960" cy="228240"/>
              <a:chOff x="0" y="1828800"/>
              <a:chExt cx="6780960" cy="228240"/>
            </a:xfrm>
          </p:grpSpPr>
          <p:sp>
            <p:nvSpPr>
              <p:cNvPr id="338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0" y="2057400"/>
              <a:ext cx="6780960" cy="228240"/>
              <a:chOff x="0" y="2057400"/>
              <a:chExt cx="6780960" cy="228240"/>
            </a:xfrm>
          </p:grpSpPr>
          <p:sp>
            <p:nvSpPr>
              <p:cNvPr id="341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0" y="2286000"/>
              <a:ext cx="6780960" cy="228600"/>
              <a:chOff x="0" y="2286000"/>
              <a:chExt cx="6780960" cy="228600"/>
            </a:xfrm>
          </p:grpSpPr>
          <p:sp>
            <p:nvSpPr>
              <p:cNvPr id="344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0" y="2514600"/>
              <a:ext cx="6780960" cy="228240"/>
              <a:chOff x="0" y="2514600"/>
              <a:chExt cx="6780960" cy="228240"/>
            </a:xfrm>
          </p:grpSpPr>
          <p:sp>
            <p:nvSpPr>
              <p:cNvPr id="347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precisio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0" y="2743200"/>
              <a:ext cx="6780960" cy="228240"/>
              <a:chOff x="0" y="2743200"/>
              <a:chExt cx="6780960" cy="228240"/>
            </a:xfrm>
          </p:grpSpPr>
          <p:sp>
            <p:nvSpPr>
              <p:cNvPr id="350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setiosflag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0" y="2971800"/>
              <a:ext cx="6780960" cy="228240"/>
              <a:chOff x="0" y="2971800"/>
              <a:chExt cx="6780960" cy="228240"/>
            </a:xfrm>
          </p:grpSpPr>
          <p:sp>
            <p:nvSpPr>
              <p:cNvPr id="353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0" y="3200400"/>
              <a:ext cx="6780960" cy="228600"/>
              <a:chOff x="0" y="3200400"/>
              <a:chExt cx="6780960" cy="228600"/>
            </a:xfrm>
          </p:grpSpPr>
          <p:sp>
            <p:nvSpPr>
              <p:cNvPr id="356" name="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0" y="3429000"/>
              <a:ext cx="6780960" cy="228240"/>
              <a:chOff x="0" y="3429000"/>
              <a:chExt cx="6780960" cy="228240"/>
            </a:xfrm>
          </p:grpSpPr>
          <p:sp>
            <p:nvSpPr>
              <p:cNvPr id="359" name="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0" y="3657600"/>
              <a:ext cx="6780960" cy="228240"/>
              <a:chOff x="0" y="3657600"/>
              <a:chExt cx="6780960" cy="228240"/>
            </a:xfrm>
          </p:grpSpPr>
          <p:sp>
            <p:nvSpPr>
              <p:cNvPr id="362" name="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otal,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um of grad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4" name=""/>
            <p:cNvGrpSpPr/>
            <p:nvPr/>
          </p:nvGrpSpPr>
          <p:grpSpPr>
            <a:xfrm>
              <a:off x="0" y="3886200"/>
              <a:ext cx="6780960" cy="228240"/>
              <a:chOff x="0" y="3886200"/>
              <a:chExt cx="6780960" cy="228240"/>
            </a:xfrm>
          </p:grpSpPr>
          <p:sp>
            <p:nvSpPr>
              <p:cNvPr id="365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gradeCounter,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number of grades enter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0" y="4114800"/>
              <a:ext cx="6780960" cy="228240"/>
              <a:chOff x="0" y="4114800"/>
              <a:chExt cx="6780960" cy="228240"/>
            </a:xfrm>
          </p:grpSpPr>
          <p:sp>
            <p:nvSpPr>
              <p:cNvPr id="368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grade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one grade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0" name=""/>
            <p:cNvGrpSpPr/>
            <p:nvPr/>
          </p:nvGrpSpPr>
          <p:grpSpPr>
            <a:xfrm>
              <a:off x="0" y="4343400"/>
              <a:ext cx="6780960" cy="228600"/>
              <a:chOff x="0" y="4343400"/>
              <a:chExt cx="6780960" cy="228600"/>
            </a:xfrm>
          </p:grpSpPr>
          <p:sp>
            <p:nvSpPr>
              <p:cNvPr id="371" name="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verage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number with decimal point for averag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3" name=""/>
            <p:cNvGrpSpPr/>
            <p:nvPr/>
          </p:nvGrpSpPr>
          <p:grpSpPr>
            <a:xfrm>
              <a:off x="0" y="4572000"/>
              <a:ext cx="6780960" cy="228240"/>
              <a:chOff x="0" y="4572000"/>
              <a:chExt cx="6780960" cy="228240"/>
            </a:xfrm>
          </p:grpSpPr>
          <p:sp>
            <p:nvSpPr>
              <p:cNvPr id="374" name="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0" y="4800600"/>
              <a:ext cx="6780960" cy="228240"/>
              <a:chOff x="0" y="4800600"/>
              <a:chExt cx="6780960" cy="228240"/>
            </a:xfrm>
          </p:grpSpPr>
          <p:sp>
            <p:nvSpPr>
              <p:cNvPr id="377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initialization pha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0" y="5029200"/>
              <a:ext cx="6780960" cy="228240"/>
              <a:chOff x="0" y="5029200"/>
              <a:chExt cx="6780960" cy="228240"/>
            </a:xfrm>
          </p:grpSpPr>
          <p:sp>
            <p:nvSpPr>
              <p:cNvPr id="380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otal =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0" y="5257800"/>
              <a:ext cx="6780960" cy="228600"/>
              <a:chOff x="0" y="5257800"/>
              <a:chExt cx="6780960" cy="228600"/>
            </a:xfrm>
          </p:grpSpPr>
          <p:sp>
            <p:nvSpPr>
              <p:cNvPr id="383" name="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gradeCounter =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0" y="5486400"/>
              <a:ext cx="6780960" cy="228240"/>
              <a:chOff x="0" y="5486400"/>
              <a:chExt cx="6780960" cy="228240"/>
            </a:xfrm>
          </p:grpSpPr>
          <p:sp>
            <p:nvSpPr>
              <p:cNvPr id="386" name="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0" y="5715000"/>
              <a:ext cx="6780960" cy="228240"/>
              <a:chOff x="0" y="5715000"/>
              <a:chExt cx="6780960" cy="228240"/>
            </a:xfrm>
          </p:grpSpPr>
          <p:sp>
            <p:nvSpPr>
              <p:cNvPr id="389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processing pha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0" y="5943600"/>
              <a:ext cx="6780960" cy="228240"/>
              <a:chOff x="0" y="5943600"/>
              <a:chExt cx="6780960" cy="228240"/>
            </a:xfrm>
          </p:grpSpPr>
          <p:sp>
            <p:nvSpPr>
              <p:cNvPr id="392" name="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Enter grade, -1 to end: ";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0" y="6172200"/>
              <a:ext cx="6780960" cy="228600"/>
              <a:chOff x="0" y="6172200"/>
              <a:chExt cx="6780960" cy="228600"/>
            </a:xfrm>
          </p:grpSpPr>
          <p:sp>
            <p:nvSpPr>
              <p:cNvPr id="395" name="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in &gt;&gt; grade;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6400800"/>
              <a:ext cx="6780960" cy="228240"/>
              <a:chOff x="0" y="6400800"/>
              <a:chExt cx="6780960" cy="22824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0" y="6629400"/>
              <a:ext cx="6780960" cy="228240"/>
              <a:chOff x="0" y="6629400"/>
              <a:chExt cx="6780960" cy="228240"/>
            </a:xfrm>
          </p:grpSpPr>
          <p:sp>
            <p:nvSpPr>
              <p:cNvPr id="401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whi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grade != -1 ) {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3" name=""/>
          <p:cNvGrpSpPr/>
          <p:nvPr/>
        </p:nvGrpSpPr>
        <p:grpSpPr>
          <a:xfrm>
            <a:off x="1676160" y="3276720"/>
            <a:ext cx="5105160" cy="1143000"/>
            <a:chOff x="1676160" y="3276720"/>
            <a:chExt cx="5105160" cy="1143000"/>
          </a:xfrm>
        </p:grpSpPr>
        <p:sp>
          <p:nvSpPr>
            <p:cNvPr id="404" name=""/>
            <p:cNvSpPr/>
            <p:nvPr/>
          </p:nvSpPr>
          <p:spPr>
            <a:xfrm>
              <a:off x="3885840" y="3276720"/>
              <a:ext cx="2895480" cy="520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ata type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uble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used to represent decimal number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1676160" y="3657960"/>
              <a:ext cx="220932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162EE-AD52-44D2-83F6-4C1A83AFEBD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Calculate Averag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1  Print Resul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0" y="0"/>
            <a:ext cx="6780960" cy="3733920"/>
            <a:chOff x="0" y="0"/>
            <a:chExt cx="6780960" cy="3733920"/>
          </a:xfrm>
        </p:grpSpPr>
        <p:grpSp>
          <p:nvGrpSpPr>
            <p:cNvPr id="408" name=""/>
            <p:cNvGrpSpPr/>
            <p:nvPr/>
          </p:nvGrpSpPr>
          <p:grpSpPr>
            <a:xfrm>
              <a:off x="0" y="0"/>
              <a:ext cx="6780960" cy="207360"/>
              <a:chOff x="0" y="0"/>
              <a:chExt cx="6780960" cy="207360"/>
            </a:xfrm>
          </p:grpSpPr>
          <p:sp>
            <p:nvSpPr>
              <p:cNvPr id="409" name=""/>
              <p:cNvSpPr/>
              <p:nvPr/>
            </p:nvSpPr>
            <p:spPr>
              <a:xfrm>
                <a:off x="0" y="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0" y="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total = total + grade;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0" y="207360"/>
              <a:ext cx="6780960" cy="207360"/>
              <a:chOff x="0" y="207360"/>
              <a:chExt cx="6780960" cy="207360"/>
            </a:xfrm>
          </p:grpSpPr>
          <p:sp>
            <p:nvSpPr>
              <p:cNvPr id="412" name=""/>
              <p:cNvSpPr/>
              <p:nvPr/>
            </p:nvSpPr>
            <p:spPr>
              <a:xfrm>
                <a:off x="0" y="20736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20736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gradeCounter = gradeCounter + 1;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0" y="414720"/>
              <a:ext cx="6780960" cy="207360"/>
              <a:chOff x="0" y="414720"/>
              <a:chExt cx="6780960" cy="207360"/>
            </a:xfrm>
          </p:grpSpPr>
          <p:sp>
            <p:nvSpPr>
              <p:cNvPr id="415" name=""/>
              <p:cNvSpPr/>
              <p:nvPr/>
            </p:nvSpPr>
            <p:spPr>
              <a:xfrm>
                <a:off x="0" y="41472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0" y="41472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"Enter grade, -1 to end: ";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0" y="622080"/>
              <a:ext cx="6780960" cy="207360"/>
              <a:chOff x="0" y="622080"/>
              <a:chExt cx="6780960" cy="207360"/>
            </a:xfrm>
          </p:grpSpPr>
          <p:sp>
            <p:nvSpPr>
              <p:cNvPr id="418" name=""/>
              <p:cNvSpPr/>
              <p:nvPr/>
            </p:nvSpPr>
            <p:spPr>
              <a:xfrm>
                <a:off x="0" y="62208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0" y="62208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in &gt;&gt; grade;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0" y="829800"/>
              <a:ext cx="6780960" cy="207360"/>
              <a:chOff x="0" y="829800"/>
              <a:chExt cx="6780960" cy="207360"/>
            </a:xfrm>
          </p:grpSpPr>
          <p:sp>
            <p:nvSpPr>
              <p:cNvPr id="421" name=""/>
              <p:cNvSpPr/>
              <p:nvPr/>
            </p:nvSpPr>
            <p:spPr>
              <a:xfrm>
                <a:off x="0" y="82980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0" y="82980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0" y="1037160"/>
              <a:ext cx="6780960" cy="207360"/>
              <a:chOff x="0" y="1037160"/>
              <a:chExt cx="6780960" cy="207360"/>
            </a:xfrm>
          </p:grpSpPr>
          <p:sp>
            <p:nvSpPr>
              <p:cNvPr id="424" name=""/>
              <p:cNvSpPr/>
              <p:nvPr/>
            </p:nvSpPr>
            <p:spPr>
              <a:xfrm>
                <a:off x="0" y="103716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0" y="103716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0" y="1244520"/>
              <a:ext cx="6780960" cy="207360"/>
              <a:chOff x="0" y="1244520"/>
              <a:chExt cx="6780960" cy="207360"/>
            </a:xfrm>
          </p:grpSpPr>
          <p:sp>
            <p:nvSpPr>
              <p:cNvPr id="427" name=""/>
              <p:cNvSpPr/>
              <p:nvPr/>
            </p:nvSpPr>
            <p:spPr>
              <a:xfrm>
                <a:off x="0" y="124452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124452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termination pha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0" y="1451880"/>
              <a:ext cx="6780960" cy="207360"/>
              <a:chOff x="0" y="1451880"/>
              <a:chExt cx="6780960" cy="207360"/>
            </a:xfrm>
          </p:grpSpPr>
          <p:sp>
            <p:nvSpPr>
              <p:cNvPr id="430" name=""/>
              <p:cNvSpPr/>
              <p:nvPr/>
            </p:nvSpPr>
            <p:spPr>
              <a:xfrm>
                <a:off x="0" y="145188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0" y="145188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gradeCounter != 0 ) {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2" name=""/>
            <p:cNvGrpSpPr/>
            <p:nvPr/>
          </p:nvGrpSpPr>
          <p:grpSpPr>
            <a:xfrm>
              <a:off x="0" y="1659600"/>
              <a:ext cx="6780960" cy="207360"/>
              <a:chOff x="0" y="1659600"/>
              <a:chExt cx="6780960" cy="207360"/>
            </a:xfrm>
          </p:grpSpPr>
          <p:sp>
            <p:nvSpPr>
              <p:cNvPr id="433" name=""/>
              <p:cNvSpPr/>
              <p:nvPr/>
            </p:nvSpPr>
            <p:spPr>
              <a:xfrm>
                <a:off x="0" y="165960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0" y="165960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average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atic_ca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&lt;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gt;( total ) / gradeCounte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5" name=""/>
            <p:cNvGrpSpPr/>
            <p:nvPr/>
          </p:nvGrpSpPr>
          <p:grpSpPr>
            <a:xfrm>
              <a:off x="0" y="1866960"/>
              <a:ext cx="6780960" cy="207360"/>
              <a:chOff x="0" y="1866960"/>
              <a:chExt cx="6780960" cy="207360"/>
            </a:xfrm>
          </p:grpSpPr>
          <p:sp>
            <p:nvSpPr>
              <p:cNvPr id="436" name=""/>
              <p:cNvSpPr/>
              <p:nvPr/>
            </p:nvSpPr>
            <p:spPr>
              <a:xfrm>
                <a:off x="0" y="186696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0" y="186696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"Class average is " &lt;&lt; setprecision( 2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2074320"/>
              <a:ext cx="6780960" cy="207360"/>
              <a:chOff x="0" y="2074320"/>
              <a:chExt cx="6780960" cy="20736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207432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0" y="207432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&lt;&lt; setiosflags( ios::fixed | ios::showpoin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"/>
            <p:cNvGrpSpPr/>
            <p:nvPr/>
          </p:nvGrpSpPr>
          <p:grpSpPr>
            <a:xfrm>
              <a:off x="0" y="2282040"/>
              <a:ext cx="6780960" cy="207360"/>
              <a:chOff x="0" y="2282040"/>
              <a:chExt cx="6780960" cy="207360"/>
            </a:xfrm>
          </p:grpSpPr>
          <p:sp>
            <p:nvSpPr>
              <p:cNvPr id="442" name=""/>
              <p:cNvSpPr/>
              <p:nvPr/>
            </p:nvSpPr>
            <p:spPr>
              <a:xfrm>
                <a:off x="0" y="228204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0" y="228204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&lt;&lt; average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0" y="2489400"/>
              <a:ext cx="6780960" cy="207360"/>
              <a:chOff x="0" y="2489400"/>
              <a:chExt cx="6780960" cy="207360"/>
            </a:xfrm>
          </p:grpSpPr>
          <p:sp>
            <p:nvSpPr>
              <p:cNvPr id="445" name=""/>
              <p:cNvSpPr/>
              <p:nvPr/>
            </p:nvSpPr>
            <p:spPr>
              <a:xfrm>
                <a:off x="0" y="248940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0" y="248940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7" name=""/>
            <p:cNvGrpSpPr/>
            <p:nvPr/>
          </p:nvGrpSpPr>
          <p:grpSpPr>
            <a:xfrm>
              <a:off x="0" y="2696760"/>
              <a:ext cx="6780960" cy="207360"/>
              <a:chOff x="0" y="2696760"/>
              <a:chExt cx="6780960" cy="207360"/>
            </a:xfrm>
          </p:grpSpPr>
          <p:sp>
            <p:nvSpPr>
              <p:cNvPr id="448" name=""/>
              <p:cNvSpPr/>
              <p:nvPr/>
            </p:nvSpPr>
            <p:spPr>
              <a:xfrm>
                <a:off x="0" y="269676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269676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el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0" y="2904120"/>
              <a:ext cx="6780960" cy="207360"/>
              <a:chOff x="0" y="2904120"/>
              <a:chExt cx="6780960" cy="207360"/>
            </a:xfrm>
          </p:grpSpPr>
          <p:sp>
            <p:nvSpPr>
              <p:cNvPr id="451" name=""/>
              <p:cNvSpPr/>
              <p:nvPr/>
            </p:nvSpPr>
            <p:spPr>
              <a:xfrm>
                <a:off x="0" y="290412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0" y="290412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"No grades were entered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0" y="3111840"/>
              <a:ext cx="6780960" cy="207360"/>
              <a:chOff x="0" y="3111840"/>
              <a:chExt cx="6780960" cy="207360"/>
            </a:xfrm>
          </p:grpSpPr>
          <p:sp>
            <p:nvSpPr>
              <p:cNvPr id="454" name=""/>
              <p:cNvSpPr/>
              <p:nvPr/>
            </p:nvSpPr>
            <p:spPr>
              <a:xfrm>
                <a:off x="0" y="311184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0" y="311184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0" y="3319200"/>
              <a:ext cx="6780960" cy="207360"/>
              <a:chOff x="0" y="3319200"/>
              <a:chExt cx="6780960" cy="207360"/>
            </a:xfrm>
          </p:grpSpPr>
          <p:sp>
            <p:nvSpPr>
              <p:cNvPr id="457" name=""/>
              <p:cNvSpPr/>
              <p:nvPr/>
            </p:nvSpPr>
            <p:spPr>
              <a:xfrm>
                <a:off x="0" y="331920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0" y="331920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indicate program ended successfull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0" y="3526560"/>
              <a:ext cx="6780960" cy="207360"/>
              <a:chOff x="0" y="3526560"/>
              <a:chExt cx="6780960" cy="207360"/>
            </a:xfrm>
          </p:grpSpPr>
          <p:sp>
            <p:nvSpPr>
              <p:cNvPr id="460" name=""/>
              <p:cNvSpPr/>
              <p:nvPr/>
            </p:nvSpPr>
            <p:spPr>
              <a:xfrm>
                <a:off x="0" y="352656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0" y="3526560"/>
                <a:ext cx="678096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2" name=""/>
          <p:cNvSpPr/>
          <p:nvPr/>
        </p:nvSpPr>
        <p:spPr>
          <a:xfrm>
            <a:off x="0" y="4191120"/>
            <a:ext cx="6781680" cy="2101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, -1 to end: 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, -1 to end: 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, -1 to end: 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, -1 to end: 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, -1 to end: 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, -1 to end: 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, -1 to end: 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, -1 to end: 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grade, -1 to end: 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average is 82.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2666880" y="2285640"/>
            <a:ext cx="6096240" cy="3076200"/>
            <a:chOff x="2666880" y="2285640"/>
            <a:chExt cx="6096240" cy="3076200"/>
          </a:xfrm>
        </p:grpSpPr>
        <p:sp>
          <p:nvSpPr>
            <p:cNvPr id="464" name=""/>
            <p:cNvSpPr/>
            <p:nvPr/>
          </p:nvSpPr>
          <p:spPr>
            <a:xfrm>
              <a:off x="2666880" y="2590920"/>
              <a:ext cx="6096240" cy="27709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tiosflags(ios::fixed | ios::showpoint)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stream manipul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os::fixed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-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utput numbers with a fixed number of decimal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points.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os::show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-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orces decimal point and trailing zeros, even if unnecessary: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Courier New"/>
                </a:rPr>
                <a:t>66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rinted a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Courier New"/>
                </a:rPr>
                <a:t>66.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|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-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parates multiple op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 flipV="1">
              <a:off x="4419360" y="2285640"/>
              <a:ext cx="10666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4572000" y="2057400"/>
            <a:ext cx="4267080" cy="3498120"/>
            <a:chOff x="4572000" y="2057400"/>
            <a:chExt cx="4267080" cy="3498120"/>
          </a:xfrm>
        </p:grpSpPr>
        <p:sp>
          <p:nvSpPr>
            <p:cNvPr id="467" name=""/>
            <p:cNvSpPr/>
            <p:nvPr/>
          </p:nvSpPr>
          <p:spPr>
            <a:xfrm>
              <a:off x="4572000" y="4244760"/>
              <a:ext cx="42670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tprecision(2)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prints only two digits past decimal poi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grams that use this must includ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iomanip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 flipV="1">
              <a:off x="5105160" y="2057400"/>
              <a:ext cx="114300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380880" y="1905120"/>
            <a:ext cx="5029200" cy="2878920"/>
            <a:chOff x="380880" y="1905120"/>
            <a:chExt cx="5029200" cy="2878920"/>
          </a:xfrm>
        </p:grpSpPr>
        <p:grpSp>
          <p:nvGrpSpPr>
            <p:cNvPr id="470" name=""/>
            <p:cNvGrpSpPr/>
            <p:nvPr/>
          </p:nvGrpSpPr>
          <p:grpSpPr>
            <a:xfrm>
              <a:off x="380880" y="2743200"/>
              <a:ext cx="5029200" cy="2040840"/>
              <a:chOff x="380880" y="2743200"/>
              <a:chExt cx="5029200" cy="2040840"/>
            </a:xfrm>
          </p:grpSpPr>
          <p:sp>
            <p:nvSpPr>
              <p:cNvPr id="471" name=""/>
              <p:cNvSpPr/>
              <p:nvPr/>
            </p:nvSpPr>
            <p:spPr>
              <a:xfrm flipH="1">
                <a:off x="2133360" y="3581280"/>
                <a:ext cx="53352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80880" y="2743200"/>
                <a:ext cx="5029200" cy="204084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static_cast&lt;double&gt;()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- treats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total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as a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temporarily. 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Required because dividing two integers truncates the remainder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gradeCounter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is an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in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, but it gets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promo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to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doubl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Courier New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3" name=""/>
            <p:cNvSpPr/>
            <p:nvPr/>
          </p:nvSpPr>
          <p:spPr>
            <a:xfrm flipV="1">
              <a:off x="1752480" y="1905120"/>
              <a:ext cx="7621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E8530-B04F-42F5-93EF-A9C1E49EDFA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.10  Nested control structur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 college has a list of test results (1 = pass, 2 = fail) for 10 students.  Write a program that analyzes the results.  If more than 8 students pass, print "Raise Tuition"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see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program must process 10 test results. A counter-controlled loop will be used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wo counters can be used—one to count the number of students who passed the exam and one to count the number of students who failed the exam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ch test result is a number—either a 1 or a 2.  If the number is not a 1, we assume that it is a 2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p level outli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Analyze exam results and decide if tuition should be rais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6436C-003C-4038-82B7-E4A422AD545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1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fore writing a progra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ve a thorough understanding of proble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refully plan your approach for solving 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le writing a program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now what “building blocks” are avail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good programming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98E87-4150-435C-8575-C9811389D2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.10  Nested control structur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Refine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nitialize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nput the ten quiz grades and count passes and fail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nt a summary of the exam results and decide if tuition should be rais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Times New Roman"/>
              </a:rPr>
              <a:t>Initialize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nitialize passes to z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nitialize failures to z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nitialize student counter to o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73994-BA08-4D7F-8356-DD1B547205B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2.10  Nested control structur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8390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Times New Roman"/>
              </a:rPr>
              <a:t>Input the ten quiz grades and count passes and fail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While student counter is less than or equal to ten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nput the next exam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f the student pas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Add one to passes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Else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  Add one to fail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Add one to student coun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Times New Roman"/>
              </a:rPr>
              <a:t>Print a summary of the exam results and decide if tuition should be raised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nt the number of p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nt the number of fail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f more than eight students passed 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nt “Raise tuition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C87F3-D6E9-48F7-BD80-20F98E2AA1D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Input data and count passes/failur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482" name=""/>
            <p:cNvGrpSpPr/>
            <p:nvPr/>
          </p:nvGrpSpPr>
          <p:grpSpPr>
            <a:xfrm>
              <a:off x="0" y="0"/>
              <a:ext cx="6780960" cy="298080"/>
              <a:chOff x="0" y="0"/>
              <a:chExt cx="6780960" cy="298080"/>
            </a:xfrm>
          </p:grpSpPr>
          <p:sp>
            <p:nvSpPr>
              <p:cNvPr id="483" name=""/>
              <p:cNvSpPr/>
              <p:nvPr/>
            </p:nvSpPr>
            <p:spPr>
              <a:xfrm>
                <a:off x="0" y="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0" y="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2.11: fig02_1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0" y="298080"/>
              <a:ext cx="6780960" cy="298080"/>
              <a:chOff x="0" y="298080"/>
              <a:chExt cx="6780960" cy="298080"/>
            </a:xfrm>
          </p:grpSpPr>
          <p:sp>
            <p:nvSpPr>
              <p:cNvPr id="486" name=""/>
              <p:cNvSpPr/>
              <p:nvPr/>
            </p:nvSpPr>
            <p:spPr>
              <a:xfrm>
                <a:off x="0" y="2980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0" y="2980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nalysis of examination resul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8" name=""/>
            <p:cNvGrpSpPr/>
            <p:nvPr/>
          </p:nvGrpSpPr>
          <p:grpSpPr>
            <a:xfrm>
              <a:off x="0" y="596160"/>
              <a:ext cx="6780960" cy="298080"/>
              <a:chOff x="0" y="596160"/>
              <a:chExt cx="6780960" cy="298080"/>
            </a:xfrm>
          </p:grpSpPr>
          <p:sp>
            <p:nvSpPr>
              <p:cNvPr id="489" name=""/>
              <p:cNvSpPr/>
              <p:nvPr/>
            </p:nvSpPr>
            <p:spPr>
              <a:xfrm>
                <a:off x="0" y="5961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0" y="5961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1" name=""/>
            <p:cNvGrpSpPr/>
            <p:nvPr/>
          </p:nvGrpSpPr>
          <p:grpSpPr>
            <a:xfrm>
              <a:off x="0" y="894600"/>
              <a:ext cx="6780960" cy="298080"/>
              <a:chOff x="0" y="894600"/>
              <a:chExt cx="6780960" cy="298080"/>
            </a:xfrm>
          </p:grpSpPr>
          <p:sp>
            <p:nvSpPr>
              <p:cNvPr id="492" name=""/>
              <p:cNvSpPr/>
              <p:nvPr/>
            </p:nvSpPr>
            <p:spPr>
              <a:xfrm>
                <a:off x="0" y="8946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0" y="8946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4" name=""/>
            <p:cNvGrpSpPr/>
            <p:nvPr/>
          </p:nvGrpSpPr>
          <p:grpSpPr>
            <a:xfrm>
              <a:off x="0" y="1192680"/>
              <a:ext cx="6780960" cy="298080"/>
              <a:chOff x="0" y="1192680"/>
              <a:chExt cx="6780960" cy="298080"/>
            </a:xfrm>
          </p:grpSpPr>
          <p:sp>
            <p:nvSpPr>
              <p:cNvPr id="495" name=""/>
              <p:cNvSpPr/>
              <p:nvPr/>
            </p:nvSpPr>
            <p:spPr>
              <a:xfrm>
                <a:off x="0" y="11926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0" y="11926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7" name=""/>
            <p:cNvGrpSpPr/>
            <p:nvPr/>
          </p:nvGrpSpPr>
          <p:grpSpPr>
            <a:xfrm>
              <a:off x="0" y="1490760"/>
              <a:ext cx="6780960" cy="298080"/>
              <a:chOff x="0" y="1490760"/>
              <a:chExt cx="6780960" cy="298080"/>
            </a:xfrm>
          </p:grpSpPr>
          <p:sp>
            <p:nvSpPr>
              <p:cNvPr id="498" name=""/>
              <p:cNvSpPr/>
              <p:nvPr/>
            </p:nvSpPr>
            <p:spPr>
              <a:xfrm>
                <a:off x="0" y="14907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0" y="14907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i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0" name=""/>
            <p:cNvGrpSpPr/>
            <p:nvPr/>
          </p:nvGrpSpPr>
          <p:grpSpPr>
            <a:xfrm>
              <a:off x="0" y="1788840"/>
              <a:ext cx="6780960" cy="298080"/>
              <a:chOff x="0" y="1788840"/>
              <a:chExt cx="6780960" cy="298080"/>
            </a:xfrm>
          </p:grpSpPr>
          <p:sp>
            <p:nvSpPr>
              <p:cNvPr id="501" name=""/>
              <p:cNvSpPr/>
              <p:nvPr/>
            </p:nvSpPr>
            <p:spPr>
              <a:xfrm>
                <a:off x="0" y="17888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0" y="17888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0" y="2087280"/>
              <a:ext cx="6780960" cy="298080"/>
              <a:chOff x="0" y="2087280"/>
              <a:chExt cx="6780960" cy="298080"/>
            </a:xfrm>
          </p:grpSpPr>
          <p:sp>
            <p:nvSpPr>
              <p:cNvPr id="504" name=""/>
              <p:cNvSpPr/>
              <p:nvPr/>
            </p:nvSpPr>
            <p:spPr>
              <a:xfrm>
                <a:off x="0" y="20872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0" y="208728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0" y="2385360"/>
              <a:ext cx="6780960" cy="298080"/>
              <a:chOff x="0" y="2385360"/>
              <a:chExt cx="6780960" cy="298080"/>
            </a:xfrm>
          </p:grpSpPr>
          <p:sp>
            <p:nvSpPr>
              <p:cNvPr id="507" name=""/>
              <p:cNvSpPr/>
              <p:nvPr/>
            </p:nvSpPr>
            <p:spPr>
              <a:xfrm>
                <a:off x="0" y="23853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0" y="23853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9" name=""/>
            <p:cNvGrpSpPr/>
            <p:nvPr/>
          </p:nvGrpSpPr>
          <p:grpSpPr>
            <a:xfrm>
              <a:off x="0" y="2683440"/>
              <a:ext cx="6780960" cy="298080"/>
              <a:chOff x="0" y="2683440"/>
              <a:chExt cx="6780960" cy="298080"/>
            </a:xfrm>
          </p:grpSpPr>
          <p:sp>
            <p:nvSpPr>
              <p:cNvPr id="510" name=""/>
              <p:cNvSpPr/>
              <p:nvPr/>
            </p:nvSpPr>
            <p:spPr>
              <a:xfrm>
                <a:off x="0" y="26834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0" y="26834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" name=""/>
            <p:cNvGrpSpPr/>
            <p:nvPr/>
          </p:nvGrpSpPr>
          <p:grpSpPr>
            <a:xfrm>
              <a:off x="0" y="2981520"/>
              <a:ext cx="6780960" cy="298080"/>
              <a:chOff x="0" y="2981520"/>
              <a:chExt cx="6780960" cy="298080"/>
            </a:xfrm>
          </p:grpSpPr>
          <p:sp>
            <p:nvSpPr>
              <p:cNvPr id="513" name=""/>
              <p:cNvSpPr/>
              <p:nvPr/>
            </p:nvSpPr>
            <p:spPr>
              <a:xfrm>
                <a:off x="0" y="29815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0" y="29815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initialize variables in declaration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5" name=""/>
            <p:cNvGrpSpPr/>
            <p:nvPr/>
          </p:nvGrpSpPr>
          <p:grpSpPr>
            <a:xfrm>
              <a:off x="0" y="3279960"/>
              <a:ext cx="6780960" cy="298080"/>
              <a:chOff x="0" y="3279960"/>
              <a:chExt cx="6780960" cy="298080"/>
            </a:xfrm>
          </p:grpSpPr>
          <p:sp>
            <p:nvSpPr>
              <p:cNvPr id="516" name=""/>
              <p:cNvSpPr/>
              <p:nvPr/>
            </p:nvSpPr>
            <p:spPr>
              <a:xfrm>
                <a:off x="0" y="32799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0" y="327996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asses = 0,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number of pass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8" name=""/>
            <p:cNvGrpSpPr/>
            <p:nvPr/>
          </p:nvGrpSpPr>
          <p:grpSpPr>
            <a:xfrm>
              <a:off x="0" y="3578040"/>
              <a:ext cx="6780960" cy="298080"/>
              <a:chOff x="0" y="3578040"/>
              <a:chExt cx="6780960" cy="298080"/>
            </a:xfrm>
          </p:grpSpPr>
          <p:sp>
            <p:nvSpPr>
              <p:cNvPr id="519" name=""/>
              <p:cNvSpPr/>
              <p:nvPr/>
            </p:nvSpPr>
            <p:spPr>
              <a:xfrm>
                <a:off x="0" y="35780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0" y="35780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failures = 0,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number of failur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1" name=""/>
            <p:cNvGrpSpPr/>
            <p:nvPr/>
          </p:nvGrpSpPr>
          <p:grpSpPr>
            <a:xfrm>
              <a:off x="0" y="3876120"/>
              <a:ext cx="6780960" cy="298080"/>
              <a:chOff x="0" y="3876120"/>
              <a:chExt cx="6780960" cy="298080"/>
            </a:xfrm>
          </p:grpSpPr>
          <p:sp>
            <p:nvSpPr>
              <p:cNvPr id="522" name=""/>
              <p:cNvSpPr/>
              <p:nvPr/>
            </p:nvSpPr>
            <p:spPr>
              <a:xfrm>
                <a:off x="0" y="38761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0" y="38761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studentCounter = 1,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tudent coun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4" name=""/>
            <p:cNvGrpSpPr/>
            <p:nvPr/>
          </p:nvGrpSpPr>
          <p:grpSpPr>
            <a:xfrm>
              <a:off x="0" y="4174200"/>
              <a:ext cx="6780960" cy="298080"/>
              <a:chOff x="0" y="4174200"/>
              <a:chExt cx="6780960" cy="298080"/>
            </a:xfrm>
          </p:grpSpPr>
          <p:sp>
            <p:nvSpPr>
              <p:cNvPr id="525" name=""/>
              <p:cNvSpPr/>
              <p:nvPr/>
            </p:nvSpPr>
            <p:spPr>
              <a:xfrm>
                <a:off x="0" y="41742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0" y="41742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result;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one exam resul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7" name=""/>
            <p:cNvGrpSpPr/>
            <p:nvPr/>
          </p:nvGrpSpPr>
          <p:grpSpPr>
            <a:xfrm>
              <a:off x="0" y="4472640"/>
              <a:ext cx="6780960" cy="298080"/>
              <a:chOff x="0" y="4472640"/>
              <a:chExt cx="6780960" cy="298080"/>
            </a:xfrm>
          </p:grpSpPr>
          <p:sp>
            <p:nvSpPr>
              <p:cNvPr id="528" name=""/>
              <p:cNvSpPr/>
              <p:nvPr/>
            </p:nvSpPr>
            <p:spPr>
              <a:xfrm>
                <a:off x="0" y="44726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0" y="44726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0" name=""/>
            <p:cNvGrpSpPr/>
            <p:nvPr/>
          </p:nvGrpSpPr>
          <p:grpSpPr>
            <a:xfrm>
              <a:off x="0" y="4770720"/>
              <a:ext cx="6780960" cy="298080"/>
              <a:chOff x="0" y="4770720"/>
              <a:chExt cx="6780960" cy="298080"/>
            </a:xfrm>
          </p:grpSpPr>
          <p:sp>
            <p:nvSpPr>
              <p:cNvPr id="531" name=""/>
              <p:cNvSpPr/>
              <p:nvPr/>
            </p:nvSpPr>
            <p:spPr>
              <a:xfrm>
                <a:off x="0" y="47707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0" y="47707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process 10 students; counter-controlled loo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3" name=""/>
            <p:cNvGrpSpPr/>
            <p:nvPr/>
          </p:nvGrpSpPr>
          <p:grpSpPr>
            <a:xfrm>
              <a:off x="0" y="5068800"/>
              <a:ext cx="6780960" cy="298080"/>
              <a:chOff x="0" y="5068800"/>
              <a:chExt cx="6780960" cy="298080"/>
            </a:xfrm>
          </p:grpSpPr>
          <p:sp>
            <p:nvSpPr>
              <p:cNvPr id="534" name=""/>
              <p:cNvSpPr/>
              <p:nvPr/>
            </p:nvSpPr>
            <p:spPr>
              <a:xfrm>
                <a:off x="0" y="50688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0" y="50688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whi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studentCounter &lt;= 10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6" name=""/>
            <p:cNvGrpSpPr/>
            <p:nvPr/>
          </p:nvGrpSpPr>
          <p:grpSpPr>
            <a:xfrm>
              <a:off x="0" y="5367240"/>
              <a:ext cx="6780960" cy="298080"/>
              <a:chOff x="0" y="5367240"/>
              <a:chExt cx="6780960" cy="298080"/>
            </a:xfrm>
          </p:grpSpPr>
          <p:sp>
            <p:nvSpPr>
              <p:cNvPr id="537" name=""/>
              <p:cNvSpPr/>
              <p:nvPr/>
            </p:nvSpPr>
            <p:spPr>
              <a:xfrm>
                <a:off x="0" y="53672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0" y="53672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"Enter result (1=pass,2=fail)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9" name=""/>
            <p:cNvGrpSpPr/>
            <p:nvPr/>
          </p:nvGrpSpPr>
          <p:grpSpPr>
            <a:xfrm>
              <a:off x="0" y="5665320"/>
              <a:ext cx="6780960" cy="298080"/>
              <a:chOff x="0" y="5665320"/>
              <a:chExt cx="6780960" cy="298080"/>
            </a:xfrm>
          </p:grpSpPr>
          <p:sp>
            <p:nvSpPr>
              <p:cNvPr id="540" name=""/>
              <p:cNvSpPr/>
              <p:nvPr/>
            </p:nvSpPr>
            <p:spPr>
              <a:xfrm>
                <a:off x="0" y="56653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0" y="56653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in &gt;&gt; resul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2" name=""/>
            <p:cNvGrpSpPr/>
            <p:nvPr/>
          </p:nvGrpSpPr>
          <p:grpSpPr>
            <a:xfrm>
              <a:off x="0" y="5963400"/>
              <a:ext cx="6780960" cy="298080"/>
              <a:chOff x="0" y="5963400"/>
              <a:chExt cx="6780960" cy="298080"/>
            </a:xfrm>
          </p:grpSpPr>
          <p:sp>
            <p:nvSpPr>
              <p:cNvPr id="543" name=""/>
              <p:cNvSpPr/>
              <p:nvPr/>
            </p:nvSpPr>
            <p:spPr>
              <a:xfrm>
                <a:off x="0" y="59634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0" y="596340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5" name=""/>
            <p:cNvGrpSpPr/>
            <p:nvPr/>
          </p:nvGrpSpPr>
          <p:grpSpPr>
            <a:xfrm>
              <a:off x="0" y="6261840"/>
              <a:ext cx="6780960" cy="298080"/>
              <a:chOff x="0" y="6261840"/>
              <a:chExt cx="6780960" cy="298080"/>
            </a:xfrm>
          </p:grpSpPr>
          <p:sp>
            <p:nvSpPr>
              <p:cNvPr id="546" name=""/>
              <p:cNvSpPr/>
              <p:nvPr/>
            </p:nvSpPr>
            <p:spPr>
              <a:xfrm>
                <a:off x="0" y="62618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0" y="626184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result == 1 )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if/else nested in whi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0" y="6559920"/>
              <a:ext cx="6780960" cy="298080"/>
              <a:chOff x="0" y="6559920"/>
              <a:chExt cx="6780960" cy="298080"/>
            </a:xfrm>
          </p:grpSpPr>
          <p:sp>
            <p:nvSpPr>
              <p:cNvPr id="549" name=""/>
              <p:cNvSpPr/>
              <p:nvPr/>
            </p:nvSpPr>
            <p:spPr>
              <a:xfrm>
                <a:off x="0" y="65599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0" y="6559920"/>
                <a:ext cx="6780960" cy="298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passes = passes + 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34E01-203B-4148-9DB7-144651CD80C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Print results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0" y="0"/>
            <a:ext cx="6780960" cy="3733560"/>
            <a:chOff x="0" y="0"/>
            <a:chExt cx="6780960" cy="3733560"/>
          </a:xfrm>
        </p:grpSpPr>
        <p:grpSp>
          <p:nvGrpSpPr>
            <p:cNvPr id="553" name=""/>
            <p:cNvGrpSpPr/>
            <p:nvPr/>
          </p:nvGrpSpPr>
          <p:grpSpPr>
            <a:xfrm>
              <a:off x="0" y="0"/>
              <a:ext cx="6780960" cy="248760"/>
              <a:chOff x="0" y="0"/>
              <a:chExt cx="6780960" cy="248760"/>
            </a:xfrm>
          </p:grpSpPr>
          <p:sp>
            <p:nvSpPr>
              <p:cNvPr id="554" name=""/>
              <p:cNvSpPr/>
              <p:nvPr/>
            </p:nvSpPr>
            <p:spPr>
              <a:xfrm>
                <a:off x="0" y="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0" y="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el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6" name=""/>
            <p:cNvGrpSpPr/>
            <p:nvPr/>
          </p:nvGrpSpPr>
          <p:grpSpPr>
            <a:xfrm>
              <a:off x="0" y="248760"/>
              <a:ext cx="6780960" cy="248760"/>
              <a:chOff x="0" y="248760"/>
              <a:chExt cx="6780960" cy="248760"/>
            </a:xfrm>
          </p:grpSpPr>
          <p:sp>
            <p:nvSpPr>
              <p:cNvPr id="557" name=""/>
              <p:cNvSpPr/>
              <p:nvPr/>
            </p:nvSpPr>
            <p:spPr>
              <a:xfrm>
                <a:off x="0" y="24876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0" y="24876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failures = failures + 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0" y="497520"/>
              <a:ext cx="6780960" cy="248760"/>
              <a:chOff x="0" y="497520"/>
              <a:chExt cx="6780960" cy="248760"/>
            </a:xfrm>
          </p:grpSpPr>
          <p:sp>
            <p:nvSpPr>
              <p:cNvPr id="560" name=""/>
              <p:cNvSpPr/>
              <p:nvPr/>
            </p:nvSpPr>
            <p:spPr>
              <a:xfrm>
                <a:off x="0" y="49752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0" y="49752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2" name=""/>
            <p:cNvGrpSpPr/>
            <p:nvPr/>
          </p:nvGrpSpPr>
          <p:grpSpPr>
            <a:xfrm>
              <a:off x="0" y="746640"/>
              <a:ext cx="6780960" cy="248760"/>
              <a:chOff x="0" y="746640"/>
              <a:chExt cx="6780960" cy="248760"/>
            </a:xfrm>
          </p:grpSpPr>
          <p:sp>
            <p:nvSpPr>
              <p:cNvPr id="563" name=""/>
              <p:cNvSpPr/>
              <p:nvPr/>
            </p:nvSpPr>
            <p:spPr>
              <a:xfrm>
                <a:off x="0" y="74664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0" y="74664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studentCounter = studentCounter + 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5" name=""/>
            <p:cNvGrpSpPr/>
            <p:nvPr/>
          </p:nvGrpSpPr>
          <p:grpSpPr>
            <a:xfrm>
              <a:off x="0" y="995400"/>
              <a:ext cx="6780960" cy="248760"/>
              <a:chOff x="0" y="995400"/>
              <a:chExt cx="6780960" cy="248760"/>
            </a:xfrm>
          </p:grpSpPr>
          <p:sp>
            <p:nvSpPr>
              <p:cNvPr id="566" name=""/>
              <p:cNvSpPr/>
              <p:nvPr/>
            </p:nvSpPr>
            <p:spPr>
              <a:xfrm>
                <a:off x="0" y="99540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0" y="99540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8" name=""/>
            <p:cNvGrpSpPr/>
            <p:nvPr/>
          </p:nvGrpSpPr>
          <p:grpSpPr>
            <a:xfrm>
              <a:off x="0" y="1244520"/>
              <a:ext cx="6780960" cy="248760"/>
              <a:chOff x="0" y="1244520"/>
              <a:chExt cx="6780960" cy="248760"/>
            </a:xfrm>
          </p:grpSpPr>
          <p:sp>
            <p:nvSpPr>
              <p:cNvPr id="569" name=""/>
              <p:cNvSpPr/>
              <p:nvPr/>
            </p:nvSpPr>
            <p:spPr>
              <a:xfrm>
                <a:off x="0" y="124452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0" y="124452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0" y="1493280"/>
              <a:ext cx="6780960" cy="248760"/>
              <a:chOff x="0" y="1493280"/>
              <a:chExt cx="6780960" cy="248760"/>
            </a:xfrm>
          </p:grpSpPr>
          <p:sp>
            <p:nvSpPr>
              <p:cNvPr id="572" name=""/>
              <p:cNvSpPr/>
              <p:nvPr/>
            </p:nvSpPr>
            <p:spPr>
              <a:xfrm>
                <a:off x="0" y="149328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0" y="149328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// termination pha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0" y="1742400"/>
              <a:ext cx="6780960" cy="248760"/>
              <a:chOff x="0" y="1742400"/>
              <a:chExt cx="6780960" cy="248760"/>
            </a:xfrm>
          </p:grpSpPr>
          <p:sp>
            <p:nvSpPr>
              <p:cNvPr id="575" name=""/>
              <p:cNvSpPr/>
              <p:nvPr/>
            </p:nvSpPr>
            <p:spPr>
              <a:xfrm>
                <a:off x="0" y="174240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0" y="174240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Passed " &lt;&lt; passes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0" y="1991160"/>
              <a:ext cx="6780960" cy="248760"/>
              <a:chOff x="0" y="1991160"/>
              <a:chExt cx="6780960" cy="248760"/>
            </a:xfrm>
          </p:grpSpPr>
          <p:sp>
            <p:nvSpPr>
              <p:cNvPr id="578" name=""/>
              <p:cNvSpPr/>
              <p:nvPr/>
            </p:nvSpPr>
            <p:spPr>
              <a:xfrm>
                <a:off x="0" y="199116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0" y="199116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Failed " &lt;&lt; failures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0" name=""/>
            <p:cNvGrpSpPr/>
            <p:nvPr/>
          </p:nvGrpSpPr>
          <p:grpSpPr>
            <a:xfrm>
              <a:off x="0" y="2240280"/>
              <a:ext cx="6780960" cy="248760"/>
              <a:chOff x="0" y="2240280"/>
              <a:chExt cx="6780960" cy="248760"/>
            </a:xfrm>
          </p:grpSpPr>
          <p:sp>
            <p:nvSpPr>
              <p:cNvPr id="581" name=""/>
              <p:cNvSpPr/>
              <p:nvPr/>
            </p:nvSpPr>
            <p:spPr>
              <a:xfrm>
                <a:off x="0" y="224028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0" y="224028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3" name=""/>
            <p:cNvGrpSpPr/>
            <p:nvPr/>
          </p:nvGrpSpPr>
          <p:grpSpPr>
            <a:xfrm>
              <a:off x="0" y="2489040"/>
              <a:ext cx="6780960" cy="248760"/>
              <a:chOff x="0" y="2489040"/>
              <a:chExt cx="6780960" cy="248760"/>
            </a:xfrm>
          </p:grpSpPr>
          <p:sp>
            <p:nvSpPr>
              <p:cNvPr id="584" name=""/>
              <p:cNvSpPr/>
              <p:nvPr/>
            </p:nvSpPr>
            <p:spPr>
              <a:xfrm>
                <a:off x="0" y="248904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0" y="248904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passes &gt; 8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6" name=""/>
            <p:cNvGrpSpPr/>
            <p:nvPr/>
          </p:nvGrpSpPr>
          <p:grpSpPr>
            <a:xfrm>
              <a:off x="0" y="2738160"/>
              <a:ext cx="6780960" cy="248760"/>
              <a:chOff x="0" y="2738160"/>
              <a:chExt cx="6780960" cy="248760"/>
            </a:xfrm>
          </p:grpSpPr>
          <p:sp>
            <p:nvSpPr>
              <p:cNvPr id="587" name=""/>
              <p:cNvSpPr/>
              <p:nvPr/>
            </p:nvSpPr>
            <p:spPr>
              <a:xfrm>
                <a:off x="0" y="273816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0" y="273816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"Raise tuition 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0" y="2986920"/>
              <a:ext cx="6780960" cy="248760"/>
              <a:chOff x="0" y="2986920"/>
              <a:chExt cx="6780960" cy="248760"/>
            </a:xfrm>
          </p:grpSpPr>
          <p:sp>
            <p:nvSpPr>
              <p:cNvPr id="590" name=""/>
              <p:cNvSpPr/>
              <p:nvPr/>
            </p:nvSpPr>
            <p:spPr>
              <a:xfrm>
                <a:off x="0" y="298692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0" y="298692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0" y="3236040"/>
              <a:ext cx="6780960" cy="248760"/>
              <a:chOff x="0" y="3236040"/>
              <a:chExt cx="6780960" cy="248760"/>
            </a:xfrm>
          </p:grpSpPr>
          <p:sp>
            <p:nvSpPr>
              <p:cNvPr id="593" name=""/>
              <p:cNvSpPr/>
              <p:nvPr/>
            </p:nvSpPr>
            <p:spPr>
              <a:xfrm>
                <a:off x="0" y="323604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0" y="323604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successful termin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0" y="3484800"/>
              <a:ext cx="6780960" cy="248760"/>
              <a:chOff x="0" y="3484800"/>
              <a:chExt cx="6780960" cy="248760"/>
            </a:xfrm>
          </p:grpSpPr>
          <p:sp>
            <p:nvSpPr>
              <p:cNvPr id="596" name=""/>
              <p:cNvSpPr/>
              <p:nvPr/>
            </p:nvSpPr>
            <p:spPr>
              <a:xfrm>
                <a:off x="0" y="348480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0" y="3484800"/>
                <a:ext cx="6780960" cy="24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8" name=""/>
          <p:cNvSpPr/>
          <p:nvPr/>
        </p:nvSpPr>
        <p:spPr>
          <a:xfrm>
            <a:off x="0" y="3962520"/>
            <a:ext cx="6781680" cy="2649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result (1=pass,2=fail)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result (1=pass,2=fail)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result (1=pass,2=fail)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result (1=pass,2=fail)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result (1=pass,2=fail):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result (1=pass,2=fail)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result (1=pass,2=fail)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result (1=pass,2=fail)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result (1=pass,2=fail)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result (1=pass,2=fail)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ssed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ailed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aise tu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57204-8FC5-42EE-8058-9680B5AB5D3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11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Assignment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ment expression abbrevi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 = c + 3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 be abbreviated a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 += 3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sing the addition assignment op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ments of the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riable = variable operator express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be rewritten 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riable operator= express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 of other assignment operators inclu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 -= 4     (d = d - 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*= 5     (e = e * 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/= 3     (f = f / 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 %= 9     (g = g % 9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2286000" y="2984400"/>
            <a:ext cx="4572000" cy="888840"/>
            <a:chOff x="2286000" y="2984400"/>
            <a:chExt cx="4572000" cy="888840"/>
          </a:xfrm>
        </p:grpSpPr>
        <p:sp>
          <p:nvSpPr>
            <p:cNvPr id="602" name=""/>
            <p:cNvSpPr/>
            <p:nvPr/>
          </p:nvSpPr>
          <p:spPr>
            <a:xfrm>
              <a:off x="2286000" y="2984400"/>
              <a:ext cx="11430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429000" y="2984400"/>
              <a:ext cx="11430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572000" y="2984400"/>
              <a:ext cx="11430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2984400"/>
              <a:ext cx="11430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286000" y="3162240"/>
              <a:ext cx="11430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429000" y="3162240"/>
              <a:ext cx="11430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572000" y="3162240"/>
              <a:ext cx="11430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715000" y="3162240"/>
              <a:ext cx="11430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286000" y="3340080"/>
              <a:ext cx="11430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429000" y="3340080"/>
              <a:ext cx="11430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572000" y="3340080"/>
              <a:ext cx="11430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715000" y="3340080"/>
              <a:ext cx="11430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86000" y="3517920"/>
              <a:ext cx="11430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429000" y="3517920"/>
              <a:ext cx="11430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572000" y="3517920"/>
              <a:ext cx="11430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5000" y="3517920"/>
              <a:ext cx="11430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286000" y="3695760"/>
              <a:ext cx="114300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429000" y="3695760"/>
              <a:ext cx="114300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572000" y="3695760"/>
              <a:ext cx="114300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715000" y="3695760"/>
              <a:ext cx="114300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968FD-0E1C-4D44-B3B0-12BF28F72F3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12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Increment and Decrement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8305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ment operator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+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- can be used instead of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 +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rement operator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-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- can be used instead of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 -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incr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the operator is used before the variable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+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–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ble is changed, then the expression it is in is evalua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sincr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the operator is used after the variable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+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-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ression the variable is in executes, then the variable is chang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 = 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ut &lt;&lt; ++c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rints ou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changed befor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u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execute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ut &lt;&lt; c++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rints ou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u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executed before the increment.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now has the value of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126C2-F81C-4AD9-B6F8-54FEE7B1FFC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12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Increment and Decrement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Variable is not in an ex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incrementing and postincrementing have the same effec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+c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d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++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ve the same effec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9CC02-FCE8-4EDB-BD3C-9AA96BD9FDE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13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Essentials of Counter-Controlled Repeti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nter-controlled repetition 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name of a control variable (or loop counter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initial value of the control variab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condition that tests for the final value of the control variable (i.e., whether looping should continue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increment (or decrement) by which the control variable is modified each time through the loop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counter =1;          //initia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counter &lt;= 10){   //repetition 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counter &lt;&lt; end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+counter;            //inc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C8B70-1F05-4BF2-B032-896349ECFCD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13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Essentials of Counter-Controlled Repeti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ecla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counter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me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u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e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unt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be an integ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serves space f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unt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 mem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unt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an initial value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C784A-A42E-4223-9077-F5C295AE7C1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14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The for Repetition Structu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eneral format when using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ops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 initialization; LoopContinuationTest;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increment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emen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 int counter = 1; counter &lt;= 10; counter++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counter &lt;&lt; end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ints the integers from one to 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0" y="2330280"/>
            <a:ext cx="5486400" cy="1374840"/>
            <a:chOff x="0" y="2330280"/>
            <a:chExt cx="5486400" cy="1374840"/>
          </a:xfrm>
        </p:grpSpPr>
        <p:sp>
          <p:nvSpPr>
            <p:cNvPr id="633" name=""/>
            <p:cNvSpPr/>
            <p:nvPr/>
          </p:nvSpPr>
          <p:spPr>
            <a:xfrm>
              <a:off x="0" y="2516040"/>
              <a:ext cx="54864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0" y="2330280"/>
              <a:ext cx="5486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"/>
          <p:cNvSpPr/>
          <p:nvPr/>
        </p:nvSpPr>
        <p:spPr>
          <a:xfrm>
            <a:off x="0" y="37051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391520" y="4114800"/>
            <a:ext cx="1066680" cy="106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semicolon after last stat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V="1">
            <a:off x="7924680" y="34286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5587D-4CAF-4E54-866C-61561F8C354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2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Algorithms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compu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be solved by executing a series of actions in a specific or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procedure determining th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 to be execu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r in which these actions are to be execu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cifies the order in which statements are to execu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9524F-AE1F-4218-B2D3-3AF5C716969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14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The for Repetition Structu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ops can usually be rewritten a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o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itializat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 loopContinuationTest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crem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ation and increment as comma-separated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int i = 0, j = 0;  j + i &lt;= 10; j++,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j + i &lt;&lt; end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FC54C-58AC-4F12-8DAA-175EAF637F1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0000"/>
                </a:solidFill>
                <a:latin typeface="AvantGarde"/>
              </a:rPr>
              <a:t>2.15</a:t>
            </a:r>
            <a:r>
              <a:rPr b="1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0000"/>
                </a:solidFill>
                <a:latin typeface="AvantGarde"/>
              </a:rPr>
              <a:t>Examples Using the for Structu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1066680" y="1523880"/>
            <a:ext cx="6705000" cy="3962160"/>
            <a:chOff x="1066680" y="1523880"/>
            <a:chExt cx="6705000" cy="3962160"/>
          </a:xfrm>
        </p:grpSpPr>
        <p:grpSp>
          <p:nvGrpSpPr>
            <p:cNvPr id="642" name=""/>
            <p:cNvGrpSpPr/>
            <p:nvPr/>
          </p:nvGrpSpPr>
          <p:grpSpPr>
            <a:xfrm>
              <a:off x="1066680" y="1523880"/>
              <a:ext cx="6705000" cy="218880"/>
              <a:chOff x="1066680" y="1523880"/>
              <a:chExt cx="6705000" cy="218880"/>
            </a:xfrm>
          </p:grpSpPr>
          <p:sp>
            <p:nvSpPr>
              <p:cNvPr id="643" name=""/>
              <p:cNvSpPr/>
              <p:nvPr/>
            </p:nvSpPr>
            <p:spPr>
              <a:xfrm>
                <a:off x="1066680" y="152388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066680" y="152388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2.20: fig02_20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5" name=""/>
            <p:cNvGrpSpPr/>
            <p:nvPr/>
          </p:nvGrpSpPr>
          <p:grpSpPr>
            <a:xfrm>
              <a:off x="1066680" y="1742760"/>
              <a:ext cx="6705000" cy="236160"/>
              <a:chOff x="1066680" y="1742760"/>
              <a:chExt cx="6705000" cy="236160"/>
            </a:xfrm>
          </p:grpSpPr>
          <p:sp>
            <p:nvSpPr>
              <p:cNvPr id="646" name=""/>
              <p:cNvSpPr/>
              <p:nvPr/>
            </p:nvSpPr>
            <p:spPr>
              <a:xfrm>
                <a:off x="1066680" y="174276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1066680" y="174276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ummation with f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8" name=""/>
            <p:cNvGrpSpPr/>
            <p:nvPr/>
          </p:nvGrpSpPr>
          <p:grpSpPr>
            <a:xfrm>
              <a:off x="1066680" y="1978920"/>
              <a:ext cx="6705000" cy="219240"/>
              <a:chOff x="1066680" y="1978920"/>
              <a:chExt cx="6705000" cy="219240"/>
            </a:xfrm>
          </p:grpSpPr>
          <p:sp>
            <p:nvSpPr>
              <p:cNvPr id="649" name=""/>
              <p:cNvSpPr/>
              <p:nvPr/>
            </p:nvSpPr>
            <p:spPr>
              <a:xfrm>
                <a:off x="1066680" y="1978920"/>
                <a:ext cx="6705000" cy="219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1066680" y="1978920"/>
                <a:ext cx="6705000" cy="219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1066680" y="2198520"/>
              <a:ext cx="6705000" cy="218880"/>
              <a:chOff x="1066680" y="2198520"/>
              <a:chExt cx="6705000" cy="218880"/>
            </a:xfrm>
          </p:grpSpPr>
          <p:sp>
            <p:nvSpPr>
              <p:cNvPr id="652" name=""/>
              <p:cNvSpPr/>
              <p:nvPr/>
            </p:nvSpPr>
            <p:spPr>
              <a:xfrm>
                <a:off x="1066680" y="219852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066680" y="219852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1066680" y="2417400"/>
              <a:ext cx="6705000" cy="218880"/>
              <a:chOff x="1066680" y="2417400"/>
              <a:chExt cx="6705000" cy="218880"/>
            </a:xfrm>
          </p:grpSpPr>
          <p:sp>
            <p:nvSpPr>
              <p:cNvPr id="655" name=""/>
              <p:cNvSpPr/>
              <p:nvPr/>
            </p:nvSpPr>
            <p:spPr>
              <a:xfrm>
                <a:off x="1066680" y="241740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1066680" y="241740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1066680" y="2636640"/>
              <a:ext cx="6705000" cy="218880"/>
              <a:chOff x="1066680" y="2636640"/>
              <a:chExt cx="6705000" cy="218880"/>
            </a:xfrm>
          </p:grpSpPr>
          <p:sp>
            <p:nvSpPr>
              <p:cNvPr id="658" name=""/>
              <p:cNvSpPr/>
              <p:nvPr/>
            </p:nvSpPr>
            <p:spPr>
              <a:xfrm>
                <a:off x="1066680" y="263664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1066680" y="263664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1066680" y="2855880"/>
              <a:ext cx="6705000" cy="219240"/>
              <a:chOff x="1066680" y="2855880"/>
              <a:chExt cx="6705000" cy="219240"/>
            </a:xfrm>
          </p:grpSpPr>
          <p:sp>
            <p:nvSpPr>
              <p:cNvPr id="661" name=""/>
              <p:cNvSpPr/>
              <p:nvPr/>
            </p:nvSpPr>
            <p:spPr>
              <a:xfrm>
                <a:off x="1066680" y="2855880"/>
                <a:ext cx="6705000" cy="219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1066680" y="2855880"/>
                <a:ext cx="6705000" cy="219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1066680" y="3075120"/>
              <a:ext cx="6705000" cy="218880"/>
              <a:chOff x="1066680" y="3075120"/>
              <a:chExt cx="6705000" cy="218880"/>
            </a:xfrm>
          </p:grpSpPr>
          <p:sp>
            <p:nvSpPr>
              <p:cNvPr id="664" name=""/>
              <p:cNvSpPr/>
              <p:nvPr/>
            </p:nvSpPr>
            <p:spPr>
              <a:xfrm>
                <a:off x="1066680" y="307512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066680" y="307512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1066680" y="3294360"/>
              <a:ext cx="6705000" cy="218880"/>
              <a:chOff x="1066680" y="3294360"/>
              <a:chExt cx="6705000" cy="218880"/>
            </a:xfrm>
          </p:grpSpPr>
          <p:sp>
            <p:nvSpPr>
              <p:cNvPr id="667" name=""/>
              <p:cNvSpPr/>
              <p:nvPr/>
            </p:nvSpPr>
            <p:spPr>
              <a:xfrm>
                <a:off x="1066680" y="329436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1066680" y="329436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" name=""/>
            <p:cNvGrpSpPr/>
            <p:nvPr/>
          </p:nvGrpSpPr>
          <p:grpSpPr>
            <a:xfrm>
              <a:off x="1066680" y="3513600"/>
              <a:ext cx="6705000" cy="218880"/>
              <a:chOff x="1066680" y="3513600"/>
              <a:chExt cx="6705000" cy="218880"/>
            </a:xfrm>
          </p:grpSpPr>
          <p:sp>
            <p:nvSpPr>
              <p:cNvPr id="670" name=""/>
              <p:cNvSpPr/>
              <p:nvPr/>
            </p:nvSpPr>
            <p:spPr>
              <a:xfrm>
                <a:off x="1066680" y="351360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066680" y="351360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um =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1066680" y="3732840"/>
              <a:ext cx="6705000" cy="218880"/>
              <a:chOff x="1066680" y="3732840"/>
              <a:chExt cx="6705000" cy="218880"/>
            </a:xfrm>
          </p:grpSpPr>
          <p:sp>
            <p:nvSpPr>
              <p:cNvPr id="673" name=""/>
              <p:cNvSpPr/>
              <p:nvPr/>
            </p:nvSpPr>
            <p:spPr>
              <a:xfrm>
                <a:off x="1066680" y="373284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1066680" y="373284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1066680" y="3952080"/>
              <a:ext cx="6705000" cy="219240"/>
              <a:chOff x="1066680" y="3952080"/>
              <a:chExt cx="6705000" cy="219240"/>
            </a:xfrm>
          </p:grpSpPr>
          <p:sp>
            <p:nvSpPr>
              <p:cNvPr id="676" name=""/>
              <p:cNvSpPr/>
              <p:nvPr/>
            </p:nvSpPr>
            <p:spPr>
              <a:xfrm>
                <a:off x="1066680" y="3952080"/>
                <a:ext cx="6705000" cy="219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1066680" y="3952080"/>
                <a:ext cx="6705000" cy="219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number = 2; number &lt;= 100; number += 2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1066680" y="4171320"/>
              <a:ext cx="6705000" cy="218880"/>
              <a:chOff x="1066680" y="4171320"/>
              <a:chExt cx="6705000" cy="218880"/>
            </a:xfrm>
          </p:grpSpPr>
          <p:sp>
            <p:nvSpPr>
              <p:cNvPr id="679" name=""/>
              <p:cNvSpPr/>
              <p:nvPr/>
            </p:nvSpPr>
            <p:spPr>
              <a:xfrm>
                <a:off x="1066680" y="417132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1066680" y="417132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sum += numbe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1" name=""/>
            <p:cNvGrpSpPr/>
            <p:nvPr/>
          </p:nvGrpSpPr>
          <p:grpSpPr>
            <a:xfrm>
              <a:off x="1066680" y="4390560"/>
              <a:ext cx="6705000" cy="218880"/>
              <a:chOff x="1066680" y="4390560"/>
              <a:chExt cx="6705000" cy="218880"/>
            </a:xfrm>
          </p:grpSpPr>
          <p:sp>
            <p:nvSpPr>
              <p:cNvPr id="682" name=""/>
              <p:cNvSpPr/>
              <p:nvPr/>
            </p:nvSpPr>
            <p:spPr>
              <a:xfrm>
                <a:off x="1066680" y="439056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066680" y="439056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4" name=""/>
            <p:cNvGrpSpPr/>
            <p:nvPr/>
          </p:nvGrpSpPr>
          <p:grpSpPr>
            <a:xfrm>
              <a:off x="1066680" y="4609440"/>
              <a:ext cx="6705000" cy="218880"/>
              <a:chOff x="1066680" y="4609440"/>
              <a:chExt cx="6705000" cy="218880"/>
            </a:xfrm>
          </p:grpSpPr>
          <p:sp>
            <p:nvSpPr>
              <p:cNvPr id="685" name=""/>
              <p:cNvSpPr/>
              <p:nvPr/>
            </p:nvSpPr>
            <p:spPr>
              <a:xfrm>
                <a:off x="1066680" y="460944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1066680" y="460944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Sum is " &lt;&lt; sum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7" name=""/>
            <p:cNvGrpSpPr/>
            <p:nvPr/>
          </p:nvGrpSpPr>
          <p:grpSpPr>
            <a:xfrm>
              <a:off x="1066680" y="4828680"/>
              <a:ext cx="6705000" cy="219240"/>
              <a:chOff x="1066680" y="4828680"/>
              <a:chExt cx="6705000" cy="219240"/>
            </a:xfrm>
          </p:grpSpPr>
          <p:sp>
            <p:nvSpPr>
              <p:cNvPr id="688" name=""/>
              <p:cNvSpPr/>
              <p:nvPr/>
            </p:nvSpPr>
            <p:spPr>
              <a:xfrm>
                <a:off x="1066680" y="4828680"/>
                <a:ext cx="6705000" cy="219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066680" y="4828680"/>
                <a:ext cx="6705000" cy="219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0" name=""/>
            <p:cNvGrpSpPr/>
            <p:nvPr/>
          </p:nvGrpSpPr>
          <p:grpSpPr>
            <a:xfrm>
              <a:off x="1066680" y="5047920"/>
              <a:ext cx="6705000" cy="218880"/>
              <a:chOff x="1066680" y="5047920"/>
              <a:chExt cx="6705000" cy="218880"/>
            </a:xfrm>
          </p:grpSpPr>
          <p:sp>
            <p:nvSpPr>
              <p:cNvPr id="691" name=""/>
              <p:cNvSpPr/>
              <p:nvPr/>
            </p:nvSpPr>
            <p:spPr>
              <a:xfrm>
                <a:off x="1066680" y="504792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1066680" y="504792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3" name=""/>
            <p:cNvGrpSpPr/>
            <p:nvPr/>
          </p:nvGrpSpPr>
          <p:grpSpPr>
            <a:xfrm>
              <a:off x="1066680" y="5267160"/>
              <a:ext cx="6705000" cy="218880"/>
              <a:chOff x="1066680" y="5267160"/>
              <a:chExt cx="6705000" cy="218880"/>
            </a:xfrm>
          </p:grpSpPr>
          <p:sp>
            <p:nvSpPr>
              <p:cNvPr id="694" name=""/>
              <p:cNvSpPr/>
              <p:nvPr/>
            </p:nvSpPr>
            <p:spPr>
              <a:xfrm>
                <a:off x="1066680" y="526716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1066680" y="5267160"/>
                <a:ext cx="6705000" cy="218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1066320" y="5791320"/>
            <a:ext cx="6782040" cy="45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 is 25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715000" y="990720"/>
            <a:ext cx="2438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85800" y="99072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to sum the even numbers from 2 to 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59488-C5B5-4E41-A3BA-69695F43EA1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16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The switch Multiple-Selection Structu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wi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ful when variable or expression is tested for multiple val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ists of a series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as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labels and an optional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efaul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609480" y="2438280"/>
            <a:ext cx="5714280" cy="4114080"/>
            <a:chOff x="609480" y="2438280"/>
            <a:chExt cx="5714280" cy="4114080"/>
          </a:xfrm>
        </p:grpSpPr>
        <p:sp>
          <p:nvSpPr>
            <p:cNvPr id="702" name=""/>
            <p:cNvSpPr/>
            <p:nvPr/>
          </p:nvSpPr>
          <p:spPr>
            <a:xfrm>
              <a:off x="1400040" y="2540520"/>
              <a:ext cx="360" cy="2923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45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337400" y="2438280"/>
              <a:ext cx="124200" cy="9576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148840" y="3031920"/>
              <a:ext cx="49860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101680" y="2865240"/>
              <a:ext cx="44208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061880" y="3031920"/>
              <a:ext cx="49932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337400" y="6456240"/>
              <a:ext cx="124200" cy="961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400040" y="4012560"/>
              <a:ext cx="360" cy="385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58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524240" y="4015080"/>
              <a:ext cx="54036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al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337400" y="4422240"/>
              <a:ext cx="124200" cy="47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933880" y="3031920"/>
              <a:ext cx="3740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321240" y="3031920"/>
              <a:ext cx="360" cy="32641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95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415160" y="6296040"/>
              <a:ext cx="490860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9996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4" name=""/>
            <p:cNvGrpSpPr/>
            <p:nvPr/>
          </p:nvGrpSpPr>
          <p:grpSpPr>
            <a:xfrm>
              <a:off x="651240" y="2832840"/>
              <a:ext cx="1497240" cy="395280"/>
              <a:chOff x="651240" y="2832840"/>
              <a:chExt cx="1497240" cy="395280"/>
            </a:xfrm>
          </p:grpSpPr>
          <p:sp>
            <p:nvSpPr>
              <p:cNvPr id="715" name=""/>
              <p:cNvSpPr/>
              <p:nvPr/>
            </p:nvSpPr>
            <p:spPr>
              <a:xfrm>
                <a:off x="651240" y="2832840"/>
                <a:ext cx="1497240" cy="395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6" y="9980"/>
                    </a:moveTo>
                    <a:lnTo>
                      <a:pt x="9986" y="19959"/>
                    </a:lnTo>
                    <a:lnTo>
                      <a:pt x="0" y="9980"/>
                    </a:lnTo>
                    <a:lnTo>
                      <a:pt x="9986" y="0"/>
                    </a:lnTo>
                    <a:lnTo>
                      <a:pt x="19986" y="998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640" y="2985120"/>
                <a:ext cx="999360" cy="1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7" name=""/>
            <p:cNvGrpSpPr/>
            <p:nvPr/>
          </p:nvGrpSpPr>
          <p:grpSpPr>
            <a:xfrm>
              <a:off x="2647440" y="2945520"/>
              <a:ext cx="1414080" cy="170280"/>
              <a:chOff x="2647440" y="2945520"/>
              <a:chExt cx="1414080" cy="170280"/>
            </a:xfrm>
          </p:grpSpPr>
          <p:sp>
            <p:nvSpPr>
              <p:cNvPr id="718" name=""/>
              <p:cNvSpPr/>
              <p:nvPr/>
            </p:nvSpPr>
            <p:spPr>
              <a:xfrm>
                <a:off x="2688840" y="2985480"/>
                <a:ext cx="1329840" cy="12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ase a action(s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2647440" y="2945520"/>
                <a:ext cx="1414080" cy="170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5" y="0"/>
                    </a:moveTo>
                    <a:lnTo>
                      <a:pt x="19985" y="19906"/>
                    </a:lnTo>
                    <a:lnTo>
                      <a:pt x="0" y="19906"/>
                    </a:lnTo>
                    <a:lnTo>
                      <a:pt x="0" y="0"/>
                    </a:lnTo>
                    <a:lnTo>
                      <a:pt x="19985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0" name=""/>
            <p:cNvGrpSpPr/>
            <p:nvPr/>
          </p:nvGrpSpPr>
          <p:grpSpPr>
            <a:xfrm>
              <a:off x="4561200" y="2945520"/>
              <a:ext cx="1372320" cy="170280"/>
              <a:chOff x="4561200" y="2945520"/>
              <a:chExt cx="1372320" cy="170280"/>
            </a:xfrm>
          </p:grpSpPr>
          <p:sp>
            <p:nvSpPr>
              <p:cNvPr id="721" name=""/>
              <p:cNvSpPr/>
              <p:nvPr/>
            </p:nvSpPr>
            <p:spPr>
              <a:xfrm>
                <a:off x="4601520" y="2985480"/>
                <a:ext cx="1290240" cy="12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brea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561200" y="2945520"/>
                <a:ext cx="1372320" cy="170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5" y="0"/>
                    </a:moveTo>
                    <a:lnTo>
                      <a:pt x="19985" y="19906"/>
                    </a:lnTo>
                    <a:lnTo>
                      <a:pt x="0" y="19906"/>
                    </a:lnTo>
                    <a:lnTo>
                      <a:pt x="0" y="0"/>
                    </a:lnTo>
                    <a:lnTo>
                      <a:pt x="19985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3" name=""/>
            <p:cNvSpPr/>
            <p:nvPr/>
          </p:nvSpPr>
          <p:spPr>
            <a:xfrm>
              <a:off x="1400040" y="3224160"/>
              <a:ext cx="360" cy="385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58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148840" y="3808440"/>
              <a:ext cx="49860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061880" y="3808440"/>
              <a:ext cx="49932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933880" y="3808440"/>
              <a:ext cx="3740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7" name=""/>
            <p:cNvGrpSpPr/>
            <p:nvPr/>
          </p:nvGrpSpPr>
          <p:grpSpPr>
            <a:xfrm>
              <a:off x="651240" y="3609720"/>
              <a:ext cx="1497240" cy="395280"/>
              <a:chOff x="651240" y="3609720"/>
              <a:chExt cx="1497240" cy="395280"/>
            </a:xfrm>
          </p:grpSpPr>
          <p:sp>
            <p:nvSpPr>
              <p:cNvPr id="728" name=""/>
              <p:cNvSpPr/>
              <p:nvPr/>
            </p:nvSpPr>
            <p:spPr>
              <a:xfrm>
                <a:off x="651240" y="3609720"/>
                <a:ext cx="1497240" cy="395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6" y="9980"/>
                    </a:moveTo>
                    <a:lnTo>
                      <a:pt x="9986" y="19959"/>
                    </a:lnTo>
                    <a:lnTo>
                      <a:pt x="0" y="9980"/>
                    </a:lnTo>
                    <a:lnTo>
                      <a:pt x="9986" y="0"/>
                    </a:lnTo>
                    <a:lnTo>
                      <a:pt x="19986" y="998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99640" y="3762000"/>
                <a:ext cx="999360" cy="1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0" name=""/>
            <p:cNvGrpSpPr/>
            <p:nvPr/>
          </p:nvGrpSpPr>
          <p:grpSpPr>
            <a:xfrm>
              <a:off x="2647440" y="3722040"/>
              <a:ext cx="1414080" cy="170280"/>
              <a:chOff x="2647440" y="3722040"/>
              <a:chExt cx="1414080" cy="170280"/>
            </a:xfrm>
          </p:grpSpPr>
          <p:sp>
            <p:nvSpPr>
              <p:cNvPr id="731" name=""/>
              <p:cNvSpPr/>
              <p:nvPr/>
            </p:nvSpPr>
            <p:spPr>
              <a:xfrm>
                <a:off x="2688840" y="3762000"/>
                <a:ext cx="1329840" cy="12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ase b action(s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2647440" y="3722040"/>
                <a:ext cx="1414080" cy="170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5" y="0"/>
                    </a:moveTo>
                    <a:lnTo>
                      <a:pt x="19985" y="19906"/>
                    </a:lnTo>
                    <a:lnTo>
                      <a:pt x="0" y="19906"/>
                    </a:lnTo>
                    <a:lnTo>
                      <a:pt x="0" y="0"/>
                    </a:lnTo>
                    <a:lnTo>
                      <a:pt x="19985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4561200" y="3722040"/>
              <a:ext cx="1372320" cy="170280"/>
              <a:chOff x="4561200" y="3722040"/>
              <a:chExt cx="1372320" cy="170280"/>
            </a:xfrm>
          </p:grpSpPr>
          <p:sp>
            <p:nvSpPr>
              <p:cNvPr id="734" name=""/>
              <p:cNvSpPr/>
              <p:nvPr/>
            </p:nvSpPr>
            <p:spPr>
              <a:xfrm>
                <a:off x="4601520" y="3762000"/>
                <a:ext cx="1290240" cy="12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brea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4561200" y="3722040"/>
                <a:ext cx="1372320" cy="170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5" y="0"/>
                    </a:moveTo>
                    <a:lnTo>
                      <a:pt x="19985" y="19906"/>
                    </a:lnTo>
                    <a:lnTo>
                      <a:pt x="0" y="19906"/>
                    </a:lnTo>
                    <a:lnTo>
                      <a:pt x="0" y="0"/>
                    </a:lnTo>
                    <a:lnTo>
                      <a:pt x="19985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6" name=""/>
            <p:cNvSpPr/>
            <p:nvPr/>
          </p:nvSpPr>
          <p:spPr>
            <a:xfrm>
              <a:off x="1524240" y="3262320"/>
              <a:ext cx="54036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al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400040" y="6167520"/>
              <a:ext cx="360" cy="2869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44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524240" y="5619960"/>
              <a:ext cx="54036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al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400040" y="4829400"/>
              <a:ext cx="360" cy="385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58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148840" y="5412960"/>
              <a:ext cx="49860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061880" y="5412960"/>
              <a:ext cx="49932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933880" y="5412960"/>
              <a:ext cx="3740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3" name=""/>
            <p:cNvGrpSpPr/>
            <p:nvPr/>
          </p:nvGrpSpPr>
          <p:grpSpPr>
            <a:xfrm>
              <a:off x="651240" y="5214600"/>
              <a:ext cx="1497240" cy="394560"/>
              <a:chOff x="651240" y="5214600"/>
              <a:chExt cx="1497240" cy="394560"/>
            </a:xfrm>
          </p:grpSpPr>
          <p:sp>
            <p:nvSpPr>
              <p:cNvPr id="744" name=""/>
              <p:cNvSpPr/>
              <p:nvPr/>
            </p:nvSpPr>
            <p:spPr>
              <a:xfrm>
                <a:off x="651240" y="5214600"/>
                <a:ext cx="1497240" cy="394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6" y="9980"/>
                    </a:moveTo>
                    <a:lnTo>
                      <a:pt x="9986" y="19959"/>
                    </a:lnTo>
                    <a:lnTo>
                      <a:pt x="0" y="9980"/>
                    </a:lnTo>
                    <a:lnTo>
                      <a:pt x="9986" y="0"/>
                    </a:lnTo>
                    <a:lnTo>
                      <a:pt x="19986" y="998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899640" y="5366520"/>
                <a:ext cx="999360" cy="12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z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6" name=""/>
            <p:cNvGrpSpPr/>
            <p:nvPr/>
          </p:nvGrpSpPr>
          <p:grpSpPr>
            <a:xfrm>
              <a:off x="2647440" y="5327280"/>
              <a:ext cx="1414080" cy="170280"/>
              <a:chOff x="2647440" y="5327280"/>
              <a:chExt cx="1414080" cy="170280"/>
            </a:xfrm>
          </p:grpSpPr>
          <p:sp>
            <p:nvSpPr>
              <p:cNvPr id="747" name=""/>
              <p:cNvSpPr/>
              <p:nvPr/>
            </p:nvSpPr>
            <p:spPr>
              <a:xfrm>
                <a:off x="2688840" y="5367240"/>
                <a:ext cx="1329840" cy="12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ase z action(s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647440" y="5327280"/>
                <a:ext cx="1414080" cy="170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5" y="0"/>
                    </a:moveTo>
                    <a:lnTo>
                      <a:pt x="19985" y="19906"/>
                    </a:lnTo>
                    <a:lnTo>
                      <a:pt x="0" y="19906"/>
                    </a:lnTo>
                    <a:lnTo>
                      <a:pt x="0" y="0"/>
                    </a:lnTo>
                    <a:lnTo>
                      <a:pt x="19985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9" name=""/>
            <p:cNvGrpSpPr/>
            <p:nvPr/>
          </p:nvGrpSpPr>
          <p:grpSpPr>
            <a:xfrm>
              <a:off x="4561200" y="5327280"/>
              <a:ext cx="1372320" cy="170280"/>
              <a:chOff x="4561200" y="5327280"/>
              <a:chExt cx="1372320" cy="170280"/>
            </a:xfrm>
          </p:grpSpPr>
          <p:sp>
            <p:nvSpPr>
              <p:cNvPr id="750" name=""/>
              <p:cNvSpPr/>
              <p:nvPr/>
            </p:nvSpPr>
            <p:spPr>
              <a:xfrm>
                <a:off x="4601520" y="5367240"/>
                <a:ext cx="1290240" cy="12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brea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4561200" y="5327280"/>
                <a:ext cx="1372320" cy="170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5" y="0"/>
                    </a:moveTo>
                    <a:lnTo>
                      <a:pt x="19985" y="19906"/>
                    </a:lnTo>
                    <a:lnTo>
                      <a:pt x="0" y="19906"/>
                    </a:lnTo>
                    <a:lnTo>
                      <a:pt x="0" y="0"/>
                    </a:lnTo>
                    <a:lnTo>
                      <a:pt x="19985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2" name=""/>
            <p:cNvSpPr/>
            <p:nvPr/>
          </p:nvSpPr>
          <p:spPr>
            <a:xfrm>
              <a:off x="2101680" y="3647880"/>
              <a:ext cx="44208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101680" y="5250600"/>
              <a:ext cx="44208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400040" y="5609520"/>
              <a:ext cx="360" cy="385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58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5" name=""/>
            <p:cNvGrpSpPr/>
            <p:nvPr/>
          </p:nvGrpSpPr>
          <p:grpSpPr>
            <a:xfrm>
              <a:off x="609480" y="5995080"/>
              <a:ext cx="1580400" cy="170280"/>
              <a:chOff x="609480" y="5995080"/>
              <a:chExt cx="1580400" cy="170280"/>
            </a:xfrm>
          </p:grpSpPr>
          <p:sp>
            <p:nvSpPr>
              <p:cNvPr id="756" name=""/>
              <p:cNvSpPr/>
              <p:nvPr/>
            </p:nvSpPr>
            <p:spPr>
              <a:xfrm>
                <a:off x="655920" y="6035040"/>
                <a:ext cx="1486080" cy="12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default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ction(s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609480" y="5995080"/>
                <a:ext cx="1580400" cy="170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7" y="0"/>
                    </a:moveTo>
                    <a:lnTo>
                      <a:pt x="19987" y="19906"/>
                    </a:lnTo>
                    <a:lnTo>
                      <a:pt x="0" y="19906"/>
                    </a:lnTo>
                    <a:lnTo>
                      <a:pt x="0" y="0"/>
                    </a:lnTo>
                    <a:lnTo>
                      <a:pt x="19987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58" name=""/>
          <p:cNvSpPr/>
          <p:nvPr/>
        </p:nvSpPr>
        <p:spPr>
          <a:xfrm>
            <a:off x="0" y="387360"/>
            <a:ext cx="5486400" cy="39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0" y="2932200"/>
            <a:ext cx="548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0" y="43084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F89E3-64CB-46CB-BED8-FDB7837E046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Input data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 Use switch loop to updat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762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763" name=""/>
            <p:cNvGrpSpPr/>
            <p:nvPr/>
          </p:nvGrpSpPr>
          <p:grpSpPr>
            <a:xfrm>
              <a:off x="0" y="0"/>
              <a:ext cx="6780960" cy="216720"/>
              <a:chOff x="0" y="0"/>
              <a:chExt cx="6780960" cy="216720"/>
            </a:xfrm>
          </p:grpSpPr>
          <p:sp>
            <p:nvSpPr>
              <p:cNvPr id="764" name=""/>
              <p:cNvSpPr/>
              <p:nvPr/>
            </p:nvSpPr>
            <p:spPr>
              <a:xfrm>
                <a:off x="0" y="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2.22: fig02_22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6" name=""/>
            <p:cNvGrpSpPr/>
            <p:nvPr/>
          </p:nvGrpSpPr>
          <p:grpSpPr>
            <a:xfrm>
              <a:off x="0" y="216720"/>
              <a:ext cx="6780960" cy="200880"/>
              <a:chOff x="0" y="216720"/>
              <a:chExt cx="6780960" cy="200880"/>
            </a:xfrm>
          </p:grpSpPr>
          <p:sp>
            <p:nvSpPr>
              <p:cNvPr id="767" name=""/>
              <p:cNvSpPr/>
              <p:nvPr/>
            </p:nvSpPr>
            <p:spPr>
              <a:xfrm>
                <a:off x="0" y="21672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0" y="21672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unting letter grad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9" name=""/>
            <p:cNvGrpSpPr/>
            <p:nvPr/>
          </p:nvGrpSpPr>
          <p:grpSpPr>
            <a:xfrm>
              <a:off x="0" y="417960"/>
              <a:ext cx="6780960" cy="201240"/>
              <a:chOff x="0" y="417960"/>
              <a:chExt cx="6780960" cy="201240"/>
            </a:xfrm>
          </p:grpSpPr>
          <p:sp>
            <p:nvSpPr>
              <p:cNvPr id="770" name=""/>
              <p:cNvSpPr/>
              <p:nvPr/>
            </p:nvSpPr>
            <p:spPr>
              <a:xfrm>
                <a:off x="0" y="417960"/>
                <a:ext cx="6780960" cy="201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0" y="417960"/>
                <a:ext cx="6780960" cy="201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"/>
            <p:cNvGrpSpPr/>
            <p:nvPr/>
          </p:nvGrpSpPr>
          <p:grpSpPr>
            <a:xfrm>
              <a:off x="0" y="619200"/>
              <a:ext cx="6780960" cy="200880"/>
              <a:chOff x="0" y="619200"/>
              <a:chExt cx="6780960" cy="200880"/>
            </a:xfrm>
          </p:grpSpPr>
          <p:sp>
            <p:nvSpPr>
              <p:cNvPr id="773" name=""/>
              <p:cNvSpPr/>
              <p:nvPr/>
            </p:nvSpPr>
            <p:spPr>
              <a:xfrm>
                <a:off x="0" y="61920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0" y="61920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5" name=""/>
            <p:cNvGrpSpPr/>
            <p:nvPr/>
          </p:nvGrpSpPr>
          <p:grpSpPr>
            <a:xfrm>
              <a:off x="0" y="820440"/>
              <a:ext cx="6780960" cy="200880"/>
              <a:chOff x="0" y="820440"/>
              <a:chExt cx="6780960" cy="200880"/>
            </a:xfrm>
          </p:grpSpPr>
          <p:sp>
            <p:nvSpPr>
              <p:cNvPr id="776" name=""/>
              <p:cNvSpPr/>
              <p:nvPr/>
            </p:nvSpPr>
            <p:spPr>
              <a:xfrm>
                <a:off x="0" y="82044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0" y="82044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8" name=""/>
            <p:cNvGrpSpPr/>
            <p:nvPr/>
          </p:nvGrpSpPr>
          <p:grpSpPr>
            <a:xfrm>
              <a:off x="0" y="1021680"/>
              <a:ext cx="6780960" cy="200880"/>
              <a:chOff x="0" y="1021680"/>
              <a:chExt cx="6780960" cy="200880"/>
            </a:xfrm>
          </p:grpSpPr>
          <p:sp>
            <p:nvSpPr>
              <p:cNvPr id="779" name=""/>
              <p:cNvSpPr/>
              <p:nvPr/>
            </p:nvSpPr>
            <p:spPr>
              <a:xfrm>
                <a:off x="0" y="102168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0" y="102168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i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1" name=""/>
            <p:cNvGrpSpPr/>
            <p:nvPr/>
          </p:nvGrpSpPr>
          <p:grpSpPr>
            <a:xfrm>
              <a:off x="0" y="1222920"/>
              <a:ext cx="6780960" cy="201240"/>
              <a:chOff x="0" y="1222920"/>
              <a:chExt cx="6780960" cy="201240"/>
            </a:xfrm>
          </p:grpSpPr>
          <p:sp>
            <p:nvSpPr>
              <p:cNvPr id="782" name=""/>
              <p:cNvSpPr/>
              <p:nvPr/>
            </p:nvSpPr>
            <p:spPr>
              <a:xfrm>
                <a:off x="0" y="1222920"/>
                <a:ext cx="6780960" cy="201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0" y="1222920"/>
                <a:ext cx="6780960" cy="201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4" name=""/>
            <p:cNvGrpSpPr/>
            <p:nvPr/>
          </p:nvGrpSpPr>
          <p:grpSpPr>
            <a:xfrm>
              <a:off x="0" y="1424160"/>
              <a:ext cx="6780960" cy="200880"/>
              <a:chOff x="0" y="1424160"/>
              <a:chExt cx="6780960" cy="200880"/>
            </a:xfrm>
          </p:grpSpPr>
          <p:sp>
            <p:nvSpPr>
              <p:cNvPr id="785" name=""/>
              <p:cNvSpPr/>
              <p:nvPr/>
            </p:nvSpPr>
            <p:spPr>
              <a:xfrm>
                <a:off x="0" y="142416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2416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7" name=""/>
            <p:cNvGrpSpPr/>
            <p:nvPr/>
          </p:nvGrpSpPr>
          <p:grpSpPr>
            <a:xfrm>
              <a:off x="0" y="1625400"/>
              <a:ext cx="6780960" cy="200880"/>
              <a:chOff x="0" y="1625400"/>
              <a:chExt cx="6780960" cy="200880"/>
            </a:xfrm>
          </p:grpSpPr>
          <p:sp>
            <p:nvSpPr>
              <p:cNvPr id="788" name=""/>
              <p:cNvSpPr/>
              <p:nvPr/>
            </p:nvSpPr>
            <p:spPr>
              <a:xfrm>
                <a:off x="0" y="162540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0" y="162540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0" name=""/>
            <p:cNvGrpSpPr/>
            <p:nvPr/>
          </p:nvGrpSpPr>
          <p:grpSpPr>
            <a:xfrm>
              <a:off x="0" y="1826640"/>
              <a:ext cx="6780960" cy="200880"/>
              <a:chOff x="0" y="1826640"/>
              <a:chExt cx="6780960" cy="200880"/>
            </a:xfrm>
          </p:grpSpPr>
          <p:sp>
            <p:nvSpPr>
              <p:cNvPr id="791" name=""/>
              <p:cNvSpPr/>
              <p:nvPr/>
            </p:nvSpPr>
            <p:spPr>
              <a:xfrm>
                <a:off x="0" y="182664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0" y="182664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3" name=""/>
            <p:cNvGrpSpPr/>
            <p:nvPr/>
          </p:nvGrpSpPr>
          <p:grpSpPr>
            <a:xfrm>
              <a:off x="0" y="2027880"/>
              <a:ext cx="6780960" cy="200880"/>
              <a:chOff x="0" y="2027880"/>
              <a:chExt cx="6780960" cy="200880"/>
            </a:xfrm>
          </p:grpSpPr>
          <p:sp>
            <p:nvSpPr>
              <p:cNvPr id="794" name=""/>
              <p:cNvSpPr/>
              <p:nvPr/>
            </p:nvSpPr>
            <p:spPr>
              <a:xfrm>
                <a:off x="0" y="202788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0" y="202788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grade,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one grad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6" name=""/>
            <p:cNvGrpSpPr/>
            <p:nvPr/>
          </p:nvGrpSpPr>
          <p:grpSpPr>
            <a:xfrm>
              <a:off x="0" y="2229120"/>
              <a:ext cx="6780960" cy="201240"/>
              <a:chOff x="0" y="2229120"/>
              <a:chExt cx="6780960" cy="201240"/>
            </a:xfrm>
          </p:grpSpPr>
          <p:sp>
            <p:nvSpPr>
              <p:cNvPr id="797" name=""/>
              <p:cNvSpPr/>
              <p:nvPr/>
            </p:nvSpPr>
            <p:spPr>
              <a:xfrm>
                <a:off x="0" y="2229120"/>
                <a:ext cx="6780960" cy="201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0" y="2229120"/>
                <a:ext cx="6780960" cy="201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aCount = 0,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number of A'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9" name=""/>
            <p:cNvGrpSpPr/>
            <p:nvPr/>
          </p:nvGrpSpPr>
          <p:grpSpPr>
            <a:xfrm>
              <a:off x="0" y="2430360"/>
              <a:ext cx="6780960" cy="200880"/>
              <a:chOff x="0" y="2430360"/>
              <a:chExt cx="6780960" cy="200880"/>
            </a:xfrm>
          </p:grpSpPr>
          <p:sp>
            <p:nvSpPr>
              <p:cNvPr id="800" name=""/>
              <p:cNvSpPr/>
              <p:nvPr/>
            </p:nvSpPr>
            <p:spPr>
              <a:xfrm>
                <a:off x="0" y="243036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243036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bCount = 0,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number of B'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0" y="2631600"/>
              <a:ext cx="6780960" cy="200880"/>
              <a:chOff x="0" y="2631600"/>
              <a:chExt cx="6780960" cy="200880"/>
            </a:xfrm>
          </p:grpSpPr>
          <p:sp>
            <p:nvSpPr>
              <p:cNvPr id="803" name=""/>
              <p:cNvSpPr/>
              <p:nvPr/>
            </p:nvSpPr>
            <p:spPr>
              <a:xfrm>
                <a:off x="0" y="263160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0" y="263160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cCount = 0,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number of C'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0" y="2832840"/>
              <a:ext cx="6780960" cy="200880"/>
              <a:chOff x="0" y="2832840"/>
              <a:chExt cx="6780960" cy="200880"/>
            </a:xfrm>
          </p:grpSpPr>
          <p:sp>
            <p:nvSpPr>
              <p:cNvPr id="806" name=""/>
              <p:cNvSpPr/>
              <p:nvPr/>
            </p:nvSpPr>
            <p:spPr>
              <a:xfrm>
                <a:off x="0" y="283284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0" y="283284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dCount = 0,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number of D'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0" y="3034080"/>
              <a:ext cx="6780960" cy="201240"/>
              <a:chOff x="0" y="3034080"/>
              <a:chExt cx="6780960" cy="201240"/>
            </a:xfrm>
          </p:grpSpPr>
          <p:sp>
            <p:nvSpPr>
              <p:cNvPr id="809" name=""/>
              <p:cNvSpPr/>
              <p:nvPr/>
            </p:nvSpPr>
            <p:spPr>
              <a:xfrm>
                <a:off x="0" y="3034080"/>
                <a:ext cx="6780960" cy="201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0" y="3034080"/>
                <a:ext cx="6780960" cy="201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fCount = 0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number of F'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0" y="3235680"/>
              <a:ext cx="6780960" cy="200880"/>
              <a:chOff x="0" y="3235680"/>
              <a:chExt cx="6780960" cy="200880"/>
            </a:xfrm>
          </p:grpSpPr>
          <p:sp>
            <p:nvSpPr>
              <p:cNvPr id="812" name=""/>
              <p:cNvSpPr/>
              <p:nvPr/>
            </p:nvSpPr>
            <p:spPr>
              <a:xfrm>
                <a:off x="0" y="323568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0" y="323568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4" name=""/>
            <p:cNvGrpSpPr/>
            <p:nvPr/>
          </p:nvGrpSpPr>
          <p:grpSpPr>
            <a:xfrm>
              <a:off x="0" y="3436920"/>
              <a:ext cx="6780960" cy="200880"/>
              <a:chOff x="0" y="3436920"/>
              <a:chExt cx="6780960" cy="200880"/>
            </a:xfrm>
          </p:grpSpPr>
          <p:sp>
            <p:nvSpPr>
              <p:cNvPr id="815" name=""/>
              <p:cNvSpPr/>
              <p:nvPr/>
            </p:nvSpPr>
            <p:spPr>
              <a:xfrm>
                <a:off x="0" y="343692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343692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Enter the letter grades." &lt;&lt; end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7" name=""/>
            <p:cNvGrpSpPr/>
            <p:nvPr/>
          </p:nvGrpSpPr>
          <p:grpSpPr>
            <a:xfrm>
              <a:off x="0" y="3637800"/>
              <a:ext cx="6780960" cy="200880"/>
              <a:chOff x="0" y="3637800"/>
              <a:chExt cx="6780960" cy="200880"/>
            </a:xfrm>
          </p:grpSpPr>
          <p:sp>
            <p:nvSpPr>
              <p:cNvPr id="818" name=""/>
              <p:cNvSpPr/>
              <p:nvPr/>
            </p:nvSpPr>
            <p:spPr>
              <a:xfrm>
                <a:off x="0" y="363780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0" y="363780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Enter the EOF character to end input.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0" name=""/>
            <p:cNvGrpSpPr/>
            <p:nvPr/>
          </p:nvGrpSpPr>
          <p:grpSpPr>
            <a:xfrm>
              <a:off x="0" y="3839040"/>
              <a:ext cx="6780960" cy="201240"/>
              <a:chOff x="0" y="3839040"/>
              <a:chExt cx="6780960" cy="201240"/>
            </a:xfrm>
          </p:grpSpPr>
          <p:sp>
            <p:nvSpPr>
              <p:cNvPr id="821" name=""/>
              <p:cNvSpPr/>
              <p:nvPr/>
            </p:nvSpPr>
            <p:spPr>
              <a:xfrm>
                <a:off x="0" y="3839040"/>
                <a:ext cx="6780960" cy="201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0" y="3839040"/>
                <a:ext cx="6780960" cy="201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3" name=""/>
            <p:cNvGrpSpPr/>
            <p:nvPr/>
          </p:nvGrpSpPr>
          <p:grpSpPr>
            <a:xfrm>
              <a:off x="0" y="4040640"/>
              <a:ext cx="6780960" cy="200880"/>
              <a:chOff x="0" y="4040640"/>
              <a:chExt cx="6780960" cy="200880"/>
            </a:xfrm>
          </p:grpSpPr>
          <p:sp>
            <p:nvSpPr>
              <p:cNvPr id="824" name=""/>
              <p:cNvSpPr/>
              <p:nvPr/>
            </p:nvSpPr>
            <p:spPr>
              <a:xfrm>
                <a:off x="0" y="404064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0" y="404064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whi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( grade = cin.get() ) != EOF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6" name=""/>
            <p:cNvGrpSpPr/>
            <p:nvPr/>
          </p:nvGrpSpPr>
          <p:grpSpPr>
            <a:xfrm>
              <a:off x="0" y="4241880"/>
              <a:ext cx="6780960" cy="200880"/>
              <a:chOff x="0" y="4241880"/>
              <a:chExt cx="6780960" cy="200880"/>
            </a:xfrm>
          </p:grpSpPr>
          <p:sp>
            <p:nvSpPr>
              <p:cNvPr id="827" name=""/>
              <p:cNvSpPr/>
              <p:nvPr/>
            </p:nvSpPr>
            <p:spPr>
              <a:xfrm>
                <a:off x="0" y="424188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0" y="424188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9" name=""/>
            <p:cNvGrpSpPr/>
            <p:nvPr/>
          </p:nvGrpSpPr>
          <p:grpSpPr>
            <a:xfrm>
              <a:off x="0" y="4443120"/>
              <a:ext cx="6780960" cy="200880"/>
              <a:chOff x="0" y="4443120"/>
              <a:chExt cx="6780960" cy="200880"/>
            </a:xfrm>
          </p:grpSpPr>
          <p:sp>
            <p:nvSpPr>
              <p:cNvPr id="830" name=""/>
              <p:cNvSpPr/>
              <p:nvPr/>
            </p:nvSpPr>
            <p:spPr>
              <a:xfrm>
                <a:off x="0" y="444312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0" y="444312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witch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grade ) {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switch nested in whi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2" name=""/>
            <p:cNvGrpSpPr/>
            <p:nvPr/>
          </p:nvGrpSpPr>
          <p:grpSpPr>
            <a:xfrm>
              <a:off x="0" y="4644360"/>
              <a:ext cx="6780960" cy="201240"/>
              <a:chOff x="0" y="4644360"/>
              <a:chExt cx="6780960" cy="201240"/>
            </a:xfrm>
          </p:grpSpPr>
          <p:sp>
            <p:nvSpPr>
              <p:cNvPr id="833" name=""/>
              <p:cNvSpPr/>
              <p:nvPr/>
            </p:nvSpPr>
            <p:spPr>
              <a:xfrm>
                <a:off x="0" y="4644360"/>
                <a:ext cx="6780960" cy="201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0" y="4644360"/>
                <a:ext cx="6780960" cy="201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5" name=""/>
            <p:cNvGrpSpPr/>
            <p:nvPr/>
          </p:nvGrpSpPr>
          <p:grpSpPr>
            <a:xfrm>
              <a:off x="0" y="4845600"/>
              <a:ext cx="6780960" cy="200880"/>
              <a:chOff x="0" y="4845600"/>
              <a:chExt cx="6780960" cy="200880"/>
            </a:xfrm>
          </p:grpSpPr>
          <p:sp>
            <p:nvSpPr>
              <p:cNvPr id="836" name=""/>
              <p:cNvSpPr/>
              <p:nvPr/>
            </p:nvSpPr>
            <p:spPr>
              <a:xfrm>
                <a:off x="0" y="484560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484560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'A':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rade was uppercase 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8" name=""/>
            <p:cNvGrpSpPr/>
            <p:nvPr/>
          </p:nvGrpSpPr>
          <p:grpSpPr>
            <a:xfrm>
              <a:off x="0" y="5046840"/>
              <a:ext cx="6780960" cy="200880"/>
              <a:chOff x="0" y="5046840"/>
              <a:chExt cx="6780960" cy="200880"/>
            </a:xfrm>
          </p:grpSpPr>
          <p:sp>
            <p:nvSpPr>
              <p:cNvPr id="839" name=""/>
              <p:cNvSpPr/>
              <p:nvPr/>
            </p:nvSpPr>
            <p:spPr>
              <a:xfrm>
                <a:off x="0" y="504684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0" y="504684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'a':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or lowercase 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1" name=""/>
            <p:cNvGrpSpPr/>
            <p:nvPr/>
          </p:nvGrpSpPr>
          <p:grpSpPr>
            <a:xfrm>
              <a:off x="0" y="5248080"/>
              <a:ext cx="6780960" cy="200880"/>
              <a:chOff x="0" y="5248080"/>
              <a:chExt cx="6780960" cy="200880"/>
            </a:xfrm>
          </p:grpSpPr>
          <p:sp>
            <p:nvSpPr>
              <p:cNvPr id="842" name=""/>
              <p:cNvSpPr/>
              <p:nvPr/>
            </p:nvSpPr>
            <p:spPr>
              <a:xfrm>
                <a:off x="0" y="524808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0" y="524808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++aCount;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4" name=""/>
            <p:cNvGrpSpPr/>
            <p:nvPr/>
          </p:nvGrpSpPr>
          <p:grpSpPr>
            <a:xfrm>
              <a:off x="0" y="5449320"/>
              <a:ext cx="6780960" cy="200880"/>
              <a:chOff x="0" y="5449320"/>
              <a:chExt cx="6780960" cy="200880"/>
            </a:xfrm>
          </p:grpSpPr>
          <p:sp>
            <p:nvSpPr>
              <p:cNvPr id="845" name=""/>
              <p:cNvSpPr/>
              <p:nvPr/>
            </p:nvSpPr>
            <p:spPr>
              <a:xfrm>
                <a:off x="0" y="544932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0" y="544932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break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necessary to exit switc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7" name=""/>
            <p:cNvGrpSpPr/>
            <p:nvPr/>
          </p:nvGrpSpPr>
          <p:grpSpPr>
            <a:xfrm>
              <a:off x="0" y="5650560"/>
              <a:ext cx="6780960" cy="201240"/>
              <a:chOff x="0" y="5650560"/>
              <a:chExt cx="6780960" cy="201240"/>
            </a:xfrm>
          </p:grpSpPr>
          <p:sp>
            <p:nvSpPr>
              <p:cNvPr id="848" name=""/>
              <p:cNvSpPr/>
              <p:nvPr/>
            </p:nvSpPr>
            <p:spPr>
              <a:xfrm>
                <a:off x="0" y="5650560"/>
                <a:ext cx="6780960" cy="201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0" y="5650560"/>
                <a:ext cx="6780960" cy="201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"/>
            <p:cNvGrpSpPr/>
            <p:nvPr/>
          </p:nvGrpSpPr>
          <p:grpSpPr>
            <a:xfrm>
              <a:off x="0" y="5851800"/>
              <a:ext cx="6780960" cy="200880"/>
              <a:chOff x="0" y="5851800"/>
              <a:chExt cx="6780960" cy="200880"/>
            </a:xfrm>
          </p:grpSpPr>
          <p:sp>
            <p:nvSpPr>
              <p:cNvPr id="851" name=""/>
              <p:cNvSpPr/>
              <p:nvPr/>
            </p:nvSpPr>
            <p:spPr>
              <a:xfrm>
                <a:off x="0" y="585180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585180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'B':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rade was uppercase 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3" name=""/>
            <p:cNvGrpSpPr/>
            <p:nvPr/>
          </p:nvGrpSpPr>
          <p:grpSpPr>
            <a:xfrm>
              <a:off x="0" y="6053040"/>
              <a:ext cx="6780960" cy="200880"/>
              <a:chOff x="0" y="6053040"/>
              <a:chExt cx="6780960" cy="200880"/>
            </a:xfrm>
          </p:grpSpPr>
          <p:sp>
            <p:nvSpPr>
              <p:cNvPr id="854" name=""/>
              <p:cNvSpPr/>
              <p:nvPr/>
            </p:nvSpPr>
            <p:spPr>
              <a:xfrm>
                <a:off x="0" y="605304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0" y="605304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'b':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or lowercase 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6" name=""/>
            <p:cNvGrpSpPr/>
            <p:nvPr/>
          </p:nvGrpSpPr>
          <p:grpSpPr>
            <a:xfrm>
              <a:off x="0" y="6254280"/>
              <a:ext cx="6780960" cy="200880"/>
              <a:chOff x="0" y="6254280"/>
              <a:chExt cx="6780960" cy="200880"/>
            </a:xfrm>
          </p:grpSpPr>
          <p:sp>
            <p:nvSpPr>
              <p:cNvPr id="857" name=""/>
              <p:cNvSpPr/>
              <p:nvPr/>
            </p:nvSpPr>
            <p:spPr>
              <a:xfrm>
                <a:off x="0" y="625428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0" y="625428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++bCount;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9" name=""/>
            <p:cNvGrpSpPr/>
            <p:nvPr/>
          </p:nvGrpSpPr>
          <p:grpSpPr>
            <a:xfrm>
              <a:off x="0" y="6455520"/>
              <a:ext cx="6780960" cy="201240"/>
              <a:chOff x="0" y="6455520"/>
              <a:chExt cx="6780960" cy="201240"/>
            </a:xfrm>
          </p:grpSpPr>
          <p:sp>
            <p:nvSpPr>
              <p:cNvPr id="860" name=""/>
              <p:cNvSpPr/>
              <p:nvPr/>
            </p:nvSpPr>
            <p:spPr>
              <a:xfrm>
                <a:off x="0" y="6455520"/>
                <a:ext cx="6780960" cy="201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0" y="6455520"/>
                <a:ext cx="6780960" cy="201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break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6656760"/>
              <a:ext cx="6780960" cy="200880"/>
              <a:chOff x="0" y="6656760"/>
              <a:chExt cx="6780960" cy="20088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665676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0" y="6656760"/>
                <a:ext cx="6780960" cy="20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65" name=""/>
          <p:cNvGrpSpPr/>
          <p:nvPr/>
        </p:nvGrpSpPr>
        <p:grpSpPr>
          <a:xfrm>
            <a:off x="1980720" y="4267080"/>
            <a:ext cx="4420080" cy="533160"/>
            <a:chOff x="1980720" y="4267080"/>
            <a:chExt cx="4420080" cy="533160"/>
          </a:xfrm>
        </p:grpSpPr>
        <p:sp>
          <p:nvSpPr>
            <p:cNvPr id="866" name=""/>
            <p:cNvSpPr/>
            <p:nvPr/>
          </p:nvSpPr>
          <p:spPr>
            <a:xfrm>
              <a:off x="2743200" y="4267080"/>
              <a:ext cx="36576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how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as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tatement is u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1980720" y="4419360"/>
              <a:ext cx="7621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FA524-E41D-43B5-AC0D-8F8E2919B5B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 Use switch loop to updat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u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Print results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869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870" name=""/>
            <p:cNvGrpSpPr/>
            <p:nvPr/>
          </p:nvGrpSpPr>
          <p:grpSpPr>
            <a:xfrm>
              <a:off x="0" y="0"/>
              <a:ext cx="6780960" cy="190440"/>
              <a:chOff x="0" y="0"/>
              <a:chExt cx="6780960" cy="190440"/>
            </a:xfrm>
          </p:grpSpPr>
          <p:sp>
            <p:nvSpPr>
              <p:cNvPr id="871" name=""/>
              <p:cNvSpPr/>
              <p:nvPr/>
            </p:nvSpPr>
            <p:spPr>
              <a:xfrm>
                <a:off x="0" y="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0" y="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'C':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rade was uppercase 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3" name=""/>
            <p:cNvGrpSpPr/>
            <p:nvPr/>
          </p:nvGrpSpPr>
          <p:grpSpPr>
            <a:xfrm>
              <a:off x="0" y="190440"/>
              <a:ext cx="6780960" cy="190440"/>
              <a:chOff x="0" y="190440"/>
              <a:chExt cx="6780960" cy="190440"/>
            </a:xfrm>
          </p:grpSpPr>
          <p:sp>
            <p:nvSpPr>
              <p:cNvPr id="874" name=""/>
              <p:cNvSpPr/>
              <p:nvPr/>
            </p:nvSpPr>
            <p:spPr>
              <a:xfrm>
                <a:off x="0" y="190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0" y="190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'c':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or lowercase 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6" name=""/>
            <p:cNvGrpSpPr/>
            <p:nvPr/>
          </p:nvGrpSpPr>
          <p:grpSpPr>
            <a:xfrm>
              <a:off x="0" y="380880"/>
              <a:ext cx="6780960" cy="190440"/>
              <a:chOff x="0" y="380880"/>
              <a:chExt cx="6780960" cy="190440"/>
            </a:xfrm>
          </p:grpSpPr>
          <p:sp>
            <p:nvSpPr>
              <p:cNvPr id="877" name=""/>
              <p:cNvSpPr/>
              <p:nvPr/>
            </p:nvSpPr>
            <p:spPr>
              <a:xfrm>
                <a:off x="0" y="380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380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++cCount;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9" name=""/>
            <p:cNvGrpSpPr/>
            <p:nvPr/>
          </p:nvGrpSpPr>
          <p:grpSpPr>
            <a:xfrm>
              <a:off x="0" y="571320"/>
              <a:ext cx="6780960" cy="190440"/>
              <a:chOff x="0" y="571320"/>
              <a:chExt cx="6780960" cy="190440"/>
            </a:xfrm>
          </p:grpSpPr>
          <p:sp>
            <p:nvSpPr>
              <p:cNvPr id="880" name=""/>
              <p:cNvSpPr/>
              <p:nvPr/>
            </p:nvSpPr>
            <p:spPr>
              <a:xfrm>
                <a:off x="0" y="571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0" y="571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break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2" name=""/>
            <p:cNvGrpSpPr/>
            <p:nvPr/>
          </p:nvGrpSpPr>
          <p:grpSpPr>
            <a:xfrm>
              <a:off x="0" y="761760"/>
              <a:ext cx="6780960" cy="190440"/>
              <a:chOff x="0" y="761760"/>
              <a:chExt cx="6780960" cy="190440"/>
            </a:xfrm>
          </p:grpSpPr>
          <p:sp>
            <p:nvSpPr>
              <p:cNvPr id="883" name=""/>
              <p:cNvSpPr/>
              <p:nvPr/>
            </p:nvSpPr>
            <p:spPr>
              <a:xfrm>
                <a:off x="0" y="7617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0" y="7617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5" name=""/>
            <p:cNvGrpSpPr/>
            <p:nvPr/>
          </p:nvGrpSpPr>
          <p:grpSpPr>
            <a:xfrm>
              <a:off x="0" y="952200"/>
              <a:ext cx="6780960" cy="190440"/>
              <a:chOff x="0" y="952200"/>
              <a:chExt cx="6780960" cy="190440"/>
            </a:xfrm>
          </p:grpSpPr>
          <p:sp>
            <p:nvSpPr>
              <p:cNvPr id="886" name=""/>
              <p:cNvSpPr/>
              <p:nvPr/>
            </p:nvSpPr>
            <p:spPr>
              <a:xfrm>
                <a:off x="0" y="9522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0" y="9522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'D':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rade was uppercase 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8" name=""/>
            <p:cNvGrpSpPr/>
            <p:nvPr/>
          </p:nvGrpSpPr>
          <p:grpSpPr>
            <a:xfrm>
              <a:off x="0" y="1142640"/>
              <a:ext cx="6780960" cy="190440"/>
              <a:chOff x="0" y="1142640"/>
              <a:chExt cx="6780960" cy="190440"/>
            </a:xfrm>
          </p:grpSpPr>
          <p:sp>
            <p:nvSpPr>
              <p:cNvPr id="889" name=""/>
              <p:cNvSpPr/>
              <p:nvPr/>
            </p:nvSpPr>
            <p:spPr>
              <a:xfrm>
                <a:off x="0" y="11426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0" y="11426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'd':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or lowercase 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1" name=""/>
            <p:cNvGrpSpPr/>
            <p:nvPr/>
          </p:nvGrpSpPr>
          <p:grpSpPr>
            <a:xfrm>
              <a:off x="0" y="1333440"/>
              <a:ext cx="6780960" cy="190440"/>
              <a:chOff x="0" y="1333440"/>
              <a:chExt cx="6780960" cy="190440"/>
            </a:xfrm>
          </p:grpSpPr>
          <p:sp>
            <p:nvSpPr>
              <p:cNvPr id="892" name=""/>
              <p:cNvSpPr/>
              <p:nvPr/>
            </p:nvSpPr>
            <p:spPr>
              <a:xfrm>
                <a:off x="0" y="1333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1333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++dCount;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4" name=""/>
            <p:cNvGrpSpPr/>
            <p:nvPr/>
          </p:nvGrpSpPr>
          <p:grpSpPr>
            <a:xfrm>
              <a:off x="0" y="1523880"/>
              <a:ext cx="6780960" cy="190440"/>
              <a:chOff x="0" y="1523880"/>
              <a:chExt cx="6780960" cy="190440"/>
            </a:xfrm>
          </p:grpSpPr>
          <p:sp>
            <p:nvSpPr>
              <p:cNvPr id="895" name=""/>
              <p:cNvSpPr/>
              <p:nvPr/>
            </p:nvSpPr>
            <p:spPr>
              <a:xfrm>
                <a:off x="0" y="1523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0" y="1523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break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7" name=""/>
            <p:cNvGrpSpPr/>
            <p:nvPr/>
          </p:nvGrpSpPr>
          <p:grpSpPr>
            <a:xfrm>
              <a:off x="0" y="1714320"/>
              <a:ext cx="6780960" cy="190440"/>
              <a:chOff x="0" y="1714320"/>
              <a:chExt cx="6780960" cy="190440"/>
            </a:xfrm>
          </p:grpSpPr>
          <p:sp>
            <p:nvSpPr>
              <p:cNvPr id="898" name=""/>
              <p:cNvSpPr/>
              <p:nvPr/>
            </p:nvSpPr>
            <p:spPr>
              <a:xfrm>
                <a:off x="0" y="1714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0" y="1714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0" name=""/>
            <p:cNvGrpSpPr/>
            <p:nvPr/>
          </p:nvGrpSpPr>
          <p:grpSpPr>
            <a:xfrm>
              <a:off x="0" y="1904760"/>
              <a:ext cx="6780960" cy="190440"/>
              <a:chOff x="0" y="1904760"/>
              <a:chExt cx="6780960" cy="190440"/>
            </a:xfrm>
          </p:grpSpPr>
          <p:sp>
            <p:nvSpPr>
              <p:cNvPr id="901" name=""/>
              <p:cNvSpPr/>
              <p:nvPr/>
            </p:nvSpPr>
            <p:spPr>
              <a:xfrm>
                <a:off x="0" y="19047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0" y="19047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'F':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grade was uppercase 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2095560"/>
              <a:ext cx="6780960" cy="190440"/>
              <a:chOff x="0" y="2095560"/>
              <a:chExt cx="6780960" cy="19044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2095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0" y="2095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'f':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or lowercase 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6" name=""/>
            <p:cNvGrpSpPr/>
            <p:nvPr/>
          </p:nvGrpSpPr>
          <p:grpSpPr>
            <a:xfrm>
              <a:off x="0" y="2286000"/>
              <a:ext cx="6780960" cy="190440"/>
              <a:chOff x="0" y="2286000"/>
              <a:chExt cx="6780960" cy="190440"/>
            </a:xfrm>
          </p:grpSpPr>
          <p:sp>
            <p:nvSpPr>
              <p:cNvPr id="907" name=""/>
              <p:cNvSpPr/>
              <p:nvPr/>
            </p:nvSpPr>
            <p:spPr>
              <a:xfrm>
                <a:off x="0" y="22860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0" y="22860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++fCount;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9" name=""/>
            <p:cNvGrpSpPr/>
            <p:nvPr/>
          </p:nvGrpSpPr>
          <p:grpSpPr>
            <a:xfrm>
              <a:off x="0" y="2476440"/>
              <a:ext cx="6780960" cy="190440"/>
              <a:chOff x="0" y="2476440"/>
              <a:chExt cx="6780960" cy="190440"/>
            </a:xfrm>
          </p:grpSpPr>
          <p:sp>
            <p:nvSpPr>
              <p:cNvPr id="910" name=""/>
              <p:cNvSpPr/>
              <p:nvPr/>
            </p:nvSpPr>
            <p:spPr>
              <a:xfrm>
                <a:off x="0" y="2476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0" y="2476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break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2" name=""/>
            <p:cNvGrpSpPr/>
            <p:nvPr/>
          </p:nvGrpSpPr>
          <p:grpSpPr>
            <a:xfrm>
              <a:off x="0" y="2666880"/>
              <a:ext cx="6780960" cy="190440"/>
              <a:chOff x="0" y="2666880"/>
              <a:chExt cx="6780960" cy="190440"/>
            </a:xfrm>
          </p:grpSpPr>
          <p:sp>
            <p:nvSpPr>
              <p:cNvPr id="913" name=""/>
              <p:cNvSpPr/>
              <p:nvPr/>
            </p:nvSpPr>
            <p:spPr>
              <a:xfrm>
                <a:off x="0" y="2666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2666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5" name=""/>
            <p:cNvGrpSpPr/>
            <p:nvPr/>
          </p:nvGrpSpPr>
          <p:grpSpPr>
            <a:xfrm>
              <a:off x="0" y="2857320"/>
              <a:ext cx="6780960" cy="190440"/>
              <a:chOff x="0" y="2857320"/>
              <a:chExt cx="6780960" cy="190440"/>
            </a:xfrm>
          </p:grpSpPr>
          <p:sp>
            <p:nvSpPr>
              <p:cNvPr id="916" name=""/>
              <p:cNvSpPr/>
              <p:nvPr/>
            </p:nvSpPr>
            <p:spPr>
              <a:xfrm>
                <a:off x="0" y="2857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0" y="2857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'\n':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ignore newlines,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8" name=""/>
            <p:cNvGrpSpPr/>
            <p:nvPr/>
          </p:nvGrpSpPr>
          <p:grpSpPr>
            <a:xfrm>
              <a:off x="0" y="3047760"/>
              <a:ext cx="6780960" cy="190440"/>
              <a:chOff x="0" y="3047760"/>
              <a:chExt cx="6780960" cy="190440"/>
            </a:xfrm>
          </p:grpSpPr>
          <p:sp>
            <p:nvSpPr>
              <p:cNvPr id="919" name=""/>
              <p:cNvSpPr/>
              <p:nvPr/>
            </p:nvSpPr>
            <p:spPr>
              <a:xfrm>
                <a:off x="0" y="30477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0" y="30477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'\t':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tabs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1" name=""/>
            <p:cNvGrpSpPr/>
            <p:nvPr/>
          </p:nvGrpSpPr>
          <p:grpSpPr>
            <a:xfrm>
              <a:off x="0" y="3238560"/>
              <a:ext cx="6780960" cy="190440"/>
              <a:chOff x="0" y="3238560"/>
              <a:chExt cx="6780960" cy="190440"/>
            </a:xfrm>
          </p:grpSpPr>
          <p:sp>
            <p:nvSpPr>
              <p:cNvPr id="922" name=""/>
              <p:cNvSpPr/>
              <p:nvPr/>
            </p:nvSpPr>
            <p:spPr>
              <a:xfrm>
                <a:off x="0" y="3238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0" y="3238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' ':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nd spaces in inpu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4" name=""/>
            <p:cNvGrpSpPr/>
            <p:nvPr/>
          </p:nvGrpSpPr>
          <p:grpSpPr>
            <a:xfrm>
              <a:off x="0" y="3429000"/>
              <a:ext cx="6780960" cy="190440"/>
              <a:chOff x="0" y="3429000"/>
              <a:chExt cx="6780960" cy="190440"/>
            </a:xfrm>
          </p:grpSpPr>
          <p:sp>
            <p:nvSpPr>
              <p:cNvPr id="925" name=""/>
              <p:cNvSpPr/>
              <p:nvPr/>
            </p:nvSpPr>
            <p:spPr>
              <a:xfrm>
                <a:off x="0" y="34290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0" y="34290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break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7" name=""/>
            <p:cNvGrpSpPr/>
            <p:nvPr/>
          </p:nvGrpSpPr>
          <p:grpSpPr>
            <a:xfrm>
              <a:off x="0" y="3619440"/>
              <a:ext cx="6780960" cy="190440"/>
              <a:chOff x="0" y="3619440"/>
              <a:chExt cx="6780960" cy="190440"/>
            </a:xfrm>
          </p:grpSpPr>
          <p:sp>
            <p:nvSpPr>
              <p:cNvPr id="928" name=""/>
              <p:cNvSpPr/>
              <p:nvPr/>
            </p:nvSpPr>
            <p:spPr>
              <a:xfrm>
                <a:off x="0" y="3619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3619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0" name=""/>
            <p:cNvGrpSpPr/>
            <p:nvPr/>
          </p:nvGrpSpPr>
          <p:grpSpPr>
            <a:xfrm>
              <a:off x="0" y="3809880"/>
              <a:ext cx="6780960" cy="190440"/>
              <a:chOff x="0" y="3809880"/>
              <a:chExt cx="6780960" cy="190440"/>
            </a:xfrm>
          </p:grpSpPr>
          <p:sp>
            <p:nvSpPr>
              <p:cNvPr id="931" name=""/>
              <p:cNvSpPr/>
              <p:nvPr/>
            </p:nvSpPr>
            <p:spPr>
              <a:xfrm>
                <a:off x="0" y="3809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0" y="3809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efaul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: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tch all other character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3" name=""/>
            <p:cNvGrpSpPr/>
            <p:nvPr/>
          </p:nvGrpSpPr>
          <p:grpSpPr>
            <a:xfrm>
              <a:off x="0" y="4000320"/>
              <a:ext cx="6780960" cy="190440"/>
              <a:chOff x="0" y="4000320"/>
              <a:chExt cx="6780960" cy="190440"/>
            </a:xfrm>
          </p:grpSpPr>
          <p:sp>
            <p:nvSpPr>
              <p:cNvPr id="934" name=""/>
              <p:cNvSpPr/>
              <p:nvPr/>
            </p:nvSpPr>
            <p:spPr>
              <a:xfrm>
                <a:off x="0" y="4000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0" y="4000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cout &lt;&lt; "Incorrect letter grade entered.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6" name=""/>
            <p:cNvGrpSpPr/>
            <p:nvPr/>
          </p:nvGrpSpPr>
          <p:grpSpPr>
            <a:xfrm>
              <a:off x="0" y="4190760"/>
              <a:ext cx="6780960" cy="190440"/>
              <a:chOff x="0" y="4190760"/>
              <a:chExt cx="6780960" cy="190440"/>
            </a:xfrm>
          </p:grpSpPr>
          <p:sp>
            <p:nvSpPr>
              <p:cNvPr id="937" name=""/>
              <p:cNvSpPr/>
              <p:nvPr/>
            </p:nvSpPr>
            <p:spPr>
              <a:xfrm>
                <a:off x="0" y="41907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0" y="41907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&lt;&lt; " Enter a new grade.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9" name=""/>
            <p:cNvGrpSpPr/>
            <p:nvPr/>
          </p:nvGrpSpPr>
          <p:grpSpPr>
            <a:xfrm>
              <a:off x="0" y="4381560"/>
              <a:ext cx="6780960" cy="190440"/>
              <a:chOff x="0" y="4381560"/>
              <a:chExt cx="6780960" cy="190440"/>
            </a:xfrm>
          </p:grpSpPr>
          <p:sp>
            <p:nvSpPr>
              <p:cNvPr id="940" name=""/>
              <p:cNvSpPr/>
              <p:nvPr/>
            </p:nvSpPr>
            <p:spPr>
              <a:xfrm>
                <a:off x="0" y="4381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0" y="4381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break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optio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2" name=""/>
            <p:cNvGrpSpPr/>
            <p:nvPr/>
          </p:nvGrpSpPr>
          <p:grpSpPr>
            <a:xfrm>
              <a:off x="0" y="4572000"/>
              <a:ext cx="6780960" cy="190440"/>
              <a:chOff x="0" y="4572000"/>
              <a:chExt cx="6780960" cy="190440"/>
            </a:xfrm>
          </p:grpSpPr>
          <p:sp>
            <p:nvSpPr>
              <p:cNvPr id="943" name=""/>
              <p:cNvSpPr/>
              <p:nvPr/>
            </p:nvSpPr>
            <p:spPr>
              <a:xfrm>
                <a:off x="0" y="45720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0" y="45720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5" name=""/>
            <p:cNvGrpSpPr/>
            <p:nvPr/>
          </p:nvGrpSpPr>
          <p:grpSpPr>
            <a:xfrm>
              <a:off x="0" y="4762440"/>
              <a:ext cx="6780960" cy="190440"/>
              <a:chOff x="0" y="4762440"/>
              <a:chExt cx="6780960" cy="190440"/>
            </a:xfrm>
          </p:grpSpPr>
          <p:sp>
            <p:nvSpPr>
              <p:cNvPr id="946" name=""/>
              <p:cNvSpPr/>
              <p:nvPr/>
            </p:nvSpPr>
            <p:spPr>
              <a:xfrm>
                <a:off x="0" y="4762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0" y="4762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8" name=""/>
            <p:cNvGrpSpPr/>
            <p:nvPr/>
          </p:nvGrpSpPr>
          <p:grpSpPr>
            <a:xfrm>
              <a:off x="0" y="4952880"/>
              <a:ext cx="6780960" cy="190440"/>
              <a:chOff x="0" y="4952880"/>
              <a:chExt cx="6780960" cy="190440"/>
            </a:xfrm>
          </p:grpSpPr>
          <p:sp>
            <p:nvSpPr>
              <p:cNvPr id="949" name=""/>
              <p:cNvSpPr/>
              <p:nvPr/>
            </p:nvSpPr>
            <p:spPr>
              <a:xfrm>
                <a:off x="0" y="4952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4952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1" name=""/>
            <p:cNvGrpSpPr/>
            <p:nvPr/>
          </p:nvGrpSpPr>
          <p:grpSpPr>
            <a:xfrm>
              <a:off x="0" y="5143320"/>
              <a:ext cx="6780960" cy="190440"/>
              <a:chOff x="0" y="5143320"/>
              <a:chExt cx="6780960" cy="190440"/>
            </a:xfrm>
          </p:grpSpPr>
          <p:sp>
            <p:nvSpPr>
              <p:cNvPr id="952" name=""/>
              <p:cNvSpPr/>
              <p:nvPr/>
            </p:nvSpPr>
            <p:spPr>
              <a:xfrm>
                <a:off x="0" y="5143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0" y="5143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\n\nTotals for each letter grade are: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4" name=""/>
            <p:cNvGrpSpPr/>
            <p:nvPr/>
          </p:nvGrpSpPr>
          <p:grpSpPr>
            <a:xfrm>
              <a:off x="0" y="5334120"/>
              <a:ext cx="6780960" cy="190440"/>
              <a:chOff x="0" y="5334120"/>
              <a:chExt cx="6780960" cy="190440"/>
            </a:xfrm>
          </p:grpSpPr>
          <p:sp>
            <p:nvSpPr>
              <p:cNvPr id="955" name=""/>
              <p:cNvSpPr/>
              <p:nvPr/>
            </p:nvSpPr>
            <p:spPr>
              <a:xfrm>
                <a:off x="0" y="53341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0" y="53341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A: " &lt;&lt; aCount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7" name=""/>
            <p:cNvGrpSpPr/>
            <p:nvPr/>
          </p:nvGrpSpPr>
          <p:grpSpPr>
            <a:xfrm>
              <a:off x="0" y="5524560"/>
              <a:ext cx="6780960" cy="190440"/>
              <a:chOff x="0" y="5524560"/>
              <a:chExt cx="6780960" cy="190440"/>
            </a:xfrm>
          </p:grpSpPr>
          <p:sp>
            <p:nvSpPr>
              <p:cNvPr id="958" name=""/>
              <p:cNvSpPr/>
              <p:nvPr/>
            </p:nvSpPr>
            <p:spPr>
              <a:xfrm>
                <a:off x="0" y="5524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0" y="5524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B: " &lt;&lt; bCount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0" name=""/>
            <p:cNvGrpSpPr/>
            <p:nvPr/>
          </p:nvGrpSpPr>
          <p:grpSpPr>
            <a:xfrm>
              <a:off x="0" y="5715000"/>
              <a:ext cx="6780960" cy="190440"/>
              <a:chOff x="0" y="5715000"/>
              <a:chExt cx="6780960" cy="190440"/>
            </a:xfrm>
          </p:grpSpPr>
          <p:sp>
            <p:nvSpPr>
              <p:cNvPr id="961" name=""/>
              <p:cNvSpPr/>
              <p:nvPr/>
            </p:nvSpPr>
            <p:spPr>
              <a:xfrm>
                <a:off x="0" y="57150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0" y="57150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C: " &lt;&lt; cCount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3" name=""/>
            <p:cNvGrpSpPr/>
            <p:nvPr/>
          </p:nvGrpSpPr>
          <p:grpSpPr>
            <a:xfrm>
              <a:off x="0" y="5905440"/>
              <a:ext cx="6780960" cy="190440"/>
              <a:chOff x="0" y="5905440"/>
              <a:chExt cx="6780960" cy="190440"/>
            </a:xfrm>
          </p:grpSpPr>
          <p:sp>
            <p:nvSpPr>
              <p:cNvPr id="964" name=""/>
              <p:cNvSpPr/>
              <p:nvPr/>
            </p:nvSpPr>
            <p:spPr>
              <a:xfrm>
                <a:off x="0" y="5905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5905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D: " &lt;&lt; dCou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6" name=""/>
            <p:cNvGrpSpPr/>
            <p:nvPr/>
          </p:nvGrpSpPr>
          <p:grpSpPr>
            <a:xfrm>
              <a:off x="0" y="6095880"/>
              <a:ext cx="6780960" cy="190440"/>
              <a:chOff x="0" y="6095880"/>
              <a:chExt cx="6780960" cy="190440"/>
            </a:xfrm>
          </p:grpSpPr>
          <p:sp>
            <p:nvSpPr>
              <p:cNvPr id="967" name=""/>
              <p:cNvSpPr/>
              <p:nvPr/>
            </p:nvSpPr>
            <p:spPr>
              <a:xfrm>
                <a:off x="0" y="6095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0" y="6095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\nF: " &lt;&lt; fCoun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9" name=""/>
            <p:cNvGrpSpPr/>
            <p:nvPr/>
          </p:nvGrpSpPr>
          <p:grpSpPr>
            <a:xfrm>
              <a:off x="0" y="6286680"/>
              <a:ext cx="6780960" cy="190440"/>
              <a:chOff x="0" y="6286680"/>
              <a:chExt cx="6780960" cy="190440"/>
            </a:xfrm>
          </p:grpSpPr>
          <p:sp>
            <p:nvSpPr>
              <p:cNvPr id="970" name=""/>
              <p:cNvSpPr/>
              <p:nvPr/>
            </p:nvSpPr>
            <p:spPr>
              <a:xfrm>
                <a:off x="0" y="62866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0" y="62866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2" name=""/>
            <p:cNvGrpSpPr/>
            <p:nvPr/>
          </p:nvGrpSpPr>
          <p:grpSpPr>
            <a:xfrm>
              <a:off x="0" y="6477120"/>
              <a:ext cx="6780960" cy="190440"/>
              <a:chOff x="0" y="6477120"/>
              <a:chExt cx="6780960" cy="190440"/>
            </a:xfrm>
          </p:grpSpPr>
          <p:sp>
            <p:nvSpPr>
              <p:cNvPr id="973" name=""/>
              <p:cNvSpPr/>
              <p:nvPr/>
            </p:nvSpPr>
            <p:spPr>
              <a:xfrm>
                <a:off x="0" y="64771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0" y="64771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5" name=""/>
            <p:cNvGrpSpPr/>
            <p:nvPr/>
          </p:nvGrpSpPr>
          <p:grpSpPr>
            <a:xfrm>
              <a:off x="0" y="6667560"/>
              <a:ext cx="6780960" cy="190440"/>
              <a:chOff x="0" y="6667560"/>
              <a:chExt cx="6780960" cy="190440"/>
            </a:xfrm>
          </p:grpSpPr>
          <p:sp>
            <p:nvSpPr>
              <p:cNvPr id="976" name=""/>
              <p:cNvSpPr/>
              <p:nvPr/>
            </p:nvSpPr>
            <p:spPr>
              <a:xfrm>
                <a:off x="0" y="6667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0" y="6667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8" name=""/>
          <p:cNvGrpSpPr/>
          <p:nvPr/>
        </p:nvGrpSpPr>
        <p:grpSpPr>
          <a:xfrm>
            <a:off x="2057400" y="990720"/>
            <a:ext cx="5257800" cy="824040"/>
            <a:chOff x="2057400" y="990720"/>
            <a:chExt cx="5257800" cy="824040"/>
          </a:xfrm>
        </p:grpSpPr>
        <p:sp>
          <p:nvSpPr>
            <p:cNvPr id="979" name=""/>
            <p:cNvSpPr/>
            <p:nvPr/>
          </p:nvSpPr>
          <p:spPr>
            <a:xfrm>
              <a:off x="3886200" y="990720"/>
              <a:ext cx="3429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reak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uses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witch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o end and the program continues with the first statement after the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witch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ructur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 flipH="1">
              <a:off x="2057400" y="1447920"/>
              <a:ext cx="1828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1" name=""/>
          <p:cNvGrpSpPr/>
          <p:nvPr/>
        </p:nvGrpSpPr>
        <p:grpSpPr>
          <a:xfrm>
            <a:off x="1981080" y="3200400"/>
            <a:ext cx="5257800" cy="685800"/>
            <a:chOff x="1981080" y="3200400"/>
            <a:chExt cx="5257800" cy="685800"/>
          </a:xfrm>
        </p:grpSpPr>
        <p:sp>
          <p:nvSpPr>
            <p:cNvPr id="982" name=""/>
            <p:cNvSpPr/>
            <p:nvPr/>
          </p:nvSpPr>
          <p:spPr>
            <a:xfrm flipH="1">
              <a:off x="1981080" y="3429000"/>
              <a:ext cx="19814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809880" y="3200400"/>
              <a:ext cx="34290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faul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tate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855EA-B3A3-4DED-9526-1BCE17936DA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85" name=""/>
          <p:cNvSpPr/>
          <p:nvPr/>
        </p:nvSpPr>
        <p:spPr>
          <a:xfrm>
            <a:off x="0" y="0"/>
            <a:ext cx="6781680" cy="4656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the letter gra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the EOF character to end inp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correct letter grade entered. Enter a new gra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otals for each letter grade ar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: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: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: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: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2F974-100C-4655-95ED-5421D25D18C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17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The do/while Repetition Structu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o/wh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petition structure is similar to 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ructur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dition for repetition tested after the body of the loop is execu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while ( condition 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(letting counter = 1)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counter &lt;&lt; " 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while (++counter &lt;= 1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is prints the integers from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actions are performed at least o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8" name=""/>
          <p:cNvGrpSpPr/>
          <p:nvPr/>
        </p:nvGrpSpPr>
        <p:grpSpPr>
          <a:xfrm>
            <a:off x="5715000" y="3124080"/>
            <a:ext cx="2742840" cy="3276000"/>
            <a:chOff x="5715000" y="3124080"/>
            <a:chExt cx="2742840" cy="3276000"/>
          </a:xfrm>
        </p:grpSpPr>
        <p:sp>
          <p:nvSpPr>
            <p:cNvPr id="989" name=""/>
            <p:cNvSpPr/>
            <p:nvPr/>
          </p:nvSpPr>
          <p:spPr>
            <a:xfrm>
              <a:off x="6738120" y="3288960"/>
              <a:ext cx="360" cy="6624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58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652800" y="3124080"/>
              <a:ext cx="170640" cy="16488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7775280" y="4917240"/>
              <a:ext cx="6040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6738120" y="5572800"/>
              <a:ext cx="360" cy="6613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58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738120" y="4227480"/>
              <a:ext cx="360" cy="6613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58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652800" y="6234480"/>
              <a:ext cx="170640" cy="16560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809040" y="5578920"/>
              <a:ext cx="73872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al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775280" y="5230800"/>
              <a:ext cx="68220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8457480" y="3644640"/>
              <a:ext cx="360" cy="1585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8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751800" y="3644640"/>
              <a:ext cx="170568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9983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9" name=""/>
            <p:cNvGrpSpPr/>
            <p:nvPr/>
          </p:nvGrpSpPr>
          <p:grpSpPr>
            <a:xfrm>
              <a:off x="5800320" y="3951360"/>
              <a:ext cx="1875600" cy="282960"/>
              <a:chOff x="5800320" y="3951360"/>
              <a:chExt cx="1875600" cy="282960"/>
            </a:xfrm>
          </p:grpSpPr>
          <p:sp>
            <p:nvSpPr>
              <p:cNvPr id="1000" name=""/>
              <p:cNvSpPr/>
              <p:nvPr/>
            </p:nvSpPr>
            <p:spPr>
              <a:xfrm>
                <a:off x="5800320" y="3951360"/>
                <a:ext cx="1875600" cy="2750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5" y="0"/>
                    </a:moveTo>
                    <a:lnTo>
                      <a:pt x="19985" y="19900"/>
                    </a:lnTo>
                    <a:lnTo>
                      <a:pt x="0" y="19900"/>
                    </a:lnTo>
                    <a:lnTo>
                      <a:pt x="0" y="0"/>
                    </a:lnTo>
                    <a:lnTo>
                      <a:pt x="19985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054480" y="3997800"/>
                <a:ext cx="1365480" cy="23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action(s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2" name=""/>
            <p:cNvGrpSpPr/>
            <p:nvPr/>
          </p:nvGrpSpPr>
          <p:grpSpPr>
            <a:xfrm>
              <a:off x="5715000" y="4889160"/>
              <a:ext cx="2046240" cy="683280"/>
              <a:chOff x="5715000" y="4889160"/>
              <a:chExt cx="2046240" cy="683280"/>
            </a:xfrm>
          </p:grpSpPr>
          <p:sp>
            <p:nvSpPr>
              <p:cNvPr id="1003" name=""/>
              <p:cNvSpPr/>
              <p:nvPr/>
            </p:nvSpPr>
            <p:spPr>
              <a:xfrm>
                <a:off x="5715000" y="4889160"/>
                <a:ext cx="2046240" cy="683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6" y="9980"/>
                    </a:moveTo>
                    <a:lnTo>
                      <a:pt x="9986" y="19960"/>
                    </a:lnTo>
                    <a:lnTo>
                      <a:pt x="0" y="9980"/>
                    </a:lnTo>
                    <a:lnTo>
                      <a:pt x="9986" y="0"/>
                    </a:lnTo>
                    <a:lnTo>
                      <a:pt x="19986" y="998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6054480" y="5137560"/>
                <a:ext cx="1365840" cy="2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condi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05" name=""/>
          <p:cNvSpPr/>
          <p:nvPr/>
        </p:nvSpPr>
        <p:spPr>
          <a:xfrm>
            <a:off x="0" y="1747800"/>
            <a:ext cx="164628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0" y="3276720"/>
            <a:ext cx="164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0" y="358776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8A67C-987B-42BA-AC68-9BF015B414D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18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The break and continue Statemen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re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uses immediate exit from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o/whi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 execution continues with the first statement after the 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mon uses of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atement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cape early from a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kip the remainder of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69D04-64DE-4D56-BC5C-D04B6156332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18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The break and continue Statemen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ntin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kips the remaining statements in the body of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o/whi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ructure and proceeds with the next iteration of the loo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o/whi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the loop-continuation test is evaluated immediately after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tin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atement is execu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ructure, the increment expression is executed, then the loop-continuation test is evalua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F5830-EEED-4F4C-94AD-0DD208A182BA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19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Logical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ogical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f both conditions ar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|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ogical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f either of its conditions ar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ogical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logical neg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verses the truth/falsity of its con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when its condition i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s a unary operator, only takes one con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ical operators used as conditions in loo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Expressio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 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 &amp;&amp; false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fals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 || false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tru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!fals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4691A-6B10-43F9-89D4-F507513B7E99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3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Pseudocode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seudo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tificial, informal language used to develop algorith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milar to everyday Englis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actually executed on computer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ows us to “think out” a program before writing the code for 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sy to convert into a corresponding C++ 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ists only of executable stat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4167E-A092-4E27-81E1-68F74227A2A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20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Confusing Equality (==) and Assignment (=)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1532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errors are damaging because they do not ordinarily cause syntax err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call that any expression that produces a value can be used in control structures.  Nonzero values ar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and zero values ar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 payCode == 4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"You get a bonus!" &lt;&lt; end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ecks the paycode, and if it i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hen a bonus is award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 replaced with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 payCode = 4 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cout &lt;&lt; "You get a bonus!" &lt;&lt; endl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aycod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nonzero, so the expression i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a bonus is awarded, regardless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aycod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9E970-629D-48A4-8995-F2B88DE8EC1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0000"/>
                </a:solidFill>
                <a:latin typeface="AvantGarde"/>
              </a:rPr>
              <a:t>2.20</a:t>
            </a:r>
            <a:r>
              <a:rPr b="1" sz="2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0000"/>
                </a:solidFill>
                <a:latin typeface="AvantGarde"/>
              </a:rPr>
              <a:t>Confusing Equality (==) and Assignment (=)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pressions that can appear on the left side of an equ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ir values can be chang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 names are a common example (as i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 = 4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pressions that can only appear on the right side of an equ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ants, such as numbers (i.e. you cannot writ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4 = x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values can be used as rvalues, but not vice ver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3678D-F2CA-4699-9CA9-0CB9ADD80D77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21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Structured-Programming Summary</a:t>
            </a:r>
            <a:br>
              <a:rPr sz="2800"/>
            </a:b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s are easier to understand, test, debug and, modify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s for structured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single-entry/single-exit control structures are us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ules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)  Begin with the “simplest flowchart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)  Any rectangle (action) can be replaced by two rectangles (actions) in sequenc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)  Any rectangle (action) can be replaced by any control structure (sequence, if, if/else, switch, while, do/while or fo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)  Rules 2 and 3 can be applied in any order and multiple time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0" y="1771560"/>
            <a:ext cx="548640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0" y="2971800"/>
            <a:ext cx="548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0" y="396252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0" y="517680"/>
            <a:ext cx="5486400" cy="51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0" y="1717560"/>
            <a:ext cx="548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0" y="567216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4E8FF-6A40-44F0-9936-DF28ADF64AD5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21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Structured-Programming Summary</a:t>
            </a:r>
            <a:br>
              <a:rPr sz="2800"/>
            </a:b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8" name=""/>
          <p:cNvGrpSpPr/>
          <p:nvPr/>
        </p:nvGrpSpPr>
        <p:grpSpPr>
          <a:xfrm>
            <a:off x="1447920" y="1905120"/>
            <a:ext cx="6704640" cy="4419000"/>
            <a:chOff x="1447920" y="1905120"/>
            <a:chExt cx="6704640" cy="4419000"/>
          </a:xfrm>
        </p:grpSpPr>
        <p:sp>
          <p:nvSpPr>
            <p:cNvPr id="1029" name=""/>
            <p:cNvSpPr/>
            <p:nvPr/>
          </p:nvSpPr>
          <p:spPr>
            <a:xfrm>
              <a:off x="1936080" y="1905120"/>
              <a:ext cx="799200" cy="157680"/>
            </a:xfrm>
            <a:prstGeom prst="roundRect">
              <a:avLst>
                <a:gd name="adj" fmla="val 16667"/>
              </a:avLst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335680" y="2062800"/>
              <a:ext cx="360" cy="236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44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936080" y="2299320"/>
              <a:ext cx="799200" cy="158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335680" y="2457360"/>
              <a:ext cx="360" cy="236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44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936080" y="2694240"/>
              <a:ext cx="799200" cy="157680"/>
            </a:xfrm>
            <a:prstGeom prst="roundRect">
              <a:avLst>
                <a:gd name="adj" fmla="val 16667"/>
              </a:avLst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888520" y="2483640"/>
              <a:ext cx="799200" cy="157680"/>
            </a:xfrm>
            <a:prstGeom prst="roundRect">
              <a:avLst>
                <a:gd name="adj" fmla="val 16667"/>
              </a:avLst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288120" y="2641320"/>
              <a:ext cx="360" cy="236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44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88120" y="3588480"/>
              <a:ext cx="360" cy="236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44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888520" y="3825000"/>
              <a:ext cx="799200" cy="158040"/>
            </a:xfrm>
            <a:prstGeom prst="roundRect">
              <a:avLst>
                <a:gd name="adj" fmla="val 16667"/>
              </a:avLst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754960" y="2878200"/>
              <a:ext cx="1065240" cy="158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9" y="10000"/>
                  </a:moveTo>
                  <a:lnTo>
                    <a:pt x="9979" y="19917"/>
                  </a:lnTo>
                  <a:lnTo>
                    <a:pt x="0" y="10000"/>
                  </a:lnTo>
                  <a:lnTo>
                    <a:pt x="9979" y="0"/>
                  </a:lnTo>
                  <a:lnTo>
                    <a:pt x="19979" y="1000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820560" y="2957040"/>
              <a:ext cx="79920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955760" y="2957040"/>
              <a:ext cx="79920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955760" y="2957040"/>
              <a:ext cx="360" cy="157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17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619760" y="2957040"/>
              <a:ext cx="360" cy="157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17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556160" y="3114720"/>
              <a:ext cx="799200" cy="158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220160" y="3114720"/>
              <a:ext cx="799200" cy="158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4955760" y="3272760"/>
              <a:ext cx="360" cy="236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44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955760" y="3509640"/>
              <a:ext cx="119880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1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7619760" y="3272760"/>
              <a:ext cx="360" cy="236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44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420960" y="3509640"/>
              <a:ext cx="119880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1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154560" y="3430800"/>
              <a:ext cx="266040" cy="15768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111920" y="4114800"/>
              <a:ext cx="799200" cy="157680"/>
            </a:xfrm>
            <a:prstGeom prst="roundRect">
              <a:avLst>
                <a:gd name="adj" fmla="val 16667"/>
              </a:avLst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511520" y="4272480"/>
              <a:ext cx="360" cy="236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44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511520" y="5929920"/>
              <a:ext cx="360" cy="236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44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111920" y="6166440"/>
              <a:ext cx="799200" cy="157680"/>
            </a:xfrm>
            <a:prstGeom prst="roundRect">
              <a:avLst>
                <a:gd name="adj" fmla="val 16667"/>
              </a:avLst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979080" y="4509360"/>
              <a:ext cx="1065240" cy="157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9" y="10000"/>
                  </a:moveTo>
                  <a:lnTo>
                    <a:pt x="9979" y="19917"/>
                  </a:lnTo>
                  <a:lnTo>
                    <a:pt x="0" y="10000"/>
                  </a:lnTo>
                  <a:lnTo>
                    <a:pt x="9979" y="0"/>
                  </a:lnTo>
                  <a:lnTo>
                    <a:pt x="19979" y="1000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044320" y="4588200"/>
              <a:ext cx="10652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9" y="0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912760" y="4588200"/>
              <a:ext cx="106596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9" y="0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912760" y="4588200"/>
              <a:ext cx="360" cy="315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58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109920" y="4588200"/>
              <a:ext cx="360" cy="315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58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912760" y="5613840"/>
              <a:ext cx="360" cy="236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44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912760" y="5850720"/>
              <a:ext cx="146556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5" y="0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109920" y="5613840"/>
              <a:ext cx="360" cy="236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44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644720" y="5850720"/>
              <a:ext cx="14648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5" y="0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378680" y="5772240"/>
              <a:ext cx="266040" cy="15768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380320" y="4903920"/>
              <a:ext cx="1065240" cy="158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9" y="10000"/>
                  </a:moveTo>
                  <a:lnTo>
                    <a:pt x="9979" y="19917"/>
                  </a:lnTo>
                  <a:lnTo>
                    <a:pt x="0" y="10000"/>
                  </a:lnTo>
                  <a:lnTo>
                    <a:pt x="9979" y="0"/>
                  </a:lnTo>
                  <a:lnTo>
                    <a:pt x="19979" y="1000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445920" y="4982760"/>
              <a:ext cx="2660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17" y="0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113560" y="4982760"/>
              <a:ext cx="26676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17" y="0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113560" y="4982760"/>
              <a:ext cx="360" cy="157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17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711960" y="4982760"/>
              <a:ext cx="360" cy="157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17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713960" y="5140440"/>
              <a:ext cx="799200" cy="158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312360" y="5140440"/>
              <a:ext cx="799200" cy="158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2113560" y="5298480"/>
              <a:ext cx="360" cy="236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44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2113560" y="5535360"/>
              <a:ext cx="66636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67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711960" y="5298480"/>
              <a:ext cx="360" cy="236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44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046320" y="5535360"/>
              <a:ext cx="6656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67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779920" y="5456160"/>
              <a:ext cx="266040" cy="15768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5577480" y="4903920"/>
              <a:ext cx="1065240" cy="158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9" y="10000"/>
                  </a:moveTo>
                  <a:lnTo>
                    <a:pt x="9979" y="19917"/>
                  </a:lnTo>
                  <a:lnTo>
                    <a:pt x="0" y="10000"/>
                  </a:lnTo>
                  <a:lnTo>
                    <a:pt x="9979" y="0"/>
                  </a:lnTo>
                  <a:lnTo>
                    <a:pt x="19979" y="1000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6643080" y="4982760"/>
              <a:ext cx="2660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17" y="0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5310720" y="4982760"/>
              <a:ext cx="26676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17" y="0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310720" y="4982760"/>
              <a:ext cx="360" cy="157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17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909120" y="4982760"/>
              <a:ext cx="360" cy="157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17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911120" y="5140440"/>
              <a:ext cx="799200" cy="158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509520" y="5140440"/>
              <a:ext cx="799200" cy="158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310720" y="5298480"/>
              <a:ext cx="360" cy="236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44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310720" y="5535360"/>
              <a:ext cx="66636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67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909120" y="5298480"/>
              <a:ext cx="360" cy="236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44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243480" y="5535360"/>
              <a:ext cx="6656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67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977080" y="5456160"/>
              <a:ext cx="266040" cy="15768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868840" y="2378520"/>
              <a:ext cx="1953360" cy="2890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9" y="19955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prstDash val="sysDot"/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4422600" y="2720520"/>
              <a:ext cx="3729960" cy="946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4" y="0"/>
                  </a:moveTo>
                  <a:lnTo>
                    <a:pt x="19994" y="19986"/>
                  </a:lnTo>
                  <a:lnTo>
                    <a:pt x="0" y="19986"/>
                  </a:lnTo>
                  <a:lnTo>
                    <a:pt x="0" y="0"/>
                  </a:lnTo>
                  <a:lnTo>
                    <a:pt x="1999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4778280" y="4745880"/>
              <a:ext cx="2664000" cy="946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2" y="0"/>
                  </a:moveTo>
                  <a:lnTo>
                    <a:pt x="19992" y="19986"/>
                  </a:lnTo>
                  <a:lnTo>
                    <a:pt x="0" y="19986"/>
                  </a:lnTo>
                  <a:lnTo>
                    <a:pt x="0" y="0"/>
                  </a:lnTo>
                  <a:lnTo>
                    <a:pt x="1999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581120" y="4745880"/>
              <a:ext cx="2664000" cy="946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2" y="0"/>
                  </a:moveTo>
                  <a:lnTo>
                    <a:pt x="19992" y="19986"/>
                  </a:lnTo>
                  <a:lnTo>
                    <a:pt x="0" y="19986"/>
                  </a:lnTo>
                  <a:lnTo>
                    <a:pt x="0" y="0"/>
                  </a:lnTo>
                  <a:lnTo>
                    <a:pt x="1999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447920" y="4351680"/>
              <a:ext cx="6127920" cy="16570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6" y="0"/>
                  </a:moveTo>
                  <a:lnTo>
                    <a:pt x="19996" y="19992"/>
                  </a:lnTo>
                  <a:lnTo>
                    <a:pt x="0" y="19992"/>
                  </a:lnTo>
                  <a:lnTo>
                    <a:pt x="0" y="0"/>
                  </a:lnTo>
                  <a:lnTo>
                    <a:pt x="19996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380320" y="3351600"/>
              <a:ext cx="2441520" cy="13417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90"/>
                  </a:moveTo>
                  <a:lnTo>
                    <a:pt x="19991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prstDash val="sysDot"/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6731640" y="3351600"/>
              <a:ext cx="1021320" cy="13417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90"/>
                  </a:moveTo>
                  <a:lnTo>
                    <a:pt x="1997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prstDash val="sysDot"/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731760" y="2347200"/>
              <a:ext cx="685080" cy="1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vantGarde"/>
                  <a:ea typeface="Times New Roman"/>
                </a:rPr>
                <a:t>Rule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7398360" y="3951720"/>
              <a:ext cx="685080" cy="1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vantGarde"/>
                  <a:ea typeface="Times New Roman"/>
                </a:rPr>
                <a:t>Rule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912760" y="3951720"/>
              <a:ext cx="685800" cy="1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vantGarde"/>
                  <a:ea typeface="Times New Roman"/>
                </a:rPr>
                <a:t>Rule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8" name=""/>
          <p:cNvSpPr/>
          <p:nvPr/>
        </p:nvSpPr>
        <p:spPr>
          <a:xfrm>
            <a:off x="990720" y="1371600"/>
            <a:ext cx="792468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ation of Rule 3 (replacing any rectangle with a control structu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D7985-46DA-4038-AD50-49A4E8CA2B12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21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Structured-Programming Summary</a:t>
            </a:r>
            <a:br>
              <a:rPr sz="2800"/>
            </a:b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programs can be broken down i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le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y selection can be rewritten as 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pet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/whi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y repetition structure can be rewritten as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FE464-B283-4688-A90D-3145B0DA1223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4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Control Structur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quential exec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tements executed one after the other in the order writ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er of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en the next statement executed is not the next one in sequ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hm and Jacopini: all programs written in terms of 3 control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quence 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t into C++.  Programs executed sequentially by defau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lection structu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++ has three types -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petition structu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++ has three types -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/whi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A967A-4234-4706-BF3D-7D883E7C5D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4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Control Structur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keyw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be used as identifiers or variable nam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914400" y="2133720"/>
          <a:ext cx="7453440" cy="5664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133720"/>
                    <a:ext cx="7453440" cy="566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8AC48-7EBD-4B85-98D3-AECF7E0E7F3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4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Control Structur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owch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raphical representation of an algorith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rawn using certain special-purpose symbols connected by arrows called flowline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ctangle symbol (action symbo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icates any type of a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val symb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icates beginning or end of a program, or a section of code (circles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gle-entry/single-exit control structu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nect exit point of one control structure to entry point of the next (control-structure stacking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kes programs easy to buil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5E1EF-095C-4D89-8CC6-1B40F768DAB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2.5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The if Selection Structur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ion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d to choose among alternative courses of a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seudocode example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f student’s grade is greater than or equal to 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nt “Passe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he condition i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nt statement executed and program goes on to next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he condition i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nt statement is ignored and the program goes onto the next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denting makes programs easier to re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++ ignores whitespac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AF502-8781-4F6B-9AF1-BC909D0EE0E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2T17:02:08Z</dcterms:created>
  <dc:creator>kalid</dc:creator>
  <dc:description/>
  <dc:language>en-US</dc:language>
  <cp:lastModifiedBy>Antonella Esposito</cp:lastModifiedBy>
  <dcterms:modified xsi:type="dcterms:W3CDTF">2001-01-12T10:39:19Z</dcterms:modified>
  <cp:revision>521</cp:revision>
  <dc:subject/>
  <dc:title>Chapter 2 - Control Structures</dc:title>
</cp:coreProperties>
</file>