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63240-94BB-4406-85C5-16DCBB5578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0D45-C914-48E4-B83A-77BFBAC53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D2E47-5DD5-49EF-B711-2FB52D722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670C3-A00D-4D05-AED1-D33A34C1AE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44BD9-FDF0-421C-80CE-694E08BA45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14A5A-5DB3-4771-8822-3523DD0587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BD957-DEAF-446C-9E9C-34C2B5FF81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08A5D-E8B4-48DE-87D1-48A3FC8A1A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0220D-3233-4053-8553-DC370BFB06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7E6AB-2AE2-4AC5-A6F1-F7563B71F6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FFCDD-2991-4E8A-BA26-048D9506C6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3D7DC-5BBA-433B-9479-C407FFCD4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B9D42-D433-44C9-9FB2-149F116DAB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7E2E2-5C1D-4EAC-A09F-7B77326D77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4FB9B-CE91-4A9F-873A-71F8A74DFC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FE84B-4267-43BE-A560-F03573DC85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E63DC-A16C-469A-B2BA-FA9CA7F3D1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53BB-5C99-4099-85BF-841F39EABC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CB0A3-C6D6-44C5-8CE4-CE3611238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1DE4F-1D14-47D2-A1C0-A449767AA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AAA1-22F8-4E31-A87B-37D6B951C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13641-1739-4940-AE50-A0635D4024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77F1E-1275-4177-B72E-B9FCE9FE6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B8082-913F-487E-BDFA-1C5BC78D8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7870-9190-445B-8560-BC2998F06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B6DC-4637-486F-AB97-3E02617274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9 - Inheritanc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8534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4d4d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1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2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Inheritance: Base Classes and Derived Classe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3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Courier New"/>
                <a:ea typeface="Times New Roman"/>
              </a:rPr>
              <a:t>Protected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 Member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4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Casting Base-Class Pointers to Derived-Class Pointer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5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Using Member Function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6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Overriding Base-Class Members in a Derived Clas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7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ff4d4d"/>
                </a:solidFill>
                <a:latin typeface="Courier New"/>
                <a:ea typeface="Times New Roman"/>
              </a:rPr>
              <a:t>Protected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ff4d4d"/>
                </a:solidFill>
                <a:latin typeface="Courier New"/>
                <a:ea typeface="Times New Roman"/>
              </a:rPr>
              <a:t>Private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 Inheritance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8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Direct Base Classes and Indirect Base Classe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9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Using Constructors and Destructors in Derived Classe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10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Implicit Derived-Class Object to Base-Class Object Conversion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11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Software Engineering with Inheritance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12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Composition vs. Inheritance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13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“Uses A” and “Knows A” Relationship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14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Case Study: Point, Circle, Cylinder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15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Multiple Inheritance</a:t>
            </a:r>
            <a:r>
              <a:rPr b="1" lang="en-US" sz="1800" spc="-1" strike="noStrike">
                <a:solidFill>
                  <a:srgbClr val="e36969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6782-8D35-43AE-A4C7-15D3DB1726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0" y="0"/>
            <a:ext cx="6780960" cy="2133360"/>
            <a:chOff x="0" y="0"/>
            <a:chExt cx="6780960" cy="2133360"/>
          </a:xfrm>
        </p:grpSpPr>
        <p:grpSp>
          <p:nvGrpSpPr>
            <p:cNvPr id="216" name=""/>
            <p:cNvGrpSpPr/>
            <p:nvPr/>
          </p:nvGrpSpPr>
          <p:grpSpPr>
            <a:xfrm>
              <a:off x="0" y="0"/>
              <a:ext cx="6780960" cy="213120"/>
              <a:chOff x="0" y="0"/>
              <a:chExt cx="6780960" cy="213120"/>
            </a:xfrm>
          </p:grpSpPr>
          <p:sp>
            <p:nvSpPr>
              <p:cNvPr id="217" name=""/>
              <p:cNvSpPr/>
              <p:nvPr/>
            </p:nvSpPr>
            <p:spPr>
              <a:xfrm>
                <a:off x="0" y="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y = b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0" y="213120"/>
              <a:ext cx="6780960" cy="213120"/>
              <a:chOff x="0" y="213120"/>
              <a:chExt cx="6780960" cy="213120"/>
            </a:xfrm>
          </p:grpSpPr>
          <p:sp>
            <p:nvSpPr>
              <p:cNvPr id="220" name=""/>
              <p:cNvSpPr/>
              <p:nvPr/>
            </p:nvSpPr>
            <p:spPr>
              <a:xfrm>
                <a:off x="0" y="213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213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0" y="426600"/>
              <a:ext cx="6780960" cy="213480"/>
              <a:chOff x="0" y="426600"/>
              <a:chExt cx="6780960" cy="21348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426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426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0" y="640080"/>
              <a:ext cx="6780960" cy="213120"/>
              <a:chOff x="0" y="640080"/>
              <a:chExt cx="6780960" cy="213120"/>
            </a:xfrm>
          </p:grpSpPr>
          <p:sp>
            <p:nvSpPr>
              <p:cNvPr id="226" name=""/>
              <p:cNvSpPr/>
              <p:nvPr/>
            </p:nvSpPr>
            <p:spPr>
              <a:xfrm>
                <a:off x="0" y="6400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6400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Point (with overloaded stream insertion operator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0" y="853560"/>
              <a:ext cx="6780960" cy="213120"/>
              <a:chOff x="0" y="853560"/>
              <a:chExt cx="6780960" cy="213120"/>
            </a:xfrm>
          </p:grpSpPr>
          <p:sp>
            <p:nvSpPr>
              <p:cNvPr id="229" name=""/>
              <p:cNvSpPr/>
              <p:nvPr/>
            </p:nvSpPr>
            <p:spPr>
              <a:xfrm>
                <a:off x="0" y="85356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85356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&amp;p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0" y="1066680"/>
              <a:ext cx="6780960" cy="213120"/>
              <a:chOff x="0" y="1066680"/>
              <a:chExt cx="6780960" cy="213120"/>
            </a:xfrm>
          </p:grpSpPr>
          <p:sp>
            <p:nvSpPr>
              <p:cNvPr id="232" name=""/>
              <p:cNvSpPr/>
              <p:nvPr/>
            </p:nvSpPr>
            <p:spPr>
              <a:xfrm>
                <a:off x="0" y="10666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10666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0" y="1280160"/>
              <a:ext cx="6780960" cy="213480"/>
              <a:chOff x="0" y="1280160"/>
              <a:chExt cx="6780960" cy="213480"/>
            </a:xfrm>
          </p:grpSpPr>
          <p:sp>
            <p:nvSpPr>
              <p:cNvPr id="235" name=""/>
              <p:cNvSpPr/>
              <p:nvPr/>
            </p:nvSpPr>
            <p:spPr>
              <a:xfrm>
                <a:off x="0" y="1280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1280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output &lt;&lt; '[' &lt;&lt; p.x &lt;&lt; ", " &lt;&lt; p.y &lt;&lt; ']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0" y="1493640"/>
              <a:ext cx="6780960" cy="213120"/>
              <a:chOff x="0" y="1493640"/>
              <a:chExt cx="6780960" cy="213120"/>
            </a:xfrm>
          </p:grpSpPr>
          <p:sp>
            <p:nvSpPr>
              <p:cNvPr id="238" name=""/>
              <p:cNvSpPr/>
              <p:nvPr/>
            </p:nvSpPr>
            <p:spPr>
              <a:xfrm>
                <a:off x="0" y="14936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14936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0" y="1707120"/>
              <a:ext cx="6780960" cy="213120"/>
              <a:chOff x="0" y="1707120"/>
              <a:chExt cx="6780960" cy="213120"/>
            </a:xfrm>
          </p:grpSpPr>
          <p:sp>
            <p:nvSpPr>
              <p:cNvPr id="241" name=""/>
              <p:cNvSpPr/>
              <p:nvPr/>
            </p:nvSpPr>
            <p:spPr>
              <a:xfrm>
                <a:off x="0" y="1707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707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utpu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0" y="1920240"/>
              <a:ext cx="6780960" cy="213120"/>
              <a:chOff x="0" y="1920240"/>
              <a:chExt cx="6780960" cy="21312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19202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19202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6" name=""/>
          <p:cNvGrpSpPr/>
          <p:nvPr/>
        </p:nvGrpSpPr>
        <p:grpSpPr>
          <a:xfrm>
            <a:off x="0" y="2133720"/>
            <a:ext cx="6780960" cy="4723920"/>
            <a:chOff x="0" y="2133720"/>
            <a:chExt cx="6780960" cy="4723920"/>
          </a:xfrm>
        </p:grpSpPr>
        <p:grpSp>
          <p:nvGrpSpPr>
            <p:cNvPr id="247" name=""/>
            <p:cNvGrpSpPr/>
            <p:nvPr/>
          </p:nvGrpSpPr>
          <p:grpSpPr>
            <a:xfrm>
              <a:off x="0" y="2133720"/>
              <a:ext cx="6780960" cy="224640"/>
              <a:chOff x="0" y="2133720"/>
              <a:chExt cx="6780960" cy="22464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213372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13372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4: circle.h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2358360"/>
              <a:ext cx="6780960" cy="224640"/>
              <a:chOff x="0" y="2358360"/>
              <a:chExt cx="6780960" cy="22464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23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23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0" y="2583360"/>
              <a:ext cx="6780960" cy="225000"/>
              <a:chOff x="0" y="2583360"/>
              <a:chExt cx="6780960" cy="22500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258336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258336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0" y="2808360"/>
              <a:ext cx="6780960" cy="224640"/>
              <a:chOff x="0" y="2808360"/>
              <a:chExt cx="6780960" cy="22464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28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0" y="28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3033360"/>
              <a:ext cx="6780960" cy="224640"/>
              <a:chOff x="0" y="3033360"/>
              <a:chExt cx="6780960" cy="22464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30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30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3258360"/>
              <a:ext cx="6780960" cy="224640"/>
              <a:chOff x="0" y="3258360"/>
              <a:chExt cx="6780960" cy="22464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32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32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0" y="3483360"/>
              <a:ext cx="6780960" cy="225000"/>
              <a:chOff x="0" y="3483360"/>
              <a:chExt cx="6780960" cy="225000"/>
            </a:xfrm>
          </p:grpSpPr>
          <p:sp>
            <p:nvSpPr>
              <p:cNvPr id="266" name=""/>
              <p:cNvSpPr/>
              <p:nvPr/>
            </p:nvSpPr>
            <p:spPr>
              <a:xfrm>
                <a:off x="0" y="348336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348336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0" y="3708360"/>
              <a:ext cx="6780960" cy="224640"/>
              <a:chOff x="0" y="3708360"/>
              <a:chExt cx="6780960" cy="22464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37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37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3933360"/>
              <a:ext cx="6780960" cy="224640"/>
              <a:chOff x="0" y="3933360"/>
              <a:chExt cx="6780960" cy="22464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39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39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4158360"/>
              <a:ext cx="6780960" cy="224640"/>
              <a:chOff x="0" y="4158360"/>
              <a:chExt cx="6780960" cy="22464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41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41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0" y="4383360"/>
              <a:ext cx="6780960" cy="225000"/>
              <a:chOff x="0" y="4383360"/>
              <a:chExt cx="6780960" cy="22500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438336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438336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0" y="4608360"/>
              <a:ext cx="6780960" cy="224640"/>
              <a:chOff x="0" y="4608360"/>
              <a:chExt cx="6780960" cy="22464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46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0" y="46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4833360"/>
              <a:ext cx="6780960" cy="224640"/>
              <a:chOff x="0" y="4833360"/>
              <a:chExt cx="6780960" cy="22464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48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48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5058360"/>
              <a:ext cx="6780960" cy="224640"/>
              <a:chOff x="0" y="5058360"/>
              <a:chExt cx="6780960" cy="22464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50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50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0" y="5283000"/>
              <a:ext cx="6780960" cy="225000"/>
              <a:chOff x="0" y="5283000"/>
              <a:chExt cx="6780960" cy="225000"/>
            </a:xfrm>
          </p:grpSpPr>
          <p:sp>
            <p:nvSpPr>
              <p:cNvPr id="290" name=""/>
              <p:cNvSpPr/>
              <p:nvPr/>
            </p:nvSpPr>
            <p:spPr>
              <a:xfrm>
                <a:off x="0" y="528300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528300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0" y="5508360"/>
              <a:ext cx="6780960" cy="224640"/>
              <a:chOff x="0" y="5508360"/>
              <a:chExt cx="6780960" cy="22464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55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55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point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5733360"/>
              <a:ext cx="6780960" cy="224640"/>
              <a:chOff x="0" y="5733360"/>
              <a:chExt cx="6780960" cy="22464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57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57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5958000"/>
              <a:ext cx="6780960" cy="224640"/>
              <a:chOff x="0" y="5958000"/>
              <a:chExt cx="6780960" cy="224640"/>
            </a:xfrm>
          </p:grpSpPr>
          <p:sp>
            <p:nvSpPr>
              <p:cNvPr id="299" name=""/>
              <p:cNvSpPr/>
              <p:nvPr/>
            </p:nvSpPr>
            <p:spPr>
              <a:xfrm>
                <a:off x="0" y="595800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595800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{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ircle inherits from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0" y="6183000"/>
              <a:ext cx="6780960" cy="224640"/>
              <a:chOff x="0" y="6183000"/>
              <a:chExt cx="6780960" cy="224640"/>
            </a:xfrm>
          </p:grpSpPr>
          <p:sp>
            <p:nvSpPr>
              <p:cNvPr id="302" name=""/>
              <p:cNvSpPr/>
              <p:nvPr/>
            </p:nvSpPr>
            <p:spPr>
              <a:xfrm>
                <a:off x="0" y="618300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0" y="618300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0" y="6408000"/>
              <a:ext cx="6780960" cy="225000"/>
              <a:chOff x="0" y="6408000"/>
              <a:chExt cx="6780960" cy="225000"/>
            </a:xfrm>
          </p:grpSpPr>
          <p:sp>
            <p:nvSpPr>
              <p:cNvPr id="305" name=""/>
              <p:cNvSpPr/>
              <p:nvPr/>
            </p:nvSpPr>
            <p:spPr>
              <a:xfrm>
                <a:off x="0" y="640800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0" y="640800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0" y="6633000"/>
              <a:ext cx="6780960" cy="224640"/>
              <a:chOff x="0" y="6633000"/>
              <a:chExt cx="6780960" cy="224640"/>
            </a:xfrm>
          </p:grpSpPr>
          <p:sp>
            <p:nvSpPr>
              <p:cNvPr id="308" name=""/>
              <p:cNvSpPr/>
              <p:nvPr/>
            </p:nvSpPr>
            <p:spPr>
              <a:xfrm>
                <a:off x="0" y="663300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0" y="663300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0" name=""/>
          <p:cNvGrpSpPr/>
          <p:nvPr/>
        </p:nvGrpSpPr>
        <p:grpSpPr>
          <a:xfrm>
            <a:off x="2362320" y="3889440"/>
            <a:ext cx="5410080" cy="2054160"/>
            <a:chOff x="2362320" y="3889440"/>
            <a:chExt cx="5410080" cy="2054160"/>
          </a:xfrm>
        </p:grpSpPr>
        <p:sp>
          <p:nvSpPr>
            <p:cNvPr id="311" name=""/>
            <p:cNvSpPr/>
            <p:nvPr/>
          </p:nvSpPr>
          <p:spPr>
            <a:xfrm>
              <a:off x="3581280" y="3889440"/>
              <a:ext cx="4191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ublicly inherits from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o it will hav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 functions and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362320" y="4724280"/>
              <a:ext cx="22860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75724-9B44-48D5-81F6-E73446CD36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ircle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0" y="0"/>
            <a:ext cx="6780960" cy="2742840"/>
            <a:chOff x="0" y="0"/>
            <a:chExt cx="6780960" cy="2742840"/>
          </a:xfrm>
        </p:grpSpPr>
        <p:grpSp>
          <p:nvGrpSpPr>
            <p:cNvPr id="315" name=""/>
            <p:cNvGrpSpPr/>
            <p:nvPr/>
          </p:nvGrpSpPr>
          <p:grpSpPr>
            <a:xfrm>
              <a:off x="0" y="0"/>
              <a:ext cx="6780960" cy="273960"/>
              <a:chOff x="0" y="0"/>
              <a:chExt cx="6780960" cy="27396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0" y="273960"/>
              <a:ext cx="6780960" cy="273960"/>
              <a:chOff x="0" y="273960"/>
              <a:chExt cx="6780960" cy="273960"/>
            </a:xfrm>
          </p:grpSpPr>
          <p:sp>
            <p:nvSpPr>
              <p:cNvPr id="319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0" y="548280"/>
              <a:ext cx="6780960" cy="274320"/>
              <a:chOff x="0" y="548280"/>
              <a:chExt cx="6780960" cy="274320"/>
            </a:xfrm>
          </p:grpSpPr>
          <p:sp>
            <p:nvSpPr>
              <p:cNvPr id="322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0" y="822960"/>
              <a:ext cx="6780960" cy="273960"/>
              <a:chOff x="0" y="822960"/>
              <a:chExt cx="6780960" cy="273960"/>
            </a:xfrm>
          </p:grpSpPr>
          <p:sp>
            <p:nvSpPr>
              <p:cNvPr id="325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0" y="1097280"/>
              <a:ext cx="6780960" cy="273960"/>
              <a:chOff x="0" y="1097280"/>
              <a:chExt cx="6780960" cy="27396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culate are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0" y="1371600"/>
              <a:ext cx="6780960" cy="273960"/>
              <a:chOff x="0" y="1371600"/>
              <a:chExt cx="6780960" cy="27396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0" y="1645920"/>
              <a:ext cx="6780960" cy="274320"/>
              <a:chOff x="0" y="1645920"/>
              <a:chExt cx="6780960" cy="27432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164592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164592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adiu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0" y="1920240"/>
              <a:ext cx="6780960" cy="273960"/>
              <a:chOff x="0" y="1920240"/>
              <a:chExt cx="6780960" cy="273960"/>
            </a:xfrm>
          </p:grpSpPr>
          <p:sp>
            <p:nvSpPr>
              <p:cNvPr id="337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0" y="2194560"/>
              <a:ext cx="6780960" cy="273960"/>
              <a:chOff x="0" y="2194560"/>
              <a:chExt cx="6780960" cy="273960"/>
            </a:xfrm>
          </p:grpSpPr>
          <p:sp>
            <p:nvSpPr>
              <p:cNvPr id="340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0" y="2468880"/>
              <a:ext cx="6780960" cy="273960"/>
              <a:chOff x="0" y="2468880"/>
              <a:chExt cx="6780960" cy="27396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0" y="2468880"/>
                <a:ext cx="6780600" cy="273960"/>
                <a:chOff x="0" y="2468880"/>
                <a:chExt cx="6780600" cy="27396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0" y="2468880"/>
                  <a:ext cx="6780600" cy="273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0" y="2468880"/>
                  <a:ext cx="6780600" cy="27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47" name=""/>
          <p:cNvGrpSpPr/>
          <p:nvPr/>
        </p:nvGrpSpPr>
        <p:grpSpPr>
          <a:xfrm>
            <a:off x="0" y="2743200"/>
            <a:ext cx="6780960" cy="4114800"/>
            <a:chOff x="0" y="2743200"/>
            <a:chExt cx="6780960" cy="4114800"/>
          </a:xfrm>
        </p:grpSpPr>
        <p:grpSp>
          <p:nvGrpSpPr>
            <p:cNvPr id="348" name=""/>
            <p:cNvGrpSpPr/>
            <p:nvPr/>
          </p:nvGrpSpPr>
          <p:grpSpPr>
            <a:xfrm>
              <a:off x="0" y="2743200"/>
              <a:ext cx="6780960" cy="293760"/>
              <a:chOff x="0" y="2743200"/>
              <a:chExt cx="6780960" cy="293760"/>
            </a:xfrm>
          </p:grpSpPr>
          <p:sp>
            <p:nvSpPr>
              <p:cNvPr id="349" name=""/>
              <p:cNvSpPr/>
              <p:nvPr/>
            </p:nvSpPr>
            <p:spPr>
              <a:xfrm>
                <a:off x="0" y="274320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274320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4: circle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0" y="3036960"/>
              <a:ext cx="6780960" cy="293760"/>
              <a:chOff x="0" y="3036960"/>
              <a:chExt cx="6780960" cy="29376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303696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303696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3330720"/>
              <a:ext cx="6780960" cy="293760"/>
              <a:chOff x="0" y="3330720"/>
              <a:chExt cx="6780960" cy="29376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333072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333072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3624840"/>
              <a:ext cx="6780960" cy="293760"/>
              <a:chOff x="0" y="3624840"/>
              <a:chExt cx="6780960" cy="29376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362484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362484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3918600"/>
              <a:ext cx="6780960" cy="293760"/>
              <a:chOff x="0" y="3918600"/>
              <a:chExt cx="6780960" cy="29376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391860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91860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ircle calls constructor fo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4212720"/>
              <a:ext cx="6780960" cy="293760"/>
              <a:chOff x="0" y="4212720"/>
              <a:chExt cx="6780960" cy="29376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421272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421272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ith a member initializer then initializes radiu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4506480"/>
              <a:ext cx="6780960" cy="293760"/>
              <a:chOff x="0" y="4506480"/>
              <a:chExt cx="6780960" cy="29376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450648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450648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::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0" y="4800600"/>
              <a:ext cx="6780960" cy="293760"/>
              <a:chOff x="0" y="4800600"/>
              <a:chExt cx="6780960" cy="29376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480060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480060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Point( a, b )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0" y="5094360"/>
              <a:ext cx="6780960" cy="293760"/>
              <a:chOff x="0" y="5094360"/>
              <a:chExt cx="6780960" cy="29376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509436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509436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setRadius( r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5388480"/>
              <a:ext cx="6780960" cy="293760"/>
              <a:chOff x="0" y="5388480"/>
              <a:chExt cx="6780960" cy="29376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538848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538848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0" y="5682240"/>
              <a:ext cx="6780960" cy="293760"/>
              <a:chOff x="0" y="5682240"/>
              <a:chExt cx="6780960" cy="293760"/>
            </a:xfrm>
          </p:grpSpPr>
          <p:sp>
            <p:nvSpPr>
              <p:cNvPr id="379" name=""/>
              <p:cNvSpPr/>
              <p:nvPr/>
            </p:nvSpPr>
            <p:spPr>
              <a:xfrm>
                <a:off x="0" y="568224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568224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radius of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0" y="5976360"/>
              <a:ext cx="6780960" cy="293760"/>
              <a:chOff x="0" y="5976360"/>
              <a:chExt cx="6780960" cy="293760"/>
            </a:xfrm>
          </p:grpSpPr>
          <p:sp>
            <p:nvSpPr>
              <p:cNvPr id="382" name=""/>
              <p:cNvSpPr/>
              <p:nvPr/>
            </p:nvSpPr>
            <p:spPr>
              <a:xfrm>
                <a:off x="0" y="597636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597636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0" y="6270120"/>
              <a:ext cx="6780960" cy="293760"/>
              <a:chOff x="0" y="6270120"/>
              <a:chExt cx="6780960" cy="29376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627012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627012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radius = ( r &gt;= 0 ? r : 0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0" y="6564240"/>
              <a:ext cx="6780960" cy="293760"/>
              <a:chOff x="0" y="6564240"/>
              <a:chExt cx="6780960" cy="29376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656424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656424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0" name=""/>
          <p:cNvGrpSpPr/>
          <p:nvPr/>
        </p:nvGrpSpPr>
        <p:grpSpPr>
          <a:xfrm>
            <a:off x="4190760" y="3124080"/>
            <a:ext cx="3886560" cy="1524240"/>
            <a:chOff x="4190760" y="3124080"/>
            <a:chExt cx="3886560" cy="1524240"/>
          </a:xfrm>
        </p:grpSpPr>
        <p:sp>
          <p:nvSpPr>
            <p:cNvPr id="391" name=""/>
            <p:cNvSpPr/>
            <p:nvPr/>
          </p:nvSpPr>
          <p:spPr>
            <a:xfrm>
              <a:off x="5257800" y="3124080"/>
              <a:ext cx="2819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h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s data members (which are set by call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s constructor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4190760" y="3429000"/>
              <a:ext cx="10666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121B6-E89B-4F5E-B474-E5E9344023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Driv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0" y="0"/>
            <a:ext cx="6780960" cy="3581280"/>
            <a:chOff x="0" y="0"/>
            <a:chExt cx="6780960" cy="3581280"/>
          </a:xfrm>
        </p:grpSpPr>
        <p:grpSp>
          <p:nvGrpSpPr>
            <p:cNvPr id="395" name=""/>
            <p:cNvGrpSpPr/>
            <p:nvPr/>
          </p:nvGrpSpPr>
          <p:grpSpPr>
            <a:xfrm>
              <a:off x="0" y="0"/>
              <a:ext cx="6780960" cy="198720"/>
              <a:chOff x="0" y="0"/>
              <a:chExt cx="6780960" cy="19872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0" y="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radius of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0" y="198720"/>
              <a:ext cx="6780960" cy="198720"/>
              <a:chOff x="0" y="198720"/>
              <a:chExt cx="6780960" cy="198720"/>
            </a:xfrm>
          </p:grpSpPr>
          <p:sp>
            <p:nvSpPr>
              <p:cNvPr id="399" name=""/>
              <p:cNvSpPr/>
              <p:nvPr/>
            </p:nvSpPr>
            <p:spPr>
              <a:xfrm>
                <a:off x="0" y="1987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0" y="1987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0" y="397800"/>
              <a:ext cx="6780960" cy="198720"/>
              <a:chOff x="0" y="397800"/>
              <a:chExt cx="6780960" cy="198720"/>
            </a:xfrm>
          </p:grpSpPr>
          <p:sp>
            <p:nvSpPr>
              <p:cNvPr id="402" name=""/>
              <p:cNvSpPr/>
              <p:nvPr/>
            </p:nvSpPr>
            <p:spPr>
              <a:xfrm>
                <a:off x="0" y="3978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3978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0" y="596880"/>
              <a:ext cx="6780960" cy="198720"/>
              <a:chOff x="0" y="596880"/>
              <a:chExt cx="6780960" cy="198720"/>
            </a:xfrm>
          </p:grpSpPr>
          <p:sp>
            <p:nvSpPr>
              <p:cNvPr id="405" name=""/>
              <p:cNvSpPr/>
              <p:nvPr/>
            </p:nvSpPr>
            <p:spPr>
              <a:xfrm>
                <a:off x="0" y="5968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0" y="5968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area of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0" y="795600"/>
              <a:ext cx="6780960" cy="198720"/>
              <a:chOff x="0" y="795600"/>
              <a:chExt cx="6780960" cy="198720"/>
            </a:xfrm>
          </p:grpSpPr>
          <p:sp>
            <p:nvSpPr>
              <p:cNvPr id="408" name=""/>
              <p:cNvSpPr/>
              <p:nvPr/>
            </p:nvSpPr>
            <p:spPr>
              <a:xfrm>
                <a:off x="0" y="7956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0" y="7956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0" y="994680"/>
              <a:ext cx="6780960" cy="198720"/>
              <a:chOff x="0" y="994680"/>
              <a:chExt cx="6780960" cy="198720"/>
            </a:xfrm>
          </p:grpSpPr>
          <p:sp>
            <p:nvSpPr>
              <p:cNvPr id="411" name=""/>
              <p:cNvSpPr/>
              <p:nvPr/>
            </p:nvSpPr>
            <p:spPr>
              <a:xfrm>
                <a:off x="0" y="9946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9946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3.14159 * radius *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0" y="1193760"/>
              <a:ext cx="6780960" cy="198720"/>
              <a:chOff x="0" y="1193760"/>
              <a:chExt cx="6780960" cy="198720"/>
            </a:xfrm>
          </p:grpSpPr>
          <p:sp>
            <p:nvSpPr>
              <p:cNvPr id="414" name=""/>
              <p:cNvSpPr/>
              <p:nvPr/>
            </p:nvSpPr>
            <p:spPr>
              <a:xfrm>
                <a:off x="0" y="11937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0" y="11937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0" y="1392840"/>
              <a:ext cx="6780960" cy="198720"/>
              <a:chOff x="0" y="1392840"/>
              <a:chExt cx="6780960" cy="198720"/>
            </a:xfrm>
          </p:grpSpPr>
          <p:sp>
            <p:nvSpPr>
              <p:cNvPr id="417" name=""/>
              <p:cNvSpPr/>
              <p:nvPr/>
            </p:nvSpPr>
            <p:spPr>
              <a:xfrm>
                <a:off x="0" y="13928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13928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a Circle in the form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0" y="1591560"/>
              <a:ext cx="6780960" cy="198720"/>
              <a:chOff x="0" y="1591560"/>
              <a:chExt cx="6780960" cy="198720"/>
            </a:xfrm>
          </p:grpSpPr>
          <p:sp>
            <p:nvSpPr>
              <p:cNvPr id="420" name=""/>
              <p:cNvSpPr/>
              <p:nvPr/>
            </p:nvSpPr>
            <p:spPr>
              <a:xfrm>
                <a:off x="0" y="15915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0" y="15915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enter = [x, y]; Radius = #.##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0" y="1790640"/>
              <a:ext cx="6780960" cy="198720"/>
              <a:chOff x="0" y="1790640"/>
              <a:chExt cx="6780960" cy="198720"/>
            </a:xfrm>
          </p:grpSpPr>
          <p:sp>
            <p:nvSpPr>
              <p:cNvPr id="423" name=""/>
              <p:cNvSpPr/>
              <p:nvPr/>
            </p:nvSpPr>
            <p:spPr>
              <a:xfrm>
                <a:off x="0" y="17906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0" y="17906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&amp;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0" y="1989360"/>
              <a:ext cx="6780960" cy="198720"/>
              <a:chOff x="0" y="1989360"/>
              <a:chExt cx="6780960" cy="198720"/>
            </a:xfrm>
          </p:grpSpPr>
          <p:sp>
            <p:nvSpPr>
              <p:cNvPr id="426" name=""/>
              <p:cNvSpPr/>
              <p:nvPr/>
            </p:nvSpPr>
            <p:spPr>
              <a:xfrm>
                <a:off x="0" y="19893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0" y="19893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0" y="2188440"/>
              <a:ext cx="6780960" cy="198720"/>
              <a:chOff x="0" y="2188440"/>
              <a:chExt cx="6780960" cy="198720"/>
            </a:xfrm>
          </p:grpSpPr>
          <p:sp>
            <p:nvSpPr>
              <p:cNvPr id="429" name=""/>
              <p:cNvSpPr/>
              <p:nvPr/>
            </p:nvSpPr>
            <p:spPr>
              <a:xfrm>
                <a:off x="0" y="21884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0" y="21884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output &lt;&lt; "Center = " &lt;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_ca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 Point &gt;( c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0" y="2387520"/>
              <a:ext cx="6780960" cy="198720"/>
              <a:chOff x="0" y="2387520"/>
              <a:chExt cx="6780960" cy="198720"/>
            </a:xfrm>
          </p:grpSpPr>
          <p:sp>
            <p:nvSpPr>
              <p:cNvPr id="432" name=""/>
              <p:cNvSpPr/>
              <p:nvPr/>
            </p:nvSpPr>
            <p:spPr>
              <a:xfrm>
                <a:off x="0" y="23875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23875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"; Radius =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0" y="2586600"/>
              <a:ext cx="6780960" cy="198720"/>
              <a:chOff x="0" y="2586600"/>
              <a:chExt cx="6780960" cy="198720"/>
            </a:xfrm>
          </p:grpSpPr>
          <p:sp>
            <p:nvSpPr>
              <p:cNvPr id="435" name=""/>
              <p:cNvSpPr/>
              <p:nvPr/>
            </p:nvSpPr>
            <p:spPr>
              <a:xfrm>
                <a:off x="0" y="25866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0" y="25866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0" y="2785320"/>
              <a:ext cx="6780960" cy="198720"/>
              <a:chOff x="0" y="2785320"/>
              <a:chExt cx="6780960" cy="198720"/>
            </a:xfrm>
          </p:grpSpPr>
          <p:sp>
            <p:nvSpPr>
              <p:cNvPr id="438" name=""/>
              <p:cNvSpPr/>
              <p:nvPr/>
            </p:nvSpPr>
            <p:spPr>
              <a:xfrm>
                <a:off x="0" y="27853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0" y="27853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setprecision( 2 ) &lt;&lt; c.radiu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0" y="2984400"/>
              <a:ext cx="6780960" cy="198720"/>
              <a:chOff x="0" y="2984400"/>
              <a:chExt cx="6780960" cy="198720"/>
            </a:xfrm>
          </p:grpSpPr>
          <p:sp>
            <p:nvSpPr>
              <p:cNvPr id="441" name=""/>
              <p:cNvSpPr/>
              <p:nvPr/>
            </p:nvSpPr>
            <p:spPr>
              <a:xfrm>
                <a:off x="0" y="29844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0" y="29844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0" y="3183480"/>
              <a:ext cx="6780960" cy="198720"/>
              <a:chOff x="0" y="3183480"/>
              <a:chExt cx="6780960" cy="198720"/>
            </a:xfrm>
          </p:grpSpPr>
          <p:sp>
            <p:nvSpPr>
              <p:cNvPr id="444" name=""/>
              <p:cNvSpPr/>
              <p:nvPr/>
            </p:nvSpPr>
            <p:spPr>
              <a:xfrm>
                <a:off x="0" y="31834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0" y="31834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0" y="3382560"/>
              <a:ext cx="6780960" cy="198720"/>
              <a:chOff x="0" y="3382560"/>
              <a:chExt cx="6780960" cy="19872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33825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33825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0" y="3581280"/>
            <a:ext cx="6780960" cy="3276720"/>
            <a:chOff x="0" y="3581280"/>
            <a:chExt cx="6780960" cy="3276720"/>
          </a:xfrm>
        </p:grpSpPr>
        <p:grpSp>
          <p:nvGrpSpPr>
            <p:cNvPr id="450" name=""/>
            <p:cNvGrpSpPr/>
            <p:nvPr/>
          </p:nvGrpSpPr>
          <p:grpSpPr>
            <a:xfrm>
              <a:off x="0" y="3581280"/>
              <a:ext cx="6780960" cy="218160"/>
              <a:chOff x="0" y="3581280"/>
              <a:chExt cx="6780960" cy="218160"/>
            </a:xfrm>
          </p:grpSpPr>
          <p:sp>
            <p:nvSpPr>
              <p:cNvPr id="451" name=""/>
              <p:cNvSpPr/>
              <p:nvPr/>
            </p:nvSpPr>
            <p:spPr>
              <a:xfrm>
                <a:off x="0" y="35812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0" y="35812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4: fig09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0" y="3799440"/>
              <a:ext cx="6780960" cy="218160"/>
              <a:chOff x="0" y="3799440"/>
              <a:chExt cx="6780960" cy="218160"/>
            </a:xfrm>
          </p:grpSpPr>
          <p:sp>
            <p:nvSpPr>
              <p:cNvPr id="454" name=""/>
              <p:cNvSpPr/>
              <p:nvPr/>
            </p:nvSpPr>
            <p:spPr>
              <a:xfrm>
                <a:off x="0" y="37994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0" y="37994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sting base-class pointers to derived-class point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0" y="4017960"/>
              <a:ext cx="6780960" cy="218520"/>
              <a:chOff x="0" y="4017960"/>
              <a:chExt cx="6780960" cy="218520"/>
            </a:xfrm>
          </p:grpSpPr>
          <p:sp>
            <p:nvSpPr>
              <p:cNvPr id="457" name=""/>
              <p:cNvSpPr/>
              <p:nvPr/>
            </p:nvSpPr>
            <p:spPr>
              <a:xfrm>
                <a:off x="0" y="401796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0" y="401796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0" y="4236480"/>
              <a:ext cx="6780960" cy="218160"/>
              <a:chOff x="0" y="4236480"/>
              <a:chExt cx="6780960" cy="218160"/>
            </a:xfrm>
          </p:grpSpPr>
          <p:sp>
            <p:nvSpPr>
              <p:cNvPr id="460" name=""/>
              <p:cNvSpPr/>
              <p:nvPr/>
            </p:nvSpPr>
            <p:spPr>
              <a:xfrm>
                <a:off x="0" y="42364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42364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0" y="4455000"/>
              <a:ext cx="6780960" cy="218160"/>
              <a:chOff x="0" y="4455000"/>
              <a:chExt cx="6780960" cy="218160"/>
            </a:xfrm>
          </p:grpSpPr>
          <p:sp>
            <p:nvSpPr>
              <p:cNvPr id="463" name=""/>
              <p:cNvSpPr/>
              <p:nvPr/>
            </p:nvSpPr>
            <p:spPr>
              <a:xfrm>
                <a:off x="0" y="44550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44550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0" y="4673520"/>
              <a:ext cx="6780960" cy="218160"/>
              <a:chOff x="0" y="4673520"/>
              <a:chExt cx="6780960" cy="218160"/>
            </a:xfrm>
          </p:grpSpPr>
          <p:sp>
            <p:nvSpPr>
              <p:cNvPr id="466" name=""/>
              <p:cNvSpPr/>
              <p:nvPr/>
            </p:nvSpPr>
            <p:spPr>
              <a:xfrm>
                <a:off x="0" y="46735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46735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0" y="4891680"/>
              <a:ext cx="6780960" cy="218520"/>
              <a:chOff x="0" y="4891680"/>
              <a:chExt cx="6780960" cy="218520"/>
            </a:xfrm>
          </p:grpSpPr>
          <p:sp>
            <p:nvSpPr>
              <p:cNvPr id="469" name=""/>
              <p:cNvSpPr/>
              <p:nvPr/>
            </p:nvSpPr>
            <p:spPr>
              <a:xfrm>
                <a:off x="0" y="48916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48916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0" y="5110200"/>
              <a:ext cx="6780960" cy="218160"/>
              <a:chOff x="0" y="5110200"/>
              <a:chExt cx="6780960" cy="218160"/>
            </a:xfrm>
          </p:grpSpPr>
          <p:sp>
            <p:nvSpPr>
              <p:cNvPr id="472" name=""/>
              <p:cNvSpPr/>
              <p:nvPr/>
            </p:nvSpPr>
            <p:spPr>
              <a:xfrm>
                <a:off x="0" y="51102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51102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0" y="5328720"/>
              <a:ext cx="6780960" cy="218160"/>
              <a:chOff x="0" y="5328720"/>
              <a:chExt cx="6780960" cy="218160"/>
            </a:xfrm>
          </p:grpSpPr>
          <p:sp>
            <p:nvSpPr>
              <p:cNvPr id="475" name=""/>
              <p:cNvSpPr/>
              <p:nvPr/>
            </p:nvSpPr>
            <p:spPr>
              <a:xfrm>
                <a:off x="0" y="5328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5328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0" y="5547240"/>
              <a:ext cx="6780960" cy="218160"/>
              <a:chOff x="0" y="5547240"/>
              <a:chExt cx="6780960" cy="218160"/>
            </a:xfrm>
          </p:grpSpPr>
          <p:sp>
            <p:nvSpPr>
              <p:cNvPr id="478" name=""/>
              <p:cNvSpPr/>
              <p:nvPr/>
            </p:nvSpPr>
            <p:spPr>
              <a:xfrm>
                <a:off x="0" y="55472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55472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0" y="5765760"/>
              <a:ext cx="6780960" cy="218520"/>
              <a:chOff x="0" y="5765760"/>
              <a:chExt cx="6780960" cy="218520"/>
            </a:xfrm>
          </p:grpSpPr>
          <p:sp>
            <p:nvSpPr>
              <p:cNvPr id="481" name=""/>
              <p:cNvSpPr/>
              <p:nvPr/>
            </p:nvSpPr>
            <p:spPr>
              <a:xfrm>
                <a:off x="0" y="576576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576576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0" y="5984280"/>
              <a:ext cx="6780960" cy="218160"/>
              <a:chOff x="0" y="5984280"/>
              <a:chExt cx="6780960" cy="218160"/>
            </a:xfrm>
          </p:grpSpPr>
          <p:sp>
            <p:nvSpPr>
              <p:cNvPr id="484" name=""/>
              <p:cNvSpPr/>
              <p:nvPr/>
            </p:nvSpPr>
            <p:spPr>
              <a:xfrm>
                <a:off x="0" y="59842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59842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0" y="6202800"/>
              <a:ext cx="6780960" cy="218160"/>
              <a:chOff x="0" y="6202800"/>
              <a:chExt cx="6780960" cy="218160"/>
            </a:xfrm>
          </p:grpSpPr>
          <p:sp>
            <p:nvSpPr>
              <p:cNvPr id="487" name=""/>
              <p:cNvSpPr/>
              <p:nvPr/>
            </p:nvSpPr>
            <p:spPr>
              <a:xfrm>
                <a:off x="0" y="62028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0" y="62028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0" y="6420960"/>
              <a:ext cx="6780960" cy="218160"/>
              <a:chOff x="0" y="6420960"/>
              <a:chExt cx="6780960" cy="218160"/>
            </a:xfrm>
          </p:grpSpPr>
          <p:sp>
            <p:nvSpPr>
              <p:cNvPr id="490" name=""/>
              <p:cNvSpPr/>
              <p:nvPr/>
            </p:nvSpPr>
            <p:spPr>
              <a:xfrm>
                <a:off x="0" y="64209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0" y="64209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0" y="6639480"/>
              <a:ext cx="6780960" cy="218520"/>
              <a:chOff x="0" y="6639480"/>
              <a:chExt cx="6780960" cy="218520"/>
            </a:xfrm>
          </p:grpSpPr>
          <p:sp>
            <p:nvSpPr>
              <p:cNvPr id="493" name=""/>
              <p:cNvSpPr/>
              <p:nvPr/>
            </p:nvSpPr>
            <p:spPr>
              <a:xfrm>
                <a:off x="0" y="66394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0" y="66394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 *pointPtr = 0, p( 30, 5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74678-A136-4DD1-86A6-7961CB9DC5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Assign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497" name=""/>
            <p:cNvGrpSpPr/>
            <p:nvPr/>
          </p:nvGrpSpPr>
          <p:grpSpPr>
            <a:xfrm>
              <a:off x="0" y="3200400"/>
              <a:ext cx="6780960" cy="3657240"/>
              <a:chOff x="0" y="3200400"/>
              <a:chExt cx="6780960" cy="365724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0" y="3200400"/>
                <a:ext cx="6780960" cy="261000"/>
                <a:chOff x="0" y="3200400"/>
                <a:chExt cx="6780960" cy="26100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0" y="320040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0" y="320040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\nCircle c (via *circlePtr):\n" &lt;&lt; *circlePtr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0" y="3461400"/>
                <a:ext cx="6780960" cy="261000"/>
                <a:chOff x="0" y="3461400"/>
                <a:chExt cx="6780960" cy="26100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0" y="346140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0" y="346140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"\nArea of c (via circlePtr): 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0" y="3722760"/>
                <a:ext cx="6780960" cy="261360"/>
                <a:chOff x="0" y="3722760"/>
                <a:chExt cx="6780960" cy="26136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0" y="3722760"/>
                  <a:ext cx="6780960" cy="261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0" y="3722760"/>
                  <a:ext cx="6780960" cy="261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circlePtr-&gt;area() &lt;&lt; '\n'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0" y="3984120"/>
                <a:ext cx="6780960" cy="261000"/>
                <a:chOff x="0" y="3984120"/>
                <a:chExt cx="6780960" cy="26100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0" y="398412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0" y="398412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0" y="4245480"/>
                <a:ext cx="6780960" cy="261000"/>
                <a:chOff x="0" y="4245480"/>
                <a:chExt cx="6780960" cy="26100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0" y="424548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0" y="424548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  // DANGEROUS: Treat a Point as a Circ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0" y="4506480"/>
                <a:ext cx="6780960" cy="261000"/>
                <a:chOff x="0" y="4506480"/>
                <a:chExt cx="6780960" cy="26100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0" y="450648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0" y="450648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pointPtr = &amp;p;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assign address of Point to pointPt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0" y="4767840"/>
                <a:ext cx="6780960" cy="261360"/>
                <a:chOff x="0" y="4767840"/>
                <a:chExt cx="6780960" cy="2613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0" y="4767840"/>
                  <a:ext cx="6780960" cy="261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0" y="4767840"/>
                  <a:ext cx="6780960" cy="261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0" y="5029200"/>
                <a:ext cx="6780960" cy="261000"/>
                <a:chOff x="0" y="5029200"/>
                <a:chExt cx="6780960" cy="2610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0" y="502920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0" y="502920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  // cast base-class pointer to derived-class poin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0" y="5290560"/>
                <a:ext cx="6780960" cy="261000"/>
                <a:chOff x="0" y="5290560"/>
                <a:chExt cx="6780960" cy="26100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0" y="529056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0" y="529056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irclePtr =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static_ca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&lt; Circle * &gt;( pointPtr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0" y="5551560"/>
                <a:ext cx="6780960" cy="261000"/>
                <a:chOff x="0" y="5551560"/>
                <a:chExt cx="6780960" cy="26100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0" y="555156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0" y="555156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\nPoint p (via *circlePtr):\n" &lt;&lt; *circlePt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0" y="5812920"/>
                <a:ext cx="6780960" cy="261360"/>
                <a:chOff x="0" y="5812920"/>
                <a:chExt cx="6780960" cy="26136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0" y="5812920"/>
                  <a:ext cx="6780960" cy="261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0" y="5812920"/>
                  <a:ext cx="6780960" cy="261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"\nArea of object circlePtr points to: 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0" y="6074280"/>
                <a:ext cx="6780960" cy="261000"/>
                <a:chOff x="0" y="6074280"/>
                <a:chExt cx="6780960" cy="26100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0" y="607428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0" y="607428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circlePtr-&gt;area() &lt;&lt; endl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0" y="6335640"/>
                <a:ext cx="6780960" cy="261000"/>
                <a:chOff x="0" y="6335640"/>
                <a:chExt cx="6780960" cy="26100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0" y="633564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0" y="633564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return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0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0" y="6596640"/>
                <a:ext cx="6780960" cy="261000"/>
                <a:chOff x="0" y="6596640"/>
                <a:chExt cx="6780960" cy="26100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0" y="659664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0" y="659664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0" name=""/>
            <p:cNvGrpSpPr/>
            <p:nvPr/>
          </p:nvGrpSpPr>
          <p:grpSpPr>
            <a:xfrm>
              <a:off x="0" y="0"/>
              <a:ext cx="6780960" cy="3200040"/>
              <a:chOff x="0" y="0"/>
              <a:chExt cx="6780960" cy="3200040"/>
            </a:xfrm>
          </p:grpSpPr>
          <p:grpSp>
            <p:nvGrpSpPr>
              <p:cNvPr id="541" name=""/>
              <p:cNvGrpSpPr/>
              <p:nvPr/>
            </p:nvGrpSpPr>
            <p:grpSpPr>
              <a:xfrm>
                <a:off x="0" y="0"/>
                <a:ext cx="6780960" cy="266400"/>
                <a:chOff x="0" y="0"/>
                <a:chExt cx="6780960" cy="26640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0" y="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0" y="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ircle *circlePtr = 0, c( 2.7, 120, 89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0" y="266400"/>
                <a:ext cx="6780960" cy="266400"/>
                <a:chOff x="0" y="266400"/>
                <a:chExt cx="6780960" cy="26640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0" y="26640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0" y="26640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0" y="533160"/>
                <a:ext cx="6780960" cy="266760"/>
                <a:chOff x="0" y="533160"/>
                <a:chExt cx="6780960" cy="26676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0" y="533160"/>
                  <a:ext cx="6780960" cy="266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0" y="533160"/>
                  <a:ext cx="6780960" cy="266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Point p: " &lt;&lt; p &lt;&lt; "\nCircle c: " &lt;&lt; c &lt;&lt; '\n'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0" y="799920"/>
                <a:ext cx="6780960" cy="266400"/>
                <a:chOff x="0" y="799920"/>
                <a:chExt cx="6780960" cy="26640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0" y="79992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0" y="79992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0" y="1066680"/>
                <a:ext cx="6780960" cy="266400"/>
                <a:chOff x="0" y="1066680"/>
                <a:chExt cx="6780960" cy="26640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0" y="106668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0" y="106668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  // Treat a Circle as a Point (see only the base class par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0" y="1333440"/>
                <a:ext cx="6780960" cy="266400"/>
                <a:chOff x="0" y="1333440"/>
                <a:chExt cx="6780960" cy="26640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0" y="133344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0" y="133344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pointPtr = &amp;c;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assign address of Circle to pointPt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0" y="1600200"/>
                <a:ext cx="6780960" cy="266760"/>
                <a:chOff x="0" y="1600200"/>
                <a:chExt cx="6780960" cy="26676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0" y="1600200"/>
                  <a:ext cx="6780960" cy="266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0" y="1600200"/>
                  <a:ext cx="6780960" cy="266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\nCircle c (via *pointPtr): "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0" y="1866960"/>
                <a:ext cx="6780960" cy="266400"/>
                <a:chOff x="0" y="1866960"/>
                <a:chExt cx="6780960" cy="26640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0" y="186696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0" y="186696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*pointPtr &lt;&lt; '\n'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0" y="2133720"/>
                <a:ext cx="6780960" cy="266400"/>
                <a:chOff x="0" y="2133720"/>
                <a:chExt cx="6780960" cy="26640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0" y="213372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0" y="213372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0" y="2400120"/>
                <a:ext cx="6780960" cy="266400"/>
                <a:chOff x="0" y="2400120"/>
                <a:chExt cx="6780960" cy="26640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0" y="240012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0" y="240012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  // Treat a Circle as a Circle (with some casting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0" y="2666880"/>
                <a:ext cx="6780960" cy="266760"/>
                <a:chOff x="0" y="2666880"/>
                <a:chExt cx="6780960" cy="26676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0" y="2666880"/>
                  <a:ext cx="6780960" cy="266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0" y="2666880"/>
                  <a:ext cx="6780960" cy="266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  // cast base-class pointer to derived-class poin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0" y="2933640"/>
                <a:ext cx="6780960" cy="266400"/>
                <a:chOff x="0" y="2933640"/>
                <a:chExt cx="6780960" cy="26640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0" y="293364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0" y="293364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irclePtr =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static_ca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&lt; Circle * &gt;( pointPtr );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77" name=""/>
          <p:cNvGrpSpPr/>
          <p:nvPr/>
        </p:nvGrpSpPr>
        <p:grpSpPr>
          <a:xfrm>
            <a:off x="2057400" y="1600200"/>
            <a:ext cx="6629400" cy="3357720"/>
            <a:chOff x="2057400" y="1600200"/>
            <a:chExt cx="6629400" cy="3357720"/>
          </a:xfrm>
        </p:grpSpPr>
        <p:sp>
          <p:nvSpPr>
            <p:cNvPr id="578" name=""/>
            <p:cNvSpPr/>
            <p:nvPr/>
          </p:nvSpPr>
          <p:spPr>
            <a:xfrm>
              <a:off x="6248520" y="3276720"/>
              <a:ext cx="2438280" cy="1681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ssign derived-class pointer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amp;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to base class poin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base class pointer only "sees" the base-class part of the object it points t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 flipV="1">
              <a:off x="2057400" y="1600200"/>
              <a:ext cx="419112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4647960" y="3123720"/>
            <a:ext cx="4115160" cy="3586320"/>
            <a:chOff x="4647960" y="3123720"/>
            <a:chExt cx="4115160" cy="3586320"/>
          </a:xfrm>
        </p:grpSpPr>
        <p:sp>
          <p:nvSpPr>
            <p:cNvPr id="581" name=""/>
            <p:cNvSpPr/>
            <p:nvPr/>
          </p:nvSpPr>
          <p:spPr>
            <a:xfrm>
              <a:off x="6324840" y="5028840"/>
              <a:ext cx="2438280" cy="1681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st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 *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assign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Pt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Ptr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ll tre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object to which it points)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4647960" y="3123720"/>
              <a:ext cx="167652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3352680" y="838080"/>
            <a:ext cx="45720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: [30, 5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: Center = [120, 89]; Radius = 2.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687840" y="1905120"/>
            <a:ext cx="33811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 (via *pointPtr): [120, 8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86200" y="351000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 (via *circlePtr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120, 89]; Radius = 2.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of c (via circlePtr): 22.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304920" y="2332080"/>
            <a:ext cx="3352680" cy="3002040"/>
            <a:chOff x="304920" y="2332080"/>
            <a:chExt cx="3352680" cy="3002040"/>
          </a:xfrm>
        </p:grpSpPr>
        <p:grpSp>
          <p:nvGrpSpPr>
            <p:cNvPr id="587" name=""/>
            <p:cNvGrpSpPr/>
            <p:nvPr/>
          </p:nvGrpSpPr>
          <p:grpSpPr>
            <a:xfrm>
              <a:off x="304920" y="2332080"/>
              <a:ext cx="3352680" cy="2163600"/>
              <a:chOff x="304920" y="2332080"/>
              <a:chExt cx="3352680" cy="2163600"/>
            </a:xfrm>
          </p:grpSpPr>
          <p:sp>
            <p:nvSpPr>
              <p:cNvPr id="588" name=""/>
              <p:cNvSpPr/>
              <p:nvPr/>
            </p:nvSpPr>
            <p:spPr>
              <a:xfrm>
                <a:off x="304920" y="2332080"/>
                <a:ext cx="3352680" cy="192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ssig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ointPt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to a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oi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object.  It has no derived-class information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When it is cast to a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 *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,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Pt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s really assigned to a base-class object with no derived-class information.  This is dangerou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1218960" y="426708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1981080" y="4267080"/>
              <a:ext cx="76212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4343400" y="602460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 (via *circlePtr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30, 50]; Radius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of object circlePtr points to: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A7A50-F99D-418C-84A0-BE731E112B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0"/>
            <a:ext cx="6781680" cy="3196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: [30, 5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: Center = [120, 89]; Radius = 2.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 (via *pointPtr): [120, 8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 (via *circlePtr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120, 89]; Radius = 2.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of c (via circlePtr): 22.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 (via *circlePtr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30, 50]; Radius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of object circlePtr points to: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E796A-DCE6-403D-8D34-90284ECDC2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5     Using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class 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directly acce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of their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tains encaps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is a huge help in testing, debugging and correctly modifying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BBB16-3C8F-45A6-9A2B-92D8D0605F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6   Overriding Base-Class Members in a Derived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verride a base-class member fun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the derived class, supply a new version of that function with the same signa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function name, different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the function is then mentioned by name in the derived class, the derived version is automatically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cope-resolution operator may be used to access the base class version from the derived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B0DC-B17E-434E-9351-0D7DDD7FBE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0" y="0"/>
            <a:ext cx="6780960" cy="3200400"/>
            <a:chOff x="0" y="0"/>
            <a:chExt cx="6780960" cy="3200400"/>
          </a:xfrm>
        </p:grpSpPr>
        <p:grpSp>
          <p:nvGrpSpPr>
            <p:cNvPr id="600" name=""/>
            <p:cNvGrpSpPr/>
            <p:nvPr/>
          </p:nvGrpSpPr>
          <p:grpSpPr>
            <a:xfrm>
              <a:off x="0" y="0"/>
              <a:ext cx="6780960" cy="199800"/>
              <a:chOff x="0" y="0"/>
              <a:chExt cx="6780960" cy="199800"/>
            </a:xfrm>
          </p:grpSpPr>
          <p:sp>
            <p:nvSpPr>
              <p:cNvPr id="601" name=""/>
              <p:cNvSpPr/>
              <p:nvPr/>
            </p:nvSpPr>
            <p:spPr>
              <a:xfrm>
                <a:off x="0" y="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0" y="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5: employ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0" y="199800"/>
              <a:ext cx="6780960" cy="199800"/>
              <a:chOff x="0" y="199800"/>
              <a:chExt cx="6780960" cy="199800"/>
            </a:xfrm>
          </p:grpSpPr>
          <p:sp>
            <p:nvSpPr>
              <p:cNvPr id="604" name=""/>
              <p:cNvSpPr/>
              <p:nvPr/>
            </p:nvSpPr>
            <p:spPr>
              <a:xfrm>
                <a:off x="0" y="1998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0" y="1998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0" y="399960"/>
              <a:ext cx="6780960" cy="199800"/>
              <a:chOff x="0" y="399960"/>
              <a:chExt cx="6780960" cy="199800"/>
            </a:xfrm>
          </p:grpSpPr>
          <p:sp>
            <p:nvSpPr>
              <p:cNvPr id="607" name=""/>
              <p:cNvSpPr/>
              <p:nvPr/>
            </p:nvSpPr>
            <p:spPr>
              <a:xfrm>
                <a:off x="0" y="39996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39996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0" y="600120"/>
              <a:ext cx="6780960" cy="199800"/>
              <a:chOff x="0" y="600120"/>
              <a:chExt cx="6780960" cy="199800"/>
            </a:xfrm>
          </p:grpSpPr>
          <p:sp>
            <p:nvSpPr>
              <p:cNvPr id="610" name=""/>
              <p:cNvSpPr/>
              <p:nvPr/>
            </p:nvSpPr>
            <p:spPr>
              <a:xfrm>
                <a:off x="0" y="6001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0" y="6001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0" y="799920"/>
              <a:ext cx="6780960" cy="199800"/>
              <a:chOff x="0" y="799920"/>
              <a:chExt cx="6780960" cy="199800"/>
            </a:xfrm>
          </p:grpSpPr>
          <p:sp>
            <p:nvSpPr>
              <p:cNvPr id="613" name=""/>
              <p:cNvSpPr/>
              <p:nvPr/>
            </p:nvSpPr>
            <p:spPr>
              <a:xfrm>
                <a:off x="0" y="7999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0" y="7999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0" y="1000080"/>
              <a:ext cx="6780960" cy="199800"/>
              <a:chOff x="0" y="1000080"/>
              <a:chExt cx="6780960" cy="199800"/>
            </a:xfrm>
          </p:grpSpPr>
          <p:sp>
            <p:nvSpPr>
              <p:cNvPr id="616" name=""/>
              <p:cNvSpPr/>
              <p:nvPr/>
            </p:nvSpPr>
            <p:spPr>
              <a:xfrm>
                <a:off x="0" y="100008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100008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0" y="1199880"/>
              <a:ext cx="6780960" cy="199800"/>
              <a:chOff x="0" y="1199880"/>
              <a:chExt cx="6780960" cy="199800"/>
            </a:xfrm>
          </p:grpSpPr>
          <p:sp>
            <p:nvSpPr>
              <p:cNvPr id="619" name=""/>
              <p:cNvSpPr/>
              <p:nvPr/>
            </p:nvSpPr>
            <p:spPr>
              <a:xfrm>
                <a:off x="0" y="119988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0" y="119988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0" y="1400040"/>
              <a:ext cx="6780960" cy="199800"/>
              <a:chOff x="0" y="1400040"/>
              <a:chExt cx="6780960" cy="199800"/>
            </a:xfrm>
          </p:grpSpPr>
          <p:sp>
            <p:nvSpPr>
              <p:cNvPr id="622" name=""/>
              <p:cNvSpPr/>
              <p:nvPr/>
            </p:nvSpPr>
            <p:spPr>
              <a:xfrm>
                <a:off x="0" y="140004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0" y="140004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0" y="1600200"/>
              <a:ext cx="6780960" cy="199800"/>
              <a:chOff x="0" y="1600200"/>
              <a:chExt cx="6780960" cy="199800"/>
            </a:xfrm>
          </p:grpSpPr>
          <p:sp>
            <p:nvSpPr>
              <p:cNvPr id="625" name=""/>
              <p:cNvSpPr/>
              <p:nvPr/>
            </p:nvSpPr>
            <p:spPr>
              <a:xfrm>
                <a:off x="0" y="16002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16002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output first and la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0" y="1800000"/>
              <a:ext cx="6780960" cy="199800"/>
              <a:chOff x="0" y="1800000"/>
              <a:chExt cx="6780960" cy="199800"/>
            </a:xfrm>
          </p:grpSpPr>
          <p:sp>
            <p:nvSpPr>
              <p:cNvPr id="628" name=""/>
              <p:cNvSpPr/>
              <p:nvPr/>
            </p:nvSpPr>
            <p:spPr>
              <a:xfrm>
                <a:off x="0" y="18000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0" y="18000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~Employee(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0" y="2000160"/>
              <a:ext cx="6780960" cy="199800"/>
              <a:chOff x="0" y="2000160"/>
              <a:chExt cx="6780960" cy="199800"/>
            </a:xfrm>
          </p:grpSpPr>
          <p:sp>
            <p:nvSpPr>
              <p:cNvPr id="631" name=""/>
              <p:cNvSpPr/>
              <p:nvPr/>
            </p:nvSpPr>
            <p:spPr>
              <a:xfrm>
                <a:off x="0" y="200016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200016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0" y="2200320"/>
              <a:ext cx="6780960" cy="199800"/>
              <a:chOff x="0" y="2200320"/>
              <a:chExt cx="6780960" cy="199800"/>
            </a:xfrm>
          </p:grpSpPr>
          <p:sp>
            <p:nvSpPr>
              <p:cNvPr id="634" name=""/>
              <p:cNvSpPr/>
              <p:nvPr/>
            </p:nvSpPr>
            <p:spPr>
              <a:xfrm>
                <a:off x="0" y="22003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22003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Name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dynamically allocated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0" y="2400120"/>
              <a:ext cx="6780960" cy="199800"/>
              <a:chOff x="0" y="2400120"/>
              <a:chExt cx="6780960" cy="199800"/>
            </a:xfrm>
          </p:grpSpPr>
          <p:sp>
            <p:nvSpPr>
              <p:cNvPr id="637" name=""/>
              <p:cNvSpPr/>
              <p:nvPr/>
            </p:nvSpPr>
            <p:spPr>
              <a:xfrm>
                <a:off x="0" y="24001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24001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Name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dynamically allocated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0" y="2600280"/>
              <a:ext cx="6780960" cy="199800"/>
              <a:chOff x="0" y="2600280"/>
              <a:chExt cx="6780960" cy="199800"/>
            </a:xfrm>
          </p:grpSpPr>
          <p:sp>
            <p:nvSpPr>
              <p:cNvPr id="640" name=""/>
              <p:cNvSpPr/>
              <p:nvPr/>
            </p:nvSpPr>
            <p:spPr>
              <a:xfrm>
                <a:off x="0" y="260028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260028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0" y="2800440"/>
              <a:ext cx="6780960" cy="199800"/>
              <a:chOff x="0" y="2800440"/>
              <a:chExt cx="6780960" cy="199800"/>
            </a:xfrm>
          </p:grpSpPr>
          <p:sp>
            <p:nvSpPr>
              <p:cNvPr id="643" name=""/>
              <p:cNvSpPr/>
              <p:nvPr/>
            </p:nvSpPr>
            <p:spPr>
              <a:xfrm>
                <a:off x="0" y="280044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280044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0" y="3000600"/>
              <a:ext cx="6780960" cy="199800"/>
              <a:chOff x="0" y="3000600"/>
              <a:chExt cx="6780960" cy="199800"/>
            </a:xfrm>
          </p:grpSpPr>
          <p:sp>
            <p:nvSpPr>
              <p:cNvPr id="646" name=""/>
              <p:cNvSpPr/>
              <p:nvPr/>
            </p:nvSpPr>
            <p:spPr>
              <a:xfrm>
                <a:off x="0" y="30006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7" name=""/>
              <p:cNvGrpSpPr/>
              <p:nvPr/>
            </p:nvGrpSpPr>
            <p:grpSpPr>
              <a:xfrm>
                <a:off x="0" y="3000600"/>
                <a:ext cx="6780600" cy="199800"/>
                <a:chOff x="0" y="3000600"/>
                <a:chExt cx="6780600" cy="19980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0" y="3000600"/>
                  <a:ext cx="6780600" cy="199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0" y="3000600"/>
                  <a:ext cx="6780600" cy="19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50" name=""/>
          <p:cNvGrpSpPr/>
          <p:nvPr/>
        </p:nvGrpSpPr>
        <p:grpSpPr>
          <a:xfrm>
            <a:off x="0" y="3200400"/>
            <a:ext cx="6780960" cy="3657240"/>
            <a:chOff x="0" y="3200400"/>
            <a:chExt cx="6780960" cy="3657240"/>
          </a:xfrm>
        </p:grpSpPr>
        <p:grpSp>
          <p:nvGrpSpPr>
            <p:cNvPr id="651" name=""/>
            <p:cNvGrpSpPr/>
            <p:nvPr/>
          </p:nvGrpSpPr>
          <p:grpSpPr>
            <a:xfrm>
              <a:off x="0" y="3200400"/>
              <a:ext cx="6780960" cy="228240"/>
              <a:chOff x="0" y="3200400"/>
              <a:chExt cx="6780960" cy="228240"/>
            </a:xfrm>
          </p:grpSpPr>
          <p:sp>
            <p:nvSpPr>
              <p:cNvPr id="652" name=""/>
              <p:cNvSpPr/>
              <p:nvPr/>
            </p:nvSpPr>
            <p:spPr>
              <a:xfrm>
                <a:off x="0" y="3200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3200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5: employ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0" y="3428640"/>
              <a:ext cx="6780960" cy="228240"/>
              <a:chOff x="0" y="3428640"/>
              <a:chExt cx="6780960" cy="228240"/>
            </a:xfrm>
          </p:grpSpPr>
          <p:sp>
            <p:nvSpPr>
              <p:cNvPr id="655" name=""/>
              <p:cNvSpPr/>
              <p:nvPr/>
            </p:nvSpPr>
            <p:spPr>
              <a:xfrm>
                <a:off x="0" y="34286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0" y="34286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0" y="3657240"/>
              <a:ext cx="6780960" cy="228600"/>
              <a:chOff x="0" y="3657240"/>
              <a:chExt cx="6780960" cy="228600"/>
            </a:xfrm>
          </p:grpSpPr>
          <p:sp>
            <p:nvSpPr>
              <p:cNvPr id="658" name=""/>
              <p:cNvSpPr/>
              <p:nvPr/>
            </p:nvSpPr>
            <p:spPr>
              <a:xfrm>
                <a:off x="0" y="3657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0" y="3657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661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664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0" y="4343400"/>
              <a:ext cx="6780960" cy="228240"/>
              <a:chOff x="0" y="4343400"/>
              <a:chExt cx="6780960" cy="228240"/>
            </a:xfrm>
          </p:grpSpPr>
          <p:sp>
            <p:nvSpPr>
              <p:cNvPr id="667" name="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0" y="4572000"/>
              <a:ext cx="6780960" cy="228600"/>
              <a:chOff x="0" y="4572000"/>
              <a:chExt cx="6780960" cy="228600"/>
            </a:xfrm>
          </p:grpSpPr>
          <p:sp>
            <p:nvSpPr>
              <p:cNvPr id="670" name=""/>
              <p:cNvSpPr/>
              <p:nvPr/>
            </p:nvSpPr>
            <p:spPr>
              <a:xfrm>
                <a:off x="0" y="4572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0" y="4572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string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673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asser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676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0" y="5257800"/>
              <a:ext cx="6780960" cy="228240"/>
              <a:chOff x="0" y="5257800"/>
              <a:chExt cx="6780960" cy="228240"/>
            </a:xfrm>
          </p:grpSpPr>
          <p:sp>
            <p:nvSpPr>
              <p:cNvPr id="679" name="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0" y="5486400"/>
              <a:ext cx="6780960" cy="228600"/>
              <a:chOff x="0" y="5486400"/>
              <a:chExt cx="6780960" cy="228600"/>
            </a:xfrm>
          </p:grpSpPr>
          <p:sp>
            <p:nvSpPr>
              <p:cNvPr id="682" name=""/>
              <p:cNvSpPr/>
              <p:nvPr/>
            </p:nvSpPr>
            <p:spPr>
              <a:xfrm>
                <a:off x="0" y="5486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0" y="5486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dynamically allocates space for th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685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rst and last name and uses strcpy to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688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he first and last names into the objec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0" y="6172200"/>
              <a:ext cx="6780960" cy="228240"/>
              <a:chOff x="0" y="6172200"/>
              <a:chExt cx="6780960" cy="228240"/>
            </a:xfrm>
          </p:grpSpPr>
          <p:sp>
            <p:nvSpPr>
              <p:cNvPr id="691" name="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0" y="6400800"/>
              <a:ext cx="6780960" cy="228600"/>
              <a:chOff x="0" y="6400800"/>
              <a:chExt cx="6780960" cy="228600"/>
            </a:xfrm>
          </p:grpSpPr>
          <p:sp>
            <p:nvSpPr>
              <p:cNvPr id="694" name=""/>
              <p:cNvSpPr/>
              <p:nvPr/>
            </p:nvSpPr>
            <p:spPr>
              <a:xfrm>
                <a:off x="0" y="6400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0" y="6400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697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r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 strlen( fir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3046B-4D2F-491E-BC8D-71B1E55E30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lyWork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0" y="0"/>
            <a:ext cx="6705000" cy="3733920"/>
            <a:chOff x="0" y="0"/>
            <a:chExt cx="6705000" cy="3733920"/>
          </a:xfrm>
        </p:grpSpPr>
        <p:grpSp>
          <p:nvGrpSpPr>
            <p:cNvPr id="701" name=""/>
            <p:cNvGrpSpPr/>
            <p:nvPr/>
          </p:nvGrpSpPr>
          <p:grpSpPr>
            <a:xfrm>
              <a:off x="0" y="0"/>
              <a:ext cx="6705000" cy="207360"/>
              <a:chOff x="0" y="0"/>
              <a:chExt cx="6705000" cy="207360"/>
            </a:xfrm>
          </p:grpSpPr>
          <p:sp>
            <p:nvSpPr>
              <p:cNvPr id="702" name=""/>
              <p:cNvSpPr/>
              <p:nvPr/>
            </p:nvSpPr>
            <p:spPr>
              <a:xfrm>
                <a:off x="0" y="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0" y="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ssert( firstName != 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erminate if not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0" y="207360"/>
              <a:ext cx="6705000" cy="207360"/>
              <a:chOff x="0" y="207360"/>
              <a:chExt cx="6705000" cy="207360"/>
            </a:xfrm>
          </p:grpSpPr>
          <p:sp>
            <p:nvSpPr>
              <p:cNvPr id="705" name=""/>
              <p:cNvSpPr/>
              <p:nvPr/>
            </p:nvSpPr>
            <p:spPr>
              <a:xfrm>
                <a:off x="0" y="2073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0" y="2073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cpy( firstName, fir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0" y="414720"/>
              <a:ext cx="6705000" cy="207360"/>
              <a:chOff x="0" y="414720"/>
              <a:chExt cx="6705000" cy="207360"/>
            </a:xfrm>
          </p:grpSpPr>
          <p:sp>
            <p:nvSpPr>
              <p:cNvPr id="708" name=""/>
              <p:cNvSpPr/>
              <p:nvPr/>
            </p:nvSpPr>
            <p:spPr>
              <a:xfrm>
                <a:off x="0" y="4147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0" y="4147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0" y="622080"/>
              <a:ext cx="6705000" cy="207360"/>
              <a:chOff x="0" y="622080"/>
              <a:chExt cx="6705000" cy="207360"/>
            </a:xfrm>
          </p:grpSpPr>
          <p:sp>
            <p:nvSpPr>
              <p:cNvPr id="711" name=""/>
              <p:cNvSpPr/>
              <p:nvPr/>
            </p:nvSpPr>
            <p:spPr>
              <a:xfrm>
                <a:off x="0" y="6220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0" y="6220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la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 strlen( la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0" y="829800"/>
              <a:ext cx="6705000" cy="207360"/>
              <a:chOff x="0" y="829800"/>
              <a:chExt cx="6705000" cy="207360"/>
            </a:xfrm>
          </p:grpSpPr>
          <p:sp>
            <p:nvSpPr>
              <p:cNvPr id="714" name=""/>
              <p:cNvSpPr/>
              <p:nvPr/>
            </p:nvSpPr>
            <p:spPr>
              <a:xfrm>
                <a:off x="0" y="8298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0" y="8298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ssert( lastName !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erminate if not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0" y="1037160"/>
              <a:ext cx="6705000" cy="207360"/>
              <a:chOff x="0" y="1037160"/>
              <a:chExt cx="6705000" cy="207360"/>
            </a:xfrm>
          </p:grpSpPr>
          <p:sp>
            <p:nvSpPr>
              <p:cNvPr id="717" name=""/>
              <p:cNvSpPr/>
              <p:nvPr/>
            </p:nvSpPr>
            <p:spPr>
              <a:xfrm>
                <a:off x="0" y="10371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0" y="10371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cpy( lastName, la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0" y="1244520"/>
              <a:ext cx="6705000" cy="207360"/>
              <a:chOff x="0" y="1244520"/>
              <a:chExt cx="6705000" cy="207360"/>
            </a:xfrm>
          </p:grpSpPr>
          <p:sp>
            <p:nvSpPr>
              <p:cNvPr id="720" name=""/>
              <p:cNvSpPr/>
              <p:nvPr/>
            </p:nvSpPr>
            <p:spPr>
              <a:xfrm>
                <a:off x="0" y="12445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0" y="12445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0" y="1451880"/>
              <a:ext cx="6705000" cy="207360"/>
              <a:chOff x="0" y="1451880"/>
              <a:chExt cx="6705000" cy="207360"/>
            </a:xfrm>
          </p:grpSpPr>
          <p:sp>
            <p:nvSpPr>
              <p:cNvPr id="723" name=""/>
              <p:cNvSpPr/>
              <p:nvPr/>
            </p:nvSpPr>
            <p:spPr>
              <a:xfrm>
                <a:off x="0" y="14518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0" y="14518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0" y="1659600"/>
              <a:ext cx="6705000" cy="207360"/>
              <a:chOff x="0" y="1659600"/>
              <a:chExt cx="6705000" cy="207360"/>
            </a:xfrm>
          </p:grpSpPr>
          <p:sp>
            <p:nvSpPr>
              <p:cNvPr id="726" name=""/>
              <p:cNvSpPr/>
              <p:nvPr/>
            </p:nvSpPr>
            <p:spPr>
              <a:xfrm>
                <a:off x="0" y="16596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0" y="16596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employee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0" y="1866960"/>
              <a:ext cx="6705000" cy="207360"/>
              <a:chOff x="0" y="1866960"/>
              <a:chExt cx="6705000" cy="207360"/>
            </a:xfrm>
          </p:grpSpPr>
          <p:sp>
            <p:nvSpPr>
              <p:cNvPr id="729" name=""/>
              <p:cNvSpPr/>
              <p:nvPr/>
            </p:nvSpPr>
            <p:spPr>
              <a:xfrm>
                <a:off x="0" y="18669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0" y="18669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0" y="2074320"/>
              <a:ext cx="6705000" cy="207360"/>
              <a:chOff x="0" y="2074320"/>
              <a:chExt cx="6705000" cy="207360"/>
            </a:xfrm>
          </p:grpSpPr>
          <p:sp>
            <p:nvSpPr>
              <p:cNvPr id="732" name=""/>
              <p:cNvSpPr/>
              <p:nvPr/>
            </p:nvSpPr>
            <p:spPr>
              <a:xfrm>
                <a:off x="0" y="20743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0" y="20743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cout &lt;&lt; firstName &lt;&lt; ' ' &lt;&lt; lastNam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0" y="2282040"/>
              <a:ext cx="6705000" cy="207360"/>
              <a:chOff x="0" y="2282040"/>
              <a:chExt cx="6705000" cy="207360"/>
            </a:xfrm>
          </p:grpSpPr>
          <p:sp>
            <p:nvSpPr>
              <p:cNvPr id="735" name=""/>
              <p:cNvSpPr/>
              <p:nvPr/>
            </p:nvSpPr>
            <p:spPr>
              <a:xfrm>
                <a:off x="0" y="22820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0" y="22820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0" y="2489400"/>
              <a:ext cx="6705000" cy="207360"/>
              <a:chOff x="0" y="2489400"/>
              <a:chExt cx="6705000" cy="207360"/>
            </a:xfrm>
          </p:grpSpPr>
          <p:sp>
            <p:nvSpPr>
              <p:cNvPr id="738" name=""/>
              <p:cNvSpPr/>
              <p:nvPr/>
            </p:nvSpPr>
            <p:spPr>
              <a:xfrm>
                <a:off x="0" y="24894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24894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 deallocates dynamically allocated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0" y="2696760"/>
              <a:ext cx="6705000" cy="207360"/>
              <a:chOff x="0" y="2696760"/>
              <a:chExt cx="6705000" cy="207360"/>
            </a:xfrm>
          </p:grpSpPr>
          <p:sp>
            <p:nvSpPr>
              <p:cNvPr id="741" name=""/>
              <p:cNvSpPr/>
              <p:nvPr/>
            </p:nvSpPr>
            <p:spPr>
              <a:xfrm>
                <a:off x="0" y="26967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0" y="26967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~Employe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0" y="2904120"/>
              <a:ext cx="6705000" cy="207360"/>
              <a:chOff x="0" y="2904120"/>
              <a:chExt cx="6705000" cy="207360"/>
            </a:xfrm>
          </p:grpSpPr>
          <p:sp>
            <p:nvSpPr>
              <p:cNvPr id="744" name=""/>
              <p:cNvSpPr/>
              <p:nvPr/>
            </p:nvSpPr>
            <p:spPr>
              <a:xfrm>
                <a:off x="0" y="29041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9041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0" y="3111840"/>
              <a:ext cx="6705000" cy="207360"/>
              <a:chOff x="0" y="3111840"/>
              <a:chExt cx="6705000" cy="207360"/>
            </a:xfrm>
          </p:grpSpPr>
          <p:sp>
            <p:nvSpPr>
              <p:cNvPr id="747" name=""/>
              <p:cNvSpPr/>
              <p:nvPr/>
            </p:nvSpPr>
            <p:spPr>
              <a:xfrm>
                <a:off x="0" y="31118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0" y="31118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firstNam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claim dynamic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0" y="3319200"/>
              <a:ext cx="6705000" cy="207360"/>
              <a:chOff x="0" y="3319200"/>
              <a:chExt cx="6705000" cy="207360"/>
            </a:xfrm>
          </p:grpSpPr>
          <p:sp>
            <p:nvSpPr>
              <p:cNvPr id="750" name=""/>
              <p:cNvSpPr/>
              <p:nvPr/>
            </p:nvSpPr>
            <p:spPr>
              <a:xfrm>
                <a:off x="0" y="33192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0" y="33192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lastNam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claim dynamic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0" y="3526560"/>
              <a:ext cx="6705000" cy="207360"/>
              <a:chOff x="0" y="3526560"/>
              <a:chExt cx="6705000" cy="207360"/>
            </a:xfrm>
          </p:grpSpPr>
          <p:sp>
            <p:nvSpPr>
              <p:cNvPr id="753" name=""/>
              <p:cNvSpPr/>
              <p:nvPr/>
            </p:nvSpPr>
            <p:spPr>
              <a:xfrm>
                <a:off x="0" y="35265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0" y="35265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5" name=""/>
          <p:cNvGrpSpPr/>
          <p:nvPr/>
        </p:nvGrpSpPr>
        <p:grpSpPr>
          <a:xfrm>
            <a:off x="0" y="3733920"/>
            <a:ext cx="6705000" cy="3124080"/>
            <a:chOff x="0" y="3733920"/>
            <a:chExt cx="6705000" cy="3124080"/>
          </a:xfrm>
        </p:grpSpPr>
        <p:grpSp>
          <p:nvGrpSpPr>
            <p:cNvPr id="756" name=""/>
            <p:cNvGrpSpPr/>
            <p:nvPr/>
          </p:nvGrpSpPr>
          <p:grpSpPr>
            <a:xfrm>
              <a:off x="0" y="3733920"/>
              <a:ext cx="6705000" cy="240120"/>
              <a:chOff x="0" y="3733920"/>
              <a:chExt cx="6705000" cy="240120"/>
            </a:xfrm>
          </p:grpSpPr>
          <p:sp>
            <p:nvSpPr>
              <p:cNvPr id="757" name=""/>
              <p:cNvSpPr/>
              <p:nvPr/>
            </p:nvSpPr>
            <p:spPr>
              <a:xfrm>
                <a:off x="0" y="37339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0" y="37339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5: hourly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0" y="3974040"/>
              <a:ext cx="6705000" cy="240120"/>
              <a:chOff x="0" y="3974040"/>
              <a:chExt cx="6705000" cy="240120"/>
            </a:xfrm>
          </p:grpSpPr>
          <p:sp>
            <p:nvSpPr>
              <p:cNvPr id="760" name=""/>
              <p:cNvSpPr/>
              <p:nvPr/>
            </p:nvSpPr>
            <p:spPr>
              <a:xfrm>
                <a:off x="0" y="39740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0" y="39740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0" y="4214160"/>
              <a:ext cx="6705000" cy="240120"/>
              <a:chOff x="0" y="4214160"/>
              <a:chExt cx="6705000" cy="240120"/>
            </a:xfrm>
          </p:grpSpPr>
          <p:sp>
            <p:nvSpPr>
              <p:cNvPr id="763" name=""/>
              <p:cNvSpPr/>
              <p:nvPr/>
            </p:nvSpPr>
            <p:spPr>
              <a:xfrm>
                <a:off x="0" y="421416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0" y="421416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0" y="4454640"/>
              <a:ext cx="6705000" cy="240120"/>
              <a:chOff x="0" y="4454640"/>
              <a:chExt cx="6705000" cy="240120"/>
            </a:xfrm>
          </p:grpSpPr>
          <p:sp>
            <p:nvSpPr>
              <p:cNvPr id="766" name=""/>
              <p:cNvSpPr/>
              <p:nvPr/>
            </p:nvSpPr>
            <p:spPr>
              <a:xfrm>
                <a:off x="0" y="44546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0" y="44546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0" y="4695120"/>
              <a:ext cx="6705000" cy="240120"/>
              <a:chOff x="0" y="4695120"/>
              <a:chExt cx="6705000" cy="240120"/>
            </a:xfrm>
          </p:grpSpPr>
          <p:sp>
            <p:nvSpPr>
              <p:cNvPr id="769" name=""/>
              <p:cNvSpPr/>
              <p:nvPr/>
            </p:nvSpPr>
            <p:spPr>
              <a:xfrm>
                <a:off x="0" y="46951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46951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0" y="4935240"/>
              <a:ext cx="6705000" cy="240120"/>
              <a:chOff x="0" y="4935240"/>
              <a:chExt cx="6705000" cy="240120"/>
            </a:xfrm>
          </p:grpSpPr>
          <p:sp>
            <p:nvSpPr>
              <p:cNvPr id="772" name=""/>
              <p:cNvSpPr/>
              <p:nvPr/>
            </p:nvSpPr>
            <p:spPr>
              <a:xfrm>
                <a:off x="0" y="49352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0" y="49352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0" y="5175720"/>
              <a:ext cx="6705000" cy="240120"/>
              <a:chOff x="0" y="5175720"/>
              <a:chExt cx="6705000" cy="240120"/>
            </a:xfrm>
          </p:grpSpPr>
          <p:sp>
            <p:nvSpPr>
              <p:cNvPr id="775" name=""/>
              <p:cNvSpPr/>
              <p:nvPr/>
            </p:nvSpPr>
            <p:spPr>
              <a:xfrm>
                <a:off x="0" y="51757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0" y="51757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0" y="5416200"/>
              <a:ext cx="6705000" cy="240120"/>
              <a:chOff x="0" y="5416200"/>
              <a:chExt cx="6705000" cy="240120"/>
            </a:xfrm>
          </p:grpSpPr>
          <p:sp>
            <p:nvSpPr>
              <p:cNvPr id="778" name=""/>
              <p:cNvSpPr/>
              <p:nvPr/>
            </p:nvSpPr>
            <p:spPr>
              <a:xfrm>
                <a:off x="0" y="54162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0" y="54162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5656320"/>
              <a:ext cx="6705000" cy="240120"/>
              <a:chOff x="0" y="5656320"/>
              <a:chExt cx="6705000" cy="24012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56563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0" y="56563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0" y="5896800"/>
              <a:ext cx="6705000" cy="240120"/>
              <a:chOff x="0" y="5896800"/>
              <a:chExt cx="6705000" cy="240120"/>
            </a:xfrm>
          </p:grpSpPr>
          <p:sp>
            <p:nvSpPr>
              <p:cNvPr id="784" name=""/>
              <p:cNvSpPr/>
              <p:nvPr/>
            </p:nvSpPr>
            <p:spPr>
              <a:xfrm>
                <a:off x="0" y="58968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0" y="58968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ly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0" y="6136920"/>
              <a:ext cx="6705000" cy="240120"/>
              <a:chOff x="0" y="6136920"/>
              <a:chExt cx="6705000" cy="240120"/>
            </a:xfrm>
          </p:grpSpPr>
          <p:sp>
            <p:nvSpPr>
              <p:cNvPr id="787" name=""/>
              <p:cNvSpPr/>
              <p:nvPr/>
            </p:nvSpPr>
            <p:spPr>
              <a:xfrm>
                <a:off x="0" y="61369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0" y="61369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Pa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and return sala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0" y="6377400"/>
              <a:ext cx="6705000" cy="240120"/>
              <a:chOff x="0" y="6377400"/>
              <a:chExt cx="6705000" cy="240120"/>
            </a:xfrm>
          </p:grpSpPr>
          <p:sp>
            <p:nvSpPr>
              <p:cNvPr id="790" name=""/>
              <p:cNvSpPr/>
              <p:nvPr/>
            </p:nvSpPr>
            <p:spPr>
              <a:xfrm>
                <a:off x="0" y="63774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63774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verridden base-class pr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0" y="6617880"/>
              <a:ext cx="6705000" cy="240120"/>
              <a:chOff x="0" y="6617880"/>
              <a:chExt cx="6705000" cy="240120"/>
            </a:xfrm>
          </p:grpSpPr>
          <p:sp>
            <p:nvSpPr>
              <p:cNvPr id="793" name=""/>
              <p:cNvSpPr/>
              <p:nvPr/>
            </p:nvSpPr>
            <p:spPr>
              <a:xfrm>
                <a:off x="0" y="66178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0" y="66178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5" name=""/>
          <p:cNvGrpSpPr/>
          <p:nvPr/>
        </p:nvGrpSpPr>
        <p:grpSpPr>
          <a:xfrm>
            <a:off x="3809880" y="3976920"/>
            <a:ext cx="4724640" cy="1357200"/>
            <a:chOff x="3809880" y="3976920"/>
            <a:chExt cx="4724640" cy="1357200"/>
          </a:xfrm>
        </p:grpSpPr>
        <p:sp>
          <p:nvSpPr>
            <p:cNvPr id="796" name=""/>
            <p:cNvSpPr/>
            <p:nvPr/>
          </p:nvSpPr>
          <p:spPr>
            <a:xfrm flipV="1">
              <a:off x="6095880" y="397656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lyWork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3809880" y="4114800"/>
              <a:ext cx="22860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2514240" y="5181480"/>
            <a:ext cx="6324840" cy="1295640"/>
            <a:chOff x="2514240" y="5181480"/>
            <a:chExt cx="6324840" cy="1295640"/>
          </a:xfrm>
        </p:grpSpPr>
        <p:sp>
          <p:nvSpPr>
            <p:cNvPr id="799" name=""/>
            <p:cNvSpPr/>
            <p:nvPr/>
          </p:nvSpPr>
          <p:spPr>
            <a:xfrm>
              <a:off x="6019920" y="5181480"/>
              <a:ext cx="2819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lyWork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ll overrid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2514240" y="5410080"/>
              <a:ext cx="350532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3F2F8-54E3-4F08-9495-08D58A353B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0" y="0"/>
            <a:ext cx="6780960" cy="990720"/>
            <a:chOff x="0" y="0"/>
            <a:chExt cx="6780960" cy="990720"/>
          </a:xfrm>
        </p:grpSpPr>
        <p:grpSp>
          <p:nvGrpSpPr>
            <p:cNvPr id="803" name=""/>
            <p:cNvGrpSpPr/>
            <p:nvPr/>
          </p:nvGrpSpPr>
          <p:grpSpPr>
            <a:xfrm>
              <a:off x="0" y="0"/>
              <a:ext cx="6780960" cy="198000"/>
              <a:chOff x="0" y="0"/>
              <a:chExt cx="6780960" cy="198000"/>
            </a:xfrm>
          </p:grpSpPr>
          <p:sp>
            <p:nvSpPr>
              <p:cNvPr id="804" name=""/>
              <p:cNvSpPr/>
              <p:nvPr/>
            </p:nvSpPr>
            <p:spPr>
              <a:xfrm>
                <a:off x="0" y="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0" y="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age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age per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0" y="198000"/>
              <a:ext cx="6780960" cy="198000"/>
              <a:chOff x="0" y="198000"/>
              <a:chExt cx="6780960" cy="198000"/>
            </a:xfrm>
          </p:grpSpPr>
          <p:sp>
            <p:nvSpPr>
              <p:cNvPr id="807" name=""/>
              <p:cNvSpPr/>
              <p:nvPr/>
            </p:nvSpPr>
            <p:spPr>
              <a:xfrm>
                <a:off x="0" y="19800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0" y="19800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s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hours worked fo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0" y="396000"/>
              <a:ext cx="6780960" cy="198000"/>
              <a:chOff x="0" y="396000"/>
              <a:chExt cx="6780960" cy="198000"/>
            </a:xfrm>
          </p:grpSpPr>
          <p:sp>
            <p:nvSpPr>
              <p:cNvPr id="810" name=""/>
              <p:cNvSpPr/>
              <p:nvPr/>
            </p:nvSpPr>
            <p:spPr>
              <a:xfrm>
                <a:off x="0" y="39600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39600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0" y="594360"/>
              <a:ext cx="6780960" cy="198000"/>
              <a:chOff x="0" y="594360"/>
              <a:chExt cx="6780960" cy="198000"/>
            </a:xfrm>
          </p:grpSpPr>
          <p:sp>
            <p:nvSpPr>
              <p:cNvPr id="813" name=""/>
              <p:cNvSpPr/>
              <p:nvPr/>
            </p:nvSpPr>
            <p:spPr>
              <a:xfrm>
                <a:off x="0" y="59436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0" y="59436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0" y="792720"/>
              <a:ext cx="6780960" cy="198000"/>
              <a:chOff x="0" y="792720"/>
              <a:chExt cx="6780960" cy="198000"/>
            </a:xfrm>
          </p:grpSpPr>
          <p:sp>
            <p:nvSpPr>
              <p:cNvPr id="816" name=""/>
              <p:cNvSpPr/>
              <p:nvPr/>
            </p:nvSpPr>
            <p:spPr>
              <a:xfrm>
                <a:off x="0" y="79272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0" y="79272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8" name=""/>
          <p:cNvGrpSpPr/>
          <p:nvPr/>
        </p:nvGrpSpPr>
        <p:grpSpPr>
          <a:xfrm>
            <a:off x="0" y="990720"/>
            <a:ext cx="6780960" cy="5867280"/>
            <a:chOff x="0" y="990720"/>
            <a:chExt cx="6780960" cy="5867280"/>
          </a:xfrm>
        </p:grpSpPr>
        <p:grpSp>
          <p:nvGrpSpPr>
            <p:cNvPr id="819" name=""/>
            <p:cNvGrpSpPr/>
            <p:nvPr/>
          </p:nvGrpSpPr>
          <p:grpSpPr>
            <a:xfrm>
              <a:off x="0" y="990720"/>
              <a:ext cx="6780960" cy="217080"/>
              <a:chOff x="0" y="990720"/>
              <a:chExt cx="6780960" cy="217080"/>
            </a:xfrm>
          </p:grpSpPr>
          <p:sp>
            <p:nvSpPr>
              <p:cNvPr id="820" name=""/>
              <p:cNvSpPr/>
              <p:nvPr/>
            </p:nvSpPr>
            <p:spPr>
              <a:xfrm>
                <a:off x="0" y="9907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0" y="9907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5: hourly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0" y="1207800"/>
              <a:ext cx="6780960" cy="217080"/>
              <a:chOff x="0" y="1207800"/>
              <a:chExt cx="6780960" cy="217080"/>
            </a:xfrm>
          </p:grpSpPr>
          <p:sp>
            <p:nvSpPr>
              <p:cNvPr id="823" name=""/>
              <p:cNvSpPr/>
              <p:nvPr/>
            </p:nvSpPr>
            <p:spPr>
              <a:xfrm>
                <a:off x="0" y="12078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0" y="12078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0" y="1425240"/>
              <a:ext cx="6780960" cy="217080"/>
              <a:chOff x="0" y="1425240"/>
              <a:chExt cx="6780960" cy="217080"/>
            </a:xfrm>
          </p:grpSpPr>
          <p:sp>
            <p:nvSpPr>
              <p:cNvPr id="826" name=""/>
              <p:cNvSpPr/>
              <p:nvPr/>
            </p:nvSpPr>
            <p:spPr>
              <a:xfrm>
                <a:off x="0" y="14252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14252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0" y="1642680"/>
              <a:ext cx="6780960" cy="217080"/>
              <a:chOff x="0" y="1642680"/>
              <a:chExt cx="6780960" cy="217080"/>
            </a:xfrm>
          </p:grpSpPr>
          <p:sp>
            <p:nvSpPr>
              <p:cNvPr id="829" name=""/>
              <p:cNvSpPr/>
              <p:nvPr/>
            </p:nvSpPr>
            <p:spPr>
              <a:xfrm>
                <a:off x="0" y="16426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0" y="16426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0" y="1859760"/>
              <a:ext cx="6780960" cy="217080"/>
              <a:chOff x="0" y="1859760"/>
              <a:chExt cx="6780960" cy="217080"/>
            </a:xfrm>
          </p:grpSpPr>
          <p:sp>
            <p:nvSpPr>
              <p:cNvPr id="832" name=""/>
              <p:cNvSpPr/>
              <p:nvPr/>
            </p:nvSpPr>
            <p:spPr>
              <a:xfrm>
                <a:off x="0" y="18597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0" y="18597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0" y="2077200"/>
              <a:ext cx="6780960" cy="217080"/>
              <a:chOff x="0" y="2077200"/>
              <a:chExt cx="6780960" cy="217080"/>
            </a:xfrm>
          </p:grpSpPr>
          <p:sp>
            <p:nvSpPr>
              <p:cNvPr id="835" name=""/>
              <p:cNvSpPr/>
              <p:nvPr/>
            </p:nvSpPr>
            <p:spPr>
              <a:xfrm>
                <a:off x="0" y="20772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0" y="20772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0" y="2294280"/>
              <a:ext cx="6780960" cy="217080"/>
              <a:chOff x="0" y="2294280"/>
              <a:chExt cx="6780960" cy="217080"/>
            </a:xfrm>
          </p:grpSpPr>
          <p:sp>
            <p:nvSpPr>
              <p:cNvPr id="838" name=""/>
              <p:cNvSpPr/>
              <p:nvPr/>
            </p:nvSpPr>
            <p:spPr>
              <a:xfrm>
                <a:off x="0" y="22942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0" y="22942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0" y="2511720"/>
              <a:ext cx="6780960" cy="217080"/>
              <a:chOff x="0" y="2511720"/>
              <a:chExt cx="6780960" cy="217080"/>
            </a:xfrm>
          </p:grpSpPr>
          <p:sp>
            <p:nvSpPr>
              <p:cNvPr id="841" name=""/>
              <p:cNvSpPr/>
              <p:nvPr/>
            </p:nvSpPr>
            <p:spPr>
              <a:xfrm>
                <a:off x="0" y="25117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25117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0" y="2729160"/>
              <a:ext cx="6780960" cy="217080"/>
              <a:chOff x="0" y="2729160"/>
              <a:chExt cx="6780960" cy="217080"/>
            </a:xfrm>
          </p:grpSpPr>
          <p:sp>
            <p:nvSpPr>
              <p:cNvPr id="844" name=""/>
              <p:cNvSpPr/>
              <p:nvPr/>
            </p:nvSpPr>
            <p:spPr>
              <a:xfrm>
                <a:off x="0" y="27291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0" y="27291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0" y="2946240"/>
              <a:ext cx="6780960" cy="217080"/>
              <a:chOff x="0" y="2946240"/>
              <a:chExt cx="6780960" cy="217080"/>
            </a:xfrm>
          </p:grpSpPr>
          <p:sp>
            <p:nvSpPr>
              <p:cNvPr id="847" name=""/>
              <p:cNvSpPr/>
              <p:nvPr/>
            </p:nvSpPr>
            <p:spPr>
              <a:xfrm>
                <a:off x="0" y="29462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0" y="29462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0" y="3163680"/>
              <a:ext cx="6780960" cy="217080"/>
              <a:chOff x="0" y="3163680"/>
              <a:chExt cx="6780960" cy="217080"/>
            </a:xfrm>
          </p:grpSpPr>
          <p:sp>
            <p:nvSpPr>
              <p:cNvPr id="850" name=""/>
              <p:cNvSpPr/>
              <p:nvPr/>
            </p:nvSpPr>
            <p:spPr>
              <a:xfrm>
                <a:off x="0" y="31636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0" y="31636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0" y="3381120"/>
              <a:ext cx="6780960" cy="217080"/>
              <a:chOff x="0" y="3381120"/>
              <a:chExt cx="6780960" cy="217080"/>
            </a:xfrm>
          </p:grpSpPr>
          <p:sp>
            <p:nvSpPr>
              <p:cNvPr id="853" name=""/>
              <p:cNvSpPr/>
              <p:nvPr/>
            </p:nvSpPr>
            <p:spPr>
              <a:xfrm>
                <a:off x="0" y="33811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0" y="33811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0" y="3598200"/>
              <a:ext cx="6780960" cy="217080"/>
              <a:chOff x="0" y="3598200"/>
              <a:chExt cx="6780960" cy="217080"/>
            </a:xfrm>
          </p:grpSpPr>
          <p:sp>
            <p:nvSpPr>
              <p:cNvPr id="856" name=""/>
              <p:cNvSpPr/>
              <p:nvPr/>
            </p:nvSpPr>
            <p:spPr>
              <a:xfrm>
                <a:off x="0" y="35982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982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0" y="3815640"/>
              <a:ext cx="6780960" cy="217080"/>
              <a:chOff x="0" y="3815640"/>
              <a:chExt cx="6780960" cy="217080"/>
            </a:xfrm>
          </p:grpSpPr>
          <p:sp>
            <p:nvSpPr>
              <p:cNvPr id="859" name=""/>
              <p:cNvSpPr/>
              <p:nvPr/>
            </p:nvSpPr>
            <p:spPr>
              <a:xfrm>
                <a:off x="0" y="38156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0" y="38156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hourly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0" y="4033080"/>
              <a:ext cx="6780960" cy="217080"/>
              <a:chOff x="0" y="4033080"/>
              <a:chExt cx="6780960" cy="217080"/>
            </a:xfrm>
          </p:grpSpPr>
          <p:sp>
            <p:nvSpPr>
              <p:cNvPr id="862" name=""/>
              <p:cNvSpPr/>
              <p:nvPr/>
            </p:nvSpPr>
            <p:spPr>
              <a:xfrm>
                <a:off x="0" y="40330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0" y="40330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0" y="4250520"/>
              <a:ext cx="6780960" cy="217080"/>
              <a:chOff x="0" y="4250520"/>
              <a:chExt cx="6780960" cy="217080"/>
            </a:xfrm>
          </p:grpSpPr>
          <p:sp>
            <p:nvSpPr>
              <p:cNvPr id="865" name=""/>
              <p:cNvSpPr/>
              <p:nvPr/>
            </p:nvSpPr>
            <p:spPr>
              <a:xfrm>
                <a:off x="0" y="42505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0" y="42505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0" y="4467600"/>
              <a:ext cx="6780960" cy="217080"/>
              <a:chOff x="0" y="4467600"/>
              <a:chExt cx="6780960" cy="217080"/>
            </a:xfrm>
          </p:grpSpPr>
          <p:sp>
            <p:nvSpPr>
              <p:cNvPr id="868" name=""/>
              <p:cNvSpPr/>
              <p:nvPr/>
            </p:nvSpPr>
            <p:spPr>
              <a:xfrm>
                <a:off x="0" y="44676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0" y="44676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HourlyWorker::Hourly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0" y="4685040"/>
              <a:ext cx="6780960" cy="217080"/>
              <a:chOff x="0" y="4685040"/>
              <a:chExt cx="6780960" cy="217080"/>
            </a:xfrm>
          </p:grpSpPr>
          <p:sp>
            <p:nvSpPr>
              <p:cNvPr id="871" name=""/>
              <p:cNvSpPr/>
              <p:nvPr/>
            </p:nvSpPr>
            <p:spPr>
              <a:xfrm>
                <a:off x="0" y="46850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0" y="46850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0" y="4902120"/>
              <a:ext cx="6780960" cy="217080"/>
              <a:chOff x="0" y="4902120"/>
              <a:chExt cx="6780960" cy="217080"/>
            </a:xfrm>
          </p:grpSpPr>
          <p:sp>
            <p:nvSpPr>
              <p:cNvPr id="874" name=""/>
              <p:cNvSpPr/>
              <p:nvPr/>
            </p:nvSpPr>
            <p:spPr>
              <a:xfrm>
                <a:off x="0" y="49021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0" y="49021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itHours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itWag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0" y="5119560"/>
              <a:ext cx="6780960" cy="217080"/>
              <a:chOff x="0" y="5119560"/>
              <a:chExt cx="6780960" cy="217080"/>
            </a:xfrm>
          </p:grpSpPr>
          <p:sp>
            <p:nvSpPr>
              <p:cNvPr id="877" name=""/>
              <p:cNvSpPr/>
              <p:nvPr/>
            </p:nvSpPr>
            <p:spPr>
              <a:xfrm>
                <a:off x="0" y="51195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51195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Employee( first, last )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0" y="5337000"/>
              <a:ext cx="6780960" cy="217080"/>
              <a:chOff x="0" y="5337000"/>
              <a:chExt cx="6780960" cy="217080"/>
            </a:xfrm>
          </p:grpSpPr>
          <p:sp>
            <p:nvSpPr>
              <p:cNvPr id="880" name=""/>
              <p:cNvSpPr/>
              <p:nvPr/>
            </p:nvSpPr>
            <p:spPr>
              <a:xfrm>
                <a:off x="0" y="53370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0" y="53370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0" y="5554080"/>
              <a:ext cx="6780960" cy="217080"/>
              <a:chOff x="0" y="5554080"/>
              <a:chExt cx="6780960" cy="217080"/>
            </a:xfrm>
          </p:grpSpPr>
          <p:sp>
            <p:nvSpPr>
              <p:cNvPr id="883" name=""/>
              <p:cNvSpPr/>
              <p:nvPr/>
            </p:nvSpPr>
            <p:spPr>
              <a:xfrm>
                <a:off x="0" y="55540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0" y="55540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s = initHours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hould vali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0" y="5771520"/>
              <a:ext cx="6780960" cy="217080"/>
              <a:chOff x="0" y="5771520"/>
              <a:chExt cx="6780960" cy="217080"/>
            </a:xfrm>
          </p:grpSpPr>
          <p:sp>
            <p:nvSpPr>
              <p:cNvPr id="886" name=""/>
              <p:cNvSpPr/>
              <p:nvPr/>
            </p:nvSpPr>
            <p:spPr>
              <a:xfrm>
                <a:off x="0" y="57715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0" y="57715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wage = initWage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hould vali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0" y="5988600"/>
              <a:ext cx="6780960" cy="217080"/>
              <a:chOff x="0" y="5988600"/>
              <a:chExt cx="6780960" cy="217080"/>
            </a:xfrm>
          </p:grpSpPr>
          <p:sp>
            <p:nvSpPr>
              <p:cNvPr id="889" name=""/>
              <p:cNvSpPr/>
              <p:nvPr/>
            </p:nvSpPr>
            <p:spPr>
              <a:xfrm>
                <a:off x="0" y="59886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0" y="59886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0" y="6206040"/>
              <a:ext cx="6780960" cy="217080"/>
              <a:chOff x="0" y="6206040"/>
              <a:chExt cx="6780960" cy="217080"/>
            </a:xfrm>
          </p:grpSpPr>
          <p:sp>
            <p:nvSpPr>
              <p:cNvPr id="892" name=""/>
              <p:cNvSpPr/>
              <p:nvPr/>
            </p:nvSpPr>
            <p:spPr>
              <a:xfrm>
                <a:off x="0" y="62060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62060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0" y="6423480"/>
              <a:ext cx="6780960" cy="217080"/>
              <a:chOff x="0" y="6423480"/>
              <a:chExt cx="6780960" cy="217080"/>
            </a:xfrm>
          </p:grpSpPr>
          <p:sp>
            <p:nvSpPr>
              <p:cNvPr id="895" name=""/>
              <p:cNvSpPr/>
              <p:nvPr/>
            </p:nvSpPr>
            <p:spPr>
              <a:xfrm>
                <a:off x="0" y="64234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0" y="64234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HourlyWorker's p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0" y="6640920"/>
              <a:ext cx="6780960" cy="217080"/>
              <a:chOff x="0" y="6640920"/>
              <a:chExt cx="6780960" cy="217080"/>
            </a:xfrm>
          </p:grpSpPr>
          <p:sp>
            <p:nvSpPr>
              <p:cNvPr id="898" name=""/>
              <p:cNvSpPr/>
              <p:nvPr/>
            </p:nvSpPr>
            <p:spPr>
              <a:xfrm>
                <a:off x="0" y="66409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0" y="66409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::getPa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age * hour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A9C50-1406-4BFB-8C5E-BA47F6CA75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 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w classes created from existing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sorb attributes and behavi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that inherits data members and member functions from a previously defined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 inherita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inherits from one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 inherita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inherits from multiple base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s of inheri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: Derived objects are accessible by the base class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: Derived objects are inaccessible by the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ed: Derived classes and friends can access protected members of the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9B2B4-CC0F-4EC9-9103-B249BF2419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0" y="0"/>
            <a:ext cx="6780960" cy="2971440"/>
            <a:chOff x="0" y="0"/>
            <a:chExt cx="6780960" cy="2971440"/>
          </a:xfrm>
        </p:grpSpPr>
        <p:grpSp>
          <p:nvGrpSpPr>
            <p:cNvPr id="902" name=""/>
            <p:cNvGrpSpPr/>
            <p:nvPr/>
          </p:nvGrpSpPr>
          <p:grpSpPr>
            <a:xfrm>
              <a:off x="0" y="0"/>
              <a:ext cx="6780960" cy="270000"/>
              <a:chOff x="0" y="0"/>
              <a:chExt cx="6780960" cy="270000"/>
            </a:xfrm>
          </p:grpSpPr>
          <p:sp>
            <p:nvSpPr>
              <p:cNvPr id="903" name=""/>
              <p:cNvSpPr/>
              <p:nvPr/>
            </p:nvSpPr>
            <p:spPr>
              <a:xfrm>
                <a:off x="0" y="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0" y="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0" y="270000"/>
              <a:ext cx="6780960" cy="270000"/>
              <a:chOff x="0" y="270000"/>
              <a:chExt cx="6780960" cy="270000"/>
            </a:xfrm>
          </p:grpSpPr>
          <p:sp>
            <p:nvSpPr>
              <p:cNvPr id="906" name=""/>
              <p:cNvSpPr/>
              <p:nvPr/>
            </p:nvSpPr>
            <p:spPr>
              <a:xfrm>
                <a:off x="0" y="27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0" y="27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HourlyWorker's name and p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0" y="540000"/>
              <a:ext cx="6780960" cy="270000"/>
              <a:chOff x="0" y="540000"/>
              <a:chExt cx="6780960" cy="270000"/>
            </a:xfrm>
          </p:grpSpPr>
          <p:sp>
            <p:nvSpPr>
              <p:cNvPr id="909" name=""/>
              <p:cNvSpPr/>
              <p:nvPr/>
            </p:nvSpPr>
            <p:spPr>
              <a:xfrm>
                <a:off x="0" y="54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0" y="54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0" y="810360"/>
              <a:ext cx="6780960" cy="270000"/>
              <a:chOff x="0" y="810360"/>
              <a:chExt cx="6780960" cy="270000"/>
            </a:xfrm>
          </p:grpSpPr>
          <p:sp>
            <p:nvSpPr>
              <p:cNvPr id="912" name=""/>
              <p:cNvSpPr/>
              <p:nvPr/>
            </p:nvSpPr>
            <p:spPr>
              <a:xfrm>
                <a:off x="0" y="81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0" y="81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0" y="1080360"/>
              <a:ext cx="6780960" cy="270000"/>
              <a:chOff x="0" y="1080360"/>
              <a:chExt cx="6780960" cy="270000"/>
            </a:xfrm>
          </p:grpSpPr>
          <p:sp>
            <p:nvSpPr>
              <p:cNvPr id="915" name=""/>
              <p:cNvSpPr/>
              <p:nvPr/>
            </p:nvSpPr>
            <p:spPr>
              <a:xfrm>
                <a:off x="0" y="108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0" y="108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HourlyWorker::print() is executing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0" y="1350720"/>
              <a:ext cx="6780960" cy="270000"/>
              <a:chOff x="0" y="1350720"/>
              <a:chExt cx="6780960" cy="270000"/>
            </a:xfrm>
          </p:grpSpPr>
          <p:sp>
            <p:nvSpPr>
              <p:cNvPr id="918" name=""/>
              <p:cNvSpPr/>
              <p:nvPr/>
            </p:nvSpPr>
            <p:spPr>
              <a:xfrm>
                <a:off x="0" y="135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135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::print(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print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0" y="1620720"/>
              <a:ext cx="6780960" cy="270000"/>
              <a:chOff x="0" y="1620720"/>
              <a:chExt cx="6780960" cy="270000"/>
            </a:xfrm>
          </p:grpSpPr>
          <p:sp>
            <p:nvSpPr>
              <p:cNvPr id="921" name=""/>
              <p:cNvSpPr/>
              <p:nvPr/>
            </p:nvSpPr>
            <p:spPr>
              <a:xfrm>
                <a:off x="0" y="162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0" y="162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0" y="1891080"/>
              <a:ext cx="6780960" cy="270000"/>
              <a:chOff x="0" y="1891080"/>
              <a:chExt cx="6780960" cy="270000"/>
            </a:xfrm>
          </p:grpSpPr>
          <p:sp>
            <p:nvSpPr>
              <p:cNvPr id="924" name=""/>
              <p:cNvSpPr/>
              <p:nvPr/>
            </p:nvSpPr>
            <p:spPr>
              <a:xfrm>
                <a:off x="0" y="189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0" y="189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is an hourly worker with pay of $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0" y="2161080"/>
              <a:ext cx="6780960" cy="270000"/>
              <a:chOff x="0" y="2161080"/>
              <a:chExt cx="6780960" cy="270000"/>
            </a:xfrm>
          </p:grpSpPr>
          <p:sp>
            <p:nvSpPr>
              <p:cNvPr id="927" name=""/>
              <p:cNvSpPr/>
              <p:nvPr/>
            </p:nvSpPr>
            <p:spPr>
              <a:xfrm>
                <a:off x="0" y="216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0" y="216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9" name=""/>
            <p:cNvGrpSpPr/>
            <p:nvPr/>
          </p:nvGrpSpPr>
          <p:grpSpPr>
            <a:xfrm>
              <a:off x="0" y="2431440"/>
              <a:ext cx="6780960" cy="270000"/>
              <a:chOff x="0" y="2431440"/>
              <a:chExt cx="6780960" cy="270000"/>
            </a:xfrm>
          </p:grpSpPr>
          <p:sp>
            <p:nvSpPr>
              <p:cNvPr id="930" name=""/>
              <p:cNvSpPr/>
              <p:nvPr/>
            </p:nvSpPr>
            <p:spPr>
              <a:xfrm>
                <a:off x="0" y="243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0" y="243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precision( 2 ) &lt;&lt; getPay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0" y="2701440"/>
              <a:ext cx="6780960" cy="270000"/>
              <a:chOff x="0" y="2701440"/>
              <a:chExt cx="6780960" cy="270000"/>
            </a:xfrm>
          </p:grpSpPr>
          <p:sp>
            <p:nvSpPr>
              <p:cNvPr id="933" name=""/>
              <p:cNvSpPr/>
              <p:nvPr/>
            </p:nvSpPr>
            <p:spPr>
              <a:xfrm>
                <a:off x="0" y="270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270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5" name=""/>
          <p:cNvGrpSpPr/>
          <p:nvPr/>
        </p:nvGrpSpPr>
        <p:grpSpPr>
          <a:xfrm>
            <a:off x="0" y="2895480"/>
            <a:ext cx="6780960" cy="3353040"/>
            <a:chOff x="0" y="2895480"/>
            <a:chExt cx="6780960" cy="3353040"/>
          </a:xfrm>
        </p:grpSpPr>
        <p:grpSp>
          <p:nvGrpSpPr>
            <p:cNvPr id="936" name=""/>
            <p:cNvGrpSpPr/>
            <p:nvPr/>
          </p:nvGrpSpPr>
          <p:grpSpPr>
            <a:xfrm>
              <a:off x="0" y="2895480"/>
              <a:ext cx="6780960" cy="304560"/>
              <a:chOff x="0" y="2895480"/>
              <a:chExt cx="6780960" cy="304560"/>
            </a:xfrm>
          </p:grpSpPr>
          <p:sp>
            <p:nvSpPr>
              <p:cNvPr id="937" name=""/>
              <p:cNvSpPr/>
              <p:nvPr/>
            </p:nvSpPr>
            <p:spPr>
              <a:xfrm>
                <a:off x="0" y="289548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0" y="289548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5: fig09_0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0" y="3200040"/>
              <a:ext cx="6780960" cy="304560"/>
              <a:chOff x="0" y="3200040"/>
              <a:chExt cx="6780960" cy="304560"/>
            </a:xfrm>
          </p:grpSpPr>
          <p:sp>
            <p:nvSpPr>
              <p:cNvPr id="940" name=""/>
              <p:cNvSpPr/>
              <p:nvPr/>
            </p:nvSpPr>
            <p:spPr>
              <a:xfrm>
                <a:off x="0" y="320004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0" y="320004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verriding a base-class member function in 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0" y="3504960"/>
              <a:ext cx="6780960" cy="304920"/>
              <a:chOff x="0" y="3504960"/>
              <a:chExt cx="6780960" cy="304920"/>
            </a:xfrm>
          </p:grpSpPr>
          <p:sp>
            <p:nvSpPr>
              <p:cNvPr id="943" name=""/>
              <p:cNvSpPr/>
              <p:nvPr/>
            </p:nvSpPr>
            <p:spPr>
              <a:xfrm>
                <a:off x="0" y="350496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0" y="350496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rived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0" y="3809880"/>
              <a:ext cx="6780960" cy="304560"/>
              <a:chOff x="0" y="3809880"/>
              <a:chExt cx="6780960" cy="304560"/>
            </a:xfrm>
          </p:grpSpPr>
          <p:sp>
            <p:nvSpPr>
              <p:cNvPr id="946" name=""/>
              <p:cNvSpPr/>
              <p:nvPr/>
            </p:nvSpPr>
            <p:spPr>
              <a:xfrm>
                <a:off x="0" y="380988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0" y="380988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hourly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0" y="4114800"/>
              <a:ext cx="6780960" cy="304560"/>
              <a:chOff x="0" y="4114800"/>
              <a:chExt cx="6780960" cy="304560"/>
            </a:xfrm>
          </p:grpSpPr>
          <p:sp>
            <p:nvSpPr>
              <p:cNvPr id="949" name=""/>
              <p:cNvSpPr/>
              <p:nvPr/>
            </p:nvSpPr>
            <p:spPr>
              <a:xfrm>
                <a:off x="0" y="411480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411480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0" y="4419360"/>
              <a:ext cx="6780960" cy="304560"/>
              <a:chOff x="0" y="4419360"/>
              <a:chExt cx="6780960" cy="304560"/>
            </a:xfrm>
          </p:grpSpPr>
          <p:sp>
            <p:nvSpPr>
              <p:cNvPr id="952" name=""/>
              <p:cNvSpPr/>
              <p:nvPr/>
            </p:nvSpPr>
            <p:spPr>
              <a:xfrm>
                <a:off x="0" y="441936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0" y="441936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0" y="4724280"/>
              <a:ext cx="6780960" cy="304920"/>
              <a:chOff x="0" y="4724280"/>
              <a:chExt cx="6780960" cy="304920"/>
            </a:xfrm>
          </p:grpSpPr>
          <p:sp>
            <p:nvSpPr>
              <p:cNvPr id="955" name=""/>
              <p:cNvSpPr/>
              <p:nvPr/>
            </p:nvSpPr>
            <p:spPr>
              <a:xfrm>
                <a:off x="0" y="472428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0" y="472428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0" y="5029200"/>
              <a:ext cx="6780960" cy="304560"/>
              <a:chOff x="0" y="5029200"/>
              <a:chExt cx="6780960" cy="304560"/>
            </a:xfrm>
          </p:grpSpPr>
          <p:sp>
            <p:nvSpPr>
              <p:cNvPr id="958" name=""/>
              <p:cNvSpPr/>
              <p:nvPr/>
            </p:nvSpPr>
            <p:spPr>
              <a:xfrm>
                <a:off x="0" y="502920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0" y="502920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lyWorker h( "Bob", "Smith", 40.0, 10.0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0" y="5334120"/>
              <a:ext cx="6780960" cy="304560"/>
              <a:chOff x="0" y="5334120"/>
              <a:chExt cx="6780960" cy="304560"/>
            </a:xfrm>
          </p:grpSpPr>
          <p:sp>
            <p:nvSpPr>
              <p:cNvPr id="961" name=""/>
              <p:cNvSpPr/>
              <p:nvPr/>
            </p:nvSpPr>
            <p:spPr>
              <a:xfrm>
                <a:off x="0" y="533412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0" y="533412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0" y="5638680"/>
              <a:ext cx="6780960" cy="304560"/>
              <a:chOff x="0" y="5638680"/>
              <a:chExt cx="6780960" cy="304560"/>
            </a:xfrm>
          </p:grpSpPr>
          <p:sp>
            <p:nvSpPr>
              <p:cNvPr id="964" name=""/>
              <p:cNvSpPr/>
              <p:nvPr/>
            </p:nvSpPr>
            <p:spPr>
              <a:xfrm>
                <a:off x="0" y="563868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563868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0" y="5943600"/>
              <a:ext cx="6780960" cy="304920"/>
              <a:chOff x="0" y="5943600"/>
              <a:chExt cx="6780960" cy="304920"/>
            </a:xfrm>
          </p:grpSpPr>
          <p:sp>
            <p:nvSpPr>
              <p:cNvPr id="967" name=""/>
              <p:cNvSpPr/>
              <p:nvPr/>
            </p:nvSpPr>
            <p:spPr>
              <a:xfrm>
                <a:off x="0" y="594360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0" y="594360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9" name=""/>
          <p:cNvSpPr/>
          <p:nvPr/>
        </p:nvSpPr>
        <p:spPr>
          <a:xfrm>
            <a:off x="0" y="621828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lyWorker::print() is exec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b Smith is an hourly worker with pay of $400.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1981080" y="914040"/>
            <a:ext cx="6705720" cy="3614760"/>
            <a:chOff x="1981080" y="914040"/>
            <a:chExt cx="6705720" cy="3614760"/>
          </a:xfrm>
        </p:grpSpPr>
        <p:grpSp>
          <p:nvGrpSpPr>
            <p:cNvPr id="971" name=""/>
            <p:cNvGrpSpPr/>
            <p:nvPr/>
          </p:nvGrpSpPr>
          <p:grpSpPr>
            <a:xfrm>
              <a:off x="3276360" y="914040"/>
              <a:ext cx="5410440" cy="3614760"/>
              <a:chOff x="3276360" y="914040"/>
              <a:chExt cx="5410440" cy="3614760"/>
            </a:xfrm>
          </p:grpSpPr>
          <p:sp>
            <p:nvSpPr>
              <p:cNvPr id="972" name=""/>
              <p:cNvSpPr/>
              <p:nvPr/>
            </p:nvSpPr>
            <p:spPr>
              <a:xfrm>
                <a:off x="6095880" y="2514600"/>
                <a:ext cx="2590920" cy="2014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he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rin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function is overriden in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HourlyWorker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.  However, the new function still can call the origina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rin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function using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: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 flipV="1">
                <a:off x="3276360" y="914040"/>
                <a:ext cx="281916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4" name=""/>
            <p:cNvSpPr/>
            <p:nvPr/>
          </p:nvSpPr>
          <p:spPr>
            <a:xfrm flipH="1" flipV="1">
              <a:off x="1981080" y="1676520"/>
              <a:ext cx="4114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02F06-3186-4665-AB1C-22F6B3AC4B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7   public, private, and protected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-304920" y="1219320"/>
          <a:ext cx="9525240" cy="51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1219320"/>
                    <a:ext cx="95252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1028C-140E-4F10-8704-EFEADA6468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8   Direct and Indirect Bas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base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licitly listed derived class’s header with the colon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notation when that derived class is decla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HourlyWorker : public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direct base clas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urlyWo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rect base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listed in derived class’s hea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ed from two or more levels up the class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MinuteWorker : public HourlyWo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indirect base clas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uteWo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5ADDC-B701-4F04-BA47-76352E1726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9   Using Constructors and Destructors in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class initializ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member-initializer syntax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provided in the derived class constructor to call the base-class constructor explici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 base class’s default constructor called implici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-class constructors and base-class assignment operators are not inherited by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-class constructors and assignment operators, however, can call base-class constructors and assignment op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D2B59-CE20-4183-8757-12EFF0338B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9   Using Constructors and Destructors in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rived-class construc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s the constructor for its base class first to initialize its base-class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derived-class constructor is omitted, its default constructor calls the base-class’ default con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ors are called in the reverse order of constructor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 a derived-class destructor is called before its base-class de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B9EB7-FD90-4221-8AA9-B3269959603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0" y="0"/>
            <a:ext cx="6705000" cy="3124080"/>
            <a:chOff x="0" y="0"/>
            <a:chExt cx="6705000" cy="3124080"/>
          </a:xfrm>
        </p:grpSpPr>
        <p:grpSp>
          <p:nvGrpSpPr>
            <p:cNvPr id="986" name=""/>
            <p:cNvGrpSpPr/>
            <p:nvPr/>
          </p:nvGrpSpPr>
          <p:grpSpPr>
            <a:xfrm>
              <a:off x="0" y="0"/>
              <a:ext cx="6705000" cy="221760"/>
              <a:chOff x="0" y="0"/>
              <a:chExt cx="6705000" cy="221760"/>
            </a:xfrm>
          </p:grpSpPr>
          <p:sp>
            <p:nvSpPr>
              <p:cNvPr id="987" name=""/>
              <p:cNvSpPr/>
              <p:nvPr/>
            </p:nvSpPr>
            <p:spPr>
              <a:xfrm>
                <a:off x="0" y="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0" y="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7: point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0" y="221760"/>
              <a:ext cx="6705000" cy="239040"/>
              <a:chOff x="0" y="221760"/>
              <a:chExt cx="6705000" cy="239040"/>
            </a:xfrm>
          </p:grpSpPr>
          <p:sp>
            <p:nvSpPr>
              <p:cNvPr id="990" name=""/>
              <p:cNvSpPr/>
              <p:nvPr/>
            </p:nvSpPr>
            <p:spPr>
              <a:xfrm>
                <a:off x="0" y="221760"/>
                <a:ext cx="6705000" cy="239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0" y="221760"/>
                <a:ext cx="6705000" cy="239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0" y="460800"/>
              <a:ext cx="6705000" cy="221760"/>
              <a:chOff x="0" y="460800"/>
              <a:chExt cx="6705000" cy="221760"/>
            </a:xfrm>
          </p:grpSpPr>
          <p:sp>
            <p:nvSpPr>
              <p:cNvPr id="993" name=""/>
              <p:cNvSpPr/>
              <p:nvPr/>
            </p:nvSpPr>
            <p:spPr>
              <a:xfrm>
                <a:off x="0" y="4608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0" y="4608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0" y="682920"/>
              <a:ext cx="6705000" cy="221760"/>
              <a:chOff x="0" y="682920"/>
              <a:chExt cx="6705000" cy="221760"/>
            </a:xfrm>
          </p:grpSpPr>
          <p:sp>
            <p:nvSpPr>
              <p:cNvPr id="996" name=""/>
              <p:cNvSpPr/>
              <p:nvPr/>
            </p:nvSpPr>
            <p:spPr>
              <a:xfrm>
                <a:off x="0" y="6829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0" y="6829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0" y="904680"/>
              <a:ext cx="6705000" cy="221760"/>
              <a:chOff x="0" y="904680"/>
              <a:chExt cx="6705000" cy="221760"/>
            </a:xfrm>
          </p:grpSpPr>
          <p:sp>
            <p:nvSpPr>
              <p:cNvPr id="999" name=""/>
              <p:cNvSpPr/>
              <p:nvPr/>
            </p:nvSpPr>
            <p:spPr>
              <a:xfrm>
                <a:off x="0" y="90468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0" y="90468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0" y="1126800"/>
              <a:ext cx="6705000" cy="221760"/>
              <a:chOff x="0" y="1126800"/>
              <a:chExt cx="6705000" cy="221760"/>
            </a:xfrm>
          </p:grpSpPr>
          <p:sp>
            <p:nvSpPr>
              <p:cNvPr id="1002" name=""/>
              <p:cNvSpPr/>
              <p:nvPr/>
            </p:nvSpPr>
            <p:spPr>
              <a:xfrm>
                <a:off x="0" y="11268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0" y="11268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0" y="1348560"/>
              <a:ext cx="6705000" cy="221760"/>
              <a:chOff x="0" y="1348560"/>
              <a:chExt cx="6705000" cy="221760"/>
            </a:xfrm>
          </p:grpSpPr>
          <p:sp>
            <p:nvSpPr>
              <p:cNvPr id="1005" name=""/>
              <p:cNvSpPr/>
              <p:nvPr/>
            </p:nvSpPr>
            <p:spPr>
              <a:xfrm>
                <a:off x="0" y="134856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0" y="134856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0" y="1570680"/>
              <a:ext cx="6705000" cy="221760"/>
              <a:chOff x="0" y="1570680"/>
              <a:chExt cx="6705000" cy="221760"/>
            </a:xfrm>
          </p:grpSpPr>
          <p:sp>
            <p:nvSpPr>
              <p:cNvPr id="1008" name=""/>
              <p:cNvSpPr/>
              <p:nvPr/>
            </p:nvSpPr>
            <p:spPr>
              <a:xfrm>
                <a:off x="0" y="157068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0" y="157068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0" y="1792440"/>
              <a:ext cx="6705000" cy="221760"/>
              <a:chOff x="0" y="1792440"/>
              <a:chExt cx="6705000" cy="221760"/>
            </a:xfrm>
          </p:grpSpPr>
          <p:sp>
            <p:nvSpPr>
              <p:cNvPr id="1011" name=""/>
              <p:cNvSpPr/>
              <p:nvPr/>
            </p:nvSpPr>
            <p:spPr>
              <a:xfrm>
                <a:off x="0" y="179244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0" y="179244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~Point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0" y="2014560"/>
              <a:ext cx="6705000" cy="221760"/>
              <a:chOff x="0" y="2014560"/>
              <a:chExt cx="6705000" cy="221760"/>
            </a:xfrm>
          </p:grpSpPr>
          <p:sp>
            <p:nvSpPr>
              <p:cNvPr id="1014" name=""/>
              <p:cNvSpPr/>
              <p:nvPr/>
            </p:nvSpPr>
            <p:spPr>
              <a:xfrm>
                <a:off x="0" y="201456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0" y="201456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ccessible by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0" y="2236320"/>
              <a:ext cx="6705000" cy="221760"/>
              <a:chOff x="0" y="2236320"/>
              <a:chExt cx="6705000" cy="221760"/>
            </a:xfrm>
          </p:grpSpPr>
          <p:sp>
            <p:nvSpPr>
              <p:cNvPr id="1017" name=""/>
              <p:cNvSpPr/>
              <p:nvPr/>
            </p:nvSpPr>
            <p:spPr>
              <a:xfrm>
                <a:off x="0" y="22363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0" y="22363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y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x and y coordinates of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0" y="2458440"/>
              <a:ext cx="6705000" cy="221760"/>
              <a:chOff x="0" y="2458440"/>
              <a:chExt cx="6705000" cy="221760"/>
            </a:xfrm>
          </p:grpSpPr>
          <p:sp>
            <p:nvSpPr>
              <p:cNvPr id="1020" name=""/>
              <p:cNvSpPr/>
              <p:nvPr/>
            </p:nvSpPr>
            <p:spPr>
              <a:xfrm>
                <a:off x="0" y="245844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0" y="245844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0" y="2680200"/>
              <a:ext cx="6705000" cy="221760"/>
              <a:chOff x="0" y="2680200"/>
              <a:chExt cx="6705000" cy="221760"/>
            </a:xfrm>
          </p:grpSpPr>
          <p:sp>
            <p:nvSpPr>
              <p:cNvPr id="1023" name=""/>
              <p:cNvSpPr/>
              <p:nvPr/>
            </p:nvSpPr>
            <p:spPr>
              <a:xfrm>
                <a:off x="0" y="26802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0" y="26802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0" y="2902320"/>
              <a:ext cx="6705000" cy="221760"/>
              <a:chOff x="0" y="2902320"/>
              <a:chExt cx="6705000" cy="221760"/>
            </a:xfrm>
          </p:grpSpPr>
          <p:sp>
            <p:nvSpPr>
              <p:cNvPr id="1026" name=""/>
              <p:cNvSpPr/>
              <p:nvPr/>
            </p:nvSpPr>
            <p:spPr>
              <a:xfrm>
                <a:off x="0" y="29023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0" y="29023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8" name=""/>
          <p:cNvGrpSpPr/>
          <p:nvPr/>
        </p:nvGrpSpPr>
        <p:grpSpPr>
          <a:xfrm>
            <a:off x="0" y="3124080"/>
            <a:ext cx="6705000" cy="3733920"/>
            <a:chOff x="0" y="3124080"/>
            <a:chExt cx="6705000" cy="3733920"/>
          </a:xfrm>
        </p:grpSpPr>
        <p:grpSp>
          <p:nvGrpSpPr>
            <p:cNvPr id="1029" name=""/>
            <p:cNvGrpSpPr/>
            <p:nvPr/>
          </p:nvGrpSpPr>
          <p:grpSpPr>
            <a:xfrm>
              <a:off x="0" y="3124080"/>
              <a:ext cx="6705000" cy="207360"/>
              <a:chOff x="0" y="3124080"/>
              <a:chExt cx="6705000" cy="207360"/>
            </a:xfrm>
          </p:grpSpPr>
          <p:sp>
            <p:nvSpPr>
              <p:cNvPr id="1030" name=""/>
              <p:cNvSpPr/>
              <p:nvPr/>
            </p:nvSpPr>
            <p:spPr>
              <a:xfrm>
                <a:off x="0" y="31240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0" y="31240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7: point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2" name=""/>
            <p:cNvGrpSpPr/>
            <p:nvPr/>
          </p:nvGrpSpPr>
          <p:grpSpPr>
            <a:xfrm>
              <a:off x="0" y="3331440"/>
              <a:ext cx="6705000" cy="207360"/>
              <a:chOff x="0" y="3331440"/>
              <a:chExt cx="6705000" cy="207360"/>
            </a:xfrm>
          </p:grpSpPr>
          <p:sp>
            <p:nvSpPr>
              <p:cNvPr id="1033" name=""/>
              <p:cNvSpPr/>
              <p:nvPr/>
            </p:nvSpPr>
            <p:spPr>
              <a:xfrm>
                <a:off x="0" y="33314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0" y="33314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5" name=""/>
            <p:cNvGrpSpPr/>
            <p:nvPr/>
          </p:nvGrpSpPr>
          <p:grpSpPr>
            <a:xfrm>
              <a:off x="0" y="3538800"/>
              <a:ext cx="6705000" cy="207360"/>
              <a:chOff x="0" y="3538800"/>
              <a:chExt cx="6705000" cy="207360"/>
            </a:xfrm>
          </p:grpSpPr>
          <p:sp>
            <p:nvSpPr>
              <p:cNvPr id="1036" name=""/>
              <p:cNvSpPr/>
              <p:nvPr/>
            </p:nvSpPr>
            <p:spPr>
              <a:xfrm>
                <a:off x="0" y="35388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0" y="35388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8" name=""/>
            <p:cNvGrpSpPr/>
            <p:nvPr/>
          </p:nvGrpSpPr>
          <p:grpSpPr>
            <a:xfrm>
              <a:off x="0" y="3746160"/>
              <a:ext cx="6705000" cy="207360"/>
              <a:chOff x="0" y="3746160"/>
              <a:chExt cx="6705000" cy="207360"/>
            </a:xfrm>
          </p:grpSpPr>
          <p:sp>
            <p:nvSpPr>
              <p:cNvPr id="1039" name=""/>
              <p:cNvSpPr/>
              <p:nvPr/>
            </p:nvSpPr>
            <p:spPr>
              <a:xfrm>
                <a:off x="0" y="37461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0" y="37461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0" y="3953880"/>
              <a:ext cx="6705000" cy="207360"/>
              <a:chOff x="0" y="3953880"/>
              <a:chExt cx="6705000" cy="207360"/>
            </a:xfrm>
          </p:grpSpPr>
          <p:sp>
            <p:nvSpPr>
              <p:cNvPr id="1042" name=""/>
              <p:cNvSpPr/>
              <p:nvPr/>
            </p:nvSpPr>
            <p:spPr>
              <a:xfrm>
                <a:off x="0" y="39538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0" y="39538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0" y="4161240"/>
              <a:ext cx="6705000" cy="207360"/>
              <a:chOff x="0" y="4161240"/>
              <a:chExt cx="6705000" cy="207360"/>
            </a:xfrm>
          </p:grpSpPr>
          <p:sp>
            <p:nvSpPr>
              <p:cNvPr id="1045" name=""/>
              <p:cNvSpPr/>
              <p:nvPr/>
            </p:nvSpPr>
            <p:spPr>
              <a:xfrm>
                <a:off x="0" y="41612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0" y="41612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7" name=""/>
            <p:cNvGrpSpPr/>
            <p:nvPr/>
          </p:nvGrpSpPr>
          <p:grpSpPr>
            <a:xfrm>
              <a:off x="0" y="4368600"/>
              <a:ext cx="6705000" cy="207360"/>
              <a:chOff x="0" y="4368600"/>
              <a:chExt cx="6705000" cy="207360"/>
            </a:xfrm>
          </p:grpSpPr>
          <p:sp>
            <p:nvSpPr>
              <p:cNvPr id="1048" name=""/>
              <p:cNvSpPr/>
              <p:nvPr/>
            </p:nvSpPr>
            <p:spPr>
              <a:xfrm>
                <a:off x="0" y="43686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0" y="43686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0" y="4575960"/>
              <a:ext cx="6705000" cy="207360"/>
              <a:chOff x="0" y="4575960"/>
              <a:chExt cx="6705000" cy="207360"/>
            </a:xfrm>
          </p:grpSpPr>
          <p:sp>
            <p:nvSpPr>
              <p:cNvPr id="1051" name=""/>
              <p:cNvSpPr/>
              <p:nvPr/>
            </p:nvSpPr>
            <p:spPr>
              <a:xfrm>
                <a:off x="0" y="45759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0" y="45759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0" y="4783680"/>
              <a:ext cx="6705000" cy="207360"/>
              <a:chOff x="0" y="4783680"/>
              <a:chExt cx="6705000" cy="207360"/>
            </a:xfrm>
          </p:grpSpPr>
          <p:sp>
            <p:nvSpPr>
              <p:cNvPr id="1054" name=""/>
              <p:cNvSpPr/>
              <p:nvPr/>
            </p:nvSpPr>
            <p:spPr>
              <a:xfrm>
                <a:off x="0" y="47836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0" y="47836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0" y="4991040"/>
              <a:ext cx="6705000" cy="207360"/>
              <a:chOff x="0" y="4991040"/>
              <a:chExt cx="6705000" cy="207360"/>
            </a:xfrm>
          </p:grpSpPr>
          <p:sp>
            <p:nvSpPr>
              <p:cNvPr id="1057" name=""/>
              <p:cNvSpPr/>
              <p:nvPr/>
            </p:nvSpPr>
            <p:spPr>
              <a:xfrm>
                <a:off x="0" y="49910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0" y="49910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0" y="5198400"/>
              <a:ext cx="6705000" cy="207360"/>
              <a:chOff x="0" y="5198400"/>
              <a:chExt cx="6705000" cy="207360"/>
            </a:xfrm>
          </p:grpSpPr>
          <p:sp>
            <p:nvSpPr>
              <p:cNvPr id="1060" name=""/>
              <p:cNvSpPr/>
              <p:nvPr/>
            </p:nvSpPr>
            <p:spPr>
              <a:xfrm>
                <a:off x="0" y="51984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0" y="51984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oint::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2" name=""/>
            <p:cNvGrpSpPr/>
            <p:nvPr/>
          </p:nvGrpSpPr>
          <p:grpSpPr>
            <a:xfrm>
              <a:off x="0" y="5406120"/>
              <a:ext cx="6705000" cy="207360"/>
              <a:chOff x="0" y="5406120"/>
              <a:chExt cx="6705000" cy="207360"/>
            </a:xfrm>
          </p:grpSpPr>
          <p:sp>
            <p:nvSpPr>
              <p:cNvPr id="1063" name=""/>
              <p:cNvSpPr/>
              <p:nvPr/>
            </p:nvSpPr>
            <p:spPr>
              <a:xfrm>
                <a:off x="0" y="54061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0" y="54061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0" y="5613480"/>
              <a:ext cx="6705000" cy="207360"/>
              <a:chOff x="0" y="5613480"/>
              <a:chExt cx="6705000" cy="207360"/>
            </a:xfrm>
          </p:grpSpPr>
          <p:sp>
            <p:nvSpPr>
              <p:cNvPr id="1066" name=""/>
              <p:cNvSpPr/>
              <p:nvPr/>
            </p:nvSpPr>
            <p:spPr>
              <a:xfrm>
                <a:off x="0" y="56134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0" y="56134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x = 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0" y="5820840"/>
              <a:ext cx="6705000" cy="207360"/>
              <a:chOff x="0" y="5820840"/>
              <a:chExt cx="6705000" cy="207360"/>
            </a:xfrm>
          </p:grpSpPr>
          <p:sp>
            <p:nvSpPr>
              <p:cNvPr id="1069" name=""/>
              <p:cNvSpPr/>
              <p:nvPr/>
            </p:nvSpPr>
            <p:spPr>
              <a:xfrm>
                <a:off x="0" y="58208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0" y="58208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y = b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0" y="6028200"/>
              <a:ext cx="6705000" cy="207360"/>
              <a:chOff x="0" y="6028200"/>
              <a:chExt cx="6705000" cy="207360"/>
            </a:xfrm>
          </p:grpSpPr>
          <p:sp>
            <p:nvSpPr>
              <p:cNvPr id="1072" name=""/>
              <p:cNvSpPr/>
              <p:nvPr/>
            </p:nvSpPr>
            <p:spPr>
              <a:xfrm>
                <a:off x="0" y="60282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0" y="60282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0" y="6235920"/>
              <a:ext cx="6705000" cy="207360"/>
              <a:chOff x="0" y="6235920"/>
              <a:chExt cx="6705000" cy="207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0" y="62359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0" y="62359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Point  constructor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0" y="6443280"/>
              <a:ext cx="6705000" cy="207360"/>
              <a:chOff x="0" y="6443280"/>
              <a:chExt cx="6705000" cy="207360"/>
            </a:xfrm>
          </p:grpSpPr>
          <p:sp>
            <p:nvSpPr>
              <p:cNvPr id="1078" name=""/>
              <p:cNvSpPr/>
              <p:nvPr/>
            </p:nvSpPr>
            <p:spPr>
              <a:xfrm>
                <a:off x="0" y="64432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0" y="64432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'[' &lt;&lt; x &lt;&lt; ", " &lt;&lt; y &lt;&lt; ']'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0" name=""/>
            <p:cNvGrpSpPr/>
            <p:nvPr/>
          </p:nvGrpSpPr>
          <p:grpSpPr>
            <a:xfrm>
              <a:off x="0" y="6650640"/>
              <a:ext cx="6705000" cy="207360"/>
              <a:chOff x="0" y="6650640"/>
              <a:chExt cx="6705000" cy="207360"/>
            </a:xfrm>
          </p:grpSpPr>
          <p:sp>
            <p:nvSpPr>
              <p:cNvPr id="1081" name=""/>
              <p:cNvSpPr/>
              <p:nvPr/>
            </p:nvSpPr>
            <p:spPr>
              <a:xfrm>
                <a:off x="0" y="66506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0" y="66506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6AD7E-8E87-4985-8739-2779940651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085" name=""/>
            <p:cNvGrpSpPr/>
            <p:nvPr/>
          </p:nvGrpSpPr>
          <p:grpSpPr>
            <a:xfrm>
              <a:off x="0" y="0"/>
              <a:ext cx="6780960" cy="1980720"/>
              <a:chOff x="0" y="0"/>
              <a:chExt cx="6780960" cy="1980720"/>
            </a:xfrm>
          </p:grpSpPr>
          <p:grpSp>
            <p:nvGrpSpPr>
              <p:cNvPr id="1086" name=""/>
              <p:cNvGrpSpPr/>
              <p:nvPr/>
            </p:nvGrpSpPr>
            <p:grpSpPr>
              <a:xfrm>
                <a:off x="0" y="0"/>
                <a:ext cx="6780960" cy="282960"/>
                <a:chOff x="0" y="0"/>
                <a:chExt cx="6780960" cy="28296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0" y="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0" y="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0" y="282960"/>
                <a:ext cx="6780960" cy="282960"/>
                <a:chOff x="0" y="282960"/>
                <a:chExt cx="6780960" cy="28296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0" y="28296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0" y="28296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Destructor for class Poi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0" y="565920"/>
                <a:ext cx="6780960" cy="282960"/>
                <a:chOff x="0" y="565920"/>
                <a:chExt cx="6780960" cy="28296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0" y="56592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0" y="56592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Point::~Point(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0" y="848880"/>
                <a:ext cx="6780960" cy="282960"/>
                <a:chOff x="0" y="848880"/>
                <a:chExt cx="6780960" cy="28296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0" y="84888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0" y="84888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0" y="1131840"/>
                <a:ext cx="6780960" cy="282960"/>
                <a:chOff x="0" y="1131840"/>
                <a:chExt cx="6780960" cy="28296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0" y="113184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0" y="113184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Point  destructor:  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0" y="1414800"/>
                <a:ext cx="6780960" cy="282960"/>
                <a:chOff x="0" y="1414800"/>
                <a:chExt cx="6780960" cy="28296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0" y="141480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0" y="141480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'[' &lt;&lt; x &lt;&lt; ", " &lt;&lt; y &lt;&lt; ']' &lt;&lt; endl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0" y="1697760"/>
                <a:ext cx="6780960" cy="282960"/>
                <a:chOff x="0" y="1697760"/>
                <a:chExt cx="6780960" cy="28296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0" y="169776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6" name=""/>
                <p:cNvGrpSpPr/>
                <p:nvPr/>
              </p:nvGrpSpPr>
              <p:grpSpPr>
                <a:xfrm>
                  <a:off x="0" y="1697760"/>
                  <a:ext cx="6780600" cy="282960"/>
                  <a:chOff x="0" y="1697760"/>
                  <a:chExt cx="6780600" cy="282960"/>
                </a:xfrm>
              </p:grpSpPr>
              <p:sp>
                <p:nvSpPr>
                  <p:cNvPr id="1107" name=""/>
                  <p:cNvSpPr/>
                  <p:nvPr/>
                </p:nvSpPr>
                <p:spPr>
                  <a:xfrm>
                    <a:off x="0" y="1697760"/>
                    <a:ext cx="6780600" cy="282960"/>
                  </a:xfrm>
                  <a:prstGeom prst="rect">
                    <a:avLst/>
                  </a:prstGeom>
                  <a:solidFill>
                    <a:srgbClr val="ffe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39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  <a:ea typeface="Times New Roman"/>
                      </a:rPr>
                      <a:t>}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0" y="1697760"/>
                    <a:ext cx="6780600" cy="28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09" name=""/>
            <p:cNvGrpSpPr/>
            <p:nvPr/>
          </p:nvGrpSpPr>
          <p:grpSpPr>
            <a:xfrm>
              <a:off x="0" y="1981080"/>
              <a:ext cx="6780960" cy="4876920"/>
              <a:chOff x="0" y="1981080"/>
              <a:chExt cx="6780960" cy="4876920"/>
            </a:xfrm>
          </p:grpSpPr>
          <p:grpSp>
            <p:nvGrpSpPr>
              <p:cNvPr id="1110" name=""/>
              <p:cNvGrpSpPr/>
              <p:nvPr/>
            </p:nvGrpSpPr>
            <p:grpSpPr>
              <a:xfrm>
                <a:off x="0" y="1981080"/>
                <a:ext cx="6780960" cy="270720"/>
                <a:chOff x="0" y="1981080"/>
                <a:chExt cx="6780960" cy="27072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0" y="19810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0" y="19810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Fig. 9.7: circle2.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0" y="2251800"/>
                <a:ext cx="6780960" cy="270720"/>
                <a:chOff x="0" y="2251800"/>
                <a:chExt cx="6780960" cy="27072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0" y="22518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0" y="22518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Definition of class Circ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0" y="2522880"/>
                <a:ext cx="6780960" cy="270720"/>
                <a:chOff x="0" y="2522880"/>
                <a:chExt cx="6780960" cy="27072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0" y="25228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0" y="25228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fndef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CIRCLE2_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0" y="2793960"/>
                <a:ext cx="6780960" cy="270720"/>
                <a:chOff x="0" y="2793960"/>
                <a:chExt cx="6780960" cy="27072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0" y="27939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0" y="27939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defin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CIRCLE2_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0" y="3064680"/>
                <a:ext cx="6780960" cy="270720"/>
                <a:chOff x="0" y="3064680"/>
                <a:chExt cx="6780960" cy="27072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0" y="30646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0" y="30646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0" y="3335760"/>
                <a:ext cx="6780960" cy="270720"/>
                <a:chOff x="0" y="3335760"/>
                <a:chExt cx="6780960" cy="2707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0" y="33357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0" y="33357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"point2.h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0" y="3606480"/>
                <a:ext cx="6780960" cy="270720"/>
                <a:chOff x="0" y="3606480"/>
                <a:chExt cx="6780960" cy="27072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0" y="36064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0" y="36064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0" y="3877560"/>
                <a:ext cx="6780960" cy="270720"/>
                <a:chOff x="0" y="3877560"/>
                <a:chExt cx="6780960" cy="27072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0" y="38775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0" y="38775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las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Circle :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ublic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Point 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0" y="4148640"/>
                <a:ext cx="6780960" cy="270720"/>
                <a:chOff x="0" y="4148640"/>
                <a:chExt cx="6780960" cy="27072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0" y="41486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0" y="41486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ublic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0" y="4419360"/>
                <a:ext cx="6780960" cy="270720"/>
                <a:chOff x="0" y="4419360"/>
                <a:chExt cx="6780960" cy="27072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0" y="44193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0" y="44193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  // default construc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0" y="4690440"/>
                <a:ext cx="6780960" cy="270720"/>
                <a:chOff x="0" y="4690440"/>
                <a:chExt cx="6780960" cy="27072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0" y="46904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0" y="46904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ircle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doubl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r = 0.0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x = 0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y = 0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0" y="4961520"/>
                <a:ext cx="6780960" cy="270720"/>
                <a:chOff x="0" y="4961520"/>
                <a:chExt cx="6780960" cy="27072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0" y="49615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0" y="49615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0" y="5232240"/>
                <a:ext cx="6780960" cy="270720"/>
                <a:chOff x="0" y="5232240"/>
                <a:chExt cx="6780960" cy="27072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0" y="52322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0" y="52322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~Circle();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0" y="5503320"/>
                <a:ext cx="6780960" cy="270720"/>
                <a:chOff x="0" y="5503320"/>
                <a:chExt cx="6780960" cy="27072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0" y="55033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0" y="55033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rivate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0" y="5774040"/>
                <a:ext cx="6780960" cy="270720"/>
                <a:chOff x="0" y="5774040"/>
                <a:chExt cx="6780960" cy="27072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0" y="57740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0" y="57740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doubl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radius;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0" y="6045120"/>
                <a:ext cx="6780960" cy="270720"/>
                <a:chOff x="0" y="6045120"/>
                <a:chExt cx="6780960" cy="27072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0" y="60451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0" y="60451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0" y="6316200"/>
                <a:ext cx="6780960" cy="270720"/>
                <a:chOff x="0" y="6316200"/>
                <a:chExt cx="6780960" cy="27072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0" y="63162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0" y="63162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0" y="6587280"/>
                <a:ext cx="6780960" cy="270720"/>
                <a:chOff x="0" y="6587280"/>
                <a:chExt cx="6780960" cy="27072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0" y="65872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0" y="65872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4" name=""/>
          <p:cNvGrpSpPr/>
          <p:nvPr/>
        </p:nvGrpSpPr>
        <p:grpSpPr>
          <a:xfrm>
            <a:off x="3200040" y="3048120"/>
            <a:ext cx="4877280" cy="761760"/>
            <a:chOff x="3200040" y="3048120"/>
            <a:chExt cx="4877280" cy="761760"/>
          </a:xfrm>
        </p:grpSpPr>
        <p:sp>
          <p:nvSpPr>
            <p:cNvPr id="1165" name=""/>
            <p:cNvSpPr/>
            <p:nvPr/>
          </p:nvSpPr>
          <p:spPr>
            <a:xfrm>
              <a:off x="5638680" y="304812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herits from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200040" y="3352680"/>
              <a:ext cx="2438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84E49-0CC7-443F-8F89-8E12ED7EA08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69" name=""/>
            <p:cNvGrpSpPr/>
            <p:nvPr/>
          </p:nvGrpSpPr>
          <p:grpSpPr>
            <a:xfrm>
              <a:off x="0" y="0"/>
              <a:ext cx="6780960" cy="285480"/>
              <a:chOff x="0" y="0"/>
              <a:chExt cx="6780960" cy="285480"/>
            </a:xfrm>
          </p:grpSpPr>
          <p:sp>
            <p:nvSpPr>
              <p:cNvPr id="1170" name="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7: circle2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"/>
            <p:cNvGrpSpPr/>
            <p:nvPr/>
          </p:nvGrpSpPr>
          <p:grpSpPr>
            <a:xfrm>
              <a:off x="0" y="285480"/>
              <a:ext cx="6780960" cy="285480"/>
              <a:chOff x="0" y="285480"/>
              <a:chExt cx="6780960" cy="285480"/>
            </a:xfrm>
          </p:grpSpPr>
          <p:sp>
            <p:nvSpPr>
              <p:cNvPr id="1173" name="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0" y="571320"/>
              <a:ext cx="6780960" cy="285840"/>
              <a:chOff x="0" y="571320"/>
              <a:chExt cx="6780960" cy="285840"/>
            </a:xfrm>
          </p:grpSpPr>
          <p:sp>
            <p:nvSpPr>
              <p:cNvPr id="1176" name="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0" y="857160"/>
              <a:ext cx="6780960" cy="285480"/>
              <a:chOff x="0" y="857160"/>
              <a:chExt cx="6780960" cy="285480"/>
            </a:xfrm>
          </p:grpSpPr>
          <p:sp>
            <p:nvSpPr>
              <p:cNvPr id="1179" name="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0" y="1143000"/>
              <a:ext cx="6780960" cy="285480"/>
              <a:chOff x="0" y="1143000"/>
              <a:chExt cx="6780960" cy="285480"/>
            </a:xfrm>
          </p:grpSpPr>
          <p:sp>
            <p:nvSpPr>
              <p:cNvPr id="1182" name="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0" y="1428480"/>
              <a:ext cx="6780960" cy="285480"/>
              <a:chOff x="0" y="1428480"/>
              <a:chExt cx="6780960" cy="285480"/>
            </a:xfrm>
          </p:grpSpPr>
          <p:sp>
            <p:nvSpPr>
              <p:cNvPr id="1185" name="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0" y="1714320"/>
              <a:ext cx="6780960" cy="285840"/>
              <a:chOff x="0" y="1714320"/>
              <a:chExt cx="6780960" cy="285840"/>
            </a:xfrm>
          </p:grpSpPr>
          <p:sp>
            <p:nvSpPr>
              <p:cNvPr id="1188" name="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0" y="2000160"/>
              <a:ext cx="6780960" cy="285480"/>
              <a:chOff x="0" y="2000160"/>
              <a:chExt cx="6780960" cy="285480"/>
            </a:xfrm>
          </p:grpSpPr>
          <p:sp>
            <p:nvSpPr>
              <p:cNvPr id="1191" name="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0" y="2286000"/>
              <a:ext cx="6780960" cy="285480"/>
              <a:chOff x="0" y="2286000"/>
              <a:chExt cx="6780960" cy="285480"/>
            </a:xfrm>
          </p:grpSpPr>
          <p:sp>
            <p:nvSpPr>
              <p:cNvPr id="1194" name="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0" y="2571480"/>
              <a:ext cx="6780960" cy="285480"/>
              <a:chOff x="0" y="2571480"/>
              <a:chExt cx="6780960" cy="285480"/>
            </a:xfrm>
          </p:grpSpPr>
          <p:sp>
            <p:nvSpPr>
              <p:cNvPr id="1197" name="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ircle calls constructor fo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0" y="2857320"/>
              <a:ext cx="6780960" cy="285840"/>
              <a:chOff x="0" y="2857320"/>
              <a:chExt cx="6780960" cy="285840"/>
            </a:xfrm>
          </p:grpSpPr>
          <p:sp>
            <p:nvSpPr>
              <p:cNvPr id="1200" name="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::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0" y="3143160"/>
              <a:ext cx="6780960" cy="285480"/>
              <a:chOff x="0" y="3143160"/>
              <a:chExt cx="6780960" cy="285480"/>
            </a:xfrm>
          </p:grpSpPr>
          <p:sp>
            <p:nvSpPr>
              <p:cNvPr id="1203" name="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Point( a, b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0" y="3429000"/>
              <a:ext cx="6780960" cy="285480"/>
              <a:chOff x="0" y="3429000"/>
              <a:chExt cx="6780960" cy="285480"/>
            </a:xfrm>
          </p:grpSpPr>
          <p:sp>
            <p:nvSpPr>
              <p:cNvPr id="1206" name="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0" y="3714480"/>
              <a:ext cx="6780960" cy="285480"/>
              <a:chOff x="0" y="3714480"/>
              <a:chExt cx="6780960" cy="285480"/>
            </a:xfrm>
          </p:grpSpPr>
          <p:sp>
            <p:nvSpPr>
              <p:cNvPr id="1209" name="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radius = 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hould vali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1" name=""/>
            <p:cNvGrpSpPr/>
            <p:nvPr/>
          </p:nvGrpSpPr>
          <p:grpSpPr>
            <a:xfrm>
              <a:off x="0" y="4000320"/>
              <a:ext cx="6780960" cy="285840"/>
              <a:chOff x="0" y="4000320"/>
              <a:chExt cx="6780960" cy="285840"/>
            </a:xfrm>
          </p:grpSpPr>
          <p:sp>
            <p:nvSpPr>
              <p:cNvPr id="1212" name="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ircle constructor: radius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4" name=""/>
            <p:cNvGrpSpPr/>
            <p:nvPr/>
          </p:nvGrpSpPr>
          <p:grpSpPr>
            <a:xfrm>
              <a:off x="0" y="4286160"/>
              <a:ext cx="6780960" cy="285480"/>
              <a:chOff x="0" y="4286160"/>
              <a:chExt cx="6780960" cy="285480"/>
            </a:xfrm>
          </p:grpSpPr>
          <p:sp>
            <p:nvSpPr>
              <p:cNvPr id="1215" name="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radius &lt;&lt; " [" &lt;&lt; x &lt;&lt; ", " &lt;&lt; y &lt;&lt; ']'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0" y="4572000"/>
              <a:ext cx="6780960" cy="285480"/>
              <a:chOff x="0" y="4572000"/>
              <a:chExt cx="6780960" cy="285480"/>
            </a:xfrm>
          </p:grpSpPr>
          <p:sp>
            <p:nvSpPr>
              <p:cNvPr id="1218" name="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0" y="4857480"/>
              <a:ext cx="6780960" cy="285480"/>
              <a:chOff x="0" y="4857480"/>
              <a:chExt cx="6780960" cy="285480"/>
            </a:xfrm>
          </p:grpSpPr>
          <p:sp>
            <p:nvSpPr>
              <p:cNvPr id="1221" name="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3" name=""/>
            <p:cNvGrpSpPr/>
            <p:nvPr/>
          </p:nvGrpSpPr>
          <p:grpSpPr>
            <a:xfrm>
              <a:off x="0" y="5143320"/>
              <a:ext cx="6780960" cy="285480"/>
              <a:chOff x="0" y="5143320"/>
              <a:chExt cx="6780960" cy="285480"/>
            </a:xfrm>
          </p:grpSpPr>
          <p:sp>
            <p:nvSpPr>
              <p:cNvPr id="1224" name="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6" name=""/>
            <p:cNvGrpSpPr/>
            <p:nvPr/>
          </p:nvGrpSpPr>
          <p:grpSpPr>
            <a:xfrm>
              <a:off x="0" y="5429160"/>
              <a:ext cx="6780960" cy="285840"/>
              <a:chOff x="0" y="5429160"/>
              <a:chExt cx="6780960" cy="285840"/>
            </a:xfrm>
          </p:grpSpPr>
          <p:sp>
            <p:nvSpPr>
              <p:cNvPr id="1227" name="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::~Circl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0" y="5715000"/>
              <a:ext cx="6780960" cy="285480"/>
              <a:chOff x="0" y="5715000"/>
              <a:chExt cx="6780960" cy="285480"/>
            </a:xfrm>
          </p:grpSpPr>
          <p:sp>
            <p:nvSpPr>
              <p:cNvPr id="1230" name="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0" y="6000840"/>
              <a:ext cx="6780960" cy="285480"/>
              <a:chOff x="0" y="6000840"/>
              <a:chExt cx="6780960" cy="285480"/>
            </a:xfrm>
          </p:grpSpPr>
          <p:sp>
            <p:nvSpPr>
              <p:cNvPr id="1233" name="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ircle destructor:  radius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0" y="6286320"/>
              <a:ext cx="6780960" cy="285480"/>
              <a:chOff x="0" y="6286320"/>
              <a:chExt cx="6780960" cy="285480"/>
            </a:xfrm>
          </p:grpSpPr>
          <p:sp>
            <p:nvSpPr>
              <p:cNvPr id="1236" name="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radius &lt;&lt; " [" &lt;&lt; x &lt;&lt; ", " &lt;&lt; y &lt;&lt; ']'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8" name=""/>
            <p:cNvGrpSpPr/>
            <p:nvPr/>
          </p:nvGrpSpPr>
          <p:grpSpPr>
            <a:xfrm>
              <a:off x="0" y="6572160"/>
              <a:ext cx="6780960" cy="285840"/>
              <a:chOff x="0" y="6572160"/>
              <a:chExt cx="6780960" cy="285840"/>
            </a:xfrm>
          </p:grpSpPr>
          <p:sp>
            <p:nvSpPr>
              <p:cNvPr id="1239" name="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1" name=""/>
          <p:cNvGrpSpPr/>
          <p:nvPr/>
        </p:nvGrpSpPr>
        <p:grpSpPr>
          <a:xfrm>
            <a:off x="2209680" y="3276720"/>
            <a:ext cx="6553440" cy="1067400"/>
            <a:chOff x="2209680" y="3276720"/>
            <a:chExt cx="6553440" cy="1067400"/>
          </a:xfrm>
        </p:grpSpPr>
        <p:sp>
          <p:nvSpPr>
            <p:cNvPr id="1242" name=""/>
            <p:cNvSpPr/>
            <p:nvPr/>
          </p:nvSpPr>
          <p:spPr>
            <a:xfrm>
              <a:off x="6324480" y="3276720"/>
              <a:ext cx="24386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lls constructor fo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first.  Uses member-initializer syntax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 flipV="1">
              <a:off x="2209680" y="3276720"/>
              <a:ext cx="4114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2361960" y="5334120"/>
            <a:ext cx="6782040" cy="824040"/>
            <a:chOff x="2361960" y="5334120"/>
            <a:chExt cx="6782040" cy="824040"/>
          </a:xfrm>
        </p:grpSpPr>
        <p:sp>
          <p:nvSpPr>
            <p:cNvPr id="1245" name=""/>
            <p:cNvSpPr/>
            <p:nvPr/>
          </p:nvSpPr>
          <p:spPr>
            <a:xfrm>
              <a:off x="6705720" y="533412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truc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s destructor fo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la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 flipV="1">
              <a:off x="2361960" y="5638680"/>
              <a:ext cx="4343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9AFDD-3C1C-4CA5-A850-66C7432A06F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Objects enter and leave sco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0" y="0"/>
            <a:ext cx="6705000" cy="6857640"/>
            <a:chOff x="0" y="0"/>
            <a:chExt cx="6705000" cy="6857640"/>
          </a:xfrm>
        </p:grpSpPr>
        <p:grpSp>
          <p:nvGrpSpPr>
            <p:cNvPr id="1249" name=""/>
            <p:cNvGrpSpPr/>
            <p:nvPr/>
          </p:nvGrpSpPr>
          <p:grpSpPr>
            <a:xfrm>
              <a:off x="0" y="0"/>
              <a:ext cx="6705000" cy="273960"/>
              <a:chOff x="0" y="0"/>
              <a:chExt cx="6705000" cy="273960"/>
            </a:xfrm>
          </p:grpSpPr>
          <p:sp>
            <p:nvSpPr>
              <p:cNvPr id="1250" name=""/>
              <p:cNvSpPr/>
              <p:nvPr/>
            </p:nvSpPr>
            <p:spPr>
              <a:xfrm>
                <a:off x="0" y="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0" y="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7: fig09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0" y="273960"/>
              <a:ext cx="6705000" cy="273960"/>
              <a:chOff x="0" y="273960"/>
              <a:chExt cx="6705000" cy="273960"/>
            </a:xfrm>
          </p:grpSpPr>
          <p:sp>
            <p:nvSpPr>
              <p:cNvPr id="1253" name=""/>
              <p:cNvSpPr/>
              <p:nvPr/>
            </p:nvSpPr>
            <p:spPr>
              <a:xfrm>
                <a:off x="0" y="273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0" y="273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e when base-class and derived-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5" name=""/>
            <p:cNvGrpSpPr/>
            <p:nvPr/>
          </p:nvGrpSpPr>
          <p:grpSpPr>
            <a:xfrm>
              <a:off x="0" y="548280"/>
              <a:ext cx="6705000" cy="274320"/>
              <a:chOff x="0" y="548280"/>
              <a:chExt cx="6705000" cy="274320"/>
            </a:xfrm>
          </p:grpSpPr>
          <p:sp>
            <p:nvSpPr>
              <p:cNvPr id="1256" name=""/>
              <p:cNvSpPr/>
              <p:nvPr/>
            </p:nvSpPr>
            <p:spPr>
              <a:xfrm>
                <a:off x="0" y="5482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0" y="5482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s and destructors are call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8" name=""/>
            <p:cNvGrpSpPr/>
            <p:nvPr/>
          </p:nvGrpSpPr>
          <p:grpSpPr>
            <a:xfrm>
              <a:off x="0" y="822960"/>
              <a:ext cx="6705000" cy="273960"/>
              <a:chOff x="0" y="822960"/>
              <a:chExt cx="6705000" cy="273960"/>
            </a:xfrm>
          </p:grpSpPr>
          <p:sp>
            <p:nvSpPr>
              <p:cNvPr id="1259" name=""/>
              <p:cNvSpPr/>
              <p:nvPr/>
            </p:nvSpPr>
            <p:spPr>
              <a:xfrm>
                <a:off x="0" y="822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0" y="822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1" name=""/>
            <p:cNvGrpSpPr/>
            <p:nvPr/>
          </p:nvGrpSpPr>
          <p:grpSpPr>
            <a:xfrm>
              <a:off x="0" y="1097280"/>
              <a:ext cx="6705000" cy="273960"/>
              <a:chOff x="0" y="1097280"/>
              <a:chExt cx="6705000" cy="273960"/>
            </a:xfrm>
          </p:grpSpPr>
          <p:sp>
            <p:nvSpPr>
              <p:cNvPr id="1262" name=""/>
              <p:cNvSpPr/>
              <p:nvPr/>
            </p:nvSpPr>
            <p:spPr>
              <a:xfrm>
                <a:off x="0" y="10972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0" y="10972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0" y="1371600"/>
              <a:ext cx="6705000" cy="273960"/>
              <a:chOff x="0" y="1371600"/>
              <a:chExt cx="6705000" cy="273960"/>
            </a:xfrm>
          </p:grpSpPr>
          <p:sp>
            <p:nvSpPr>
              <p:cNvPr id="1265" name=""/>
              <p:cNvSpPr/>
              <p:nvPr/>
            </p:nvSpPr>
            <p:spPr>
              <a:xfrm>
                <a:off x="0" y="13716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0" y="13716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7" name=""/>
            <p:cNvGrpSpPr/>
            <p:nvPr/>
          </p:nvGrpSpPr>
          <p:grpSpPr>
            <a:xfrm>
              <a:off x="0" y="1645560"/>
              <a:ext cx="6705000" cy="274320"/>
              <a:chOff x="0" y="1645560"/>
              <a:chExt cx="6705000" cy="274320"/>
            </a:xfrm>
          </p:grpSpPr>
          <p:sp>
            <p:nvSpPr>
              <p:cNvPr id="1268" name=""/>
              <p:cNvSpPr/>
              <p:nvPr/>
            </p:nvSpPr>
            <p:spPr>
              <a:xfrm>
                <a:off x="0" y="16455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0" y="16455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0" name=""/>
            <p:cNvGrpSpPr/>
            <p:nvPr/>
          </p:nvGrpSpPr>
          <p:grpSpPr>
            <a:xfrm>
              <a:off x="0" y="1920240"/>
              <a:ext cx="6705000" cy="273960"/>
              <a:chOff x="0" y="1920240"/>
              <a:chExt cx="6705000" cy="273960"/>
            </a:xfrm>
          </p:grpSpPr>
          <p:sp>
            <p:nvSpPr>
              <p:cNvPr id="1271" name=""/>
              <p:cNvSpPr/>
              <p:nvPr/>
            </p:nvSpPr>
            <p:spPr>
              <a:xfrm>
                <a:off x="0" y="19202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0" y="19202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3" name=""/>
            <p:cNvGrpSpPr/>
            <p:nvPr/>
          </p:nvGrpSpPr>
          <p:grpSpPr>
            <a:xfrm>
              <a:off x="0" y="2194560"/>
              <a:ext cx="6705000" cy="273960"/>
              <a:chOff x="0" y="2194560"/>
              <a:chExt cx="6705000" cy="273960"/>
            </a:xfrm>
          </p:grpSpPr>
          <p:sp>
            <p:nvSpPr>
              <p:cNvPr id="1274" name=""/>
              <p:cNvSpPr/>
              <p:nvPr/>
            </p:nvSpPr>
            <p:spPr>
              <a:xfrm>
                <a:off x="0" y="21945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0" y="21945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0" y="2468880"/>
              <a:ext cx="6705000" cy="273960"/>
              <a:chOff x="0" y="2468880"/>
              <a:chExt cx="6705000" cy="273960"/>
            </a:xfrm>
          </p:grpSpPr>
          <p:sp>
            <p:nvSpPr>
              <p:cNvPr id="1277" name=""/>
              <p:cNvSpPr/>
              <p:nvPr/>
            </p:nvSpPr>
            <p:spPr>
              <a:xfrm>
                <a:off x="0" y="24688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0" y="24688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0" y="2743200"/>
              <a:ext cx="6705000" cy="274320"/>
              <a:chOff x="0" y="2743200"/>
              <a:chExt cx="6705000" cy="274320"/>
            </a:xfrm>
          </p:grpSpPr>
          <p:sp>
            <p:nvSpPr>
              <p:cNvPr id="1280" name=""/>
              <p:cNvSpPr/>
              <p:nvPr/>
            </p:nvSpPr>
            <p:spPr>
              <a:xfrm>
                <a:off x="0" y="274320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0" y="274320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0" y="3017520"/>
              <a:ext cx="6705000" cy="273960"/>
              <a:chOff x="0" y="3017520"/>
              <a:chExt cx="6705000" cy="273960"/>
            </a:xfrm>
          </p:grpSpPr>
          <p:sp>
            <p:nvSpPr>
              <p:cNvPr id="1283" name=""/>
              <p:cNvSpPr/>
              <p:nvPr/>
            </p:nvSpPr>
            <p:spPr>
              <a:xfrm>
                <a:off x="0" y="30175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0" y="30175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5" name=""/>
            <p:cNvGrpSpPr/>
            <p:nvPr/>
          </p:nvGrpSpPr>
          <p:grpSpPr>
            <a:xfrm>
              <a:off x="0" y="3291840"/>
              <a:ext cx="6705000" cy="273960"/>
              <a:chOff x="0" y="3291840"/>
              <a:chExt cx="6705000" cy="273960"/>
            </a:xfrm>
          </p:grpSpPr>
          <p:sp>
            <p:nvSpPr>
              <p:cNvPr id="1286" name=""/>
              <p:cNvSpPr/>
              <p:nvPr/>
            </p:nvSpPr>
            <p:spPr>
              <a:xfrm>
                <a:off x="0" y="32918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0" y="32918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8" name=""/>
            <p:cNvGrpSpPr/>
            <p:nvPr/>
          </p:nvGrpSpPr>
          <p:grpSpPr>
            <a:xfrm>
              <a:off x="0" y="3566160"/>
              <a:ext cx="6705000" cy="273960"/>
              <a:chOff x="0" y="3566160"/>
              <a:chExt cx="6705000" cy="273960"/>
            </a:xfrm>
          </p:grpSpPr>
          <p:sp>
            <p:nvSpPr>
              <p:cNvPr id="1289" name=""/>
              <p:cNvSpPr/>
              <p:nvPr/>
            </p:nvSpPr>
            <p:spPr>
              <a:xfrm>
                <a:off x="0" y="35661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0" y="35661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how constructor and destructor calls fo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1" name=""/>
            <p:cNvGrpSpPr/>
            <p:nvPr/>
          </p:nvGrpSpPr>
          <p:grpSpPr>
            <a:xfrm>
              <a:off x="0" y="3840480"/>
              <a:ext cx="6705000" cy="274320"/>
              <a:chOff x="0" y="3840480"/>
              <a:chExt cx="6705000" cy="274320"/>
            </a:xfrm>
          </p:grpSpPr>
          <p:sp>
            <p:nvSpPr>
              <p:cNvPr id="1292" name=""/>
              <p:cNvSpPr/>
              <p:nvPr/>
            </p:nvSpPr>
            <p:spPr>
              <a:xfrm>
                <a:off x="0" y="38404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0" y="38404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4" name=""/>
            <p:cNvGrpSpPr/>
            <p:nvPr/>
          </p:nvGrpSpPr>
          <p:grpSpPr>
            <a:xfrm>
              <a:off x="0" y="4114800"/>
              <a:ext cx="6705000" cy="273960"/>
              <a:chOff x="0" y="4114800"/>
              <a:chExt cx="6705000" cy="273960"/>
            </a:xfrm>
          </p:grpSpPr>
          <p:sp>
            <p:nvSpPr>
              <p:cNvPr id="1295" name=""/>
              <p:cNvSpPr/>
              <p:nvPr/>
            </p:nvSpPr>
            <p:spPr>
              <a:xfrm>
                <a:off x="0" y="41148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0" y="41148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oint p( 11, 2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0" y="4389120"/>
              <a:ext cx="6705000" cy="273960"/>
              <a:chOff x="0" y="4389120"/>
              <a:chExt cx="6705000" cy="273960"/>
            </a:xfrm>
          </p:grpSpPr>
          <p:sp>
            <p:nvSpPr>
              <p:cNvPr id="1298" name=""/>
              <p:cNvSpPr/>
              <p:nvPr/>
            </p:nvSpPr>
            <p:spPr>
              <a:xfrm>
                <a:off x="0" y="43891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0" y="43891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"/>
            <p:cNvGrpSpPr/>
            <p:nvPr/>
          </p:nvGrpSpPr>
          <p:grpSpPr>
            <a:xfrm>
              <a:off x="0" y="4663440"/>
              <a:ext cx="6705000" cy="273960"/>
              <a:chOff x="0" y="4663440"/>
              <a:chExt cx="6705000" cy="273960"/>
            </a:xfrm>
          </p:grpSpPr>
          <p:sp>
            <p:nvSpPr>
              <p:cNvPr id="1301" name=""/>
              <p:cNvSpPr/>
              <p:nvPr/>
            </p:nvSpPr>
            <p:spPr>
              <a:xfrm>
                <a:off x="0" y="46634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0" y="46634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0" y="4937760"/>
              <a:ext cx="6705000" cy="273960"/>
              <a:chOff x="0" y="4937760"/>
              <a:chExt cx="6705000" cy="273960"/>
            </a:xfrm>
          </p:grpSpPr>
          <p:sp>
            <p:nvSpPr>
              <p:cNvPr id="1304" name=""/>
              <p:cNvSpPr/>
              <p:nvPr/>
            </p:nvSpPr>
            <p:spPr>
              <a:xfrm>
                <a:off x="0" y="49377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0" y="49377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0" y="5212080"/>
              <a:ext cx="6705000" cy="274320"/>
              <a:chOff x="0" y="5212080"/>
              <a:chExt cx="6705000" cy="274320"/>
            </a:xfrm>
          </p:grpSpPr>
          <p:sp>
            <p:nvSpPr>
              <p:cNvPr id="1307" name=""/>
              <p:cNvSpPr/>
              <p:nvPr/>
            </p:nvSpPr>
            <p:spPr>
              <a:xfrm>
                <a:off x="0" y="52120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0" y="52120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 circle1( 4.5, 72, 29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9" name=""/>
            <p:cNvGrpSpPr/>
            <p:nvPr/>
          </p:nvGrpSpPr>
          <p:grpSpPr>
            <a:xfrm>
              <a:off x="0" y="5486400"/>
              <a:ext cx="6705000" cy="273960"/>
              <a:chOff x="0" y="5486400"/>
              <a:chExt cx="6705000" cy="273960"/>
            </a:xfrm>
          </p:grpSpPr>
          <p:sp>
            <p:nvSpPr>
              <p:cNvPr id="1310" name=""/>
              <p:cNvSpPr/>
              <p:nvPr/>
            </p:nvSpPr>
            <p:spPr>
              <a:xfrm>
                <a:off x="0" y="54864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0" y="54864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2" name=""/>
            <p:cNvGrpSpPr/>
            <p:nvPr/>
          </p:nvGrpSpPr>
          <p:grpSpPr>
            <a:xfrm>
              <a:off x="0" y="5760720"/>
              <a:ext cx="6705000" cy="273960"/>
              <a:chOff x="0" y="5760720"/>
              <a:chExt cx="6705000" cy="273960"/>
            </a:xfrm>
          </p:grpSpPr>
          <p:sp>
            <p:nvSpPr>
              <p:cNvPr id="1313" name=""/>
              <p:cNvSpPr/>
              <p:nvPr/>
            </p:nvSpPr>
            <p:spPr>
              <a:xfrm>
                <a:off x="0" y="57607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0" y="57607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 circle2( 10, 5,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5" name=""/>
            <p:cNvGrpSpPr/>
            <p:nvPr/>
          </p:nvGrpSpPr>
          <p:grpSpPr>
            <a:xfrm>
              <a:off x="0" y="6035040"/>
              <a:ext cx="6705000" cy="273960"/>
              <a:chOff x="0" y="6035040"/>
              <a:chExt cx="6705000" cy="273960"/>
            </a:xfrm>
          </p:grpSpPr>
          <p:sp>
            <p:nvSpPr>
              <p:cNvPr id="1316" name=""/>
              <p:cNvSpPr/>
              <p:nvPr/>
            </p:nvSpPr>
            <p:spPr>
              <a:xfrm>
                <a:off x="0" y="60350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0" y="60350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8" name=""/>
            <p:cNvGrpSpPr/>
            <p:nvPr/>
          </p:nvGrpSpPr>
          <p:grpSpPr>
            <a:xfrm>
              <a:off x="0" y="6309360"/>
              <a:ext cx="6705000" cy="274320"/>
              <a:chOff x="0" y="6309360"/>
              <a:chExt cx="6705000" cy="274320"/>
            </a:xfrm>
          </p:grpSpPr>
          <p:sp>
            <p:nvSpPr>
              <p:cNvPr id="1319" name=""/>
              <p:cNvSpPr/>
              <p:nvPr/>
            </p:nvSpPr>
            <p:spPr>
              <a:xfrm>
                <a:off x="0" y="63093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0" y="63093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1" name=""/>
            <p:cNvGrpSpPr/>
            <p:nvPr/>
          </p:nvGrpSpPr>
          <p:grpSpPr>
            <a:xfrm>
              <a:off x="0" y="6583680"/>
              <a:ext cx="6705000" cy="273960"/>
              <a:chOff x="0" y="6583680"/>
              <a:chExt cx="6705000" cy="273960"/>
            </a:xfrm>
          </p:grpSpPr>
          <p:sp>
            <p:nvSpPr>
              <p:cNvPr id="1322" name=""/>
              <p:cNvSpPr/>
              <p:nvPr/>
            </p:nvSpPr>
            <p:spPr>
              <a:xfrm>
                <a:off x="0" y="65836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0" y="65836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4" name=""/>
          <p:cNvSpPr/>
          <p:nvPr/>
        </p:nvSpPr>
        <p:spPr>
          <a:xfrm>
            <a:off x="2819520" y="3936960"/>
            <a:ext cx="29718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constructor: [11, 2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destructor:  [11, 2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1676520" y="2438280"/>
            <a:ext cx="5181480" cy="1600200"/>
            <a:chOff x="1676520" y="2438280"/>
            <a:chExt cx="5181480" cy="1600200"/>
          </a:xfrm>
        </p:grpSpPr>
        <p:sp>
          <p:nvSpPr>
            <p:cNvPr id="1326" name=""/>
            <p:cNvSpPr/>
            <p:nvPr/>
          </p:nvSpPr>
          <p:spPr>
            <a:xfrm>
              <a:off x="3048120" y="2438280"/>
              <a:ext cx="3809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 created inside a block destroyed once it leaves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1676520" y="2743200"/>
              <a:ext cx="13716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2819520" y="3657600"/>
            <a:ext cx="3962160" cy="2057400"/>
            <a:chOff x="2819520" y="3657600"/>
            <a:chExt cx="3962160" cy="2057400"/>
          </a:xfrm>
        </p:grpSpPr>
        <p:grpSp>
          <p:nvGrpSpPr>
            <p:cNvPr id="1329" name=""/>
            <p:cNvGrpSpPr/>
            <p:nvPr/>
          </p:nvGrpSpPr>
          <p:grpSpPr>
            <a:xfrm>
              <a:off x="2819520" y="4572000"/>
              <a:ext cx="1371240" cy="1143000"/>
              <a:chOff x="2819520" y="4572000"/>
              <a:chExt cx="1371240" cy="1143000"/>
            </a:xfrm>
          </p:grpSpPr>
          <p:sp>
            <p:nvSpPr>
              <p:cNvPr id="1330" name=""/>
              <p:cNvSpPr/>
              <p:nvPr/>
            </p:nvSpPr>
            <p:spPr>
              <a:xfrm flipH="1">
                <a:off x="2819520" y="4572000"/>
                <a:ext cx="12952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H="1">
                <a:off x="2971440" y="4572000"/>
                <a:ext cx="1219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2" name=""/>
            <p:cNvSpPr/>
            <p:nvPr/>
          </p:nvSpPr>
          <p:spPr>
            <a:xfrm>
              <a:off x="4114800" y="365760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ember tha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structor is called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 befor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structor (inside to out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3657600" y="4560840"/>
            <a:ext cx="4572000" cy="1388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constructor: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onstructor: radius is 4.5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constructor: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onstructor: radius is 10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1599840" y="5413320"/>
            <a:ext cx="5181840" cy="987480"/>
            <a:chOff x="1599840" y="5413320"/>
            <a:chExt cx="5181840" cy="987480"/>
          </a:xfrm>
        </p:grpSpPr>
        <p:sp>
          <p:nvSpPr>
            <p:cNvPr id="1335" name=""/>
            <p:cNvSpPr/>
            <p:nvPr/>
          </p:nvSpPr>
          <p:spPr>
            <a:xfrm>
              <a:off x="4114800" y="5413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structor called af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structor (outside in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>
              <a:off x="1599840" y="5943600"/>
              <a:ext cx="2514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7" name=""/>
          <p:cNvSpPr/>
          <p:nvPr/>
        </p:nvSpPr>
        <p:spPr>
          <a:xfrm>
            <a:off x="3657600" y="5562720"/>
            <a:ext cx="457200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destructor:  radius is 10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destructor: 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destructor:  radius is 4.5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destructor: 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5EBB4-899A-4C73-A590-664DC1229B7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39" name=""/>
          <p:cNvSpPr/>
          <p:nvPr/>
        </p:nvSpPr>
        <p:spPr>
          <a:xfrm>
            <a:off x="0" y="0"/>
            <a:ext cx="6781680" cy="2649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constructor: [11, 2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destructor:  [11, 2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constructor: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onstructor: radius is 4.5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constructor: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onstructor: radius is 10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destructor:  radius is 10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destructor: 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destructor:  radius is 4.5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destructor: 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274C6-FF2B-4F13-BE67-7540959549B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 programs in a general fash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ndle a wide variety of existing (and unspecified) relat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3CE8D-17FF-485C-B7A0-0A7F7CF49B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0  Implicit Derived-Class Object to Base-Class Object Convers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ment of derived and bas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type and base-class type are diffe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object can be treated as a base-class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 has members corresponding to all of the base class’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-class has more members than the base-class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-class can be assigned a derived-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-class object cannot be treated as a derived-class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 leave additional derived class members un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-class cannot be assigned a base-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ment operator can be overloaded to allow such an 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5EB2-97FA-465C-A03B-0A735DF0E5E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0   Implicit Derived-Class Object to Base-Class Object Convers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ing base and derived class pointers and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ring to a base-class object with a base-class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ring to a derived-class object with a derived-class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ring to a derived-class object with a base-class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syntax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 can only refer to base-class members, or syntax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ring to a base-class object with a derived-class point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tax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rived-class pointer must first be cast to a base-class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5AF4E-C835-4C09-9642-6E939157FAC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1  Software Engineering With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are often closely rela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ctor out” common attributes and behaviors and place these in a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inheritance to form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tions to a base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 classes do not change as long as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erfaces are the sam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 classes may need to be recompi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B2A01-4982-4681-A8E4-10A57DC0EFF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2  Composition vs.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”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in which a class is derived from anothe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”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in which a class contains other classes a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40167-ED6F-4B4D-806B-979318CF928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3  “Uses A” And “Knows A” Relationship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e object issues a function call to a member function of another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s a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e object is aware of ano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a pointer or handle to anothe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 called an associ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5F13A-E0F0-4C78-AECF-674B4904CB6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4  Case Study: Point, Circle, Cylind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, circle, cylinder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is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is deriv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ylin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is deriv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B29BF-F6E6-43CD-8F8D-0CB455BA7F1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0" y="0"/>
            <a:ext cx="6705000" cy="4419720"/>
            <a:chOff x="0" y="0"/>
            <a:chExt cx="6705000" cy="4419720"/>
          </a:xfrm>
        </p:grpSpPr>
        <p:grpSp>
          <p:nvGrpSpPr>
            <p:cNvPr id="1354" name=""/>
            <p:cNvGrpSpPr/>
            <p:nvPr/>
          </p:nvGrpSpPr>
          <p:grpSpPr>
            <a:xfrm>
              <a:off x="0" y="0"/>
              <a:ext cx="6705000" cy="210240"/>
              <a:chOff x="0" y="0"/>
              <a:chExt cx="6705000" cy="210240"/>
            </a:xfrm>
          </p:grpSpPr>
          <p:sp>
            <p:nvSpPr>
              <p:cNvPr id="1355" name=""/>
              <p:cNvSpPr/>
              <p:nvPr/>
            </p:nvSpPr>
            <p:spPr>
              <a:xfrm>
                <a:off x="0" y="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0" y="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8: point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0" y="210240"/>
              <a:ext cx="6705000" cy="210240"/>
              <a:chOff x="0" y="210240"/>
              <a:chExt cx="6705000" cy="210240"/>
            </a:xfrm>
          </p:grpSpPr>
          <p:sp>
            <p:nvSpPr>
              <p:cNvPr id="1358" name=""/>
              <p:cNvSpPr/>
              <p:nvPr/>
            </p:nvSpPr>
            <p:spPr>
              <a:xfrm>
                <a:off x="0" y="2102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0" y="2102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0" y="420840"/>
              <a:ext cx="6705000" cy="210240"/>
              <a:chOff x="0" y="420840"/>
              <a:chExt cx="6705000" cy="210240"/>
            </a:xfrm>
          </p:grpSpPr>
          <p:sp>
            <p:nvSpPr>
              <p:cNvPr id="1361" name=""/>
              <p:cNvSpPr/>
              <p:nvPr/>
            </p:nvSpPr>
            <p:spPr>
              <a:xfrm>
                <a:off x="0" y="4208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0" y="4208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0" y="631440"/>
              <a:ext cx="6705000" cy="210240"/>
              <a:chOff x="0" y="631440"/>
              <a:chExt cx="6705000" cy="210240"/>
            </a:xfrm>
          </p:grpSpPr>
          <p:sp>
            <p:nvSpPr>
              <p:cNvPr id="1364" name=""/>
              <p:cNvSpPr/>
              <p:nvPr/>
            </p:nvSpPr>
            <p:spPr>
              <a:xfrm>
                <a:off x="0" y="6314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0" y="6314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0" y="841680"/>
              <a:ext cx="6705000" cy="210240"/>
              <a:chOff x="0" y="841680"/>
              <a:chExt cx="6705000" cy="210240"/>
            </a:xfrm>
          </p:grpSpPr>
          <p:sp>
            <p:nvSpPr>
              <p:cNvPr id="1367" name=""/>
              <p:cNvSpPr/>
              <p:nvPr/>
            </p:nvSpPr>
            <p:spPr>
              <a:xfrm>
                <a:off x="0" y="8416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0" y="8416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0" y="1052280"/>
              <a:ext cx="6705000" cy="210240"/>
              <a:chOff x="0" y="1052280"/>
              <a:chExt cx="6705000" cy="210240"/>
            </a:xfrm>
          </p:grpSpPr>
          <p:sp>
            <p:nvSpPr>
              <p:cNvPr id="1370" name=""/>
              <p:cNvSpPr/>
              <p:nvPr/>
            </p:nvSpPr>
            <p:spPr>
              <a:xfrm>
                <a:off x="0" y="10522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0" y="10522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0" y="1262520"/>
              <a:ext cx="6705000" cy="210240"/>
              <a:chOff x="0" y="1262520"/>
              <a:chExt cx="6705000" cy="210240"/>
            </a:xfrm>
          </p:grpSpPr>
          <p:sp>
            <p:nvSpPr>
              <p:cNvPr id="1373" name=""/>
              <p:cNvSpPr/>
              <p:nvPr/>
            </p:nvSpPr>
            <p:spPr>
              <a:xfrm>
                <a:off x="0" y="12625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0" y="12625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5" name=""/>
            <p:cNvGrpSpPr/>
            <p:nvPr/>
          </p:nvGrpSpPr>
          <p:grpSpPr>
            <a:xfrm>
              <a:off x="0" y="1473120"/>
              <a:ext cx="6705000" cy="210240"/>
              <a:chOff x="0" y="1473120"/>
              <a:chExt cx="6705000" cy="210240"/>
            </a:xfrm>
          </p:grpSpPr>
          <p:sp>
            <p:nvSpPr>
              <p:cNvPr id="1376" name=""/>
              <p:cNvSpPr/>
              <p:nvPr/>
            </p:nvSpPr>
            <p:spPr>
              <a:xfrm>
                <a:off x="0" y="14731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0" y="14731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0" y="1683720"/>
              <a:ext cx="6705000" cy="210240"/>
              <a:chOff x="0" y="1683720"/>
              <a:chExt cx="6705000" cy="210240"/>
            </a:xfrm>
          </p:grpSpPr>
          <p:sp>
            <p:nvSpPr>
              <p:cNvPr id="1379" name=""/>
              <p:cNvSpPr/>
              <p:nvPr/>
            </p:nvSpPr>
            <p:spPr>
              <a:xfrm>
                <a:off x="0" y="16837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0" y="16837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"/>
            <p:cNvGrpSpPr/>
            <p:nvPr/>
          </p:nvGrpSpPr>
          <p:grpSpPr>
            <a:xfrm>
              <a:off x="0" y="1893960"/>
              <a:ext cx="6705000" cy="210240"/>
              <a:chOff x="0" y="1893960"/>
              <a:chExt cx="6705000" cy="210240"/>
            </a:xfrm>
          </p:grpSpPr>
          <p:sp>
            <p:nvSpPr>
              <p:cNvPr id="1382" name=""/>
              <p:cNvSpPr/>
              <p:nvPr/>
            </p:nvSpPr>
            <p:spPr>
              <a:xfrm>
                <a:off x="0" y="18939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0" y="18939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0" y="2104560"/>
              <a:ext cx="6705000" cy="210240"/>
              <a:chOff x="0" y="2104560"/>
              <a:chExt cx="6705000" cy="210240"/>
            </a:xfrm>
          </p:grpSpPr>
          <p:sp>
            <p:nvSpPr>
              <p:cNvPr id="1385" name=""/>
              <p:cNvSpPr/>
              <p:nvPr/>
            </p:nvSpPr>
            <p:spPr>
              <a:xfrm>
                <a:off x="0" y="21045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0" y="21045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0" y="2315160"/>
              <a:ext cx="6705000" cy="210240"/>
              <a:chOff x="0" y="2315160"/>
              <a:chExt cx="6705000" cy="210240"/>
            </a:xfrm>
          </p:grpSpPr>
          <p:sp>
            <p:nvSpPr>
              <p:cNvPr id="1388" name=""/>
              <p:cNvSpPr/>
              <p:nvPr/>
            </p:nvSpPr>
            <p:spPr>
              <a:xfrm>
                <a:off x="0" y="23151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0" y="23151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0" y="2525400"/>
              <a:ext cx="6705000" cy="210240"/>
              <a:chOff x="0" y="2525400"/>
              <a:chExt cx="6705000" cy="210240"/>
            </a:xfrm>
          </p:grpSpPr>
          <p:sp>
            <p:nvSpPr>
              <p:cNvPr id="1391" name=""/>
              <p:cNvSpPr/>
              <p:nvPr/>
            </p:nvSpPr>
            <p:spPr>
              <a:xfrm>
                <a:off x="0" y="252540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0" y="252540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0" y="2736000"/>
              <a:ext cx="6705000" cy="210240"/>
              <a:chOff x="0" y="2736000"/>
              <a:chExt cx="6705000" cy="210240"/>
            </a:xfrm>
          </p:grpSpPr>
          <p:sp>
            <p:nvSpPr>
              <p:cNvPr id="1394" name=""/>
              <p:cNvSpPr/>
              <p:nvPr/>
            </p:nvSpPr>
            <p:spPr>
              <a:xfrm>
                <a:off x="0" y="273600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0" y="273600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coordina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0" y="2946240"/>
              <a:ext cx="6705000" cy="210240"/>
              <a:chOff x="0" y="2946240"/>
              <a:chExt cx="6705000" cy="210240"/>
            </a:xfrm>
          </p:grpSpPr>
          <p:sp>
            <p:nvSpPr>
              <p:cNvPr id="1397" name=""/>
              <p:cNvSpPr/>
              <p:nvPr/>
            </p:nvSpPr>
            <p:spPr>
              <a:xfrm>
                <a:off x="0" y="29462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0" y="29462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X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 }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get x coordin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0" y="3156840"/>
              <a:ext cx="6705000" cy="210240"/>
              <a:chOff x="0" y="3156840"/>
              <a:chExt cx="6705000" cy="210240"/>
            </a:xfrm>
          </p:grpSpPr>
          <p:sp>
            <p:nvSpPr>
              <p:cNvPr id="1400" name=""/>
              <p:cNvSpPr/>
              <p:nvPr/>
            </p:nvSpPr>
            <p:spPr>
              <a:xfrm>
                <a:off x="0" y="31568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0" y="31568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y coordin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0" y="3367440"/>
              <a:ext cx="6705000" cy="210240"/>
              <a:chOff x="0" y="3367440"/>
              <a:chExt cx="6705000" cy="210240"/>
            </a:xfrm>
          </p:grpSpPr>
          <p:sp>
            <p:nvSpPr>
              <p:cNvPr id="1403" name=""/>
              <p:cNvSpPr/>
              <p:nvPr/>
            </p:nvSpPr>
            <p:spPr>
              <a:xfrm>
                <a:off x="0" y="33674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0" y="33674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accessible to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0" y="3578040"/>
              <a:ext cx="6705000" cy="210240"/>
              <a:chOff x="0" y="3578040"/>
              <a:chExt cx="6705000" cy="210240"/>
            </a:xfrm>
          </p:grpSpPr>
          <p:sp>
            <p:nvSpPr>
              <p:cNvPr id="1406" name=""/>
              <p:cNvSpPr/>
              <p:nvPr/>
            </p:nvSpPr>
            <p:spPr>
              <a:xfrm>
                <a:off x="0" y="35780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0" y="35780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y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ordinates of the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0" y="3788280"/>
              <a:ext cx="6705000" cy="210240"/>
              <a:chOff x="0" y="3788280"/>
              <a:chExt cx="6705000" cy="210240"/>
            </a:xfrm>
          </p:grpSpPr>
          <p:sp>
            <p:nvSpPr>
              <p:cNvPr id="1409" name=""/>
              <p:cNvSpPr/>
              <p:nvPr/>
            </p:nvSpPr>
            <p:spPr>
              <a:xfrm>
                <a:off x="0" y="37882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0" y="37882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0" y="3998880"/>
              <a:ext cx="6705000" cy="210240"/>
              <a:chOff x="0" y="3998880"/>
              <a:chExt cx="6705000" cy="210240"/>
            </a:xfrm>
          </p:grpSpPr>
          <p:sp>
            <p:nvSpPr>
              <p:cNvPr id="1412" name=""/>
              <p:cNvSpPr/>
              <p:nvPr/>
            </p:nvSpPr>
            <p:spPr>
              <a:xfrm>
                <a:off x="0" y="39988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0" y="39988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0" y="4209480"/>
              <a:ext cx="6705000" cy="210240"/>
              <a:chOff x="0" y="4209480"/>
              <a:chExt cx="6705000" cy="210240"/>
            </a:xfrm>
          </p:grpSpPr>
          <p:sp>
            <p:nvSpPr>
              <p:cNvPr id="1415" name=""/>
              <p:cNvSpPr/>
              <p:nvPr/>
            </p:nvSpPr>
            <p:spPr>
              <a:xfrm>
                <a:off x="0" y="42094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6" name=""/>
              <p:cNvGrpSpPr/>
              <p:nvPr/>
            </p:nvGrpSpPr>
            <p:grpSpPr>
              <a:xfrm>
                <a:off x="0" y="4209480"/>
                <a:ext cx="6704640" cy="210240"/>
                <a:chOff x="0" y="4209480"/>
                <a:chExt cx="6704640" cy="210240"/>
              </a:xfrm>
            </p:grpSpPr>
            <p:sp>
              <p:nvSpPr>
                <p:cNvPr id="1417" name=""/>
                <p:cNvSpPr/>
                <p:nvPr/>
              </p:nvSpPr>
              <p:spPr>
                <a:xfrm>
                  <a:off x="0" y="4209480"/>
                  <a:ext cx="670464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0" y="4209480"/>
                  <a:ext cx="670464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9" name=""/>
          <p:cNvGrpSpPr/>
          <p:nvPr/>
        </p:nvGrpSpPr>
        <p:grpSpPr>
          <a:xfrm>
            <a:off x="0" y="4419720"/>
            <a:ext cx="6780960" cy="2438280"/>
            <a:chOff x="0" y="4419720"/>
            <a:chExt cx="6780960" cy="2438280"/>
          </a:xfrm>
        </p:grpSpPr>
        <p:grpSp>
          <p:nvGrpSpPr>
            <p:cNvPr id="1420" name=""/>
            <p:cNvGrpSpPr/>
            <p:nvPr/>
          </p:nvGrpSpPr>
          <p:grpSpPr>
            <a:xfrm>
              <a:off x="0" y="4419720"/>
              <a:ext cx="6780960" cy="221400"/>
              <a:chOff x="0" y="4419720"/>
              <a:chExt cx="6780960" cy="221400"/>
            </a:xfrm>
          </p:grpSpPr>
          <p:sp>
            <p:nvSpPr>
              <p:cNvPr id="1421" name=""/>
              <p:cNvSpPr/>
              <p:nvPr/>
            </p:nvSpPr>
            <p:spPr>
              <a:xfrm>
                <a:off x="0" y="44197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0" y="44197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8: point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3" name=""/>
            <p:cNvGrpSpPr/>
            <p:nvPr/>
          </p:nvGrpSpPr>
          <p:grpSpPr>
            <a:xfrm>
              <a:off x="0" y="4641120"/>
              <a:ext cx="6780960" cy="221400"/>
              <a:chOff x="0" y="4641120"/>
              <a:chExt cx="6780960" cy="221400"/>
            </a:xfrm>
          </p:grpSpPr>
          <p:sp>
            <p:nvSpPr>
              <p:cNvPr id="1424" name=""/>
              <p:cNvSpPr/>
              <p:nvPr/>
            </p:nvSpPr>
            <p:spPr>
              <a:xfrm>
                <a:off x="0" y="46411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0" y="46411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6" name=""/>
            <p:cNvGrpSpPr/>
            <p:nvPr/>
          </p:nvGrpSpPr>
          <p:grpSpPr>
            <a:xfrm>
              <a:off x="0" y="4862880"/>
              <a:ext cx="6780960" cy="221760"/>
              <a:chOff x="0" y="4862880"/>
              <a:chExt cx="6780960" cy="221760"/>
            </a:xfrm>
          </p:grpSpPr>
          <p:sp>
            <p:nvSpPr>
              <p:cNvPr id="1427" name=""/>
              <p:cNvSpPr/>
              <p:nvPr/>
            </p:nvSpPr>
            <p:spPr>
              <a:xfrm>
                <a:off x="0" y="4862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0" y="4862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0" y="5084640"/>
              <a:ext cx="6780960" cy="221400"/>
              <a:chOff x="0" y="5084640"/>
              <a:chExt cx="6780960" cy="221400"/>
            </a:xfrm>
          </p:grpSpPr>
          <p:sp>
            <p:nvSpPr>
              <p:cNvPr id="1430" name=""/>
              <p:cNvSpPr/>
              <p:nvPr/>
            </p:nvSpPr>
            <p:spPr>
              <a:xfrm>
                <a:off x="0" y="50846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0" y="50846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2" name=""/>
            <p:cNvGrpSpPr/>
            <p:nvPr/>
          </p:nvGrpSpPr>
          <p:grpSpPr>
            <a:xfrm>
              <a:off x="0" y="5306400"/>
              <a:ext cx="6780960" cy="221400"/>
              <a:chOff x="0" y="5306400"/>
              <a:chExt cx="6780960" cy="221400"/>
            </a:xfrm>
          </p:grpSpPr>
          <p:sp>
            <p:nvSpPr>
              <p:cNvPr id="1433" name=""/>
              <p:cNvSpPr/>
              <p:nvPr/>
            </p:nvSpPr>
            <p:spPr>
              <a:xfrm>
                <a:off x="0" y="53064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0" y="53064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5" name=""/>
            <p:cNvGrpSpPr/>
            <p:nvPr/>
          </p:nvGrpSpPr>
          <p:grpSpPr>
            <a:xfrm>
              <a:off x="0" y="5527800"/>
              <a:ext cx="6780960" cy="221400"/>
              <a:chOff x="0" y="5527800"/>
              <a:chExt cx="6780960" cy="221400"/>
            </a:xfrm>
          </p:grpSpPr>
          <p:sp>
            <p:nvSpPr>
              <p:cNvPr id="1436" name=""/>
              <p:cNvSpPr/>
              <p:nvPr/>
            </p:nvSpPr>
            <p:spPr>
              <a:xfrm>
                <a:off x="0" y="55278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0" y="55278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oint::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 { setPoint( a, b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8" name=""/>
            <p:cNvGrpSpPr/>
            <p:nvPr/>
          </p:nvGrpSpPr>
          <p:grpSpPr>
            <a:xfrm>
              <a:off x="0" y="5749560"/>
              <a:ext cx="6780960" cy="221760"/>
              <a:chOff x="0" y="5749560"/>
              <a:chExt cx="6780960" cy="221760"/>
            </a:xfrm>
          </p:grpSpPr>
          <p:sp>
            <p:nvSpPr>
              <p:cNvPr id="1439" name=""/>
              <p:cNvSpPr/>
              <p:nvPr/>
            </p:nvSpPr>
            <p:spPr>
              <a:xfrm>
                <a:off x="0" y="57495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0" y="57495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1" name=""/>
            <p:cNvGrpSpPr/>
            <p:nvPr/>
          </p:nvGrpSpPr>
          <p:grpSpPr>
            <a:xfrm>
              <a:off x="0" y="5971320"/>
              <a:ext cx="6780960" cy="221400"/>
              <a:chOff x="0" y="5971320"/>
              <a:chExt cx="6780960" cy="221400"/>
            </a:xfrm>
          </p:grpSpPr>
          <p:sp>
            <p:nvSpPr>
              <p:cNvPr id="1442" name=""/>
              <p:cNvSpPr/>
              <p:nvPr/>
            </p:nvSpPr>
            <p:spPr>
              <a:xfrm>
                <a:off x="0" y="59713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0" y="59713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x and y coordina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4" name=""/>
            <p:cNvGrpSpPr/>
            <p:nvPr/>
          </p:nvGrpSpPr>
          <p:grpSpPr>
            <a:xfrm>
              <a:off x="0" y="6193080"/>
              <a:ext cx="6780960" cy="221400"/>
              <a:chOff x="0" y="6193080"/>
              <a:chExt cx="6780960" cy="221400"/>
            </a:xfrm>
          </p:grpSpPr>
          <p:sp>
            <p:nvSpPr>
              <p:cNvPr id="1445" name=""/>
              <p:cNvSpPr/>
              <p:nvPr/>
            </p:nvSpPr>
            <p:spPr>
              <a:xfrm>
                <a:off x="0" y="61930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0" y="61930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::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7" name=""/>
            <p:cNvGrpSpPr/>
            <p:nvPr/>
          </p:nvGrpSpPr>
          <p:grpSpPr>
            <a:xfrm>
              <a:off x="0" y="6414480"/>
              <a:ext cx="6780960" cy="221400"/>
              <a:chOff x="0" y="6414480"/>
              <a:chExt cx="6780960" cy="221400"/>
            </a:xfrm>
          </p:grpSpPr>
          <p:sp>
            <p:nvSpPr>
              <p:cNvPr id="1448" name=""/>
              <p:cNvSpPr/>
              <p:nvPr/>
            </p:nvSpPr>
            <p:spPr>
              <a:xfrm>
                <a:off x="0" y="64144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0" y="64144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0" name=""/>
            <p:cNvGrpSpPr/>
            <p:nvPr/>
          </p:nvGrpSpPr>
          <p:grpSpPr>
            <a:xfrm>
              <a:off x="0" y="6636240"/>
              <a:ext cx="6780960" cy="221760"/>
              <a:chOff x="0" y="6636240"/>
              <a:chExt cx="6780960" cy="221760"/>
            </a:xfrm>
          </p:grpSpPr>
          <p:sp>
            <p:nvSpPr>
              <p:cNvPr id="1451" name=""/>
              <p:cNvSpPr/>
              <p:nvPr/>
            </p:nvSpPr>
            <p:spPr>
              <a:xfrm>
                <a:off x="0" y="66362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0" y="66362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x = 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3" name=""/>
          <p:cNvGrpSpPr/>
          <p:nvPr/>
        </p:nvGrpSpPr>
        <p:grpSpPr>
          <a:xfrm>
            <a:off x="1752480" y="3505320"/>
            <a:ext cx="6096240" cy="1129320"/>
            <a:chOff x="1752480" y="3505320"/>
            <a:chExt cx="6096240" cy="1129320"/>
          </a:xfrm>
        </p:grpSpPr>
        <p:sp>
          <p:nvSpPr>
            <p:cNvPr id="1454" name=""/>
            <p:cNvSpPr/>
            <p:nvPr/>
          </p:nvSpPr>
          <p:spPr>
            <a:xfrm>
              <a:off x="5410080" y="3505320"/>
              <a:ext cx="2438640" cy="1129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members 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be made accessible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 flipV="1">
              <a:off x="1752480" y="3809520"/>
              <a:ext cx="3657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FD623-8209-4327-B6A9-A05460E3C55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0" y="0"/>
            <a:ext cx="6780960" cy="2438280"/>
            <a:chOff x="0" y="0"/>
            <a:chExt cx="6780960" cy="2438280"/>
          </a:xfrm>
        </p:grpSpPr>
        <p:grpSp>
          <p:nvGrpSpPr>
            <p:cNvPr id="1458" name=""/>
            <p:cNvGrpSpPr/>
            <p:nvPr/>
          </p:nvGrpSpPr>
          <p:grpSpPr>
            <a:xfrm>
              <a:off x="0" y="0"/>
              <a:ext cx="6780960" cy="243720"/>
              <a:chOff x="0" y="0"/>
              <a:chExt cx="6780960" cy="243720"/>
            </a:xfrm>
          </p:grpSpPr>
          <p:sp>
            <p:nvSpPr>
              <p:cNvPr id="1459" name="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y = b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0" y="243720"/>
              <a:ext cx="6780960" cy="243720"/>
              <a:chOff x="0" y="243720"/>
              <a:chExt cx="6780960" cy="243720"/>
            </a:xfrm>
          </p:grpSpPr>
          <p:sp>
            <p:nvSpPr>
              <p:cNvPr id="1462" name="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4" name=""/>
            <p:cNvGrpSpPr/>
            <p:nvPr/>
          </p:nvGrpSpPr>
          <p:grpSpPr>
            <a:xfrm>
              <a:off x="0" y="487440"/>
              <a:ext cx="6780960" cy="243720"/>
              <a:chOff x="0" y="487440"/>
              <a:chExt cx="6780960" cy="243720"/>
            </a:xfrm>
          </p:grpSpPr>
          <p:sp>
            <p:nvSpPr>
              <p:cNvPr id="1465" name="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0" y="731520"/>
              <a:ext cx="6780960" cy="243720"/>
              <a:chOff x="0" y="731520"/>
              <a:chExt cx="6780960" cy="243720"/>
            </a:xfrm>
          </p:grpSpPr>
          <p:sp>
            <p:nvSpPr>
              <p:cNvPr id="1468" name="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the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0" name=""/>
            <p:cNvGrpSpPr/>
            <p:nvPr/>
          </p:nvGrpSpPr>
          <p:grpSpPr>
            <a:xfrm>
              <a:off x="0" y="975240"/>
              <a:ext cx="6780960" cy="243720"/>
              <a:chOff x="0" y="975240"/>
              <a:chExt cx="6780960" cy="243720"/>
            </a:xfrm>
          </p:grpSpPr>
          <p:sp>
            <p:nvSpPr>
              <p:cNvPr id="1471" name=""/>
              <p:cNvSpPr/>
              <p:nvPr/>
            </p:nvSpPr>
            <p:spPr>
              <a:xfrm>
                <a:off x="0" y="9752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0" y="9752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&amp;p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3" name=""/>
            <p:cNvGrpSpPr/>
            <p:nvPr/>
          </p:nvGrpSpPr>
          <p:grpSpPr>
            <a:xfrm>
              <a:off x="0" y="1218960"/>
              <a:ext cx="6780960" cy="243720"/>
              <a:chOff x="0" y="1218960"/>
              <a:chExt cx="6780960" cy="243720"/>
            </a:xfrm>
          </p:grpSpPr>
          <p:sp>
            <p:nvSpPr>
              <p:cNvPr id="1474" name=""/>
              <p:cNvSpPr/>
              <p:nvPr/>
            </p:nvSpPr>
            <p:spPr>
              <a:xfrm>
                <a:off x="0" y="12189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0" y="12189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6" name=""/>
            <p:cNvGrpSpPr/>
            <p:nvPr/>
          </p:nvGrpSpPr>
          <p:grpSpPr>
            <a:xfrm>
              <a:off x="0" y="1463040"/>
              <a:ext cx="6780960" cy="243720"/>
              <a:chOff x="0" y="1463040"/>
              <a:chExt cx="6780960" cy="243720"/>
            </a:xfrm>
          </p:grpSpPr>
          <p:sp>
            <p:nvSpPr>
              <p:cNvPr id="1477" name=""/>
              <p:cNvSpPr/>
              <p:nvPr/>
            </p:nvSpPr>
            <p:spPr>
              <a:xfrm>
                <a:off x="0" y="14630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0" y="14630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output &lt;&lt; '[' &lt;&lt; p.x &lt;&lt; ", " &lt;&lt; p.y &lt;&lt; ']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0" y="1706760"/>
              <a:ext cx="6780960" cy="243720"/>
              <a:chOff x="0" y="1706760"/>
              <a:chExt cx="6780960" cy="243720"/>
            </a:xfrm>
          </p:grpSpPr>
          <p:sp>
            <p:nvSpPr>
              <p:cNvPr id="1480" name=""/>
              <p:cNvSpPr/>
              <p:nvPr/>
            </p:nvSpPr>
            <p:spPr>
              <a:xfrm>
                <a:off x="0" y="17067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0" y="17067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0" y="1950840"/>
              <a:ext cx="6780960" cy="243720"/>
              <a:chOff x="0" y="1950840"/>
              <a:chExt cx="6780960" cy="243720"/>
            </a:xfrm>
          </p:grpSpPr>
          <p:sp>
            <p:nvSpPr>
              <p:cNvPr id="1483" name=""/>
              <p:cNvSpPr/>
              <p:nvPr/>
            </p:nvSpPr>
            <p:spPr>
              <a:xfrm>
                <a:off x="0" y="19508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0" y="19508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utput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0" y="2194560"/>
              <a:ext cx="6780960" cy="243720"/>
              <a:chOff x="0" y="2194560"/>
              <a:chExt cx="6780960" cy="243720"/>
            </a:xfrm>
          </p:grpSpPr>
          <p:sp>
            <p:nvSpPr>
              <p:cNvPr id="1486" name=""/>
              <p:cNvSpPr/>
              <p:nvPr/>
            </p:nvSpPr>
            <p:spPr>
              <a:xfrm>
                <a:off x="0" y="21945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0" y="21945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BD868-C0BD-40B4-9723-58BB2F51D97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89" name=""/>
          <p:cNvGrpSpPr/>
          <p:nvPr/>
        </p:nvGrpSpPr>
        <p:grpSpPr>
          <a:xfrm>
            <a:off x="0" y="0"/>
            <a:ext cx="6780960" cy="4648320"/>
            <a:chOff x="0" y="0"/>
            <a:chExt cx="6780960" cy="4648320"/>
          </a:xfrm>
        </p:grpSpPr>
        <p:grpSp>
          <p:nvGrpSpPr>
            <p:cNvPr id="1490" name=""/>
            <p:cNvGrpSpPr/>
            <p:nvPr/>
          </p:nvGrpSpPr>
          <p:grpSpPr>
            <a:xfrm>
              <a:off x="0" y="0"/>
              <a:ext cx="6780960" cy="192960"/>
              <a:chOff x="0" y="0"/>
              <a:chExt cx="6780960" cy="192960"/>
            </a:xfrm>
          </p:grpSpPr>
          <p:sp>
            <p:nvSpPr>
              <p:cNvPr id="1491" name=""/>
              <p:cNvSpPr/>
              <p:nvPr/>
            </p:nvSpPr>
            <p:spPr>
              <a:xfrm>
                <a:off x="0" y="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0" y="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9: circle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0" y="192960"/>
              <a:ext cx="6780960" cy="192960"/>
              <a:chOff x="0" y="192960"/>
              <a:chExt cx="6780960" cy="192960"/>
            </a:xfrm>
          </p:grpSpPr>
          <p:sp>
            <p:nvSpPr>
              <p:cNvPr id="1494" name=""/>
              <p:cNvSpPr/>
              <p:nvPr/>
            </p:nvSpPr>
            <p:spPr>
              <a:xfrm>
                <a:off x="0" y="1929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0" y="1929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0" y="385920"/>
              <a:ext cx="6780960" cy="192960"/>
              <a:chOff x="0" y="385920"/>
              <a:chExt cx="6780960" cy="192960"/>
            </a:xfrm>
          </p:grpSpPr>
          <p:sp>
            <p:nvSpPr>
              <p:cNvPr id="1497" name=""/>
              <p:cNvSpPr/>
              <p:nvPr/>
            </p:nvSpPr>
            <p:spPr>
              <a:xfrm>
                <a:off x="0" y="3859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0" y="3859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0" y="578880"/>
              <a:ext cx="6780960" cy="192960"/>
              <a:chOff x="0" y="578880"/>
              <a:chExt cx="6780960" cy="192960"/>
            </a:xfrm>
          </p:grpSpPr>
          <p:sp>
            <p:nvSpPr>
              <p:cNvPr id="1500" name=""/>
              <p:cNvSpPr/>
              <p:nvPr/>
            </p:nvSpPr>
            <p:spPr>
              <a:xfrm>
                <a:off x="0" y="57888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0" y="57888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0" y="772200"/>
              <a:ext cx="6780960" cy="192960"/>
              <a:chOff x="0" y="772200"/>
              <a:chExt cx="6780960" cy="192960"/>
            </a:xfrm>
          </p:grpSpPr>
          <p:sp>
            <p:nvSpPr>
              <p:cNvPr id="1503" name=""/>
              <p:cNvSpPr/>
              <p:nvPr/>
            </p:nvSpPr>
            <p:spPr>
              <a:xfrm>
                <a:off x="0" y="7722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0" y="7722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5" name=""/>
            <p:cNvGrpSpPr/>
            <p:nvPr/>
          </p:nvGrpSpPr>
          <p:grpSpPr>
            <a:xfrm>
              <a:off x="0" y="965160"/>
              <a:ext cx="6780960" cy="192960"/>
              <a:chOff x="0" y="965160"/>
              <a:chExt cx="6780960" cy="192960"/>
            </a:xfrm>
          </p:grpSpPr>
          <p:sp>
            <p:nvSpPr>
              <p:cNvPr id="1506" name=""/>
              <p:cNvSpPr/>
              <p:nvPr/>
            </p:nvSpPr>
            <p:spPr>
              <a:xfrm>
                <a:off x="0" y="9651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0" y="9651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8" name=""/>
            <p:cNvGrpSpPr/>
            <p:nvPr/>
          </p:nvGrpSpPr>
          <p:grpSpPr>
            <a:xfrm>
              <a:off x="0" y="1158120"/>
              <a:ext cx="6780960" cy="192960"/>
              <a:chOff x="0" y="1158120"/>
              <a:chExt cx="6780960" cy="192960"/>
            </a:xfrm>
          </p:grpSpPr>
          <p:sp>
            <p:nvSpPr>
              <p:cNvPr id="1509" name=""/>
              <p:cNvSpPr/>
              <p:nvPr/>
            </p:nvSpPr>
            <p:spPr>
              <a:xfrm>
                <a:off x="0" y="11581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0" y="11581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1" name=""/>
            <p:cNvGrpSpPr/>
            <p:nvPr/>
          </p:nvGrpSpPr>
          <p:grpSpPr>
            <a:xfrm>
              <a:off x="0" y="1351440"/>
              <a:ext cx="6780960" cy="192960"/>
              <a:chOff x="0" y="1351440"/>
              <a:chExt cx="6780960" cy="192960"/>
            </a:xfrm>
          </p:grpSpPr>
          <p:sp>
            <p:nvSpPr>
              <p:cNvPr id="1512" name=""/>
              <p:cNvSpPr/>
              <p:nvPr/>
            </p:nvSpPr>
            <p:spPr>
              <a:xfrm>
                <a:off x="0" y="13514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0" y="13514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4" name=""/>
            <p:cNvGrpSpPr/>
            <p:nvPr/>
          </p:nvGrpSpPr>
          <p:grpSpPr>
            <a:xfrm>
              <a:off x="0" y="1544400"/>
              <a:ext cx="6780960" cy="192960"/>
              <a:chOff x="0" y="1544400"/>
              <a:chExt cx="6780960" cy="192960"/>
            </a:xfrm>
          </p:grpSpPr>
          <p:sp>
            <p:nvSpPr>
              <p:cNvPr id="1515" name=""/>
              <p:cNvSpPr/>
              <p:nvPr/>
            </p:nvSpPr>
            <p:spPr>
              <a:xfrm>
                <a:off x="0" y="15444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0" y="15444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7" name=""/>
            <p:cNvGrpSpPr/>
            <p:nvPr/>
          </p:nvGrpSpPr>
          <p:grpSpPr>
            <a:xfrm>
              <a:off x="0" y="1737360"/>
              <a:ext cx="6780960" cy="192960"/>
              <a:chOff x="0" y="1737360"/>
              <a:chExt cx="6780960" cy="192960"/>
            </a:xfrm>
          </p:grpSpPr>
          <p:sp>
            <p:nvSpPr>
              <p:cNvPr id="1518" name=""/>
              <p:cNvSpPr/>
              <p:nvPr/>
            </p:nvSpPr>
            <p:spPr>
              <a:xfrm>
                <a:off x="0" y="17373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0" y="17373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0" name=""/>
            <p:cNvGrpSpPr/>
            <p:nvPr/>
          </p:nvGrpSpPr>
          <p:grpSpPr>
            <a:xfrm>
              <a:off x="0" y="1930320"/>
              <a:ext cx="6780960" cy="192960"/>
              <a:chOff x="0" y="1930320"/>
              <a:chExt cx="6780960" cy="192960"/>
            </a:xfrm>
          </p:grpSpPr>
          <p:sp>
            <p:nvSpPr>
              <p:cNvPr id="1521" name=""/>
              <p:cNvSpPr/>
              <p:nvPr/>
            </p:nvSpPr>
            <p:spPr>
              <a:xfrm>
                <a:off x="0" y="19303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0" y="19303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3" name=""/>
            <p:cNvGrpSpPr/>
            <p:nvPr/>
          </p:nvGrpSpPr>
          <p:grpSpPr>
            <a:xfrm>
              <a:off x="0" y="2123640"/>
              <a:ext cx="6780960" cy="192960"/>
              <a:chOff x="0" y="2123640"/>
              <a:chExt cx="6780960" cy="192960"/>
            </a:xfrm>
          </p:grpSpPr>
          <p:sp>
            <p:nvSpPr>
              <p:cNvPr id="1524" name=""/>
              <p:cNvSpPr/>
              <p:nvPr/>
            </p:nvSpPr>
            <p:spPr>
              <a:xfrm>
                <a:off x="0" y="21236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0" y="21236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6" name=""/>
            <p:cNvGrpSpPr/>
            <p:nvPr/>
          </p:nvGrpSpPr>
          <p:grpSpPr>
            <a:xfrm>
              <a:off x="0" y="2316600"/>
              <a:ext cx="6780960" cy="192960"/>
              <a:chOff x="0" y="2316600"/>
              <a:chExt cx="6780960" cy="192960"/>
            </a:xfrm>
          </p:grpSpPr>
          <p:sp>
            <p:nvSpPr>
              <p:cNvPr id="1527" name=""/>
              <p:cNvSpPr/>
              <p:nvPr/>
            </p:nvSpPr>
            <p:spPr>
              <a:xfrm>
                <a:off x="0" y="23166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0" y="23166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0" y="2509560"/>
              <a:ext cx="6780960" cy="192960"/>
              <a:chOff x="0" y="2509560"/>
              <a:chExt cx="6780960" cy="192960"/>
            </a:xfrm>
          </p:grpSpPr>
          <p:sp>
            <p:nvSpPr>
              <p:cNvPr id="1530" name=""/>
              <p:cNvSpPr/>
              <p:nvPr/>
            </p:nvSpPr>
            <p:spPr>
              <a:xfrm>
                <a:off x="0" y="25095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0" y="25095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0" y="2702520"/>
              <a:ext cx="6780960" cy="192960"/>
              <a:chOff x="0" y="2702520"/>
              <a:chExt cx="6780960" cy="192960"/>
            </a:xfrm>
          </p:grpSpPr>
          <p:sp>
            <p:nvSpPr>
              <p:cNvPr id="1533" name=""/>
              <p:cNvSpPr/>
              <p:nvPr/>
            </p:nvSpPr>
            <p:spPr>
              <a:xfrm>
                <a:off x="0" y="27025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0" y="27025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0" y="2895840"/>
              <a:ext cx="6780960" cy="192960"/>
              <a:chOff x="0" y="2895840"/>
              <a:chExt cx="6780960" cy="192960"/>
            </a:xfrm>
          </p:grpSpPr>
          <p:sp>
            <p:nvSpPr>
              <p:cNvPr id="1536" name=""/>
              <p:cNvSpPr/>
              <p:nvPr/>
            </p:nvSpPr>
            <p:spPr>
              <a:xfrm>
                <a:off x="0" y="28958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0" y="28958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8" name=""/>
            <p:cNvGrpSpPr/>
            <p:nvPr/>
          </p:nvGrpSpPr>
          <p:grpSpPr>
            <a:xfrm>
              <a:off x="0" y="3088800"/>
              <a:ext cx="6780960" cy="192960"/>
              <a:chOff x="0" y="3088800"/>
              <a:chExt cx="6780960" cy="192960"/>
            </a:xfrm>
          </p:grpSpPr>
          <p:sp>
            <p:nvSpPr>
              <p:cNvPr id="1539" name=""/>
              <p:cNvSpPr/>
              <p:nvPr/>
            </p:nvSpPr>
            <p:spPr>
              <a:xfrm>
                <a:off x="0" y="30888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0" y="30888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et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0" y="3281760"/>
              <a:ext cx="6780960" cy="207720"/>
              <a:chOff x="0" y="3281760"/>
              <a:chExt cx="6780960" cy="207720"/>
            </a:xfrm>
          </p:grpSpPr>
          <p:sp>
            <p:nvSpPr>
              <p:cNvPr id="1542" name=""/>
              <p:cNvSpPr/>
              <p:nvPr/>
            </p:nvSpPr>
            <p:spPr>
              <a:xfrm>
                <a:off x="0" y="3281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0" y="3281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4" name=""/>
            <p:cNvGrpSpPr/>
            <p:nvPr/>
          </p:nvGrpSpPr>
          <p:grpSpPr>
            <a:xfrm>
              <a:off x="0" y="3489840"/>
              <a:ext cx="6780960" cy="192960"/>
              <a:chOff x="0" y="3489840"/>
              <a:chExt cx="6780960" cy="192960"/>
            </a:xfrm>
          </p:grpSpPr>
          <p:sp>
            <p:nvSpPr>
              <p:cNvPr id="1545" name=""/>
              <p:cNvSpPr/>
              <p:nvPr/>
            </p:nvSpPr>
            <p:spPr>
              <a:xfrm>
                <a:off x="0" y="34898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0" y="34898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culate are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7" name=""/>
            <p:cNvGrpSpPr/>
            <p:nvPr/>
          </p:nvGrpSpPr>
          <p:grpSpPr>
            <a:xfrm>
              <a:off x="0" y="3682800"/>
              <a:ext cx="6780960" cy="192960"/>
              <a:chOff x="0" y="3682800"/>
              <a:chExt cx="6780960" cy="192960"/>
            </a:xfrm>
          </p:grpSpPr>
          <p:sp>
            <p:nvSpPr>
              <p:cNvPr id="1548" name=""/>
              <p:cNvSpPr/>
              <p:nvPr/>
            </p:nvSpPr>
            <p:spPr>
              <a:xfrm>
                <a:off x="0" y="36828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0" y="36828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ccessible to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0" name=""/>
            <p:cNvGrpSpPr/>
            <p:nvPr/>
          </p:nvGrpSpPr>
          <p:grpSpPr>
            <a:xfrm>
              <a:off x="0" y="3876120"/>
              <a:ext cx="6780960" cy="192960"/>
              <a:chOff x="0" y="3876120"/>
              <a:chExt cx="6780960" cy="192960"/>
            </a:xfrm>
          </p:grpSpPr>
          <p:sp>
            <p:nvSpPr>
              <p:cNvPr id="1551" name=""/>
              <p:cNvSpPr/>
              <p:nvPr/>
            </p:nvSpPr>
            <p:spPr>
              <a:xfrm>
                <a:off x="0" y="38761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0" y="38761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adiu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adius of the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3" name=""/>
            <p:cNvGrpSpPr/>
            <p:nvPr/>
          </p:nvGrpSpPr>
          <p:grpSpPr>
            <a:xfrm>
              <a:off x="0" y="4069080"/>
              <a:ext cx="6780960" cy="192960"/>
              <a:chOff x="0" y="4069080"/>
              <a:chExt cx="6780960" cy="192960"/>
            </a:xfrm>
          </p:grpSpPr>
          <p:sp>
            <p:nvSpPr>
              <p:cNvPr id="1554" name=""/>
              <p:cNvSpPr/>
              <p:nvPr/>
            </p:nvSpPr>
            <p:spPr>
              <a:xfrm>
                <a:off x="0" y="406908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0" y="406908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6" name=""/>
            <p:cNvGrpSpPr/>
            <p:nvPr/>
          </p:nvGrpSpPr>
          <p:grpSpPr>
            <a:xfrm>
              <a:off x="0" y="4262040"/>
              <a:ext cx="6780960" cy="192960"/>
              <a:chOff x="0" y="4262040"/>
              <a:chExt cx="6780960" cy="192960"/>
            </a:xfrm>
          </p:grpSpPr>
          <p:sp>
            <p:nvSpPr>
              <p:cNvPr id="1557" name=""/>
              <p:cNvSpPr/>
              <p:nvPr/>
            </p:nvSpPr>
            <p:spPr>
              <a:xfrm>
                <a:off x="0" y="42620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0" y="42620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9" name=""/>
            <p:cNvGrpSpPr/>
            <p:nvPr/>
          </p:nvGrpSpPr>
          <p:grpSpPr>
            <a:xfrm>
              <a:off x="0" y="4455360"/>
              <a:ext cx="6780960" cy="192960"/>
              <a:chOff x="0" y="4455360"/>
              <a:chExt cx="6780960" cy="192960"/>
            </a:xfrm>
          </p:grpSpPr>
          <p:sp>
            <p:nvSpPr>
              <p:cNvPr id="1560" name=""/>
              <p:cNvSpPr/>
              <p:nvPr/>
            </p:nvSpPr>
            <p:spPr>
              <a:xfrm>
                <a:off x="0" y="44553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0" y="44553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2" name=""/>
          <p:cNvGrpSpPr/>
          <p:nvPr/>
        </p:nvGrpSpPr>
        <p:grpSpPr>
          <a:xfrm>
            <a:off x="0" y="4648320"/>
            <a:ext cx="6857280" cy="2209320"/>
            <a:chOff x="0" y="4648320"/>
            <a:chExt cx="6857280" cy="2209320"/>
          </a:xfrm>
        </p:grpSpPr>
        <p:grpSp>
          <p:nvGrpSpPr>
            <p:cNvPr id="1563" name=""/>
            <p:cNvGrpSpPr/>
            <p:nvPr/>
          </p:nvGrpSpPr>
          <p:grpSpPr>
            <a:xfrm>
              <a:off x="0" y="4648320"/>
              <a:ext cx="6857280" cy="245160"/>
              <a:chOff x="0" y="4648320"/>
              <a:chExt cx="6857280" cy="245160"/>
            </a:xfrm>
          </p:grpSpPr>
          <p:sp>
            <p:nvSpPr>
              <p:cNvPr id="1564" name=""/>
              <p:cNvSpPr/>
              <p:nvPr/>
            </p:nvSpPr>
            <p:spPr>
              <a:xfrm>
                <a:off x="0" y="464832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0" y="464832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9: circle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6" name=""/>
            <p:cNvGrpSpPr/>
            <p:nvPr/>
          </p:nvGrpSpPr>
          <p:grpSpPr>
            <a:xfrm>
              <a:off x="0" y="4893480"/>
              <a:ext cx="6857280" cy="245160"/>
              <a:chOff x="0" y="4893480"/>
              <a:chExt cx="6857280" cy="245160"/>
            </a:xfrm>
          </p:grpSpPr>
          <p:sp>
            <p:nvSpPr>
              <p:cNvPr id="1567" name=""/>
              <p:cNvSpPr/>
              <p:nvPr/>
            </p:nvSpPr>
            <p:spPr>
              <a:xfrm>
                <a:off x="0" y="48934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0" y="48934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0" y="5139000"/>
              <a:ext cx="6857280" cy="245520"/>
              <a:chOff x="0" y="5139000"/>
              <a:chExt cx="6857280" cy="245520"/>
            </a:xfrm>
          </p:grpSpPr>
          <p:sp>
            <p:nvSpPr>
              <p:cNvPr id="1570" name=""/>
              <p:cNvSpPr/>
              <p:nvPr/>
            </p:nvSpPr>
            <p:spPr>
              <a:xfrm>
                <a:off x="0" y="5139000"/>
                <a:ext cx="685728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0" y="5139000"/>
                <a:ext cx="685728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0" y="5384880"/>
              <a:ext cx="6857280" cy="245160"/>
              <a:chOff x="0" y="5384880"/>
              <a:chExt cx="6857280" cy="245160"/>
            </a:xfrm>
          </p:grpSpPr>
          <p:sp>
            <p:nvSpPr>
              <p:cNvPr id="1573" name=""/>
              <p:cNvSpPr/>
              <p:nvPr/>
            </p:nvSpPr>
            <p:spPr>
              <a:xfrm>
                <a:off x="0" y="53848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0" y="53848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0" y="5630400"/>
              <a:ext cx="6857280" cy="245160"/>
              <a:chOff x="0" y="5630400"/>
              <a:chExt cx="6857280" cy="245160"/>
            </a:xfrm>
          </p:grpSpPr>
          <p:sp>
            <p:nvSpPr>
              <p:cNvPr id="1576" name=""/>
              <p:cNvSpPr/>
              <p:nvPr/>
            </p:nvSpPr>
            <p:spPr>
              <a:xfrm>
                <a:off x="0" y="563040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0" y="563040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0" y="5875920"/>
              <a:ext cx="6857280" cy="245160"/>
              <a:chOff x="0" y="5875920"/>
              <a:chExt cx="6857280" cy="245160"/>
            </a:xfrm>
          </p:grpSpPr>
          <p:sp>
            <p:nvSpPr>
              <p:cNvPr id="1579" name=""/>
              <p:cNvSpPr/>
              <p:nvPr/>
            </p:nvSpPr>
            <p:spPr>
              <a:xfrm>
                <a:off x="0" y="587592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0" y="587592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0" y="6121440"/>
              <a:ext cx="6857280" cy="245520"/>
              <a:chOff x="0" y="6121440"/>
              <a:chExt cx="6857280" cy="245520"/>
            </a:xfrm>
          </p:grpSpPr>
          <p:sp>
            <p:nvSpPr>
              <p:cNvPr id="1582" name=""/>
              <p:cNvSpPr/>
              <p:nvPr/>
            </p:nvSpPr>
            <p:spPr>
              <a:xfrm>
                <a:off x="0" y="6121440"/>
                <a:ext cx="685728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0" y="6121440"/>
                <a:ext cx="685728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4" name=""/>
            <p:cNvGrpSpPr/>
            <p:nvPr/>
          </p:nvGrpSpPr>
          <p:grpSpPr>
            <a:xfrm>
              <a:off x="0" y="6366960"/>
              <a:ext cx="6857280" cy="245160"/>
              <a:chOff x="0" y="6366960"/>
              <a:chExt cx="6857280" cy="245160"/>
            </a:xfrm>
          </p:grpSpPr>
          <p:sp>
            <p:nvSpPr>
              <p:cNvPr id="1585" name=""/>
              <p:cNvSpPr/>
              <p:nvPr/>
            </p:nvSpPr>
            <p:spPr>
              <a:xfrm>
                <a:off x="0" y="636696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0" y="636696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7" name=""/>
            <p:cNvGrpSpPr/>
            <p:nvPr/>
          </p:nvGrpSpPr>
          <p:grpSpPr>
            <a:xfrm>
              <a:off x="0" y="6612480"/>
              <a:ext cx="6857280" cy="245160"/>
              <a:chOff x="0" y="6612480"/>
              <a:chExt cx="6857280" cy="245160"/>
            </a:xfrm>
          </p:grpSpPr>
          <p:sp>
            <p:nvSpPr>
              <p:cNvPr id="1588" name=""/>
              <p:cNvSpPr/>
              <p:nvPr/>
            </p:nvSpPr>
            <p:spPr>
              <a:xfrm>
                <a:off x="0" y="66124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0" y="66124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0" name=""/>
          <p:cNvSpPr/>
          <p:nvPr/>
        </p:nvSpPr>
        <p:spPr>
          <a:xfrm>
            <a:off x="4572000" y="106668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2057400" y="3962520"/>
            <a:ext cx="6172200" cy="824040"/>
            <a:chOff x="2057400" y="3962520"/>
            <a:chExt cx="6172200" cy="824040"/>
          </a:xfrm>
        </p:grpSpPr>
        <p:sp>
          <p:nvSpPr>
            <p:cNvPr id="1592" name=""/>
            <p:cNvSpPr/>
            <p:nvPr/>
          </p:nvSpPr>
          <p:spPr>
            <a:xfrm>
              <a:off x="5791320" y="396252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 members 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be made accessible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ylin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 flipV="1">
              <a:off x="2057400" y="4114800"/>
              <a:ext cx="3733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5E02A-7D1D-4C90-8D9B-A3C0A88B7D5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596" name=""/>
            <p:cNvGrpSpPr/>
            <p:nvPr/>
          </p:nvGrpSpPr>
          <p:grpSpPr>
            <a:xfrm>
              <a:off x="0" y="0"/>
              <a:ext cx="6780960" cy="236160"/>
              <a:chOff x="0" y="0"/>
              <a:chExt cx="6780960" cy="236160"/>
            </a:xfrm>
          </p:grpSpPr>
          <p:sp>
            <p:nvSpPr>
              <p:cNvPr id="1597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9" name=""/>
            <p:cNvGrpSpPr/>
            <p:nvPr/>
          </p:nvGrpSpPr>
          <p:grpSpPr>
            <a:xfrm>
              <a:off x="0" y="236160"/>
              <a:ext cx="6780960" cy="236160"/>
              <a:chOff x="0" y="236160"/>
              <a:chExt cx="6780960" cy="236160"/>
            </a:xfrm>
          </p:grpSpPr>
          <p:sp>
            <p:nvSpPr>
              <p:cNvPr id="1600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ircle calls constructor fo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2" name=""/>
            <p:cNvGrpSpPr/>
            <p:nvPr/>
          </p:nvGrpSpPr>
          <p:grpSpPr>
            <a:xfrm>
              <a:off x="0" y="472680"/>
              <a:ext cx="6780960" cy="236520"/>
              <a:chOff x="0" y="472680"/>
              <a:chExt cx="6780960" cy="236520"/>
            </a:xfrm>
          </p:grpSpPr>
          <p:sp>
            <p:nvSpPr>
              <p:cNvPr id="1603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ith a member initializer and initializes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5" name=""/>
            <p:cNvGrpSpPr/>
            <p:nvPr/>
          </p:nvGrpSpPr>
          <p:grpSpPr>
            <a:xfrm>
              <a:off x="0" y="709200"/>
              <a:ext cx="6780960" cy="236160"/>
              <a:chOff x="0" y="709200"/>
              <a:chExt cx="6780960" cy="236160"/>
            </a:xfrm>
          </p:grpSpPr>
          <p:sp>
            <p:nvSpPr>
              <p:cNvPr id="1606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::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8" name=""/>
            <p:cNvGrpSpPr/>
            <p:nvPr/>
          </p:nvGrpSpPr>
          <p:grpSpPr>
            <a:xfrm>
              <a:off x="0" y="945720"/>
              <a:ext cx="6780960" cy="236160"/>
              <a:chOff x="0" y="945720"/>
              <a:chExt cx="6780960" cy="236160"/>
            </a:xfrm>
          </p:grpSpPr>
          <p:sp>
            <p:nvSpPr>
              <p:cNvPr id="1609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Point( a, b )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1" name=""/>
            <p:cNvGrpSpPr/>
            <p:nvPr/>
          </p:nvGrpSpPr>
          <p:grpSpPr>
            <a:xfrm>
              <a:off x="0" y="1182240"/>
              <a:ext cx="6780960" cy="236160"/>
              <a:chOff x="0" y="1182240"/>
              <a:chExt cx="6780960" cy="236160"/>
            </a:xfrm>
          </p:grpSpPr>
          <p:sp>
            <p:nvSpPr>
              <p:cNvPr id="1612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setRadius( r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4" name=""/>
            <p:cNvGrpSpPr/>
            <p:nvPr/>
          </p:nvGrpSpPr>
          <p:grpSpPr>
            <a:xfrm>
              <a:off x="0" y="1418760"/>
              <a:ext cx="6780960" cy="236520"/>
              <a:chOff x="0" y="1418760"/>
              <a:chExt cx="6780960" cy="236520"/>
            </a:xfrm>
          </p:grpSpPr>
          <p:sp>
            <p:nvSpPr>
              <p:cNvPr id="1615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7" name=""/>
            <p:cNvGrpSpPr/>
            <p:nvPr/>
          </p:nvGrpSpPr>
          <p:grpSpPr>
            <a:xfrm>
              <a:off x="0" y="1655280"/>
              <a:ext cx="6780960" cy="236160"/>
              <a:chOff x="0" y="1655280"/>
              <a:chExt cx="6780960" cy="236160"/>
            </a:xfrm>
          </p:grpSpPr>
          <p:sp>
            <p:nvSpPr>
              <p:cNvPr id="1618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0" name=""/>
            <p:cNvGrpSpPr/>
            <p:nvPr/>
          </p:nvGrpSpPr>
          <p:grpSpPr>
            <a:xfrm>
              <a:off x="0" y="1891800"/>
              <a:ext cx="6780960" cy="236160"/>
              <a:chOff x="0" y="1891800"/>
              <a:chExt cx="6780960" cy="236160"/>
            </a:xfrm>
          </p:grpSpPr>
          <p:sp>
            <p:nvSpPr>
              <p:cNvPr id="1621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3" name=""/>
            <p:cNvGrpSpPr/>
            <p:nvPr/>
          </p:nvGrpSpPr>
          <p:grpSpPr>
            <a:xfrm>
              <a:off x="0" y="2128320"/>
              <a:ext cx="6780960" cy="236160"/>
              <a:chOff x="0" y="2128320"/>
              <a:chExt cx="6780960" cy="236160"/>
            </a:xfrm>
          </p:grpSpPr>
          <p:sp>
            <p:nvSpPr>
              <p:cNvPr id="1624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radius = ( r &gt;= 0 ? r : 0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0" y="2364840"/>
              <a:ext cx="6780960" cy="236520"/>
              <a:chOff x="0" y="2364840"/>
              <a:chExt cx="6780960" cy="236520"/>
            </a:xfrm>
          </p:grpSpPr>
          <p:sp>
            <p:nvSpPr>
              <p:cNvPr id="1627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0" y="2601360"/>
              <a:ext cx="6780960" cy="236160"/>
              <a:chOff x="0" y="2601360"/>
              <a:chExt cx="6780960" cy="236160"/>
            </a:xfrm>
          </p:grpSpPr>
          <p:sp>
            <p:nvSpPr>
              <p:cNvPr id="1630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2" name=""/>
            <p:cNvGrpSpPr/>
            <p:nvPr/>
          </p:nvGrpSpPr>
          <p:grpSpPr>
            <a:xfrm>
              <a:off x="0" y="2837880"/>
              <a:ext cx="6780960" cy="236160"/>
              <a:chOff x="0" y="2837880"/>
              <a:chExt cx="6780960" cy="236160"/>
            </a:xfrm>
          </p:grpSpPr>
          <p:sp>
            <p:nvSpPr>
              <p:cNvPr id="1633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5" name=""/>
            <p:cNvGrpSpPr/>
            <p:nvPr/>
          </p:nvGrpSpPr>
          <p:grpSpPr>
            <a:xfrm>
              <a:off x="0" y="3074040"/>
              <a:ext cx="6780960" cy="236160"/>
              <a:chOff x="0" y="3074040"/>
              <a:chExt cx="6780960" cy="236160"/>
            </a:xfrm>
          </p:grpSpPr>
          <p:sp>
            <p:nvSpPr>
              <p:cNvPr id="1636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8" name=""/>
            <p:cNvGrpSpPr/>
            <p:nvPr/>
          </p:nvGrpSpPr>
          <p:grpSpPr>
            <a:xfrm>
              <a:off x="0" y="3310560"/>
              <a:ext cx="6780960" cy="236520"/>
              <a:chOff x="0" y="3310560"/>
              <a:chExt cx="6780960" cy="236520"/>
            </a:xfrm>
          </p:grpSpPr>
          <p:sp>
            <p:nvSpPr>
              <p:cNvPr id="1639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area of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1" name=""/>
            <p:cNvGrpSpPr/>
            <p:nvPr/>
          </p:nvGrpSpPr>
          <p:grpSpPr>
            <a:xfrm>
              <a:off x="0" y="3547080"/>
              <a:ext cx="6780960" cy="236160"/>
              <a:chOff x="0" y="3547080"/>
              <a:chExt cx="6780960" cy="236160"/>
            </a:xfrm>
          </p:grpSpPr>
          <p:sp>
            <p:nvSpPr>
              <p:cNvPr id="1642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4" name=""/>
            <p:cNvGrpSpPr/>
            <p:nvPr/>
          </p:nvGrpSpPr>
          <p:grpSpPr>
            <a:xfrm>
              <a:off x="0" y="3783600"/>
              <a:ext cx="6780960" cy="236160"/>
              <a:chOff x="0" y="3783600"/>
              <a:chExt cx="6780960" cy="236160"/>
            </a:xfrm>
          </p:grpSpPr>
          <p:sp>
            <p:nvSpPr>
              <p:cNvPr id="1645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3.14159 * radius *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7" name=""/>
            <p:cNvGrpSpPr/>
            <p:nvPr/>
          </p:nvGrpSpPr>
          <p:grpSpPr>
            <a:xfrm>
              <a:off x="0" y="4020120"/>
              <a:ext cx="6780960" cy="236160"/>
              <a:chOff x="0" y="4020120"/>
              <a:chExt cx="6780960" cy="236160"/>
            </a:xfrm>
          </p:grpSpPr>
          <p:sp>
            <p:nvSpPr>
              <p:cNvPr id="1648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0" name=""/>
            <p:cNvGrpSpPr/>
            <p:nvPr/>
          </p:nvGrpSpPr>
          <p:grpSpPr>
            <a:xfrm>
              <a:off x="0" y="4256640"/>
              <a:ext cx="6780960" cy="236160"/>
              <a:chOff x="0" y="4256640"/>
              <a:chExt cx="6780960" cy="236160"/>
            </a:xfrm>
          </p:grpSpPr>
          <p:sp>
            <p:nvSpPr>
              <p:cNvPr id="1651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a circle in the form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3" name=""/>
            <p:cNvGrpSpPr/>
            <p:nvPr/>
          </p:nvGrpSpPr>
          <p:grpSpPr>
            <a:xfrm>
              <a:off x="0" y="4493160"/>
              <a:ext cx="6780960" cy="236520"/>
              <a:chOff x="0" y="4493160"/>
              <a:chExt cx="6780960" cy="236520"/>
            </a:xfrm>
          </p:grpSpPr>
          <p:sp>
            <p:nvSpPr>
              <p:cNvPr id="1654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enter = [x, y]; Radius = #.##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6" name=""/>
            <p:cNvGrpSpPr/>
            <p:nvPr/>
          </p:nvGrpSpPr>
          <p:grpSpPr>
            <a:xfrm>
              <a:off x="0" y="4729680"/>
              <a:ext cx="6780960" cy="236160"/>
              <a:chOff x="0" y="4729680"/>
              <a:chExt cx="6780960" cy="236160"/>
            </a:xfrm>
          </p:grpSpPr>
          <p:sp>
            <p:nvSpPr>
              <p:cNvPr id="1657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&amp;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9" name=""/>
            <p:cNvGrpSpPr/>
            <p:nvPr/>
          </p:nvGrpSpPr>
          <p:grpSpPr>
            <a:xfrm>
              <a:off x="0" y="4966200"/>
              <a:ext cx="6780960" cy="236160"/>
              <a:chOff x="0" y="4966200"/>
              <a:chExt cx="6780960" cy="236160"/>
            </a:xfrm>
          </p:grpSpPr>
          <p:sp>
            <p:nvSpPr>
              <p:cNvPr id="1660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2" name=""/>
            <p:cNvGrpSpPr/>
            <p:nvPr/>
          </p:nvGrpSpPr>
          <p:grpSpPr>
            <a:xfrm>
              <a:off x="0" y="5202720"/>
              <a:ext cx="6780960" cy="236160"/>
              <a:chOff x="0" y="5202720"/>
              <a:chExt cx="6780960" cy="236160"/>
            </a:xfrm>
          </p:grpSpPr>
          <p:sp>
            <p:nvSpPr>
              <p:cNvPr id="1663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output &lt;&lt; "Center = " &lt;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_ca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 Point &gt; ( 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5" name=""/>
            <p:cNvGrpSpPr/>
            <p:nvPr/>
          </p:nvGrpSpPr>
          <p:grpSpPr>
            <a:xfrm>
              <a:off x="0" y="5438880"/>
              <a:ext cx="6780960" cy="236520"/>
              <a:chOff x="0" y="5438880"/>
              <a:chExt cx="6780960" cy="236520"/>
            </a:xfrm>
          </p:grpSpPr>
          <p:sp>
            <p:nvSpPr>
              <p:cNvPr id="1666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"; Radius =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8" name=""/>
            <p:cNvGrpSpPr/>
            <p:nvPr/>
          </p:nvGrpSpPr>
          <p:grpSpPr>
            <a:xfrm>
              <a:off x="0" y="5675760"/>
              <a:ext cx="6780960" cy="236160"/>
              <a:chOff x="0" y="5675760"/>
              <a:chExt cx="6780960" cy="236160"/>
            </a:xfrm>
          </p:grpSpPr>
          <p:sp>
            <p:nvSpPr>
              <p:cNvPr id="1669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1" name=""/>
            <p:cNvGrpSpPr/>
            <p:nvPr/>
          </p:nvGrpSpPr>
          <p:grpSpPr>
            <a:xfrm>
              <a:off x="0" y="5911920"/>
              <a:ext cx="6780960" cy="236160"/>
              <a:chOff x="0" y="5911920"/>
              <a:chExt cx="6780960" cy="236160"/>
            </a:xfrm>
          </p:grpSpPr>
          <p:sp>
            <p:nvSpPr>
              <p:cNvPr id="1672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setprecision( 2 ) &lt;&lt; c.radiu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4" name=""/>
            <p:cNvGrpSpPr/>
            <p:nvPr/>
          </p:nvGrpSpPr>
          <p:grpSpPr>
            <a:xfrm>
              <a:off x="0" y="6148440"/>
              <a:ext cx="6780960" cy="236160"/>
              <a:chOff x="0" y="6148440"/>
              <a:chExt cx="6780960" cy="236160"/>
            </a:xfrm>
          </p:grpSpPr>
          <p:sp>
            <p:nvSpPr>
              <p:cNvPr id="1675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7" name=""/>
            <p:cNvGrpSpPr/>
            <p:nvPr/>
          </p:nvGrpSpPr>
          <p:grpSpPr>
            <a:xfrm>
              <a:off x="0" y="6384960"/>
              <a:ext cx="6780960" cy="236520"/>
              <a:chOff x="0" y="6384960"/>
              <a:chExt cx="6780960" cy="236520"/>
            </a:xfrm>
          </p:grpSpPr>
          <p:sp>
            <p:nvSpPr>
              <p:cNvPr id="1678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utpu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0" name=""/>
            <p:cNvGrpSpPr/>
            <p:nvPr/>
          </p:nvGrpSpPr>
          <p:grpSpPr>
            <a:xfrm>
              <a:off x="0" y="6621480"/>
              <a:ext cx="6780960" cy="236160"/>
              <a:chOff x="0" y="6621480"/>
              <a:chExt cx="6780960" cy="236160"/>
            </a:xfrm>
          </p:grpSpPr>
          <p:sp>
            <p:nvSpPr>
              <p:cNvPr id="1681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337CE-692B-4FD5-98E7-B9A8916CDB5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   Inheritance: Base and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and derived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ften an object from a derived class (subclass) is also an object of a base class (supercla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ctangle is a derived class in reference to a quadrilateral and a base class in reference to a squ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447920" y="3429000"/>
          <a:ext cx="5943600" cy="330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429000"/>
                    <a:ext cx="594360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F1D9-77F4-4C7A-AA0C-3D0AD074BC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ylin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84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685" name=""/>
            <p:cNvGrpSpPr/>
            <p:nvPr/>
          </p:nvGrpSpPr>
          <p:grpSpPr>
            <a:xfrm>
              <a:off x="0" y="0"/>
              <a:ext cx="6780960" cy="236160"/>
              <a:chOff x="0" y="0"/>
              <a:chExt cx="6780960" cy="236160"/>
            </a:xfrm>
          </p:grpSpPr>
          <p:sp>
            <p:nvSpPr>
              <p:cNvPr id="1686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10: cylindr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8" name=""/>
            <p:cNvGrpSpPr/>
            <p:nvPr/>
          </p:nvGrpSpPr>
          <p:grpSpPr>
            <a:xfrm>
              <a:off x="0" y="236160"/>
              <a:ext cx="6780960" cy="236160"/>
              <a:chOff x="0" y="236160"/>
              <a:chExt cx="6780960" cy="236160"/>
            </a:xfrm>
          </p:grpSpPr>
          <p:sp>
            <p:nvSpPr>
              <p:cNvPr id="1689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1" name=""/>
            <p:cNvGrpSpPr/>
            <p:nvPr/>
          </p:nvGrpSpPr>
          <p:grpSpPr>
            <a:xfrm>
              <a:off x="0" y="472680"/>
              <a:ext cx="6780960" cy="236520"/>
              <a:chOff x="0" y="472680"/>
              <a:chExt cx="6780960" cy="236520"/>
            </a:xfrm>
          </p:grpSpPr>
          <p:sp>
            <p:nvSpPr>
              <p:cNvPr id="1692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R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4" name=""/>
            <p:cNvGrpSpPr/>
            <p:nvPr/>
          </p:nvGrpSpPr>
          <p:grpSpPr>
            <a:xfrm>
              <a:off x="0" y="709200"/>
              <a:ext cx="6780960" cy="236160"/>
              <a:chOff x="0" y="709200"/>
              <a:chExt cx="6780960" cy="236160"/>
            </a:xfrm>
          </p:grpSpPr>
          <p:sp>
            <p:nvSpPr>
              <p:cNvPr id="1695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R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0" y="945720"/>
              <a:ext cx="6780960" cy="236160"/>
              <a:chOff x="0" y="945720"/>
              <a:chExt cx="6780960" cy="236160"/>
            </a:xfrm>
          </p:grpSpPr>
          <p:sp>
            <p:nvSpPr>
              <p:cNvPr id="1698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0" name=""/>
            <p:cNvGrpSpPr/>
            <p:nvPr/>
          </p:nvGrpSpPr>
          <p:grpSpPr>
            <a:xfrm>
              <a:off x="0" y="1182240"/>
              <a:ext cx="6780960" cy="236160"/>
              <a:chOff x="0" y="1182240"/>
              <a:chExt cx="6780960" cy="236160"/>
            </a:xfrm>
          </p:grpSpPr>
          <p:sp>
            <p:nvSpPr>
              <p:cNvPr id="1701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3" name=""/>
            <p:cNvGrpSpPr/>
            <p:nvPr/>
          </p:nvGrpSpPr>
          <p:grpSpPr>
            <a:xfrm>
              <a:off x="0" y="1418760"/>
              <a:ext cx="6780960" cy="236520"/>
              <a:chOff x="0" y="1418760"/>
              <a:chExt cx="6780960" cy="236520"/>
            </a:xfrm>
          </p:grpSpPr>
          <p:sp>
            <p:nvSpPr>
              <p:cNvPr id="1704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6" name=""/>
            <p:cNvGrpSpPr/>
            <p:nvPr/>
          </p:nvGrpSpPr>
          <p:grpSpPr>
            <a:xfrm>
              <a:off x="0" y="1655280"/>
              <a:ext cx="6780960" cy="236160"/>
              <a:chOff x="0" y="1655280"/>
              <a:chExt cx="6780960" cy="236160"/>
            </a:xfrm>
          </p:grpSpPr>
          <p:sp>
            <p:nvSpPr>
              <p:cNvPr id="1707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0" y="1891800"/>
              <a:ext cx="6780960" cy="236160"/>
              <a:chOff x="0" y="1891800"/>
              <a:chExt cx="6780960" cy="236160"/>
            </a:xfrm>
          </p:grpSpPr>
          <p:sp>
            <p:nvSpPr>
              <p:cNvPr id="1710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0" y="2128320"/>
              <a:ext cx="6780960" cy="236160"/>
              <a:chOff x="0" y="2128320"/>
              <a:chExt cx="6780960" cy="236160"/>
            </a:xfrm>
          </p:grpSpPr>
          <p:sp>
            <p:nvSpPr>
              <p:cNvPr id="1713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5" name=""/>
            <p:cNvGrpSpPr/>
            <p:nvPr/>
          </p:nvGrpSpPr>
          <p:grpSpPr>
            <a:xfrm>
              <a:off x="0" y="2364840"/>
              <a:ext cx="6780960" cy="236520"/>
              <a:chOff x="0" y="2364840"/>
              <a:chExt cx="6780960" cy="236520"/>
            </a:xfrm>
          </p:grpSpPr>
          <p:sp>
            <p:nvSpPr>
              <p:cNvPr id="1716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0" y="2601360"/>
              <a:ext cx="6780960" cy="236160"/>
              <a:chOff x="0" y="2601360"/>
              <a:chExt cx="6780960" cy="236160"/>
            </a:xfrm>
          </p:grpSpPr>
          <p:sp>
            <p:nvSpPr>
              <p:cNvPr id="1719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0" y="2837880"/>
              <a:ext cx="6780960" cy="236160"/>
              <a:chOff x="0" y="2837880"/>
              <a:chExt cx="6780960" cy="236160"/>
            </a:xfrm>
          </p:grpSpPr>
          <p:sp>
            <p:nvSpPr>
              <p:cNvPr id="1722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4" name=""/>
            <p:cNvGrpSpPr/>
            <p:nvPr/>
          </p:nvGrpSpPr>
          <p:grpSpPr>
            <a:xfrm>
              <a:off x="0" y="3074040"/>
              <a:ext cx="6780960" cy="236160"/>
              <a:chOff x="0" y="3074040"/>
              <a:chExt cx="6780960" cy="236160"/>
            </a:xfrm>
          </p:grpSpPr>
          <p:sp>
            <p:nvSpPr>
              <p:cNvPr id="1725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7" name=""/>
            <p:cNvGrpSpPr/>
            <p:nvPr/>
          </p:nvGrpSpPr>
          <p:grpSpPr>
            <a:xfrm>
              <a:off x="0" y="3310560"/>
              <a:ext cx="6780960" cy="236520"/>
              <a:chOff x="0" y="3310560"/>
              <a:chExt cx="6780960" cy="236520"/>
            </a:xfrm>
          </p:grpSpPr>
          <p:sp>
            <p:nvSpPr>
              <p:cNvPr id="1728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0" name=""/>
            <p:cNvGrpSpPr/>
            <p:nvPr/>
          </p:nvGrpSpPr>
          <p:grpSpPr>
            <a:xfrm>
              <a:off x="0" y="3547080"/>
              <a:ext cx="6780960" cy="236160"/>
              <a:chOff x="0" y="3547080"/>
              <a:chExt cx="6780960" cy="236160"/>
            </a:xfrm>
          </p:grpSpPr>
          <p:sp>
            <p:nvSpPr>
              <p:cNvPr id="1731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0" y="3783600"/>
              <a:ext cx="6780960" cy="236160"/>
              <a:chOff x="0" y="3783600"/>
              <a:chExt cx="6780960" cy="236160"/>
            </a:xfrm>
          </p:grpSpPr>
          <p:sp>
            <p:nvSpPr>
              <p:cNvPr id="1734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= 0.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6" name=""/>
            <p:cNvGrpSpPr/>
            <p:nvPr/>
          </p:nvGrpSpPr>
          <p:grpSpPr>
            <a:xfrm>
              <a:off x="0" y="4020120"/>
              <a:ext cx="6780960" cy="236160"/>
              <a:chOff x="0" y="4020120"/>
              <a:chExt cx="6780960" cy="236160"/>
            </a:xfrm>
          </p:grpSpPr>
          <p:sp>
            <p:nvSpPr>
              <p:cNvPr id="1737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9" name=""/>
            <p:cNvGrpSpPr/>
            <p:nvPr/>
          </p:nvGrpSpPr>
          <p:grpSpPr>
            <a:xfrm>
              <a:off x="0" y="4256640"/>
              <a:ext cx="6780960" cy="236160"/>
              <a:chOff x="0" y="4256640"/>
              <a:chExt cx="6780960" cy="236160"/>
            </a:xfrm>
          </p:grpSpPr>
          <p:sp>
            <p:nvSpPr>
              <p:cNvPr id="1740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2" name=""/>
            <p:cNvGrpSpPr/>
            <p:nvPr/>
          </p:nvGrpSpPr>
          <p:grpSpPr>
            <a:xfrm>
              <a:off x="0" y="4493160"/>
              <a:ext cx="6780960" cy="236520"/>
              <a:chOff x="0" y="4493160"/>
              <a:chExt cx="6780960" cy="236520"/>
            </a:xfrm>
          </p:grpSpPr>
          <p:sp>
            <p:nvSpPr>
              <p:cNvPr id="1743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heigh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5" name=""/>
            <p:cNvGrpSpPr/>
            <p:nvPr/>
          </p:nvGrpSpPr>
          <p:grpSpPr>
            <a:xfrm>
              <a:off x="0" y="4729680"/>
              <a:ext cx="6780960" cy="236160"/>
              <a:chOff x="0" y="4729680"/>
              <a:chExt cx="6780960" cy="236160"/>
            </a:xfrm>
          </p:grpSpPr>
          <p:sp>
            <p:nvSpPr>
              <p:cNvPr id="1746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Heigh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turn heigh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0" y="4966200"/>
              <a:ext cx="6780960" cy="236160"/>
              <a:chOff x="0" y="4966200"/>
              <a:chExt cx="6780960" cy="236160"/>
            </a:xfrm>
          </p:grpSpPr>
          <p:sp>
            <p:nvSpPr>
              <p:cNvPr id="1749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and return are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0" y="5202720"/>
              <a:ext cx="6780960" cy="236160"/>
              <a:chOff x="0" y="5202720"/>
              <a:chExt cx="6780960" cy="236160"/>
            </a:xfrm>
          </p:grpSpPr>
          <p:sp>
            <p:nvSpPr>
              <p:cNvPr id="1752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and return volu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4" name=""/>
            <p:cNvGrpSpPr/>
            <p:nvPr/>
          </p:nvGrpSpPr>
          <p:grpSpPr>
            <a:xfrm>
              <a:off x="0" y="5438880"/>
              <a:ext cx="6780960" cy="236520"/>
              <a:chOff x="0" y="5438880"/>
              <a:chExt cx="6780960" cy="236520"/>
            </a:xfrm>
          </p:grpSpPr>
          <p:sp>
            <p:nvSpPr>
              <p:cNvPr id="1755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7" name=""/>
            <p:cNvGrpSpPr/>
            <p:nvPr/>
          </p:nvGrpSpPr>
          <p:grpSpPr>
            <a:xfrm>
              <a:off x="0" y="5675760"/>
              <a:ext cx="6780960" cy="236160"/>
              <a:chOff x="0" y="5675760"/>
              <a:chExt cx="6780960" cy="236160"/>
            </a:xfrm>
          </p:grpSpPr>
          <p:sp>
            <p:nvSpPr>
              <p:cNvPr id="1758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0" name=""/>
            <p:cNvGrpSpPr/>
            <p:nvPr/>
          </p:nvGrpSpPr>
          <p:grpSpPr>
            <a:xfrm>
              <a:off x="0" y="5911920"/>
              <a:ext cx="6780960" cy="236160"/>
              <a:chOff x="0" y="5911920"/>
              <a:chExt cx="6780960" cy="236160"/>
            </a:xfrm>
          </p:grpSpPr>
          <p:sp>
            <p:nvSpPr>
              <p:cNvPr id="1761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eight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height of the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3" name=""/>
            <p:cNvGrpSpPr/>
            <p:nvPr/>
          </p:nvGrpSpPr>
          <p:grpSpPr>
            <a:xfrm>
              <a:off x="0" y="6148440"/>
              <a:ext cx="6780960" cy="236160"/>
              <a:chOff x="0" y="6148440"/>
              <a:chExt cx="6780960" cy="236160"/>
            </a:xfrm>
          </p:grpSpPr>
          <p:sp>
            <p:nvSpPr>
              <p:cNvPr id="1764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0" y="6384960"/>
              <a:ext cx="6780960" cy="236520"/>
              <a:chOff x="0" y="6384960"/>
              <a:chExt cx="6780960" cy="236520"/>
            </a:xfrm>
          </p:grpSpPr>
          <p:sp>
            <p:nvSpPr>
              <p:cNvPr id="1767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9" name=""/>
            <p:cNvGrpSpPr/>
            <p:nvPr/>
          </p:nvGrpSpPr>
          <p:grpSpPr>
            <a:xfrm>
              <a:off x="0" y="6621480"/>
              <a:ext cx="6780960" cy="236160"/>
              <a:chOff x="0" y="6621480"/>
              <a:chExt cx="6780960" cy="236160"/>
            </a:xfrm>
          </p:grpSpPr>
          <p:sp>
            <p:nvSpPr>
              <p:cNvPr id="1770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DBC9F-22BA-47F1-BE7F-3DD82F8DA6A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77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774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775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10: cylindr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7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778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and friend function definition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0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781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or class Cylind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3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784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ylindr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6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787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9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790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ylinder constructor calls Circle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2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793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ylinder::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5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796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Circle( r, x, y )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8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799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setHeight( h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1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802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4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805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height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7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808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811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height = ( h &gt;= 0 ? h : 0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3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814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6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817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height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9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820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getHeigh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823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826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area of Cylinder (i.e., surface are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8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829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1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832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4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835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2 * Circle::area() 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7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838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2 * 3.14159 * radius * 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0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841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3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844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6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847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volume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9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850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2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853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area() *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5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856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859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Cylinder dimens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862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 &amp;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4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865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7" name=""/>
          <p:cNvGrpSpPr/>
          <p:nvPr/>
        </p:nvGrpSpPr>
        <p:grpSpPr>
          <a:xfrm>
            <a:off x="2743200" y="4343040"/>
            <a:ext cx="5257800" cy="1038240"/>
            <a:chOff x="2743200" y="4343040"/>
            <a:chExt cx="5257800" cy="1038240"/>
          </a:xfrm>
        </p:grpSpPr>
        <p:sp>
          <p:nvSpPr>
            <p:cNvPr id="1868" name=""/>
            <p:cNvSpPr/>
            <p:nvPr/>
          </p:nvSpPr>
          <p:spPr>
            <a:xfrm>
              <a:off x="5562720" y="480060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::area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overidde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 flipV="1">
              <a:off x="2743200" y="4343040"/>
              <a:ext cx="2819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876E4-7F6E-4AEA-9720-04477AD1096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Change attribut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871" name=""/>
          <p:cNvGrpSpPr/>
          <p:nvPr/>
        </p:nvGrpSpPr>
        <p:grpSpPr>
          <a:xfrm>
            <a:off x="0" y="0"/>
            <a:ext cx="6780960" cy="1219320"/>
            <a:chOff x="0" y="0"/>
            <a:chExt cx="6780960" cy="1219320"/>
          </a:xfrm>
        </p:grpSpPr>
        <p:grpSp>
          <p:nvGrpSpPr>
            <p:cNvPr id="1872" name=""/>
            <p:cNvGrpSpPr/>
            <p:nvPr/>
          </p:nvGrpSpPr>
          <p:grpSpPr>
            <a:xfrm>
              <a:off x="0" y="0"/>
              <a:ext cx="6780960" cy="243720"/>
              <a:chOff x="0" y="0"/>
              <a:chExt cx="6780960" cy="243720"/>
            </a:xfrm>
          </p:grpSpPr>
          <p:sp>
            <p:nvSpPr>
              <p:cNvPr id="1873" name="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output &lt;&lt; static_cast&lt; Circle &gt;( 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5" name=""/>
            <p:cNvGrpSpPr/>
            <p:nvPr/>
          </p:nvGrpSpPr>
          <p:grpSpPr>
            <a:xfrm>
              <a:off x="0" y="243720"/>
              <a:ext cx="6780960" cy="243720"/>
              <a:chOff x="0" y="243720"/>
              <a:chExt cx="6780960" cy="243720"/>
            </a:xfrm>
          </p:grpSpPr>
          <p:sp>
            <p:nvSpPr>
              <p:cNvPr id="1876" name="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"; Height = " &lt;&lt; c.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8" name=""/>
            <p:cNvGrpSpPr/>
            <p:nvPr/>
          </p:nvGrpSpPr>
          <p:grpSpPr>
            <a:xfrm>
              <a:off x="0" y="487440"/>
              <a:ext cx="6780960" cy="243720"/>
              <a:chOff x="0" y="487440"/>
              <a:chExt cx="6780960" cy="243720"/>
            </a:xfrm>
          </p:grpSpPr>
          <p:sp>
            <p:nvSpPr>
              <p:cNvPr id="1879" name="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1" name=""/>
            <p:cNvGrpSpPr/>
            <p:nvPr/>
          </p:nvGrpSpPr>
          <p:grpSpPr>
            <a:xfrm>
              <a:off x="0" y="731520"/>
              <a:ext cx="6780960" cy="243720"/>
              <a:chOff x="0" y="731520"/>
              <a:chExt cx="6780960" cy="243720"/>
            </a:xfrm>
          </p:grpSpPr>
          <p:sp>
            <p:nvSpPr>
              <p:cNvPr id="1882" name="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4" name=""/>
            <p:cNvGrpSpPr/>
            <p:nvPr/>
          </p:nvGrpSpPr>
          <p:grpSpPr>
            <a:xfrm>
              <a:off x="0" y="975600"/>
              <a:ext cx="6780960" cy="243720"/>
              <a:chOff x="0" y="975600"/>
              <a:chExt cx="6780960" cy="243720"/>
            </a:xfrm>
          </p:grpSpPr>
          <p:sp>
            <p:nvSpPr>
              <p:cNvPr id="1885" name=""/>
              <p:cNvSpPr/>
              <p:nvPr/>
            </p:nvSpPr>
            <p:spPr>
              <a:xfrm>
                <a:off x="0" y="97560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0" y="97560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7" name=""/>
          <p:cNvGrpSpPr/>
          <p:nvPr/>
        </p:nvGrpSpPr>
        <p:grpSpPr>
          <a:xfrm>
            <a:off x="0" y="1219320"/>
            <a:ext cx="6780960" cy="5638680"/>
            <a:chOff x="0" y="1219320"/>
            <a:chExt cx="6780960" cy="5638680"/>
          </a:xfrm>
        </p:grpSpPr>
        <p:grpSp>
          <p:nvGrpSpPr>
            <p:cNvPr id="1888" name=""/>
            <p:cNvGrpSpPr/>
            <p:nvPr/>
          </p:nvGrpSpPr>
          <p:grpSpPr>
            <a:xfrm>
              <a:off x="0" y="1219320"/>
              <a:ext cx="6780960" cy="216720"/>
              <a:chOff x="0" y="1219320"/>
              <a:chExt cx="6780960" cy="216720"/>
            </a:xfrm>
          </p:grpSpPr>
          <p:sp>
            <p:nvSpPr>
              <p:cNvPr id="1889" name=""/>
              <p:cNvSpPr/>
              <p:nvPr/>
            </p:nvSpPr>
            <p:spPr>
              <a:xfrm>
                <a:off x="0" y="121932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0" y="121932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10: fig09_10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1" name=""/>
            <p:cNvGrpSpPr/>
            <p:nvPr/>
          </p:nvGrpSpPr>
          <p:grpSpPr>
            <a:xfrm>
              <a:off x="0" y="1436040"/>
              <a:ext cx="6780960" cy="216720"/>
              <a:chOff x="0" y="1436040"/>
              <a:chExt cx="6780960" cy="216720"/>
            </a:xfrm>
          </p:grpSpPr>
          <p:sp>
            <p:nvSpPr>
              <p:cNvPr id="1892" name=""/>
              <p:cNvSpPr/>
              <p:nvPr/>
            </p:nvSpPr>
            <p:spPr>
              <a:xfrm>
                <a:off x="0" y="1436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0" y="1436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river for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4" name=""/>
            <p:cNvGrpSpPr/>
            <p:nvPr/>
          </p:nvGrpSpPr>
          <p:grpSpPr>
            <a:xfrm>
              <a:off x="0" y="1652760"/>
              <a:ext cx="6780960" cy="216720"/>
              <a:chOff x="0" y="1652760"/>
              <a:chExt cx="6780960" cy="216720"/>
            </a:xfrm>
          </p:grpSpPr>
          <p:sp>
            <p:nvSpPr>
              <p:cNvPr id="1895" name=""/>
              <p:cNvSpPr/>
              <p:nvPr/>
            </p:nvSpPr>
            <p:spPr>
              <a:xfrm>
                <a:off x="0" y="1652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0" y="1652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7" name=""/>
            <p:cNvGrpSpPr/>
            <p:nvPr/>
          </p:nvGrpSpPr>
          <p:grpSpPr>
            <a:xfrm>
              <a:off x="0" y="1869840"/>
              <a:ext cx="6780960" cy="216720"/>
              <a:chOff x="0" y="1869840"/>
              <a:chExt cx="6780960" cy="216720"/>
            </a:xfrm>
          </p:grpSpPr>
          <p:sp>
            <p:nvSpPr>
              <p:cNvPr id="1898" name=""/>
              <p:cNvSpPr/>
              <p:nvPr/>
            </p:nvSpPr>
            <p:spPr>
              <a:xfrm>
                <a:off x="0" y="18698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0" y="18698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0" name=""/>
            <p:cNvGrpSpPr/>
            <p:nvPr/>
          </p:nvGrpSpPr>
          <p:grpSpPr>
            <a:xfrm>
              <a:off x="0" y="2086560"/>
              <a:ext cx="6780960" cy="216720"/>
              <a:chOff x="0" y="2086560"/>
              <a:chExt cx="6780960" cy="216720"/>
            </a:xfrm>
          </p:grpSpPr>
          <p:sp>
            <p:nvSpPr>
              <p:cNvPr id="1901" name=""/>
              <p:cNvSpPr/>
              <p:nvPr/>
            </p:nvSpPr>
            <p:spPr>
              <a:xfrm>
                <a:off x="0" y="2086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0" y="2086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3" name=""/>
            <p:cNvGrpSpPr/>
            <p:nvPr/>
          </p:nvGrpSpPr>
          <p:grpSpPr>
            <a:xfrm>
              <a:off x="0" y="2303640"/>
              <a:ext cx="6780960" cy="216720"/>
              <a:chOff x="0" y="2303640"/>
              <a:chExt cx="6780960" cy="216720"/>
            </a:xfrm>
          </p:grpSpPr>
          <p:sp>
            <p:nvSpPr>
              <p:cNvPr id="1904" name=""/>
              <p:cNvSpPr/>
              <p:nvPr/>
            </p:nvSpPr>
            <p:spPr>
              <a:xfrm>
                <a:off x="0" y="23036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0" y="23036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6" name=""/>
            <p:cNvGrpSpPr/>
            <p:nvPr/>
          </p:nvGrpSpPr>
          <p:grpSpPr>
            <a:xfrm>
              <a:off x="0" y="2520360"/>
              <a:ext cx="6780960" cy="216720"/>
              <a:chOff x="0" y="2520360"/>
              <a:chExt cx="6780960" cy="216720"/>
            </a:xfrm>
          </p:grpSpPr>
          <p:sp>
            <p:nvSpPr>
              <p:cNvPr id="1907" name=""/>
              <p:cNvSpPr/>
              <p:nvPr/>
            </p:nvSpPr>
            <p:spPr>
              <a:xfrm>
                <a:off x="0" y="2520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0" y="2520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9" name=""/>
            <p:cNvGrpSpPr/>
            <p:nvPr/>
          </p:nvGrpSpPr>
          <p:grpSpPr>
            <a:xfrm>
              <a:off x="0" y="2737440"/>
              <a:ext cx="6780960" cy="216720"/>
              <a:chOff x="0" y="2737440"/>
              <a:chExt cx="6780960" cy="216720"/>
            </a:xfrm>
          </p:grpSpPr>
          <p:sp>
            <p:nvSpPr>
              <p:cNvPr id="1910" name=""/>
              <p:cNvSpPr/>
              <p:nvPr/>
            </p:nvSpPr>
            <p:spPr>
              <a:xfrm>
                <a:off x="0" y="27374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0" y="27374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2" name=""/>
            <p:cNvGrpSpPr/>
            <p:nvPr/>
          </p:nvGrpSpPr>
          <p:grpSpPr>
            <a:xfrm>
              <a:off x="0" y="2954160"/>
              <a:ext cx="6780960" cy="216720"/>
              <a:chOff x="0" y="2954160"/>
              <a:chExt cx="6780960" cy="216720"/>
            </a:xfrm>
          </p:grpSpPr>
          <p:sp>
            <p:nvSpPr>
              <p:cNvPr id="1913" name=""/>
              <p:cNvSpPr/>
              <p:nvPr/>
            </p:nvSpPr>
            <p:spPr>
              <a:xfrm>
                <a:off x="0" y="29541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0" y="29541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5" name=""/>
            <p:cNvGrpSpPr/>
            <p:nvPr/>
          </p:nvGrpSpPr>
          <p:grpSpPr>
            <a:xfrm>
              <a:off x="0" y="3170880"/>
              <a:ext cx="6780960" cy="216720"/>
              <a:chOff x="0" y="3170880"/>
              <a:chExt cx="6780960" cy="216720"/>
            </a:xfrm>
          </p:grpSpPr>
          <p:sp>
            <p:nvSpPr>
              <p:cNvPr id="1916" name=""/>
              <p:cNvSpPr/>
              <p:nvPr/>
            </p:nvSpPr>
            <p:spPr>
              <a:xfrm>
                <a:off x="0" y="3170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0" y="3170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ylindr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8" name=""/>
            <p:cNvGrpSpPr/>
            <p:nvPr/>
          </p:nvGrpSpPr>
          <p:grpSpPr>
            <a:xfrm>
              <a:off x="0" y="3387960"/>
              <a:ext cx="6780960" cy="216720"/>
              <a:chOff x="0" y="3387960"/>
              <a:chExt cx="6780960" cy="216720"/>
            </a:xfrm>
          </p:grpSpPr>
          <p:sp>
            <p:nvSpPr>
              <p:cNvPr id="1919" name=""/>
              <p:cNvSpPr/>
              <p:nvPr/>
            </p:nvSpPr>
            <p:spPr>
              <a:xfrm>
                <a:off x="0" y="3387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0" y="3387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1" name=""/>
            <p:cNvGrpSpPr/>
            <p:nvPr/>
          </p:nvGrpSpPr>
          <p:grpSpPr>
            <a:xfrm>
              <a:off x="0" y="3605040"/>
              <a:ext cx="6780960" cy="216720"/>
              <a:chOff x="0" y="3605040"/>
              <a:chExt cx="6780960" cy="216720"/>
            </a:xfrm>
          </p:grpSpPr>
          <p:sp>
            <p:nvSpPr>
              <p:cNvPr id="1922" name=""/>
              <p:cNvSpPr/>
              <p:nvPr/>
            </p:nvSpPr>
            <p:spPr>
              <a:xfrm>
                <a:off x="0" y="3605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0" y="3605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4" name=""/>
            <p:cNvGrpSpPr/>
            <p:nvPr/>
          </p:nvGrpSpPr>
          <p:grpSpPr>
            <a:xfrm>
              <a:off x="0" y="3821760"/>
              <a:ext cx="6780960" cy="216720"/>
              <a:chOff x="0" y="3821760"/>
              <a:chExt cx="6780960" cy="216720"/>
            </a:xfrm>
          </p:grpSpPr>
          <p:sp>
            <p:nvSpPr>
              <p:cNvPr id="1925" name=""/>
              <p:cNvSpPr/>
              <p:nvPr/>
            </p:nvSpPr>
            <p:spPr>
              <a:xfrm>
                <a:off x="0" y="3821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0" y="3821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7" name=""/>
            <p:cNvGrpSpPr/>
            <p:nvPr/>
          </p:nvGrpSpPr>
          <p:grpSpPr>
            <a:xfrm>
              <a:off x="0" y="4038480"/>
              <a:ext cx="6780960" cy="216720"/>
              <a:chOff x="0" y="4038480"/>
              <a:chExt cx="6780960" cy="216720"/>
            </a:xfrm>
          </p:grpSpPr>
          <p:sp>
            <p:nvSpPr>
              <p:cNvPr id="1928" name=""/>
              <p:cNvSpPr/>
              <p:nvPr/>
            </p:nvSpPr>
            <p:spPr>
              <a:xfrm>
                <a:off x="0" y="4038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0" y="4038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create Cylinder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0" name=""/>
            <p:cNvGrpSpPr/>
            <p:nvPr/>
          </p:nvGrpSpPr>
          <p:grpSpPr>
            <a:xfrm>
              <a:off x="0" y="4255560"/>
              <a:ext cx="6780960" cy="216720"/>
              <a:chOff x="0" y="4255560"/>
              <a:chExt cx="6780960" cy="216720"/>
            </a:xfrm>
          </p:grpSpPr>
          <p:sp>
            <p:nvSpPr>
              <p:cNvPr id="1931" name=""/>
              <p:cNvSpPr/>
              <p:nvPr/>
            </p:nvSpPr>
            <p:spPr>
              <a:xfrm>
                <a:off x="0" y="4255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0" y="4255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inder cyl( 5.7, 2.5, 12, 23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3" name=""/>
            <p:cNvGrpSpPr/>
            <p:nvPr/>
          </p:nvGrpSpPr>
          <p:grpSpPr>
            <a:xfrm>
              <a:off x="0" y="4472280"/>
              <a:ext cx="6780960" cy="216720"/>
              <a:chOff x="0" y="4472280"/>
              <a:chExt cx="6780960" cy="216720"/>
            </a:xfrm>
          </p:grpSpPr>
          <p:sp>
            <p:nvSpPr>
              <p:cNvPr id="1934" name=""/>
              <p:cNvSpPr/>
              <p:nvPr/>
            </p:nvSpPr>
            <p:spPr>
              <a:xfrm>
                <a:off x="0" y="4472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0" y="4472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6" name=""/>
            <p:cNvGrpSpPr/>
            <p:nvPr/>
          </p:nvGrpSpPr>
          <p:grpSpPr>
            <a:xfrm>
              <a:off x="0" y="4689360"/>
              <a:ext cx="6780960" cy="216720"/>
              <a:chOff x="0" y="4689360"/>
              <a:chExt cx="6780960" cy="216720"/>
            </a:xfrm>
          </p:grpSpPr>
          <p:sp>
            <p:nvSpPr>
              <p:cNvPr id="1937" name=""/>
              <p:cNvSpPr/>
              <p:nvPr/>
            </p:nvSpPr>
            <p:spPr>
              <a:xfrm>
                <a:off x="0" y="4689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0" y="4689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use get functions to display the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9" name=""/>
            <p:cNvGrpSpPr/>
            <p:nvPr/>
          </p:nvGrpSpPr>
          <p:grpSpPr>
            <a:xfrm>
              <a:off x="0" y="4906080"/>
              <a:ext cx="6780960" cy="216720"/>
              <a:chOff x="0" y="4906080"/>
              <a:chExt cx="6780960" cy="216720"/>
            </a:xfrm>
          </p:grpSpPr>
          <p:sp>
            <p:nvSpPr>
              <p:cNvPr id="1940" name=""/>
              <p:cNvSpPr/>
              <p:nvPr/>
            </p:nvSpPr>
            <p:spPr>
              <a:xfrm>
                <a:off x="0" y="49060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0" y="49060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X coordinate is " &lt;&lt; cyl.getX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2" name=""/>
            <p:cNvGrpSpPr/>
            <p:nvPr/>
          </p:nvGrpSpPr>
          <p:grpSpPr>
            <a:xfrm>
              <a:off x="0" y="5122800"/>
              <a:ext cx="6780960" cy="216720"/>
              <a:chOff x="0" y="5122800"/>
              <a:chExt cx="6780960" cy="216720"/>
            </a:xfrm>
          </p:grpSpPr>
          <p:sp>
            <p:nvSpPr>
              <p:cNvPr id="1943" name=""/>
              <p:cNvSpPr/>
              <p:nvPr/>
            </p:nvSpPr>
            <p:spPr>
              <a:xfrm>
                <a:off x="0" y="51228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0" y="51228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Y coordinate is " &lt;&lt; cyl.getY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5" name=""/>
            <p:cNvGrpSpPr/>
            <p:nvPr/>
          </p:nvGrpSpPr>
          <p:grpSpPr>
            <a:xfrm>
              <a:off x="0" y="5339880"/>
              <a:ext cx="6780960" cy="216720"/>
              <a:chOff x="0" y="5339880"/>
              <a:chExt cx="6780960" cy="216720"/>
            </a:xfrm>
          </p:grpSpPr>
          <p:sp>
            <p:nvSpPr>
              <p:cNvPr id="1946" name=""/>
              <p:cNvSpPr/>
              <p:nvPr/>
            </p:nvSpPr>
            <p:spPr>
              <a:xfrm>
                <a:off x="0" y="5339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0" y="5339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Radius is " &lt;&lt; cyl.getRadius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8" name=""/>
            <p:cNvGrpSpPr/>
            <p:nvPr/>
          </p:nvGrpSpPr>
          <p:grpSpPr>
            <a:xfrm>
              <a:off x="0" y="5556960"/>
              <a:ext cx="6780960" cy="216720"/>
              <a:chOff x="0" y="5556960"/>
              <a:chExt cx="6780960" cy="216720"/>
            </a:xfrm>
          </p:grpSpPr>
          <p:sp>
            <p:nvSpPr>
              <p:cNvPr id="1949" name=""/>
              <p:cNvSpPr/>
              <p:nvPr/>
            </p:nvSpPr>
            <p:spPr>
              <a:xfrm>
                <a:off x="0" y="5556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0" y="5556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Height is " &lt;&lt; cyl.getHeight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1" name=""/>
            <p:cNvGrpSpPr/>
            <p:nvPr/>
          </p:nvGrpSpPr>
          <p:grpSpPr>
            <a:xfrm>
              <a:off x="0" y="5773680"/>
              <a:ext cx="6780960" cy="216720"/>
              <a:chOff x="0" y="5773680"/>
              <a:chExt cx="6780960" cy="216720"/>
            </a:xfrm>
          </p:grpSpPr>
          <p:sp>
            <p:nvSpPr>
              <p:cNvPr id="1952" name=""/>
              <p:cNvSpPr/>
              <p:nvPr/>
            </p:nvSpPr>
            <p:spPr>
              <a:xfrm>
                <a:off x="0" y="57736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0" y="57736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4" name=""/>
            <p:cNvGrpSpPr/>
            <p:nvPr/>
          </p:nvGrpSpPr>
          <p:grpSpPr>
            <a:xfrm>
              <a:off x="0" y="5990400"/>
              <a:ext cx="6780960" cy="216720"/>
              <a:chOff x="0" y="5990400"/>
              <a:chExt cx="6780960" cy="216720"/>
            </a:xfrm>
          </p:grpSpPr>
          <p:sp>
            <p:nvSpPr>
              <p:cNvPr id="1955" name=""/>
              <p:cNvSpPr/>
              <p:nvPr/>
            </p:nvSpPr>
            <p:spPr>
              <a:xfrm>
                <a:off x="0" y="59904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0" y="59904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use set functions to change the Cylinder's attribu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7" name=""/>
            <p:cNvGrpSpPr/>
            <p:nvPr/>
          </p:nvGrpSpPr>
          <p:grpSpPr>
            <a:xfrm>
              <a:off x="0" y="6207480"/>
              <a:ext cx="6780960" cy="216720"/>
              <a:chOff x="0" y="6207480"/>
              <a:chExt cx="6780960" cy="216720"/>
            </a:xfrm>
          </p:grpSpPr>
          <p:sp>
            <p:nvSpPr>
              <p:cNvPr id="1958" name=""/>
              <p:cNvSpPr/>
              <p:nvPr/>
            </p:nvSpPr>
            <p:spPr>
              <a:xfrm>
                <a:off x="0" y="6207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0" y="6207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.setHeight( 1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0" name=""/>
            <p:cNvGrpSpPr/>
            <p:nvPr/>
          </p:nvGrpSpPr>
          <p:grpSpPr>
            <a:xfrm>
              <a:off x="0" y="6424200"/>
              <a:ext cx="6780960" cy="216720"/>
              <a:chOff x="0" y="6424200"/>
              <a:chExt cx="6780960" cy="216720"/>
            </a:xfrm>
          </p:grpSpPr>
          <p:sp>
            <p:nvSpPr>
              <p:cNvPr id="1961" name=""/>
              <p:cNvSpPr/>
              <p:nvPr/>
            </p:nvSpPr>
            <p:spPr>
              <a:xfrm>
                <a:off x="0" y="64242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0" y="64242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.setRadius( 4.2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3" name=""/>
            <p:cNvGrpSpPr/>
            <p:nvPr/>
          </p:nvGrpSpPr>
          <p:grpSpPr>
            <a:xfrm>
              <a:off x="0" y="6641280"/>
              <a:ext cx="6780960" cy="216720"/>
              <a:chOff x="0" y="6641280"/>
              <a:chExt cx="6780960" cy="216720"/>
            </a:xfrm>
          </p:grpSpPr>
          <p:sp>
            <p:nvSpPr>
              <p:cNvPr id="1964" name=""/>
              <p:cNvSpPr/>
              <p:nvPr/>
            </p:nvSpPr>
            <p:spPr>
              <a:xfrm>
                <a:off x="0" y="6641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0" y="6641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.setPoint( 2,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6" name=""/>
          <p:cNvSpPr/>
          <p:nvPr/>
        </p:nvSpPr>
        <p:spPr>
          <a:xfrm>
            <a:off x="5867280" y="4572000"/>
            <a:ext cx="243864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coordinate is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coordinate is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dius is 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ight is 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AE2F2-4738-4BBF-97D9-A72827CE30C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0" y="0"/>
            <a:ext cx="6705000" cy="3885840"/>
            <a:chOff x="0" y="0"/>
            <a:chExt cx="6705000" cy="3885840"/>
          </a:xfrm>
        </p:grpSpPr>
        <p:grpSp>
          <p:nvGrpSpPr>
            <p:cNvPr id="1969" name=""/>
            <p:cNvGrpSpPr/>
            <p:nvPr/>
          </p:nvGrpSpPr>
          <p:grpSpPr>
            <a:xfrm>
              <a:off x="0" y="0"/>
              <a:ext cx="6705000" cy="215640"/>
              <a:chOff x="0" y="0"/>
              <a:chExt cx="6705000" cy="215640"/>
            </a:xfrm>
          </p:grpSpPr>
          <p:sp>
            <p:nvSpPr>
              <p:cNvPr id="1970" name=""/>
              <p:cNvSpPr/>
              <p:nvPr/>
            </p:nvSpPr>
            <p:spPr>
              <a:xfrm>
                <a:off x="0" y="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0" y="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new location, radius, and height of cyl are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2" name=""/>
            <p:cNvGrpSpPr/>
            <p:nvPr/>
          </p:nvGrpSpPr>
          <p:grpSpPr>
            <a:xfrm>
              <a:off x="0" y="215640"/>
              <a:ext cx="6705000" cy="215640"/>
              <a:chOff x="0" y="215640"/>
              <a:chExt cx="6705000" cy="215640"/>
            </a:xfrm>
          </p:grpSpPr>
          <p:sp>
            <p:nvSpPr>
              <p:cNvPr id="1973" name=""/>
              <p:cNvSpPr/>
              <p:nvPr/>
            </p:nvSpPr>
            <p:spPr>
              <a:xfrm>
                <a:off x="0" y="215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0" y="215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cyl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5" name=""/>
            <p:cNvGrpSpPr/>
            <p:nvPr/>
          </p:nvGrpSpPr>
          <p:grpSpPr>
            <a:xfrm>
              <a:off x="0" y="431640"/>
              <a:ext cx="6705000" cy="216000"/>
              <a:chOff x="0" y="431640"/>
              <a:chExt cx="6705000" cy="216000"/>
            </a:xfrm>
          </p:grpSpPr>
          <p:sp>
            <p:nvSpPr>
              <p:cNvPr id="1976" name=""/>
              <p:cNvSpPr/>
              <p:nvPr/>
            </p:nvSpPr>
            <p:spPr>
              <a:xfrm>
                <a:off x="0" y="43164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0" y="43164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8" name=""/>
            <p:cNvGrpSpPr/>
            <p:nvPr/>
          </p:nvGrpSpPr>
          <p:grpSpPr>
            <a:xfrm>
              <a:off x="0" y="647640"/>
              <a:ext cx="6705000" cy="215640"/>
              <a:chOff x="0" y="647640"/>
              <a:chExt cx="6705000" cy="215640"/>
            </a:xfrm>
          </p:grpSpPr>
          <p:sp>
            <p:nvSpPr>
              <p:cNvPr id="1979" name=""/>
              <p:cNvSpPr/>
              <p:nvPr/>
            </p:nvSpPr>
            <p:spPr>
              <a:xfrm>
                <a:off x="0" y="647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0" y="647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area of cyl is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1" name=""/>
            <p:cNvGrpSpPr/>
            <p:nvPr/>
          </p:nvGrpSpPr>
          <p:grpSpPr>
            <a:xfrm>
              <a:off x="0" y="863640"/>
              <a:ext cx="6705000" cy="215640"/>
              <a:chOff x="0" y="863640"/>
              <a:chExt cx="6705000" cy="215640"/>
            </a:xfrm>
          </p:grpSpPr>
          <p:sp>
            <p:nvSpPr>
              <p:cNvPr id="1982" name=""/>
              <p:cNvSpPr/>
              <p:nvPr/>
            </p:nvSpPr>
            <p:spPr>
              <a:xfrm>
                <a:off x="0" y="863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0" y="863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cyl.area()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4" name=""/>
            <p:cNvGrpSpPr/>
            <p:nvPr/>
          </p:nvGrpSpPr>
          <p:grpSpPr>
            <a:xfrm>
              <a:off x="0" y="1079280"/>
              <a:ext cx="6705000" cy="215640"/>
              <a:chOff x="0" y="1079280"/>
              <a:chExt cx="6705000" cy="215640"/>
            </a:xfrm>
          </p:grpSpPr>
          <p:sp>
            <p:nvSpPr>
              <p:cNvPr id="1985" name=""/>
              <p:cNvSpPr/>
              <p:nvPr/>
            </p:nvSpPr>
            <p:spPr>
              <a:xfrm>
                <a:off x="0" y="1079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0" y="1079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7" name=""/>
            <p:cNvGrpSpPr/>
            <p:nvPr/>
          </p:nvGrpSpPr>
          <p:grpSpPr>
            <a:xfrm>
              <a:off x="0" y="1295280"/>
              <a:ext cx="6705000" cy="216000"/>
              <a:chOff x="0" y="1295280"/>
              <a:chExt cx="6705000" cy="216000"/>
            </a:xfrm>
          </p:grpSpPr>
          <p:sp>
            <p:nvSpPr>
              <p:cNvPr id="1988" name=""/>
              <p:cNvSpPr/>
              <p:nvPr/>
            </p:nvSpPr>
            <p:spPr>
              <a:xfrm>
                <a:off x="0" y="129528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0" y="129528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isplay the Cylinder as a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0" name=""/>
            <p:cNvGrpSpPr/>
            <p:nvPr/>
          </p:nvGrpSpPr>
          <p:grpSpPr>
            <a:xfrm>
              <a:off x="0" y="1511280"/>
              <a:ext cx="6705000" cy="215640"/>
              <a:chOff x="0" y="1511280"/>
              <a:chExt cx="6705000" cy="215640"/>
            </a:xfrm>
          </p:grpSpPr>
          <p:sp>
            <p:nvSpPr>
              <p:cNvPr id="1991" name=""/>
              <p:cNvSpPr/>
              <p:nvPr/>
            </p:nvSpPr>
            <p:spPr>
              <a:xfrm>
                <a:off x="0" y="1511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0" y="1511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 &amp;pRef = cyl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ef "thinks" it is a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3" name=""/>
            <p:cNvGrpSpPr/>
            <p:nvPr/>
          </p:nvGrpSpPr>
          <p:grpSpPr>
            <a:xfrm>
              <a:off x="0" y="1727280"/>
              <a:ext cx="6705000" cy="215640"/>
              <a:chOff x="0" y="1727280"/>
              <a:chExt cx="6705000" cy="215640"/>
            </a:xfrm>
          </p:grpSpPr>
          <p:sp>
            <p:nvSpPr>
              <p:cNvPr id="1994" name=""/>
              <p:cNvSpPr/>
              <p:nvPr/>
            </p:nvSpPr>
            <p:spPr>
              <a:xfrm>
                <a:off x="0" y="1727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0" y="1727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Cylinder printed as a Point is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6" name=""/>
            <p:cNvGrpSpPr/>
            <p:nvPr/>
          </p:nvGrpSpPr>
          <p:grpSpPr>
            <a:xfrm>
              <a:off x="0" y="1942920"/>
              <a:ext cx="6705000" cy="215640"/>
              <a:chOff x="0" y="1942920"/>
              <a:chExt cx="6705000" cy="215640"/>
            </a:xfrm>
          </p:grpSpPr>
          <p:sp>
            <p:nvSpPr>
              <p:cNvPr id="1997" name=""/>
              <p:cNvSpPr/>
              <p:nvPr/>
            </p:nvSpPr>
            <p:spPr>
              <a:xfrm>
                <a:off x="0" y="1942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0" y="1942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pRef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9" name=""/>
            <p:cNvGrpSpPr/>
            <p:nvPr/>
          </p:nvGrpSpPr>
          <p:grpSpPr>
            <a:xfrm>
              <a:off x="0" y="2158920"/>
              <a:ext cx="6705000" cy="216000"/>
              <a:chOff x="0" y="2158920"/>
              <a:chExt cx="6705000" cy="216000"/>
            </a:xfrm>
          </p:grpSpPr>
          <p:sp>
            <p:nvSpPr>
              <p:cNvPr id="2000" name=""/>
              <p:cNvSpPr/>
              <p:nvPr/>
            </p:nvSpPr>
            <p:spPr>
              <a:xfrm>
                <a:off x="0" y="215892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0" y="215892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2" name=""/>
            <p:cNvGrpSpPr/>
            <p:nvPr/>
          </p:nvGrpSpPr>
          <p:grpSpPr>
            <a:xfrm>
              <a:off x="0" y="2374920"/>
              <a:ext cx="6705000" cy="215640"/>
              <a:chOff x="0" y="2374920"/>
              <a:chExt cx="6705000" cy="215640"/>
            </a:xfrm>
          </p:grpSpPr>
          <p:sp>
            <p:nvSpPr>
              <p:cNvPr id="2003" name=""/>
              <p:cNvSpPr/>
              <p:nvPr/>
            </p:nvSpPr>
            <p:spPr>
              <a:xfrm>
                <a:off x="0" y="2374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0" y="2374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isplay the Cylinder as a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5" name=""/>
            <p:cNvGrpSpPr/>
            <p:nvPr/>
          </p:nvGrpSpPr>
          <p:grpSpPr>
            <a:xfrm>
              <a:off x="0" y="2590920"/>
              <a:ext cx="6705000" cy="215640"/>
              <a:chOff x="0" y="2590920"/>
              <a:chExt cx="6705000" cy="215640"/>
            </a:xfrm>
          </p:grpSpPr>
          <p:sp>
            <p:nvSpPr>
              <p:cNvPr id="2006" name=""/>
              <p:cNvSpPr/>
              <p:nvPr/>
            </p:nvSpPr>
            <p:spPr>
              <a:xfrm>
                <a:off x="0" y="2590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0" y="2590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 &amp;circleRef = cyl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ircleRef thinks it is a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0" y="2806560"/>
              <a:ext cx="6705000" cy="215640"/>
              <a:chOff x="0" y="2806560"/>
              <a:chExt cx="6705000" cy="215640"/>
            </a:xfrm>
          </p:grpSpPr>
          <p:sp>
            <p:nvSpPr>
              <p:cNvPr id="2009" name=""/>
              <p:cNvSpPr/>
              <p:nvPr/>
            </p:nvSpPr>
            <p:spPr>
              <a:xfrm>
                <a:off x="0" y="2806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0" y="2806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ylinder printed as a Circle is:\n" &lt;&lt; circleRe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0" y="3022560"/>
              <a:ext cx="6705000" cy="216000"/>
              <a:chOff x="0" y="3022560"/>
              <a:chExt cx="6705000" cy="216000"/>
            </a:xfrm>
          </p:grpSpPr>
          <p:sp>
            <p:nvSpPr>
              <p:cNvPr id="2012" name=""/>
              <p:cNvSpPr/>
              <p:nvPr/>
            </p:nvSpPr>
            <p:spPr>
              <a:xfrm>
                <a:off x="0" y="302256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0" y="302256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Area: " &lt;&lt; circleRef.area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0" y="3238560"/>
              <a:ext cx="6705000" cy="215640"/>
              <a:chOff x="0" y="3238560"/>
              <a:chExt cx="6705000" cy="215640"/>
            </a:xfrm>
          </p:grpSpPr>
          <p:sp>
            <p:nvSpPr>
              <p:cNvPr id="2015" name=""/>
              <p:cNvSpPr/>
              <p:nvPr/>
            </p:nvSpPr>
            <p:spPr>
              <a:xfrm>
                <a:off x="0" y="3238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0" y="3238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0" y="3454560"/>
              <a:ext cx="6705000" cy="215640"/>
              <a:chOff x="0" y="3454560"/>
              <a:chExt cx="6705000" cy="215640"/>
            </a:xfrm>
          </p:grpSpPr>
          <p:sp>
            <p:nvSpPr>
              <p:cNvPr id="2018" name=""/>
              <p:cNvSpPr/>
              <p:nvPr/>
            </p:nvSpPr>
            <p:spPr>
              <a:xfrm>
                <a:off x="0" y="3454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0" y="3454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0" y="3670200"/>
              <a:ext cx="6705000" cy="215640"/>
              <a:chOff x="0" y="3670200"/>
              <a:chExt cx="6705000" cy="215640"/>
            </a:xfrm>
          </p:grpSpPr>
          <p:sp>
            <p:nvSpPr>
              <p:cNvPr id="2021" name=""/>
              <p:cNvSpPr/>
              <p:nvPr/>
            </p:nvSpPr>
            <p:spPr>
              <a:xfrm>
                <a:off x="0" y="367020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0" y="367020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3" name=""/>
          <p:cNvSpPr/>
          <p:nvPr/>
        </p:nvSpPr>
        <p:spPr>
          <a:xfrm>
            <a:off x="0" y="4027320"/>
            <a:ext cx="6705720" cy="283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coordinate is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coordinate is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dius is 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ight is 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new location, radius, and height of cyl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2, 2]; Radius = 4.25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rea of cyl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80.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 printed as a Point is: [2, 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 printed as a Circl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2, 2]; Radius = 4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: 56.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962520" y="457200"/>
            <a:ext cx="457200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new location, radius, and height of cyl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2, 2]; Radius = 4.25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rea of cyl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80.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4860360" y="2057400"/>
            <a:ext cx="36554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 printed as a Point is: [2, 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6" name=""/>
          <p:cNvGrpSpPr/>
          <p:nvPr/>
        </p:nvGrpSpPr>
        <p:grpSpPr>
          <a:xfrm>
            <a:off x="1828800" y="1752120"/>
            <a:ext cx="6248520" cy="1495440"/>
            <a:chOff x="1828800" y="1752120"/>
            <a:chExt cx="6248520" cy="1495440"/>
          </a:xfrm>
        </p:grpSpPr>
        <p:sp>
          <p:nvSpPr>
            <p:cNvPr id="2027" name=""/>
            <p:cNvSpPr/>
            <p:nvPr/>
          </p:nvSpPr>
          <p:spPr>
            <a:xfrm>
              <a:off x="4648320" y="266688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"thinks"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y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o it prints as o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 flipV="1">
              <a:off x="1828800" y="1752120"/>
              <a:ext cx="27432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9" name=""/>
          <p:cNvGrpSpPr/>
          <p:nvPr/>
        </p:nvGrpSpPr>
        <p:grpSpPr>
          <a:xfrm>
            <a:off x="1904760" y="2819520"/>
            <a:ext cx="6248160" cy="1494720"/>
            <a:chOff x="1904760" y="2819520"/>
            <a:chExt cx="6248160" cy="1494720"/>
          </a:xfrm>
        </p:grpSpPr>
        <p:sp>
          <p:nvSpPr>
            <p:cNvPr id="2030" name=""/>
            <p:cNvSpPr/>
            <p:nvPr/>
          </p:nvSpPr>
          <p:spPr>
            <a:xfrm>
              <a:off x="4724280" y="3733560"/>
              <a:ext cx="342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r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"thinks"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y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o it prints as o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H="1" flipV="1">
              <a:off x="1904760" y="2819520"/>
              <a:ext cx="274284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2" name=""/>
          <p:cNvSpPr/>
          <p:nvPr/>
        </p:nvSpPr>
        <p:spPr>
          <a:xfrm>
            <a:off x="4114800" y="312408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 printed as a Circl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2, 2]; Radius = 4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: 56.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BCBD8-E521-4F9D-8C8C-EC525025B52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5   Multiple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inherits from multiple base-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ourages software reuse, but can create ambigu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A04E7-3BAA-4252-A1B2-B7194089C99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se1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se2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36" name=""/>
          <p:cNvGrpSpPr/>
          <p:nvPr/>
        </p:nvGrpSpPr>
        <p:grpSpPr>
          <a:xfrm>
            <a:off x="0" y="0"/>
            <a:ext cx="6780960" cy="3657240"/>
            <a:chOff x="0" y="0"/>
            <a:chExt cx="6780960" cy="3657240"/>
          </a:xfrm>
        </p:grpSpPr>
        <p:grpSp>
          <p:nvGrpSpPr>
            <p:cNvPr id="2037" name=""/>
            <p:cNvGrpSpPr/>
            <p:nvPr/>
          </p:nvGrpSpPr>
          <p:grpSpPr>
            <a:xfrm>
              <a:off x="0" y="0"/>
              <a:ext cx="6780960" cy="261000"/>
              <a:chOff x="0" y="0"/>
              <a:chExt cx="6780960" cy="261000"/>
            </a:xfrm>
          </p:grpSpPr>
          <p:sp>
            <p:nvSpPr>
              <p:cNvPr id="2038" name=""/>
              <p:cNvSpPr/>
              <p:nvPr/>
            </p:nvSpPr>
            <p:spPr>
              <a:xfrm>
                <a:off x="0" y="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0" y="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11: bas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0" y="261000"/>
              <a:ext cx="6780960" cy="261000"/>
              <a:chOff x="0" y="261000"/>
              <a:chExt cx="6780960" cy="261000"/>
            </a:xfrm>
          </p:grpSpPr>
          <p:sp>
            <p:nvSpPr>
              <p:cNvPr id="2041" name=""/>
              <p:cNvSpPr/>
              <p:nvPr/>
            </p:nvSpPr>
            <p:spPr>
              <a:xfrm>
                <a:off x="0" y="26100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0" y="26100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Base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0" y="522360"/>
              <a:ext cx="6780960" cy="261360"/>
              <a:chOff x="0" y="522360"/>
              <a:chExt cx="6780960" cy="261360"/>
            </a:xfrm>
          </p:grpSpPr>
          <p:sp>
            <p:nvSpPr>
              <p:cNvPr id="2044" name=""/>
              <p:cNvSpPr/>
              <p:nvPr/>
            </p:nvSpPr>
            <p:spPr>
              <a:xfrm>
                <a:off x="0" y="52236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0" y="52236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S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0" y="783720"/>
              <a:ext cx="6780960" cy="261000"/>
              <a:chOff x="0" y="783720"/>
              <a:chExt cx="6780960" cy="261000"/>
            </a:xfrm>
          </p:grpSpPr>
          <p:sp>
            <p:nvSpPr>
              <p:cNvPr id="2047" name=""/>
              <p:cNvSpPr/>
              <p:nvPr/>
            </p:nvSpPr>
            <p:spPr>
              <a:xfrm>
                <a:off x="0" y="78372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0" y="78372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S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9" name=""/>
            <p:cNvGrpSpPr/>
            <p:nvPr/>
          </p:nvGrpSpPr>
          <p:grpSpPr>
            <a:xfrm>
              <a:off x="0" y="1045080"/>
              <a:ext cx="6780960" cy="261000"/>
              <a:chOff x="0" y="1045080"/>
              <a:chExt cx="6780960" cy="261000"/>
            </a:xfrm>
          </p:grpSpPr>
          <p:sp>
            <p:nvSpPr>
              <p:cNvPr id="2050" name=""/>
              <p:cNvSpPr/>
              <p:nvPr/>
            </p:nvSpPr>
            <p:spPr>
              <a:xfrm>
                <a:off x="0" y="10450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0" y="10450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2" name=""/>
            <p:cNvGrpSpPr/>
            <p:nvPr/>
          </p:nvGrpSpPr>
          <p:grpSpPr>
            <a:xfrm>
              <a:off x="0" y="1306080"/>
              <a:ext cx="6780960" cy="261000"/>
              <a:chOff x="0" y="1306080"/>
              <a:chExt cx="6780960" cy="261000"/>
            </a:xfrm>
          </p:grpSpPr>
          <p:sp>
            <p:nvSpPr>
              <p:cNvPr id="2053" name=""/>
              <p:cNvSpPr/>
              <p:nvPr/>
            </p:nvSpPr>
            <p:spPr>
              <a:xfrm>
                <a:off x="0" y="13060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0" y="13060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se1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5" name=""/>
            <p:cNvGrpSpPr/>
            <p:nvPr/>
          </p:nvGrpSpPr>
          <p:grpSpPr>
            <a:xfrm>
              <a:off x="0" y="1567440"/>
              <a:ext cx="6780960" cy="261360"/>
              <a:chOff x="0" y="1567440"/>
              <a:chExt cx="6780960" cy="261360"/>
            </a:xfrm>
          </p:grpSpPr>
          <p:sp>
            <p:nvSpPr>
              <p:cNvPr id="2056" name=""/>
              <p:cNvSpPr/>
              <p:nvPr/>
            </p:nvSpPr>
            <p:spPr>
              <a:xfrm>
                <a:off x="0" y="156744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0" y="156744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8" name=""/>
            <p:cNvGrpSpPr/>
            <p:nvPr/>
          </p:nvGrpSpPr>
          <p:grpSpPr>
            <a:xfrm>
              <a:off x="0" y="1828800"/>
              <a:ext cx="6780960" cy="261000"/>
              <a:chOff x="0" y="1828800"/>
              <a:chExt cx="6780960" cy="261000"/>
            </a:xfrm>
          </p:grpSpPr>
          <p:sp>
            <p:nvSpPr>
              <p:cNvPr id="2059" name=""/>
              <p:cNvSpPr/>
              <p:nvPr/>
            </p:nvSpPr>
            <p:spPr>
              <a:xfrm>
                <a:off x="0" y="182880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0" y="182880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1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) { value = x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1" name=""/>
            <p:cNvGrpSpPr/>
            <p:nvPr/>
          </p:nvGrpSpPr>
          <p:grpSpPr>
            <a:xfrm>
              <a:off x="0" y="2090160"/>
              <a:ext cx="6780960" cy="261000"/>
              <a:chOff x="0" y="2090160"/>
              <a:chExt cx="6780960" cy="261000"/>
            </a:xfrm>
          </p:grpSpPr>
          <p:sp>
            <p:nvSpPr>
              <p:cNvPr id="2062" name=""/>
              <p:cNvSpPr/>
              <p:nvPr/>
            </p:nvSpPr>
            <p:spPr>
              <a:xfrm>
                <a:off x="0" y="209016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0" y="209016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Dat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alu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4" name=""/>
            <p:cNvGrpSpPr/>
            <p:nvPr/>
          </p:nvGrpSpPr>
          <p:grpSpPr>
            <a:xfrm>
              <a:off x="0" y="2351160"/>
              <a:ext cx="6780960" cy="261000"/>
              <a:chOff x="0" y="2351160"/>
              <a:chExt cx="6780960" cy="261000"/>
            </a:xfrm>
          </p:grpSpPr>
          <p:sp>
            <p:nvSpPr>
              <p:cNvPr id="2065" name=""/>
              <p:cNvSpPr/>
              <p:nvPr/>
            </p:nvSpPr>
            <p:spPr>
              <a:xfrm>
                <a:off x="0" y="235116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0" y="235116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accessible to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7" name=""/>
            <p:cNvGrpSpPr/>
            <p:nvPr/>
          </p:nvGrpSpPr>
          <p:grpSpPr>
            <a:xfrm>
              <a:off x="0" y="2612520"/>
              <a:ext cx="6780960" cy="261360"/>
              <a:chOff x="0" y="2612520"/>
              <a:chExt cx="6780960" cy="261360"/>
            </a:xfrm>
          </p:grpSpPr>
          <p:sp>
            <p:nvSpPr>
              <p:cNvPr id="2068" name=""/>
              <p:cNvSpPr/>
              <p:nvPr/>
            </p:nvSpPr>
            <p:spPr>
              <a:xfrm>
                <a:off x="0" y="261252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0" y="261252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alu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inherited by derived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0" name=""/>
            <p:cNvGrpSpPr/>
            <p:nvPr/>
          </p:nvGrpSpPr>
          <p:grpSpPr>
            <a:xfrm>
              <a:off x="0" y="2873880"/>
              <a:ext cx="6780960" cy="261000"/>
              <a:chOff x="0" y="2873880"/>
              <a:chExt cx="6780960" cy="261000"/>
            </a:xfrm>
          </p:grpSpPr>
          <p:sp>
            <p:nvSpPr>
              <p:cNvPr id="2071" name=""/>
              <p:cNvSpPr/>
              <p:nvPr/>
            </p:nvSpPr>
            <p:spPr>
              <a:xfrm>
                <a:off x="0" y="28738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0" y="28738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3" name=""/>
            <p:cNvGrpSpPr/>
            <p:nvPr/>
          </p:nvGrpSpPr>
          <p:grpSpPr>
            <a:xfrm>
              <a:off x="0" y="3135240"/>
              <a:ext cx="6780960" cy="261000"/>
              <a:chOff x="0" y="3135240"/>
              <a:chExt cx="6780960" cy="261000"/>
            </a:xfrm>
          </p:grpSpPr>
          <p:sp>
            <p:nvSpPr>
              <p:cNvPr id="2074" name=""/>
              <p:cNvSpPr/>
              <p:nvPr/>
            </p:nvSpPr>
            <p:spPr>
              <a:xfrm>
                <a:off x="0" y="313524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0" y="313524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0" y="3396240"/>
              <a:ext cx="6780960" cy="261000"/>
              <a:chOff x="0" y="3396240"/>
              <a:chExt cx="6780960" cy="261000"/>
            </a:xfrm>
          </p:grpSpPr>
          <p:sp>
            <p:nvSpPr>
              <p:cNvPr id="2077" name=""/>
              <p:cNvSpPr/>
              <p:nvPr/>
            </p:nvSpPr>
            <p:spPr>
              <a:xfrm>
                <a:off x="0" y="339624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0" y="339624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9" name=""/>
          <p:cNvGrpSpPr/>
          <p:nvPr/>
        </p:nvGrpSpPr>
        <p:grpSpPr>
          <a:xfrm>
            <a:off x="0" y="3657600"/>
            <a:ext cx="6780960" cy="3200040"/>
            <a:chOff x="0" y="3657600"/>
            <a:chExt cx="6780960" cy="3200040"/>
          </a:xfrm>
        </p:grpSpPr>
        <p:grpSp>
          <p:nvGrpSpPr>
            <p:cNvPr id="2080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2081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11: base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3" name=""/>
            <p:cNvGrpSpPr/>
            <p:nvPr/>
          </p:nvGrpSpPr>
          <p:grpSpPr>
            <a:xfrm>
              <a:off x="0" y="3885840"/>
              <a:ext cx="6780960" cy="228240"/>
              <a:chOff x="0" y="3885840"/>
              <a:chExt cx="6780960" cy="228240"/>
            </a:xfrm>
          </p:grpSpPr>
          <p:sp>
            <p:nvSpPr>
              <p:cNvPr id="2084" name=""/>
              <p:cNvSpPr/>
              <p:nvPr/>
            </p:nvSpPr>
            <p:spPr>
              <a:xfrm>
                <a:off x="0" y="38858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0" y="38858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Base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6" name=""/>
            <p:cNvGrpSpPr/>
            <p:nvPr/>
          </p:nvGrpSpPr>
          <p:grpSpPr>
            <a:xfrm>
              <a:off x="0" y="4114440"/>
              <a:ext cx="6780960" cy="228600"/>
              <a:chOff x="0" y="4114440"/>
              <a:chExt cx="6780960" cy="228600"/>
            </a:xfrm>
          </p:grpSpPr>
          <p:sp>
            <p:nvSpPr>
              <p:cNvPr id="2087" name=""/>
              <p:cNvSpPr/>
              <p:nvPr/>
            </p:nvSpPr>
            <p:spPr>
              <a:xfrm>
                <a:off x="0" y="41144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0" y="41144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S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9" name=""/>
            <p:cNvGrpSpPr/>
            <p:nvPr/>
          </p:nvGrpSpPr>
          <p:grpSpPr>
            <a:xfrm>
              <a:off x="0" y="4343400"/>
              <a:ext cx="6780960" cy="228240"/>
              <a:chOff x="0" y="4343400"/>
              <a:chExt cx="6780960" cy="228240"/>
            </a:xfrm>
          </p:grpSpPr>
          <p:sp>
            <p:nvSpPr>
              <p:cNvPr id="2090" name="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S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2093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2096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se2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8" name=""/>
            <p:cNvGrpSpPr/>
            <p:nvPr/>
          </p:nvGrpSpPr>
          <p:grpSpPr>
            <a:xfrm>
              <a:off x="0" y="5029200"/>
              <a:ext cx="6780960" cy="228600"/>
              <a:chOff x="0" y="5029200"/>
              <a:chExt cx="6780960" cy="228600"/>
            </a:xfrm>
          </p:grpSpPr>
          <p:sp>
            <p:nvSpPr>
              <p:cNvPr id="2099" name=""/>
              <p:cNvSpPr/>
              <p:nvPr/>
            </p:nvSpPr>
            <p:spPr>
              <a:xfrm>
                <a:off x="0" y="5029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0" y="5029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1" name=""/>
            <p:cNvGrpSpPr/>
            <p:nvPr/>
          </p:nvGrpSpPr>
          <p:grpSpPr>
            <a:xfrm>
              <a:off x="0" y="5257800"/>
              <a:ext cx="6780960" cy="228240"/>
              <a:chOff x="0" y="5257800"/>
              <a:chExt cx="6780960" cy="228240"/>
            </a:xfrm>
          </p:grpSpPr>
          <p:sp>
            <p:nvSpPr>
              <p:cNvPr id="2102" name="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2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 ) { letter = c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4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2105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Dat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ette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7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2108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ccessible to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0" name=""/>
            <p:cNvGrpSpPr/>
            <p:nvPr/>
          </p:nvGrpSpPr>
          <p:grpSpPr>
            <a:xfrm>
              <a:off x="0" y="5943600"/>
              <a:ext cx="6780960" cy="228600"/>
              <a:chOff x="0" y="5943600"/>
              <a:chExt cx="6780960" cy="228600"/>
            </a:xfrm>
          </p:grpSpPr>
          <p:sp>
            <p:nvSpPr>
              <p:cNvPr id="2111" name=""/>
              <p:cNvSpPr/>
              <p:nvPr/>
            </p:nvSpPr>
            <p:spPr>
              <a:xfrm>
                <a:off x="0" y="5943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0" y="5943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ette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inherited by derived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3" name=""/>
            <p:cNvGrpSpPr/>
            <p:nvPr/>
          </p:nvGrpSpPr>
          <p:grpSpPr>
            <a:xfrm>
              <a:off x="0" y="6172200"/>
              <a:ext cx="6780960" cy="228240"/>
              <a:chOff x="0" y="6172200"/>
              <a:chExt cx="6780960" cy="228240"/>
            </a:xfrm>
          </p:grpSpPr>
          <p:sp>
            <p:nvSpPr>
              <p:cNvPr id="2114" name="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6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2117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9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2120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6A2A2-03D6-4058-80B9-00DD63300DF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rived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123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2124" name=""/>
            <p:cNvGrpSpPr/>
            <p:nvPr/>
          </p:nvGrpSpPr>
          <p:grpSpPr>
            <a:xfrm>
              <a:off x="0" y="0"/>
              <a:ext cx="6780960" cy="263520"/>
              <a:chOff x="0" y="0"/>
              <a:chExt cx="6780960" cy="263520"/>
            </a:xfrm>
          </p:grpSpPr>
          <p:sp>
            <p:nvSpPr>
              <p:cNvPr id="2125" name="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11: derived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7" name=""/>
            <p:cNvGrpSpPr/>
            <p:nvPr/>
          </p:nvGrpSpPr>
          <p:grpSpPr>
            <a:xfrm>
              <a:off x="0" y="263520"/>
              <a:ext cx="6780960" cy="263520"/>
              <a:chOff x="0" y="263520"/>
              <a:chExt cx="6780960" cy="263520"/>
            </a:xfrm>
          </p:grpSpPr>
          <p:sp>
            <p:nvSpPr>
              <p:cNvPr id="2128" name="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Derived which inheri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0" name=""/>
            <p:cNvGrpSpPr/>
            <p:nvPr/>
          </p:nvGrpSpPr>
          <p:grpSpPr>
            <a:xfrm>
              <a:off x="0" y="527400"/>
              <a:ext cx="6780960" cy="263880"/>
              <a:chOff x="0" y="527400"/>
              <a:chExt cx="6780960" cy="263880"/>
            </a:xfrm>
          </p:grpSpPr>
          <p:sp>
            <p:nvSpPr>
              <p:cNvPr id="2131" name="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ultiple base classes (Base1 and Base2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3" name=""/>
            <p:cNvGrpSpPr/>
            <p:nvPr/>
          </p:nvGrpSpPr>
          <p:grpSpPr>
            <a:xfrm>
              <a:off x="0" y="791280"/>
              <a:ext cx="6780960" cy="263520"/>
              <a:chOff x="0" y="791280"/>
              <a:chExt cx="6780960" cy="263520"/>
            </a:xfrm>
          </p:grpSpPr>
          <p:sp>
            <p:nvSpPr>
              <p:cNvPr id="2134" name="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RIVED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6" name=""/>
            <p:cNvGrpSpPr/>
            <p:nvPr/>
          </p:nvGrpSpPr>
          <p:grpSpPr>
            <a:xfrm>
              <a:off x="0" y="1054800"/>
              <a:ext cx="6780960" cy="263520"/>
              <a:chOff x="0" y="1054800"/>
              <a:chExt cx="6780960" cy="263520"/>
            </a:xfrm>
          </p:grpSpPr>
          <p:sp>
            <p:nvSpPr>
              <p:cNvPr id="2137" name="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RIVED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9" name=""/>
            <p:cNvGrpSpPr/>
            <p:nvPr/>
          </p:nvGrpSpPr>
          <p:grpSpPr>
            <a:xfrm>
              <a:off x="0" y="1318680"/>
              <a:ext cx="6780960" cy="263520"/>
              <a:chOff x="0" y="1318680"/>
              <a:chExt cx="6780960" cy="263520"/>
            </a:xfrm>
          </p:grpSpPr>
          <p:sp>
            <p:nvSpPr>
              <p:cNvPr id="2140" name="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2" name=""/>
            <p:cNvGrpSpPr/>
            <p:nvPr/>
          </p:nvGrpSpPr>
          <p:grpSpPr>
            <a:xfrm>
              <a:off x="0" y="1582560"/>
              <a:ext cx="6780960" cy="263880"/>
              <a:chOff x="0" y="1582560"/>
              <a:chExt cx="6780960" cy="263880"/>
            </a:xfrm>
          </p:grpSpPr>
          <p:sp>
            <p:nvSpPr>
              <p:cNvPr id="2143" name="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5" name=""/>
            <p:cNvGrpSpPr/>
            <p:nvPr/>
          </p:nvGrpSpPr>
          <p:grpSpPr>
            <a:xfrm>
              <a:off x="0" y="1846440"/>
              <a:ext cx="6780960" cy="263520"/>
              <a:chOff x="0" y="1846440"/>
              <a:chExt cx="6780960" cy="263520"/>
            </a:xfrm>
          </p:grpSpPr>
          <p:sp>
            <p:nvSpPr>
              <p:cNvPr id="2146" name="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8" name=""/>
            <p:cNvGrpSpPr/>
            <p:nvPr/>
          </p:nvGrpSpPr>
          <p:grpSpPr>
            <a:xfrm>
              <a:off x="0" y="2109960"/>
              <a:ext cx="6780960" cy="263520"/>
              <a:chOff x="0" y="2109960"/>
              <a:chExt cx="6780960" cy="263520"/>
            </a:xfrm>
          </p:grpSpPr>
          <p:sp>
            <p:nvSpPr>
              <p:cNvPr id="2149" name="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1" name=""/>
            <p:cNvGrpSpPr/>
            <p:nvPr/>
          </p:nvGrpSpPr>
          <p:grpSpPr>
            <a:xfrm>
              <a:off x="0" y="2373840"/>
              <a:ext cx="6780960" cy="263520"/>
              <a:chOff x="0" y="2373840"/>
              <a:chExt cx="6780960" cy="263520"/>
            </a:xfrm>
          </p:grpSpPr>
          <p:sp>
            <p:nvSpPr>
              <p:cNvPr id="2152" name="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4" name=""/>
            <p:cNvGrpSpPr/>
            <p:nvPr/>
          </p:nvGrpSpPr>
          <p:grpSpPr>
            <a:xfrm>
              <a:off x="0" y="2637720"/>
              <a:ext cx="6780960" cy="263880"/>
              <a:chOff x="0" y="2637720"/>
              <a:chExt cx="6780960" cy="263880"/>
            </a:xfrm>
          </p:grpSpPr>
          <p:sp>
            <p:nvSpPr>
              <p:cNvPr id="2155" name="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bas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7" name=""/>
            <p:cNvGrpSpPr/>
            <p:nvPr/>
          </p:nvGrpSpPr>
          <p:grpSpPr>
            <a:xfrm>
              <a:off x="0" y="2901600"/>
              <a:ext cx="6780960" cy="263520"/>
              <a:chOff x="0" y="2901600"/>
              <a:chExt cx="6780960" cy="263520"/>
            </a:xfrm>
          </p:grpSpPr>
          <p:sp>
            <p:nvSpPr>
              <p:cNvPr id="2158" name="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bas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0" name=""/>
            <p:cNvGrpSpPr/>
            <p:nvPr/>
          </p:nvGrpSpPr>
          <p:grpSpPr>
            <a:xfrm>
              <a:off x="0" y="3165120"/>
              <a:ext cx="6780960" cy="263520"/>
              <a:chOff x="0" y="3165120"/>
              <a:chExt cx="6780960" cy="263520"/>
            </a:xfrm>
          </p:grpSpPr>
          <p:sp>
            <p:nvSpPr>
              <p:cNvPr id="2161" name="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3" name=""/>
            <p:cNvGrpSpPr/>
            <p:nvPr/>
          </p:nvGrpSpPr>
          <p:grpSpPr>
            <a:xfrm>
              <a:off x="0" y="3429000"/>
              <a:ext cx="6780960" cy="263520"/>
              <a:chOff x="0" y="3429000"/>
              <a:chExt cx="6780960" cy="263520"/>
            </a:xfrm>
          </p:grpSpPr>
          <p:sp>
            <p:nvSpPr>
              <p:cNvPr id="2164" name="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ultiple inherita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6" name=""/>
            <p:cNvGrpSpPr/>
            <p:nvPr/>
          </p:nvGrpSpPr>
          <p:grpSpPr>
            <a:xfrm>
              <a:off x="0" y="3692520"/>
              <a:ext cx="6780960" cy="263880"/>
              <a:chOff x="0" y="3692520"/>
              <a:chExt cx="6780960" cy="263880"/>
            </a:xfrm>
          </p:grpSpPr>
          <p:sp>
            <p:nvSpPr>
              <p:cNvPr id="2167" name="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rived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se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se2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9" name=""/>
            <p:cNvGrpSpPr/>
            <p:nvPr/>
          </p:nvGrpSpPr>
          <p:grpSpPr>
            <a:xfrm>
              <a:off x="0" y="3956400"/>
              <a:ext cx="6780960" cy="263520"/>
              <a:chOff x="0" y="3956400"/>
              <a:chExt cx="6780960" cy="263520"/>
            </a:xfrm>
          </p:grpSpPr>
          <p:sp>
            <p:nvSpPr>
              <p:cNvPr id="2170" name="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rived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2" name=""/>
            <p:cNvGrpSpPr/>
            <p:nvPr/>
          </p:nvGrpSpPr>
          <p:grpSpPr>
            <a:xfrm>
              <a:off x="0" y="4220280"/>
              <a:ext cx="6780960" cy="263520"/>
              <a:chOff x="0" y="4220280"/>
              <a:chExt cx="6780960" cy="263520"/>
            </a:xfrm>
          </p:grpSpPr>
          <p:sp>
            <p:nvSpPr>
              <p:cNvPr id="2173" name="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5" name=""/>
            <p:cNvGrpSpPr/>
            <p:nvPr/>
          </p:nvGrpSpPr>
          <p:grpSpPr>
            <a:xfrm>
              <a:off x="0" y="4484160"/>
              <a:ext cx="6780960" cy="263520"/>
              <a:chOff x="0" y="4484160"/>
              <a:chExt cx="6780960" cy="263520"/>
            </a:xfrm>
          </p:grpSpPr>
          <p:sp>
            <p:nvSpPr>
              <p:cNvPr id="2176" name="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8" name=""/>
            <p:cNvGrpSpPr/>
            <p:nvPr/>
          </p:nvGrpSpPr>
          <p:grpSpPr>
            <a:xfrm>
              <a:off x="0" y="4747680"/>
              <a:ext cx="6780960" cy="263520"/>
              <a:chOff x="0" y="4747680"/>
              <a:chExt cx="6780960" cy="263520"/>
            </a:xfrm>
          </p:grpSpPr>
          <p:sp>
            <p:nvSpPr>
              <p:cNvPr id="2179" name="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erive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1" name=""/>
            <p:cNvGrpSpPr/>
            <p:nvPr/>
          </p:nvGrpSpPr>
          <p:grpSpPr>
            <a:xfrm>
              <a:off x="0" y="5011560"/>
              <a:ext cx="6780960" cy="263880"/>
              <a:chOff x="0" y="5011560"/>
              <a:chExt cx="6780960" cy="263880"/>
            </a:xfrm>
          </p:grpSpPr>
          <p:sp>
            <p:nvSpPr>
              <p:cNvPr id="2182" name="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Real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4" name=""/>
            <p:cNvGrpSpPr/>
            <p:nvPr/>
          </p:nvGrpSpPr>
          <p:grpSpPr>
            <a:xfrm>
              <a:off x="0" y="5275440"/>
              <a:ext cx="6780960" cy="263520"/>
              <a:chOff x="0" y="5275440"/>
              <a:chExt cx="6780960" cy="263520"/>
            </a:xfrm>
          </p:grpSpPr>
          <p:sp>
            <p:nvSpPr>
              <p:cNvPr id="2185" name="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7" name=""/>
            <p:cNvGrpSpPr/>
            <p:nvPr/>
          </p:nvGrpSpPr>
          <p:grpSpPr>
            <a:xfrm>
              <a:off x="0" y="5539320"/>
              <a:ext cx="6780960" cy="263520"/>
              <a:chOff x="0" y="5539320"/>
              <a:chExt cx="6780960" cy="263520"/>
            </a:xfrm>
          </p:grpSpPr>
          <p:sp>
            <p:nvSpPr>
              <p:cNvPr id="2188" name="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0" name=""/>
            <p:cNvGrpSpPr/>
            <p:nvPr/>
          </p:nvGrpSpPr>
          <p:grpSpPr>
            <a:xfrm>
              <a:off x="0" y="5802840"/>
              <a:ext cx="6780960" cy="263520"/>
              <a:chOff x="0" y="5802840"/>
              <a:chExt cx="6780960" cy="263520"/>
            </a:xfrm>
          </p:grpSpPr>
          <p:sp>
            <p:nvSpPr>
              <p:cNvPr id="2191" name="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eal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rived class's private 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3" name=""/>
            <p:cNvGrpSpPr/>
            <p:nvPr/>
          </p:nvGrpSpPr>
          <p:grpSpPr>
            <a:xfrm>
              <a:off x="0" y="6066720"/>
              <a:ext cx="6780960" cy="263880"/>
              <a:chOff x="0" y="6066720"/>
              <a:chExt cx="6780960" cy="263880"/>
            </a:xfrm>
          </p:grpSpPr>
          <p:sp>
            <p:nvSpPr>
              <p:cNvPr id="2194" name="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6" name=""/>
            <p:cNvGrpSpPr/>
            <p:nvPr/>
          </p:nvGrpSpPr>
          <p:grpSpPr>
            <a:xfrm>
              <a:off x="0" y="6330600"/>
              <a:ext cx="6780960" cy="263520"/>
              <a:chOff x="0" y="6330600"/>
              <a:chExt cx="6780960" cy="263520"/>
            </a:xfrm>
          </p:grpSpPr>
          <p:sp>
            <p:nvSpPr>
              <p:cNvPr id="2197" name="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9" name=""/>
            <p:cNvGrpSpPr/>
            <p:nvPr/>
          </p:nvGrpSpPr>
          <p:grpSpPr>
            <a:xfrm>
              <a:off x="0" y="6594120"/>
              <a:ext cx="6780960" cy="263520"/>
              <a:chOff x="0" y="6594120"/>
              <a:chExt cx="6780960" cy="263520"/>
            </a:xfrm>
          </p:grpSpPr>
          <p:sp>
            <p:nvSpPr>
              <p:cNvPr id="2200" name="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2" name=""/>
          <p:cNvGrpSpPr/>
          <p:nvPr/>
        </p:nvGrpSpPr>
        <p:grpSpPr>
          <a:xfrm>
            <a:off x="4267080" y="2209680"/>
            <a:ext cx="3505320" cy="1447920"/>
            <a:chOff x="4267080" y="2209680"/>
            <a:chExt cx="3505320" cy="1447920"/>
          </a:xfrm>
        </p:grpSpPr>
        <p:sp>
          <p:nvSpPr>
            <p:cNvPr id="2203" name=""/>
            <p:cNvSpPr/>
            <p:nvPr/>
          </p:nvSpPr>
          <p:spPr>
            <a:xfrm>
              <a:off x="5334120" y="220968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riv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se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se2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H="1">
              <a:off x="4267080" y="2514600"/>
              <a:ext cx="10670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D9558-2AB3-4A7F-A70F-6EA7210B356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206" name=""/>
          <p:cNvGrpSpPr/>
          <p:nvPr/>
        </p:nvGrpSpPr>
        <p:grpSpPr>
          <a:xfrm>
            <a:off x="0" y="0"/>
            <a:ext cx="6780960" cy="4876560"/>
            <a:chOff x="0" y="0"/>
            <a:chExt cx="6780960" cy="4876560"/>
          </a:xfrm>
        </p:grpSpPr>
        <p:grpSp>
          <p:nvGrpSpPr>
            <p:cNvPr id="2207" name=""/>
            <p:cNvGrpSpPr/>
            <p:nvPr/>
          </p:nvGrpSpPr>
          <p:grpSpPr>
            <a:xfrm>
              <a:off x="0" y="0"/>
              <a:ext cx="6780960" cy="221400"/>
              <a:chOff x="0" y="0"/>
              <a:chExt cx="6780960" cy="221400"/>
            </a:xfrm>
          </p:grpSpPr>
          <p:sp>
            <p:nvSpPr>
              <p:cNvPr id="2208" name=""/>
              <p:cNvSpPr/>
              <p:nvPr/>
            </p:nvSpPr>
            <p:spPr>
              <a:xfrm>
                <a:off x="0" y="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0" y="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11: derived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0" name=""/>
            <p:cNvGrpSpPr/>
            <p:nvPr/>
          </p:nvGrpSpPr>
          <p:grpSpPr>
            <a:xfrm>
              <a:off x="0" y="221400"/>
              <a:ext cx="6780960" cy="221400"/>
              <a:chOff x="0" y="221400"/>
              <a:chExt cx="6780960" cy="221400"/>
            </a:xfrm>
          </p:grpSpPr>
          <p:sp>
            <p:nvSpPr>
              <p:cNvPr id="2211" name=""/>
              <p:cNvSpPr/>
              <p:nvPr/>
            </p:nvSpPr>
            <p:spPr>
              <a:xfrm>
                <a:off x="0" y="2214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0" y="2214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Deriv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3" name=""/>
            <p:cNvGrpSpPr/>
            <p:nvPr/>
          </p:nvGrpSpPr>
          <p:grpSpPr>
            <a:xfrm>
              <a:off x="0" y="443160"/>
              <a:ext cx="6780960" cy="221760"/>
              <a:chOff x="0" y="443160"/>
              <a:chExt cx="6780960" cy="221760"/>
            </a:xfrm>
          </p:grpSpPr>
          <p:sp>
            <p:nvSpPr>
              <p:cNvPr id="2214" name=""/>
              <p:cNvSpPr/>
              <p:nvPr/>
            </p:nvSpPr>
            <p:spPr>
              <a:xfrm>
                <a:off x="0" y="4431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0" y="4431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derived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6" name=""/>
            <p:cNvGrpSpPr/>
            <p:nvPr/>
          </p:nvGrpSpPr>
          <p:grpSpPr>
            <a:xfrm>
              <a:off x="0" y="664920"/>
              <a:ext cx="6780960" cy="221400"/>
              <a:chOff x="0" y="664920"/>
              <a:chExt cx="6780960" cy="221400"/>
            </a:xfrm>
          </p:grpSpPr>
          <p:sp>
            <p:nvSpPr>
              <p:cNvPr id="2217" name=""/>
              <p:cNvSpPr/>
              <p:nvPr/>
            </p:nvSpPr>
            <p:spPr>
              <a:xfrm>
                <a:off x="0" y="6649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0" y="6649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9" name=""/>
            <p:cNvGrpSpPr/>
            <p:nvPr/>
          </p:nvGrpSpPr>
          <p:grpSpPr>
            <a:xfrm>
              <a:off x="0" y="886680"/>
              <a:ext cx="6780960" cy="221400"/>
              <a:chOff x="0" y="886680"/>
              <a:chExt cx="6780960" cy="221400"/>
            </a:xfrm>
          </p:grpSpPr>
          <p:sp>
            <p:nvSpPr>
              <p:cNvPr id="2220" name=""/>
              <p:cNvSpPr/>
              <p:nvPr/>
            </p:nvSpPr>
            <p:spPr>
              <a:xfrm>
                <a:off x="0" y="8866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0" y="8866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Derived calls constructors f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2" name=""/>
            <p:cNvGrpSpPr/>
            <p:nvPr/>
          </p:nvGrpSpPr>
          <p:grpSpPr>
            <a:xfrm>
              <a:off x="0" y="1108080"/>
              <a:ext cx="6780960" cy="221400"/>
              <a:chOff x="0" y="1108080"/>
              <a:chExt cx="6780960" cy="221400"/>
            </a:xfrm>
          </p:grpSpPr>
          <p:sp>
            <p:nvSpPr>
              <p:cNvPr id="2223" name=""/>
              <p:cNvSpPr/>
              <p:nvPr/>
            </p:nvSpPr>
            <p:spPr>
              <a:xfrm>
                <a:off x="0" y="11080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0" y="11080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lass Base1 and class Base2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5" name=""/>
            <p:cNvGrpSpPr/>
            <p:nvPr/>
          </p:nvGrpSpPr>
          <p:grpSpPr>
            <a:xfrm>
              <a:off x="0" y="1329840"/>
              <a:ext cx="6780960" cy="221760"/>
              <a:chOff x="0" y="1329840"/>
              <a:chExt cx="6780960" cy="221760"/>
            </a:xfrm>
          </p:grpSpPr>
          <p:sp>
            <p:nvSpPr>
              <p:cNvPr id="2226" name=""/>
              <p:cNvSpPr/>
              <p:nvPr/>
            </p:nvSpPr>
            <p:spPr>
              <a:xfrm>
                <a:off x="0" y="13298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0" y="13298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e member initializers to call base-class constructo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8" name=""/>
            <p:cNvGrpSpPr/>
            <p:nvPr/>
          </p:nvGrpSpPr>
          <p:grpSpPr>
            <a:xfrm>
              <a:off x="0" y="1551600"/>
              <a:ext cx="6780960" cy="221400"/>
              <a:chOff x="0" y="1551600"/>
              <a:chExt cx="6780960" cy="221400"/>
            </a:xfrm>
          </p:grpSpPr>
          <p:sp>
            <p:nvSpPr>
              <p:cNvPr id="2229" name=""/>
              <p:cNvSpPr/>
              <p:nvPr/>
            </p:nvSpPr>
            <p:spPr>
              <a:xfrm>
                <a:off x="0" y="15516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0" y="15516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Derived::Derive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1" name=""/>
            <p:cNvGrpSpPr/>
            <p:nvPr/>
          </p:nvGrpSpPr>
          <p:grpSpPr>
            <a:xfrm>
              <a:off x="0" y="1773360"/>
              <a:ext cx="6780960" cy="221400"/>
              <a:chOff x="0" y="1773360"/>
              <a:chExt cx="6780960" cy="221400"/>
            </a:xfrm>
          </p:grpSpPr>
          <p:sp>
            <p:nvSpPr>
              <p:cNvPr id="2232" name=""/>
              <p:cNvSpPr/>
              <p:nvPr/>
            </p:nvSpPr>
            <p:spPr>
              <a:xfrm>
                <a:off x="0" y="17733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0" y="17733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Base1( i ), Base2( c ), real ( f ) { }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4" name=""/>
            <p:cNvGrpSpPr/>
            <p:nvPr/>
          </p:nvGrpSpPr>
          <p:grpSpPr>
            <a:xfrm>
              <a:off x="0" y="1995120"/>
              <a:ext cx="6780960" cy="221400"/>
              <a:chOff x="0" y="1995120"/>
              <a:chExt cx="6780960" cy="221400"/>
            </a:xfrm>
          </p:grpSpPr>
          <p:sp>
            <p:nvSpPr>
              <p:cNvPr id="2235" name=""/>
              <p:cNvSpPr/>
              <p:nvPr/>
            </p:nvSpPr>
            <p:spPr>
              <a:xfrm>
                <a:off x="0" y="19951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0" y="19951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7" name=""/>
            <p:cNvGrpSpPr/>
            <p:nvPr/>
          </p:nvGrpSpPr>
          <p:grpSpPr>
            <a:xfrm>
              <a:off x="0" y="2216520"/>
              <a:ext cx="6780960" cy="221760"/>
              <a:chOff x="0" y="2216520"/>
              <a:chExt cx="6780960" cy="221760"/>
            </a:xfrm>
          </p:grpSpPr>
          <p:sp>
            <p:nvSpPr>
              <p:cNvPr id="2238" name=""/>
              <p:cNvSpPr/>
              <p:nvPr/>
            </p:nvSpPr>
            <p:spPr>
              <a:xfrm>
                <a:off x="0" y="2216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0" y="2216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the value of re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0" name=""/>
            <p:cNvGrpSpPr/>
            <p:nvPr/>
          </p:nvGrpSpPr>
          <p:grpSpPr>
            <a:xfrm>
              <a:off x="0" y="2438640"/>
              <a:ext cx="6780960" cy="221400"/>
              <a:chOff x="0" y="2438640"/>
              <a:chExt cx="6780960" cy="221400"/>
            </a:xfrm>
          </p:grpSpPr>
          <p:sp>
            <p:nvSpPr>
              <p:cNvPr id="2241" name=""/>
              <p:cNvSpPr/>
              <p:nvPr/>
            </p:nvSpPr>
            <p:spPr>
              <a:xfrm>
                <a:off x="0" y="24386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0" y="24386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rived::getReal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eal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3" name=""/>
            <p:cNvGrpSpPr/>
            <p:nvPr/>
          </p:nvGrpSpPr>
          <p:grpSpPr>
            <a:xfrm>
              <a:off x="0" y="2660040"/>
              <a:ext cx="6780960" cy="221400"/>
              <a:chOff x="0" y="2660040"/>
              <a:chExt cx="6780960" cy="221400"/>
            </a:xfrm>
          </p:grpSpPr>
          <p:sp>
            <p:nvSpPr>
              <p:cNvPr id="2244" name=""/>
              <p:cNvSpPr/>
              <p:nvPr/>
            </p:nvSpPr>
            <p:spPr>
              <a:xfrm>
                <a:off x="0" y="26600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0" y="26600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6" name=""/>
            <p:cNvGrpSpPr/>
            <p:nvPr/>
          </p:nvGrpSpPr>
          <p:grpSpPr>
            <a:xfrm>
              <a:off x="0" y="2881800"/>
              <a:ext cx="6780960" cy="221400"/>
              <a:chOff x="0" y="2881800"/>
              <a:chExt cx="6780960" cy="221400"/>
            </a:xfrm>
          </p:grpSpPr>
          <p:sp>
            <p:nvSpPr>
              <p:cNvPr id="2247" name=""/>
              <p:cNvSpPr/>
              <p:nvPr/>
            </p:nvSpPr>
            <p:spPr>
              <a:xfrm>
                <a:off x="0" y="28818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0" y="28818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isplay all the data members of Deriv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9" name=""/>
            <p:cNvGrpSpPr/>
            <p:nvPr/>
          </p:nvGrpSpPr>
          <p:grpSpPr>
            <a:xfrm>
              <a:off x="0" y="3103560"/>
              <a:ext cx="6780960" cy="221760"/>
              <a:chOff x="0" y="3103560"/>
              <a:chExt cx="6780960" cy="221760"/>
            </a:xfrm>
          </p:grpSpPr>
          <p:sp>
            <p:nvSpPr>
              <p:cNvPr id="2250" name=""/>
              <p:cNvSpPr/>
              <p:nvPr/>
            </p:nvSpPr>
            <p:spPr>
              <a:xfrm>
                <a:off x="0" y="31035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0" y="31035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rived &amp;d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2" name=""/>
            <p:cNvGrpSpPr/>
            <p:nvPr/>
          </p:nvGrpSpPr>
          <p:grpSpPr>
            <a:xfrm>
              <a:off x="0" y="3325320"/>
              <a:ext cx="6780960" cy="221400"/>
              <a:chOff x="0" y="3325320"/>
              <a:chExt cx="6780960" cy="221400"/>
            </a:xfrm>
          </p:grpSpPr>
          <p:sp>
            <p:nvSpPr>
              <p:cNvPr id="2253" name=""/>
              <p:cNvSpPr/>
              <p:nvPr/>
            </p:nvSpPr>
            <p:spPr>
              <a:xfrm>
                <a:off x="0" y="33253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0" y="33253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5" name=""/>
            <p:cNvGrpSpPr/>
            <p:nvPr/>
          </p:nvGrpSpPr>
          <p:grpSpPr>
            <a:xfrm>
              <a:off x="0" y="3546720"/>
              <a:ext cx="6780960" cy="221400"/>
              <a:chOff x="0" y="3546720"/>
              <a:chExt cx="6780960" cy="221400"/>
            </a:xfrm>
          </p:grpSpPr>
          <p:sp>
            <p:nvSpPr>
              <p:cNvPr id="2256" name=""/>
              <p:cNvSpPr/>
              <p:nvPr/>
            </p:nvSpPr>
            <p:spPr>
              <a:xfrm>
                <a:off x="0" y="35467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0" y="35467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output &lt;&lt; "    Integer: " &lt;&lt; d.valu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8" name=""/>
            <p:cNvGrpSpPr/>
            <p:nvPr/>
          </p:nvGrpSpPr>
          <p:grpSpPr>
            <a:xfrm>
              <a:off x="0" y="3768480"/>
              <a:ext cx="6780960" cy="221400"/>
              <a:chOff x="0" y="3768480"/>
              <a:chExt cx="6780960" cy="221400"/>
            </a:xfrm>
          </p:grpSpPr>
          <p:sp>
            <p:nvSpPr>
              <p:cNvPr id="2259" name=""/>
              <p:cNvSpPr/>
              <p:nvPr/>
            </p:nvSpPr>
            <p:spPr>
              <a:xfrm>
                <a:off x="0" y="37684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0" y="37684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"\n  Character: " &lt;&lt; d.le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1" name=""/>
            <p:cNvGrpSpPr/>
            <p:nvPr/>
          </p:nvGrpSpPr>
          <p:grpSpPr>
            <a:xfrm>
              <a:off x="0" y="3990240"/>
              <a:ext cx="6780960" cy="221400"/>
              <a:chOff x="0" y="3990240"/>
              <a:chExt cx="6780960" cy="221400"/>
            </a:xfrm>
          </p:grpSpPr>
          <p:sp>
            <p:nvSpPr>
              <p:cNvPr id="2262" name=""/>
              <p:cNvSpPr/>
              <p:nvPr/>
            </p:nvSpPr>
            <p:spPr>
              <a:xfrm>
                <a:off x="0" y="39902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0" y="39902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"\nReal number: " &lt;&lt; d.rea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4" name=""/>
            <p:cNvGrpSpPr/>
            <p:nvPr/>
          </p:nvGrpSpPr>
          <p:grpSpPr>
            <a:xfrm>
              <a:off x="0" y="4212000"/>
              <a:ext cx="6780960" cy="221760"/>
              <a:chOff x="0" y="4212000"/>
              <a:chExt cx="6780960" cy="221760"/>
            </a:xfrm>
          </p:grpSpPr>
          <p:sp>
            <p:nvSpPr>
              <p:cNvPr id="2265" name=""/>
              <p:cNvSpPr/>
              <p:nvPr/>
            </p:nvSpPr>
            <p:spPr>
              <a:xfrm>
                <a:off x="0" y="421200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0" y="421200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7" name=""/>
            <p:cNvGrpSpPr/>
            <p:nvPr/>
          </p:nvGrpSpPr>
          <p:grpSpPr>
            <a:xfrm>
              <a:off x="0" y="4433760"/>
              <a:ext cx="6780960" cy="221400"/>
              <a:chOff x="0" y="4433760"/>
              <a:chExt cx="6780960" cy="221400"/>
            </a:xfrm>
          </p:grpSpPr>
          <p:sp>
            <p:nvSpPr>
              <p:cNvPr id="2268" name=""/>
              <p:cNvSpPr/>
              <p:nvPr/>
            </p:nvSpPr>
            <p:spPr>
              <a:xfrm>
                <a:off x="0" y="44337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0" y="44337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0" name=""/>
            <p:cNvGrpSpPr/>
            <p:nvPr/>
          </p:nvGrpSpPr>
          <p:grpSpPr>
            <a:xfrm>
              <a:off x="0" y="4655160"/>
              <a:ext cx="6780960" cy="221400"/>
              <a:chOff x="0" y="4655160"/>
              <a:chExt cx="6780960" cy="221400"/>
            </a:xfrm>
          </p:grpSpPr>
          <p:sp>
            <p:nvSpPr>
              <p:cNvPr id="2271" name=""/>
              <p:cNvSpPr/>
              <p:nvPr/>
            </p:nvSpPr>
            <p:spPr>
              <a:xfrm>
                <a:off x="0" y="46551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2" name=""/>
              <p:cNvGrpSpPr/>
              <p:nvPr/>
            </p:nvGrpSpPr>
            <p:grpSpPr>
              <a:xfrm>
                <a:off x="0" y="4655160"/>
                <a:ext cx="6780600" cy="221400"/>
                <a:chOff x="0" y="4655160"/>
                <a:chExt cx="6780600" cy="221400"/>
              </a:xfrm>
            </p:grpSpPr>
            <p:sp>
              <p:nvSpPr>
                <p:cNvPr id="2273" name=""/>
                <p:cNvSpPr/>
                <p:nvPr/>
              </p:nvSpPr>
              <p:spPr>
                <a:xfrm>
                  <a:off x="0" y="4655160"/>
                  <a:ext cx="6780600" cy="221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0" y="4655160"/>
                  <a:ext cx="6780600" cy="22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75" name=""/>
          <p:cNvGrpSpPr/>
          <p:nvPr/>
        </p:nvGrpSpPr>
        <p:grpSpPr>
          <a:xfrm>
            <a:off x="0" y="4876920"/>
            <a:ext cx="6780960" cy="1981080"/>
            <a:chOff x="0" y="4876920"/>
            <a:chExt cx="6780960" cy="1981080"/>
          </a:xfrm>
        </p:grpSpPr>
        <p:grpSp>
          <p:nvGrpSpPr>
            <p:cNvPr id="2276" name=""/>
            <p:cNvGrpSpPr/>
            <p:nvPr/>
          </p:nvGrpSpPr>
          <p:grpSpPr>
            <a:xfrm>
              <a:off x="0" y="4876920"/>
              <a:ext cx="6780960" cy="219960"/>
              <a:chOff x="0" y="4876920"/>
              <a:chExt cx="6780960" cy="219960"/>
            </a:xfrm>
          </p:grpSpPr>
          <p:sp>
            <p:nvSpPr>
              <p:cNvPr id="2277" name=""/>
              <p:cNvSpPr/>
              <p:nvPr/>
            </p:nvSpPr>
            <p:spPr>
              <a:xfrm>
                <a:off x="0" y="48769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0" y="48769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11: fig09_1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9" name=""/>
            <p:cNvGrpSpPr/>
            <p:nvPr/>
          </p:nvGrpSpPr>
          <p:grpSpPr>
            <a:xfrm>
              <a:off x="0" y="5096880"/>
              <a:ext cx="6780960" cy="219960"/>
              <a:chOff x="0" y="5096880"/>
              <a:chExt cx="6780960" cy="219960"/>
            </a:xfrm>
          </p:grpSpPr>
          <p:sp>
            <p:nvSpPr>
              <p:cNvPr id="2280" name=""/>
              <p:cNvSpPr/>
              <p:nvPr/>
            </p:nvSpPr>
            <p:spPr>
              <a:xfrm>
                <a:off x="0" y="50968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0" y="50968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river for multiple inheritance examp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2" name=""/>
            <p:cNvGrpSpPr/>
            <p:nvPr/>
          </p:nvGrpSpPr>
          <p:grpSpPr>
            <a:xfrm>
              <a:off x="0" y="5316840"/>
              <a:ext cx="6780960" cy="219960"/>
              <a:chOff x="0" y="5316840"/>
              <a:chExt cx="6780960" cy="219960"/>
            </a:xfrm>
          </p:grpSpPr>
          <p:sp>
            <p:nvSpPr>
              <p:cNvPr id="2283" name=""/>
              <p:cNvSpPr/>
              <p:nvPr/>
            </p:nvSpPr>
            <p:spPr>
              <a:xfrm>
                <a:off x="0" y="53168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0" y="53168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5" name=""/>
            <p:cNvGrpSpPr/>
            <p:nvPr/>
          </p:nvGrpSpPr>
          <p:grpSpPr>
            <a:xfrm>
              <a:off x="0" y="5537160"/>
              <a:ext cx="6780960" cy="219960"/>
              <a:chOff x="0" y="5537160"/>
              <a:chExt cx="6780960" cy="219960"/>
            </a:xfrm>
          </p:grpSpPr>
          <p:sp>
            <p:nvSpPr>
              <p:cNvPr id="2286" name=""/>
              <p:cNvSpPr/>
              <p:nvPr/>
            </p:nvSpPr>
            <p:spPr>
              <a:xfrm>
                <a:off x="0" y="55371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0" y="55371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8" name=""/>
            <p:cNvGrpSpPr/>
            <p:nvPr/>
          </p:nvGrpSpPr>
          <p:grpSpPr>
            <a:xfrm>
              <a:off x="0" y="5757480"/>
              <a:ext cx="6780960" cy="219960"/>
              <a:chOff x="0" y="5757480"/>
              <a:chExt cx="6780960" cy="219960"/>
            </a:xfrm>
          </p:grpSpPr>
          <p:sp>
            <p:nvSpPr>
              <p:cNvPr id="2289" name=""/>
              <p:cNvSpPr/>
              <p:nvPr/>
            </p:nvSpPr>
            <p:spPr>
              <a:xfrm>
                <a:off x="0" y="57574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0" y="57574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1" name=""/>
            <p:cNvGrpSpPr/>
            <p:nvPr/>
          </p:nvGrpSpPr>
          <p:grpSpPr>
            <a:xfrm>
              <a:off x="0" y="5977440"/>
              <a:ext cx="6780960" cy="219960"/>
              <a:chOff x="0" y="5977440"/>
              <a:chExt cx="6780960" cy="219960"/>
            </a:xfrm>
          </p:grpSpPr>
          <p:sp>
            <p:nvSpPr>
              <p:cNvPr id="2292" name=""/>
              <p:cNvSpPr/>
              <p:nvPr/>
            </p:nvSpPr>
            <p:spPr>
              <a:xfrm>
                <a:off x="0" y="59774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0" y="59774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4" name=""/>
            <p:cNvGrpSpPr/>
            <p:nvPr/>
          </p:nvGrpSpPr>
          <p:grpSpPr>
            <a:xfrm>
              <a:off x="0" y="6197400"/>
              <a:ext cx="6780960" cy="219960"/>
              <a:chOff x="0" y="6197400"/>
              <a:chExt cx="6780960" cy="219960"/>
            </a:xfrm>
          </p:grpSpPr>
          <p:sp>
            <p:nvSpPr>
              <p:cNvPr id="2295" name=""/>
              <p:cNvSpPr/>
              <p:nvPr/>
            </p:nvSpPr>
            <p:spPr>
              <a:xfrm>
                <a:off x="0" y="61974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0" y="61974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7" name=""/>
            <p:cNvGrpSpPr/>
            <p:nvPr/>
          </p:nvGrpSpPr>
          <p:grpSpPr>
            <a:xfrm>
              <a:off x="0" y="6417720"/>
              <a:ext cx="6780960" cy="219960"/>
              <a:chOff x="0" y="6417720"/>
              <a:chExt cx="6780960" cy="219960"/>
            </a:xfrm>
          </p:grpSpPr>
          <p:sp>
            <p:nvSpPr>
              <p:cNvPr id="2298" name=""/>
              <p:cNvSpPr/>
              <p:nvPr/>
            </p:nvSpPr>
            <p:spPr>
              <a:xfrm>
                <a:off x="0" y="64177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0" y="64177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bas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0" name=""/>
            <p:cNvGrpSpPr/>
            <p:nvPr/>
          </p:nvGrpSpPr>
          <p:grpSpPr>
            <a:xfrm>
              <a:off x="0" y="6638040"/>
              <a:ext cx="6780960" cy="219960"/>
              <a:chOff x="0" y="6638040"/>
              <a:chExt cx="6780960" cy="219960"/>
            </a:xfrm>
          </p:grpSpPr>
          <p:sp>
            <p:nvSpPr>
              <p:cNvPr id="2301" name=""/>
              <p:cNvSpPr/>
              <p:nvPr/>
            </p:nvSpPr>
            <p:spPr>
              <a:xfrm>
                <a:off x="0" y="66380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0" y="66380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bas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37437-0CEC-4420-A2E3-2969A5F12A9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Creat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30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305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2306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derived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8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2309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1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2312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4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2315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7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2318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1 b1( 10 ), *base1Ptr = 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Base1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0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2321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2 b2( 'Z' ), *base2Ptr = 0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Base2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3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2324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erived d( 7, 'A', 3.5 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Derived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6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2327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9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2330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int data members of base class objec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2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2333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Object b1 contains integer " &lt;&lt; b1.getData(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5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2336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Object b2 contains character " &lt;&lt; b2.getDat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8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2339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Object d contains:\n" &lt;&lt; d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2342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4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2345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int data members of derived class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7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2348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cope resolution operator resolves getData ambigu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0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2351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ata members of Derived can be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3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2354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accessed individually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6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2357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 Integer: " &lt;&lt; d.Base1::getDat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9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2360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Character: " &lt;&lt; d.Base2::getDat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2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2363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Real number: " &lt;&lt; d.getReal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5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2366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8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2369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erived can be treated as an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1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2372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object of either base clas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4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2375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7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2378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treat Derived as a Base1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0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2381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1Ptr = &amp;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3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2384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base1Ptr-&gt;getData() yield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6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2387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base1Ptr-&gt;getData()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9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2390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2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2393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treat Derived as a Base2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5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2396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2Ptr = &amp;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98" name=""/>
          <p:cNvGrpSpPr/>
          <p:nvPr/>
        </p:nvGrpSpPr>
        <p:grpSpPr>
          <a:xfrm>
            <a:off x="1980720" y="4191120"/>
            <a:ext cx="5715360" cy="1447200"/>
            <a:chOff x="1980720" y="4191120"/>
            <a:chExt cx="5715360" cy="1447200"/>
          </a:xfrm>
        </p:grpSpPr>
        <p:sp>
          <p:nvSpPr>
            <p:cNvPr id="2399" name=""/>
            <p:cNvSpPr/>
            <p:nvPr/>
          </p:nvSpPr>
          <p:spPr>
            <a:xfrm>
              <a:off x="5257440" y="419112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e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se1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1980720" y="4495680"/>
              <a:ext cx="327636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1" name=""/>
          <p:cNvGrpSpPr/>
          <p:nvPr/>
        </p:nvGrpSpPr>
        <p:grpSpPr>
          <a:xfrm>
            <a:off x="2057400" y="5562720"/>
            <a:ext cx="5486400" cy="1143000"/>
            <a:chOff x="2057400" y="5562720"/>
            <a:chExt cx="5486400" cy="1143000"/>
          </a:xfrm>
        </p:grpSpPr>
        <p:sp>
          <p:nvSpPr>
            <p:cNvPr id="2402" name=""/>
            <p:cNvSpPr/>
            <p:nvPr/>
          </p:nvSpPr>
          <p:spPr>
            <a:xfrm>
              <a:off x="5105160" y="5562720"/>
              <a:ext cx="24386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e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se2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 flipH="1">
              <a:off x="2057400" y="5867280"/>
              <a:ext cx="30477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4" name=""/>
          <p:cNvSpPr/>
          <p:nvPr/>
        </p:nvSpPr>
        <p:spPr>
          <a:xfrm>
            <a:off x="5791320" y="2514600"/>
            <a:ext cx="3047760" cy="166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b1 contains integer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b2 contains character 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d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ger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act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l number: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5181480" y="2819520"/>
            <a:ext cx="3886200" cy="1292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members of Derived can be accessed individual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ger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act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l number: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3421800" y="5126040"/>
            <a:ext cx="539280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rived can be treated as an object of either base cla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4863600" y="594360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se1Ptr-&gt;getData() yield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F880F-94FA-45B3-B278-731B5BAFABF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409" name=""/>
          <p:cNvGrpSpPr/>
          <p:nvPr/>
        </p:nvGrpSpPr>
        <p:grpSpPr>
          <a:xfrm>
            <a:off x="0" y="0"/>
            <a:ext cx="6780960" cy="1752120"/>
            <a:chOff x="0" y="0"/>
            <a:chExt cx="6780960" cy="1752120"/>
          </a:xfrm>
        </p:grpSpPr>
        <p:grpSp>
          <p:nvGrpSpPr>
            <p:cNvPr id="2410" name=""/>
            <p:cNvGrpSpPr/>
            <p:nvPr/>
          </p:nvGrpSpPr>
          <p:grpSpPr>
            <a:xfrm>
              <a:off x="0" y="0"/>
              <a:ext cx="6780960" cy="350280"/>
              <a:chOff x="0" y="0"/>
              <a:chExt cx="6780960" cy="350280"/>
            </a:xfrm>
          </p:grpSpPr>
          <p:sp>
            <p:nvSpPr>
              <p:cNvPr id="2411" name=""/>
              <p:cNvSpPr/>
              <p:nvPr/>
            </p:nvSpPr>
            <p:spPr>
              <a:xfrm>
                <a:off x="0" y="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0" y="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base2Ptr-&gt;getData() yield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3" name=""/>
            <p:cNvGrpSpPr/>
            <p:nvPr/>
          </p:nvGrpSpPr>
          <p:grpSpPr>
            <a:xfrm>
              <a:off x="0" y="350280"/>
              <a:ext cx="6780960" cy="350280"/>
              <a:chOff x="0" y="350280"/>
              <a:chExt cx="6780960" cy="350280"/>
            </a:xfrm>
          </p:grpSpPr>
          <p:sp>
            <p:nvSpPr>
              <p:cNvPr id="2414" name=""/>
              <p:cNvSpPr/>
              <p:nvPr/>
            </p:nvSpPr>
            <p:spPr>
              <a:xfrm>
                <a:off x="0" y="35028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0" y="35028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base2Ptr-&gt;getData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6" name=""/>
            <p:cNvGrpSpPr/>
            <p:nvPr/>
          </p:nvGrpSpPr>
          <p:grpSpPr>
            <a:xfrm>
              <a:off x="0" y="700920"/>
              <a:ext cx="6780960" cy="350640"/>
              <a:chOff x="0" y="700920"/>
              <a:chExt cx="6780960" cy="350640"/>
            </a:xfrm>
          </p:grpSpPr>
          <p:sp>
            <p:nvSpPr>
              <p:cNvPr id="2417" name=""/>
              <p:cNvSpPr/>
              <p:nvPr/>
            </p:nvSpPr>
            <p:spPr>
              <a:xfrm>
                <a:off x="0" y="700920"/>
                <a:ext cx="6780960" cy="350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0" y="700920"/>
                <a:ext cx="6780960" cy="350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9" name=""/>
            <p:cNvGrpSpPr/>
            <p:nvPr/>
          </p:nvGrpSpPr>
          <p:grpSpPr>
            <a:xfrm>
              <a:off x="0" y="1051560"/>
              <a:ext cx="6780960" cy="350280"/>
              <a:chOff x="0" y="1051560"/>
              <a:chExt cx="6780960" cy="350280"/>
            </a:xfrm>
          </p:grpSpPr>
          <p:sp>
            <p:nvSpPr>
              <p:cNvPr id="2420" name=""/>
              <p:cNvSpPr/>
              <p:nvPr/>
            </p:nvSpPr>
            <p:spPr>
              <a:xfrm>
                <a:off x="0" y="105156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0" y="105156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2" name=""/>
            <p:cNvGrpSpPr/>
            <p:nvPr/>
          </p:nvGrpSpPr>
          <p:grpSpPr>
            <a:xfrm>
              <a:off x="0" y="1401840"/>
              <a:ext cx="6780960" cy="350280"/>
              <a:chOff x="0" y="1401840"/>
              <a:chExt cx="6780960" cy="350280"/>
            </a:xfrm>
          </p:grpSpPr>
          <p:sp>
            <p:nvSpPr>
              <p:cNvPr id="2423" name=""/>
              <p:cNvSpPr/>
              <p:nvPr/>
            </p:nvSpPr>
            <p:spPr>
              <a:xfrm>
                <a:off x="0" y="140184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0" y="140184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25" name=""/>
          <p:cNvGrpSpPr/>
          <p:nvPr/>
        </p:nvGrpSpPr>
        <p:grpSpPr>
          <a:xfrm>
            <a:off x="0" y="2133720"/>
            <a:ext cx="6781680" cy="3108240"/>
            <a:chOff x="0" y="2133720"/>
            <a:chExt cx="6781680" cy="3108240"/>
          </a:xfrm>
        </p:grpSpPr>
        <p:sp>
          <p:nvSpPr>
            <p:cNvPr id="2426" name=""/>
            <p:cNvSpPr/>
            <p:nvPr/>
          </p:nvSpPr>
          <p:spPr>
            <a:xfrm>
              <a:off x="0" y="2133720"/>
              <a:ext cx="6781680" cy="1371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ject b1 contains integer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ject b2 contains character 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ject d contain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ger: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aracter: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al number: 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0" y="3505320"/>
              <a:ext cx="6781680" cy="1736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a members of Derived can be accessed individually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ger: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aracter: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al number: 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rived can be treated as an object of either base clas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se1Ptr-&gt;getData() yields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se2Ptr-&gt;getData() yields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8" name=""/>
          <p:cNvSpPr/>
          <p:nvPr/>
        </p:nvSpPr>
        <p:spPr>
          <a:xfrm>
            <a:off x="4253760" y="15228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se2Ptr-&gt;getData() yield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9F4E4-6BF2-4142-B986-78DAADCD45E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   Inheritance: Base and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ommissionWorker : public Employee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mmissionWork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herits from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not inheri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of base class not accessible from derived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22079-7B2E-49FE-A68C-ED71F33F61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rotected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mediate level of protection betwe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heri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members can refer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of the base class simply by using the member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e tha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“breaks” encapsu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2B26F-0D32-4E72-89DF-34A7A20992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4   Casting Base-Class Pointers to Derived Class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classes relationships to bas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s of a derived class can be treated as objects of the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erse not tr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se class objects cannot be derived-class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casting a poi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n explicit cast to convert a base-class pointer to a derived-class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pointer is going to be dereferenced, the type of the pointer must match the type of object to which the pointer poi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rivedPtr = static_cast&lt; DerivedClass * &gt; base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47AA-F6A4-41EA-AC59-49EBF75F0C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4   Casting Base-Class Pointers to Derived-Class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monstrates the casting of base class pointers to derived class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derived from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pointer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used to referenc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, and a pointer to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used to referenc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8739C-E008-4141-8CA6-B9DE5389B5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0" y="0"/>
            <a:ext cx="6780960" cy="4343400"/>
            <a:chOff x="0" y="0"/>
            <a:chExt cx="6780960" cy="4343400"/>
          </a:xfrm>
        </p:grpSpPr>
        <p:grpSp>
          <p:nvGrpSpPr>
            <p:cNvPr id="114" name=""/>
            <p:cNvGrpSpPr/>
            <p:nvPr/>
          </p:nvGrpSpPr>
          <p:grpSpPr>
            <a:xfrm>
              <a:off x="0" y="0"/>
              <a:ext cx="6780960" cy="221760"/>
              <a:chOff x="0" y="0"/>
              <a:chExt cx="6780960" cy="221760"/>
            </a:xfrm>
          </p:grpSpPr>
          <p:sp>
            <p:nvSpPr>
              <p:cNvPr id="115" name=""/>
              <p:cNvSpPr/>
              <p:nvPr/>
            </p:nvSpPr>
            <p:spPr>
              <a:xfrm>
                <a:off x="0" y="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4: point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0" y="221760"/>
              <a:ext cx="6780960" cy="205920"/>
              <a:chOff x="0" y="221760"/>
              <a:chExt cx="6780960" cy="20592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217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2217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0" y="428040"/>
              <a:ext cx="6780960" cy="205920"/>
              <a:chOff x="0" y="428040"/>
              <a:chExt cx="6780960" cy="205920"/>
            </a:xfrm>
          </p:grpSpPr>
          <p:sp>
            <p:nvSpPr>
              <p:cNvPr id="121" name=""/>
              <p:cNvSpPr/>
              <p:nvPr/>
            </p:nvSpPr>
            <p:spPr>
              <a:xfrm>
                <a:off x="0" y="4280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4280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0" y="633960"/>
              <a:ext cx="6780960" cy="205920"/>
              <a:chOff x="0" y="633960"/>
              <a:chExt cx="6780960" cy="205920"/>
            </a:xfrm>
          </p:grpSpPr>
          <p:sp>
            <p:nvSpPr>
              <p:cNvPr id="124" name=""/>
              <p:cNvSpPr/>
              <p:nvPr/>
            </p:nvSpPr>
            <p:spPr>
              <a:xfrm>
                <a:off x="0" y="6339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6339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0" y="840240"/>
              <a:ext cx="6780960" cy="205920"/>
              <a:chOff x="0" y="840240"/>
              <a:chExt cx="6780960" cy="205920"/>
            </a:xfrm>
          </p:grpSpPr>
          <p:sp>
            <p:nvSpPr>
              <p:cNvPr id="127" name=""/>
              <p:cNvSpPr/>
              <p:nvPr/>
            </p:nvSpPr>
            <p:spPr>
              <a:xfrm>
                <a:off x="0" y="8402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8402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0" y="1046160"/>
              <a:ext cx="6780960" cy="205920"/>
              <a:chOff x="0" y="1046160"/>
              <a:chExt cx="6780960" cy="205920"/>
            </a:xfrm>
          </p:grpSpPr>
          <p:sp>
            <p:nvSpPr>
              <p:cNvPr id="130" name=""/>
              <p:cNvSpPr/>
              <p:nvPr/>
            </p:nvSpPr>
            <p:spPr>
              <a:xfrm>
                <a:off x="0" y="10461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0461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0" y="1252080"/>
              <a:ext cx="6780960" cy="205920"/>
              <a:chOff x="0" y="1252080"/>
              <a:chExt cx="6780960" cy="205920"/>
            </a:xfrm>
          </p:grpSpPr>
          <p:sp>
            <p:nvSpPr>
              <p:cNvPr id="133" name=""/>
              <p:cNvSpPr/>
              <p:nvPr/>
            </p:nvSpPr>
            <p:spPr>
              <a:xfrm>
                <a:off x="0" y="12520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2520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0" y="1458360"/>
              <a:ext cx="6780960" cy="205920"/>
              <a:chOff x="0" y="1458360"/>
              <a:chExt cx="6780960" cy="205920"/>
            </a:xfrm>
          </p:grpSpPr>
          <p:sp>
            <p:nvSpPr>
              <p:cNvPr id="136" name=""/>
              <p:cNvSpPr/>
              <p:nvPr/>
            </p:nvSpPr>
            <p:spPr>
              <a:xfrm>
                <a:off x="0" y="14583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14583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0" y="1664280"/>
              <a:ext cx="6780960" cy="205920"/>
              <a:chOff x="0" y="1664280"/>
              <a:chExt cx="6780960" cy="205920"/>
            </a:xfrm>
          </p:grpSpPr>
          <p:sp>
            <p:nvSpPr>
              <p:cNvPr id="139" name=""/>
              <p:cNvSpPr/>
              <p:nvPr/>
            </p:nvSpPr>
            <p:spPr>
              <a:xfrm>
                <a:off x="0" y="16642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16642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0" y="1870560"/>
              <a:ext cx="6780960" cy="205920"/>
              <a:chOff x="0" y="1870560"/>
              <a:chExt cx="6780960" cy="205920"/>
            </a:xfrm>
          </p:grpSpPr>
          <p:sp>
            <p:nvSpPr>
              <p:cNvPr id="142" name=""/>
              <p:cNvSpPr/>
              <p:nvPr/>
            </p:nvSpPr>
            <p:spPr>
              <a:xfrm>
                <a:off x="0" y="18705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18705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0" y="2076480"/>
              <a:ext cx="6780960" cy="205920"/>
              <a:chOff x="0" y="2076480"/>
              <a:chExt cx="6780960" cy="205920"/>
            </a:xfrm>
          </p:grpSpPr>
          <p:sp>
            <p:nvSpPr>
              <p:cNvPr id="145" name=""/>
              <p:cNvSpPr/>
              <p:nvPr/>
            </p:nvSpPr>
            <p:spPr>
              <a:xfrm>
                <a:off x="0" y="20764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20764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0" y="2282760"/>
              <a:ext cx="6780960" cy="205920"/>
              <a:chOff x="0" y="2282760"/>
              <a:chExt cx="6780960" cy="205920"/>
            </a:xfrm>
          </p:grpSpPr>
          <p:sp>
            <p:nvSpPr>
              <p:cNvPr id="148" name=""/>
              <p:cNvSpPr/>
              <p:nvPr/>
            </p:nvSpPr>
            <p:spPr>
              <a:xfrm>
                <a:off x="0" y="22827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22827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0" y="2488680"/>
              <a:ext cx="6780960" cy="205920"/>
              <a:chOff x="0" y="2488680"/>
              <a:chExt cx="6780960" cy="205920"/>
            </a:xfrm>
          </p:grpSpPr>
          <p:sp>
            <p:nvSpPr>
              <p:cNvPr id="151" name=""/>
              <p:cNvSpPr/>
              <p:nvPr/>
            </p:nvSpPr>
            <p:spPr>
              <a:xfrm>
                <a:off x="0" y="24886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24886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0" y="2694960"/>
              <a:ext cx="6780960" cy="205920"/>
              <a:chOff x="0" y="2694960"/>
              <a:chExt cx="6780960" cy="205920"/>
            </a:xfrm>
          </p:grpSpPr>
          <p:sp>
            <p:nvSpPr>
              <p:cNvPr id="154" name=""/>
              <p:cNvSpPr/>
              <p:nvPr/>
            </p:nvSpPr>
            <p:spPr>
              <a:xfrm>
                <a:off x="0" y="26949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26949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coordina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0" y="2900880"/>
              <a:ext cx="6780960" cy="205920"/>
              <a:chOff x="0" y="2900880"/>
              <a:chExt cx="6780960" cy="205920"/>
            </a:xfrm>
          </p:grpSpPr>
          <p:sp>
            <p:nvSpPr>
              <p:cNvPr id="157" name=""/>
              <p:cNvSpPr/>
              <p:nvPr/>
            </p:nvSpPr>
            <p:spPr>
              <a:xfrm>
                <a:off x="0" y="29008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29008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X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x coordin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0" y="3106800"/>
              <a:ext cx="6780960" cy="205920"/>
              <a:chOff x="0" y="3106800"/>
              <a:chExt cx="6780960" cy="205920"/>
            </a:xfrm>
          </p:grpSpPr>
          <p:sp>
            <p:nvSpPr>
              <p:cNvPr id="160" name=""/>
              <p:cNvSpPr/>
              <p:nvPr/>
            </p:nvSpPr>
            <p:spPr>
              <a:xfrm>
                <a:off x="0" y="31068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31068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y coordin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0" y="3313080"/>
              <a:ext cx="6780960" cy="205920"/>
              <a:chOff x="0" y="3313080"/>
              <a:chExt cx="6780960" cy="205920"/>
            </a:xfrm>
          </p:grpSpPr>
          <p:sp>
            <p:nvSpPr>
              <p:cNvPr id="163" name=""/>
              <p:cNvSpPr/>
              <p:nvPr/>
            </p:nvSpPr>
            <p:spPr>
              <a:xfrm>
                <a:off x="0" y="33130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33130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ccessible by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0" y="3519000"/>
              <a:ext cx="6780960" cy="205920"/>
              <a:chOff x="0" y="3519000"/>
              <a:chExt cx="6780960" cy="205920"/>
            </a:xfrm>
          </p:grpSpPr>
          <p:sp>
            <p:nvSpPr>
              <p:cNvPr id="166" name=""/>
              <p:cNvSpPr/>
              <p:nvPr/>
            </p:nvSpPr>
            <p:spPr>
              <a:xfrm>
                <a:off x="0" y="35190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35190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y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x and y coordinates of the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0" y="3725280"/>
              <a:ext cx="6780960" cy="205920"/>
              <a:chOff x="0" y="3725280"/>
              <a:chExt cx="6780960" cy="205920"/>
            </a:xfrm>
          </p:grpSpPr>
          <p:sp>
            <p:nvSpPr>
              <p:cNvPr id="169" name=""/>
              <p:cNvSpPr/>
              <p:nvPr/>
            </p:nvSpPr>
            <p:spPr>
              <a:xfrm>
                <a:off x="0" y="37252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37252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0" y="3931200"/>
              <a:ext cx="6780960" cy="205920"/>
              <a:chOff x="0" y="3931200"/>
              <a:chExt cx="6780960" cy="205920"/>
            </a:xfrm>
          </p:grpSpPr>
          <p:sp>
            <p:nvSpPr>
              <p:cNvPr id="172" name=""/>
              <p:cNvSpPr/>
              <p:nvPr/>
            </p:nvSpPr>
            <p:spPr>
              <a:xfrm>
                <a:off x="0" y="39312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39312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0" y="4137480"/>
              <a:ext cx="6780960" cy="205920"/>
              <a:chOff x="0" y="4137480"/>
              <a:chExt cx="6780960" cy="205920"/>
            </a:xfrm>
          </p:grpSpPr>
          <p:sp>
            <p:nvSpPr>
              <p:cNvPr id="175" name=""/>
              <p:cNvSpPr/>
              <p:nvPr/>
            </p:nvSpPr>
            <p:spPr>
              <a:xfrm>
                <a:off x="0" y="41374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41374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0" y="4343400"/>
            <a:ext cx="6780960" cy="2514600"/>
            <a:chOff x="0" y="4343400"/>
            <a:chExt cx="6780960" cy="2514600"/>
          </a:xfrm>
        </p:grpSpPr>
        <p:grpSp>
          <p:nvGrpSpPr>
            <p:cNvPr id="178" name=""/>
            <p:cNvGrpSpPr/>
            <p:nvPr/>
          </p:nvGrpSpPr>
          <p:grpSpPr>
            <a:xfrm>
              <a:off x="0" y="4343400"/>
              <a:ext cx="6780960" cy="209520"/>
              <a:chOff x="0" y="4343400"/>
              <a:chExt cx="6780960" cy="209520"/>
            </a:xfrm>
          </p:grpSpPr>
          <p:sp>
            <p:nvSpPr>
              <p:cNvPr id="179" name=""/>
              <p:cNvSpPr/>
              <p:nvPr/>
            </p:nvSpPr>
            <p:spPr>
              <a:xfrm>
                <a:off x="0" y="43434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43434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4: point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0" y="4552920"/>
              <a:ext cx="6780960" cy="209520"/>
              <a:chOff x="0" y="4552920"/>
              <a:chExt cx="6780960" cy="209520"/>
            </a:xfrm>
          </p:grpSpPr>
          <p:sp>
            <p:nvSpPr>
              <p:cNvPr id="182" name=""/>
              <p:cNvSpPr/>
              <p:nvPr/>
            </p:nvSpPr>
            <p:spPr>
              <a:xfrm>
                <a:off x="0" y="45529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5529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0" y="4762440"/>
              <a:ext cx="6780960" cy="209520"/>
              <a:chOff x="0" y="4762440"/>
              <a:chExt cx="6780960" cy="20952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47624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7624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0" y="4971960"/>
              <a:ext cx="6780960" cy="209520"/>
              <a:chOff x="0" y="4971960"/>
              <a:chExt cx="6780960" cy="20952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49719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49719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0" y="5181480"/>
              <a:ext cx="6780960" cy="209520"/>
              <a:chOff x="0" y="5181480"/>
              <a:chExt cx="6780960" cy="209520"/>
            </a:xfrm>
          </p:grpSpPr>
          <p:sp>
            <p:nvSpPr>
              <p:cNvPr id="191" name=""/>
              <p:cNvSpPr/>
              <p:nvPr/>
            </p:nvSpPr>
            <p:spPr>
              <a:xfrm>
                <a:off x="0" y="51814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51814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0" y="5391000"/>
              <a:ext cx="6780960" cy="209520"/>
              <a:chOff x="0" y="5391000"/>
              <a:chExt cx="6780960" cy="20952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53910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53910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0" y="5600520"/>
              <a:ext cx="6780960" cy="209520"/>
              <a:chOff x="0" y="5600520"/>
              <a:chExt cx="6780960" cy="20952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5600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5600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oint::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 { setPoint( a, b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0" y="5810400"/>
              <a:ext cx="6780960" cy="209520"/>
              <a:chOff x="0" y="5810400"/>
              <a:chExt cx="6780960" cy="20952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58104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58104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0" y="6019920"/>
              <a:ext cx="6780960" cy="209520"/>
              <a:chOff x="0" y="6019920"/>
              <a:chExt cx="6780960" cy="20952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60199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60199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x and y coordinates of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0" y="6229440"/>
              <a:ext cx="6780960" cy="209520"/>
              <a:chOff x="0" y="6229440"/>
              <a:chExt cx="6780960" cy="209520"/>
            </a:xfrm>
          </p:grpSpPr>
          <p:sp>
            <p:nvSpPr>
              <p:cNvPr id="206" name=""/>
              <p:cNvSpPr/>
              <p:nvPr/>
            </p:nvSpPr>
            <p:spPr>
              <a:xfrm>
                <a:off x="0" y="62294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62294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::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0" y="6438960"/>
              <a:ext cx="6780960" cy="209520"/>
              <a:chOff x="0" y="6438960"/>
              <a:chExt cx="6780960" cy="209520"/>
            </a:xfrm>
          </p:grpSpPr>
          <p:sp>
            <p:nvSpPr>
              <p:cNvPr id="209" name=""/>
              <p:cNvSpPr/>
              <p:nvPr/>
            </p:nvSpPr>
            <p:spPr>
              <a:xfrm>
                <a:off x="0" y="64389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64389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0" y="6648480"/>
              <a:ext cx="6780960" cy="209520"/>
              <a:chOff x="0" y="6648480"/>
              <a:chExt cx="6780960" cy="209520"/>
            </a:xfrm>
          </p:grpSpPr>
          <p:sp>
            <p:nvSpPr>
              <p:cNvPr id="212" name=""/>
              <p:cNvSpPr/>
              <p:nvPr/>
            </p:nvSpPr>
            <p:spPr>
              <a:xfrm>
                <a:off x="0" y="66484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66484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x = 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C8C4A-BE1A-44F1-A1A8-B8A490E192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13:06:25Z</dcterms:created>
  <dc:creator>aftab bukhari</dc:creator>
  <dc:description/>
  <dc:language>en-US</dc:language>
  <cp:lastModifiedBy>Antonella Esposito</cp:lastModifiedBy>
  <dcterms:modified xsi:type="dcterms:W3CDTF">2001-01-12T10:45:06Z</dcterms:modified>
  <cp:revision>397</cp:revision>
  <dc:subject/>
  <dc:title>Chapter 9 - Inheritance</dc:title>
</cp:coreProperties>
</file>