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E96F-4EA9-4CF9-85C3-931677925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5046-C62E-4A3B-804E-A41F88425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DE38-C3C3-4135-B31D-568B3CE71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D4F9-6B60-4674-9243-711171617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5DBB-47CB-4999-B1C7-8404A415A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B958-6B4B-42AA-B6CE-18353276C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135B-7323-4ABA-BE4E-5DBD9C116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1FBB-0DBB-470A-92AA-12C67028C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193B-5426-4890-976A-6D8D6B910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514A-DEDA-42DA-863C-526B23446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5C30-2E2F-4922-B34A-4BFF06FD5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AEFD-0119-4928-AF4E-5A8B49FBF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809E-9D13-4B3B-9AD0-A0838BBF6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5 - Poin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9528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Variable Declarations and Initial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Const Qualifier with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Call-by-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Expressions and Pointer Arithme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Relationship Between Pointers an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 of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 to Character and String Process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Characters and String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-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inking About Objects: Interactions Among Objects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7A54-8264-4EA7-8104-73DF428701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Const Qualifier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hen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chang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is a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same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const my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non-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*my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*const 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C870-6F69-4BA5-BABF-6D41D46129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t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(which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Attempt to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323" name=""/>
            <p:cNvGrpSpPr/>
            <p:nvPr/>
          </p:nvGrpSpPr>
          <p:grpSpPr>
            <a:xfrm>
              <a:off x="0" y="0"/>
              <a:ext cx="6780960" cy="258120"/>
              <a:chOff x="0" y="0"/>
              <a:chExt cx="6780960" cy="2581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13: fig05_1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258120"/>
              <a:ext cx="6780960" cy="258120"/>
              <a:chOff x="0" y="258120"/>
              <a:chExt cx="6780960" cy="2581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2581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581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ttempting to modify a constant pointer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516240"/>
              <a:ext cx="6780960" cy="258120"/>
              <a:chOff x="0" y="516240"/>
              <a:chExt cx="6780960" cy="2581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5162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5162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n-constant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774720"/>
              <a:ext cx="6780960" cy="258120"/>
              <a:chOff x="0" y="774720"/>
              <a:chExt cx="6780960" cy="2581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7747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7747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032840"/>
              <a:ext cx="6780960" cy="258120"/>
              <a:chOff x="0" y="1032840"/>
              <a:chExt cx="6780960" cy="2581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0328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0328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290960"/>
              <a:ext cx="6780960" cy="258120"/>
              <a:chOff x="0" y="1290960"/>
              <a:chExt cx="6780960" cy="2581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2909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2909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1549440"/>
              <a:ext cx="6780960" cy="258120"/>
              <a:chOff x="0" y="1549440"/>
              <a:chExt cx="6780960" cy="2581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15494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15494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1807560"/>
              <a:ext cx="6780960" cy="258120"/>
              <a:chOff x="0" y="1807560"/>
              <a:chExt cx="6780960" cy="2581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18075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8075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x,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066040"/>
              <a:ext cx="6780960" cy="258120"/>
              <a:chOff x="0" y="2066040"/>
              <a:chExt cx="6780960" cy="2581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0660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0660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324160"/>
              <a:ext cx="6780960" cy="258120"/>
              <a:chOff x="0" y="2324160"/>
              <a:chExt cx="6780960" cy="2581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3241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3241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 = &amp;x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tr is a constant pointer to 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2582280"/>
              <a:ext cx="6780960" cy="258120"/>
              <a:chOff x="0" y="2582280"/>
              <a:chExt cx="6780960" cy="2581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25822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5822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teger. An integer can be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2840760"/>
              <a:ext cx="6780960" cy="258120"/>
              <a:chOff x="0" y="2840760"/>
              <a:chExt cx="6780960" cy="2581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28407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28407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hrough ptr, but ptr always point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098880"/>
              <a:ext cx="6780960" cy="258120"/>
              <a:chOff x="0" y="3098880"/>
              <a:chExt cx="6780960" cy="2581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0988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0988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o the same memory loca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357000"/>
              <a:ext cx="6780960" cy="258120"/>
              <a:chOff x="0" y="3357000"/>
              <a:chExt cx="6780960" cy="2581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3570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3570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pt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615480"/>
              <a:ext cx="6780960" cy="258120"/>
              <a:chOff x="0" y="3615480"/>
              <a:chExt cx="6780960" cy="2581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6154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6154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&amp;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3873600"/>
              <a:ext cx="6780960" cy="258120"/>
              <a:chOff x="0" y="3873600"/>
              <a:chExt cx="6780960" cy="2581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38736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38736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132080"/>
              <a:ext cx="6780960" cy="258120"/>
              <a:chOff x="0" y="4132080"/>
              <a:chExt cx="6780960" cy="2581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1320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1320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390200"/>
              <a:ext cx="6780960" cy="258120"/>
              <a:chOff x="0" y="4390200"/>
              <a:chExt cx="6780960" cy="2581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3902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3902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0" y="5105520"/>
            <a:ext cx="6781680" cy="48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5_13.cpp 15: Cannot modify a const object in function main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43000" y="1542960"/>
            <a:ext cx="4724280" cy="1809720"/>
            <a:chOff x="1143000" y="1542960"/>
            <a:chExt cx="4724280" cy="1809720"/>
          </a:xfrm>
        </p:grpSpPr>
        <p:sp>
          <p:nvSpPr>
            <p:cNvPr id="379" name=""/>
            <p:cNvSpPr/>
            <p:nvPr/>
          </p:nvSpPr>
          <p:spPr>
            <a:xfrm flipH="1">
              <a:off x="1143000" y="190512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154296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llowed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a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523520" y="3429000"/>
            <a:ext cx="5029560" cy="1676520"/>
            <a:chOff x="1523520" y="3429000"/>
            <a:chExt cx="5029560" cy="1676520"/>
          </a:xfrm>
        </p:grpSpPr>
        <p:grpSp>
          <p:nvGrpSpPr>
            <p:cNvPr id="382" name=""/>
            <p:cNvGrpSpPr/>
            <p:nvPr/>
          </p:nvGrpSpPr>
          <p:grpSpPr>
            <a:xfrm>
              <a:off x="1523520" y="3429000"/>
              <a:ext cx="5029560" cy="580680"/>
              <a:chOff x="1523520" y="3429000"/>
              <a:chExt cx="5029560" cy="58068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1523520" y="3657600"/>
                <a:ext cx="25146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09880" y="342900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error -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 constant poin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H="1">
              <a:off x="4343400" y="4038480"/>
              <a:ext cx="76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bubblesort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must receive the address (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the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elements have call-by-valu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pointers 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ble to switch the values of the actual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data in origin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l function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sort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fine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9556-2C53-474F-9FFF-4470F19413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, sizeof retu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the size of 1 element ) * ( number of element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izeof(myAr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print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3ACC-588A-42E2-BC40-0248DF1152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6628680" cy="201600"/>
              <a:chOff x="0" y="0"/>
              <a:chExt cx="6628680" cy="20160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5.15: fig05_1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201600"/>
              <a:ext cx="6628680" cy="201600"/>
              <a:chOff x="0" y="201600"/>
              <a:chExt cx="6628680" cy="20160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201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201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is program puts values into an array, sorts the values i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03200"/>
              <a:ext cx="6628680" cy="201600"/>
              <a:chOff x="0" y="403200"/>
              <a:chExt cx="6628680" cy="20160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03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403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cending order, and prints the resulting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05160"/>
              <a:ext cx="6628680" cy="201600"/>
              <a:chOff x="0" y="605160"/>
              <a:chExt cx="6628680" cy="20160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605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05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806760"/>
              <a:ext cx="6628680" cy="201600"/>
              <a:chOff x="0" y="806760"/>
              <a:chExt cx="6628680" cy="20160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806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806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1008360"/>
              <a:ext cx="6628680" cy="201600"/>
              <a:chOff x="0" y="1008360"/>
              <a:chExt cx="6628680" cy="20160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1008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1008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1209960"/>
              <a:ext cx="6628680" cy="201600"/>
              <a:chOff x="0" y="1209960"/>
              <a:chExt cx="6628680" cy="20160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12099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2099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411920"/>
              <a:ext cx="6628680" cy="201600"/>
              <a:chOff x="0" y="1411920"/>
              <a:chExt cx="6628680" cy="20160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411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411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1613520"/>
              <a:ext cx="6628680" cy="201600"/>
              <a:chOff x="0" y="1613520"/>
              <a:chExt cx="6628680" cy="20160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613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1613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1815120"/>
              <a:ext cx="6628680" cy="201600"/>
              <a:chOff x="0" y="1815120"/>
              <a:chExt cx="6628680" cy="20160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18151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8151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2017080"/>
              <a:ext cx="6628680" cy="201600"/>
              <a:chOff x="0" y="2017080"/>
              <a:chExt cx="6628680" cy="20160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2017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2017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218680"/>
              <a:ext cx="6628680" cy="201600"/>
              <a:chOff x="0" y="2218680"/>
              <a:chExt cx="6628680" cy="20160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218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218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420280"/>
              <a:ext cx="6628680" cy="201600"/>
              <a:chOff x="0" y="2420280"/>
              <a:chExt cx="6628680" cy="20160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4202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4202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622240"/>
              <a:ext cx="6628680" cy="201600"/>
              <a:chOff x="0" y="2622240"/>
              <a:chExt cx="6628680" cy="20160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622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2622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2823840"/>
              <a:ext cx="6628680" cy="201600"/>
              <a:chOff x="0" y="2823840"/>
              <a:chExt cx="6628680" cy="20160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2823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823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025440"/>
              <a:ext cx="6628680" cy="201600"/>
              <a:chOff x="0" y="3025440"/>
              <a:chExt cx="6628680" cy="20160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0254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0254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3227400"/>
              <a:ext cx="6628680" cy="201600"/>
              <a:chOff x="0" y="3227400"/>
              <a:chExt cx="6628680" cy="20160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3227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227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3429000"/>
              <a:ext cx="6628680" cy="201600"/>
              <a:chOff x="0" y="3429000"/>
              <a:chExt cx="6628680" cy="20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34290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4290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array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3630600"/>
              <a:ext cx="6628680" cy="201600"/>
              <a:chOff x="0" y="3630600"/>
              <a:chExt cx="6628680" cy="20160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3630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630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3832200"/>
              <a:ext cx="6628680" cy="201600"/>
              <a:chOff x="0" y="3832200"/>
              <a:chExt cx="6628680" cy="20160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3832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832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034160"/>
              <a:ext cx="6628680" cy="201600"/>
              <a:chOff x="0" y="4034160"/>
              <a:chExt cx="6628680" cy="20160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034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034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a items in original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4235760"/>
              <a:ext cx="6628680" cy="201600"/>
              <a:chOff x="0" y="4235760"/>
              <a:chExt cx="6628680" cy="20160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4235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235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4437360"/>
              <a:ext cx="6628680" cy="201600"/>
              <a:chOff x="0" y="4437360"/>
              <a:chExt cx="6628680" cy="20160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4437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4437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4639320"/>
              <a:ext cx="6628680" cy="201600"/>
              <a:chOff x="0" y="4639320"/>
              <a:chExt cx="6628680" cy="20160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46393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46393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4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4840920"/>
              <a:ext cx="6628680" cy="201600"/>
              <a:chOff x="0" y="4840920"/>
              <a:chExt cx="6628680" cy="20160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4840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4840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5042520"/>
              <a:ext cx="6628680" cy="201600"/>
              <a:chOff x="0" y="5042520"/>
              <a:chExt cx="6628680" cy="20160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5042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042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, arraySize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ort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5244480"/>
              <a:ext cx="6628680" cy="201600"/>
              <a:chOff x="0" y="5244480"/>
              <a:chExt cx="6628680" cy="20160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52444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52444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Data items in a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5446080"/>
              <a:ext cx="6628680" cy="201600"/>
              <a:chOff x="0" y="5446080"/>
              <a:chExt cx="6628680" cy="20160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5446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5446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5647680"/>
              <a:ext cx="6628680" cy="201600"/>
              <a:chOff x="0" y="5647680"/>
              <a:chExt cx="6628680" cy="20160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5647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5647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5849640"/>
              <a:ext cx="6628680" cy="201600"/>
              <a:chOff x="0" y="5849640"/>
              <a:chExt cx="6628680" cy="20160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58496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58496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4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6051240"/>
              <a:ext cx="6628680" cy="201600"/>
              <a:chOff x="0" y="6051240"/>
              <a:chExt cx="6628680" cy="20160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6051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051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6252840"/>
              <a:ext cx="6628680" cy="201600"/>
              <a:chOff x="0" y="6252840"/>
              <a:chExt cx="6628680" cy="20160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6252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6252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6454800"/>
              <a:ext cx="6628680" cy="201600"/>
              <a:chOff x="0" y="6454800"/>
              <a:chExt cx="6628680" cy="20160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64548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64548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6656400"/>
              <a:ext cx="6628680" cy="201600"/>
              <a:chOff x="0" y="6656400"/>
              <a:chExt cx="6628680" cy="20160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6656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6656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133360" y="914400"/>
            <a:ext cx="4419360" cy="1523880"/>
            <a:chOff x="2133360" y="914400"/>
            <a:chExt cx="4419360" cy="1523880"/>
          </a:xfrm>
        </p:grpSpPr>
        <p:sp>
          <p:nvSpPr>
            <p:cNvPr id="495" name=""/>
            <p:cNvSpPr/>
            <p:nvPr/>
          </p:nvSpPr>
          <p:spPr>
            <a:xfrm flipH="1">
              <a:off x="2133360" y="1447920"/>
              <a:ext cx="17521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9880" y="914400"/>
              <a:ext cx="2742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passed the address of array elements (pointers).  The name of an array is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a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0" y="0"/>
            <a:ext cx="6705000" cy="4952880"/>
            <a:chOff x="0" y="0"/>
            <a:chExt cx="6705000" cy="4952880"/>
          </a:xfrm>
        </p:grpSpPr>
        <p:grpSp>
          <p:nvGrpSpPr>
            <p:cNvPr id="499" name=""/>
            <p:cNvGrpSpPr/>
            <p:nvPr/>
          </p:nvGrpSpPr>
          <p:grpSpPr>
            <a:xfrm>
              <a:off x="0" y="0"/>
              <a:ext cx="6705000" cy="275040"/>
              <a:chOff x="0" y="0"/>
              <a:chExt cx="6705000" cy="27504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275040"/>
              <a:ext cx="6705000" cy="275040"/>
              <a:chOff x="0" y="275040"/>
              <a:chExt cx="6705000" cy="2750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2750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2750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550080"/>
              <a:ext cx="6705000" cy="275040"/>
              <a:chOff x="0" y="550080"/>
              <a:chExt cx="6705000" cy="2750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5500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5500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825480"/>
              <a:ext cx="6705000" cy="275040"/>
              <a:chOff x="0" y="825480"/>
              <a:chExt cx="6705000" cy="2750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825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825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1100520"/>
              <a:ext cx="6705000" cy="275040"/>
              <a:chOff x="0" y="1100520"/>
              <a:chExt cx="6705000" cy="2750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1100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1100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 = 0; pass &lt;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1375560"/>
              <a:ext cx="6705000" cy="275040"/>
              <a:chOff x="0" y="1375560"/>
              <a:chExt cx="6705000" cy="27504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13755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13755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1650960"/>
              <a:ext cx="6705000" cy="275040"/>
              <a:chOff x="0" y="1650960"/>
              <a:chExt cx="6705000" cy="2750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650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50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1926000"/>
              <a:ext cx="6705000" cy="275040"/>
              <a:chOff x="0" y="1926000"/>
              <a:chExt cx="6705000" cy="2750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192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92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2201400"/>
              <a:ext cx="6705000" cy="275040"/>
              <a:chOff x="0" y="2201400"/>
              <a:chExt cx="6705000" cy="2750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2201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2201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ray[ j ] &gt; array[ j + 1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2476440"/>
              <a:ext cx="6705000" cy="275040"/>
              <a:chOff x="0" y="2476440"/>
              <a:chExt cx="6705000" cy="2750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24764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4764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array[ j ], &amp;array[ j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2751480"/>
              <a:ext cx="6705000" cy="275040"/>
              <a:chOff x="0" y="2751480"/>
              <a:chExt cx="6705000" cy="27504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275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275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3026880"/>
              <a:ext cx="6705000" cy="275040"/>
              <a:chOff x="0" y="3026880"/>
              <a:chExt cx="6705000" cy="2750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30268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30268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3301920"/>
              <a:ext cx="6705000" cy="275040"/>
              <a:chOff x="0" y="3301920"/>
              <a:chExt cx="6705000" cy="2750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33019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33019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3576960"/>
              <a:ext cx="6705000" cy="275040"/>
              <a:chOff x="0" y="3576960"/>
              <a:chExt cx="6705000" cy="2750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3576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3576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3852360"/>
              <a:ext cx="6705000" cy="275040"/>
              <a:chOff x="0" y="3852360"/>
              <a:chExt cx="6705000" cy="27504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38523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38523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4127400"/>
              <a:ext cx="6705000" cy="275040"/>
              <a:chOff x="0" y="4127400"/>
              <a:chExt cx="6705000" cy="2750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4127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4127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4402800"/>
              <a:ext cx="6705000" cy="275040"/>
              <a:chOff x="0" y="4402800"/>
              <a:chExt cx="6705000" cy="2750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4402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4402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4677840"/>
              <a:ext cx="6705000" cy="275040"/>
              <a:chOff x="0" y="4677840"/>
              <a:chExt cx="6705000" cy="2750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4677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4677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3885840" y="990720"/>
            <a:ext cx="5105880" cy="2286000"/>
            <a:chOff x="3885840" y="990720"/>
            <a:chExt cx="5105880" cy="2286000"/>
          </a:xfrm>
        </p:grpSpPr>
        <p:sp>
          <p:nvSpPr>
            <p:cNvPr id="554" name=""/>
            <p:cNvSpPr/>
            <p:nvPr/>
          </p:nvSpPr>
          <p:spPr>
            <a:xfrm flipH="1">
              <a:off x="3885840" y="1447920"/>
              <a:ext cx="1600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10080" y="990720"/>
              <a:ext cx="358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pointers (addresses of array elements) and dereferences them to modify the original array element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0" y="525780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/subtract an integer to/from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arithmetic is meaningless unless performed o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a machine using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 0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at location 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253120" y="4199040"/>
            <a:ext cx="3661920" cy="1667520"/>
            <a:chOff x="5253120" y="4199040"/>
            <a:chExt cx="3661920" cy="1667520"/>
          </a:xfrm>
        </p:grpSpPr>
        <p:sp>
          <p:nvSpPr>
            <p:cNvPr id="560" name=""/>
            <p:cNvSpPr/>
            <p:nvPr/>
          </p:nvSpPr>
          <p:spPr>
            <a:xfrm>
              <a:off x="5253120" y="5630040"/>
              <a:ext cx="19353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er variable 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73640" y="5327640"/>
              <a:ext cx="330840" cy="327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4160" y="5436720"/>
              <a:ext cx="109800" cy="109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156360" y="4813200"/>
              <a:ext cx="551880" cy="327600"/>
              <a:chOff x="6156360" y="4813200"/>
              <a:chExt cx="551880" cy="327600"/>
            </a:xfrm>
          </p:grpSpPr>
          <p:sp>
            <p:nvSpPr>
              <p:cNvPr id="564" name=""/>
              <p:cNvSpPr/>
              <p:nvPr/>
            </p:nvSpPr>
            <p:spPr>
              <a:xfrm>
                <a:off x="6156360" y="481320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14320" y="487872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6708240" y="4813200"/>
              <a:ext cx="551520" cy="327600"/>
              <a:chOff x="6708240" y="4813200"/>
              <a:chExt cx="551520" cy="327600"/>
            </a:xfrm>
          </p:grpSpPr>
          <p:sp>
            <p:nvSpPr>
              <p:cNvPr id="567" name=""/>
              <p:cNvSpPr/>
              <p:nvPr/>
            </p:nvSpPr>
            <p:spPr>
              <a:xfrm>
                <a:off x="670824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6584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7259760" y="4813200"/>
              <a:ext cx="551520" cy="327600"/>
              <a:chOff x="7259760" y="4813200"/>
              <a:chExt cx="551520" cy="327600"/>
            </a:xfrm>
          </p:grpSpPr>
          <p:sp>
            <p:nvSpPr>
              <p:cNvPr id="570" name=""/>
              <p:cNvSpPr/>
              <p:nvPr/>
            </p:nvSpPr>
            <p:spPr>
              <a:xfrm>
                <a:off x="725976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1736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8363520" y="4813200"/>
              <a:ext cx="551520" cy="327600"/>
              <a:chOff x="8363520" y="4813200"/>
              <a:chExt cx="551520" cy="327600"/>
            </a:xfrm>
          </p:grpSpPr>
          <p:sp>
            <p:nvSpPr>
              <p:cNvPr id="573" name=""/>
              <p:cNvSpPr/>
              <p:nvPr/>
            </p:nvSpPr>
            <p:spPr>
              <a:xfrm>
                <a:off x="836352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42112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811640" y="4813200"/>
              <a:ext cx="551880" cy="327600"/>
              <a:chOff x="7811640" y="4813200"/>
              <a:chExt cx="551880" cy="327600"/>
            </a:xfrm>
          </p:grpSpPr>
          <p:sp>
            <p:nvSpPr>
              <p:cNvPr id="576" name=""/>
              <p:cNvSpPr/>
              <p:nvPr/>
            </p:nvSpPr>
            <p:spPr>
              <a:xfrm>
                <a:off x="7811640" y="481320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69600" y="487872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615636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24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5976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1164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6352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6124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1276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64280" y="4390200"/>
              <a:ext cx="4345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1652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16804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01480" y="4199040"/>
              <a:ext cx="74484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34920" y="4956840"/>
              <a:ext cx="723960" cy="486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D570-E9D3-4C6D-8029-662E29F009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number of elements between two 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 2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 0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- vPtr =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which pointer points to the higher numbered arra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if a pointer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vPtr == ‘0’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F057-E8B6-4524-B594-1A047FE956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the same type, a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a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419F-BCFD-4E76-B2F5-BD97FEDB8E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ing declared an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5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 poin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=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the address of the fir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= &amp;b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0BDF-FFE3-49F5-96F1-4F8CEDAE25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7F63-4076-4FAE-AE8B-6374421A0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array elements with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n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accessed by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( bPtr +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itself can use pointer arithme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b +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be subscripted (pointer/subscript no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4C4B-557E-4D2F-8F5E-BDE98A663B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store an array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lement of suit i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rings are not in the array, only pointers to the strings are in th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a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33520" y="4038480"/>
            <a:ext cx="7848360" cy="1447920"/>
            <a:chOff x="533520" y="4038480"/>
            <a:chExt cx="7848360" cy="1447920"/>
          </a:xfrm>
        </p:grpSpPr>
        <p:grpSp>
          <p:nvGrpSpPr>
            <p:cNvPr id="604" name=""/>
            <p:cNvGrpSpPr/>
            <p:nvPr/>
          </p:nvGrpSpPr>
          <p:grpSpPr>
            <a:xfrm>
              <a:off x="533520" y="5124600"/>
              <a:ext cx="2190960" cy="361800"/>
              <a:chOff x="533520" y="5124600"/>
              <a:chExt cx="2190960" cy="3618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533520" y="5124600"/>
                <a:ext cx="1565280" cy="361800"/>
                <a:chOff x="533520" y="5124600"/>
                <a:chExt cx="1565280" cy="361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1629720" y="5124600"/>
                  <a:ext cx="469080" cy="361800"/>
                  <a:chOff x="1629720" y="5124600"/>
                  <a:chExt cx="469080" cy="3618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1629720" y="512460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784520" y="524520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533520" y="518472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942200" y="530532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3520" y="4762440"/>
              <a:ext cx="2190960" cy="361800"/>
              <a:chOff x="533520" y="4762440"/>
              <a:chExt cx="2190960" cy="3618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3520" y="4762440"/>
                <a:ext cx="1565280" cy="361800"/>
                <a:chOff x="533520" y="4762440"/>
                <a:chExt cx="1565280" cy="36180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1629720" y="4762440"/>
                  <a:ext cx="469080" cy="361800"/>
                  <a:chOff x="1629720" y="4762440"/>
                  <a:chExt cx="469080" cy="3618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1629720" y="476244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1784880" y="488304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533520" y="482256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1942560" y="494316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33520" y="4400280"/>
              <a:ext cx="2190960" cy="361800"/>
              <a:chOff x="533520" y="4400280"/>
              <a:chExt cx="2190960" cy="3618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33520" y="4400280"/>
                <a:ext cx="1565280" cy="361800"/>
                <a:chOff x="533520" y="4400280"/>
                <a:chExt cx="1565280" cy="36180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1629720" y="4400280"/>
                  <a:ext cx="469080" cy="361800"/>
                  <a:chOff x="1629720" y="4400280"/>
                  <a:chExt cx="469080" cy="36180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1629720" y="44002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784880" y="45208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>
                  <a:off x="533520" y="44604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1942560" y="45810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33520" y="4038480"/>
              <a:ext cx="2190960" cy="361800"/>
              <a:chOff x="533520" y="4038480"/>
              <a:chExt cx="2190960" cy="36180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533520" y="4038480"/>
                <a:ext cx="1565280" cy="361800"/>
                <a:chOff x="533520" y="4038480"/>
                <a:chExt cx="1565280" cy="3618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629720" y="4038480"/>
                  <a:ext cx="469080" cy="361800"/>
                  <a:chOff x="1629720" y="4038480"/>
                  <a:chExt cx="469080" cy="36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1629720" y="40384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784880" y="41590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533520" y="40986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1942560" y="42192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2724480" y="4098600"/>
              <a:ext cx="625680" cy="282600"/>
              <a:chOff x="2724480" y="4098600"/>
              <a:chExt cx="625680" cy="282600"/>
            </a:xfrm>
          </p:grpSpPr>
          <p:sp>
            <p:nvSpPr>
              <p:cNvPr id="633" name=""/>
              <p:cNvSpPr/>
              <p:nvPr/>
            </p:nvSpPr>
            <p:spPr>
              <a:xfrm>
                <a:off x="27244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752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3350160" y="4098600"/>
              <a:ext cx="625680" cy="282600"/>
              <a:chOff x="3350160" y="4098600"/>
              <a:chExt cx="625680" cy="282600"/>
            </a:xfrm>
          </p:grpSpPr>
          <p:sp>
            <p:nvSpPr>
              <p:cNvPr id="636" name=""/>
              <p:cNvSpPr/>
              <p:nvPr/>
            </p:nvSpPr>
            <p:spPr>
              <a:xfrm>
                <a:off x="33501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4009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976200" y="4098600"/>
              <a:ext cx="625680" cy="282600"/>
              <a:chOff x="3976200" y="4098600"/>
              <a:chExt cx="625680" cy="282600"/>
            </a:xfrm>
          </p:grpSpPr>
          <p:sp>
            <p:nvSpPr>
              <p:cNvPr id="639" name=""/>
              <p:cNvSpPr/>
              <p:nvPr/>
            </p:nvSpPr>
            <p:spPr>
              <a:xfrm>
                <a:off x="39762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269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601880" y="4098600"/>
              <a:ext cx="625680" cy="282600"/>
              <a:chOff x="4601880" y="4098600"/>
              <a:chExt cx="625680" cy="282600"/>
            </a:xfrm>
          </p:grpSpPr>
          <p:sp>
            <p:nvSpPr>
              <p:cNvPr id="642" name=""/>
              <p:cNvSpPr/>
              <p:nvPr/>
            </p:nvSpPr>
            <p:spPr>
              <a:xfrm>
                <a:off x="46018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526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5227560" y="4098600"/>
              <a:ext cx="625680" cy="282600"/>
              <a:chOff x="5227560" y="4098600"/>
              <a:chExt cx="625680" cy="282600"/>
            </a:xfrm>
          </p:grpSpPr>
          <p:sp>
            <p:nvSpPr>
              <p:cNvPr id="645" name=""/>
              <p:cNvSpPr/>
              <p:nvPr/>
            </p:nvSpPr>
            <p:spPr>
              <a:xfrm>
                <a:off x="52275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783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5853600" y="4098600"/>
              <a:ext cx="625680" cy="282600"/>
              <a:chOff x="5853600" y="4098600"/>
              <a:chExt cx="625680" cy="282600"/>
            </a:xfrm>
          </p:grpSpPr>
          <p:sp>
            <p:nvSpPr>
              <p:cNvPr id="648" name=""/>
              <p:cNvSpPr/>
              <p:nvPr/>
            </p:nvSpPr>
            <p:spPr>
              <a:xfrm>
                <a:off x="58536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043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451920" y="4098600"/>
              <a:ext cx="678960" cy="282600"/>
              <a:chOff x="6451920" y="4098600"/>
              <a:chExt cx="678960" cy="282600"/>
            </a:xfrm>
          </p:grpSpPr>
          <p:sp>
            <p:nvSpPr>
              <p:cNvPr id="651" name=""/>
              <p:cNvSpPr/>
              <p:nvPr/>
            </p:nvSpPr>
            <p:spPr>
              <a:xfrm>
                <a:off x="64792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51920" y="409860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2724480" y="4450680"/>
              <a:ext cx="625680" cy="282600"/>
              <a:chOff x="2724480" y="4450680"/>
              <a:chExt cx="625680" cy="282600"/>
            </a:xfrm>
          </p:grpSpPr>
          <p:sp>
            <p:nvSpPr>
              <p:cNvPr id="654" name=""/>
              <p:cNvSpPr/>
              <p:nvPr/>
            </p:nvSpPr>
            <p:spPr>
              <a:xfrm>
                <a:off x="27244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752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350160" y="4450680"/>
              <a:ext cx="625680" cy="282600"/>
              <a:chOff x="3350160" y="4450680"/>
              <a:chExt cx="625680" cy="282600"/>
            </a:xfrm>
          </p:grpSpPr>
          <p:sp>
            <p:nvSpPr>
              <p:cNvPr id="657" name=""/>
              <p:cNvSpPr/>
              <p:nvPr/>
            </p:nvSpPr>
            <p:spPr>
              <a:xfrm>
                <a:off x="33501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0092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976200" y="4450680"/>
              <a:ext cx="625680" cy="282600"/>
              <a:chOff x="3976200" y="4450680"/>
              <a:chExt cx="625680" cy="282600"/>
            </a:xfrm>
          </p:grpSpPr>
          <p:sp>
            <p:nvSpPr>
              <p:cNvPr id="660" name=""/>
              <p:cNvSpPr/>
              <p:nvPr/>
            </p:nvSpPr>
            <p:spPr>
              <a:xfrm>
                <a:off x="39762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69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601880" y="4450680"/>
              <a:ext cx="625680" cy="282600"/>
              <a:chOff x="4601880" y="4450680"/>
              <a:chExt cx="625680" cy="282600"/>
            </a:xfrm>
          </p:grpSpPr>
          <p:sp>
            <p:nvSpPr>
              <p:cNvPr id="663" name=""/>
              <p:cNvSpPr/>
              <p:nvPr/>
            </p:nvSpPr>
            <p:spPr>
              <a:xfrm>
                <a:off x="46018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526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227560" y="4450680"/>
              <a:ext cx="625680" cy="282600"/>
              <a:chOff x="5227560" y="4450680"/>
              <a:chExt cx="625680" cy="282600"/>
            </a:xfrm>
          </p:grpSpPr>
          <p:sp>
            <p:nvSpPr>
              <p:cNvPr id="666" name=""/>
              <p:cNvSpPr/>
              <p:nvPr/>
            </p:nvSpPr>
            <p:spPr>
              <a:xfrm>
                <a:off x="52275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7796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5853600" y="4450680"/>
              <a:ext cx="625680" cy="282600"/>
              <a:chOff x="5853600" y="4450680"/>
              <a:chExt cx="625680" cy="282600"/>
            </a:xfrm>
          </p:grpSpPr>
          <p:sp>
            <p:nvSpPr>
              <p:cNvPr id="669" name=""/>
              <p:cNvSpPr/>
              <p:nvPr/>
            </p:nvSpPr>
            <p:spPr>
              <a:xfrm>
                <a:off x="5853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90400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479280" y="4450680"/>
              <a:ext cx="625680" cy="282600"/>
              <a:chOff x="6479280" y="4450680"/>
              <a:chExt cx="625680" cy="282600"/>
            </a:xfrm>
          </p:grpSpPr>
          <p:sp>
            <p:nvSpPr>
              <p:cNvPr id="672" name=""/>
              <p:cNvSpPr/>
              <p:nvPr/>
            </p:nvSpPr>
            <p:spPr>
              <a:xfrm>
                <a:off x="6479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2968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104600" y="4450680"/>
              <a:ext cx="625680" cy="282600"/>
              <a:chOff x="7104600" y="4450680"/>
              <a:chExt cx="625680" cy="282600"/>
            </a:xfrm>
          </p:grpSpPr>
          <p:sp>
            <p:nvSpPr>
              <p:cNvPr id="675" name=""/>
              <p:cNvSpPr/>
              <p:nvPr/>
            </p:nvSpPr>
            <p:spPr>
              <a:xfrm>
                <a:off x="7104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553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7702920" y="4450680"/>
              <a:ext cx="678960" cy="282600"/>
              <a:chOff x="7702920" y="4450680"/>
              <a:chExt cx="678960" cy="282600"/>
            </a:xfrm>
          </p:grpSpPr>
          <p:sp>
            <p:nvSpPr>
              <p:cNvPr id="678" name=""/>
              <p:cNvSpPr/>
              <p:nvPr/>
            </p:nvSpPr>
            <p:spPr>
              <a:xfrm>
                <a:off x="7730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02920" y="445068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724480" y="4812840"/>
              <a:ext cx="625680" cy="282600"/>
              <a:chOff x="2724480" y="4812840"/>
              <a:chExt cx="625680" cy="282600"/>
            </a:xfrm>
          </p:grpSpPr>
          <p:sp>
            <p:nvSpPr>
              <p:cNvPr id="681" name=""/>
              <p:cNvSpPr/>
              <p:nvPr/>
            </p:nvSpPr>
            <p:spPr>
              <a:xfrm>
                <a:off x="27244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7524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350160" y="4812840"/>
              <a:ext cx="625680" cy="282600"/>
              <a:chOff x="3350160" y="4812840"/>
              <a:chExt cx="625680" cy="282600"/>
            </a:xfrm>
          </p:grpSpPr>
          <p:sp>
            <p:nvSpPr>
              <p:cNvPr id="684" name=""/>
              <p:cNvSpPr/>
              <p:nvPr/>
            </p:nvSpPr>
            <p:spPr>
              <a:xfrm>
                <a:off x="335016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0092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976200" y="4812840"/>
              <a:ext cx="625680" cy="282600"/>
              <a:chOff x="3976200" y="4812840"/>
              <a:chExt cx="625680" cy="282600"/>
            </a:xfrm>
          </p:grpSpPr>
          <p:sp>
            <p:nvSpPr>
              <p:cNvPr id="687" name=""/>
              <p:cNvSpPr/>
              <p:nvPr/>
            </p:nvSpPr>
            <p:spPr>
              <a:xfrm>
                <a:off x="3976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2660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601880" y="4812840"/>
              <a:ext cx="625320" cy="282600"/>
              <a:chOff x="4601880" y="4812840"/>
              <a:chExt cx="625320" cy="282600"/>
            </a:xfrm>
          </p:grpSpPr>
          <p:sp>
            <p:nvSpPr>
              <p:cNvPr id="690" name=""/>
              <p:cNvSpPr/>
              <p:nvPr/>
            </p:nvSpPr>
            <p:spPr>
              <a:xfrm>
                <a:off x="4601880" y="48128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65228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227200" y="4812840"/>
              <a:ext cx="625680" cy="282600"/>
              <a:chOff x="5227200" y="4812840"/>
              <a:chExt cx="625680" cy="282600"/>
            </a:xfrm>
          </p:grpSpPr>
          <p:sp>
            <p:nvSpPr>
              <p:cNvPr id="693" name=""/>
              <p:cNvSpPr/>
              <p:nvPr/>
            </p:nvSpPr>
            <p:spPr>
              <a:xfrm>
                <a:off x="5227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7796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825880" y="4812840"/>
              <a:ext cx="678960" cy="282600"/>
              <a:chOff x="5825880" y="4812840"/>
              <a:chExt cx="678960" cy="282600"/>
            </a:xfrm>
          </p:grpSpPr>
          <p:sp>
            <p:nvSpPr>
              <p:cNvPr id="696" name=""/>
              <p:cNvSpPr/>
              <p:nvPr/>
            </p:nvSpPr>
            <p:spPr>
              <a:xfrm>
                <a:off x="58528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25880" y="48128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2724480" y="5174640"/>
              <a:ext cx="625680" cy="282600"/>
              <a:chOff x="2724480" y="5174640"/>
              <a:chExt cx="625680" cy="282600"/>
            </a:xfrm>
          </p:grpSpPr>
          <p:sp>
            <p:nvSpPr>
              <p:cNvPr id="699" name=""/>
              <p:cNvSpPr/>
              <p:nvPr/>
            </p:nvSpPr>
            <p:spPr>
              <a:xfrm>
                <a:off x="27244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752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350160" y="5174640"/>
              <a:ext cx="625680" cy="282600"/>
              <a:chOff x="3350160" y="5174640"/>
              <a:chExt cx="625680" cy="282600"/>
            </a:xfrm>
          </p:grpSpPr>
          <p:sp>
            <p:nvSpPr>
              <p:cNvPr id="702" name=""/>
              <p:cNvSpPr/>
              <p:nvPr/>
            </p:nvSpPr>
            <p:spPr>
              <a:xfrm>
                <a:off x="33501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40092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3976200" y="5174640"/>
              <a:ext cx="625680" cy="282600"/>
              <a:chOff x="3976200" y="5174640"/>
              <a:chExt cx="625680" cy="282600"/>
            </a:xfrm>
          </p:grpSpPr>
          <p:sp>
            <p:nvSpPr>
              <p:cNvPr id="705" name=""/>
              <p:cNvSpPr/>
              <p:nvPr/>
            </p:nvSpPr>
            <p:spPr>
              <a:xfrm>
                <a:off x="3976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02660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601880" y="5174640"/>
              <a:ext cx="625320" cy="282600"/>
              <a:chOff x="4601880" y="5174640"/>
              <a:chExt cx="625320" cy="282600"/>
            </a:xfrm>
          </p:grpSpPr>
          <p:sp>
            <p:nvSpPr>
              <p:cNvPr id="708" name=""/>
              <p:cNvSpPr/>
              <p:nvPr/>
            </p:nvSpPr>
            <p:spPr>
              <a:xfrm>
                <a:off x="4601880" y="51746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5228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227200" y="5174640"/>
              <a:ext cx="625680" cy="282600"/>
              <a:chOff x="5227200" y="5174640"/>
              <a:chExt cx="625680" cy="282600"/>
            </a:xfrm>
          </p:grpSpPr>
          <p:sp>
            <p:nvSpPr>
              <p:cNvPr id="711" name=""/>
              <p:cNvSpPr/>
              <p:nvPr/>
            </p:nvSpPr>
            <p:spPr>
              <a:xfrm>
                <a:off x="5227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7796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852880" y="5174640"/>
              <a:ext cx="625680" cy="282600"/>
              <a:chOff x="5852880" y="5174640"/>
              <a:chExt cx="625680" cy="282600"/>
            </a:xfrm>
          </p:grpSpPr>
          <p:sp>
            <p:nvSpPr>
              <p:cNvPr id="714" name=""/>
              <p:cNvSpPr/>
              <p:nvPr/>
            </p:nvSpPr>
            <p:spPr>
              <a:xfrm>
                <a:off x="58528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036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451200" y="5174640"/>
              <a:ext cx="678960" cy="282600"/>
              <a:chOff x="6451200" y="5174640"/>
              <a:chExt cx="678960" cy="282600"/>
            </a:xfrm>
          </p:grpSpPr>
          <p:sp>
            <p:nvSpPr>
              <p:cNvPr id="717" name=""/>
              <p:cNvSpPr/>
              <p:nvPr/>
            </p:nvSpPr>
            <p:spPr>
              <a:xfrm>
                <a:off x="64785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51200" y="51746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0BB1-7F8C-449F-997C-85DB208629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array of pointers to strings, to store sui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double scripted array (suit by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1-52 into the array to specify the order in which the cards are de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91120" y="4343400"/>
            <a:ext cx="5945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[2][12]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incho"/>
              </a:rPr>
              <a:t> represents the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-609480" y="1447920"/>
            <a:ext cx="128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0" y="2774880"/>
            <a:ext cx="9280440" cy="2355840"/>
            <a:chOff x="0" y="2774880"/>
            <a:chExt cx="9280440" cy="2355840"/>
          </a:xfrm>
        </p:grpSpPr>
        <p:sp>
          <p:nvSpPr>
            <p:cNvPr id="727" name=""/>
            <p:cNvSpPr/>
            <p:nvPr/>
          </p:nvSpPr>
          <p:spPr>
            <a:xfrm>
              <a:off x="101520" y="328932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Hea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1520" y="3533760"/>
              <a:ext cx="120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Diam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520" y="3779640"/>
              <a:ext cx="77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1520" y="402588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p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986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653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323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988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990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655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325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657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992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327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21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9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994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986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653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323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988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990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655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325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657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992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327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21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7659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994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86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653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323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988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990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655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325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657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992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327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21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659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86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653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323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988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990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655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325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657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992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27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321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659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994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60600" y="323532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60600" y="347976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60600" y="3725640"/>
              <a:ext cx="2379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60600" y="397188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994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4964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8280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1632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4984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8300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1652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5004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ev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8320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1672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5024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8340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1692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Qu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65044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462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797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129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464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799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131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466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801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133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468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9144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24960" y="2933640"/>
              <a:ext cx="41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5812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780960" y="3882960"/>
              <a:ext cx="160020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68" y="199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581280" y="4568040"/>
              <a:ext cx="99072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6" y="199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98960" y="4884840"/>
              <a:ext cx="76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0080" y="4873680"/>
              <a:ext cx="628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029200" y="4645080"/>
              <a:ext cx="4572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2"/>
                  </a:moveTo>
                  <a:lnTo>
                    <a:pt x="1991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58784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032F-00A0-4B83-853E-60613D7469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code for shuffling and de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38280" y="251460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320" y="2362320"/>
            <a:ext cx="21333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38280" y="426708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943600" y="1828800"/>
            <a:ext cx="3124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43600" y="4267080"/>
            <a:ext cx="31240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slot of the deck arra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481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-304920" y="2362320"/>
            <a:ext cx="23623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91440" anchor="t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suit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fac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deck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huffle the d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al 52 cards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1C34-B385-4870-9FA5-A4676F65BC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i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k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32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24: fig05_2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ard shuffling dealing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tim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[ 1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uit[ 4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"Hearts", "Diamonds", "Clubs", "Spades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face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"Ace", "Deuce", "Three", "Fou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"Five", "Six", "Seven", "Eigh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"Nine", "Ten", "Jack", "Queen", "King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ck[ 4 ][ 13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eal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3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Deck[][ 13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ow, colu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ard = 1; card &lt;= 52; card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row = rand() %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column = rand() % 1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}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 wDeck[ row ][ column ] !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wDeck[ row ][ column ] =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97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98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Deck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wFace[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98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99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99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ard = 1; card &lt;= 52; card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99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00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ow = 0; row &lt;= 3; row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00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olumn = 0; column &lt;= 12; colum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00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01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wDeck[ row ][ column ] == car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01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cout &lt;&lt; setw( 5 ) &lt;&lt; setiosflags( ios::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01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wFace[ column ] &lt;&lt; "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02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setw( 8 ) &lt;&lt; setiosflags( ios::lef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02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wSuit[ row ]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02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( card % 2 == 0 ? '\n' : '\t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2" name=""/>
          <p:cNvGrpSpPr/>
          <p:nvPr/>
        </p:nvGrpSpPr>
        <p:grpSpPr>
          <a:xfrm>
            <a:off x="2743200" y="685800"/>
            <a:ext cx="4343400" cy="1218960"/>
            <a:chOff x="2743200" y="685800"/>
            <a:chExt cx="4343400" cy="1218960"/>
          </a:xfrm>
        </p:grpSpPr>
        <p:sp>
          <p:nvSpPr>
            <p:cNvPr id="1033" name=""/>
            <p:cNvSpPr/>
            <p:nvPr/>
          </p:nvSpPr>
          <p:spPr>
            <a:xfrm>
              <a:off x="4419360" y="6858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numbers 1-52 are randomly placed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743200" y="12189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038120" y="4038480"/>
            <a:ext cx="4343760" cy="1371600"/>
            <a:chOff x="4038120" y="4038480"/>
            <a:chExt cx="4343760" cy="1371600"/>
          </a:xfrm>
        </p:grpSpPr>
        <p:sp>
          <p:nvSpPr>
            <p:cNvPr id="1036" name=""/>
            <p:cNvSpPr/>
            <p:nvPr/>
          </p:nvSpPr>
          <p:spPr>
            <a:xfrm>
              <a:off x="6019560" y="40384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umber, then prin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038120" y="441936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6705720" cy="483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Spades  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Hearts         Que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Clubs          Sev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Diamonds        Four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Diamonds         T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Diamonds         Six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Hearts         Thre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Spades           Six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Clubs          Eight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Diamonds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Spades         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Diamonds        Jack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Que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Clubs           King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King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Clubs           Nin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Hearts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Diamonds        Nin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Hearts  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Clubs 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Seven of Spa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the address of th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n array name is the address of its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8244-6BAC-4C02-8607-57CEBE8A00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ubbl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a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nction determines whether the the array is sorted into ascending or descending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rgumen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xpect a pointer to a function that takes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return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parentheses were left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*compare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declare a function that receives two integers and return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68C2-C47E-4654-A832-5F8ABD06AB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ompt for ascending or descending sor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ut appropriate function pointer into 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46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26: fig05_2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ultipurpose sorting program using function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*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Size 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rde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counte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a[ array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1 to sort in ascending order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Enter 2 to sort in descending ord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or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Data items in original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counter = 0; counter &lt; array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setw( 4 ) &lt;&lt; a[ counter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order == 1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bubble( a, arraySize, a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\nData items in a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8" name=""/>
          <p:cNvGrpSpPr/>
          <p:nvPr/>
        </p:nvGrpSpPr>
        <p:grpSpPr>
          <a:xfrm>
            <a:off x="4038480" y="1371600"/>
            <a:ext cx="2895840" cy="990720"/>
            <a:chOff x="4038480" y="1371600"/>
            <a:chExt cx="2895840" cy="990720"/>
          </a:xfrm>
        </p:grpSpPr>
        <p:sp>
          <p:nvSpPr>
            <p:cNvPr id="1149" name=""/>
            <p:cNvSpPr/>
            <p:nvPr/>
          </p:nvSpPr>
          <p:spPr>
            <a:xfrm flipH="1">
              <a:off x="4038480" y="19051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95680" y="13716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function pointer parame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their val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 variables contain a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the address of a variable that has a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 a point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dicates variable is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pointer to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multiple aste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495680" y="2743200"/>
            <a:ext cx="1749600" cy="549360"/>
            <a:chOff x="4495680" y="2743200"/>
            <a:chExt cx="1749600" cy="549360"/>
          </a:xfrm>
        </p:grpSpPr>
        <p:sp>
          <p:nvSpPr>
            <p:cNvPr id="95" name=""/>
            <p:cNvSpPr/>
            <p:nvPr/>
          </p:nvSpPr>
          <p:spPr>
            <a:xfrm>
              <a:off x="5746680" y="2743200"/>
              <a:ext cx="490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738760" y="2911680"/>
              <a:ext cx="506520" cy="380880"/>
              <a:chOff x="5738760" y="2911680"/>
              <a:chExt cx="506520" cy="380880"/>
            </a:xfrm>
          </p:grpSpPr>
          <p:sp>
            <p:nvSpPr>
              <p:cNvPr id="97" name=""/>
              <p:cNvSpPr/>
              <p:nvPr/>
            </p:nvSpPr>
            <p:spPr>
              <a:xfrm>
                <a:off x="5738760" y="2911680"/>
                <a:ext cx="50652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28480" y="3033360"/>
                <a:ext cx="125640" cy="165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495680" y="2743200"/>
              <a:ext cx="1243080" cy="549360"/>
              <a:chOff x="4495680" y="2743200"/>
              <a:chExt cx="1243080" cy="5493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495680" y="2743200"/>
                <a:ext cx="763560" cy="549360"/>
                <a:chOff x="4495680" y="2743200"/>
                <a:chExt cx="763560" cy="5493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495680" y="2743200"/>
                  <a:ext cx="76356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cou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624560" y="2911680"/>
                  <a:ext cx="50616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7" y="0"/>
                      </a:moveTo>
                      <a:lnTo>
                        <a:pt x="19967" y="19967"/>
                      </a:lnTo>
                      <a:lnTo>
                        <a:pt x="0" y="19967"/>
                      </a:lnTo>
                      <a:lnTo>
                        <a:pt x="0" y="0"/>
                      </a:lnTo>
                      <a:lnTo>
                        <a:pt x="19967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826160" y="3063960"/>
                  <a:ext cx="101520" cy="763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4929120" y="3105360"/>
                <a:ext cx="8096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05920" y="1676520"/>
            <a:ext cx="560160" cy="676080"/>
            <a:chOff x="8305920" y="1676520"/>
            <a:chExt cx="560160" cy="676080"/>
          </a:xfrm>
        </p:grpSpPr>
        <p:sp>
          <p:nvSpPr>
            <p:cNvPr id="109" name=""/>
            <p:cNvSpPr/>
            <p:nvPr/>
          </p:nvSpPr>
          <p:spPr>
            <a:xfrm>
              <a:off x="8313480" y="1676520"/>
              <a:ext cx="54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8305920" y="1882800"/>
              <a:ext cx="560160" cy="469800"/>
              <a:chOff x="8305920" y="1882800"/>
              <a:chExt cx="560160" cy="469800"/>
            </a:xfrm>
          </p:grpSpPr>
          <p:sp>
            <p:nvSpPr>
              <p:cNvPr id="111" name=""/>
              <p:cNvSpPr/>
              <p:nvPr/>
            </p:nvSpPr>
            <p:spPr>
              <a:xfrm>
                <a:off x="8305920" y="1882800"/>
                <a:ext cx="56016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15800" y="2032920"/>
                <a:ext cx="138960" cy="20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5CA7-157F-49C5-AF5C-1941DBFB38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5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bubble( a, arraySize, de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\nData items in de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counter = 0; counter &lt; array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setw( 4 ) &lt;&lt; a[ counter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ork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*compare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con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cons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ount = 0; count &lt; size - 1; cou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*compare)( work[ count ], work[ count + 1 ]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swap( &amp;work[ count ], &amp;work[ count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4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temp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4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element2Ptr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5" name=""/>
          <p:cNvGrpSpPr/>
          <p:nvPr/>
        </p:nvGrpSpPr>
        <p:grpSpPr>
          <a:xfrm>
            <a:off x="2057400" y="1905120"/>
            <a:ext cx="6477120" cy="2514600"/>
            <a:chOff x="2057400" y="1905120"/>
            <a:chExt cx="6477120" cy="2514600"/>
          </a:xfrm>
        </p:grpSpPr>
        <p:sp>
          <p:nvSpPr>
            <p:cNvPr id="1256" name=""/>
            <p:cNvSpPr/>
            <p:nvPr/>
          </p:nvSpPr>
          <p:spPr>
            <a:xfrm>
              <a:off x="5638680" y="1905120"/>
              <a:ext cx="2895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function call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057400" y="2286000"/>
              <a:ext cx="35812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2514600" y="3657600"/>
            <a:ext cx="6477120" cy="1797480"/>
            <a:chOff x="2514600" y="3657600"/>
            <a:chExt cx="6477120" cy="1797480"/>
          </a:xfrm>
        </p:grpSpPr>
        <p:sp>
          <p:nvSpPr>
            <p:cNvPr id="1259" name=""/>
            <p:cNvSpPr/>
            <p:nvPr/>
          </p:nvSpPr>
          <p:spPr>
            <a:xfrm>
              <a:off x="6248520" y="3657600"/>
              <a:ext cx="2743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 pointers are called using the dereferencing operator. 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required, but emphasiz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function pointer and not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514600" y="4038480"/>
              <a:ext cx="3733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1263" name=""/>
            <p:cNvGrpSpPr/>
            <p:nvPr/>
          </p:nvGrpSpPr>
          <p:grpSpPr>
            <a:xfrm>
              <a:off x="0" y="0"/>
              <a:ext cx="6780960" cy="327600"/>
              <a:chOff x="0" y="0"/>
              <a:chExt cx="6780960" cy="32760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327600"/>
              <a:ext cx="6780960" cy="327600"/>
              <a:chOff x="0" y="327600"/>
              <a:chExt cx="6780960" cy="32760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3276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3276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655200"/>
              <a:ext cx="6780960" cy="327600"/>
              <a:chOff x="0" y="655200"/>
              <a:chExt cx="6780960" cy="32760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6552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6552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982800"/>
              <a:ext cx="6780960" cy="327600"/>
              <a:chOff x="0" y="982800"/>
              <a:chExt cx="6780960" cy="32760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9828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9828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&l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wap if b is less than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1310760"/>
              <a:ext cx="6780960" cy="327600"/>
              <a:chOff x="0" y="1310760"/>
              <a:chExt cx="6780960" cy="32760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13107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13107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1638360"/>
              <a:ext cx="6780960" cy="327600"/>
              <a:chOff x="0" y="1638360"/>
              <a:chExt cx="6780960" cy="32760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16383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16383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1965960"/>
              <a:ext cx="6780960" cy="327600"/>
              <a:chOff x="0" y="1965960"/>
              <a:chExt cx="6780960" cy="32760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19659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19659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2293920"/>
              <a:ext cx="6780960" cy="327600"/>
              <a:chOff x="0" y="2293920"/>
              <a:chExt cx="6780960" cy="32760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22939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22939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2621520"/>
              <a:ext cx="6780960" cy="327600"/>
              <a:chOff x="0" y="2621520"/>
              <a:chExt cx="6780960" cy="3276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26215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26215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&g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wap if b is greater than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2949120"/>
              <a:ext cx="6780960" cy="327600"/>
              <a:chOff x="0" y="2949120"/>
              <a:chExt cx="6780960" cy="3276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29491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29491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3" name=""/>
          <p:cNvSpPr/>
          <p:nvPr/>
        </p:nvSpPr>
        <p:spPr>
          <a:xfrm>
            <a:off x="0" y="35053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of a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integer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2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on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clude letters, digits, special characters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double quotes,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like C+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characters, ends with null charac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constant pointers (like arra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ring is the address of its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AE09-53FA-4CD4-B877-9DA4DD074E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5 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(last ele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pointer to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lu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tores it somewhere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923F-FA9B-48EE-A71F-8911B06B86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input to charact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[ 20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or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uld exceed arra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etw( 20 ) &gt;&gt; wo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19 characters (space reserved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a line of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array, size, delimiter charac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6521-D6F1-4822-A730-6D95FF2155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nput into specified array until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ess than the size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limiter character is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entence[ 8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sentence, 80,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587A-2583-4FCF-B683-DB28E0DA01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handling librar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cstring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functio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e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ize strings (separate them into logical pie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charac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are compared using their characte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comparisons (greater than, less than, equal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iz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ing strings into tokens, separated by user-specifi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s are usually logical units, such as words (separated by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is is my string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4 word tokens (separated by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66B3-D8FB-4596-9FAE-6B3A8BBDFE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-handling Library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86000" y="3270240"/>
            <a:ext cx="4572000" cy="317520"/>
            <a:chOff x="2286000" y="3270240"/>
            <a:chExt cx="4572000" cy="317520"/>
          </a:xfrm>
        </p:grpSpPr>
        <p:sp>
          <p:nvSpPr>
            <p:cNvPr id="1307" name=""/>
            <p:cNvSpPr/>
            <p:nvPr/>
          </p:nvSpPr>
          <p:spPr>
            <a:xfrm>
              <a:off x="2286000" y="3270240"/>
              <a:ext cx="1270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56080" y="3270240"/>
              <a:ext cx="3301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09" name=""/>
          <p:cNvGraphicFramePr/>
          <p:nvPr/>
        </p:nvGraphicFramePr>
        <p:xfrm>
          <a:off x="533520" y="1143000"/>
          <a:ext cx="8153280" cy="5118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py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py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 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at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at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cmp( const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a value of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6F14-C74C-435A-B7B1-7D7B39D3A8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-handling Library (III)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11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435560"/>
                <a:gridCol w="37940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ncmp( const char *s1, const char *s2, size_t n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up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tok( char *s1, const char *s2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equence of calls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to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reaks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“tokens”—logical pieces such as words in a line of text—delimited by characters contained in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all contain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, and subsequent calls to continue tokenizing the same string cont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. A pointer to the current to­ken is returned by each call. If there are no more tokens when the function is called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_t strlen( const char *s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s the length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number of characters preceding the terminating null character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2D06-A14B-4F24-9A44-23D16CC0FEE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402D-00F4-41A4-BF7B-08134B8099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“points to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09480" y="4041720"/>
            <a:ext cx="7696080" cy="2348280"/>
            <a:chOff x="609480" y="4041720"/>
            <a:chExt cx="7696080" cy="2348280"/>
          </a:xfrm>
        </p:grpSpPr>
        <p:sp>
          <p:nvSpPr>
            <p:cNvPr id="118" name=""/>
            <p:cNvSpPr/>
            <p:nvPr/>
          </p:nvSpPr>
          <p:spPr>
            <a:xfrm>
              <a:off x="623880" y="5006880"/>
              <a:ext cx="550800" cy="330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46120" y="4618080"/>
              <a:ext cx="54936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4802400"/>
              <a:ext cx="1446120" cy="369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4811760"/>
              <a:ext cx="5778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2760" y="5138640"/>
              <a:ext cx="111240" cy="66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8640" y="4422960"/>
              <a:ext cx="182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28640" y="470376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429000" y="4346640"/>
              <a:ext cx="4876560" cy="685800"/>
              <a:chOff x="3429000" y="4346640"/>
              <a:chExt cx="4876560" cy="6858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429000" y="4346640"/>
                <a:ext cx="2059920" cy="685800"/>
                <a:chOff x="3429000" y="4346640"/>
                <a:chExt cx="2059920" cy="685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740840" y="4346640"/>
                  <a:ext cx="5155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3429000" y="4652640"/>
                  <a:ext cx="2059920" cy="379800"/>
                  <a:chOff x="3429000" y="4652640"/>
                  <a:chExt cx="2059920" cy="3798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42900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4182120" y="4652640"/>
                    <a:ext cx="1306800" cy="379800"/>
                    <a:chOff x="4182120" y="4652640"/>
                    <a:chExt cx="1306800" cy="37980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458240" y="471564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18212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6245640" y="4346640"/>
                <a:ext cx="2059920" cy="685800"/>
                <a:chOff x="6245640" y="4346640"/>
                <a:chExt cx="2059920" cy="6858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572240" y="4346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6245640" y="4652640"/>
                  <a:ext cx="2059920" cy="379800"/>
                  <a:chOff x="6245640" y="4652640"/>
                  <a:chExt cx="2059920" cy="3798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624564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998760" y="4652640"/>
                    <a:ext cx="1306800" cy="379800"/>
                    <a:chOff x="6998760" y="4652640"/>
                    <a:chExt cx="1306800" cy="37980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571880" y="471564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99876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0" name=""/>
            <p:cNvSpPr/>
            <p:nvPr/>
          </p:nvSpPr>
          <p:spPr>
            <a:xfrm>
              <a:off x="3352680" y="4041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3760" y="556596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 of y is value of 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324480" y="495612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952520" y="48798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BB58-25B2-4E82-9790-971A6A9FA5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value of what its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used to assign a value to a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7;      // changes y t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(opera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must be an lvalue (no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cel each other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&amp;myVar == my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*yPtr == 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543E-6A3C-459F-86C4-FB12FC7EF9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0"/>
            <a:ext cx="6780960" cy="4800600"/>
            <a:chOff x="0" y="0"/>
            <a:chExt cx="6780960" cy="4800600"/>
          </a:xfrm>
        </p:grpSpPr>
        <p:grpSp>
          <p:nvGrpSpPr>
            <p:cNvPr id="148" name=""/>
            <p:cNvGrpSpPr/>
            <p:nvPr/>
          </p:nvGrpSpPr>
          <p:grpSpPr>
            <a:xfrm>
              <a:off x="0" y="0"/>
              <a:ext cx="6780960" cy="198360"/>
              <a:chOff x="0" y="0"/>
              <a:chExt cx="6780960" cy="19836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0"/>
                <a:ext cx="6780960" cy="19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0"/>
                <a:ext cx="6780960" cy="19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4: fig05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198360"/>
              <a:ext cx="6780960" cy="183960"/>
              <a:chOff x="0" y="198360"/>
              <a:chExt cx="6780960" cy="18396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19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19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sing the &amp; and *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82320"/>
              <a:ext cx="6780960" cy="183960"/>
              <a:chOff x="0" y="382320"/>
              <a:chExt cx="6780960" cy="18396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82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82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566280"/>
              <a:ext cx="6780960" cy="183960"/>
              <a:chOff x="0" y="566280"/>
              <a:chExt cx="6780960" cy="18396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5662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662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750600"/>
              <a:ext cx="6780960" cy="183960"/>
              <a:chOff x="0" y="750600"/>
              <a:chExt cx="6780960" cy="18396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750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750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934560"/>
              <a:ext cx="6780960" cy="183960"/>
              <a:chOff x="0" y="934560"/>
              <a:chExt cx="6780960" cy="18396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934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934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1118520"/>
              <a:ext cx="6780960" cy="183960"/>
              <a:chOff x="0" y="1118520"/>
              <a:chExt cx="6780960" cy="18396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1185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11185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1302840"/>
              <a:ext cx="6780960" cy="183960"/>
              <a:chOff x="0" y="1302840"/>
              <a:chExt cx="6780960" cy="1839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1302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302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1486800"/>
              <a:ext cx="6780960" cy="183960"/>
              <a:chOff x="0" y="1486800"/>
              <a:chExt cx="6780960" cy="18396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1486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1486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1671120"/>
              <a:ext cx="6780960" cy="183960"/>
              <a:chOff x="0" y="1671120"/>
              <a:chExt cx="6780960" cy="1839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1671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1671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is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1855080"/>
              <a:ext cx="6780960" cy="183960"/>
              <a:chOff x="0" y="1855080"/>
              <a:chExt cx="6780960" cy="18396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1855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855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aPt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Ptr is a pointer to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2039040"/>
              <a:ext cx="6780960" cy="183960"/>
              <a:chOff x="0" y="2039040"/>
              <a:chExt cx="6780960" cy="18396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20390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0390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2223360"/>
              <a:ext cx="6780960" cy="183960"/>
              <a:chOff x="0" y="2223360"/>
              <a:chExt cx="6780960" cy="1839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2223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223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2407320"/>
              <a:ext cx="6780960" cy="183960"/>
              <a:chOff x="0" y="2407320"/>
              <a:chExt cx="6780960" cy="18396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2407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2407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Ptr = &amp;a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Ptr set to address of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2591640"/>
              <a:ext cx="6780960" cy="183960"/>
              <a:chOff x="0" y="2591640"/>
              <a:chExt cx="6780960" cy="1839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2591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591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2775600"/>
              <a:ext cx="6780960" cy="183960"/>
              <a:chOff x="0" y="2775600"/>
              <a:chExt cx="6780960" cy="1839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2775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2775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address of a is " &lt;&lt; &amp;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2959560"/>
              <a:ext cx="6780960" cy="183960"/>
              <a:chOff x="0" y="2959560"/>
              <a:chExt cx="6780960" cy="1839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2959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959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value of aPtr is " &lt;&lt; a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3143880"/>
              <a:ext cx="6780960" cy="183960"/>
              <a:chOff x="0" y="3143880"/>
              <a:chExt cx="6780960" cy="1839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31438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438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3327840"/>
              <a:ext cx="6780960" cy="183960"/>
              <a:chOff x="0" y="3327840"/>
              <a:chExt cx="6780960" cy="18396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3327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327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The value of a is " &lt;&lt;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3511800"/>
              <a:ext cx="6780960" cy="183960"/>
              <a:chOff x="0" y="3511800"/>
              <a:chExt cx="6780960" cy="1839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3511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511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value of *aPtr is " &lt;&lt; *a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3696120"/>
              <a:ext cx="6780960" cy="183960"/>
              <a:chOff x="0" y="3696120"/>
              <a:chExt cx="6780960" cy="1839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3696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696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880080"/>
              <a:ext cx="6780960" cy="183960"/>
              <a:chOff x="0" y="3880080"/>
              <a:chExt cx="6780960" cy="1839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880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880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howing that * and &amp; are inverses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4064400"/>
              <a:ext cx="6780960" cy="183960"/>
              <a:chOff x="0" y="4064400"/>
              <a:chExt cx="6780960" cy="18396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40644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0644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each other.\n&amp;*aPtr = " &lt;&lt; &amp;*a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4248360"/>
              <a:ext cx="6780960" cy="183960"/>
              <a:chOff x="0" y="4248360"/>
              <a:chExt cx="6780960" cy="1839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424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24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*&amp;aPtr = " &lt;&lt; *&amp;aPt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4432680"/>
              <a:ext cx="6780960" cy="183960"/>
              <a:chOff x="0" y="4432680"/>
              <a:chExt cx="6780960" cy="1839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44326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4326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4616640"/>
              <a:ext cx="6780960" cy="183960"/>
              <a:chOff x="0" y="4616640"/>
              <a:chExt cx="6780960" cy="1839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4616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4616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1447560" y="838080"/>
            <a:ext cx="4572360" cy="1523880"/>
            <a:chOff x="1447560" y="838080"/>
            <a:chExt cx="4572360" cy="1523880"/>
          </a:xfrm>
        </p:grpSpPr>
        <p:sp>
          <p:nvSpPr>
            <p:cNvPr id="227" name=""/>
            <p:cNvSpPr/>
            <p:nvPr/>
          </p:nvSpPr>
          <p:spPr>
            <a:xfrm>
              <a:off x="33526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447560" y="1142640"/>
              <a:ext cx="1904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190760" y="2104920"/>
            <a:ext cx="3124440" cy="1476360"/>
            <a:chOff x="4190760" y="2104920"/>
            <a:chExt cx="3124440" cy="1476360"/>
          </a:xfrm>
        </p:grpSpPr>
        <p:sp>
          <p:nvSpPr>
            <p:cNvPr id="230" name=""/>
            <p:cNvSpPr/>
            <p:nvPr/>
          </p:nvSpPr>
          <p:spPr>
            <a:xfrm>
              <a:off x="4724280" y="210492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 returns an alias to what its operand points to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i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190760" y="2743200"/>
              <a:ext cx="53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419360" y="3753000"/>
            <a:ext cx="3657960" cy="580680"/>
            <a:chOff x="4419360" y="3753000"/>
            <a:chExt cx="3657960" cy="580680"/>
          </a:xfrm>
        </p:grpSpPr>
        <p:sp>
          <p:nvSpPr>
            <p:cNvPr id="233" name=""/>
            <p:cNvSpPr/>
            <p:nvPr/>
          </p:nvSpPr>
          <p:spPr>
            <a:xfrm>
              <a:off x="6400800" y="3753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vers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19360" y="3981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ddress of a is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Ptr is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g that * and &amp; are inverse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*aPtr =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&amp;aPtr =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you to change actual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re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the array name is already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ubleNum( int *numbe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*number = 2 * ( *number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s nickname for the variable pass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called, must be passed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Num( &amp;myNum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58D8-59A6-410B-991D-D3DFB81B0B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- takes a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6780960" cy="4724280"/>
            <a:chOff x="0" y="0"/>
            <a:chExt cx="6780960" cy="4724280"/>
          </a:xfrm>
        </p:grpSpPr>
        <p:grpSp>
          <p:nvGrpSpPr>
            <p:cNvPr id="240" name=""/>
            <p:cNvGrpSpPr/>
            <p:nvPr/>
          </p:nvGrpSpPr>
          <p:grpSpPr>
            <a:xfrm>
              <a:off x="0" y="0"/>
              <a:ext cx="6780960" cy="196560"/>
              <a:chOff x="0" y="0"/>
              <a:chExt cx="6780960" cy="19656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7: fig05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196560"/>
              <a:ext cx="6780960" cy="196560"/>
              <a:chOff x="0" y="196560"/>
              <a:chExt cx="6780960" cy="19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96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96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ube a variable using call-by-referenc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393480"/>
              <a:ext cx="6780960" cy="196920"/>
              <a:chOff x="0" y="393480"/>
              <a:chExt cx="6780960" cy="19692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393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93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with a pointer argu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590400"/>
              <a:ext cx="6780960" cy="196560"/>
              <a:chOff x="0" y="590400"/>
              <a:chExt cx="6780960" cy="19656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590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90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787320"/>
              <a:ext cx="6780960" cy="196560"/>
              <a:chOff x="0" y="787320"/>
              <a:chExt cx="6780960" cy="1965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7873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7873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984240"/>
              <a:ext cx="6780960" cy="196560"/>
              <a:chOff x="0" y="984240"/>
              <a:chExt cx="6780960" cy="19656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9842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9842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1180800"/>
              <a:ext cx="6780960" cy="196920"/>
              <a:chOff x="0" y="1180800"/>
              <a:chExt cx="6780960" cy="19692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1180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1180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1377720"/>
              <a:ext cx="6780960" cy="196560"/>
              <a:chOff x="0" y="1377720"/>
              <a:chExt cx="6780960" cy="19656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1377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377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1574640"/>
              <a:ext cx="6780960" cy="196560"/>
              <a:chOff x="0" y="1574640"/>
              <a:chExt cx="6780960" cy="19656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1574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574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1771560"/>
              <a:ext cx="6780960" cy="196560"/>
              <a:chOff x="0" y="1771560"/>
              <a:chExt cx="6780960" cy="1965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1771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771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1968480"/>
              <a:ext cx="6780960" cy="196920"/>
              <a:chOff x="0" y="1968480"/>
              <a:chExt cx="6780960" cy="19692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1968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1968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2165400"/>
              <a:ext cx="6780960" cy="196560"/>
              <a:chOff x="0" y="2165400"/>
              <a:chExt cx="6780960" cy="1965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2165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2165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2361960"/>
              <a:ext cx="6780960" cy="196560"/>
              <a:chOff x="0" y="2361960"/>
              <a:chExt cx="6780960" cy="1965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2361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361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number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2558880"/>
              <a:ext cx="6780960" cy="196560"/>
              <a:chOff x="0" y="2558880"/>
              <a:chExt cx="6780960" cy="1965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2558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2558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2755800"/>
              <a:ext cx="6780960" cy="196920"/>
              <a:chOff x="0" y="2755800"/>
              <a:chExt cx="6780960" cy="19692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2755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2755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original value of number is " &lt;&lt;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2952720"/>
              <a:ext cx="6780960" cy="196560"/>
              <a:chOff x="0" y="2952720"/>
              <a:chExt cx="678096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2952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2952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ubeByReference(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3149640"/>
              <a:ext cx="6780960" cy="196560"/>
              <a:chOff x="0" y="3149640"/>
              <a:chExt cx="6780960" cy="19656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3149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3149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The new value of number is " &lt;&lt; numbe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3346200"/>
              <a:ext cx="6780960" cy="196560"/>
              <a:chOff x="0" y="3346200"/>
              <a:chExt cx="6780960" cy="19656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33462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33462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3543120"/>
              <a:ext cx="6780960" cy="196560"/>
              <a:chOff x="0" y="3543120"/>
              <a:chExt cx="6780960" cy="19656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35431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35431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3740040"/>
              <a:ext cx="6780960" cy="196920"/>
              <a:chOff x="0" y="3740040"/>
              <a:chExt cx="6780960" cy="19692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374004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74004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3936960"/>
              <a:ext cx="6780960" cy="196560"/>
              <a:chOff x="0" y="3936960"/>
              <a:chExt cx="6780960" cy="19656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936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936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n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4133880"/>
              <a:ext cx="6780960" cy="196560"/>
              <a:chOff x="0" y="4133880"/>
              <a:chExt cx="6780960" cy="19656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4133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4133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4330440"/>
              <a:ext cx="6780960" cy="196560"/>
              <a:chOff x="0" y="4330440"/>
              <a:chExt cx="6780960" cy="19656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43304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43304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nPtr = *nPtr * *nPtr * *n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ube number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4527360"/>
              <a:ext cx="6780960" cy="196920"/>
              <a:chOff x="0" y="4527360"/>
              <a:chExt cx="6780960" cy="1969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452736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452736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276720" y="3352680"/>
            <a:ext cx="4419360" cy="990720"/>
            <a:chOff x="3276720" y="3352680"/>
            <a:chExt cx="4419360" cy="990720"/>
          </a:xfrm>
        </p:grpSpPr>
        <p:sp>
          <p:nvSpPr>
            <p:cNvPr id="313" name=""/>
            <p:cNvSpPr/>
            <p:nvPr/>
          </p:nvSpPr>
          <p:spPr>
            <a:xfrm>
              <a:off x="4572000" y="335268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276720" y="365760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0" y="510552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42840" y="990720"/>
            <a:ext cx="4038840" cy="1981080"/>
            <a:chOff x="2742840" y="990720"/>
            <a:chExt cx="4038840" cy="1981080"/>
          </a:xfrm>
        </p:grpSpPr>
        <p:sp>
          <p:nvSpPr>
            <p:cNvPr id="317" name=""/>
            <p:cNvSpPr/>
            <p:nvPr/>
          </p:nvSpPr>
          <p:spPr>
            <a:xfrm flipH="1">
              <a:off x="2742840" y="205740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9880" y="9907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iven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pects a pointer (an address of a variable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6:08:17Z</dcterms:created>
  <dc:creator>kalid</dc:creator>
  <dc:description/>
  <dc:language>en-US</dc:language>
  <cp:lastModifiedBy>Antonella Esposito</cp:lastModifiedBy>
  <dcterms:modified xsi:type="dcterms:W3CDTF">2001-01-12T10:42:07Z</dcterms:modified>
  <cp:revision>321</cp:revision>
  <dc:subject/>
  <dc:title>PowerPoint Presentation</dc:title>
</cp:coreProperties>
</file>