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AD6B-F271-46DC-9D81-9CF87EF5B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CF25-8C6B-432F-A8C5-86A6E479D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57C6-9FB7-4159-A38C-87A89E0E9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9B16-6FE9-4CBC-8558-4DD912A6F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367C-376A-491A-A0B9-939097721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77E7-5CA5-4FC0-B488-56CAC7A76E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158F-F6FD-44A3-9059-2265E02F8D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98DD-0CA2-45B8-87BC-14D0B8E73D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620D-1317-4768-B0D6-03DDFF3E4D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3060-7857-4F35-B4E4-61145569EC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39AA-9229-497F-B4BC-8041FD15E1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C085-350E-45EC-88C5-0290ECBB0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5B0A-D66B-48DD-8AB1-7E57F25CC2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B49C-966E-4C9D-BB66-AA1C3CDC89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0A4C-8FBA-4900-BEEC-90EAA8E983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E9D9-E4E4-4A8B-98D4-3DE0D3BEF0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C266-97CA-48B6-9C4E-D5CA16C84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AACC-9FB5-41C3-99E1-D93A084E5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7D6F-DEAE-4F13-82FE-EA8E72A0E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4CCE-A1B5-4749-906E-C82942C59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6AE6-71AF-431F-B8C7-2F854031D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0A2A-C61A-409C-B829-72963E806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D275-31F1-499E-8F97-0B4488EDE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C1BA-B25E-422B-BD36-F8945C631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ED67-E3C8-4AAE-AD47-20628B88F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E496-31E9-4E78-8402-B78BAF45D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9 -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nheritance: Base Classes and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Memb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ting Base-Class Pointers to Derived-Class Point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Member Function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6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Overriding Base-Class Members in a Derived Clas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7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  <a:ea typeface="Times New Roman"/>
              </a:rPr>
              <a:t>Privat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8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Direct Base Classes and Indirect Base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9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Using Constructors and Destructors in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0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Implicit Derived-Class Object to Base-Class Object Conversion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1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Software Engineering with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2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omposition vs.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3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“Uses A” and “Knows A” Relationship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4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Case Study: Point, Circle, Cylinder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9.15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  <a:ea typeface="Times New Roman"/>
              </a:rPr>
              <a:t>Multiple Inheritance</a:t>
            </a:r>
            <a:r>
              <a:rPr b="1" lang="en-US" sz="1800" spc="-1" strike="noStrike">
                <a:solidFill>
                  <a:srgbClr val="e36969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A1CC-D20E-40B7-873B-696E46C211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216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Point (with overloaded stream insertion operato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" name=""/>
          <p:cNvGrpSpPr/>
          <p:nvPr/>
        </p:nvGrpSpPr>
        <p:grpSpPr>
          <a:xfrm>
            <a:off x="0" y="2133720"/>
            <a:ext cx="6780960" cy="4723920"/>
            <a:chOff x="0" y="2133720"/>
            <a:chExt cx="6780960" cy="4723920"/>
          </a:xfrm>
        </p:grpSpPr>
        <p:grpSp>
          <p:nvGrpSpPr>
            <p:cNvPr id="247" name=""/>
            <p:cNvGrpSpPr/>
            <p:nvPr/>
          </p:nvGrpSpPr>
          <p:grpSpPr>
            <a:xfrm>
              <a:off x="0" y="2133720"/>
              <a:ext cx="6780960" cy="224640"/>
              <a:chOff x="0" y="2133720"/>
              <a:chExt cx="6780960" cy="22464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1337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circle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2358360"/>
              <a:ext cx="6780960" cy="224640"/>
              <a:chOff x="0" y="2358360"/>
              <a:chExt cx="6780960" cy="22464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23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2583360"/>
              <a:ext cx="6780960" cy="225000"/>
              <a:chOff x="0" y="2583360"/>
              <a:chExt cx="6780960" cy="225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25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2808360"/>
              <a:ext cx="6780960" cy="224640"/>
              <a:chOff x="0" y="2808360"/>
              <a:chExt cx="6780960" cy="22464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28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3033360"/>
              <a:ext cx="6780960" cy="224640"/>
              <a:chOff x="0" y="3033360"/>
              <a:chExt cx="6780960" cy="22464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0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3258360"/>
              <a:ext cx="6780960" cy="224640"/>
              <a:chOff x="0" y="3258360"/>
              <a:chExt cx="6780960" cy="22464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2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3483360"/>
              <a:ext cx="6780960" cy="225000"/>
              <a:chOff x="0" y="3483360"/>
              <a:chExt cx="6780960" cy="2250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34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3708360"/>
              <a:ext cx="6780960" cy="224640"/>
              <a:chOff x="0" y="3708360"/>
              <a:chExt cx="6780960" cy="22464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37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3933360"/>
              <a:ext cx="6780960" cy="224640"/>
              <a:chOff x="0" y="3933360"/>
              <a:chExt cx="6780960" cy="22464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39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4158360"/>
              <a:ext cx="6780960" cy="224640"/>
              <a:chOff x="0" y="4158360"/>
              <a:chExt cx="6780960" cy="22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41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4383360"/>
              <a:ext cx="6780960" cy="225000"/>
              <a:chOff x="0" y="4383360"/>
              <a:chExt cx="6780960" cy="225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438336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4608360"/>
              <a:ext cx="6780960" cy="224640"/>
              <a:chOff x="0" y="4608360"/>
              <a:chExt cx="6780960" cy="22464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46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4833360"/>
              <a:ext cx="6780960" cy="224640"/>
              <a:chOff x="0" y="4833360"/>
              <a:chExt cx="6780960" cy="22464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48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5058360"/>
              <a:ext cx="6780960" cy="224640"/>
              <a:chOff x="0" y="5058360"/>
              <a:chExt cx="6780960" cy="22464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505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5283000"/>
              <a:ext cx="6780960" cy="225000"/>
              <a:chOff x="0" y="5283000"/>
              <a:chExt cx="6780960" cy="2250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283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5508360"/>
              <a:ext cx="6780960" cy="224640"/>
              <a:chOff x="0" y="5508360"/>
              <a:chExt cx="6780960" cy="22464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508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5733360"/>
              <a:ext cx="6780960" cy="224640"/>
              <a:chOff x="0" y="5733360"/>
              <a:chExt cx="6780960" cy="22464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573336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5958000"/>
              <a:ext cx="6780960" cy="224640"/>
              <a:chOff x="0" y="5958000"/>
              <a:chExt cx="6780960" cy="22464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5958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 inherits from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6183000"/>
              <a:ext cx="6780960" cy="224640"/>
              <a:chOff x="0" y="6183000"/>
              <a:chExt cx="6780960" cy="22464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618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6408000"/>
              <a:ext cx="6780960" cy="225000"/>
              <a:chOff x="0" y="6408000"/>
              <a:chExt cx="6780960" cy="22500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640800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6633000"/>
              <a:ext cx="6780960" cy="224640"/>
              <a:chOff x="0" y="6633000"/>
              <a:chExt cx="6780960" cy="22464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663300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362320" y="3889440"/>
            <a:ext cx="5410080" cy="2054160"/>
            <a:chOff x="2362320" y="3889440"/>
            <a:chExt cx="5410080" cy="2054160"/>
          </a:xfrm>
        </p:grpSpPr>
        <p:sp>
          <p:nvSpPr>
            <p:cNvPr id="311" name=""/>
            <p:cNvSpPr/>
            <p:nvPr/>
          </p:nvSpPr>
          <p:spPr>
            <a:xfrm>
              <a:off x="3581280" y="3889440"/>
              <a:ext cx="4191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ublicly inherits from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will have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functions and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362320" y="4724280"/>
              <a:ext cx="2286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3C7D-04EE-4247-88E1-23FAFA3627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ircle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6780960" cy="2742840"/>
            <a:chOff x="0" y="0"/>
            <a:chExt cx="6780960" cy="27428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1645920"/>
              <a:ext cx="6780960" cy="274320"/>
              <a:chOff x="0" y="1645920"/>
              <a:chExt cx="6780960" cy="27432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64592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64592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0" y="2468880"/>
                <a:ext cx="6780600" cy="273960"/>
                <a:chOff x="0" y="2468880"/>
                <a:chExt cx="6780600" cy="273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0" y="24688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0" y="24688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7" name=""/>
          <p:cNvGrpSpPr/>
          <p:nvPr/>
        </p:nvGrpSpPr>
        <p:grpSpPr>
          <a:xfrm>
            <a:off x="0" y="2743200"/>
            <a:ext cx="6780960" cy="4114800"/>
            <a:chOff x="0" y="2743200"/>
            <a:chExt cx="6780960" cy="4114800"/>
          </a:xfrm>
        </p:grpSpPr>
        <p:grpSp>
          <p:nvGrpSpPr>
            <p:cNvPr id="348" name=""/>
            <p:cNvGrpSpPr/>
            <p:nvPr/>
          </p:nvGrpSpPr>
          <p:grpSpPr>
            <a:xfrm>
              <a:off x="0" y="2743200"/>
              <a:ext cx="6780960" cy="293760"/>
              <a:chOff x="0" y="2743200"/>
              <a:chExt cx="6780960" cy="29376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7432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7432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circl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3036960"/>
              <a:ext cx="6780960" cy="293760"/>
              <a:chOff x="0" y="3036960"/>
              <a:chExt cx="6780960" cy="29376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30369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30369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3330720"/>
              <a:ext cx="6780960" cy="293760"/>
              <a:chOff x="0" y="3330720"/>
              <a:chExt cx="6780960" cy="29376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3330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3330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3624840"/>
              <a:ext cx="6780960" cy="293760"/>
              <a:chOff x="0" y="3624840"/>
              <a:chExt cx="6780960" cy="29376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36248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6248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3918600"/>
              <a:ext cx="6780960" cy="293760"/>
              <a:chOff x="0" y="3918600"/>
              <a:chExt cx="6780960" cy="29376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3918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918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4212720"/>
              <a:ext cx="6780960" cy="293760"/>
              <a:chOff x="0" y="4212720"/>
              <a:chExt cx="6780960" cy="29376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4212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42127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then initializes radiu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4506480"/>
              <a:ext cx="6780960" cy="293760"/>
              <a:chOff x="0" y="4506480"/>
              <a:chExt cx="6780960" cy="29376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4506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4506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4800600"/>
              <a:ext cx="6780960" cy="293760"/>
              <a:chOff x="0" y="4800600"/>
              <a:chExt cx="6780960" cy="29376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4800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480060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5094360"/>
              <a:ext cx="6780960" cy="293760"/>
              <a:chOff x="0" y="5094360"/>
              <a:chExt cx="6780960" cy="29376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5094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5094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5388480"/>
              <a:ext cx="6780960" cy="293760"/>
              <a:chOff x="0" y="5388480"/>
              <a:chExt cx="6780960" cy="29376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5388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538848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5682240"/>
              <a:ext cx="6780960" cy="293760"/>
              <a:chOff x="0" y="5682240"/>
              <a:chExt cx="6780960" cy="29376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5682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5682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5976360"/>
              <a:ext cx="6780960" cy="293760"/>
              <a:chOff x="0" y="5976360"/>
              <a:chExt cx="6780960" cy="29376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5976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597636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6270120"/>
              <a:ext cx="6780960" cy="293760"/>
              <a:chOff x="0" y="6270120"/>
              <a:chExt cx="6780960" cy="29376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62701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627012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6564240"/>
              <a:ext cx="6780960" cy="293760"/>
              <a:chOff x="0" y="6564240"/>
              <a:chExt cx="6780960" cy="29376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6564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6564240"/>
                <a:ext cx="6780960" cy="29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4190760" y="3124080"/>
            <a:ext cx="3886560" cy="1524240"/>
            <a:chOff x="4190760" y="3124080"/>
            <a:chExt cx="3886560" cy="1524240"/>
          </a:xfrm>
        </p:grpSpPr>
        <p:sp>
          <p:nvSpPr>
            <p:cNvPr id="391" name=""/>
            <p:cNvSpPr/>
            <p:nvPr/>
          </p:nvSpPr>
          <p:spPr>
            <a:xfrm>
              <a:off x="5257800" y="312408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data members (which are set by call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s constructo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190760" y="3429000"/>
              <a:ext cx="1066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9351-DCAF-4F15-8C05-B46CD7CE5B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riv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6780960" cy="3581280"/>
            <a:chOff x="0" y="0"/>
            <a:chExt cx="6780960" cy="358128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6780960" cy="198720"/>
              <a:chOff x="0" y="0"/>
              <a:chExt cx="6780960" cy="19872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198720"/>
              <a:ext cx="6780960" cy="198720"/>
              <a:chOff x="0" y="198720"/>
              <a:chExt cx="6780960" cy="19872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397800"/>
              <a:ext cx="6780960" cy="198720"/>
              <a:chOff x="0" y="397800"/>
              <a:chExt cx="6780960" cy="19872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397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596880"/>
              <a:ext cx="6780960" cy="198720"/>
              <a:chOff x="0" y="596880"/>
              <a:chExt cx="6780960" cy="19872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96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795600"/>
              <a:ext cx="6780960" cy="198720"/>
              <a:chOff x="0" y="795600"/>
              <a:chExt cx="6780960" cy="19872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795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994680"/>
              <a:ext cx="6780960" cy="198720"/>
              <a:chOff x="0" y="994680"/>
              <a:chExt cx="6780960" cy="19872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994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1193760"/>
              <a:ext cx="6780960" cy="198720"/>
              <a:chOff x="0" y="1193760"/>
              <a:chExt cx="6780960" cy="1987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193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1392840"/>
              <a:ext cx="6780960" cy="198720"/>
              <a:chOff x="0" y="1392840"/>
              <a:chExt cx="6780960" cy="19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1392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591560"/>
              <a:ext cx="6780960" cy="198720"/>
              <a:chOff x="0" y="1591560"/>
              <a:chExt cx="6780960" cy="19872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591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790640"/>
              <a:ext cx="6780960" cy="198720"/>
              <a:chOff x="0" y="1790640"/>
              <a:chExt cx="6780960" cy="19872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790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1989360"/>
              <a:ext cx="6780960" cy="198720"/>
              <a:chOff x="0" y="1989360"/>
              <a:chExt cx="6780960" cy="19872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1989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2188440"/>
              <a:ext cx="6780960" cy="198720"/>
              <a:chOff x="0" y="2188440"/>
              <a:chExt cx="6780960" cy="19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2188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( 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2387520"/>
              <a:ext cx="6780960" cy="198720"/>
              <a:chOff x="0" y="2387520"/>
              <a:chExt cx="6780960" cy="19872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23875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2586600"/>
              <a:ext cx="6780960" cy="198720"/>
              <a:chOff x="0" y="2586600"/>
              <a:chExt cx="6780960" cy="19872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586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2785320"/>
              <a:ext cx="6780960" cy="198720"/>
              <a:chOff x="0" y="2785320"/>
              <a:chExt cx="6780960" cy="19872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2785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2984400"/>
              <a:ext cx="6780960" cy="198720"/>
              <a:chOff x="0" y="2984400"/>
              <a:chExt cx="6780960" cy="19872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2984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3183480"/>
              <a:ext cx="6780960" cy="198720"/>
              <a:chOff x="0" y="3183480"/>
              <a:chExt cx="6780960" cy="19872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1834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3382560"/>
              <a:ext cx="6780960" cy="198720"/>
              <a:chOff x="0" y="3382560"/>
              <a:chExt cx="6780960" cy="198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382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0" y="3581280"/>
            <a:ext cx="6780960" cy="3276720"/>
            <a:chOff x="0" y="3581280"/>
            <a:chExt cx="6780960" cy="3276720"/>
          </a:xfrm>
        </p:grpSpPr>
        <p:grpSp>
          <p:nvGrpSpPr>
            <p:cNvPr id="450" name=""/>
            <p:cNvGrpSpPr/>
            <p:nvPr/>
          </p:nvGrpSpPr>
          <p:grpSpPr>
            <a:xfrm>
              <a:off x="0" y="3581280"/>
              <a:ext cx="6780960" cy="218160"/>
              <a:chOff x="0" y="3581280"/>
              <a:chExt cx="6780960" cy="21816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581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fig09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799440"/>
              <a:ext cx="6780960" cy="218160"/>
              <a:chOff x="0" y="3799440"/>
              <a:chExt cx="6780960" cy="21816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799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ting base-class pointers to derived-class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017960"/>
              <a:ext cx="6780960" cy="218520"/>
              <a:chOff x="0" y="4017960"/>
              <a:chExt cx="6780960" cy="21852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0179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4236480"/>
              <a:ext cx="6780960" cy="218160"/>
              <a:chOff x="0" y="4236480"/>
              <a:chExt cx="6780960" cy="21816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42364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4455000"/>
              <a:ext cx="6780960" cy="218160"/>
              <a:chOff x="0" y="4455000"/>
              <a:chExt cx="6780960" cy="21816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4550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4673520"/>
              <a:ext cx="6780960" cy="218160"/>
              <a:chOff x="0" y="4673520"/>
              <a:chExt cx="6780960" cy="21816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6735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4891680"/>
              <a:ext cx="6780960" cy="218520"/>
              <a:chOff x="0" y="4891680"/>
              <a:chExt cx="6780960" cy="2185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4891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5110200"/>
              <a:ext cx="6780960" cy="218160"/>
              <a:chOff x="0" y="5110200"/>
              <a:chExt cx="6780960" cy="21816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110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5328720"/>
              <a:ext cx="6780960" cy="218160"/>
              <a:chOff x="0" y="5328720"/>
              <a:chExt cx="6780960" cy="21816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5328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5547240"/>
              <a:ext cx="6780960" cy="218160"/>
              <a:chOff x="0" y="5547240"/>
              <a:chExt cx="6780960" cy="21816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55472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5765760"/>
              <a:ext cx="6780960" cy="218520"/>
              <a:chOff x="0" y="5765760"/>
              <a:chExt cx="6780960" cy="2185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76576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5984280"/>
              <a:ext cx="6780960" cy="218160"/>
              <a:chOff x="0" y="5984280"/>
              <a:chExt cx="6780960" cy="21816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59842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6202800"/>
              <a:ext cx="6780960" cy="218160"/>
              <a:chOff x="0" y="6202800"/>
              <a:chExt cx="6780960" cy="21816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2028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6420960"/>
              <a:ext cx="6780960" cy="218160"/>
              <a:chOff x="0" y="6420960"/>
              <a:chExt cx="6780960" cy="21816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6420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6639480"/>
              <a:ext cx="6780960" cy="218520"/>
              <a:chOff x="0" y="6639480"/>
              <a:chExt cx="6780960" cy="2185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66394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*pointPtr = 0, p( 30, 5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0A1F-0D89-409E-8CE0-69F10925B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Assign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97" name=""/>
            <p:cNvGrpSpPr/>
            <p:nvPr/>
          </p:nvGrpSpPr>
          <p:grpSpPr>
            <a:xfrm>
              <a:off x="0" y="3200400"/>
              <a:ext cx="6780960" cy="3657240"/>
              <a:chOff x="0" y="3200400"/>
              <a:chExt cx="6780960" cy="36572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0" y="3200400"/>
                <a:ext cx="6780960" cy="261000"/>
                <a:chOff x="0" y="3200400"/>
                <a:chExt cx="6780960" cy="2610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0" y="3200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circlePtr):\n" &lt;&lt; *circlePt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0" y="3461400"/>
                <a:ext cx="6780960" cy="261000"/>
                <a:chOff x="0" y="3461400"/>
                <a:chExt cx="6780960" cy="2610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0" y="34614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c (via circlePtr)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0" y="3722760"/>
                <a:ext cx="6780960" cy="261360"/>
                <a:chOff x="0" y="3722760"/>
                <a:chExt cx="6780960" cy="2613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0" y="372276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0" y="3984120"/>
                <a:ext cx="6780960" cy="261000"/>
                <a:chOff x="0" y="3984120"/>
                <a:chExt cx="6780960" cy="2610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0" y="398412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0" y="4245480"/>
                <a:ext cx="6780960" cy="261000"/>
                <a:chOff x="0" y="4245480"/>
                <a:chExt cx="6780960" cy="2610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0" y="4245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ANGEROUS: Treat a Point as a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0" y="4506480"/>
                <a:ext cx="6780960" cy="261000"/>
                <a:chOff x="0" y="4506480"/>
                <a:chExt cx="6780960" cy="2610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0" y="45064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p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Point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0" y="4767840"/>
                <a:ext cx="6780960" cy="261360"/>
                <a:chOff x="0" y="4767840"/>
                <a:chExt cx="6780960" cy="2613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0" y="476784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0" y="5029200"/>
                <a:ext cx="6780960" cy="261000"/>
                <a:chOff x="0" y="5029200"/>
                <a:chExt cx="6780960" cy="2610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0" y="502920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0" y="5290560"/>
                <a:ext cx="6780960" cy="261000"/>
                <a:chOff x="0" y="5290560"/>
                <a:chExt cx="6780960" cy="2610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0" y="5290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0" y="5551560"/>
                <a:ext cx="6780960" cy="261000"/>
                <a:chOff x="0" y="5551560"/>
                <a:chExt cx="6780960" cy="26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0" y="555156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Point p (via *circlePtr):\n" &lt;&lt; *circle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0" y="5812920"/>
                <a:ext cx="6780960" cy="261360"/>
                <a:chOff x="0" y="5812920"/>
                <a:chExt cx="6780960" cy="2613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0" y="5812920"/>
                  <a:ext cx="6780960" cy="2613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\nArea of object circlePtr points to: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0" y="6074280"/>
                <a:ext cx="6780960" cy="261000"/>
                <a:chOff x="0" y="6074280"/>
                <a:chExt cx="6780960" cy="2610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0" y="607428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circlePtr-&gt;area()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0" y="6335640"/>
                <a:ext cx="6780960" cy="261000"/>
                <a:chOff x="0" y="6335640"/>
                <a:chExt cx="6780960" cy="2610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0" y="6335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0" y="6596640"/>
                <a:ext cx="6780960" cy="261000"/>
                <a:chOff x="0" y="6596640"/>
                <a:chExt cx="6780960" cy="2610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0" y="6596640"/>
                  <a:ext cx="6780960" cy="261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0" y="0"/>
              <a:ext cx="6780960" cy="3200040"/>
              <a:chOff x="0" y="0"/>
              <a:chExt cx="6780960" cy="320004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0" y="0"/>
                <a:ext cx="6780960" cy="266400"/>
                <a:chOff x="0" y="0"/>
                <a:chExt cx="6780960" cy="266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0" y="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 *circlePtr = 0, c( 2.7, 120, 89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0" y="266400"/>
                <a:ext cx="6780960" cy="266400"/>
                <a:chOff x="0" y="266400"/>
                <a:chExt cx="6780960" cy="2664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0" y="26640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0" y="533160"/>
                <a:ext cx="6780960" cy="266760"/>
                <a:chOff x="0" y="533160"/>
                <a:chExt cx="6780960" cy="26676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0" y="53316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p: " &lt;&lt; p &lt;&lt; "\nCircle c: " &lt;&lt; c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0" y="799920"/>
                <a:ext cx="6780960" cy="266400"/>
                <a:chOff x="0" y="799920"/>
                <a:chExt cx="6780960" cy="2664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0" y="7999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0" y="1066680"/>
                <a:ext cx="6780960" cy="266400"/>
                <a:chOff x="0" y="1066680"/>
                <a:chExt cx="6780960" cy="2664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0" y="106668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Point (see only the base class par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0" y="1333440"/>
                <a:ext cx="6780960" cy="266400"/>
                <a:chOff x="0" y="1333440"/>
                <a:chExt cx="6780960" cy="2664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0" y="13334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pointPtr = &amp;c;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assign address of Circle to poi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0" y="1600200"/>
                <a:ext cx="6780960" cy="266760"/>
                <a:chOff x="0" y="1600200"/>
                <a:chExt cx="6780960" cy="2667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0" y="160020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\nCircle c (via *pointPtr): "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0" y="1866960"/>
                <a:ext cx="6780960" cy="266400"/>
                <a:chOff x="0" y="1866960"/>
                <a:chExt cx="6780960" cy="2664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0" y="186696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*pointPtr &lt;&lt; '\n'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0" y="2133720"/>
                <a:ext cx="6780960" cy="266400"/>
                <a:chOff x="0" y="2133720"/>
                <a:chExt cx="6780960" cy="2664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0" y="21337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0" y="2400120"/>
                <a:ext cx="6780960" cy="266400"/>
                <a:chOff x="0" y="2400120"/>
                <a:chExt cx="6780960" cy="2664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0" y="240012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Treat a Circle as a Circle (with some castin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0" y="2666880"/>
                <a:ext cx="6780960" cy="266760"/>
                <a:chOff x="0" y="2666880"/>
                <a:chExt cx="6780960" cy="2667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0" y="2666880"/>
                  <a:ext cx="6780960" cy="2667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cast base-class pointer to derived-class poin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0" y="2933640"/>
                <a:ext cx="6780960" cy="266400"/>
                <a:chOff x="0" y="2933640"/>
                <a:chExt cx="6780960" cy="2664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2933640"/>
                  <a:ext cx="6780960" cy="266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Ptr =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static_ca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&lt; Circle * &gt;( pointPtr );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77" name=""/>
          <p:cNvGrpSpPr/>
          <p:nvPr/>
        </p:nvGrpSpPr>
        <p:grpSpPr>
          <a:xfrm>
            <a:off x="2057400" y="1600200"/>
            <a:ext cx="6629400" cy="3357720"/>
            <a:chOff x="2057400" y="1600200"/>
            <a:chExt cx="6629400" cy="3357720"/>
          </a:xfrm>
        </p:grpSpPr>
        <p:sp>
          <p:nvSpPr>
            <p:cNvPr id="578" name=""/>
            <p:cNvSpPr/>
            <p:nvPr/>
          </p:nvSpPr>
          <p:spPr>
            <a:xfrm>
              <a:off x="6248520" y="3276720"/>
              <a:ext cx="2438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sign derived-class poin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o base class poin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base class pointer only "sees" the base-class part of the object it points 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2057400" y="1600200"/>
              <a:ext cx="419112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647960" y="3123720"/>
            <a:ext cx="4115160" cy="3586320"/>
            <a:chOff x="4647960" y="3123720"/>
            <a:chExt cx="4115160" cy="3586320"/>
          </a:xfrm>
        </p:grpSpPr>
        <p:sp>
          <p:nvSpPr>
            <p:cNvPr id="581" name=""/>
            <p:cNvSpPr/>
            <p:nvPr/>
          </p:nvSpPr>
          <p:spPr>
            <a:xfrm>
              <a:off x="6324840" y="5028840"/>
              <a:ext cx="2438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st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 *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ssign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Pt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Pt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ll 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object to which it points) a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4647960" y="3123720"/>
              <a:ext cx="1676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352680" y="8380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87840" y="1905120"/>
            <a:ext cx="33811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3510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04920" y="2332080"/>
            <a:ext cx="3352680" cy="3002040"/>
            <a:chOff x="304920" y="2332080"/>
            <a:chExt cx="3352680" cy="3002040"/>
          </a:xfrm>
        </p:grpSpPr>
        <p:grpSp>
          <p:nvGrpSpPr>
            <p:cNvPr id="587" name=""/>
            <p:cNvGrpSpPr/>
            <p:nvPr/>
          </p:nvGrpSpPr>
          <p:grpSpPr>
            <a:xfrm>
              <a:off x="304920" y="2332080"/>
              <a:ext cx="3352680" cy="2163600"/>
              <a:chOff x="304920" y="2332080"/>
              <a:chExt cx="3352680" cy="2163600"/>
            </a:xfrm>
          </p:grpSpPr>
          <p:sp>
            <p:nvSpPr>
              <p:cNvPr id="588" name=""/>
              <p:cNvSpPr/>
              <p:nvPr/>
            </p:nvSpPr>
            <p:spPr>
              <a:xfrm>
                <a:off x="304920" y="2332080"/>
                <a:ext cx="3352680" cy="1924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ssig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bject.  It has no derived-class information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hen it is cast to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 *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really assigned to a base-class object with no derived-class information.  This is dangerou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1218960" y="42670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981080" y="4267080"/>
              <a:ext cx="7621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343400" y="60246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FD41-FA7C-4B6F-8692-8E2E864E96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678168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: [30, 5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: 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pointPtr): [120, 8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120, 89]; Radius = 2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c (via circlePtr): 22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 (via *circlePt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30, 50]; Radius =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of object circlePtr points to: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9E34-7FC0-4484-BD90-0621C728B7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5     Using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directly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ir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is a huge help in testing, debugging and correctly modify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3B9E-B149-4788-B407-4DB20295B0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6   Overriding Base-Class Members in a Derived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derived class, supply a new version of that function with the same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then mentioned by name in the derived class, the derived version is automatically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cope-resolution operator may be used to access the base class version from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E862-4C0D-475B-AA5F-4DEDCFD82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0"/>
            <a:ext cx="6780960" cy="3200400"/>
            <a:chOff x="0" y="0"/>
            <a:chExt cx="6780960" cy="3200400"/>
          </a:xfrm>
        </p:grpSpPr>
        <p:grpSp>
          <p:nvGrpSpPr>
            <p:cNvPr id="600" name=""/>
            <p:cNvGrpSpPr/>
            <p:nvPr/>
          </p:nvGrpSpPr>
          <p:grpSpPr>
            <a:xfrm>
              <a:off x="0" y="0"/>
              <a:ext cx="6780960" cy="199800"/>
              <a:chOff x="0" y="0"/>
              <a:chExt cx="6780960" cy="1998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emplo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199800"/>
              <a:ext cx="6780960" cy="199800"/>
              <a:chOff x="0" y="199800"/>
              <a:chExt cx="6780960" cy="19980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1998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399960"/>
              <a:ext cx="6780960" cy="199800"/>
              <a:chOff x="0" y="399960"/>
              <a:chExt cx="6780960" cy="19980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3999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600120"/>
              <a:ext cx="6780960" cy="199800"/>
              <a:chOff x="0" y="600120"/>
              <a:chExt cx="6780960" cy="19980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6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799920"/>
              <a:ext cx="6780960" cy="199800"/>
              <a:chOff x="0" y="799920"/>
              <a:chExt cx="6780960" cy="1998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7999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1000080"/>
              <a:ext cx="6780960" cy="199800"/>
              <a:chOff x="0" y="1000080"/>
              <a:chExt cx="6780960" cy="19980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10000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1199880"/>
              <a:ext cx="6780960" cy="199800"/>
              <a:chOff x="0" y="1199880"/>
              <a:chExt cx="6780960" cy="19980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11998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1400040"/>
              <a:ext cx="6780960" cy="199800"/>
              <a:chOff x="0" y="1400040"/>
              <a:chExt cx="6780960" cy="19980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14000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1600200"/>
              <a:ext cx="6780960" cy="199800"/>
              <a:chOff x="0" y="1600200"/>
              <a:chExt cx="6780960" cy="19980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6002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 first and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1800000"/>
              <a:ext cx="6780960" cy="199800"/>
              <a:chOff x="0" y="1800000"/>
              <a:chExt cx="6780960" cy="19980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8000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2000160"/>
              <a:ext cx="6780960" cy="199800"/>
              <a:chOff x="0" y="2000160"/>
              <a:chExt cx="6780960" cy="19980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200016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2200320"/>
              <a:ext cx="6780960" cy="199800"/>
              <a:chOff x="0" y="2200320"/>
              <a:chExt cx="6780960" cy="19980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2003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2400120"/>
              <a:ext cx="6780960" cy="199800"/>
              <a:chOff x="0" y="2400120"/>
              <a:chExt cx="6780960" cy="1998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0012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ynamically allocated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600280"/>
              <a:ext cx="6780960" cy="199800"/>
              <a:chOff x="0" y="2600280"/>
              <a:chExt cx="6780960" cy="1998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60028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800440"/>
              <a:ext cx="6780960" cy="199800"/>
              <a:chOff x="0" y="2800440"/>
              <a:chExt cx="6780960" cy="1998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80044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3000600"/>
              <a:ext cx="6780960" cy="199800"/>
              <a:chOff x="0" y="3000600"/>
              <a:chExt cx="6780960" cy="1998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3000600"/>
                <a:ext cx="6780960" cy="199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0" y="3000600"/>
                <a:ext cx="6780600" cy="199800"/>
                <a:chOff x="0" y="3000600"/>
                <a:chExt cx="6780600" cy="1998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0" y="3000600"/>
                  <a:ext cx="678060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0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651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emplo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9A82-CE88-4ACC-BC0D-6276099400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0" y="0"/>
            <a:ext cx="6705000" cy="3733920"/>
            <a:chOff x="0" y="0"/>
            <a:chExt cx="6705000" cy="3733920"/>
          </a:xfrm>
        </p:grpSpPr>
        <p:grpSp>
          <p:nvGrpSpPr>
            <p:cNvPr id="701" name=""/>
            <p:cNvGrpSpPr/>
            <p:nvPr/>
          </p:nvGrpSpPr>
          <p:grpSpPr>
            <a:xfrm>
              <a:off x="0" y="0"/>
              <a:ext cx="6705000" cy="207360"/>
              <a:chOff x="0" y="0"/>
              <a:chExt cx="6705000" cy="20736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207360"/>
              <a:ext cx="6705000" cy="207360"/>
              <a:chOff x="0" y="207360"/>
              <a:chExt cx="6705000" cy="20736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2073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414720"/>
              <a:ext cx="6705000" cy="207360"/>
              <a:chOff x="0" y="414720"/>
              <a:chExt cx="6705000" cy="20736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4147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622080"/>
              <a:ext cx="6705000" cy="207360"/>
              <a:chOff x="0" y="622080"/>
              <a:chExt cx="6705000" cy="20736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622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829800"/>
              <a:ext cx="6705000" cy="207360"/>
              <a:chOff x="0" y="829800"/>
              <a:chExt cx="6705000" cy="20736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829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1037160"/>
              <a:ext cx="6705000" cy="207360"/>
              <a:chOff x="0" y="1037160"/>
              <a:chExt cx="6705000" cy="20736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1037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1244520"/>
              <a:ext cx="6705000" cy="207360"/>
              <a:chOff x="0" y="1244520"/>
              <a:chExt cx="6705000" cy="20736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2445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451880"/>
              <a:ext cx="6705000" cy="207360"/>
              <a:chOff x="0" y="1451880"/>
              <a:chExt cx="6705000" cy="20736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451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1659600"/>
              <a:ext cx="6705000" cy="207360"/>
              <a:chOff x="0" y="1659600"/>
              <a:chExt cx="6705000" cy="20736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659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employee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1866960"/>
              <a:ext cx="6705000" cy="207360"/>
              <a:chOff x="0" y="1866960"/>
              <a:chExt cx="6705000" cy="20736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1866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074320"/>
              <a:ext cx="6705000" cy="207360"/>
              <a:chOff x="0" y="2074320"/>
              <a:chExt cx="6705000" cy="20736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0743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firstName &lt;&lt; ' ' &lt;&lt; lastNam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282040"/>
              <a:ext cx="6705000" cy="207360"/>
              <a:chOff x="0" y="2282040"/>
              <a:chExt cx="6705000" cy="2073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282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489400"/>
              <a:ext cx="6705000" cy="207360"/>
              <a:chOff x="0" y="2489400"/>
              <a:chExt cx="6705000" cy="20736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489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2696760"/>
              <a:ext cx="6705000" cy="207360"/>
              <a:chOff x="0" y="2696760"/>
              <a:chExt cx="6705000" cy="20736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26967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2904120"/>
              <a:ext cx="6705000" cy="207360"/>
              <a:chOff x="0" y="2904120"/>
              <a:chExt cx="6705000" cy="20736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904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111840"/>
              <a:ext cx="6705000" cy="207360"/>
              <a:chOff x="0" y="3111840"/>
              <a:chExt cx="6705000" cy="20736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111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319200"/>
              <a:ext cx="6705000" cy="207360"/>
              <a:chOff x="0" y="3319200"/>
              <a:chExt cx="6705000" cy="20736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319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laim dynamic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3526560"/>
              <a:ext cx="6705000" cy="207360"/>
              <a:chOff x="0" y="3526560"/>
              <a:chExt cx="6705000" cy="20736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35265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0" y="3733920"/>
            <a:ext cx="6705000" cy="3124080"/>
            <a:chOff x="0" y="3733920"/>
            <a:chExt cx="6705000" cy="3124080"/>
          </a:xfrm>
        </p:grpSpPr>
        <p:grpSp>
          <p:nvGrpSpPr>
            <p:cNvPr id="756" name=""/>
            <p:cNvGrpSpPr/>
            <p:nvPr/>
          </p:nvGrpSpPr>
          <p:grpSpPr>
            <a:xfrm>
              <a:off x="0" y="3733920"/>
              <a:ext cx="6705000" cy="240120"/>
              <a:chOff x="0" y="3733920"/>
              <a:chExt cx="6705000" cy="240120"/>
            </a:xfrm>
          </p:grpSpPr>
          <p:sp>
            <p:nvSpPr>
              <p:cNvPr id="757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3733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hourly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0" y="3974040"/>
              <a:ext cx="6705000" cy="240120"/>
              <a:chOff x="0" y="3974040"/>
              <a:chExt cx="6705000" cy="240120"/>
            </a:xfrm>
          </p:grpSpPr>
          <p:sp>
            <p:nvSpPr>
              <p:cNvPr id="760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39740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0" y="4214160"/>
              <a:ext cx="6705000" cy="240120"/>
              <a:chOff x="0" y="4214160"/>
              <a:chExt cx="6705000" cy="240120"/>
            </a:xfrm>
          </p:grpSpPr>
          <p:sp>
            <p:nvSpPr>
              <p:cNvPr id="763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42141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0" y="4454640"/>
              <a:ext cx="6705000" cy="240120"/>
              <a:chOff x="0" y="4454640"/>
              <a:chExt cx="6705000" cy="2401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44546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0" y="4695120"/>
              <a:ext cx="6705000" cy="240120"/>
              <a:chOff x="0" y="4695120"/>
              <a:chExt cx="6705000" cy="240120"/>
            </a:xfrm>
          </p:grpSpPr>
          <p:sp>
            <p:nvSpPr>
              <p:cNvPr id="769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4695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0" y="4935240"/>
              <a:ext cx="6705000" cy="240120"/>
              <a:chOff x="0" y="4935240"/>
              <a:chExt cx="6705000" cy="240120"/>
            </a:xfrm>
          </p:grpSpPr>
          <p:sp>
            <p:nvSpPr>
              <p:cNvPr id="772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935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0" y="5175720"/>
              <a:ext cx="6705000" cy="240120"/>
              <a:chOff x="0" y="5175720"/>
              <a:chExt cx="6705000" cy="240120"/>
            </a:xfrm>
          </p:grpSpPr>
          <p:sp>
            <p:nvSpPr>
              <p:cNvPr id="775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5175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0" y="5416200"/>
              <a:ext cx="6705000" cy="240120"/>
              <a:chOff x="0" y="5416200"/>
              <a:chExt cx="6705000" cy="240120"/>
            </a:xfrm>
          </p:grpSpPr>
          <p:sp>
            <p:nvSpPr>
              <p:cNvPr id="778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5416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5656320"/>
              <a:ext cx="6705000" cy="240120"/>
              <a:chOff x="0" y="5656320"/>
              <a:chExt cx="6705000" cy="24012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5656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0" y="5896800"/>
              <a:ext cx="6705000" cy="240120"/>
              <a:chOff x="0" y="5896800"/>
              <a:chExt cx="6705000" cy="240120"/>
            </a:xfrm>
          </p:grpSpPr>
          <p:sp>
            <p:nvSpPr>
              <p:cNvPr id="784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5896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0" y="6136920"/>
              <a:ext cx="6705000" cy="240120"/>
              <a:chOff x="0" y="6136920"/>
              <a:chExt cx="6705000" cy="240120"/>
            </a:xfrm>
          </p:grpSpPr>
          <p:sp>
            <p:nvSpPr>
              <p:cNvPr id="787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61369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sal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0" y="6377400"/>
              <a:ext cx="6705000" cy="240120"/>
              <a:chOff x="0" y="6377400"/>
              <a:chExt cx="6705000" cy="240120"/>
            </a:xfrm>
          </p:grpSpPr>
          <p:sp>
            <p:nvSpPr>
              <p:cNvPr id="790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6377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den base-class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0" y="6617880"/>
              <a:ext cx="6705000" cy="240120"/>
              <a:chOff x="0" y="6617880"/>
              <a:chExt cx="6705000" cy="240120"/>
            </a:xfrm>
          </p:grpSpPr>
          <p:sp>
            <p:nvSpPr>
              <p:cNvPr id="793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6617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5" name=""/>
          <p:cNvGrpSpPr/>
          <p:nvPr/>
        </p:nvGrpSpPr>
        <p:grpSpPr>
          <a:xfrm>
            <a:off x="3809880" y="3976920"/>
            <a:ext cx="4724640" cy="1357200"/>
            <a:chOff x="3809880" y="3976920"/>
            <a:chExt cx="4724640" cy="1357200"/>
          </a:xfrm>
        </p:grpSpPr>
        <p:sp>
          <p:nvSpPr>
            <p:cNvPr id="796" name=""/>
            <p:cNvSpPr/>
            <p:nvPr/>
          </p:nvSpPr>
          <p:spPr>
            <a:xfrm flipV="1">
              <a:off x="6095880" y="397656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lyWork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809880" y="4114800"/>
              <a:ext cx="2286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14240" y="5181480"/>
            <a:ext cx="6324840" cy="1295640"/>
            <a:chOff x="2514240" y="5181480"/>
            <a:chExt cx="6324840" cy="1295640"/>
          </a:xfrm>
        </p:grpSpPr>
        <p:sp>
          <p:nvSpPr>
            <p:cNvPr id="799" name=""/>
            <p:cNvSpPr/>
            <p:nvPr/>
          </p:nvSpPr>
          <p:spPr>
            <a:xfrm>
              <a:off x="6019920" y="5181480"/>
              <a:ext cx="28191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lyWork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ll overrid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514240" y="5410080"/>
              <a:ext cx="3505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383B-7641-4781-8277-5229003F0D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0" y="0"/>
            <a:ext cx="6780960" cy="990720"/>
            <a:chOff x="0" y="0"/>
            <a:chExt cx="6780960" cy="990720"/>
          </a:xfrm>
        </p:grpSpPr>
        <p:grpSp>
          <p:nvGrpSpPr>
            <p:cNvPr id="803" name=""/>
            <p:cNvGrpSpPr/>
            <p:nvPr/>
          </p:nvGrpSpPr>
          <p:grpSpPr>
            <a:xfrm>
              <a:off x="0" y="0"/>
              <a:ext cx="6780960" cy="198000"/>
              <a:chOff x="0" y="0"/>
              <a:chExt cx="6780960" cy="1980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age per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98000"/>
              <a:ext cx="6780960" cy="198000"/>
              <a:chOff x="0" y="198000"/>
              <a:chExt cx="6780960" cy="1980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98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s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hours worked for wee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396000"/>
              <a:ext cx="6780960" cy="198000"/>
              <a:chOff x="0" y="396000"/>
              <a:chExt cx="6780960" cy="1980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39600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94360"/>
              <a:ext cx="6780960" cy="198000"/>
              <a:chOff x="0" y="594360"/>
              <a:chExt cx="6780960" cy="1980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9436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792720"/>
              <a:ext cx="6780960" cy="198000"/>
              <a:chOff x="0" y="792720"/>
              <a:chExt cx="6780960" cy="1980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792720"/>
                <a:ext cx="6780960" cy="198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"/>
          <p:cNvGrpSpPr/>
          <p:nvPr/>
        </p:nvGrpSpPr>
        <p:grpSpPr>
          <a:xfrm>
            <a:off x="0" y="990720"/>
            <a:ext cx="6780960" cy="5867280"/>
            <a:chOff x="0" y="990720"/>
            <a:chExt cx="6780960" cy="5867280"/>
          </a:xfrm>
        </p:grpSpPr>
        <p:grpSp>
          <p:nvGrpSpPr>
            <p:cNvPr id="819" name=""/>
            <p:cNvGrpSpPr/>
            <p:nvPr/>
          </p:nvGrpSpPr>
          <p:grpSpPr>
            <a:xfrm>
              <a:off x="0" y="990720"/>
              <a:ext cx="6780960" cy="217080"/>
              <a:chOff x="0" y="990720"/>
              <a:chExt cx="6780960" cy="21708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990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hourly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1207800"/>
              <a:ext cx="6780960" cy="217080"/>
              <a:chOff x="0" y="1207800"/>
              <a:chExt cx="6780960" cy="21708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12078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1425240"/>
              <a:ext cx="6780960" cy="217080"/>
              <a:chOff x="0" y="1425240"/>
              <a:chExt cx="6780960" cy="21708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1425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1642680"/>
              <a:ext cx="6780960" cy="217080"/>
              <a:chOff x="0" y="1642680"/>
              <a:chExt cx="6780960" cy="21708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1642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1859760"/>
              <a:ext cx="6780960" cy="217080"/>
              <a:chOff x="0" y="1859760"/>
              <a:chExt cx="6780960" cy="21708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18597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2077200"/>
              <a:ext cx="6780960" cy="217080"/>
              <a:chOff x="0" y="2077200"/>
              <a:chExt cx="6780960" cy="21708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77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2294280"/>
              <a:ext cx="6780960" cy="217080"/>
              <a:chOff x="0" y="2294280"/>
              <a:chExt cx="6780960" cy="21708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2942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2511720"/>
              <a:ext cx="6780960" cy="217080"/>
              <a:chOff x="0" y="2511720"/>
              <a:chExt cx="6780960" cy="21708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25117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2729160"/>
              <a:ext cx="6780960" cy="217080"/>
              <a:chOff x="0" y="2729160"/>
              <a:chExt cx="6780960" cy="21708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27291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2946240"/>
              <a:ext cx="6780960" cy="217080"/>
              <a:chOff x="0" y="2946240"/>
              <a:chExt cx="6780960" cy="21708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29462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3163680"/>
              <a:ext cx="6780960" cy="217080"/>
              <a:chOff x="0" y="3163680"/>
              <a:chExt cx="6780960" cy="21708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31636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3381120"/>
              <a:ext cx="6780960" cy="217080"/>
              <a:chOff x="0" y="3381120"/>
              <a:chExt cx="6780960" cy="21708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3381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3598200"/>
              <a:ext cx="6780960" cy="217080"/>
              <a:chOff x="0" y="3598200"/>
              <a:chExt cx="6780960" cy="21708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982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3815640"/>
              <a:ext cx="6780960" cy="217080"/>
              <a:chOff x="0" y="3815640"/>
              <a:chExt cx="6780960" cy="21708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38156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4033080"/>
              <a:ext cx="6780960" cy="217080"/>
              <a:chOff x="0" y="4033080"/>
              <a:chExt cx="6780960" cy="21708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4033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4250520"/>
              <a:ext cx="6780960" cy="217080"/>
              <a:chOff x="0" y="4250520"/>
              <a:chExt cx="6780960" cy="21708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4250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HourlyWork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4467600"/>
              <a:ext cx="6780960" cy="217080"/>
              <a:chOff x="0" y="4467600"/>
              <a:chExt cx="6780960" cy="21708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4467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::HourlyWork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4685040"/>
              <a:ext cx="6780960" cy="217080"/>
              <a:chOff x="0" y="4685040"/>
              <a:chExt cx="6780960" cy="21708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4685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4902120"/>
              <a:ext cx="6780960" cy="217080"/>
              <a:chOff x="0" y="4902120"/>
              <a:chExt cx="6780960" cy="21708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49021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Hour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itWag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5119560"/>
              <a:ext cx="6780960" cy="217080"/>
              <a:chOff x="0" y="5119560"/>
              <a:chExt cx="6780960" cy="21708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511956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Employee( first, last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5337000"/>
              <a:ext cx="6780960" cy="217080"/>
              <a:chOff x="0" y="5337000"/>
              <a:chExt cx="6780960" cy="21708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3370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5554080"/>
              <a:ext cx="6780960" cy="217080"/>
              <a:chOff x="0" y="5554080"/>
              <a:chExt cx="6780960" cy="21708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55540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s = initHour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5771520"/>
              <a:ext cx="6780960" cy="217080"/>
              <a:chOff x="0" y="5771520"/>
              <a:chExt cx="6780960" cy="21708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57715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ge = initWag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5988600"/>
              <a:ext cx="6780960" cy="217080"/>
              <a:chOff x="0" y="5988600"/>
              <a:chExt cx="6780960" cy="21708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598860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6206040"/>
              <a:ext cx="6780960" cy="217080"/>
              <a:chOff x="0" y="6206040"/>
              <a:chExt cx="6780960" cy="21708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620604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6423480"/>
              <a:ext cx="6780960" cy="217080"/>
              <a:chOff x="0" y="6423480"/>
              <a:chExt cx="6780960" cy="21708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642348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lyWorker's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6640920"/>
              <a:ext cx="6780960" cy="217080"/>
              <a:chOff x="0" y="6640920"/>
              <a:chExt cx="6780960" cy="21708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6640920"/>
                <a:ext cx="6780960" cy="217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getPa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age * hour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00FB-95CF-458B-85A3-D6057BE4B3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 classes created from existing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sorb attributes and behavi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hat inherits data members and member functions from a previously defined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inherit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on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inherit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inherits from multiple bas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s of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: Derived objects are accessible by the base 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: Derived objects are inaccessible by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: Derived classes and friends can access protected members of the 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07C8-9C63-4AC8-8C94-263EDB0DC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902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HourlyWorker's name and p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lyWorker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lyWorker::print() is executing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::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print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is an hourly worker with pay of $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2 ) &lt;&lt; getPay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" name=""/>
          <p:cNvGrpSpPr/>
          <p:nvPr/>
        </p:nvGrpSpPr>
        <p:grpSpPr>
          <a:xfrm>
            <a:off x="0" y="2895480"/>
            <a:ext cx="6780960" cy="3353040"/>
            <a:chOff x="0" y="2895480"/>
            <a:chExt cx="6780960" cy="3353040"/>
          </a:xfrm>
        </p:grpSpPr>
        <p:grpSp>
          <p:nvGrpSpPr>
            <p:cNvPr id="936" name=""/>
            <p:cNvGrpSpPr/>
            <p:nvPr/>
          </p:nvGrpSpPr>
          <p:grpSpPr>
            <a:xfrm>
              <a:off x="0" y="2895480"/>
              <a:ext cx="6780960" cy="304560"/>
              <a:chOff x="0" y="2895480"/>
              <a:chExt cx="6780960" cy="30456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28954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5: fig09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3200040"/>
              <a:ext cx="6780960" cy="304560"/>
              <a:chOff x="0" y="3200040"/>
              <a:chExt cx="6780960" cy="30456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320004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verriding a base-class member function in 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3504960"/>
              <a:ext cx="6780960" cy="304920"/>
              <a:chOff x="0" y="3504960"/>
              <a:chExt cx="6780960" cy="3049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350496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3809880"/>
              <a:ext cx="6780960" cy="304560"/>
              <a:chOff x="0" y="3809880"/>
              <a:chExt cx="6780960" cy="30456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38098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hourly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4114800"/>
              <a:ext cx="6780960" cy="304560"/>
              <a:chOff x="0" y="4114800"/>
              <a:chExt cx="6780960" cy="30456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1148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4419360"/>
              <a:ext cx="6780960" cy="304560"/>
              <a:chOff x="0" y="4419360"/>
              <a:chExt cx="6780960" cy="30456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441936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4724280"/>
              <a:ext cx="6780960" cy="304920"/>
              <a:chOff x="0" y="4724280"/>
              <a:chExt cx="6780960" cy="3049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472428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5029200"/>
              <a:ext cx="6780960" cy="304560"/>
              <a:chOff x="0" y="5029200"/>
              <a:chExt cx="6780960" cy="30456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502920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lyWorker h( "Bob", "Smith", 40.0, 10.0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5334120"/>
              <a:ext cx="6780960" cy="304560"/>
              <a:chOff x="0" y="5334120"/>
              <a:chExt cx="6780960" cy="30456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533412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5638680"/>
              <a:ext cx="6780960" cy="304560"/>
              <a:chOff x="0" y="5638680"/>
              <a:chExt cx="6780960" cy="30456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638680"/>
                <a:ext cx="678096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5943600"/>
              <a:ext cx="6780960" cy="304920"/>
              <a:chOff x="0" y="5943600"/>
              <a:chExt cx="6780960" cy="3049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5943600"/>
                <a:ext cx="678096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0" y="62182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lyWorker::print() is exec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b Smith is an hourly worker with pay of $400.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1981080" y="914040"/>
            <a:ext cx="6705720" cy="3614760"/>
            <a:chOff x="1981080" y="914040"/>
            <a:chExt cx="6705720" cy="3614760"/>
          </a:xfrm>
        </p:grpSpPr>
        <p:grpSp>
          <p:nvGrpSpPr>
            <p:cNvPr id="971" name=""/>
            <p:cNvGrpSpPr/>
            <p:nvPr/>
          </p:nvGrpSpPr>
          <p:grpSpPr>
            <a:xfrm>
              <a:off x="3276360" y="914040"/>
              <a:ext cx="5410440" cy="3614760"/>
              <a:chOff x="3276360" y="914040"/>
              <a:chExt cx="5410440" cy="3614760"/>
            </a:xfrm>
          </p:grpSpPr>
          <p:sp>
            <p:nvSpPr>
              <p:cNvPr id="972" name=""/>
              <p:cNvSpPr/>
              <p:nvPr/>
            </p:nvSpPr>
            <p:spPr>
              <a:xfrm>
                <a:off x="6095880" y="2514600"/>
                <a:ext cx="2590920" cy="2014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 is overriden in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HourlyWorke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 However, the new function still can call the origina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function using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 flipV="1">
                <a:off x="3276360" y="914040"/>
                <a:ext cx="281916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 flipH="1" flipV="1">
              <a:off x="1981080" y="1676520"/>
              <a:ext cx="41148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3C25-D7E3-470D-A7FE-3148AED18A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7   public, private, and protecte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-304920" y="1219320"/>
          <a:ext cx="9525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525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CD08-9681-4AD6-93BC-0F61A2707D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8   Direct and Indirect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listed derived class’s header with the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notation when that derived class is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sted in derived class’s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ed from two or more levels up the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CB0D-E9DD-44DD-8333-E17BE051DC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  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base class’s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s and assignment operators, however, can call base-class constructors and 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235A-7EF6-4AD1-AC90-2CAA9CC2D8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9   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 are called in the reverse order of constructo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a 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D102-CDC6-41F4-9EA4-D97419E4E7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986" name=""/>
            <p:cNvGrpSpPr/>
            <p:nvPr/>
          </p:nvGrpSpPr>
          <p:grpSpPr>
            <a:xfrm>
              <a:off x="0" y="0"/>
              <a:ext cx="6705000" cy="221760"/>
              <a:chOff x="0" y="0"/>
              <a:chExt cx="6705000" cy="22176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221760"/>
              <a:ext cx="6705000" cy="239040"/>
              <a:chOff x="0" y="221760"/>
              <a:chExt cx="6705000" cy="23904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460800"/>
              <a:ext cx="6705000" cy="221760"/>
              <a:chOff x="0" y="460800"/>
              <a:chExt cx="6705000" cy="22176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682920"/>
              <a:ext cx="6705000" cy="221760"/>
              <a:chOff x="0" y="682920"/>
              <a:chExt cx="6705000" cy="22176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904680"/>
              <a:ext cx="6705000" cy="221760"/>
              <a:chOff x="0" y="904680"/>
              <a:chExt cx="6705000" cy="22176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126800"/>
              <a:ext cx="6705000" cy="221760"/>
              <a:chOff x="0" y="1126800"/>
              <a:chExt cx="6705000" cy="22176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1348560"/>
              <a:ext cx="6705000" cy="221760"/>
              <a:chOff x="0" y="1348560"/>
              <a:chExt cx="6705000" cy="22176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1570680"/>
              <a:ext cx="6705000" cy="221760"/>
              <a:chOff x="0" y="1570680"/>
              <a:chExt cx="6705000" cy="22176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1792440"/>
              <a:ext cx="6705000" cy="221760"/>
              <a:chOff x="0" y="1792440"/>
              <a:chExt cx="6705000" cy="22176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Point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2014560"/>
              <a:ext cx="6705000" cy="221760"/>
              <a:chOff x="0" y="2014560"/>
              <a:chExt cx="6705000" cy="22176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2236320"/>
              <a:ext cx="6705000" cy="221760"/>
              <a:chOff x="0" y="2236320"/>
              <a:chExt cx="6705000" cy="22176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2458440"/>
              <a:ext cx="6705000" cy="221760"/>
              <a:chOff x="0" y="2458440"/>
              <a:chExt cx="6705000" cy="22176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2680200"/>
              <a:ext cx="6705000" cy="221760"/>
              <a:chOff x="0" y="2680200"/>
              <a:chExt cx="6705000" cy="22176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2902320"/>
              <a:ext cx="6705000" cy="221760"/>
              <a:chOff x="0" y="2902320"/>
              <a:chExt cx="6705000" cy="22176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8" name=""/>
          <p:cNvGrpSpPr/>
          <p:nvPr/>
        </p:nvGrpSpPr>
        <p:grpSpPr>
          <a:xfrm>
            <a:off x="0" y="3124080"/>
            <a:ext cx="6705000" cy="3733920"/>
            <a:chOff x="0" y="3124080"/>
            <a:chExt cx="6705000" cy="3733920"/>
          </a:xfrm>
        </p:grpSpPr>
        <p:grpSp>
          <p:nvGrpSpPr>
            <p:cNvPr id="1029" name=""/>
            <p:cNvGrpSpPr/>
            <p:nvPr/>
          </p:nvGrpSpPr>
          <p:grpSpPr>
            <a:xfrm>
              <a:off x="0" y="3124080"/>
              <a:ext cx="6705000" cy="207360"/>
              <a:chOff x="0" y="3124080"/>
              <a:chExt cx="6705000" cy="20736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0" y="3331440"/>
              <a:ext cx="6705000" cy="207360"/>
              <a:chOff x="0" y="3331440"/>
              <a:chExt cx="6705000" cy="207360"/>
            </a:xfrm>
          </p:grpSpPr>
          <p:sp>
            <p:nvSpPr>
              <p:cNvPr id="1033" name="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0" y="3538800"/>
              <a:ext cx="6705000" cy="207360"/>
              <a:chOff x="0" y="3538800"/>
              <a:chExt cx="6705000" cy="207360"/>
            </a:xfrm>
          </p:grpSpPr>
          <p:sp>
            <p:nvSpPr>
              <p:cNvPr id="1036" name="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0" y="3746160"/>
              <a:ext cx="6705000" cy="207360"/>
              <a:chOff x="0" y="3746160"/>
              <a:chExt cx="6705000" cy="207360"/>
            </a:xfrm>
          </p:grpSpPr>
          <p:sp>
            <p:nvSpPr>
              <p:cNvPr id="1039" name="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0" y="3953880"/>
              <a:ext cx="6705000" cy="207360"/>
              <a:chOff x="0" y="3953880"/>
              <a:chExt cx="6705000" cy="207360"/>
            </a:xfrm>
          </p:grpSpPr>
          <p:sp>
            <p:nvSpPr>
              <p:cNvPr id="1042" name="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0" y="4161240"/>
              <a:ext cx="6705000" cy="207360"/>
              <a:chOff x="0" y="4161240"/>
              <a:chExt cx="6705000" cy="207360"/>
            </a:xfrm>
          </p:grpSpPr>
          <p:sp>
            <p:nvSpPr>
              <p:cNvPr id="1045" name="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0" y="4368600"/>
              <a:ext cx="6705000" cy="207360"/>
              <a:chOff x="0" y="4368600"/>
              <a:chExt cx="6705000" cy="207360"/>
            </a:xfrm>
          </p:grpSpPr>
          <p:sp>
            <p:nvSpPr>
              <p:cNvPr id="1048" name="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0" y="4575960"/>
              <a:ext cx="6705000" cy="207360"/>
              <a:chOff x="0" y="4575960"/>
              <a:chExt cx="6705000" cy="20736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783680"/>
              <a:ext cx="6705000" cy="207360"/>
              <a:chOff x="0" y="4783680"/>
              <a:chExt cx="6705000" cy="20736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4991040"/>
              <a:ext cx="6705000" cy="207360"/>
              <a:chOff x="0" y="4991040"/>
              <a:chExt cx="6705000" cy="20736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5198400"/>
              <a:ext cx="6705000" cy="207360"/>
              <a:chOff x="0" y="5198400"/>
              <a:chExt cx="6705000" cy="20736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5406120"/>
              <a:ext cx="6705000" cy="207360"/>
              <a:chOff x="0" y="5406120"/>
              <a:chExt cx="6705000" cy="20736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5613480"/>
              <a:ext cx="6705000" cy="207360"/>
              <a:chOff x="0" y="5613480"/>
              <a:chExt cx="6705000" cy="207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5820840"/>
              <a:ext cx="6705000" cy="207360"/>
              <a:chOff x="0" y="5820840"/>
              <a:chExt cx="6705000" cy="20736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6028200"/>
              <a:ext cx="6705000" cy="207360"/>
              <a:chOff x="0" y="6028200"/>
              <a:chExt cx="6705000" cy="20736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6235920"/>
              <a:ext cx="6705000" cy="207360"/>
              <a:chOff x="0" y="6235920"/>
              <a:chExt cx="6705000" cy="207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oint 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6443280"/>
              <a:ext cx="6705000" cy="207360"/>
              <a:chOff x="0" y="6443280"/>
              <a:chExt cx="6705000" cy="207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['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6650640"/>
              <a:ext cx="6705000" cy="207360"/>
              <a:chOff x="0" y="6650640"/>
              <a:chExt cx="6705000" cy="20736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36C8-B871-4F8D-83F5-A55AA13F28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85" name="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09" name="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1110" name="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4" name=""/>
          <p:cNvGrpSpPr/>
          <p:nvPr/>
        </p:nvGrpSpPr>
        <p:grpSpPr>
          <a:xfrm>
            <a:off x="3200040" y="3048120"/>
            <a:ext cx="4877280" cy="761760"/>
            <a:chOff x="3200040" y="3048120"/>
            <a:chExt cx="4877280" cy="761760"/>
          </a:xfrm>
        </p:grpSpPr>
        <p:sp>
          <p:nvSpPr>
            <p:cNvPr id="1165" name=""/>
            <p:cNvSpPr/>
            <p:nvPr/>
          </p:nvSpPr>
          <p:spPr>
            <a:xfrm>
              <a:off x="5638680" y="3048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200040" y="335268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3DF1-422D-4F4C-9CD5-D9D44C2559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69" name="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1" name=""/>
          <p:cNvGrpSpPr/>
          <p:nvPr/>
        </p:nvGrpSpPr>
        <p:grpSpPr>
          <a:xfrm>
            <a:off x="2209680" y="3276720"/>
            <a:ext cx="6553440" cy="1067400"/>
            <a:chOff x="2209680" y="3276720"/>
            <a:chExt cx="6553440" cy="1067400"/>
          </a:xfrm>
        </p:grpSpPr>
        <p:sp>
          <p:nvSpPr>
            <p:cNvPr id="1242" name=""/>
            <p:cNvSpPr/>
            <p:nvPr/>
          </p:nvSpPr>
          <p:spPr>
            <a:xfrm>
              <a:off x="6324480" y="327672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con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first.  Uses member-initializer synt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 flipV="1">
              <a:off x="2209680" y="327672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361960" y="5334120"/>
            <a:ext cx="6782040" cy="824040"/>
            <a:chOff x="2361960" y="5334120"/>
            <a:chExt cx="6782040" cy="824040"/>
          </a:xfrm>
        </p:grpSpPr>
        <p:sp>
          <p:nvSpPr>
            <p:cNvPr id="1245" name=""/>
            <p:cNvSpPr/>
            <p:nvPr/>
          </p:nvSpPr>
          <p:spPr>
            <a:xfrm>
              <a:off x="6705720" y="53341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lls de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2361960" y="5638680"/>
              <a:ext cx="4343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52FF-C403-4229-A279-FD0CCE25C0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1249" name="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7: fig0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1256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1259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1268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1274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1277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1283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1286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1289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1292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1295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1298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1304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1307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1313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1316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1319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"/>
          <p:cNvSpPr/>
          <p:nvPr/>
        </p:nvSpPr>
        <p:spPr>
          <a:xfrm>
            <a:off x="2819520" y="393696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676520" y="2438280"/>
            <a:ext cx="5181480" cy="1600200"/>
            <a:chOff x="1676520" y="2438280"/>
            <a:chExt cx="5181480" cy="1600200"/>
          </a:xfrm>
        </p:grpSpPr>
        <p:sp>
          <p:nvSpPr>
            <p:cNvPr id="1326" name=""/>
            <p:cNvSpPr/>
            <p:nvPr/>
          </p:nvSpPr>
          <p:spPr>
            <a:xfrm>
              <a:off x="3048120" y="2438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reated inside a block destroyed once it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1676520" y="27432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2819520" y="3657600"/>
            <a:ext cx="3962160" cy="2057400"/>
            <a:chOff x="2819520" y="3657600"/>
            <a:chExt cx="3962160" cy="2057400"/>
          </a:xfrm>
        </p:grpSpPr>
        <p:grpSp>
          <p:nvGrpSpPr>
            <p:cNvPr id="1329" name=""/>
            <p:cNvGrpSpPr/>
            <p:nvPr/>
          </p:nvGrpSpPr>
          <p:grpSpPr>
            <a:xfrm>
              <a:off x="2819520" y="4572000"/>
              <a:ext cx="1371240" cy="1143000"/>
              <a:chOff x="2819520" y="4572000"/>
              <a:chExt cx="1371240" cy="1143000"/>
            </a:xfrm>
          </p:grpSpPr>
          <p:sp>
            <p:nvSpPr>
              <p:cNvPr id="1330" name=""/>
              <p:cNvSpPr/>
              <p:nvPr/>
            </p:nvSpPr>
            <p:spPr>
              <a:xfrm flipH="1">
                <a:off x="2819520" y="4572000"/>
                <a:ext cx="1295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2971440" y="4572000"/>
                <a:ext cx="1219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4114800" y="3657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emb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is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s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structor (inside to ou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657600" y="4560840"/>
            <a:ext cx="457200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599840" y="5413320"/>
            <a:ext cx="5181840" cy="987480"/>
            <a:chOff x="1599840" y="5413320"/>
            <a:chExt cx="5181840" cy="987480"/>
          </a:xfrm>
        </p:grpSpPr>
        <p:sp>
          <p:nvSpPr>
            <p:cNvPr id="1335" name=""/>
            <p:cNvSpPr/>
            <p:nvPr/>
          </p:nvSpPr>
          <p:spPr>
            <a:xfrm>
              <a:off x="4114800" y="5413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tructor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structor (outside i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1599840" y="5943600"/>
              <a:ext cx="2514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3657600" y="556272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109D-1C64-4DE0-AF0C-4B4BD65ABC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2D0A-BF66-4072-813D-AEF23ECCBE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programs in a general fash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ndle a wide variety of existing (and unspecified) relat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ED9E-904D-4DDF-9EB5-DA3DBC8217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0  Implicit Derived-Class Object to Base-Class Object Convers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derived and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type and base-class type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a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has members corresponding to all of the base class’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has more members than the base-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can be assigned a derived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object cannot be treated as a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leave additional derived class members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annot be assigned a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 can be overloaded to allow such an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2EA4-5E0F-469E-92FF-61CC1D5DAD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0   Implicit Derived-Class Object to Base-Class Object Conve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ing base and derived class pointers and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base-class object with a base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derived-class object with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derived-class object with a base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can only refer to base-class members, or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ring to a base-class object with a derived-class poin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rived-class pointer must first be cast to a base-class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5406-CF19-4ECB-9286-E37D7B6E6B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1  Software Engineering With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re often closely rel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tor out” common attributes and behaviors and place these in a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inheritance to form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a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es do not change as long a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s are the sa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 classes may need to be recomp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9ECB-FC4C-4195-BEF7-1B378121416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2  Composition vs.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is derived from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contains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4A99-7068-4B5E-964D-EA4D970E30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3  “Uses A” And “Knows A” Relationship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bject issues a function call to a member function of anothe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s a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object is aware of an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a pointer or handle to anothe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an 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AA67-AF3C-45EC-8970-FE61475267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4  Case Study: Point, Circle, Cyl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9352-AEC2-4724-A09D-17236141C3B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0" y="0"/>
            <a:ext cx="6705000" cy="4419720"/>
            <a:chOff x="0" y="0"/>
            <a:chExt cx="6705000" cy="4419720"/>
          </a:xfrm>
        </p:grpSpPr>
        <p:grpSp>
          <p:nvGrpSpPr>
            <p:cNvPr id="1354" name=""/>
            <p:cNvGrpSpPr/>
            <p:nvPr/>
          </p:nvGrpSpPr>
          <p:grpSpPr>
            <a:xfrm>
              <a:off x="0" y="0"/>
              <a:ext cx="6705000" cy="210240"/>
              <a:chOff x="0" y="0"/>
              <a:chExt cx="6705000" cy="2102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8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10240"/>
              <a:ext cx="6705000" cy="210240"/>
              <a:chOff x="0" y="210240"/>
              <a:chExt cx="6705000" cy="2102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420840"/>
              <a:ext cx="6705000" cy="210240"/>
              <a:chOff x="0" y="420840"/>
              <a:chExt cx="6705000" cy="2102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631440"/>
              <a:ext cx="6705000" cy="210240"/>
              <a:chOff x="0" y="631440"/>
              <a:chExt cx="6705000" cy="2102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841680"/>
              <a:ext cx="6705000" cy="210240"/>
              <a:chOff x="0" y="841680"/>
              <a:chExt cx="6705000" cy="2102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1052280"/>
              <a:ext cx="6705000" cy="210240"/>
              <a:chOff x="0" y="1052280"/>
              <a:chExt cx="6705000" cy="2102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1262520"/>
              <a:ext cx="6705000" cy="210240"/>
              <a:chOff x="0" y="1262520"/>
              <a:chExt cx="6705000" cy="2102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1473120"/>
              <a:ext cx="6705000" cy="210240"/>
              <a:chOff x="0" y="1473120"/>
              <a:chExt cx="6705000" cy="2102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1683720"/>
              <a:ext cx="6705000" cy="210240"/>
              <a:chOff x="0" y="1683720"/>
              <a:chExt cx="6705000" cy="2102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1893960"/>
              <a:ext cx="6705000" cy="210240"/>
              <a:chOff x="0" y="1893960"/>
              <a:chExt cx="6705000" cy="2102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2104560"/>
              <a:ext cx="6705000" cy="210240"/>
              <a:chOff x="0" y="2104560"/>
              <a:chExt cx="6705000" cy="2102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2315160"/>
              <a:ext cx="6705000" cy="210240"/>
              <a:chOff x="0" y="2315160"/>
              <a:chExt cx="6705000" cy="2102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2525400"/>
              <a:ext cx="6705000" cy="210240"/>
              <a:chOff x="0" y="2525400"/>
              <a:chExt cx="6705000" cy="2102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2736000"/>
              <a:ext cx="6705000" cy="210240"/>
              <a:chOff x="0" y="2736000"/>
              <a:chExt cx="6705000" cy="2102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2946240"/>
              <a:ext cx="6705000" cy="210240"/>
              <a:chOff x="0" y="2946240"/>
              <a:chExt cx="6705000" cy="2102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3156840"/>
              <a:ext cx="6705000" cy="210240"/>
              <a:chOff x="0" y="3156840"/>
              <a:chExt cx="6705000" cy="2102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3367440"/>
              <a:ext cx="6705000" cy="210240"/>
              <a:chOff x="0" y="3367440"/>
              <a:chExt cx="6705000" cy="2102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3578040"/>
              <a:ext cx="6705000" cy="210240"/>
              <a:chOff x="0" y="3578040"/>
              <a:chExt cx="6705000" cy="2102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3788280"/>
              <a:ext cx="6705000" cy="210240"/>
              <a:chOff x="0" y="3788280"/>
              <a:chExt cx="6705000" cy="2102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3998880"/>
              <a:ext cx="6705000" cy="210240"/>
              <a:chOff x="0" y="3998880"/>
              <a:chExt cx="6705000" cy="210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4209480"/>
              <a:ext cx="6705000" cy="210240"/>
              <a:chOff x="0" y="4209480"/>
              <a:chExt cx="6705000" cy="2102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42094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6" name=""/>
              <p:cNvGrpSpPr/>
              <p:nvPr/>
            </p:nvGrpSpPr>
            <p:grpSpPr>
              <a:xfrm>
                <a:off x="0" y="4209480"/>
                <a:ext cx="6704640" cy="210240"/>
                <a:chOff x="0" y="4209480"/>
                <a:chExt cx="6704640" cy="21024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9" name=""/>
          <p:cNvGrpSpPr/>
          <p:nvPr/>
        </p:nvGrpSpPr>
        <p:grpSpPr>
          <a:xfrm>
            <a:off x="0" y="4419720"/>
            <a:ext cx="6780960" cy="2438280"/>
            <a:chOff x="0" y="4419720"/>
            <a:chExt cx="6780960" cy="2438280"/>
          </a:xfrm>
        </p:grpSpPr>
        <p:grpSp>
          <p:nvGrpSpPr>
            <p:cNvPr id="1420" name=""/>
            <p:cNvGrpSpPr/>
            <p:nvPr/>
          </p:nvGrpSpPr>
          <p:grpSpPr>
            <a:xfrm>
              <a:off x="0" y="4419720"/>
              <a:ext cx="6780960" cy="221400"/>
              <a:chOff x="0" y="4419720"/>
              <a:chExt cx="6780960" cy="22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8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4641120"/>
              <a:ext cx="6780960" cy="221400"/>
              <a:chOff x="0" y="4641120"/>
              <a:chExt cx="6780960" cy="22140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4862880"/>
              <a:ext cx="6780960" cy="221760"/>
              <a:chOff x="0" y="4862880"/>
              <a:chExt cx="6780960" cy="22176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5084640"/>
              <a:ext cx="6780960" cy="221400"/>
              <a:chOff x="0" y="5084640"/>
              <a:chExt cx="6780960" cy="22140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0" y="5306400"/>
              <a:ext cx="6780960" cy="221400"/>
              <a:chOff x="0" y="5306400"/>
              <a:chExt cx="6780960" cy="22140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5527800"/>
              <a:ext cx="6780960" cy="221400"/>
              <a:chOff x="0" y="5527800"/>
              <a:chExt cx="6780960" cy="22140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5749560"/>
              <a:ext cx="6780960" cy="221760"/>
              <a:chOff x="0" y="5749560"/>
              <a:chExt cx="6780960" cy="22176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5971320"/>
              <a:ext cx="6780960" cy="221400"/>
              <a:chOff x="0" y="5971320"/>
              <a:chExt cx="6780960" cy="22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x and y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6193080"/>
              <a:ext cx="6780960" cy="221400"/>
              <a:chOff x="0" y="6193080"/>
              <a:chExt cx="6780960" cy="2214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6414480"/>
              <a:ext cx="6780960" cy="221400"/>
              <a:chOff x="0" y="6414480"/>
              <a:chExt cx="6780960" cy="22140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6636240"/>
              <a:ext cx="6780960" cy="221760"/>
              <a:chOff x="0" y="6636240"/>
              <a:chExt cx="6780960" cy="22176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3" name=""/>
          <p:cNvGrpSpPr/>
          <p:nvPr/>
        </p:nvGrpSpPr>
        <p:grpSpPr>
          <a:xfrm>
            <a:off x="1752480" y="3505320"/>
            <a:ext cx="6096240" cy="1129320"/>
            <a:chOff x="1752480" y="3505320"/>
            <a:chExt cx="6096240" cy="1129320"/>
          </a:xfrm>
        </p:grpSpPr>
        <p:sp>
          <p:nvSpPr>
            <p:cNvPr id="1454" name=""/>
            <p:cNvSpPr/>
            <p:nvPr/>
          </p:nvSpPr>
          <p:spPr>
            <a:xfrm>
              <a:off x="5410080" y="3505320"/>
              <a:ext cx="2438640" cy="112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1752480" y="3809520"/>
              <a:ext cx="3657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29BC-3D4F-427E-97B8-6A1679597E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1458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7E0D-52C2-427B-8F5D-244EC50DC2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1490" name=""/>
            <p:cNvGrpSpPr/>
            <p:nvPr/>
          </p:nvGrpSpPr>
          <p:grpSpPr>
            <a:xfrm>
              <a:off x="0" y="0"/>
              <a:ext cx="6780960" cy="192960"/>
              <a:chOff x="0" y="0"/>
              <a:chExt cx="6780960" cy="192960"/>
            </a:xfrm>
          </p:grpSpPr>
          <p:sp>
            <p:nvSpPr>
              <p:cNvPr id="1491" name="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9: circl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0" y="192960"/>
              <a:ext cx="6780960" cy="192960"/>
              <a:chOff x="0" y="192960"/>
              <a:chExt cx="6780960" cy="192960"/>
            </a:xfrm>
          </p:grpSpPr>
          <p:sp>
            <p:nvSpPr>
              <p:cNvPr id="1494" name="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0" y="385920"/>
              <a:ext cx="6780960" cy="192960"/>
              <a:chOff x="0" y="385920"/>
              <a:chExt cx="6780960" cy="192960"/>
            </a:xfrm>
          </p:grpSpPr>
          <p:sp>
            <p:nvSpPr>
              <p:cNvPr id="1497" name="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0" y="578880"/>
              <a:ext cx="6780960" cy="192960"/>
              <a:chOff x="0" y="578880"/>
              <a:chExt cx="6780960" cy="192960"/>
            </a:xfrm>
          </p:grpSpPr>
          <p:sp>
            <p:nvSpPr>
              <p:cNvPr id="1500" name="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0" y="772200"/>
              <a:ext cx="6780960" cy="192960"/>
              <a:chOff x="0" y="772200"/>
              <a:chExt cx="6780960" cy="192960"/>
            </a:xfrm>
          </p:grpSpPr>
          <p:sp>
            <p:nvSpPr>
              <p:cNvPr id="1503" name="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0" y="965160"/>
              <a:ext cx="6780960" cy="192960"/>
              <a:chOff x="0" y="965160"/>
              <a:chExt cx="6780960" cy="192960"/>
            </a:xfrm>
          </p:grpSpPr>
          <p:sp>
            <p:nvSpPr>
              <p:cNvPr id="1506" name="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0" y="1158120"/>
              <a:ext cx="6780960" cy="192960"/>
              <a:chOff x="0" y="1158120"/>
              <a:chExt cx="6780960" cy="192960"/>
            </a:xfrm>
          </p:grpSpPr>
          <p:sp>
            <p:nvSpPr>
              <p:cNvPr id="1509" name="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0" y="1351440"/>
              <a:ext cx="6780960" cy="192960"/>
              <a:chOff x="0" y="1351440"/>
              <a:chExt cx="6780960" cy="192960"/>
            </a:xfrm>
          </p:grpSpPr>
          <p:sp>
            <p:nvSpPr>
              <p:cNvPr id="1512" name="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0" y="1544400"/>
              <a:ext cx="6780960" cy="192960"/>
              <a:chOff x="0" y="1544400"/>
              <a:chExt cx="6780960" cy="192960"/>
            </a:xfrm>
          </p:grpSpPr>
          <p:sp>
            <p:nvSpPr>
              <p:cNvPr id="1515" name="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7" name=""/>
            <p:cNvGrpSpPr/>
            <p:nvPr/>
          </p:nvGrpSpPr>
          <p:grpSpPr>
            <a:xfrm>
              <a:off x="0" y="1737360"/>
              <a:ext cx="6780960" cy="192960"/>
              <a:chOff x="0" y="1737360"/>
              <a:chExt cx="6780960" cy="192960"/>
            </a:xfrm>
          </p:grpSpPr>
          <p:sp>
            <p:nvSpPr>
              <p:cNvPr id="1518" name="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0" y="1930320"/>
              <a:ext cx="6780960" cy="192960"/>
              <a:chOff x="0" y="1930320"/>
              <a:chExt cx="6780960" cy="192960"/>
            </a:xfrm>
          </p:grpSpPr>
          <p:sp>
            <p:nvSpPr>
              <p:cNvPr id="1521" name="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0" y="2123640"/>
              <a:ext cx="6780960" cy="192960"/>
              <a:chOff x="0" y="2123640"/>
              <a:chExt cx="6780960" cy="192960"/>
            </a:xfrm>
          </p:grpSpPr>
          <p:sp>
            <p:nvSpPr>
              <p:cNvPr id="1524" name="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6" name=""/>
            <p:cNvGrpSpPr/>
            <p:nvPr/>
          </p:nvGrpSpPr>
          <p:grpSpPr>
            <a:xfrm>
              <a:off x="0" y="2316600"/>
              <a:ext cx="6780960" cy="192960"/>
              <a:chOff x="0" y="2316600"/>
              <a:chExt cx="6780960" cy="192960"/>
            </a:xfrm>
          </p:grpSpPr>
          <p:sp>
            <p:nvSpPr>
              <p:cNvPr id="1527" name="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"/>
            <p:cNvGrpSpPr/>
            <p:nvPr/>
          </p:nvGrpSpPr>
          <p:grpSpPr>
            <a:xfrm>
              <a:off x="0" y="2509560"/>
              <a:ext cx="6780960" cy="192960"/>
              <a:chOff x="0" y="2509560"/>
              <a:chExt cx="6780960" cy="192960"/>
            </a:xfrm>
          </p:grpSpPr>
          <p:sp>
            <p:nvSpPr>
              <p:cNvPr id="1530" name="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0" y="2702520"/>
              <a:ext cx="6780960" cy="192960"/>
              <a:chOff x="0" y="2702520"/>
              <a:chExt cx="6780960" cy="192960"/>
            </a:xfrm>
          </p:grpSpPr>
          <p:sp>
            <p:nvSpPr>
              <p:cNvPr id="1533" name="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0" y="2895840"/>
              <a:ext cx="6780960" cy="192960"/>
              <a:chOff x="0" y="2895840"/>
              <a:chExt cx="6780960" cy="192960"/>
            </a:xfrm>
          </p:grpSpPr>
          <p:sp>
            <p:nvSpPr>
              <p:cNvPr id="1536" name="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0" y="3088800"/>
              <a:ext cx="6780960" cy="192960"/>
              <a:chOff x="0" y="3088800"/>
              <a:chExt cx="6780960" cy="192960"/>
            </a:xfrm>
          </p:grpSpPr>
          <p:sp>
            <p:nvSpPr>
              <p:cNvPr id="1539" name="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0" y="3281760"/>
              <a:ext cx="6780960" cy="207720"/>
              <a:chOff x="0" y="3281760"/>
              <a:chExt cx="6780960" cy="207720"/>
            </a:xfrm>
          </p:grpSpPr>
          <p:sp>
            <p:nvSpPr>
              <p:cNvPr id="1542" name="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0" y="3489840"/>
              <a:ext cx="6780960" cy="192960"/>
              <a:chOff x="0" y="3489840"/>
              <a:chExt cx="6780960" cy="192960"/>
            </a:xfrm>
          </p:grpSpPr>
          <p:sp>
            <p:nvSpPr>
              <p:cNvPr id="1545" name="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7" name=""/>
            <p:cNvGrpSpPr/>
            <p:nvPr/>
          </p:nvGrpSpPr>
          <p:grpSpPr>
            <a:xfrm>
              <a:off x="0" y="3682800"/>
              <a:ext cx="6780960" cy="192960"/>
              <a:chOff x="0" y="3682800"/>
              <a:chExt cx="6780960" cy="192960"/>
            </a:xfrm>
          </p:grpSpPr>
          <p:sp>
            <p:nvSpPr>
              <p:cNvPr id="1548" name="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0" y="3876120"/>
              <a:ext cx="6780960" cy="192960"/>
              <a:chOff x="0" y="3876120"/>
              <a:chExt cx="6780960" cy="192960"/>
            </a:xfrm>
          </p:grpSpPr>
          <p:sp>
            <p:nvSpPr>
              <p:cNvPr id="1551" name="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dius of the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0" y="4069080"/>
              <a:ext cx="6780960" cy="192960"/>
              <a:chOff x="0" y="4069080"/>
              <a:chExt cx="6780960" cy="192960"/>
            </a:xfrm>
          </p:grpSpPr>
          <p:sp>
            <p:nvSpPr>
              <p:cNvPr id="1554" name="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6" name=""/>
            <p:cNvGrpSpPr/>
            <p:nvPr/>
          </p:nvGrpSpPr>
          <p:grpSpPr>
            <a:xfrm>
              <a:off x="0" y="4262040"/>
              <a:ext cx="6780960" cy="192960"/>
              <a:chOff x="0" y="4262040"/>
              <a:chExt cx="6780960" cy="192960"/>
            </a:xfrm>
          </p:grpSpPr>
          <p:sp>
            <p:nvSpPr>
              <p:cNvPr id="1557" name="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0" y="4455360"/>
              <a:ext cx="6780960" cy="192960"/>
              <a:chOff x="0" y="4455360"/>
              <a:chExt cx="6780960" cy="192960"/>
            </a:xfrm>
          </p:grpSpPr>
          <p:sp>
            <p:nvSpPr>
              <p:cNvPr id="1560" name="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2" name=""/>
          <p:cNvGrpSpPr/>
          <p:nvPr/>
        </p:nvGrpSpPr>
        <p:grpSpPr>
          <a:xfrm>
            <a:off x="0" y="4648320"/>
            <a:ext cx="6857280" cy="2209320"/>
            <a:chOff x="0" y="4648320"/>
            <a:chExt cx="6857280" cy="2209320"/>
          </a:xfrm>
        </p:grpSpPr>
        <p:grpSp>
          <p:nvGrpSpPr>
            <p:cNvPr id="1563" name=""/>
            <p:cNvGrpSpPr/>
            <p:nvPr/>
          </p:nvGrpSpPr>
          <p:grpSpPr>
            <a:xfrm>
              <a:off x="0" y="4648320"/>
              <a:ext cx="6857280" cy="245160"/>
              <a:chOff x="0" y="4648320"/>
              <a:chExt cx="6857280" cy="24516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9: circl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4893480"/>
              <a:ext cx="6857280" cy="245160"/>
              <a:chOff x="0" y="4893480"/>
              <a:chExt cx="6857280" cy="24516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5139000"/>
              <a:ext cx="6857280" cy="245520"/>
              <a:chOff x="0" y="5139000"/>
              <a:chExt cx="6857280" cy="24552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5384880"/>
              <a:ext cx="6857280" cy="245160"/>
              <a:chOff x="0" y="5384880"/>
              <a:chExt cx="6857280" cy="24516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5630400"/>
              <a:ext cx="6857280" cy="245160"/>
              <a:chOff x="0" y="5630400"/>
              <a:chExt cx="6857280" cy="245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5875920"/>
              <a:ext cx="6857280" cy="245160"/>
              <a:chOff x="0" y="5875920"/>
              <a:chExt cx="6857280" cy="24516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6121440"/>
              <a:ext cx="6857280" cy="245520"/>
              <a:chOff x="0" y="6121440"/>
              <a:chExt cx="6857280" cy="24552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6366960"/>
              <a:ext cx="6857280" cy="245160"/>
              <a:chOff x="0" y="6366960"/>
              <a:chExt cx="6857280" cy="24516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6612480"/>
              <a:ext cx="6857280" cy="245160"/>
              <a:chOff x="0" y="6612480"/>
              <a:chExt cx="6857280" cy="24516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0" name="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057400" y="3962520"/>
            <a:ext cx="6172200" cy="824040"/>
            <a:chOff x="2057400" y="3962520"/>
            <a:chExt cx="6172200" cy="824040"/>
          </a:xfrm>
        </p:grpSpPr>
        <p:sp>
          <p:nvSpPr>
            <p:cNvPr id="1592" name=""/>
            <p:cNvSpPr/>
            <p:nvPr/>
          </p:nvSpPr>
          <p:spPr>
            <a:xfrm>
              <a:off x="5791320" y="39625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2057400" y="4114800"/>
              <a:ext cx="3733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3846-C655-4E02-A4C3-3D6583BFD3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596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63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63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64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64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7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64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65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65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65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66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66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66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1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67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67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67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68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3B4B-5397-4057-8A97-308951B187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Inheritance: 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is also an object of a base class (super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tangle is a derived class in reference to a quadrilateral and a base class in reference to a 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47920" y="3429000"/>
          <a:ext cx="59436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9436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F433-C5AF-4914-AAFA-E5EAD39F7E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685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737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740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743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746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749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752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755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758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761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764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767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770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C211-A695-41D9-85A9-6255D613C6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774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83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83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83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84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84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84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85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85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85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86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4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86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7" name=""/>
          <p:cNvGrpSpPr/>
          <p:nvPr/>
        </p:nvGrpSpPr>
        <p:grpSpPr>
          <a:xfrm>
            <a:off x="2743200" y="4343040"/>
            <a:ext cx="5257800" cy="1038240"/>
            <a:chOff x="2743200" y="4343040"/>
            <a:chExt cx="5257800" cy="1038240"/>
          </a:xfrm>
        </p:grpSpPr>
        <p:sp>
          <p:nvSpPr>
            <p:cNvPr id="1868" name=""/>
            <p:cNvSpPr/>
            <p:nvPr/>
          </p:nvSpPr>
          <p:spPr>
            <a:xfrm>
              <a:off x="5562720" y="4800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::area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overidd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 flipV="1">
              <a:off x="2743200" y="43430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4CA3-A60E-4BEC-B532-ED49E97331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872" name="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7" name="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888" name="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889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0: fig0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892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895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898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901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904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907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913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916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919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922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925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928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931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3" name="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934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937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940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943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958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961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964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6" name=""/>
          <p:cNvSpPr/>
          <p:nvPr/>
        </p:nvSpPr>
        <p:spPr>
          <a:xfrm>
            <a:off x="5867280" y="4572000"/>
            <a:ext cx="24386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7529D-5C0D-47DE-86A7-CD9B76BD9A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68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969" name="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970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973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976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979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982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985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988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991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994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997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2000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2003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2006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2009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2012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2015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2018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2021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3" name="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962520" y="457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4860360" y="2057400"/>
            <a:ext cx="36554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1828800" y="1752120"/>
            <a:ext cx="6248520" cy="1495440"/>
            <a:chOff x="1828800" y="1752120"/>
            <a:chExt cx="6248520" cy="1495440"/>
          </a:xfrm>
        </p:grpSpPr>
        <p:sp>
          <p:nvSpPr>
            <p:cNvPr id="2027" name=""/>
            <p:cNvSpPr/>
            <p:nvPr/>
          </p:nvSpPr>
          <p:spPr>
            <a:xfrm>
              <a:off x="4648320" y="2666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 flipV="1">
              <a:off x="1828800" y="1752120"/>
              <a:ext cx="2743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1904760" y="2819520"/>
            <a:ext cx="6248160" cy="1494720"/>
            <a:chOff x="1904760" y="2819520"/>
            <a:chExt cx="6248160" cy="1494720"/>
          </a:xfrm>
        </p:grpSpPr>
        <p:sp>
          <p:nvSpPr>
            <p:cNvPr id="2030" name=""/>
            <p:cNvSpPr/>
            <p:nvPr/>
          </p:nvSpPr>
          <p:spPr>
            <a:xfrm>
              <a:off x="4724280" y="373356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 flipV="1">
              <a:off x="1904760" y="2819520"/>
              <a:ext cx="27428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4114800" y="31240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E8E4-379F-4852-92A3-7032C577F2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15   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inherits from multiple base-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s software reuse, but can create ambigu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8258-B0DA-4B4A-93A3-9BEED207677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2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2037" name=""/>
            <p:cNvGrpSpPr/>
            <p:nvPr/>
          </p:nvGrpSpPr>
          <p:grpSpPr>
            <a:xfrm>
              <a:off x="0" y="0"/>
              <a:ext cx="6780960" cy="261000"/>
              <a:chOff x="0" y="0"/>
              <a:chExt cx="6780960" cy="261000"/>
            </a:xfrm>
          </p:grpSpPr>
          <p:sp>
            <p:nvSpPr>
              <p:cNvPr id="2038" name="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bas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0" name=""/>
            <p:cNvGrpSpPr/>
            <p:nvPr/>
          </p:nvGrpSpPr>
          <p:grpSpPr>
            <a:xfrm>
              <a:off x="0" y="261000"/>
              <a:ext cx="6780960" cy="261000"/>
              <a:chOff x="0" y="261000"/>
              <a:chExt cx="6780960" cy="2610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Bas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522360"/>
              <a:ext cx="6780960" cy="261360"/>
              <a:chOff x="0" y="522360"/>
              <a:chExt cx="6780960" cy="26136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783720"/>
              <a:ext cx="6780960" cy="261000"/>
              <a:chOff x="0" y="783720"/>
              <a:chExt cx="6780960" cy="26100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1045080"/>
              <a:ext cx="6780960" cy="261000"/>
              <a:chOff x="0" y="1045080"/>
              <a:chExt cx="6780960" cy="2610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1306080"/>
              <a:ext cx="6780960" cy="261000"/>
              <a:chOff x="0" y="1306080"/>
              <a:chExt cx="6780960" cy="2610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1567440"/>
              <a:ext cx="6780960" cy="261360"/>
              <a:chOff x="0" y="1567440"/>
              <a:chExt cx="6780960" cy="26136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0" y="1828800"/>
              <a:ext cx="6780960" cy="261000"/>
              <a:chOff x="0" y="1828800"/>
              <a:chExt cx="6780960" cy="261000"/>
            </a:xfrm>
          </p:grpSpPr>
          <p:sp>
            <p:nvSpPr>
              <p:cNvPr id="2059" name="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value =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1" name=""/>
            <p:cNvGrpSpPr/>
            <p:nvPr/>
          </p:nvGrpSpPr>
          <p:grpSpPr>
            <a:xfrm>
              <a:off x="0" y="2090160"/>
              <a:ext cx="6780960" cy="261000"/>
              <a:chOff x="0" y="2090160"/>
              <a:chExt cx="6780960" cy="261000"/>
            </a:xfrm>
          </p:grpSpPr>
          <p:sp>
            <p:nvSpPr>
              <p:cNvPr id="2062" name="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0" y="2351160"/>
              <a:ext cx="6780960" cy="261000"/>
              <a:chOff x="0" y="2351160"/>
              <a:chExt cx="6780960" cy="261000"/>
            </a:xfrm>
          </p:grpSpPr>
          <p:sp>
            <p:nvSpPr>
              <p:cNvPr id="2065" name="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7" name=""/>
            <p:cNvGrpSpPr/>
            <p:nvPr/>
          </p:nvGrpSpPr>
          <p:grpSpPr>
            <a:xfrm>
              <a:off x="0" y="2612520"/>
              <a:ext cx="6780960" cy="261360"/>
              <a:chOff x="0" y="2612520"/>
              <a:chExt cx="6780960" cy="261360"/>
            </a:xfrm>
          </p:grpSpPr>
          <p:sp>
            <p:nvSpPr>
              <p:cNvPr id="2068" name="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0" y="2873880"/>
              <a:ext cx="6780960" cy="261000"/>
              <a:chOff x="0" y="2873880"/>
              <a:chExt cx="6780960" cy="261000"/>
            </a:xfrm>
          </p:grpSpPr>
          <p:sp>
            <p:nvSpPr>
              <p:cNvPr id="2071" name="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3" name=""/>
            <p:cNvGrpSpPr/>
            <p:nvPr/>
          </p:nvGrpSpPr>
          <p:grpSpPr>
            <a:xfrm>
              <a:off x="0" y="3135240"/>
              <a:ext cx="6780960" cy="261000"/>
              <a:chOff x="0" y="3135240"/>
              <a:chExt cx="6780960" cy="261000"/>
            </a:xfrm>
          </p:grpSpPr>
          <p:sp>
            <p:nvSpPr>
              <p:cNvPr id="2074" name="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0" y="3396240"/>
              <a:ext cx="6780960" cy="261000"/>
              <a:chOff x="0" y="3396240"/>
              <a:chExt cx="6780960" cy="261000"/>
            </a:xfrm>
          </p:grpSpPr>
          <p:sp>
            <p:nvSpPr>
              <p:cNvPr id="2077" name="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9" name=""/>
          <p:cNvGrpSpPr/>
          <p:nvPr/>
        </p:nvGrpSpPr>
        <p:grpSpPr>
          <a:xfrm>
            <a:off x="0" y="3657600"/>
            <a:ext cx="6780960" cy="3200040"/>
            <a:chOff x="0" y="3657600"/>
            <a:chExt cx="6780960" cy="3200040"/>
          </a:xfrm>
        </p:grpSpPr>
        <p:grpSp>
          <p:nvGrpSpPr>
            <p:cNvPr id="208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08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bas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0" y="3885840"/>
              <a:ext cx="6780960" cy="228240"/>
              <a:chOff x="0" y="3885840"/>
              <a:chExt cx="6780960" cy="228240"/>
            </a:xfrm>
          </p:grpSpPr>
          <p:sp>
            <p:nvSpPr>
              <p:cNvPr id="2084" name="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Bas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6" name=""/>
            <p:cNvGrpSpPr/>
            <p:nvPr/>
          </p:nvGrpSpPr>
          <p:grpSpPr>
            <a:xfrm>
              <a:off x="0" y="4114440"/>
              <a:ext cx="6780960" cy="228600"/>
              <a:chOff x="0" y="4114440"/>
              <a:chExt cx="6780960" cy="228600"/>
            </a:xfrm>
          </p:grpSpPr>
          <p:sp>
            <p:nvSpPr>
              <p:cNvPr id="2087" name="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9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2090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09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09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0" y="5029200"/>
              <a:ext cx="6780960" cy="228600"/>
              <a:chOff x="0" y="5029200"/>
              <a:chExt cx="6780960" cy="228600"/>
            </a:xfrm>
          </p:grpSpPr>
          <p:sp>
            <p:nvSpPr>
              <p:cNvPr id="2099" name="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2102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) { letter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10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tte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10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0" y="5943600"/>
              <a:ext cx="6780960" cy="228600"/>
              <a:chOff x="0" y="5943600"/>
              <a:chExt cx="6780960" cy="228600"/>
            </a:xfrm>
          </p:grpSpPr>
          <p:sp>
            <p:nvSpPr>
              <p:cNvPr id="2111" name="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tte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2114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11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12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A01C-8B6F-42AD-A400-4F9D8380B21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rive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124" name="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2125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derived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7" name="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2128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Derived which inher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0" name="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2131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ultiple base classes (Base1 and Base2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2134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6" name="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2137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2140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2" name="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2143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5" name="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2146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2149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2152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4" name="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2155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2158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2161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2164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ultiple inherita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6" name="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2167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2170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2173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2176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2179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2182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2185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2188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2191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a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rived class's privat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2194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2197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2200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2" name=""/>
          <p:cNvGrpSpPr/>
          <p:nvPr/>
        </p:nvGrpSpPr>
        <p:grpSpPr>
          <a:xfrm>
            <a:off x="4267080" y="2209680"/>
            <a:ext cx="3505320" cy="1447920"/>
            <a:chOff x="4267080" y="2209680"/>
            <a:chExt cx="3505320" cy="1447920"/>
          </a:xfrm>
        </p:grpSpPr>
        <p:sp>
          <p:nvSpPr>
            <p:cNvPr id="2203" name=""/>
            <p:cNvSpPr/>
            <p:nvPr/>
          </p:nvSpPr>
          <p:spPr>
            <a:xfrm>
              <a:off x="5334120" y="22096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r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4267080" y="251460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0350-FE25-43C1-BD39-7AD1BDB2EC8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0" y="0"/>
            <a:ext cx="6780960" cy="4876560"/>
            <a:chOff x="0" y="0"/>
            <a:chExt cx="6780960" cy="4876560"/>
          </a:xfrm>
        </p:grpSpPr>
        <p:grpSp>
          <p:nvGrpSpPr>
            <p:cNvPr id="2207" name=""/>
            <p:cNvGrpSpPr/>
            <p:nvPr/>
          </p:nvGrpSpPr>
          <p:grpSpPr>
            <a:xfrm>
              <a:off x="0" y="0"/>
              <a:ext cx="6780960" cy="221400"/>
              <a:chOff x="0" y="0"/>
              <a:chExt cx="6780960" cy="221400"/>
            </a:xfrm>
          </p:grpSpPr>
          <p:sp>
            <p:nvSpPr>
              <p:cNvPr id="2208" name="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derived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0" name=""/>
            <p:cNvGrpSpPr/>
            <p:nvPr/>
          </p:nvGrpSpPr>
          <p:grpSpPr>
            <a:xfrm>
              <a:off x="0" y="221400"/>
              <a:ext cx="6780960" cy="221400"/>
              <a:chOff x="0" y="221400"/>
              <a:chExt cx="6780960" cy="221400"/>
            </a:xfrm>
          </p:grpSpPr>
          <p:sp>
            <p:nvSpPr>
              <p:cNvPr id="2211" name="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0" y="443160"/>
              <a:ext cx="6780960" cy="221760"/>
              <a:chOff x="0" y="443160"/>
              <a:chExt cx="6780960" cy="221760"/>
            </a:xfrm>
          </p:grpSpPr>
          <p:sp>
            <p:nvSpPr>
              <p:cNvPr id="2214" name="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6" name=""/>
            <p:cNvGrpSpPr/>
            <p:nvPr/>
          </p:nvGrpSpPr>
          <p:grpSpPr>
            <a:xfrm>
              <a:off x="0" y="664920"/>
              <a:ext cx="6780960" cy="221400"/>
              <a:chOff x="0" y="664920"/>
              <a:chExt cx="6780960" cy="221400"/>
            </a:xfrm>
          </p:grpSpPr>
          <p:sp>
            <p:nvSpPr>
              <p:cNvPr id="2217" name="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9" name=""/>
            <p:cNvGrpSpPr/>
            <p:nvPr/>
          </p:nvGrpSpPr>
          <p:grpSpPr>
            <a:xfrm>
              <a:off x="0" y="886680"/>
              <a:ext cx="6780960" cy="221400"/>
              <a:chOff x="0" y="886680"/>
              <a:chExt cx="6780960" cy="221400"/>
            </a:xfrm>
          </p:grpSpPr>
          <p:sp>
            <p:nvSpPr>
              <p:cNvPr id="2220" name="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Derived calls constructor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2" name=""/>
            <p:cNvGrpSpPr/>
            <p:nvPr/>
          </p:nvGrpSpPr>
          <p:grpSpPr>
            <a:xfrm>
              <a:off x="0" y="1108080"/>
              <a:ext cx="6780960" cy="221400"/>
              <a:chOff x="0" y="1108080"/>
              <a:chExt cx="6780960" cy="221400"/>
            </a:xfrm>
          </p:grpSpPr>
          <p:sp>
            <p:nvSpPr>
              <p:cNvPr id="2223" name="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Base1 and class Base2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5" name=""/>
            <p:cNvGrpSpPr/>
            <p:nvPr/>
          </p:nvGrpSpPr>
          <p:grpSpPr>
            <a:xfrm>
              <a:off x="0" y="1329840"/>
              <a:ext cx="6780960" cy="221760"/>
              <a:chOff x="0" y="1329840"/>
              <a:chExt cx="6780960" cy="221760"/>
            </a:xfrm>
          </p:grpSpPr>
          <p:sp>
            <p:nvSpPr>
              <p:cNvPr id="2226" name="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 member initializers to call base-class construc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8" name=""/>
            <p:cNvGrpSpPr/>
            <p:nvPr/>
          </p:nvGrpSpPr>
          <p:grpSpPr>
            <a:xfrm>
              <a:off x="0" y="1551600"/>
              <a:ext cx="6780960" cy="221400"/>
              <a:chOff x="0" y="1551600"/>
              <a:chExt cx="6780960" cy="221400"/>
            </a:xfrm>
          </p:grpSpPr>
          <p:sp>
            <p:nvSpPr>
              <p:cNvPr id="2229" name="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rived::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1" name=""/>
            <p:cNvGrpSpPr/>
            <p:nvPr/>
          </p:nvGrpSpPr>
          <p:grpSpPr>
            <a:xfrm>
              <a:off x="0" y="1773360"/>
              <a:ext cx="6780960" cy="221400"/>
              <a:chOff x="0" y="1773360"/>
              <a:chExt cx="6780960" cy="221400"/>
            </a:xfrm>
          </p:grpSpPr>
          <p:sp>
            <p:nvSpPr>
              <p:cNvPr id="2232" name="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Base1( i ), Base2( c ), real ( f ) {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0" y="1995120"/>
              <a:ext cx="6780960" cy="221400"/>
              <a:chOff x="0" y="1995120"/>
              <a:chExt cx="6780960" cy="221400"/>
            </a:xfrm>
          </p:grpSpPr>
          <p:sp>
            <p:nvSpPr>
              <p:cNvPr id="2235" name="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0" y="2216520"/>
              <a:ext cx="6780960" cy="221760"/>
              <a:chOff x="0" y="2216520"/>
              <a:chExt cx="6780960" cy="221760"/>
            </a:xfrm>
          </p:grpSpPr>
          <p:sp>
            <p:nvSpPr>
              <p:cNvPr id="2238" name="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the value of re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0" name=""/>
            <p:cNvGrpSpPr/>
            <p:nvPr/>
          </p:nvGrpSpPr>
          <p:grpSpPr>
            <a:xfrm>
              <a:off x="0" y="2438640"/>
              <a:ext cx="6780960" cy="221400"/>
              <a:chOff x="0" y="2438640"/>
              <a:chExt cx="6780960" cy="221400"/>
            </a:xfrm>
          </p:grpSpPr>
          <p:sp>
            <p:nvSpPr>
              <p:cNvPr id="2241" name="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::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a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0" y="2660040"/>
              <a:ext cx="6780960" cy="221400"/>
              <a:chOff x="0" y="2660040"/>
              <a:chExt cx="6780960" cy="221400"/>
            </a:xfrm>
          </p:grpSpPr>
          <p:sp>
            <p:nvSpPr>
              <p:cNvPr id="2244" name="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0" y="2881800"/>
              <a:ext cx="6780960" cy="221400"/>
              <a:chOff x="0" y="2881800"/>
              <a:chExt cx="6780960" cy="221400"/>
            </a:xfrm>
          </p:grpSpPr>
          <p:sp>
            <p:nvSpPr>
              <p:cNvPr id="2247" name="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all the data members of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0" y="3103560"/>
              <a:ext cx="6780960" cy="221760"/>
              <a:chOff x="0" y="3103560"/>
              <a:chExt cx="6780960" cy="221760"/>
            </a:xfrm>
          </p:grpSpPr>
          <p:sp>
            <p:nvSpPr>
              <p:cNvPr id="2250" name="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rived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0" y="3325320"/>
              <a:ext cx="6780960" cy="221400"/>
              <a:chOff x="0" y="3325320"/>
              <a:chExt cx="6780960" cy="221400"/>
            </a:xfrm>
          </p:grpSpPr>
          <p:sp>
            <p:nvSpPr>
              <p:cNvPr id="2253" name="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0" y="3546720"/>
              <a:ext cx="6780960" cy="221400"/>
              <a:chOff x="0" y="3546720"/>
              <a:chExt cx="6780960" cy="221400"/>
            </a:xfrm>
          </p:grpSpPr>
          <p:sp>
            <p:nvSpPr>
              <p:cNvPr id="2256" name="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output &lt;&lt; "    Integer: " &lt;&lt; d.valu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8" name=""/>
            <p:cNvGrpSpPr/>
            <p:nvPr/>
          </p:nvGrpSpPr>
          <p:grpSpPr>
            <a:xfrm>
              <a:off x="0" y="3768480"/>
              <a:ext cx="6780960" cy="221400"/>
              <a:chOff x="0" y="3768480"/>
              <a:chExt cx="6780960" cy="221400"/>
            </a:xfrm>
          </p:grpSpPr>
          <p:sp>
            <p:nvSpPr>
              <p:cNvPr id="2259" name="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\n  Character: " &lt;&lt; d.le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0" y="3990240"/>
              <a:ext cx="6780960" cy="221400"/>
              <a:chOff x="0" y="3990240"/>
              <a:chExt cx="6780960" cy="221400"/>
            </a:xfrm>
          </p:grpSpPr>
          <p:sp>
            <p:nvSpPr>
              <p:cNvPr id="2262" name="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&lt;&lt; "\nReal number: " &lt;&lt; d.re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0" y="4212000"/>
              <a:ext cx="6780960" cy="221760"/>
              <a:chOff x="0" y="4212000"/>
              <a:chExt cx="6780960" cy="221760"/>
            </a:xfrm>
          </p:grpSpPr>
          <p:sp>
            <p:nvSpPr>
              <p:cNvPr id="2265" name="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0" y="4433760"/>
              <a:ext cx="6780960" cy="221400"/>
              <a:chOff x="0" y="4433760"/>
              <a:chExt cx="6780960" cy="221400"/>
            </a:xfrm>
          </p:grpSpPr>
          <p:sp>
            <p:nvSpPr>
              <p:cNvPr id="2268" name="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0" y="4655160"/>
              <a:ext cx="6780960" cy="221400"/>
              <a:chOff x="0" y="4655160"/>
              <a:chExt cx="6780960" cy="221400"/>
            </a:xfrm>
          </p:grpSpPr>
          <p:sp>
            <p:nvSpPr>
              <p:cNvPr id="2271" name=""/>
              <p:cNvSpPr/>
              <p:nvPr/>
            </p:nvSpPr>
            <p:spPr>
              <a:xfrm>
                <a:off x="0" y="46551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2" name=""/>
              <p:cNvGrpSpPr/>
              <p:nvPr/>
            </p:nvGrpSpPr>
            <p:grpSpPr>
              <a:xfrm>
                <a:off x="0" y="4655160"/>
                <a:ext cx="6780600" cy="221400"/>
                <a:chOff x="0" y="4655160"/>
                <a:chExt cx="6780600" cy="22140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5" name=""/>
          <p:cNvGrpSpPr/>
          <p:nvPr/>
        </p:nvGrpSpPr>
        <p:grpSpPr>
          <a:xfrm>
            <a:off x="0" y="4876920"/>
            <a:ext cx="6780960" cy="1981080"/>
            <a:chOff x="0" y="4876920"/>
            <a:chExt cx="6780960" cy="1981080"/>
          </a:xfrm>
        </p:grpSpPr>
        <p:grpSp>
          <p:nvGrpSpPr>
            <p:cNvPr id="2276" name=""/>
            <p:cNvGrpSpPr/>
            <p:nvPr/>
          </p:nvGrpSpPr>
          <p:grpSpPr>
            <a:xfrm>
              <a:off x="0" y="4876920"/>
              <a:ext cx="6780960" cy="219960"/>
              <a:chOff x="0" y="4876920"/>
              <a:chExt cx="6780960" cy="219960"/>
            </a:xfrm>
          </p:grpSpPr>
          <p:sp>
            <p:nvSpPr>
              <p:cNvPr id="2277" name="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11: fig09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0" y="5096880"/>
              <a:ext cx="6780960" cy="219960"/>
              <a:chOff x="0" y="5096880"/>
              <a:chExt cx="6780960" cy="219960"/>
            </a:xfrm>
          </p:grpSpPr>
          <p:sp>
            <p:nvSpPr>
              <p:cNvPr id="2280" name="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for multiple inheritance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0" y="5316840"/>
              <a:ext cx="6780960" cy="219960"/>
              <a:chOff x="0" y="5316840"/>
              <a:chExt cx="6780960" cy="219960"/>
            </a:xfrm>
          </p:grpSpPr>
          <p:sp>
            <p:nvSpPr>
              <p:cNvPr id="2283" name="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0" y="5537160"/>
              <a:ext cx="6780960" cy="219960"/>
              <a:chOff x="0" y="5537160"/>
              <a:chExt cx="6780960" cy="219960"/>
            </a:xfrm>
          </p:grpSpPr>
          <p:sp>
            <p:nvSpPr>
              <p:cNvPr id="2286" name="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0" y="5757480"/>
              <a:ext cx="6780960" cy="219960"/>
              <a:chOff x="0" y="5757480"/>
              <a:chExt cx="6780960" cy="219960"/>
            </a:xfrm>
          </p:grpSpPr>
          <p:sp>
            <p:nvSpPr>
              <p:cNvPr id="2289" name="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0" y="5977440"/>
              <a:ext cx="6780960" cy="219960"/>
              <a:chOff x="0" y="5977440"/>
              <a:chExt cx="6780960" cy="219960"/>
            </a:xfrm>
          </p:grpSpPr>
          <p:sp>
            <p:nvSpPr>
              <p:cNvPr id="2292" name="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0" y="6197400"/>
              <a:ext cx="6780960" cy="219960"/>
              <a:chOff x="0" y="6197400"/>
              <a:chExt cx="6780960" cy="219960"/>
            </a:xfrm>
          </p:grpSpPr>
          <p:sp>
            <p:nvSpPr>
              <p:cNvPr id="2295" name="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0" y="6417720"/>
              <a:ext cx="6780960" cy="219960"/>
              <a:chOff x="0" y="6417720"/>
              <a:chExt cx="6780960" cy="219960"/>
            </a:xfrm>
          </p:grpSpPr>
          <p:sp>
            <p:nvSpPr>
              <p:cNvPr id="2298" name="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0" y="6638040"/>
              <a:ext cx="6780960" cy="219960"/>
              <a:chOff x="0" y="6638040"/>
              <a:chExt cx="6780960" cy="219960"/>
            </a:xfrm>
          </p:grpSpPr>
          <p:sp>
            <p:nvSpPr>
              <p:cNvPr id="2301" name="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35A6-6A83-4C65-8279-95D68B12E71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reat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0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05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30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30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31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31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31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 b1( 10 ), *base1Ptr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32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 b2( 'Z' ), *base2Ptr =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32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rived d( 7, 'A', 3.5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Derived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32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33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data members of base class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33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b1 contains integer " &lt;&lt; b1.getData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33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Object b2 contains character " &lt;&lt; b2.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33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Object d contains:\n"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34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34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data members of derived cla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cope resolution operator resolves getData ambig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35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a members of Derived can b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35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accessed individually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35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 Integer: " &lt;&lt; d.Base1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36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Character: " &lt;&lt; d.Base2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36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Real number: " &lt;&lt; d.getReal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36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6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erived can be treated as an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7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object of either base clas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7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37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reat Derived as a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38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1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38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ase1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38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base1Ptr-&gt;getDat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39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39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reat Derived as a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39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ase2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8" name=""/>
          <p:cNvGrpSpPr/>
          <p:nvPr/>
        </p:nvGrpSpPr>
        <p:grpSpPr>
          <a:xfrm>
            <a:off x="1980720" y="4191120"/>
            <a:ext cx="5715360" cy="1447200"/>
            <a:chOff x="1980720" y="4191120"/>
            <a:chExt cx="5715360" cy="1447200"/>
          </a:xfrm>
        </p:grpSpPr>
        <p:sp>
          <p:nvSpPr>
            <p:cNvPr id="2399" name=""/>
            <p:cNvSpPr/>
            <p:nvPr/>
          </p:nvSpPr>
          <p:spPr>
            <a:xfrm>
              <a:off x="5257440" y="4191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1980720" y="4495680"/>
              <a:ext cx="32763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1" name=""/>
          <p:cNvGrpSpPr/>
          <p:nvPr/>
        </p:nvGrpSpPr>
        <p:grpSpPr>
          <a:xfrm>
            <a:off x="2057400" y="5562720"/>
            <a:ext cx="5486400" cy="1143000"/>
            <a:chOff x="2057400" y="5562720"/>
            <a:chExt cx="5486400" cy="1143000"/>
          </a:xfrm>
        </p:grpSpPr>
        <p:sp>
          <p:nvSpPr>
            <p:cNvPr id="2402" name=""/>
            <p:cNvSpPr/>
            <p:nvPr/>
          </p:nvSpPr>
          <p:spPr>
            <a:xfrm>
              <a:off x="5105160" y="55627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2057400" y="5867280"/>
              <a:ext cx="30477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5791320" y="2514600"/>
            <a:ext cx="304776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b1 contains integ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b2 contains characte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5181480" y="2819520"/>
            <a:ext cx="3886200" cy="129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members of Derived can be accessed individu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421800" y="5126040"/>
            <a:ext cx="5392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rived can be treated as an object of either base cl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863600" y="594360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1Ptr-&gt;getData() yield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906D-F696-4FDC-A490-DFC80BE9BD0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0" y="0"/>
            <a:ext cx="6780960" cy="1752120"/>
            <a:chOff x="0" y="0"/>
            <a:chExt cx="6780960" cy="1752120"/>
          </a:xfrm>
        </p:grpSpPr>
        <p:grpSp>
          <p:nvGrpSpPr>
            <p:cNvPr id="2410" name="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2411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ase2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0" y="350280"/>
              <a:ext cx="6780960" cy="350280"/>
              <a:chOff x="0" y="350280"/>
              <a:chExt cx="6780960" cy="350280"/>
            </a:xfrm>
          </p:grpSpPr>
          <p:sp>
            <p:nvSpPr>
              <p:cNvPr id="2414" name="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base2Ptr-&gt;getDat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6" name=""/>
            <p:cNvGrpSpPr/>
            <p:nvPr/>
          </p:nvGrpSpPr>
          <p:grpSpPr>
            <a:xfrm>
              <a:off x="0" y="700920"/>
              <a:ext cx="6780960" cy="350640"/>
              <a:chOff x="0" y="700920"/>
              <a:chExt cx="6780960" cy="350640"/>
            </a:xfrm>
          </p:grpSpPr>
          <p:sp>
            <p:nvSpPr>
              <p:cNvPr id="2417" name="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0" y="1051560"/>
              <a:ext cx="6780960" cy="350280"/>
              <a:chOff x="0" y="1051560"/>
              <a:chExt cx="6780960" cy="350280"/>
            </a:xfrm>
          </p:grpSpPr>
          <p:sp>
            <p:nvSpPr>
              <p:cNvPr id="2420" name="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0" y="1401840"/>
              <a:ext cx="6780960" cy="350280"/>
              <a:chOff x="0" y="1401840"/>
              <a:chExt cx="6780960" cy="350280"/>
            </a:xfrm>
          </p:grpSpPr>
          <p:sp>
            <p:nvSpPr>
              <p:cNvPr id="2423" name="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5" name=""/>
          <p:cNvGrpSpPr/>
          <p:nvPr/>
        </p:nvGrpSpPr>
        <p:grpSpPr>
          <a:xfrm>
            <a:off x="0" y="2133720"/>
            <a:ext cx="6781680" cy="3108240"/>
            <a:chOff x="0" y="2133720"/>
            <a:chExt cx="6781680" cy="3108240"/>
          </a:xfrm>
        </p:grpSpPr>
        <p:sp>
          <p:nvSpPr>
            <p:cNvPr id="2426" name=""/>
            <p:cNvSpPr/>
            <p:nvPr/>
          </p:nvSpPr>
          <p:spPr>
            <a:xfrm>
              <a:off x="0" y="2133720"/>
              <a:ext cx="6781680" cy="137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b1 contains integer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b2 contains character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bject d contain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0" y="3505320"/>
              <a:ext cx="6781680" cy="1736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a members of Derived can be accessed individuall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rived can be treated as an object of either base clas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1Ptr-&gt;getData() yield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se2Ptr-&gt;getData() yield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8" name=""/>
          <p:cNvSpPr/>
          <p:nvPr/>
        </p:nvSpPr>
        <p:spPr>
          <a:xfrm>
            <a:off x="4253760" y="1522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se2Ptr-&gt;getData() yiel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A0CE-21B0-480D-8065-F7DB077DBEE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2   Inheritance: 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ssionWo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s from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5D9C-34EC-4F4A-9E04-37FC11973E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3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protecte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mediate level of protection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 can ref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 base class simply by using the member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“breaks” encaps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CF4A-2446-4362-8A27-0FD9D8AE7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  Casting Base-Class Pointers to Derived 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es relationships to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of a derived class can be treated as objects of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not 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 class objects cannot be derived-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explicit cast to convert a base-class pointer to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pointer is going to be dereferenced, the type of the pointer must match the type of object to which the point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4B67-76BC-4B04-AFF9-0C4F6EBB48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9.4   Casting Base-Class Pointers to Derived-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the casting of base class pointers to derived class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rived from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, and a pointer to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sed to referenc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5742-C985-471C-A400-F54CCC88D2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6780960" cy="4343400"/>
            <a:chOff x="0" y="0"/>
            <a:chExt cx="6780960" cy="4343400"/>
          </a:xfrm>
        </p:grpSpPr>
        <p:grpSp>
          <p:nvGrpSpPr>
            <p:cNvPr id="114" name=""/>
            <p:cNvGrpSpPr/>
            <p:nvPr/>
          </p:nvGrpSpPr>
          <p:grpSpPr>
            <a:xfrm>
              <a:off x="0" y="0"/>
              <a:ext cx="6780960" cy="221760"/>
              <a:chOff x="0" y="0"/>
              <a:chExt cx="6780960" cy="22176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point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221760"/>
              <a:ext cx="6780960" cy="205920"/>
              <a:chOff x="0" y="221760"/>
              <a:chExt cx="6780960" cy="20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21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428040"/>
              <a:ext cx="6780960" cy="205920"/>
              <a:chOff x="0" y="428040"/>
              <a:chExt cx="6780960" cy="20592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428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633960"/>
              <a:ext cx="6780960" cy="205920"/>
              <a:chOff x="0" y="633960"/>
              <a:chExt cx="6780960" cy="20592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33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840240"/>
              <a:ext cx="6780960" cy="205920"/>
              <a:chOff x="0" y="840240"/>
              <a:chExt cx="6780960" cy="20592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8402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046160"/>
              <a:ext cx="6780960" cy="205920"/>
              <a:chOff x="0" y="1046160"/>
              <a:chExt cx="6780960" cy="20592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46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252080"/>
              <a:ext cx="6780960" cy="205920"/>
              <a:chOff x="0" y="1252080"/>
              <a:chExt cx="6780960" cy="20592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252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1458360"/>
              <a:ext cx="6780960" cy="205920"/>
              <a:chOff x="0" y="1458360"/>
              <a:chExt cx="6780960" cy="20592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45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1664280"/>
              <a:ext cx="6780960" cy="205920"/>
              <a:chOff x="0" y="1664280"/>
              <a:chExt cx="6780960" cy="20592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64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1870560"/>
              <a:ext cx="6780960" cy="205920"/>
              <a:chOff x="0" y="1870560"/>
              <a:chExt cx="6780960" cy="20592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87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2076480"/>
              <a:ext cx="6780960" cy="205920"/>
              <a:chOff x="0" y="2076480"/>
              <a:chExt cx="6780960" cy="20592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07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2282760"/>
              <a:ext cx="6780960" cy="205920"/>
              <a:chOff x="0" y="2282760"/>
              <a:chExt cx="6780960" cy="20592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228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2488680"/>
              <a:ext cx="6780960" cy="205920"/>
              <a:chOff x="0" y="2488680"/>
              <a:chExt cx="6780960" cy="20592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248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2694960"/>
              <a:ext cx="6780960" cy="205920"/>
              <a:chOff x="0" y="2694960"/>
              <a:chExt cx="6780960" cy="20592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2694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2900880"/>
              <a:ext cx="6780960" cy="205920"/>
              <a:chOff x="0" y="2900880"/>
              <a:chExt cx="6780960" cy="20592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90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3106800"/>
              <a:ext cx="6780960" cy="205920"/>
              <a:chOff x="0" y="3106800"/>
              <a:chExt cx="6780960" cy="20592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310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3313080"/>
              <a:ext cx="6780960" cy="205920"/>
              <a:chOff x="0" y="3313080"/>
              <a:chExt cx="6780960" cy="20592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3313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3519000"/>
              <a:ext cx="6780960" cy="205920"/>
              <a:chOff x="0" y="3519000"/>
              <a:chExt cx="6780960" cy="20592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519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 and y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3725280"/>
              <a:ext cx="6780960" cy="205920"/>
              <a:chOff x="0" y="3725280"/>
              <a:chExt cx="6780960" cy="20592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3725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3931200"/>
              <a:ext cx="6780960" cy="205920"/>
              <a:chOff x="0" y="3931200"/>
              <a:chExt cx="6780960" cy="20592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3931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137480"/>
              <a:ext cx="6780960" cy="205920"/>
              <a:chOff x="0" y="4137480"/>
              <a:chExt cx="6780960" cy="20592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137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0" y="4343400"/>
            <a:ext cx="6780960" cy="2514600"/>
            <a:chOff x="0" y="4343400"/>
            <a:chExt cx="6780960" cy="2514600"/>
          </a:xfrm>
        </p:grpSpPr>
        <p:grpSp>
          <p:nvGrpSpPr>
            <p:cNvPr id="178" name=""/>
            <p:cNvGrpSpPr/>
            <p:nvPr/>
          </p:nvGrpSpPr>
          <p:grpSpPr>
            <a:xfrm>
              <a:off x="0" y="4343400"/>
              <a:ext cx="6780960" cy="209520"/>
              <a:chOff x="0" y="4343400"/>
              <a:chExt cx="6780960" cy="2095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343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9.4: point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4552920"/>
              <a:ext cx="6780960" cy="209520"/>
              <a:chOff x="0" y="4552920"/>
              <a:chExt cx="6780960" cy="2095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552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4762440"/>
              <a:ext cx="6780960" cy="209520"/>
              <a:chOff x="0" y="4762440"/>
              <a:chExt cx="6780960" cy="20952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762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4971960"/>
              <a:ext cx="6780960" cy="209520"/>
              <a:chOff x="0" y="4971960"/>
              <a:chExt cx="6780960" cy="20952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971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point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181480"/>
              <a:ext cx="6780960" cy="209520"/>
              <a:chOff x="0" y="5181480"/>
              <a:chExt cx="6780960" cy="2095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181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5391000"/>
              <a:ext cx="6780960" cy="209520"/>
              <a:chOff x="0" y="5391000"/>
              <a:chExt cx="6780960" cy="20952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3910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5600520"/>
              <a:ext cx="6780960" cy="209520"/>
              <a:chOff x="0" y="5600520"/>
              <a:chExt cx="6780960" cy="20952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56005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5810400"/>
              <a:ext cx="6780960" cy="209520"/>
              <a:chOff x="0" y="5810400"/>
              <a:chExt cx="6780960" cy="20952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581040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019920"/>
              <a:ext cx="6780960" cy="209520"/>
              <a:chOff x="0" y="6019920"/>
              <a:chExt cx="6780960" cy="20952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01992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6229440"/>
              <a:ext cx="6780960" cy="209520"/>
              <a:chOff x="0" y="6229440"/>
              <a:chExt cx="6780960" cy="20952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622944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6438960"/>
              <a:ext cx="6780960" cy="209520"/>
              <a:chOff x="0" y="6438960"/>
              <a:chExt cx="6780960" cy="20952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643896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6648480"/>
              <a:ext cx="6780960" cy="209520"/>
              <a:chOff x="0" y="6648480"/>
              <a:chExt cx="6780960" cy="20952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6648480"/>
                <a:ext cx="6780960" cy="209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02EC-188B-408E-979F-0163F8E989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06:25Z</dcterms:created>
  <dc:creator>aftab bukhari</dc:creator>
  <dc:description/>
  <dc:language>en-US</dc:language>
  <cp:lastModifiedBy>Antonella Esposito</cp:lastModifiedBy>
  <dcterms:modified xsi:type="dcterms:W3CDTF">2001-01-12T10:45:06Z</dcterms:modified>
  <cp:revision>397</cp:revision>
  <dc:subject/>
  <dc:title>Chapter 9 - Inheritance</dc:title>
</cp:coreProperties>
</file>