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490FA-C829-493C-A288-A352496CB4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1259E-8D3D-4DBD-B53E-2D3EC71E22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4A450-1900-49A3-BE39-DE8DFAD291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9189D-8027-4548-9E38-6ED60CA325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57F3D-9D57-4788-9D99-B63213C9D8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D6D6C-A202-456A-BE50-3B677063EA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94CE5-68FC-43A7-87F7-ED0B26B27C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DD1DE-F6E6-4C94-9EC6-0420E2EC2D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7AE06-29B3-4597-AAA3-4CBE35195C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CA444-506A-4858-829A-014DBA7606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7AEF1-E616-4632-BD62-81B54C4F20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22DC9-938F-4CB4-9E46-3C57EC9283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B26D6-DA1F-4ED9-9E4B-15D644A9CA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AA0B4-9605-46A5-8DC6-37FFAD8391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B908A-D425-4447-8CB0-379ABDE16E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B855A-76E9-41E7-AC5C-CEF4F78ABA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47C7C-4DDF-454E-8193-34AC8D7B8F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F5A78-F534-49E1-8C00-E9DAB9086C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FCC39-CE7B-49C2-8DF0-4B0EC9BFE3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562F9-5748-4B0E-82B6-21B304E058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4000A-1353-4A80-AEBD-3245A56CDE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3ADE2-4AA6-4E85-B073-C453A066BE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AD1B4-2E75-496C-BF21-1D10A41C04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34DF3-6F13-4C24-8831-288A22F93E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19F5-E016-433E-A319-F378D0243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57BC-0168-4EA9-B0FB-07555E9610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olo 1 – Introduction to Computers and C++ Programming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303200"/>
            <a:ext cx="792504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1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2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What is a Computer?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3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Computer Organization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4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volution of Operating Systems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5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Personal Computing, Distributed Computing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and Client/Server Computing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6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Machine Languages, Assembly Languages,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and High-level Languages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7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History of C and C++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8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C++ Standard Library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9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Java and Java How to Program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10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Other High-level Languages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11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Structured Programming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12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The Key Software Trend: Object Technology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13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Basics of a Typical C++ Environment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14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Hardware Trends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15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History of the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1CE73-8424-4821-940C-C52B08FA42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7 History of C and C++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evolved from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 evolved from two other programming languages, BCPL and 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I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stablished worldwide standards for C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“spruces up”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capabilities for object-oriented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are reusable software components that model things in the rea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-oriented programs are easy to understand, correct and modif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94FD6-5CBF-4990-A2FD-1934B2C1CD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8 C++ Standard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uilt from pieces called classes and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standard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rich collections of existing classes and functions for all programmers to 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BC043-56A1-4E9E-89EF-3DAC4FCB19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9 Java and Java How to Progra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used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web pages with dynamic and interactive cont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velop large-scale enterprise appl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hance the functionality of web serv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applications for consumer devices (such as cell phones, pagers and personal digital assistan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how to progr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osely followed the development of Java by su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aches first-year programming students the essentials of graphics, images, animation, audio, video, database, networking, multithreading and collaborative comput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B8607-0242-49C3-807F-ADDA14A25A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0 Other High-level Languag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high-level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TR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scientific and engineering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BO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manipulate large amounts of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cal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teach structured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38E82-4EE6-4A2F-BF84-1CA9CB6BA4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1 Structured Programm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program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iplined approach to writing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ear, easy to test and debug, and easy to modif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tas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y activities to run in parall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5FB7F-EF3D-4162-9472-6D68F3F620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2 The Key Software Trend: Object Technolog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usable software components that model real world i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aningful software un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e objects, time objects, paycheck objects, invoice objects, audio objects, video objects, file objects, record object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noun can be represented as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re understandable, better organized and easier to maintain than procedural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vor modula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82A2E-6FDB-49AF-998B-3BA6EA766B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3 Basics of a Typical C++ Environ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1143000"/>
            <a:ext cx="4724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s of C++ Progra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797360" y="1209600"/>
            <a:ext cx="4117680" cy="5572440"/>
            <a:chOff x="4797360" y="1209600"/>
            <a:chExt cx="4117680" cy="5572440"/>
          </a:xfrm>
        </p:grpSpPr>
        <p:sp>
          <p:nvSpPr>
            <p:cNvPr id="120" name=""/>
            <p:cNvSpPr/>
            <p:nvPr/>
          </p:nvSpPr>
          <p:spPr>
            <a:xfrm>
              <a:off x="4797360" y="3779640"/>
              <a:ext cx="119988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97360" y="2452320"/>
              <a:ext cx="119988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797360" y="3779640"/>
              <a:ext cx="119988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23880" y="3924000"/>
              <a:ext cx="5425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incho"/>
                </a:rPr>
                <a:t>Loa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00840" y="1447560"/>
              <a:ext cx="51408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00840" y="2071440"/>
              <a:ext cx="51408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00840" y="4008240"/>
              <a:ext cx="51408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14920" y="3666960"/>
              <a:ext cx="7711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  <a:ea typeface="Times New Roman"/>
                </a:rPr>
                <a:t>Prima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  <a:ea typeface="Times New Roman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00840" y="5608440"/>
              <a:ext cx="51408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7287120" y="3656160"/>
              <a:ext cx="341280" cy="1525680"/>
              <a:chOff x="7287120" y="3656160"/>
              <a:chExt cx="341280" cy="1525680"/>
            </a:xfrm>
          </p:grpSpPr>
          <p:sp>
            <p:nvSpPr>
              <p:cNvPr id="130" name=""/>
              <p:cNvSpPr/>
              <p:nvPr/>
            </p:nvSpPr>
            <p:spPr>
              <a:xfrm>
                <a:off x="7287120" y="3657240"/>
                <a:ext cx="170640" cy="76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7287120" y="4417560"/>
                <a:ext cx="170640" cy="76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7457760" y="4419000"/>
                <a:ext cx="170640" cy="76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7457760" y="3655800"/>
                <a:ext cx="170640" cy="76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7287120" y="5256360"/>
              <a:ext cx="341280" cy="1525680"/>
              <a:chOff x="7287120" y="5256360"/>
              <a:chExt cx="341280" cy="1525680"/>
            </a:xfrm>
          </p:grpSpPr>
          <p:sp>
            <p:nvSpPr>
              <p:cNvPr id="135" name=""/>
              <p:cNvSpPr/>
              <p:nvPr/>
            </p:nvSpPr>
            <p:spPr>
              <a:xfrm>
                <a:off x="7287120" y="5257440"/>
                <a:ext cx="170640" cy="76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7287120" y="6017760"/>
                <a:ext cx="170640" cy="76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7457760" y="6019200"/>
                <a:ext cx="170640" cy="76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 flipV="1">
                <a:off x="7457760" y="5256000"/>
                <a:ext cx="170640" cy="76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7287120" y="1217880"/>
              <a:ext cx="341280" cy="458640"/>
              <a:chOff x="7287120" y="1217880"/>
              <a:chExt cx="341280" cy="458640"/>
            </a:xfrm>
          </p:grpSpPr>
          <p:sp>
            <p:nvSpPr>
              <p:cNvPr id="140" name=""/>
              <p:cNvSpPr/>
              <p:nvPr/>
            </p:nvSpPr>
            <p:spPr>
              <a:xfrm>
                <a:off x="7287120" y="1218960"/>
                <a:ext cx="17064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7287120" y="1445760"/>
                <a:ext cx="17064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7457760" y="1447200"/>
                <a:ext cx="17064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 flipV="1">
                <a:off x="7457760" y="1217520"/>
                <a:ext cx="17064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7287480" y="1833480"/>
              <a:ext cx="16992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7287480" y="2061000"/>
              <a:ext cx="16992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7457760" y="2062080"/>
              <a:ext cx="17064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7457760" y="1832400"/>
              <a:ext cx="17064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23720" y="1249200"/>
              <a:ext cx="1285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gram is created 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editor and stor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n disk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23720" y="1933200"/>
              <a:ext cx="128556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rocessor 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cesses the code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29480" y="4290840"/>
              <a:ext cx="12855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ader puts 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 memory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23720" y="5584680"/>
              <a:ext cx="1285560" cy="9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PU takes eac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truction a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cutes it, possibl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ing new 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lues as the 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cutes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97360" y="2452320"/>
              <a:ext cx="119988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38200" y="2595240"/>
              <a:ext cx="714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incho"/>
                </a:rPr>
                <a:t>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00840" y="2680920"/>
              <a:ext cx="51408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7287120" y="2440440"/>
              <a:ext cx="341280" cy="458640"/>
              <a:chOff x="7287120" y="2440440"/>
              <a:chExt cx="341280" cy="458640"/>
            </a:xfrm>
          </p:grpSpPr>
          <p:sp>
            <p:nvSpPr>
              <p:cNvPr id="156" name=""/>
              <p:cNvSpPr/>
              <p:nvPr/>
            </p:nvSpPr>
            <p:spPr>
              <a:xfrm>
                <a:off x="7287120" y="2441520"/>
                <a:ext cx="17064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7287120" y="2668320"/>
                <a:ext cx="17064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7457760" y="2669760"/>
                <a:ext cx="17064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7457760" y="2440080"/>
                <a:ext cx="17064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7623720" y="2465280"/>
              <a:ext cx="1285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piler creat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ject code and stor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t on disk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00840" y="3288960"/>
              <a:ext cx="51408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87480" y="3049200"/>
              <a:ext cx="16992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7287480" y="3277440"/>
              <a:ext cx="16992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7457760" y="3277800"/>
              <a:ext cx="17064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flipV="1">
              <a:off x="7457760" y="3048840"/>
              <a:ext cx="17064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3720" y="2998440"/>
              <a:ext cx="12855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nker links the objec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de with the libraries,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</a:t>
              </a: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.out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es it on dis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4797360" y="1209600"/>
              <a:ext cx="1199880" cy="457200"/>
              <a:chOff x="4797360" y="1209600"/>
              <a:chExt cx="1199880" cy="457200"/>
            </a:xfrm>
          </p:grpSpPr>
          <p:sp>
            <p:nvSpPr>
              <p:cNvPr id="168" name=""/>
              <p:cNvSpPr/>
              <p:nvPr/>
            </p:nvSpPr>
            <p:spPr>
              <a:xfrm>
                <a:off x="4797360" y="1209600"/>
                <a:ext cx="119988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797360" y="1209600"/>
                <a:ext cx="119988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24960" y="1353600"/>
                <a:ext cx="54360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Edito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4797360" y="1842840"/>
              <a:ext cx="1199880" cy="457200"/>
              <a:chOff x="4797360" y="1842840"/>
              <a:chExt cx="1199880" cy="457200"/>
            </a:xfrm>
          </p:grpSpPr>
          <p:sp>
            <p:nvSpPr>
              <p:cNvPr id="172" name=""/>
              <p:cNvSpPr/>
              <p:nvPr/>
            </p:nvSpPr>
            <p:spPr>
              <a:xfrm>
                <a:off x="4797360" y="1842840"/>
                <a:ext cx="119988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4797360" y="1842840"/>
                <a:ext cx="1199880" cy="457200"/>
                <a:chOff x="4797360" y="1842840"/>
                <a:chExt cx="1199880" cy="4572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4797360" y="1842840"/>
                  <a:ext cx="1199880" cy="457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867920" y="1976760"/>
                  <a:ext cx="105804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Preprocesso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6" name=""/>
            <p:cNvGrpSpPr/>
            <p:nvPr/>
          </p:nvGrpSpPr>
          <p:grpSpPr>
            <a:xfrm>
              <a:off x="4797360" y="3060360"/>
              <a:ext cx="1199880" cy="457200"/>
              <a:chOff x="4797360" y="3060360"/>
              <a:chExt cx="1199880" cy="457200"/>
            </a:xfrm>
          </p:grpSpPr>
          <p:sp>
            <p:nvSpPr>
              <p:cNvPr id="177" name=""/>
              <p:cNvSpPr/>
              <p:nvPr/>
            </p:nvSpPr>
            <p:spPr>
              <a:xfrm>
                <a:off x="4797360" y="3060360"/>
                <a:ext cx="119988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4797360" y="3060360"/>
                <a:ext cx="1199880" cy="457200"/>
                <a:chOff x="4797360" y="3060360"/>
                <a:chExt cx="1199880" cy="45720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4797360" y="3060360"/>
                  <a:ext cx="1199880" cy="457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124960" y="3195000"/>
                  <a:ext cx="54360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Link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4797360" y="5379840"/>
              <a:ext cx="1199880" cy="457200"/>
              <a:chOff x="4797360" y="5379840"/>
              <a:chExt cx="1199880" cy="45720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4797360" y="5379840"/>
                <a:ext cx="1199880" cy="457200"/>
                <a:chOff x="4797360" y="5379840"/>
                <a:chExt cx="1199880" cy="4572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4797360" y="5379840"/>
                  <a:ext cx="1199880" cy="457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382360" y="5659200"/>
                  <a:ext cx="29160" cy="5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4797360" y="5379840"/>
                <a:ext cx="1199880" cy="457200"/>
                <a:chOff x="4797360" y="5379840"/>
                <a:chExt cx="1199880" cy="45720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4797360" y="5379840"/>
                  <a:ext cx="1199880" cy="457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253840" y="5532120"/>
                  <a:ext cx="28620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CP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8" name=""/>
            <p:cNvSpPr/>
            <p:nvPr/>
          </p:nvSpPr>
          <p:spPr>
            <a:xfrm>
              <a:off x="6514920" y="5254560"/>
              <a:ext cx="7711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  <a:ea typeface="Times New Roman"/>
                </a:rPr>
                <a:t>Prima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  <a:ea typeface="Times New Roman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6514920" y="5519520"/>
              <a:ext cx="772920" cy="1212840"/>
              <a:chOff x="6514920" y="5519520"/>
              <a:chExt cx="772920" cy="1212840"/>
            </a:xfrm>
          </p:grpSpPr>
          <p:sp>
            <p:nvSpPr>
              <p:cNvPr id="190" name=""/>
              <p:cNvSpPr/>
              <p:nvPr/>
            </p:nvSpPr>
            <p:spPr>
              <a:xfrm>
                <a:off x="6837120" y="6283080"/>
                <a:ext cx="86400" cy="33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514920" y="5519520"/>
                <a:ext cx="766800" cy="1212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90"/>
                    </a:lnTo>
                    <a:lnTo>
                      <a:pt x="0" y="19990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516000" y="5520600"/>
                <a:ext cx="77184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516000" y="5673240"/>
                <a:ext cx="771840" cy="152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516000" y="5823000"/>
                <a:ext cx="77184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516000" y="5974920"/>
                <a:ext cx="77184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516000" y="6126120"/>
                <a:ext cx="77184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516000" y="6278040"/>
                <a:ext cx="771840" cy="3031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58"/>
                    </a:lnTo>
                    <a:lnTo>
                      <a:pt x="0" y="19958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516000" y="6581160"/>
                <a:ext cx="77184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858360" y="6278040"/>
                <a:ext cx="86400" cy="32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6514920" y="3931920"/>
              <a:ext cx="772920" cy="1214640"/>
              <a:chOff x="6514920" y="3931920"/>
              <a:chExt cx="772920" cy="1214640"/>
            </a:xfrm>
          </p:grpSpPr>
          <p:sp>
            <p:nvSpPr>
              <p:cNvPr id="201" name=""/>
              <p:cNvSpPr/>
              <p:nvPr/>
            </p:nvSpPr>
            <p:spPr>
              <a:xfrm>
                <a:off x="6514920" y="3931920"/>
                <a:ext cx="766800" cy="1212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90"/>
                    </a:lnTo>
                    <a:lnTo>
                      <a:pt x="0" y="19990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516000" y="3933000"/>
                <a:ext cx="77184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516000" y="4085640"/>
                <a:ext cx="771840" cy="152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6516000" y="4237920"/>
                <a:ext cx="771840" cy="908640"/>
                <a:chOff x="6516000" y="4237920"/>
                <a:chExt cx="771840" cy="9086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6836760" y="4697280"/>
                  <a:ext cx="86400" cy="33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516000" y="4237920"/>
                  <a:ext cx="771840" cy="151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516000" y="4389120"/>
                  <a:ext cx="771840" cy="151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6516000" y="4540320"/>
                  <a:ext cx="771840" cy="151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516000" y="4692240"/>
                  <a:ext cx="771840" cy="3031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58"/>
                      </a:lnTo>
                      <a:lnTo>
                        <a:pt x="0" y="19958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516000" y="4995360"/>
                  <a:ext cx="771840" cy="151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858360" y="4692240"/>
                  <a:ext cx="86400" cy="32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2" name=""/>
            <p:cNvGrpSpPr/>
            <p:nvPr/>
          </p:nvGrpSpPr>
          <p:grpSpPr>
            <a:xfrm>
              <a:off x="6514920" y="1293480"/>
              <a:ext cx="771120" cy="309600"/>
              <a:chOff x="6514920" y="1293480"/>
              <a:chExt cx="771120" cy="30960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6514920" y="1294560"/>
                <a:ext cx="771120" cy="308520"/>
                <a:chOff x="6514920" y="1294560"/>
                <a:chExt cx="771120" cy="3085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6514920" y="1526040"/>
                  <a:ext cx="7711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515640" y="1333800"/>
                  <a:ext cx="770400" cy="22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514920" y="1294560"/>
                  <a:ext cx="7711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" name=""/>
              <p:cNvSpPr/>
              <p:nvPr/>
            </p:nvSpPr>
            <p:spPr>
              <a:xfrm>
                <a:off x="6514920" y="152568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515640" y="1332720"/>
                <a:ext cx="77040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522480" y="1524960"/>
                <a:ext cx="75636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714720" y="1394640"/>
                <a:ext cx="3715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520320" y="1326240"/>
                <a:ext cx="76212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514920" y="129348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6514920" y="1915920"/>
              <a:ext cx="771120" cy="309600"/>
              <a:chOff x="6514920" y="1915920"/>
              <a:chExt cx="771120" cy="3096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6514920" y="1917000"/>
                <a:ext cx="771120" cy="308520"/>
                <a:chOff x="6514920" y="1917000"/>
                <a:chExt cx="771120" cy="30852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6514920" y="2148480"/>
                  <a:ext cx="7711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515640" y="1956240"/>
                  <a:ext cx="770400" cy="22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514920" y="1917000"/>
                  <a:ext cx="7711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6514920" y="214812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515640" y="1955160"/>
                <a:ext cx="77040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522480" y="2147400"/>
                <a:ext cx="75636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714720" y="2017080"/>
                <a:ext cx="3715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520320" y="1948680"/>
                <a:ext cx="76212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514920" y="191592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6514920" y="2531880"/>
              <a:ext cx="771120" cy="309600"/>
              <a:chOff x="6514920" y="2531880"/>
              <a:chExt cx="771120" cy="30960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6514920" y="2532960"/>
                <a:ext cx="771120" cy="308520"/>
                <a:chOff x="6514920" y="2532960"/>
                <a:chExt cx="771120" cy="3085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6514920" y="2764440"/>
                  <a:ext cx="7711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515640" y="2572200"/>
                  <a:ext cx="770400" cy="22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514920" y="2532960"/>
                  <a:ext cx="7711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6514920" y="276408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515640" y="2571120"/>
                <a:ext cx="77040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522480" y="2763360"/>
                <a:ext cx="75636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714720" y="2633040"/>
                <a:ext cx="3715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520320" y="2564640"/>
                <a:ext cx="76212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514920" y="253188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6514920" y="3135240"/>
              <a:ext cx="771120" cy="309240"/>
              <a:chOff x="6514920" y="3135240"/>
              <a:chExt cx="771120" cy="30924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6514920" y="3136320"/>
                <a:ext cx="771120" cy="308160"/>
                <a:chOff x="6514920" y="3136320"/>
                <a:chExt cx="771120" cy="3081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514920" y="3367800"/>
                  <a:ext cx="77112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515640" y="3175560"/>
                  <a:ext cx="770400" cy="22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6514920" y="3136320"/>
                  <a:ext cx="77112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0" name=""/>
              <p:cNvSpPr/>
              <p:nvPr/>
            </p:nvSpPr>
            <p:spPr>
              <a:xfrm>
                <a:off x="6514920" y="336708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515640" y="3174480"/>
                <a:ext cx="770400" cy="228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522480" y="3366360"/>
                <a:ext cx="75636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714720" y="3236040"/>
                <a:ext cx="3715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20320" y="3168000"/>
                <a:ext cx="76212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514920" y="313524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5015160" y="4509720"/>
              <a:ext cx="772920" cy="309600"/>
              <a:chOff x="5015160" y="4509720"/>
              <a:chExt cx="772920" cy="309600"/>
            </a:xfrm>
          </p:grpSpPr>
          <p:grpSp>
            <p:nvGrpSpPr>
              <p:cNvPr id="257" name=""/>
              <p:cNvGrpSpPr/>
              <p:nvPr/>
            </p:nvGrpSpPr>
            <p:grpSpPr>
              <a:xfrm>
                <a:off x="5015520" y="4510080"/>
                <a:ext cx="772560" cy="309240"/>
                <a:chOff x="5015520" y="4510080"/>
                <a:chExt cx="772560" cy="3092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5015520" y="4742280"/>
                  <a:ext cx="77256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15880" y="4549320"/>
                  <a:ext cx="772200" cy="2293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015520" y="4510080"/>
                  <a:ext cx="77256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1" name=""/>
              <p:cNvSpPr/>
              <p:nvPr/>
            </p:nvSpPr>
            <p:spPr>
              <a:xfrm>
                <a:off x="5015160" y="4741200"/>
                <a:ext cx="77256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015520" y="4548960"/>
                <a:ext cx="77184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022720" y="4741200"/>
                <a:ext cx="75744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214960" y="4610160"/>
                <a:ext cx="37224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021280" y="4542120"/>
                <a:ext cx="76320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015160" y="4509720"/>
                <a:ext cx="77256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400720" y="4236840"/>
              <a:ext cx="360" cy="304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5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0" y="-1201680"/>
            <a:ext cx="5486400" cy="8439120"/>
            <a:chOff x="0" y="-1201680"/>
            <a:chExt cx="5486400" cy="8439120"/>
          </a:xfrm>
        </p:grpSpPr>
        <p:sp>
          <p:nvSpPr>
            <p:cNvPr id="269" name=""/>
            <p:cNvSpPr/>
            <p:nvPr/>
          </p:nvSpPr>
          <p:spPr>
            <a:xfrm>
              <a:off x="0" y="311400"/>
              <a:ext cx="5486400" cy="692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0" y="-1201680"/>
              <a:ext cx="548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0" y="7237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067A9-F70A-4123-8274-92996CB691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4 Hardware Tren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year or two computers approximately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amount of memory they cont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 used to execute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amount of secondary storage they cont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ary storage (such as disk storage) is used to to hold programs and data 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ir processor spee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peed at which computers execute their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75F91-CAF5-4F34-93A3-1D9BE455DA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5 History of the Interne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ternet en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Quick and easy communication via e-mai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national networking of compu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 switch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fers digital data via small pac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s multiple users to send and receive data simultaneous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entralized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one part of the Internet fails, other parts can still oper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dwid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rrying capacity of communications l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5AA06-DC57-4630-BE07-56E2422C79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6 History of the World Wide Web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ld Wide We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s users to locate and view multimedia-based documents on almost any su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kes information instantly and conveniently accessible worldwi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kes it possible for individuals and small businesses to get worldwide expos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 changing the way business is don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2E632-2102-430B-83FA-E8F37CC29F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olo 1 – Introduction to Computers and C++ Programming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"/>
          <p:cNvSpPr/>
          <p:nvPr/>
        </p:nvSpPr>
        <p:spPr>
          <a:xfrm>
            <a:off x="471240" y="1371600"/>
            <a:ext cx="784944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16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History of the World Wide Web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17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General Notes About C++ and This Book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18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Introduction to C++ Programming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19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A Simple Program: Printing a Line of Text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20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Another Simple Program: Adding Two Integers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21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Memory Concepts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22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Arithmetic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23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Decision Making: Equality and Relational Operators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24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Thinking About Objects: Introduction to Object Technology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and the Unified Modeling Language</a:t>
            </a:r>
            <a:r>
              <a:rPr b="1" lang="en-US" sz="1300" spc="-1" strike="noStrike">
                <a:solidFill>
                  <a:srgbClr val="ff3300"/>
                </a:solidFill>
                <a:latin typeface="AvantGarde"/>
                <a:ea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3A54C-E696-42A1-B825-11B419A015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7 General Notes About C++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nd This Book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 is geared toward novice program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ing clarity is st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and C++ are portable languag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s written in C and C++ can run on many different compu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36063-4730-4699-B78F-290F408DAD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8 Introduction to C++ Programm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cilitates a structured and disciplined approach to computer program desig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are several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examples illustrate many important features of C+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example is analyzed one statement at a tim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F16D7-6797-40FE-A2CB-F2A2562BE3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ommen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buClr>
                <a:srgbClr val="00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Loa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iostream&gt;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1 Pr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"Welcome to C++\n"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2 exit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0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0" y="0"/>
            <a:ext cx="6780960" cy="3657600"/>
            <a:chOff x="0" y="0"/>
            <a:chExt cx="6780960" cy="3657600"/>
          </a:xfrm>
        </p:grpSpPr>
        <p:grpSp>
          <p:nvGrpSpPr>
            <p:cNvPr id="284" name=""/>
            <p:cNvGrpSpPr/>
            <p:nvPr/>
          </p:nvGrpSpPr>
          <p:grpSpPr>
            <a:xfrm>
              <a:off x="0" y="0"/>
              <a:ext cx="6780960" cy="390960"/>
              <a:chOff x="0" y="0"/>
              <a:chExt cx="6780960" cy="390960"/>
            </a:xfrm>
          </p:grpSpPr>
          <p:sp>
            <p:nvSpPr>
              <p:cNvPr id="285" name=""/>
              <p:cNvSpPr/>
              <p:nvPr/>
            </p:nvSpPr>
            <p:spPr>
              <a:xfrm>
                <a:off x="0" y="0"/>
                <a:ext cx="6780960" cy="390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0"/>
                <a:ext cx="6780960" cy="390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.2: fig01_0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0" y="390960"/>
              <a:ext cx="6780960" cy="362880"/>
              <a:chOff x="0" y="390960"/>
              <a:chExt cx="6780960" cy="362880"/>
            </a:xfrm>
          </p:grpSpPr>
          <p:sp>
            <p:nvSpPr>
              <p:cNvPr id="288" name=""/>
              <p:cNvSpPr/>
              <p:nvPr/>
            </p:nvSpPr>
            <p:spPr>
              <a:xfrm>
                <a:off x="0" y="39096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0" y="39096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 first program in C+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0" y="753840"/>
              <a:ext cx="6780960" cy="362880"/>
              <a:chOff x="0" y="753840"/>
              <a:chExt cx="6780960" cy="362880"/>
            </a:xfrm>
          </p:grpSpPr>
          <p:sp>
            <p:nvSpPr>
              <p:cNvPr id="291" name=""/>
              <p:cNvSpPr/>
              <p:nvPr/>
            </p:nvSpPr>
            <p:spPr>
              <a:xfrm>
                <a:off x="0" y="75384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0" y="75384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0" y="1117080"/>
              <a:ext cx="6780960" cy="362880"/>
              <a:chOff x="0" y="1117080"/>
              <a:chExt cx="6780960" cy="362880"/>
            </a:xfrm>
          </p:grpSpPr>
          <p:sp>
            <p:nvSpPr>
              <p:cNvPr id="294" name=""/>
              <p:cNvSpPr/>
              <p:nvPr/>
            </p:nvSpPr>
            <p:spPr>
              <a:xfrm>
                <a:off x="0" y="111708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11708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0" y="1479960"/>
              <a:ext cx="6780960" cy="362880"/>
              <a:chOff x="0" y="1479960"/>
              <a:chExt cx="6780960" cy="362880"/>
            </a:xfrm>
          </p:grpSpPr>
          <p:sp>
            <p:nvSpPr>
              <p:cNvPr id="297" name=""/>
              <p:cNvSpPr/>
              <p:nvPr/>
            </p:nvSpPr>
            <p:spPr>
              <a:xfrm>
                <a:off x="0" y="147996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0" y="147996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0" y="1842840"/>
              <a:ext cx="6780960" cy="362880"/>
              <a:chOff x="0" y="1842840"/>
              <a:chExt cx="6780960" cy="362880"/>
            </a:xfrm>
          </p:grpSpPr>
          <p:sp>
            <p:nvSpPr>
              <p:cNvPr id="300" name=""/>
              <p:cNvSpPr/>
              <p:nvPr/>
            </p:nvSpPr>
            <p:spPr>
              <a:xfrm>
                <a:off x="0" y="184284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0" y="184284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0" y="2205720"/>
              <a:ext cx="6780960" cy="362880"/>
              <a:chOff x="0" y="2205720"/>
              <a:chExt cx="6780960" cy="362880"/>
            </a:xfrm>
          </p:grpSpPr>
          <p:sp>
            <p:nvSpPr>
              <p:cNvPr id="303" name=""/>
              <p:cNvSpPr/>
              <p:nvPr/>
            </p:nvSpPr>
            <p:spPr>
              <a:xfrm>
                <a:off x="0" y="220572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0" y="220572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d::cout &lt;&lt; "Welcome to C++!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0" y="2568960"/>
              <a:ext cx="6780960" cy="362880"/>
              <a:chOff x="0" y="2568960"/>
              <a:chExt cx="6780960" cy="362880"/>
            </a:xfrm>
          </p:grpSpPr>
          <p:sp>
            <p:nvSpPr>
              <p:cNvPr id="306" name=""/>
              <p:cNvSpPr/>
              <p:nvPr/>
            </p:nvSpPr>
            <p:spPr>
              <a:xfrm>
                <a:off x="0" y="256896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0" y="256896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0" y="2931840"/>
              <a:ext cx="6780960" cy="362880"/>
              <a:chOff x="0" y="2931840"/>
              <a:chExt cx="6780960" cy="362880"/>
            </a:xfrm>
          </p:grpSpPr>
          <p:sp>
            <p:nvSpPr>
              <p:cNvPr id="309" name=""/>
              <p:cNvSpPr/>
              <p:nvPr/>
            </p:nvSpPr>
            <p:spPr>
              <a:xfrm>
                <a:off x="0" y="293184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93184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dicate that program ended successfull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0" y="3294720"/>
              <a:ext cx="6780960" cy="362880"/>
              <a:chOff x="0" y="3294720"/>
              <a:chExt cx="6780960" cy="362880"/>
            </a:xfrm>
          </p:grpSpPr>
          <p:sp>
            <p:nvSpPr>
              <p:cNvPr id="312" name=""/>
              <p:cNvSpPr/>
              <p:nvPr/>
            </p:nvSpPr>
            <p:spPr>
              <a:xfrm>
                <a:off x="0" y="329472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0" y="329472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4" name=""/>
          <p:cNvSpPr/>
          <p:nvPr/>
        </p:nvSpPr>
        <p:spPr>
          <a:xfrm>
            <a:off x="0" y="3962520"/>
            <a:ext cx="6781680" cy="307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elcome to C++!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28800" y="944280"/>
            <a:ext cx="6781680" cy="3169440"/>
            <a:chOff x="1828800" y="944280"/>
            <a:chExt cx="6781680" cy="3169440"/>
          </a:xfrm>
        </p:grpSpPr>
        <p:sp>
          <p:nvSpPr>
            <p:cNvPr id="316" name=""/>
            <p:cNvSpPr/>
            <p:nvPr/>
          </p:nvSpPr>
          <p:spPr>
            <a:xfrm>
              <a:off x="4038480" y="1935000"/>
              <a:ext cx="4572000" cy="2178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preprocessor directive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 to the C++ preprocess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nes beginning wit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#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e preprocessor directiv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#include &lt;iostream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ells the preprocessor to include the contents of the fi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&lt;iostream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includes input/output operations (such as printing to the screen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 flipV="1">
              <a:off x="1828800" y="944280"/>
              <a:ext cx="2209680" cy="13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2742840" y="428760"/>
            <a:ext cx="5715360" cy="1321560"/>
            <a:chOff x="2742840" y="428760"/>
            <a:chExt cx="5715360" cy="1321560"/>
          </a:xfrm>
        </p:grpSpPr>
        <p:sp>
          <p:nvSpPr>
            <p:cNvPr id="319" name=""/>
            <p:cNvSpPr/>
            <p:nvPr/>
          </p:nvSpPr>
          <p:spPr>
            <a:xfrm flipH="1" flipV="1">
              <a:off x="2742840" y="533160"/>
              <a:ext cx="12193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86200" y="428760"/>
              <a:ext cx="4572000" cy="1321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Com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ritten betwe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/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/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r following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//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rove program readability and do not cause the computer to perform any a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142640" y="1707840"/>
            <a:ext cx="7391520" cy="3165480"/>
            <a:chOff x="1142640" y="1707840"/>
            <a:chExt cx="7391520" cy="3165480"/>
          </a:xfrm>
        </p:grpSpPr>
        <p:sp>
          <p:nvSpPr>
            <p:cNvPr id="322" name=""/>
            <p:cNvSpPr/>
            <p:nvPr/>
          </p:nvSpPr>
          <p:spPr>
            <a:xfrm>
              <a:off x="3962160" y="3308400"/>
              <a:ext cx="4572000" cy="1564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++ programs contain one or more functions, one of which must b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enthesis are used to indicate a fun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ans th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"returns" an integer value.  More in Chapter 3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 flipV="1">
              <a:off x="1142640" y="1707840"/>
              <a:ext cx="281916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457200" y="2057400"/>
            <a:ext cx="7696080" cy="3476160"/>
            <a:chOff x="457200" y="2057400"/>
            <a:chExt cx="7696080" cy="3476160"/>
          </a:xfrm>
        </p:grpSpPr>
        <p:sp>
          <p:nvSpPr>
            <p:cNvPr id="325" name=""/>
            <p:cNvSpPr/>
            <p:nvPr/>
          </p:nvSpPr>
          <p:spPr>
            <a:xfrm>
              <a:off x="4038480" y="4952880"/>
              <a:ext cx="4114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left br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{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egins the body of every function and a right br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nds 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457200" y="2057400"/>
              <a:ext cx="3581280" cy="31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2209680" y="2361960"/>
            <a:ext cx="4724640" cy="3945960"/>
            <a:chOff x="2209680" y="2361960"/>
            <a:chExt cx="4724640" cy="3945960"/>
          </a:xfrm>
        </p:grpSpPr>
        <p:sp>
          <p:nvSpPr>
            <p:cNvPr id="328" name=""/>
            <p:cNvSpPr/>
            <p:nvPr/>
          </p:nvSpPr>
          <p:spPr>
            <a:xfrm>
              <a:off x="2209680" y="4267080"/>
              <a:ext cx="4724640" cy="2040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ints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haracters contained between the quotation marks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entire line, includ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d::co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&lt;&lt;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perator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"Welcome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o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++!\n"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micol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, is called a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ll statements must end with a semicol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2286000" y="2361960"/>
              <a:ext cx="129528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80880" y="3200040"/>
            <a:ext cx="3276720" cy="2642760"/>
            <a:chOff x="380880" y="3200040"/>
            <a:chExt cx="3276720" cy="2642760"/>
          </a:xfrm>
        </p:grpSpPr>
        <p:sp>
          <p:nvSpPr>
            <p:cNvPr id="331" name=""/>
            <p:cNvSpPr/>
            <p:nvPr/>
          </p:nvSpPr>
          <p:spPr>
            <a:xfrm flipH="1" flipV="1">
              <a:off x="1142640" y="3200040"/>
              <a:ext cx="15228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80880" y="4648320"/>
              <a:ext cx="3276720" cy="1194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tur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 way to exit a function from a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turn 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in this case, means that the program terminated normal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CB7F6-B15C-4C76-AA3E-DC395EB0FD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9 A Simple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inting a Line of Tex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d::c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ndard output stream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nected” to the scr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pecifies the "namespace" whic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elongs 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: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 be removed through the use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&l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eam insertion operat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lue to the right of the operator (right operand) inserted into output stream (which is connected to the scre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cout &lt;&lt; “Welcome to C++!\n”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\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scape charact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icates that a “special” character is to be outpu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3AEBE-A79A-42E4-AF02-EDF513BD83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9 A Simple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inting a Line of Tex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multiple ways to print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llowing are more examp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531800" y="1143000"/>
          <a:ext cx="5938920" cy="397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1800" y="1143000"/>
                    <a:ext cx="5938920" cy="39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06B45-58DE-4F19-8EEB-7B24A08055D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iostream&gt;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Pr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"Welcome"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Pr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to C++!"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3 newlin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4 exit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0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4038480"/>
            <a:ext cx="678168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elcome to C++!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0" y="0"/>
            <a:ext cx="6780960" cy="3657600"/>
            <a:chOff x="0" y="0"/>
            <a:chExt cx="6780960" cy="3657600"/>
          </a:xfrm>
        </p:grpSpPr>
        <p:grpSp>
          <p:nvGrpSpPr>
            <p:cNvPr id="342" name=""/>
            <p:cNvGrpSpPr/>
            <p:nvPr/>
          </p:nvGrpSpPr>
          <p:grpSpPr>
            <a:xfrm>
              <a:off x="0" y="0"/>
              <a:ext cx="6780960" cy="332280"/>
              <a:chOff x="0" y="0"/>
              <a:chExt cx="6780960" cy="332280"/>
            </a:xfrm>
          </p:grpSpPr>
          <p:sp>
            <p:nvSpPr>
              <p:cNvPr id="343" name=""/>
              <p:cNvSpPr/>
              <p:nvPr/>
            </p:nvSpPr>
            <p:spPr>
              <a:xfrm>
                <a:off x="0" y="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0" y="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.4: fig01_0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0" y="332280"/>
              <a:ext cx="6780960" cy="332280"/>
              <a:chOff x="0" y="332280"/>
              <a:chExt cx="6780960" cy="332280"/>
            </a:xfrm>
          </p:grpSpPr>
          <p:sp>
            <p:nvSpPr>
              <p:cNvPr id="346" name=""/>
              <p:cNvSpPr/>
              <p:nvPr/>
            </p:nvSpPr>
            <p:spPr>
              <a:xfrm>
                <a:off x="0" y="33228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0" y="33228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ing a line with multiple statem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0" y="664920"/>
              <a:ext cx="6780960" cy="332640"/>
              <a:chOff x="0" y="664920"/>
              <a:chExt cx="6780960" cy="332640"/>
            </a:xfrm>
          </p:grpSpPr>
          <p:sp>
            <p:nvSpPr>
              <p:cNvPr id="349" name=""/>
              <p:cNvSpPr/>
              <p:nvPr/>
            </p:nvSpPr>
            <p:spPr>
              <a:xfrm>
                <a:off x="0" y="664920"/>
                <a:ext cx="6780960" cy="332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0" y="664920"/>
                <a:ext cx="6780960" cy="332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0" y="997560"/>
              <a:ext cx="6780960" cy="332280"/>
              <a:chOff x="0" y="997560"/>
              <a:chExt cx="6780960" cy="332280"/>
            </a:xfrm>
          </p:grpSpPr>
          <p:sp>
            <p:nvSpPr>
              <p:cNvPr id="352" name=""/>
              <p:cNvSpPr/>
              <p:nvPr/>
            </p:nvSpPr>
            <p:spPr>
              <a:xfrm>
                <a:off x="0" y="99756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0" y="99756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0" y="1329840"/>
              <a:ext cx="6780960" cy="332280"/>
              <a:chOff x="0" y="1329840"/>
              <a:chExt cx="6780960" cy="332280"/>
            </a:xfrm>
          </p:grpSpPr>
          <p:sp>
            <p:nvSpPr>
              <p:cNvPr id="355" name=""/>
              <p:cNvSpPr/>
              <p:nvPr/>
            </p:nvSpPr>
            <p:spPr>
              <a:xfrm>
                <a:off x="0" y="132984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0" y="132984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0" y="1662480"/>
              <a:ext cx="6780960" cy="332280"/>
              <a:chOff x="0" y="1662480"/>
              <a:chExt cx="6780960" cy="332280"/>
            </a:xfrm>
          </p:grpSpPr>
          <p:sp>
            <p:nvSpPr>
              <p:cNvPr id="358" name=""/>
              <p:cNvSpPr/>
              <p:nvPr/>
            </p:nvSpPr>
            <p:spPr>
              <a:xfrm>
                <a:off x="0" y="166248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166248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0" y="1994760"/>
              <a:ext cx="6780960" cy="332640"/>
              <a:chOff x="0" y="1994760"/>
              <a:chExt cx="6780960" cy="332640"/>
            </a:xfrm>
          </p:grpSpPr>
          <p:sp>
            <p:nvSpPr>
              <p:cNvPr id="361" name=""/>
              <p:cNvSpPr/>
              <p:nvPr/>
            </p:nvSpPr>
            <p:spPr>
              <a:xfrm>
                <a:off x="0" y="1994760"/>
                <a:ext cx="6780960" cy="332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1994760"/>
                <a:ext cx="6780960" cy="332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d::cout &lt;&lt; "Welcome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0" y="2327400"/>
              <a:ext cx="6780960" cy="332280"/>
              <a:chOff x="0" y="2327400"/>
              <a:chExt cx="6780960" cy="332280"/>
            </a:xfrm>
          </p:grpSpPr>
          <p:sp>
            <p:nvSpPr>
              <p:cNvPr id="364" name=""/>
              <p:cNvSpPr/>
              <p:nvPr/>
            </p:nvSpPr>
            <p:spPr>
              <a:xfrm>
                <a:off x="0" y="232740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232740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d::cout &lt;&lt; "to C++!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0" y="2660040"/>
              <a:ext cx="6780960" cy="332280"/>
              <a:chOff x="0" y="2660040"/>
              <a:chExt cx="6780960" cy="332280"/>
            </a:xfrm>
          </p:grpSpPr>
          <p:sp>
            <p:nvSpPr>
              <p:cNvPr id="367" name=""/>
              <p:cNvSpPr/>
              <p:nvPr/>
            </p:nvSpPr>
            <p:spPr>
              <a:xfrm>
                <a:off x="0" y="266004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266004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0" y="2992320"/>
              <a:ext cx="6780960" cy="332280"/>
              <a:chOff x="0" y="2992320"/>
              <a:chExt cx="6780960" cy="332280"/>
            </a:xfrm>
          </p:grpSpPr>
          <p:sp>
            <p:nvSpPr>
              <p:cNvPr id="370" name=""/>
              <p:cNvSpPr/>
              <p:nvPr/>
            </p:nvSpPr>
            <p:spPr>
              <a:xfrm>
                <a:off x="0" y="299232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299232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dicate that program ended successfull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0" y="3324960"/>
              <a:ext cx="6780960" cy="332640"/>
              <a:chOff x="0" y="3324960"/>
              <a:chExt cx="6780960" cy="332640"/>
            </a:xfrm>
          </p:grpSpPr>
          <p:sp>
            <p:nvSpPr>
              <p:cNvPr id="373" name=""/>
              <p:cNvSpPr/>
              <p:nvPr/>
            </p:nvSpPr>
            <p:spPr>
              <a:xfrm>
                <a:off x="0" y="3324960"/>
                <a:ext cx="6780960" cy="332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3324960"/>
                <a:ext cx="6780960" cy="332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5" name=""/>
          <p:cNvGrpSpPr/>
          <p:nvPr/>
        </p:nvGrpSpPr>
        <p:grpSpPr>
          <a:xfrm>
            <a:off x="914400" y="2666880"/>
            <a:ext cx="6095880" cy="2562120"/>
            <a:chOff x="914400" y="2666880"/>
            <a:chExt cx="6095880" cy="2562120"/>
          </a:xfrm>
        </p:grpSpPr>
        <p:sp>
          <p:nvSpPr>
            <p:cNvPr id="376" name=""/>
            <p:cNvSpPr/>
            <p:nvPr/>
          </p:nvSpPr>
          <p:spPr>
            <a:xfrm>
              <a:off x="2362320" y="4648320"/>
              <a:ext cx="4647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nless new lin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'\n'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specified, the text continues on the same lin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 flipV="1">
              <a:off x="914400" y="4419360"/>
              <a:ext cx="14479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 flipV="1">
              <a:off x="2133360" y="2666880"/>
              <a:ext cx="106668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9919D-9CB8-4D77-A17C-F5639A266B7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iostream&gt;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Pr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"Welcome"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newlin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3 Pr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to"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4 newlin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5 newlin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6 Pr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C++!"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7 newlin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8 exit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0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0" y="0"/>
            <a:ext cx="6780960" cy="3657240"/>
            <a:chOff x="0" y="0"/>
            <a:chExt cx="6780960" cy="3657240"/>
          </a:xfrm>
        </p:grpSpPr>
        <p:grpSp>
          <p:nvGrpSpPr>
            <p:cNvPr id="381" name=""/>
            <p:cNvGrpSpPr/>
            <p:nvPr/>
          </p:nvGrpSpPr>
          <p:grpSpPr>
            <a:xfrm>
              <a:off x="0" y="0"/>
              <a:ext cx="6780960" cy="365400"/>
              <a:chOff x="0" y="0"/>
              <a:chExt cx="6780960" cy="365400"/>
            </a:xfrm>
          </p:grpSpPr>
          <p:sp>
            <p:nvSpPr>
              <p:cNvPr id="382" name=""/>
              <p:cNvSpPr/>
              <p:nvPr/>
            </p:nvSpPr>
            <p:spPr>
              <a:xfrm>
                <a:off x="0" y="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0" y="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.5: fig01_05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0" y="365400"/>
              <a:ext cx="6780960" cy="365400"/>
              <a:chOff x="0" y="365400"/>
              <a:chExt cx="6780960" cy="365400"/>
            </a:xfrm>
          </p:grpSpPr>
          <p:sp>
            <p:nvSpPr>
              <p:cNvPr id="385" name=""/>
              <p:cNvSpPr/>
              <p:nvPr/>
            </p:nvSpPr>
            <p:spPr>
              <a:xfrm>
                <a:off x="0" y="36540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0" y="36540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ing multiple lines with a single state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0" y="731160"/>
              <a:ext cx="6780960" cy="365760"/>
              <a:chOff x="0" y="731160"/>
              <a:chExt cx="6780960" cy="365760"/>
            </a:xfrm>
          </p:grpSpPr>
          <p:sp>
            <p:nvSpPr>
              <p:cNvPr id="388" name=""/>
              <p:cNvSpPr/>
              <p:nvPr/>
            </p:nvSpPr>
            <p:spPr>
              <a:xfrm>
                <a:off x="0" y="731160"/>
                <a:ext cx="6780960" cy="365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0" y="731160"/>
                <a:ext cx="6780960" cy="365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0" y="1097280"/>
              <a:ext cx="6780960" cy="365400"/>
              <a:chOff x="0" y="1097280"/>
              <a:chExt cx="6780960" cy="365400"/>
            </a:xfrm>
          </p:grpSpPr>
          <p:sp>
            <p:nvSpPr>
              <p:cNvPr id="391" name=""/>
              <p:cNvSpPr/>
              <p:nvPr/>
            </p:nvSpPr>
            <p:spPr>
              <a:xfrm>
                <a:off x="0" y="109728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109728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0" y="1463040"/>
              <a:ext cx="6780960" cy="365400"/>
              <a:chOff x="0" y="1463040"/>
              <a:chExt cx="6780960" cy="365400"/>
            </a:xfrm>
          </p:grpSpPr>
          <p:sp>
            <p:nvSpPr>
              <p:cNvPr id="394" name=""/>
              <p:cNvSpPr/>
              <p:nvPr/>
            </p:nvSpPr>
            <p:spPr>
              <a:xfrm>
                <a:off x="0" y="146304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0" y="146304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0" y="1828800"/>
              <a:ext cx="6780960" cy="365400"/>
              <a:chOff x="0" y="1828800"/>
              <a:chExt cx="6780960" cy="365400"/>
            </a:xfrm>
          </p:grpSpPr>
          <p:sp>
            <p:nvSpPr>
              <p:cNvPr id="397" name=""/>
              <p:cNvSpPr/>
              <p:nvPr/>
            </p:nvSpPr>
            <p:spPr>
              <a:xfrm>
                <a:off x="0" y="182880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0" y="182880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0" y="2194560"/>
              <a:ext cx="6780960" cy="365760"/>
              <a:chOff x="0" y="2194560"/>
              <a:chExt cx="6780960" cy="365760"/>
            </a:xfrm>
          </p:grpSpPr>
          <p:sp>
            <p:nvSpPr>
              <p:cNvPr id="400" name=""/>
              <p:cNvSpPr/>
              <p:nvPr/>
            </p:nvSpPr>
            <p:spPr>
              <a:xfrm>
                <a:off x="0" y="2194560"/>
                <a:ext cx="6780960" cy="365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0" y="2194560"/>
                <a:ext cx="6780960" cy="365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d::cout &lt;&lt; "Welcome\nto\n\nC++!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0" y="2560320"/>
              <a:ext cx="6780960" cy="365400"/>
              <a:chOff x="0" y="2560320"/>
              <a:chExt cx="6780960" cy="365400"/>
            </a:xfrm>
          </p:grpSpPr>
          <p:sp>
            <p:nvSpPr>
              <p:cNvPr id="403" name=""/>
              <p:cNvSpPr/>
              <p:nvPr/>
            </p:nvSpPr>
            <p:spPr>
              <a:xfrm>
                <a:off x="0" y="256032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0" y="256032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0" y="2926080"/>
              <a:ext cx="6780960" cy="365400"/>
              <a:chOff x="0" y="2926080"/>
              <a:chExt cx="6780960" cy="365400"/>
            </a:xfrm>
          </p:grpSpPr>
          <p:sp>
            <p:nvSpPr>
              <p:cNvPr id="406" name=""/>
              <p:cNvSpPr/>
              <p:nvPr/>
            </p:nvSpPr>
            <p:spPr>
              <a:xfrm>
                <a:off x="0" y="292608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0" y="292608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dicate that program ended successfull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0" y="3291840"/>
              <a:ext cx="6780960" cy="365400"/>
              <a:chOff x="0" y="3291840"/>
              <a:chExt cx="6780960" cy="365400"/>
            </a:xfrm>
          </p:grpSpPr>
          <p:sp>
            <p:nvSpPr>
              <p:cNvPr id="409" name=""/>
              <p:cNvSpPr/>
              <p:nvPr/>
            </p:nvSpPr>
            <p:spPr>
              <a:xfrm>
                <a:off x="0" y="329184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0" y="329184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1" name=""/>
          <p:cNvSpPr/>
          <p:nvPr/>
        </p:nvSpPr>
        <p:spPr>
          <a:xfrm>
            <a:off x="0" y="4038480"/>
            <a:ext cx="678168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++!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609480" y="2514240"/>
            <a:ext cx="5943600" cy="3114720"/>
            <a:chOff x="609480" y="2514240"/>
            <a:chExt cx="5943600" cy="3114720"/>
          </a:xfrm>
        </p:grpSpPr>
        <p:sp>
          <p:nvSpPr>
            <p:cNvPr id="413" name=""/>
            <p:cNvSpPr/>
            <p:nvPr/>
          </p:nvSpPr>
          <p:spPr>
            <a:xfrm>
              <a:off x="2895480" y="5048280"/>
              <a:ext cx="3657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ultiple lines can be printed with one stat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609480" y="4495680"/>
              <a:ext cx="22860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 flipV="1">
              <a:off x="2666880" y="2514240"/>
              <a:ext cx="91440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71980-8E78-4736-8161-F2781504D85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0 Another Simple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dding Two Integ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tion in memory where a value can be stored for use by a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be declared with a name and a data type before they can be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me common data types ar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integer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floating point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myvariabl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variable nam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vari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variable1, variable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two variables, each of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7BDC6-1B3E-464B-A249-CCA1AF3F0D3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0 Another Simple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dding Two Integ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stream extraction operato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used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c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waits for the user to input a value and stores the value in the variable to the right of the op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user types a value, then presses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n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Return) key to send the data to the compu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yVariab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::cin &gt;&gt; myVariab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its for user input, then stores input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ssignment opera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s value to a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inary operator (has two operand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 = variable1 + variable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390EF-6FCF-49C8-BF66-0FB79D81D88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Loa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iostream&gt;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Initialize variable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er1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er2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,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Pr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Enter first integer"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.1 Get in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3 Pr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Enter second integer"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3.1 Get in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4 Add variables and put result in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5 Pr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um is"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5.1 Outpu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6 exit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0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0" y="0"/>
            <a:ext cx="6780960" cy="4343040"/>
            <a:chOff x="0" y="0"/>
            <a:chExt cx="6780960" cy="4343040"/>
          </a:xfrm>
        </p:grpSpPr>
        <p:grpSp>
          <p:nvGrpSpPr>
            <p:cNvPr id="422" name=""/>
            <p:cNvGrpSpPr/>
            <p:nvPr/>
          </p:nvGrpSpPr>
          <p:grpSpPr>
            <a:xfrm>
              <a:off x="0" y="0"/>
              <a:ext cx="6780960" cy="255240"/>
              <a:chOff x="0" y="0"/>
              <a:chExt cx="6780960" cy="255240"/>
            </a:xfrm>
          </p:grpSpPr>
          <p:sp>
            <p:nvSpPr>
              <p:cNvPr id="423" name=""/>
              <p:cNvSpPr/>
              <p:nvPr/>
            </p:nvSpPr>
            <p:spPr>
              <a:xfrm>
                <a:off x="0" y="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0" y="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.6: fig01_06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0" y="255240"/>
              <a:ext cx="6780960" cy="255240"/>
              <a:chOff x="0" y="255240"/>
              <a:chExt cx="6780960" cy="255240"/>
            </a:xfrm>
          </p:grpSpPr>
          <p:sp>
            <p:nvSpPr>
              <p:cNvPr id="426" name=""/>
              <p:cNvSpPr/>
              <p:nvPr/>
            </p:nvSpPr>
            <p:spPr>
              <a:xfrm>
                <a:off x="0" y="25524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0" y="25524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ddition progra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0" y="510840"/>
              <a:ext cx="6780960" cy="255600"/>
              <a:chOff x="0" y="510840"/>
              <a:chExt cx="6780960" cy="255600"/>
            </a:xfrm>
          </p:grpSpPr>
          <p:sp>
            <p:nvSpPr>
              <p:cNvPr id="429" name=""/>
              <p:cNvSpPr/>
              <p:nvPr/>
            </p:nvSpPr>
            <p:spPr>
              <a:xfrm>
                <a:off x="0" y="510840"/>
                <a:ext cx="6780960" cy="255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0" y="510840"/>
                <a:ext cx="6780960" cy="255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0" y="766440"/>
              <a:ext cx="6780960" cy="255240"/>
              <a:chOff x="0" y="766440"/>
              <a:chExt cx="6780960" cy="255240"/>
            </a:xfrm>
          </p:grpSpPr>
          <p:sp>
            <p:nvSpPr>
              <p:cNvPr id="432" name=""/>
              <p:cNvSpPr/>
              <p:nvPr/>
            </p:nvSpPr>
            <p:spPr>
              <a:xfrm>
                <a:off x="0" y="76644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76644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0" y="1021680"/>
              <a:ext cx="6780960" cy="255240"/>
              <a:chOff x="0" y="1021680"/>
              <a:chExt cx="6780960" cy="255240"/>
            </a:xfrm>
          </p:grpSpPr>
          <p:sp>
            <p:nvSpPr>
              <p:cNvPr id="435" name=""/>
              <p:cNvSpPr/>
              <p:nvPr/>
            </p:nvSpPr>
            <p:spPr>
              <a:xfrm>
                <a:off x="0" y="102168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0" y="102168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0" y="1277280"/>
              <a:ext cx="6780960" cy="255240"/>
              <a:chOff x="0" y="1277280"/>
              <a:chExt cx="6780960" cy="255240"/>
            </a:xfrm>
          </p:grpSpPr>
          <p:sp>
            <p:nvSpPr>
              <p:cNvPr id="438" name=""/>
              <p:cNvSpPr/>
              <p:nvPr/>
            </p:nvSpPr>
            <p:spPr>
              <a:xfrm>
                <a:off x="0" y="127728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0" y="127728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0" y="1532880"/>
              <a:ext cx="6780960" cy="255600"/>
              <a:chOff x="0" y="1532880"/>
              <a:chExt cx="6780960" cy="255600"/>
            </a:xfrm>
          </p:grpSpPr>
          <p:sp>
            <p:nvSpPr>
              <p:cNvPr id="441" name=""/>
              <p:cNvSpPr/>
              <p:nvPr/>
            </p:nvSpPr>
            <p:spPr>
              <a:xfrm>
                <a:off x="0" y="1532880"/>
                <a:ext cx="6780960" cy="255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0" y="1532880"/>
                <a:ext cx="6780960" cy="255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nteger1, integer2, sum;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clar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0" y="1788480"/>
              <a:ext cx="6780960" cy="255240"/>
              <a:chOff x="0" y="1788480"/>
              <a:chExt cx="6780960" cy="255240"/>
            </a:xfrm>
          </p:grpSpPr>
          <p:sp>
            <p:nvSpPr>
              <p:cNvPr id="444" name=""/>
              <p:cNvSpPr/>
              <p:nvPr/>
            </p:nvSpPr>
            <p:spPr>
              <a:xfrm>
                <a:off x="0" y="178848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0" y="178848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0" y="2043720"/>
              <a:ext cx="6780960" cy="255240"/>
              <a:chOff x="0" y="2043720"/>
              <a:chExt cx="6780960" cy="255240"/>
            </a:xfrm>
          </p:grpSpPr>
          <p:sp>
            <p:nvSpPr>
              <p:cNvPr id="447" name=""/>
              <p:cNvSpPr/>
              <p:nvPr/>
            </p:nvSpPr>
            <p:spPr>
              <a:xfrm>
                <a:off x="0" y="204372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0" y="204372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d::cout &lt;&lt; "Enter first integer\n"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omp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0" y="2299320"/>
              <a:ext cx="6780960" cy="255240"/>
              <a:chOff x="0" y="2299320"/>
              <a:chExt cx="6780960" cy="255240"/>
            </a:xfrm>
          </p:grpSpPr>
          <p:sp>
            <p:nvSpPr>
              <p:cNvPr id="450" name=""/>
              <p:cNvSpPr/>
              <p:nvPr/>
            </p:nvSpPr>
            <p:spPr>
              <a:xfrm>
                <a:off x="0" y="229932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229932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d::cin &gt;&gt; integer1;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ad an inte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0" y="2554920"/>
              <a:ext cx="6780960" cy="255600"/>
              <a:chOff x="0" y="2554920"/>
              <a:chExt cx="6780960" cy="255600"/>
            </a:xfrm>
          </p:grpSpPr>
          <p:sp>
            <p:nvSpPr>
              <p:cNvPr id="453" name=""/>
              <p:cNvSpPr/>
              <p:nvPr/>
            </p:nvSpPr>
            <p:spPr>
              <a:xfrm>
                <a:off x="0" y="2554920"/>
                <a:ext cx="6780960" cy="255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2554920"/>
                <a:ext cx="6780960" cy="255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d::cout &lt;&lt; "Enter second integer\n"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omp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0" y="2810520"/>
              <a:ext cx="6780960" cy="255240"/>
              <a:chOff x="0" y="2810520"/>
              <a:chExt cx="6780960" cy="255240"/>
            </a:xfrm>
          </p:grpSpPr>
          <p:sp>
            <p:nvSpPr>
              <p:cNvPr id="456" name=""/>
              <p:cNvSpPr/>
              <p:nvPr/>
            </p:nvSpPr>
            <p:spPr>
              <a:xfrm>
                <a:off x="0" y="281052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0" y="281052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d::cin &gt;&gt; integer2;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ad an inte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0" y="3065760"/>
              <a:ext cx="6780960" cy="255240"/>
              <a:chOff x="0" y="3065760"/>
              <a:chExt cx="6780960" cy="255240"/>
            </a:xfrm>
          </p:grpSpPr>
          <p:sp>
            <p:nvSpPr>
              <p:cNvPr id="459" name=""/>
              <p:cNvSpPr/>
              <p:nvPr/>
            </p:nvSpPr>
            <p:spPr>
              <a:xfrm>
                <a:off x="0" y="306576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0" y="306576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um = integer1 + integer2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   // assignment of su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0" y="3321360"/>
              <a:ext cx="6780960" cy="255240"/>
              <a:chOff x="0" y="3321360"/>
              <a:chExt cx="6780960" cy="255240"/>
            </a:xfrm>
          </p:grpSpPr>
          <p:sp>
            <p:nvSpPr>
              <p:cNvPr id="462" name=""/>
              <p:cNvSpPr/>
              <p:nvPr/>
            </p:nvSpPr>
            <p:spPr>
              <a:xfrm>
                <a:off x="0" y="332136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332136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d::cout &lt;&lt; "Sum is " &lt;&lt; sum &lt;&lt; std::endl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su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0" y="3576960"/>
              <a:ext cx="6780960" cy="255600"/>
              <a:chOff x="0" y="3576960"/>
              <a:chExt cx="6780960" cy="255600"/>
            </a:xfrm>
          </p:grpSpPr>
          <p:sp>
            <p:nvSpPr>
              <p:cNvPr id="465" name=""/>
              <p:cNvSpPr/>
              <p:nvPr/>
            </p:nvSpPr>
            <p:spPr>
              <a:xfrm>
                <a:off x="0" y="3576960"/>
                <a:ext cx="6780960" cy="255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3576960"/>
                <a:ext cx="6780960" cy="255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0" y="3832560"/>
              <a:ext cx="6780960" cy="255240"/>
              <a:chOff x="0" y="3832560"/>
              <a:chExt cx="6780960" cy="255240"/>
            </a:xfrm>
          </p:grpSpPr>
          <p:sp>
            <p:nvSpPr>
              <p:cNvPr id="468" name=""/>
              <p:cNvSpPr/>
              <p:nvPr/>
            </p:nvSpPr>
            <p:spPr>
              <a:xfrm>
                <a:off x="0" y="383256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383256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dicate that program ended successfull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0" y="4087800"/>
              <a:ext cx="6780960" cy="255240"/>
              <a:chOff x="0" y="4087800"/>
              <a:chExt cx="6780960" cy="255240"/>
            </a:xfrm>
          </p:grpSpPr>
          <p:sp>
            <p:nvSpPr>
              <p:cNvPr id="471" name=""/>
              <p:cNvSpPr/>
              <p:nvPr/>
            </p:nvSpPr>
            <p:spPr>
              <a:xfrm>
                <a:off x="0" y="408780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408780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3" name=""/>
          <p:cNvSpPr/>
          <p:nvPr/>
        </p:nvSpPr>
        <p:spPr>
          <a:xfrm>
            <a:off x="0" y="4648320"/>
            <a:ext cx="6781680" cy="118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first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econd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 is 1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666880" y="2133720"/>
            <a:ext cx="6019920" cy="580680"/>
            <a:chOff x="2666880" y="2133720"/>
            <a:chExt cx="6019920" cy="580680"/>
          </a:xfrm>
        </p:grpSpPr>
        <p:sp>
          <p:nvSpPr>
            <p:cNvPr id="475" name=""/>
            <p:cNvSpPr/>
            <p:nvPr/>
          </p:nvSpPr>
          <p:spPr>
            <a:xfrm>
              <a:off x="4572000" y="2133720"/>
              <a:ext cx="4114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d::c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used to get user inpu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2666880" y="24382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2666880" y="3580920"/>
            <a:ext cx="6019920" cy="1480680"/>
            <a:chOff x="2666880" y="3580920"/>
            <a:chExt cx="6019920" cy="1480680"/>
          </a:xfrm>
        </p:grpSpPr>
        <p:sp>
          <p:nvSpPr>
            <p:cNvPr id="478" name=""/>
            <p:cNvSpPr/>
            <p:nvPr/>
          </p:nvSpPr>
          <p:spPr>
            <a:xfrm>
              <a:off x="2666880" y="4724280"/>
              <a:ext cx="6019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riables can be output us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d::cout &lt;&lt; variable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 flipV="1">
              <a:off x="3124080" y="3580920"/>
              <a:ext cx="106704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4419720" y="3581280"/>
            <a:ext cx="4343400" cy="809280"/>
            <a:chOff x="4419720" y="3581280"/>
            <a:chExt cx="4343400" cy="809280"/>
          </a:xfrm>
        </p:grpSpPr>
        <p:sp>
          <p:nvSpPr>
            <p:cNvPr id="481" name=""/>
            <p:cNvSpPr/>
            <p:nvPr/>
          </p:nvSpPr>
          <p:spPr>
            <a:xfrm>
              <a:off x="5257800" y="3809880"/>
              <a:ext cx="3505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d::end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lushes the buffer and prints a newlin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 flipV="1">
              <a:off x="4419720" y="3581280"/>
              <a:ext cx="8380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DEA11-BF39-4216-9D06-9519466CA31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course you will lea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 and C+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uctured programming and object oriented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28E13-3905-43F2-ABB7-D9F28638BD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1 Memory Concep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rrespond to locations in the computer's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ry variable has a name, a type, a size and a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ever a new value is placed into a variable, it replaces the previous value - it is destroy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ing variables from memory does not change th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isual re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-838440" y="4267080"/>
            <a:ext cx="9360000" cy="1588320"/>
            <a:chOff x="-838440" y="4267080"/>
            <a:chExt cx="9360000" cy="1588320"/>
          </a:xfrm>
        </p:grpSpPr>
        <p:sp>
          <p:nvSpPr>
            <p:cNvPr id="486" name=""/>
            <p:cNvSpPr/>
            <p:nvPr/>
          </p:nvSpPr>
          <p:spPr>
            <a:xfrm>
              <a:off x="-838440" y="541332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2600" y="4267080"/>
              <a:ext cx="8508960" cy="11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2240" y="427824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10000"/>
                  </a:solidFill>
                  <a:latin typeface="Courier New"/>
                  <a:ea typeface="Times New Roman"/>
                </a:rPr>
                <a:t> 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903840" y="4363920"/>
              <a:ext cx="1701720" cy="927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550960" y="4651200"/>
              <a:ext cx="10749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553120" y="4646520"/>
              <a:ext cx="1341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ger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71920" y="4646520"/>
              <a:ext cx="16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605480" y="4651200"/>
              <a:ext cx="3063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605480" y="4646520"/>
              <a:ext cx="335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4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859280" y="4646520"/>
              <a:ext cx="16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A6C08-22C7-4E3C-A17E-E2AA1943993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2     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ithmetic calc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 multiplication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 divi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ger division truncates remain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7 / 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valuates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ulus operator returns the remaind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7 % 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valuates t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 prece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me arithmetic operators act before others (i.e., multiplication before addi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sure to use parenthesis when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Find the average of three variables a, b and 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use: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+ b + c / 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a + b + c ) /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B860C-396D-4E67-8365-30256F50C60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2     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ithmetic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 of operator precede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765000" y="1606680"/>
          <a:ext cx="6742440" cy="214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5000" y="1606680"/>
                    <a:ext cx="6742440" cy="21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411120" y="4108320"/>
          <a:ext cx="7824960" cy="3605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120" y="4108320"/>
                    <a:ext cx="7824960" cy="36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A85EE-455E-4AC5-893C-9A5882627A0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3  Decision Making: Equality and Relational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st conditions truth or falsity. If condition met execute, otherwise ign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ality and relational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wer precedence than arithmetic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of relational operators on next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1058F-1DD2-49A5-A6BA-A4810122654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3  Decision Making: Equality and Relational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-1295280" y="1447920"/>
          <a:ext cx="11734560" cy="444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95280" y="1447920"/>
                    <a:ext cx="1173456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9C707-6E46-4C13-9634-63B111C27F2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3  Decision Making: Equality and Relational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s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liminate the need to use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refi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 us to write cout instead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co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use the following functions without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refix, write the following at the top of the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ing std::cou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ing std::ci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ing std::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B2713-5599-4A4B-8D39-04D55E52712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iostream&gt;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1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2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.1 Input data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statemen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513" name="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514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.14: fig01_1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517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if statements, relatio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520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perators, and equality operato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523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526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529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ogram uses co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532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ogram uses c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535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ogram uses end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538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541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544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547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um1, num2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550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553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nter two integers, and I will tell you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556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the relationships they satisfy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559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n &gt;&gt; num1 &gt;&gt; num2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ad two intege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562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565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num1 == num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568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num1 &lt;&lt; " is equal to " &lt;&lt; num2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571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574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num1 != num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577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num1 &lt;&lt; " is not equal to " &lt;&lt; num2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580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583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num1 &lt; num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586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num1 &lt;&lt; " is less than " &lt;&lt; num2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589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592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num1 &gt; num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595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num1 &lt;&lt; " is greater than " &lt;&lt; num2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598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601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num1 &lt;= num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604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num1 &lt;&lt; " is less than or equal to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607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&lt;&lt; num2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610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2" name=""/>
          <p:cNvGrpSpPr/>
          <p:nvPr/>
        </p:nvGrpSpPr>
        <p:grpSpPr>
          <a:xfrm>
            <a:off x="2514240" y="3733920"/>
            <a:ext cx="6248880" cy="2243880"/>
            <a:chOff x="2514240" y="3733920"/>
            <a:chExt cx="6248880" cy="2243880"/>
          </a:xfrm>
        </p:grpSpPr>
        <p:sp>
          <p:nvSpPr>
            <p:cNvPr id="613" name=""/>
            <p:cNvSpPr/>
            <p:nvPr/>
          </p:nvSpPr>
          <p:spPr>
            <a:xfrm>
              <a:off x="5943600" y="3809880"/>
              <a:ext cx="2819520" cy="2167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tatements test the truth of the condition.  If it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body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tatement is executed.  If not, body is skipp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 include multiple statements in a body, delineate them with brac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{}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 flipV="1">
              <a:off x="2514240" y="3733920"/>
              <a:ext cx="34290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3505320" y="3154320"/>
            <a:ext cx="457200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two integers, and I will tell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relationships they satisfy: 3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918040" y="4419720"/>
            <a:ext cx="191808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is not equal to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955120" y="5049720"/>
            <a:ext cx="16437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is less than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958720" y="6269040"/>
            <a:ext cx="27410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is less than or equal to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1904760" y="1219320"/>
            <a:ext cx="5410440" cy="337320"/>
            <a:chOff x="1904760" y="1219320"/>
            <a:chExt cx="5410440" cy="337320"/>
          </a:xfrm>
        </p:grpSpPr>
        <p:sp>
          <p:nvSpPr>
            <p:cNvPr id="620" name=""/>
            <p:cNvSpPr/>
            <p:nvPr/>
          </p:nvSpPr>
          <p:spPr>
            <a:xfrm>
              <a:off x="4419720" y="1219320"/>
              <a:ext cx="2895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s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tatem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1904760" y="14479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7CA0B-FABD-4121-A84C-F951B7FF4A9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3 exit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0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0" y="0"/>
            <a:ext cx="6780960" cy="1904760"/>
            <a:chOff x="0" y="0"/>
            <a:chExt cx="6780960" cy="1904760"/>
          </a:xfrm>
        </p:grpSpPr>
        <p:grpSp>
          <p:nvGrpSpPr>
            <p:cNvPr id="624" name=""/>
            <p:cNvGrpSpPr/>
            <p:nvPr/>
          </p:nvGrpSpPr>
          <p:grpSpPr>
            <a:xfrm>
              <a:off x="0" y="0"/>
              <a:ext cx="6780960" cy="317160"/>
              <a:chOff x="0" y="0"/>
              <a:chExt cx="6780960" cy="317160"/>
            </a:xfrm>
          </p:grpSpPr>
          <p:sp>
            <p:nvSpPr>
              <p:cNvPr id="625" name=""/>
              <p:cNvSpPr/>
              <p:nvPr/>
            </p:nvSpPr>
            <p:spPr>
              <a:xfrm>
                <a:off x="0" y="0"/>
                <a:ext cx="6780960" cy="317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0" y="0"/>
                <a:ext cx="6780960" cy="317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num1 &gt;= num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0" y="317160"/>
              <a:ext cx="6780960" cy="317160"/>
              <a:chOff x="0" y="317160"/>
              <a:chExt cx="6780960" cy="317160"/>
            </a:xfrm>
          </p:grpSpPr>
          <p:sp>
            <p:nvSpPr>
              <p:cNvPr id="628" name=""/>
              <p:cNvSpPr/>
              <p:nvPr/>
            </p:nvSpPr>
            <p:spPr>
              <a:xfrm>
                <a:off x="0" y="317160"/>
                <a:ext cx="6780960" cy="317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0" y="317160"/>
                <a:ext cx="6780960" cy="317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num1 &lt;&lt; " is greater than or equal to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0" y="634680"/>
              <a:ext cx="6780960" cy="317520"/>
              <a:chOff x="0" y="634680"/>
              <a:chExt cx="6780960" cy="317520"/>
            </a:xfrm>
          </p:grpSpPr>
          <p:sp>
            <p:nvSpPr>
              <p:cNvPr id="631" name=""/>
              <p:cNvSpPr/>
              <p:nvPr/>
            </p:nvSpPr>
            <p:spPr>
              <a:xfrm>
                <a:off x="0" y="634680"/>
                <a:ext cx="6780960" cy="31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0" y="634680"/>
                <a:ext cx="6780960" cy="31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&lt;&lt; num2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0" y="952560"/>
              <a:ext cx="6780960" cy="317160"/>
              <a:chOff x="0" y="952560"/>
              <a:chExt cx="6780960" cy="317160"/>
            </a:xfrm>
          </p:grpSpPr>
          <p:sp>
            <p:nvSpPr>
              <p:cNvPr id="634" name=""/>
              <p:cNvSpPr/>
              <p:nvPr/>
            </p:nvSpPr>
            <p:spPr>
              <a:xfrm>
                <a:off x="0" y="952560"/>
                <a:ext cx="6780960" cy="317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0" y="952560"/>
                <a:ext cx="6780960" cy="317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0" y="1270080"/>
              <a:ext cx="6780960" cy="317160"/>
              <a:chOff x="0" y="1270080"/>
              <a:chExt cx="6780960" cy="317160"/>
            </a:xfrm>
          </p:grpSpPr>
          <p:sp>
            <p:nvSpPr>
              <p:cNvPr id="637" name=""/>
              <p:cNvSpPr/>
              <p:nvPr/>
            </p:nvSpPr>
            <p:spPr>
              <a:xfrm>
                <a:off x="0" y="1270080"/>
                <a:ext cx="6780960" cy="317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0" y="1270080"/>
                <a:ext cx="6780960" cy="317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dicate that program ended successfull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0" y="1587600"/>
              <a:ext cx="6780960" cy="317160"/>
              <a:chOff x="0" y="1587600"/>
              <a:chExt cx="6780960" cy="317160"/>
            </a:xfrm>
          </p:grpSpPr>
          <p:sp>
            <p:nvSpPr>
              <p:cNvPr id="640" name=""/>
              <p:cNvSpPr/>
              <p:nvPr/>
            </p:nvSpPr>
            <p:spPr>
              <a:xfrm>
                <a:off x="0" y="1587600"/>
                <a:ext cx="6780960" cy="317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0" y="1587600"/>
                <a:ext cx="6780960" cy="317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2" name=""/>
          <p:cNvSpPr/>
          <p:nvPr/>
        </p:nvSpPr>
        <p:spPr>
          <a:xfrm>
            <a:off x="0" y="2209680"/>
            <a:ext cx="6781680" cy="118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two integers, and I will tell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relationships they satisfy: 3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is not equal to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is less than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is less than or equal to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0" y="3657600"/>
            <a:ext cx="6781680" cy="118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two integers, and I will tell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relationships they satisfy: 22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2 is not equal to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2 is greater than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2 is greater than or equal to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0" y="5029200"/>
            <a:ext cx="6781680" cy="118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two integers, and I will tell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relationships they satisfy: 7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 is equal to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 is less than or equal to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 is greater than or equal to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DE343-8C61-4259-B1F5-B8035F6991C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4 Thinking About Objects: Introduction to Object Technology and the Unified Modeling Language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 ori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tural way to think about the world and to write computer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tributes - properties of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, shape, color, weight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haviors - a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ball rolls, bounces, inflates and def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can perform actions as 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classes of objects absorb characteristics from existing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formation hi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usually do not know how other objects are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1E7A6-0FEB-4445-85CF-1F9B56A325D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4 Thinking About Objects: Introduction to Object Technology and the Unified Modeling Languag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ion - view the big pictur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e a photograph rather than a group of colored do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nk in terms of houses, not bric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- unit of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 serve as a “Blueprint" of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are created from a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 contain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implement behavi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 contain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implement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 are reus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FDF2E-E8F9-45D5-915D-627BF96440F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    What is a Computer?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device capable of performing computations and making logical decis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s of instructions that control a computer’s processing of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ous devices comprising a compu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s: keyboard, screen, mouse, disks, memory, CD-ROM, and processing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s that run a compu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FE5D9-DCF3-4781-83BA-2E977DC341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4 Thinking About Objects: Introduction to Object Technology and the Unified Modeling Languag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ied Modeling Language (UM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to model object-oriented systems and aid with their desig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lex, feature-rich graphical langua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92457-4EBB-45E6-AE76-45D35CDE175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3 Computer Organiz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 logical units in every compu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put un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tains information from input devices (keyboard, mou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 unit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s information (to screen, to printer, to control other devi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ory un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pid access, low capacity, stores input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ithmetic and logic unit (ALU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s arithmetic calculations and logic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entral processing unit (CPU)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ervises and coordinates the other sections of the 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ary storage unit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ap, long-term, high-capacity storage, stores inactive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BA4EA-396D-4716-81A3-30C0F5457B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4 Evolution of Operating Syste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tch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 only one job or task at a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ng syst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age transitions between job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reased through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unt of work computers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rogram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y jobs or tasks sharing a computer’s resour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h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 a small portion of one user’s job then moves on to service the next us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2214D-A2DF-4C23-9163-297A7D8CFA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5 Personal Computing, Distributed Computing, and Client/Server Comput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 compu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conomical enough for individ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d comput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ganizations computing is distributed over networ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/server comp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aring of information,  across computer networks, between file servers and clients (personal computer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636F7-E3DA-4908-95BD-D10B8AE19A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6 Machine Languages, Assembly Languages, and High-level Languag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types of programming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chine languag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s of numbers giving machine specific i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1300042774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1400593419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12002740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embly langu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lish-like abbreviations representing elementary computer operations (translated via assembl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AD BASEPA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OVERPA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E GROSSP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B7F6C-5F85-4567-8A7A-886888AF97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6 Machine Languages, Assembly Languages, and High-level Languag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gh-level languag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ilar to everyday English, use mathematical notations (translated via compil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ossPay = basePay + overTimeP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20EE5-1417-444C-9AB6-AD83D6D900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17:02:59Z</dcterms:created>
  <dc:creator>jason</dc:creator>
  <dc:description/>
  <dc:language>en-US</dc:language>
  <cp:lastModifiedBy>Antonella Esposito</cp:lastModifiedBy>
  <dcterms:modified xsi:type="dcterms:W3CDTF">2001-02-07T14:29:10Z</dcterms:modified>
  <cp:revision>418</cp:revision>
  <dc:subject/>
  <dc:title>Chapter 1 – Introduction to Computers and C++ Programming</dc:title>
</cp:coreProperties>
</file>