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A5B6-4207-4170-BE5B-07DAFBAC0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812B-D482-4DED-A69F-57C637CF4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7F0A-1162-4E32-8005-E4191DB9F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BC03-C559-4D94-865E-43DAAA7E9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A01E-E5ED-4580-AE53-437E36872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6AB2-FA4F-4E57-AB81-BB279FE1CD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0A91-5CD6-48C3-9832-37A5B0AA0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98E4-E57E-4CCA-8BB3-8F5D4C8E27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BDB0-8348-41B5-82ED-698E24EFCB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ABF1-CF5D-4BA4-9AE3-B38327F13D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2532-A6E0-43DE-A369-3A857AE64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2585-8FC0-448D-8038-3BBCACACE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6383-DB85-4DA9-9B60-1C3975B434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0840-52A5-42DE-8268-1331B6D803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C963-F893-4BE3-942D-FC6FA63DF4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3EDA-57E3-4316-9A0B-BDC0E25596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BDEC-5EF7-452B-846E-EFB384E61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FE6-9870-43C4-A453-9C9C3EDB2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D197-109A-42F0-B6F0-D69E3B1B7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8EEE-B801-418E-97B4-EF7BAC453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9EF8-8F7E-4F67-97F9-8F2FB03D6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318B-00F1-4613-BD29-9D6BC1438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D883-7B78-4BF0-BD01-521D24ABB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4BE-D4FE-447E-A047-7571EAD0A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2A65-D4DC-4257-A78A-FCD61AE3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DD7-34F3-4C8F-8FF0-B54AF76CB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trol Structure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els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: Case Study 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(Counter-Controlled Repetition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2 (Sentinel-Controlled Repetition)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 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3 (Nested Control Structures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2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crement and Decre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3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ssentials of Counter-Controlled Repetition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4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xamples Using 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ructure</a:t>
            </a:r>
            <a:r>
              <a:rPr b="1" sz="16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5634-6979-496A-BA56-D08484B648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of pseudocode statement into C++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mond symbol (decision sym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decision is 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n expression that can be true or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he condition, follow appropriat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 is a single-entry/single-exit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46200"/>
            <a:ext cx="54864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24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59E9-5BE6-412A-A75C-A26C829026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pseudocod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2133720"/>
            <a:ext cx="7467120" cy="2797920"/>
            <a:chOff x="762120" y="2133720"/>
            <a:chExt cx="7467120" cy="279792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2133720"/>
              <a:ext cx="4380480" cy="2797920"/>
              <a:chOff x="762120" y="2133720"/>
              <a:chExt cx="4380480" cy="2797920"/>
            </a:xfrm>
          </p:grpSpPr>
          <p:sp>
            <p:nvSpPr>
              <p:cNvPr id="115" name=""/>
              <p:cNvSpPr/>
              <p:nvPr/>
            </p:nvSpPr>
            <p:spPr>
              <a:xfrm>
                <a:off x="1892880" y="229608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92880" y="411696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1960" y="213372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1960" y="476928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23280" y="3533040"/>
                <a:ext cx="5652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10160" y="4269240"/>
                <a:ext cx="25434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36640" y="3699360"/>
                <a:ext cx="360" cy="569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2440" y="3257280"/>
                <a:ext cx="500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tr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50800" y="4331160"/>
                <a:ext cx="6120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fal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62120" y="2948400"/>
                <a:ext cx="2261160" cy="1168200"/>
                <a:chOff x="762120" y="2948400"/>
                <a:chExt cx="2261160" cy="1168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2120" y="2948400"/>
                  <a:ext cx="2261160" cy="116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10000"/>
                      </a:moveTo>
                      <a:lnTo>
                        <a:pt x="9990" y="19977"/>
                      </a:lnTo>
                      <a:lnTo>
                        <a:pt x="0" y="10000"/>
                      </a:lnTo>
                      <a:lnTo>
                        <a:pt x="9990" y="0"/>
                      </a:lnTo>
                      <a:lnTo>
                        <a:pt x="19990" y="1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255680" y="3437280"/>
                  <a:ext cx="12729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grade &gt;=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8480" y="3369600"/>
                <a:ext cx="1554120" cy="325800"/>
                <a:chOff x="3588480" y="3369600"/>
                <a:chExt cx="1554120" cy="325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88480" y="3369600"/>
                  <a:ext cx="1554120" cy="325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5" y="0"/>
                      </a:moveTo>
                      <a:lnTo>
                        <a:pt x="19985" y="19917"/>
                      </a:lnTo>
                      <a:lnTo>
                        <a:pt x="0" y="19917"/>
                      </a:lnTo>
                      <a:lnTo>
                        <a:pt x="0" y="0"/>
                      </a:lnTo>
                      <a:lnTo>
                        <a:pt x="1998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86040" y="3444120"/>
                  <a:ext cx="1357560" cy="2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print “Passed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5562360" y="2438640"/>
              <a:ext cx="2666880" cy="231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decision can be made on any expression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- 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315D-6A9B-4B04-969E-E63B819622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performs an action if the condition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ifferent action is performed when condition is true and when condition is 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aile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Fail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22520"/>
            <a:ext cx="55213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33680"/>
            <a:ext cx="55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73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1905-F8C5-4D32-B67B-E325A1F312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ary conditional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hree arguments (condition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seudocode c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( grade &gt;= 60 ? “Passed” : “Failed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914400"/>
            <a:ext cx="8457120" cy="2437560"/>
            <a:chOff x="380880" y="914400"/>
            <a:chExt cx="8457120" cy="2437560"/>
          </a:xfrm>
        </p:grpSpPr>
        <p:sp>
          <p:nvSpPr>
            <p:cNvPr id="139" name=""/>
            <p:cNvSpPr/>
            <p:nvPr/>
          </p:nvSpPr>
          <p:spPr>
            <a:xfrm>
              <a:off x="4726080" y="2772000"/>
              <a:ext cx="3133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0" y="1642680"/>
              <a:ext cx="63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5640" y="2772000"/>
              <a:ext cx="3160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80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1320" y="1642680"/>
              <a:ext cx="779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872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016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562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0880" y="2227320"/>
              <a:ext cx="1978920" cy="245520"/>
              <a:chOff x="380880" y="2227320"/>
              <a:chExt cx="1978920" cy="245520"/>
            </a:xfrm>
          </p:grpSpPr>
          <p:sp>
            <p:nvSpPr>
              <p:cNvPr id="148" name=""/>
              <p:cNvSpPr/>
              <p:nvPr/>
            </p:nvSpPr>
            <p:spPr>
              <a:xfrm>
                <a:off x="577080" y="2283480"/>
                <a:ext cx="1583280" cy="17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 “Fail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880" y="2227320"/>
                <a:ext cx="1978920" cy="24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046280" y="2283480"/>
              <a:ext cx="16192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 “Passe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9080" y="2227320"/>
              <a:ext cx="1978920" cy="245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542480" y="2715840"/>
              <a:ext cx="183600" cy="636120"/>
              <a:chOff x="4542480" y="2715840"/>
              <a:chExt cx="183600" cy="63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4635000" y="2842200"/>
                <a:ext cx="1440" cy="38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42480" y="322848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45360" y="271584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370160" y="914400"/>
              <a:ext cx="6478200" cy="1384920"/>
              <a:chOff x="1370160" y="914400"/>
              <a:chExt cx="6478200" cy="1384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4525200" y="914400"/>
                <a:ext cx="181080" cy="502560"/>
                <a:chOff x="4525200" y="914400"/>
                <a:chExt cx="181080" cy="502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14840" y="1041120"/>
                  <a:ext cx="1440" cy="37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25200" y="914400"/>
                  <a:ext cx="181080" cy="1234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370160" y="1416960"/>
                <a:ext cx="6478200" cy="882360"/>
                <a:chOff x="1370160" y="1416960"/>
                <a:chExt cx="6478200" cy="882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04908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7016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3163680" y="1416960"/>
                  <a:ext cx="2878920" cy="882360"/>
                  <a:chOff x="3163680" y="1416960"/>
                  <a:chExt cx="2878920" cy="8823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163680" y="1416960"/>
                    <a:ext cx="2878920" cy="88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10000"/>
                        </a:moveTo>
                        <a:lnTo>
                          <a:pt x="9990" y="19977"/>
                        </a:lnTo>
                        <a:lnTo>
                          <a:pt x="0" y="10000"/>
                        </a:lnTo>
                        <a:lnTo>
                          <a:pt x="9990" y="0"/>
                        </a:lnTo>
                        <a:lnTo>
                          <a:pt x="19990" y="100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791880" y="1782360"/>
                    <a:ext cx="162108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grade &gt;= 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9BEA-06EB-4C1C-843B-815D11D1E7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multiple cases by plac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 ins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9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A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if student’s grade is greater than or equal to 8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B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7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Print “C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6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Print “D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ondition is met, the rest of the statements are skip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1265-BC71-4A7C-876B-033128C39D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statements within a pair of 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grade &gt;= 60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Passed.\n"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Failed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You must take this course again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 bra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must take this course again.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d be automaticall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und statements with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7BE6-4F6F-49EB-A43C-921AEA6DF4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caught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which have their effect at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runs, but has incorrec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exits premat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2F89-BF85-4F31-B90B-B787F4707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specifies an action to be repeated while some condition remain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there are more items on my 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urchase next item and cross it off my 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op repeated until condition becomes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product &lt;= 10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2 *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84480"/>
            <a:ext cx="5486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623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5672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1726-4A7E-4347-94F5-BEF2993F6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057400"/>
            <a:ext cx="4876200" cy="2047320"/>
            <a:chOff x="1600200" y="2057400"/>
            <a:chExt cx="4876200" cy="2047320"/>
          </a:xfrm>
        </p:grpSpPr>
        <p:sp>
          <p:nvSpPr>
            <p:cNvPr id="180" name=""/>
            <p:cNvSpPr/>
            <p:nvPr/>
          </p:nvSpPr>
          <p:spPr>
            <a:xfrm>
              <a:off x="1600200" y="2610720"/>
              <a:ext cx="2091240" cy="100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9989"/>
                  </a:moveTo>
                  <a:lnTo>
                    <a:pt x="9990" y="19977"/>
                  </a:lnTo>
                  <a:lnTo>
                    <a:pt x="0" y="9989"/>
                  </a:lnTo>
                  <a:lnTo>
                    <a:pt x="9990" y="0"/>
                  </a:lnTo>
                  <a:lnTo>
                    <a:pt x="19990" y="998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0760" y="3026880"/>
              <a:ext cx="158724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&lt;=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2760" y="2197800"/>
              <a:ext cx="360" cy="418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42760" y="3611520"/>
              <a:ext cx="36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3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77600" y="20574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77600" y="39672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91440" y="3118320"/>
              <a:ext cx="5227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5200" y="3029400"/>
              <a:ext cx="2178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= 2 *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4160" y="2966400"/>
              <a:ext cx="2262240" cy="303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25"/>
                  </a:lnTo>
                  <a:lnTo>
                    <a:pt x="0" y="19925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10520" y="2856960"/>
              <a:ext cx="4622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73800" y="3617280"/>
              <a:ext cx="56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9680" y="2358360"/>
              <a:ext cx="2698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49240" y="2358360"/>
              <a:ext cx="360" cy="596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FC95-3021-487E-BC1D-FBB7DCF5E7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repeated until counter reaches a certain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epetitions is know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lass of ten students took a quiz. The grades (integers in the range 0 to 100) for this quiz are available to you. Determine the class average on the quiz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19E0-1922-4E5A-8506-23493602C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60640"/>
            <a:ext cx="75438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6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Multiple-Selection Structure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7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do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break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continu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atement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9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fusing Equality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and Assignment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ructured-Programming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D5AE-5DE7-47FC-8B2B-344E131DD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otal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grade counter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grade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grad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the grade into the tota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he class average to the total divided by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clas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is the C++ code for 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BCA0-A3AC-449F-8965-72909C924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Execut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6780960" cy="223200"/>
              <a:chOff x="0" y="0"/>
              <a:chExt cx="6780960" cy="223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7: fig02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23200"/>
              <a:ext cx="6780960" cy="207000"/>
              <a:chOff x="0" y="223200"/>
              <a:chExt cx="6780960" cy="2070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counter-controlled repet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430560"/>
              <a:ext cx="6780960" cy="207360"/>
              <a:chOff x="0" y="430560"/>
              <a:chExt cx="6780960" cy="2073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37920"/>
              <a:ext cx="6780960" cy="207000"/>
              <a:chOff x="0" y="637920"/>
              <a:chExt cx="6780960" cy="2070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845280"/>
              <a:ext cx="6780960" cy="207000"/>
              <a:chOff x="0" y="845280"/>
              <a:chExt cx="6780960" cy="2070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1052640"/>
              <a:ext cx="6780960" cy="207000"/>
              <a:chOff x="0" y="1052640"/>
              <a:chExt cx="6780960" cy="2070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1260000"/>
              <a:ext cx="6780960" cy="207360"/>
              <a:chOff x="0" y="1260000"/>
              <a:chExt cx="6780960" cy="2073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1467360"/>
              <a:ext cx="6780960" cy="207000"/>
              <a:chOff x="0" y="1467360"/>
              <a:chExt cx="6780960" cy="2070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674720"/>
              <a:ext cx="6780960" cy="207000"/>
              <a:chOff x="0" y="1674720"/>
              <a:chExt cx="6780960" cy="2070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882080"/>
              <a:ext cx="6780960" cy="207000"/>
              <a:chOff x="0" y="1882080"/>
              <a:chExt cx="6780960" cy="207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2089080"/>
              <a:ext cx="6780960" cy="207000"/>
              <a:chOff x="0" y="2089080"/>
              <a:chExt cx="6780960" cy="2070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2296440"/>
              <a:ext cx="6780960" cy="207360"/>
              <a:chOff x="0" y="2296440"/>
              <a:chExt cx="6780960" cy="2073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2503800"/>
              <a:ext cx="6780960" cy="207000"/>
              <a:chOff x="0" y="2503800"/>
              <a:chExt cx="6780960" cy="2070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711160"/>
              <a:ext cx="6780960" cy="207000"/>
              <a:chOff x="0" y="2711160"/>
              <a:chExt cx="6780960" cy="2070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verag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verage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918520"/>
              <a:ext cx="6780960" cy="207000"/>
              <a:chOff x="0" y="2918520"/>
              <a:chExt cx="6780960" cy="2070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3125880"/>
              <a:ext cx="6780960" cy="207360"/>
              <a:chOff x="0" y="3125880"/>
              <a:chExt cx="6780960" cy="2073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3333240"/>
              <a:ext cx="6780960" cy="207000"/>
              <a:chOff x="0" y="3333240"/>
              <a:chExt cx="6780960" cy="207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lear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540600"/>
              <a:ext cx="6780960" cy="207000"/>
              <a:chOff x="0" y="3540600"/>
              <a:chExt cx="6780960" cy="2070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1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pare to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747960"/>
              <a:ext cx="6780960" cy="207000"/>
              <a:chOff x="0" y="3747960"/>
              <a:chExt cx="6780960" cy="207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955320"/>
              <a:ext cx="6780960" cy="207360"/>
              <a:chOff x="0" y="3955320"/>
              <a:chExt cx="6780960" cy="2073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4162680"/>
              <a:ext cx="6780960" cy="207000"/>
              <a:chOff x="0" y="4162680"/>
              <a:chExt cx="6780960" cy="2070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&lt;= 10 ) {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op 10 ti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4370040"/>
              <a:ext cx="6780960" cy="207000"/>
              <a:chOff x="0" y="4370040"/>
              <a:chExt cx="6780960" cy="2070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: 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mpt for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577400"/>
              <a:ext cx="6780960" cy="207000"/>
              <a:chOff x="0" y="4577400"/>
              <a:chExt cx="6780960" cy="207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put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784760"/>
              <a:ext cx="6780960" cy="207360"/>
              <a:chOff x="0" y="4784760"/>
              <a:chExt cx="6780960" cy="2073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 grade to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992120"/>
              <a:ext cx="6780960" cy="207000"/>
              <a:chOff x="0" y="4992120"/>
              <a:chExt cx="6780960" cy="2070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5199480"/>
              <a:ext cx="6780960" cy="207000"/>
              <a:chOff x="0" y="5199480"/>
              <a:chExt cx="6780960" cy="2070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406480"/>
              <a:ext cx="6780960" cy="207000"/>
              <a:chOff x="0" y="5406480"/>
              <a:chExt cx="6780960" cy="207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613840"/>
              <a:ext cx="6780960" cy="207000"/>
              <a:chOff x="0" y="5613840"/>
              <a:chExt cx="6780960" cy="2070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821200"/>
              <a:ext cx="6780960" cy="207360"/>
              <a:chOff x="0" y="5821200"/>
              <a:chExt cx="6780960" cy="2073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verage = total / 10;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ger divi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28560"/>
              <a:ext cx="6780960" cy="207000"/>
              <a:chOff x="0" y="6028560"/>
              <a:chExt cx="6780960" cy="2070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lass average is "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6235920"/>
              <a:ext cx="6780960" cy="207000"/>
              <a:chOff x="0" y="6235920"/>
              <a:chExt cx="6780960" cy="207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443280"/>
              <a:ext cx="6780960" cy="207000"/>
              <a:chOff x="0" y="6443280"/>
              <a:chExt cx="6780960" cy="2070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650640"/>
              <a:ext cx="6780960" cy="207360"/>
              <a:chOff x="0" y="6650640"/>
              <a:chExt cx="6780960" cy="2073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581280" y="3657600"/>
            <a:ext cx="4800600" cy="1295280"/>
            <a:chOff x="3581280" y="3657600"/>
            <a:chExt cx="4800600" cy="1295280"/>
          </a:xfrm>
        </p:grpSpPr>
        <p:sp>
          <p:nvSpPr>
            <p:cNvPr id="299" name=""/>
            <p:cNvSpPr/>
            <p:nvPr/>
          </p:nvSpPr>
          <p:spPr>
            <a:xfrm>
              <a:off x="4952880" y="36576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unter gets incremented each time the loop executes.  Eventually, the counter causes the loop to e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81280" y="411480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F523-205B-48A1-B215-04DFE1446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E121-5F5A-4A30-931B-DCFE20D5F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problem becom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velop a class-averaging program that will process an arbitrary number of grades each time the program is ru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known number of students - how will the program know to en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end of data entry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ends when sentinel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chosen so it cannot be confused with a regular input (such as -1 in this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0F07-4ED6-40BD-B191-FC26226EB7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down, stepwise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a pseudocode representation of the t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termine the class average for the qu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op into smaller tasks and list them in ord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, sum and count the quiz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culate and print the class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618B-B099-4181-9013-7C4E6A8C3F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can be divided into three pha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e progra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data values and adjusts program variables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s and prints the final resul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the breakup of programs for top-down refi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initialization phas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otal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counter to 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B7B1-159C-4AC5-85CF-4A0D87DC19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put, sum and count the quiz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first grade (possibly the senti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While the user has not as yet entered the senti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this grade into the running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next grade (possibly the sentine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Calculate and print the class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f the counter is not equal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et the average to the total divided by th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the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“No grades were entered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58ED-C9F8-4D33-9FDD-A563043E1D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Get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13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9: fig02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sentinel-controlled repeti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6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6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6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with decimal point for ave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7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, -1 to end: "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grade;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!= -1 ) {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676160" y="3276720"/>
            <a:ext cx="5105160" cy="1143000"/>
            <a:chOff x="1676160" y="3276720"/>
            <a:chExt cx="5105160" cy="1143000"/>
          </a:xfrm>
        </p:grpSpPr>
        <p:sp>
          <p:nvSpPr>
            <p:cNvPr id="404" name=""/>
            <p:cNvSpPr/>
            <p:nvPr/>
          </p:nvSpPr>
          <p:spPr>
            <a:xfrm>
              <a:off x="3885840" y="3276720"/>
              <a:ext cx="28954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typ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ubl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represent decimal nu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676160" y="3657960"/>
              <a:ext cx="220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1ACD-49B8-497D-81B9-A4D881AE79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Calculate 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6780960" cy="3733920"/>
            <a:chOff x="0" y="0"/>
            <a:chExt cx="6780960" cy="3733920"/>
          </a:xfrm>
        </p:grpSpPr>
        <p:grpSp>
          <p:nvGrpSpPr>
            <p:cNvPr id="408" name=""/>
            <p:cNvGrpSpPr/>
            <p:nvPr/>
          </p:nvGrpSpPr>
          <p:grpSpPr>
            <a:xfrm>
              <a:off x="0" y="0"/>
              <a:ext cx="6780960" cy="207360"/>
              <a:chOff x="0" y="0"/>
              <a:chExt cx="6780960" cy="20736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07360"/>
              <a:ext cx="6780960" cy="207360"/>
              <a:chOff x="0" y="207360"/>
              <a:chExt cx="6780960" cy="20736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14720"/>
              <a:ext cx="6780960" cy="207360"/>
              <a:chOff x="0" y="414720"/>
              <a:chExt cx="6780960" cy="20736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, -1 to end: 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22080"/>
              <a:ext cx="6780960" cy="207360"/>
              <a:chOff x="0" y="622080"/>
              <a:chExt cx="6780960" cy="20736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829800"/>
              <a:ext cx="6780960" cy="207360"/>
              <a:chOff x="0" y="829800"/>
              <a:chExt cx="6780960" cy="20736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037160"/>
              <a:ext cx="6780960" cy="207360"/>
              <a:chOff x="0" y="1037160"/>
              <a:chExt cx="6780960" cy="20736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1244520"/>
              <a:ext cx="6780960" cy="207360"/>
              <a:chOff x="0" y="1244520"/>
              <a:chExt cx="6780960" cy="20736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1451880"/>
              <a:ext cx="6780960" cy="207360"/>
              <a:chOff x="0" y="1451880"/>
              <a:chExt cx="6780960" cy="20736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!= 0 ) {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1659600"/>
              <a:ext cx="6780960" cy="207360"/>
              <a:chOff x="0" y="1659600"/>
              <a:chExt cx="6780960" cy="20736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verag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grade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1866960"/>
              <a:ext cx="6780960" cy="207360"/>
              <a:chOff x="0" y="1866960"/>
              <a:chExt cx="6780960" cy="20736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Class average is " &lt;&lt; setprecision(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074320"/>
              <a:ext cx="6780960" cy="207360"/>
              <a:chOff x="0" y="2074320"/>
              <a:chExt cx="6780960" cy="20736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2282040"/>
              <a:ext cx="6780960" cy="207360"/>
              <a:chOff x="0" y="2282040"/>
              <a:chExt cx="6780960" cy="20736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2489400"/>
              <a:ext cx="6780960" cy="207360"/>
              <a:chOff x="0" y="2489400"/>
              <a:chExt cx="6780960" cy="20736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2696760"/>
              <a:ext cx="6780960" cy="207360"/>
              <a:chOff x="0" y="2696760"/>
              <a:chExt cx="6780960" cy="20736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2904120"/>
              <a:ext cx="6780960" cy="207360"/>
              <a:chOff x="0" y="2904120"/>
              <a:chExt cx="6780960" cy="2073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No grades were entered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111840"/>
              <a:ext cx="6780960" cy="207360"/>
              <a:chOff x="0" y="3111840"/>
              <a:chExt cx="6780960" cy="2073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3319200"/>
              <a:ext cx="6780960" cy="207360"/>
              <a:chOff x="0" y="3319200"/>
              <a:chExt cx="6780960" cy="20736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3526560"/>
              <a:ext cx="6780960" cy="207360"/>
              <a:chOff x="0" y="3526560"/>
              <a:chExt cx="6780960" cy="2073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0" y="419112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2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666880" y="2285640"/>
            <a:ext cx="6096240" cy="3076200"/>
            <a:chOff x="2666880" y="2285640"/>
            <a:chExt cx="6096240" cy="3076200"/>
          </a:xfrm>
        </p:grpSpPr>
        <p:sp>
          <p:nvSpPr>
            <p:cNvPr id="464" name=""/>
            <p:cNvSpPr/>
            <p:nvPr/>
          </p:nvSpPr>
          <p:spPr>
            <a:xfrm>
              <a:off x="2666880" y="2590920"/>
              <a:ext cx="609624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iosflags(ios::fixed | ios::showpoint)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stream manip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fixe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numbers with a fixed number of decim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poi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ces decimal point and trailing zeros, even if unnecessary: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int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parates multiple o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419360" y="228564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572000" y="2057400"/>
            <a:ext cx="4267080" cy="3498120"/>
            <a:chOff x="4572000" y="2057400"/>
            <a:chExt cx="4267080" cy="3498120"/>
          </a:xfrm>
        </p:grpSpPr>
        <p:sp>
          <p:nvSpPr>
            <p:cNvPr id="467" name=""/>
            <p:cNvSpPr/>
            <p:nvPr/>
          </p:nvSpPr>
          <p:spPr>
            <a:xfrm>
              <a:off x="4572000" y="4244760"/>
              <a:ext cx="4267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precision(2)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prints only two digits past decimal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s that use this must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omanip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105160" y="205740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880" y="1905120"/>
            <a:ext cx="5029200" cy="2878920"/>
            <a:chOff x="380880" y="1905120"/>
            <a:chExt cx="5029200" cy="2878920"/>
          </a:xfrm>
        </p:grpSpPr>
        <p:grpSp>
          <p:nvGrpSpPr>
            <p:cNvPr id="470" name=""/>
            <p:cNvGrpSpPr/>
            <p:nvPr/>
          </p:nvGrpSpPr>
          <p:grpSpPr>
            <a:xfrm>
              <a:off x="380880" y="2743200"/>
              <a:ext cx="5029200" cy="2040840"/>
              <a:chOff x="380880" y="2743200"/>
              <a:chExt cx="5029200" cy="204084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2133360" y="3581280"/>
                <a:ext cx="5335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0880" y="2743200"/>
                <a:ext cx="5029200" cy="2040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tic_cast&lt;double&gt;()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- treats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ot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s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emporarily.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quired because dividing two integers truncates the remaind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radeCounte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but it gets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mo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1752480" y="19051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58EF-8FF9-4E92-A6EC-0D1E26E0C8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ollege has a list of test results (1 = pass, 2 = fail) for 10 students.  Write a program that analyzes the results.  If more than 8 students pass, print "Raise Tuition"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e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gram must process 10 test results. A counter-controlled loop will be us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counters can be used—one to count the number of students who passed the exam and one to count the number of students who failed the ex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test result is a number—either a 1 or a 2.  If the number is not a 1, we assume that it is a 2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out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alyz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4BBD-50BD-459A-AD20-D937289831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writing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thorough understanding of probl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fully plan your approach for solving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writing a progra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what “building blocks” ar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good programm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867C-2675-431B-AC5E-53210D61BC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a summary of th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pass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failur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student counter to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2548-1F5D-40B2-99E4-077DF5F39E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student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exam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the student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pass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Add one to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student cou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rint a summary of the exam results and decide if tuition should be raised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p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more than eight students passed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Raise tuiti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C033-D344-42AE-B35A-6DB2BE917F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 and count passes/failur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2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11: fig02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alysis of examination resul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e variables in decla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es = 0,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p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ailures = 0,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ail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studentCounter = 1,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ud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ult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exam 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 10 students; counter-controlled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Counter &lt;= 1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result (1=pass,2=fail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resul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ult == 1 )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f/else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asses = pass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200C-E80B-4BA3-8799-18E91AF2D1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0" y="0"/>
            <a:ext cx="6780960" cy="3733560"/>
            <a:chOff x="0" y="0"/>
            <a:chExt cx="6780960" cy="3733560"/>
          </a:xfrm>
        </p:grpSpPr>
        <p:grpSp>
          <p:nvGrpSpPr>
            <p:cNvPr id="553" name=""/>
            <p:cNvGrpSpPr/>
            <p:nvPr/>
          </p:nvGrpSpPr>
          <p:grpSpPr>
            <a:xfrm>
              <a:off x="0" y="0"/>
              <a:ext cx="6780960" cy="248760"/>
              <a:chOff x="0" y="0"/>
              <a:chExt cx="6780960" cy="24876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248760"/>
              <a:ext cx="6780960" cy="248760"/>
              <a:chOff x="0" y="248760"/>
              <a:chExt cx="6780960" cy="24876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ailures = failur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497520"/>
              <a:ext cx="6780960" cy="248760"/>
              <a:chOff x="0" y="497520"/>
              <a:chExt cx="6780960" cy="24876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746640"/>
              <a:ext cx="6780960" cy="248760"/>
              <a:chOff x="0" y="746640"/>
              <a:chExt cx="6780960" cy="24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udentCounter = studentCounter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95400"/>
              <a:ext cx="6780960" cy="248760"/>
              <a:chOff x="0" y="995400"/>
              <a:chExt cx="6780960" cy="24876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244520"/>
              <a:ext cx="6780960" cy="248760"/>
              <a:chOff x="0" y="1244520"/>
              <a:chExt cx="6780960" cy="24876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493280"/>
              <a:ext cx="6780960" cy="248760"/>
              <a:chOff x="0" y="1493280"/>
              <a:chExt cx="6780960" cy="24876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742400"/>
              <a:ext cx="6780960" cy="248760"/>
              <a:chOff x="0" y="1742400"/>
              <a:chExt cx="6780960" cy="24876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assed " &lt;&lt; pass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1991160"/>
              <a:ext cx="6780960" cy="248760"/>
              <a:chOff x="0" y="1991160"/>
              <a:chExt cx="6780960" cy="24876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ailed " &lt;&lt; failur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240280"/>
              <a:ext cx="6780960" cy="248760"/>
              <a:chOff x="0" y="2240280"/>
              <a:chExt cx="6780960" cy="24876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489040"/>
              <a:ext cx="6780960" cy="248760"/>
              <a:chOff x="0" y="2489040"/>
              <a:chExt cx="6780960" cy="24876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es &gt; 8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2738160"/>
              <a:ext cx="6780960" cy="248760"/>
              <a:chOff x="0" y="2738160"/>
              <a:chExt cx="6780960" cy="24876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Raise tuition 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2986920"/>
              <a:ext cx="6780960" cy="248760"/>
              <a:chOff x="0" y="2986920"/>
              <a:chExt cx="6780960" cy="24876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236040"/>
              <a:ext cx="6780960" cy="248760"/>
              <a:chOff x="0" y="3236040"/>
              <a:chExt cx="6780960" cy="24876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uccessful termi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3484800"/>
              <a:ext cx="6780960" cy="248760"/>
              <a:chOff x="0" y="3484800"/>
              <a:chExt cx="6780960" cy="24876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0" y="396252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e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tu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617E-E306-42D1-936B-A964D062D8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ssign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expression 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c +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bbrevi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the addition assignmen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= variable operator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rewritte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operator=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other assignment operator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-= 4     (d = d -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*= 5     (e = e *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/= 3     (f = f /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%= 9     (g = g % 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286000" y="2984400"/>
            <a:ext cx="4572000" cy="888840"/>
            <a:chOff x="2286000" y="2984400"/>
            <a:chExt cx="4572000" cy="888840"/>
          </a:xfrm>
        </p:grpSpPr>
        <p:sp>
          <p:nvSpPr>
            <p:cNvPr id="602" name=""/>
            <p:cNvSpPr/>
            <p:nvPr/>
          </p:nvSpPr>
          <p:spPr>
            <a:xfrm>
              <a:off x="2286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9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86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29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72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5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9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2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5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6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29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8160-E380-4AEE-B8F7-60DA594C21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+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-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before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is changed, then the expression it is in is eval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after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 the variable is in executes, then the variable is ch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++c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hanged b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c++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 before the increment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w has the value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FC9F-1B9E-4262-B5C5-8566BDD033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Variable is not in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ing and postincrementing 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2A58-4363-48D1-A5DE-AD2E171CD6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 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ame of a control variable (or loop counte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itial value of the control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ndition that tests for the final value of the control variable (i.e., whether looping should contin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crement (or decrement) by which the control variable is modified each time through the loo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1;          //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er &lt;= 10){   //repetitio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ounter;            //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8199-6513-488C-9BA0-934326A0D8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an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rves sp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n initial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9E00-6E55-420C-96A4-062771F909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at when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 initialization; LoopContinuationTes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cremen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int counter = 1; counter &lt;= 10; counter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the integers from one to 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2330280"/>
            <a:ext cx="5486400" cy="1374840"/>
            <a:chOff x="0" y="2330280"/>
            <a:chExt cx="5486400" cy="1374840"/>
          </a:xfrm>
        </p:grpSpPr>
        <p:sp>
          <p:nvSpPr>
            <p:cNvPr id="633" name=""/>
            <p:cNvSpPr/>
            <p:nvPr/>
          </p:nvSpPr>
          <p:spPr>
            <a:xfrm>
              <a:off x="0" y="2516040"/>
              <a:ext cx="5486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3302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0" y="37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4114800"/>
            <a:ext cx="106668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micolon after las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8D1D-F9A9-46F6-88B7-29E0E051E1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mpu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olved by executing a series of actions in a specific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cedure determining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 to be exec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in which these actions are to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the order in which statements are to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DCD7-0762-45A3-BB18-DD1A1DB748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can usually be rewritten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z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loopContinuationTes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 and increment as comma-separa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, j = 0;  j + i &lt;= 10; j++,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j + i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0870-B906-4888-9FCB-E35A9F662F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Examples Using the for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066680" y="1523880"/>
            <a:ext cx="6705000" cy="3962160"/>
            <a:chOff x="1066680" y="1523880"/>
            <a:chExt cx="6705000" cy="3962160"/>
          </a:xfrm>
        </p:grpSpPr>
        <p:grpSp>
          <p:nvGrpSpPr>
            <p:cNvPr id="642" name=""/>
            <p:cNvGrpSpPr/>
            <p:nvPr/>
          </p:nvGrpSpPr>
          <p:grpSpPr>
            <a:xfrm>
              <a:off x="1066680" y="1523880"/>
              <a:ext cx="6705000" cy="218880"/>
              <a:chOff x="1066680" y="1523880"/>
              <a:chExt cx="6705000" cy="218880"/>
            </a:xfrm>
          </p:grpSpPr>
          <p:sp>
            <p:nvSpPr>
              <p:cNvPr id="643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0: fig02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066680" y="1742760"/>
              <a:ext cx="6705000" cy="236160"/>
              <a:chOff x="1066680" y="1742760"/>
              <a:chExt cx="6705000" cy="236160"/>
            </a:xfrm>
          </p:grpSpPr>
          <p:sp>
            <p:nvSpPr>
              <p:cNvPr id="646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mation with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066680" y="1978920"/>
              <a:ext cx="6705000" cy="219240"/>
              <a:chOff x="1066680" y="1978920"/>
              <a:chExt cx="6705000" cy="219240"/>
            </a:xfrm>
          </p:grpSpPr>
          <p:sp>
            <p:nvSpPr>
              <p:cNvPr id="649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066680" y="2198520"/>
              <a:ext cx="6705000" cy="218880"/>
              <a:chOff x="1066680" y="2198520"/>
              <a:chExt cx="6705000" cy="218880"/>
            </a:xfrm>
          </p:grpSpPr>
          <p:sp>
            <p:nvSpPr>
              <p:cNvPr id="652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066680" y="2417400"/>
              <a:ext cx="6705000" cy="218880"/>
              <a:chOff x="1066680" y="2417400"/>
              <a:chExt cx="6705000" cy="218880"/>
            </a:xfrm>
          </p:grpSpPr>
          <p:sp>
            <p:nvSpPr>
              <p:cNvPr id="655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066680" y="2636640"/>
              <a:ext cx="6705000" cy="218880"/>
              <a:chOff x="1066680" y="2636640"/>
              <a:chExt cx="6705000" cy="218880"/>
            </a:xfrm>
          </p:grpSpPr>
          <p:sp>
            <p:nvSpPr>
              <p:cNvPr id="658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066680" y="2855880"/>
              <a:ext cx="6705000" cy="219240"/>
              <a:chOff x="1066680" y="2855880"/>
              <a:chExt cx="6705000" cy="219240"/>
            </a:xfrm>
          </p:grpSpPr>
          <p:sp>
            <p:nvSpPr>
              <p:cNvPr id="661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066680" y="3075120"/>
              <a:ext cx="6705000" cy="218880"/>
              <a:chOff x="1066680" y="3075120"/>
              <a:chExt cx="6705000" cy="218880"/>
            </a:xfrm>
          </p:grpSpPr>
          <p:sp>
            <p:nvSpPr>
              <p:cNvPr id="664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1066680" y="3294360"/>
              <a:ext cx="6705000" cy="218880"/>
              <a:chOff x="1066680" y="3294360"/>
              <a:chExt cx="6705000" cy="218880"/>
            </a:xfrm>
          </p:grpSpPr>
          <p:sp>
            <p:nvSpPr>
              <p:cNvPr id="667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066680" y="3513600"/>
              <a:ext cx="6705000" cy="218880"/>
              <a:chOff x="1066680" y="3513600"/>
              <a:chExt cx="6705000" cy="218880"/>
            </a:xfrm>
          </p:grpSpPr>
          <p:sp>
            <p:nvSpPr>
              <p:cNvPr id="670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066680" y="3732840"/>
              <a:ext cx="6705000" cy="218880"/>
              <a:chOff x="1066680" y="3732840"/>
              <a:chExt cx="6705000" cy="218880"/>
            </a:xfrm>
          </p:grpSpPr>
          <p:sp>
            <p:nvSpPr>
              <p:cNvPr id="673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066680" y="3952080"/>
              <a:ext cx="6705000" cy="219240"/>
              <a:chOff x="1066680" y="3952080"/>
              <a:chExt cx="6705000" cy="219240"/>
            </a:xfrm>
          </p:grpSpPr>
          <p:sp>
            <p:nvSpPr>
              <p:cNvPr id="676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2; number &lt;= 100; number +=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066680" y="4171320"/>
              <a:ext cx="6705000" cy="218880"/>
              <a:chOff x="1066680" y="4171320"/>
              <a:chExt cx="6705000" cy="218880"/>
            </a:xfrm>
          </p:grpSpPr>
          <p:sp>
            <p:nvSpPr>
              <p:cNvPr id="679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+=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1066680" y="4390560"/>
              <a:ext cx="6705000" cy="218880"/>
              <a:chOff x="1066680" y="4390560"/>
              <a:chExt cx="6705000" cy="218880"/>
            </a:xfrm>
          </p:grpSpPr>
          <p:sp>
            <p:nvSpPr>
              <p:cNvPr id="682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66680" y="4609440"/>
              <a:ext cx="6705000" cy="218880"/>
              <a:chOff x="1066680" y="4609440"/>
              <a:chExt cx="6705000" cy="218880"/>
            </a:xfrm>
          </p:grpSpPr>
          <p:sp>
            <p:nvSpPr>
              <p:cNvPr id="685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um is " &lt;&lt; 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1066680" y="4828680"/>
              <a:ext cx="6705000" cy="219240"/>
              <a:chOff x="1066680" y="4828680"/>
              <a:chExt cx="6705000" cy="219240"/>
            </a:xfrm>
          </p:grpSpPr>
          <p:sp>
            <p:nvSpPr>
              <p:cNvPr id="688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066680" y="5047920"/>
              <a:ext cx="6705000" cy="218880"/>
              <a:chOff x="1066680" y="5047920"/>
              <a:chExt cx="6705000" cy="218880"/>
            </a:xfrm>
          </p:grpSpPr>
          <p:sp>
            <p:nvSpPr>
              <p:cNvPr id="691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066680" y="5267160"/>
              <a:ext cx="6705000" cy="218880"/>
              <a:chOff x="1066680" y="5267160"/>
              <a:chExt cx="6705000" cy="218880"/>
            </a:xfrm>
          </p:grpSpPr>
          <p:sp>
            <p:nvSpPr>
              <p:cNvPr id="694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320" y="5791320"/>
            <a:ext cx="67820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2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9907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to sum the even numbers from 2 to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6023-428E-4B60-853C-4E513F1EBD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switch Multiple-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when variable or expression is tested for multipl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a seri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and an optiona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09480" y="2438280"/>
            <a:ext cx="5714280" cy="4114080"/>
            <a:chOff x="609480" y="2438280"/>
            <a:chExt cx="5714280" cy="4114080"/>
          </a:xfrm>
        </p:grpSpPr>
        <p:sp>
          <p:nvSpPr>
            <p:cNvPr id="702" name=""/>
            <p:cNvSpPr/>
            <p:nvPr/>
          </p:nvSpPr>
          <p:spPr>
            <a:xfrm>
              <a:off x="1400040" y="2540520"/>
              <a:ext cx="360" cy="29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37400" y="2438280"/>
              <a:ext cx="124200" cy="95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48840" y="303192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1680" y="286524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61880" y="303192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37400" y="6456240"/>
              <a:ext cx="124200" cy="961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00040" y="40125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4240" y="401508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37400" y="4422240"/>
              <a:ext cx="124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33880" y="303192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21240" y="3031920"/>
              <a:ext cx="360" cy="3264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15160" y="6296040"/>
              <a:ext cx="490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51240" y="2832840"/>
              <a:ext cx="1497240" cy="395280"/>
              <a:chOff x="651240" y="2832840"/>
              <a:chExt cx="1497240" cy="395280"/>
            </a:xfrm>
          </p:grpSpPr>
          <p:sp>
            <p:nvSpPr>
              <p:cNvPr id="715" name=""/>
              <p:cNvSpPr/>
              <p:nvPr/>
            </p:nvSpPr>
            <p:spPr>
              <a:xfrm>
                <a:off x="651240" y="283284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640" y="298512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647440" y="2945520"/>
              <a:ext cx="1414080" cy="170280"/>
              <a:chOff x="2647440" y="2945520"/>
              <a:chExt cx="1414080" cy="170280"/>
            </a:xfrm>
          </p:grpSpPr>
          <p:sp>
            <p:nvSpPr>
              <p:cNvPr id="718" name=""/>
              <p:cNvSpPr/>
              <p:nvPr/>
            </p:nvSpPr>
            <p:spPr>
              <a:xfrm>
                <a:off x="2688840" y="298548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a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7440" y="294552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561200" y="2945520"/>
              <a:ext cx="1372320" cy="170280"/>
              <a:chOff x="4561200" y="2945520"/>
              <a:chExt cx="1372320" cy="170280"/>
            </a:xfrm>
          </p:grpSpPr>
          <p:sp>
            <p:nvSpPr>
              <p:cNvPr id="721" name=""/>
              <p:cNvSpPr/>
              <p:nvPr/>
            </p:nvSpPr>
            <p:spPr>
              <a:xfrm>
                <a:off x="4601520" y="298548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561200" y="294552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1400040" y="32241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48840" y="380844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61880" y="380844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33880" y="380844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51240" y="3609720"/>
              <a:ext cx="1497240" cy="395280"/>
              <a:chOff x="651240" y="3609720"/>
              <a:chExt cx="1497240" cy="395280"/>
            </a:xfrm>
          </p:grpSpPr>
          <p:sp>
            <p:nvSpPr>
              <p:cNvPr id="728" name=""/>
              <p:cNvSpPr/>
              <p:nvPr/>
            </p:nvSpPr>
            <p:spPr>
              <a:xfrm>
                <a:off x="651240" y="360972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99640" y="376200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47440" y="3722040"/>
              <a:ext cx="1414080" cy="170280"/>
              <a:chOff x="2647440" y="3722040"/>
              <a:chExt cx="1414080" cy="170280"/>
            </a:xfrm>
          </p:grpSpPr>
          <p:sp>
            <p:nvSpPr>
              <p:cNvPr id="731" name=""/>
              <p:cNvSpPr/>
              <p:nvPr/>
            </p:nvSpPr>
            <p:spPr>
              <a:xfrm>
                <a:off x="2688840" y="376200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b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47440" y="372204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561200" y="3722040"/>
              <a:ext cx="1372320" cy="170280"/>
              <a:chOff x="4561200" y="3722040"/>
              <a:chExt cx="1372320" cy="170280"/>
            </a:xfrm>
          </p:grpSpPr>
          <p:sp>
            <p:nvSpPr>
              <p:cNvPr id="734" name=""/>
              <p:cNvSpPr/>
              <p:nvPr/>
            </p:nvSpPr>
            <p:spPr>
              <a:xfrm>
                <a:off x="4601520" y="376200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61200" y="372204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524240" y="326232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00040" y="6167520"/>
              <a:ext cx="360" cy="28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24240" y="561996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0040" y="482940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48840" y="541296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61880" y="541296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33880" y="541296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51240" y="5214600"/>
              <a:ext cx="1497240" cy="394560"/>
              <a:chOff x="651240" y="5214600"/>
              <a:chExt cx="1497240" cy="394560"/>
            </a:xfrm>
          </p:grpSpPr>
          <p:sp>
            <p:nvSpPr>
              <p:cNvPr id="744" name=""/>
              <p:cNvSpPr/>
              <p:nvPr/>
            </p:nvSpPr>
            <p:spPr>
              <a:xfrm>
                <a:off x="651240" y="5214600"/>
                <a:ext cx="1497240" cy="39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99640" y="5366520"/>
                <a:ext cx="999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647440" y="5327280"/>
              <a:ext cx="1414080" cy="170280"/>
              <a:chOff x="2647440" y="5327280"/>
              <a:chExt cx="1414080" cy="170280"/>
            </a:xfrm>
          </p:grpSpPr>
          <p:sp>
            <p:nvSpPr>
              <p:cNvPr id="747" name=""/>
              <p:cNvSpPr/>
              <p:nvPr/>
            </p:nvSpPr>
            <p:spPr>
              <a:xfrm>
                <a:off x="2688840" y="536724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z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47440" y="532728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4561200" y="5327280"/>
              <a:ext cx="1372320" cy="170280"/>
              <a:chOff x="4561200" y="5327280"/>
              <a:chExt cx="1372320" cy="170280"/>
            </a:xfrm>
          </p:grpSpPr>
          <p:sp>
            <p:nvSpPr>
              <p:cNvPr id="750" name=""/>
              <p:cNvSpPr/>
              <p:nvPr/>
            </p:nvSpPr>
            <p:spPr>
              <a:xfrm>
                <a:off x="4601520" y="536724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561200" y="532728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2101680" y="364788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01680" y="525060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0040" y="560952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9480" y="5995080"/>
              <a:ext cx="1580400" cy="170280"/>
              <a:chOff x="609480" y="5995080"/>
              <a:chExt cx="1580400" cy="170280"/>
            </a:xfrm>
          </p:grpSpPr>
          <p:sp>
            <p:nvSpPr>
              <p:cNvPr id="756" name=""/>
              <p:cNvSpPr/>
              <p:nvPr/>
            </p:nvSpPr>
            <p:spPr>
              <a:xfrm>
                <a:off x="655920" y="6035040"/>
                <a:ext cx="148608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9480" y="5995080"/>
                <a:ext cx="158040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0" y="387360"/>
            <a:ext cx="54864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2932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308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8E8C-F7C0-490C-BB67-721945F405A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3" name=""/>
            <p:cNvGrpSpPr/>
            <p:nvPr/>
          </p:nvGrpSpPr>
          <p:grpSpPr>
            <a:xfrm>
              <a:off x="0" y="0"/>
              <a:ext cx="6780960" cy="216720"/>
              <a:chOff x="0" y="0"/>
              <a:chExt cx="6780960" cy="21672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2: fig02_2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216720"/>
              <a:ext cx="6780960" cy="200880"/>
              <a:chOff x="0" y="216720"/>
              <a:chExt cx="6780960" cy="20088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unting letter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417960"/>
              <a:ext cx="6780960" cy="201240"/>
              <a:chOff x="0" y="417960"/>
              <a:chExt cx="6780960" cy="20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619200"/>
              <a:ext cx="6780960" cy="200880"/>
              <a:chOff x="0" y="619200"/>
              <a:chExt cx="6780960" cy="20088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820440"/>
              <a:ext cx="6780960" cy="200880"/>
              <a:chOff x="0" y="820440"/>
              <a:chExt cx="6780960" cy="20088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1021680"/>
              <a:ext cx="6780960" cy="200880"/>
              <a:chOff x="0" y="1021680"/>
              <a:chExt cx="6780960" cy="20088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1222920"/>
              <a:ext cx="6780960" cy="201240"/>
              <a:chOff x="0" y="1222920"/>
              <a:chExt cx="6780960" cy="20124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1424160"/>
              <a:ext cx="6780960" cy="200880"/>
              <a:chOff x="0" y="1424160"/>
              <a:chExt cx="6780960" cy="20088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1625400"/>
              <a:ext cx="6780960" cy="200880"/>
              <a:chOff x="0" y="1625400"/>
              <a:chExt cx="6780960" cy="20088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826640"/>
              <a:ext cx="6780960" cy="200880"/>
              <a:chOff x="0" y="1826640"/>
              <a:chExt cx="6780960" cy="20088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2027880"/>
              <a:ext cx="6780960" cy="200880"/>
              <a:chOff x="0" y="2027880"/>
              <a:chExt cx="6780960" cy="20088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2229120"/>
              <a:ext cx="6780960" cy="201240"/>
              <a:chOff x="0" y="2229120"/>
              <a:chExt cx="6780960" cy="20124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A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2430360"/>
              <a:ext cx="6780960" cy="200880"/>
              <a:chOff x="0" y="2430360"/>
              <a:chExt cx="6780960" cy="20088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b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B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2631600"/>
              <a:ext cx="6780960" cy="200880"/>
              <a:chOff x="0" y="2631600"/>
              <a:chExt cx="6780960" cy="20088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C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832840"/>
              <a:ext cx="6780960" cy="200880"/>
              <a:chOff x="0" y="2832840"/>
              <a:chExt cx="6780960" cy="20088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d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D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3034080"/>
              <a:ext cx="6780960" cy="201240"/>
              <a:chOff x="0" y="3034080"/>
              <a:chExt cx="6780960" cy="20124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Count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3235680"/>
              <a:ext cx="6780960" cy="200880"/>
              <a:chOff x="0" y="3235680"/>
              <a:chExt cx="6780960" cy="20088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3436920"/>
              <a:ext cx="6780960" cy="200880"/>
              <a:chOff x="0" y="3436920"/>
              <a:chExt cx="6780960" cy="20088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e letter grades."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3637800"/>
              <a:ext cx="6780960" cy="200880"/>
              <a:chOff x="0" y="3637800"/>
              <a:chExt cx="6780960" cy="20088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nter the EOF character to end input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839040"/>
              <a:ext cx="6780960" cy="201240"/>
              <a:chOff x="0" y="3839040"/>
              <a:chExt cx="6780960" cy="20124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4040640"/>
              <a:ext cx="6780960" cy="200880"/>
              <a:chOff x="0" y="4040640"/>
              <a:chExt cx="6780960" cy="20088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grade = cin.get() ) != EOF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4241880"/>
              <a:ext cx="6780960" cy="200880"/>
              <a:chOff x="0" y="4241880"/>
              <a:chExt cx="6780960" cy="20088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4443120"/>
              <a:ext cx="6780960" cy="200880"/>
              <a:chOff x="0" y="4443120"/>
              <a:chExt cx="6780960" cy="20088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) {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witch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4644360"/>
              <a:ext cx="6780960" cy="201240"/>
              <a:chOff x="0" y="4644360"/>
              <a:chExt cx="6780960" cy="201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845600"/>
              <a:ext cx="6780960" cy="200880"/>
              <a:chOff x="0" y="4845600"/>
              <a:chExt cx="6780960" cy="20088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5046840"/>
              <a:ext cx="6780960" cy="200880"/>
              <a:chOff x="0" y="5046840"/>
              <a:chExt cx="6780960" cy="20088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5248080"/>
              <a:ext cx="6780960" cy="200880"/>
              <a:chOff x="0" y="5248080"/>
              <a:chExt cx="6780960" cy="20088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a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5449320"/>
              <a:ext cx="6780960" cy="200880"/>
              <a:chOff x="0" y="5449320"/>
              <a:chExt cx="6780960" cy="20088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ecessary to exit 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5650560"/>
              <a:ext cx="6780960" cy="201240"/>
              <a:chOff x="0" y="5650560"/>
              <a:chExt cx="6780960" cy="20124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851800"/>
              <a:ext cx="6780960" cy="200880"/>
              <a:chOff x="0" y="5851800"/>
              <a:chExt cx="6780960" cy="20088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6053040"/>
              <a:ext cx="6780960" cy="200880"/>
              <a:chOff x="0" y="6053040"/>
              <a:chExt cx="6780960" cy="20088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6254280"/>
              <a:ext cx="6780960" cy="200880"/>
              <a:chOff x="0" y="6254280"/>
              <a:chExt cx="6780960" cy="20088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b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6455520"/>
              <a:ext cx="6780960" cy="201240"/>
              <a:chOff x="0" y="6455520"/>
              <a:chExt cx="6780960" cy="20124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656760"/>
              <a:ext cx="6780960" cy="200880"/>
              <a:chOff x="0" y="6656760"/>
              <a:chExt cx="6780960" cy="20088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1980720" y="4267080"/>
            <a:ext cx="4420080" cy="533160"/>
            <a:chOff x="1980720" y="4267080"/>
            <a:chExt cx="4420080" cy="533160"/>
          </a:xfrm>
        </p:grpSpPr>
        <p:sp>
          <p:nvSpPr>
            <p:cNvPr id="866" name=""/>
            <p:cNvSpPr/>
            <p:nvPr/>
          </p:nvSpPr>
          <p:spPr>
            <a:xfrm>
              <a:off x="2743200" y="42670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1980720" y="4419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D6F5-07B4-4F2D-818A-43B701A6BB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70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c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d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f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n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gnore newlines,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t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abs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 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d spaces in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tch all other charac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out &lt;&lt; "Incorrect letter grade entered.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&lt;&lt; " Enter a new grade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otals for each letter grade ar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: " &lt;&lt; a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B: " &lt;&lt; b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: " &lt;&lt; c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D: " &lt;&lt; d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F: " &lt;&lt; fCou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2057400" y="990720"/>
            <a:ext cx="5257800" cy="824040"/>
            <a:chOff x="2057400" y="990720"/>
            <a:chExt cx="5257800" cy="824040"/>
          </a:xfrm>
        </p:grpSpPr>
        <p:sp>
          <p:nvSpPr>
            <p:cNvPr id="979" name=""/>
            <p:cNvSpPr/>
            <p:nvPr/>
          </p:nvSpPr>
          <p:spPr>
            <a:xfrm>
              <a:off x="3886200" y="9907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eak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use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end and the program continues with the first statement after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057400" y="144792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81080" y="3200400"/>
            <a:ext cx="5257800" cy="685800"/>
            <a:chOff x="1981080" y="3200400"/>
            <a:chExt cx="5257800" cy="685800"/>
          </a:xfrm>
        </p:grpSpPr>
        <p:sp>
          <p:nvSpPr>
            <p:cNvPr id="982" name=""/>
            <p:cNvSpPr/>
            <p:nvPr/>
          </p:nvSpPr>
          <p:spPr>
            <a:xfrm flipH="1">
              <a:off x="1981080" y="3429000"/>
              <a:ext cx="198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098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67E7-1231-4ECE-8141-5E93BB3A53B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letter gr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EOF character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orrect letter grade entered. Enter a new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s for each letter grade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85A0-501C-46EB-99C2-9394833673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do/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ructure is similar to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 for repetition tested after the body of the loop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condition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letting counter = 1)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++counter &lt;= 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prints the integer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ons are performed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715000" y="3124080"/>
            <a:ext cx="2742840" cy="3276000"/>
            <a:chOff x="5715000" y="3124080"/>
            <a:chExt cx="2742840" cy="3276000"/>
          </a:xfrm>
        </p:grpSpPr>
        <p:sp>
          <p:nvSpPr>
            <p:cNvPr id="989" name=""/>
            <p:cNvSpPr/>
            <p:nvPr/>
          </p:nvSpPr>
          <p:spPr>
            <a:xfrm>
              <a:off x="6738120" y="3288960"/>
              <a:ext cx="360" cy="66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52800" y="3124080"/>
              <a:ext cx="170640" cy="1648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75280" y="4917240"/>
              <a:ext cx="604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38120" y="557280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38120" y="422748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2800" y="6234480"/>
              <a:ext cx="170640" cy="1656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09040" y="5578920"/>
              <a:ext cx="738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75280" y="5230800"/>
              <a:ext cx="682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7480" y="3644640"/>
              <a:ext cx="360" cy="158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51800" y="3644640"/>
              <a:ext cx="17056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5800320" y="3951360"/>
              <a:ext cx="1875600" cy="282960"/>
              <a:chOff x="5800320" y="3951360"/>
              <a:chExt cx="1875600" cy="282960"/>
            </a:xfrm>
          </p:grpSpPr>
          <p:sp>
            <p:nvSpPr>
              <p:cNvPr id="1000" name=""/>
              <p:cNvSpPr/>
              <p:nvPr/>
            </p:nvSpPr>
            <p:spPr>
              <a:xfrm>
                <a:off x="5800320" y="3951360"/>
                <a:ext cx="187560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0"/>
                    </a:lnTo>
                    <a:lnTo>
                      <a:pt x="0" y="19900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54480" y="3997800"/>
                <a:ext cx="1365480" cy="23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715000" y="4889160"/>
              <a:ext cx="2046240" cy="683280"/>
              <a:chOff x="5715000" y="4889160"/>
              <a:chExt cx="2046240" cy="6832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715000" y="4889160"/>
                <a:ext cx="2046240" cy="68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60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054480" y="5137560"/>
                <a:ext cx="136584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d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0" y="1747800"/>
            <a:ext cx="16462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276720"/>
            <a:ext cx="16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587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BA8B-F317-449C-B072-C26C0319E0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s immediate exit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execution continues with the first statement after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pe early from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remainder o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152A-1C01-40DA-8733-BC998EB820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s the remaining statements in the body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 and proceeds with the next iteration of th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loop-continuation test is evaluated immediately afte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, the increment expression is executed, then the loop-continuation test is 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C2DB-DB7E-4D44-985D-2F8781ED2C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Logic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both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either of its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cal ne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es the truth/falsity of its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its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a unary operator, only takes one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 used as conditions in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Express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&amp;&amp; false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|| false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ru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6A2D-3894-464B-965D-7AAA44E636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Pseudocod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tificial, informal language used to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ctually executed on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 to “think out” a program before writing the code fo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convert into a corresponding C++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nly of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7A1C-5CE7-4CDE-9C13-76D6D1FA58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rrors are damaging because they do not ordinarily cause 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any expression that produces a value can be used in control structures.  Non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= 4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get a bonus!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s the paycode, and if it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a bonus is awar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replac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 4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 &lt;&lt; "You get a bonus!" &lt;&lt; end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nzero, so the express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bonus is awarded, regardles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EEF4-138C-4900-BB26-A316CCA27A9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appear on the lef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values can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 are a common example (a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= 4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only appear on the righ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, such as numbers (i.e. you cannot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 = x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 can be used as rvalues, but not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561D-9C65-41AC-A8C6-8B54ACA6CA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are easier to understand, test, debug and, modif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for 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single-entry/single-exit control structures ar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 Begin with the “simplest flowchar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 Any rectangle (action) can be replaced by two rectangles (actions) in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 Any rectangle (action) can be replaced by any control structure (sequence, if, if/else, switch, while, do/while or f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 Rules 2 and 3 can be applied in any order and multiple tim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1771560"/>
            <a:ext cx="5486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2971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517680"/>
            <a:ext cx="54864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1717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5672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327F-31D8-4DCA-97BD-CD8265250D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447920" y="1905120"/>
            <a:ext cx="6704640" cy="4419000"/>
            <a:chOff x="1447920" y="1905120"/>
            <a:chExt cx="6704640" cy="4419000"/>
          </a:xfrm>
        </p:grpSpPr>
        <p:sp>
          <p:nvSpPr>
            <p:cNvPr id="1029" name=""/>
            <p:cNvSpPr/>
            <p:nvPr/>
          </p:nvSpPr>
          <p:spPr>
            <a:xfrm>
              <a:off x="1936080" y="190512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5680" y="206280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36080" y="22993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35680" y="24573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36080" y="26942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88520" y="24836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88120" y="26413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88120" y="358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88520" y="3825000"/>
              <a:ext cx="799200" cy="158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54960" y="287820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205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57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55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19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6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0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5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57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19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209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54560" y="343080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1920" y="411480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1520" y="4272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11520" y="59299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111920" y="61664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79080" y="4509360"/>
              <a:ext cx="106524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44320" y="4588200"/>
              <a:ext cx="10652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12760" y="4588200"/>
              <a:ext cx="10659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276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0992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1276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12760" y="5850720"/>
              <a:ext cx="14655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0992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4720" y="5850720"/>
              <a:ext cx="1464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78680" y="577224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38032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44592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1356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135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119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139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123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135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1356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119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632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7992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7748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4308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1072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107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091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111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95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107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31072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091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4348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7708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8840" y="2378520"/>
              <a:ext cx="1953360" cy="289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1995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22600" y="2720520"/>
              <a:ext cx="372996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4" y="0"/>
                  </a:moveTo>
                  <a:lnTo>
                    <a:pt x="19994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7828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8112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7920" y="4351680"/>
              <a:ext cx="6127920" cy="165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6" y="0"/>
                  </a:moveTo>
                  <a:lnTo>
                    <a:pt x="19996" y="19992"/>
                  </a:lnTo>
                  <a:lnTo>
                    <a:pt x="0" y="19992"/>
                  </a:lnTo>
                  <a:lnTo>
                    <a:pt x="0" y="0"/>
                  </a:lnTo>
                  <a:lnTo>
                    <a:pt x="1999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80320" y="3351600"/>
              <a:ext cx="24415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9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31640" y="3351600"/>
              <a:ext cx="10213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7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31760" y="234720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98360" y="395172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12760" y="3951720"/>
              <a:ext cx="68580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990720" y="1371600"/>
            <a:ext cx="7924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Rule 3 (replacing any rectangle with a control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2B3F-1F61-4D4C-9199-70BA9DD2107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can be broken down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selection can be rewritten a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repetition structure can be rewritten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5E4D-6277-47AC-874E-FAC51CAB218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executed one after the other in the order wri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next statement executed is not the next one in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hm and Jacopini: all programs written in terms of 3 contro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into C++.  Programs executed sequentially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453B-C288-4737-B39F-95156A0C3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as identifiers or variable n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2133720"/>
          <a:ext cx="7453440" cy="56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5344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FE4B-D0F9-4084-8057-EB8B08441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representation of a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n using certain special-purpose symbols connected by arrows called flowl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tangle symbol (action symbo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any type of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al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beginning or end of a program, or a section of code (circl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entry/single-exit control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exit point of one control structure to entry point of the next (control-structure stacking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asy to bu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7EF4-81A4-473C-B238-98CF36C6F8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hoose among alternative courses of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executed and program goes on to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is ignored and the program goes onto the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nting makes programs easier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ignores whitespac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B919-F3FB-4265-B1BA-9AC6651FC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7:02:08Z</dcterms:created>
  <dc:creator>kalid</dc:creator>
  <dc:description/>
  <dc:language>en-US</dc:language>
  <cp:lastModifiedBy>Antonella Esposito</cp:lastModifiedBy>
  <dcterms:modified xsi:type="dcterms:W3CDTF">2001-01-12T10:39:19Z</dcterms:modified>
  <cp:revision>521</cp:revision>
  <dc:subject/>
  <dc:title>Chapter 2 - Control Structures</dc:title>
</cp:coreProperties>
</file>