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FB3C-6B58-4941-8200-427E998E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3576-793F-4DA2-832E-0BB22D099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21A7-C749-4D71-8125-6325DA8B4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855A-EAB5-426D-8CD0-2A911DC20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1D29-E6F6-49E4-9185-3C8A0F9C1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41BD-1FFA-481F-8BD9-5BFB2D0FF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3B2D-9DBF-4FE1-89CC-0A1DAB359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D7A1-43AE-48FB-BBFA-05E45B046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E9FA-DCA3-46B3-9B24-325799DBE3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E437-4284-4DD1-A88A-F5DAA4676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5916-EC1B-4B6F-9AEB-662418386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F7E5-487D-46DE-A900-B0D75934A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076D-2261-4634-936A-12CA62DF37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547A-A75C-4D91-98AD-CE2842CBA4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329E-8A29-4568-B305-3D4AA7DC2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82D2-A059-4C67-B821-A74050D409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4BCE-9399-44CC-9E79-CB94D4835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D931-E81B-4323-B433-6CB7E2F08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6FEF-B972-4094-A6B5-369EB472C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5C7A-66E6-412E-9A8C-03E0A7FEC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CD92-B60D-43C1-9DF0-1C522143D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9233-C05F-46F8-8F1B-083F3ADFE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C878-381A-43BE-A2AF-0D317DDF0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569B-3294-4304-902F-4F34ACB44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007-FAC8-4432-8615-BF16EA32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21D-6E03-40AF-A099-2336A89E4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FD65-096E-40FD-AFFB-C6841A968D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6780960" cy="245160"/>
              <a:chOff x="0" y="0"/>
              <a:chExt cx="6780960" cy="24516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3: fig03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245160"/>
              <a:ext cx="6780960" cy="227520"/>
              <a:chOff x="0" y="245160"/>
              <a:chExt cx="6780960" cy="22752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ing and using a programmer-defined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473040"/>
              <a:ext cx="6780960" cy="227880"/>
              <a:chOff x="0" y="473040"/>
              <a:chExt cx="6780960" cy="22788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700920"/>
              <a:ext cx="6780960" cy="227520"/>
              <a:chOff x="0" y="700920"/>
              <a:chExt cx="6780960" cy="22752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928800"/>
              <a:ext cx="6780960" cy="227520"/>
              <a:chOff x="0" y="928800"/>
              <a:chExt cx="6780960" cy="22752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1156680"/>
              <a:ext cx="6780960" cy="227520"/>
              <a:chOff x="0" y="1156680"/>
              <a:chExt cx="6780960" cy="227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384560"/>
              <a:ext cx="6780960" cy="227880"/>
              <a:chOff x="0" y="1384560"/>
              <a:chExt cx="6780960" cy="227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612440"/>
              <a:ext cx="6780960" cy="227520"/>
              <a:chOff x="0" y="1612440"/>
              <a:chExt cx="6780960" cy="22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840320"/>
              <a:ext cx="6780960" cy="227520"/>
              <a:chOff x="0" y="1840320"/>
              <a:chExt cx="6780960" cy="22752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2068200"/>
              <a:ext cx="6780960" cy="227520"/>
              <a:chOff x="0" y="2068200"/>
              <a:chExt cx="6780960" cy="227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2295720"/>
              <a:ext cx="6780960" cy="227520"/>
              <a:chOff x="0" y="2295720"/>
              <a:chExt cx="6780960" cy="22752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523600"/>
              <a:ext cx="6780960" cy="227880"/>
              <a:chOff x="0" y="2523600"/>
              <a:chExt cx="6780960" cy="2278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x &lt;= 10; x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751480"/>
              <a:ext cx="6780960" cy="227520"/>
              <a:chOff x="0" y="2751480"/>
              <a:chExt cx="6780960" cy="22752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quare( x ) &lt;&lt; "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979360"/>
              <a:ext cx="6780960" cy="227520"/>
              <a:chOff x="0" y="2979360"/>
              <a:chExt cx="6780960" cy="227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207240"/>
              <a:ext cx="6780960" cy="227520"/>
              <a:chOff x="0" y="3207240"/>
              <a:chExt cx="6780960" cy="2275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3435120"/>
              <a:ext cx="6780960" cy="227880"/>
              <a:chOff x="0" y="3435120"/>
              <a:chExt cx="6780960" cy="2278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663000"/>
              <a:ext cx="6780960" cy="227520"/>
              <a:chOff x="0" y="3663000"/>
              <a:chExt cx="6780960" cy="22752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890880"/>
              <a:ext cx="6780960" cy="227520"/>
              <a:chOff x="0" y="3890880"/>
              <a:chExt cx="6780960" cy="227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4118760"/>
              <a:ext cx="6780960" cy="227520"/>
              <a:chOff x="0" y="4118760"/>
              <a:chExt cx="6780960" cy="22752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defini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4346640"/>
              <a:ext cx="6780960" cy="227880"/>
              <a:chOff x="0" y="4346640"/>
              <a:chExt cx="6780960" cy="22788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4574520"/>
              <a:ext cx="6780960" cy="227520"/>
              <a:chOff x="0" y="4574520"/>
              <a:chExt cx="6780960" cy="22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802400"/>
              <a:ext cx="6780960" cy="227520"/>
              <a:chOff x="0" y="4802400"/>
              <a:chExt cx="6780960" cy="2275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5029920"/>
              <a:ext cx="6780960" cy="227520"/>
              <a:chOff x="0" y="5029920"/>
              <a:chExt cx="6780960" cy="227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0" y="5715000"/>
            <a:ext cx="6781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28440" y="1143000"/>
            <a:ext cx="4648680" cy="580680"/>
            <a:chOff x="1828440" y="1143000"/>
            <a:chExt cx="4648680" cy="580680"/>
          </a:xfrm>
        </p:grpSpPr>
        <p:sp>
          <p:nvSpPr>
            <p:cNvPr id="178" name=""/>
            <p:cNvSpPr/>
            <p:nvPr/>
          </p:nvSpPr>
          <p:spPr>
            <a:xfrm>
              <a:off x="3048120" y="11430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parameters and return value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28440" y="1295280"/>
              <a:ext cx="12193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E3AB-E718-4BE0-80A8-347B6A41B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4: fig03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ing the maximum of three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ree integer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, b and c below are argument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he maximum function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aximum is: " &lt;&lt; maximum( a, b, c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8033-091F-4335-A7A0-F0D9310E6A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244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maximum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, y and z below are parameter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maximum function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0" y="44956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1055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92 35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7150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45 19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DCE0-6732-4EA7-AB23-B76BC8C06D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he function take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information the function passes back to caller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ifies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ed if function definition comes after the function call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FE5F-B08B-47CE-8E14-E618B8B41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by the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ed into program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AA9B-2423-4353-A474-F151A861F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 pseudo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seudorandom number is a 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quence is generated upon every program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s to a seeded location in a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see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;   //must include 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at which the program was comp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he seed every time the program is compiled, thereby a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generate rand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6002-A31A-4808-80A9-A7F4E697A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random number to a certain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number between 0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number between 0 and the scaling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F7C8-9F5D-4C00-9F6F-8B74B0CF7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 random num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0"/>
            <a:ext cx="6780960" cy="5333760"/>
            <a:chOff x="0" y="0"/>
            <a:chExt cx="6780960" cy="5333760"/>
          </a:xfrm>
        </p:grpSpPr>
        <p:grpSp>
          <p:nvGrpSpPr>
            <p:cNvPr id="314" name=""/>
            <p:cNvGrpSpPr/>
            <p:nvPr/>
          </p:nvGrpSpPr>
          <p:grpSpPr>
            <a:xfrm>
              <a:off x="0" y="0"/>
              <a:ext cx="6780960" cy="222120"/>
              <a:chOff x="0" y="0"/>
              <a:chExt cx="6780960" cy="2221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7: fig03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222120"/>
              <a:ext cx="6780960" cy="222120"/>
              <a:chOff x="0" y="222120"/>
              <a:chExt cx="6780960" cy="2221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ifted, scaled integers produced by 1 + rand() %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444240"/>
              <a:ext cx="6780960" cy="222120"/>
              <a:chOff x="0" y="444240"/>
              <a:chExt cx="6780960" cy="2221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66720"/>
              <a:ext cx="6780960" cy="222120"/>
              <a:chOff x="0" y="666720"/>
              <a:chExt cx="6780960" cy="222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888840"/>
              <a:ext cx="6780960" cy="222120"/>
              <a:chOff x="0" y="888840"/>
              <a:chExt cx="6780960" cy="222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110960"/>
              <a:ext cx="6780960" cy="222120"/>
              <a:chOff x="0" y="1110960"/>
              <a:chExt cx="6780960" cy="222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333440"/>
              <a:ext cx="6780960" cy="222120"/>
              <a:chOff x="0" y="1333440"/>
              <a:chExt cx="6780960" cy="22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555560"/>
              <a:ext cx="6780960" cy="222120"/>
              <a:chOff x="0" y="1555560"/>
              <a:chExt cx="6780960" cy="222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778040"/>
              <a:ext cx="6780960" cy="222120"/>
              <a:chOff x="0" y="1778040"/>
              <a:chExt cx="6780960" cy="222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000160"/>
              <a:ext cx="6780960" cy="222120"/>
              <a:chOff x="0" y="2000160"/>
              <a:chExt cx="6780960" cy="22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222280"/>
              <a:ext cx="6780960" cy="222120"/>
              <a:chOff x="0" y="2222280"/>
              <a:chExt cx="6780960" cy="222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444760"/>
              <a:ext cx="6780960" cy="222120"/>
              <a:chOff x="0" y="2444760"/>
              <a:chExt cx="6780960" cy="222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666880"/>
              <a:ext cx="6780960" cy="222120"/>
              <a:chOff x="0" y="2666880"/>
              <a:chExt cx="6780960" cy="22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889360"/>
              <a:ext cx="6780960" cy="222120"/>
              <a:chOff x="0" y="2889360"/>
              <a:chExt cx="6780960" cy="22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111480"/>
              <a:ext cx="6780960" cy="222120"/>
              <a:chOff x="0" y="3111480"/>
              <a:chExt cx="67809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333960"/>
              <a:ext cx="6780960" cy="222120"/>
              <a:chOff x="0" y="3333960"/>
              <a:chExt cx="67809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2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556080"/>
              <a:ext cx="6780960" cy="222120"/>
              <a:chOff x="0" y="3556080"/>
              <a:chExt cx="67809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( 1 +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778200"/>
              <a:ext cx="6780960" cy="222120"/>
              <a:chOff x="0" y="3778200"/>
              <a:chExt cx="67809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00680"/>
              <a:ext cx="6780960" cy="222120"/>
              <a:chOff x="0" y="4000680"/>
              <a:chExt cx="67809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22800"/>
              <a:ext cx="6780960" cy="222120"/>
              <a:chOff x="0" y="4222800"/>
              <a:chExt cx="67809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445280"/>
              <a:ext cx="6780960" cy="222120"/>
              <a:chOff x="0" y="4445280"/>
              <a:chExt cx="67809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667400"/>
              <a:ext cx="6780960" cy="222120"/>
              <a:chOff x="0" y="4667400"/>
              <a:chExt cx="6780960" cy="2221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889520"/>
              <a:ext cx="6780960" cy="222120"/>
              <a:chOff x="0" y="4889520"/>
              <a:chExt cx="6780960" cy="22212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11640"/>
              <a:ext cx="6780960" cy="222120"/>
              <a:chOff x="0" y="5111640"/>
              <a:chExt cx="6780960" cy="22212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114800" y="2917800"/>
            <a:ext cx="4800600" cy="824040"/>
            <a:chOff x="4114800" y="2917800"/>
            <a:chExt cx="4800600" cy="824040"/>
          </a:xfrm>
        </p:grpSpPr>
        <p:sp>
          <p:nvSpPr>
            <p:cNvPr id="387" name=""/>
            <p:cNvSpPr/>
            <p:nvPr/>
          </p:nvSpPr>
          <p:spPr>
            <a:xfrm>
              <a:off x="4876560" y="291780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and() % 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This returns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caling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dd 1 to get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114800" y="31464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191120" y="4876920"/>
            <a:ext cx="4343400" cy="609480"/>
            <a:chOff x="4191120" y="4876920"/>
            <a:chExt cx="4343400" cy="609480"/>
          </a:xfrm>
        </p:grpSpPr>
        <p:sp>
          <p:nvSpPr>
            <p:cNvPr id="390" name=""/>
            <p:cNvSpPr/>
            <p:nvPr/>
          </p:nvSpPr>
          <p:spPr>
            <a:xfrm>
              <a:off x="5029200" y="48769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ng the program again gives the same "random" dice roll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91120" y="51055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5486400"/>
            <a:ext cx="678168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5         3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2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3         2         2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1         4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CC8C-5862-4799-9BD6-EF3E6A7E5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9: fig03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ndomizing die-rol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se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F34B-B94C-45AF-BBF1-17A7F3173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6705720" cy="2271960"/>
            <a:chOff x="0" y="0"/>
            <a:chExt cx="6705720" cy="227196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7621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4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         2         6         4    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         5         1         4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14479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437920" y="2286000"/>
            <a:ext cx="4039200" cy="1114200"/>
            <a:chOff x="2437920" y="2286000"/>
            <a:chExt cx="4039200" cy="1114200"/>
          </a:xfrm>
        </p:grpSpPr>
        <p:sp>
          <p:nvSpPr>
            <p:cNvPr id="494" name=""/>
            <p:cNvSpPr/>
            <p:nvPr/>
          </p:nvSpPr>
          <p:spPr>
            <a:xfrm>
              <a:off x="4038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die rolls change with the se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2437920" y="22860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D601-2866-4FEE-BCF1-3E6676136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9291-DB09-4598-84D8-61D9F8257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- set of integers with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incremented by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constan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enumeration variable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is constant, its value may not be reas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enumVar;  // cre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WON;   // set equal to W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1;     //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E2D3-7C07-4A39-BA02-5DDDA6A09C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Courier New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values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um Months { JAN = 1, FEB, MAR, APR, MAY, JUN, JUL, AUG, SEP, OCT, NOV, DEC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crements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CE45-66FF-4C45-984E-D72035C04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0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0: fig03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a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ti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tus { CONTINUE, WON, LOST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us gameStat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roll of the d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win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038480" y="3276720"/>
            <a:ext cx="2590920" cy="580680"/>
            <a:chOff x="4038480" y="3276720"/>
            <a:chExt cx="2590920" cy="580680"/>
          </a:xfrm>
        </p:grpSpPr>
        <p:sp>
          <p:nvSpPr>
            <p:cNvPr id="608" name=""/>
            <p:cNvSpPr/>
            <p:nvPr/>
          </p:nvSpPr>
          <p:spPr>
            <a:xfrm>
              <a:off x="5029200" y="3276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0384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F20D-C62D-466F-9786-08F8D6D9B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 to continue play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612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membe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CONTIN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"Point is " &lt;&lt; myPoi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ptional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CONTINUE ) {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keep ro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n by making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by rolling 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WO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win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lose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1FF6-348E-4E23-83A0-4D18822CE9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fun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0" y="2341440"/>
            <a:ext cx="6705720" cy="4517640"/>
            <a:chOff x="0" y="2341440"/>
            <a:chExt cx="6705720" cy="4517640"/>
          </a:xfrm>
        </p:grpSpPr>
        <p:sp>
          <p:nvSpPr>
            <p:cNvPr id="689" name=""/>
            <p:cNvSpPr/>
            <p:nvPr/>
          </p:nvSpPr>
          <p:spPr>
            <a:xfrm>
              <a:off x="0" y="234144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293508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489120"/>
              <a:ext cx="6705720" cy="155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2 + 4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3 + 3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4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93992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3 =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4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4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3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2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2 =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l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-57240"/>
            <a:ext cx="6705000" cy="2419560"/>
            <a:chOff x="0" y="-57240"/>
            <a:chExt cx="6705000" cy="2419560"/>
          </a:xfrm>
        </p:grpSpPr>
        <p:grpSp>
          <p:nvGrpSpPr>
            <p:cNvPr id="694" name=""/>
            <p:cNvGrpSpPr/>
            <p:nvPr/>
          </p:nvGrpSpPr>
          <p:grpSpPr>
            <a:xfrm>
              <a:off x="0" y="-57240"/>
              <a:ext cx="6705000" cy="201600"/>
              <a:chOff x="0" y="-57240"/>
              <a:chExt cx="670500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44360"/>
              <a:ext cx="6705000" cy="201600"/>
              <a:chOff x="0" y="144360"/>
              <a:chExt cx="670500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345960"/>
              <a:ext cx="6705000" cy="201600"/>
              <a:chOff x="0" y="345960"/>
              <a:chExt cx="670500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547560"/>
              <a:ext cx="6705000" cy="201600"/>
              <a:chOff x="0" y="547560"/>
              <a:chExt cx="670500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749160"/>
              <a:ext cx="6705000" cy="201600"/>
              <a:chOff x="0" y="749160"/>
              <a:chExt cx="670500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950760"/>
              <a:ext cx="6705000" cy="201600"/>
              <a:chOff x="0" y="950760"/>
              <a:chExt cx="670500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152360"/>
              <a:ext cx="6705000" cy="201600"/>
              <a:chOff x="0" y="1152360"/>
              <a:chExt cx="670500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354320"/>
              <a:ext cx="6705000" cy="201600"/>
              <a:chOff x="0" y="1354320"/>
              <a:chExt cx="670500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layer rolled " &lt;&lt; die1 &lt;&lt; " + " &lt;&lt; di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555920"/>
              <a:ext cx="6705000" cy="201600"/>
              <a:chOff x="0" y="1555920"/>
              <a:chExt cx="670500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= " &lt;&lt; work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1757520"/>
              <a:ext cx="6705000" cy="201600"/>
              <a:chOff x="0" y="1757520"/>
              <a:chExt cx="670500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1959120"/>
              <a:ext cx="6705000" cy="201600"/>
              <a:chOff x="0" y="1959120"/>
              <a:chExt cx="670500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160720"/>
              <a:ext cx="6705000" cy="201600"/>
              <a:chOff x="0" y="2160720"/>
              <a:chExt cx="670500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1607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0" y="2160720"/>
                <a:ext cx="6704640" cy="201600"/>
                <a:chOff x="0" y="2160720"/>
                <a:chExt cx="6704640" cy="2016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7A1A-F9D3-492C-8B7B-BCECAACBBF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is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n identifier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local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floa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put variables into high-spee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with local variables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90EB-3FB9-40B4-A01C-12E06F5A99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defined 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global variables and func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D7B1-8429-44EE-AB23-030F030FC8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dentifier Scope Ru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include, global variables, function definitions and functions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inside a block.  Begins at declaration, ends a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“hidden” from inner blocks if same variab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function prototype optional, and can be used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A830-82DE-4FA2-805A-F0601E88D7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0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2: fig03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scoping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variable to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rt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local x in inn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d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ha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 has st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 uses glob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reinitialize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local x retains its previou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x also retains it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1371240" y="1981080"/>
            <a:ext cx="4724640" cy="1143000"/>
            <a:chOff x="1371240" y="1981080"/>
            <a:chExt cx="4724640" cy="1143000"/>
          </a:xfrm>
        </p:grpSpPr>
        <p:sp>
          <p:nvSpPr>
            <p:cNvPr id="843" name=""/>
            <p:cNvSpPr/>
            <p:nvPr/>
          </p:nvSpPr>
          <p:spPr>
            <a:xfrm>
              <a:off x="3048120" y="19810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different inside and outside the block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371240" y="20574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1600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752480" y="3657240"/>
            <a:ext cx="6477120" cy="2703960"/>
            <a:chOff x="1752480" y="3657240"/>
            <a:chExt cx="6477120" cy="2703960"/>
          </a:xfrm>
        </p:grpSpPr>
        <p:sp>
          <p:nvSpPr>
            <p:cNvPr id="847" name=""/>
            <p:cNvSpPr/>
            <p:nvPr/>
          </p:nvSpPr>
          <p:spPr>
            <a:xfrm>
              <a:off x="3657600" y="5719680"/>
              <a:ext cx="4572000" cy="641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inner scope of main i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2057040" y="3657240"/>
              <a:ext cx="1600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1752480" y="47239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1752480" y="533376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AE96-C71F-4844-8ECF-15B852E680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d each time a is cal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fter enter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before exit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initialization on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time b is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endl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nter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xit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global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n enter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global x is " &lt;&lt; x &lt;&lt; " on exit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1828800" y="457200"/>
            <a:ext cx="5410080" cy="1067400"/>
            <a:chOff x="1828800" y="457200"/>
            <a:chExt cx="5410080" cy="1067400"/>
          </a:xfrm>
        </p:grpSpPr>
        <p:sp>
          <p:nvSpPr>
            <p:cNvPr id="956" name=""/>
            <p:cNvSpPr/>
            <p:nvPr/>
          </p:nvSpPr>
          <p:spPr>
            <a:xfrm>
              <a:off x="4495680" y="457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automatic variables are created and destroyed each ti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828800" y="990720"/>
              <a:ext cx="2666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438280" y="3429000"/>
            <a:ext cx="5181480" cy="824040"/>
            <a:chOff x="2438280" y="3429000"/>
            <a:chExt cx="5181480" cy="824040"/>
          </a:xfrm>
        </p:grpSpPr>
        <p:sp>
          <p:nvSpPr>
            <p:cNvPr id="959" name=""/>
            <p:cNvSpPr/>
            <p:nvPr/>
          </p:nvSpPr>
          <p:spPr>
            <a:xfrm>
              <a:off x="5105160" y="3429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static variables are not destroyed when the function end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2438280" y="3657600"/>
              <a:ext cx="2666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86000" y="5105520"/>
            <a:ext cx="4724280" cy="824040"/>
            <a:chOff x="2286000" y="5105520"/>
            <a:chExt cx="4724280" cy="824040"/>
          </a:xfrm>
        </p:grpSpPr>
        <p:sp>
          <p:nvSpPr>
            <p:cNvPr id="962" name=""/>
            <p:cNvSpPr/>
            <p:nvPr/>
          </p:nvSpPr>
          <p:spPr>
            <a:xfrm>
              <a:off x="4114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obal variables are always accessible.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s the globa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286000" y="53341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62160" y="1981080"/>
            <a:ext cx="5105160" cy="685800"/>
            <a:chOff x="3962160" y="1981080"/>
            <a:chExt cx="5105160" cy="685800"/>
          </a:xfrm>
        </p:grpSpPr>
        <p:sp>
          <p:nvSpPr>
            <p:cNvPr id="965" name=""/>
            <p:cNvSpPr/>
            <p:nvPr/>
          </p:nvSpPr>
          <p:spPr>
            <a:xfrm>
              <a:off x="5029200" y="1981080"/>
              <a:ext cx="403812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5 after enter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6 before exit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96216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962160" y="2362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809520" y="4419360"/>
            <a:ext cx="5258160" cy="554760"/>
            <a:chOff x="3809520" y="4419360"/>
            <a:chExt cx="5258160" cy="554760"/>
          </a:xfrm>
        </p:grpSpPr>
        <p:sp>
          <p:nvSpPr>
            <p:cNvPr id="969" name=""/>
            <p:cNvSpPr/>
            <p:nvPr/>
          </p:nvSpPr>
          <p:spPr>
            <a:xfrm>
              <a:off x="5486400" y="4419720"/>
              <a:ext cx="358128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0 on enter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1 on exit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3885840" y="44193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809520" y="48006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809880" y="5943600"/>
            <a:ext cx="5029200" cy="554400"/>
            <a:chOff x="3809880" y="5943600"/>
            <a:chExt cx="5029200" cy="554400"/>
          </a:xfrm>
        </p:grpSpPr>
        <p:sp>
          <p:nvSpPr>
            <p:cNvPr id="973" name=""/>
            <p:cNvSpPr/>
            <p:nvPr/>
          </p:nvSpPr>
          <p:spPr>
            <a:xfrm>
              <a:off x="5791320" y="5943600"/>
              <a:ext cx="304776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 on enter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0 on exit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809880" y="6095880"/>
              <a:ext cx="198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334120" y="632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4DED-216D-4BB2-A189-FE6025FE8A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2DF2-9684-419C-B083-C59278F4E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EF84-03C5-4C37-9B7B-506A029A22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functions that call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base case, the function breaks the problem into a slightly smaller, slightly simpler, problem that resembles the original problem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s a new copy of itself to work on the smaller problem, slowly converging towards the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call to itself insid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the base case gets solved and then that value works its way back up to solve the whol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5108-C25C-4793-A22E-9C253ED0E1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! = n * ( n – 1 )!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A74B-40CB-4E9E-ADEB-3819E8085C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fibonacci( n - 1 ) +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8E8C-19ED-4131-983F-53984E76FA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Fibonna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752480" y="2057400"/>
            <a:ext cx="4571640" cy="1954080"/>
            <a:chOff x="1752480" y="2057400"/>
            <a:chExt cx="4571640" cy="1954080"/>
          </a:xfrm>
        </p:grpSpPr>
        <p:sp>
          <p:nvSpPr>
            <p:cNvPr id="990" name=""/>
            <p:cNvSpPr/>
            <p:nvPr/>
          </p:nvSpPr>
          <p:spPr>
            <a:xfrm>
              <a:off x="2226960" y="371952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36360" y="371952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78520" y="316044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2480" y="316044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4880" y="260964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4160" y="20574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6696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4020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03080" y="322416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7352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8768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5440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5804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360" y="229212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12960" y="290196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34400" y="289872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892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6016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98080" y="20858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86640" y="269856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19160" y="269712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24400" y="325728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240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49520" y="32572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0912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9944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2232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95600" y="326232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5240" y="269856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17440" y="269532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94DD-2ADA-4F31-9677-99B92230CC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2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5: fig03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fibonacci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Enter an integ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in &gt;&g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Fibonacci(" &lt;&lt; number &lt;&lt; ") = " &lt;&lt; resul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definition of function fibonac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3581280" y="5181480"/>
            <a:ext cx="4724640" cy="824040"/>
            <a:chOff x="3581280" y="5181480"/>
            <a:chExt cx="4724640" cy="824040"/>
          </a:xfrm>
        </p:grpSpPr>
        <p:sp>
          <p:nvSpPr>
            <p:cNvPr id="1110" name=""/>
            <p:cNvSpPr/>
            <p:nvPr/>
          </p:nvSpPr>
          <p:spPr>
            <a:xfrm>
              <a:off x="5029200" y="518148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base cases return values.  All other cases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bonacci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agai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581280" y="548640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F91F-CF3B-48EF-BA11-D03AA70030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572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9144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1371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8288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2362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00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28954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8098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4648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09FF-1BCD-48E2-AE0B-C5F8D07361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86E8-41A0-4EF4-B426-51C3AA1CBA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ither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leaving a parameter list empty indicates that the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E2F-904C-4F51-A8B6-998FA25749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 (take no argumen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1130" name=""/>
            <p:cNvGrpSpPr/>
            <p:nvPr/>
          </p:nvGrpSpPr>
          <p:grpSpPr>
            <a:xfrm>
              <a:off x="0" y="0"/>
              <a:ext cx="6780960" cy="219960"/>
              <a:chOff x="0" y="0"/>
              <a:chExt cx="6780960" cy="219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8: fig03_1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19960"/>
              <a:ext cx="6780960" cy="219960"/>
              <a:chOff x="0" y="219960"/>
              <a:chExt cx="6780960" cy="21996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s that take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439920"/>
              <a:ext cx="6780960" cy="219960"/>
              <a:chOff x="0" y="439920"/>
              <a:chExt cx="6780960" cy="21996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60240"/>
              <a:ext cx="6780960" cy="219960"/>
              <a:chOff x="0" y="660240"/>
              <a:chExt cx="6780960" cy="21996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880560"/>
              <a:ext cx="6780960" cy="219960"/>
              <a:chOff x="0" y="880560"/>
              <a:chExt cx="6780960" cy="219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1100520"/>
              <a:ext cx="6780960" cy="219960"/>
              <a:chOff x="0" y="1100520"/>
              <a:chExt cx="6780960" cy="219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320480"/>
              <a:ext cx="6780960" cy="219960"/>
              <a:chOff x="0" y="1320480"/>
              <a:chExt cx="6780960" cy="21996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540800"/>
              <a:ext cx="6780960" cy="219960"/>
              <a:chOff x="0" y="1540800"/>
              <a:chExt cx="6780960" cy="219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761120"/>
              <a:ext cx="6780960" cy="219960"/>
              <a:chOff x="0" y="1761120"/>
              <a:chExt cx="6780960" cy="21996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981080"/>
              <a:ext cx="6780960" cy="219960"/>
              <a:chOff x="0" y="1981080"/>
              <a:chExt cx="6780960" cy="21996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2201040"/>
              <a:ext cx="6780960" cy="219960"/>
              <a:chOff x="0" y="2201040"/>
              <a:chExt cx="6780960" cy="21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421360"/>
              <a:ext cx="6780960" cy="219960"/>
              <a:chOff x="0" y="2421360"/>
              <a:chExt cx="6780960" cy="21996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641680"/>
              <a:ext cx="6780960" cy="219960"/>
              <a:chOff x="0" y="2641680"/>
              <a:chExt cx="6780960" cy="21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861640"/>
              <a:ext cx="6780960" cy="219960"/>
              <a:chOff x="0" y="2861640"/>
              <a:chExt cx="6780960" cy="21996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2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3081960"/>
              <a:ext cx="6780960" cy="219960"/>
              <a:chOff x="0" y="3081960"/>
              <a:chExt cx="6780960" cy="219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301920"/>
              <a:ext cx="6780960" cy="219960"/>
              <a:chOff x="0" y="3301920"/>
              <a:chExt cx="6780960" cy="219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522240"/>
              <a:ext cx="6780960" cy="219960"/>
              <a:chOff x="0" y="3522240"/>
              <a:chExt cx="6780960" cy="219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3742200"/>
              <a:ext cx="6780960" cy="219960"/>
              <a:chOff x="0" y="3742200"/>
              <a:chExt cx="6780960" cy="219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962520"/>
              <a:ext cx="6780960" cy="219960"/>
              <a:chOff x="0" y="3962520"/>
              <a:chExt cx="6780960" cy="219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4182480"/>
              <a:ext cx="6780960" cy="219960"/>
              <a:chOff x="0" y="4182480"/>
              <a:chExt cx="6780960" cy="21996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402800"/>
              <a:ext cx="6780960" cy="219960"/>
              <a:chOff x="0" y="4402800"/>
              <a:chExt cx="6780960" cy="219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1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4622760"/>
              <a:ext cx="6780960" cy="219960"/>
              <a:chOff x="0" y="4622760"/>
              <a:chExt cx="6780960" cy="21996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4843080"/>
              <a:ext cx="6780960" cy="219960"/>
              <a:chOff x="0" y="4843080"/>
              <a:chExt cx="6780960" cy="21996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5063040"/>
              <a:ext cx="6780960" cy="219960"/>
              <a:chOff x="0" y="5063040"/>
              <a:chExt cx="6780960" cy="21996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5283360"/>
              <a:ext cx="6780960" cy="219960"/>
              <a:chOff x="0" y="5283360"/>
              <a:chExt cx="6780960" cy="21996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503320"/>
              <a:ext cx="6780960" cy="219960"/>
              <a:chOff x="0" y="5503320"/>
              <a:chExt cx="6780960" cy="219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2 also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5723640"/>
              <a:ext cx="6780960" cy="219960"/>
              <a:chOff x="0" y="5723640"/>
              <a:chExt cx="6780960" cy="21996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0" y="614196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057400" y="1219320"/>
            <a:ext cx="3733920" cy="580680"/>
            <a:chOff x="2057400" y="1219320"/>
            <a:chExt cx="3733920" cy="580680"/>
          </a:xfrm>
        </p:grpSpPr>
        <p:sp>
          <p:nvSpPr>
            <p:cNvPr id="1213" name=""/>
            <p:cNvSpPr/>
            <p:nvPr/>
          </p:nvSpPr>
          <p:spPr>
            <a:xfrm>
              <a:off x="3429000" y="1219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two ways of declaring no argumen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057400" y="1523880"/>
              <a:ext cx="1371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5274-9586-4906-90EB-6D185C112D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ritt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new functions with “prepackaged” functions in the C+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libr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library provides a rich collection of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re invoked by a function c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 specifies the function name and provides information (as arguments) that the called function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14B4-930B-4ECE-81DE-DDF29565A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function-call over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using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used with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85CC-907D-45A9-B7F9-77AD9E1500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signify 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change( int &amp;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variable += 3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3 to the variable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hang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now aff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1AF5-DBAB-4A86-A452-59E44F3060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 of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uareByVal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0" y="0"/>
            <a:ext cx="6552360" cy="6858000"/>
            <a:chOff x="0" y="0"/>
            <a:chExt cx="6552360" cy="6858000"/>
          </a:xfrm>
        </p:grpSpPr>
        <p:grpSp>
          <p:nvGrpSpPr>
            <p:cNvPr id="1221" name=""/>
            <p:cNvGrpSpPr/>
            <p:nvPr/>
          </p:nvGrpSpPr>
          <p:grpSpPr>
            <a:xfrm>
              <a:off x="0" y="0"/>
              <a:ext cx="6552360" cy="221040"/>
              <a:chOff x="0" y="0"/>
              <a:chExt cx="65523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0: fig03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221040"/>
              <a:ext cx="6552360" cy="221040"/>
              <a:chOff x="0" y="221040"/>
              <a:chExt cx="65523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442080"/>
              <a:ext cx="6552360" cy="221040"/>
              <a:chOff x="0" y="442080"/>
              <a:chExt cx="65523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663480"/>
              <a:ext cx="6552360" cy="221040"/>
              <a:chOff x="0" y="663480"/>
              <a:chExt cx="65523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884880"/>
              <a:ext cx="6552360" cy="221040"/>
              <a:chOff x="0" y="884880"/>
              <a:chExt cx="65523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1105920"/>
              <a:ext cx="6552360" cy="221040"/>
              <a:chOff x="0" y="1105920"/>
              <a:chExt cx="65523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1327320"/>
              <a:ext cx="6552360" cy="221040"/>
              <a:chOff x="0" y="1327320"/>
              <a:chExt cx="65523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1548360"/>
              <a:ext cx="6552360" cy="221040"/>
              <a:chOff x="0" y="1548360"/>
              <a:chExt cx="65523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1769760"/>
              <a:ext cx="6552360" cy="221040"/>
              <a:chOff x="0" y="1769760"/>
              <a:chExt cx="65523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1990800"/>
              <a:ext cx="6552360" cy="221040"/>
              <a:chOff x="0" y="1990800"/>
              <a:chExt cx="65523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2212200"/>
              <a:ext cx="6552360" cy="221040"/>
              <a:chOff x="0" y="2212200"/>
              <a:chExt cx="65523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2433600"/>
              <a:ext cx="6552360" cy="221040"/>
              <a:chOff x="0" y="2433600"/>
              <a:chExt cx="65523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2654640"/>
              <a:ext cx="6552360" cy="221040"/>
              <a:chOff x="0" y="2654640"/>
              <a:chExt cx="65523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2875680"/>
              <a:ext cx="6552360" cy="221040"/>
              <a:chOff x="0" y="2875680"/>
              <a:chExt cx="65523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3097080"/>
              <a:ext cx="6552360" cy="221040"/>
              <a:chOff x="0" y="3097080"/>
              <a:chExt cx="65523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318480"/>
              <a:ext cx="6552360" cy="221040"/>
              <a:chOff x="0" y="3318480"/>
              <a:chExt cx="6552360" cy="22104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3539520"/>
              <a:ext cx="6552360" cy="221040"/>
              <a:chOff x="0" y="3539520"/>
              <a:chExt cx="6552360" cy="221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3760920"/>
              <a:ext cx="6552360" cy="221040"/>
              <a:chOff x="0" y="3760920"/>
              <a:chExt cx="6552360" cy="22104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quareByValue( x )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3981960"/>
              <a:ext cx="6552360" cy="221040"/>
              <a:chOff x="0" y="3981960"/>
              <a:chExt cx="6552360" cy="22104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4203360"/>
              <a:ext cx="6552360" cy="221040"/>
              <a:chOff x="0" y="4203360"/>
              <a:chExt cx="6552360" cy="22104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4424400"/>
              <a:ext cx="6552360" cy="221040"/>
              <a:chOff x="0" y="4424400"/>
              <a:chExt cx="6552360" cy="22104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4645800"/>
              <a:ext cx="6552360" cy="221040"/>
              <a:chOff x="0" y="4645800"/>
              <a:chExt cx="6552360" cy="22104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4866840"/>
              <a:ext cx="6552360" cy="221040"/>
              <a:chOff x="0" y="4866840"/>
              <a:chExt cx="6552360" cy="221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5088240"/>
              <a:ext cx="6552360" cy="221040"/>
              <a:chOff x="0" y="5088240"/>
              <a:chExt cx="6552360" cy="22104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5309640"/>
              <a:ext cx="6552360" cy="221040"/>
              <a:chOff x="0" y="5309640"/>
              <a:chExt cx="6552360" cy="221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5530680"/>
              <a:ext cx="6552360" cy="221040"/>
              <a:chOff x="0" y="5530680"/>
              <a:chExt cx="6552360" cy="22104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5751720"/>
              <a:ext cx="6552360" cy="221040"/>
              <a:chOff x="0" y="5751720"/>
              <a:chExt cx="6552360" cy="221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5973120"/>
              <a:ext cx="6552360" cy="221040"/>
              <a:chOff x="0" y="5973120"/>
              <a:chExt cx="6552360" cy="22104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6194520"/>
              <a:ext cx="6552360" cy="221040"/>
              <a:chOff x="0" y="6194520"/>
              <a:chExt cx="6552360" cy="22104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6415560"/>
              <a:ext cx="6552360" cy="221040"/>
              <a:chOff x="0" y="6415560"/>
              <a:chExt cx="65523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6636960"/>
              <a:ext cx="6552360" cy="221040"/>
              <a:chOff x="0" y="6636960"/>
              <a:chExt cx="65523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3048120" y="1066680"/>
            <a:ext cx="3352680" cy="990720"/>
            <a:chOff x="3048120" y="1066680"/>
            <a:chExt cx="3352680" cy="990720"/>
          </a:xfrm>
        </p:grpSpPr>
        <p:sp>
          <p:nvSpPr>
            <p:cNvPr id="1315" name=""/>
            <p:cNvSpPr/>
            <p:nvPr/>
          </p:nvSpPr>
          <p:spPr>
            <a:xfrm flipH="1">
              <a:off x="3048120" y="1371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10666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E253-5D1B-4948-8EEA-67F6A5CE65C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By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1447920"/>
            <a:ext cx="65530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before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returned by squareByValu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after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4 before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6 after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0" y="0"/>
            <a:ext cx="6552360" cy="1219320"/>
            <a:chOff x="0" y="0"/>
            <a:chExt cx="6552360" cy="1219320"/>
          </a:xfrm>
        </p:grpSpPr>
        <p:grpSp>
          <p:nvGrpSpPr>
            <p:cNvPr id="1320" name=""/>
            <p:cNvGrpSpPr/>
            <p:nvPr/>
          </p:nvGrpSpPr>
          <p:grpSpPr>
            <a:xfrm>
              <a:off x="0" y="0"/>
              <a:ext cx="6552360" cy="243720"/>
              <a:chOff x="0" y="0"/>
              <a:chExt cx="6552360" cy="243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243720"/>
              <a:ext cx="6552360" cy="243720"/>
              <a:chOff x="0" y="243720"/>
              <a:chExt cx="6552360" cy="24372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487440"/>
              <a:ext cx="6552360" cy="243720"/>
              <a:chOff x="0" y="487440"/>
              <a:chExt cx="6552360" cy="24372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731520"/>
              <a:ext cx="6552360" cy="243720"/>
              <a:chOff x="0" y="731520"/>
              <a:chExt cx="6552360" cy="24372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975600"/>
              <a:ext cx="6552360" cy="243720"/>
              <a:chOff x="0" y="975600"/>
              <a:chExt cx="6552360" cy="24372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18DC-67E6-4B14-9D25-C27AE85D93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efaultFunction( int x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2, int z =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BF7-9C13-44BA-A236-26E87E0D6B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default volu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volume with one parame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th 2 paramet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Print with all parameter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3: fig03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efault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default box volume is: " &lt;&lt; boxVolume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1 and height 1 is: " &lt;&lt; boxVolume( 1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1 is: " &lt;&lt; boxVolume( 10,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2 is: " &lt;&lt; boxVolume( 10, 5,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the volume of a bo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* width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04A6-F768-4198-8CE5-2EF791B454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666520" y="1162080"/>
            <a:ext cx="4267800" cy="1799640"/>
            <a:chOff x="2666520" y="1162080"/>
            <a:chExt cx="4267800" cy="1799640"/>
          </a:xfrm>
        </p:grpSpPr>
        <p:sp>
          <p:nvSpPr>
            <p:cNvPr id="1426" name=""/>
            <p:cNvSpPr/>
            <p:nvPr/>
          </p:nvSpPr>
          <p:spPr>
            <a:xfrm>
              <a:off x="4267080" y="2381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rightmost values are default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2666520" y="116208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4822-27B7-479A-B151-E408A6D7FFD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80D7-AC24-4942-AD96-F31761D2FC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1432" name=""/>
            <p:cNvGrpSpPr/>
            <p:nvPr/>
          </p:nvGrpSpPr>
          <p:grpSpPr>
            <a:xfrm>
              <a:off x="0" y="0"/>
              <a:ext cx="6705000" cy="215280"/>
              <a:chOff x="0" y="0"/>
              <a:chExt cx="6705000" cy="21528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4: fig03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215280"/>
              <a:ext cx="6705000" cy="215280"/>
              <a:chOff x="0" y="215280"/>
              <a:chExt cx="6705000" cy="21528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unary scope resolu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430560"/>
              <a:ext cx="6705000" cy="215280"/>
              <a:chOff x="0" y="430560"/>
              <a:chExt cx="6705000" cy="215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645840"/>
              <a:ext cx="6705000" cy="215280"/>
              <a:chOff x="0" y="645840"/>
              <a:chExt cx="6705000" cy="215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861120"/>
              <a:ext cx="6705000" cy="215280"/>
              <a:chOff x="0" y="861120"/>
              <a:chExt cx="6705000" cy="215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076400"/>
              <a:ext cx="6705000" cy="215280"/>
              <a:chOff x="0" y="1076400"/>
              <a:chExt cx="6705000" cy="21528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292040"/>
              <a:ext cx="6705000" cy="215280"/>
              <a:chOff x="0" y="1292040"/>
              <a:chExt cx="6705000" cy="21528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1507320"/>
              <a:ext cx="6705000" cy="215280"/>
              <a:chOff x="0" y="1507320"/>
              <a:chExt cx="6705000" cy="21528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1722600"/>
              <a:ext cx="6705000" cy="215280"/>
              <a:chOff x="0" y="1722600"/>
              <a:chExt cx="6705000" cy="21528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937880"/>
              <a:ext cx="6705000" cy="215280"/>
              <a:chOff x="0" y="1937880"/>
              <a:chExt cx="6705000" cy="21528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153160"/>
              <a:ext cx="6705000" cy="215280"/>
              <a:chOff x="0" y="2153160"/>
              <a:chExt cx="6705000" cy="21528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368800"/>
              <a:ext cx="6705000" cy="215280"/>
              <a:chOff x="0" y="2368800"/>
              <a:chExt cx="6705000" cy="21528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3.1415926535897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2584080"/>
              <a:ext cx="6705000" cy="215280"/>
              <a:chOff x="0" y="2584080"/>
              <a:chExt cx="6705000" cy="215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2799360"/>
              <a:ext cx="6705000" cy="215280"/>
              <a:chOff x="0" y="2799360"/>
              <a:chExt cx="6705000" cy="21528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014640"/>
              <a:ext cx="6705000" cy="215280"/>
              <a:chOff x="0" y="3014640"/>
              <a:chExt cx="6705000" cy="21528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230280"/>
              <a:ext cx="6705000" cy="215280"/>
              <a:chOff x="0" y="3230280"/>
              <a:chExt cx="6705000" cy="21528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::P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3445560"/>
              <a:ext cx="6705000" cy="215280"/>
              <a:chOff x="0" y="3445560"/>
              <a:chExt cx="6705000" cy="21528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3660840"/>
              <a:ext cx="6705000" cy="215280"/>
              <a:chOff x="0" y="3660840"/>
              <a:chExt cx="6705000" cy="21528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precision( 2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876120"/>
              <a:ext cx="6705000" cy="215280"/>
              <a:chOff x="0" y="3876120"/>
              <a:chExt cx="6705000" cy="215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 Local float value of PI = " &lt;&lt; 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091400"/>
              <a:ext cx="6705000" cy="215280"/>
              <a:chOff x="0" y="4091400"/>
              <a:chExt cx="6705000" cy="215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Global double value of PI = " &lt;&lt; ::PI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4307040"/>
              <a:ext cx="6705000" cy="215280"/>
              <a:chOff x="0" y="4307040"/>
              <a:chExt cx="6705000" cy="215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4522320"/>
              <a:ext cx="6705000" cy="215280"/>
              <a:chOff x="0" y="4522320"/>
              <a:chExt cx="6705000" cy="21528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4737600"/>
              <a:ext cx="6705000" cy="215280"/>
              <a:chOff x="0" y="4737600"/>
              <a:chExt cx="6705000" cy="21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0" y="54864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105160" y="3276720"/>
            <a:ext cx="2972160" cy="761760"/>
            <a:chOff x="5105160" y="3276720"/>
            <a:chExt cx="2972160" cy="761760"/>
          </a:xfrm>
        </p:grpSpPr>
        <p:sp>
          <p:nvSpPr>
            <p:cNvPr id="1503" name=""/>
            <p:cNvSpPr/>
            <p:nvPr/>
          </p:nvSpPr>
          <p:spPr>
            <a:xfrm>
              <a:off x="6172200" y="3276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105160" y="3581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9D25-4FC9-4729-BF53-F9FBD95639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( i.e., a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termined by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the same retur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3C12-57B8-42CE-B6CA-E13A4B41C2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atements are hidden from othe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ss does not know how the worker gets the job done; he just wants it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B0B7-A5BD-4584-8068-05DD40FFF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514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overloade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0" y="0"/>
            <a:ext cx="6705000" cy="4495680"/>
            <a:chOff x="0" y="0"/>
            <a:chExt cx="6705000" cy="4495680"/>
          </a:xfrm>
        </p:grpSpPr>
        <p:grpSp>
          <p:nvGrpSpPr>
            <p:cNvPr id="1509" name=""/>
            <p:cNvGrpSpPr/>
            <p:nvPr/>
          </p:nvGrpSpPr>
          <p:grpSpPr>
            <a:xfrm>
              <a:off x="0" y="0"/>
              <a:ext cx="6705000" cy="236520"/>
              <a:chOff x="0" y="0"/>
              <a:chExt cx="6705000" cy="236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5: fig03_2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236520"/>
              <a:ext cx="6705000" cy="236520"/>
              <a:chOff x="0" y="236520"/>
              <a:chExt cx="6705000" cy="23652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overloaded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473040"/>
              <a:ext cx="6705000" cy="236520"/>
              <a:chOff x="0" y="473040"/>
              <a:chExt cx="6705000" cy="23652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0" y="709920"/>
              <a:ext cx="6705000" cy="236520"/>
              <a:chOff x="0" y="709920"/>
              <a:chExt cx="6705000" cy="236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946440"/>
              <a:ext cx="6705000" cy="236520"/>
              <a:chOff x="0" y="946440"/>
              <a:chExt cx="6705000" cy="236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1182960"/>
              <a:ext cx="6705000" cy="236520"/>
              <a:chOff x="0" y="1182960"/>
              <a:chExt cx="6705000" cy="23652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1419480"/>
              <a:ext cx="6705000" cy="236520"/>
              <a:chOff x="0" y="1419480"/>
              <a:chExt cx="6705000" cy="23652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656360"/>
              <a:ext cx="6705000" cy="236520"/>
              <a:chOff x="0" y="1656360"/>
              <a:chExt cx="6705000" cy="23652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*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892880"/>
              <a:ext cx="6705000" cy="236520"/>
              <a:chOff x="0" y="1892880"/>
              <a:chExt cx="6705000" cy="23652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2129400"/>
              <a:ext cx="6705000" cy="236520"/>
              <a:chOff x="0" y="2129400"/>
              <a:chExt cx="6705000" cy="23652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365920"/>
              <a:ext cx="6705000" cy="236520"/>
              <a:chOff x="0" y="2365920"/>
              <a:chExt cx="6705000" cy="23652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602800"/>
              <a:ext cx="6705000" cy="236520"/>
              <a:chOff x="0" y="2602800"/>
              <a:chExt cx="6705000" cy="23652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39320"/>
              <a:ext cx="6705000" cy="236520"/>
              <a:chOff x="0" y="2839320"/>
              <a:chExt cx="6705000" cy="23652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075840"/>
              <a:ext cx="6705000" cy="236520"/>
              <a:chOff x="0" y="3075840"/>
              <a:chExt cx="6705000" cy="23652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square of integer 7 is " &lt;&lt; square( 7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312720"/>
              <a:ext cx="6705000" cy="236520"/>
              <a:chOff x="0" y="3312720"/>
              <a:chExt cx="6705000" cy="23652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The square of double 7.5 is " &lt;&lt; square( 7.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549240"/>
              <a:ext cx="6705000" cy="236520"/>
              <a:chOff x="0" y="3549240"/>
              <a:chExt cx="6705000" cy="23652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3785760"/>
              <a:ext cx="6705000" cy="236520"/>
              <a:chOff x="0" y="3785760"/>
              <a:chExt cx="6705000" cy="23652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022640"/>
              <a:ext cx="6705000" cy="236520"/>
              <a:chOff x="0" y="4022640"/>
              <a:chExt cx="6705000" cy="23652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259160"/>
              <a:ext cx="6705000" cy="236520"/>
              <a:chOff x="0" y="4259160"/>
              <a:chExt cx="6705000" cy="23652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6" name=""/>
          <p:cNvSpPr/>
          <p:nvPr/>
        </p:nvSpPr>
        <p:spPr>
          <a:xfrm>
            <a:off x="0" y="51055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828440" y="609480"/>
            <a:ext cx="4420080" cy="1524240"/>
            <a:chOff x="1828440" y="609480"/>
            <a:chExt cx="4420080" cy="1524240"/>
          </a:xfrm>
        </p:grpSpPr>
        <p:sp>
          <p:nvSpPr>
            <p:cNvPr id="1568" name=""/>
            <p:cNvSpPr/>
            <p:nvPr/>
          </p:nvSpPr>
          <p:spPr>
            <a:xfrm>
              <a:off x="3505320" y="609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have same name but different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1828440" y="99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285640" y="114300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B88A-EA88-47D0-944F-C5333B832E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very formal type parameter (built in or user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r template&lt; typename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laced by type parameter in function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D230-BF3B-4776-8413-F747E0425B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by including the header 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qrt( 900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quare root) function. The preceding statement would pr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takes an argumen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turns a resul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do all functions in the math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973D-7AD1-4695-ACF2-AFE538D5D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sqrt( x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D79B-340F-4B59-95EF-C5829F3F9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passed when the function is called that provide the function with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909B-F07B-49FC-BC01-9435DD90E5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he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or function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-value-type  function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-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s and stat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F157-8E9F-4414-A953-78330274D7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4:51:05Z</dcterms:created>
  <dc:creator>kalid</dc:creator>
  <dc:description/>
  <dc:language>en-US</dc:language>
  <cp:lastModifiedBy>Antonella Esposito</cp:lastModifiedBy>
  <dcterms:modified xsi:type="dcterms:W3CDTF">2001-01-12T10:40:57Z</dcterms:modified>
  <cp:revision>407</cp:revision>
  <dc:subject/>
  <dc:title>Chapter 3 - Functions</dc:title>
</cp:coreProperties>
</file>