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2668-B993-4BF8-B232-3CF1F9D46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C038-F928-460A-AC63-8B371A1F8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95DA-B0BC-42C9-A302-07A21F00C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AD04-6F0A-4D2C-BA3A-882E9EBFB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BDFA-DFD2-4C94-9C75-42770AF64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6BE6-4906-4054-BD5F-7B11A03F5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A510-0480-4BF9-AAF4-E0D067B44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7228-FF0A-45C6-981D-525C0FE12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1F6A-258C-4D68-BAC8-235792BB6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C99C-F9A5-4EFD-AF63-16560C7A3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6C96-BC6A-4C00-B679-A3CD6FBAC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CEB0-1559-440F-8CBF-541D1B9F1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8FCC-BDCB-4F51-AD36-90A838974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5 - Pointers and String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295280"/>
            <a:ext cx="8001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Variable Declarations and Initializ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lling Functions by 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the Const Qualifier with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ubble Sort Using Call-by-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Expressions and Pointer Arithmet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Relationship Between Pointers and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rrays of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Card Shuffling and Dealing Simul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 to Character and String Process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damentals of Characters and String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Manipulation Functions of th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-handling Libra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inking About Objects: Interactions Among Objects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E0E9-D079-413B-80F8-B570F05340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Const Qualifier with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when function does not need to change 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empting to chang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 is a 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 to same memory 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initialized when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const myPtr = &amp;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non-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 *myPtr = &amp;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 *const Ptr = &amp;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5082-F5D9-4492-AE00-BAC0671442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clar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pointer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han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pt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(which i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Attempt to chan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tr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0" y="0"/>
            <a:ext cx="6780960" cy="4648320"/>
            <a:chOff x="0" y="0"/>
            <a:chExt cx="6780960" cy="4648320"/>
          </a:xfrm>
        </p:grpSpPr>
        <p:grpSp>
          <p:nvGrpSpPr>
            <p:cNvPr id="323" name=""/>
            <p:cNvGrpSpPr/>
            <p:nvPr/>
          </p:nvGrpSpPr>
          <p:grpSpPr>
            <a:xfrm>
              <a:off x="0" y="0"/>
              <a:ext cx="6780960" cy="258120"/>
              <a:chOff x="0" y="0"/>
              <a:chExt cx="6780960" cy="25812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13: fig05_1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258120"/>
              <a:ext cx="6780960" cy="258120"/>
              <a:chOff x="0" y="258120"/>
              <a:chExt cx="6780960" cy="25812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2581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2581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ttempting to modify a constant pointer 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516240"/>
              <a:ext cx="6780960" cy="258120"/>
              <a:chOff x="0" y="516240"/>
              <a:chExt cx="6780960" cy="25812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5162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5162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n-constant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774720"/>
              <a:ext cx="6780960" cy="258120"/>
              <a:chOff x="0" y="774720"/>
              <a:chExt cx="6780960" cy="25812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7747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7747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1032840"/>
              <a:ext cx="6780960" cy="258120"/>
              <a:chOff x="0" y="1032840"/>
              <a:chExt cx="6780960" cy="25812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0328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10328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1290960"/>
              <a:ext cx="6780960" cy="258120"/>
              <a:chOff x="0" y="1290960"/>
              <a:chExt cx="6780960" cy="25812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12909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12909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1549440"/>
              <a:ext cx="6780960" cy="258120"/>
              <a:chOff x="0" y="1549440"/>
              <a:chExt cx="6780960" cy="25812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15494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15494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1807560"/>
              <a:ext cx="6780960" cy="258120"/>
              <a:chOff x="0" y="1807560"/>
              <a:chExt cx="6780960" cy="25812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18075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18075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x,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2066040"/>
              <a:ext cx="6780960" cy="258120"/>
              <a:chOff x="0" y="2066040"/>
              <a:chExt cx="6780960" cy="25812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20660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20660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2324160"/>
              <a:ext cx="6780960" cy="258120"/>
              <a:chOff x="0" y="2324160"/>
              <a:chExt cx="6780960" cy="2581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23241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23241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tr = &amp;x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tr is a constant pointer to a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2582280"/>
              <a:ext cx="6780960" cy="258120"/>
              <a:chOff x="0" y="2582280"/>
              <a:chExt cx="6780960" cy="25812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25822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25822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teger. An integer can be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2840760"/>
              <a:ext cx="6780960" cy="258120"/>
              <a:chOff x="0" y="2840760"/>
              <a:chExt cx="6780960" cy="2581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28407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28407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hrough ptr, but ptr always point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3098880"/>
              <a:ext cx="6780960" cy="258120"/>
              <a:chOff x="0" y="3098880"/>
              <a:chExt cx="6780960" cy="25812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30988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30988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o the same memory loca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3357000"/>
              <a:ext cx="6780960" cy="258120"/>
              <a:chOff x="0" y="3357000"/>
              <a:chExt cx="6780960" cy="25812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33570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3570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pt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3615480"/>
              <a:ext cx="6780960" cy="258120"/>
              <a:chOff x="0" y="3615480"/>
              <a:chExt cx="6780960" cy="25812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36154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36154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tr = &amp;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3873600"/>
              <a:ext cx="6780960" cy="258120"/>
              <a:chOff x="0" y="3873600"/>
              <a:chExt cx="6780960" cy="25812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38736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38736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4132080"/>
              <a:ext cx="6780960" cy="258120"/>
              <a:chOff x="0" y="4132080"/>
              <a:chExt cx="6780960" cy="25812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41320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41320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4390200"/>
              <a:ext cx="6780960" cy="258120"/>
              <a:chOff x="0" y="4390200"/>
              <a:chExt cx="6780960" cy="25812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43902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43902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>
            <a:off x="0" y="5105520"/>
            <a:ext cx="6781680" cy="48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2024 Fig05_13.cpp 15: Cannot modify a const object in function main(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143000" y="1542960"/>
            <a:ext cx="4724280" cy="1809720"/>
            <a:chOff x="1143000" y="1542960"/>
            <a:chExt cx="4724280" cy="1809720"/>
          </a:xfrm>
        </p:grpSpPr>
        <p:sp>
          <p:nvSpPr>
            <p:cNvPr id="379" name=""/>
            <p:cNvSpPr/>
            <p:nvPr/>
          </p:nvSpPr>
          <p:spPr>
            <a:xfrm flipH="1">
              <a:off x="1143000" y="1905120"/>
              <a:ext cx="220968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154296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llowed -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a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523520" y="3429000"/>
            <a:ext cx="5029560" cy="1676520"/>
            <a:chOff x="1523520" y="3429000"/>
            <a:chExt cx="5029560" cy="1676520"/>
          </a:xfrm>
        </p:grpSpPr>
        <p:grpSp>
          <p:nvGrpSpPr>
            <p:cNvPr id="382" name=""/>
            <p:cNvGrpSpPr/>
            <p:nvPr/>
          </p:nvGrpSpPr>
          <p:grpSpPr>
            <a:xfrm>
              <a:off x="1523520" y="3429000"/>
              <a:ext cx="5029560" cy="580680"/>
              <a:chOff x="1523520" y="3429000"/>
              <a:chExt cx="5029560" cy="580680"/>
            </a:xfrm>
          </p:grpSpPr>
          <p:sp>
            <p:nvSpPr>
              <p:cNvPr id="383" name=""/>
              <p:cNvSpPr/>
              <p:nvPr/>
            </p:nvSpPr>
            <p:spPr>
              <a:xfrm flipH="1">
                <a:off x="1523520" y="3657600"/>
                <a:ext cx="25146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09880" y="342900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ang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n error -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 constant point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 flipH="1">
              <a:off x="4343400" y="4038480"/>
              <a:ext cx="763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ubble Sort Using Call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bubblesort us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must receive the address (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f the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elements have call-by-value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pointers and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ble to switch the values of the actual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ue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data in origin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all function bubble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sorted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fine bubble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965C-BDB5-4DC6-817A-C572B78BA8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ubble Sort Using Call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ize of operand in by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rrays, sizeof retu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the size of 1 element ) * ( number of element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( int ) =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izeof(myArr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ll print 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7E4C-DF5F-4577-867B-BFFE773B4D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391" name=""/>
            <p:cNvGrpSpPr/>
            <p:nvPr/>
          </p:nvGrpSpPr>
          <p:grpSpPr>
            <a:xfrm>
              <a:off x="0" y="0"/>
              <a:ext cx="6628680" cy="201600"/>
              <a:chOff x="0" y="0"/>
              <a:chExt cx="6628680" cy="20160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5.15: fig05_1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0" y="201600"/>
              <a:ext cx="6628680" cy="201600"/>
              <a:chOff x="0" y="201600"/>
              <a:chExt cx="6628680" cy="20160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201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201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is program puts values into an array, sorts the values i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03200"/>
              <a:ext cx="6628680" cy="201600"/>
              <a:chOff x="0" y="403200"/>
              <a:chExt cx="6628680" cy="20160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03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0" y="403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scending order, and prints the resulting arr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0" y="605160"/>
              <a:ext cx="6628680" cy="201600"/>
              <a:chOff x="0" y="605160"/>
              <a:chExt cx="6628680" cy="20160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605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605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0" y="806760"/>
              <a:ext cx="6628680" cy="201600"/>
              <a:chOff x="0" y="806760"/>
              <a:chExt cx="6628680" cy="201600"/>
            </a:xfrm>
          </p:grpSpPr>
          <p:sp>
            <p:nvSpPr>
              <p:cNvPr id="404" name=""/>
              <p:cNvSpPr/>
              <p:nvPr/>
            </p:nvSpPr>
            <p:spPr>
              <a:xfrm>
                <a:off x="0" y="806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0" y="806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1008360"/>
              <a:ext cx="6628680" cy="201600"/>
              <a:chOff x="0" y="1008360"/>
              <a:chExt cx="6628680" cy="201600"/>
            </a:xfrm>
          </p:grpSpPr>
          <p:sp>
            <p:nvSpPr>
              <p:cNvPr id="407" name=""/>
              <p:cNvSpPr/>
              <p:nvPr/>
            </p:nvSpPr>
            <p:spPr>
              <a:xfrm>
                <a:off x="0" y="1008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1008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0" y="1209960"/>
              <a:ext cx="6628680" cy="201600"/>
              <a:chOff x="0" y="1209960"/>
              <a:chExt cx="6628680" cy="201600"/>
            </a:xfrm>
          </p:grpSpPr>
          <p:sp>
            <p:nvSpPr>
              <p:cNvPr id="410" name=""/>
              <p:cNvSpPr/>
              <p:nvPr/>
            </p:nvSpPr>
            <p:spPr>
              <a:xfrm>
                <a:off x="0" y="12099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2099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0" y="1411920"/>
              <a:ext cx="6628680" cy="201600"/>
              <a:chOff x="0" y="1411920"/>
              <a:chExt cx="6628680" cy="201600"/>
            </a:xfrm>
          </p:grpSpPr>
          <p:sp>
            <p:nvSpPr>
              <p:cNvPr id="413" name=""/>
              <p:cNvSpPr/>
              <p:nvPr/>
            </p:nvSpPr>
            <p:spPr>
              <a:xfrm>
                <a:off x="0" y="1411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1411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0" y="1613520"/>
              <a:ext cx="6628680" cy="201600"/>
              <a:chOff x="0" y="1613520"/>
              <a:chExt cx="6628680" cy="20160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1613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1613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0" y="1815120"/>
              <a:ext cx="6628680" cy="201600"/>
              <a:chOff x="0" y="1815120"/>
              <a:chExt cx="6628680" cy="201600"/>
            </a:xfrm>
          </p:grpSpPr>
          <p:sp>
            <p:nvSpPr>
              <p:cNvPr id="419" name=""/>
              <p:cNvSpPr/>
              <p:nvPr/>
            </p:nvSpPr>
            <p:spPr>
              <a:xfrm>
                <a:off x="0" y="18151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18151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0" y="2017080"/>
              <a:ext cx="6628680" cy="201600"/>
              <a:chOff x="0" y="2017080"/>
              <a:chExt cx="6628680" cy="201600"/>
            </a:xfrm>
          </p:grpSpPr>
          <p:sp>
            <p:nvSpPr>
              <p:cNvPr id="422" name=""/>
              <p:cNvSpPr/>
              <p:nvPr/>
            </p:nvSpPr>
            <p:spPr>
              <a:xfrm>
                <a:off x="0" y="2017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2017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0" y="2218680"/>
              <a:ext cx="6628680" cy="201600"/>
              <a:chOff x="0" y="2218680"/>
              <a:chExt cx="6628680" cy="201600"/>
            </a:xfrm>
          </p:grpSpPr>
          <p:sp>
            <p:nvSpPr>
              <p:cNvPr id="425" name=""/>
              <p:cNvSpPr/>
              <p:nvPr/>
            </p:nvSpPr>
            <p:spPr>
              <a:xfrm>
                <a:off x="0" y="2218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2218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0" y="2420280"/>
              <a:ext cx="6628680" cy="201600"/>
              <a:chOff x="0" y="2420280"/>
              <a:chExt cx="6628680" cy="20160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24202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24202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0" y="2622240"/>
              <a:ext cx="6628680" cy="201600"/>
              <a:chOff x="0" y="2622240"/>
              <a:chExt cx="6628680" cy="201600"/>
            </a:xfrm>
          </p:grpSpPr>
          <p:sp>
            <p:nvSpPr>
              <p:cNvPr id="431" name=""/>
              <p:cNvSpPr/>
              <p:nvPr/>
            </p:nvSpPr>
            <p:spPr>
              <a:xfrm>
                <a:off x="0" y="2622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2622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0" y="2823840"/>
              <a:ext cx="6628680" cy="201600"/>
              <a:chOff x="0" y="2823840"/>
              <a:chExt cx="6628680" cy="20160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2823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2823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3025440"/>
              <a:ext cx="6628680" cy="201600"/>
              <a:chOff x="0" y="3025440"/>
              <a:chExt cx="6628680" cy="20160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30254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30254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3227400"/>
              <a:ext cx="6628680" cy="201600"/>
              <a:chOff x="0" y="3227400"/>
              <a:chExt cx="6628680" cy="20160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3227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3227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raySize = 1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3429000"/>
              <a:ext cx="6628680" cy="201600"/>
              <a:chOff x="0" y="3429000"/>
              <a:chExt cx="6628680" cy="20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34290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34290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 arraySize ] = { 2, 6, 4, 8, 10, 12, 89, 68, 45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3630600"/>
              <a:ext cx="6628680" cy="201600"/>
              <a:chOff x="0" y="3630600"/>
              <a:chExt cx="6628680" cy="20160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3630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3630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3832200"/>
              <a:ext cx="6628680" cy="201600"/>
              <a:chOff x="0" y="3832200"/>
              <a:chExt cx="6628680" cy="20160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3832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3832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4034160"/>
              <a:ext cx="6628680" cy="201600"/>
              <a:chOff x="0" y="4034160"/>
              <a:chExt cx="6628680" cy="20160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4034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4034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a items in original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4235760"/>
              <a:ext cx="6628680" cy="201600"/>
              <a:chOff x="0" y="4235760"/>
              <a:chExt cx="6628680" cy="20160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4235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4235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4437360"/>
              <a:ext cx="6628680" cy="201600"/>
              <a:chOff x="0" y="4437360"/>
              <a:chExt cx="6628680" cy="20160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4437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4437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4639320"/>
              <a:ext cx="6628680" cy="201600"/>
              <a:chOff x="0" y="4639320"/>
              <a:chExt cx="6628680" cy="20160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46393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46393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4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0" y="4840920"/>
              <a:ext cx="6628680" cy="201600"/>
              <a:chOff x="0" y="4840920"/>
              <a:chExt cx="6628680" cy="20160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4840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4840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5042520"/>
              <a:ext cx="6628680" cy="201600"/>
              <a:chOff x="0" y="5042520"/>
              <a:chExt cx="6628680" cy="20160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5042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5042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ubbleSort( a, arraySize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ort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5244480"/>
              <a:ext cx="6628680" cy="201600"/>
              <a:chOff x="0" y="5244480"/>
              <a:chExt cx="6628680" cy="20160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52444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52444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Data items in ascending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5446080"/>
              <a:ext cx="6628680" cy="201600"/>
              <a:chOff x="0" y="5446080"/>
              <a:chExt cx="6628680" cy="20160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5446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5446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5647680"/>
              <a:ext cx="6628680" cy="201600"/>
              <a:chOff x="0" y="5647680"/>
              <a:chExt cx="6628680" cy="20160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5647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5647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0" y="5849640"/>
              <a:ext cx="6628680" cy="201600"/>
              <a:chOff x="0" y="5849640"/>
              <a:chExt cx="6628680" cy="201600"/>
            </a:xfrm>
          </p:grpSpPr>
          <p:sp>
            <p:nvSpPr>
              <p:cNvPr id="479" name=""/>
              <p:cNvSpPr/>
              <p:nvPr/>
            </p:nvSpPr>
            <p:spPr>
              <a:xfrm>
                <a:off x="0" y="58496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58496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4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0" y="6051240"/>
              <a:ext cx="6628680" cy="201600"/>
              <a:chOff x="0" y="6051240"/>
              <a:chExt cx="6628680" cy="20160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6051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6051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0" y="6252840"/>
              <a:ext cx="6628680" cy="201600"/>
              <a:chOff x="0" y="6252840"/>
              <a:chExt cx="6628680" cy="201600"/>
            </a:xfrm>
          </p:grpSpPr>
          <p:sp>
            <p:nvSpPr>
              <p:cNvPr id="485" name=""/>
              <p:cNvSpPr/>
              <p:nvPr/>
            </p:nvSpPr>
            <p:spPr>
              <a:xfrm>
                <a:off x="0" y="6252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6252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0" y="6454800"/>
              <a:ext cx="6628680" cy="201600"/>
              <a:chOff x="0" y="6454800"/>
              <a:chExt cx="6628680" cy="201600"/>
            </a:xfrm>
          </p:grpSpPr>
          <p:sp>
            <p:nvSpPr>
              <p:cNvPr id="488" name=""/>
              <p:cNvSpPr/>
              <p:nvPr/>
            </p:nvSpPr>
            <p:spPr>
              <a:xfrm>
                <a:off x="0" y="64548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64548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0" y="6656400"/>
              <a:ext cx="6628680" cy="201600"/>
              <a:chOff x="0" y="6656400"/>
              <a:chExt cx="6628680" cy="201600"/>
            </a:xfrm>
          </p:grpSpPr>
          <p:sp>
            <p:nvSpPr>
              <p:cNvPr id="491" name=""/>
              <p:cNvSpPr/>
              <p:nvPr/>
            </p:nvSpPr>
            <p:spPr>
              <a:xfrm>
                <a:off x="0" y="6656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6656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133360" y="914400"/>
            <a:ext cx="4419360" cy="1523880"/>
            <a:chOff x="2133360" y="914400"/>
            <a:chExt cx="4419360" cy="1523880"/>
          </a:xfrm>
        </p:grpSpPr>
        <p:sp>
          <p:nvSpPr>
            <p:cNvPr id="495" name=""/>
            <p:cNvSpPr/>
            <p:nvPr/>
          </p:nvSpPr>
          <p:spPr>
            <a:xfrm flipH="1">
              <a:off x="2133360" y="1447920"/>
              <a:ext cx="17521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09880" y="914400"/>
              <a:ext cx="2742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bbles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ets passed the address of array elements (pointers).  The name of an array is a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a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0" y="0"/>
            <a:ext cx="6705000" cy="4952880"/>
            <a:chOff x="0" y="0"/>
            <a:chExt cx="6705000" cy="4952880"/>
          </a:xfrm>
        </p:grpSpPr>
        <p:grpSp>
          <p:nvGrpSpPr>
            <p:cNvPr id="499" name=""/>
            <p:cNvGrpSpPr/>
            <p:nvPr/>
          </p:nvGrpSpPr>
          <p:grpSpPr>
            <a:xfrm>
              <a:off x="0" y="0"/>
              <a:ext cx="6705000" cy="275040"/>
              <a:chOff x="0" y="0"/>
              <a:chExt cx="6705000" cy="275040"/>
            </a:xfrm>
          </p:grpSpPr>
          <p:sp>
            <p:nvSpPr>
              <p:cNvPr id="500" name=""/>
              <p:cNvSpPr/>
              <p:nvPr/>
            </p:nvSpPr>
            <p:spPr>
              <a:xfrm>
                <a:off x="0" y="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arr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0" y="275040"/>
              <a:ext cx="6705000" cy="275040"/>
              <a:chOff x="0" y="275040"/>
              <a:chExt cx="6705000" cy="27504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2750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2750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0" y="550080"/>
              <a:ext cx="6705000" cy="275040"/>
              <a:chOff x="0" y="550080"/>
              <a:chExt cx="6705000" cy="27504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5500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5500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0" y="825480"/>
              <a:ext cx="6705000" cy="275040"/>
              <a:chOff x="0" y="825480"/>
              <a:chExt cx="6705000" cy="27504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825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825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0" y="1100520"/>
              <a:ext cx="6705000" cy="275040"/>
              <a:chOff x="0" y="1100520"/>
              <a:chExt cx="6705000" cy="27504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1100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1100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 = 0; pass &lt; size - 1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0" y="1375560"/>
              <a:ext cx="6705000" cy="275040"/>
              <a:chOff x="0" y="1375560"/>
              <a:chExt cx="6705000" cy="275040"/>
            </a:xfrm>
          </p:grpSpPr>
          <p:sp>
            <p:nvSpPr>
              <p:cNvPr id="515" name=""/>
              <p:cNvSpPr/>
              <p:nvPr/>
            </p:nvSpPr>
            <p:spPr>
              <a:xfrm>
                <a:off x="0" y="13755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13755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0" y="1650960"/>
              <a:ext cx="6705000" cy="275040"/>
              <a:chOff x="0" y="1650960"/>
              <a:chExt cx="6705000" cy="27504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1650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50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0" y="1926000"/>
              <a:ext cx="6705000" cy="275040"/>
              <a:chOff x="0" y="1926000"/>
              <a:chExt cx="6705000" cy="275040"/>
            </a:xfrm>
          </p:grpSpPr>
          <p:sp>
            <p:nvSpPr>
              <p:cNvPr id="521" name=""/>
              <p:cNvSpPr/>
              <p:nvPr/>
            </p:nvSpPr>
            <p:spPr>
              <a:xfrm>
                <a:off x="0" y="1926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1926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0" y="2201400"/>
              <a:ext cx="6705000" cy="275040"/>
              <a:chOff x="0" y="2201400"/>
              <a:chExt cx="6705000" cy="27504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2201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2201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rray[ j ] &gt; array[ j + 1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0" y="2476440"/>
              <a:ext cx="6705000" cy="275040"/>
              <a:chOff x="0" y="2476440"/>
              <a:chExt cx="6705000" cy="27504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24764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4764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swap( &amp;array[ j ], &amp;array[ j +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0" y="2751480"/>
              <a:ext cx="6705000" cy="275040"/>
              <a:chOff x="0" y="2751480"/>
              <a:chExt cx="6705000" cy="275040"/>
            </a:xfrm>
          </p:grpSpPr>
          <p:sp>
            <p:nvSpPr>
              <p:cNvPr id="530" name=""/>
              <p:cNvSpPr/>
              <p:nvPr/>
            </p:nvSpPr>
            <p:spPr>
              <a:xfrm>
                <a:off x="0" y="2751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2751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0" y="3026880"/>
              <a:ext cx="6705000" cy="275040"/>
              <a:chOff x="0" y="3026880"/>
              <a:chExt cx="6705000" cy="27504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30268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30268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3301920"/>
              <a:ext cx="6705000" cy="275040"/>
              <a:chOff x="0" y="3301920"/>
              <a:chExt cx="6705000" cy="27504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33019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33019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lement1Pt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lement2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3576960"/>
              <a:ext cx="6705000" cy="275040"/>
              <a:chOff x="0" y="3576960"/>
              <a:chExt cx="6705000" cy="27504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3576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3576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3852360"/>
              <a:ext cx="6705000" cy="275040"/>
              <a:chOff x="0" y="3852360"/>
              <a:chExt cx="6705000" cy="27504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38523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38523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ld = *element1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4127400"/>
              <a:ext cx="6705000" cy="275040"/>
              <a:chOff x="0" y="4127400"/>
              <a:chExt cx="6705000" cy="27504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4127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4127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1Ptr = *element2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4402800"/>
              <a:ext cx="6705000" cy="275040"/>
              <a:chOff x="0" y="4402800"/>
              <a:chExt cx="6705000" cy="27504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44028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44028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2Ptr =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4677840"/>
              <a:ext cx="6705000" cy="275040"/>
              <a:chOff x="0" y="4677840"/>
              <a:chExt cx="6705000" cy="27504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4677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4677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3885840" y="990720"/>
            <a:ext cx="5105880" cy="2286000"/>
            <a:chOff x="3885840" y="990720"/>
            <a:chExt cx="5105880" cy="2286000"/>
          </a:xfrm>
        </p:grpSpPr>
        <p:sp>
          <p:nvSpPr>
            <p:cNvPr id="554" name=""/>
            <p:cNvSpPr/>
            <p:nvPr/>
          </p:nvSpPr>
          <p:spPr>
            <a:xfrm flipH="1">
              <a:off x="3885840" y="1447920"/>
              <a:ext cx="1600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10080" y="990720"/>
              <a:ext cx="3581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pointers (addresses of array elements) and dereferences them to modify the original array element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0" y="5257800"/>
            <a:ext cx="67057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4   6   8  10  12  37  45  68  8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arithm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ment/decrement pointer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+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/subtract an integer to/from a pointer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may be subtracted from each 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 arithmetic is meaningless unless performed on an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ele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 on a machine using 4 by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first 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[ 0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is at location 3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 += 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00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253120" y="4199040"/>
            <a:ext cx="3661920" cy="1667520"/>
            <a:chOff x="5253120" y="4199040"/>
            <a:chExt cx="3661920" cy="1667520"/>
          </a:xfrm>
        </p:grpSpPr>
        <p:sp>
          <p:nvSpPr>
            <p:cNvPr id="560" name=""/>
            <p:cNvSpPr/>
            <p:nvPr/>
          </p:nvSpPr>
          <p:spPr>
            <a:xfrm>
              <a:off x="5253120" y="5630040"/>
              <a:ext cx="19353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er variable </a:t>
              </a: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vPt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73640" y="5327640"/>
              <a:ext cx="330840" cy="327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84160" y="5436720"/>
              <a:ext cx="109800" cy="109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6156360" y="4813200"/>
              <a:ext cx="551880" cy="327600"/>
              <a:chOff x="6156360" y="4813200"/>
              <a:chExt cx="551880" cy="327600"/>
            </a:xfrm>
          </p:grpSpPr>
          <p:sp>
            <p:nvSpPr>
              <p:cNvPr id="564" name=""/>
              <p:cNvSpPr/>
              <p:nvPr/>
            </p:nvSpPr>
            <p:spPr>
              <a:xfrm>
                <a:off x="6156360" y="4813200"/>
                <a:ext cx="55188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14320" y="4878720"/>
                <a:ext cx="4352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0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6708240" y="4813200"/>
              <a:ext cx="551520" cy="327600"/>
              <a:chOff x="6708240" y="4813200"/>
              <a:chExt cx="551520" cy="327600"/>
            </a:xfrm>
          </p:grpSpPr>
          <p:sp>
            <p:nvSpPr>
              <p:cNvPr id="567" name=""/>
              <p:cNvSpPr/>
              <p:nvPr/>
            </p:nvSpPr>
            <p:spPr>
              <a:xfrm>
                <a:off x="6708240" y="481320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765840" y="487872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1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7259760" y="4813200"/>
              <a:ext cx="551520" cy="327600"/>
              <a:chOff x="7259760" y="4813200"/>
              <a:chExt cx="551520" cy="327600"/>
            </a:xfrm>
          </p:grpSpPr>
          <p:sp>
            <p:nvSpPr>
              <p:cNvPr id="570" name=""/>
              <p:cNvSpPr/>
              <p:nvPr/>
            </p:nvSpPr>
            <p:spPr>
              <a:xfrm>
                <a:off x="7259760" y="481320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17360" y="487872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2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8363520" y="4813200"/>
              <a:ext cx="551520" cy="327600"/>
              <a:chOff x="8363520" y="4813200"/>
              <a:chExt cx="551520" cy="327600"/>
            </a:xfrm>
          </p:grpSpPr>
          <p:sp>
            <p:nvSpPr>
              <p:cNvPr id="573" name=""/>
              <p:cNvSpPr/>
              <p:nvPr/>
            </p:nvSpPr>
            <p:spPr>
              <a:xfrm>
                <a:off x="8363520" y="481320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421120" y="487872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4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7811640" y="4813200"/>
              <a:ext cx="551880" cy="327600"/>
              <a:chOff x="7811640" y="4813200"/>
              <a:chExt cx="551880" cy="327600"/>
            </a:xfrm>
          </p:grpSpPr>
          <p:sp>
            <p:nvSpPr>
              <p:cNvPr id="576" name=""/>
              <p:cNvSpPr/>
              <p:nvPr/>
            </p:nvSpPr>
            <p:spPr>
              <a:xfrm>
                <a:off x="7811640" y="4813200"/>
                <a:ext cx="55188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69600" y="4878720"/>
                <a:ext cx="4352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3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615636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24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5976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1164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36352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6124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1276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64280" y="4390200"/>
              <a:ext cx="4345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1652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16804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01480" y="4199040"/>
              <a:ext cx="744840" cy="2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34920" y="4956840"/>
              <a:ext cx="723960" cy="486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5" y="0"/>
                  </a:moveTo>
                  <a:lnTo>
                    <a:pt x="0" y="0"/>
                  </a:lnTo>
                  <a:lnTo>
                    <a:pt x="0" y="199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828800" y="19890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28800" y="343368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9B74-EC6C-4891-89E4-C15E85E7F0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number of elements between two add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= v[ 2 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v[ 0 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- vPtr =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which pointer points to the higher numbered arra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if a pointer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vPtr == ‘0’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9111-24DB-4283-8023-9F1AEB4649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the same type, a cast operator must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ception: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pointer, represents an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sting needed to convert a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s cannot be derefere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49D2-05EE-4ACE-B108-01A6A5B486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and pointers closely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like constan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do array subscripting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ing declared an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[ 5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 point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al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==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al to the address of the first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== &amp;b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C757-EB1C-42F3-8F16-D423F6F5B2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but difficult to ma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call-by-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 relationship with arrays and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2916-4BBF-48B4-9E45-54EE6D6DCC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array elements with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[ n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accessed by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( bPtr +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pointer/offset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itself can use pointer arithmeti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(b +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be subscripted (pointer/subscript not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393C-2FDA-4F24-8055-B4F22D2817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 of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can contai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ly used to store an array of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[ 4 ] = {"Hearts", "Diamonds"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lubs", "Spades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element of suit is a pointer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 st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trings are not in the array, only pointers to the strings are in the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 has a fixed size, but strings can be of any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297160"/>
            <a:ext cx="5486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33520" y="4038480"/>
            <a:ext cx="7848360" cy="1447920"/>
            <a:chOff x="533520" y="4038480"/>
            <a:chExt cx="7848360" cy="1447920"/>
          </a:xfrm>
        </p:grpSpPr>
        <p:grpSp>
          <p:nvGrpSpPr>
            <p:cNvPr id="604" name=""/>
            <p:cNvGrpSpPr/>
            <p:nvPr/>
          </p:nvGrpSpPr>
          <p:grpSpPr>
            <a:xfrm>
              <a:off x="533520" y="5124600"/>
              <a:ext cx="2190960" cy="361800"/>
              <a:chOff x="533520" y="5124600"/>
              <a:chExt cx="2190960" cy="3618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533520" y="5124600"/>
                <a:ext cx="1565280" cy="361800"/>
                <a:chOff x="533520" y="5124600"/>
                <a:chExt cx="1565280" cy="36180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1629720" y="5124600"/>
                  <a:ext cx="469080" cy="361800"/>
                  <a:chOff x="1629720" y="5124600"/>
                  <a:chExt cx="469080" cy="36180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1629720" y="512460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1784520" y="524520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9" name=""/>
                <p:cNvSpPr/>
                <p:nvPr/>
              </p:nvSpPr>
              <p:spPr>
                <a:xfrm>
                  <a:off x="533520" y="518472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3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1942200" y="5305320"/>
                <a:ext cx="782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3520" y="4762440"/>
              <a:ext cx="2190960" cy="361800"/>
              <a:chOff x="533520" y="4762440"/>
              <a:chExt cx="2190960" cy="36180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3520" y="4762440"/>
                <a:ext cx="1565280" cy="361800"/>
                <a:chOff x="533520" y="4762440"/>
                <a:chExt cx="1565280" cy="36180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1629720" y="4762440"/>
                  <a:ext cx="469080" cy="361800"/>
                  <a:chOff x="1629720" y="4762440"/>
                  <a:chExt cx="469080" cy="36180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>
                    <a:off x="1629720" y="476244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1784880" y="488304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6" name=""/>
                <p:cNvSpPr/>
                <p:nvPr/>
              </p:nvSpPr>
              <p:spPr>
                <a:xfrm>
                  <a:off x="533520" y="482256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2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1942560" y="494316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33520" y="4400280"/>
              <a:ext cx="2190960" cy="361800"/>
              <a:chOff x="533520" y="4400280"/>
              <a:chExt cx="2190960" cy="36180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533520" y="4400280"/>
                <a:ext cx="1565280" cy="361800"/>
                <a:chOff x="533520" y="4400280"/>
                <a:chExt cx="1565280" cy="36180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1629720" y="4400280"/>
                  <a:ext cx="469080" cy="361800"/>
                  <a:chOff x="1629720" y="4400280"/>
                  <a:chExt cx="469080" cy="36180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>
                    <a:off x="1629720" y="44002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1784880" y="45208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>
                  <a:off x="533520" y="44604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1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4" name=""/>
              <p:cNvSpPr/>
              <p:nvPr/>
            </p:nvSpPr>
            <p:spPr>
              <a:xfrm>
                <a:off x="1942560" y="458100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33520" y="4038480"/>
              <a:ext cx="2190960" cy="361800"/>
              <a:chOff x="533520" y="4038480"/>
              <a:chExt cx="2190960" cy="36180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533520" y="4038480"/>
                <a:ext cx="1565280" cy="361800"/>
                <a:chOff x="533520" y="4038480"/>
                <a:chExt cx="1565280" cy="36180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1629720" y="4038480"/>
                  <a:ext cx="469080" cy="361800"/>
                  <a:chOff x="1629720" y="4038480"/>
                  <a:chExt cx="469080" cy="3618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1629720" y="40384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1784880" y="41590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>
                  <a:off x="533520" y="40986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0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1942560" y="421920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2724480" y="4098600"/>
              <a:ext cx="625680" cy="282600"/>
              <a:chOff x="2724480" y="4098600"/>
              <a:chExt cx="625680" cy="282600"/>
            </a:xfrm>
          </p:grpSpPr>
          <p:sp>
            <p:nvSpPr>
              <p:cNvPr id="633" name=""/>
              <p:cNvSpPr/>
              <p:nvPr/>
            </p:nvSpPr>
            <p:spPr>
              <a:xfrm>
                <a:off x="27244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7524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H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3350160" y="4098600"/>
              <a:ext cx="625680" cy="282600"/>
              <a:chOff x="3350160" y="4098600"/>
              <a:chExt cx="625680" cy="282600"/>
            </a:xfrm>
          </p:grpSpPr>
          <p:sp>
            <p:nvSpPr>
              <p:cNvPr id="636" name=""/>
              <p:cNvSpPr/>
              <p:nvPr/>
            </p:nvSpPr>
            <p:spPr>
              <a:xfrm>
                <a:off x="335016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40092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976200" y="4098600"/>
              <a:ext cx="625680" cy="282600"/>
              <a:chOff x="3976200" y="4098600"/>
              <a:chExt cx="625680" cy="282600"/>
            </a:xfrm>
          </p:grpSpPr>
          <p:sp>
            <p:nvSpPr>
              <p:cNvPr id="639" name=""/>
              <p:cNvSpPr/>
              <p:nvPr/>
            </p:nvSpPr>
            <p:spPr>
              <a:xfrm>
                <a:off x="397620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2696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4601880" y="4098600"/>
              <a:ext cx="625680" cy="282600"/>
              <a:chOff x="4601880" y="4098600"/>
              <a:chExt cx="625680" cy="282600"/>
            </a:xfrm>
          </p:grpSpPr>
          <p:sp>
            <p:nvSpPr>
              <p:cNvPr id="642" name=""/>
              <p:cNvSpPr/>
              <p:nvPr/>
            </p:nvSpPr>
            <p:spPr>
              <a:xfrm>
                <a:off x="46018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65264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r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5227560" y="4098600"/>
              <a:ext cx="625680" cy="282600"/>
              <a:chOff x="5227560" y="4098600"/>
              <a:chExt cx="625680" cy="282600"/>
            </a:xfrm>
          </p:grpSpPr>
          <p:sp>
            <p:nvSpPr>
              <p:cNvPr id="645" name=""/>
              <p:cNvSpPr/>
              <p:nvPr/>
            </p:nvSpPr>
            <p:spPr>
              <a:xfrm>
                <a:off x="522756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27832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t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5853600" y="4098600"/>
              <a:ext cx="625680" cy="282600"/>
              <a:chOff x="5853600" y="4098600"/>
              <a:chExt cx="625680" cy="282600"/>
            </a:xfrm>
          </p:grpSpPr>
          <p:sp>
            <p:nvSpPr>
              <p:cNvPr id="648" name=""/>
              <p:cNvSpPr/>
              <p:nvPr/>
            </p:nvSpPr>
            <p:spPr>
              <a:xfrm>
                <a:off x="585360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90436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6451920" y="4098600"/>
              <a:ext cx="678960" cy="282600"/>
              <a:chOff x="6451920" y="4098600"/>
              <a:chExt cx="678960" cy="282600"/>
            </a:xfrm>
          </p:grpSpPr>
          <p:sp>
            <p:nvSpPr>
              <p:cNvPr id="651" name=""/>
              <p:cNvSpPr/>
              <p:nvPr/>
            </p:nvSpPr>
            <p:spPr>
              <a:xfrm>
                <a:off x="64792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451920" y="409860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2724480" y="4450680"/>
              <a:ext cx="625680" cy="282600"/>
              <a:chOff x="2724480" y="4450680"/>
              <a:chExt cx="625680" cy="282600"/>
            </a:xfrm>
          </p:grpSpPr>
          <p:sp>
            <p:nvSpPr>
              <p:cNvPr id="654" name=""/>
              <p:cNvSpPr/>
              <p:nvPr/>
            </p:nvSpPr>
            <p:spPr>
              <a:xfrm>
                <a:off x="27244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7524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3350160" y="4450680"/>
              <a:ext cx="625680" cy="282600"/>
              <a:chOff x="3350160" y="4450680"/>
              <a:chExt cx="625680" cy="282600"/>
            </a:xfrm>
          </p:grpSpPr>
          <p:sp>
            <p:nvSpPr>
              <p:cNvPr id="657" name=""/>
              <p:cNvSpPr/>
              <p:nvPr/>
            </p:nvSpPr>
            <p:spPr>
              <a:xfrm>
                <a:off x="335016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0092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3976200" y="4450680"/>
              <a:ext cx="625680" cy="282600"/>
              <a:chOff x="3976200" y="4450680"/>
              <a:chExt cx="625680" cy="282600"/>
            </a:xfrm>
          </p:grpSpPr>
          <p:sp>
            <p:nvSpPr>
              <p:cNvPr id="660" name=""/>
              <p:cNvSpPr/>
              <p:nvPr/>
            </p:nvSpPr>
            <p:spPr>
              <a:xfrm>
                <a:off x="39762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2696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601880" y="4450680"/>
              <a:ext cx="625680" cy="282600"/>
              <a:chOff x="4601880" y="4450680"/>
              <a:chExt cx="625680" cy="282600"/>
            </a:xfrm>
          </p:grpSpPr>
          <p:sp>
            <p:nvSpPr>
              <p:cNvPr id="663" name=""/>
              <p:cNvSpPr/>
              <p:nvPr/>
            </p:nvSpPr>
            <p:spPr>
              <a:xfrm>
                <a:off x="46018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5264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m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5227560" y="4450680"/>
              <a:ext cx="625680" cy="282600"/>
              <a:chOff x="5227560" y="4450680"/>
              <a:chExt cx="625680" cy="282600"/>
            </a:xfrm>
          </p:grpSpPr>
          <p:sp>
            <p:nvSpPr>
              <p:cNvPr id="666" name=""/>
              <p:cNvSpPr/>
              <p:nvPr/>
            </p:nvSpPr>
            <p:spPr>
              <a:xfrm>
                <a:off x="522756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27796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5853600" y="4450680"/>
              <a:ext cx="625680" cy="282600"/>
              <a:chOff x="5853600" y="4450680"/>
              <a:chExt cx="625680" cy="282600"/>
            </a:xfrm>
          </p:grpSpPr>
          <p:sp>
            <p:nvSpPr>
              <p:cNvPr id="669" name=""/>
              <p:cNvSpPr/>
              <p:nvPr/>
            </p:nvSpPr>
            <p:spPr>
              <a:xfrm>
                <a:off x="58536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90400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n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6479280" y="4450680"/>
              <a:ext cx="625680" cy="282600"/>
              <a:chOff x="6479280" y="4450680"/>
              <a:chExt cx="625680" cy="282600"/>
            </a:xfrm>
          </p:grpSpPr>
          <p:sp>
            <p:nvSpPr>
              <p:cNvPr id="672" name=""/>
              <p:cNvSpPr/>
              <p:nvPr/>
            </p:nvSpPr>
            <p:spPr>
              <a:xfrm>
                <a:off x="64792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2968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7104600" y="4450680"/>
              <a:ext cx="625680" cy="282600"/>
              <a:chOff x="7104600" y="4450680"/>
              <a:chExt cx="625680" cy="282600"/>
            </a:xfrm>
          </p:grpSpPr>
          <p:sp>
            <p:nvSpPr>
              <p:cNvPr id="675" name=""/>
              <p:cNvSpPr/>
              <p:nvPr/>
            </p:nvSpPr>
            <p:spPr>
              <a:xfrm>
                <a:off x="71046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15536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7702920" y="4450680"/>
              <a:ext cx="678960" cy="282600"/>
              <a:chOff x="7702920" y="4450680"/>
              <a:chExt cx="678960" cy="282600"/>
            </a:xfrm>
          </p:grpSpPr>
          <p:sp>
            <p:nvSpPr>
              <p:cNvPr id="678" name=""/>
              <p:cNvSpPr/>
              <p:nvPr/>
            </p:nvSpPr>
            <p:spPr>
              <a:xfrm>
                <a:off x="77302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702920" y="445068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2724480" y="4812840"/>
              <a:ext cx="625680" cy="282600"/>
              <a:chOff x="2724480" y="4812840"/>
              <a:chExt cx="625680" cy="282600"/>
            </a:xfrm>
          </p:grpSpPr>
          <p:sp>
            <p:nvSpPr>
              <p:cNvPr id="681" name=""/>
              <p:cNvSpPr/>
              <p:nvPr/>
            </p:nvSpPr>
            <p:spPr>
              <a:xfrm>
                <a:off x="272448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7524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C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3350160" y="4812840"/>
              <a:ext cx="625680" cy="282600"/>
              <a:chOff x="3350160" y="4812840"/>
              <a:chExt cx="625680" cy="282600"/>
            </a:xfrm>
          </p:grpSpPr>
          <p:sp>
            <p:nvSpPr>
              <p:cNvPr id="684" name=""/>
              <p:cNvSpPr/>
              <p:nvPr/>
            </p:nvSpPr>
            <p:spPr>
              <a:xfrm>
                <a:off x="335016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40092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l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976200" y="4812840"/>
              <a:ext cx="625680" cy="282600"/>
              <a:chOff x="3976200" y="4812840"/>
              <a:chExt cx="625680" cy="282600"/>
            </a:xfrm>
          </p:grpSpPr>
          <p:sp>
            <p:nvSpPr>
              <p:cNvPr id="687" name=""/>
              <p:cNvSpPr/>
              <p:nvPr/>
            </p:nvSpPr>
            <p:spPr>
              <a:xfrm>
                <a:off x="397620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26600" y="48128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u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601880" y="4812840"/>
              <a:ext cx="625320" cy="282600"/>
              <a:chOff x="4601880" y="4812840"/>
              <a:chExt cx="625320" cy="282600"/>
            </a:xfrm>
          </p:grpSpPr>
          <p:sp>
            <p:nvSpPr>
              <p:cNvPr id="690" name=""/>
              <p:cNvSpPr/>
              <p:nvPr/>
            </p:nvSpPr>
            <p:spPr>
              <a:xfrm>
                <a:off x="4601880" y="4812840"/>
                <a:ext cx="62532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652280" y="48128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b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227200" y="4812840"/>
              <a:ext cx="625680" cy="282600"/>
              <a:chOff x="5227200" y="4812840"/>
              <a:chExt cx="625680" cy="282600"/>
            </a:xfrm>
          </p:grpSpPr>
          <p:sp>
            <p:nvSpPr>
              <p:cNvPr id="693" name=""/>
              <p:cNvSpPr/>
              <p:nvPr/>
            </p:nvSpPr>
            <p:spPr>
              <a:xfrm>
                <a:off x="522720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27796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825880" y="4812840"/>
              <a:ext cx="678960" cy="282600"/>
              <a:chOff x="5825880" y="4812840"/>
              <a:chExt cx="678960" cy="282600"/>
            </a:xfrm>
          </p:grpSpPr>
          <p:sp>
            <p:nvSpPr>
              <p:cNvPr id="696" name=""/>
              <p:cNvSpPr/>
              <p:nvPr/>
            </p:nvSpPr>
            <p:spPr>
              <a:xfrm>
                <a:off x="585288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25880" y="481284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2724480" y="5174640"/>
              <a:ext cx="625680" cy="282600"/>
              <a:chOff x="2724480" y="5174640"/>
              <a:chExt cx="625680" cy="282600"/>
            </a:xfrm>
          </p:grpSpPr>
          <p:sp>
            <p:nvSpPr>
              <p:cNvPr id="699" name=""/>
              <p:cNvSpPr/>
              <p:nvPr/>
            </p:nvSpPr>
            <p:spPr>
              <a:xfrm>
                <a:off x="272448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77524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3350160" y="5174640"/>
              <a:ext cx="625680" cy="282600"/>
              <a:chOff x="3350160" y="5174640"/>
              <a:chExt cx="625680" cy="282600"/>
            </a:xfrm>
          </p:grpSpPr>
          <p:sp>
            <p:nvSpPr>
              <p:cNvPr id="702" name=""/>
              <p:cNvSpPr/>
              <p:nvPr/>
            </p:nvSpPr>
            <p:spPr>
              <a:xfrm>
                <a:off x="335016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40092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3976200" y="5174640"/>
              <a:ext cx="625680" cy="282600"/>
              <a:chOff x="3976200" y="5174640"/>
              <a:chExt cx="625680" cy="282600"/>
            </a:xfrm>
          </p:grpSpPr>
          <p:sp>
            <p:nvSpPr>
              <p:cNvPr id="705" name=""/>
              <p:cNvSpPr/>
              <p:nvPr/>
            </p:nvSpPr>
            <p:spPr>
              <a:xfrm>
                <a:off x="397620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026600" y="51746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601880" y="5174640"/>
              <a:ext cx="625320" cy="282600"/>
              <a:chOff x="4601880" y="5174640"/>
              <a:chExt cx="625320" cy="282600"/>
            </a:xfrm>
          </p:grpSpPr>
          <p:sp>
            <p:nvSpPr>
              <p:cNvPr id="708" name=""/>
              <p:cNvSpPr/>
              <p:nvPr/>
            </p:nvSpPr>
            <p:spPr>
              <a:xfrm>
                <a:off x="4601880" y="5174640"/>
                <a:ext cx="62532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652280" y="51746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227200" y="5174640"/>
              <a:ext cx="625680" cy="282600"/>
              <a:chOff x="5227200" y="5174640"/>
              <a:chExt cx="625680" cy="282600"/>
            </a:xfrm>
          </p:grpSpPr>
          <p:sp>
            <p:nvSpPr>
              <p:cNvPr id="711" name=""/>
              <p:cNvSpPr/>
              <p:nvPr/>
            </p:nvSpPr>
            <p:spPr>
              <a:xfrm>
                <a:off x="522720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27796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852880" y="5174640"/>
              <a:ext cx="625680" cy="282600"/>
              <a:chOff x="5852880" y="5174640"/>
              <a:chExt cx="625680" cy="282600"/>
            </a:xfrm>
          </p:grpSpPr>
          <p:sp>
            <p:nvSpPr>
              <p:cNvPr id="714" name=""/>
              <p:cNvSpPr/>
              <p:nvPr/>
            </p:nvSpPr>
            <p:spPr>
              <a:xfrm>
                <a:off x="585288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0364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6451200" y="5174640"/>
              <a:ext cx="678960" cy="282600"/>
              <a:chOff x="6451200" y="5174640"/>
              <a:chExt cx="678960" cy="282600"/>
            </a:xfrm>
          </p:grpSpPr>
          <p:sp>
            <p:nvSpPr>
              <p:cNvPr id="717" name=""/>
              <p:cNvSpPr/>
              <p:nvPr/>
            </p:nvSpPr>
            <p:spPr>
              <a:xfrm>
                <a:off x="647856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451200" y="517464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0" y="33735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429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6772-F10A-427E-A338-9D8DA3EB97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 shuffl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n array of pointers to strings, to store suit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 double scripted array (suit by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 1-52 into the array to specify the order in which the cards are dea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2054160"/>
            <a:ext cx="548640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191120" y="4343400"/>
            <a:ext cx="5945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ck[2][12]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incho"/>
              </a:rPr>
              <a:t> represents the King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-609480" y="1447920"/>
            <a:ext cx="1280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0" y="2774880"/>
            <a:ext cx="9280440" cy="2355840"/>
            <a:chOff x="0" y="2774880"/>
            <a:chExt cx="9280440" cy="2355840"/>
          </a:xfrm>
        </p:grpSpPr>
        <p:sp>
          <p:nvSpPr>
            <p:cNvPr id="727" name=""/>
            <p:cNvSpPr/>
            <p:nvPr/>
          </p:nvSpPr>
          <p:spPr>
            <a:xfrm>
              <a:off x="101520" y="3289320"/>
              <a:ext cx="914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Hea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1520" y="3533760"/>
              <a:ext cx="120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Diam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520" y="3779640"/>
              <a:ext cx="77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1520" y="4025880"/>
              <a:ext cx="914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p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986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9653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323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988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990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655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325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657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992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327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21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659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2994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986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9653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323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988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990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5655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6325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657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992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327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321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7659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2994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86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653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323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4988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990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655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325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1657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992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327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321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659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86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653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0323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988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990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655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6325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1657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992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327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321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7659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2994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60600" y="3235320"/>
              <a:ext cx="237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560600" y="3479760"/>
              <a:ext cx="237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560600" y="3725640"/>
              <a:ext cx="2379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60600" y="3971880"/>
              <a:ext cx="237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994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4964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8280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31632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h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49840" y="2774880"/>
              <a:ext cx="630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Fo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8300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F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1652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45004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ev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98320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E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1672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5024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58340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J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11692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Qu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650440" y="2774880"/>
              <a:ext cx="630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0462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5797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129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464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1799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7131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2466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7801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133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468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91440" y="2933640"/>
              <a:ext cx="414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824960" y="2933640"/>
              <a:ext cx="414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58120" y="2933640"/>
              <a:ext cx="414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780960" y="3882960"/>
              <a:ext cx="1600200" cy="533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68" y="199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3581280" y="4568040"/>
              <a:ext cx="990720" cy="304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6" y="199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98960" y="4884840"/>
              <a:ext cx="76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10080" y="4873680"/>
              <a:ext cx="6289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029200" y="4645080"/>
              <a:ext cx="4572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2"/>
                  </a:moveTo>
                  <a:lnTo>
                    <a:pt x="1991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458784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D054-1944-46EC-B0C3-B3B86281A7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udocode for shuffling and dea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438280" y="2514600"/>
            <a:ext cx="3200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of the 52 card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randomly selected unoccupied slot of deck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6320" y="2362320"/>
            <a:ext cx="21333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438280" y="4267080"/>
            <a:ext cx="3200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of the 52 card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nd card number in deck array and print face and suit of c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943600" y="1828800"/>
            <a:ext cx="312408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ile chosen slot of deck has been previously chosen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chosen slot of de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943600" y="4267080"/>
            <a:ext cx="31240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slot of the deck array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slot contains card number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Print the face and suit of the c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048120" y="19810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d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8600" y="1981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-304920" y="2362320"/>
            <a:ext cx="236232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1440" bIns="91440" anchor="t">
            <a:no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itialize the suit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itialize the fac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itialize the deck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huffle the d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al 52 cards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F190-95A4-4BBA-A24C-ADEC54CB06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i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k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uff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32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24: fig05_2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ard shuffling dealing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tim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huff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[ 1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[ 13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893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suit[ 4 ] =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896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"Hearts", "Diamonds", "Clubs", "Spades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899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face[ 13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"Ace", "Deuce", "Three", "Fou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"Five", "Six", "Seven", "Eigh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"Nine", "Ten", "Jack", "Queen", "King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ck[ 4 ][ 13 ] = { 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rand( time( 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huffle( de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eal( deck, face, sui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33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huff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wDeck[][ 13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row, colum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ard = 1; card &lt;= 52; card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o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row = rand() %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column = rand() % 1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}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( wDeck[ row ][ column ] !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97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97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wDeck[ row ][ column ] = car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97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97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98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98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wDeck[][ 13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wFace[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98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wSuit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99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99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ard = 1; card &lt;= 52; card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99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00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row = 0; row &lt;= 3; row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00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00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olumn = 0; column &lt;= 12; column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00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01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wDeck[ row ][ column ] == car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01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cout &lt;&lt; setw( 5 ) &lt;&lt; setiosflags( ios::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7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01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wFace[ column ] &lt;&lt; " o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0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02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setw( 8 ) &lt;&lt; setiosflags( ios::lef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02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wSuit[ row ]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02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( card % 2 == 0 ? '\n' : '\t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03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2" name=""/>
          <p:cNvGrpSpPr/>
          <p:nvPr/>
        </p:nvGrpSpPr>
        <p:grpSpPr>
          <a:xfrm>
            <a:off x="2743200" y="685800"/>
            <a:ext cx="4343400" cy="1218960"/>
            <a:chOff x="2743200" y="685800"/>
            <a:chExt cx="4343400" cy="1218960"/>
          </a:xfrm>
        </p:grpSpPr>
        <p:sp>
          <p:nvSpPr>
            <p:cNvPr id="1033" name=""/>
            <p:cNvSpPr/>
            <p:nvPr/>
          </p:nvSpPr>
          <p:spPr>
            <a:xfrm>
              <a:off x="4419360" y="6858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numbers 1-52 are randomly placed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743200" y="1218960"/>
              <a:ext cx="1676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038120" y="4038480"/>
            <a:ext cx="4343760" cy="1371600"/>
            <a:chOff x="4038120" y="4038480"/>
            <a:chExt cx="4343760" cy="1371600"/>
          </a:xfrm>
        </p:grpSpPr>
        <p:sp>
          <p:nvSpPr>
            <p:cNvPr id="1036" name=""/>
            <p:cNvSpPr/>
            <p:nvPr/>
          </p:nvSpPr>
          <p:spPr>
            <a:xfrm>
              <a:off x="6019560" y="40384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umber, then prin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4038120" y="4419360"/>
              <a:ext cx="1981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0"/>
            <a:ext cx="6705720" cy="483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Clubs          Sev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Spades           Ac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Hearts         Que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Clubs          Seven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Hearts         Deuc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Spades         Thre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Diamonds        Four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Diamonds         T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Diamonds         Six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Hearts         Thre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Hearts         Thre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Spades           Six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Clubs          Eight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Diamonds       Eight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Spades          King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ing of Diamonds        Jack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Hearts         Queen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Clubs           King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Clubs           King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Clubs           Nin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Hearts         Que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Diamonds        Nin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Diamonds       Sev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Hearts          Fiv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Clubs           Jack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Clubs          Seven of Spa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the address of th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how an array name is the address of its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starting address of code that defin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ointers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to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d i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ed to other functio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E166-B893-4A88-91CE-E448C38BDE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ubble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a func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nction determines whether the the array is sorted into ascending or descending s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rgument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the func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( *compare )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l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expect a pointer to a function that takes tw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nd returns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parentheses were left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*compare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uld declare a function that receives two integers and returns a pointer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E96B-916B-4667-929D-1160C8CCCE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ompt for ascending or descending sort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ut appropriate function pointer into 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46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26: fig05_2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ultipurpose sorting program using function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ubb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*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Size = 1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rde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counter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a[ arraySize ] = { 2, 6, 4, 8, 10, 12, 89, 68, 45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nter 1 to sort in ascending order,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Enter 2 to sort in descending ord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ord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Data items in original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counter = 0; counter &lt; arraySize; counter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setw( 4 ) &lt;&lt; a[ counter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order == 1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bubble( a, arraySize, ascendin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\nData items in ascending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8" name=""/>
          <p:cNvGrpSpPr/>
          <p:nvPr/>
        </p:nvGrpSpPr>
        <p:grpSpPr>
          <a:xfrm>
            <a:off x="4038480" y="1371600"/>
            <a:ext cx="2895840" cy="990720"/>
            <a:chOff x="4038480" y="1371600"/>
            <a:chExt cx="2895840" cy="990720"/>
          </a:xfrm>
        </p:grpSpPr>
        <p:sp>
          <p:nvSpPr>
            <p:cNvPr id="1149" name=""/>
            <p:cNvSpPr/>
            <p:nvPr/>
          </p:nvSpPr>
          <p:spPr>
            <a:xfrm flipH="1">
              <a:off x="4038480" y="190512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95680" y="137160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function pointer paramet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memory addresses as their valu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 variables contain a specific value (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ontain the address of a variable that has a specific value (in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ing a pointer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dicates variable is a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a pointer to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 pointer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pointers require multiple asteri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1, *myPt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495680" y="2743200"/>
            <a:ext cx="1749600" cy="549360"/>
            <a:chOff x="4495680" y="2743200"/>
            <a:chExt cx="1749600" cy="549360"/>
          </a:xfrm>
        </p:grpSpPr>
        <p:sp>
          <p:nvSpPr>
            <p:cNvPr id="95" name=""/>
            <p:cNvSpPr/>
            <p:nvPr/>
          </p:nvSpPr>
          <p:spPr>
            <a:xfrm>
              <a:off x="5746680" y="2743200"/>
              <a:ext cx="490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738760" y="2911680"/>
              <a:ext cx="506520" cy="380880"/>
              <a:chOff x="5738760" y="2911680"/>
              <a:chExt cx="506520" cy="380880"/>
            </a:xfrm>
          </p:grpSpPr>
          <p:sp>
            <p:nvSpPr>
              <p:cNvPr id="97" name=""/>
              <p:cNvSpPr/>
              <p:nvPr/>
            </p:nvSpPr>
            <p:spPr>
              <a:xfrm>
                <a:off x="5738760" y="2911680"/>
                <a:ext cx="506520" cy="380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928480" y="3033360"/>
                <a:ext cx="125640" cy="1656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4495680" y="2743200"/>
              <a:ext cx="1243080" cy="549360"/>
              <a:chOff x="4495680" y="2743200"/>
              <a:chExt cx="1243080" cy="5493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4495680" y="2743200"/>
                <a:ext cx="763560" cy="549360"/>
                <a:chOff x="4495680" y="2743200"/>
                <a:chExt cx="763560" cy="5493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495680" y="2743200"/>
                  <a:ext cx="763560" cy="1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cou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624560" y="2911680"/>
                  <a:ext cx="506160" cy="380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67" y="0"/>
                      </a:moveTo>
                      <a:lnTo>
                        <a:pt x="19967" y="19967"/>
                      </a:lnTo>
                      <a:lnTo>
                        <a:pt x="0" y="19967"/>
                      </a:lnTo>
                      <a:lnTo>
                        <a:pt x="0" y="0"/>
                      </a:lnTo>
                      <a:lnTo>
                        <a:pt x="19967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826160" y="3063960"/>
                  <a:ext cx="101520" cy="763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4929120" y="3105360"/>
                <a:ext cx="8096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9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6035760" y="3070080"/>
            <a:ext cx="150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46160"/>
            <a:ext cx="54864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549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05920" y="1676520"/>
            <a:ext cx="560160" cy="676080"/>
            <a:chOff x="8305920" y="1676520"/>
            <a:chExt cx="560160" cy="676080"/>
          </a:xfrm>
        </p:grpSpPr>
        <p:sp>
          <p:nvSpPr>
            <p:cNvPr id="109" name=""/>
            <p:cNvSpPr/>
            <p:nvPr/>
          </p:nvSpPr>
          <p:spPr>
            <a:xfrm>
              <a:off x="8313480" y="1676520"/>
              <a:ext cx="542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8305920" y="1882800"/>
              <a:ext cx="560160" cy="469800"/>
              <a:chOff x="8305920" y="1882800"/>
              <a:chExt cx="560160" cy="469800"/>
            </a:xfrm>
          </p:grpSpPr>
          <p:sp>
            <p:nvSpPr>
              <p:cNvPr id="111" name=""/>
              <p:cNvSpPr/>
              <p:nvPr/>
            </p:nvSpPr>
            <p:spPr>
              <a:xfrm>
                <a:off x="8305920" y="1882800"/>
                <a:ext cx="560160" cy="469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515800" y="2032920"/>
                <a:ext cx="138960" cy="204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7459-3D4B-496B-9C41-E7D102ADB4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53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bubble( a, arraySize, descendin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\nData items in descending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6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7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counter = 0; counter &lt; arraySize; counter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7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setw( 4 ) &lt;&lt; a[ counter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7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8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8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9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9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ubb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work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iz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9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*compare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9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20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con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cons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20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20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ass = 1; pass &lt; size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21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ount = 0; count &lt; size - 1; count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22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(*compare)( work[ count ], work[ count + 1 ]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22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swap( &amp;work[ count ], &amp;work[ count +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22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22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23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lement1Pt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lement2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23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23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24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24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temp = *element1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24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element1Ptr = *element2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5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element2Ptr =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5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5" name=""/>
          <p:cNvGrpSpPr/>
          <p:nvPr/>
        </p:nvGrpSpPr>
        <p:grpSpPr>
          <a:xfrm>
            <a:off x="2057400" y="1905120"/>
            <a:ext cx="6477120" cy="2514600"/>
            <a:chOff x="2057400" y="1905120"/>
            <a:chExt cx="6477120" cy="2514600"/>
          </a:xfrm>
        </p:grpSpPr>
        <p:sp>
          <p:nvSpPr>
            <p:cNvPr id="1256" name=""/>
            <p:cNvSpPr/>
            <p:nvPr/>
          </p:nvSpPr>
          <p:spPr>
            <a:xfrm>
              <a:off x="5638680" y="1905120"/>
              <a:ext cx="2895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ce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sce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b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function call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057400" y="2286000"/>
              <a:ext cx="358128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2514600" y="3657600"/>
            <a:ext cx="6477120" cy="1797480"/>
            <a:chOff x="2514600" y="3657600"/>
            <a:chExt cx="6477120" cy="1797480"/>
          </a:xfrm>
        </p:grpSpPr>
        <p:sp>
          <p:nvSpPr>
            <p:cNvPr id="1259" name=""/>
            <p:cNvSpPr/>
            <p:nvPr/>
          </p:nvSpPr>
          <p:spPr>
            <a:xfrm>
              <a:off x="6248520" y="3657600"/>
              <a:ext cx="274320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function pointers are called using the dereferencing operator. 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required, but emphasizes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function pointer and not a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2514600" y="4038480"/>
              <a:ext cx="3733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0" y="0"/>
            <a:ext cx="6780960" cy="3276720"/>
            <a:chOff x="0" y="0"/>
            <a:chExt cx="6780960" cy="3276720"/>
          </a:xfrm>
        </p:grpSpPr>
        <p:grpSp>
          <p:nvGrpSpPr>
            <p:cNvPr id="1263" name=""/>
            <p:cNvGrpSpPr/>
            <p:nvPr/>
          </p:nvGrpSpPr>
          <p:grpSpPr>
            <a:xfrm>
              <a:off x="0" y="0"/>
              <a:ext cx="6780960" cy="327600"/>
              <a:chOff x="0" y="0"/>
              <a:chExt cx="6780960" cy="327600"/>
            </a:xfrm>
          </p:grpSpPr>
          <p:sp>
            <p:nvSpPr>
              <p:cNvPr id="1264" name=""/>
              <p:cNvSpPr/>
              <p:nvPr/>
            </p:nvSpPr>
            <p:spPr>
              <a:xfrm>
                <a:off x="0" y="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0" y="327600"/>
              <a:ext cx="6780960" cy="327600"/>
              <a:chOff x="0" y="327600"/>
              <a:chExt cx="6780960" cy="327600"/>
            </a:xfrm>
          </p:grpSpPr>
          <p:sp>
            <p:nvSpPr>
              <p:cNvPr id="1267" name=""/>
              <p:cNvSpPr/>
              <p:nvPr/>
            </p:nvSpPr>
            <p:spPr>
              <a:xfrm>
                <a:off x="0" y="3276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0" y="3276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0" y="655200"/>
              <a:ext cx="6780960" cy="327600"/>
              <a:chOff x="0" y="655200"/>
              <a:chExt cx="6780960" cy="327600"/>
            </a:xfrm>
          </p:grpSpPr>
          <p:sp>
            <p:nvSpPr>
              <p:cNvPr id="1270" name=""/>
              <p:cNvSpPr/>
              <p:nvPr/>
            </p:nvSpPr>
            <p:spPr>
              <a:xfrm>
                <a:off x="0" y="6552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0" y="6552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0" y="982800"/>
              <a:ext cx="6780960" cy="327600"/>
              <a:chOff x="0" y="982800"/>
              <a:chExt cx="6780960" cy="327600"/>
            </a:xfrm>
          </p:grpSpPr>
          <p:sp>
            <p:nvSpPr>
              <p:cNvPr id="1273" name=""/>
              <p:cNvSpPr/>
              <p:nvPr/>
            </p:nvSpPr>
            <p:spPr>
              <a:xfrm>
                <a:off x="0" y="9828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0" y="9828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&lt;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wap if b is less than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0" y="1310760"/>
              <a:ext cx="6780960" cy="327600"/>
              <a:chOff x="0" y="1310760"/>
              <a:chExt cx="6780960" cy="327600"/>
            </a:xfrm>
          </p:grpSpPr>
          <p:sp>
            <p:nvSpPr>
              <p:cNvPr id="1276" name=""/>
              <p:cNvSpPr/>
              <p:nvPr/>
            </p:nvSpPr>
            <p:spPr>
              <a:xfrm>
                <a:off x="0" y="13107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0" y="13107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0" y="1638360"/>
              <a:ext cx="6780960" cy="327600"/>
              <a:chOff x="0" y="1638360"/>
              <a:chExt cx="6780960" cy="327600"/>
            </a:xfrm>
          </p:grpSpPr>
          <p:sp>
            <p:nvSpPr>
              <p:cNvPr id="1279" name=""/>
              <p:cNvSpPr/>
              <p:nvPr/>
            </p:nvSpPr>
            <p:spPr>
              <a:xfrm>
                <a:off x="0" y="16383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0" y="16383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0" y="1965960"/>
              <a:ext cx="6780960" cy="327600"/>
              <a:chOff x="0" y="1965960"/>
              <a:chExt cx="6780960" cy="327600"/>
            </a:xfrm>
          </p:grpSpPr>
          <p:sp>
            <p:nvSpPr>
              <p:cNvPr id="1282" name=""/>
              <p:cNvSpPr/>
              <p:nvPr/>
            </p:nvSpPr>
            <p:spPr>
              <a:xfrm>
                <a:off x="0" y="19659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0" y="19659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0" y="2293920"/>
              <a:ext cx="6780960" cy="327600"/>
              <a:chOff x="0" y="2293920"/>
              <a:chExt cx="6780960" cy="327600"/>
            </a:xfrm>
          </p:grpSpPr>
          <p:sp>
            <p:nvSpPr>
              <p:cNvPr id="1285" name=""/>
              <p:cNvSpPr/>
              <p:nvPr/>
            </p:nvSpPr>
            <p:spPr>
              <a:xfrm>
                <a:off x="0" y="22939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0" y="22939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0" y="2621520"/>
              <a:ext cx="6780960" cy="327600"/>
              <a:chOff x="0" y="2621520"/>
              <a:chExt cx="6780960" cy="32760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26215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26215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&gt;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wap if b is greater than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0" y="2949120"/>
              <a:ext cx="6780960" cy="327600"/>
              <a:chOff x="0" y="2949120"/>
              <a:chExt cx="6780960" cy="327600"/>
            </a:xfrm>
          </p:grpSpPr>
          <p:sp>
            <p:nvSpPr>
              <p:cNvPr id="1291" name=""/>
              <p:cNvSpPr/>
              <p:nvPr/>
            </p:nvSpPr>
            <p:spPr>
              <a:xfrm>
                <a:off x="0" y="29491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29491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3" name=""/>
          <p:cNvSpPr/>
          <p:nvPr/>
        </p:nvSpPr>
        <p:spPr>
          <a:xfrm>
            <a:off x="0" y="350532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sort in descending ord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4   6   8  10  12  37  45  68  8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0" y="502920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sort in descending ord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de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9  68  45  37  12  10   8   6   4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value of a charac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 qu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z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integer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2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es of characters treated as one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include letters, digits, special characters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literal (string con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losed in double quotes, 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I like C+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of characters, ends with null charact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s are constant pointers (like array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of string is the address of its firs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60E9-CEEC-413D-868F-98FCABA1F8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 arra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olor[] = "blu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5 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(last elemen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colorPtr = "blu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pointer to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blue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stores it somewhere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B5DB-16B9-476E-BC14-DB9E2FEC62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 input to character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ord[ 20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characters until whitespace or 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could exceed array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etw( 20 ) &gt;&gt; wo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19 characters (space reserved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a line of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get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line( array, size, delimiter charact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69FC-9CBB-4368-92BC-774FC89BD7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input into specified array until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less than the size is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limiter character is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entence[ 8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line( sentence, 80, '\n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D394-6AD5-4CC3-BEC1-AE72E73624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handling librar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cstring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function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e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kenize strings (separate them into logical pie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 characte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 are compared using their character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ke comparisons (greater than, less than, equal 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iz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ing strings into tokens, separated by user-specified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kens are usually logical units, such as words (separated by sp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his is my string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4 word tokens (separated by sp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90BC-8C3F-4FF2-A5FD-1711E4A28E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2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Manipulation Functions of the String-handling Library</a:t>
            </a:r>
            <a:endParaRPr b="1" lang="en-US" sz="20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86000" y="3270240"/>
            <a:ext cx="4572000" cy="317520"/>
            <a:chOff x="2286000" y="3270240"/>
            <a:chExt cx="4572000" cy="317520"/>
          </a:xfrm>
        </p:grpSpPr>
        <p:sp>
          <p:nvSpPr>
            <p:cNvPr id="1307" name=""/>
            <p:cNvSpPr/>
            <p:nvPr/>
          </p:nvSpPr>
          <p:spPr>
            <a:xfrm>
              <a:off x="2286000" y="3270240"/>
              <a:ext cx="12700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556080" y="3270240"/>
              <a:ext cx="3301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09" name=""/>
          <p:cNvGraphicFramePr/>
          <p:nvPr/>
        </p:nvGraphicFramePr>
        <p:xfrm>
          <a:off x="533520" y="1143000"/>
          <a:ext cx="8153280" cy="51181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cpy(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the charac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ncpy( char *s1, const char *s2, size_t n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at mos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the character 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cat(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end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verwrites the terminating null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ncat( char *s1, const char *s2, size_t n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ends at mos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verwrites the terminating null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 strcmp( const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ith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unction returns a value of zero, less than zero or greater than zero 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equal to, less than or greater th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espectively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C283-5CCC-41CC-B8EE-1EA82A698A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2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Manipulation Functions of the String-handling Library (III)</a:t>
            </a:r>
            <a:endParaRPr b="1" lang="en-US" sz="20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311" name=""/>
          <p:cNvGraphicFramePr/>
          <p:nvPr/>
        </p:nvGraphicFramePr>
        <p:xfrm>
          <a:off x="457200" y="1219320"/>
          <a:ext cx="8229600" cy="5029200"/>
        </p:xfrm>
        <a:graphic>
          <a:graphicData uri="http://schemas.openxmlformats.org/drawingml/2006/table">
            <a:tbl>
              <a:tblPr/>
              <a:tblGrid>
                <a:gridCol w="4435560"/>
                <a:gridCol w="37940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 strncmp( const char *s1, const char *s2, size_t n 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up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ith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unction returns zero, less than zero or greater than zero 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equal to, less than or greater th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espectively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tok( char *s1, const char *s2 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equence of calls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rto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reaks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“tokens”—logical pieces such as words in a line of text—delimited by characters contained in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all contains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s the first argument, and subsequent calls to continue tokenizing the same string contai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s the first argument. A pointer to the current to­ken is returned by each call. If there are no more tokens when the function is called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_t strlen( const char *s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s the length of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number of characters preceding the terminating null character is return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6734-71E3-4418-8FBC-51C6659EF9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eclare pointers to any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d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 a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DF57-5F17-4E56-AD7B-186119F1FA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dress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address of its ope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yPt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Ptr = &amp;y;    // yPtr gets address of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“points to”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09480" y="4041720"/>
            <a:ext cx="7696080" cy="2348280"/>
            <a:chOff x="609480" y="4041720"/>
            <a:chExt cx="7696080" cy="2348280"/>
          </a:xfrm>
        </p:grpSpPr>
        <p:sp>
          <p:nvSpPr>
            <p:cNvPr id="118" name=""/>
            <p:cNvSpPr/>
            <p:nvPr/>
          </p:nvSpPr>
          <p:spPr>
            <a:xfrm>
              <a:off x="623880" y="5006880"/>
              <a:ext cx="550800" cy="330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46120" y="4618080"/>
              <a:ext cx="54936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00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0000" y="4802400"/>
              <a:ext cx="1446120" cy="369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0"/>
                  </a:moveTo>
                  <a:lnTo>
                    <a:pt x="0" y="199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4811760"/>
              <a:ext cx="5778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2760" y="5138640"/>
              <a:ext cx="111240" cy="669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28640" y="4422960"/>
              <a:ext cx="182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28640" y="4703760"/>
              <a:ext cx="1825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429000" y="4346640"/>
              <a:ext cx="4876560" cy="685800"/>
              <a:chOff x="3429000" y="4346640"/>
              <a:chExt cx="4876560" cy="68580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3429000" y="4346640"/>
                <a:ext cx="2059920" cy="685800"/>
                <a:chOff x="3429000" y="4346640"/>
                <a:chExt cx="2059920" cy="6858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740840" y="4346640"/>
                  <a:ext cx="5155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p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3429000" y="4652640"/>
                  <a:ext cx="2059920" cy="379800"/>
                  <a:chOff x="3429000" y="4652640"/>
                  <a:chExt cx="2059920" cy="3798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3429000" y="471564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5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4182120" y="4652640"/>
                    <a:ext cx="1306800" cy="379800"/>
                    <a:chOff x="4182120" y="4652640"/>
                    <a:chExt cx="1306800" cy="37980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4458240" y="4715640"/>
                      <a:ext cx="753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4182120" y="465264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3" name=""/>
              <p:cNvGrpSpPr/>
              <p:nvPr/>
            </p:nvGrpSpPr>
            <p:grpSpPr>
              <a:xfrm>
                <a:off x="6245640" y="4346640"/>
                <a:ext cx="2059920" cy="685800"/>
                <a:chOff x="6245640" y="4346640"/>
                <a:chExt cx="2059920" cy="6858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572240" y="4346640"/>
                  <a:ext cx="1591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6245640" y="4652640"/>
                  <a:ext cx="2059920" cy="379800"/>
                  <a:chOff x="6245640" y="4652640"/>
                  <a:chExt cx="2059920" cy="37980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6245640" y="471564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6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998760" y="4652640"/>
                    <a:ext cx="1306800" cy="379800"/>
                    <a:chOff x="6998760" y="4652640"/>
                    <a:chExt cx="1306800" cy="37980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571880" y="4715640"/>
                      <a:ext cx="159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998760" y="465264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40" name=""/>
            <p:cNvSpPr/>
            <p:nvPr/>
          </p:nvSpPr>
          <p:spPr>
            <a:xfrm>
              <a:off x="3352680" y="40417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3760" y="556596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 of y is value of 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324480" y="4956120"/>
              <a:ext cx="228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952520" y="487980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F1B7-CF3D-45BE-95AE-0B8C9BDC03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direction/dereferencing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value of what its operand points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eca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used to assign a value to a location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yptr = 7;      // changes y to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eferenced pointer (operan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must be an lvalue (no con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ve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cel each other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&amp;myVar == my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*yPtr == y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09DE-6404-451E-AD79-EFC63EBCA9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0" y="0"/>
            <a:ext cx="6780960" cy="4800600"/>
            <a:chOff x="0" y="0"/>
            <a:chExt cx="6780960" cy="4800600"/>
          </a:xfrm>
        </p:grpSpPr>
        <p:grpSp>
          <p:nvGrpSpPr>
            <p:cNvPr id="148" name=""/>
            <p:cNvGrpSpPr/>
            <p:nvPr/>
          </p:nvGrpSpPr>
          <p:grpSpPr>
            <a:xfrm>
              <a:off x="0" y="0"/>
              <a:ext cx="6780960" cy="198360"/>
              <a:chOff x="0" y="0"/>
              <a:chExt cx="6780960" cy="19836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0"/>
                <a:ext cx="6780960" cy="198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0"/>
                <a:ext cx="6780960" cy="198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4: fig05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198360"/>
              <a:ext cx="6780960" cy="183960"/>
              <a:chOff x="0" y="198360"/>
              <a:chExt cx="6780960" cy="18396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19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19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sing the &amp; and * opera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82320"/>
              <a:ext cx="6780960" cy="183960"/>
              <a:chOff x="0" y="382320"/>
              <a:chExt cx="6780960" cy="18396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82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82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566280"/>
              <a:ext cx="6780960" cy="183960"/>
              <a:chOff x="0" y="566280"/>
              <a:chExt cx="6780960" cy="18396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5662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5662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750600"/>
              <a:ext cx="6780960" cy="183960"/>
              <a:chOff x="0" y="750600"/>
              <a:chExt cx="6780960" cy="18396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750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750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934560"/>
              <a:ext cx="6780960" cy="183960"/>
              <a:chOff x="0" y="934560"/>
              <a:chExt cx="6780960" cy="18396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934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934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1118520"/>
              <a:ext cx="6780960" cy="183960"/>
              <a:chOff x="0" y="1118520"/>
              <a:chExt cx="6780960" cy="18396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11185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11185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1302840"/>
              <a:ext cx="6780960" cy="183960"/>
              <a:chOff x="0" y="1302840"/>
              <a:chExt cx="6780960" cy="18396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1302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1302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1486800"/>
              <a:ext cx="6780960" cy="183960"/>
              <a:chOff x="0" y="1486800"/>
              <a:chExt cx="6780960" cy="18396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1486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1486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1671120"/>
              <a:ext cx="6780960" cy="183960"/>
              <a:chOff x="0" y="1671120"/>
              <a:chExt cx="6780960" cy="18396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1671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1671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is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1855080"/>
              <a:ext cx="6780960" cy="183960"/>
              <a:chOff x="0" y="1855080"/>
              <a:chExt cx="6780960" cy="18396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1855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855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aPt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Ptr is a pointer to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2039040"/>
              <a:ext cx="6780960" cy="183960"/>
              <a:chOff x="0" y="2039040"/>
              <a:chExt cx="6780960" cy="18396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20390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20390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2223360"/>
              <a:ext cx="6780960" cy="183960"/>
              <a:chOff x="0" y="2223360"/>
              <a:chExt cx="6780960" cy="18396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2223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2223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2407320"/>
              <a:ext cx="6780960" cy="183960"/>
              <a:chOff x="0" y="2407320"/>
              <a:chExt cx="6780960" cy="18396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2407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2407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Ptr = &amp;a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Ptr set to address of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2591640"/>
              <a:ext cx="6780960" cy="183960"/>
              <a:chOff x="0" y="2591640"/>
              <a:chExt cx="6780960" cy="18396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2591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2591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2775600"/>
              <a:ext cx="6780960" cy="183960"/>
              <a:chOff x="0" y="2775600"/>
              <a:chExt cx="6780960" cy="18396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2775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2775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address of a is " &lt;&lt; &amp;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2959560"/>
              <a:ext cx="6780960" cy="183960"/>
              <a:chOff x="0" y="2959560"/>
              <a:chExt cx="6780960" cy="1839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2959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2959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The value of aPtr is " &lt;&lt; a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3143880"/>
              <a:ext cx="6780960" cy="183960"/>
              <a:chOff x="0" y="3143880"/>
              <a:chExt cx="6780960" cy="18396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31438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438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3327840"/>
              <a:ext cx="6780960" cy="183960"/>
              <a:chOff x="0" y="3327840"/>
              <a:chExt cx="6780960" cy="18396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3327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327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The value of a is " &lt;&lt;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3511800"/>
              <a:ext cx="6780960" cy="183960"/>
              <a:chOff x="0" y="3511800"/>
              <a:chExt cx="6780960" cy="18396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3511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511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The value of *aPtr is " &lt;&lt; *a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3696120"/>
              <a:ext cx="6780960" cy="183960"/>
              <a:chOff x="0" y="3696120"/>
              <a:chExt cx="6780960" cy="18396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3696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3696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3880080"/>
              <a:ext cx="6780960" cy="183960"/>
              <a:chOff x="0" y="3880080"/>
              <a:chExt cx="6780960" cy="18396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3880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3880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Showing that * and &amp; are inverses o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4064400"/>
              <a:ext cx="6780960" cy="183960"/>
              <a:chOff x="0" y="4064400"/>
              <a:chExt cx="6780960" cy="18396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40644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40644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each other.\n&amp;*aPtr = " &lt;&lt; &amp;*a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4248360"/>
              <a:ext cx="6780960" cy="183960"/>
              <a:chOff x="0" y="4248360"/>
              <a:chExt cx="6780960" cy="18396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424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424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*&amp;aPtr = " &lt;&lt; *&amp;aPtr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4432680"/>
              <a:ext cx="6780960" cy="183960"/>
              <a:chOff x="0" y="4432680"/>
              <a:chExt cx="6780960" cy="18396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44326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4326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4616640"/>
              <a:ext cx="6780960" cy="183960"/>
              <a:chOff x="0" y="4616640"/>
              <a:chExt cx="6780960" cy="18396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4616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4616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1447560" y="838080"/>
            <a:ext cx="4572360" cy="1523880"/>
            <a:chOff x="1447560" y="838080"/>
            <a:chExt cx="4572360" cy="1523880"/>
          </a:xfrm>
        </p:grpSpPr>
        <p:sp>
          <p:nvSpPr>
            <p:cNvPr id="227" name=""/>
            <p:cNvSpPr/>
            <p:nvPr/>
          </p:nvSpPr>
          <p:spPr>
            <a:xfrm>
              <a:off x="3352680" y="838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tr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447560" y="1142640"/>
              <a:ext cx="1904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190760" y="2104920"/>
            <a:ext cx="3124440" cy="1476360"/>
            <a:chOff x="4190760" y="2104920"/>
            <a:chExt cx="3124440" cy="1476360"/>
          </a:xfrm>
        </p:grpSpPr>
        <p:sp>
          <p:nvSpPr>
            <p:cNvPr id="230" name=""/>
            <p:cNvSpPr/>
            <p:nvPr/>
          </p:nvSpPr>
          <p:spPr>
            <a:xfrm>
              <a:off x="4724280" y="210492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perator returns an alias to what its operand points to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in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a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190760" y="2743200"/>
              <a:ext cx="533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419360" y="3753000"/>
            <a:ext cx="3657960" cy="580680"/>
            <a:chOff x="4419360" y="3753000"/>
            <a:chExt cx="3657960" cy="580680"/>
          </a:xfrm>
        </p:grpSpPr>
        <p:sp>
          <p:nvSpPr>
            <p:cNvPr id="233" name=""/>
            <p:cNvSpPr/>
            <p:nvPr/>
          </p:nvSpPr>
          <p:spPr>
            <a:xfrm>
              <a:off x="6400800" y="37530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invers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419360" y="3981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0" y="502920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ddress of a is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Ptr is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*aPtr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ing that * and &amp; are inverses of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*aPtr =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&amp;aPtr =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lling Functions by Referenc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with pointer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address of argument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you to change actual location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are not pas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cause the array name is already a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 used as alias/nickname for variable inside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doubleNum( int *number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*number = 2 * ( *number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numb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as nickname for the variable passed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function is called, must be passed a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Num( &amp;myNum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FC6F-C5E5-4452-982E-BBEBC0D23C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 - takes a pointer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0"/>
            <a:ext cx="6780960" cy="4724280"/>
            <a:chOff x="0" y="0"/>
            <a:chExt cx="6780960" cy="4724280"/>
          </a:xfrm>
        </p:grpSpPr>
        <p:grpSp>
          <p:nvGrpSpPr>
            <p:cNvPr id="240" name=""/>
            <p:cNvGrpSpPr/>
            <p:nvPr/>
          </p:nvGrpSpPr>
          <p:grpSpPr>
            <a:xfrm>
              <a:off x="0" y="0"/>
              <a:ext cx="6780960" cy="196560"/>
              <a:chOff x="0" y="0"/>
              <a:chExt cx="6780960" cy="19656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7: fig05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196560"/>
              <a:ext cx="6780960" cy="196560"/>
              <a:chOff x="0" y="196560"/>
              <a:chExt cx="6780960" cy="19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196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96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ube a variable using call-by-referenc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393480"/>
              <a:ext cx="6780960" cy="196920"/>
              <a:chOff x="0" y="393480"/>
              <a:chExt cx="6780960" cy="19692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393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93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with a pointer argu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590400"/>
              <a:ext cx="6780960" cy="196560"/>
              <a:chOff x="0" y="590400"/>
              <a:chExt cx="6780960" cy="19656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590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90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787320"/>
              <a:ext cx="6780960" cy="196560"/>
              <a:chOff x="0" y="787320"/>
              <a:chExt cx="6780960" cy="19656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7873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7873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984240"/>
              <a:ext cx="6780960" cy="196560"/>
              <a:chOff x="0" y="984240"/>
              <a:chExt cx="6780960" cy="19656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9842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9842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1180800"/>
              <a:ext cx="6780960" cy="196920"/>
              <a:chOff x="0" y="1180800"/>
              <a:chExt cx="6780960" cy="19692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1180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1180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1377720"/>
              <a:ext cx="6780960" cy="196560"/>
              <a:chOff x="0" y="1377720"/>
              <a:chExt cx="6780960" cy="19656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1377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1377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1574640"/>
              <a:ext cx="6780960" cy="196560"/>
              <a:chOff x="0" y="1574640"/>
              <a:chExt cx="6780960" cy="19656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1574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1574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ub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1771560"/>
              <a:ext cx="6780960" cy="196560"/>
              <a:chOff x="0" y="1771560"/>
              <a:chExt cx="6780960" cy="19656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1771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771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1968480"/>
              <a:ext cx="6780960" cy="196920"/>
              <a:chOff x="0" y="1968480"/>
              <a:chExt cx="6780960" cy="19692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1968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1968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2165400"/>
              <a:ext cx="6780960" cy="196560"/>
              <a:chOff x="0" y="2165400"/>
              <a:chExt cx="6780960" cy="19656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2165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2165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2361960"/>
              <a:ext cx="6780960" cy="196560"/>
              <a:chOff x="0" y="2361960"/>
              <a:chExt cx="6780960" cy="19656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2361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2361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number = 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2558880"/>
              <a:ext cx="6780960" cy="196560"/>
              <a:chOff x="0" y="2558880"/>
              <a:chExt cx="6780960" cy="19656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2558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2558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2755800"/>
              <a:ext cx="6780960" cy="196920"/>
              <a:chOff x="0" y="2755800"/>
              <a:chExt cx="6780960" cy="19692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2755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2755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original value of number is " &lt;&lt;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2952720"/>
              <a:ext cx="6780960" cy="196560"/>
              <a:chOff x="0" y="2952720"/>
              <a:chExt cx="6780960" cy="19656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2952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2952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ubeByReference( &amp;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3149640"/>
              <a:ext cx="6780960" cy="196560"/>
              <a:chOff x="0" y="3149640"/>
              <a:chExt cx="6780960" cy="19656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3149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3149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The new value of number is " &lt;&lt; number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3346200"/>
              <a:ext cx="6780960" cy="196560"/>
              <a:chOff x="0" y="3346200"/>
              <a:chExt cx="6780960" cy="19656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33462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33462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3543120"/>
              <a:ext cx="6780960" cy="196560"/>
              <a:chOff x="0" y="3543120"/>
              <a:chExt cx="6780960" cy="19656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35431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35431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3740040"/>
              <a:ext cx="6780960" cy="196920"/>
              <a:chOff x="0" y="3740040"/>
              <a:chExt cx="6780960" cy="19692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374004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374004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3936960"/>
              <a:ext cx="6780960" cy="196560"/>
              <a:chOff x="0" y="3936960"/>
              <a:chExt cx="6780960" cy="19656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3936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3936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ub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n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4133880"/>
              <a:ext cx="6780960" cy="196560"/>
              <a:chOff x="0" y="4133880"/>
              <a:chExt cx="6780960" cy="19656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4133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4133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4330440"/>
              <a:ext cx="6780960" cy="196560"/>
              <a:chOff x="0" y="4330440"/>
              <a:chExt cx="6780960" cy="19656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43304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43304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nPtr = *nPtr * *nPtr * *n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ube number in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4527360"/>
              <a:ext cx="6780960" cy="196920"/>
              <a:chOff x="0" y="4527360"/>
              <a:chExt cx="6780960" cy="19692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452736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452736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3276720" y="3352680"/>
            <a:ext cx="4419360" cy="990720"/>
            <a:chOff x="3276720" y="3352680"/>
            <a:chExt cx="4419360" cy="990720"/>
          </a:xfrm>
        </p:grpSpPr>
        <p:sp>
          <p:nvSpPr>
            <p:cNvPr id="313" name=""/>
            <p:cNvSpPr/>
            <p:nvPr/>
          </p:nvSpPr>
          <p:spPr>
            <a:xfrm>
              <a:off x="4572000" y="335268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i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n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us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n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276720" y="365760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0" y="5105520"/>
            <a:ext cx="6781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value of number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value of number is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742840" y="990720"/>
            <a:ext cx="4038840" cy="1981080"/>
            <a:chOff x="2742840" y="990720"/>
            <a:chExt cx="4038840" cy="1981080"/>
          </a:xfrm>
        </p:grpSpPr>
        <p:sp>
          <p:nvSpPr>
            <p:cNvPr id="317" name=""/>
            <p:cNvSpPr/>
            <p:nvPr/>
          </p:nvSpPr>
          <p:spPr>
            <a:xfrm flipH="1">
              <a:off x="2742840" y="2057400"/>
              <a:ext cx="1676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9880" y="99072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iven -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pects a pointer (an address of a variable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16:08:17Z</dcterms:created>
  <dc:creator>kalid</dc:creator>
  <dc:description/>
  <dc:language>en-US</dc:language>
  <cp:lastModifiedBy>Antonella Esposito</cp:lastModifiedBy>
  <dcterms:modified xsi:type="dcterms:W3CDTF">2001-01-12T10:42:07Z</dcterms:modified>
  <cp:revision>321</cp:revision>
  <dc:subject/>
  <dc:title>PowerPoint Presentation</dc:title>
</cp:coreProperties>
</file>