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248A-4BC4-4420-9A79-5DFED536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6A4F-4565-414F-BD46-614FB3CE0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3E40-69A5-40FF-94F7-F1EE410AB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D036-91D7-460D-A8B1-793374D8A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423D-6BFD-4BF4-8FCA-4C2F518B97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5D98-C15F-4FF4-8689-9E9AC86A3E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93B3-2F13-4731-AEBD-1C704F989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0831-5E4E-4918-A7F8-655FB67256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EA42-D9F0-41F1-AF4A-A45EAC8AB1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826B-FE60-43B4-97A4-3C3F7A857D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A1D2-59A5-4A4B-8407-6BCA847092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51D9-A5BF-404E-9E60-EC0770003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3169-B10D-4419-8308-3FC06AA887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6C22-134C-40A5-8786-52821A5266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0112-C644-419F-A81B-CE7D8CFFA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1A68-B343-4D89-BD79-EDA0363A1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9876-F6C6-4181-B4EB-6B21023AC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7D73-0927-4625-9BA9-D9D9117FD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7731-698F-4932-BEF1-55E978384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373F-94EF-450D-BF8B-D229FA4B6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05E1-B6BC-4063-B89D-0AF87E406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9908-AC15-4FE9-BB94-6C285EA69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87E0-0755-4CCD-BBBF-F48F2A280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E50A-6442-4785-B890-0F6997FBE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4E92-FCA8-4D86-8139-19F7F69F0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B26-59FA-4B0E-AE0B-78953F565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6: Classe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 Defini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ng Members of Structur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User-Defined Type Time with a Struc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Time Abstract Data Type with a Clas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Scope and Accessing Class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parating Interface from Implement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rolling Access to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 Functions and Utility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Class Objects: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Constructors and Destructors Are Called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ata Members and Member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ubtle Trap: Returning a Reference to 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ivate Data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ssignment by Default Memberwise Cop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Reus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CCC4-E176-4860-BF8E-7680B978BF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an limit the access to their member function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types of access a class can grant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the program has access to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private and discus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 that initializes the data members of a 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73D7-B3F7-4120-99AD-D57C220688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efinition and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lass has been defined, it can be used as a type in object, array and pointer 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28954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sunset,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arrayOfTimes[ 5 ],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*pointerToTime,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212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41911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he class name becomes the new type specif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5871-CB1B-4507-B641-D2B998D80D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48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3: fig06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(ADT)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–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647960" y="4495680"/>
            <a:ext cx="4038480" cy="580680"/>
            <a:chOff x="4647960" y="4495680"/>
            <a:chExt cx="4038480" cy="580680"/>
          </a:xfrm>
        </p:grpSpPr>
        <p:sp>
          <p:nvSpPr>
            <p:cNvPr id="445" name=""/>
            <p:cNvSpPr/>
            <p:nvPr/>
          </p:nvSpPr>
          <p:spPr>
            <a:xfrm>
              <a:off x="655308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eceding the function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647960" y="4876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default values for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6738-BE67-4E8C-92B2-D3A106A93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449" name=""/>
            <p:cNvGrpSpPr/>
            <p:nvPr/>
          </p:nvGrpSpPr>
          <p:grpSpPr>
            <a:xfrm>
              <a:off x="0" y="0"/>
              <a:ext cx="6705000" cy="234000"/>
              <a:chOff x="0" y="0"/>
              <a:chExt cx="6705000" cy="23400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34000"/>
              <a:ext cx="6705000" cy="234000"/>
              <a:chOff x="0" y="234000"/>
              <a:chExt cx="6705000" cy="2340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68360"/>
              <a:ext cx="6705000" cy="234000"/>
              <a:chOff x="0" y="468360"/>
              <a:chExt cx="6705000" cy="23400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702720"/>
              <a:ext cx="6705000" cy="234000"/>
              <a:chOff x="0" y="702720"/>
              <a:chExt cx="6705000" cy="23400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936720"/>
              <a:ext cx="6705000" cy="234000"/>
              <a:chOff x="0" y="936720"/>
              <a:chExt cx="6705000" cy="23400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1171080"/>
              <a:ext cx="6705000" cy="234000"/>
              <a:chOff x="0" y="1171080"/>
              <a:chExt cx="6705000" cy="2340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1405440"/>
              <a:ext cx="6705000" cy="234000"/>
              <a:chOff x="0" y="1405440"/>
              <a:chExt cx="6705000" cy="23400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1639440"/>
              <a:ext cx="6705000" cy="234000"/>
              <a:chOff x="0" y="1639440"/>
              <a:chExt cx="6705000" cy="23400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1873800"/>
              <a:ext cx="6705000" cy="234000"/>
              <a:chOff x="0" y="1873800"/>
              <a:chExt cx="6705000" cy="23400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108160"/>
              <a:ext cx="6705000" cy="234000"/>
              <a:chOff x="0" y="2108160"/>
              <a:chExt cx="6705000" cy="23400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2342160"/>
              <a:ext cx="6705000" cy="234000"/>
              <a:chOff x="0" y="2342160"/>
              <a:chExt cx="6705000" cy="23400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576520"/>
              <a:ext cx="6705000" cy="234000"/>
              <a:chOff x="0" y="2576520"/>
              <a:chExt cx="6705000" cy="23400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810880"/>
              <a:ext cx="6705000" cy="234000"/>
              <a:chOff x="0" y="2810880"/>
              <a:chExt cx="6705000" cy="2340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045240"/>
              <a:ext cx="6705000" cy="234000"/>
              <a:chOff x="0" y="3045240"/>
              <a:chExt cx="6705000" cy="2340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279240"/>
              <a:ext cx="6705000" cy="234000"/>
              <a:chOff x="0" y="3279240"/>
              <a:chExt cx="6705000" cy="23400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3513600"/>
              <a:ext cx="6705000" cy="234000"/>
              <a:chOff x="0" y="3513600"/>
              <a:chExt cx="6705000" cy="23400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3747960"/>
              <a:ext cx="6705000" cy="234000"/>
              <a:chOff x="0" y="3747960"/>
              <a:chExt cx="6705000" cy="2340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3981960"/>
              <a:ext cx="6705000" cy="234000"/>
              <a:chOff x="0" y="3981960"/>
              <a:chExt cx="6705000" cy="2340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simple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216320"/>
              <a:ext cx="6705000" cy="234000"/>
              <a:chOff x="0" y="4216320"/>
              <a:chExt cx="6705000" cy="23400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4450680"/>
              <a:ext cx="6705000" cy="234000"/>
              <a:chOff x="0" y="4450680"/>
              <a:chExt cx="6705000" cy="23400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4685040"/>
              <a:ext cx="6705000" cy="234000"/>
              <a:chOff x="0" y="4685040"/>
              <a:chExt cx="6705000" cy="2340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stantiate object t of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4919040"/>
              <a:ext cx="6705000" cy="234000"/>
              <a:chOff x="0" y="4919040"/>
              <a:chExt cx="6705000" cy="2340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153400"/>
              <a:ext cx="6705000" cy="234000"/>
              <a:chOff x="0" y="5153400"/>
              <a:chExt cx="6705000" cy="23400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initial military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387400"/>
              <a:ext cx="6705000" cy="234000"/>
              <a:chOff x="0" y="5387400"/>
              <a:chExt cx="6705000" cy="23400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5621760"/>
              <a:ext cx="6705000" cy="234000"/>
              <a:chOff x="0" y="5621760"/>
              <a:chExt cx="6705000" cy="2340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initial standard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5856120"/>
              <a:ext cx="6705000" cy="234000"/>
              <a:chOff x="0" y="5856120"/>
              <a:chExt cx="6705000" cy="2340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090480"/>
              <a:ext cx="6705000" cy="234000"/>
              <a:chOff x="0" y="6090480"/>
              <a:chExt cx="6705000" cy="23400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2590560" y="5334120"/>
            <a:ext cx="6019920" cy="824040"/>
            <a:chOff x="2590560" y="5334120"/>
            <a:chExt cx="6019920" cy="824040"/>
          </a:xfrm>
        </p:grpSpPr>
        <p:sp>
          <p:nvSpPr>
            <p:cNvPr id="531" name=""/>
            <p:cNvSpPr/>
            <p:nvPr/>
          </p:nvSpPr>
          <p:spPr>
            <a:xfrm>
              <a:off x="6324480" y="5334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s are called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590560" y="5715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the two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Print the initial (default) time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34" name=""/>
          <p:cNvSpPr/>
          <p:nvPr/>
        </p:nvSpPr>
        <p:spPr>
          <a:xfrm>
            <a:off x="4419720" y="4622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DFAE-F3BA-4E2D-9421-6B71170DD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0" y="0"/>
            <a:ext cx="6705000" cy="3571560"/>
            <a:chOff x="0" y="0"/>
            <a:chExt cx="6705000" cy="3571560"/>
          </a:xfrm>
        </p:grpSpPr>
        <p:grpSp>
          <p:nvGrpSpPr>
            <p:cNvPr id="536" name=""/>
            <p:cNvGrpSpPr/>
            <p:nvPr/>
          </p:nvGrpSpPr>
          <p:grpSpPr>
            <a:xfrm>
              <a:off x="0" y="0"/>
              <a:ext cx="6705000" cy="237960"/>
              <a:chOff x="0" y="0"/>
              <a:chExt cx="6705000" cy="23796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13, 27,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237960"/>
              <a:ext cx="6705000" cy="237960"/>
              <a:chOff x="0" y="237960"/>
              <a:chExt cx="6705000" cy="23796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Military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75920"/>
              <a:ext cx="6705000" cy="237960"/>
              <a:chOff x="0" y="475920"/>
              <a:chExt cx="6705000" cy="23796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714240"/>
              <a:ext cx="6705000" cy="237960"/>
              <a:chOff x="0" y="714240"/>
              <a:chExt cx="6705000" cy="23796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952200"/>
              <a:ext cx="6705000" cy="237960"/>
              <a:chOff x="0" y="952200"/>
              <a:chExt cx="6705000" cy="23796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1190520"/>
              <a:ext cx="6705000" cy="237960"/>
              <a:chOff x="0" y="1190520"/>
              <a:chExt cx="6705000" cy="23796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1428480"/>
              <a:ext cx="6705000" cy="237960"/>
              <a:chOff x="0" y="1428480"/>
              <a:chExt cx="6705000" cy="23796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99, 99, 99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 invalid set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1666800"/>
              <a:ext cx="6705000" cy="237960"/>
              <a:chOff x="0" y="1666800"/>
              <a:chExt cx="6705000" cy="23796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attempting invalid settings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1904760"/>
              <a:ext cx="6705000" cy="237960"/>
              <a:chOff x="0" y="1904760"/>
              <a:chExt cx="6705000" cy="23796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2143080"/>
              <a:ext cx="6705000" cy="237960"/>
              <a:chOff x="0" y="2143080"/>
              <a:chExt cx="6705000" cy="23796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2381040"/>
              <a:ext cx="6705000" cy="237960"/>
              <a:chOff x="0" y="2381040"/>
              <a:chExt cx="6705000" cy="23796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2619360"/>
              <a:ext cx="6705000" cy="237960"/>
              <a:chOff x="0" y="2619360"/>
              <a:chExt cx="6705000" cy="2379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2857320"/>
              <a:ext cx="6705000" cy="237960"/>
              <a:chOff x="0" y="2857320"/>
              <a:chExt cx="6705000" cy="2379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3095640"/>
              <a:ext cx="6705000" cy="237960"/>
              <a:chOff x="0" y="3095640"/>
              <a:chExt cx="6705000" cy="2379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3333600"/>
              <a:ext cx="6705000" cy="237960"/>
              <a:chOff x="0" y="3333600"/>
              <a:chExt cx="6705000" cy="2379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0" y="3886200"/>
            <a:ext cx="670572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nd print the 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Set the time to an invalid hou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Print the tim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3" name=""/>
          <p:cNvSpPr/>
          <p:nvPr/>
        </p:nvSpPr>
        <p:spPr>
          <a:xfrm>
            <a:off x="3352680" y="10414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26668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E0A5-0A75-47E8-A065-2CCB972A57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the same name as the class but preceded with a tilde charact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take arguments and 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class name with the member 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ClassName::MemberFunctionName(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D296-881F-4F16-8016-3CD6E4B3F6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function is defined insid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resolution operator and class name are not neede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function outside a class does not change it be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encourage software 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 allows new classes to be derived from old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1792-CFE9-403C-819A-4184CE16CA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and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de a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ccessible by all membe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a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re referenced through hand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name, a reference to an object or a pointer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559A-2137-4FA4-BB40-B009E83B62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1217-21F0-47FD-946C-0B5AF8DB4E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96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4: fig06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class member access operators . and -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UTION: IN FUTURE EXAMPLES WE AVOID PUBLIC DATA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Simple class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{ cout &lt;&lt; x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,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reate counter obj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*counterPtr = &amp;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inter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amp;counterRef = counte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ference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7 to x and print using the object's na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7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8 to x and print using a referenc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x = 8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 8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pri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1066320" y="914400"/>
            <a:ext cx="5182200" cy="2284200"/>
            <a:chOff x="1066320" y="914400"/>
            <a:chExt cx="5182200" cy="2284200"/>
          </a:xfrm>
        </p:grpSpPr>
        <p:sp>
          <p:nvSpPr>
            <p:cNvPr id="687" name=""/>
            <p:cNvSpPr/>
            <p:nvPr/>
          </p:nvSpPr>
          <p:spPr>
            <a:xfrm flipH="1">
              <a:off x="1066320" y="2057400"/>
              <a:ext cx="3581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914400"/>
              <a:ext cx="182880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is rare to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.  Usually only member function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this keeps as much information hidden as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2EBA-8AB2-4388-B622-8481304AD8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tails are hidden within the classe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the standard unit of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lass is like a blueprint –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are instantiated (created) from the clas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a house is an instance of a “blueprint clas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E809-FAF7-49BC-AC2C-D89A5C537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 Set a new value and print it using a pointer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05000" cy="1523520"/>
            <a:chOff x="0" y="0"/>
            <a:chExt cx="6705000" cy="152352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05000" cy="304560"/>
              <a:chOff x="0" y="0"/>
              <a:chExt cx="6705000" cy="30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10 to x and print using a poin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304560"/>
              <a:ext cx="6705000" cy="304560"/>
              <a:chOff x="0" y="304560"/>
              <a:chExt cx="6705000" cy="30456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x = 1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10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609480"/>
              <a:ext cx="6705000" cy="304920"/>
              <a:chOff x="0" y="609480"/>
              <a:chExt cx="6705000" cy="3049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print()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914400"/>
              <a:ext cx="6705000" cy="304560"/>
              <a:chOff x="0" y="914400"/>
              <a:chExt cx="6705000" cy="30456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1218960"/>
              <a:ext cx="6705000" cy="304560"/>
              <a:chOff x="0" y="1218960"/>
              <a:chExt cx="6705000" cy="30456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0" y="220968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3245-30A7-4BA6-BB40-7FB74B527E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ing interface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-cod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A457-88AB-474F-9D4A-D3BB543745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710" name="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777" name="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781" name="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9AE2-6CEE-4A36-81BC-E85BB45A29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85" name="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894" name="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897" name="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CD1B-E0BF-445A-A1CE-8BA9A07869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only accessible to member functions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8316-D4AD-4379-9500-613C501EAF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904" name="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7" name="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969" name="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974" name="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0755-BF2B-4D56-BEFE-278655B438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 Access Functions and Utility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2184-A889-4C3B-8BEF-13F11AEBD4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0" name="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1021" name="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1025" name="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F537-468A-42EF-B002-2132A3D413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0 Initializing Class Objects: 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ass-type ObjectName( value1,value2,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86A4-D4DD-4FBC-AAAB-B9A96EBC45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1030" name="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1085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1088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1091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1094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1097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1100" name="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2E96-CDF0-423D-AB5B-E2BAB4D394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e data types built using elements of other typ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i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ou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inu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the same structure must have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different structures may contain members of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tructure definition must end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038120" y="2362320"/>
            <a:ext cx="4724640" cy="1218960"/>
            <a:chOff x="4038120" y="2362320"/>
            <a:chExt cx="4724640" cy="1218960"/>
          </a:xfrm>
        </p:grpSpPr>
        <p:sp>
          <p:nvSpPr>
            <p:cNvPr id="101" name=""/>
            <p:cNvSpPr/>
            <p:nvPr/>
          </p:nvSpPr>
          <p:spPr>
            <a:xfrm flipH="1">
              <a:off x="4038120" y="2514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8680" y="2362320"/>
              <a:ext cx="17524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560" y="3276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2895480"/>
              <a:ext cx="19810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me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76560" y="2743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C74A-2589-457B-9E04-5E9575BEB7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04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1105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1108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1111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1114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1205" name="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4500-F43A-44A5-8368-44B5CC6EA8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1210" name="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1213" name="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ED19-21F8-4FED-9F3D-77426E0614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2 Using 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member function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termination housekeeping before the system reclaims the object’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 of the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llowed by the class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E434-1BC2-4BC3-891F-7542100A04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2900-33D0-43BC-9071-BBC47D63D6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1BE8-3961-480B-A87B-8001D8E7D6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0" y="0"/>
            <a:ext cx="6705000" cy="3886200"/>
            <a:chOff x="0" y="0"/>
            <a:chExt cx="6705000" cy="3886200"/>
          </a:xfrm>
        </p:grpSpPr>
        <p:grpSp>
          <p:nvGrpSpPr>
            <p:cNvPr id="1274" name=""/>
            <p:cNvGrpSpPr/>
            <p:nvPr/>
          </p:nvGrpSpPr>
          <p:grpSpPr>
            <a:xfrm>
              <a:off x="0" y="0"/>
              <a:ext cx="6705000" cy="258840"/>
              <a:chOff x="0" y="0"/>
              <a:chExt cx="6705000" cy="25884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258840"/>
              <a:ext cx="6705000" cy="258840"/>
              <a:chOff x="0" y="258840"/>
              <a:chExt cx="6705000" cy="25884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518040"/>
              <a:ext cx="6705000" cy="259200"/>
              <a:chOff x="0" y="518040"/>
              <a:chExt cx="6705000" cy="25920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777240"/>
              <a:ext cx="6705000" cy="258840"/>
              <a:chOff x="0" y="777240"/>
              <a:chExt cx="6705000" cy="25884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1036080"/>
              <a:ext cx="6705000" cy="258840"/>
              <a:chOff x="0" y="1036080"/>
              <a:chExt cx="6705000" cy="25884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1295280"/>
              <a:ext cx="6705000" cy="258840"/>
              <a:chOff x="0" y="1295280"/>
              <a:chExt cx="6705000" cy="25884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1554120"/>
              <a:ext cx="6705000" cy="259200"/>
              <a:chOff x="0" y="1554120"/>
              <a:chExt cx="6705000" cy="25920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1813320"/>
              <a:ext cx="6705000" cy="258840"/>
              <a:chOff x="0" y="1813320"/>
              <a:chExt cx="6705000" cy="25884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2072520"/>
              <a:ext cx="6705000" cy="258840"/>
              <a:chOff x="0" y="2072520"/>
              <a:chExt cx="6705000" cy="25884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331720"/>
              <a:ext cx="6705000" cy="258840"/>
              <a:chOff x="0" y="2331720"/>
              <a:chExt cx="6705000" cy="25884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2590560"/>
              <a:ext cx="6705000" cy="259200"/>
              <a:chOff x="0" y="2590560"/>
              <a:chExt cx="6705000" cy="259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2849760"/>
              <a:ext cx="6705000" cy="258840"/>
              <a:chOff x="0" y="2849760"/>
              <a:chExt cx="6705000" cy="25884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3108960"/>
              <a:ext cx="6705000" cy="258840"/>
              <a:chOff x="0" y="3108960"/>
              <a:chExt cx="6705000" cy="25884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3367800"/>
              <a:ext cx="6705000" cy="258840"/>
              <a:chOff x="0" y="3367800"/>
              <a:chExt cx="6705000" cy="25884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3627000"/>
              <a:ext cx="6705000" cy="259200"/>
              <a:chOff x="0" y="3627000"/>
              <a:chExt cx="6705000" cy="25920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2783-CF59-47CC-8E6D-31456FA257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2" name="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1373" name="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CF01-F7AE-49DA-BE57-9F4AB48A10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37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38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38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38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38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39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39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0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0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431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434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437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440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443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446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449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452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455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458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461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464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1467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2705-217E-4911-8A4F-7BA7F61C06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9" name=""/>
          <p:cNvGrpSpPr/>
          <p:nvPr/>
        </p:nvGrpSpPr>
        <p:grpSpPr>
          <a:xfrm>
            <a:off x="0" y="0"/>
            <a:ext cx="6705000" cy="2971440"/>
            <a:chOff x="0" y="0"/>
            <a:chExt cx="6705000" cy="2971440"/>
          </a:xfrm>
        </p:grpSpPr>
        <p:grpSp>
          <p:nvGrpSpPr>
            <p:cNvPr id="1470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1511" name="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D990-A3B2-4BB7-85B8-104DF88952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4 Using Data Members and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8AAE-BF9D-427F-9389-E4A531024B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 member that is a pointer to the sam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linked lists, queues, stacks and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new data type that is used to decla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variables are declared like variables of other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Object, timeArray[ 10 ]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timePtr, &amp;timeRef =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C070-402A-4821-8A1C-6D8ABDBF83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5 A Subtle Trap: Returning a Reference to a Private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2AF3-72D8-4C29-9FD2-401176177F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1519" name="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5" name="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1586" name="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6FE6-B6D9-4D11-BB46-2E6FF37394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1591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634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640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643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646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649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652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655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658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661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664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667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670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673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676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8" name="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1679" name="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BFA8-8CFC-40A8-B85E-5E68A5261E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684" name="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1685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1688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1691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1694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1697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1700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1703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1706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1709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1712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1715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1718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1721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1724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1727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1730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1733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1736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7" name="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1778" name="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1781" name="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1784" name="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1E4D-A2A1-409A-B484-4432C20937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1791" name="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1B81-58DC-4D6C-B855-CE10A4C64B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6 Assignment by Default Memberwise Cop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can be assigned to another object of the same type 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by member co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 (call-by-value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BC25-2DAE-40A2-857C-615F234852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797" name=""/>
            <p:cNvGrpSpPr/>
            <p:nvPr/>
          </p:nvGrpSpPr>
          <p:grpSpPr>
            <a:xfrm>
              <a:off x="0" y="0"/>
              <a:ext cx="6705000" cy="210600"/>
              <a:chOff x="0" y="0"/>
              <a:chExt cx="6705000" cy="210600"/>
            </a:xfrm>
          </p:grpSpPr>
          <p:sp>
            <p:nvSpPr>
              <p:cNvPr id="1798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2: fig06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0" y="210600"/>
              <a:ext cx="6705000" cy="210600"/>
              <a:chOff x="0" y="210600"/>
              <a:chExt cx="6705000" cy="210600"/>
            </a:xfrm>
          </p:grpSpPr>
          <p:sp>
            <p:nvSpPr>
              <p:cNvPr id="1801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at class objects can be assig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0" y="421560"/>
              <a:ext cx="6705000" cy="210600"/>
              <a:chOff x="0" y="421560"/>
              <a:chExt cx="6705000" cy="210600"/>
            </a:xfrm>
          </p:grpSpPr>
          <p:sp>
            <p:nvSpPr>
              <p:cNvPr id="1804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each other using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6" name=""/>
            <p:cNvGrpSpPr/>
            <p:nvPr/>
          </p:nvGrpSpPr>
          <p:grpSpPr>
            <a:xfrm>
              <a:off x="0" y="632160"/>
              <a:ext cx="6705000" cy="210600"/>
              <a:chOff x="0" y="632160"/>
              <a:chExt cx="6705000" cy="210600"/>
            </a:xfrm>
          </p:grpSpPr>
          <p:sp>
            <p:nvSpPr>
              <p:cNvPr id="1807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0" y="843120"/>
              <a:ext cx="6705000" cy="210600"/>
              <a:chOff x="0" y="843120"/>
              <a:chExt cx="6705000" cy="210600"/>
            </a:xfrm>
          </p:grpSpPr>
          <p:sp>
            <p:nvSpPr>
              <p:cNvPr id="1810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0" y="1054080"/>
              <a:ext cx="6705000" cy="210600"/>
              <a:chOff x="0" y="1054080"/>
              <a:chExt cx="6705000" cy="210600"/>
            </a:xfrm>
          </p:grpSpPr>
          <p:sp>
            <p:nvSpPr>
              <p:cNvPr id="1813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0" y="1264680"/>
              <a:ext cx="6705000" cy="210600"/>
              <a:chOff x="0" y="1264680"/>
              <a:chExt cx="6705000" cy="210600"/>
            </a:xfrm>
          </p:grpSpPr>
          <p:sp>
            <p:nvSpPr>
              <p:cNvPr id="1816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0" y="1475640"/>
              <a:ext cx="6705000" cy="210600"/>
              <a:chOff x="0" y="1475640"/>
              <a:chExt cx="6705000" cy="210600"/>
            </a:xfrm>
          </p:grpSpPr>
          <p:sp>
            <p:nvSpPr>
              <p:cNvPr id="1819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0" y="1686600"/>
              <a:ext cx="6705000" cy="210600"/>
              <a:chOff x="0" y="1686600"/>
              <a:chExt cx="6705000" cy="210600"/>
            </a:xfrm>
          </p:grpSpPr>
          <p:sp>
            <p:nvSpPr>
              <p:cNvPr id="1822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0" y="1897200"/>
              <a:ext cx="6705000" cy="210600"/>
              <a:chOff x="0" y="1897200"/>
              <a:chExt cx="6705000" cy="210600"/>
            </a:xfrm>
          </p:grpSpPr>
          <p:sp>
            <p:nvSpPr>
              <p:cNvPr id="1825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0" y="2108160"/>
              <a:ext cx="6705000" cy="210600"/>
              <a:chOff x="0" y="2108160"/>
              <a:chExt cx="6705000" cy="210600"/>
            </a:xfrm>
          </p:grpSpPr>
          <p:sp>
            <p:nvSpPr>
              <p:cNvPr id="1828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0" y="2318760"/>
              <a:ext cx="6705000" cy="210600"/>
              <a:chOff x="0" y="2318760"/>
              <a:chExt cx="6705000" cy="210600"/>
            </a:xfrm>
          </p:grpSpPr>
          <p:sp>
            <p:nvSpPr>
              <p:cNvPr id="1831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9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0" y="2529720"/>
              <a:ext cx="6705000" cy="210600"/>
              <a:chOff x="0" y="2529720"/>
              <a:chExt cx="6705000" cy="210600"/>
            </a:xfrm>
          </p:grpSpPr>
          <p:sp>
            <p:nvSpPr>
              <p:cNvPr id="1834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0" y="2740680"/>
              <a:ext cx="6705000" cy="210600"/>
              <a:chOff x="0" y="2740680"/>
              <a:chExt cx="6705000" cy="21060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951280"/>
              <a:ext cx="6705000" cy="210600"/>
              <a:chOff x="0" y="2951280"/>
              <a:chExt cx="6705000" cy="210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3162240"/>
              <a:ext cx="6705000" cy="210600"/>
              <a:chOff x="0" y="3162240"/>
              <a:chExt cx="6705000" cy="21060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3373200"/>
              <a:ext cx="6705000" cy="210600"/>
              <a:chOff x="0" y="3373200"/>
              <a:chExt cx="6705000" cy="21060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3583800"/>
              <a:ext cx="6705000" cy="210600"/>
              <a:chOff x="0" y="3583800"/>
              <a:chExt cx="6705000" cy="21060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3794760"/>
              <a:ext cx="6705000" cy="210600"/>
              <a:chOff x="0" y="3794760"/>
              <a:chExt cx="6705000" cy="21060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4005360"/>
              <a:ext cx="6705000" cy="210600"/>
              <a:chOff x="0" y="4005360"/>
              <a:chExt cx="6705000" cy="21060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onstructor with no range chec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4216320"/>
              <a:ext cx="6705000" cy="210600"/>
              <a:chOff x="0" y="4216320"/>
              <a:chExt cx="6705000" cy="21060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4427280"/>
              <a:ext cx="6705000" cy="210600"/>
              <a:chOff x="0" y="4427280"/>
              <a:chExt cx="6705000" cy="21060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4637880"/>
              <a:ext cx="6705000" cy="210600"/>
              <a:chOff x="0" y="4637880"/>
              <a:chExt cx="6705000" cy="210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nth = 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4848840"/>
              <a:ext cx="6705000" cy="210600"/>
              <a:chOff x="0" y="4848840"/>
              <a:chExt cx="6705000" cy="21060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5059800"/>
              <a:ext cx="6705000" cy="210600"/>
              <a:chOff x="0" y="5059800"/>
              <a:chExt cx="6705000" cy="21060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5270400"/>
              <a:ext cx="6705000" cy="210600"/>
              <a:chOff x="0" y="5270400"/>
              <a:chExt cx="6705000" cy="21060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5481360"/>
              <a:ext cx="6705000" cy="210600"/>
              <a:chOff x="0" y="5481360"/>
              <a:chExt cx="6705000" cy="21060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5691960"/>
              <a:ext cx="6705000" cy="210600"/>
              <a:chOff x="0" y="5691960"/>
              <a:chExt cx="6705000" cy="21060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e in the form mm-dd-yyy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5902920"/>
              <a:ext cx="6705000" cy="210600"/>
              <a:chOff x="0" y="5902920"/>
              <a:chExt cx="6705000" cy="21060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6113880"/>
              <a:ext cx="6705000" cy="210600"/>
              <a:chOff x="0" y="6113880"/>
              <a:chExt cx="6705000" cy="210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-' &lt;&lt; day &lt;&lt; '-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Define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C790-7C59-4DAA-8E2A-7A82CE3574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88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ate1( 7, 4, 1993 ), date2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2 defaults to 1/1/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1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 = date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ment by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default memberwise copy, 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93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93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0" name=""/>
          <p:cNvSpPr/>
          <p:nvPr/>
        </p:nvSpPr>
        <p:spPr>
          <a:xfrm>
            <a:off x="0" y="426708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1142640" y="2437920"/>
            <a:ext cx="4800960" cy="2514960"/>
            <a:chOff x="1142640" y="2437920"/>
            <a:chExt cx="4800960" cy="2514960"/>
          </a:xfrm>
        </p:grpSpPr>
        <p:sp>
          <p:nvSpPr>
            <p:cNvPr id="1942" name=""/>
            <p:cNvSpPr/>
            <p:nvPr/>
          </p:nvSpPr>
          <p:spPr>
            <a:xfrm flipH="1" flipV="1">
              <a:off x="1905120" y="24379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809880" y="365760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142640" y="3581280"/>
              <a:ext cx="3048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29000" y="2743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equa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ll member variables are cop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Memberwise cop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Print valu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D156-D7C0-4A04-9ACE-21AF3FDF218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7    Software Reusabilit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s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useful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 exist to promot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construction of programs from existing, well-defined, carefully tested, well-documented, portable, widely availabl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development of powerful, high-quality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0910-A626-4632-8068-C11896BA1D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Accessing Members of Structure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s an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timeObject.hour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&amp;timeObjec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timePtr-&gt;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*timePtr ).h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required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lower precedence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5D48-4DDF-440C-86D9-E34641BA5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 Create a struct data type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prototypes for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and print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3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: fig06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structure, set its members, and print i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uctur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dinnerTi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riable of new type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members to 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1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3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second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nner will be held at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military time,\nwhich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Standard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standard time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438280" y="2057400"/>
            <a:ext cx="4267080" cy="1067400"/>
            <a:chOff x="2438280" y="2057400"/>
            <a:chExt cx="4267080" cy="1067400"/>
          </a:xfrm>
        </p:grpSpPr>
        <p:sp>
          <p:nvSpPr>
            <p:cNvPr id="207" name=""/>
            <p:cNvSpPr/>
            <p:nvPr/>
          </p:nvSpPr>
          <p:spPr>
            <a:xfrm>
              <a:off x="3657240" y="205740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user-defined structure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ree integer members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438280" y="220932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343400" y="5765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18D3-32BA-4A9B-B3C5-9E7BC5EA27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the time to an invalid hour, then print 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Define the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6705000" cy="263520"/>
              <a:chOff x="0" y="0"/>
              <a:chExt cx="6705000" cy="2635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embers to in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263520"/>
              <a:ext cx="6705000" cy="263520"/>
              <a:chOff x="0" y="263520"/>
              <a:chExt cx="6705000" cy="2635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2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527400"/>
              <a:ext cx="6705000" cy="263880"/>
              <a:chOff x="0" y="527400"/>
              <a:chExt cx="6705000" cy="26388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7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791280"/>
              <a:ext cx="6705000" cy="263520"/>
              <a:chOff x="0" y="791280"/>
              <a:chExt cx="6705000" cy="2635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1054800"/>
              <a:ext cx="6705000" cy="263520"/>
              <a:chOff x="0" y="1054800"/>
              <a:chExt cx="6705000" cy="2635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ime with invalid value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1318680"/>
              <a:ext cx="6705000" cy="263520"/>
              <a:chOff x="0" y="1318680"/>
              <a:chExt cx="6705000" cy="2635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1582560"/>
              <a:ext cx="6705000" cy="263880"/>
              <a:chOff x="0" y="1582560"/>
              <a:chExt cx="6705000" cy="26388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1846440"/>
              <a:ext cx="6705000" cy="263520"/>
              <a:chOff x="0" y="1846440"/>
              <a:chExt cx="6705000" cy="2635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2109960"/>
              <a:ext cx="6705000" cy="263520"/>
              <a:chOff x="0" y="2109960"/>
              <a:chExt cx="6705000" cy="26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2373840"/>
              <a:ext cx="6705000" cy="263520"/>
              <a:chOff x="0" y="2373840"/>
              <a:chExt cx="6705000" cy="2635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637720"/>
              <a:ext cx="6705000" cy="263880"/>
              <a:chOff x="0" y="2637720"/>
              <a:chExt cx="6705000" cy="2638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901600"/>
              <a:ext cx="6705000" cy="263520"/>
              <a:chOff x="0" y="2901600"/>
              <a:chExt cx="6705000" cy="26352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3165120"/>
              <a:ext cx="6705000" cy="263520"/>
              <a:chOff x="0" y="3165120"/>
              <a:chExt cx="6705000" cy="26352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429000"/>
              <a:ext cx="6705000" cy="263520"/>
              <a:chOff x="0" y="3429000"/>
              <a:chExt cx="6705000" cy="26352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t.hour &lt; 10 ? "0" : "" ) &lt;&lt; t.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3692520"/>
              <a:ext cx="6705000" cy="263880"/>
              <a:chOff x="0" y="3692520"/>
              <a:chExt cx="6705000" cy="2638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minute &lt; 10 ? "0" : "" )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3956400"/>
              <a:ext cx="6705000" cy="263520"/>
              <a:chOff x="0" y="3956400"/>
              <a:chExt cx="6705000" cy="26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4220280"/>
              <a:ext cx="6705000" cy="263520"/>
              <a:chOff x="0" y="4220280"/>
              <a:chExt cx="6705000" cy="26352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4484160"/>
              <a:ext cx="6705000" cy="263520"/>
              <a:chOff x="0" y="4484160"/>
              <a:chExt cx="6705000" cy="26352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4747680"/>
              <a:ext cx="6705000" cy="263520"/>
              <a:chOff x="0" y="4747680"/>
              <a:chExt cx="6705000" cy="26352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5011560"/>
              <a:ext cx="6705000" cy="263880"/>
              <a:chOff x="0" y="5011560"/>
              <a:chExt cx="6705000" cy="2638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5275440"/>
              <a:ext cx="6705000" cy="263520"/>
              <a:chOff x="0" y="5275440"/>
              <a:chExt cx="6705000" cy="26352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t.hour == 0 || t.hour == 12 ) ?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5539320"/>
              <a:ext cx="6705000" cy="263520"/>
              <a:chOff x="0" y="5539320"/>
              <a:chExt cx="6705000" cy="26352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12 : t.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5802840"/>
              <a:ext cx="6705000" cy="263520"/>
              <a:chOff x="0" y="5802840"/>
              <a:chExt cx="6705000" cy="26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minute &lt; 10 ? "0" : "" ) &lt;&lt; t.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066720"/>
              <a:ext cx="6705000" cy="263880"/>
              <a:chOff x="0" y="6066720"/>
              <a:chExt cx="6705000" cy="2638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second &lt; 10 ? "0" : "" ) &lt;&lt; t.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6330600"/>
              <a:ext cx="6705000" cy="263520"/>
              <a:chOff x="0" y="6330600"/>
              <a:chExt cx="6705000" cy="26352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6594120"/>
              <a:ext cx="6705000" cy="263520"/>
              <a:chOff x="0" y="6594120"/>
              <a:chExt cx="6705000" cy="2635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3368880" y="144792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C0E4-BDAC-401B-9CF6-4AF2249F17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6629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E24D-F440-4C45-97BB-23DA1FAA0D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143000" y="3981600"/>
            <a:ext cx="4876920" cy="2286000"/>
            <a:chOff x="1143000" y="3981600"/>
            <a:chExt cx="4876920" cy="2286000"/>
          </a:xfrm>
        </p:grpSpPr>
        <p:grpSp>
          <p:nvGrpSpPr>
            <p:cNvPr id="294" name=""/>
            <p:cNvGrpSpPr/>
            <p:nvPr/>
          </p:nvGrpSpPr>
          <p:grpSpPr>
            <a:xfrm>
              <a:off x="1143000" y="3981600"/>
              <a:ext cx="4876920" cy="207720"/>
              <a:chOff x="1143000" y="3981600"/>
              <a:chExt cx="4876920" cy="207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143000" y="4189320"/>
              <a:ext cx="4876920" cy="207720"/>
              <a:chOff x="1143000" y="4189320"/>
              <a:chExt cx="4876920" cy="207720"/>
            </a:xfrm>
          </p:grpSpPr>
          <p:sp>
            <p:nvSpPr>
              <p:cNvPr id="298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4397040"/>
              <a:ext cx="4876920" cy="207720"/>
              <a:chOff x="1143000" y="4397040"/>
              <a:chExt cx="4876920" cy="20772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143000" y="4605120"/>
              <a:ext cx="4876920" cy="207720"/>
              <a:chOff x="1143000" y="4605120"/>
              <a:chExt cx="4876920" cy="207720"/>
            </a:xfrm>
          </p:grpSpPr>
          <p:sp>
            <p:nvSpPr>
              <p:cNvPr id="304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setTime( int, int, 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143000" y="4812840"/>
              <a:ext cx="4876920" cy="207720"/>
              <a:chOff x="1143000" y="4812840"/>
              <a:chExt cx="4876920" cy="207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143000" y="5020560"/>
              <a:ext cx="4876920" cy="207720"/>
              <a:chOff x="1143000" y="5020560"/>
              <a:chExt cx="4876920" cy="207720"/>
            </a:xfrm>
          </p:grpSpPr>
          <p:sp>
            <p:nvSpPr>
              <p:cNvPr id="310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143000" y="5228280"/>
              <a:ext cx="4876920" cy="207720"/>
              <a:chOff x="1143000" y="5228280"/>
              <a:chExt cx="4876920" cy="207720"/>
            </a:xfrm>
          </p:grpSpPr>
          <p:sp>
            <p:nvSpPr>
              <p:cNvPr id="313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143000" y="5436360"/>
              <a:ext cx="4876920" cy="207720"/>
              <a:chOff x="1143000" y="5436360"/>
              <a:chExt cx="4876920" cy="207720"/>
            </a:xfrm>
          </p:grpSpPr>
          <p:sp>
            <p:nvSpPr>
              <p:cNvPr id="316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143000" y="5644080"/>
              <a:ext cx="4876920" cy="207720"/>
              <a:chOff x="1143000" y="5644080"/>
              <a:chExt cx="4876920" cy="207720"/>
            </a:xfrm>
          </p:grpSpPr>
          <p:sp>
            <p:nvSpPr>
              <p:cNvPr id="319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143000" y="5851800"/>
              <a:ext cx="4876920" cy="207720"/>
              <a:chOff x="1143000" y="5851800"/>
              <a:chExt cx="4876920" cy="207720"/>
            </a:xfrm>
          </p:grpSpPr>
          <p:sp>
            <p:nvSpPr>
              <p:cNvPr id="322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143000" y="6059880"/>
              <a:ext cx="4876920" cy="207720"/>
              <a:chOff x="1143000" y="6059880"/>
              <a:chExt cx="4876920" cy="207720"/>
            </a:xfrm>
          </p:grpSpPr>
          <p:sp>
            <p:nvSpPr>
              <p:cNvPr id="325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s that have attributes (data members) and behaviors (member func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body delineated with brac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definitions terminate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4057560"/>
            <a:ext cx="763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09680" y="436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495320" y="4819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4038120" y="581040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05756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74336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588636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emb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6EAF-06C1-4289-B1A1-DB92365238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5:47:53Z</dcterms:created>
  <dc:creator>Llama</dc:creator>
  <dc:description/>
  <dc:language>en-US</dc:language>
  <cp:lastModifiedBy>Antonella Esposito</cp:lastModifiedBy>
  <dcterms:modified xsi:type="dcterms:W3CDTF">2001-01-12T10:42:44Z</dcterms:modified>
  <cp:revision>1004</cp:revision>
  <dc:subject/>
  <dc:title>Classes and Data Abstraction </dc:title>
</cp:coreProperties>
</file>