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9AA1-CE20-4928-A0C5-78A6174BF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C494-9F5F-4795-9DF7-37ECB4179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46E8-AD39-491D-9C26-B61B9CCC3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996D-5DBD-44DE-9CB8-011805E21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80D5-A972-41A6-821A-AC0AB365E3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8C3B-B4D9-4FBC-A3E7-F9D1D0C9CD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F0E12-A159-4365-8B2D-6CA8E0ABE3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E10B-83A5-4D2D-BCFB-033F3C26DE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247D-90DD-441C-B66A-93538F08FF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3B1C-98ED-4E80-BB5D-543187D98A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59FEE-CB77-47C8-9AF9-7AED57B573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B81C-C4F5-4179-BB11-FF713DB18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AAF6-7ECB-4A83-A845-EDDCC98335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70105-D6E7-430F-9328-4E26F73889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4478-111E-40F9-B243-B63C2ECB78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4AB1-20CF-48BC-9EDD-7E97A15F64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D40C-C0A0-473D-8A60-B31DA8576D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69CE-49F5-4006-B9F7-5823F364F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6516-5A34-43CE-A7DD-16B84F828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6B95-5D24-4BBD-B09D-856F4B992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A9FB-6989-461D-85D4-D6523BB42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8B73-5B1E-4D64-8FD1-C81D76218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58C1-66FF-49BF-97F8-E5C44623F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3FF2-92BA-4866-BA11-F374CA5B3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937C-5F28-4439-B1E0-2A2E28FCA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7D6D-5DEC-4E00-B30C-9B9549BA3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129528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(Constant) Object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Member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osition: Objects as Members of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riend Functions and friend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hi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Point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 Memory Allocation with Operators new and 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at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 Memb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ata Abstraction and Information Hi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rray Abstract Data Typ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String Abstract Data Typ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Queue Abstract Data Typ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tainer Classes and It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xy Clas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olo 7: Classes Part II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58F3-C818-4B59-A057-59B7016F94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68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2: fig07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a member initializer to initializ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ant of a built-in data typ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496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499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Incr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502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ddIncrement() { count += increme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505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508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Incr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ncrement::Incr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increment( i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er for const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count = c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 = " &lt;&lt;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, increment = " &lt;&lt; incremen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209680" y="4419720"/>
            <a:ext cx="6019920" cy="1586880"/>
            <a:chOff x="2209680" y="4419720"/>
            <a:chExt cx="6019920" cy="1586880"/>
          </a:xfrm>
        </p:grpSpPr>
        <p:sp>
          <p:nvSpPr>
            <p:cNvPr id="568" name=""/>
            <p:cNvSpPr/>
            <p:nvPr/>
          </p:nvSpPr>
          <p:spPr>
            <a:xfrm flipH="1" flipV="1">
              <a:off x="2209680" y="4419720"/>
              <a:ext cx="3200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81480" y="4695840"/>
              <a:ext cx="30481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we try to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 an assignment statement (such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 = 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) instead of a member initializer we get a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B7FF7-3DC9-427F-B266-C24C24C0C6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0" y="0"/>
            <a:ext cx="6780960" cy="3276720"/>
            <a:chOff x="0" y="0"/>
            <a:chExt cx="6780960" cy="3276720"/>
          </a:xfrm>
        </p:grpSpPr>
        <p:grpSp>
          <p:nvGrpSpPr>
            <p:cNvPr id="572" name=""/>
            <p:cNvGrpSpPr/>
            <p:nvPr/>
          </p:nvGrpSpPr>
          <p:grpSpPr>
            <a:xfrm>
              <a:off x="0" y="0"/>
              <a:ext cx="6780960" cy="252000"/>
              <a:chOff x="0" y="0"/>
              <a:chExt cx="6780960" cy="25200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Increment value( 10,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252000"/>
              <a:ext cx="6780960" cy="252000"/>
              <a:chOff x="0" y="252000"/>
              <a:chExt cx="6780960" cy="25200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252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252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504000"/>
              <a:ext cx="6780960" cy="252000"/>
              <a:chOff x="0" y="504000"/>
              <a:chExt cx="6780960" cy="25200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504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504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efore incrementing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756000"/>
              <a:ext cx="6780960" cy="252000"/>
              <a:chOff x="0" y="756000"/>
              <a:chExt cx="6780960" cy="25200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756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756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alu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1008000"/>
              <a:ext cx="6780960" cy="252000"/>
              <a:chOff x="0" y="1008000"/>
              <a:chExt cx="6780960" cy="25200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1008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1008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1260000"/>
              <a:ext cx="6780960" cy="252000"/>
              <a:chOff x="0" y="1260000"/>
              <a:chExt cx="6780960" cy="25200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1260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1260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3; j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1512360"/>
              <a:ext cx="6780960" cy="252000"/>
              <a:chOff x="0" y="1512360"/>
              <a:chExt cx="6780960" cy="25200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1512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1512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alue.add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1764360"/>
              <a:ext cx="6780960" cy="252000"/>
              <a:chOff x="0" y="1764360"/>
              <a:chExt cx="6780960" cy="25200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1764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1764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After increment " &lt;&lt; j + 1 &lt;&lt; "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2016360"/>
              <a:ext cx="6780960" cy="252000"/>
              <a:chOff x="0" y="2016360"/>
              <a:chExt cx="6780960" cy="25200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2016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2016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alu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2268360"/>
              <a:ext cx="6780960" cy="252000"/>
              <a:chOff x="0" y="2268360"/>
              <a:chExt cx="6780960" cy="25200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2268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268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2520360"/>
              <a:ext cx="6780960" cy="252000"/>
              <a:chOff x="0" y="2520360"/>
              <a:chExt cx="6780960" cy="25200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2520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2520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2772720"/>
              <a:ext cx="6780960" cy="252000"/>
              <a:chOff x="0" y="2772720"/>
              <a:chExt cx="6780960" cy="25200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2772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2772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3024720"/>
              <a:ext cx="6780960" cy="252000"/>
              <a:chOff x="0" y="3024720"/>
              <a:chExt cx="6780960" cy="25200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3024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3024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1" name=""/>
          <p:cNvSpPr/>
          <p:nvPr/>
        </p:nvSpPr>
        <p:spPr>
          <a:xfrm>
            <a:off x="0" y="358128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incrementing: count = 1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1: count = 1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2: count = 2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3: count = 2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EA65-61F0-4BF8-AE3D-ACF949ED1E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osition: Objects as Members of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has objects of other classes a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bjects constructed in order decl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 order of constructor’s member initializer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ed before their enclosing class objects (host object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13D9-8C25-43BB-90F6-BB52526B3B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616" name=""/>
            <p:cNvGrpSpPr/>
            <p:nvPr/>
          </p:nvGrpSpPr>
          <p:grpSpPr>
            <a:xfrm>
              <a:off x="0" y="0"/>
              <a:ext cx="6705000" cy="326520"/>
              <a:chOff x="0" y="0"/>
              <a:chExt cx="6705000" cy="32652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date1.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0" y="326520"/>
              <a:ext cx="6705000" cy="326520"/>
              <a:chOff x="0" y="326520"/>
              <a:chExt cx="6705000" cy="326520"/>
            </a:xfrm>
          </p:grpSpPr>
          <p:sp>
            <p:nvSpPr>
              <p:cNvPr id="620" name=""/>
              <p:cNvSpPr/>
              <p:nvPr/>
            </p:nvSpPr>
            <p:spPr>
              <a:xfrm>
                <a:off x="0" y="326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326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Dat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0" y="653040"/>
              <a:ext cx="6705000" cy="326520"/>
              <a:chOff x="0" y="653040"/>
              <a:chExt cx="6705000" cy="326520"/>
            </a:xfrm>
          </p:grpSpPr>
          <p:sp>
            <p:nvSpPr>
              <p:cNvPr id="623" name=""/>
              <p:cNvSpPr/>
              <p:nvPr/>
            </p:nvSpPr>
            <p:spPr>
              <a:xfrm>
                <a:off x="0" y="653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653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0" y="979560"/>
              <a:ext cx="6705000" cy="326520"/>
              <a:chOff x="0" y="979560"/>
              <a:chExt cx="6705000" cy="326520"/>
            </a:xfrm>
          </p:grpSpPr>
          <p:sp>
            <p:nvSpPr>
              <p:cNvPr id="626" name=""/>
              <p:cNvSpPr/>
              <p:nvPr/>
            </p:nvSpPr>
            <p:spPr>
              <a:xfrm>
                <a:off x="0" y="979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979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0" y="1306080"/>
              <a:ext cx="6705000" cy="326520"/>
              <a:chOff x="0" y="1306080"/>
              <a:chExt cx="6705000" cy="32652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1306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1306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1632600"/>
              <a:ext cx="6705000" cy="326520"/>
              <a:chOff x="0" y="1632600"/>
              <a:chExt cx="6705000" cy="32652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1632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1632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0" y="1959120"/>
              <a:ext cx="6705000" cy="326520"/>
              <a:chOff x="0" y="1959120"/>
              <a:chExt cx="6705000" cy="326520"/>
            </a:xfrm>
          </p:grpSpPr>
          <p:sp>
            <p:nvSpPr>
              <p:cNvPr id="635" name=""/>
              <p:cNvSpPr/>
              <p:nvPr/>
            </p:nvSpPr>
            <p:spPr>
              <a:xfrm>
                <a:off x="0" y="19591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19591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0" y="2286000"/>
              <a:ext cx="6705000" cy="326520"/>
              <a:chOff x="0" y="2286000"/>
              <a:chExt cx="6705000" cy="326520"/>
            </a:xfrm>
          </p:grpSpPr>
          <p:sp>
            <p:nvSpPr>
              <p:cNvPr id="638" name=""/>
              <p:cNvSpPr/>
              <p:nvPr/>
            </p:nvSpPr>
            <p:spPr>
              <a:xfrm>
                <a:off x="0" y="2286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2286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0" y="2612520"/>
              <a:ext cx="6705000" cy="326520"/>
              <a:chOff x="0" y="2612520"/>
              <a:chExt cx="6705000" cy="326520"/>
            </a:xfrm>
          </p:grpSpPr>
          <p:sp>
            <p:nvSpPr>
              <p:cNvPr id="641" name=""/>
              <p:cNvSpPr/>
              <p:nvPr/>
            </p:nvSpPr>
            <p:spPr>
              <a:xfrm>
                <a:off x="0" y="2612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2612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0" y="2939040"/>
              <a:ext cx="6705000" cy="326520"/>
              <a:chOff x="0" y="2939040"/>
              <a:chExt cx="6705000" cy="326520"/>
            </a:xfrm>
          </p:grpSpPr>
          <p:sp>
            <p:nvSpPr>
              <p:cNvPr id="644" name=""/>
              <p:cNvSpPr/>
              <p:nvPr/>
            </p:nvSpPr>
            <p:spPr>
              <a:xfrm>
                <a:off x="0" y="2939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2939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int date in month/day/year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0" y="3265560"/>
              <a:ext cx="6705000" cy="326520"/>
              <a:chOff x="0" y="3265560"/>
              <a:chExt cx="6705000" cy="326520"/>
            </a:xfrm>
          </p:grpSpPr>
          <p:sp>
            <p:nvSpPr>
              <p:cNvPr id="647" name=""/>
              <p:cNvSpPr/>
              <p:nvPr/>
            </p:nvSpPr>
            <p:spPr>
              <a:xfrm>
                <a:off x="0" y="3265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3265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Date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0" y="3592440"/>
              <a:ext cx="6705000" cy="326520"/>
              <a:chOff x="0" y="3592440"/>
              <a:chExt cx="6705000" cy="326520"/>
            </a:xfrm>
          </p:grpSpPr>
          <p:sp>
            <p:nvSpPr>
              <p:cNvPr id="650" name=""/>
              <p:cNvSpPr/>
              <p:nvPr/>
            </p:nvSpPr>
            <p:spPr>
              <a:xfrm>
                <a:off x="0" y="35924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35924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0" y="3918960"/>
              <a:ext cx="6705000" cy="326520"/>
              <a:chOff x="0" y="3918960"/>
              <a:chExt cx="6705000" cy="326520"/>
            </a:xfrm>
          </p:grpSpPr>
          <p:sp>
            <p:nvSpPr>
              <p:cNvPr id="653" name=""/>
              <p:cNvSpPr/>
              <p:nvPr/>
            </p:nvSpPr>
            <p:spPr>
              <a:xfrm>
                <a:off x="0" y="39189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39189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nth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1-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0" y="4245480"/>
              <a:ext cx="6705000" cy="326520"/>
              <a:chOff x="0" y="4245480"/>
              <a:chExt cx="6705000" cy="326520"/>
            </a:xfrm>
          </p:grpSpPr>
          <p:sp>
            <p:nvSpPr>
              <p:cNvPr id="656" name=""/>
              <p:cNvSpPr/>
              <p:nvPr/>
            </p:nvSpPr>
            <p:spPr>
              <a:xfrm>
                <a:off x="0" y="4245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4245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y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1-31 based on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0" y="4572000"/>
              <a:ext cx="6705000" cy="326520"/>
              <a:chOff x="0" y="4572000"/>
              <a:chExt cx="6705000" cy="326520"/>
            </a:xfrm>
          </p:grpSpPr>
          <p:sp>
            <p:nvSpPr>
              <p:cNvPr id="659" name=""/>
              <p:cNvSpPr/>
              <p:nvPr/>
            </p:nvSpPr>
            <p:spPr>
              <a:xfrm>
                <a:off x="0" y="4572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4572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ea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y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0" y="4898520"/>
              <a:ext cx="6705000" cy="326520"/>
              <a:chOff x="0" y="4898520"/>
              <a:chExt cx="6705000" cy="326520"/>
            </a:xfrm>
          </p:grpSpPr>
          <p:sp>
            <p:nvSpPr>
              <p:cNvPr id="662" name=""/>
              <p:cNvSpPr/>
              <p:nvPr/>
            </p:nvSpPr>
            <p:spPr>
              <a:xfrm>
                <a:off x="0" y="4898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4898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0" y="5225040"/>
              <a:ext cx="6705000" cy="326520"/>
              <a:chOff x="0" y="5225040"/>
              <a:chExt cx="6705000" cy="326520"/>
            </a:xfrm>
          </p:grpSpPr>
          <p:sp>
            <p:nvSpPr>
              <p:cNvPr id="665" name=""/>
              <p:cNvSpPr/>
              <p:nvPr/>
            </p:nvSpPr>
            <p:spPr>
              <a:xfrm>
                <a:off x="0" y="5225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5225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tility function to test proper day for month a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0" y="5551560"/>
              <a:ext cx="6705000" cy="326520"/>
              <a:chOff x="0" y="5551560"/>
              <a:chExt cx="6705000" cy="326520"/>
            </a:xfrm>
          </p:grpSpPr>
          <p:sp>
            <p:nvSpPr>
              <p:cNvPr id="668" name=""/>
              <p:cNvSpPr/>
              <p:nvPr/>
            </p:nvSpPr>
            <p:spPr>
              <a:xfrm>
                <a:off x="0" y="5551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0" y="5551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heckD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0" y="5878080"/>
              <a:ext cx="6705000" cy="326520"/>
              <a:chOff x="0" y="5878080"/>
              <a:chExt cx="6705000" cy="326520"/>
            </a:xfrm>
          </p:grpSpPr>
          <p:sp>
            <p:nvSpPr>
              <p:cNvPr id="671" name=""/>
              <p:cNvSpPr/>
              <p:nvPr/>
            </p:nvSpPr>
            <p:spPr>
              <a:xfrm>
                <a:off x="0" y="5878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5878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0" y="6204600"/>
              <a:ext cx="6705000" cy="326520"/>
              <a:chOff x="0" y="6204600"/>
              <a:chExt cx="6705000" cy="326520"/>
            </a:xfrm>
          </p:grpSpPr>
          <p:sp>
            <p:nvSpPr>
              <p:cNvPr id="674" name=""/>
              <p:cNvSpPr/>
              <p:nvPr/>
            </p:nvSpPr>
            <p:spPr>
              <a:xfrm>
                <a:off x="0" y="6204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6204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0" y="6531480"/>
              <a:ext cx="6705000" cy="326520"/>
              <a:chOff x="0" y="6531480"/>
              <a:chExt cx="6705000" cy="326520"/>
            </a:xfrm>
          </p:grpSpPr>
          <p:sp>
            <p:nvSpPr>
              <p:cNvPr id="677" name=""/>
              <p:cNvSpPr/>
              <p:nvPr/>
            </p:nvSpPr>
            <p:spPr>
              <a:xfrm>
                <a:off x="0" y="6531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0" y="6531480"/>
                <a:ext cx="6704640" cy="326520"/>
                <a:chOff x="0" y="6531480"/>
                <a:chExt cx="6704640" cy="32652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0" y="6531480"/>
                  <a:ext cx="6704640" cy="326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0" y="6531480"/>
                  <a:ext cx="670464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7F0D-8B27-443B-9D0C-CBEE34A007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0" y="3240"/>
            <a:ext cx="6705000" cy="6854760"/>
            <a:chOff x="0" y="3240"/>
            <a:chExt cx="6705000" cy="6854760"/>
          </a:xfrm>
        </p:grpSpPr>
        <p:grpSp>
          <p:nvGrpSpPr>
            <p:cNvPr id="683" name=""/>
            <p:cNvGrpSpPr/>
            <p:nvPr/>
          </p:nvGrpSpPr>
          <p:grpSpPr>
            <a:xfrm>
              <a:off x="0" y="3240"/>
              <a:ext cx="6705000" cy="236160"/>
              <a:chOff x="0" y="3240"/>
              <a:chExt cx="6705000" cy="23616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3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3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0" y="239400"/>
              <a:ext cx="6705000" cy="236160"/>
              <a:chOff x="0" y="239400"/>
              <a:chExt cx="6705000" cy="236160"/>
            </a:xfrm>
          </p:grpSpPr>
          <p:sp>
            <p:nvSpPr>
              <p:cNvPr id="687" name=""/>
              <p:cNvSpPr/>
              <p:nvPr/>
            </p:nvSpPr>
            <p:spPr>
              <a:xfrm>
                <a:off x="0" y="2394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2394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Dat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0" y="475920"/>
              <a:ext cx="6705000" cy="236160"/>
              <a:chOff x="0" y="475920"/>
              <a:chExt cx="6705000" cy="236160"/>
            </a:xfrm>
          </p:grpSpPr>
          <p:sp>
            <p:nvSpPr>
              <p:cNvPr id="690" name=""/>
              <p:cNvSpPr/>
              <p:nvPr/>
            </p:nvSpPr>
            <p:spPr>
              <a:xfrm>
                <a:off x="0" y="475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0" y="475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0" y="712080"/>
              <a:ext cx="6705000" cy="236160"/>
              <a:chOff x="0" y="712080"/>
              <a:chExt cx="6705000" cy="236160"/>
            </a:xfrm>
          </p:grpSpPr>
          <p:sp>
            <p:nvSpPr>
              <p:cNvPr id="693" name=""/>
              <p:cNvSpPr/>
              <p:nvPr/>
            </p:nvSpPr>
            <p:spPr>
              <a:xfrm>
                <a:off x="0" y="7120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7120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0" y="948600"/>
              <a:ext cx="6705000" cy="236160"/>
              <a:chOff x="0" y="948600"/>
              <a:chExt cx="6705000" cy="236160"/>
            </a:xfrm>
          </p:grpSpPr>
          <p:sp>
            <p:nvSpPr>
              <p:cNvPr id="696" name=""/>
              <p:cNvSpPr/>
              <p:nvPr/>
            </p:nvSpPr>
            <p:spPr>
              <a:xfrm>
                <a:off x="0" y="948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948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0" y="1184760"/>
              <a:ext cx="6705000" cy="236160"/>
              <a:chOff x="0" y="1184760"/>
              <a:chExt cx="6705000" cy="236160"/>
            </a:xfrm>
          </p:grpSpPr>
          <p:sp>
            <p:nvSpPr>
              <p:cNvPr id="699" name=""/>
              <p:cNvSpPr/>
              <p:nvPr/>
            </p:nvSpPr>
            <p:spPr>
              <a:xfrm>
                <a:off x="0" y="1184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0" y="1184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0" y="1421280"/>
              <a:ext cx="6705000" cy="236160"/>
              <a:chOff x="0" y="1421280"/>
              <a:chExt cx="6705000" cy="236160"/>
            </a:xfrm>
          </p:grpSpPr>
          <p:sp>
            <p:nvSpPr>
              <p:cNvPr id="702" name=""/>
              <p:cNvSpPr/>
              <p:nvPr/>
            </p:nvSpPr>
            <p:spPr>
              <a:xfrm>
                <a:off x="0" y="14212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14212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0" y="1657800"/>
              <a:ext cx="6705000" cy="236160"/>
              <a:chOff x="0" y="1657800"/>
              <a:chExt cx="6705000" cy="236160"/>
            </a:xfrm>
          </p:grpSpPr>
          <p:sp>
            <p:nvSpPr>
              <p:cNvPr id="705" name=""/>
              <p:cNvSpPr/>
              <p:nvPr/>
            </p:nvSpPr>
            <p:spPr>
              <a:xfrm>
                <a:off x="0" y="1657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1657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0" y="1893960"/>
              <a:ext cx="6705000" cy="236160"/>
              <a:chOff x="0" y="1893960"/>
              <a:chExt cx="6705000" cy="236160"/>
            </a:xfrm>
          </p:grpSpPr>
          <p:sp>
            <p:nvSpPr>
              <p:cNvPr id="708" name=""/>
              <p:cNvSpPr/>
              <p:nvPr/>
            </p:nvSpPr>
            <p:spPr>
              <a:xfrm>
                <a:off x="0" y="18939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18939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0" y="2130480"/>
              <a:ext cx="6705000" cy="236160"/>
              <a:chOff x="0" y="2130480"/>
              <a:chExt cx="6705000" cy="23616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21304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21304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: Confirm proper value for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2366640"/>
              <a:ext cx="6705000" cy="236160"/>
              <a:chOff x="0" y="2366640"/>
              <a:chExt cx="6705000" cy="23616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2366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2366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utility function checkDay to confirm pro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2603160"/>
              <a:ext cx="6705000" cy="236160"/>
              <a:chOff x="0" y="2603160"/>
              <a:chExt cx="6705000" cy="23616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26031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26031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alue for d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2839680"/>
              <a:ext cx="6705000" cy="236160"/>
              <a:chOff x="0" y="2839680"/>
              <a:chExt cx="6705000" cy="23616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28396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28396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3075840"/>
              <a:ext cx="6705000" cy="236160"/>
              <a:chOff x="0" y="3075840"/>
              <a:chExt cx="6705000" cy="23616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3075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3075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3312360"/>
              <a:ext cx="6705000" cy="236160"/>
              <a:chOff x="0" y="3312360"/>
              <a:chExt cx="6705000" cy="23616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33123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33123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mn &gt; 0 &amp;&amp; mn &lt;= 12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validate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3548880"/>
              <a:ext cx="6705000" cy="236160"/>
              <a:chOff x="0" y="3548880"/>
              <a:chExt cx="6705000" cy="23616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35488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35488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onth = m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3785040"/>
              <a:ext cx="6705000" cy="236160"/>
              <a:chOff x="0" y="3785040"/>
              <a:chExt cx="6705000" cy="23616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37850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37850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4021560"/>
              <a:ext cx="6705000" cy="236160"/>
              <a:chOff x="0" y="4021560"/>
              <a:chExt cx="6705000" cy="23616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40215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40215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4257720"/>
              <a:ext cx="6705000" cy="236160"/>
              <a:chOff x="0" y="4257720"/>
              <a:chExt cx="6705000" cy="23616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42577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42577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Month " &lt;&lt; mn &lt;&lt; " invalid. Set to month 1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4494240"/>
              <a:ext cx="6705000" cy="236160"/>
              <a:chOff x="0" y="4494240"/>
              <a:chExt cx="6705000" cy="23616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4494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4494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4730760"/>
              <a:ext cx="6705000" cy="236160"/>
              <a:chOff x="0" y="4730760"/>
              <a:chExt cx="6705000" cy="23616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4730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4730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4966920"/>
              <a:ext cx="6705000" cy="236160"/>
              <a:chOff x="0" y="4966920"/>
              <a:chExt cx="6705000" cy="23616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4966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4966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ear = yr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hould validate y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5203440"/>
              <a:ext cx="6705000" cy="236160"/>
              <a:chOff x="0" y="5203440"/>
              <a:chExt cx="6705000" cy="23616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52034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52034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y = checkDay( dy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alidate the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5439600"/>
              <a:ext cx="6705000" cy="236160"/>
              <a:chOff x="0" y="5439600"/>
              <a:chExt cx="6705000" cy="23616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5439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5439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5676120"/>
              <a:ext cx="6705000" cy="236160"/>
              <a:chOff x="0" y="5676120"/>
              <a:chExt cx="6705000" cy="23616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56761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56761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e object constructor for dat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5912640"/>
              <a:ext cx="6705000" cy="236160"/>
              <a:chOff x="0" y="5912640"/>
              <a:chExt cx="6705000" cy="23616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5912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5912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teresting: a print with no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6148800"/>
              <a:ext cx="6705000" cy="236160"/>
              <a:chOff x="0" y="6148800"/>
              <a:chExt cx="6705000" cy="23616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6148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6148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6385320"/>
              <a:ext cx="6705000" cy="236160"/>
              <a:chOff x="0" y="6385320"/>
              <a:chExt cx="6705000" cy="23616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63853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63853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6621840"/>
              <a:ext cx="6705000" cy="236160"/>
              <a:chOff x="0" y="6621840"/>
              <a:chExt cx="6705000" cy="23616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6621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6621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0" name=""/>
          <p:cNvGrpSpPr/>
          <p:nvPr/>
        </p:nvGrpSpPr>
        <p:grpSpPr>
          <a:xfrm>
            <a:off x="3657600" y="4876920"/>
            <a:ext cx="4037760" cy="838080"/>
            <a:chOff x="3657600" y="4876920"/>
            <a:chExt cx="4037760" cy="838080"/>
          </a:xfrm>
        </p:grpSpPr>
        <p:sp>
          <p:nvSpPr>
            <p:cNvPr id="771" name=""/>
            <p:cNvSpPr/>
            <p:nvPr/>
          </p:nvSpPr>
          <p:spPr>
            <a:xfrm flipH="1">
              <a:off x="3657600" y="5257800"/>
              <a:ext cx="2147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33640" y="4876920"/>
              <a:ext cx="2061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B368-4D27-4B84-95DE-AA39462B1F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D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775" name="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776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Date object in form  month/day/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779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782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month &lt;&lt; '/' &lt;&lt; day &lt;&lt; '/' &lt;&lt; yea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785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788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: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791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ate::~Dat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794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797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e object destructor for dat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800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803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806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812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tility function to confirm proper day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815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ased on month and yea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818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s the year 2000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821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::checkD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Da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824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827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ysPerMonth[ 13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0, 31, 28, 31, 30, 31, 30, 31, 31, 30, 31, 30, 31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testDay &gt; 0 &amp;&amp; testDay &lt;= daysPerMonth[ month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month == 2 &amp;&amp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ebruary: Check for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estDay == 29 &amp;&a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( year % 400 == 0 ||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( year % 4 == 0 &amp;&amp; year % 100 != 0 ) )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y " &lt;&lt; testDay &lt;&lt; " invalid. Set to day 1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eave object in consistent state if ba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4" name=""/>
          <p:cNvGrpSpPr/>
          <p:nvPr/>
        </p:nvGrpSpPr>
        <p:grpSpPr>
          <a:xfrm>
            <a:off x="2286000" y="609480"/>
            <a:ext cx="3733200" cy="838080"/>
            <a:chOff x="2286000" y="609480"/>
            <a:chExt cx="3733200" cy="838080"/>
          </a:xfrm>
        </p:grpSpPr>
        <p:sp>
          <p:nvSpPr>
            <p:cNvPr id="875" name=""/>
            <p:cNvSpPr/>
            <p:nvPr/>
          </p:nvSpPr>
          <p:spPr>
            <a:xfrm flipH="1">
              <a:off x="2286000" y="990360"/>
              <a:ext cx="1985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13000" y="609480"/>
              <a:ext cx="1906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222A-A850-4E28-A378-780B732242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.1 Includ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variabl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0" y="0"/>
            <a:ext cx="6628680" cy="5105520"/>
            <a:chOff x="0" y="0"/>
            <a:chExt cx="6628680" cy="5105520"/>
          </a:xfrm>
        </p:grpSpPr>
        <p:grpSp>
          <p:nvGrpSpPr>
            <p:cNvPr id="879" name=""/>
            <p:cNvGrpSpPr/>
            <p:nvPr/>
          </p:nvGrpSpPr>
          <p:grpSpPr>
            <a:xfrm>
              <a:off x="0" y="0"/>
              <a:ext cx="6628680" cy="243000"/>
              <a:chOff x="0" y="0"/>
              <a:chExt cx="6628680" cy="243000"/>
            </a:xfrm>
          </p:grpSpPr>
          <p:sp>
            <p:nvSpPr>
              <p:cNvPr id="880" name=""/>
              <p:cNvSpPr/>
              <p:nvPr/>
            </p:nvSpPr>
            <p:spPr>
              <a:xfrm>
                <a:off x="0" y="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emp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0" y="243000"/>
              <a:ext cx="6628680" cy="243000"/>
              <a:chOff x="0" y="243000"/>
              <a:chExt cx="6628680" cy="243000"/>
            </a:xfrm>
          </p:grpSpPr>
          <p:sp>
            <p:nvSpPr>
              <p:cNvPr id="883" name=""/>
              <p:cNvSpPr/>
              <p:nvPr/>
            </p:nvSpPr>
            <p:spPr>
              <a:xfrm>
                <a:off x="0" y="243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243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Employe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0" y="486000"/>
              <a:ext cx="6628680" cy="243000"/>
              <a:chOff x="0" y="486000"/>
              <a:chExt cx="6628680" cy="243000"/>
            </a:xfrm>
          </p:grpSpPr>
          <p:sp>
            <p:nvSpPr>
              <p:cNvPr id="886" name=""/>
              <p:cNvSpPr/>
              <p:nvPr/>
            </p:nvSpPr>
            <p:spPr>
              <a:xfrm>
                <a:off x="0" y="486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486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emp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0" y="729360"/>
              <a:ext cx="6628680" cy="243000"/>
              <a:chOff x="0" y="729360"/>
              <a:chExt cx="6628680" cy="243000"/>
            </a:xfrm>
          </p:grpSpPr>
          <p:sp>
            <p:nvSpPr>
              <p:cNvPr id="889" name=""/>
              <p:cNvSpPr/>
              <p:nvPr/>
            </p:nvSpPr>
            <p:spPr>
              <a:xfrm>
                <a:off x="0" y="729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729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0" y="972360"/>
              <a:ext cx="6628680" cy="243000"/>
              <a:chOff x="0" y="972360"/>
              <a:chExt cx="6628680" cy="243000"/>
            </a:xfrm>
          </p:grpSpPr>
          <p:sp>
            <p:nvSpPr>
              <p:cNvPr id="892" name=""/>
              <p:cNvSpPr/>
              <p:nvPr/>
            </p:nvSpPr>
            <p:spPr>
              <a:xfrm>
                <a:off x="0" y="972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972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0" y="1215360"/>
              <a:ext cx="6628680" cy="243000"/>
              <a:chOff x="0" y="1215360"/>
              <a:chExt cx="6628680" cy="243000"/>
            </a:xfrm>
          </p:grpSpPr>
          <p:sp>
            <p:nvSpPr>
              <p:cNvPr id="895" name=""/>
              <p:cNvSpPr/>
              <p:nvPr/>
            </p:nvSpPr>
            <p:spPr>
              <a:xfrm>
                <a:off x="0" y="1215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1215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0" y="1458360"/>
              <a:ext cx="6628680" cy="243000"/>
              <a:chOff x="0" y="1458360"/>
              <a:chExt cx="6628680" cy="24300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1458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1458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0" y="1701720"/>
              <a:ext cx="6628680" cy="243000"/>
              <a:chOff x="0" y="1701720"/>
              <a:chExt cx="6628680" cy="243000"/>
            </a:xfrm>
          </p:grpSpPr>
          <p:sp>
            <p:nvSpPr>
              <p:cNvPr id="901" name=""/>
              <p:cNvSpPr/>
              <p:nvPr/>
            </p:nvSpPr>
            <p:spPr>
              <a:xfrm>
                <a:off x="0" y="1701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1701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1944720"/>
              <a:ext cx="6628680" cy="243000"/>
              <a:chOff x="0" y="1944720"/>
              <a:chExt cx="6628680" cy="24300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1944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0" y="1944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0" y="2188080"/>
              <a:ext cx="6628680" cy="243000"/>
              <a:chOff x="0" y="2188080"/>
              <a:chExt cx="6628680" cy="243000"/>
            </a:xfrm>
          </p:grpSpPr>
          <p:sp>
            <p:nvSpPr>
              <p:cNvPr id="907" name=""/>
              <p:cNvSpPr/>
              <p:nvPr/>
            </p:nvSpPr>
            <p:spPr>
              <a:xfrm>
                <a:off x="0" y="2188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0" y="2188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0" y="2431080"/>
              <a:ext cx="6628680" cy="243000"/>
              <a:chOff x="0" y="2431080"/>
              <a:chExt cx="6628680" cy="243000"/>
            </a:xfrm>
          </p:grpSpPr>
          <p:sp>
            <p:nvSpPr>
              <p:cNvPr id="910" name=""/>
              <p:cNvSpPr/>
              <p:nvPr/>
            </p:nvSpPr>
            <p:spPr>
              <a:xfrm>
                <a:off x="0" y="2431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0" y="2431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0" y="2674440"/>
              <a:ext cx="6628680" cy="243000"/>
              <a:chOff x="0" y="2674440"/>
              <a:chExt cx="6628680" cy="243000"/>
            </a:xfrm>
          </p:grpSpPr>
          <p:sp>
            <p:nvSpPr>
              <p:cNvPr id="913" name=""/>
              <p:cNvSpPr/>
              <p:nvPr/>
            </p:nvSpPr>
            <p:spPr>
              <a:xfrm>
                <a:off x="0" y="2674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2674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0" y="2917440"/>
              <a:ext cx="6628680" cy="243000"/>
              <a:chOff x="0" y="2917440"/>
              <a:chExt cx="6628680" cy="243000"/>
            </a:xfrm>
          </p:grpSpPr>
          <p:sp>
            <p:nvSpPr>
              <p:cNvPr id="916" name=""/>
              <p:cNvSpPr/>
              <p:nvPr/>
            </p:nvSpPr>
            <p:spPr>
              <a:xfrm>
                <a:off x="0" y="2917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2917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0" y="3160440"/>
              <a:ext cx="6628680" cy="243000"/>
              <a:chOff x="0" y="3160440"/>
              <a:chExt cx="6628680" cy="243000"/>
            </a:xfrm>
          </p:grpSpPr>
          <p:sp>
            <p:nvSpPr>
              <p:cNvPr id="919" name=""/>
              <p:cNvSpPr/>
              <p:nvPr/>
            </p:nvSpPr>
            <p:spPr>
              <a:xfrm>
                <a:off x="0" y="3160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0" y="3160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0" y="3403440"/>
              <a:ext cx="6628680" cy="243000"/>
              <a:chOff x="0" y="3403440"/>
              <a:chExt cx="6628680" cy="243000"/>
            </a:xfrm>
          </p:grpSpPr>
          <p:sp>
            <p:nvSpPr>
              <p:cNvPr id="922" name=""/>
              <p:cNvSpPr/>
              <p:nvPr/>
            </p:nvSpPr>
            <p:spPr>
              <a:xfrm>
                <a:off x="0" y="3403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3403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[ 2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0" y="3646800"/>
              <a:ext cx="6628680" cy="243000"/>
              <a:chOff x="0" y="3646800"/>
              <a:chExt cx="6628680" cy="243000"/>
            </a:xfrm>
          </p:grpSpPr>
          <p:sp>
            <p:nvSpPr>
              <p:cNvPr id="925" name=""/>
              <p:cNvSpPr/>
              <p:nvPr/>
            </p:nvSpPr>
            <p:spPr>
              <a:xfrm>
                <a:off x="0" y="3646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3646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[ 2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0" y="3889800"/>
              <a:ext cx="6628680" cy="243000"/>
              <a:chOff x="0" y="3889800"/>
              <a:chExt cx="6628680" cy="243000"/>
            </a:xfrm>
          </p:grpSpPr>
          <p:sp>
            <p:nvSpPr>
              <p:cNvPr id="928" name=""/>
              <p:cNvSpPr/>
              <p:nvPr/>
            </p:nvSpPr>
            <p:spPr>
              <a:xfrm>
                <a:off x="0" y="3889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3889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D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irthDa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0" y="4133160"/>
              <a:ext cx="6628680" cy="243000"/>
              <a:chOff x="0" y="4133160"/>
              <a:chExt cx="6628680" cy="243000"/>
            </a:xfrm>
          </p:grpSpPr>
          <p:sp>
            <p:nvSpPr>
              <p:cNvPr id="931" name=""/>
              <p:cNvSpPr/>
              <p:nvPr/>
            </p:nvSpPr>
            <p:spPr>
              <a:xfrm>
                <a:off x="0" y="4133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4133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D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ireDa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0" y="4376160"/>
              <a:ext cx="6628680" cy="243000"/>
              <a:chOff x="0" y="4376160"/>
              <a:chExt cx="6628680" cy="24300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4376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4376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4619160"/>
              <a:ext cx="6628680" cy="243000"/>
              <a:chOff x="0" y="4619160"/>
              <a:chExt cx="6628680" cy="24300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4619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4619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4862520"/>
              <a:ext cx="6628680" cy="243000"/>
              <a:chOff x="0" y="4862520"/>
              <a:chExt cx="6628680" cy="24300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48625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"/>
              <p:cNvGrpSpPr/>
              <p:nvPr/>
            </p:nvGrpSpPr>
            <p:grpSpPr>
              <a:xfrm>
                <a:off x="0" y="4862520"/>
                <a:ext cx="6628320" cy="243000"/>
                <a:chOff x="0" y="4862520"/>
                <a:chExt cx="6628320" cy="24300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0" y="4862520"/>
                  <a:ext cx="6628320" cy="243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0" y="4862520"/>
                  <a:ext cx="662832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44" name=""/>
          <p:cNvGrpSpPr/>
          <p:nvPr/>
        </p:nvGrpSpPr>
        <p:grpSpPr>
          <a:xfrm>
            <a:off x="2666520" y="4191120"/>
            <a:ext cx="3200760" cy="809280"/>
            <a:chOff x="2666520" y="4191120"/>
            <a:chExt cx="3200760" cy="809280"/>
          </a:xfrm>
        </p:grpSpPr>
        <p:sp>
          <p:nvSpPr>
            <p:cNvPr id="945" name=""/>
            <p:cNvSpPr/>
            <p:nvPr/>
          </p:nvSpPr>
          <p:spPr>
            <a:xfrm>
              <a:off x="3429000" y="44197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osition - including objects of other class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flipV="1">
              <a:off x="2666520" y="41911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B117-8F24-46B0-A3A0-DF283090B9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.1 Use member-initializer syntax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 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memb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949" name=""/>
            <p:cNvGrpSpPr/>
            <p:nvPr/>
          </p:nvGrpSpPr>
          <p:grpSpPr>
            <a:xfrm>
              <a:off x="0" y="0"/>
              <a:ext cx="6628680" cy="214200"/>
              <a:chOff x="0" y="0"/>
              <a:chExt cx="6628680" cy="21420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emp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214200"/>
              <a:ext cx="6628680" cy="214200"/>
              <a:chOff x="0" y="214200"/>
              <a:chExt cx="6628680" cy="21420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214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214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Employe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428400"/>
              <a:ext cx="6628680" cy="214200"/>
              <a:chOff x="0" y="428400"/>
              <a:chExt cx="6628680" cy="21420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428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428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642960"/>
              <a:ext cx="6628680" cy="214200"/>
              <a:chOff x="0" y="642960"/>
              <a:chExt cx="6628680" cy="21420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642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42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857160"/>
              <a:ext cx="6628680" cy="214200"/>
              <a:chOff x="0" y="857160"/>
              <a:chExt cx="6628680" cy="21420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857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857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1071360"/>
              <a:ext cx="6628680" cy="214200"/>
              <a:chOff x="0" y="1071360"/>
              <a:chExt cx="6628680" cy="21420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1071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1071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1285560"/>
              <a:ext cx="6628680" cy="214200"/>
              <a:chOff x="0" y="1285560"/>
              <a:chExt cx="6628680" cy="21420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12855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12855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1500120"/>
              <a:ext cx="6628680" cy="214200"/>
              <a:chOff x="0" y="1500120"/>
              <a:chExt cx="6628680" cy="21420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1500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1500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1714320"/>
              <a:ext cx="6628680" cy="214200"/>
              <a:chOff x="0" y="1714320"/>
              <a:chExt cx="6628680" cy="21420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1714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1714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1928520"/>
              <a:ext cx="6628680" cy="214200"/>
              <a:chOff x="0" y="1928520"/>
              <a:chExt cx="6628680" cy="21420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19285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19285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2143080"/>
              <a:ext cx="6628680" cy="214200"/>
              <a:chOff x="0" y="2143080"/>
              <a:chExt cx="6628680" cy="21420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2143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2143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2357280"/>
              <a:ext cx="6628680" cy="214200"/>
              <a:chOff x="0" y="2357280"/>
              <a:chExt cx="6628680" cy="21420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2357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2357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name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name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2571480"/>
              <a:ext cx="6628680" cy="214200"/>
              <a:chOff x="0" y="2571480"/>
              <a:chExt cx="6628680" cy="21420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25714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25714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mon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d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year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2786040"/>
              <a:ext cx="6628680" cy="214200"/>
              <a:chOff x="0" y="2786040"/>
              <a:chExt cx="6628680" cy="21420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2786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2786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mon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d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yea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3000240"/>
              <a:ext cx="6628680" cy="214200"/>
              <a:chOff x="0" y="3000240"/>
              <a:chExt cx="6628680" cy="21420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3000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3000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birthDate( bmonth, bday, byear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3214800"/>
              <a:ext cx="6628680" cy="214200"/>
              <a:chOff x="0" y="3214800"/>
              <a:chExt cx="6628680" cy="21420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3214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3214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hireDate( hmonth, hday, hyea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3429000"/>
              <a:ext cx="6628680" cy="214200"/>
              <a:chOff x="0" y="3429000"/>
              <a:chExt cx="6628680" cy="21420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34290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34290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3643200"/>
              <a:ext cx="6628680" cy="214200"/>
              <a:chOff x="0" y="3643200"/>
              <a:chExt cx="6628680" cy="21420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3643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3643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py fname into firstName and be sure that it f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3857400"/>
              <a:ext cx="6628680" cy="214200"/>
              <a:chOff x="0" y="3857400"/>
              <a:chExt cx="6628680" cy="214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3857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3857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 = strlen( f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4071960"/>
              <a:ext cx="6628680" cy="214200"/>
              <a:chOff x="0" y="4071960"/>
              <a:chExt cx="6628680" cy="214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4071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4071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ength = ( length &lt; 25 ? length : 2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4286160"/>
              <a:ext cx="6628680" cy="214200"/>
              <a:chOff x="0" y="4286160"/>
              <a:chExt cx="6628680" cy="214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4286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4286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ncpy( firstName, fname,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4500360"/>
              <a:ext cx="6628680" cy="214200"/>
              <a:chOff x="0" y="4500360"/>
              <a:chExt cx="6628680" cy="214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4500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4500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[ length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4714920"/>
              <a:ext cx="6628680" cy="214200"/>
              <a:chOff x="0" y="4714920"/>
              <a:chExt cx="6628680" cy="21420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47149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47149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4929120"/>
              <a:ext cx="6628680" cy="214200"/>
              <a:chOff x="0" y="4929120"/>
              <a:chExt cx="6628680" cy="21420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4929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4929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py lname into lastName and be sure that it f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5143320"/>
              <a:ext cx="6628680" cy="214200"/>
              <a:chOff x="0" y="5143320"/>
              <a:chExt cx="6628680" cy="214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5143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5143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ength = strlen( l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5357880"/>
              <a:ext cx="6628680" cy="214200"/>
              <a:chOff x="0" y="5357880"/>
              <a:chExt cx="6628680" cy="214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53578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53578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ength = ( length &lt; 25 ? length : 2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5572080"/>
              <a:ext cx="6628680" cy="214200"/>
              <a:chOff x="0" y="5572080"/>
              <a:chExt cx="6628680" cy="21420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5572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5572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ncpy( lastName, lname,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5786280"/>
              <a:ext cx="6628680" cy="214200"/>
              <a:chOff x="0" y="5786280"/>
              <a:chExt cx="6628680" cy="214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5786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5786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[ length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6000840"/>
              <a:ext cx="6628680" cy="214200"/>
              <a:chOff x="0" y="6000840"/>
              <a:chExt cx="6628680" cy="21420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60008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60008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6215040"/>
              <a:ext cx="6628680" cy="214200"/>
              <a:chOff x="0" y="6215040"/>
              <a:chExt cx="6628680" cy="214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6215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6215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mployee object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6429240"/>
              <a:ext cx="6628680" cy="214200"/>
              <a:chOff x="0" y="6429240"/>
              <a:chExt cx="6628680" cy="214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6429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6429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firstName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6643800"/>
              <a:ext cx="6628680" cy="214200"/>
              <a:chOff x="0" y="6643800"/>
              <a:chExt cx="6628680" cy="21420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6643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6643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" name=""/>
          <p:cNvGrpSpPr/>
          <p:nvPr/>
        </p:nvGrpSpPr>
        <p:grpSpPr>
          <a:xfrm>
            <a:off x="3657240" y="5334120"/>
            <a:ext cx="3581280" cy="838080"/>
            <a:chOff x="3657240" y="5334120"/>
            <a:chExt cx="3581280" cy="838080"/>
          </a:xfrm>
        </p:grpSpPr>
        <p:sp>
          <p:nvSpPr>
            <p:cNvPr id="1046" name=""/>
            <p:cNvSpPr/>
            <p:nvPr/>
          </p:nvSpPr>
          <p:spPr>
            <a:xfrm flipH="1">
              <a:off x="3657240" y="5715000"/>
              <a:ext cx="1904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410080" y="5334120"/>
              <a:ext cx="1828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D6A5-6C46-47FF-8F43-CAC1833235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0" y="0"/>
            <a:ext cx="6628680" cy="6857640"/>
            <a:chOff x="0" y="0"/>
            <a:chExt cx="6628680" cy="6857640"/>
          </a:xfrm>
        </p:grpSpPr>
        <p:grpSp>
          <p:nvGrpSpPr>
            <p:cNvPr id="1050" name=""/>
            <p:cNvGrpSpPr/>
            <p:nvPr/>
          </p:nvGrpSpPr>
          <p:grpSpPr>
            <a:xfrm>
              <a:off x="0" y="0"/>
              <a:ext cx="6628680" cy="428400"/>
              <a:chOff x="0" y="0"/>
              <a:chExt cx="6628680" cy="428400"/>
            </a:xfrm>
          </p:grpSpPr>
          <p:sp>
            <p:nvSpPr>
              <p:cNvPr id="1051" name=""/>
              <p:cNvSpPr/>
              <p:nvPr/>
            </p:nvSpPr>
            <p:spPr>
              <a:xfrm>
                <a:off x="0" y="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0" y="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0" y="428400"/>
              <a:ext cx="6628680" cy="428400"/>
              <a:chOff x="0" y="428400"/>
              <a:chExt cx="6628680" cy="428400"/>
            </a:xfrm>
          </p:grpSpPr>
          <p:sp>
            <p:nvSpPr>
              <p:cNvPr id="1054" name=""/>
              <p:cNvSpPr/>
              <p:nvPr/>
            </p:nvSpPr>
            <p:spPr>
              <a:xfrm>
                <a:off x="0" y="428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428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0" y="856800"/>
              <a:ext cx="6628680" cy="428760"/>
              <a:chOff x="0" y="856800"/>
              <a:chExt cx="6628680" cy="428760"/>
            </a:xfrm>
          </p:grpSpPr>
          <p:sp>
            <p:nvSpPr>
              <p:cNvPr id="1057" name=""/>
              <p:cNvSpPr/>
              <p:nvPr/>
            </p:nvSpPr>
            <p:spPr>
              <a:xfrm>
                <a:off x="0" y="85680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85680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0" y="1285920"/>
              <a:ext cx="6628680" cy="428400"/>
              <a:chOff x="0" y="1285920"/>
              <a:chExt cx="6628680" cy="428400"/>
            </a:xfrm>
          </p:grpSpPr>
          <p:sp>
            <p:nvSpPr>
              <p:cNvPr id="1060" name=""/>
              <p:cNvSpPr/>
              <p:nvPr/>
            </p:nvSpPr>
            <p:spPr>
              <a:xfrm>
                <a:off x="0" y="1285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1285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lastName &lt;&lt; ", " &lt;&lt; firstName &lt;&lt; "\nHired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0" y="1714320"/>
              <a:ext cx="6628680" cy="428400"/>
              <a:chOff x="0" y="1714320"/>
              <a:chExt cx="6628680" cy="428400"/>
            </a:xfrm>
          </p:grpSpPr>
          <p:sp>
            <p:nvSpPr>
              <p:cNvPr id="1063" name=""/>
              <p:cNvSpPr/>
              <p:nvPr/>
            </p:nvSpPr>
            <p:spPr>
              <a:xfrm>
                <a:off x="0" y="1714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1714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ireDat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0" y="2143080"/>
              <a:ext cx="6628680" cy="428400"/>
              <a:chOff x="0" y="2143080"/>
              <a:chExt cx="6628680" cy="428400"/>
            </a:xfrm>
          </p:grpSpPr>
          <p:sp>
            <p:nvSpPr>
              <p:cNvPr id="1066" name=""/>
              <p:cNvSpPr/>
              <p:nvPr/>
            </p:nvSpPr>
            <p:spPr>
              <a:xfrm>
                <a:off x="0" y="2143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2143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Birth dat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0" y="2571480"/>
              <a:ext cx="6628680" cy="428760"/>
              <a:chOff x="0" y="2571480"/>
              <a:chExt cx="6628680" cy="428760"/>
            </a:xfrm>
          </p:grpSpPr>
          <p:sp>
            <p:nvSpPr>
              <p:cNvPr id="1069" name=""/>
              <p:cNvSpPr/>
              <p:nvPr/>
            </p:nvSpPr>
            <p:spPr>
              <a:xfrm>
                <a:off x="0" y="2571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2571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irthDat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0" y="3000240"/>
              <a:ext cx="6628680" cy="428400"/>
              <a:chOff x="0" y="3000240"/>
              <a:chExt cx="6628680" cy="428400"/>
            </a:xfrm>
          </p:grpSpPr>
          <p:sp>
            <p:nvSpPr>
              <p:cNvPr id="1072" name=""/>
              <p:cNvSpPr/>
              <p:nvPr/>
            </p:nvSpPr>
            <p:spPr>
              <a:xfrm>
                <a:off x="0" y="3000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3000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0" y="3429000"/>
              <a:ext cx="6628680" cy="428400"/>
              <a:chOff x="0" y="3429000"/>
              <a:chExt cx="6628680" cy="428400"/>
            </a:xfrm>
          </p:grpSpPr>
          <p:sp>
            <p:nvSpPr>
              <p:cNvPr id="1075" name=""/>
              <p:cNvSpPr/>
              <p:nvPr/>
            </p:nvSpPr>
            <p:spPr>
              <a:xfrm>
                <a:off x="0" y="34290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34290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0" y="3857400"/>
              <a:ext cx="6628680" cy="428400"/>
              <a:chOff x="0" y="3857400"/>
              <a:chExt cx="6628680" cy="428400"/>
            </a:xfrm>
          </p:grpSpPr>
          <p:sp>
            <p:nvSpPr>
              <p:cNvPr id="1078" name=""/>
              <p:cNvSpPr/>
              <p:nvPr/>
            </p:nvSpPr>
            <p:spPr>
              <a:xfrm>
                <a:off x="0" y="3857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3857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0" y="4286160"/>
              <a:ext cx="6628680" cy="428760"/>
              <a:chOff x="0" y="4286160"/>
              <a:chExt cx="6628680" cy="428760"/>
            </a:xfrm>
          </p:grpSpPr>
          <p:sp>
            <p:nvSpPr>
              <p:cNvPr id="1081" name=""/>
              <p:cNvSpPr/>
              <p:nvPr/>
            </p:nvSpPr>
            <p:spPr>
              <a:xfrm>
                <a:off x="0" y="428616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0" y="428616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: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0" y="4714920"/>
              <a:ext cx="6628680" cy="428400"/>
              <a:chOff x="0" y="4714920"/>
              <a:chExt cx="6628680" cy="428400"/>
            </a:xfrm>
          </p:grpSpPr>
          <p:sp>
            <p:nvSpPr>
              <p:cNvPr id="1084" name=""/>
              <p:cNvSpPr/>
              <p:nvPr/>
            </p:nvSpPr>
            <p:spPr>
              <a:xfrm>
                <a:off x="0" y="4714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0" y="4714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0" y="5143320"/>
              <a:ext cx="6628680" cy="428400"/>
              <a:chOff x="0" y="5143320"/>
              <a:chExt cx="6628680" cy="428400"/>
            </a:xfrm>
          </p:grpSpPr>
          <p:sp>
            <p:nvSpPr>
              <p:cNvPr id="1087" name=""/>
              <p:cNvSpPr/>
              <p:nvPr/>
            </p:nvSpPr>
            <p:spPr>
              <a:xfrm>
                <a:off x="0" y="5143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0" y="5143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0" y="5572080"/>
              <a:ext cx="6628680" cy="428400"/>
              <a:chOff x="0" y="5572080"/>
              <a:chExt cx="6628680" cy="428400"/>
            </a:xfrm>
          </p:grpSpPr>
          <p:sp>
            <p:nvSpPr>
              <p:cNvPr id="1090" name=""/>
              <p:cNvSpPr/>
              <p:nvPr/>
            </p:nvSpPr>
            <p:spPr>
              <a:xfrm>
                <a:off x="0" y="5572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0" y="5572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mployee object destructor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0" y="6000480"/>
              <a:ext cx="6628680" cy="428760"/>
              <a:chOff x="0" y="6000480"/>
              <a:chExt cx="6628680" cy="428760"/>
            </a:xfrm>
          </p:grpSpPr>
          <p:sp>
            <p:nvSpPr>
              <p:cNvPr id="1093" name=""/>
              <p:cNvSpPr/>
              <p:nvPr/>
            </p:nvSpPr>
            <p:spPr>
              <a:xfrm>
                <a:off x="0" y="6000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0" y="6000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lastName &lt;&lt; ", " &lt;&lt; fir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0" y="6429240"/>
              <a:ext cx="6628680" cy="428400"/>
              <a:chOff x="0" y="6429240"/>
              <a:chExt cx="6628680" cy="428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0" y="6429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0" y="6429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8" name=""/>
          <p:cNvGrpSpPr/>
          <p:nvPr/>
        </p:nvGrpSpPr>
        <p:grpSpPr>
          <a:xfrm>
            <a:off x="2438280" y="1905120"/>
            <a:ext cx="4572000" cy="2076840"/>
            <a:chOff x="2438280" y="1905120"/>
            <a:chExt cx="4572000" cy="2076840"/>
          </a:xfrm>
        </p:grpSpPr>
        <p:sp>
          <p:nvSpPr>
            <p:cNvPr id="1099" name=""/>
            <p:cNvSpPr/>
            <p:nvPr/>
          </p:nvSpPr>
          <p:spPr>
            <a:xfrm>
              <a:off x="3505320" y="2057400"/>
              <a:ext cx="350496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will print wheneve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is created or destroyed.  It can 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because it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quires no arguments, it is linked implicitly to the object that call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flipV="1">
              <a:off x="2438280" y="1905120"/>
              <a:ext cx="10670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657240" y="4724280"/>
            <a:ext cx="3581280" cy="838080"/>
            <a:chOff x="3657240" y="4724280"/>
            <a:chExt cx="3581280" cy="838080"/>
          </a:xfrm>
        </p:grpSpPr>
        <p:sp>
          <p:nvSpPr>
            <p:cNvPr id="1102" name=""/>
            <p:cNvSpPr/>
            <p:nvPr/>
          </p:nvSpPr>
          <p:spPr>
            <a:xfrm flipH="1">
              <a:off x="3657240" y="5105160"/>
              <a:ext cx="1904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724280"/>
              <a:ext cx="1828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348E-72D4-4A35-BA4E-B9198B229D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1105" name=""/>
            <p:cNvGrpSpPr/>
            <p:nvPr/>
          </p:nvGrpSpPr>
          <p:grpSpPr>
            <a:xfrm>
              <a:off x="0" y="0"/>
              <a:ext cx="6628680" cy="326520"/>
              <a:chOff x="0" y="0"/>
              <a:chExt cx="6628680" cy="326520"/>
            </a:xfrm>
          </p:grpSpPr>
          <p:sp>
            <p:nvSpPr>
              <p:cNvPr id="1106" name=""/>
              <p:cNvSpPr/>
              <p:nvPr/>
            </p:nvSpPr>
            <p:spPr>
              <a:xfrm>
                <a:off x="0" y="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0" y="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fig07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0" y="326520"/>
              <a:ext cx="6628680" cy="326520"/>
              <a:chOff x="0" y="326520"/>
              <a:chExt cx="6628680" cy="326520"/>
            </a:xfrm>
          </p:grpSpPr>
          <p:sp>
            <p:nvSpPr>
              <p:cNvPr id="1109" name=""/>
              <p:cNvSpPr/>
              <p:nvPr/>
            </p:nvSpPr>
            <p:spPr>
              <a:xfrm>
                <a:off x="0" y="326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0" y="326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composition: an object with member object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0" y="653040"/>
              <a:ext cx="6628680" cy="326520"/>
              <a:chOff x="0" y="653040"/>
              <a:chExt cx="6628680" cy="326520"/>
            </a:xfrm>
          </p:grpSpPr>
          <p:sp>
            <p:nvSpPr>
              <p:cNvPr id="1112" name=""/>
              <p:cNvSpPr/>
              <p:nvPr/>
            </p:nvSpPr>
            <p:spPr>
              <a:xfrm>
                <a:off x="0" y="653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0" y="653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0" y="979560"/>
              <a:ext cx="6628680" cy="326520"/>
              <a:chOff x="0" y="979560"/>
              <a:chExt cx="6628680" cy="326520"/>
            </a:xfrm>
          </p:grpSpPr>
          <p:sp>
            <p:nvSpPr>
              <p:cNvPr id="1115" name=""/>
              <p:cNvSpPr/>
              <p:nvPr/>
            </p:nvSpPr>
            <p:spPr>
              <a:xfrm>
                <a:off x="0" y="979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0" y="979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0" y="1306080"/>
              <a:ext cx="6628680" cy="326520"/>
              <a:chOff x="0" y="1306080"/>
              <a:chExt cx="6628680" cy="326520"/>
            </a:xfrm>
          </p:grpSpPr>
          <p:sp>
            <p:nvSpPr>
              <p:cNvPr id="1118" name=""/>
              <p:cNvSpPr/>
              <p:nvPr/>
            </p:nvSpPr>
            <p:spPr>
              <a:xfrm>
                <a:off x="0" y="1306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0" y="1306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0" y="1632600"/>
              <a:ext cx="6628680" cy="326520"/>
              <a:chOff x="0" y="1632600"/>
              <a:chExt cx="6628680" cy="326520"/>
            </a:xfrm>
          </p:grpSpPr>
          <p:sp>
            <p:nvSpPr>
              <p:cNvPr id="1121" name=""/>
              <p:cNvSpPr/>
              <p:nvPr/>
            </p:nvSpPr>
            <p:spPr>
              <a:xfrm>
                <a:off x="0" y="1632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0" y="1632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0" y="1959120"/>
              <a:ext cx="6628680" cy="326520"/>
              <a:chOff x="0" y="1959120"/>
              <a:chExt cx="6628680" cy="326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0" y="19591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0" y="19591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0" y="2286000"/>
              <a:ext cx="6628680" cy="326520"/>
              <a:chOff x="0" y="2286000"/>
              <a:chExt cx="6628680" cy="326520"/>
            </a:xfrm>
          </p:grpSpPr>
          <p:sp>
            <p:nvSpPr>
              <p:cNvPr id="1127" name=""/>
              <p:cNvSpPr/>
              <p:nvPr/>
            </p:nvSpPr>
            <p:spPr>
              <a:xfrm>
                <a:off x="0" y="2286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0" y="2286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0" y="2612520"/>
              <a:ext cx="6628680" cy="326520"/>
              <a:chOff x="0" y="2612520"/>
              <a:chExt cx="6628680" cy="326520"/>
            </a:xfrm>
          </p:grpSpPr>
          <p:sp>
            <p:nvSpPr>
              <p:cNvPr id="1130" name=""/>
              <p:cNvSpPr/>
              <p:nvPr/>
            </p:nvSpPr>
            <p:spPr>
              <a:xfrm>
                <a:off x="0" y="2612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0" y="2612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0" y="2939040"/>
              <a:ext cx="6628680" cy="326520"/>
              <a:chOff x="0" y="2939040"/>
              <a:chExt cx="6628680" cy="326520"/>
            </a:xfrm>
          </p:grpSpPr>
          <p:sp>
            <p:nvSpPr>
              <p:cNvPr id="1133" name=""/>
              <p:cNvSpPr/>
              <p:nvPr/>
            </p:nvSpPr>
            <p:spPr>
              <a:xfrm>
                <a:off x="0" y="2939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0" y="2939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0" y="3265560"/>
              <a:ext cx="6628680" cy="326520"/>
              <a:chOff x="0" y="3265560"/>
              <a:chExt cx="6628680" cy="326520"/>
            </a:xfrm>
          </p:grpSpPr>
          <p:sp>
            <p:nvSpPr>
              <p:cNvPr id="1136" name=""/>
              <p:cNvSpPr/>
              <p:nvPr/>
            </p:nvSpPr>
            <p:spPr>
              <a:xfrm>
                <a:off x="0" y="3265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0" y="3265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0" y="3592440"/>
              <a:ext cx="6628680" cy="326520"/>
              <a:chOff x="0" y="3592440"/>
              <a:chExt cx="6628680" cy="326520"/>
            </a:xfrm>
          </p:grpSpPr>
          <p:sp>
            <p:nvSpPr>
              <p:cNvPr id="1139" name=""/>
              <p:cNvSpPr/>
              <p:nvPr/>
            </p:nvSpPr>
            <p:spPr>
              <a:xfrm>
                <a:off x="0" y="35924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35924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 e( "Bob", "Jones", 7, 24, 1949, 3, 12, 1988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0" y="3918960"/>
              <a:ext cx="6628680" cy="326520"/>
              <a:chOff x="0" y="3918960"/>
              <a:chExt cx="6628680" cy="326520"/>
            </a:xfrm>
          </p:grpSpPr>
          <p:sp>
            <p:nvSpPr>
              <p:cNvPr id="1142" name=""/>
              <p:cNvSpPr/>
              <p:nvPr/>
            </p:nvSpPr>
            <p:spPr>
              <a:xfrm>
                <a:off x="0" y="39189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39189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0" y="4245480"/>
              <a:ext cx="6628680" cy="326520"/>
              <a:chOff x="0" y="4245480"/>
              <a:chExt cx="6628680" cy="326520"/>
            </a:xfrm>
          </p:grpSpPr>
          <p:sp>
            <p:nvSpPr>
              <p:cNvPr id="1145" name=""/>
              <p:cNvSpPr/>
              <p:nvPr/>
            </p:nvSpPr>
            <p:spPr>
              <a:xfrm>
                <a:off x="0" y="4245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4245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0" y="4572000"/>
              <a:ext cx="6628680" cy="326520"/>
              <a:chOff x="0" y="4572000"/>
              <a:chExt cx="6628680" cy="326520"/>
            </a:xfrm>
          </p:grpSpPr>
          <p:sp>
            <p:nvSpPr>
              <p:cNvPr id="1148" name=""/>
              <p:cNvSpPr/>
              <p:nvPr/>
            </p:nvSpPr>
            <p:spPr>
              <a:xfrm>
                <a:off x="0" y="4572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4572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0" y="4898520"/>
              <a:ext cx="6628680" cy="326520"/>
              <a:chOff x="0" y="4898520"/>
              <a:chExt cx="6628680" cy="326520"/>
            </a:xfrm>
          </p:grpSpPr>
          <p:sp>
            <p:nvSpPr>
              <p:cNvPr id="1151" name=""/>
              <p:cNvSpPr/>
              <p:nvPr/>
            </p:nvSpPr>
            <p:spPr>
              <a:xfrm>
                <a:off x="0" y="4898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4898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0" y="5225040"/>
              <a:ext cx="6628680" cy="326520"/>
              <a:chOff x="0" y="5225040"/>
              <a:chExt cx="6628680" cy="32652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5225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5225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est Date constructor with invalid value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5551560"/>
              <a:ext cx="6628680" cy="326520"/>
              <a:chOff x="0" y="5551560"/>
              <a:chExt cx="6628680" cy="32652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5551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5551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 d( 14, 35, 1994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valid Date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5878080"/>
              <a:ext cx="6628680" cy="326520"/>
              <a:chOff x="0" y="5878080"/>
              <a:chExt cx="6628680" cy="32652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5878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5878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6204600"/>
              <a:ext cx="6628680" cy="326520"/>
              <a:chOff x="0" y="6204600"/>
              <a:chExt cx="6628680" cy="32652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6204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6204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6531480"/>
              <a:ext cx="6628680" cy="326520"/>
              <a:chOff x="0" y="6531480"/>
              <a:chExt cx="6628680" cy="32652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6531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6531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ttempt inval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sett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2209320" y="2286000"/>
            <a:ext cx="4115160" cy="824040"/>
            <a:chOff x="2209320" y="2286000"/>
            <a:chExt cx="4115160" cy="824040"/>
          </a:xfrm>
        </p:grpSpPr>
        <p:sp>
          <p:nvSpPr>
            <p:cNvPr id="1170" name=""/>
            <p:cNvSpPr/>
            <p:nvPr/>
          </p:nvSpPr>
          <p:spPr>
            <a:xfrm flipH="1" flipV="1">
              <a:off x="2209320" y="2514240"/>
              <a:ext cx="1752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352680" y="22860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y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as to be loaded; that file has the command to lo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4025-4D67-4C5C-8400-C5D71DD7C4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s 6 through 8 discuss object-based programming (OB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s 9 and 10 discuss inheritance and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A667-EFD6-4A3C-93DC-4554E64646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0"/>
            <a:ext cx="662940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constructor for date 7/24/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constructor for date 3/12/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object constructor: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ones, 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red: 3/12/1988  Birth date: 7/24/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 Date constructor with invalid val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nth 14 invalid. Set to month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y 35 invalid. Set to day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constructor for date 1/1/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destructor for date 1/1/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object destructor: Jones, 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destructor for date 3/12/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destructor for date 7/24/194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2666520" y="456840"/>
            <a:ext cx="6096600" cy="3552840"/>
            <a:chOff x="2666520" y="456840"/>
            <a:chExt cx="6096600" cy="3552840"/>
          </a:xfrm>
        </p:grpSpPr>
        <p:sp>
          <p:nvSpPr>
            <p:cNvPr id="1175" name=""/>
            <p:cNvSpPr/>
            <p:nvPr/>
          </p:nvSpPr>
          <p:spPr>
            <a:xfrm>
              <a:off x="4267080" y="3429000"/>
              <a:ext cx="4496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inner objects are created first and destroyed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 flipV="1">
              <a:off x="3809880" y="456840"/>
              <a:ext cx="243864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 flipV="1">
              <a:off x="2666520" y="312372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DE88C-2C2E-4884-AA21-7C40C90E1F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riend Functions and frien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cce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re not member functions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outside of class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friend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iendship is granted, not t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ymmetric (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necessarily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transitive (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necessarily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058E-2E0E-4996-838A-E18F9F7C17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riend Functions and frien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the function prototype in the class that is giving frien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int myFunction( int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appear in the class giving frien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class that is giving friend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O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granting friendship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Tw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ClassTw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appear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O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's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31F6-990F-4A4C-B06A-0D7E772CAB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clare functio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184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5: fig07_05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riends can access private members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X( Count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riend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215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218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() { x = 0; }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x &lt;&lt; endl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 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n modify private data of Count becau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239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X is declared as a friend function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242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245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248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egal: setX is a friend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251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254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257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260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263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266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269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er.x after instantia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272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4" name=""/>
          <p:cNvGrpSpPr/>
          <p:nvPr/>
        </p:nvGrpSpPr>
        <p:grpSpPr>
          <a:xfrm>
            <a:off x="2590560" y="3505320"/>
            <a:ext cx="4190760" cy="838080"/>
            <a:chOff x="2590560" y="3505320"/>
            <a:chExt cx="4190760" cy="838080"/>
          </a:xfrm>
        </p:grpSpPr>
        <p:sp>
          <p:nvSpPr>
            <p:cNvPr id="1275" name=""/>
            <p:cNvSpPr/>
            <p:nvPr/>
          </p:nvSpPr>
          <p:spPr>
            <a:xfrm>
              <a:off x="4419360" y="350532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fined normally and is not a member func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2590560" y="4038480"/>
              <a:ext cx="182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66520" y="533520"/>
            <a:ext cx="3657960" cy="1600200"/>
            <a:chOff x="2666520" y="533520"/>
            <a:chExt cx="3657960" cy="1600200"/>
          </a:xfrm>
        </p:grpSpPr>
        <p:sp>
          <p:nvSpPr>
            <p:cNvPr id="1278" name=""/>
            <p:cNvSpPr/>
            <p:nvPr/>
          </p:nvSpPr>
          <p:spPr>
            <a:xfrm>
              <a:off x="3809880" y="5335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can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2666520" y="1143000"/>
              <a:ext cx="1143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219320" y="3428640"/>
            <a:ext cx="5638680" cy="1448280"/>
            <a:chOff x="1219320" y="3428640"/>
            <a:chExt cx="5638680" cy="1448280"/>
          </a:xfrm>
        </p:grpSpPr>
        <p:grpSp>
          <p:nvGrpSpPr>
            <p:cNvPr id="1281" name=""/>
            <p:cNvGrpSpPr/>
            <p:nvPr/>
          </p:nvGrpSpPr>
          <p:grpSpPr>
            <a:xfrm>
              <a:off x="1599840" y="4419720"/>
              <a:ext cx="5258160" cy="457200"/>
              <a:chOff x="1599840" y="4419720"/>
              <a:chExt cx="5258160" cy="457200"/>
            </a:xfrm>
          </p:grpSpPr>
          <p:sp>
            <p:nvSpPr>
              <p:cNvPr id="1282" name=""/>
              <p:cNvSpPr/>
              <p:nvPr/>
            </p:nvSpPr>
            <p:spPr>
              <a:xfrm flipH="1">
                <a:off x="1599840" y="4648320"/>
                <a:ext cx="2057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352680" y="4419720"/>
                <a:ext cx="350532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vat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variables allowe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 flipH="1" flipV="1">
              <a:off x="1219320" y="3428640"/>
              <a:ext cx="2133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42CA-75E7-4F01-95A6-873DD58B7C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Modify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0" y="0"/>
            <a:ext cx="6705000" cy="1980720"/>
            <a:chOff x="0" y="0"/>
            <a:chExt cx="6705000" cy="1980720"/>
          </a:xfrm>
        </p:grpSpPr>
        <p:grpSp>
          <p:nvGrpSpPr>
            <p:cNvPr id="1287" name=""/>
            <p:cNvGrpSpPr/>
            <p:nvPr/>
          </p:nvGrpSpPr>
          <p:grpSpPr>
            <a:xfrm>
              <a:off x="0" y="0"/>
              <a:ext cx="6705000" cy="396000"/>
              <a:chOff x="0" y="0"/>
              <a:chExt cx="6705000" cy="39600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er.x after call to setX friend func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396000"/>
              <a:ext cx="6705000" cy="396000"/>
              <a:chOff x="0" y="396000"/>
              <a:chExt cx="6705000" cy="39600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X( counter, 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x with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0" y="792360"/>
              <a:ext cx="6705000" cy="396360"/>
              <a:chOff x="0" y="792360"/>
              <a:chExt cx="6705000" cy="396360"/>
            </a:xfrm>
          </p:grpSpPr>
          <p:sp>
            <p:nvSpPr>
              <p:cNvPr id="1294" name="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0" y="1188720"/>
              <a:ext cx="6705000" cy="396000"/>
              <a:chOff x="0" y="1188720"/>
              <a:chExt cx="6705000" cy="396000"/>
            </a:xfrm>
          </p:grpSpPr>
          <p:sp>
            <p:nvSpPr>
              <p:cNvPr id="1297" name="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0" y="1584720"/>
              <a:ext cx="6705000" cy="396000"/>
              <a:chOff x="0" y="1584720"/>
              <a:chExt cx="6705000" cy="396000"/>
            </a:xfrm>
          </p:grpSpPr>
          <p:sp>
            <p:nvSpPr>
              <p:cNvPr id="1300" name="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2" name=""/>
          <p:cNvSpPr/>
          <p:nvPr/>
        </p:nvSpPr>
        <p:spPr>
          <a:xfrm>
            <a:off x="0" y="2362320"/>
            <a:ext cx="6705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er.x after instantiation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er.x after call to setX friend function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895480"/>
            <a:ext cx="3581280" cy="1099440"/>
            <a:chOff x="3048120" y="2895480"/>
            <a:chExt cx="3581280" cy="1099440"/>
          </a:xfrm>
        </p:grpSpPr>
        <p:sp>
          <p:nvSpPr>
            <p:cNvPr id="1304" name=""/>
            <p:cNvSpPr/>
            <p:nvPr/>
          </p:nvSpPr>
          <p:spPr>
            <a:xfrm>
              <a:off x="3886200" y="365760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wa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flipV="1">
              <a:off x="3048120" y="289548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7043-8312-4ACE-B810-153DF939DB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67816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Previous program witho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clared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308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30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6: fig07_0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31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friend/non-member functions cannot ac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31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vate data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31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32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32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32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33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33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33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33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34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() { x = 0; }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34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x &lt;&lt; endl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34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35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35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35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9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36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tries to modify private data of Coun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36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ut cannot because it is not a friend of Coun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36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nnot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36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37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RROR: 'Count::x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37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37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38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38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38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39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39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annotSetX( counter, 3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nnotSetX is not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39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39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1" name=""/>
          <p:cNvGrpSpPr/>
          <p:nvPr/>
        </p:nvGrpSpPr>
        <p:grpSpPr>
          <a:xfrm>
            <a:off x="1523520" y="1295280"/>
            <a:ext cx="4725000" cy="2895840"/>
            <a:chOff x="1523520" y="1295280"/>
            <a:chExt cx="4725000" cy="2895840"/>
          </a:xfrm>
        </p:grpSpPr>
        <p:sp>
          <p:nvSpPr>
            <p:cNvPr id="1402" name=""/>
            <p:cNvSpPr/>
            <p:nvPr/>
          </p:nvSpPr>
          <p:spPr>
            <a:xfrm>
              <a:off x="3200400" y="12952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 It cannot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1523520" y="1676520"/>
              <a:ext cx="16765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990360" y="3352320"/>
            <a:ext cx="5486760" cy="2819880"/>
            <a:chOff x="990360" y="3352320"/>
            <a:chExt cx="5486760" cy="2819880"/>
          </a:xfrm>
        </p:grpSpPr>
        <p:sp>
          <p:nvSpPr>
            <p:cNvPr id="1405" name=""/>
            <p:cNvSpPr/>
            <p:nvPr/>
          </p:nvSpPr>
          <p:spPr>
            <a:xfrm>
              <a:off x="3962520" y="51814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ries to modif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2285640" y="556272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1371240" y="4952880"/>
              <a:ext cx="2590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flipV="1">
              <a:off x="990360" y="3352320"/>
              <a:ext cx="29718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2198-C572-4622-AF66-669B381814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10" name=""/>
          <p:cNvSpPr/>
          <p:nvPr/>
        </p:nvSpPr>
        <p:spPr>
          <a:xfrm>
            <a:off x="0" y="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books\2000\cpphtp3\examples\Ch07\Fig07_06\Fig07_06.cpp(22)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C2248: 'x' : cannot access private member declared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'Cou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books\2000\cpphtp3\examples\Ch07\Fig07_06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6.cpp(15) : see declaration of 'x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1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2362320" y="990360"/>
            <a:ext cx="3886200" cy="1800000"/>
            <a:chOff x="2362320" y="990360"/>
            <a:chExt cx="3886200" cy="1800000"/>
          </a:xfrm>
        </p:grpSpPr>
        <p:sp>
          <p:nvSpPr>
            <p:cNvPr id="1412" name=""/>
            <p:cNvSpPr/>
            <p:nvPr/>
          </p:nvSpPr>
          <p:spPr>
            <a:xfrm>
              <a:off x="3200400" y="22096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ected compiler error - cannot acces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v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 flipV="1">
              <a:off x="2362320" y="99036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70358-5202-4A80-BC44-34806F5F9B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objects to access their ow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part of the object itsel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icit first argument on non-static member function call to th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icitly reference member data and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ype of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depends upon the type of the object and whether the member function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*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is has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 Employee *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54030-6797-45ED-852C-721C39EB3B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this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member function print data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-&gt;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*this )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returns a reference pointer to the sam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return *this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unctions can operate on tha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do not return references must be call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7C67-3FD7-45EB-BA49-3079CE5E9F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this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Minu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Seco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ll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an obje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obj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Hour(1)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Hour(1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object) and the expression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Minute(2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Second(3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no eff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70D3-249D-42EF-9126-C8A2D54A39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 (Constant) Objects and const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give objects permissions they need, no mo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that an object is not modif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attempt to modify the object i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Time noon( 12, 0, 0 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nitializes it to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4F4D-BD1A-4D5C-93D4-8F7254A7B9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422" name="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7: fig07_07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1426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the this pointer to refer to object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1429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1432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1438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1441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1447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1450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1453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1456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1459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1462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1465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1468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est::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) { x = a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1474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( ) around *this requi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1477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1480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     x = " &lt;&lt;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1483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this-&gt;x = " &lt;&lt; this-&gt;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1486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(*this).x = " &lt;&lt; ( *this ).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1489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1492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1495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1498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1501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st testObject( 1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1504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1507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stObject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1510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1513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1516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8" name=""/>
          <p:cNvGrpSpPr/>
          <p:nvPr/>
        </p:nvGrpSpPr>
        <p:grpSpPr>
          <a:xfrm>
            <a:off x="2590560" y="2438280"/>
            <a:ext cx="2972160" cy="1676520"/>
            <a:chOff x="2590560" y="2438280"/>
            <a:chExt cx="2972160" cy="1676520"/>
          </a:xfrm>
        </p:grpSpPr>
        <p:sp>
          <p:nvSpPr>
            <p:cNvPr id="1519" name=""/>
            <p:cNvSpPr/>
            <p:nvPr/>
          </p:nvSpPr>
          <p:spPr>
            <a:xfrm>
              <a:off x="3581280" y="243828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2590560" y="2666880"/>
              <a:ext cx="9903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3505320" y="3352680"/>
            <a:ext cx="4343400" cy="990360"/>
            <a:chOff x="3505320" y="3352680"/>
            <a:chExt cx="4343400" cy="990360"/>
          </a:xfrm>
        </p:grpSpPr>
        <p:sp>
          <p:nvSpPr>
            <p:cNvPr id="1522" name=""/>
            <p:cNvSpPr/>
            <p:nvPr/>
          </p:nvSpPr>
          <p:spPr>
            <a:xfrm flipH="1">
              <a:off x="3505320" y="373356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48320" y="33526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the arr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-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of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2743200" y="4724280"/>
            <a:ext cx="6019920" cy="1299240"/>
            <a:chOff x="2743200" y="4724280"/>
            <a:chExt cx="6019920" cy="1299240"/>
          </a:xfrm>
        </p:grpSpPr>
        <p:sp>
          <p:nvSpPr>
            <p:cNvPr id="1525" name=""/>
            <p:cNvSpPr/>
            <p:nvPr/>
          </p:nvSpPr>
          <p:spPr>
            <a:xfrm flipH="1" flipV="1">
              <a:off x="2743200" y="472428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191120" y="4956120"/>
              <a:ext cx="4572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operator. Parenthesis required because dot operator has higher precedence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Without, interpreted incorrectly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(this.x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59BF9-8461-4051-9669-0123EB0C12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28" name=""/>
          <p:cNvSpPr/>
          <p:nvPr/>
        </p:nvSpPr>
        <p:spPr>
          <a:xfrm>
            <a:off x="0" y="0"/>
            <a:ext cx="662940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-&gt;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*this).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1523880" y="609120"/>
            <a:ext cx="4114800" cy="1724040"/>
            <a:chOff x="1523880" y="609120"/>
            <a:chExt cx="4114800" cy="1724040"/>
          </a:xfrm>
        </p:grpSpPr>
        <p:sp>
          <p:nvSpPr>
            <p:cNvPr id="1530" name=""/>
            <p:cNvSpPr/>
            <p:nvPr/>
          </p:nvSpPr>
          <p:spPr>
            <a:xfrm>
              <a:off x="3429000" y="17524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l three methods have the same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 flipV="1">
              <a:off x="1523880" y="609120"/>
              <a:ext cx="1905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ABB64-2959-488B-815C-8883F5C150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34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53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8: time6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53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scading member function call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54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54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54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time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55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55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55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55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56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56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56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57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57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57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58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58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58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58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59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59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59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60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60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60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61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61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61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62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62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62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63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2" name=""/>
              <p:cNvGrpSpPr/>
              <p:nvPr/>
            </p:nvGrpSpPr>
            <p:grpSpPr>
              <a:xfrm>
                <a:off x="0" y="6650280"/>
                <a:ext cx="6780600" cy="207720"/>
                <a:chOff x="0" y="6650280"/>
                <a:chExt cx="6780600" cy="2077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5" name=""/>
          <p:cNvGrpSpPr/>
          <p:nvPr/>
        </p:nvGrpSpPr>
        <p:grpSpPr>
          <a:xfrm>
            <a:off x="1371240" y="2971440"/>
            <a:ext cx="5334480" cy="1296360"/>
            <a:chOff x="1371240" y="2971440"/>
            <a:chExt cx="5334480" cy="1296360"/>
          </a:xfrm>
        </p:grpSpPr>
        <p:sp>
          <p:nvSpPr>
            <p:cNvPr id="1636" name=""/>
            <p:cNvSpPr/>
            <p:nvPr/>
          </p:nvSpPr>
          <p:spPr>
            <a:xfrm>
              <a:off x="3886200" y="32004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 &amp;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function returns a reference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 Specify object in function defin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 flipV="1">
              <a:off x="1371240" y="2971440"/>
              <a:ext cx="2514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B09E-1613-462F-8270-69ECB03C30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40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64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8: time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64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647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650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653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656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659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1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662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665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668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0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671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674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677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680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683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686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689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Second( s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3" name=""/>
          <p:cNvGrpSpPr/>
          <p:nvPr/>
        </p:nvGrpSpPr>
        <p:grpSpPr>
          <a:xfrm>
            <a:off x="2133360" y="3429000"/>
            <a:ext cx="4343760" cy="990720"/>
            <a:chOff x="2133360" y="3429000"/>
            <a:chExt cx="4343760" cy="990720"/>
          </a:xfrm>
        </p:grpSpPr>
        <p:sp>
          <p:nvSpPr>
            <p:cNvPr id="1734" name=""/>
            <p:cNvSpPr/>
            <p:nvPr/>
          </p:nvSpPr>
          <p:spPr>
            <a:xfrm flipH="1">
              <a:off x="2133360" y="3733920"/>
              <a:ext cx="2819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733920" y="34290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ables cascading function c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61C9-3598-4EAB-9D04-A2C125F8FB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738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739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742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745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748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751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754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757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760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763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766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769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772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778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781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784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787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790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3733560" y="1599840"/>
            <a:ext cx="4343760" cy="1295280"/>
            <a:chOff x="3733560" y="1599840"/>
            <a:chExt cx="4343760" cy="1295280"/>
          </a:xfrm>
        </p:grpSpPr>
        <p:grpSp>
          <p:nvGrpSpPr>
            <p:cNvPr id="1829" name=""/>
            <p:cNvGrpSpPr/>
            <p:nvPr/>
          </p:nvGrpSpPr>
          <p:grpSpPr>
            <a:xfrm>
              <a:off x="3733560" y="1905120"/>
              <a:ext cx="4343760" cy="990000"/>
              <a:chOff x="3733560" y="1905120"/>
              <a:chExt cx="4343760" cy="990000"/>
            </a:xfrm>
          </p:grpSpPr>
          <p:sp>
            <p:nvSpPr>
              <p:cNvPr id="1830" name=""/>
              <p:cNvSpPr/>
              <p:nvPr/>
            </p:nvSpPr>
            <p:spPr>
              <a:xfrm flipH="1">
                <a:off x="3733560" y="2209680"/>
                <a:ext cx="281916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334120" y="190512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turn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*thi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enables cascading function c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2" name=""/>
            <p:cNvSpPr/>
            <p:nvPr/>
          </p:nvSpPr>
          <p:spPr>
            <a:xfrm flipH="1" flipV="1">
              <a:off x="3962520" y="159984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E0B3-8BCB-4A5D-B7D1-0C34273D7A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valu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34" name=""/>
          <p:cNvGrpSpPr/>
          <p:nvPr/>
        </p:nvGrpSpPr>
        <p:grpSpPr>
          <a:xfrm>
            <a:off x="0" y="0"/>
            <a:ext cx="6780960" cy="2133360"/>
            <a:chOff x="0" y="0"/>
            <a:chExt cx="6780960" cy="2133360"/>
          </a:xfrm>
        </p:grpSpPr>
        <p:grpSp>
          <p:nvGrpSpPr>
            <p:cNvPr id="1835" name="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1836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1839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1842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4" name="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1845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0" y="853560"/>
              <a:ext cx="6780960" cy="213120"/>
              <a:chOff x="0" y="853560"/>
              <a:chExt cx="6780960" cy="213120"/>
            </a:xfrm>
          </p:grpSpPr>
          <p:sp>
            <p:nvSpPr>
              <p:cNvPr id="1848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0" y="1066680"/>
              <a:ext cx="6780960" cy="213120"/>
              <a:chOff x="0" y="1066680"/>
              <a:chExt cx="6780960" cy="213120"/>
            </a:xfrm>
          </p:grpSpPr>
          <p:sp>
            <p:nvSpPr>
              <p:cNvPr id="1851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0 || hour == 12 ) ? 12 : hour % 1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0" y="1280160"/>
              <a:ext cx="6780960" cy="213480"/>
              <a:chOff x="0" y="1280160"/>
              <a:chExt cx="6780960" cy="213480"/>
            </a:xfrm>
          </p:grpSpPr>
          <p:sp>
            <p:nvSpPr>
              <p:cNvPr id="1854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minute &lt; 10 ? "0" : "" ) &lt;&lt; minu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6" name=""/>
            <p:cNvGrpSpPr/>
            <p:nvPr/>
          </p:nvGrpSpPr>
          <p:grpSpPr>
            <a:xfrm>
              <a:off x="0" y="1493640"/>
              <a:ext cx="6780960" cy="213120"/>
              <a:chOff x="0" y="1493640"/>
              <a:chExt cx="6780960" cy="213120"/>
            </a:xfrm>
          </p:grpSpPr>
          <p:sp>
            <p:nvSpPr>
              <p:cNvPr id="1857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9" name=""/>
            <p:cNvGrpSpPr/>
            <p:nvPr/>
          </p:nvGrpSpPr>
          <p:grpSpPr>
            <a:xfrm>
              <a:off x="0" y="1707120"/>
              <a:ext cx="6780960" cy="213120"/>
              <a:chOff x="0" y="1707120"/>
              <a:chExt cx="6780960" cy="213120"/>
            </a:xfrm>
          </p:grpSpPr>
          <p:sp>
            <p:nvSpPr>
              <p:cNvPr id="1860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2" name=""/>
            <p:cNvGrpSpPr/>
            <p:nvPr/>
          </p:nvGrpSpPr>
          <p:grpSpPr>
            <a:xfrm>
              <a:off x="0" y="1920240"/>
              <a:ext cx="6780960" cy="213120"/>
              <a:chOff x="0" y="1920240"/>
              <a:chExt cx="6780960" cy="213120"/>
            </a:xfrm>
          </p:grpSpPr>
          <p:sp>
            <p:nvSpPr>
              <p:cNvPr id="1863" name="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4" name=""/>
              <p:cNvGrpSpPr/>
              <p:nvPr/>
            </p:nvGrpSpPr>
            <p:grpSpPr>
              <a:xfrm>
                <a:off x="0" y="1920240"/>
                <a:ext cx="6780600" cy="213120"/>
                <a:chOff x="0" y="1920240"/>
                <a:chExt cx="6780600" cy="213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67" name=""/>
          <p:cNvGrpSpPr/>
          <p:nvPr/>
        </p:nvGrpSpPr>
        <p:grpSpPr>
          <a:xfrm>
            <a:off x="0" y="2133720"/>
            <a:ext cx="6780960" cy="4724280"/>
            <a:chOff x="0" y="2133720"/>
            <a:chExt cx="6780960" cy="4724280"/>
          </a:xfrm>
        </p:grpSpPr>
        <p:grpSp>
          <p:nvGrpSpPr>
            <p:cNvPr id="1868" name=""/>
            <p:cNvGrpSpPr/>
            <p:nvPr/>
          </p:nvGrpSpPr>
          <p:grpSpPr>
            <a:xfrm>
              <a:off x="0" y="2133720"/>
              <a:ext cx="6780960" cy="214560"/>
              <a:chOff x="0" y="2133720"/>
              <a:chExt cx="6780960" cy="214560"/>
            </a:xfrm>
          </p:grpSpPr>
          <p:sp>
            <p:nvSpPr>
              <p:cNvPr id="1869" name="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8: fig07_0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0" y="2348280"/>
              <a:ext cx="6780960" cy="214560"/>
              <a:chOff x="0" y="2348280"/>
              <a:chExt cx="6780960" cy="214560"/>
            </a:xfrm>
          </p:grpSpPr>
          <p:sp>
            <p:nvSpPr>
              <p:cNvPr id="1872" name="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scading member function calls togeth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0" y="2562840"/>
              <a:ext cx="6780960" cy="214560"/>
              <a:chOff x="0" y="2562840"/>
              <a:chExt cx="6780960" cy="214560"/>
            </a:xfrm>
          </p:grpSpPr>
          <p:sp>
            <p:nvSpPr>
              <p:cNvPr id="1875" name="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the thi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0" y="2777760"/>
              <a:ext cx="6780960" cy="214560"/>
              <a:chOff x="0" y="2777760"/>
              <a:chExt cx="6780960" cy="214560"/>
            </a:xfrm>
          </p:grpSpPr>
          <p:sp>
            <p:nvSpPr>
              <p:cNvPr id="1878" name="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0" y="2992680"/>
              <a:ext cx="6780960" cy="214560"/>
              <a:chOff x="0" y="2992680"/>
              <a:chExt cx="6780960" cy="214560"/>
            </a:xfrm>
          </p:grpSpPr>
          <p:sp>
            <p:nvSpPr>
              <p:cNvPr id="1881" name="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0" y="3207240"/>
              <a:ext cx="6780960" cy="214560"/>
              <a:chOff x="0" y="3207240"/>
              <a:chExt cx="6780960" cy="214560"/>
            </a:xfrm>
          </p:grpSpPr>
          <p:sp>
            <p:nvSpPr>
              <p:cNvPr id="1884" name="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0" y="3422160"/>
              <a:ext cx="6780960" cy="214560"/>
              <a:chOff x="0" y="3422160"/>
              <a:chExt cx="6780960" cy="214560"/>
            </a:xfrm>
          </p:grpSpPr>
          <p:sp>
            <p:nvSpPr>
              <p:cNvPr id="1887" name="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0" y="3636720"/>
              <a:ext cx="6780960" cy="214560"/>
              <a:chOff x="0" y="3636720"/>
              <a:chExt cx="6780960" cy="214560"/>
            </a:xfrm>
          </p:grpSpPr>
          <p:sp>
            <p:nvSpPr>
              <p:cNvPr id="1890" name="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0" y="3851640"/>
              <a:ext cx="6780960" cy="214560"/>
              <a:chOff x="0" y="3851640"/>
              <a:chExt cx="6780960" cy="214560"/>
            </a:xfrm>
          </p:grpSpPr>
          <p:sp>
            <p:nvSpPr>
              <p:cNvPr id="1893" name="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0" y="4066200"/>
              <a:ext cx="6780960" cy="214560"/>
              <a:chOff x="0" y="4066200"/>
              <a:chExt cx="6780960" cy="214560"/>
            </a:xfrm>
          </p:grpSpPr>
          <p:sp>
            <p:nvSpPr>
              <p:cNvPr id="1896" name="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"/>
            <p:cNvGrpSpPr/>
            <p:nvPr/>
          </p:nvGrpSpPr>
          <p:grpSpPr>
            <a:xfrm>
              <a:off x="0" y="4281120"/>
              <a:ext cx="6780960" cy="214560"/>
              <a:chOff x="0" y="4281120"/>
              <a:chExt cx="6780960" cy="214560"/>
            </a:xfrm>
          </p:grpSpPr>
          <p:sp>
            <p:nvSpPr>
              <p:cNvPr id="1899" name="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0" y="4496040"/>
              <a:ext cx="6780960" cy="214560"/>
              <a:chOff x="0" y="4496040"/>
              <a:chExt cx="6780960" cy="214560"/>
            </a:xfrm>
          </p:grpSpPr>
          <p:sp>
            <p:nvSpPr>
              <p:cNvPr id="1902" name="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0" y="4710600"/>
              <a:ext cx="6780960" cy="214560"/>
              <a:chOff x="0" y="4710600"/>
              <a:chExt cx="6780960" cy="214560"/>
            </a:xfrm>
          </p:grpSpPr>
          <p:sp>
            <p:nvSpPr>
              <p:cNvPr id="1905" name="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0" y="4925160"/>
              <a:ext cx="6780960" cy="214560"/>
              <a:chOff x="0" y="4925160"/>
              <a:chExt cx="6780960" cy="214560"/>
            </a:xfrm>
          </p:grpSpPr>
          <p:sp>
            <p:nvSpPr>
              <p:cNvPr id="1908" name="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0" y="5140080"/>
              <a:ext cx="6780960" cy="214560"/>
              <a:chOff x="0" y="5140080"/>
              <a:chExt cx="6780960" cy="214560"/>
            </a:xfrm>
          </p:grpSpPr>
          <p:sp>
            <p:nvSpPr>
              <p:cNvPr id="1911" name="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Hour( 18 ).setMinute( 30 ).setSecond(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0" y="5355000"/>
              <a:ext cx="6780960" cy="214560"/>
              <a:chOff x="0" y="5355000"/>
              <a:chExt cx="6780960" cy="214560"/>
            </a:xfrm>
          </p:grpSpPr>
          <p:sp>
            <p:nvSpPr>
              <p:cNvPr id="1914" name="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0" y="5569560"/>
              <a:ext cx="6780960" cy="214560"/>
              <a:chOff x="0" y="5569560"/>
              <a:chExt cx="6780960" cy="214560"/>
            </a:xfrm>
          </p:grpSpPr>
          <p:sp>
            <p:nvSpPr>
              <p:cNvPr id="1917" name="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0" y="5784480"/>
              <a:ext cx="6780960" cy="214560"/>
              <a:chOff x="0" y="5784480"/>
              <a:chExt cx="6780960" cy="214560"/>
            </a:xfrm>
          </p:grpSpPr>
          <p:sp>
            <p:nvSpPr>
              <p:cNvPr id="1920" name="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2" name=""/>
            <p:cNvGrpSpPr/>
            <p:nvPr/>
          </p:nvGrpSpPr>
          <p:grpSpPr>
            <a:xfrm>
              <a:off x="0" y="5999040"/>
              <a:ext cx="6780960" cy="214560"/>
              <a:chOff x="0" y="5999040"/>
              <a:chExt cx="6780960" cy="214560"/>
            </a:xfrm>
          </p:grpSpPr>
          <p:sp>
            <p:nvSpPr>
              <p:cNvPr id="1923" name="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0" y="6213600"/>
              <a:ext cx="6780960" cy="214560"/>
              <a:chOff x="0" y="6213600"/>
              <a:chExt cx="6780960" cy="214560"/>
            </a:xfrm>
          </p:grpSpPr>
          <p:sp>
            <p:nvSpPr>
              <p:cNvPr id="1926" name="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0" y="6428520"/>
              <a:ext cx="6780960" cy="214560"/>
              <a:chOff x="0" y="6428520"/>
              <a:chExt cx="6780960" cy="214560"/>
            </a:xfrm>
          </p:grpSpPr>
          <p:sp>
            <p:nvSpPr>
              <p:cNvPr id="1929" name="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New 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0" y="6643440"/>
              <a:ext cx="6780960" cy="214560"/>
              <a:chOff x="0" y="6643440"/>
              <a:chExt cx="6780960" cy="214560"/>
            </a:xfrm>
          </p:grpSpPr>
          <p:sp>
            <p:nvSpPr>
              <p:cNvPr id="1932" name="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Time( 20, 20, 20 )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4" name=""/>
          <p:cNvGrpSpPr/>
          <p:nvPr/>
        </p:nvGrpSpPr>
        <p:grpSpPr>
          <a:xfrm>
            <a:off x="2971440" y="3657600"/>
            <a:ext cx="5486760" cy="1523880"/>
            <a:chOff x="2971440" y="3657600"/>
            <a:chExt cx="5486760" cy="1523880"/>
          </a:xfrm>
        </p:grpSpPr>
        <p:sp>
          <p:nvSpPr>
            <p:cNvPr id="1935" name=""/>
            <p:cNvSpPr/>
            <p:nvPr/>
          </p:nvSpPr>
          <p:spPr>
            <a:xfrm>
              <a:off x="5029200" y="36576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cascading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2971440" y="3819600"/>
              <a:ext cx="2057400" cy="13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3809520" y="4421160"/>
            <a:ext cx="5105880" cy="2055960"/>
            <a:chOff x="3809520" y="4421160"/>
            <a:chExt cx="5105880" cy="2055960"/>
          </a:xfrm>
        </p:grpSpPr>
        <p:sp>
          <p:nvSpPr>
            <p:cNvPr id="1938" name=""/>
            <p:cNvSpPr/>
            <p:nvPr/>
          </p:nvSpPr>
          <p:spPr>
            <a:xfrm>
              <a:off x="4038480" y="4421160"/>
              <a:ext cx="4876920" cy="1437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cading function call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.printStandard().setTime();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uld cause a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3809520" y="5867280"/>
              <a:ext cx="1600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990360" y="914400"/>
            <a:ext cx="5562720" cy="1893960"/>
            <a:chOff x="990360" y="914400"/>
            <a:chExt cx="5562720" cy="1893960"/>
          </a:xfrm>
        </p:grpSpPr>
        <p:sp>
          <p:nvSpPr>
            <p:cNvPr id="1941" name=""/>
            <p:cNvSpPr/>
            <p:nvPr/>
          </p:nvSpPr>
          <p:spPr>
            <a:xfrm>
              <a:off x="4343400" y="19843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 flipV="1">
              <a:off x="990360" y="914400"/>
              <a:ext cx="3276360" cy="15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30CA-07F1-4A9E-9057-081C61B063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0" y="0"/>
            <a:ext cx="6705000" cy="1523880"/>
            <a:chOff x="0" y="0"/>
            <a:chExt cx="6705000" cy="1523880"/>
          </a:xfrm>
        </p:grpSpPr>
        <p:grpSp>
          <p:nvGrpSpPr>
            <p:cNvPr id="1945" name="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1946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1949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1952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1955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7" name=""/>
          <p:cNvSpPr/>
          <p:nvPr/>
        </p:nvSpPr>
        <p:spPr>
          <a:xfrm>
            <a:off x="0" y="1981080"/>
            <a:ext cx="662940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: 18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: 6:30:2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standard time: 8:20:2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AA34-D110-412C-86B4-508C66DAFDE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Memory Allocation with Operators new and 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dynamic memory al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ior to C’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n object of the proper size, calls its constructor and returns a pointer of the correct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oys object and free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 *typeNa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pointer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Ptr = new TypeName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, returns pointer (whi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equal 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A193-BADE-4621-8533-259E42CC40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Memory Allocation with Operators new and 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typeNa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destructor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and frees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[] array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ynamically delete a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*thingPtr = new double( 3.14159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s objec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.1415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arrayPtr = new int[ 10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ten 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 and assigns i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95F9-CA6C-4B4F-A8B7-055F19BF9F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ed by all objects of a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, each object gets its own copy of each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 when a single copy of data is enoug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 has to be 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seem like global variables, but have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ccessible to objects of sam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d at fil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ist even if no instances (objects) of the class ex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variables and functions 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778D-CE8E-493E-937F-AE62201A0E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 (Constant) Objects and const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requi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declar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not modify their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ust be specified in function prototype and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Type FunctionName(param1,param2…) cons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Type FunctionName(param1,param2…) const { 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::getValue() const { retur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ivateDataMember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value of a data member but doesn’t modify anything so is declar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/ Destructors cannot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need to initialize variables, therefore modifying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CF12-9034-4308-B152-D75749867A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variables are accessible through any object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accessed using scope resolution operat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no class member objects exist, can only be accessed via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combine the class name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or and the functio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get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2E36-CF2F-49F5-983E-135DA8FF4AB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not access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o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, they exist independent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0A3C-6A0C-4786-B3BF-73680881FDB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8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969" name=""/>
            <p:cNvGrpSpPr/>
            <p:nvPr/>
          </p:nvGrpSpPr>
          <p:grpSpPr>
            <a:xfrm>
              <a:off x="0" y="0"/>
              <a:ext cx="6705000" cy="285480"/>
              <a:chOff x="0" y="0"/>
              <a:chExt cx="6705000" cy="285480"/>
            </a:xfrm>
          </p:grpSpPr>
          <p:sp>
            <p:nvSpPr>
              <p:cNvPr id="1970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9: emplo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"/>
            <p:cNvGrpSpPr/>
            <p:nvPr/>
          </p:nvGrpSpPr>
          <p:grpSpPr>
            <a:xfrm>
              <a:off x="0" y="285480"/>
              <a:ext cx="6705000" cy="285480"/>
              <a:chOff x="0" y="285480"/>
              <a:chExt cx="6705000" cy="285480"/>
            </a:xfrm>
          </p:grpSpPr>
          <p:sp>
            <p:nvSpPr>
              <p:cNvPr id="1973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0" y="571320"/>
              <a:ext cx="6705000" cy="285840"/>
              <a:chOff x="0" y="571320"/>
              <a:chExt cx="6705000" cy="285840"/>
            </a:xfrm>
          </p:grpSpPr>
          <p:sp>
            <p:nvSpPr>
              <p:cNvPr id="1976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"/>
            <p:cNvGrpSpPr/>
            <p:nvPr/>
          </p:nvGrpSpPr>
          <p:grpSpPr>
            <a:xfrm>
              <a:off x="0" y="857160"/>
              <a:ext cx="6705000" cy="285480"/>
              <a:chOff x="0" y="857160"/>
              <a:chExt cx="6705000" cy="285480"/>
            </a:xfrm>
          </p:grpSpPr>
          <p:sp>
            <p:nvSpPr>
              <p:cNvPr id="1979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1" name=""/>
            <p:cNvGrpSpPr/>
            <p:nvPr/>
          </p:nvGrpSpPr>
          <p:grpSpPr>
            <a:xfrm>
              <a:off x="0" y="1143000"/>
              <a:ext cx="6705000" cy="285480"/>
              <a:chOff x="0" y="1143000"/>
              <a:chExt cx="6705000" cy="285480"/>
            </a:xfrm>
          </p:grpSpPr>
          <p:sp>
            <p:nvSpPr>
              <p:cNvPr id="1982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"/>
            <p:cNvGrpSpPr/>
            <p:nvPr/>
          </p:nvGrpSpPr>
          <p:grpSpPr>
            <a:xfrm>
              <a:off x="0" y="1428480"/>
              <a:ext cx="6705000" cy="285480"/>
              <a:chOff x="0" y="1428480"/>
              <a:chExt cx="6705000" cy="285480"/>
            </a:xfrm>
          </p:grpSpPr>
          <p:sp>
            <p:nvSpPr>
              <p:cNvPr id="1985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"/>
            <p:cNvGrpSpPr/>
            <p:nvPr/>
          </p:nvGrpSpPr>
          <p:grpSpPr>
            <a:xfrm>
              <a:off x="0" y="1714320"/>
              <a:ext cx="6705000" cy="285840"/>
              <a:chOff x="0" y="1714320"/>
              <a:chExt cx="6705000" cy="285840"/>
            </a:xfrm>
          </p:grpSpPr>
          <p:sp>
            <p:nvSpPr>
              <p:cNvPr id="1988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0" y="2000160"/>
              <a:ext cx="6705000" cy="285480"/>
              <a:chOff x="0" y="2000160"/>
              <a:chExt cx="6705000" cy="285480"/>
            </a:xfrm>
          </p:grpSpPr>
          <p:sp>
            <p:nvSpPr>
              <p:cNvPr id="1991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0" y="2286000"/>
              <a:ext cx="6705000" cy="285480"/>
              <a:chOff x="0" y="2286000"/>
              <a:chExt cx="6705000" cy="285480"/>
            </a:xfrm>
          </p:grpSpPr>
          <p:sp>
            <p:nvSpPr>
              <p:cNvPr id="1994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0" y="2571480"/>
              <a:ext cx="6705000" cy="285480"/>
              <a:chOff x="0" y="2571480"/>
              <a:chExt cx="6705000" cy="285480"/>
            </a:xfrm>
          </p:grpSpPr>
          <p:sp>
            <p:nvSpPr>
              <p:cNvPr id="1997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0" y="2857320"/>
              <a:ext cx="6705000" cy="285840"/>
              <a:chOff x="0" y="2857320"/>
              <a:chExt cx="6705000" cy="285840"/>
            </a:xfrm>
          </p:grpSpPr>
          <p:sp>
            <p:nvSpPr>
              <p:cNvPr id="2000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0" y="3143160"/>
              <a:ext cx="6705000" cy="285480"/>
              <a:chOff x="0" y="3143160"/>
              <a:chExt cx="6705000" cy="285480"/>
            </a:xfrm>
          </p:grpSpPr>
          <p:sp>
            <p:nvSpPr>
              <p:cNvPr id="2003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"/>
            <p:cNvGrpSpPr/>
            <p:nvPr/>
          </p:nvGrpSpPr>
          <p:grpSpPr>
            <a:xfrm>
              <a:off x="0" y="3429000"/>
              <a:ext cx="6705000" cy="285480"/>
              <a:chOff x="0" y="3429000"/>
              <a:chExt cx="6705000" cy="285480"/>
            </a:xfrm>
          </p:grpSpPr>
          <p:sp>
            <p:nvSpPr>
              <p:cNvPr id="2006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tatic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0" y="3714480"/>
              <a:ext cx="6705000" cy="285480"/>
              <a:chOff x="0" y="3714480"/>
              <a:chExt cx="6705000" cy="285480"/>
            </a:xfrm>
          </p:grpSpPr>
          <p:sp>
            <p:nvSpPr>
              <p:cNvPr id="2009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Cou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#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0" y="4000320"/>
              <a:ext cx="6705000" cy="285840"/>
              <a:chOff x="0" y="4000320"/>
              <a:chExt cx="6705000" cy="285840"/>
            </a:xfrm>
          </p:grpSpPr>
          <p:sp>
            <p:nvSpPr>
              <p:cNvPr id="2012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0" y="4286160"/>
              <a:ext cx="6705000" cy="285480"/>
              <a:chOff x="0" y="4286160"/>
              <a:chExt cx="6705000" cy="285480"/>
            </a:xfrm>
          </p:grpSpPr>
          <p:sp>
            <p:nvSpPr>
              <p:cNvPr id="2015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0" y="4572000"/>
              <a:ext cx="6705000" cy="285480"/>
              <a:chOff x="0" y="4572000"/>
              <a:chExt cx="6705000" cy="285480"/>
            </a:xfrm>
          </p:grpSpPr>
          <p:sp>
            <p:nvSpPr>
              <p:cNvPr id="2018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0" y="4857480"/>
              <a:ext cx="6705000" cy="285480"/>
              <a:chOff x="0" y="4857480"/>
              <a:chExt cx="6705000" cy="285480"/>
            </a:xfrm>
          </p:grpSpPr>
          <p:sp>
            <p:nvSpPr>
              <p:cNvPr id="2021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0" y="5143320"/>
              <a:ext cx="6705000" cy="285480"/>
              <a:chOff x="0" y="5143320"/>
              <a:chExt cx="6705000" cy="285480"/>
            </a:xfrm>
          </p:grpSpPr>
          <p:sp>
            <p:nvSpPr>
              <p:cNvPr id="2024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0" y="5429160"/>
              <a:ext cx="6705000" cy="285840"/>
              <a:chOff x="0" y="5429160"/>
              <a:chExt cx="6705000" cy="285840"/>
            </a:xfrm>
          </p:grpSpPr>
          <p:sp>
            <p:nvSpPr>
              <p:cNvPr id="2027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9" name=""/>
            <p:cNvGrpSpPr/>
            <p:nvPr/>
          </p:nvGrpSpPr>
          <p:grpSpPr>
            <a:xfrm>
              <a:off x="0" y="5715000"/>
              <a:ext cx="6705000" cy="285480"/>
              <a:chOff x="0" y="5715000"/>
              <a:chExt cx="6705000" cy="285480"/>
            </a:xfrm>
          </p:grpSpPr>
          <p:sp>
            <p:nvSpPr>
              <p:cNvPr id="2030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2" name=""/>
            <p:cNvGrpSpPr/>
            <p:nvPr/>
          </p:nvGrpSpPr>
          <p:grpSpPr>
            <a:xfrm>
              <a:off x="0" y="6000840"/>
              <a:ext cx="6705000" cy="285480"/>
              <a:chOff x="0" y="6000840"/>
              <a:chExt cx="6705000" cy="285480"/>
            </a:xfrm>
          </p:grpSpPr>
          <p:sp>
            <p:nvSpPr>
              <p:cNvPr id="2033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0" y="6286320"/>
              <a:ext cx="6705000" cy="285480"/>
              <a:chOff x="0" y="6286320"/>
              <a:chExt cx="6705000" cy="285480"/>
            </a:xfrm>
          </p:grpSpPr>
          <p:sp>
            <p:nvSpPr>
              <p:cNvPr id="2036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8" name=""/>
            <p:cNvGrpSpPr/>
            <p:nvPr/>
          </p:nvGrpSpPr>
          <p:grpSpPr>
            <a:xfrm>
              <a:off x="0" y="6572160"/>
              <a:ext cx="6705000" cy="285840"/>
              <a:chOff x="0" y="6572160"/>
              <a:chExt cx="6705000" cy="285840"/>
            </a:xfrm>
          </p:grpSpPr>
          <p:sp>
            <p:nvSpPr>
              <p:cNvPr id="2039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1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2133720" y="4038120"/>
            <a:ext cx="4114800" cy="1676880"/>
            <a:chOff x="2133720" y="4038120"/>
            <a:chExt cx="4114800" cy="1676880"/>
          </a:xfrm>
        </p:grpSpPr>
        <p:sp>
          <p:nvSpPr>
            <p:cNvPr id="2043" name=""/>
            <p:cNvSpPr/>
            <p:nvPr/>
          </p:nvSpPr>
          <p:spPr>
            <a:xfrm>
              <a:off x="4267080" y="411480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nd variabl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 flipV="1">
              <a:off x="2133720" y="4038120"/>
              <a:ext cx="2133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2133720" y="4419720"/>
              <a:ext cx="2133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CFDD-18F4-4271-8A8C-53636428684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 memb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048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204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9: emplo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1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205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205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205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206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206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06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07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07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07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07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08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e the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08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count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08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09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e the stat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09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s the number of employee object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09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get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10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10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10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8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10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first and last names into th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1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11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11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11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0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12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firstName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12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6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12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9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13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13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5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13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13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1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214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++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4" name=""/>
          <p:cNvGrpSpPr/>
          <p:nvPr/>
        </p:nvGrpSpPr>
        <p:grpSpPr>
          <a:xfrm>
            <a:off x="1523520" y="990720"/>
            <a:ext cx="5410440" cy="2438280"/>
            <a:chOff x="1523520" y="990720"/>
            <a:chExt cx="5410440" cy="2438280"/>
          </a:xfrm>
        </p:grpSpPr>
        <p:sp>
          <p:nvSpPr>
            <p:cNvPr id="2145" name=""/>
            <p:cNvSpPr/>
            <p:nvPr/>
          </p:nvSpPr>
          <p:spPr>
            <a:xfrm>
              <a:off x="3910320" y="990720"/>
              <a:ext cx="3023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( 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ized at file scope (requir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1523520" y="1523880"/>
              <a:ext cx="2386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2546280" y="2057400"/>
              <a:ext cx="1619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2895480" y="3828960"/>
            <a:ext cx="5639040" cy="2266920"/>
            <a:chOff x="2895480" y="3828960"/>
            <a:chExt cx="5639040" cy="2266920"/>
          </a:xfrm>
        </p:grpSpPr>
        <p:sp>
          <p:nvSpPr>
            <p:cNvPr id="2149" name=""/>
            <p:cNvSpPr/>
            <p:nvPr/>
          </p:nvSpPr>
          <p:spPr>
            <a:xfrm>
              <a:off x="4724280" y="3828960"/>
              <a:ext cx="3810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est for memory allo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3048120" y="4114800"/>
              <a:ext cx="1676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2895480" y="4114800"/>
              <a:ext cx="18288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2" name=""/>
          <p:cNvGrpSpPr/>
          <p:nvPr/>
        </p:nvGrpSpPr>
        <p:grpSpPr>
          <a:xfrm>
            <a:off x="1295280" y="5353200"/>
            <a:ext cx="7239240" cy="1276200"/>
            <a:chOff x="1295280" y="5353200"/>
            <a:chExt cx="7239240" cy="1276200"/>
          </a:xfrm>
        </p:grpSpPr>
        <p:sp>
          <p:nvSpPr>
            <p:cNvPr id="2153" name=""/>
            <p:cNvSpPr/>
            <p:nvPr/>
          </p:nvSpPr>
          <p:spPr>
            <a:xfrm>
              <a:off x="5105520" y="53532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>
              <a:off x="1295280" y="5638680"/>
              <a:ext cx="3810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88F69-E63F-4213-98C8-98501D1A543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5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157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2158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mployee constructor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0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2161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' ' &lt;&lt; lastName &lt;&lt; " called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2164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6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2167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2170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2173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2176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2179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~Employee() called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1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2182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2185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fir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7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2188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la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0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2191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--count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3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2194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6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2197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2200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fir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2203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5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2206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8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2209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1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2212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4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2215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7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2218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0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2221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2224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6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2227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la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9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2230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2233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2236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2239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2242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4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2245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7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2248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0" name=""/>
          <p:cNvGrpSpPr/>
          <p:nvPr/>
        </p:nvGrpSpPr>
        <p:grpSpPr>
          <a:xfrm>
            <a:off x="2209320" y="5638680"/>
            <a:ext cx="4496400" cy="914400"/>
            <a:chOff x="2209320" y="5638680"/>
            <a:chExt cx="4496400" cy="914400"/>
          </a:xfrm>
        </p:grpSpPr>
        <p:sp>
          <p:nvSpPr>
            <p:cNvPr id="2251" name=""/>
            <p:cNvSpPr/>
            <p:nvPr/>
          </p:nvSpPr>
          <p:spPr>
            <a:xfrm>
              <a:off x="4724280" y="563868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remented because of de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2209320" y="5943600"/>
              <a:ext cx="2514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1218960" y="1295280"/>
            <a:ext cx="7238880" cy="1276200"/>
            <a:chOff x="1218960" y="1295280"/>
            <a:chExt cx="7238880" cy="1276200"/>
          </a:xfrm>
        </p:grpSpPr>
        <p:sp>
          <p:nvSpPr>
            <p:cNvPr id="2254" name=""/>
            <p:cNvSpPr/>
            <p:nvPr/>
          </p:nvSpPr>
          <p:spPr>
            <a:xfrm>
              <a:off x="5029200" y="129528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1218960" y="1580760"/>
              <a:ext cx="3809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FEA9-EE9D-4607-AD4E-A2970CB65DD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258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225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9: fig07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226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to test the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4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226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226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227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3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227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6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227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228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228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228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228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229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Number of employees before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4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229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mployee::getCount() &lt;&lt; end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 class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7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229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0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230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 *e1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( "Susan", "Baker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3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230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 *e2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( "Robert", "Jone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6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230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9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231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Number of employees after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2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231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1Ptr-&gt;getCou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5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231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8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231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Employee 1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232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1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232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" &lt;&lt; e1Ptr-&gt;getLa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232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Employee 2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0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233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2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3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233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" &lt;&lt; e2Ptr-&gt;getLastNa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6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233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9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234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1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2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234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1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5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234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2Pt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8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234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2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1" name=""/>
          <p:cNvGrpSpPr/>
          <p:nvPr/>
        </p:nvGrpSpPr>
        <p:grpSpPr>
          <a:xfrm>
            <a:off x="1905120" y="609480"/>
            <a:ext cx="5790600" cy="2057400"/>
            <a:chOff x="1905120" y="609480"/>
            <a:chExt cx="5790600" cy="2057400"/>
          </a:xfrm>
        </p:grpSpPr>
        <p:sp>
          <p:nvSpPr>
            <p:cNvPr id="2352" name=""/>
            <p:cNvSpPr/>
            <p:nvPr/>
          </p:nvSpPr>
          <p:spPr>
            <a:xfrm>
              <a:off x="4800240" y="6094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exi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accessed using the class name a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1905120" y="1143000"/>
              <a:ext cx="2895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3657240" y="1773360"/>
            <a:ext cx="4926240" cy="664920"/>
            <a:chOff x="3657240" y="1773360"/>
            <a:chExt cx="4926240" cy="664920"/>
          </a:xfrm>
        </p:grpSpPr>
        <p:sp>
          <p:nvSpPr>
            <p:cNvPr id="2355" name=""/>
            <p:cNvSpPr/>
            <p:nvPr/>
          </p:nvSpPr>
          <p:spPr>
            <a:xfrm>
              <a:off x="4287960" y="1773360"/>
              <a:ext cx="429552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 of employees before instantiation is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3657240" y="1981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2133720" y="2438280"/>
            <a:ext cx="6705360" cy="1600200"/>
            <a:chOff x="2133720" y="2438280"/>
            <a:chExt cx="6705360" cy="1600200"/>
          </a:xfrm>
        </p:grpSpPr>
        <p:sp>
          <p:nvSpPr>
            <p:cNvPr id="2358" name=""/>
            <p:cNvSpPr/>
            <p:nvPr/>
          </p:nvSpPr>
          <p:spPr>
            <a:xfrm flipH="1">
              <a:off x="2133720" y="2743200"/>
              <a:ext cx="22860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191120" y="243828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2Ptr-&gt;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::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ould also wor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0" name=""/>
          <p:cNvGrpSpPr/>
          <p:nvPr/>
        </p:nvGrpSpPr>
        <p:grpSpPr>
          <a:xfrm>
            <a:off x="3200400" y="3580920"/>
            <a:ext cx="5562720" cy="1088280"/>
            <a:chOff x="3200400" y="3580920"/>
            <a:chExt cx="5562720" cy="1088280"/>
          </a:xfrm>
        </p:grpSpPr>
        <p:sp>
          <p:nvSpPr>
            <p:cNvPr id="2361" name=""/>
            <p:cNvSpPr/>
            <p:nvPr/>
          </p:nvSpPr>
          <p:spPr>
            <a:xfrm>
              <a:off x="4191120" y="41148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constructor for Susan Baker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constructor for Robert Jone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 flipV="1">
              <a:off x="3200400" y="3580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3" name=""/>
          <p:cNvGrpSpPr/>
          <p:nvPr/>
        </p:nvGrpSpPr>
        <p:grpSpPr>
          <a:xfrm>
            <a:off x="3809880" y="3373560"/>
            <a:ext cx="4627800" cy="360360"/>
            <a:chOff x="3809880" y="3373560"/>
            <a:chExt cx="4627800" cy="360360"/>
          </a:xfrm>
        </p:grpSpPr>
        <p:sp>
          <p:nvSpPr>
            <p:cNvPr id="2364" name=""/>
            <p:cNvSpPr/>
            <p:nvPr/>
          </p:nvSpPr>
          <p:spPr>
            <a:xfrm flipH="1">
              <a:off x="3809880" y="35812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233600" y="3373560"/>
              <a:ext cx="4204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 of employees after instantiation i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3581280" y="4876920"/>
            <a:ext cx="5181840" cy="554400"/>
            <a:chOff x="3581280" y="4876920"/>
            <a:chExt cx="5181840" cy="554400"/>
          </a:xfrm>
        </p:grpSpPr>
        <p:sp>
          <p:nvSpPr>
            <p:cNvPr id="2367" name=""/>
            <p:cNvSpPr/>
            <p:nvPr/>
          </p:nvSpPr>
          <p:spPr>
            <a:xfrm>
              <a:off x="4191120" y="487692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1: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2: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3581280" y="5257800"/>
              <a:ext cx="609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3733560" y="5943600"/>
            <a:ext cx="5181840" cy="554400"/>
            <a:chOff x="3733560" y="5943600"/>
            <a:chExt cx="5181840" cy="554400"/>
          </a:xfrm>
        </p:grpSpPr>
        <p:sp>
          <p:nvSpPr>
            <p:cNvPr id="2370" name=""/>
            <p:cNvSpPr/>
            <p:nvPr/>
          </p:nvSpPr>
          <p:spPr>
            <a:xfrm>
              <a:off x="4343400" y="59436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~Employee() called for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~Employee() called for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3733560" y="6095880"/>
              <a:ext cx="609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2" name=""/>
          <p:cNvGrpSpPr/>
          <p:nvPr/>
        </p:nvGrpSpPr>
        <p:grpSpPr>
          <a:xfrm>
            <a:off x="685800" y="838080"/>
            <a:ext cx="2438280" cy="2210040"/>
            <a:chOff x="685800" y="838080"/>
            <a:chExt cx="2438280" cy="2210040"/>
          </a:xfrm>
        </p:grpSpPr>
        <p:sp>
          <p:nvSpPr>
            <p:cNvPr id="2373" name=""/>
            <p:cNvSpPr/>
            <p:nvPr/>
          </p:nvSpPr>
          <p:spPr>
            <a:xfrm>
              <a:off x="685800" y="8380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ed because of con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371600" y="16765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95449-577F-4B68-9A50-C47B79E9FB3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76" name=""/>
          <p:cNvGrpSpPr/>
          <p:nvPr/>
        </p:nvGrpSpPr>
        <p:grpSpPr>
          <a:xfrm>
            <a:off x="0" y="0"/>
            <a:ext cx="6628680" cy="1981080"/>
            <a:chOff x="0" y="0"/>
            <a:chExt cx="6628680" cy="1981080"/>
          </a:xfrm>
        </p:grpSpPr>
        <p:grpSp>
          <p:nvGrpSpPr>
            <p:cNvPr id="2377" name=""/>
            <p:cNvGrpSpPr/>
            <p:nvPr/>
          </p:nvGrpSpPr>
          <p:grpSpPr>
            <a:xfrm>
              <a:off x="0" y="0"/>
              <a:ext cx="6628680" cy="330120"/>
              <a:chOff x="0" y="0"/>
              <a:chExt cx="6628680" cy="330120"/>
            </a:xfrm>
          </p:grpSpPr>
          <p:sp>
            <p:nvSpPr>
              <p:cNvPr id="2378" name=""/>
              <p:cNvSpPr/>
              <p:nvPr/>
            </p:nvSpPr>
            <p:spPr>
              <a:xfrm>
                <a:off x="0" y="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0" y="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0" y="330120"/>
              <a:ext cx="6628680" cy="330120"/>
              <a:chOff x="0" y="330120"/>
              <a:chExt cx="6628680" cy="330120"/>
            </a:xfrm>
          </p:grpSpPr>
          <p:sp>
            <p:nvSpPr>
              <p:cNvPr id="2381" name=""/>
              <p:cNvSpPr/>
              <p:nvPr/>
            </p:nvSpPr>
            <p:spPr>
              <a:xfrm>
                <a:off x="0" y="3301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0" y="3301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Number of employees after dele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0" y="660240"/>
              <a:ext cx="6628680" cy="330120"/>
              <a:chOff x="0" y="660240"/>
              <a:chExt cx="6628680" cy="330120"/>
            </a:xfrm>
          </p:grpSpPr>
          <p:sp>
            <p:nvSpPr>
              <p:cNvPr id="2384" name=""/>
              <p:cNvSpPr/>
              <p:nvPr/>
            </p:nvSpPr>
            <p:spPr>
              <a:xfrm>
                <a:off x="0" y="6602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0" y="6602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mployee::getCount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0" y="990720"/>
              <a:ext cx="6628680" cy="330120"/>
              <a:chOff x="0" y="990720"/>
              <a:chExt cx="6628680" cy="330120"/>
            </a:xfrm>
          </p:grpSpPr>
          <p:sp>
            <p:nvSpPr>
              <p:cNvPr id="2387" name=""/>
              <p:cNvSpPr/>
              <p:nvPr/>
            </p:nvSpPr>
            <p:spPr>
              <a:xfrm>
                <a:off x="0" y="9907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0" y="9907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0" y="1320840"/>
              <a:ext cx="6628680" cy="330120"/>
              <a:chOff x="0" y="1320840"/>
              <a:chExt cx="6628680" cy="330120"/>
            </a:xfrm>
          </p:grpSpPr>
          <p:sp>
            <p:nvSpPr>
              <p:cNvPr id="2390" name=""/>
              <p:cNvSpPr/>
              <p:nvPr/>
            </p:nvSpPr>
            <p:spPr>
              <a:xfrm>
                <a:off x="0" y="13208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0" y="13208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0" y="1650960"/>
              <a:ext cx="6628680" cy="330120"/>
              <a:chOff x="0" y="1650960"/>
              <a:chExt cx="6628680" cy="330120"/>
            </a:xfrm>
          </p:grpSpPr>
          <p:sp>
            <p:nvSpPr>
              <p:cNvPr id="2393" name=""/>
              <p:cNvSpPr/>
              <p:nvPr/>
            </p:nvSpPr>
            <p:spPr>
              <a:xfrm>
                <a:off x="0" y="165096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0" y="165096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5" name=""/>
          <p:cNvSpPr/>
          <p:nvPr/>
        </p:nvSpPr>
        <p:spPr>
          <a:xfrm>
            <a:off x="0" y="220968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before instantia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constructor for Susan Baker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constructor for Robert Jones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after instantiation i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1: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2: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~Employee() called for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~Employee() called for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after dele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6" name=""/>
          <p:cNvGrpSpPr/>
          <p:nvPr/>
        </p:nvGrpSpPr>
        <p:grpSpPr>
          <a:xfrm>
            <a:off x="3581280" y="914400"/>
            <a:ext cx="2895840" cy="3124080"/>
            <a:chOff x="3581280" y="914400"/>
            <a:chExt cx="2895840" cy="3124080"/>
          </a:xfrm>
        </p:grpSpPr>
        <p:sp>
          <p:nvSpPr>
            <p:cNvPr id="2397" name=""/>
            <p:cNvSpPr/>
            <p:nvPr/>
          </p:nvSpPr>
          <p:spPr>
            <a:xfrm flipH="1" flipV="1">
              <a:off x="3886200" y="91440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3581280" y="1752480"/>
              <a:ext cx="18288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733920" y="144792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ck to ze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8FFD-1B99-4EEC-B150-24C870AE7E9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ata Abstraction and Information Hi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hide implementation details from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stack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elements added (pushed) onto the bottom and removed (popped) from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-in, first-out (LIFO)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does not care how stack is implemented, only wants LIFO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data types (AD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real world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models for a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s an extensibl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data types cannot be changed, but new data types can be cre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CDF7-51DF-4650-90E5-5AF03DA11FD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1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Array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can make an ADT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ld incl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range chec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rbitrary range of subscripts instead of having to start with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ass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compari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input/out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that know their siz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that expand dynamically to accommodate more e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E243-42E5-4EC9-81C1-EE5FBFB8660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String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does not provide a built in string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es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mechanisms for creating and implementing a string abstract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available in ANSI/ISO standard (Chapter 1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C3A0-FB12-4058-A8B6-F42555B13AB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6628680" cy="6857640"/>
            <a:chOff x="0" y="0"/>
            <a:chExt cx="6628680" cy="685764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6628680" cy="237600"/>
              <a:chOff x="0" y="0"/>
              <a:chExt cx="6628680" cy="237600"/>
            </a:xfrm>
          </p:grpSpPr>
          <p:sp>
            <p:nvSpPr>
              <p:cNvPr id="104" name=""/>
              <p:cNvSpPr/>
              <p:nvPr/>
            </p:nvSpPr>
            <p:spPr>
              <a:xfrm>
                <a:off x="0" y="0"/>
                <a:ext cx="662868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0"/>
                <a:ext cx="662868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1: time5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0" y="237600"/>
              <a:ext cx="6628680" cy="220320"/>
              <a:chOff x="0" y="237600"/>
              <a:chExt cx="6628680" cy="220320"/>
            </a:xfrm>
          </p:grpSpPr>
          <p:sp>
            <p:nvSpPr>
              <p:cNvPr id="107" name=""/>
              <p:cNvSpPr/>
              <p:nvPr/>
            </p:nvSpPr>
            <p:spPr>
              <a:xfrm>
                <a:off x="0" y="237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37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0" y="458280"/>
              <a:ext cx="6628680" cy="220680"/>
              <a:chOff x="0" y="458280"/>
              <a:chExt cx="6628680" cy="220680"/>
            </a:xfrm>
          </p:grpSpPr>
          <p:sp>
            <p:nvSpPr>
              <p:cNvPr id="110" name=""/>
              <p:cNvSpPr/>
              <p:nvPr/>
            </p:nvSpPr>
            <p:spPr>
              <a:xfrm>
                <a:off x="0" y="45828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5828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0" y="678960"/>
              <a:ext cx="6628680" cy="220320"/>
              <a:chOff x="0" y="678960"/>
              <a:chExt cx="6628680" cy="22032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6789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6789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899640"/>
              <a:ext cx="6628680" cy="220320"/>
              <a:chOff x="0" y="899640"/>
              <a:chExt cx="6628680" cy="22032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899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899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1120320"/>
              <a:ext cx="6628680" cy="220320"/>
              <a:chOff x="0" y="1120320"/>
              <a:chExt cx="6628680" cy="22032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1120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120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1341000"/>
              <a:ext cx="6628680" cy="220680"/>
              <a:chOff x="0" y="1341000"/>
              <a:chExt cx="6628680" cy="2206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13410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3410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1561680"/>
              <a:ext cx="6628680" cy="220320"/>
              <a:chOff x="0" y="1561680"/>
              <a:chExt cx="6628680" cy="22032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15616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5616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782360"/>
              <a:ext cx="6628680" cy="220320"/>
              <a:chOff x="0" y="1782360"/>
              <a:chExt cx="6628680" cy="22032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7823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7823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2003040"/>
              <a:ext cx="6628680" cy="220320"/>
              <a:chOff x="0" y="2003040"/>
              <a:chExt cx="6628680" cy="22032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20030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20030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2223720"/>
              <a:ext cx="6628680" cy="220320"/>
              <a:chOff x="0" y="2223720"/>
              <a:chExt cx="6628680" cy="22032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22237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22237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2444400"/>
              <a:ext cx="6628680" cy="220680"/>
              <a:chOff x="0" y="2444400"/>
              <a:chExt cx="6628680" cy="2206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4444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444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665080"/>
              <a:ext cx="6628680" cy="220320"/>
              <a:chOff x="0" y="2665080"/>
              <a:chExt cx="6628680" cy="22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6650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6650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885760"/>
              <a:ext cx="6628680" cy="220320"/>
              <a:chOff x="0" y="2885760"/>
              <a:chExt cx="6628680" cy="22032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8857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8857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3106440"/>
              <a:ext cx="6628680" cy="220320"/>
              <a:chOff x="0" y="3106440"/>
              <a:chExt cx="6628680" cy="22032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31064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31064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3327120"/>
              <a:ext cx="6628680" cy="220680"/>
              <a:chOff x="0" y="3327120"/>
              <a:chExt cx="6628680" cy="2206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332712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32712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3547800"/>
              <a:ext cx="6628680" cy="220320"/>
              <a:chOff x="0" y="3547800"/>
              <a:chExt cx="6628680" cy="22032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35478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35478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768480"/>
              <a:ext cx="6628680" cy="220320"/>
              <a:chOff x="0" y="3768480"/>
              <a:chExt cx="6628680" cy="22032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7684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7684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989160"/>
              <a:ext cx="6628680" cy="220320"/>
              <a:chOff x="0" y="3989160"/>
              <a:chExt cx="6628680" cy="22032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9891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9891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4209840"/>
              <a:ext cx="6628680" cy="220680"/>
              <a:chOff x="0" y="4209840"/>
              <a:chExt cx="6628680" cy="22068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420984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420984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4430520"/>
              <a:ext cx="6628680" cy="220320"/>
              <a:chOff x="0" y="4430520"/>
              <a:chExt cx="6628680" cy="22032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44305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44305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4651200"/>
              <a:ext cx="6628680" cy="220320"/>
              <a:chOff x="0" y="4651200"/>
              <a:chExt cx="6628680" cy="22032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46512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46512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4871880"/>
              <a:ext cx="6628680" cy="220320"/>
              <a:chOff x="0" y="4871880"/>
              <a:chExt cx="6628680" cy="22032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48718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8718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5092560"/>
              <a:ext cx="6628680" cy="220680"/>
              <a:chOff x="0" y="5092560"/>
              <a:chExt cx="6628680" cy="22068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50925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925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5313240"/>
              <a:ext cx="6628680" cy="220320"/>
              <a:chOff x="0" y="5313240"/>
              <a:chExt cx="6628680" cy="22032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53132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53132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5533920"/>
              <a:ext cx="6628680" cy="220320"/>
              <a:chOff x="0" y="5533920"/>
              <a:chExt cx="6628680" cy="22032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55339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5339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5754600"/>
              <a:ext cx="6628680" cy="220320"/>
              <a:chOff x="0" y="5754600"/>
              <a:chExt cx="6628680" cy="22032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5754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5754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5975280"/>
              <a:ext cx="6628680" cy="220320"/>
              <a:chOff x="0" y="5975280"/>
              <a:chExt cx="6628680" cy="22032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59752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59752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6195960"/>
              <a:ext cx="6628680" cy="220680"/>
              <a:chOff x="0" y="6195960"/>
              <a:chExt cx="6628680" cy="22068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61959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61959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6416640"/>
              <a:ext cx="6628680" cy="220320"/>
              <a:chOff x="0" y="6416640"/>
              <a:chExt cx="6628680" cy="22032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6416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416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6637320"/>
              <a:ext cx="6628680" cy="220320"/>
              <a:chOff x="0" y="6637320"/>
              <a:chExt cx="6628680" cy="22032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6637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6637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505320" y="3276720"/>
            <a:ext cx="2971800" cy="1342440"/>
            <a:chOff x="3505320" y="3276720"/>
            <a:chExt cx="2971800" cy="1342440"/>
          </a:xfrm>
        </p:grpSpPr>
        <p:sp>
          <p:nvSpPr>
            <p:cNvPr id="198" name=""/>
            <p:cNvSpPr/>
            <p:nvPr/>
          </p:nvSpPr>
          <p:spPr>
            <a:xfrm>
              <a:off x="5257800" y="403848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14440" y="411480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505320" y="3276720"/>
              <a:ext cx="1752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352680" y="2286000"/>
            <a:ext cx="3124440" cy="3400200"/>
            <a:chOff x="3352680" y="2286000"/>
            <a:chExt cx="3124440" cy="3400200"/>
          </a:xfrm>
        </p:grpSpPr>
        <p:sp>
          <p:nvSpPr>
            <p:cNvPr id="202" name=""/>
            <p:cNvSpPr/>
            <p:nvPr/>
          </p:nvSpPr>
          <p:spPr>
            <a:xfrm>
              <a:off x="5257800" y="510552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4038120" y="449532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352680" y="2286000"/>
              <a:ext cx="1981440" cy="28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1E56-3944-4BA7-8EFA-3AE8FFA027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3 Example: Queue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waiting in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First in, firs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items in a queue one at a time, from the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items from a queue one at a time, from the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hidden from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 A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s may not manipulate data structure directl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queue member functions can access internal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4416-F046-401D-95B0-76C087F78DF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"/>
          <p:cNvSpPr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tainer Classes and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lasses (collection clas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designed to hold collection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ervices such as insertion, deletion, searching, sorting, or testing an i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stacks, queues, trees and linked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 objects (iter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that returns the next item of a collection (or performs some action on the next ite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have several iterators per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with multiple book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iterator maintains its own “position”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further in chapter 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9D0A-2CA2-44C4-BD2D-706EDB205B3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xy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hide implementation details of a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hat knows only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face of the class being h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clients to use class’s services without giving access to class’s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class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 class definition only uses a pointer to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s the need for including the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a class before it is referen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lassToLo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3382-1E53-4DF2-9265-7449EF72583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Forward class declar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1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415" name=""/>
            <p:cNvGrpSpPr/>
            <p:nvPr/>
          </p:nvGrpSpPr>
          <p:grpSpPr>
            <a:xfrm>
              <a:off x="0" y="0"/>
              <a:ext cx="6705000" cy="3428640"/>
              <a:chOff x="0" y="0"/>
              <a:chExt cx="6705000" cy="3428640"/>
            </a:xfrm>
          </p:grpSpPr>
          <p:grpSp>
            <p:nvGrpSpPr>
              <p:cNvPr id="2416" name=""/>
              <p:cNvGrpSpPr/>
              <p:nvPr/>
            </p:nvGrpSpPr>
            <p:grpSpPr>
              <a:xfrm>
                <a:off x="0" y="0"/>
                <a:ext cx="6705000" cy="285480"/>
                <a:chOff x="0" y="0"/>
                <a:chExt cx="6705000" cy="285480"/>
              </a:xfrm>
            </p:grpSpPr>
            <p:sp>
              <p:nvSpPr>
                <p:cNvPr id="2417" name=""/>
                <p:cNvSpPr/>
                <p:nvPr/>
              </p:nvSpPr>
              <p:spPr>
                <a:xfrm>
                  <a:off x="0" y="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0" y="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implementation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9" name=""/>
              <p:cNvGrpSpPr/>
              <p:nvPr/>
            </p:nvGrpSpPr>
            <p:grpSpPr>
              <a:xfrm>
                <a:off x="0" y="285480"/>
                <a:ext cx="6705000" cy="285480"/>
                <a:chOff x="0" y="285480"/>
                <a:chExt cx="6705000" cy="285480"/>
              </a:xfrm>
            </p:grpSpPr>
            <p:sp>
              <p:nvSpPr>
                <p:cNvPr id="2420" name=""/>
                <p:cNvSpPr/>
                <p:nvPr/>
              </p:nvSpPr>
              <p:spPr>
                <a:xfrm>
                  <a:off x="0" y="285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0" y="285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Header file for class Implemen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2" name=""/>
              <p:cNvGrpSpPr/>
              <p:nvPr/>
            </p:nvGrpSpPr>
            <p:grpSpPr>
              <a:xfrm>
                <a:off x="0" y="571320"/>
                <a:ext cx="6705000" cy="285840"/>
                <a:chOff x="0" y="571320"/>
                <a:chExt cx="6705000" cy="285840"/>
              </a:xfrm>
            </p:grpSpPr>
            <p:sp>
              <p:nvSpPr>
                <p:cNvPr id="2423" name=""/>
                <p:cNvSpPr/>
                <p:nvPr/>
              </p:nvSpPr>
              <p:spPr>
                <a:xfrm>
                  <a:off x="0" y="571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0" y="571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5" name=""/>
              <p:cNvGrpSpPr/>
              <p:nvPr/>
            </p:nvGrpSpPr>
            <p:grpSpPr>
              <a:xfrm>
                <a:off x="0" y="857160"/>
                <a:ext cx="6705000" cy="285480"/>
                <a:chOff x="0" y="857160"/>
                <a:chExt cx="6705000" cy="285480"/>
              </a:xfrm>
            </p:grpSpPr>
            <p:sp>
              <p:nvSpPr>
                <p:cNvPr id="2426" name=""/>
                <p:cNvSpPr/>
                <p:nvPr/>
              </p:nvSpPr>
              <p:spPr>
                <a:xfrm>
                  <a:off x="0" y="857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0" y="857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mplementation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8" name=""/>
              <p:cNvGrpSpPr/>
              <p:nvPr/>
            </p:nvGrpSpPr>
            <p:grpSpPr>
              <a:xfrm>
                <a:off x="0" y="1143000"/>
                <a:ext cx="6705000" cy="285480"/>
                <a:chOff x="0" y="1143000"/>
                <a:chExt cx="6705000" cy="285480"/>
              </a:xfrm>
            </p:grpSpPr>
            <p:sp>
              <p:nvSpPr>
                <p:cNvPr id="2429" name=""/>
                <p:cNvSpPr/>
                <p:nvPr/>
              </p:nvSpPr>
              <p:spPr>
                <a:xfrm>
                  <a:off x="0" y="1143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0" y="1143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1" name=""/>
              <p:cNvGrpSpPr/>
              <p:nvPr/>
            </p:nvGrpSpPr>
            <p:grpSpPr>
              <a:xfrm>
                <a:off x="0" y="1428480"/>
                <a:ext cx="6705000" cy="285480"/>
                <a:chOff x="0" y="1428480"/>
                <a:chExt cx="6705000" cy="285480"/>
              </a:xfrm>
            </p:grpSpPr>
            <p:sp>
              <p:nvSpPr>
                <p:cNvPr id="2432" name=""/>
                <p:cNvSpPr/>
                <p:nvPr/>
              </p:nvSpPr>
              <p:spPr>
                <a:xfrm>
                  <a:off x="0" y="1428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0" y="1428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mplementation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{ value = v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4" name=""/>
              <p:cNvGrpSpPr/>
              <p:nvPr/>
            </p:nvGrpSpPr>
            <p:grpSpPr>
              <a:xfrm>
                <a:off x="0" y="1714320"/>
                <a:ext cx="6705000" cy="285840"/>
                <a:chOff x="0" y="1714320"/>
                <a:chExt cx="6705000" cy="285840"/>
              </a:xfrm>
            </p:grpSpPr>
            <p:sp>
              <p:nvSpPr>
                <p:cNvPr id="2435" name=""/>
                <p:cNvSpPr/>
                <p:nvPr/>
              </p:nvSpPr>
              <p:spPr>
                <a:xfrm>
                  <a:off x="0" y="1714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0" y="1714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etValu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{ value = v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7" name=""/>
              <p:cNvGrpSpPr/>
              <p:nvPr/>
            </p:nvGrpSpPr>
            <p:grpSpPr>
              <a:xfrm>
                <a:off x="0" y="2000160"/>
                <a:ext cx="6705000" cy="285480"/>
                <a:chOff x="0" y="2000160"/>
                <a:chExt cx="6705000" cy="285480"/>
              </a:xfrm>
            </p:grpSpPr>
            <p:sp>
              <p:nvSpPr>
                <p:cNvPr id="2438" name=""/>
                <p:cNvSpPr/>
                <p:nvPr/>
              </p:nvSpPr>
              <p:spPr>
                <a:xfrm>
                  <a:off x="0" y="2000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0" y="2000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getValue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alue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0" name=""/>
              <p:cNvGrpSpPr/>
              <p:nvPr/>
            </p:nvGrpSpPr>
            <p:grpSpPr>
              <a:xfrm>
                <a:off x="0" y="2286000"/>
                <a:ext cx="6705000" cy="285480"/>
                <a:chOff x="0" y="2286000"/>
                <a:chExt cx="6705000" cy="285480"/>
              </a:xfrm>
            </p:grpSpPr>
            <p:sp>
              <p:nvSpPr>
                <p:cNvPr id="2441" name=""/>
                <p:cNvSpPr/>
                <p:nvPr/>
              </p:nvSpPr>
              <p:spPr>
                <a:xfrm>
                  <a:off x="0" y="2286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0" y="2286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3" name=""/>
              <p:cNvGrpSpPr/>
              <p:nvPr/>
            </p:nvGrpSpPr>
            <p:grpSpPr>
              <a:xfrm>
                <a:off x="0" y="2571840"/>
                <a:ext cx="6705000" cy="285480"/>
                <a:chOff x="0" y="2571840"/>
                <a:chExt cx="6705000" cy="285480"/>
              </a:xfrm>
            </p:grpSpPr>
            <p:sp>
              <p:nvSpPr>
                <p:cNvPr id="2444" name=""/>
                <p:cNvSpPr/>
                <p:nvPr/>
              </p:nvSpPr>
              <p:spPr>
                <a:xfrm>
                  <a:off x="0" y="257184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0" y="257184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6" name=""/>
              <p:cNvGrpSpPr/>
              <p:nvPr/>
            </p:nvGrpSpPr>
            <p:grpSpPr>
              <a:xfrm>
                <a:off x="0" y="2857320"/>
                <a:ext cx="6705000" cy="285840"/>
                <a:chOff x="0" y="2857320"/>
                <a:chExt cx="6705000" cy="28584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0" y="2857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0" y="2857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alue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9" name=""/>
              <p:cNvGrpSpPr/>
              <p:nvPr/>
            </p:nvGrpSpPr>
            <p:grpSpPr>
              <a:xfrm>
                <a:off x="0" y="3143160"/>
                <a:ext cx="6705000" cy="285480"/>
                <a:chOff x="0" y="3143160"/>
                <a:chExt cx="6705000" cy="285480"/>
              </a:xfrm>
            </p:grpSpPr>
            <p:sp>
              <p:nvSpPr>
                <p:cNvPr id="2450" name=""/>
                <p:cNvSpPr/>
                <p:nvPr/>
              </p:nvSpPr>
              <p:spPr>
                <a:xfrm>
                  <a:off x="0" y="3143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0" y="3143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52" name=""/>
            <p:cNvGrpSpPr/>
            <p:nvPr/>
          </p:nvGrpSpPr>
          <p:grpSpPr>
            <a:xfrm>
              <a:off x="0" y="3429000"/>
              <a:ext cx="6705000" cy="3429000"/>
              <a:chOff x="0" y="3429000"/>
              <a:chExt cx="6705000" cy="3429000"/>
            </a:xfrm>
          </p:grpSpPr>
          <p:grpSp>
            <p:nvGrpSpPr>
              <p:cNvPr id="2453" name=""/>
              <p:cNvGrpSpPr/>
              <p:nvPr/>
            </p:nvGrpSpPr>
            <p:grpSpPr>
              <a:xfrm>
                <a:off x="0" y="3429000"/>
                <a:ext cx="6705000" cy="244800"/>
                <a:chOff x="0" y="3429000"/>
                <a:chExt cx="6705000" cy="244800"/>
              </a:xfrm>
            </p:grpSpPr>
            <p:sp>
              <p:nvSpPr>
                <p:cNvPr id="2454" name=""/>
                <p:cNvSpPr/>
                <p:nvPr/>
              </p:nvSpPr>
              <p:spPr>
                <a:xfrm>
                  <a:off x="0" y="34290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0" y="34290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interface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6" name=""/>
              <p:cNvGrpSpPr/>
              <p:nvPr/>
            </p:nvGrpSpPr>
            <p:grpSpPr>
              <a:xfrm>
                <a:off x="0" y="3673800"/>
                <a:ext cx="6705000" cy="244800"/>
                <a:chOff x="0" y="3673800"/>
                <a:chExt cx="6705000" cy="244800"/>
              </a:xfrm>
            </p:grpSpPr>
            <p:sp>
              <p:nvSpPr>
                <p:cNvPr id="2457" name=""/>
                <p:cNvSpPr/>
                <p:nvPr/>
              </p:nvSpPr>
              <p:spPr>
                <a:xfrm>
                  <a:off x="0" y="36738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0" y="36738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Header file for interface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9" name=""/>
              <p:cNvGrpSpPr/>
              <p:nvPr/>
            </p:nvGrpSpPr>
            <p:grpSpPr>
              <a:xfrm>
                <a:off x="0" y="3918600"/>
                <a:ext cx="6705000" cy="244800"/>
                <a:chOff x="0" y="3918600"/>
                <a:chExt cx="6705000" cy="244800"/>
              </a:xfrm>
            </p:grpSpPr>
            <p:sp>
              <p:nvSpPr>
                <p:cNvPr id="2460" name=""/>
                <p:cNvSpPr/>
                <p:nvPr/>
              </p:nvSpPr>
              <p:spPr>
                <a:xfrm>
                  <a:off x="0" y="39186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0" y="39186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mplementation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// forward class declar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2" name=""/>
              <p:cNvGrpSpPr/>
              <p:nvPr/>
            </p:nvGrpSpPr>
            <p:grpSpPr>
              <a:xfrm>
                <a:off x="0" y="4163760"/>
                <a:ext cx="6705000" cy="244800"/>
                <a:chOff x="0" y="4163760"/>
                <a:chExt cx="6705000" cy="24480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0" y="41637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0" y="41637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5" name=""/>
              <p:cNvGrpSpPr/>
              <p:nvPr/>
            </p:nvGrpSpPr>
            <p:grpSpPr>
              <a:xfrm>
                <a:off x="0" y="4408560"/>
                <a:ext cx="6705000" cy="244800"/>
                <a:chOff x="0" y="4408560"/>
                <a:chExt cx="6705000" cy="244800"/>
              </a:xfrm>
            </p:grpSpPr>
            <p:sp>
              <p:nvSpPr>
                <p:cNvPr id="2466" name=""/>
                <p:cNvSpPr/>
                <p:nvPr/>
              </p:nvSpPr>
              <p:spPr>
                <a:xfrm>
                  <a:off x="0" y="44085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0" y="44085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nterface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8" name=""/>
              <p:cNvGrpSpPr/>
              <p:nvPr/>
            </p:nvGrpSpPr>
            <p:grpSpPr>
              <a:xfrm>
                <a:off x="0" y="4653360"/>
                <a:ext cx="6705000" cy="244800"/>
                <a:chOff x="0" y="4653360"/>
                <a:chExt cx="6705000" cy="24480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0" y="46533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0" y="46533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1" name=""/>
              <p:cNvGrpSpPr/>
              <p:nvPr/>
            </p:nvGrpSpPr>
            <p:grpSpPr>
              <a:xfrm>
                <a:off x="0" y="4898520"/>
                <a:ext cx="6705000" cy="244800"/>
                <a:chOff x="0" y="4898520"/>
                <a:chExt cx="6705000" cy="244800"/>
              </a:xfrm>
            </p:grpSpPr>
            <p:sp>
              <p:nvSpPr>
                <p:cNvPr id="2472" name=""/>
                <p:cNvSpPr/>
                <p:nvPr/>
              </p:nvSpPr>
              <p:spPr>
                <a:xfrm>
                  <a:off x="0" y="489852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0" y="489852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nterfac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4" name=""/>
              <p:cNvGrpSpPr/>
              <p:nvPr/>
            </p:nvGrpSpPr>
            <p:grpSpPr>
              <a:xfrm>
                <a:off x="0" y="5143680"/>
                <a:ext cx="6705000" cy="244800"/>
                <a:chOff x="0" y="5143680"/>
                <a:chExt cx="6705000" cy="244800"/>
              </a:xfrm>
            </p:grpSpPr>
            <p:sp>
              <p:nvSpPr>
                <p:cNvPr id="2475" name=""/>
                <p:cNvSpPr/>
                <p:nvPr/>
              </p:nvSpPr>
              <p:spPr>
                <a:xfrm>
                  <a:off x="0" y="51436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0" y="51436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etValu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)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same public interface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7" name=""/>
              <p:cNvGrpSpPr/>
              <p:nvPr/>
            </p:nvGrpSpPr>
            <p:grpSpPr>
              <a:xfrm>
                <a:off x="0" y="5388480"/>
                <a:ext cx="6705000" cy="244800"/>
                <a:chOff x="0" y="5388480"/>
                <a:chExt cx="6705000" cy="244800"/>
              </a:xfrm>
            </p:grpSpPr>
            <p:sp>
              <p:nvSpPr>
                <p:cNvPr id="2478" name=""/>
                <p:cNvSpPr/>
                <p:nvPr/>
              </p:nvSpPr>
              <p:spPr>
                <a:xfrm>
                  <a:off x="0" y="53884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0" y="53884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getValue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lass Implemen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0" name=""/>
              <p:cNvGrpSpPr/>
              <p:nvPr/>
            </p:nvGrpSpPr>
            <p:grpSpPr>
              <a:xfrm>
                <a:off x="0" y="5633280"/>
                <a:ext cx="6705000" cy="244800"/>
                <a:chOff x="0" y="5633280"/>
                <a:chExt cx="6705000" cy="244800"/>
              </a:xfrm>
            </p:grpSpPr>
            <p:sp>
              <p:nvSpPr>
                <p:cNvPr id="2481" name=""/>
                <p:cNvSpPr/>
                <p:nvPr/>
              </p:nvSpPr>
              <p:spPr>
                <a:xfrm>
                  <a:off x="0" y="56332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0" y="56332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~Interface(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3" name=""/>
              <p:cNvGrpSpPr/>
              <p:nvPr/>
            </p:nvGrpSpPr>
            <p:grpSpPr>
              <a:xfrm>
                <a:off x="0" y="5878080"/>
                <a:ext cx="6705000" cy="244800"/>
                <a:chOff x="0" y="5878080"/>
                <a:chExt cx="6705000" cy="244800"/>
              </a:xfrm>
            </p:grpSpPr>
            <p:sp>
              <p:nvSpPr>
                <p:cNvPr id="2484" name=""/>
                <p:cNvSpPr/>
                <p:nvPr/>
              </p:nvSpPr>
              <p:spPr>
                <a:xfrm>
                  <a:off x="0" y="58780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0" y="58780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6" name=""/>
              <p:cNvGrpSpPr/>
              <p:nvPr/>
            </p:nvGrpSpPr>
            <p:grpSpPr>
              <a:xfrm>
                <a:off x="0" y="6123240"/>
                <a:ext cx="6705000" cy="244800"/>
                <a:chOff x="0" y="6123240"/>
                <a:chExt cx="6705000" cy="244800"/>
              </a:xfrm>
            </p:grpSpPr>
            <p:sp>
              <p:nvSpPr>
                <p:cNvPr id="2487" name=""/>
                <p:cNvSpPr/>
                <p:nvPr/>
              </p:nvSpPr>
              <p:spPr>
                <a:xfrm>
                  <a:off x="0" y="61232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0" y="61232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mplementation *ptr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// requires previou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9" name=""/>
              <p:cNvGrpSpPr/>
              <p:nvPr/>
            </p:nvGrpSpPr>
            <p:grpSpPr>
              <a:xfrm>
                <a:off x="0" y="6368040"/>
                <a:ext cx="6705000" cy="244800"/>
                <a:chOff x="0" y="6368040"/>
                <a:chExt cx="6705000" cy="244800"/>
              </a:xfrm>
            </p:grpSpPr>
            <p:sp>
              <p:nvSpPr>
                <p:cNvPr id="2490" name=""/>
                <p:cNvSpPr/>
                <p:nvPr/>
              </p:nvSpPr>
              <p:spPr>
                <a:xfrm>
                  <a:off x="0" y="63680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0" y="63680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    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orward declar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2" name=""/>
              <p:cNvGrpSpPr/>
              <p:nvPr/>
            </p:nvGrpSpPr>
            <p:grpSpPr>
              <a:xfrm>
                <a:off x="0" y="6613200"/>
                <a:ext cx="6705000" cy="244800"/>
                <a:chOff x="0" y="6613200"/>
                <a:chExt cx="6705000" cy="244800"/>
              </a:xfrm>
            </p:grpSpPr>
            <p:sp>
              <p:nvSpPr>
                <p:cNvPr id="2493" name=""/>
                <p:cNvSpPr/>
                <p:nvPr/>
              </p:nvSpPr>
              <p:spPr>
                <a:xfrm>
                  <a:off x="0" y="66132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0" y="66132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95" name=""/>
          <p:cNvGrpSpPr/>
          <p:nvPr/>
        </p:nvGrpSpPr>
        <p:grpSpPr>
          <a:xfrm>
            <a:off x="1752120" y="1828800"/>
            <a:ext cx="3886560" cy="990360"/>
            <a:chOff x="1752120" y="1828800"/>
            <a:chExt cx="3886560" cy="990360"/>
          </a:xfrm>
        </p:grpSpPr>
        <p:sp>
          <p:nvSpPr>
            <p:cNvPr id="2496" name=""/>
            <p:cNvSpPr/>
            <p:nvPr/>
          </p:nvSpPr>
          <p:spPr>
            <a:xfrm flipH="1">
              <a:off x="1752120" y="2286000"/>
              <a:ext cx="11430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590560" y="182880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we want to hi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8" name=""/>
          <p:cNvGrpSpPr/>
          <p:nvPr/>
        </p:nvGrpSpPr>
        <p:grpSpPr>
          <a:xfrm>
            <a:off x="1523520" y="2819520"/>
            <a:ext cx="3734280" cy="1066680"/>
            <a:chOff x="1523520" y="2819520"/>
            <a:chExt cx="3734280" cy="1066680"/>
          </a:xfrm>
        </p:grpSpPr>
        <p:sp>
          <p:nvSpPr>
            <p:cNvPr id="2499" name=""/>
            <p:cNvSpPr/>
            <p:nvPr/>
          </p:nvSpPr>
          <p:spPr>
            <a:xfrm flipH="1">
              <a:off x="1523520" y="312408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819520" y="281952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ward class decla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1828440" y="4495680"/>
            <a:ext cx="4953240" cy="1681200"/>
            <a:chOff x="1828440" y="4495680"/>
            <a:chExt cx="4953240" cy="1681200"/>
          </a:xfrm>
        </p:grpSpPr>
        <p:sp>
          <p:nvSpPr>
            <p:cNvPr id="2502" name=""/>
            <p:cNvSpPr/>
            <p:nvPr/>
          </p:nvSpPr>
          <p:spPr>
            <a:xfrm flipH="1">
              <a:off x="1828440" y="5181480"/>
              <a:ext cx="1523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200400" y="4495680"/>
              <a:ext cx="3581280" cy="1681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xy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fac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as same public interface a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uses a pointer to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 This allows us to hide the implementation detai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6E39-0D80-435F-B411-A22036BB581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interface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505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506" name=""/>
            <p:cNvGrpSpPr/>
            <p:nvPr/>
          </p:nvGrpSpPr>
          <p:grpSpPr>
            <a:xfrm>
              <a:off x="0" y="0"/>
              <a:ext cx="6705000" cy="2971800"/>
              <a:chOff x="0" y="0"/>
              <a:chExt cx="6705000" cy="2971800"/>
            </a:xfrm>
          </p:grpSpPr>
          <p:grpSp>
            <p:nvGrpSpPr>
              <p:cNvPr id="2507" name=""/>
              <p:cNvGrpSpPr/>
              <p:nvPr/>
            </p:nvGrpSpPr>
            <p:grpSpPr>
              <a:xfrm>
                <a:off x="0" y="0"/>
                <a:ext cx="6705000" cy="198000"/>
                <a:chOff x="0" y="0"/>
                <a:chExt cx="6705000" cy="198000"/>
              </a:xfrm>
            </p:grpSpPr>
            <p:sp>
              <p:nvSpPr>
                <p:cNvPr id="2508" name=""/>
                <p:cNvSpPr/>
                <p:nvPr/>
              </p:nvSpPr>
              <p:spPr>
                <a:xfrm>
                  <a:off x="0" y="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0" y="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interface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0" name=""/>
              <p:cNvGrpSpPr/>
              <p:nvPr/>
            </p:nvGrpSpPr>
            <p:grpSpPr>
              <a:xfrm>
                <a:off x="0" y="198000"/>
                <a:ext cx="6705000" cy="198000"/>
                <a:chOff x="0" y="198000"/>
                <a:chExt cx="6705000" cy="198000"/>
              </a:xfrm>
            </p:grpSpPr>
            <p:sp>
              <p:nvSpPr>
                <p:cNvPr id="2511" name=""/>
                <p:cNvSpPr/>
                <p:nvPr/>
              </p:nvSpPr>
              <p:spPr>
                <a:xfrm>
                  <a:off x="0" y="198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0" y="198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finition of class Interfa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3" name=""/>
              <p:cNvGrpSpPr/>
              <p:nvPr/>
            </p:nvGrpSpPr>
            <p:grpSpPr>
              <a:xfrm>
                <a:off x="0" y="396000"/>
                <a:ext cx="6705000" cy="198000"/>
                <a:chOff x="0" y="396000"/>
                <a:chExt cx="6705000" cy="198000"/>
              </a:xfrm>
            </p:grpSpPr>
            <p:sp>
              <p:nvSpPr>
                <p:cNvPr id="2514" name=""/>
                <p:cNvSpPr/>
                <p:nvPr/>
              </p:nvSpPr>
              <p:spPr>
                <a:xfrm>
                  <a:off x="0" y="396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0" y="396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interface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6" name=""/>
              <p:cNvGrpSpPr/>
              <p:nvPr/>
            </p:nvGrpSpPr>
            <p:grpSpPr>
              <a:xfrm>
                <a:off x="0" y="594360"/>
                <a:ext cx="6705000" cy="198000"/>
                <a:chOff x="0" y="594360"/>
                <a:chExt cx="6705000" cy="198000"/>
              </a:xfrm>
            </p:grpSpPr>
            <p:sp>
              <p:nvSpPr>
                <p:cNvPr id="2517" name=""/>
                <p:cNvSpPr/>
                <p:nvPr/>
              </p:nvSpPr>
              <p:spPr>
                <a:xfrm>
                  <a:off x="0" y="594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0" y="594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implementation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9" name=""/>
              <p:cNvGrpSpPr/>
              <p:nvPr/>
            </p:nvGrpSpPr>
            <p:grpSpPr>
              <a:xfrm>
                <a:off x="0" y="792360"/>
                <a:ext cx="6705000" cy="198000"/>
                <a:chOff x="0" y="792360"/>
                <a:chExt cx="6705000" cy="198000"/>
              </a:xfrm>
            </p:grpSpPr>
            <p:sp>
              <p:nvSpPr>
                <p:cNvPr id="2520" name=""/>
                <p:cNvSpPr/>
                <p:nvPr/>
              </p:nvSpPr>
              <p:spPr>
                <a:xfrm>
                  <a:off x="0" y="792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0" y="792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2" name=""/>
              <p:cNvGrpSpPr/>
              <p:nvPr/>
            </p:nvGrpSpPr>
            <p:grpSpPr>
              <a:xfrm>
                <a:off x="0" y="990360"/>
                <a:ext cx="6705000" cy="198000"/>
                <a:chOff x="0" y="990360"/>
                <a:chExt cx="6705000" cy="198000"/>
              </a:xfrm>
            </p:grpSpPr>
            <p:sp>
              <p:nvSpPr>
                <p:cNvPr id="2523" name=""/>
                <p:cNvSpPr/>
                <p:nvPr/>
              </p:nvSpPr>
              <p:spPr>
                <a:xfrm>
                  <a:off x="0" y="990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0" y="990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Interface::Interfac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5" name=""/>
              <p:cNvGrpSpPr/>
              <p:nvPr/>
            </p:nvGrpSpPr>
            <p:grpSpPr>
              <a:xfrm>
                <a:off x="0" y="1188720"/>
                <a:ext cx="6705000" cy="198000"/>
                <a:chOff x="0" y="1188720"/>
                <a:chExt cx="6705000" cy="198000"/>
              </a:xfrm>
            </p:grpSpPr>
            <p:sp>
              <p:nvSpPr>
                <p:cNvPr id="2526" name=""/>
                <p:cNvSpPr/>
                <p:nvPr/>
              </p:nvSpPr>
              <p:spPr>
                <a:xfrm>
                  <a:off x="0" y="1188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0" y="1188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: ptr ( new Implementation( v ) ) {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8" name=""/>
              <p:cNvGrpSpPr/>
              <p:nvPr/>
            </p:nvGrpSpPr>
            <p:grpSpPr>
              <a:xfrm>
                <a:off x="0" y="1386720"/>
                <a:ext cx="6705000" cy="198000"/>
                <a:chOff x="0" y="1386720"/>
                <a:chExt cx="6705000" cy="198000"/>
              </a:xfrm>
            </p:grpSpPr>
            <p:sp>
              <p:nvSpPr>
                <p:cNvPr id="2529" name=""/>
                <p:cNvSpPr/>
                <p:nvPr/>
              </p:nvSpPr>
              <p:spPr>
                <a:xfrm>
                  <a:off x="0" y="1386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0" y="1386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1" name=""/>
              <p:cNvGrpSpPr/>
              <p:nvPr/>
            </p:nvGrpSpPr>
            <p:grpSpPr>
              <a:xfrm>
                <a:off x="0" y="1584720"/>
                <a:ext cx="6705000" cy="198000"/>
                <a:chOff x="0" y="1584720"/>
                <a:chExt cx="6705000" cy="198000"/>
              </a:xfrm>
            </p:grpSpPr>
            <p:sp>
              <p:nvSpPr>
                <p:cNvPr id="2532" name=""/>
                <p:cNvSpPr/>
                <p:nvPr/>
              </p:nvSpPr>
              <p:spPr>
                <a:xfrm>
                  <a:off x="0" y="1584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0" y="1584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all Implementation's setValue fun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4" name=""/>
              <p:cNvGrpSpPr/>
              <p:nvPr/>
            </p:nvGrpSpPr>
            <p:grpSpPr>
              <a:xfrm>
                <a:off x="0" y="1783080"/>
                <a:ext cx="6705000" cy="198000"/>
                <a:chOff x="0" y="1783080"/>
                <a:chExt cx="6705000" cy="198000"/>
              </a:xfrm>
            </p:grpSpPr>
            <p:sp>
              <p:nvSpPr>
                <p:cNvPr id="2535" name=""/>
                <p:cNvSpPr/>
                <p:nvPr/>
              </p:nvSpPr>
              <p:spPr>
                <a:xfrm>
                  <a:off x="0" y="1783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0" y="1783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nterface::setValu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{ ptr-&gt;setValue( v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7" name=""/>
              <p:cNvGrpSpPr/>
              <p:nvPr/>
            </p:nvGrpSpPr>
            <p:grpSpPr>
              <a:xfrm>
                <a:off x="0" y="1981080"/>
                <a:ext cx="6705000" cy="198000"/>
                <a:chOff x="0" y="1981080"/>
                <a:chExt cx="6705000" cy="198000"/>
              </a:xfrm>
            </p:grpSpPr>
            <p:sp>
              <p:nvSpPr>
                <p:cNvPr id="2538" name=""/>
                <p:cNvSpPr/>
                <p:nvPr/>
              </p:nvSpPr>
              <p:spPr>
                <a:xfrm>
                  <a:off x="0" y="1981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0" y="1981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0" name=""/>
              <p:cNvGrpSpPr/>
              <p:nvPr/>
            </p:nvGrpSpPr>
            <p:grpSpPr>
              <a:xfrm>
                <a:off x="0" y="2179440"/>
                <a:ext cx="6705000" cy="198000"/>
                <a:chOff x="0" y="2179440"/>
                <a:chExt cx="6705000" cy="198000"/>
              </a:xfrm>
            </p:grpSpPr>
            <p:sp>
              <p:nvSpPr>
                <p:cNvPr id="2541" name=""/>
                <p:cNvSpPr/>
                <p:nvPr/>
              </p:nvSpPr>
              <p:spPr>
                <a:xfrm>
                  <a:off x="0" y="2179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0" y="2179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all Implementation's getValue fun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3" name=""/>
              <p:cNvGrpSpPr/>
              <p:nvPr/>
            </p:nvGrpSpPr>
            <p:grpSpPr>
              <a:xfrm>
                <a:off x="0" y="2377440"/>
                <a:ext cx="6705000" cy="198000"/>
                <a:chOff x="0" y="2377440"/>
                <a:chExt cx="6705000" cy="198000"/>
              </a:xfrm>
            </p:grpSpPr>
            <p:sp>
              <p:nvSpPr>
                <p:cNvPr id="2544" name=""/>
                <p:cNvSpPr/>
                <p:nvPr/>
              </p:nvSpPr>
              <p:spPr>
                <a:xfrm>
                  <a:off x="0" y="2377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0" y="2377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nterface::getValue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tr-&gt;getValue(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6" name=""/>
              <p:cNvGrpSpPr/>
              <p:nvPr/>
            </p:nvGrpSpPr>
            <p:grpSpPr>
              <a:xfrm>
                <a:off x="0" y="2575440"/>
                <a:ext cx="6705000" cy="198000"/>
                <a:chOff x="0" y="2575440"/>
                <a:chExt cx="6705000" cy="198000"/>
              </a:xfrm>
            </p:grpSpPr>
            <p:sp>
              <p:nvSpPr>
                <p:cNvPr id="2547" name=""/>
                <p:cNvSpPr/>
                <p:nvPr/>
              </p:nvSpPr>
              <p:spPr>
                <a:xfrm>
                  <a:off x="0" y="2575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0" y="2575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9" name=""/>
              <p:cNvGrpSpPr/>
              <p:nvPr/>
            </p:nvGrpSpPr>
            <p:grpSpPr>
              <a:xfrm>
                <a:off x="0" y="2773800"/>
                <a:ext cx="6705000" cy="198000"/>
                <a:chOff x="0" y="2773800"/>
                <a:chExt cx="6705000" cy="198000"/>
              </a:xfrm>
            </p:grpSpPr>
            <p:sp>
              <p:nvSpPr>
                <p:cNvPr id="2550" name=""/>
                <p:cNvSpPr/>
                <p:nvPr/>
              </p:nvSpPr>
              <p:spPr>
                <a:xfrm>
                  <a:off x="0" y="27738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1" name=""/>
                <p:cNvGrpSpPr/>
                <p:nvPr/>
              </p:nvGrpSpPr>
              <p:grpSpPr>
                <a:xfrm>
                  <a:off x="0" y="2773800"/>
                  <a:ext cx="6704640" cy="198000"/>
                  <a:chOff x="0" y="2773800"/>
                  <a:chExt cx="6704640" cy="198000"/>
                </a:xfrm>
              </p:grpSpPr>
              <p:sp>
                <p:nvSpPr>
                  <p:cNvPr id="2552" name=""/>
                  <p:cNvSpPr/>
                  <p:nvPr/>
                </p:nvSpPr>
                <p:spPr>
                  <a:xfrm>
                    <a:off x="0" y="2773800"/>
                    <a:ext cx="6704640" cy="19800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41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Interface::~Interface() { </a:t>
                    </a:r>
                    <a:r>
                      <a:rPr b="1" lang="en-US" sz="1200" spc="-1" strike="noStrike">
                        <a:solidFill>
                          <a:srgbClr val="275aff"/>
                        </a:solidFill>
                        <a:latin typeface="Courier New"/>
                        <a:ea typeface="Times New Roman"/>
                      </a:rPr>
                      <a:t>delete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 ptr; }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>
                    <a:off x="0" y="2773800"/>
                    <a:ext cx="6704640" cy="19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54" name=""/>
            <p:cNvGrpSpPr/>
            <p:nvPr/>
          </p:nvGrpSpPr>
          <p:grpSpPr>
            <a:xfrm>
              <a:off x="0" y="2971800"/>
              <a:ext cx="6705000" cy="3886200"/>
              <a:chOff x="0" y="2971800"/>
              <a:chExt cx="6705000" cy="3886200"/>
            </a:xfrm>
          </p:grpSpPr>
          <p:grpSp>
            <p:nvGrpSpPr>
              <p:cNvPr id="2555" name=""/>
              <p:cNvGrpSpPr/>
              <p:nvPr/>
            </p:nvGrpSpPr>
            <p:grpSpPr>
              <a:xfrm>
                <a:off x="0" y="2971800"/>
                <a:ext cx="6705000" cy="194040"/>
                <a:chOff x="0" y="2971800"/>
                <a:chExt cx="6705000" cy="194040"/>
              </a:xfrm>
            </p:grpSpPr>
            <p:sp>
              <p:nvSpPr>
                <p:cNvPr id="2556" name=""/>
                <p:cNvSpPr/>
                <p:nvPr/>
              </p:nvSpPr>
              <p:spPr>
                <a:xfrm>
                  <a:off x="0" y="29718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0" y="29718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fig07_10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8" name=""/>
              <p:cNvGrpSpPr/>
              <p:nvPr/>
            </p:nvGrpSpPr>
            <p:grpSpPr>
              <a:xfrm>
                <a:off x="0" y="3165840"/>
                <a:ext cx="6705000" cy="194040"/>
                <a:chOff x="0" y="3165840"/>
                <a:chExt cx="6705000" cy="194040"/>
              </a:xfrm>
            </p:grpSpPr>
            <p:sp>
              <p:nvSpPr>
                <p:cNvPr id="2559" name=""/>
                <p:cNvSpPr/>
                <p:nvPr/>
              </p:nvSpPr>
              <p:spPr>
                <a:xfrm>
                  <a:off x="0" y="31658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0" y="31658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Hiding a class’s private data with a proxy clas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1" name=""/>
              <p:cNvGrpSpPr/>
              <p:nvPr/>
            </p:nvGrpSpPr>
            <p:grpSpPr>
              <a:xfrm>
                <a:off x="0" y="3360240"/>
                <a:ext cx="6705000" cy="194400"/>
                <a:chOff x="0" y="3360240"/>
                <a:chExt cx="6705000" cy="194400"/>
              </a:xfrm>
            </p:grpSpPr>
            <p:sp>
              <p:nvSpPr>
                <p:cNvPr id="2562" name=""/>
                <p:cNvSpPr/>
                <p:nvPr/>
              </p:nvSpPr>
              <p:spPr>
                <a:xfrm>
                  <a:off x="0" y="336024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0" y="336024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&lt;iostream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4" name=""/>
              <p:cNvGrpSpPr/>
              <p:nvPr/>
            </p:nvGrpSpPr>
            <p:grpSpPr>
              <a:xfrm>
                <a:off x="0" y="3554640"/>
                <a:ext cx="6705000" cy="194040"/>
                <a:chOff x="0" y="3554640"/>
                <a:chExt cx="6705000" cy="194040"/>
              </a:xfrm>
            </p:grpSpPr>
            <p:sp>
              <p:nvSpPr>
                <p:cNvPr id="2565" name=""/>
                <p:cNvSpPr/>
                <p:nvPr/>
              </p:nvSpPr>
              <p:spPr>
                <a:xfrm>
                  <a:off x="0" y="35546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0" y="35546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7" name=""/>
              <p:cNvGrpSpPr/>
              <p:nvPr/>
            </p:nvGrpSpPr>
            <p:grpSpPr>
              <a:xfrm>
                <a:off x="0" y="3749040"/>
                <a:ext cx="6705000" cy="194040"/>
                <a:chOff x="0" y="3749040"/>
                <a:chExt cx="6705000" cy="194040"/>
              </a:xfrm>
            </p:grpSpPr>
            <p:sp>
              <p:nvSpPr>
                <p:cNvPr id="2568" name=""/>
                <p:cNvSpPr/>
                <p:nvPr/>
              </p:nvSpPr>
              <p:spPr>
                <a:xfrm>
                  <a:off x="0" y="37490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0" y="37490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cou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0" name=""/>
              <p:cNvGrpSpPr/>
              <p:nvPr/>
            </p:nvGrpSpPr>
            <p:grpSpPr>
              <a:xfrm>
                <a:off x="0" y="3943080"/>
                <a:ext cx="6705000" cy="194040"/>
                <a:chOff x="0" y="3943080"/>
                <a:chExt cx="6705000" cy="194040"/>
              </a:xfrm>
            </p:grpSpPr>
            <p:sp>
              <p:nvSpPr>
                <p:cNvPr id="2571" name=""/>
                <p:cNvSpPr/>
                <p:nvPr/>
              </p:nvSpPr>
              <p:spPr>
                <a:xfrm>
                  <a:off x="0" y="39430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0" y="39430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3" name=""/>
              <p:cNvGrpSpPr/>
              <p:nvPr/>
            </p:nvGrpSpPr>
            <p:grpSpPr>
              <a:xfrm>
                <a:off x="0" y="4137480"/>
                <a:ext cx="6705000" cy="194400"/>
                <a:chOff x="0" y="4137480"/>
                <a:chExt cx="6705000" cy="19440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0" y="413748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0" y="413748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6" name=""/>
              <p:cNvGrpSpPr/>
              <p:nvPr/>
            </p:nvGrpSpPr>
            <p:grpSpPr>
              <a:xfrm>
                <a:off x="0" y="4331880"/>
                <a:ext cx="6705000" cy="194040"/>
                <a:chOff x="0" y="4331880"/>
                <a:chExt cx="6705000" cy="194040"/>
              </a:xfrm>
            </p:grpSpPr>
            <p:sp>
              <p:nvSpPr>
                <p:cNvPr id="2577" name=""/>
                <p:cNvSpPr/>
                <p:nvPr/>
              </p:nvSpPr>
              <p:spPr>
                <a:xfrm>
                  <a:off x="0" y="43318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0" y="43318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interface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9" name=""/>
              <p:cNvGrpSpPr/>
              <p:nvPr/>
            </p:nvGrpSpPr>
            <p:grpSpPr>
              <a:xfrm>
                <a:off x="0" y="4526280"/>
                <a:ext cx="6705000" cy="194040"/>
                <a:chOff x="0" y="4526280"/>
                <a:chExt cx="6705000" cy="194040"/>
              </a:xfrm>
            </p:grpSpPr>
            <p:sp>
              <p:nvSpPr>
                <p:cNvPr id="2580" name=""/>
                <p:cNvSpPr/>
                <p:nvPr/>
              </p:nvSpPr>
              <p:spPr>
                <a:xfrm>
                  <a:off x="0" y="45262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0" y="45262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2" name=""/>
              <p:cNvGrpSpPr/>
              <p:nvPr/>
            </p:nvGrpSpPr>
            <p:grpSpPr>
              <a:xfrm>
                <a:off x="0" y="4720320"/>
                <a:ext cx="6705000" cy="194040"/>
                <a:chOff x="0" y="4720320"/>
                <a:chExt cx="6705000" cy="194040"/>
              </a:xfrm>
            </p:grpSpPr>
            <p:sp>
              <p:nvSpPr>
                <p:cNvPr id="2583" name=""/>
                <p:cNvSpPr/>
                <p:nvPr/>
              </p:nvSpPr>
              <p:spPr>
                <a:xfrm>
                  <a:off x="0" y="47203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0" y="47203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main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5" name=""/>
              <p:cNvGrpSpPr/>
              <p:nvPr/>
            </p:nvGrpSpPr>
            <p:grpSpPr>
              <a:xfrm>
                <a:off x="0" y="4914720"/>
                <a:ext cx="6705000" cy="194400"/>
                <a:chOff x="0" y="4914720"/>
                <a:chExt cx="6705000" cy="19440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0" y="491472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0" y="491472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8" name=""/>
              <p:cNvGrpSpPr/>
              <p:nvPr/>
            </p:nvGrpSpPr>
            <p:grpSpPr>
              <a:xfrm>
                <a:off x="0" y="5109120"/>
                <a:ext cx="6705000" cy="194040"/>
                <a:chOff x="0" y="5109120"/>
                <a:chExt cx="6705000" cy="194040"/>
              </a:xfrm>
            </p:grpSpPr>
            <p:sp>
              <p:nvSpPr>
                <p:cNvPr id="2589" name=""/>
                <p:cNvSpPr/>
                <p:nvPr/>
              </p:nvSpPr>
              <p:spPr>
                <a:xfrm>
                  <a:off x="0" y="51091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0" y="51091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Interface i( 5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1" name=""/>
              <p:cNvGrpSpPr/>
              <p:nvPr/>
            </p:nvGrpSpPr>
            <p:grpSpPr>
              <a:xfrm>
                <a:off x="0" y="5303520"/>
                <a:ext cx="6705000" cy="194040"/>
                <a:chOff x="0" y="5303520"/>
                <a:chExt cx="6705000" cy="194040"/>
              </a:xfrm>
            </p:grpSpPr>
            <p:sp>
              <p:nvSpPr>
                <p:cNvPr id="2592" name=""/>
                <p:cNvSpPr/>
                <p:nvPr/>
              </p:nvSpPr>
              <p:spPr>
                <a:xfrm>
                  <a:off x="0" y="53035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0" y="53035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4" name=""/>
              <p:cNvGrpSpPr/>
              <p:nvPr/>
            </p:nvGrpSpPr>
            <p:grpSpPr>
              <a:xfrm>
                <a:off x="0" y="5497920"/>
                <a:ext cx="6705000" cy="194040"/>
                <a:chOff x="0" y="5497920"/>
                <a:chExt cx="6705000" cy="194040"/>
              </a:xfrm>
            </p:grpSpPr>
            <p:sp>
              <p:nvSpPr>
                <p:cNvPr id="2595" name=""/>
                <p:cNvSpPr/>
                <p:nvPr/>
              </p:nvSpPr>
              <p:spPr>
                <a:xfrm>
                  <a:off x="0" y="54979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0" y="54979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Interface contains: " &lt;&lt; i.getValue(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7" name=""/>
              <p:cNvGrpSpPr/>
              <p:nvPr/>
            </p:nvGrpSpPr>
            <p:grpSpPr>
              <a:xfrm>
                <a:off x="0" y="5691960"/>
                <a:ext cx="6705000" cy="194400"/>
                <a:chOff x="0" y="5691960"/>
                <a:chExt cx="6705000" cy="194400"/>
              </a:xfrm>
            </p:grpSpPr>
            <p:sp>
              <p:nvSpPr>
                <p:cNvPr id="2598" name=""/>
                <p:cNvSpPr/>
                <p:nvPr/>
              </p:nvSpPr>
              <p:spPr>
                <a:xfrm>
                  <a:off x="0" y="569196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0" y="569196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 before setValue"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0" name=""/>
              <p:cNvGrpSpPr/>
              <p:nvPr/>
            </p:nvGrpSpPr>
            <p:grpSpPr>
              <a:xfrm>
                <a:off x="0" y="5886360"/>
                <a:ext cx="6705000" cy="194040"/>
                <a:chOff x="0" y="5886360"/>
                <a:chExt cx="6705000" cy="194040"/>
              </a:xfrm>
            </p:grpSpPr>
            <p:sp>
              <p:nvSpPr>
                <p:cNvPr id="2601" name=""/>
                <p:cNvSpPr/>
                <p:nvPr/>
              </p:nvSpPr>
              <p:spPr>
                <a:xfrm>
                  <a:off x="0" y="58863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0" y="58863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i.setValue( 1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3" name=""/>
              <p:cNvGrpSpPr/>
              <p:nvPr/>
            </p:nvGrpSpPr>
            <p:grpSpPr>
              <a:xfrm>
                <a:off x="0" y="6080760"/>
                <a:ext cx="6705000" cy="194040"/>
                <a:chOff x="0" y="6080760"/>
                <a:chExt cx="6705000" cy="19404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0" y="60807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0" y="60807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Interface contains: " &lt;&lt; i.getValue(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0" y="6275160"/>
                <a:ext cx="6705000" cy="194040"/>
                <a:chOff x="0" y="6275160"/>
                <a:chExt cx="6705000" cy="19404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0" y="62751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0" y="62751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 after setValue"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0" y="6469200"/>
                <a:ext cx="6705000" cy="194040"/>
                <a:chOff x="0" y="6469200"/>
                <a:chExt cx="6705000" cy="19404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0" y="64692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0" y="64692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0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0" y="6663600"/>
                <a:ext cx="6705000" cy="194400"/>
                <a:chOff x="0" y="6663600"/>
                <a:chExt cx="6705000" cy="19440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0" y="666360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0" y="666360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15" name=""/>
          <p:cNvGrpSpPr/>
          <p:nvPr/>
        </p:nvGrpSpPr>
        <p:grpSpPr>
          <a:xfrm>
            <a:off x="1904760" y="837720"/>
            <a:ext cx="4952880" cy="2225520"/>
            <a:chOff x="1904760" y="837720"/>
            <a:chExt cx="4952880" cy="2225520"/>
          </a:xfrm>
        </p:grpSpPr>
        <p:sp>
          <p:nvSpPr>
            <p:cNvPr id="2616" name=""/>
            <p:cNvSpPr/>
            <p:nvPr/>
          </p:nvSpPr>
          <p:spPr>
            <a:xfrm>
              <a:off x="3162600" y="1752480"/>
              <a:ext cx="3695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ation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member functions for proxy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It is the only file that has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lementation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contain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H="1" flipV="1">
              <a:off x="1904760" y="837720"/>
              <a:ext cx="1257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2514600" y="3568680"/>
            <a:ext cx="5410080" cy="1067400"/>
            <a:chOff x="2514600" y="3568680"/>
            <a:chExt cx="5410080" cy="1067400"/>
          </a:xfrm>
        </p:grpSpPr>
        <p:sp>
          <p:nvSpPr>
            <p:cNvPr id="2619" name=""/>
            <p:cNvSpPr/>
            <p:nvPr/>
          </p:nvSpPr>
          <p:spPr>
            <a:xfrm>
              <a:off x="3886200" y="3568680"/>
              <a:ext cx="4038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precompiled and given with the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client cannot see the interactions between the proxy class and the proprietary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H="1">
              <a:off x="2514600" y="4254480"/>
              <a:ext cx="13716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2133360" y="5029200"/>
            <a:ext cx="5791320" cy="824040"/>
            <a:chOff x="2133360" y="5029200"/>
            <a:chExt cx="5791320" cy="824040"/>
          </a:xfrm>
        </p:grpSpPr>
        <p:sp>
          <p:nvSpPr>
            <p:cNvPr id="2622" name=""/>
            <p:cNvSpPr/>
            <p:nvPr/>
          </p:nvSpPr>
          <p:spPr>
            <a:xfrm>
              <a:off x="3124080" y="5029200"/>
              <a:ext cx="4800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 the header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— no mention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The client never se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H="1">
              <a:off x="2133360" y="5410080"/>
              <a:ext cx="990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4A276-FF82-4791-81BE-850BD29C9B6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25" name=""/>
          <p:cNvSpPr/>
          <p:nvPr/>
        </p:nvSpPr>
        <p:spPr>
          <a:xfrm>
            <a:off x="0" y="0"/>
            <a:ext cx="670572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contains: 5 before set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contains: 10 after set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C7A2-1DDC-4B48-A1C5-AE03B5C339D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ource C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07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1: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Second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our = ( h &gt;= 0 &amp;&amp; h &lt; 24 )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minute = ( m &gt;= 0 &amp;&amp; m &lt; 60 ) ? m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cond = ( s &gt;= 0 &amp;&amp; s &lt; 60 )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1905120" y="552600"/>
            <a:ext cx="4419360" cy="1199880"/>
            <a:chOff x="1905120" y="552600"/>
            <a:chExt cx="4419360" cy="1199880"/>
          </a:xfrm>
        </p:grpSpPr>
        <p:sp>
          <p:nvSpPr>
            <p:cNvPr id="304" name=""/>
            <p:cNvSpPr/>
            <p:nvPr/>
          </p:nvSpPr>
          <p:spPr>
            <a:xfrm flipH="1">
              <a:off x="1905120" y="106668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14600" y="55260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onstructor is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ut it can be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1CB3-44F9-4C57-A78F-CCE80DC77A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 Purposely leave o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keyword for printStandar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08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be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12 ) ? 12 : hour % 12 )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0" y="6583680"/>
                <a:ext cx="6780600" cy="273960"/>
                <a:chOff x="0" y="6583680"/>
                <a:chExt cx="6780600" cy="2739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5" name=""/>
          <p:cNvGrpSpPr/>
          <p:nvPr/>
        </p:nvGrpSpPr>
        <p:grpSpPr>
          <a:xfrm>
            <a:off x="2742840" y="762120"/>
            <a:ext cx="4953240" cy="656640"/>
            <a:chOff x="2742840" y="762120"/>
            <a:chExt cx="4953240" cy="656640"/>
          </a:xfrm>
        </p:grpSpPr>
        <p:sp>
          <p:nvSpPr>
            <p:cNvPr id="386" name=""/>
            <p:cNvSpPr/>
            <p:nvPr/>
          </p:nvSpPr>
          <p:spPr>
            <a:xfrm flipH="1" flipV="1">
              <a:off x="2742840" y="762120"/>
              <a:ext cx="2133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24280" y="8380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function definition and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895480" y="3048120"/>
            <a:ext cx="4724640" cy="1981080"/>
            <a:chOff x="2895480" y="3048120"/>
            <a:chExt cx="4724640" cy="1981080"/>
          </a:xfrm>
        </p:grpSpPr>
        <p:sp>
          <p:nvSpPr>
            <p:cNvPr id="389" name=""/>
            <p:cNvSpPr/>
            <p:nvPr/>
          </p:nvSpPr>
          <p:spPr>
            <a:xfrm flipH="1">
              <a:off x="2895480" y="3657600"/>
              <a:ext cx="19814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48320" y="304812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cannot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, even if they don’t modify them (such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963C3-DC89-45FB-9DF3-B8EDDF242D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Attempt to use non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unctions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393" name=""/>
            <p:cNvGrpSpPr/>
            <p:nvPr/>
          </p:nvGrpSpPr>
          <p:grpSpPr>
            <a:xfrm>
              <a:off x="0" y="0"/>
              <a:ext cx="6780960" cy="193680"/>
              <a:chOff x="0" y="0"/>
              <a:chExt cx="6780960" cy="19368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1: fig07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193680"/>
              <a:ext cx="6780960" cy="193680"/>
              <a:chOff x="0" y="193680"/>
              <a:chExt cx="6780960" cy="19368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ttempting to access a const objec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387720"/>
              <a:ext cx="6780960" cy="194040"/>
              <a:chOff x="0" y="387720"/>
              <a:chExt cx="6780960" cy="19404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member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581760"/>
              <a:ext cx="6780960" cy="193680"/>
              <a:chOff x="0" y="581760"/>
              <a:chExt cx="6780960" cy="19368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775800"/>
              <a:ext cx="6780960" cy="193680"/>
              <a:chOff x="0" y="775800"/>
              <a:chExt cx="6780960" cy="19368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969480"/>
              <a:ext cx="6780960" cy="193680"/>
              <a:chOff x="0" y="969480"/>
              <a:chExt cx="6780960" cy="19368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1163520"/>
              <a:ext cx="6780960" cy="194040"/>
              <a:chOff x="0" y="1163520"/>
              <a:chExt cx="6780960" cy="19404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1357560"/>
              <a:ext cx="6780960" cy="193680"/>
              <a:chOff x="0" y="1357560"/>
              <a:chExt cx="6780960" cy="19368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wakeUp( 6, 45, 0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non-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1551600"/>
              <a:ext cx="6780960" cy="193680"/>
              <a:chOff x="0" y="1551600"/>
              <a:chExt cx="6780960" cy="19368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nst Time noon( 12, 0,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1745640"/>
              <a:ext cx="6780960" cy="193680"/>
              <a:chOff x="0" y="1745640"/>
              <a:chExt cx="6780960" cy="19368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1939320"/>
              <a:ext cx="6780960" cy="194040"/>
              <a:chOff x="0" y="1939320"/>
              <a:chExt cx="6780960" cy="19404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MEMBER FUNCTION  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2133360"/>
              <a:ext cx="6780960" cy="193680"/>
              <a:chOff x="0" y="2133360"/>
              <a:chExt cx="6780960" cy="19368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keUp.setHour( 1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2327400"/>
              <a:ext cx="6780960" cy="193680"/>
              <a:chOff x="0" y="2327400"/>
              <a:chExt cx="6780960" cy="19368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2521440"/>
              <a:ext cx="6780960" cy="193680"/>
              <a:chOff x="0" y="2521440"/>
              <a:chExt cx="6780960" cy="19368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setHour( 12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2715480"/>
              <a:ext cx="6780960" cy="194040"/>
              <a:chOff x="0" y="2715480"/>
              <a:chExt cx="6780960" cy="19404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2909520"/>
              <a:ext cx="6780960" cy="193680"/>
              <a:chOff x="0" y="2909520"/>
              <a:chExt cx="6780960" cy="19368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keUp.getHour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3103200"/>
              <a:ext cx="6780960" cy="193680"/>
              <a:chOff x="0" y="3103200"/>
              <a:chExt cx="6780960" cy="19368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3297240"/>
              <a:ext cx="6780960" cy="193680"/>
              <a:chOff x="0" y="3297240"/>
              <a:chExt cx="6780960" cy="19368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getMinute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3491280"/>
              <a:ext cx="6780960" cy="193680"/>
              <a:chOff x="0" y="3491280"/>
              <a:chExt cx="6780960" cy="19368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printMilitary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3685320"/>
              <a:ext cx="6780960" cy="194040"/>
              <a:chOff x="0" y="3685320"/>
              <a:chExt cx="6780960" cy="19404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printStandard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3879360"/>
              <a:ext cx="6780960" cy="193680"/>
              <a:chOff x="0" y="3879360"/>
              <a:chExt cx="6780960" cy="19368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4073040"/>
              <a:ext cx="6780960" cy="193680"/>
              <a:chOff x="0" y="4073040"/>
              <a:chExt cx="6780960" cy="19368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0" y="439272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fig07_01.cpp(14) : error C2662: 'setHour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7_01.cpp(20) : error C2662: 'printStandard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5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2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952880" y="2743200"/>
            <a:ext cx="3886200" cy="1556640"/>
            <a:chOff x="4952880" y="2743200"/>
            <a:chExt cx="3886200" cy="1556640"/>
          </a:xfrm>
        </p:grpSpPr>
        <p:sp>
          <p:nvSpPr>
            <p:cNvPr id="461" name=""/>
            <p:cNvSpPr/>
            <p:nvPr/>
          </p:nvSpPr>
          <p:spPr>
            <a:xfrm flipH="1" flipV="1">
              <a:off x="5257800" y="388584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4952880" y="2743200"/>
              <a:ext cx="1067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19920" y="3962520"/>
              <a:ext cx="2819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er errors gener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FA5E-D63A-4AD2-8D4A-F08DE3275C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 (Constant) Objects and const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initializer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 increment in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modified as follow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rement::Increment( int c, int i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: increment( i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count = c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 increment( i 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itializes increm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data members can be initialized using member initializer synt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nd references must be initialized using member initializer synt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member initializ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omma-separated list after the co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9426-B0E9-42E9-A4A0-201127A533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4:29:36Z</dcterms:created>
  <dc:creator>Deitel &amp; Associates, Inc.</dc:creator>
  <dc:description/>
  <dc:language>en-US</dc:language>
  <cp:lastModifiedBy>Antonella Esposito</cp:lastModifiedBy>
  <dcterms:modified xsi:type="dcterms:W3CDTF">2001-01-12T10:43:15Z</dcterms:modified>
  <cp:revision>494</cp:revision>
  <dc:subject/>
  <dc:title>PowerPoint Presentation</dc:title>
</cp:coreProperties>
</file>