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131A-807A-46B6-91F5-567B62E2E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E921-CAE4-4C7C-8C6F-90D2CDB19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50DD-1D1A-485C-9E59-509199EA8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3BA6-1B4B-4262-8D23-DD61C728F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145E-5774-4B97-860E-B71B76C1BE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D929-E2B8-47A4-9B6D-3B945F1DF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4110-113C-45FB-9CE3-DFEDAE9CE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9A36-97E2-4076-8F62-94EB0237F8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977B-F8A9-4B3D-A366-16FE2CE7F3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6AF1-9931-4A4F-A073-020F039FA5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2547-5FE9-46F7-B2B5-0A72EEA8E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CD86-2BF4-4C15-B876-1801F889F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8F15-4F13-412B-83C0-9744E602AC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7037-7FAD-451B-BC94-9EF9FF6130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39CE-C23B-4A38-8669-424B606B9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7091-C6F5-4D1C-A73D-2D3D3660F7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4BAF-FF8F-43A1-B539-9AABD61F4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9B39-24D9-44B6-87E6-322D4F242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5DB6-3014-4CC8-9D52-BA3AEEAD2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2EDC-51A6-4BF0-8419-016DC5C97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B52D-DC79-4AE8-AF8B-D873F0A92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26DA-F7F7-4918-A2CB-D458015DC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7CB6-1163-438D-8015-A9320A064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8685-5213-4045-81FB-D51A98A74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239D-F68C-4CE0-8182-931553F7D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B53-107C-4D7D-BD05-071C797E0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47840"/>
            <a:ext cx="8077320" cy="38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n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B92A-89EE-48DB-9B0C-7B67D7E2B8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5720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phone number entered was: (800) 555-12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D4E2-EA8C-452E-8D03-050EEB423D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nd classes because they violate the encapsulation of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1072-948E-426F-8A75-0E01DAE03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D02A-EB16-4F1A-BEF5-D9484264D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8408-AD65-44E1-8453-6C2828BF6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97EA-F4B9-4532-9AF9-714429194C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n Array clas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21AC-DE7B-4F2A-B80D-E99AD6441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arra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mple class Array (for integer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 10 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Array();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mp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if two arrays are not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true, otherwise return false (uses operator==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 ( *this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getArrayCou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unt of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array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pt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inter to first element of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# of Array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9372600" y="25909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200400" y="2666880"/>
            <a:ext cx="5486400" cy="2057400"/>
            <a:chOff x="3200400" y="2666880"/>
            <a:chExt cx="5486400" cy="2057400"/>
          </a:xfrm>
        </p:grpSpPr>
        <p:sp>
          <p:nvSpPr>
            <p:cNvPr id="425" name=""/>
            <p:cNvSpPr/>
            <p:nvPr/>
          </p:nvSpPr>
          <p:spPr>
            <a:xfrm>
              <a:off x="5410080" y="30481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all the overloaded operators used to implement th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3200400" y="266688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343040" y="33526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266720" y="3505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038480" y="358128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8D83-1D61-4395-9E6E-877667910B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-4889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6780960" cy="609120"/>
            <a:chOff x="0" y="0"/>
            <a:chExt cx="67809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6780960" cy="203040"/>
              <a:chOff x="0" y="0"/>
              <a:chExt cx="6780960" cy="2030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3040"/>
              <a:ext cx="6780960" cy="203040"/>
              <a:chOff x="0" y="203040"/>
              <a:chExt cx="6780960" cy="2030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6080"/>
              <a:ext cx="6780960" cy="203040"/>
              <a:chOff x="0" y="406080"/>
              <a:chExt cx="6780960" cy="2030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0" y="609480"/>
            <a:ext cx="6780960" cy="6248520"/>
            <a:chOff x="0" y="609480"/>
            <a:chExt cx="6780960" cy="6248520"/>
          </a:xfrm>
        </p:grpSpPr>
        <p:grpSp>
          <p:nvGrpSpPr>
            <p:cNvPr id="443" name=""/>
            <p:cNvGrpSpPr/>
            <p:nvPr/>
          </p:nvGrpSpPr>
          <p:grpSpPr>
            <a:xfrm>
              <a:off x="0" y="609480"/>
              <a:ext cx="6780960" cy="215280"/>
              <a:chOff x="0" y="609480"/>
              <a:chExt cx="6780960" cy="21528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 8.4: arra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824760"/>
              <a:ext cx="6780960" cy="215280"/>
              <a:chOff x="0" y="824760"/>
              <a:chExt cx="6780960" cy="21528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1040040"/>
              <a:ext cx="6780960" cy="215280"/>
              <a:chOff x="0" y="1040040"/>
              <a:chExt cx="6780960" cy="21528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1255680"/>
              <a:ext cx="6780960" cy="215280"/>
              <a:chOff x="0" y="1255680"/>
              <a:chExt cx="6780960" cy="21528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1471320"/>
              <a:ext cx="6780960" cy="215280"/>
              <a:chOff x="0" y="1471320"/>
              <a:chExt cx="6780960" cy="21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1686600"/>
              <a:ext cx="6780960" cy="215280"/>
              <a:chOff x="0" y="1686600"/>
              <a:chExt cx="6780960" cy="21528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1902240"/>
              <a:ext cx="6780960" cy="215280"/>
              <a:chOff x="0" y="1902240"/>
              <a:chExt cx="6780960" cy="21528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117520"/>
              <a:ext cx="6780960" cy="215280"/>
              <a:chOff x="0" y="2117520"/>
              <a:chExt cx="6780960" cy="21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2333160"/>
              <a:ext cx="6780960" cy="215280"/>
              <a:chOff x="0" y="2333160"/>
              <a:chExt cx="6780960" cy="21528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2548440"/>
              <a:ext cx="6780960" cy="215280"/>
              <a:chOff x="0" y="2548440"/>
              <a:chExt cx="6780960" cy="21528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2764080"/>
              <a:ext cx="6780960" cy="215280"/>
              <a:chOff x="0" y="2764080"/>
              <a:chExt cx="6780960" cy="21528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979720"/>
              <a:ext cx="6780960" cy="215280"/>
              <a:chOff x="0" y="2979720"/>
              <a:chExt cx="6780960" cy="2152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3195000"/>
              <a:ext cx="6780960" cy="215280"/>
              <a:chOff x="0" y="3195000"/>
              <a:chExt cx="6780960" cy="21528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3410280"/>
              <a:ext cx="6780960" cy="215280"/>
              <a:chOff x="0" y="3410280"/>
              <a:chExt cx="6780960" cy="21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3625920"/>
              <a:ext cx="6780960" cy="215280"/>
              <a:chOff x="0" y="3625920"/>
              <a:chExt cx="6780960" cy="21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841560"/>
              <a:ext cx="6780960" cy="215280"/>
              <a:chOff x="0" y="3841560"/>
              <a:chExt cx="6780960" cy="2152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4056840"/>
              <a:ext cx="6780960" cy="215280"/>
              <a:chOff x="0" y="4056840"/>
              <a:chExt cx="6780960" cy="2152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data member at file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4272480"/>
              <a:ext cx="6780960" cy="215280"/>
              <a:chOff x="0" y="4272480"/>
              <a:chExt cx="6780960" cy="2152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arrayCount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4487760"/>
              <a:ext cx="6780960" cy="215280"/>
              <a:chOff x="0" y="4487760"/>
              <a:chExt cx="6780960" cy="2152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4703400"/>
              <a:ext cx="6780960" cy="215280"/>
              <a:chOff x="0" y="4703400"/>
              <a:chExt cx="6780960" cy="2152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 for class Array (default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918680"/>
              <a:ext cx="6780960" cy="215280"/>
              <a:chOff x="0" y="4918680"/>
              <a:chExt cx="6780960" cy="21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5134320"/>
              <a:ext cx="6780960" cy="215280"/>
              <a:chOff x="0" y="5134320"/>
              <a:chExt cx="6780960" cy="21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5349600"/>
              <a:ext cx="6780960" cy="215280"/>
              <a:chOff x="0" y="5349600"/>
              <a:chExt cx="6780960" cy="2152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ize = ( arraySize &gt; 0 ? arraySize : 10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5565240"/>
              <a:ext cx="6780960" cy="215280"/>
              <a:chOff x="0" y="5565240"/>
              <a:chExt cx="6780960" cy="21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780880"/>
              <a:ext cx="6780960" cy="215280"/>
              <a:chOff x="0" y="5780880"/>
              <a:chExt cx="6780960" cy="2152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996160"/>
              <a:ext cx="6780960" cy="215280"/>
              <a:chOff x="0" y="5996160"/>
              <a:chExt cx="6780960" cy="2152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6211440"/>
              <a:ext cx="6780960" cy="215280"/>
              <a:chOff x="0" y="6211440"/>
              <a:chExt cx="6780960" cy="2152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6427080"/>
              <a:ext cx="6780960" cy="215280"/>
              <a:chOff x="0" y="6427080"/>
              <a:chExt cx="6780960" cy="2152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642720"/>
              <a:ext cx="6780960" cy="215280"/>
              <a:chOff x="0" y="6642720"/>
              <a:chExt cx="6780960" cy="2152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0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nitializ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ECDD-9037-4213-93B8-DEA9B1791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32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st receive a reference to prevent infinite recu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init ) : size( ini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ini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init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~Arra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--arrayCount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one few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Get the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turn avoids: ( a1 = a2 ) = a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rray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heck for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for arrays of different sizes, deallocat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left side array, then allocate new left sid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3324-F1FF-4962-8FF1-D6B9BFBC4B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3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size = right.siz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size thi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assert( 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[ i ] = righ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array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x = y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wo arrays are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rue, otherwise return fals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of different siz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ptr[ i ] != right.ptr[ i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are not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 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rrays 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non-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creates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353A-5D5D-4B11-B546-774061057C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raditional operators with user-define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misused, program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already overloaded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oth the stream-insertion operator and the bitwise left-shif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erform arithmetic on multipl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 based on the manner in which the operator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9251-BD78-4783-9390-5908A5A743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Array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 creates an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he number of Array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atic functions cannot be con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Array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 for class Arr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s values for entir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.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input &gt;&g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x &gt;&g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 for class Arra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0B6B-6049-49BF-9586-AB04A44403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3200040"/>
            <a:chOff x="0" y="0"/>
            <a:chExt cx="6780960" cy="320004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= 0; i &lt; a.size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setw( 12 ) &lt;&l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i + 1 ) % 4 == 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 numbers per row of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% 4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out &lt;&lt; x &lt;&l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872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fig08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simple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" name=""/>
          <p:cNvSpPr/>
          <p:nvPr/>
        </p:nvSpPr>
        <p:spPr>
          <a:xfrm>
            <a:off x="4739760" y="60958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E4D6-10AF-4BA4-AB04-3188ACC390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wo arrays and print Array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1( 7 ),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1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1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2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6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2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6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6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6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7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put and print integers1 and integer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7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put 17 integ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integers1 &gt;&gt;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fter input, the arrays cont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inequality (!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!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!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not equal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array integers3 using integers1 as 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itializer; print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3( integers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"/>
          <p:cNvSpPr/>
          <p:nvPr/>
        </p:nvSpPr>
        <p:spPr>
          <a:xfrm>
            <a:off x="4282560" y="3049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7280" y="1371600"/>
            <a:ext cx="456984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17280" y="2490840"/>
            <a:ext cx="456984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24280" y="3581280"/>
            <a:ext cx="4724640" cy="1919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65600" y="5638680"/>
            <a:ext cx="328968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3EDB-E4F7-4C36-B7F8-4C5CD568D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ize of array integers3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assignment (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integers2 to integers1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 =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equality (=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=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=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equal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[5] is " &lt;&lt; integers1[ 5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1000 to integers1[5]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5 ]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ttempt to use out of range subscri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1000 to integers1[15]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15 ] = 100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3809880" y="2438280"/>
            <a:ext cx="4953240" cy="249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0" name=""/>
          <p:cNvSpPr/>
          <p:nvPr/>
        </p:nvSpPr>
        <p:spPr>
          <a:xfrm>
            <a:off x="3429000" y="914400"/>
            <a:ext cx="48769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50920" y="367812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181480" y="3124080"/>
            <a:ext cx="38862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y are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7600" y="5322960"/>
            <a:ext cx="533412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2520" y="4648320"/>
            <a:ext cx="4572000" cy="919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ertion failed: 0 &lt;= subscript &amp;&amp; subscript &lt; size, file Array1.cpp, line 95 abnormal program termin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14FB-4767-4B67-BF65-F03A18571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0"/>
            <a:ext cx="678168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058D-6E16-4B07-A87F-A797F2EE17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0"/>
            <a:ext cx="6705720" cy="4344840"/>
            <a:chOff x="0" y="0"/>
            <a:chExt cx="6705720" cy="4344840"/>
          </a:xfrm>
        </p:grpSpPr>
        <p:sp>
          <p:nvSpPr>
            <p:cNvPr id="1129" name=""/>
            <p:cNvSpPr/>
            <p:nvPr/>
          </p:nvSpPr>
          <p:spPr>
            <a:xfrm>
              <a:off x="0" y="1878120"/>
              <a:ext cx="6705720" cy="246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valuating: integers1 == integer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y are eq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[5] is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1000 to integers1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1000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1000 to integers1[1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ion failed: 0 &lt;= subscript &amp;&amp; subscript &lt; size, file Array1.cpp, line 95 abnormal program terminatio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integers2 to 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2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4475-9DD9-4773-97FF-C7F937A780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conversions among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conversions between user defined and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operator must be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is the type to which the object is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user-define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reating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55D3-3C92-4370-8F10-4598F9132A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and 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ing can prevent the need for over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an object s of user-defined class String appears in a program where an ordin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s expected, such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iler calls the overloaded cast operato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vert the object in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ses the resul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A82E-6E18-48C9-AC3C-168FFE225B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class to hand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s that turn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12BE-0C17-4CE7-AE38-97CB5C45D2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, some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9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string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a String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= ""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/default 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String(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=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!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(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g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g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ight &lt;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lt;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9CFE-8F2C-40A0-8CDB-E342548A2D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unction definition as n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an operator on a class object it must be overloaded unless the assignment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the address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&amp;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by default performs memberwise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operator (&amp;) by default returns the address of an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A922-9C5C-46A1-8979-A73540CBB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40" name=""/>
            <p:cNvGrpSpPr/>
            <p:nvPr/>
          </p:nvGrpSpPr>
          <p:grpSpPr>
            <a:xfrm>
              <a:off x="0" y="0"/>
              <a:ext cx="6780960" cy="4572000"/>
              <a:chOff x="0" y="0"/>
              <a:chExt cx="6780960" cy="457200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0" y="0"/>
                <a:ext cx="6780960" cy="228240"/>
                <a:chOff x="0" y="0"/>
                <a:chExt cx="6780960" cy="22824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l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right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0" y="228240"/>
                <a:ext cx="6780960" cy="228240"/>
                <a:chOff x="0" y="228240"/>
                <a:chExt cx="6780960" cy="2282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right &lt;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0" y="456840"/>
                <a:ext cx="6780960" cy="228600"/>
                <a:chOff x="0" y="456840"/>
                <a:chExt cx="6780960" cy="22860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0" y="685800"/>
                <a:ext cx="6780960" cy="228240"/>
                <a:chOff x="0" y="685800"/>
                <a:chExt cx="6780960" cy="22824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// test s1 &gt;= s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0" y="914400"/>
                <a:ext cx="6780960" cy="228240"/>
                <a:chOff x="0" y="914400"/>
                <a:chExt cx="6780960" cy="2282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g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igh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0" y="1143000"/>
                <a:ext cx="6780960" cy="228240"/>
                <a:chOff x="0" y="1143000"/>
                <a:chExt cx="6780960" cy="2282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 right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0" y="1371240"/>
                <a:ext cx="6780960" cy="228600"/>
                <a:chOff x="0" y="1371240"/>
                <a:chExt cx="6780960" cy="22860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0" y="1600200"/>
                <a:ext cx="6780960" cy="228240"/>
                <a:chOff x="0" y="1600200"/>
                <a:chExt cx="6780960" cy="22824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0" y="1828800"/>
                <a:ext cx="6780960" cy="228240"/>
                <a:chOff x="0" y="1828800"/>
                <a:chExt cx="6780960" cy="2282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0" y="2057400"/>
                <a:ext cx="6780960" cy="228240"/>
                <a:chOff x="0" y="2057400"/>
                <a:chExt cx="6780960" cy="2282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String operator()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return a sub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0" y="2286000"/>
                <a:ext cx="6780960" cy="228600"/>
                <a:chOff x="0" y="2286000"/>
                <a:chExt cx="6780960" cy="2286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getLength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     // return string leng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0" y="2514600"/>
                <a:ext cx="6780960" cy="228240"/>
                <a:chOff x="0" y="2514600"/>
                <a:chExt cx="6780960" cy="22824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0" y="2743200"/>
                <a:ext cx="6780960" cy="228240"/>
                <a:chOff x="0" y="2743200"/>
                <a:chExt cx="6780960" cy="22824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0" y="2971800"/>
                <a:ext cx="6780960" cy="228240"/>
                <a:chOff x="0" y="2971800"/>
                <a:chExt cx="6780960" cy="2282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length;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tring leng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0" y="3200400"/>
                <a:ext cx="6780960" cy="228600"/>
                <a:chOff x="0" y="3200400"/>
                <a:chExt cx="6780960" cy="22860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sPtr;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// pointer to start of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0" y="3429000"/>
                <a:ext cx="6780960" cy="228240"/>
                <a:chOff x="0" y="3429000"/>
                <a:chExt cx="6780960" cy="22824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0" y="3657600"/>
                <a:ext cx="6780960" cy="228240"/>
                <a:chOff x="0" y="3657600"/>
                <a:chExt cx="6780960" cy="22824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etString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utility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0" y="3886200"/>
                <a:ext cx="6780960" cy="228240"/>
                <a:chOff x="0" y="3886200"/>
                <a:chExt cx="6780960" cy="22824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0" y="4114800"/>
                <a:ext cx="6780960" cy="228240"/>
                <a:chOff x="0" y="4114800"/>
                <a:chExt cx="6780960" cy="22824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0" y="4343400"/>
                <a:ext cx="6780960" cy="228600"/>
                <a:chOff x="0" y="4343400"/>
                <a:chExt cx="6780960" cy="2286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0" y="4343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0" y="4343400"/>
                  <a:ext cx="6780600" cy="228600"/>
                  <a:chOff x="0" y="4343400"/>
                  <a:chExt cx="6780600" cy="22860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53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Courier New"/>
                      </a:rPr>
                      <a:t>#endi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03" name=""/>
            <p:cNvGrpSpPr/>
            <p:nvPr/>
          </p:nvGrpSpPr>
          <p:grpSpPr>
            <a:xfrm>
              <a:off x="0" y="4572000"/>
              <a:ext cx="6780960" cy="2286000"/>
              <a:chOff x="0" y="4572000"/>
              <a:chExt cx="6780960" cy="228600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0" y="4572000"/>
                <a:ext cx="6780960" cy="207720"/>
                <a:chOff x="0" y="4572000"/>
                <a:chExt cx="6780960" cy="207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Fig. 8.5: string1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0" y="4779720"/>
                <a:ext cx="6780960" cy="207720"/>
                <a:chOff x="0" y="4779720"/>
                <a:chExt cx="6780960" cy="2077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Member function definitions for class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0" y="4987440"/>
                <a:ext cx="6780960" cy="207720"/>
                <a:chOff x="0" y="4987440"/>
                <a:chExt cx="6780960" cy="207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0" y="5195520"/>
                <a:ext cx="6780960" cy="207720"/>
                <a:chOff x="0" y="5195520"/>
                <a:chExt cx="6780960" cy="2077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0" y="5403240"/>
                <a:ext cx="6780960" cy="207720"/>
                <a:chOff x="0" y="5403240"/>
                <a:chExt cx="6780960" cy="207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0" y="5610960"/>
                <a:ext cx="6780960" cy="207720"/>
                <a:chOff x="0" y="5610960"/>
                <a:chExt cx="6780960" cy="2077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0" y="5818680"/>
                <a:ext cx="6780960" cy="207720"/>
                <a:chOff x="0" y="5818680"/>
                <a:chExt cx="6780960" cy="207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0" y="6026760"/>
                <a:ext cx="6780960" cy="207720"/>
                <a:chOff x="0" y="6026760"/>
                <a:chExt cx="6780960" cy="2077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manip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0" y="6234480"/>
                <a:ext cx="6780960" cy="207720"/>
                <a:chOff x="0" y="6234480"/>
                <a:chExt cx="6780960" cy="207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0" y="6442200"/>
                <a:ext cx="6780960" cy="207720"/>
                <a:chOff x="0" y="6442200"/>
                <a:chExt cx="6780960" cy="207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setw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0" y="6650280"/>
                <a:ext cx="6780960" cy="207720"/>
                <a:chOff x="0" y="6650280"/>
                <a:chExt cx="6780960" cy="2077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7828-E5C5-4BDA-8144-46F13AB53A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Conversion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py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 constructor: Convert char * to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 ) : length( strlen( s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nversion constructor: " &lt;&lt; s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s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copy ) : length( copy.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py constructor: " &lt;&lt; copy.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copy.sPtr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~String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estructor: " &lt;&lt; 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= operator; avoids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operator= called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void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2" name=""/>
          <p:cNvGrpSpPr/>
          <p:nvPr/>
        </p:nvGrpSpPr>
        <p:grpSpPr>
          <a:xfrm>
            <a:off x="1752480" y="1371240"/>
            <a:ext cx="5410440" cy="1023480"/>
            <a:chOff x="1752480" y="1371240"/>
            <a:chExt cx="5410440" cy="1023480"/>
          </a:xfrm>
        </p:grpSpPr>
        <p:grpSp>
          <p:nvGrpSpPr>
            <p:cNvPr id="1433" name=""/>
            <p:cNvGrpSpPr/>
            <p:nvPr/>
          </p:nvGrpSpPr>
          <p:grpSpPr>
            <a:xfrm>
              <a:off x="2666520" y="1371240"/>
              <a:ext cx="4496400" cy="1023480"/>
              <a:chOff x="2666520" y="1371240"/>
              <a:chExt cx="4496400" cy="1023480"/>
            </a:xfrm>
          </p:grpSpPr>
          <p:sp>
            <p:nvSpPr>
              <p:cNvPr id="1434" name=""/>
              <p:cNvSpPr/>
              <p:nvPr/>
            </p:nvSpPr>
            <p:spPr>
              <a:xfrm>
                <a:off x="2666880" y="2057400"/>
                <a:ext cx="449604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version constructor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har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Strin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2666520" y="1371240"/>
                <a:ext cx="1219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 flipH="1" flipV="1">
              <a:off x="1752480" y="20570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2437920" y="1828440"/>
            <a:ext cx="5258160" cy="3324240"/>
            <a:chOff x="2437920" y="1828440"/>
            <a:chExt cx="5258160" cy="3324240"/>
          </a:xfrm>
        </p:grpSpPr>
        <p:sp>
          <p:nvSpPr>
            <p:cNvPr id="1438" name=""/>
            <p:cNvSpPr/>
            <p:nvPr/>
          </p:nvSpPr>
          <p:spPr>
            <a:xfrm>
              <a:off x="5105520" y="45720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s and destructors will print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4266720" y="4800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2971440" y="3352680"/>
              <a:ext cx="21337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2437920" y="1828440"/>
              <a:ext cx="26672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60FD-0898-467C-91B0-0E990F1BE9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concatenatio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tring empty?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4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events memory l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gth 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etString( right.sPtr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Attempted assignment of a String to itself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ed assign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e right operand to this object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ore in this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hold to be able to dele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length +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length + 1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tempPtr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ef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50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at( sPtr, right.sPtr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igh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ol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50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51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51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51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qual to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less than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D53A-C831-44FB-BE54-DD1A973A2B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less tha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return sub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&lt;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l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s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r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9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9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s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substring beginning at index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f length sub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 String::operator(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de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ensure index is in range and substring length &gt;=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index &gt;= 0 &amp;&amp; index &lt; length &amp;&amp; subLength &gt;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length of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5" name=""/>
          <p:cNvGrpSpPr/>
          <p:nvPr/>
        </p:nvGrpSpPr>
        <p:grpSpPr>
          <a:xfrm>
            <a:off x="2514600" y="3962520"/>
            <a:ext cx="3886200" cy="1066680"/>
            <a:chOff x="2514600" y="3962520"/>
            <a:chExt cx="3886200" cy="1066680"/>
          </a:xfrm>
        </p:grpSpPr>
        <p:sp>
          <p:nvSpPr>
            <p:cNvPr id="1636" name=""/>
            <p:cNvSpPr/>
            <p:nvPr/>
          </p:nvSpPr>
          <p:spPr>
            <a:xfrm>
              <a:off x="3809880" y="39625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overloaded function call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2514600" y="43434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B3B4-D941-4C69-9503-544C7DCE60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eng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subLength == 0 ) || ( index + subLength &gt; length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length - ind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subLeng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llocate temporary array for substring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rminating null charac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new char[ len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tempPtr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sure space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py substring into char array and terminate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ncpy( tempPtr, &amp;sPtr[ index ], len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Ptr[ len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emporary String object containing the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tempString( temp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lete the temporary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String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py of the temporary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getLength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 to be called by constructors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 operato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set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tring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new char[ length + 1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llocate 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string2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literal 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514F-D38C-4ADA-9446-2496FBCC10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3809880"/>
            <a:chOff x="0" y="0"/>
            <a:chExt cx="6780960" cy="380988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3920"/>
              <a:chOff x="0" y="0"/>
              <a:chExt cx="6780960" cy="22392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3920"/>
              <a:ext cx="6780960" cy="223920"/>
              <a:chOff x="0" y="223920"/>
              <a:chExt cx="6780960" cy="22392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47840"/>
              <a:ext cx="6780960" cy="223920"/>
              <a:chOff x="0" y="447840"/>
              <a:chExt cx="6780960" cy="22392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72120"/>
              <a:ext cx="6780960" cy="223920"/>
              <a:chOff x="0" y="672120"/>
              <a:chExt cx="6780960" cy="22392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896400"/>
              <a:ext cx="6780960" cy="223920"/>
              <a:chOff x="0" y="896400"/>
              <a:chExt cx="6780960" cy="22392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s.s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20320"/>
              <a:ext cx="6780960" cy="223920"/>
              <a:chOff x="0" y="1120320"/>
              <a:chExt cx="6780960" cy="22392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44600"/>
              <a:ext cx="6780960" cy="223920"/>
              <a:chOff x="0" y="1344600"/>
              <a:chExt cx="6780960" cy="22392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568880"/>
              <a:ext cx="6780960" cy="223920"/>
              <a:chOff x="0" y="1568880"/>
              <a:chExt cx="6780960" cy="22392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792800"/>
              <a:ext cx="6780960" cy="223920"/>
              <a:chOff x="0" y="1792800"/>
              <a:chExt cx="6780960" cy="22392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17080"/>
              <a:ext cx="6780960" cy="223920"/>
              <a:chOff x="0" y="2017080"/>
              <a:chExt cx="6780960" cy="22392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41000"/>
              <a:ext cx="6780960" cy="223920"/>
              <a:chOff x="0" y="2241000"/>
              <a:chExt cx="6780960" cy="22392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465280"/>
              <a:ext cx="6780960" cy="223920"/>
              <a:chOff x="0" y="2465280"/>
              <a:chExt cx="6780960" cy="22392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[ 100 ]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buffer to store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689200"/>
              <a:ext cx="6780960" cy="223920"/>
              <a:chOff x="0" y="2689200"/>
              <a:chExt cx="6780960" cy="22392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13480"/>
              <a:ext cx="6780960" cy="223920"/>
              <a:chOff x="0" y="2913480"/>
              <a:chExt cx="6780960" cy="22392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100 ) &gt;&gt;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137400"/>
              <a:ext cx="6780960" cy="223920"/>
              <a:chOff x="0" y="3137400"/>
              <a:chExt cx="6780960" cy="22392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 = temp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use String class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361680"/>
              <a:ext cx="6780960" cy="223920"/>
              <a:chOff x="0" y="3361680"/>
              <a:chExt cx="6780960" cy="22392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585960"/>
              <a:ext cx="6780960" cy="223920"/>
              <a:chOff x="0" y="3585960"/>
              <a:chExt cx="6780960" cy="22392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58596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8" name=""/>
              <p:cNvGrpSpPr/>
              <p:nvPr/>
            </p:nvGrpSpPr>
            <p:grpSpPr>
              <a:xfrm>
                <a:off x="0" y="3585960"/>
                <a:ext cx="6780600" cy="223920"/>
                <a:chOff x="0" y="3585960"/>
                <a:chExt cx="6780600" cy="2239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1" name=""/>
          <p:cNvGrpSpPr/>
          <p:nvPr/>
        </p:nvGrpSpPr>
        <p:grpSpPr>
          <a:xfrm>
            <a:off x="0" y="3809880"/>
            <a:ext cx="6780960" cy="3048120"/>
            <a:chOff x="0" y="3809880"/>
            <a:chExt cx="6780960" cy="3048120"/>
          </a:xfrm>
        </p:grpSpPr>
        <p:grpSp>
          <p:nvGrpSpPr>
            <p:cNvPr id="1792" name=""/>
            <p:cNvGrpSpPr/>
            <p:nvPr/>
          </p:nvGrpSpPr>
          <p:grpSpPr>
            <a:xfrm>
              <a:off x="0" y="3809880"/>
              <a:ext cx="6780960" cy="234360"/>
              <a:chOff x="0" y="3809880"/>
              <a:chExt cx="6780960" cy="23436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fig08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044240"/>
              <a:ext cx="6780960" cy="234360"/>
              <a:chOff x="0" y="4044240"/>
              <a:chExt cx="6780960" cy="23436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278600"/>
              <a:ext cx="6780960" cy="234360"/>
              <a:chOff x="0" y="4278600"/>
              <a:chExt cx="6780960" cy="23436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513320"/>
              <a:ext cx="6780960" cy="234360"/>
              <a:chOff x="0" y="4513320"/>
              <a:chExt cx="6780960" cy="23436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4747680"/>
              <a:ext cx="6780960" cy="234360"/>
              <a:chOff x="0" y="4747680"/>
              <a:chExt cx="6780960" cy="23436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4982040"/>
              <a:ext cx="6780960" cy="234360"/>
              <a:chOff x="0" y="4982040"/>
              <a:chExt cx="6780960" cy="23436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216400"/>
              <a:ext cx="6780960" cy="234360"/>
              <a:chOff x="0" y="5216400"/>
              <a:chExt cx="6780960" cy="23436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451120"/>
              <a:ext cx="6780960" cy="234360"/>
              <a:chOff x="0" y="5451120"/>
              <a:chExt cx="6780960" cy="23436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685480"/>
              <a:ext cx="6780960" cy="234360"/>
              <a:chOff x="0" y="5685480"/>
              <a:chExt cx="6780960" cy="23436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5920200"/>
              <a:ext cx="6780960" cy="234360"/>
              <a:chOff x="0" y="5920200"/>
              <a:chExt cx="6780960" cy="23436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154560"/>
              <a:ext cx="6780960" cy="234360"/>
              <a:chOff x="0" y="6154560"/>
              <a:chExt cx="6780960" cy="23436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389280"/>
              <a:ext cx="6780960" cy="234360"/>
              <a:chOff x="0" y="6389280"/>
              <a:chExt cx="6780960" cy="23436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s1( "happy" ), s2( " birthday" ), s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6623640"/>
              <a:ext cx="6780960" cy="234360"/>
              <a:chOff x="0" y="6623640"/>
              <a:chExt cx="6780960" cy="23436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1" name=""/>
          <p:cNvGrpSpPr/>
          <p:nvPr/>
        </p:nvGrpSpPr>
        <p:grpSpPr>
          <a:xfrm>
            <a:off x="2895480" y="5334120"/>
            <a:ext cx="5105520" cy="990360"/>
            <a:chOff x="2895480" y="5334120"/>
            <a:chExt cx="5105520" cy="990360"/>
          </a:xfrm>
        </p:grpSpPr>
        <p:sp>
          <p:nvSpPr>
            <p:cNvPr id="1832" name=""/>
            <p:cNvSpPr/>
            <p:nvPr/>
          </p:nvSpPr>
          <p:spPr>
            <a:xfrm>
              <a:off x="3429000" y="5334120"/>
              <a:ext cx="4572000" cy="83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95480" y="57913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5295-CD50-4354-A216-1B1F5331B3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3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equality and relational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is \"" &lt;&lt; s1 &lt;&lt; "\"; s2 is \"" &lt;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"; s3 is \"" &lt;&lt; s3 &lt;&lt; '\"'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results of comparing s2 and s1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=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=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!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!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= s1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= s1 ? "true" : "fals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empty (!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esting !s3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!s3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empty; assigning s1 to s3;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3 = s1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\"" &lt;&lt; s3 &lt;&lt; "\"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concatena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s2 yields s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s2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s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\" to you\" yield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" to you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5" name=""/>
          <p:cNvSpPr/>
          <p:nvPr/>
        </p:nvSpPr>
        <p:spPr>
          <a:xfrm>
            <a:off x="4495680" y="1219320"/>
            <a:ext cx="4572000" cy="2221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34120" y="3505320"/>
            <a:ext cx="350496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3 is 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40320" y="502920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572000" y="5715000"/>
            <a:ext cx="4343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54A6-4290-4161-9EE1-EA7B97C43F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41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= "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function call operator () for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0 for 14 characters, s1(0, 14),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0, 14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tring "to-end-of-String" o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15, s1(15, 0),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15, 0 ) &lt;&lt; "\n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0 is "to end of string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*s4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( s1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987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990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assignment (=) operator with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2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99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*s4Ptr to *s4Pt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99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s4Ptr = *s4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999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4Ptr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using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0 ] = 'H';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6 ] = 'B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1 after s1[0] = 'H' and s1[6] = 'B'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1" name=""/>
          <p:cNvSpPr/>
          <p:nvPr/>
        </p:nvSpPr>
        <p:spPr>
          <a:xfrm>
            <a:off x="3809880" y="76320"/>
            <a:ext cx="28958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419720" y="116208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343400" y="251460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3400" y="28954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343400" y="3616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04600" y="4973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39120" y="5735520"/>
            <a:ext cx="5850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94A0-B063-4B40-AF63-42B599CBB6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0" y="0"/>
            <a:ext cx="6780960" cy="1599840"/>
            <a:chOff x="0" y="0"/>
            <a:chExt cx="6780960" cy="1599840"/>
          </a:xfrm>
        </p:grpSpPr>
        <p:grpSp>
          <p:nvGrpSpPr>
            <p:cNvPr id="2040" name=""/>
            <p:cNvGrpSpPr/>
            <p:nvPr/>
          </p:nvGrpSpPr>
          <p:grpSpPr>
            <a:xfrm>
              <a:off x="0" y="0"/>
              <a:ext cx="6780960" cy="266400"/>
              <a:chOff x="0" y="0"/>
              <a:chExt cx="6780960" cy="2664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266400"/>
              <a:ext cx="6780960" cy="266400"/>
              <a:chOff x="0" y="266400"/>
              <a:chExt cx="6780960" cy="2664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'd' to s1[30] yield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533160"/>
              <a:ext cx="6780960" cy="266760"/>
              <a:chOff x="0" y="533160"/>
              <a:chExt cx="6780960" cy="26676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30 ] = 'd'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800280"/>
              <a:ext cx="6780960" cy="266400"/>
              <a:chOff x="0" y="800280"/>
              <a:chExt cx="6780960" cy="2664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066680"/>
              <a:ext cx="6780960" cy="266400"/>
              <a:chOff x="0" y="1066680"/>
              <a:chExt cx="6780960" cy="2664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333440"/>
              <a:ext cx="6780960" cy="266400"/>
              <a:chOff x="0" y="1333440"/>
              <a:chExt cx="6780960" cy="2664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8" name=""/>
          <p:cNvGrpSpPr/>
          <p:nvPr/>
        </p:nvGrpSpPr>
        <p:grpSpPr>
          <a:xfrm>
            <a:off x="0" y="1676520"/>
            <a:ext cx="6781680" cy="4637880"/>
            <a:chOff x="0" y="1676520"/>
            <a:chExt cx="6781680" cy="4637880"/>
          </a:xfrm>
        </p:grpSpPr>
        <p:sp>
          <p:nvSpPr>
            <p:cNvPr id="2059" name=""/>
            <p:cNvSpPr/>
            <p:nvPr/>
          </p:nvSpPr>
          <p:spPr>
            <a:xfrm>
              <a:off x="0" y="1676520"/>
              <a:ext cx="6781680" cy="301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is "happy"; s2 is " birthday"; s3 is "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 results of comparing s2 and 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=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!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 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 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sting !s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3 is empty; assigning s1 to s3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rator= ca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3 is "happy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0" y="4648320"/>
              <a:ext cx="6781680" cy="1666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s2 yields s1 = happy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" to you" yiel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= happy birthday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666880" y="533160"/>
            <a:ext cx="5639040" cy="2256840"/>
            <a:chOff x="2666880" y="533160"/>
            <a:chExt cx="5639040" cy="2256840"/>
          </a:xfrm>
        </p:grpSpPr>
        <p:sp>
          <p:nvSpPr>
            <p:cNvPr id="2062" name=""/>
            <p:cNvSpPr/>
            <p:nvPr/>
          </p:nvSpPr>
          <p:spPr>
            <a:xfrm>
              <a:off x="3733920" y="1219320"/>
              <a:ext cx="4572000" cy="157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'd' to s1[30] yield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ertion failed: subscript &gt;= 0 &amp;&amp; subscript &lt; length, file string1.cpp, line 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bnormal program term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2666880" y="5331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8809-1221-4C41-BD00-4A1DCD8E39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0"/>
            <a:ext cx="670572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ion failed: subscript &gt;= 0 &amp;&amp; subscript &lt; length, file string1.cpp, line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535D-E45A-4759-BD90-FF9561662C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6CC8-B019-4780-9375-C20377687C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s are overloaded the same as other prefix unary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adopted that when compiler sees postincrementing expression, it will generate the member-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4609-3D14-48E7-A94E-85AF824F17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creates a Date clas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increment operator to change the day, month and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determine if a day is last day of a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A8A4-CC83-43B0-AAF6-5AA0FE4FDD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1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1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6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B56F-8C7F-4E31-8D37-93007CD47A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6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216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216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217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217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217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218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218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218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218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219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219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219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220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220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220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221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221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221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222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222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222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223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223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223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224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224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224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224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225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225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225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226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5205-6DAF-447D-81E3-824CBEB682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65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226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227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227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227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228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228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228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229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229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5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229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229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230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230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230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231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231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6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231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232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232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232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8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232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233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233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34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34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34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35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35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35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35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1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36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36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7" name="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2368" name="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1E52-E23D-483A-A34B-AA650DB047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7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237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237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237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238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238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238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239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239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239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240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240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240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241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241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241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242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242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242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243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243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243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243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244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244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244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245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245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245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246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246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246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246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247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247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A015-CBA5-4C7B-BDF7-B6BDC4ADC9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479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2480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2483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2486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2489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2492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2495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2498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2501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2504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2507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9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2510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2513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2516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2519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2522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2525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2528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0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2531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2534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6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2537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2540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2543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2546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2549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2552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2555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2558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2561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2564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2567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2570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2573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2576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2579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1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2582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2585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7" name="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AC3C-AD81-4C08-9938-6A5DE5C543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93" name="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F9F-33E0-48D1-9676-B8A861BB72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D229-763B-4B21-89E0-4FA7108536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must use a member funct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(or reference to an object)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120A-5B02-4BAA-B47F-340F6F0F5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 because left operand is not an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access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A877-A17E-45C2-9FE9-2C4A12C01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06" name="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C7F8-8B3A-417D-9079-D9B7679C9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4" name="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F755-7F8D-4ECF-BEE9-E4587E63A7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5:46:59Z</dcterms:created>
  <dc:creator>aftab bukhari</dc:creator>
  <dc:description/>
  <dc:language>en-US</dc:language>
  <cp:lastModifiedBy>Jason Rosenfeld</cp:lastModifiedBy>
  <dcterms:modified xsi:type="dcterms:W3CDTF">2000-08-30T20:56:30Z</dcterms:modified>
  <cp:revision>271</cp:revision>
  <dc:subject/>
  <dc:title>PowerPoint Presentation</dc:title>
</cp:coreProperties>
</file>