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A2E1-3C49-4A62-BA1F-158D30BCA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7805-EF4C-4155-9487-62FCBEB8B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5E0D-945E-4B3E-9FF4-95E358560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9FB3-2E4B-45A8-9A1C-73FCC219B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D524-E7DD-43F0-9512-11978F06AB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7A29-2EA5-403D-82A9-35CF68EC25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BDA9B-6DDC-429D-8AEA-384431D8D7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4B23E-2E43-4E41-8231-B90BE98272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0EDC-0560-4BA3-A4F0-7A36C56B74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16C16-9FE5-4C39-9216-0F937B7D2D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EF6B4-36E3-4B34-B673-9F2C4E375B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43FE-4663-4EC1-B6F7-A73F52C10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C0550-F970-4DD0-BA53-31A1758196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9160-0BC4-433C-9598-2445FFF9D5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12D6-6009-4EA3-8BED-6E122A1621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7404C-FCDA-4749-A5BA-A663E9FDB0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C0BF-704D-4ECB-A6D4-BDB4369BCA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106B-EB30-404F-8E0C-B75F54F22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2F32-649F-44A7-AC32-8B3791C96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68AD-783E-492A-9B98-9822930C4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FE88-4A99-4A8C-844D-F98F4A5BE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1D47-2423-47C1-A604-0445E70B6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38AF-3300-4320-9187-3EF785B18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3986-6E17-45F4-8BB6-B04F9F48E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5139-1195-4419-B58B-24720F72A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2482-7500-40B6-AC0F-A782F4DEF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9 - Inheritanc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53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4d4d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2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Inheritance: Base Classes and Derived Classe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3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  <a:ea typeface="Times New Roman"/>
              </a:rPr>
              <a:t>Protected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 Member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4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Casting Base-Class Pointers to Derived-Class Pointer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5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Using Member Function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6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Overriding Base-Class Members in a Derived Clas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7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  <a:ea typeface="Times New Roman"/>
              </a:rPr>
              <a:t>Protected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  <a:ea typeface="Times New Roman"/>
              </a:rPr>
              <a:t>Privat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 Inheritanc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8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Direct Base Classes and Indirect Base Classe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9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Using Constructors and Destructors in Derived Classe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0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Implicit Derived-Class Object to Base-Class Object Conversion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1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Software Engineering with Inheritanc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2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Composition vs. Inheritanc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3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“Uses A” and “Knows A” Relationship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4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Case Study: Point, Circle, Cylinder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5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Multiple Inheritance</a:t>
            </a:r>
            <a:r>
              <a:rPr b="1" lang="en-US" sz="1800" spc="-1" strike="noStrike">
                <a:solidFill>
                  <a:srgbClr val="e36969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60F2D-952E-4A1C-B7F6-4D96EF31CA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0" y="0"/>
            <a:ext cx="6780960" cy="2133360"/>
            <a:chOff x="0" y="0"/>
            <a:chExt cx="6780960" cy="2133360"/>
          </a:xfrm>
        </p:grpSpPr>
        <p:grpSp>
          <p:nvGrpSpPr>
            <p:cNvPr id="216" name=""/>
            <p:cNvGrpSpPr/>
            <p:nvPr/>
          </p:nvGrpSpPr>
          <p:grpSpPr>
            <a:xfrm>
              <a:off x="0" y="0"/>
              <a:ext cx="6780960" cy="213120"/>
              <a:chOff x="0" y="0"/>
              <a:chExt cx="6780960" cy="21312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213120"/>
              <a:ext cx="6780960" cy="213120"/>
              <a:chOff x="0" y="213120"/>
              <a:chExt cx="6780960" cy="21312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426600"/>
              <a:ext cx="6780960" cy="213480"/>
              <a:chOff x="0" y="426600"/>
              <a:chExt cx="6780960" cy="21348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640080"/>
              <a:ext cx="6780960" cy="213120"/>
              <a:chOff x="0" y="640080"/>
              <a:chExt cx="6780960" cy="21312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Point (with overloaded stream insertion operato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853560"/>
              <a:ext cx="6780960" cy="213120"/>
              <a:chOff x="0" y="853560"/>
              <a:chExt cx="6780960" cy="21312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p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1066680"/>
              <a:ext cx="6780960" cy="213120"/>
              <a:chOff x="0" y="1066680"/>
              <a:chExt cx="6780960" cy="21312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1280160"/>
              <a:ext cx="6780960" cy="213480"/>
              <a:chOff x="0" y="1280160"/>
              <a:chExt cx="6780960" cy="21348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'[' &lt;&lt; p.x &lt;&lt; ", " &lt;&lt; p.y &lt;&lt; ']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1493640"/>
              <a:ext cx="6780960" cy="213120"/>
              <a:chOff x="0" y="1493640"/>
              <a:chExt cx="6780960" cy="21312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1707120"/>
              <a:ext cx="6780960" cy="213120"/>
              <a:chOff x="0" y="1707120"/>
              <a:chExt cx="6780960" cy="21312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1920240"/>
              <a:ext cx="6780960" cy="213120"/>
              <a:chOff x="0" y="1920240"/>
              <a:chExt cx="6780960" cy="21312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0" y="2133720"/>
            <a:ext cx="6780960" cy="4723920"/>
            <a:chOff x="0" y="2133720"/>
            <a:chExt cx="6780960" cy="4723920"/>
          </a:xfrm>
        </p:grpSpPr>
        <p:grpSp>
          <p:nvGrpSpPr>
            <p:cNvPr id="247" name=""/>
            <p:cNvGrpSpPr/>
            <p:nvPr/>
          </p:nvGrpSpPr>
          <p:grpSpPr>
            <a:xfrm>
              <a:off x="0" y="2133720"/>
              <a:ext cx="6780960" cy="224640"/>
              <a:chOff x="0" y="2133720"/>
              <a:chExt cx="6780960" cy="22464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1337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1337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circle.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2358360"/>
              <a:ext cx="6780960" cy="224640"/>
              <a:chOff x="0" y="2358360"/>
              <a:chExt cx="6780960" cy="22464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23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23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2583360"/>
              <a:ext cx="6780960" cy="225000"/>
              <a:chOff x="0" y="2583360"/>
              <a:chExt cx="6780960" cy="22500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25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25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2808360"/>
              <a:ext cx="6780960" cy="224640"/>
              <a:chOff x="0" y="2808360"/>
              <a:chExt cx="6780960" cy="22464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28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28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3033360"/>
              <a:ext cx="6780960" cy="224640"/>
              <a:chOff x="0" y="3033360"/>
              <a:chExt cx="6780960" cy="22464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30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30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3258360"/>
              <a:ext cx="6780960" cy="224640"/>
              <a:chOff x="0" y="3258360"/>
              <a:chExt cx="6780960" cy="22464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32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32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3483360"/>
              <a:ext cx="6780960" cy="225000"/>
              <a:chOff x="0" y="3483360"/>
              <a:chExt cx="6780960" cy="22500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34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34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3708360"/>
              <a:ext cx="6780960" cy="224640"/>
              <a:chOff x="0" y="3708360"/>
              <a:chExt cx="6780960" cy="22464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37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37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3933360"/>
              <a:ext cx="6780960" cy="224640"/>
              <a:chOff x="0" y="3933360"/>
              <a:chExt cx="6780960" cy="22464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39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39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4158360"/>
              <a:ext cx="6780960" cy="224640"/>
              <a:chOff x="0" y="4158360"/>
              <a:chExt cx="6780960" cy="22464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41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41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4383360"/>
              <a:ext cx="6780960" cy="225000"/>
              <a:chOff x="0" y="4383360"/>
              <a:chExt cx="6780960" cy="22500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43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43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4608360"/>
              <a:ext cx="6780960" cy="224640"/>
              <a:chOff x="0" y="4608360"/>
              <a:chExt cx="6780960" cy="22464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46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46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4833360"/>
              <a:ext cx="6780960" cy="224640"/>
              <a:chOff x="0" y="4833360"/>
              <a:chExt cx="6780960" cy="22464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48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48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5058360"/>
              <a:ext cx="6780960" cy="224640"/>
              <a:chOff x="0" y="5058360"/>
              <a:chExt cx="6780960" cy="22464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50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50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5283000"/>
              <a:ext cx="6780960" cy="225000"/>
              <a:chOff x="0" y="5283000"/>
              <a:chExt cx="6780960" cy="22500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5283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5283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5508360"/>
              <a:ext cx="6780960" cy="224640"/>
              <a:chOff x="0" y="5508360"/>
              <a:chExt cx="6780960" cy="22464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55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55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point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5733360"/>
              <a:ext cx="6780960" cy="224640"/>
              <a:chOff x="0" y="5733360"/>
              <a:chExt cx="6780960" cy="22464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57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57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5958000"/>
              <a:ext cx="6780960" cy="224640"/>
              <a:chOff x="0" y="5958000"/>
              <a:chExt cx="6780960" cy="22464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5958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5958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ircle inherits from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0" y="6183000"/>
              <a:ext cx="6780960" cy="224640"/>
              <a:chOff x="0" y="6183000"/>
              <a:chExt cx="6780960" cy="224640"/>
            </a:xfrm>
          </p:grpSpPr>
          <p:sp>
            <p:nvSpPr>
              <p:cNvPr id="302" name=""/>
              <p:cNvSpPr/>
              <p:nvPr/>
            </p:nvSpPr>
            <p:spPr>
              <a:xfrm>
                <a:off x="0" y="618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618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6408000"/>
              <a:ext cx="6780960" cy="225000"/>
              <a:chOff x="0" y="6408000"/>
              <a:chExt cx="6780960" cy="22500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6408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6408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6633000"/>
              <a:ext cx="6780960" cy="224640"/>
              <a:chOff x="0" y="6633000"/>
              <a:chExt cx="6780960" cy="22464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663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663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2362320" y="3889440"/>
            <a:ext cx="5410080" cy="2054160"/>
            <a:chOff x="2362320" y="3889440"/>
            <a:chExt cx="5410080" cy="2054160"/>
          </a:xfrm>
        </p:grpSpPr>
        <p:sp>
          <p:nvSpPr>
            <p:cNvPr id="311" name=""/>
            <p:cNvSpPr/>
            <p:nvPr/>
          </p:nvSpPr>
          <p:spPr>
            <a:xfrm>
              <a:off x="3581280" y="3889440"/>
              <a:ext cx="419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ublicly inherits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it will hav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functions and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362320" y="4724280"/>
              <a:ext cx="22860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2CA4F-CAC0-4EBF-A28E-948E1A0F84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ircle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0"/>
            <a:ext cx="6780960" cy="2742840"/>
            <a:chOff x="0" y="0"/>
            <a:chExt cx="6780960" cy="2742840"/>
          </a:xfrm>
        </p:grpSpPr>
        <p:grpSp>
          <p:nvGrpSpPr>
            <p:cNvPr id="315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culate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1645920"/>
              <a:ext cx="6780960" cy="274320"/>
              <a:chOff x="0" y="1645920"/>
              <a:chExt cx="6780960" cy="27432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164592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164592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0" y="2468880"/>
                <a:ext cx="6780600" cy="273960"/>
                <a:chOff x="0" y="2468880"/>
                <a:chExt cx="6780600" cy="2739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0" y="2468880"/>
                  <a:ext cx="678060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0" y="2468880"/>
                  <a:ext cx="678060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7" name=""/>
          <p:cNvGrpSpPr/>
          <p:nvPr/>
        </p:nvGrpSpPr>
        <p:grpSpPr>
          <a:xfrm>
            <a:off x="0" y="2743200"/>
            <a:ext cx="6780960" cy="4114800"/>
            <a:chOff x="0" y="2743200"/>
            <a:chExt cx="6780960" cy="4114800"/>
          </a:xfrm>
        </p:grpSpPr>
        <p:grpSp>
          <p:nvGrpSpPr>
            <p:cNvPr id="348" name=""/>
            <p:cNvGrpSpPr/>
            <p:nvPr/>
          </p:nvGrpSpPr>
          <p:grpSpPr>
            <a:xfrm>
              <a:off x="0" y="2743200"/>
              <a:ext cx="6780960" cy="293760"/>
              <a:chOff x="0" y="2743200"/>
              <a:chExt cx="6780960" cy="29376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27432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27432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circle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3036960"/>
              <a:ext cx="6780960" cy="293760"/>
              <a:chOff x="0" y="3036960"/>
              <a:chExt cx="6780960" cy="29376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30369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30369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3330720"/>
              <a:ext cx="6780960" cy="293760"/>
              <a:chOff x="0" y="3330720"/>
              <a:chExt cx="6780960" cy="29376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33307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33307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3624840"/>
              <a:ext cx="6780960" cy="293760"/>
              <a:chOff x="0" y="3624840"/>
              <a:chExt cx="6780960" cy="29376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36248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36248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3918600"/>
              <a:ext cx="6780960" cy="293760"/>
              <a:chOff x="0" y="3918600"/>
              <a:chExt cx="6780960" cy="29376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39186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9186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4212720"/>
              <a:ext cx="6780960" cy="293760"/>
              <a:chOff x="0" y="4212720"/>
              <a:chExt cx="6780960" cy="29376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42127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42127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a member initializer then initializes radiu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4506480"/>
              <a:ext cx="6780960" cy="293760"/>
              <a:chOff x="0" y="4506480"/>
              <a:chExt cx="6780960" cy="29376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450648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450648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4800600"/>
              <a:ext cx="6780960" cy="293760"/>
              <a:chOff x="0" y="4800600"/>
              <a:chExt cx="6780960" cy="29376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48006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48006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5094360"/>
              <a:ext cx="6780960" cy="293760"/>
              <a:chOff x="0" y="5094360"/>
              <a:chExt cx="6780960" cy="29376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50943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50943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5388480"/>
              <a:ext cx="6780960" cy="293760"/>
              <a:chOff x="0" y="5388480"/>
              <a:chExt cx="6780960" cy="29376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538848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538848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5682240"/>
              <a:ext cx="6780960" cy="293760"/>
              <a:chOff x="0" y="5682240"/>
              <a:chExt cx="6780960" cy="29376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56822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56822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5976360"/>
              <a:ext cx="6780960" cy="293760"/>
              <a:chOff x="0" y="5976360"/>
              <a:chExt cx="6780960" cy="29376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59763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59763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6270120"/>
              <a:ext cx="6780960" cy="293760"/>
              <a:chOff x="0" y="6270120"/>
              <a:chExt cx="6780960" cy="29376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62701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62701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radius = ( r &gt;= 0 ? r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6564240"/>
              <a:ext cx="6780960" cy="293760"/>
              <a:chOff x="0" y="6564240"/>
              <a:chExt cx="6780960" cy="29376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65642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65642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4190760" y="3124080"/>
            <a:ext cx="3886560" cy="1524240"/>
            <a:chOff x="4190760" y="3124080"/>
            <a:chExt cx="3886560" cy="1524240"/>
          </a:xfrm>
        </p:grpSpPr>
        <p:sp>
          <p:nvSpPr>
            <p:cNvPr id="391" name=""/>
            <p:cNvSpPr/>
            <p:nvPr/>
          </p:nvSpPr>
          <p:spPr>
            <a:xfrm>
              <a:off x="5257800" y="312408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h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s data members (which are set by call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s constructor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190760" y="3429000"/>
              <a:ext cx="10666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A154-0603-4BCC-9168-F17F4123D5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riv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0" y="0"/>
            <a:ext cx="6780960" cy="3581280"/>
            <a:chOff x="0" y="0"/>
            <a:chExt cx="6780960" cy="3581280"/>
          </a:xfrm>
        </p:grpSpPr>
        <p:grpSp>
          <p:nvGrpSpPr>
            <p:cNvPr id="395" name=""/>
            <p:cNvGrpSpPr/>
            <p:nvPr/>
          </p:nvGrpSpPr>
          <p:grpSpPr>
            <a:xfrm>
              <a:off x="0" y="0"/>
              <a:ext cx="6780960" cy="198720"/>
              <a:chOff x="0" y="0"/>
              <a:chExt cx="6780960" cy="19872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0" y="198720"/>
              <a:ext cx="6780960" cy="198720"/>
              <a:chOff x="0" y="198720"/>
              <a:chExt cx="6780960" cy="19872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1987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1987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0" y="397800"/>
              <a:ext cx="6780960" cy="198720"/>
              <a:chOff x="0" y="397800"/>
              <a:chExt cx="6780960" cy="19872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3978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3978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0" y="596880"/>
              <a:ext cx="6780960" cy="198720"/>
              <a:chOff x="0" y="596880"/>
              <a:chExt cx="6780960" cy="19872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596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596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rea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0" y="795600"/>
              <a:ext cx="6780960" cy="198720"/>
              <a:chOff x="0" y="795600"/>
              <a:chExt cx="6780960" cy="198720"/>
            </a:xfrm>
          </p:grpSpPr>
          <p:sp>
            <p:nvSpPr>
              <p:cNvPr id="408" name=""/>
              <p:cNvSpPr/>
              <p:nvPr/>
            </p:nvSpPr>
            <p:spPr>
              <a:xfrm>
                <a:off x="0" y="795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795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0" y="994680"/>
              <a:ext cx="6780960" cy="198720"/>
              <a:chOff x="0" y="994680"/>
              <a:chExt cx="6780960" cy="198720"/>
            </a:xfrm>
          </p:grpSpPr>
          <p:sp>
            <p:nvSpPr>
              <p:cNvPr id="411" name=""/>
              <p:cNvSpPr/>
              <p:nvPr/>
            </p:nvSpPr>
            <p:spPr>
              <a:xfrm>
                <a:off x="0" y="9946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9946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0" y="1193760"/>
              <a:ext cx="6780960" cy="198720"/>
              <a:chOff x="0" y="1193760"/>
              <a:chExt cx="6780960" cy="198720"/>
            </a:xfrm>
          </p:grpSpPr>
          <p:sp>
            <p:nvSpPr>
              <p:cNvPr id="414" name=""/>
              <p:cNvSpPr/>
              <p:nvPr/>
            </p:nvSpPr>
            <p:spPr>
              <a:xfrm>
                <a:off x="0" y="11937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11937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0" y="1392840"/>
              <a:ext cx="6780960" cy="198720"/>
              <a:chOff x="0" y="1392840"/>
              <a:chExt cx="6780960" cy="19872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1392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1392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a Circle in the form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0" y="1591560"/>
              <a:ext cx="6780960" cy="198720"/>
              <a:chOff x="0" y="1591560"/>
              <a:chExt cx="6780960" cy="198720"/>
            </a:xfrm>
          </p:grpSpPr>
          <p:sp>
            <p:nvSpPr>
              <p:cNvPr id="420" name=""/>
              <p:cNvSpPr/>
              <p:nvPr/>
            </p:nvSpPr>
            <p:spPr>
              <a:xfrm>
                <a:off x="0" y="1591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1591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enter = [x, y]; Radius = #.#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0" y="1790640"/>
              <a:ext cx="6780960" cy="198720"/>
              <a:chOff x="0" y="1790640"/>
              <a:chExt cx="6780960" cy="19872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17906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17906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1989360"/>
              <a:ext cx="6780960" cy="198720"/>
              <a:chOff x="0" y="1989360"/>
              <a:chExt cx="6780960" cy="19872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19893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19893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0" y="2188440"/>
              <a:ext cx="6780960" cy="198720"/>
              <a:chOff x="0" y="2188440"/>
              <a:chExt cx="6780960" cy="19872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21884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21884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"Center = "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Point &gt;( 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0" y="2387520"/>
              <a:ext cx="6780960" cy="198720"/>
              <a:chOff x="0" y="2387520"/>
              <a:chExt cx="6780960" cy="19872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23875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23875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; Radius =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0" y="2586600"/>
              <a:ext cx="6780960" cy="198720"/>
              <a:chOff x="0" y="2586600"/>
              <a:chExt cx="6780960" cy="19872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2586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2586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0" y="2785320"/>
              <a:ext cx="6780960" cy="198720"/>
              <a:chOff x="0" y="2785320"/>
              <a:chExt cx="6780960" cy="19872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27853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27853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precision( 2 ) &lt;&lt; c.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2984400"/>
              <a:ext cx="6780960" cy="198720"/>
              <a:chOff x="0" y="2984400"/>
              <a:chExt cx="6780960" cy="19872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29844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29844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3183480"/>
              <a:ext cx="6780960" cy="198720"/>
              <a:chOff x="0" y="3183480"/>
              <a:chExt cx="6780960" cy="19872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31834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31834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3382560"/>
              <a:ext cx="6780960" cy="198720"/>
              <a:chOff x="0" y="3382560"/>
              <a:chExt cx="6780960" cy="198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3382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382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0" y="3581280"/>
            <a:ext cx="6780960" cy="3276720"/>
            <a:chOff x="0" y="3581280"/>
            <a:chExt cx="6780960" cy="3276720"/>
          </a:xfrm>
        </p:grpSpPr>
        <p:grpSp>
          <p:nvGrpSpPr>
            <p:cNvPr id="450" name=""/>
            <p:cNvGrpSpPr/>
            <p:nvPr/>
          </p:nvGrpSpPr>
          <p:grpSpPr>
            <a:xfrm>
              <a:off x="0" y="3581280"/>
              <a:ext cx="6780960" cy="218160"/>
              <a:chOff x="0" y="3581280"/>
              <a:chExt cx="6780960" cy="21816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3581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3581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fig09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3799440"/>
              <a:ext cx="6780960" cy="218160"/>
              <a:chOff x="0" y="3799440"/>
              <a:chExt cx="6780960" cy="21816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3799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3799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sting base-class pointers to derived-class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4017960"/>
              <a:ext cx="6780960" cy="218520"/>
              <a:chOff x="0" y="4017960"/>
              <a:chExt cx="6780960" cy="21852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40179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40179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4236480"/>
              <a:ext cx="6780960" cy="218160"/>
              <a:chOff x="0" y="4236480"/>
              <a:chExt cx="6780960" cy="21816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42364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42364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0" y="4455000"/>
              <a:ext cx="6780960" cy="218160"/>
              <a:chOff x="0" y="4455000"/>
              <a:chExt cx="6780960" cy="21816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44550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44550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0" y="4673520"/>
              <a:ext cx="6780960" cy="218160"/>
              <a:chOff x="0" y="4673520"/>
              <a:chExt cx="6780960" cy="218160"/>
            </a:xfrm>
          </p:grpSpPr>
          <p:sp>
            <p:nvSpPr>
              <p:cNvPr id="466" name=""/>
              <p:cNvSpPr/>
              <p:nvPr/>
            </p:nvSpPr>
            <p:spPr>
              <a:xfrm>
                <a:off x="0" y="46735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6735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0" y="4891680"/>
              <a:ext cx="6780960" cy="218520"/>
              <a:chOff x="0" y="4891680"/>
              <a:chExt cx="6780960" cy="218520"/>
            </a:xfrm>
          </p:grpSpPr>
          <p:sp>
            <p:nvSpPr>
              <p:cNvPr id="469" name=""/>
              <p:cNvSpPr/>
              <p:nvPr/>
            </p:nvSpPr>
            <p:spPr>
              <a:xfrm>
                <a:off x="0" y="4891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4891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0" y="5110200"/>
              <a:ext cx="6780960" cy="218160"/>
              <a:chOff x="0" y="5110200"/>
              <a:chExt cx="6780960" cy="218160"/>
            </a:xfrm>
          </p:grpSpPr>
          <p:sp>
            <p:nvSpPr>
              <p:cNvPr id="472" name=""/>
              <p:cNvSpPr/>
              <p:nvPr/>
            </p:nvSpPr>
            <p:spPr>
              <a:xfrm>
                <a:off x="0" y="5110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5110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5328720"/>
              <a:ext cx="6780960" cy="218160"/>
              <a:chOff x="0" y="5328720"/>
              <a:chExt cx="6780960" cy="218160"/>
            </a:xfrm>
          </p:grpSpPr>
          <p:sp>
            <p:nvSpPr>
              <p:cNvPr id="475" name=""/>
              <p:cNvSpPr/>
              <p:nvPr/>
            </p:nvSpPr>
            <p:spPr>
              <a:xfrm>
                <a:off x="0" y="5328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5328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0" y="5547240"/>
              <a:ext cx="6780960" cy="218160"/>
              <a:chOff x="0" y="5547240"/>
              <a:chExt cx="6780960" cy="21816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55472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55472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0" y="5765760"/>
              <a:ext cx="6780960" cy="218520"/>
              <a:chOff x="0" y="5765760"/>
              <a:chExt cx="6780960" cy="21852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57657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7657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5984280"/>
              <a:ext cx="6780960" cy="218160"/>
              <a:chOff x="0" y="5984280"/>
              <a:chExt cx="6780960" cy="21816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5984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5984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6202800"/>
              <a:ext cx="6780960" cy="218160"/>
              <a:chOff x="0" y="6202800"/>
              <a:chExt cx="6780960" cy="21816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62028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62028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6420960"/>
              <a:ext cx="6780960" cy="218160"/>
              <a:chOff x="0" y="6420960"/>
              <a:chExt cx="6780960" cy="218160"/>
            </a:xfrm>
          </p:grpSpPr>
          <p:sp>
            <p:nvSpPr>
              <p:cNvPr id="490" name=""/>
              <p:cNvSpPr/>
              <p:nvPr/>
            </p:nvSpPr>
            <p:spPr>
              <a:xfrm>
                <a:off x="0" y="6420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6420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0" y="6639480"/>
              <a:ext cx="6780960" cy="218520"/>
              <a:chOff x="0" y="6639480"/>
              <a:chExt cx="6780960" cy="218520"/>
            </a:xfrm>
          </p:grpSpPr>
          <p:sp>
            <p:nvSpPr>
              <p:cNvPr id="493" name=""/>
              <p:cNvSpPr/>
              <p:nvPr/>
            </p:nvSpPr>
            <p:spPr>
              <a:xfrm>
                <a:off x="0" y="66394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66394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 *pointPtr = 0, p( 30, 5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2A0B-8F6C-4EFA-86D3-CE1BB10DCF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Assign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97" name=""/>
            <p:cNvGrpSpPr/>
            <p:nvPr/>
          </p:nvGrpSpPr>
          <p:grpSpPr>
            <a:xfrm>
              <a:off x="0" y="3200400"/>
              <a:ext cx="6780960" cy="3657240"/>
              <a:chOff x="0" y="3200400"/>
              <a:chExt cx="6780960" cy="36572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0" y="3200400"/>
                <a:ext cx="6780960" cy="261000"/>
                <a:chOff x="0" y="3200400"/>
                <a:chExt cx="6780960" cy="2610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0" y="3200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0" y="3200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\nCircle c (via *circlePtr):\n" &lt;&lt; *circlePt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0" y="3461400"/>
                <a:ext cx="6780960" cy="261000"/>
                <a:chOff x="0" y="3461400"/>
                <a:chExt cx="6780960" cy="2610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0" y="3461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0" y="3461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\nArea of c (via circlePtr):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0" y="3722760"/>
                <a:ext cx="6780960" cy="261360"/>
                <a:chOff x="0" y="3722760"/>
                <a:chExt cx="6780960" cy="2613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0" y="372276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0" y="372276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circlePtr-&gt;area() &lt;&lt; '\n'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0" y="3984120"/>
                <a:ext cx="6780960" cy="261000"/>
                <a:chOff x="0" y="3984120"/>
                <a:chExt cx="6780960" cy="2610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0" y="398412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0" y="398412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0" y="4245480"/>
                <a:ext cx="6780960" cy="261000"/>
                <a:chOff x="0" y="4245480"/>
                <a:chExt cx="6780960" cy="2610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0" y="4245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0" y="4245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DANGEROUS: Treat a Point as a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0" y="4506480"/>
                <a:ext cx="6780960" cy="261000"/>
                <a:chOff x="0" y="4506480"/>
                <a:chExt cx="6780960" cy="26100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0" y="4506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0" y="4506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ointPtr = &amp;p;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assign address of Point to poi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0" y="4767840"/>
                <a:ext cx="6780960" cy="261360"/>
                <a:chOff x="0" y="4767840"/>
                <a:chExt cx="6780960" cy="2613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0" y="476784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0" y="476784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0" y="5029200"/>
                <a:ext cx="6780960" cy="261000"/>
                <a:chOff x="0" y="5029200"/>
                <a:chExt cx="6780960" cy="2610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0" y="50292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0" y="50292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cast base-class pointer to derived-class poin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0" y="5290560"/>
                <a:ext cx="6780960" cy="261000"/>
                <a:chOff x="0" y="5290560"/>
                <a:chExt cx="6780960" cy="2610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0" y="5290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0" y="5290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Ptr =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static_ca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&lt; Circle * &gt;( pointPtr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0" y="5551560"/>
                <a:ext cx="6780960" cy="261000"/>
                <a:chOff x="0" y="5551560"/>
                <a:chExt cx="6780960" cy="2610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0" y="5551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0" y="5551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\nPoint p (via *circlePtr):\n" &lt;&lt; *circle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0" y="5812920"/>
                <a:ext cx="6780960" cy="261360"/>
                <a:chOff x="0" y="5812920"/>
                <a:chExt cx="6780960" cy="2613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0" y="581292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0" y="581292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\nArea of object circlePtr points to: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0" y="6074280"/>
                <a:ext cx="6780960" cy="261000"/>
                <a:chOff x="0" y="6074280"/>
                <a:chExt cx="6780960" cy="2610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0" y="60742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0" y="60742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circlePtr-&gt;area()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0" y="6335640"/>
                <a:ext cx="6780960" cy="261000"/>
                <a:chOff x="0" y="6335640"/>
                <a:chExt cx="6780960" cy="26100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0" y="6335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0" y="6335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0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0" y="6596640"/>
                <a:ext cx="6780960" cy="261000"/>
                <a:chOff x="0" y="6596640"/>
                <a:chExt cx="6780960" cy="26100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0" y="6596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0" y="6596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0" name=""/>
            <p:cNvGrpSpPr/>
            <p:nvPr/>
          </p:nvGrpSpPr>
          <p:grpSpPr>
            <a:xfrm>
              <a:off x="0" y="0"/>
              <a:ext cx="6780960" cy="3200040"/>
              <a:chOff x="0" y="0"/>
              <a:chExt cx="6780960" cy="320004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0" y="0"/>
                <a:ext cx="6780960" cy="266400"/>
                <a:chOff x="0" y="0"/>
                <a:chExt cx="6780960" cy="2664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0" y="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0" y="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 *circlePtr = 0, c( 2.7, 120, 89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0" y="266400"/>
                <a:ext cx="6780960" cy="266400"/>
                <a:chOff x="0" y="266400"/>
                <a:chExt cx="6780960" cy="26640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0" y="26640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0" y="26640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0" y="533160"/>
                <a:ext cx="6780960" cy="266760"/>
                <a:chOff x="0" y="533160"/>
                <a:chExt cx="6780960" cy="26676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0" y="53316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0" y="53316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Point p: " &lt;&lt; p &lt;&lt; "\nCircle c: " &lt;&lt; c &lt;&lt; '\n'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0" y="799920"/>
                <a:ext cx="6780960" cy="266400"/>
                <a:chOff x="0" y="799920"/>
                <a:chExt cx="6780960" cy="2664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0" y="7999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0" y="7999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0" y="1066680"/>
                <a:ext cx="6780960" cy="266400"/>
                <a:chOff x="0" y="1066680"/>
                <a:chExt cx="6780960" cy="26640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0" y="106668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0" y="106668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Treat a Circle as a Point (see only the base class par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0" y="1333440"/>
                <a:ext cx="6780960" cy="266400"/>
                <a:chOff x="0" y="1333440"/>
                <a:chExt cx="6780960" cy="2664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0" y="13334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0" y="13334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ointPtr = &amp;c;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assign address of Circle to poi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0" y="1600200"/>
                <a:ext cx="6780960" cy="266760"/>
                <a:chOff x="0" y="1600200"/>
                <a:chExt cx="6780960" cy="26676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0" y="160020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0" y="160020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\nCircle c (via *pointPtr): "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0" y="1866960"/>
                <a:ext cx="6780960" cy="266400"/>
                <a:chOff x="0" y="1866960"/>
                <a:chExt cx="6780960" cy="26640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0" y="186696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0" y="186696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*pointPtr &lt;&lt; '\n'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0" y="2133720"/>
                <a:ext cx="6780960" cy="266400"/>
                <a:chOff x="0" y="2133720"/>
                <a:chExt cx="6780960" cy="26640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0" y="21337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0" y="21337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0" y="2400120"/>
                <a:ext cx="6780960" cy="266400"/>
                <a:chOff x="0" y="2400120"/>
                <a:chExt cx="6780960" cy="26640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0" y="24001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0" y="24001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Treat a Circle as a Circle (with some castin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0" y="2666880"/>
                <a:ext cx="6780960" cy="266760"/>
                <a:chOff x="0" y="2666880"/>
                <a:chExt cx="6780960" cy="2667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0" y="266688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0" y="266688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cast base-class pointer to derived-class poin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0" y="2933640"/>
                <a:ext cx="6780960" cy="266400"/>
                <a:chOff x="0" y="2933640"/>
                <a:chExt cx="6780960" cy="26640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0" y="29336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0" y="29336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Ptr =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static_ca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&lt; Circle * &gt;( pointPtr );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77" name=""/>
          <p:cNvGrpSpPr/>
          <p:nvPr/>
        </p:nvGrpSpPr>
        <p:grpSpPr>
          <a:xfrm>
            <a:off x="2057400" y="1600200"/>
            <a:ext cx="6629400" cy="3357720"/>
            <a:chOff x="2057400" y="1600200"/>
            <a:chExt cx="6629400" cy="3357720"/>
          </a:xfrm>
        </p:grpSpPr>
        <p:sp>
          <p:nvSpPr>
            <p:cNvPr id="578" name=""/>
            <p:cNvSpPr/>
            <p:nvPr/>
          </p:nvSpPr>
          <p:spPr>
            <a:xfrm>
              <a:off x="6248520" y="3276720"/>
              <a:ext cx="2438280" cy="1681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sign derived-class pointe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amp;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o base class poin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base class pointer only "sees" the base-class part of the object it points 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2057400" y="1600200"/>
              <a:ext cx="419112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4647960" y="3123720"/>
            <a:ext cx="4115160" cy="3586320"/>
            <a:chOff x="4647960" y="3123720"/>
            <a:chExt cx="4115160" cy="3586320"/>
          </a:xfrm>
        </p:grpSpPr>
        <p:sp>
          <p:nvSpPr>
            <p:cNvPr id="581" name=""/>
            <p:cNvSpPr/>
            <p:nvPr/>
          </p:nvSpPr>
          <p:spPr>
            <a:xfrm>
              <a:off x="6324840" y="5028840"/>
              <a:ext cx="2438280" cy="1681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t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 *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assign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Pt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Pt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ll 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object to which it points)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4647960" y="3123720"/>
              <a:ext cx="1676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3352680" y="83808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: [30, 5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: 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687840" y="1905120"/>
            <a:ext cx="33811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pointPtr): [120, 8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35100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c (via circlePtr): 22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04920" y="2332080"/>
            <a:ext cx="3352680" cy="3002040"/>
            <a:chOff x="304920" y="2332080"/>
            <a:chExt cx="3352680" cy="3002040"/>
          </a:xfrm>
        </p:grpSpPr>
        <p:grpSp>
          <p:nvGrpSpPr>
            <p:cNvPr id="587" name=""/>
            <p:cNvGrpSpPr/>
            <p:nvPr/>
          </p:nvGrpSpPr>
          <p:grpSpPr>
            <a:xfrm>
              <a:off x="304920" y="2332080"/>
              <a:ext cx="3352680" cy="2163600"/>
              <a:chOff x="304920" y="2332080"/>
              <a:chExt cx="3352680" cy="2163600"/>
            </a:xfrm>
          </p:grpSpPr>
          <p:sp>
            <p:nvSpPr>
              <p:cNvPr id="588" name=""/>
              <p:cNvSpPr/>
              <p:nvPr/>
            </p:nvSpPr>
            <p:spPr>
              <a:xfrm>
                <a:off x="304920" y="2332080"/>
                <a:ext cx="3352680" cy="192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ssig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o a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object.  It has no derived-class information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When it is cast to a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 *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really assigned to a base-class object with no derived-class information.  This is dangerou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1218960" y="42670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1981080" y="4267080"/>
              <a:ext cx="7621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4343400" y="60246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30, 50]; Radius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object circlePtr points to: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4679-31C4-426A-961A-D0C6CBA8EA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678168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: [30, 5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: 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pointPtr): [120, 8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c (via circlePtr): 22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30, 50]; Radius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object circlePtr points to: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A44E-BAAF-4639-A307-BD53E80452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5     Using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class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directly acce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their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s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is a huge help in testing, debugging and correctly modify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6313-4CC7-432A-9226-946A60AE0A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6   Overriding Base-Class Members in a Derived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verride a base-class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e derived class, supply a new version of that function with the same sign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function name, different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function is then mentioned by name in the derived class, the derived version is automatically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cope-resolution operator may be used to access the base class version from the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971B-5C32-4A18-B498-C9005390BA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0" y="0"/>
            <a:ext cx="6780960" cy="3200400"/>
            <a:chOff x="0" y="0"/>
            <a:chExt cx="6780960" cy="3200400"/>
          </a:xfrm>
        </p:grpSpPr>
        <p:grpSp>
          <p:nvGrpSpPr>
            <p:cNvPr id="600" name=""/>
            <p:cNvGrpSpPr/>
            <p:nvPr/>
          </p:nvGrpSpPr>
          <p:grpSpPr>
            <a:xfrm>
              <a:off x="0" y="0"/>
              <a:ext cx="6780960" cy="199800"/>
              <a:chOff x="0" y="0"/>
              <a:chExt cx="6780960" cy="199800"/>
            </a:xfrm>
          </p:grpSpPr>
          <p:sp>
            <p:nvSpPr>
              <p:cNvPr id="601" name=""/>
              <p:cNvSpPr/>
              <p:nvPr/>
            </p:nvSpPr>
            <p:spPr>
              <a:xfrm>
                <a:off x="0" y="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employ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199800"/>
              <a:ext cx="6780960" cy="199800"/>
              <a:chOff x="0" y="199800"/>
              <a:chExt cx="6780960" cy="199800"/>
            </a:xfrm>
          </p:grpSpPr>
          <p:sp>
            <p:nvSpPr>
              <p:cNvPr id="604" name=""/>
              <p:cNvSpPr/>
              <p:nvPr/>
            </p:nvSpPr>
            <p:spPr>
              <a:xfrm>
                <a:off x="0" y="1998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1998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399960"/>
              <a:ext cx="6780960" cy="199800"/>
              <a:chOff x="0" y="399960"/>
              <a:chExt cx="6780960" cy="199800"/>
            </a:xfrm>
          </p:grpSpPr>
          <p:sp>
            <p:nvSpPr>
              <p:cNvPr id="607" name=""/>
              <p:cNvSpPr/>
              <p:nvPr/>
            </p:nvSpPr>
            <p:spPr>
              <a:xfrm>
                <a:off x="0" y="3999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3999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600120"/>
              <a:ext cx="6780960" cy="199800"/>
              <a:chOff x="0" y="600120"/>
              <a:chExt cx="6780960" cy="199800"/>
            </a:xfrm>
          </p:grpSpPr>
          <p:sp>
            <p:nvSpPr>
              <p:cNvPr id="610" name=""/>
              <p:cNvSpPr/>
              <p:nvPr/>
            </p:nvSpPr>
            <p:spPr>
              <a:xfrm>
                <a:off x="0" y="6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6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0" y="799920"/>
              <a:ext cx="6780960" cy="199800"/>
              <a:chOff x="0" y="799920"/>
              <a:chExt cx="6780960" cy="19980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7999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7999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1000080"/>
              <a:ext cx="6780960" cy="199800"/>
              <a:chOff x="0" y="1000080"/>
              <a:chExt cx="6780960" cy="199800"/>
            </a:xfrm>
          </p:grpSpPr>
          <p:sp>
            <p:nvSpPr>
              <p:cNvPr id="616" name=""/>
              <p:cNvSpPr/>
              <p:nvPr/>
            </p:nvSpPr>
            <p:spPr>
              <a:xfrm>
                <a:off x="0" y="10000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10000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1199880"/>
              <a:ext cx="6780960" cy="199800"/>
              <a:chOff x="0" y="1199880"/>
              <a:chExt cx="6780960" cy="19980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11998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11998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0" y="1400040"/>
              <a:ext cx="6780960" cy="199800"/>
              <a:chOff x="0" y="1400040"/>
              <a:chExt cx="6780960" cy="199800"/>
            </a:xfrm>
          </p:grpSpPr>
          <p:sp>
            <p:nvSpPr>
              <p:cNvPr id="622" name=""/>
              <p:cNvSpPr/>
              <p:nvPr/>
            </p:nvSpPr>
            <p:spPr>
              <a:xfrm>
                <a:off x="0" y="14000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14000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1600200"/>
              <a:ext cx="6780960" cy="199800"/>
              <a:chOff x="0" y="1600200"/>
              <a:chExt cx="6780960" cy="19980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16002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16002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output first and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1800000"/>
              <a:ext cx="6780960" cy="199800"/>
              <a:chOff x="0" y="1800000"/>
              <a:chExt cx="6780960" cy="19980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18000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18000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2000160"/>
              <a:ext cx="6780960" cy="199800"/>
              <a:chOff x="0" y="2000160"/>
              <a:chExt cx="6780960" cy="19980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20001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20001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2200320"/>
              <a:ext cx="6780960" cy="199800"/>
              <a:chOff x="0" y="2200320"/>
              <a:chExt cx="6780960" cy="19980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22003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22003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Nam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ynamically allocated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2400120"/>
              <a:ext cx="6780960" cy="199800"/>
              <a:chOff x="0" y="2400120"/>
              <a:chExt cx="6780960" cy="19980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24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4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Nam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dynamically allocated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600280"/>
              <a:ext cx="6780960" cy="199800"/>
              <a:chOff x="0" y="2600280"/>
              <a:chExt cx="6780960" cy="19980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6002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6002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2800440"/>
              <a:ext cx="6780960" cy="199800"/>
              <a:chOff x="0" y="2800440"/>
              <a:chExt cx="6780960" cy="19980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28004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28004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3000600"/>
              <a:ext cx="6780960" cy="199800"/>
              <a:chOff x="0" y="3000600"/>
              <a:chExt cx="6780960" cy="19980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30006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0" y="3000600"/>
                <a:ext cx="6780600" cy="199800"/>
                <a:chOff x="0" y="3000600"/>
                <a:chExt cx="6780600" cy="1998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0" y="3000600"/>
                  <a:ext cx="6780600" cy="199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0" y="3000600"/>
                  <a:ext cx="678060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0" name=""/>
          <p:cNvGrpSpPr/>
          <p:nvPr/>
        </p:nvGrpSpPr>
        <p:grpSpPr>
          <a:xfrm>
            <a:off x="0" y="3200400"/>
            <a:ext cx="6780960" cy="3657240"/>
            <a:chOff x="0" y="3200400"/>
            <a:chExt cx="6780960" cy="3657240"/>
          </a:xfrm>
        </p:grpSpPr>
        <p:grpSp>
          <p:nvGrpSpPr>
            <p:cNvPr id="651" name=""/>
            <p:cNvGrpSpPr/>
            <p:nvPr/>
          </p:nvGrpSpPr>
          <p:grpSpPr>
            <a:xfrm>
              <a:off x="0" y="3200400"/>
              <a:ext cx="6780960" cy="228240"/>
              <a:chOff x="0" y="3200400"/>
              <a:chExt cx="6780960" cy="22824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employ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3428640"/>
              <a:ext cx="6780960" cy="228240"/>
              <a:chOff x="0" y="3428640"/>
              <a:chExt cx="6780960" cy="22824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3657240"/>
              <a:ext cx="6780960" cy="228600"/>
              <a:chOff x="0" y="3657240"/>
              <a:chExt cx="6780960" cy="22860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4572000"/>
              <a:ext cx="6780960" cy="228600"/>
              <a:chOff x="0" y="4572000"/>
              <a:chExt cx="6780960" cy="22860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5486400"/>
              <a:ext cx="6780960" cy="228600"/>
              <a:chOff x="0" y="5486400"/>
              <a:chExt cx="6780960" cy="22860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68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first and last names into the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691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0" y="6400800"/>
              <a:ext cx="6780960" cy="228600"/>
              <a:chOff x="0" y="6400800"/>
              <a:chExt cx="67809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69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F4E5-1EAE-4A72-9A75-02281C3FFF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Work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0" y="0"/>
            <a:ext cx="6705000" cy="3733920"/>
            <a:chOff x="0" y="0"/>
            <a:chExt cx="6705000" cy="3733920"/>
          </a:xfrm>
        </p:grpSpPr>
        <p:grpSp>
          <p:nvGrpSpPr>
            <p:cNvPr id="701" name=""/>
            <p:cNvGrpSpPr/>
            <p:nvPr/>
          </p:nvGrpSpPr>
          <p:grpSpPr>
            <a:xfrm>
              <a:off x="0" y="0"/>
              <a:ext cx="6705000" cy="207360"/>
              <a:chOff x="0" y="0"/>
              <a:chExt cx="6705000" cy="207360"/>
            </a:xfrm>
          </p:grpSpPr>
          <p:sp>
            <p:nvSpPr>
              <p:cNvPr id="702" name=""/>
              <p:cNvSpPr/>
              <p:nvPr/>
            </p:nvSpPr>
            <p:spPr>
              <a:xfrm>
                <a:off x="0" y="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firstName !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rminate if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0" y="207360"/>
              <a:ext cx="6705000" cy="207360"/>
              <a:chOff x="0" y="207360"/>
              <a:chExt cx="6705000" cy="207360"/>
            </a:xfrm>
          </p:grpSpPr>
          <p:sp>
            <p:nvSpPr>
              <p:cNvPr id="705" name=""/>
              <p:cNvSpPr/>
              <p:nvPr/>
            </p:nvSpPr>
            <p:spPr>
              <a:xfrm>
                <a:off x="0" y="2073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2073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0" y="414720"/>
              <a:ext cx="6705000" cy="207360"/>
              <a:chOff x="0" y="414720"/>
              <a:chExt cx="6705000" cy="207360"/>
            </a:xfrm>
          </p:grpSpPr>
          <p:sp>
            <p:nvSpPr>
              <p:cNvPr id="708" name=""/>
              <p:cNvSpPr/>
              <p:nvPr/>
            </p:nvSpPr>
            <p:spPr>
              <a:xfrm>
                <a:off x="0" y="4147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0" y="4147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0" y="622080"/>
              <a:ext cx="6705000" cy="207360"/>
              <a:chOff x="0" y="622080"/>
              <a:chExt cx="6705000" cy="20736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622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622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0" y="829800"/>
              <a:ext cx="6705000" cy="207360"/>
              <a:chOff x="0" y="829800"/>
              <a:chExt cx="6705000" cy="207360"/>
            </a:xfrm>
          </p:grpSpPr>
          <p:sp>
            <p:nvSpPr>
              <p:cNvPr id="714" name=""/>
              <p:cNvSpPr/>
              <p:nvPr/>
            </p:nvSpPr>
            <p:spPr>
              <a:xfrm>
                <a:off x="0" y="829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829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lastName !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rminate if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0" y="1037160"/>
              <a:ext cx="6705000" cy="207360"/>
              <a:chOff x="0" y="1037160"/>
              <a:chExt cx="6705000" cy="20736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1037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1037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0" y="1244520"/>
              <a:ext cx="6705000" cy="207360"/>
              <a:chOff x="0" y="1244520"/>
              <a:chExt cx="6705000" cy="207360"/>
            </a:xfrm>
          </p:grpSpPr>
          <p:sp>
            <p:nvSpPr>
              <p:cNvPr id="720" name=""/>
              <p:cNvSpPr/>
              <p:nvPr/>
            </p:nvSpPr>
            <p:spPr>
              <a:xfrm>
                <a:off x="0" y="12445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12445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0" y="1451880"/>
              <a:ext cx="6705000" cy="207360"/>
              <a:chOff x="0" y="1451880"/>
              <a:chExt cx="6705000" cy="207360"/>
            </a:xfrm>
          </p:grpSpPr>
          <p:sp>
            <p:nvSpPr>
              <p:cNvPr id="723" name=""/>
              <p:cNvSpPr/>
              <p:nvPr/>
            </p:nvSpPr>
            <p:spPr>
              <a:xfrm>
                <a:off x="0" y="1451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1451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0" y="1659600"/>
              <a:ext cx="6705000" cy="207360"/>
              <a:chOff x="0" y="1659600"/>
              <a:chExt cx="6705000" cy="207360"/>
            </a:xfrm>
          </p:grpSpPr>
          <p:sp>
            <p:nvSpPr>
              <p:cNvPr id="726" name=""/>
              <p:cNvSpPr/>
              <p:nvPr/>
            </p:nvSpPr>
            <p:spPr>
              <a:xfrm>
                <a:off x="0" y="1659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1659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employee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0" y="1866960"/>
              <a:ext cx="6705000" cy="207360"/>
              <a:chOff x="0" y="1866960"/>
              <a:chExt cx="6705000" cy="20736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1866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1866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2074320"/>
              <a:ext cx="6705000" cy="207360"/>
              <a:chOff x="0" y="2074320"/>
              <a:chExt cx="6705000" cy="20736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20743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20743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firstName &lt;&lt; ' ' &lt;&lt; lastNam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2282040"/>
              <a:ext cx="6705000" cy="207360"/>
              <a:chOff x="0" y="2282040"/>
              <a:chExt cx="6705000" cy="20736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2282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2282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2489400"/>
              <a:ext cx="6705000" cy="207360"/>
              <a:chOff x="0" y="2489400"/>
              <a:chExt cx="6705000" cy="20736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2489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2489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2696760"/>
              <a:ext cx="6705000" cy="207360"/>
              <a:chOff x="0" y="2696760"/>
              <a:chExt cx="6705000" cy="20736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26967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26967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2904120"/>
              <a:ext cx="6705000" cy="207360"/>
              <a:chOff x="0" y="2904120"/>
              <a:chExt cx="6705000" cy="20736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2904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904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3111840"/>
              <a:ext cx="6705000" cy="207360"/>
              <a:chOff x="0" y="3111840"/>
              <a:chExt cx="6705000" cy="20736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3111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3111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fir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laim dynamic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3319200"/>
              <a:ext cx="6705000" cy="207360"/>
              <a:chOff x="0" y="3319200"/>
              <a:chExt cx="6705000" cy="20736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3319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3319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la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claim dynamic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3526560"/>
              <a:ext cx="6705000" cy="207360"/>
              <a:chOff x="0" y="3526560"/>
              <a:chExt cx="6705000" cy="20736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35265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35265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5" name=""/>
          <p:cNvGrpSpPr/>
          <p:nvPr/>
        </p:nvGrpSpPr>
        <p:grpSpPr>
          <a:xfrm>
            <a:off x="0" y="3733920"/>
            <a:ext cx="6705000" cy="3124080"/>
            <a:chOff x="0" y="3733920"/>
            <a:chExt cx="6705000" cy="3124080"/>
          </a:xfrm>
        </p:grpSpPr>
        <p:grpSp>
          <p:nvGrpSpPr>
            <p:cNvPr id="756" name=""/>
            <p:cNvGrpSpPr/>
            <p:nvPr/>
          </p:nvGrpSpPr>
          <p:grpSpPr>
            <a:xfrm>
              <a:off x="0" y="3733920"/>
              <a:ext cx="6705000" cy="240120"/>
              <a:chOff x="0" y="3733920"/>
              <a:chExt cx="6705000" cy="240120"/>
            </a:xfrm>
          </p:grpSpPr>
          <p:sp>
            <p:nvSpPr>
              <p:cNvPr id="757" name=""/>
              <p:cNvSpPr/>
              <p:nvPr/>
            </p:nvSpPr>
            <p:spPr>
              <a:xfrm>
                <a:off x="0" y="3733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3733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hourly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0" y="3974040"/>
              <a:ext cx="6705000" cy="240120"/>
              <a:chOff x="0" y="3974040"/>
              <a:chExt cx="6705000" cy="240120"/>
            </a:xfrm>
          </p:grpSpPr>
          <p:sp>
            <p:nvSpPr>
              <p:cNvPr id="760" name=""/>
              <p:cNvSpPr/>
              <p:nvPr/>
            </p:nvSpPr>
            <p:spPr>
              <a:xfrm>
                <a:off x="0" y="39740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39740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0" y="4214160"/>
              <a:ext cx="6705000" cy="240120"/>
              <a:chOff x="0" y="4214160"/>
              <a:chExt cx="6705000" cy="240120"/>
            </a:xfrm>
          </p:grpSpPr>
          <p:sp>
            <p:nvSpPr>
              <p:cNvPr id="763" name=""/>
              <p:cNvSpPr/>
              <p:nvPr/>
            </p:nvSpPr>
            <p:spPr>
              <a:xfrm>
                <a:off x="0" y="42141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42141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0" y="4454640"/>
              <a:ext cx="6705000" cy="240120"/>
              <a:chOff x="0" y="4454640"/>
              <a:chExt cx="6705000" cy="24012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44546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44546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0" y="4695120"/>
              <a:ext cx="6705000" cy="240120"/>
              <a:chOff x="0" y="4695120"/>
              <a:chExt cx="6705000" cy="240120"/>
            </a:xfrm>
          </p:grpSpPr>
          <p:sp>
            <p:nvSpPr>
              <p:cNvPr id="769" name=""/>
              <p:cNvSpPr/>
              <p:nvPr/>
            </p:nvSpPr>
            <p:spPr>
              <a:xfrm>
                <a:off x="0" y="4695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4695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0" y="4935240"/>
              <a:ext cx="6705000" cy="240120"/>
              <a:chOff x="0" y="4935240"/>
              <a:chExt cx="6705000" cy="240120"/>
            </a:xfrm>
          </p:grpSpPr>
          <p:sp>
            <p:nvSpPr>
              <p:cNvPr id="772" name=""/>
              <p:cNvSpPr/>
              <p:nvPr/>
            </p:nvSpPr>
            <p:spPr>
              <a:xfrm>
                <a:off x="0" y="4935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4935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0" y="5175720"/>
              <a:ext cx="6705000" cy="240120"/>
              <a:chOff x="0" y="5175720"/>
              <a:chExt cx="6705000" cy="240120"/>
            </a:xfrm>
          </p:grpSpPr>
          <p:sp>
            <p:nvSpPr>
              <p:cNvPr id="775" name=""/>
              <p:cNvSpPr/>
              <p:nvPr/>
            </p:nvSpPr>
            <p:spPr>
              <a:xfrm>
                <a:off x="0" y="5175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5175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0" y="5416200"/>
              <a:ext cx="6705000" cy="240120"/>
              <a:chOff x="0" y="5416200"/>
              <a:chExt cx="6705000" cy="240120"/>
            </a:xfrm>
          </p:grpSpPr>
          <p:sp>
            <p:nvSpPr>
              <p:cNvPr id="778" name=""/>
              <p:cNvSpPr/>
              <p:nvPr/>
            </p:nvSpPr>
            <p:spPr>
              <a:xfrm>
                <a:off x="0" y="5416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5416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5656320"/>
              <a:ext cx="6705000" cy="240120"/>
              <a:chOff x="0" y="5656320"/>
              <a:chExt cx="6705000" cy="24012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5656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5656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0" y="5896800"/>
              <a:ext cx="6705000" cy="240120"/>
              <a:chOff x="0" y="5896800"/>
              <a:chExt cx="6705000" cy="240120"/>
            </a:xfrm>
          </p:grpSpPr>
          <p:sp>
            <p:nvSpPr>
              <p:cNvPr id="784" name=""/>
              <p:cNvSpPr/>
              <p:nvPr/>
            </p:nvSpPr>
            <p:spPr>
              <a:xfrm>
                <a:off x="0" y="5896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5896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0" y="6136920"/>
              <a:ext cx="6705000" cy="240120"/>
              <a:chOff x="0" y="6136920"/>
              <a:chExt cx="6705000" cy="240120"/>
            </a:xfrm>
          </p:grpSpPr>
          <p:sp>
            <p:nvSpPr>
              <p:cNvPr id="787" name=""/>
              <p:cNvSpPr/>
              <p:nvPr/>
            </p:nvSpPr>
            <p:spPr>
              <a:xfrm>
                <a:off x="0" y="6136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6136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Pa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nd return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0" y="6377400"/>
              <a:ext cx="6705000" cy="240120"/>
              <a:chOff x="0" y="6377400"/>
              <a:chExt cx="6705000" cy="240120"/>
            </a:xfrm>
          </p:grpSpPr>
          <p:sp>
            <p:nvSpPr>
              <p:cNvPr id="790" name=""/>
              <p:cNvSpPr/>
              <p:nvPr/>
            </p:nvSpPr>
            <p:spPr>
              <a:xfrm>
                <a:off x="0" y="6377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6377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verridden base-class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0" y="6617880"/>
              <a:ext cx="6705000" cy="240120"/>
              <a:chOff x="0" y="6617880"/>
              <a:chExt cx="6705000" cy="240120"/>
            </a:xfrm>
          </p:grpSpPr>
          <p:sp>
            <p:nvSpPr>
              <p:cNvPr id="793" name=""/>
              <p:cNvSpPr/>
              <p:nvPr/>
            </p:nvSpPr>
            <p:spPr>
              <a:xfrm>
                <a:off x="0" y="6617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6617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5" name=""/>
          <p:cNvGrpSpPr/>
          <p:nvPr/>
        </p:nvGrpSpPr>
        <p:grpSpPr>
          <a:xfrm>
            <a:off x="3809880" y="3976920"/>
            <a:ext cx="4724640" cy="1357200"/>
            <a:chOff x="3809880" y="3976920"/>
            <a:chExt cx="4724640" cy="1357200"/>
          </a:xfrm>
        </p:grpSpPr>
        <p:sp>
          <p:nvSpPr>
            <p:cNvPr id="796" name=""/>
            <p:cNvSpPr/>
            <p:nvPr/>
          </p:nvSpPr>
          <p:spPr>
            <a:xfrm flipV="1">
              <a:off x="6095880" y="397656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lyWork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809880" y="4114800"/>
              <a:ext cx="22860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240" y="5181480"/>
            <a:ext cx="6324840" cy="1295640"/>
            <a:chOff x="2514240" y="5181480"/>
            <a:chExt cx="6324840" cy="1295640"/>
          </a:xfrm>
        </p:grpSpPr>
        <p:sp>
          <p:nvSpPr>
            <p:cNvPr id="799" name=""/>
            <p:cNvSpPr/>
            <p:nvPr/>
          </p:nvSpPr>
          <p:spPr>
            <a:xfrm>
              <a:off x="6019920" y="518148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lyWork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ll overrid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2514240" y="5410080"/>
              <a:ext cx="35053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E4F5-D1BB-4269-A367-655070CE36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0" y="0"/>
            <a:ext cx="6780960" cy="990720"/>
            <a:chOff x="0" y="0"/>
            <a:chExt cx="6780960" cy="990720"/>
          </a:xfrm>
        </p:grpSpPr>
        <p:grpSp>
          <p:nvGrpSpPr>
            <p:cNvPr id="803" name=""/>
            <p:cNvGrpSpPr/>
            <p:nvPr/>
          </p:nvGrpSpPr>
          <p:grpSpPr>
            <a:xfrm>
              <a:off x="0" y="0"/>
              <a:ext cx="6780960" cy="198000"/>
              <a:chOff x="0" y="0"/>
              <a:chExt cx="6780960" cy="19800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age per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198000"/>
              <a:ext cx="6780960" cy="198000"/>
              <a:chOff x="0" y="198000"/>
              <a:chExt cx="6780960" cy="19800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198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198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s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hours worke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396000"/>
              <a:ext cx="6780960" cy="198000"/>
              <a:chOff x="0" y="396000"/>
              <a:chExt cx="6780960" cy="19800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396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396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594360"/>
              <a:ext cx="6780960" cy="198000"/>
              <a:chOff x="0" y="594360"/>
              <a:chExt cx="6780960" cy="19800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59436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59436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792720"/>
              <a:ext cx="6780960" cy="198000"/>
              <a:chOff x="0" y="792720"/>
              <a:chExt cx="6780960" cy="19800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79272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79272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8" name=""/>
          <p:cNvGrpSpPr/>
          <p:nvPr/>
        </p:nvGrpSpPr>
        <p:grpSpPr>
          <a:xfrm>
            <a:off x="0" y="990720"/>
            <a:ext cx="6780960" cy="5867280"/>
            <a:chOff x="0" y="990720"/>
            <a:chExt cx="6780960" cy="5867280"/>
          </a:xfrm>
        </p:grpSpPr>
        <p:grpSp>
          <p:nvGrpSpPr>
            <p:cNvPr id="819" name=""/>
            <p:cNvGrpSpPr/>
            <p:nvPr/>
          </p:nvGrpSpPr>
          <p:grpSpPr>
            <a:xfrm>
              <a:off x="0" y="990720"/>
              <a:ext cx="6780960" cy="217080"/>
              <a:chOff x="0" y="990720"/>
              <a:chExt cx="6780960" cy="217080"/>
            </a:xfrm>
          </p:grpSpPr>
          <p:sp>
            <p:nvSpPr>
              <p:cNvPr id="820" name=""/>
              <p:cNvSpPr/>
              <p:nvPr/>
            </p:nvSpPr>
            <p:spPr>
              <a:xfrm>
                <a:off x="0" y="990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0" y="990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hourly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0" y="1207800"/>
              <a:ext cx="6780960" cy="217080"/>
              <a:chOff x="0" y="1207800"/>
              <a:chExt cx="6780960" cy="217080"/>
            </a:xfrm>
          </p:grpSpPr>
          <p:sp>
            <p:nvSpPr>
              <p:cNvPr id="823" name=""/>
              <p:cNvSpPr/>
              <p:nvPr/>
            </p:nvSpPr>
            <p:spPr>
              <a:xfrm>
                <a:off x="0" y="12078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12078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0" y="1425240"/>
              <a:ext cx="6780960" cy="217080"/>
              <a:chOff x="0" y="1425240"/>
              <a:chExt cx="6780960" cy="21708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1425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1425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0" y="1642680"/>
              <a:ext cx="6780960" cy="217080"/>
              <a:chOff x="0" y="1642680"/>
              <a:chExt cx="6780960" cy="217080"/>
            </a:xfrm>
          </p:grpSpPr>
          <p:sp>
            <p:nvSpPr>
              <p:cNvPr id="829" name=""/>
              <p:cNvSpPr/>
              <p:nvPr/>
            </p:nvSpPr>
            <p:spPr>
              <a:xfrm>
                <a:off x="0" y="1642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1642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0" y="1859760"/>
              <a:ext cx="6780960" cy="217080"/>
              <a:chOff x="0" y="1859760"/>
              <a:chExt cx="6780960" cy="217080"/>
            </a:xfrm>
          </p:grpSpPr>
          <p:sp>
            <p:nvSpPr>
              <p:cNvPr id="832" name=""/>
              <p:cNvSpPr/>
              <p:nvPr/>
            </p:nvSpPr>
            <p:spPr>
              <a:xfrm>
                <a:off x="0" y="18597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18597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0" y="2077200"/>
              <a:ext cx="6780960" cy="217080"/>
              <a:chOff x="0" y="2077200"/>
              <a:chExt cx="6780960" cy="217080"/>
            </a:xfrm>
          </p:grpSpPr>
          <p:sp>
            <p:nvSpPr>
              <p:cNvPr id="835" name=""/>
              <p:cNvSpPr/>
              <p:nvPr/>
            </p:nvSpPr>
            <p:spPr>
              <a:xfrm>
                <a:off x="0" y="2077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2077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0" y="2294280"/>
              <a:ext cx="6780960" cy="217080"/>
              <a:chOff x="0" y="2294280"/>
              <a:chExt cx="6780960" cy="217080"/>
            </a:xfrm>
          </p:grpSpPr>
          <p:sp>
            <p:nvSpPr>
              <p:cNvPr id="838" name=""/>
              <p:cNvSpPr/>
              <p:nvPr/>
            </p:nvSpPr>
            <p:spPr>
              <a:xfrm>
                <a:off x="0" y="22942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22942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0" y="2511720"/>
              <a:ext cx="6780960" cy="217080"/>
              <a:chOff x="0" y="2511720"/>
              <a:chExt cx="6780960" cy="217080"/>
            </a:xfrm>
          </p:grpSpPr>
          <p:sp>
            <p:nvSpPr>
              <p:cNvPr id="841" name=""/>
              <p:cNvSpPr/>
              <p:nvPr/>
            </p:nvSpPr>
            <p:spPr>
              <a:xfrm>
                <a:off x="0" y="2511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2511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0" y="2729160"/>
              <a:ext cx="6780960" cy="217080"/>
              <a:chOff x="0" y="2729160"/>
              <a:chExt cx="6780960" cy="217080"/>
            </a:xfrm>
          </p:grpSpPr>
          <p:sp>
            <p:nvSpPr>
              <p:cNvPr id="844" name=""/>
              <p:cNvSpPr/>
              <p:nvPr/>
            </p:nvSpPr>
            <p:spPr>
              <a:xfrm>
                <a:off x="0" y="27291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27291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0" y="2946240"/>
              <a:ext cx="6780960" cy="217080"/>
              <a:chOff x="0" y="2946240"/>
              <a:chExt cx="6780960" cy="217080"/>
            </a:xfrm>
          </p:grpSpPr>
          <p:sp>
            <p:nvSpPr>
              <p:cNvPr id="847" name=""/>
              <p:cNvSpPr/>
              <p:nvPr/>
            </p:nvSpPr>
            <p:spPr>
              <a:xfrm>
                <a:off x="0" y="2946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0" y="2946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0" y="3163680"/>
              <a:ext cx="6780960" cy="217080"/>
              <a:chOff x="0" y="3163680"/>
              <a:chExt cx="6780960" cy="217080"/>
            </a:xfrm>
          </p:grpSpPr>
          <p:sp>
            <p:nvSpPr>
              <p:cNvPr id="850" name=""/>
              <p:cNvSpPr/>
              <p:nvPr/>
            </p:nvSpPr>
            <p:spPr>
              <a:xfrm>
                <a:off x="0" y="3163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3163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0" y="3381120"/>
              <a:ext cx="6780960" cy="217080"/>
              <a:chOff x="0" y="3381120"/>
              <a:chExt cx="6780960" cy="217080"/>
            </a:xfrm>
          </p:grpSpPr>
          <p:sp>
            <p:nvSpPr>
              <p:cNvPr id="853" name=""/>
              <p:cNvSpPr/>
              <p:nvPr/>
            </p:nvSpPr>
            <p:spPr>
              <a:xfrm>
                <a:off x="0" y="3381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0" y="3381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0" y="3598200"/>
              <a:ext cx="6780960" cy="217080"/>
              <a:chOff x="0" y="3598200"/>
              <a:chExt cx="6780960" cy="217080"/>
            </a:xfrm>
          </p:grpSpPr>
          <p:sp>
            <p:nvSpPr>
              <p:cNvPr id="856" name=""/>
              <p:cNvSpPr/>
              <p:nvPr/>
            </p:nvSpPr>
            <p:spPr>
              <a:xfrm>
                <a:off x="0" y="3598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98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0" y="3815640"/>
              <a:ext cx="6780960" cy="217080"/>
              <a:chOff x="0" y="3815640"/>
              <a:chExt cx="6780960" cy="217080"/>
            </a:xfrm>
          </p:grpSpPr>
          <p:sp>
            <p:nvSpPr>
              <p:cNvPr id="859" name=""/>
              <p:cNvSpPr/>
              <p:nvPr/>
            </p:nvSpPr>
            <p:spPr>
              <a:xfrm>
                <a:off x="0" y="38156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0" y="38156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0" y="4033080"/>
              <a:ext cx="6780960" cy="217080"/>
              <a:chOff x="0" y="4033080"/>
              <a:chExt cx="6780960" cy="217080"/>
            </a:xfrm>
          </p:grpSpPr>
          <p:sp>
            <p:nvSpPr>
              <p:cNvPr id="862" name=""/>
              <p:cNvSpPr/>
              <p:nvPr/>
            </p:nvSpPr>
            <p:spPr>
              <a:xfrm>
                <a:off x="0" y="4033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0" y="4033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0" y="4250520"/>
              <a:ext cx="6780960" cy="217080"/>
              <a:chOff x="0" y="4250520"/>
              <a:chExt cx="6780960" cy="217080"/>
            </a:xfrm>
          </p:grpSpPr>
          <p:sp>
            <p:nvSpPr>
              <p:cNvPr id="865" name=""/>
              <p:cNvSpPr/>
              <p:nvPr/>
            </p:nvSpPr>
            <p:spPr>
              <a:xfrm>
                <a:off x="0" y="4250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0" y="4250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0" y="4467600"/>
              <a:ext cx="6780960" cy="217080"/>
              <a:chOff x="0" y="4467600"/>
              <a:chExt cx="6780960" cy="217080"/>
            </a:xfrm>
          </p:grpSpPr>
          <p:sp>
            <p:nvSpPr>
              <p:cNvPr id="868" name=""/>
              <p:cNvSpPr/>
              <p:nvPr/>
            </p:nvSpPr>
            <p:spPr>
              <a:xfrm>
                <a:off x="0" y="4467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0" y="4467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HourlyWorker::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0" y="4685040"/>
              <a:ext cx="6780960" cy="217080"/>
              <a:chOff x="0" y="4685040"/>
              <a:chExt cx="6780960" cy="217080"/>
            </a:xfrm>
          </p:grpSpPr>
          <p:sp>
            <p:nvSpPr>
              <p:cNvPr id="871" name=""/>
              <p:cNvSpPr/>
              <p:nvPr/>
            </p:nvSpPr>
            <p:spPr>
              <a:xfrm>
                <a:off x="0" y="4685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0" y="4685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0" y="4902120"/>
              <a:ext cx="6780960" cy="217080"/>
              <a:chOff x="0" y="4902120"/>
              <a:chExt cx="6780960" cy="217080"/>
            </a:xfrm>
          </p:grpSpPr>
          <p:sp>
            <p:nvSpPr>
              <p:cNvPr id="874" name=""/>
              <p:cNvSpPr/>
              <p:nvPr/>
            </p:nvSpPr>
            <p:spPr>
              <a:xfrm>
                <a:off x="0" y="4902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4902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itHour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itWag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0" y="5119560"/>
              <a:ext cx="6780960" cy="217080"/>
              <a:chOff x="0" y="5119560"/>
              <a:chExt cx="6780960" cy="217080"/>
            </a:xfrm>
          </p:grpSpPr>
          <p:sp>
            <p:nvSpPr>
              <p:cNvPr id="877" name=""/>
              <p:cNvSpPr/>
              <p:nvPr/>
            </p:nvSpPr>
            <p:spPr>
              <a:xfrm>
                <a:off x="0" y="51195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51195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0" y="5337000"/>
              <a:ext cx="6780960" cy="217080"/>
              <a:chOff x="0" y="5337000"/>
              <a:chExt cx="6780960" cy="217080"/>
            </a:xfrm>
          </p:grpSpPr>
          <p:sp>
            <p:nvSpPr>
              <p:cNvPr id="880" name=""/>
              <p:cNvSpPr/>
              <p:nvPr/>
            </p:nvSpPr>
            <p:spPr>
              <a:xfrm>
                <a:off x="0" y="53370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53370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0" y="5554080"/>
              <a:ext cx="6780960" cy="217080"/>
              <a:chOff x="0" y="5554080"/>
              <a:chExt cx="6780960" cy="217080"/>
            </a:xfrm>
          </p:grpSpPr>
          <p:sp>
            <p:nvSpPr>
              <p:cNvPr id="883" name=""/>
              <p:cNvSpPr/>
              <p:nvPr/>
            </p:nvSpPr>
            <p:spPr>
              <a:xfrm>
                <a:off x="0" y="5554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5554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s = initHour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0" y="5771520"/>
              <a:ext cx="6780960" cy="217080"/>
              <a:chOff x="0" y="5771520"/>
              <a:chExt cx="6780960" cy="217080"/>
            </a:xfrm>
          </p:grpSpPr>
          <p:sp>
            <p:nvSpPr>
              <p:cNvPr id="886" name=""/>
              <p:cNvSpPr/>
              <p:nvPr/>
            </p:nvSpPr>
            <p:spPr>
              <a:xfrm>
                <a:off x="0" y="5771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5771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age = initWag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0" y="5988600"/>
              <a:ext cx="6780960" cy="217080"/>
              <a:chOff x="0" y="5988600"/>
              <a:chExt cx="6780960" cy="217080"/>
            </a:xfrm>
          </p:grpSpPr>
          <p:sp>
            <p:nvSpPr>
              <p:cNvPr id="889" name=""/>
              <p:cNvSpPr/>
              <p:nvPr/>
            </p:nvSpPr>
            <p:spPr>
              <a:xfrm>
                <a:off x="0" y="5988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5988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0" y="6206040"/>
              <a:ext cx="6780960" cy="217080"/>
              <a:chOff x="0" y="6206040"/>
              <a:chExt cx="6780960" cy="217080"/>
            </a:xfrm>
          </p:grpSpPr>
          <p:sp>
            <p:nvSpPr>
              <p:cNvPr id="892" name=""/>
              <p:cNvSpPr/>
              <p:nvPr/>
            </p:nvSpPr>
            <p:spPr>
              <a:xfrm>
                <a:off x="0" y="6206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6206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0" y="6423480"/>
              <a:ext cx="6780960" cy="217080"/>
              <a:chOff x="0" y="6423480"/>
              <a:chExt cx="6780960" cy="217080"/>
            </a:xfrm>
          </p:grpSpPr>
          <p:sp>
            <p:nvSpPr>
              <p:cNvPr id="895" name=""/>
              <p:cNvSpPr/>
              <p:nvPr/>
            </p:nvSpPr>
            <p:spPr>
              <a:xfrm>
                <a:off x="0" y="64234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64234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lyWorker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0" y="6640920"/>
              <a:ext cx="6780960" cy="217080"/>
              <a:chOff x="0" y="6640920"/>
              <a:chExt cx="6780960" cy="21708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66409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66409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getPa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 * hour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8E822-2100-41D2-85F1-9F694214AD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w classes created from existing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orb attributes and behavi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that inherits data members and member functions from a previously defined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 inherita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inherits from on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inherita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inherits from multiple bas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s of 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 Derived objects are accessible by the base clas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: Derived objects are inaccessible by th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ed: Derived classes and friends can access protected members of th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FB04-CA9A-4546-A9CD-D2D42E0E90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0" y="0"/>
            <a:ext cx="6780960" cy="2971440"/>
            <a:chOff x="0" y="0"/>
            <a:chExt cx="6780960" cy="2971440"/>
          </a:xfrm>
        </p:grpSpPr>
        <p:grpSp>
          <p:nvGrpSpPr>
            <p:cNvPr id="902" name=""/>
            <p:cNvGrpSpPr/>
            <p:nvPr/>
          </p:nvGrpSpPr>
          <p:grpSpPr>
            <a:xfrm>
              <a:off x="0" y="0"/>
              <a:ext cx="6780960" cy="270000"/>
              <a:chOff x="0" y="0"/>
              <a:chExt cx="6780960" cy="27000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270000"/>
              <a:ext cx="6780960" cy="270000"/>
              <a:chOff x="0" y="270000"/>
              <a:chExt cx="6780960" cy="27000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HourlyWorker's name and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540000"/>
              <a:ext cx="6780960" cy="270000"/>
              <a:chOff x="0" y="540000"/>
              <a:chExt cx="6780960" cy="27000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0" y="810360"/>
              <a:ext cx="6780960" cy="270000"/>
              <a:chOff x="0" y="810360"/>
              <a:chExt cx="6780960" cy="270000"/>
            </a:xfrm>
          </p:grpSpPr>
          <p:sp>
            <p:nvSpPr>
              <p:cNvPr id="912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0" y="1080360"/>
              <a:ext cx="6780960" cy="270000"/>
              <a:chOff x="0" y="1080360"/>
              <a:chExt cx="6780960" cy="270000"/>
            </a:xfrm>
          </p:grpSpPr>
          <p:sp>
            <p:nvSpPr>
              <p:cNvPr id="915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HourlyWorker::print() is executing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0" y="1350720"/>
              <a:ext cx="6780960" cy="270000"/>
              <a:chOff x="0" y="1350720"/>
              <a:chExt cx="6780960" cy="270000"/>
            </a:xfrm>
          </p:grpSpPr>
          <p:sp>
            <p:nvSpPr>
              <p:cNvPr id="918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print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0" y="1620720"/>
              <a:ext cx="6780960" cy="270000"/>
              <a:chOff x="0" y="1620720"/>
              <a:chExt cx="6780960" cy="270000"/>
            </a:xfrm>
          </p:grpSpPr>
          <p:sp>
            <p:nvSpPr>
              <p:cNvPr id="921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0" y="1891080"/>
              <a:ext cx="6780960" cy="270000"/>
              <a:chOff x="0" y="1891080"/>
              <a:chExt cx="6780960" cy="270000"/>
            </a:xfrm>
          </p:grpSpPr>
          <p:sp>
            <p:nvSpPr>
              <p:cNvPr id="924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is an hourly worker with pay of $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0" y="2161080"/>
              <a:ext cx="6780960" cy="270000"/>
              <a:chOff x="0" y="2161080"/>
              <a:chExt cx="6780960" cy="270000"/>
            </a:xfrm>
          </p:grpSpPr>
          <p:sp>
            <p:nvSpPr>
              <p:cNvPr id="927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0" y="2431440"/>
              <a:ext cx="6780960" cy="270000"/>
              <a:chOff x="0" y="2431440"/>
              <a:chExt cx="6780960" cy="270000"/>
            </a:xfrm>
          </p:grpSpPr>
          <p:sp>
            <p:nvSpPr>
              <p:cNvPr id="930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2 ) &lt;&lt; getPay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0" y="2701440"/>
              <a:ext cx="6780960" cy="270000"/>
              <a:chOff x="0" y="2701440"/>
              <a:chExt cx="6780960" cy="270000"/>
            </a:xfrm>
          </p:grpSpPr>
          <p:sp>
            <p:nvSpPr>
              <p:cNvPr id="933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5" name=""/>
          <p:cNvGrpSpPr/>
          <p:nvPr/>
        </p:nvGrpSpPr>
        <p:grpSpPr>
          <a:xfrm>
            <a:off x="0" y="2895480"/>
            <a:ext cx="6780960" cy="3353040"/>
            <a:chOff x="0" y="2895480"/>
            <a:chExt cx="6780960" cy="3353040"/>
          </a:xfrm>
        </p:grpSpPr>
        <p:grpSp>
          <p:nvGrpSpPr>
            <p:cNvPr id="936" name=""/>
            <p:cNvGrpSpPr/>
            <p:nvPr/>
          </p:nvGrpSpPr>
          <p:grpSpPr>
            <a:xfrm>
              <a:off x="0" y="2895480"/>
              <a:ext cx="6780960" cy="304560"/>
              <a:chOff x="0" y="2895480"/>
              <a:chExt cx="6780960" cy="30456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28954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28954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fig09_0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3200040"/>
              <a:ext cx="6780960" cy="304560"/>
              <a:chOff x="0" y="3200040"/>
              <a:chExt cx="6780960" cy="30456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320004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320004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verriding a base-class member function in 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3504960"/>
              <a:ext cx="6780960" cy="304920"/>
              <a:chOff x="0" y="3504960"/>
              <a:chExt cx="6780960" cy="304920"/>
            </a:xfrm>
          </p:grpSpPr>
          <p:sp>
            <p:nvSpPr>
              <p:cNvPr id="943" name=""/>
              <p:cNvSpPr/>
              <p:nvPr/>
            </p:nvSpPr>
            <p:spPr>
              <a:xfrm>
                <a:off x="0" y="350496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350496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rived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0" y="3809880"/>
              <a:ext cx="6780960" cy="304560"/>
              <a:chOff x="0" y="3809880"/>
              <a:chExt cx="6780960" cy="304560"/>
            </a:xfrm>
          </p:grpSpPr>
          <p:sp>
            <p:nvSpPr>
              <p:cNvPr id="946" name=""/>
              <p:cNvSpPr/>
              <p:nvPr/>
            </p:nvSpPr>
            <p:spPr>
              <a:xfrm>
                <a:off x="0" y="38098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38098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0" y="4114800"/>
              <a:ext cx="6780960" cy="304560"/>
              <a:chOff x="0" y="4114800"/>
              <a:chExt cx="6780960" cy="304560"/>
            </a:xfrm>
          </p:grpSpPr>
          <p:sp>
            <p:nvSpPr>
              <p:cNvPr id="949" name=""/>
              <p:cNvSpPr/>
              <p:nvPr/>
            </p:nvSpPr>
            <p:spPr>
              <a:xfrm>
                <a:off x="0" y="41148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41148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0" y="4419360"/>
              <a:ext cx="6780960" cy="304560"/>
              <a:chOff x="0" y="4419360"/>
              <a:chExt cx="6780960" cy="304560"/>
            </a:xfrm>
          </p:grpSpPr>
          <p:sp>
            <p:nvSpPr>
              <p:cNvPr id="952" name=""/>
              <p:cNvSpPr/>
              <p:nvPr/>
            </p:nvSpPr>
            <p:spPr>
              <a:xfrm>
                <a:off x="0" y="441936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441936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0" y="4724280"/>
              <a:ext cx="6780960" cy="304920"/>
              <a:chOff x="0" y="4724280"/>
              <a:chExt cx="6780960" cy="304920"/>
            </a:xfrm>
          </p:grpSpPr>
          <p:sp>
            <p:nvSpPr>
              <p:cNvPr id="955" name=""/>
              <p:cNvSpPr/>
              <p:nvPr/>
            </p:nvSpPr>
            <p:spPr>
              <a:xfrm>
                <a:off x="0" y="472428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472428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0" y="5029200"/>
              <a:ext cx="6780960" cy="304560"/>
              <a:chOff x="0" y="5029200"/>
              <a:chExt cx="6780960" cy="30456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50292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50292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 h( "Bob", "Smith", 40.0, 10.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0" y="5334120"/>
              <a:ext cx="6780960" cy="304560"/>
              <a:chOff x="0" y="5334120"/>
              <a:chExt cx="6780960" cy="304560"/>
            </a:xfrm>
          </p:grpSpPr>
          <p:sp>
            <p:nvSpPr>
              <p:cNvPr id="961" name=""/>
              <p:cNvSpPr/>
              <p:nvPr/>
            </p:nvSpPr>
            <p:spPr>
              <a:xfrm>
                <a:off x="0" y="533412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533412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0" y="5638680"/>
              <a:ext cx="6780960" cy="304560"/>
              <a:chOff x="0" y="5638680"/>
              <a:chExt cx="6780960" cy="30456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56386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56386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0" y="5943600"/>
              <a:ext cx="6780960" cy="304920"/>
              <a:chOff x="0" y="5943600"/>
              <a:chExt cx="6780960" cy="3049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594360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594360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9" name=""/>
          <p:cNvSpPr/>
          <p:nvPr/>
        </p:nvSpPr>
        <p:spPr>
          <a:xfrm>
            <a:off x="0" y="62182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Worker::print() is exec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b Smith is an hourly worker with pay of $400.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1981080" y="914040"/>
            <a:ext cx="6705720" cy="3614760"/>
            <a:chOff x="1981080" y="914040"/>
            <a:chExt cx="6705720" cy="3614760"/>
          </a:xfrm>
        </p:grpSpPr>
        <p:grpSp>
          <p:nvGrpSpPr>
            <p:cNvPr id="971" name=""/>
            <p:cNvGrpSpPr/>
            <p:nvPr/>
          </p:nvGrpSpPr>
          <p:grpSpPr>
            <a:xfrm>
              <a:off x="3276360" y="914040"/>
              <a:ext cx="5410440" cy="3614760"/>
              <a:chOff x="3276360" y="914040"/>
              <a:chExt cx="5410440" cy="3614760"/>
            </a:xfrm>
          </p:grpSpPr>
          <p:sp>
            <p:nvSpPr>
              <p:cNvPr id="972" name=""/>
              <p:cNvSpPr/>
              <p:nvPr/>
            </p:nvSpPr>
            <p:spPr>
              <a:xfrm>
                <a:off x="6095880" y="2514600"/>
                <a:ext cx="2590920" cy="2014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 is overriden in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HourlyWorker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 However, the new function still can call the origina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 using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: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 flipV="1">
                <a:off x="3276360" y="914040"/>
                <a:ext cx="281916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 flipH="1" flipV="1">
              <a:off x="1981080" y="1676520"/>
              <a:ext cx="4114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8439-B638-482D-9B9F-9830A248D9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   public, private, and protected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-304920" y="1219320"/>
          <a:ext cx="952524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219320"/>
                    <a:ext cx="9525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903C-C551-4F85-ADF0-94FBDDAB3C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8   Direct and Indirect Bas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icitly listed derived class’s header with the col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notation when that derived class is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HourlyWorker : public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listed in derived class’s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ed from two or more levels up the class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MinuteWorker : public 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n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ute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E703-7762-48A5-8E58-689AA790AD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9   Using 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initializ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member-initializer synta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provided in the derived class constructor to call the base-class constructor ex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base class’s default constructor called implici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constructors and base-class assignment operators are not inherited by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onstructors and assignment operators, however, can call base-class constructors and assignment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B939-AF89-488B-9553-C475A5A7C2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9   Using 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rived-class co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s the constructor for its base class first to initialize its base-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derived-class constructor is omitted, its default constructor calls the base-class’ default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 are called in the reverse order of constructor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 a derived-class destructor is called before its base-class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150B-98EA-4667-8AF5-A8CE7FA7E7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986" name=""/>
            <p:cNvGrpSpPr/>
            <p:nvPr/>
          </p:nvGrpSpPr>
          <p:grpSpPr>
            <a:xfrm>
              <a:off x="0" y="0"/>
              <a:ext cx="6705000" cy="221760"/>
              <a:chOff x="0" y="0"/>
              <a:chExt cx="6705000" cy="22176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7: point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221760"/>
              <a:ext cx="6705000" cy="239040"/>
              <a:chOff x="0" y="221760"/>
              <a:chExt cx="6705000" cy="23904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221760"/>
                <a:ext cx="6705000" cy="239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221760"/>
                <a:ext cx="6705000" cy="239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460800"/>
              <a:ext cx="6705000" cy="221760"/>
              <a:chOff x="0" y="460800"/>
              <a:chExt cx="6705000" cy="22176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460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460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682920"/>
              <a:ext cx="6705000" cy="221760"/>
              <a:chOff x="0" y="682920"/>
              <a:chExt cx="6705000" cy="22176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6829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6829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904680"/>
              <a:ext cx="6705000" cy="221760"/>
              <a:chOff x="0" y="904680"/>
              <a:chExt cx="6705000" cy="22176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904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904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1126800"/>
              <a:ext cx="6705000" cy="221760"/>
              <a:chOff x="0" y="1126800"/>
              <a:chExt cx="6705000" cy="22176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1126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1126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1348560"/>
              <a:ext cx="6705000" cy="221760"/>
              <a:chOff x="0" y="1348560"/>
              <a:chExt cx="6705000" cy="22176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1348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1348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1570680"/>
              <a:ext cx="6705000" cy="221760"/>
              <a:chOff x="0" y="1570680"/>
              <a:chExt cx="6705000" cy="22176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1570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1570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1792440"/>
              <a:ext cx="6705000" cy="221760"/>
              <a:chOff x="0" y="1792440"/>
              <a:chExt cx="6705000" cy="22176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1792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1792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Point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2014560"/>
              <a:ext cx="6705000" cy="221760"/>
              <a:chOff x="0" y="2014560"/>
              <a:chExt cx="6705000" cy="22176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2014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2014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by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2236320"/>
              <a:ext cx="6705000" cy="221760"/>
              <a:chOff x="0" y="2236320"/>
              <a:chExt cx="6705000" cy="22176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2236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2236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0" y="2458440"/>
              <a:ext cx="6705000" cy="221760"/>
              <a:chOff x="0" y="2458440"/>
              <a:chExt cx="6705000" cy="221760"/>
            </a:xfrm>
          </p:grpSpPr>
          <p:sp>
            <p:nvSpPr>
              <p:cNvPr id="1020" name=""/>
              <p:cNvSpPr/>
              <p:nvPr/>
            </p:nvSpPr>
            <p:spPr>
              <a:xfrm>
                <a:off x="0" y="2458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2458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0" y="2680200"/>
              <a:ext cx="6705000" cy="221760"/>
              <a:chOff x="0" y="2680200"/>
              <a:chExt cx="6705000" cy="221760"/>
            </a:xfrm>
          </p:grpSpPr>
          <p:sp>
            <p:nvSpPr>
              <p:cNvPr id="1023" name=""/>
              <p:cNvSpPr/>
              <p:nvPr/>
            </p:nvSpPr>
            <p:spPr>
              <a:xfrm>
                <a:off x="0" y="26802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26802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0" y="2902320"/>
              <a:ext cx="6705000" cy="221760"/>
              <a:chOff x="0" y="2902320"/>
              <a:chExt cx="6705000" cy="22176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2902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2902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8" name=""/>
          <p:cNvGrpSpPr/>
          <p:nvPr/>
        </p:nvGrpSpPr>
        <p:grpSpPr>
          <a:xfrm>
            <a:off x="0" y="3124080"/>
            <a:ext cx="6705000" cy="3733920"/>
            <a:chOff x="0" y="3124080"/>
            <a:chExt cx="6705000" cy="3733920"/>
          </a:xfrm>
        </p:grpSpPr>
        <p:grpSp>
          <p:nvGrpSpPr>
            <p:cNvPr id="1029" name=""/>
            <p:cNvGrpSpPr/>
            <p:nvPr/>
          </p:nvGrpSpPr>
          <p:grpSpPr>
            <a:xfrm>
              <a:off x="0" y="3124080"/>
              <a:ext cx="6705000" cy="207360"/>
              <a:chOff x="0" y="3124080"/>
              <a:chExt cx="6705000" cy="207360"/>
            </a:xfrm>
          </p:grpSpPr>
          <p:sp>
            <p:nvSpPr>
              <p:cNvPr id="1030" name=""/>
              <p:cNvSpPr/>
              <p:nvPr/>
            </p:nvSpPr>
            <p:spPr>
              <a:xfrm>
                <a:off x="0" y="3124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0" y="3124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7: point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0" y="3331440"/>
              <a:ext cx="6705000" cy="207360"/>
              <a:chOff x="0" y="3331440"/>
              <a:chExt cx="6705000" cy="207360"/>
            </a:xfrm>
          </p:grpSpPr>
          <p:sp>
            <p:nvSpPr>
              <p:cNvPr id="1033" name=""/>
              <p:cNvSpPr/>
              <p:nvPr/>
            </p:nvSpPr>
            <p:spPr>
              <a:xfrm>
                <a:off x="0" y="33314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0" y="33314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0" y="3538800"/>
              <a:ext cx="6705000" cy="207360"/>
              <a:chOff x="0" y="3538800"/>
              <a:chExt cx="6705000" cy="207360"/>
            </a:xfrm>
          </p:grpSpPr>
          <p:sp>
            <p:nvSpPr>
              <p:cNvPr id="1036" name=""/>
              <p:cNvSpPr/>
              <p:nvPr/>
            </p:nvSpPr>
            <p:spPr>
              <a:xfrm>
                <a:off x="0" y="3538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0" y="3538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0" y="3746160"/>
              <a:ext cx="6705000" cy="207360"/>
              <a:chOff x="0" y="3746160"/>
              <a:chExt cx="6705000" cy="207360"/>
            </a:xfrm>
          </p:grpSpPr>
          <p:sp>
            <p:nvSpPr>
              <p:cNvPr id="1039" name=""/>
              <p:cNvSpPr/>
              <p:nvPr/>
            </p:nvSpPr>
            <p:spPr>
              <a:xfrm>
                <a:off x="0" y="3746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0" y="3746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0" y="3953880"/>
              <a:ext cx="6705000" cy="207360"/>
              <a:chOff x="0" y="3953880"/>
              <a:chExt cx="6705000" cy="207360"/>
            </a:xfrm>
          </p:grpSpPr>
          <p:sp>
            <p:nvSpPr>
              <p:cNvPr id="1042" name=""/>
              <p:cNvSpPr/>
              <p:nvPr/>
            </p:nvSpPr>
            <p:spPr>
              <a:xfrm>
                <a:off x="0" y="3953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0" y="3953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0" y="4161240"/>
              <a:ext cx="6705000" cy="207360"/>
              <a:chOff x="0" y="4161240"/>
              <a:chExt cx="6705000" cy="207360"/>
            </a:xfrm>
          </p:grpSpPr>
          <p:sp>
            <p:nvSpPr>
              <p:cNvPr id="1045" name=""/>
              <p:cNvSpPr/>
              <p:nvPr/>
            </p:nvSpPr>
            <p:spPr>
              <a:xfrm>
                <a:off x="0" y="41612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0" y="41612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0" y="4368600"/>
              <a:ext cx="6705000" cy="207360"/>
              <a:chOff x="0" y="4368600"/>
              <a:chExt cx="6705000" cy="207360"/>
            </a:xfrm>
          </p:grpSpPr>
          <p:sp>
            <p:nvSpPr>
              <p:cNvPr id="1048" name=""/>
              <p:cNvSpPr/>
              <p:nvPr/>
            </p:nvSpPr>
            <p:spPr>
              <a:xfrm>
                <a:off x="0" y="4368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0" y="4368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0" y="4575960"/>
              <a:ext cx="6705000" cy="207360"/>
              <a:chOff x="0" y="4575960"/>
              <a:chExt cx="6705000" cy="207360"/>
            </a:xfrm>
          </p:grpSpPr>
          <p:sp>
            <p:nvSpPr>
              <p:cNvPr id="1051" name=""/>
              <p:cNvSpPr/>
              <p:nvPr/>
            </p:nvSpPr>
            <p:spPr>
              <a:xfrm>
                <a:off x="0" y="4575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0" y="4575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0" y="4783680"/>
              <a:ext cx="6705000" cy="207360"/>
              <a:chOff x="0" y="4783680"/>
              <a:chExt cx="6705000" cy="207360"/>
            </a:xfrm>
          </p:grpSpPr>
          <p:sp>
            <p:nvSpPr>
              <p:cNvPr id="1054" name=""/>
              <p:cNvSpPr/>
              <p:nvPr/>
            </p:nvSpPr>
            <p:spPr>
              <a:xfrm>
                <a:off x="0" y="47836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0" y="47836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0" y="4991040"/>
              <a:ext cx="6705000" cy="207360"/>
              <a:chOff x="0" y="4991040"/>
              <a:chExt cx="6705000" cy="207360"/>
            </a:xfrm>
          </p:grpSpPr>
          <p:sp>
            <p:nvSpPr>
              <p:cNvPr id="1057" name=""/>
              <p:cNvSpPr/>
              <p:nvPr/>
            </p:nvSpPr>
            <p:spPr>
              <a:xfrm>
                <a:off x="0" y="4991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4991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0" y="5198400"/>
              <a:ext cx="6705000" cy="207360"/>
              <a:chOff x="0" y="5198400"/>
              <a:chExt cx="6705000" cy="207360"/>
            </a:xfrm>
          </p:grpSpPr>
          <p:sp>
            <p:nvSpPr>
              <p:cNvPr id="1060" name=""/>
              <p:cNvSpPr/>
              <p:nvPr/>
            </p:nvSpPr>
            <p:spPr>
              <a:xfrm>
                <a:off x="0" y="5198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5198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0" y="5406120"/>
              <a:ext cx="6705000" cy="207360"/>
              <a:chOff x="0" y="5406120"/>
              <a:chExt cx="6705000" cy="207360"/>
            </a:xfrm>
          </p:grpSpPr>
          <p:sp>
            <p:nvSpPr>
              <p:cNvPr id="1063" name=""/>
              <p:cNvSpPr/>
              <p:nvPr/>
            </p:nvSpPr>
            <p:spPr>
              <a:xfrm>
                <a:off x="0" y="5406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0" y="5406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0" y="5613480"/>
              <a:ext cx="6705000" cy="207360"/>
              <a:chOff x="0" y="5613480"/>
              <a:chExt cx="6705000" cy="207360"/>
            </a:xfrm>
          </p:grpSpPr>
          <p:sp>
            <p:nvSpPr>
              <p:cNvPr id="1066" name=""/>
              <p:cNvSpPr/>
              <p:nvPr/>
            </p:nvSpPr>
            <p:spPr>
              <a:xfrm>
                <a:off x="0" y="56134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0" y="56134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0" y="5820840"/>
              <a:ext cx="6705000" cy="207360"/>
              <a:chOff x="0" y="5820840"/>
              <a:chExt cx="6705000" cy="207360"/>
            </a:xfrm>
          </p:grpSpPr>
          <p:sp>
            <p:nvSpPr>
              <p:cNvPr id="1069" name=""/>
              <p:cNvSpPr/>
              <p:nvPr/>
            </p:nvSpPr>
            <p:spPr>
              <a:xfrm>
                <a:off x="0" y="5820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5820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0" y="6028200"/>
              <a:ext cx="6705000" cy="207360"/>
              <a:chOff x="0" y="6028200"/>
              <a:chExt cx="6705000" cy="207360"/>
            </a:xfrm>
          </p:grpSpPr>
          <p:sp>
            <p:nvSpPr>
              <p:cNvPr id="1072" name=""/>
              <p:cNvSpPr/>
              <p:nvPr/>
            </p:nvSpPr>
            <p:spPr>
              <a:xfrm>
                <a:off x="0" y="6028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6028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0" y="6235920"/>
              <a:ext cx="6705000" cy="207360"/>
              <a:chOff x="0" y="6235920"/>
              <a:chExt cx="6705000" cy="207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0" y="62359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62359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Point  constructo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0" y="6443280"/>
              <a:ext cx="6705000" cy="207360"/>
              <a:chOff x="0" y="6443280"/>
              <a:chExt cx="6705000" cy="207360"/>
            </a:xfrm>
          </p:grpSpPr>
          <p:sp>
            <p:nvSpPr>
              <p:cNvPr id="1078" name=""/>
              <p:cNvSpPr/>
              <p:nvPr/>
            </p:nvSpPr>
            <p:spPr>
              <a:xfrm>
                <a:off x="0" y="64432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64432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'['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0" y="6650640"/>
              <a:ext cx="6705000" cy="207360"/>
              <a:chOff x="0" y="6650640"/>
              <a:chExt cx="6705000" cy="207360"/>
            </a:xfrm>
          </p:grpSpPr>
          <p:sp>
            <p:nvSpPr>
              <p:cNvPr id="1081" name=""/>
              <p:cNvSpPr/>
              <p:nvPr/>
            </p:nvSpPr>
            <p:spPr>
              <a:xfrm>
                <a:off x="0" y="66506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0" y="66506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D566-D1A9-4774-9213-C4ABC34CE1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85" name=""/>
            <p:cNvGrpSpPr/>
            <p:nvPr/>
          </p:nvGrpSpPr>
          <p:grpSpPr>
            <a:xfrm>
              <a:off x="0" y="0"/>
              <a:ext cx="6780960" cy="1980720"/>
              <a:chOff x="0" y="0"/>
              <a:chExt cx="6780960" cy="198072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0" y="0"/>
                <a:ext cx="6780960" cy="282960"/>
                <a:chOff x="0" y="0"/>
                <a:chExt cx="6780960" cy="28296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0" y="282960"/>
                <a:ext cx="6780960" cy="282960"/>
                <a:chOff x="0" y="282960"/>
                <a:chExt cx="6780960" cy="28296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structor for class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0" y="565920"/>
                <a:ext cx="6780960" cy="282960"/>
                <a:chOff x="0" y="565920"/>
                <a:chExt cx="6780960" cy="28296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Point::~Point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0" y="848880"/>
                <a:ext cx="6780960" cy="282960"/>
                <a:chOff x="0" y="848880"/>
                <a:chExt cx="6780960" cy="28296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0" y="1131840"/>
                <a:ext cx="6780960" cy="282960"/>
                <a:chOff x="0" y="1131840"/>
                <a:chExt cx="6780960" cy="28296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Point  destructor: 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0" y="1414800"/>
                <a:ext cx="6780960" cy="282960"/>
                <a:chOff x="0" y="1414800"/>
                <a:chExt cx="6780960" cy="28296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'[' &lt;&lt; x &lt;&lt; ", " &lt;&lt; y &lt;&lt; ']'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0" y="1697760"/>
                <a:ext cx="6780960" cy="282960"/>
                <a:chOff x="0" y="1697760"/>
                <a:chExt cx="6780960" cy="28296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0" y="16977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6" name=""/>
                <p:cNvGrpSpPr/>
                <p:nvPr/>
              </p:nvGrpSpPr>
              <p:grpSpPr>
                <a:xfrm>
                  <a:off x="0" y="1697760"/>
                  <a:ext cx="6780600" cy="282960"/>
                  <a:chOff x="0" y="1697760"/>
                  <a:chExt cx="6780600" cy="28296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39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}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09" name=""/>
            <p:cNvGrpSpPr/>
            <p:nvPr/>
          </p:nvGrpSpPr>
          <p:grpSpPr>
            <a:xfrm>
              <a:off x="0" y="1981080"/>
              <a:ext cx="6780960" cy="4876920"/>
              <a:chOff x="0" y="1981080"/>
              <a:chExt cx="6780960" cy="4876920"/>
            </a:xfrm>
          </p:grpSpPr>
          <p:grpSp>
            <p:nvGrpSpPr>
              <p:cNvPr id="1110" name=""/>
              <p:cNvGrpSpPr/>
              <p:nvPr/>
            </p:nvGrpSpPr>
            <p:grpSpPr>
              <a:xfrm>
                <a:off x="0" y="1981080"/>
                <a:ext cx="6780960" cy="270720"/>
                <a:chOff x="0" y="1981080"/>
                <a:chExt cx="6780960" cy="2707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9.7: circle2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0" y="2251800"/>
                <a:ext cx="6780960" cy="270720"/>
                <a:chOff x="0" y="2251800"/>
                <a:chExt cx="6780960" cy="2707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finition of class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0" y="2522880"/>
                <a:ext cx="6780960" cy="270720"/>
                <a:chOff x="0" y="2522880"/>
                <a:chExt cx="6780960" cy="2707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fnde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0" y="2793960"/>
                <a:ext cx="6780960" cy="270720"/>
                <a:chOff x="0" y="2793960"/>
                <a:chExt cx="6780960" cy="2707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defin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0" y="3064680"/>
                <a:ext cx="6780960" cy="270720"/>
                <a:chOff x="0" y="3064680"/>
                <a:chExt cx="6780960" cy="2707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0" y="3335760"/>
                <a:ext cx="6780960" cy="270720"/>
                <a:chOff x="0" y="3335760"/>
                <a:chExt cx="6780960" cy="2707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point2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0" y="3606480"/>
                <a:ext cx="6780960" cy="270720"/>
                <a:chOff x="0" y="3606480"/>
                <a:chExt cx="6780960" cy="2707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0" y="3877560"/>
                <a:ext cx="6780960" cy="270720"/>
                <a:chOff x="0" y="3877560"/>
                <a:chExt cx="6780960" cy="27072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 :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oint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0" y="4148640"/>
                <a:ext cx="6780960" cy="270720"/>
                <a:chOff x="0" y="4148640"/>
                <a:chExt cx="6780960" cy="27072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0" y="4419360"/>
                <a:ext cx="6780960" cy="270720"/>
                <a:chOff x="0" y="4419360"/>
                <a:chExt cx="6780960" cy="27072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default constru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0" y="4690440"/>
                <a:ext cx="6780960" cy="270720"/>
                <a:chOff x="0" y="4690440"/>
                <a:chExt cx="6780960" cy="27072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r = 0.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x = 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y = 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0" y="4961520"/>
                <a:ext cx="6780960" cy="270720"/>
                <a:chOff x="0" y="4961520"/>
                <a:chExt cx="6780960" cy="2707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0" y="5232240"/>
                <a:ext cx="6780960" cy="270720"/>
                <a:chOff x="0" y="5232240"/>
                <a:chExt cx="6780960" cy="27072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~Circle();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0" y="5503320"/>
                <a:ext cx="6780960" cy="270720"/>
                <a:chOff x="0" y="5503320"/>
                <a:chExt cx="6780960" cy="27072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0" y="5774040"/>
                <a:ext cx="6780960" cy="270720"/>
                <a:chOff x="0" y="5774040"/>
                <a:chExt cx="6780960" cy="27072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radius;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0" y="6045120"/>
                <a:ext cx="6780960" cy="270720"/>
                <a:chOff x="0" y="6045120"/>
                <a:chExt cx="6780960" cy="27072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0" y="6316200"/>
                <a:ext cx="6780960" cy="270720"/>
                <a:chOff x="0" y="6316200"/>
                <a:chExt cx="6780960" cy="27072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0" y="6587280"/>
                <a:ext cx="6780960" cy="270720"/>
                <a:chOff x="0" y="6587280"/>
                <a:chExt cx="6780960" cy="27072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4" name=""/>
          <p:cNvGrpSpPr/>
          <p:nvPr/>
        </p:nvGrpSpPr>
        <p:grpSpPr>
          <a:xfrm>
            <a:off x="3200040" y="3048120"/>
            <a:ext cx="4877280" cy="761760"/>
            <a:chOff x="3200040" y="3048120"/>
            <a:chExt cx="4877280" cy="761760"/>
          </a:xfrm>
        </p:grpSpPr>
        <p:sp>
          <p:nvSpPr>
            <p:cNvPr id="1165" name=""/>
            <p:cNvSpPr/>
            <p:nvPr/>
          </p:nvSpPr>
          <p:spPr>
            <a:xfrm>
              <a:off x="5638680" y="3048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herits from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200040" y="3352680"/>
              <a:ext cx="2438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358F4-70FD-4F1C-B083-8D403C3849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69" name="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7: circle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radius = 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1212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ircle constructor: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1215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1218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~Circl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ircle destructor: 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1239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1" name=""/>
          <p:cNvGrpSpPr/>
          <p:nvPr/>
        </p:nvGrpSpPr>
        <p:grpSpPr>
          <a:xfrm>
            <a:off x="2209680" y="3276720"/>
            <a:ext cx="6553440" cy="1067400"/>
            <a:chOff x="2209680" y="3276720"/>
            <a:chExt cx="6553440" cy="1067400"/>
          </a:xfrm>
        </p:grpSpPr>
        <p:sp>
          <p:nvSpPr>
            <p:cNvPr id="1242" name=""/>
            <p:cNvSpPr/>
            <p:nvPr/>
          </p:nvSpPr>
          <p:spPr>
            <a:xfrm>
              <a:off x="6324480" y="3276720"/>
              <a:ext cx="2438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constructor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first.  Uses member-initializer synt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 flipV="1">
              <a:off x="2209680" y="3276720"/>
              <a:ext cx="4114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2361960" y="5334120"/>
            <a:ext cx="6782040" cy="824040"/>
            <a:chOff x="2361960" y="5334120"/>
            <a:chExt cx="6782040" cy="824040"/>
          </a:xfrm>
        </p:grpSpPr>
        <p:sp>
          <p:nvSpPr>
            <p:cNvPr id="1245" name=""/>
            <p:cNvSpPr/>
            <p:nvPr/>
          </p:nvSpPr>
          <p:spPr>
            <a:xfrm>
              <a:off x="6705720" y="53341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s destructor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la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2361960" y="5638680"/>
              <a:ext cx="4343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8427B-F489-4C84-8E15-CB53AC76BA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Objects enter and leave sco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1249" name=""/>
            <p:cNvGrpSpPr/>
            <p:nvPr/>
          </p:nvGrpSpPr>
          <p:grpSpPr>
            <a:xfrm>
              <a:off x="0" y="0"/>
              <a:ext cx="6705000" cy="273960"/>
              <a:chOff x="0" y="0"/>
              <a:chExt cx="6705000" cy="273960"/>
            </a:xfrm>
          </p:grpSpPr>
          <p:sp>
            <p:nvSpPr>
              <p:cNvPr id="1250" name="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7: fig09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0" y="273960"/>
              <a:ext cx="6705000" cy="273960"/>
              <a:chOff x="0" y="273960"/>
              <a:chExt cx="6705000" cy="273960"/>
            </a:xfrm>
          </p:grpSpPr>
          <p:sp>
            <p:nvSpPr>
              <p:cNvPr id="1253" name="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e when base-class and derived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0" y="548280"/>
              <a:ext cx="6705000" cy="274320"/>
              <a:chOff x="0" y="548280"/>
              <a:chExt cx="6705000" cy="274320"/>
            </a:xfrm>
          </p:grpSpPr>
          <p:sp>
            <p:nvSpPr>
              <p:cNvPr id="1256" name="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s and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0" y="822960"/>
              <a:ext cx="6705000" cy="273960"/>
              <a:chOff x="0" y="822960"/>
              <a:chExt cx="6705000" cy="273960"/>
            </a:xfrm>
          </p:grpSpPr>
          <p:sp>
            <p:nvSpPr>
              <p:cNvPr id="1259" name="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0" y="1097280"/>
              <a:ext cx="6705000" cy="273960"/>
              <a:chOff x="0" y="1097280"/>
              <a:chExt cx="6705000" cy="273960"/>
            </a:xfrm>
          </p:grpSpPr>
          <p:sp>
            <p:nvSpPr>
              <p:cNvPr id="1262" name="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0" y="1371600"/>
              <a:ext cx="6705000" cy="273960"/>
              <a:chOff x="0" y="1371600"/>
              <a:chExt cx="6705000" cy="273960"/>
            </a:xfrm>
          </p:grpSpPr>
          <p:sp>
            <p:nvSpPr>
              <p:cNvPr id="1265" name="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0" y="1645560"/>
              <a:ext cx="6705000" cy="274320"/>
              <a:chOff x="0" y="1645560"/>
              <a:chExt cx="6705000" cy="274320"/>
            </a:xfrm>
          </p:grpSpPr>
          <p:sp>
            <p:nvSpPr>
              <p:cNvPr id="1268" name="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0" y="1920240"/>
              <a:ext cx="6705000" cy="273960"/>
              <a:chOff x="0" y="1920240"/>
              <a:chExt cx="6705000" cy="273960"/>
            </a:xfrm>
          </p:grpSpPr>
          <p:sp>
            <p:nvSpPr>
              <p:cNvPr id="1271" name="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0" y="2194560"/>
              <a:ext cx="6705000" cy="273960"/>
              <a:chOff x="0" y="2194560"/>
              <a:chExt cx="6705000" cy="273960"/>
            </a:xfrm>
          </p:grpSpPr>
          <p:sp>
            <p:nvSpPr>
              <p:cNvPr id="1274" name="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0" y="2468880"/>
              <a:ext cx="6705000" cy="273960"/>
              <a:chOff x="0" y="2468880"/>
              <a:chExt cx="6705000" cy="273960"/>
            </a:xfrm>
          </p:grpSpPr>
          <p:sp>
            <p:nvSpPr>
              <p:cNvPr id="1277" name="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0" y="2743200"/>
              <a:ext cx="6705000" cy="274320"/>
              <a:chOff x="0" y="2743200"/>
              <a:chExt cx="6705000" cy="274320"/>
            </a:xfrm>
          </p:grpSpPr>
          <p:sp>
            <p:nvSpPr>
              <p:cNvPr id="1280" name="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0" y="3017520"/>
              <a:ext cx="6705000" cy="273960"/>
              <a:chOff x="0" y="3017520"/>
              <a:chExt cx="6705000" cy="273960"/>
            </a:xfrm>
          </p:grpSpPr>
          <p:sp>
            <p:nvSpPr>
              <p:cNvPr id="1283" name="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0" y="3291840"/>
              <a:ext cx="6705000" cy="273960"/>
              <a:chOff x="0" y="3291840"/>
              <a:chExt cx="6705000" cy="273960"/>
            </a:xfrm>
          </p:grpSpPr>
          <p:sp>
            <p:nvSpPr>
              <p:cNvPr id="1286" name="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0" y="3566160"/>
              <a:ext cx="6705000" cy="273960"/>
              <a:chOff x="0" y="3566160"/>
              <a:chExt cx="6705000" cy="273960"/>
            </a:xfrm>
          </p:grpSpPr>
          <p:sp>
            <p:nvSpPr>
              <p:cNvPr id="1289" name="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how constructor and destructor calls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0" y="3840480"/>
              <a:ext cx="6705000" cy="274320"/>
              <a:chOff x="0" y="3840480"/>
              <a:chExt cx="6705000" cy="274320"/>
            </a:xfrm>
          </p:grpSpPr>
          <p:sp>
            <p:nvSpPr>
              <p:cNvPr id="1292" name="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0" y="4114800"/>
              <a:ext cx="6705000" cy="273960"/>
              <a:chOff x="0" y="4114800"/>
              <a:chExt cx="6705000" cy="273960"/>
            </a:xfrm>
          </p:grpSpPr>
          <p:sp>
            <p:nvSpPr>
              <p:cNvPr id="1295" name="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oint p( 11,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0" y="4389120"/>
              <a:ext cx="6705000" cy="273960"/>
              <a:chOff x="0" y="4389120"/>
              <a:chExt cx="6705000" cy="273960"/>
            </a:xfrm>
          </p:grpSpPr>
          <p:sp>
            <p:nvSpPr>
              <p:cNvPr id="1298" name="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0" y="4663440"/>
              <a:ext cx="6705000" cy="273960"/>
              <a:chOff x="0" y="4663440"/>
              <a:chExt cx="6705000" cy="273960"/>
            </a:xfrm>
          </p:grpSpPr>
          <p:sp>
            <p:nvSpPr>
              <p:cNvPr id="1301" name="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0" y="4937760"/>
              <a:ext cx="6705000" cy="273960"/>
              <a:chOff x="0" y="4937760"/>
              <a:chExt cx="6705000" cy="273960"/>
            </a:xfrm>
          </p:grpSpPr>
          <p:sp>
            <p:nvSpPr>
              <p:cNvPr id="1304" name="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0" y="5212080"/>
              <a:ext cx="6705000" cy="274320"/>
              <a:chOff x="0" y="5212080"/>
              <a:chExt cx="6705000" cy="274320"/>
            </a:xfrm>
          </p:grpSpPr>
          <p:sp>
            <p:nvSpPr>
              <p:cNvPr id="1307" name="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circle1( 4.5, 72, 2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"/>
            <p:cNvGrpSpPr/>
            <p:nvPr/>
          </p:nvGrpSpPr>
          <p:grpSpPr>
            <a:xfrm>
              <a:off x="0" y="5486400"/>
              <a:ext cx="6705000" cy="273960"/>
              <a:chOff x="0" y="5486400"/>
              <a:chExt cx="6705000" cy="273960"/>
            </a:xfrm>
          </p:grpSpPr>
          <p:sp>
            <p:nvSpPr>
              <p:cNvPr id="1310" name="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2" name=""/>
            <p:cNvGrpSpPr/>
            <p:nvPr/>
          </p:nvGrpSpPr>
          <p:grpSpPr>
            <a:xfrm>
              <a:off x="0" y="5760720"/>
              <a:ext cx="6705000" cy="273960"/>
              <a:chOff x="0" y="5760720"/>
              <a:chExt cx="6705000" cy="273960"/>
            </a:xfrm>
          </p:grpSpPr>
          <p:sp>
            <p:nvSpPr>
              <p:cNvPr id="1313" name="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circle2( 10, 5,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0" y="6035040"/>
              <a:ext cx="6705000" cy="273960"/>
              <a:chOff x="0" y="6035040"/>
              <a:chExt cx="6705000" cy="273960"/>
            </a:xfrm>
          </p:grpSpPr>
          <p:sp>
            <p:nvSpPr>
              <p:cNvPr id="1316" name="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0" y="6309360"/>
              <a:ext cx="6705000" cy="274320"/>
              <a:chOff x="0" y="6309360"/>
              <a:chExt cx="6705000" cy="274320"/>
            </a:xfrm>
          </p:grpSpPr>
          <p:sp>
            <p:nvSpPr>
              <p:cNvPr id="1319" name="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0" y="6583680"/>
              <a:ext cx="6705000" cy="273960"/>
              <a:chOff x="0" y="6583680"/>
              <a:chExt cx="6705000" cy="273960"/>
            </a:xfrm>
          </p:grpSpPr>
          <p:sp>
            <p:nvSpPr>
              <p:cNvPr id="1322" name="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" name=""/>
          <p:cNvSpPr/>
          <p:nvPr/>
        </p:nvSpPr>
        <p:spPr>
          <a:xfrm>
            <a:off x="2819520" y="3936960"/>
            <a:ext cx="29718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1676520" y="2438280"/>
            <a:ext cx="5181480" cy="1600200"/>
            <a:chOff x="1676520" y="2438280"/>
            <a:chExt cx="5181480" cy="1600200"/>
          </a:xfrm>
        </p:grpSpPr>
        <p:sp>
          <p:nvSpPr>
            <p:cNvPr id="1326" name=""/>
            <p:cNvSpPr/>
            <p:nvPr/>
          </p:nvSpPr>
          <p:spPr>
            <a:xfrm>
              <a:off x="3048120" y="243828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 created inside a block destroyed once it leave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1676520" y="2743200"/>
              <a:ext cx="13716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2819520" y="3657600"/>
            <a:ext cx="3962160" cy="2057400"/>
            <a:chOff x="2819520" y="3657600"/>
            <a:chExt cx="3962160" cy="2057400"/>
          </a:xfrm>
        </p:grpSpPr>
        <p:grpSp>
          <p:nvGrpSpPr>
            <p:cNvPr id="1329" name=""/>
            <p:cNvGrpSpPr/>
            <p:nvPr/>
          </p:nvGrpSpPr>
          <p:grpSpPr>
            <a:xfrm>
              <a:off x="2819520" y="4572000"/>
              <a:ext cx="1371240" cy="1143000"/>
              <a:chOff x="2819520" y="4572000"/>
              <a:chExt cx="1371240" cy="1143000"/>
            </a:xfrm>
          </p:grpSpPr>
          <p:sp>
            <p:nvSpPr>
              <p:cNvPr id="1330" name=""/>
              <p:cNvSpPr/>
              <p:nvPr/>
            </p:nvSpPr>
            <p:spPr>
              <a:xfrm flipH="1">
                <a:off x="2819520" y="4572000"/>
                <a:ext cx="12952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2971440" y="4572000"/>
                <a:ext cx="1219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4114800" y="365760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ember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 is call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befo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 (inside to out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657600" y="4560840"/>
            <a:ext cx="4572000" cy="1388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599840" y="5413320"/>
            <a:ext cx="5181840" cy="987480"/>
            <a:chOff x="1599840" y="5413320"/>
            <a:chExt cx="5181840" cy="987480"/>
          </a:xfrm>
        </p:grpSpPr>
        <p:sp>
          <p:nvSpPr>
            <p:cNvPr id="1335" name=""/>
            <p:cNvSpPr/>
            <p:nvPr/>
          </p:nvSpPr>
          <p:spPr>
            <a:xfrm>
              <a:off x="4114800" y="5413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structor call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structor (outside in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1599840" y="5943600"/>
              <a:ext cx="2514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7" name=""/>
          <p:cNvSpPr/>
          <p:nvPr/>
        </p:nvSpPr>
        <p:spPr>
          <a:xfrm>
            <a:off x="3657600" y="556272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4D18-72B9-4417-B057-105D079070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39" name=""/>
          <p:cNvSpPr/>
          <p:nvPr/>
        </p:nvSpPr>
        <p:spPr>
          <a:xfrm>
            <a:off x="0" y="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E5423-F2A0-4CDC-8858-7043CC848E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programs in a general fash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 a wide variety of existing (and unspecified) relat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8A3C-8AD8-401D-9219-A73384661F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0  Implicit Derived-Class Object to Base-Class Object Convers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of derived and bas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type and base-class type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object can be treated as a base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has members corresponding to all of the base class’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has more members than the base-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can be assigned a derived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object cannot be treated as a derived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leave additional derived class members un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annot be assigned a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operator can be overloaded to allow such an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A922-3235-4CB4-B4FA-57CDD93AD6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0   Implicit Derived-Class Object to Base-Class Object Convers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ing base and derived class pointers and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ring to a base-class object with a base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ring to a derived-class object with a derived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ring to a derived-class object with a base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can only refer to base-class members, or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ring to a base-class object with a derived-class poin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rived-class pointer must first be cast to a base-class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9E80-8A67-4AB9-B7A1-31A0A0765C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1  Software Engineering With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are often closely rela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ctor out” common attributes and behaviors and place these in a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inheritance to form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s to a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es do not change as long as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rfaces are the sa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es may need to be recomp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777E-3076-4750-8A71-83417BFE83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2  Composition vs.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”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in which a class is derived from anoth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”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in which a class contains other classes a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3E1A-CF0A-420D-BFC9-D6EA117C04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3  “Uses A” And “Knows A” Relationship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object issues a function call to a member function of anothe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s a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object is aware of an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a pointer or handle to anothe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an assoc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F6E1-66EB-4AB6-A350-4F4671B79EC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4  Case Study: Point, Circle, Cylind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, circle, 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91CA-F208-41D7-83AA-90623A91BF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0" y="0"/>
            <a:ext cx="6705000" cy="4419720"/>
            <a:chOff x="0" y="0"/>
            <a:chExt cx="6705000" cy="4419720"/>
          </a:xfrm>
        </p:grpSpPr>
        <p:grpSp>
          <p:nvGrpSpPr>
            <p:cNvPr id="1354" name=""/>
            <p:cNvGrpSpPr/>
            <p:nvPr/>
          </p:nvGrpSpPr>
          <p:grpSpPr>
            <a:xfrm>
              <a:off x="0" y="0"/>
              <a:ext cx="6705000" cy="210240"/>
              <a:chOff x="0" y="0"/>
              <a:chExt cx="6705000" cy="21024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8: point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210240"/>
              <a:ext cx="6705000" cy="210240"/>
              <a:chOff x="0" y="210240"/>
              <a:chExt cx="6705000" cy="21024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210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210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420840"/>
              <a:ext cx="6705000" cy="210240"/>
              <a:chOff x="0" y="420840"/>
              <a:chExt cx="6705000" cy="21024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420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420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631440"/>
              <a:ext cx="6705000" cy="210240"/>
              <a:chOff x="0" y="631440"/>
              <a:chExt cx="6705000" cy="21024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631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631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841680"/>
              <a:ext cx="6705000" cy="210240"/>
              <a:chOff x="0" y="841680"/>
              <a:chExt cx="6705000" cy="21024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8416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8416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1052280"/>
              <a:ext cx="6705000" cy="210240"/>
              <a:chOff x="0" y="1052280"/>
              <a:chExt cx="6705000" cy="21024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1052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1052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1262520"/>
              <a:ext cx="6705000" cy="210240"/>
              <a:chOff x="0" y="1262520"/>
              <a:chExt cx="6705000" cy="21024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12625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12625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1473120"/>
              <a:ext cx="6705000" cy="210240"/>
              <a:chOff x="0" y="1473120"/>
              <a:chExt cx="6705000" cy="21024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14731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14731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1683720"/>
              <a:ext cx="6705000" cy="210240"/>
              <a:chOff x="0" y="1683720"/>
              <a:chExt cx="6705000" cy="21024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16837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16837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1893960"/>
              <a:ext cx="6705000" cy="210240"/>
              <a:chOff x="0" y="1893960"/>
              <a:chExt cx="6705000" cy="21024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18939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18939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2104560"/>
              <a:ext cx="6705000" cy="210240"/>
              <a:chOff x="0" y="2104560"/>
              <a:chExt cx="6705000" cy="21024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21045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21045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2315160"/>
              <a:ext cx="6705000" cy="210240"/>
              <a:chOff x="0" y="2315160"/>
              <a:chExt cx="6705000" cy="21024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23151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23151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2525400"/>
              <a:ext cx="6705000" cy="210240"/>
              <a:chOff x="0" y="2525400"/>
              <a:chExt cx="6705000" cy="21024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25254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25254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2736000"/>
              <a:ext cx="6705000" cy="210240"/>
              <a:chOff x="0" y="2736000"/>
              <a:chExt cx="6705000" cy="21024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27360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27360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2946240"/>
              <a:ext cx="6705000" cy="210240"/>
              <a:chOff x="0" y="2946240"/>
              <a:chExt cx="6705000" cy="21024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2946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2946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get x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3156840"/>
              <a:ext cx="6705000" cy="210240"/>
              <a:chOff x="0" y="3156840"/>
              <a:chExt cx="6705000" cy="21024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3156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3156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y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3367440"/>
              <a:ext cx="6705000" cy="210240"/>
              <a:chOff x="0" y="3367440"/>
              <a:chExt cx="6705000" cy="21024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3367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3367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3578040"/>
              <a:ext cx="6705000" cy="210240"/>
              <a:chOff x="0" y="3578040"/>
              <a:chExt cx="6705000" cy="21024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35780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35780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ordinates of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3788280"/>
              <a:ext cx="6705000" cy="210240"/>
              <a:chOff x="0" y="3788280"/>
              <a:chExt cx="6705000" cy="21024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3788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3788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3998880"/>
              <a:ext cx="6705000" cy="210240"/>
              <a:chOff x="0" y="3998880"/>
              <a:chExt cx="6705000" cy="21024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39988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39988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4209480"/>
              <a:ext cx="6705000" cy="210240"/>
              <a:chOff x="0" y="4209480"/>
              <a:chExt cx="6705000" cy="21024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42094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6" name=""/>
              <p:cNvGrpSpPr/>
              <p:nvPr/>
            </p:nvGrpSpPr>
            <p:grpSpPr>
              <a:xfrm>
                <a:off x="0" y="4209480"/>
                <a:ext cx="6704640" cy="210240"/>
                <a:chOff x="0" y="4209480"/>
                <a:chExt cx="6704640" cy="21024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0" y="4209480"/>
                  <a:ext cx="670464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0" y="4209480"/>
                  <a:ext cx="670464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9" name=""/>
          <p:cNvGrpSpPr/>
          <p:nvPr/>
        </p:nvGrpSpPr>
        <p:grpSpPr>
          <a:xfrm>
            <a:off x="0" y="4419720"/>
            <a:ext cx="6780960" cy="2438280"/>
            <a:chOff x="0" y="4419720"/>
            <a:chExt cx="6780960" cy="2438280"/>
          </a:xfrm>
        </p:grpSpPr>
        <p:grpSp>
          <p:nvGrpSpPr>
            <p:cNvPr id="1420" name=""/>
            <p:cNvGrpSpPr/>
            <p:nvPr/>
          </p:nvGrpSpPr>
          <p:grpSpPr>
            <a:xfrm>
              <a:off x="0" y="4419720"/>
              <a:ext cx="6780960" cy="221400"/>
              <a:chOff x="0" y="4419720"/>
              <a:chExt cx="6780960" cy="221400"/>
            </a:xfrm>
          </p:grpSpPr>
          <p:sp>
            <p:nvSpPr>
              <p:cNvPr id="1421" name=""/>
              <p:cNvSpPr/>
              <p:nvPr/>
            </p:nvSpPr>
            <p:spPr>
              <a:xfrm>
                <a:off x="0" y="4419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0" y="4419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8: point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0" y="4641120"/>
              <a:ext cx="6780960" cy="221400"/>
              <a:chOff x="0" y="4641120"/>
              <a:chExt cx="6780960" cy="221400"/>
            </a:xfrm>
          </p:grpSpPr>
          <p:sp>
            <p:nvSpPr>
              <p:cNvPr id="1424" name=""/>
              <p:cNvSpPr/>
              <p:nvPr/>
            </p:nvSpPr>
            <p:spPr>
              <a:xfrm>
                <a:off x="0" y="4641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0" y="4641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0" y="4862880"/>
              <a:ext cx="6780960" cy="221760"/>
              <a:chOff x="0" y="4862880"/>
              <a:chExt cx="6780960" cy="221760"/>
            </a:xfrm>
          </p:grpSpPr>
          <p:sp>
            <p:nvSpPr>
              <p:cNvPr id="1427" name=""/>
              <p:cNvSpPr/>
              <p:nvPr/>
            </p:nvSpPr>
            <p:spPr>
              <a:xfrm>
                <a:off x="0" y="4862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0" y="4862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0" y="5084640"/>
              <a:ext cx="6780960" cy="221400"/>
              <a:chOff x="0" y="5084640"/>
              <a:chExt cx="6780960" cy="221400"/>
            </a:xfrm>
          </p:grpSpPr>
          <p:sp>
            <p:nvSpPr>
              <p:cNvPr id="1430" name=""/>
              <p:cNvSpPr/>
              <p:nvPr/>
            </p:nvSpPr>
            <p:spPr>
              <a:xfrm>
                <a:off x="0" y="5084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0" y="5084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0" y="5306400"/>
              <a:ext cx="6780960" cy="221400"/>
              <a:chOff x="0" y="5306400"/>
              <a:chExt cx="6780960" cy="221400"/>
            </a:xfrm>
          </p:grpSpPr>
          <p:sp>
            <p:nvSpPr>
              <p:cNvPr id="1433" name=""/>
              <p:cNvSpPr/>
              <p:nvPr/>
            </p:nvSpPr>
            <p:spPr>
              <a:xfrm>
                <a:off x="0" y="5306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0" y="5306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0" y="5527800"/>
              <a:ext cx="6780960" cy="221400"/>
              <a:chOff x="0" y="5527800"/>
              <a:chExt cx="6780960" cy="221400"/>
            </a:xfrm>
          </p:grpSpPr>
          <p:sp>
            <p:nvSpPr>
              <p:cNvPr id="1436" name=""/>
              <p:cNvSpPr/>
              <p:nvPr/>
            </p:nvSpPr>
            <p:spPr>
              <a:xfrm>
                <a:off x="0" y="5527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0" y="5527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0" y="5749560"/>
              <a:ext cx="6780960" cy="221760"/>
              <a:chOff x="0" y="5749560"/>
              <a:chExt cx="6780960" cy="221760"/>
            </a:xfrm>
          </p:grpSpPr>
          <p:sp>
            <p:nvSpPr>
              <p:cNvPr id="1439" name=""/>
              <p:cNvSpPr/>
              <p:nvPr/>
            </p:nvSpPr>
            <p:spPr>
              <a:xfrm>
                <a:off x="0" y="5749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0" y="5749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"/>
            <p:cNvGrpSpPr/>
            <p:nvPr/>
          </p:nvGrpSpPr>
          <p:grpSpPr>
            <a:xfrm>
              <a:off x="0" y="5971320"/>
              <a:ext cx="6780960" cy="221400"/>
              <a:chOff x="0" y="5971320"/>
              <a:chExt cx="6780960" cy="221400"/>
            </a:xfrm>
          </p:grpSpPr>
          <p:sp>
            <p:nvSpPr>
              <p:cNvPr id="1442" name=""/>
              <p:cNvSpPr/>
              <p:nvPr/>
            </p:nvSpPr>
            <p:spPr>
              <a:xfrm>
                <a:off x="0" y="5971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0" y="5971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x and y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0" y="6193080"/>
              <a:ext cx="6780960" cy="221400"/>
              <a:chOff x="0" y="6193080"/>
              <a:chExt cx="6780960" cy="221400"/>
            </a:xfrm>
          </p:grpSpPr>
          <p:sp>
            <p:nvSpPr>
              <p:cNvPr id="1445" name=""/>
              <p:cNvSpPr/>
              <p:nvPr/>
            </p:nvSpPr>
            <p:spPr>
              <a:xfrm>
                <a:off x="0" y="6193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0" y="6193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0" y="6414480"/>
              <a:ext cx="6780960" cy="221400"/>
              <a:chOff x="0" y="6414480"/>
              <a:chExt cx="6780960" cy="221400"/>
            </a:xfrm>
          </p:grpSpPr>
          <p:sp>
            <p:nvSpPr>
              <p:cNvPr id="1448" name=""/>
              <p:cNvSpPr/>
              <p:nvPr/>
            </p:nvSpPr>
            <p:spPr>
              <a:xfrm>
                <a:off x="0" y="6414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0" y="6414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0" y="6636240"/>
              <a:ext cx="6780960" cy="221760"/>
              <a:chOff x="0" y="6636240"/>
              <a:chExt cx="6780960" cy="221760"/>
            </a:xfrm>
          </p:grpSpPr>
          <p:sp>
            <p:nvSpPr>
              <p:cNvPr id="1451" name=""/>
              <p:cNvSpPr/>
              <p:nvPr/>
            </p:nvSpPr>
            <p:spPr>
              <a:xfrm>
                <a:off x="0" y="66362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66362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3" name=""/>
          <p:cNvGrpSpPr/>
          <p:nvPr/>
        </p:nvGrpSpPr>
        <p:grpSpPr>
          <a:xfrm>
            <a:off x="1752480" y="3505320"/>
            <a:ext cx="6096240" cy="1129320"/>
            <a:chOff x="1752480" y="3505320"/>
            <a:chExt cx="6096240" cy="1129320"/>
          </a:xfrm>
        </p:grpSpPr>
        <p:sp>
          <p:nvSpPr>
            <p:cNvPr id="1454" name=""/>
            <p:cNvSpPr/>
            <p:nvPr/>
          </p:nvSpPr>
          <p:spPr>
            <a:xfrm>
              <a:off x="5410080" y="3505320"/>
              <a:ext cx="2438640" cy="1129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e made accessible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 flipV="1">
              <a:off x="1752480" y="3809520"/>
              <a:ext cx="3657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28C90-F8FE-4AC4-8D91-698D39507EB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0" y="0"/>
            <a:ext cx="6780960" cy="2438280"/>
            <a:chOff x="0" y="0"/>
            <a:chExt cx="6780960" cy="2438280"/>
          </a:xfrm>
        </p:grpSpPr>
        <p:grpSp>
          <p:nvGrpSpPr>
            <p:cNvPr id="1458" name="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1459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1462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1465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1468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0" y="975240"/>
              <a:ext cx="6780960" cy="243720"/>
              <a:chOff x="0" y="975240"/>
              <a:chExt cx="6780960" cy="243720"/>
            </a:xfrm>
          </p:grpSpPr>
          <p:sp>
            <p:nvSpPr>
              <p:cNvPr id="1471" name="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p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0" y="1218960"/>
              <a:ext cx="6780960" cy="243720"/>
              <a:chOff x="0" y="1218960"/>
              <a:chExt cx="6780960" cy="243720"/>
            </a:xfrm>
          </p:grpSpPr>
          <p:sp>
            <p:nvSpPr>
              <p:cNvPr id="1474" name="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0" y="1463040"/>
              <a:ext cx="6780960" cy="243720"/>
              <a:chOff x="0" y="1463040"/>
              <a:chExt cx="6780960" cy="243720"/>
            </a:xfrm>
          </p:grpSpPr>
          <p:sp>
            <p:nvSpPr>
              <p:cNvPr id="1477" name="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'[' &lt;&lt; p.x &lt;&lt; ", " &lt;&lt; p.y &lt;&lt; ']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0" y="1706760"/>
              <a:ext cx="6780960" cy="243720"/>
              <a:chOff x="0" y="1706760"/>
              <a:chExt cx="6780960" cy="243720"/>
            </a:xfrm>
          </p:grpSpPr>
          <p:sp>
            <p:nvSpPr>
              <p:cNvPr id="1480" name="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0" y="1950840"/>
              <a:ext cx="6780960" cy="243720"/>
              <a:chOff x="0" y="1950840"/>
              <a:chExt cx="6780960" cy="243720"/>
            </a:xfrm>
          </p:grpSpPr>
          <p:sp>
            <p:nvSpPr>
              <p:cNvPr id="1483" name="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0" y="2194560"/>
              <a:ext cx="6780960" cy="243720"/>
              <a:chOff x="0" y="2194560"/>
              <a:chExt cx="6780960" cy="243720"/>
            </a:xfrm>
          </p:grpSpPr>
          <p:sp>
            <p:nvSpPr>
              <p:cNvPr id="1486" name="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6A47-B86E-4D57-AB1D-6E264F83B6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0" y="0"/>
            <a:ext cx="6780960" cy="4648320"/>
            <a:chOff x="0" y="0"/>
            <a:chExt cx="6780960" cy="4648320"/>
          </a:xfrm>
        </p:grpSpPr>
        <p:grpSp>
          <p:nvGrpSpPr>
            <p:cNvPr id="1490" name=""/>
            <p:cNvGrpSpPr/>
            <p:nvPr/>
          </p:nvGrpSpPr>
          <p:grpSpPr>
            <a:xfrm>
              <a:off x="0" y="0"/>
              <a:ext cx="6780960" cy="192960"/>
              <a:chOff x="0" y="0"/>
              <a:chExt cx="6780960" cy="192960"/>
            </a:xfrm>
          </p:grpSpPr>
          <p:sp>
            <p:nvSpPr>
              <p:cNvPr id="1491" name=""/>
              <p:cNvSpPr/>
              <p:nvPr/>
            </p:nvSpPr>
            <p:spPr>
              <a:xfrm>
                <a:off x="0" y="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0" y="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9: circl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0" y="192960"/>
              <a:ext cx="6780960" cy="192960"/>
              <a:chOff x="0" y="192960"/>
              <a:chExt cx="6780960" cy="192960"/>
            </a:xfrm>
          </p:grpSpPr>
          <p:sp>
            <p:nvSpPr>
              <p:cNvPr id="1494" name=""/>
              <p:cNvSpPr/>
              <p:nvPr/>
            </p:nvSpPr>
            <p:spPr>
              <a:xfrm>
                <a:off x="0" y="1929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0" y="1929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0" y="385920"/>
              <a:ext cx="6780960" cy="192960"/>
              <a:chOff x="0" y="385920"/>
              <a:chExt cx="6780960" cy="192960"/>
            </a:xfrm>
          </p:grpSpPr>
          <p:sp>
            <p:nvSpPr>
              <p:cNvPr id="1497" name=""/>
              <p:cNvSpPr/>
              <p:nvPr/>
            </p:nvSpPr>
            <p:spPr>
              <a:xfrm>
                <a:off x="0" y="3859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0" y="3859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0" y="578880"/>
              <a:ext cx="6780960" cy="192960"/>
              <a:chOff x="0" y="578880"/>
              <a:chExt cx="6780960" cy="192960"/>
            </a:xfrm>
          </p:grpSpPr>
          <p:sp>
            <p:nvSpPr>
              <p:cNvPr id="1500" name=""/>
              <p:cNvSpPr/>
              <p:nvPr/>
            </p:nvSpPr>
            <p:spPr>
              <a:xfrm>
                <a:off x="0" y="5788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0" y="5788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0" y="772200"/>
              <a:ext cx="6780960" cy="192960"/>
              <a:chOff x="0" y="772200"/>
              <a:chExt cx="6780960" cy="192960"/>
            </a:xfrm>
          </p:grpSpPr>
          <p:sp>
            <p:nvSpPr>
              <p:cNvPr id="1503" name=""/>
              <p:cNvSpPr/>
              <p:nvPr/>
            </p:nvSpPr>
            <p:spPr>
              <a:xfrm>
                <a:off x="0" y="7722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0" y="7722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0" y="965160"/>
              <a:ext cx="6780960" cy="192960"/>
              <a:chOff x="0" y="965160"/>
              <a:chExt cx="6780960" cy="192960"/>
            </a:xfrm>
          </p:grpSpPr>
          <p:sp>
            <p:nvSpPr>
              <p:cNvPr id="1506" name=""/>
              <p:cNvSpPr/>
              <p:nvPr/>
            </p:nvSpPr>
            <p:spPr>
              <a:xfrm>
                <a:off x="0" y="9651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0" y="9651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0" y="1158120"/>
              <a:ext cx="6780960" cy="192960"/>
              <a:chOff x="0" y="1158120"/>
              <a:chExt cx="6780960" cy="192960"/>
            </a:xfrm>
          </p:grpSpPr>
          <p:sp>
            <p:nvSpPr>
              <p:cNvPr id="1509" name=""/>
              <p:cNvSpPr/>
              <p:nvPr/>
            </p:nvSpPr>
            <p:spPr>
              <a:xfrm>
                <a:off x="0" y="1158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0" y="1158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0" y="1351440"/>
              <a:ext cx="6780960" cy="192960"/>
              <a:chOff x="0" y="1351440"/>
              <a:chExt cx="6780960" cy="192960"/>
            </a:xfrm>
          </p:grpSpPr>
          <p:sp>
            <p:nvSpPr>
              <p:cNvPr id="1512" name=""/>
              <p:cNvSpPr/>
              <p:nvPr/>
            </p:nvSpPr>
            <p:spPr>
              <a:xfrm>
                <a:off x="0" y="13514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0" y="13514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0" y="1544400"/>
              <a:ext cx="6780960" cy="192960"/>
              <a:chOff x="0" y="1544400"/>
              <a:chExt cx="6780960" cy="192960"/>
            </a:xfrm>
          </p:grpSpPr>
          <p:sp>
            <p:nvSpPr>
              <p:cNvPr id="1515" name=""/>
              <p:cNvSpPr/>
              <p:nvPr/>
            </p:nvSpPr>
            <p:spPr>
              <a:xfrm>
                <a:off x="0" y="15444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0" y="15444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7" name=""/>
            <p:cNvGrpSpPr/>
            <p:nvPr/>
          </p:nvGrpSpPr>
          <p:grpSpPr>
            <a:xfrm>
              <a:off x="0" y="1737360"/>
              <a:ext cx="6780960" cy="192960"/>
              <a:chOff x="0" y="1737360"/>
              <a:chExt cx="6780960" cy="192960"/>
            </a:xfrm>
          </p:grpSpPr>
          <p:sp>
            <p:nvSpPr>
              <p:cNvPr id="1518" name=""/>
              <p:cNvSpPr/>
              <p:nvPr/>
            </p:nvSpPr>
            <p:spPr>
              <a:xfrm>
                <a:off x="0" y="1737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0" y="1737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0" y="1930320"/>
              <a:ext cx="6780960" cy="192960"/>
              <a:chOff x="0" y="1930320"/>
              <a:chExt cx="6780960" cy="192960"/>
            </a:xfrm>
          </p:grpSpPr>
          <p:sp>
            <p:nvSpPr>
              <p:cNvPr id="1521" name=""/>
              <p:cNvSpPr/>
              <p:nvPr/>
            </p:nvSpPr>
            <p:spPr>
              <a:xfrm>
                <a:off x="0" y="19303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0" y="19303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0" y="2123640"/>
              <a:ext cx="6780960" cy="192960"/>
              <a:chOff x="0" y="2123640"/>
              <a:chExt cx="6780960" cy="192960"/>
            </a:xfrm>
          </p:grpSpPr>
          <p:sp>
            <p:nvSpPr>
              <p:cNvPr id="1524" name=""/>
              <p:cNvSpPr/>
              <p:nvPr/>
            </p:nvSpPr>
            <p:spPr>
              <a:xfrm>
                <a:off x="0" y="21236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0" y="21236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6" name=""/>
            <p:cNvGrpSpPr/>
            <p:nvPr/>
          </p:nvGrpSpPr>
          <p:grpSpPr>
            <a:xfrm>
              <a:off x="0" y="2316600"/>
              <a:ext cx="6780960" cy="192960"/>
              <a:chOff x="0" y="2316600"/>
              <a:chExt cx="6780960" cy="192960"/>
            </a:xfrm>
          </p:grpSpPr>
          <p:sp>
            <p:nvSpPr>
              <p:cNvPr id="1527" name=""/>
              <p:cNvSpPr/>
              <p:nvPr/>
            </p:nvSpPr>
            <p:spPr>
              <a:xfrm>
                <a:off x="0" y="23166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0" y="23166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0" y="2509560"/>
              <a:ext cx="6780960" cy="192960"/>
              <a:chOff x="0" y="2509560"/>
              <a:chExt cx="6780960" cy="192960"/>
            </a:xfrm>
          </p:grpSpPr>
          <p:sp>
            <p:nvSpPr>
              <p:cNvPr id="1530" name=""/>
              <p:cNvSpPr/>
              <p:nvPr/>
            </p:nvSpPr>
            <p:spPr>
              <a:xfrm>
                <a:off x="0" y="25095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0" y="25095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0" y="2702520"/>
              <a:ext cx="6780960" cy="192960"/>
              <a:chOff x="0" y="2702520"/>
              <a:chExt cx="6780960" cy="192960"/>
            </a:xfrm>
          </p:grpSpPr>
          <p:sp>
            <p:nvSpPr>
              <p:cNvPr id="1533" name=""/>
              <p:cNvSpPr/>
              <p:nvPr/>
            </p:nvSpPr>
            <p:spPr>
              <a:xfrm>
                <a:off x="0" y="27025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0" y="27025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0" y="2895840"/>
              <a:ext cx="6780960" cy="192960"/>
              <a:chOff x="0" y="2895840"/>
              <a:chExt cx="6780960" cy="192960"/>
            </a:xfrm>
          </p:grpSpPr>
          <p:sp>
            <p:nvSpPr>
              <p:cNvPr id="1536" name=""/>
              <p:cNvSpPr/>
              <p:nvPr/>
            </p:nvSpPr>
            <p:spPr>
              <a:xfrm>
                <a:off x="0" y="2895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0" y="2895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0" y="3088800"/>
              <a:ext cx="6780960" cy="192960"/>
              <a:chOff x="0" y="3088800"/>
              <a:chExt cx="6780960" cy="192960"/>
            </a:xfrm>
          </p:grpSpPr>
          <p:sp>
            <p:nvSpPr>
              <p:cNvPr id="1539" name=""/>
              <p:cNvSpPr/>
              <p:nvPr/>
            </p:nvSpPr>
            <p:spPr>
              <a:xfrm>
                <a:off x="0" y="3088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0" y="3088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0" y="3281760"/>
              <a:ext cx="6780960" cy="207720"/>
              <a:chOff x="0" y="3281760"/>
              <a:chExt cx="6780960" cy="207720"/>
            </a:xfrm>
          </p:grpSpPr>
          <p:sp>
            <p:nvSpPr>
              <p:cNvPr id="1542" name=""/>
              <p:cNvSpPr/>
              <p:nvPr/>
            </p:nvSpPr>
            <p:spPr>
              <a:xfrm>
                <a:off x="0" y="3281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0" y="3281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0" y="3489840"/>
              <a:ext cx="6780960" cy="192960"/>
              <a:chOff x="0" y="3489840"/>
              <a:chExt cx="6780960" cy="192960"/>
            </a:xfrm>
          </p:grpSpPr>
          <p:sp>
            <p:nvSpPr>
              <p:cNvPr id="1545" name=""/>
              <p:cNvSpPr/>
              <p:nvPr/>
            </p:nvSpPr>
            <p:spPr>
              <a:xfrm>
                <a:off x="0" y="3489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0" y="3489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culate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0" y="3682800"/>
              <a:ext cx="6780960" cy="192960"/>
              <a:chOff x="0" y="3682800"/>
              <a:chExt cx="6780960" cy="192960"/>
            </a:xfrm>
          </p:grpSpPr>
          <p:sp>
            <p:nvSpPr>
              <p:cNvPr id="1548" name=""/>
              <p:cNvSpPr/>
              <p:nvPr/>
            </p:nvSpPr>
            <p:spPr>
              <a:xfrm>
                <a:off x="0" y="3682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0" y="3682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0" name=""/>
            <p:cNvGrpSpPr/>
            <p:nvPr/>
          </p:nvGrpSpPr>
          <p:grpSpPr>
            <a:xfrm>
              <a:off x="0" y="3876120"/>
              <a:ext cx="6780960" cy="192960"/>
              <a:chOff x="0" y="3876120"/>
              <a:chExt cx="6780960" cy="192960"/>
            </a:xfrm>
          </p:grpSpPr>
          <p:sp>
            <p:nvSpPr>
              <p:cNvPr id="1551" name=""/>
              <p:cNvSpPr/>
              <p:nvPr/>
            </p:nvSpPr>
            <p:spPr>
              <a:xfrm>
                <a:off x="0" y="3876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0" y="3876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adius of the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0" y="4069080"/>
              <a:ext cx="6780960" cy="192960"/>
              <a:chOff x="0" y="4069080"/>
              <a:chExt cx="6780960" cy="192960"/>
            </a:xfrm>
          </p:grpSpPr>
          <p:sp>
            <p:nvSpPr>
              <p:cNvPr id="1554" name=""/>
              <p:cNvSpPr/>
              <p:nvPr/>
            </p:nvSpPr>
            <p:spPr>
              <a:xfrm>
                <a:off x="0" y="40690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0" y="40690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6" name=""/>
            <p:cNvGrpSpPr/>
            <p:nvPr/>
          </p:nvGrpSpPr>
          <p:grpSpPr>
            <a:xfrm>
              <a:off x="0" y="4262040"/>
              <a:ext cx="6780960" cy="192960"/>
              <a:chOff x="0" y="4262040"/>
              <a:chExt cx="6780960" cy="192960"/>
            </a:xfrm>
          </p:grpSpPr>
          <p:sp>
            <p:nvSpPr>
              <p:cNvPr id="1557" name=""/>
              <p:cNvSpPr/>
              <p:nvPr/>
            </p:nvSpPr>
            <p:spPr>
              <a:xfrm>
                <a:off x="0" y="42620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0" y="42620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9" name=""/>
            <p:cNvGrpSpPr/>
            <p:nvPr/>
          </p:nvGrpSpPr>
          <p:grpSpPr>
            <a:xfrm>
              <a:off x="0" y="4455360"/>
              <a:ext cx="6780960" cy="192960"/>
              <a:chOff x="0" y="4455360"/>
              <a:chExt cx="6780960" cy="192960"/>
            </a:xfrm>
          </p:grpSpPr>
          <p:sp>
            <p:nvSpPr>
              <p:cNvPr id="1560" name=""/>
              <p:cNvSpPr/>
              <p:nvPr/>
            </p:nvSpPr>
            <p:spPr>
              <a:xfrm>
                <a:off x="0" y="4455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0" y="4455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2" name=""/>
          <p:cNvGrpSpPr/>
          <p:nvPr/>
        </p:nvGrpSpPr>
        <p:grpSpPr>
          <a:xfrm>
            <a:off x="0" y="4648320"/>
            <a:ext cx="6857280" cy="2209320"/>
            <a:chOff x="0" y="4648320"/>
            <a:chExt cx="6857280" cy="2209320"/>
          </a:xfrm>
        </p:grpSpPr>
        <p:grpSp>
          <p:nvGrpSpPr>
            <p:cNvPr id="1563" name=""/>
            <p:cNvGrpSpPr/>
            <p:nvPr/>
          </p:nvGrpSpPr>
          <p:grpSpPr>
            <a:xfrm>
              <a:off x="0" y="4648320"/>
              <a:ext cx="6857280" cy="245160"/>
              <a:chOff x="0" y="4648320"/>
              <a:chExt cx="6857280" cy="245160"/>
            </a:xfrm>
          </p:grpSpPr>
          <p:sp>
            <p:nvSpPr>
              <p:cNvPr id="1564" name=""/>
              <p:cNvSpPr/>
              <p:nvPr/>
            </p:nvSpPr>
            <p:spPr>
              <a:xfrm>
                <a:off x="0" y="46483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46483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9: circl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0" y="4893480"/>
              <a:ext cx="6857280" cy="245160"/>
              <a:chOff x="0" y="4893480"/>
              <a:chExt cx="6857280" cy="245160"/>
            </a:xfrm>
          </p:grpSpPr>
          <p:sp>
            <p:nvSpPr>
              <p:cNvPr id="1567" name=""/>
              <p:cNvSpPr/>
              <p:nvPr/>
            </p:nvSpPr>
            <p:spPr>
              <a:xfrm>
                <a:off x="0" y="4893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0" y="4893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0" y="5139000"/>
              <a:ext cx="6857280" cy="245520"/>
              <a:chOff x="0" y="5139000"/>
              <a:chExt cx="6857280" cy="245520"/>
            </a:xfrm>
          </p:grpSpPr>
          <p:sp>
            <p:nvSpPr>
              <p:cNvPr id="1570" name=""/>
              <p:cNvSpPr/>
              <p:nvPr/>
            </p:nvSpPr>
            <p:spPr>
              <a:xfrm>
                <a:off x="0" y="513900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0" y="513900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0" y="5384880"/>
              <a:ext cx="6857280" cy="245160"/>
              <a:chOff x="0" y="5384880"/>
              <a:chExt cx="6857280" cy="245160"/>
            </a:xfrm>
          </p:grpSpPr>
          <p:sp>
            <p:nvSpPr>
              <p:cNvPr id="1573" name=""/>
              <p:cNvSpPr/>
              <p:nvPr/>
            </p:nvSpPr>
            <p:spPr>
              <a:xfrm>
                <a:off x="0" y="53848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0" y="53848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0" y="5630400"/>
              <a:ext cx="6857280" cy="245160"/>
              <a:chOff x="0" y="5630400"/>
              <a:chExt cx="6857280" cy="245160"/>
            </a:xfrm>
          </p:grpSpPr>
          <p:sp>
            <p:nvSpPr>
              <p:cNvPr id="1576" name=""/>
              <p:cNvSpPr/>
              <p:nvPr/>
            </p:nvSpPr>
            <p:spPr>
              <a:xfrm>
                <a:off x="0" y="563040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0" y="563040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0" y="5875920"/>
              <a:ext cx="6857280" cy="245160"/>
              <a:chOff x="0" y="5875920"/>
              <a:chExt cx="6857280" cy="245160"/>
            </a:xfrm>
          </p:grpSpPr>
          <p:sp>
            <p:nvSpPr>
              <p:cNvPr id="1579" name=""/>
              <p:cNvSpPr/>
              <p:nvPr/>
            </p:nvSpPr>
            <p:spPr>
              <a:xfrm>
                <a:off x="0" y="58759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0" y="58759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0" y="6121440"/>
              <a:ext cx="6857280" cy="245520"/>
              <a:chOff x="0" y="6121440"/>
              <a:chExt cx="6857280" cy="245520"/>
            </a:xfrm>
          </p:grpSpPr>
          <p:sp>
            <p:nvSpPr>
              <p:cNvPr id="1582" name=""/>
              <p:cNvSpPr/>
              <p:nvPr/>
            </p:nvSpPr>
            <p:spPr>
              <a:xfrm>
                <a:off x="0" y="612144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0" y="612144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4" name=""/>
            <p:cNvGrpSpPr/>
            <p:nvPr/>
          </p:nvGrpSpPr>
          <p:grpSpPr>
            <a:xfrm>
              <a:off x="0" y="6366960"/>
              <a:ext cx="6857280" cy="245160"/>
              <a:chOff x="0" y="6366960"/>
              <a:chExt cx="6857280" cy="245160"/>
            </a:xfrm>
          </p:grpSpPr>
          <p:sp>
            <p:nvSpPr>
              <p:cNvPr id="1585" name=""/>
              <p:cNvSpPr/>
              <p:nvPr/>
            </p:nvSpPr>
            <p:spPr>
              <a:xfrm>
                <a:off x="0" y="636696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0" y="636696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0" y="6612480"/>
              <a:ext cx="6857280" cy="245160"/>
              <a:chOff x="0" y="6612480"/>
              <a:chExt cx="6857280" cy="245160"/>
            </a:xfrm>
          </p:grpSpPr>
          <p:sp>
            <p:nvSpPr>
              <p:cNvPr id="1588" name=""/>
              <p:cNvSpPr/>
              <p:nvPr/>
            </p:nvSpPr>
            <p:spPr>
              <a:xfrm>
                <a:off x="0" y="6612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0" y="6612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0" name=""/>
          <p:cNvSpPr/>
          <p:nvPr/>
        </p:nvSpPr>
        <p:spPr>
          <a:xfrm>
            <a:off x="4572000" y="106668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2057400" y="3962520"/>
            <a:ext cx="6172200" cy="824040"/>
            <a:chOff x="2057400" y="3962520"/>
            <a:chExt cx="6172200" cy="824040"/>
          </a:xfrm>
        </p:grpSpPr>
        <p:sp>
          <p:nvSpPr>
            <p:cNvPr id="1592" name=""/>
            <p:cNvSpPr/>
            <p:nvPr/>
          </p:nvSpPr>
          <p:spPr>
            <a:xfrm>
              <a:off x="5791320" y="39625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 member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e made accessible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 flipV="1">
              <a:off x="2057400" y="4114800"/>
              <a:ext cx="3733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3705-706C-4C8C-B139-815035F296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596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1597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1600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1603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a member initializer and initializes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1606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1609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1612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1618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1621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3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1624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radius = ( r &gt;= 0 ? r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1627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1630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1633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5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1636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1639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rea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1642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1645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7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1648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1651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a circle in the form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1654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enter = [x, y]; Radius = #.#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1657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9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1660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2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1663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"Center = "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Point &gt; 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1666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; Radius =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1669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1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1672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precision( 2 ) &lt;&lt; c.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1675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1678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1681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AD2F-D9D6-48C7-87DF-AC645064FD4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Inheritance: Base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and derive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an object from a derived class (subclass) is also an object of a base class (supercla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ctangle is a derived class in reference to a quadrilateral and a base class in reference to a squ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47920" y="3429000"/>
          <a:ext cx="5943600" cy="33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429000"/>
                    <a:ext cx="594360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094E-BA6C-4F03-9C10-A6F8B0D9F6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685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1686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0: cylindr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1689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1692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1695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1698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1701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1704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1707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1710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1734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6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1737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1740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1743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5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1746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1749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nd return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1752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nd return volu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1755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7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1758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1761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height of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1764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1767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1770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0B4C-A256-4C9B-8870-6D26E779418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7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74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0: cylindr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778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and friend function definition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781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or class Cylind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784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787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790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ylinder constructor calls Circl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793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796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Circle( r, x, y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799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802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805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eight = ( h &gt;= 0 ? h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823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826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rea of Cylinder (i.e., surface are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829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832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4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835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7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838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2 * 3.14159 * radius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841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844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847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volume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850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853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856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859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Cylinder dimens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862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4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865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7" name=""/>
          <p:cNvGrpSpPr/>
          <p:nvPr/>
        </p:nvGrpSpPr>
        <p:grpSpPr>
          <a:xfrm>
            <a:off x="2743200" y="4343040"/>
            <a:ext cx="5257800" cy="1038240"/>
            <a:chOff x="2743200" y="4343040"/>
            <a:chExt cx="5257800" cy="1038240"/>
          </a:xfrm>
        </p:grpSpPr>
        <p:sp>
          <p:nvSpPr>
            <p:cNvPr id="1868" name=""/>
            <p:cNvSpPr/>
            <p:nvPr/>
          </p:nvSpPr>
          <p:spPr>
            <a:xfrm>
              <a:off x="5562720" y="48006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::area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overidd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 flipV="1">
              <a:off x="2743200" y="43430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18D0-D149-4BE2-BD2F-1593BEED7AE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Change attribut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71" name=""/>
          <p:cNvGrpSpPr/>
          <p:nvPr/>
        </p:nvGrpSpPr>
        <p:grpSpPr>
          <a:xfrm>
            <a:off x="0" y="0"/>
            <a:ext cx="6780960" cy="1219320"/>
            <a:chOff x="0" y="0"/>
            <a:chExt cx="6780960" cy="1219320"/>
          </a:xfrm>
        </p:grpSpPr>
        <p:grpSp>
          <p:nvGrpSpPr>
            <p:cNvPr id="1872" name="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1873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static_cast&lt; Circle &gt;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1876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; Height = " &lt;&lt; c.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1879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1882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0" y="975600"/>
              <a:ext cx="6780960" cy="243720"/>
              <a:chOff x="0" y="975600"/>
              <a:chExt cx="6780960" cy="243720"/>
            </a:xfrm>
          </p:grpSpPr>
          <p:sp>
            <p:nvSpPr>
              <p:cNvPr id="1885" name="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7" name=""/>
          <p:cNvGrpSpPr/>
          <p:nvPr/>
        </p:nvGrpSpPr>
        <p:grpSpPr>
          <a:xfrm>
            <a:off x="0" y="1219320"/>
            <a:ext cx="6780960" cy="5638680"/>
            <a:chOff x="0" y="1219320"/>
            <a:chExt cx="6780960" cy="5638680"/>
          </a:xfrm>
        </p:grpSpPr>
        <p:grpSp>
          <p:nvGrpSpPr>
            <p:cNvPr id="1888" name=""/>
            <p:cNvGrpSpPr/>
            <p:nvPr/>
          </p:nvGrpSpPr>
          <p:grpSpPr>
            <a:xfrm>
              <a:off x="0" y="1219320"/>
              <a:ext cx="6780960" cy="216720"/>
              <a:chOff x="0" y="1219320"/>
              <a:chExt cx="6780960" cy="216720"/>
            </a:xfrm>
          </p:grpSpPr>
          <p:sp>
            <p:nvSpPr>
              <p:cNvPr id="1889" name="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0: fig09_1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"/>
            <p:cNvGrpSpPr/>
            <p:nvPr/>
          </p:nvGrpSpPr>
          <p:grpSpPr>
            <a:xfrm>
              <a:off x="0" y="1436040"/>
              <a:ext cx="6780960" cy="216720"/>
              <a:chOff x="0" y="1436040"/>
              <a:chExt cx="6780960" cy="216720"/>
            </a:xfrm>
          </p:grpSpPr>
          <p:sp>
            <p:nvSpPr>
              <p:cNvPr id="1892" name="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4" name=""/>
            <p:cNvGrpSpPr/>
            <p:nvPr/>
          </p:nvGrpSpPr>
          <p:grpSpPr>
            <a:xfrm>
              <a:off x="0" y="1652760"/>
              <a:ext cx="6780960" cy="216720"/>
              <a:chOff x="0" y="1652760"/>
              <a:chExt cx="6780960" cy="216720"/>
            </a:xfrm>
          </p:grpSpPr>
          <p:sp>
            <p:nvSpPr>
              <p:cNvPr id="1895" name="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0" y="1869840"/>
              <a:ext cx="6780960" cy="216720"/>
              <a:chOff x="0" y="1869840"/>
              <a:chExt cx="6780960" cy="216720"/>
            </a:xfrm>
          </p:grpSpPr>
          <p:sp>
            <p:nvSpPr>
              <p:cNvPr id="1898" name="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0" name=""/>
            <p:cNvGrpSpPr/>
            <p:nvPr/>
          </p:nvGrpSpPr>
          <p:grpSpPr>
            <a:xfrm>
              <a:off x="0" y="2086560"/>
              <a:ext cx="6780960" cy="216720"/>
              <a:chOff x="0" y="2086560"/>
              <a:chExt cx="6780960" cy="216720"/>
            </a:xfrm>
          </p:grpSpPr>
          <p:sp>
            <p:nvSpPr>
              <p:cNvPr id="1901" name="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0" y="2303640"/>
              <a:ext cx="6780960" cy="216720"/>
              <a:chOff x="0" y="2303640"/>
              <a:chExt cx="6780960" cy="216720"/>
            </a:xfrm>
          </p:grpSpPr>
          <p:sp>
            <p:nvSpPr>
              <p:cNvPr id="1904" name="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6" name=""/>
            <p:cNvGrpSpPr/>
            <p:nvPr/>
          </p:nvGrpSpPr>
          <p:grpSpPr>
            <a:xfrm>
              <a:off x="0" y="2520360"/>
              <a:ext cx="6780960" cy="216720"/>
              <a:chOff x="0" y="2520360"/>
              <a:chExt cx="6780960" cy="216720"/>
            </a:xfrm>
          </p:grpSpPr>
          <p:sp>
            <p:nvSpPr>
              <p:cNvPr id="1907" name="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9" name=""/>
            <p:cNvGrpSpPr/>
            <p:nvPr/>
          </p:nvGrpSpPr>
          <p:grpSpPr>
            <a:xfrm>
              <a:off x="0" y="2737440"/>
              <a:ext cx="6780960" cy="216720"/>
              <a:chOff x="0" y="2737440"/>
              <a:chExt cx="6780960" cy="216720"/>
            </a:xfrm>
          </p:grpSpPr>
          <p:sp>
            <p:nvSpPr>
              <p:cNvPr id="1910" name="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0" y="2954160"/>
              <a:ext cx="6780960" cy="216720"/>
              <a:chOff x="0" y="2954160"/>
              <a:chExt cx="6780960" cy="216720"/>
            </a:xfrm>
          </p:grpSpPr>
          <p:sp>
            <p:nvSpPr>
              <p:cNvPr id="1913" name="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0" y="3170880"/>
              <a:ext cx="6780960" cy="216720"/>
              <a:chOff x="0" y="3170880"/>
              <a:chExt cx="6780960" cy="216720"/>
            </a:xfrm>
          </p:grpSpPr>
          <p:sp>
            <p:nvSpPr>
              <p:cNvPr id="1916" name="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"/>
            <p:cNvGrpSpPr/>
            <p:nvPr/>
          </p:nvGrpSpPr>
          <p:grpSpPr>
            <a:xfrm>
              <a:off x="0" y="3387960"/>
              <a:ext cx="6780960" cy="216720"/>
              <a:chOff x="0" y="3387960"/>
              <a:chExt cx="6780960" cy="216720"/>
            </a:xfrm>
          </p:grpSpPr>
          <p:sp>
            <p:nvSpPr>
              <p:cNvPr id="1919" name="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1" name=""/>
            <p:cNvGrpSpPr/>
            <p:nvPr/>
          </p:nvGrpSpPr>
          <p:grpSpPr>
            <a:xfrm>
              <a:off x="0" y="3605040"/>
              <a:ext cx="6780960" cy="216720"/>
              <a:chOff x="0" y="3605040"/>
              <a:chExt cx="6780960" cy="216720"/>
            </a:xfrm>
          </p:grpSpPr>
          <p:sp>
            <p:nvSpPr>
              <p:cNvPr id="1922" name="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"/>
            <p:cNvGrpSpPr/>
            <p:nvPr/>
          </p:nvGrpSpPr>
          <p:grpSpPr>
            <a:xfrm>
              <a:off x="0" y="3821760"/>
              <a:ext cx="6780960" cy="216720"/>
              <a:chOff x="0" y="3821760"/>
              <a:chExt cx="6780960" cy="216720"/>
            </a:xfrm>
          </p:grpSpPr>
          <p:sp>
            <p:nvSpPr>
              <p:cNvPr id="1925" name="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7" name=""/>
            <p:cNvGrpSpPr/>
            <p:nvPr/>
          </p:nvGrpSpPr>
          <p:grpSpPr>
            <a:xfrm>
              <a:off x="0" y="4038480"/>
              <a:ext cx="6780960" cy="216720"/>
              <a:chOff x="0" y="4038480"/>
              <a:chExt cx="6780960" cy="216720"/>
            </a:xfrm>
          </p:grpSpPr>
          <p:sp>
            <p:nvSpPr>
              <p:cNvPr id="1928" name="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reate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0" y="4255560"/>
              <a:ext cx="6780960" cy="216720"/>
              <a:chOff x="0" y="4255560"/>
              <a:chExt cx="6780960" cy="216720"/>
            </a:xfrm>
          </p:grpSpPr>
          <p:sp>
            <p:nvSpPr>
              <p:cNvPr id="1931" name="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 cyl( 5.7, 2.5, 12, 23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"/>
            <p:cNvGrpSpPr/>
            <p:nvPr/>
          </p:nvGrpSpPr>
          <p:grpSpPr>
            <a:xfrm>
              <a:off x="0" y="4472280"/>
              <a:ext cx="6780960" cy="216720"/>
              <a:chOff x="0" y="4472280"/>
              <a:chExt cx="6780960" cy="216720"/>
            </a:xfrm>
          </p:grpSpPr>
          <p:sp>
            <p:nvSpPr>
              <p:cNvPr id="1934" name="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"/>
            <p:cNvGrpSpPr/>
            <p:nvPr/>
          </p:nvGrpSpPr>
          <p:grpSpPr>
            <a:xfrm>
              <a:off x="0" y="4689360"/>
              <a:ext cx="6780960" cy="216720"/>
              <a:chOff x="0" y="4689360"/>
              <a:chExt cx="6780960" cy="216720"/>
            </a:xfrm>
          </p:grpSpPr>
          <p:sp>
            <p:nvSpPr>
              <p:cNvPr id="1937" name="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se get functions to display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"/>
            <p:cNvGrpSpPr/>
            <p:nvPr/>
          </p:nvGrpSpPr>
          <p:grpSpPr>
            <a:xfrm>
              <a:off x="0" y="4906080"/>
              <a:ext cx="6780960" cy="216720"/>
              <a:chOff x="0" y="4906080"/>
              <a:chExt cx="6780960" cy="216720"/>
            </a:xfrm>
          </p:grpSpPr>
          <p:sp>
            <p:nvSpPr>
              <p:cNvPr id="1940" name="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X coordinate is " &lt;&lt; cyl.getX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"/>
            <p:cNvGrpSpPr/>
            <p:nvPr/>
          </p:nvGrpSpPr>
          <p:grpSpPr>
            <a:xfrm>
              <a:off x="0" y="5122800"/>
              <a:ext cx="6780960" cy="216720"/>
              <a:chOff x="0" y="5122800"/>
              <a:chExt cx="6780960" cy="216720"/>
            </a:xfrm>
          </p:grpSpPr>
          <p:sp>
            <p:nvSpPr>
              <p:cNvPr id="1943" name="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Y coordinate is " &lt;&lt; cyl.get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5" name=""/>
            <p:cNvGrpSpPr/>
            <p:nvPr/>
          </p:nvGrpSpPr>
          <p:grpSpPr>
            <a:xfrm>
              <a:off x="0" y="5339880"/>
              <a:ext cx="6780960" cy="216720"/>
              <a:chOff x="0" y="5339880"/>
              <a:chExt cx="6780960" cy="216720"/>
            </a:xfrm>
          </p:grpSpPr>
          <p:sp>
            <p:nvSpPr>
              <p:cNvPr id="1946" name="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Radius is " &lt;&lt; cyl.getRadiu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0" y="5556960"/>
              <a:ext cx="6780960" cy="216720"/>
              <a:chOff x="0" y="5556960"/>
              <a:chExt cx="6780960" cy="216720"/>
            </a:xfrm>
          </p:grpSpPr>
          <p:sp>
            <p:nvSpPr>
              <p:cNvPr id="1949" name="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Height is " &lt;&lt; cyl.getHeight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0" y="5773680"/>
              <a:ext cx="6780960" cy="216720"/>
              <a:chOff x="0" y="5773680"/>
              <a:chExt cx="6780960" cy="216720"/>
            </a:xfrm>
          </p:grpSpPr>
          <p:sp>
            <p:nvSpPr>
              <p:cNvPr id="1952" name="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0" y="5990400"/>
              <a:ext cx="6780960" cy="216720"/>
              <a:chOff x="0" y="5990400"/>
              <a:chExt cx="6780960" cy="216720"/>
            </a:xfrm>
          </p:grpSpPr>
          <p:sp>
            <p:nvSpPr>
              <p:cNvPr id="1955" name="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se set functions to change the Cylinder's attribu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0" y="6207480"/>
              <a:ext cx="6780960" cy="216720"/>
              <a:chOff x="0" y="6207480"/>
              <a:chExt cx="6780960" cy="216720"/>
            </a:xfrm>
          </p:grpSpPr>
          <p:sp>
            <p:nvSpPr>
              <p:cNvPr id="1958" name="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.setHeight( 1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0" y="6424200"/>
              <a:ext cx="6780960" cy="216720"/>
              <a:chOff x="0" y="6424200"/>
              <a:chExt cx="6780960" cy="216720"/>
            </a:xfrm>
          </p:grpSpPr>
          <p:sp>
            <p:nvSpPr>
              <p:cNvPr id="1961" name="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.setRadius( 4.2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3" name=""/>
            <p:cNvGrpSpPr/>
            <p:nvPr/>
          </p:nvGrpSpPr>
          <p:grpSpPr>
            <a:xfrm>
              <a:off x="0" y="6641280"/>
              <a:ext cx="6780960" cy="216720"/>
              <a:chOff x="0" y="6641280"/>
              <a:chExt cx="6780960" cy="216720"/>
            </a:xfrm>
          </p:grpSpPr>
          <p:sp>
            <p:nvSpPr>
              <p:cNvPr id="1964" name="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.setPoint( 2,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6" name=""/>
          <p:cNvSpPr/>
          <p:nvPr/>
        </p:nvSpPr>
        <p:spPr>
          <a:xfrm>
            <a:off x="5867280" y="4572000"/>
            <a:ext cx="243864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9F25-4191-46F5-8541-27A0888D9EE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0" y="0"/>
            <a:ext cx="6705000" cy="3885840"/>
            <a:chOff x="0" y="0"/>
            <a:chExt cx="6705000" cy="3885840"/>
          </a:xfrm>
        </p:grpSpPr>
        <p:grpSp>
          <p:nvGrpSpPr>
            <p:cNvPr id="1969" name=""/>
            <p:cNvGrpSpPr/>
            <p:nvPr/>
          </p:nvGrpSpPr>
          <p:grpSpPr>
            <a:xfrm>
              <a:off x="0" y="0"/>
              <a:ext cx="6705000" cy="215640"/>
              <a:chOff x="0" y="0"/>
              <a:chExt cx="6705000" cy="215640"/>
            </a:xfrm>
          </p:grpSpPr>
          <p:sp>
            <p:nvSpPr>
              <p:cNvPr id="1970" name="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new location, radius, and height of cyl are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2" name=""/>
            <p:cNvGrpSpPr/>
            <p:nvPr/>
          </p:nvGrpSpPr>
          <p:grpSpPr>
            <a:xfrm>
              <a:off x="0" y="215640"/>
              <a:ext cx="6705000" cy="215640"/>
              <a:chOff x="0" y="215640"/>
              <a:chExt cx="6705000" cy="215640"/>
            </a:xfrm>
          </p:grpSpPr>
          <p:sp>
            <p:nvSpPr>
              <p:cNvPr id="1973" name="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yl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"/>
            <p:cNvGrpSpPr/>
            <p:nvPr/>
          </p:nvGrpSpPr>
          <p:grpSpPr>
            <a:xfrm>
              <a:off x="0" y="431640"/>
              <a:ext cx="6705000" cy="216000"/>
              <a:chOff x="0" y="431640"/>
              <a:chExt cx="6705000" cy="216000"/>
            </a:xfrm>
          </p:grpSpPr>
          <p:sp>
            <p:nvSpPr>
              <p:cNvPr id="1976" name="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8" name=""/>
            <p:cNvGrpSpPr/>
            <p:nvPr/>
          </p:nvGrpSpPr>
          <p:grpSpPr>
            <a:xfrm>
              <a:off x="0" y="647640"/>
              <a:ext cx="6705000" cy="215640"/>
              <a:chOff x="0" y="647640"/>
              <a:chExt cx="6705000" cy="215640"/>
            </a:xfrm>
          </p:grpSpPr>
          <p:sp>
            <p:nvSpPr>
              <p:cNvPr id="1979" name="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area of cyl is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1" name=""/>
            <p:cNvGrpSpPr/>
            <p:nvPr/>
          </p:nvGrpSpPr>
          <p:grpSpPr>
            <a:xfrm>
              <a:off x="0" y="863640"/>
              <a:ext cx="6705000" cy="215640"/>
              <a:chOff x="0" y="863640"/>
              <a:chExt cx="6705000" cy="215640"/>
            </a:xfrm>
          </p:grpSpPr>
          <p:sp>
            <p:nvSpPr>
              <p:cNvPr id="1982" name="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yl.are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4" name=""/>
            <p:cNvGrpSpPr/>
            <p:nvPr/>
          </p:nvGrpSpPr>
          <p:grpSpPr>
            <a:xfrm>
              <a:off x="0" y="1079280"/>
              <a:ext cx="6705000" cy="215640"/>
              <a:chOff x="0" y="1079280"/>
              <a:chExt cx="6705000" cy="215640"/>
            </a:xfrm>
          </p:grpSpPr>
          <p:sp>
            <p:nvSpPr>
              <p:cNvPr id="1985" name="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"/>
            <p:cNvGrpSpPr/>
            <p:nvPr/>
          </p:nvGrpSpPr>
          <p:grpSpPr>
            <a:xfrm>
              <a:off x="0" y="1295280"/>
              <a:ext cx="6705000" cy="216000"/>
              <a:chOff x="0" y="1295280"/>
              <a:chExt cx="6705000" cy="216000"/>
            </a:xfrm>
          </p:grpSpPr>
          <p:sp>
            <p:nvSpPr>
              <p:cNvPr id="1988" name="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isplay the Cylinder a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"/>
            <p:cNvGrpSpPr/>
            <p:nvPr/>
          </p:nvGrpSpPr>
          <p:grpSpPr>
            <a:xfrm>
              <a:off x="0" y="1511280"/>
              <a:ext cx="6705000" cy="215640"/>
              <a:chOff x="0" y="1511280"/>
              <a:chExt cx="6705000" cy="215640"/>
            </a:xfrm>
          </p:grpSpPr>
          <p:sp>
            <p:nvSpPr>
              <p:cNvPr id="1991" name="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 &amp;p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ef "thinks" it i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3" name=""/>
            <p:cNvGrpSpPr/>
            <p:nvPr/>
          </p:nvGrpSpPr>
          <p:grpSpPr>
            <a:xfrm>
              <a:off x="0" y="1727280"/>
              <a:ext cx="6705000" cy="215640"/>
              <a:chOff x="0" y="1727280"/>
              <a:chExt cx="6705000" cy="215640"/>
            </a:xfrm>
          </p:grpSpPr>
          <p:sp>
            <p:nvSpPr>
              <p:cNvPr id="1994" name="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Cylinder printed as a Point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0" y="1942920"/>
              <a:ext cx="6705000" cy="215640"/>
              <a:chOff x="0" y="1942920"/>
              <a:chExt cx="6705000" cy="215640"/>
            </a:xfrm>
          </p:grpSpPr>
          <p:sp>
            <p:nvSpPr>
              <p:cNvPr id="1997" name="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pRef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"/>
            <p:cNvGrpSpPr/>
            <p:nvPr/>
          </p:nvGrpSpPr>
          <p:grpSpPr>
            <a:xfrm>
              <a:off x="0" y="2158920"/>
              <a:ext cx="6705000" cy="216000"/>
              <a:chOff x="0" y="2158920"/>
              <a:chExt cx="6705000" cy="216000"/>
            </a:xfrm>
          </p:grpSpPr>
          <p:sp>
            <p:nvSpPr>
              <p:cNvPr id="2000" name="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0" y="2374920"/>
              <a:ext cx="6705000" cy="215640"/>
              <a:chOff x="0" y="2374920"/>
              <a:chExt cx="6705000" cy="215640"/>
            </a:xfrm>
          </p:grpSpPr>
          <p:sp>
            <p:nvSpPr>
              <p:cNvPr id="2003" name="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isplay the Cylinder a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5" name=""/>
            <p:cNvGrpSpPr/>
            <p:nvPr/>
          </p:nvGrpSpPr>
          <p:grpSpPr>
            <a:xfrm>
              <a:off x="0" y="2590920"/>
              <a:ext cx="6705000" cy="215640"/>
              <a:chOff x="0" y="2590920"/>
              <a:chExt cx="6705000" cy="215640"/>
            </a:xfrm>
          </p:grpSpPr>
          <p:sp>
            <p:nvSpPr>
              <p:cNvPr id="2006" name="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&amp;circle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ircleRef thinks it i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0" y="2806560"/>
              <a:ext cx="6705000" cy="215640"/>
              <a:chOff x="0" y="2806560"/>
              <a:chExt cx="6705000" cy="215640"/>
            </a:xfrm>
          </p:grpSpPr>
          <p:sp>
            <p:nvSpPr>
              <p:cNvPr id="2009" name="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ylinder printed as a Circle is:\n" &lt;&lt; circle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0" y="3022560"/>
              <a:ext cx="6705000" cy="216000"/>
              <a:chOff x="0" y="3022560"/>
              <a:chExt cx="6705000" cy="216000"/>
            </a:xfrm>
          </p:grpSpPr>
          <p:sp>
            <p:nvSpPr>
              <p:cNvPr id="2012" name="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Area: " &lt;&lt; circleRef.are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0" y="3238560"/>
              <a:ext cx="6705000" cy="215640"/>
              <a:chOff x="0" y="3238560"/>
              <a:chExt cx="6705000" cy="215640"/>
            </a:xfrm>
          </p:grpSpPr>
          <p:sp>
            <p:nvSpPr>
              <p:cNvPr id="2015" name="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0" y="3454560"/>
              <a:ext cx="6705000" cy="215640"/>
              <a:chOff x="0" y="3454560"/>
              <a:chExt cx="6705000" cy="215640"/>
            </a:xfrm>
          </p:grpSpPr>
          <p:sp>
            <p:nvSpPr>
              <p:cNvPr id="2018" name="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0" y="3670200"/>
              <a:ext cx="6705000" cy="215640"/>
              <a:chOff x="0" y="3670200"/>
              <a:chExt cx="6705000" cy="215640"/>
            </a:xfrm>
          </p:grpSpPr>
          <p:sp>
            <p:nvSpPr>
              <p:cNvPr id="2021" name="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3" name=""/>
          <p:cNvSpPr/>
          <p:nvPr/>
        </p:nvSpPr>
        <p:spPr>
          <a:xfrm>
            <a:off x="0" y="40273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962520" y="45720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4860360" y="2057400"/>
            <a:ext cx="36554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6" name=""/>
          <p:cNvGrpSpPr/>
          <p:nvPr/>
        </p:nvGrpSpPr>
        <p:grpSpPr>
          <a:xfrm>
            <a:off x="1828800" y="1752120"/>
            <a:ext cx="6248520" cy="1495440"/>
            <a:chOff x="1828800" y="1752120"/>
            <a:chExt cx="6248520" cy="1495440"/>
          </a:xfrm>
        </p:grpSpPr>
        <p:sp>
          <p:nvSpPr>
            <p:cNvPr id="2027" name=""/>
            <p:cNvSpPr/>
            <p:nvPr/>
          </p:nvSpPr>
          <p:spPr>
            <a:xfrm>
              <a:off x="4648320" y="26668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"thinks"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it prints as o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 flipV="1">
              <a:off x="1828800" y="1752120"/>
              <a:ext cx="2743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9" name=""/>
          <p:cNvGrpSpPr/>
          <p:nvPr/>
        </p:nvGrpSpPr>
        <p:grpSpPr>
          <a:xfrm>
            <a:off x="1904760" y="2819520"/>
            <a:ext cx="6248160" cy="1494720"/>
            <a:chOff x="1904760" y="2819520"/>
            <a:chExt cx="6248160" cy="1494720"/>
          </a:xfrm>
        </p:grpSpPr>
        <p:sp>
          <p:nvSpPr>
            <p:cNvPr id="2030" name=""/>
            <p:cNvSpPr/>
            <p:nvPr/>
          </p:nvSpPr>
          <p:spPr>
            <a:xfrm>
              <a:off x="4724280" y="3733560"/>
              <a:ext cx="342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"thinks"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it prints as o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 flipV="1">
              <a:off x="1904760" y="2819520"/>
              <a:ext cx="274284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2" name=""/>
          <p:cNvSpPr/>
          <p:nvPr/>
        </p:nvSpPr>
        <p:spPr>
          <a:xfrm>
            <a:off x="4114800" y="31240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5F208-DFEA-4683-BA0E-7E2DEA1DE48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5   Multiple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inherits from multiple base-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ourages software reuse, but can create ambigu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3174-1E61-4197-AB98-80B59DF2362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e1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e2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36" name=""/>
          <p:cNvGrpSpPr/>
          <p:nvPr/>
        </p:nvGrpSpPr>
        <p:grpSpPr>
          <a:xfrm>
            <a:off x="0" y="0"/>
            <a:ext cx="6780960" cy="3657240"/>
            <a:chOff x="0" y="0"/>
            <a:chExt cx="6780960" cy="3657240"/>
          </a:xfrm>
        </p:grpSpPr>
        <p:grpSp>
          <p:nvGrpSpPr>
            <p:cNvPr id="2037" name=""/>
            <p:cNvGrpSpPr/>
            <p:nvPr/>
          </p:nvGrpSpPr>
          <p:grpSpPr>
            <a:xfrm>
              <a:off x="0" y="0"/>
              <a:ext cx="6780960" cy="261000"/>
              <a:chOff x="0" y="0"/>
              <a:chExt cx="6780960" cy="261000"/>
            </a:xfrm>
          </p:grpSpPr>
          <p:sp>
            <p:nvSpPr>
              <p:cNvPr id="2038" name=""/>
              <p:cNvSpPr/>
              <p:nvPr/>
            </p:nvSpPr>
            <p:spPr>
              <a:xfrm>
                <a:off x="0" y="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0" y="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bas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0" y="261000"/>
              <a:ext cx="6780960" cy="261000"/>
              <a:chOff x="0" y="261000"/>
              <a:chExt cx="6780960" cy="261000"/>
            </a:xfrm>
          </p:grpSpPr>
          <p:sp>
            <p:nvSpPr>
              <p:cNvPr id="2041" name=""/>
              <p:cNvSpPr/>
              <p:nvPr/>
            </p:nvSpPr>
            <p:spPr>
              <a:xfrm>
                <a:off x="0" y="2610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0" y="2610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Bas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0" y="522360"/>
              <a:ext cx="6780960" cy="261360"/>
              <a:chOff x="0" y="522360"/>
              <a:chExt cx="6780960" cy="261360"/>
            </a:xfrm>
          </p:grpSpPr>
          <p:sp>
            <p:nvSpPr>
              <p:cNvPr id="2044" name=""/>
              <p:cNvSpPr/>
              <p:nvPr/>
            </p:nvSpPr>
            <p:spPr>
              <a:xfrm>
                <a:off x="0" y="52236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0" y="52236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0" y="783720"/>
              <a:ext cx="6780960" cy="261000"/>
              <a:chOff x="0" y="783720"/>
              <a:chExt cx="6780960" cy="261000"/>
            </a:xfrm>
          </p:grpSpPr>
          <p:sp>
            <p:nvSpPr>
              <p:cNvPr id="2047" name=""/>
              <p:cNvSpPr/>
              <p:nvPr/>
            </p:nvSpPr>
            <p:spPr>
              <a:xfrm>
                <a:off x="0" y="78372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0" y="78372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0" y="1045080"/>
              <a:ext cx="6780960" cy="261000"/>
              <a:chOff x="0" y="1045080"/>
              <a:chExt cx="6780960" cy="261000"/>
            </a:xfrm>
          </p:grpSpPr>
          <p:sp>
            <p:nvSpPr>
              <p:cNvPr id="2050" name=""/>
              <p:cNvSpPr/>
              <p:nvPr/>
            </p:nvSpPr>
            <p:spPr>
              <a:xfrm>
                <a:off x="0" y="1045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0" y="1045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0" y="1306080"/>
              <a:ext cx="6780960" cy="261000"/>
              <a:chOff x="0" y="1306080"/>
              <a:chExt cx="6780960" cy="261000"/>
            </a:xfrm>
          </p:grpSpPr>
          <p:sp>
            <p:nvSpPr>
              <p:cNvPr id="2053" name=""/>
              <p:cNvSpPr/>
              <p:nvPr/>
            </p:nvSpPr>
            <p:spPr>
              <a:xfrm>
                <a:off x="0" y="1306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0" y="1306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1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"/>
            <p:cNvGrpSpPr/>
            <p:nvPr/>
          </p:nvGrpSpPr>
          <p:grpSpPr>
            <a:xfrm>
              <a:off x="0" y="1567440"/>
              <a:ext cx="6780960" cy="261360"/>
              <a:chOff x="0" y="1567440"/>
              <a:chExt cx="6780960" cy="261360"/>
            </a:xfrm>
          </p:grpSpPr>
          <p:sp>
            <p:nvSpPr>
              <p:cNvPr id="2056" name=""/>
              <p:cNvSpPr/>
              <p:nvPr/>
            </p:nvSpPr>
            <p:spPr>
              <a:xfrm>
                <a:off x="0" y="156744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0" y="156744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0" y="1828800"/>
              <a:ext cx="6780960" cy="261000"/>
              <a:chOff x="0" y="1828800"/>
              <a:chExt cx="6780960" cy="261000"/>
            </a:xfrm>
          </p:grpSpPr>
          <p:sp>
            <p:nvSpPr>
              <p:cNvPr id="2059" name=""/>
              <p:cNvSpPr/>
              <p:nvPr/>
            </p:nvSpPr>
            <p:spPr>
              <a:xfrm>
                <a:off x="0" y="18288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0" y="18288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1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) { value =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1" name=""/>
            <p:cNvGrpSpPr/>
            <p:nvPr/>
          </p:nvGrpSpPr>
          <p:grpSpPr>
            <a:xfrm>
              <a:off x="0" y="2090160"/>
              <a:ext cx="6780960" cy="261000"/>
              <a:chOff x="0" y="2090160"/>
              <a:chExt cx="6780960" cy="261000"/>
            </a:xfrm>
          </p:grpSpPr>
          <p:sp>
            <p:nvSpPr>
              <p:cNvPr id="2062" name=""/>
              <p:cNvSpPr/>
              <p:nvPr/>
            </p:nvSpPr>
            <p:spPr>
              <a:xfrm>
                <a:off x="0" y="2090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0" y="2090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Dat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u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4" name=""/>
            <p:cNvGrpSpPr/>
            <p:nvPr/>
          </p:nvGrpSpPr>
          <p:grpSpPr>
            <a:xfrm>
              <a:off x="0" y="2351160"/>
              <a:ext cx="6780960" cy="261000"/>
              <a:chOff x="0" y="2351160"/>
              <a:chExt cx="6780960" cy="261000"/>
            </a:xfrm>
          </p:grpSpPr>
          <p:sp>
            <p:nvSpPr>
              <p:cNvPr id="2065" name=""/>
              <p:cNvSpPr/>
              <p:nvPr/>
            </p:nvSpPr>
            <p:spPr>
              <a:xfrm>
                <a:off x="0" y="2351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0" y="2351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7" name=""/>
            <p:cNvGrpSpPr/>
            <p:nvPr/>
          </p:nvGrpSpPr>
          <p:grpSpPr>
            <a:xfrm>
              <a:off x="0" y="2612520"/>
              <a:ext cx="6780960" cy="261360"/>
              <a:chOff x="0" y="2612520"/>
              <a:chExt cx="6780960" cy="261360"/>
            </a:xfrm>
          </p:grpSpPr>
          <p:sp>
            <p:nvSpPr>
              <p:cNvPr id="2068" name=""/>
              <p:cNvSpPr/>
              <p:nvPr/>
            </p:nvSpPr>
            <p:spPr>
              <a:xfrm>
                <a:off x="0" y="261252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0" y="261252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u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inherited by derived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0" name=""/>
            <p:cNvGrpSpPr/>
            <p:nvPr/>
          </p:nvGrpSpPr>
          <p:grpSpPr>
            <a:xfrm>
              <a:off x="0" y="2873880"/>
              <a:ext cx="6780960" cy="261000"/>
              <a:chOff x="0" y="2873880"/>
              <a:chExt cx="6780960" cy="261000"/>
            </a:xfrm>
          </p:grpSpPr>
          <p:sp>
            <p:nvSpPr>
              <p:cNvPr id="2071" name=""/>
              <p:cNvSpPr/>
              <p:nvPr/>
            </p:nvSpPr>
            <p:spPr>
              <a:xfrm>
                <a:off x="0" y="28738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0" y="28738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3" name=""/>
            <p:cNvGrpSpPr/>
            <p:nvPr/>
          </p:nvGrpSpPr>
          <p:grpSpPr>
            <a:xfrm>
              <a:off x="0" y="3135240"/>
              <a:ext cx="6780960" cy="261000"/>
              <a:chOff x="0" y="3135240"/>
              <a:chExt cx="6780960" cy="261000"/>
            </a:xfrm>
          </p:grpSpPr>
          <p:sp>
            <p:nvSpPr>
              <p:cNvPr id="2074" name=""/>
              <p:cNvSpPr/>
              <p:nvPr/>
            </p:nvSpPr>
            <p:spPr>
              <a:xfrm>
                <a:off x="0" y="3135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0" y="3135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0" y="3396240"/>
              <a:ext cx="6780960" cy="261000"/>
              <a:chOff x="0" y="3396240"/>
              <a:chExt cx="6780960" cy="261000"/>
            </a:xfrm>
          </p:grpSpPr>
          <p:sp>
            <p:nvSpPr>
              <p:cNvPr id="2077" name=""/>
              <p:cNvSpPr/>
              <p:nvPr/>
            </p:nvSpPr>
            <p:spPr>
              <a:xfrm>
                <a:off x="0" y="3396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0" y="3396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9" name=""/>
          <p:cNvGrpSpPr/>
          <p:nvPr/>
        </p:nvGrpSpPr>
        <p:grpSpPr>
          <a:xfrm>
            <a:off x="0" y="3657600"/>
            <a:ext cx="6780960" cy="3200040"/>
            <a:chOff x="0" y="3657600"/>
            <a:chExt cx="6780960" cy="3200040"/>
          </a:xfrm>
        </p:grpSpPr>
        <p:grpSp>
          <p:nvGrpSpPr>
            <p:cNvPr id="2080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2081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bas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3" name=""/>
            <p:cNvGrpSpPr/>
            <p:nvPr/>
          </p:nvGrpSpPr>
          <p:grpSpPr>
            <a:xfrm>
              <a:off x="0" y="3885840"/>
              <a:ext cx="6780960" cy="228240"/>
              <a:chOff x="0" y="3885840"/>
              <a:chExt cx="6780960" cy="228240"/>
            </a:xfrm>
          </p:grpSpPr>
          <p:sp>
            <p:nvSpPr>
              <p:cNvPr id="2084" name=""/>
              <p:cNvSpPr/>
              <p:nvPr/>
            </p:nvSpPr>
            <p:spPr>
              <a:xfrm>
                <a:off x="0" y="38858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0" y="38858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Bas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6" name=""/>
            <p:cNvGrpSpPr/>
            <p:nvPr/>
          </p:nvGrpSpPr>
          <p:grpSpPr>
            <a:xfrm>
              <a:off x="0" y="4114440"/>
              <a:ext cx="6780960" cy="228600"/>
              <a:chOff x="0" y="4114440"/>
              <a:chExt cx="6780960" cy="228600"/>
            </a:xfrm>
          </p:grpSpPr>
          <p:sp>
            <p:nvSpPr>
              <p:cNvPr id="2087" name=""/>
              <p:cNvSpPr/>
              <p:nvPr/>
            </p:nvSpPr>
            <p:spPr>
              <a:xfrm>
                <a:off x="0" y="41144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0" y="41144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9" name="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2090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093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096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2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0" y="5029200"/>
              <a:ext cx="6780960" cy="228600"/>
              <a:chOff x="0" y="5029200"/>
              <a:chExt cx="6780960" cy="228600"/>
            </a:xfrm>
          </p:grpSpPr>
          <p:sp>
            <p:nvSpPr>
              <p:cNvPr id="2099" name=""/>
              <p:cNvSpPr/>
              <p:nvPr/>
            </p:nvSpPr>
            <p:spPr>
              <a:xfrm>
                <a:off x="0" y="5029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0" y="5029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1" name="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2102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2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 ) { letter = c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4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2105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Dat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tte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7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2108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0" name=""/>
            <p:cNvGrpSpPr/>
            <p:nvPr/>
          </p:nvGrpSpPr>
          <p:grpSpPr>
            <a:xfrm>
              <a:off x="0" y="5943600"/>
              <a:ext cx="6780960" cy="228600"/>
              <a:chOff x="0" y="5943600"/>
              <a:chExt cx="6780960" cy="228600"/>
            </a:xfrm>
          </p:grpSpPr>
          <p:sp>
            <p:nvSpPr>
              <p:cNvPr id="2111" name=""/>
              <p:cNvSpPr/>
              <p:nvPr/>
            </p:nvSpPr>
            <p:spPr>
              <a:xfrm>
                <a:off x="0" y="5943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0" y="5943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tte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inherited by derived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2114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6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2117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9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2120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4E6C-422F-40FD-946B-BABEFABCF02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rive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2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124" name="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2125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derived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7" name="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2128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Derived which inher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0" name="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2131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ultiple base classes (Base1 and Base2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3" name="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2134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6" name="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2137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9" name="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2140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2" name="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2143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5" name="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2146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8" name="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2149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1" name="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2152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4" name="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2155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as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2158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as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0" name="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2161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3" name="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2164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ultiple inherita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6" name="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2167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2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2170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2173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2176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2179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erive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1" name="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2182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Real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2185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7" name="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2188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0" name="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2191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a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rived class's privat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3" name="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2194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6" name="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2197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2200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2" name=""/>
          <p:cNvGrpSpPr/>
          <p:nvPr/>
        </p:nvGrpSpPr>
        <p:grpSpPr>
          <a:xfrm>
            <a:off x="4267080" y="2209680"/>
            <a:ext cx="3505320" cy="1447920"/>
            <a:chOff x="4267080" y="2209680"/>
            <a:chExt cx="3505320" cy="1447920"/>
          </a:xfrm>
        </p:grpSpPr>
        <p:sp>
          <p:nvSpPr>
            <p:cNvPr id="2203" name=""/>
            <p:cNvSpPr/>
            <p:nvPr/>
          </p:nvSpPr>
          <p:spPr>
            <a:xfrm>
              <a:off x="5334120" y="22096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riv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4267080" y="251460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ABE8-7245-4797-B718-16DBCAA375B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0" y="0"/>
            <a:ext cx="6780960" cy="4876560"/>
            <a:chOff x="0" y="0"/>
            <a:chExt cx="6780960" cy="4876560"/>
          </a:xfrm>
        </p:grpSpPr>
        <p:grpSp>
          <p:nvGrpSpPr>
            <p:cNvPr id="2207" name=""/>
            <p:cNvGrpSpPr/>
            <p:nvPr/>
          </p:nvGrpSpPr>
          <p:grpSpPr>
            <a:xfrm>
              <a:off x="0" y="0"/>
              <a:ext cx="6780960" cy="221400"/>
              <a:chOff x="0" y="0"/>
              <a:chExt cx="6780960" cy="221400"/>
            </a:xfrm>
          </p:grpSpPr>
          <p:sp>
            <p:nvSpPr>
              <p:cNvPr id="2208" name=""/>
              <p:cNvSpPr/>
              <p:nvPr/>
            </p:nvSpPr>
            <p:spPr>
              <a:xfrm>
                <a:off x="0" y="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0" y="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derived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0" name=""/>
            <p:cNvGrpSpPr/>
            <p:nvPr/>
          </p:nvGrpSpPr>
          <p:grpSpPr>
            <a:xfrm>
              <a:off x="0" y="221400"/>
              <a:ext cx="6780960" cy="221400"/>
              <a:chOff x="0" y="221400"/>
              <a:chExt cx="6780960" cy="221400"/>
            </a:xfrm>
          </p:grpSpPr>
          <p:sp>
            <p:nvSpPr>
              <p:cNvPr id="2211" name=""/>
              <p:cNvSpPr/>
              <p:nvPr/>
            </p:nvSpPr>
            <p:spPr>
              <a:xfrm>
                <a:off x="0" y="221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0" y="221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Deri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3" name=""/>
            <p:cNvGrpSpPr/>
            <p:nvPr/>
          </p:nvGrpSpPr>
          <p:grpSpPr>
            <a:xfrm>
              <a:off x="0" y="443160"/>
              <a:ext cx="6780960" cy="221760"/>
              <a:chOff x="0" y="443160"/>
              <a:chExt cx="6780960" cy="221760"/>
            </a:xfrm>
          </p:grpSpPr>
          <p:sp>
            <p:nvSpPr>
              <p:cNvPr id="2214" name=""/>
              <p:cNvSpPr/>
              <p:nvPr/>
            </p:nvSpPr>
            <p:spPr>
              <a:xfrm>
                <a:off x="0" y="4431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0" y="4431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erived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6" name=""/>
            <p:cNvGrpSpPr/>
            <p:nvPr/>
          </p:nvGrpSpPr>
          <p:grpSpPr>
            <a:xfrm>
              <a:off x="0" y="664920"/>
              <a:ext cx="6780960" cy="221400"/>
              <a:chOff x="0" y="664920"/>
              <a:chExt cx="6780960" cy="221400"/>
            </a:xfrm>
          </p:grpSpPr>
          <p:sp>
            <p:nvSpPr>
              <p:cNvPr id="2217" name=""/>
              <p:cNvSpPr/>
              <p:nvPr/>
            </p:nvSpPr>
            <p:spPr>
              <a:xfrm>
                <a:off x="0" y="6649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0" y="6649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"/>
            <p:cNvGrpSpPr/>
            <p:nvPr/>
          </p:nvGrpSpPr>
          <p:grpSpPr>
            <a:xfrm>
              <a:off x="0" y="886680"/>
              <a:ext cx="6780960" cy="221400"/>
              <a:chOff x="0" y="886680"/>
              <a:chExt cx="6780960" cy="221400"/>
            </a:xfrm>
          </p:grpSpPr>
          <p:sp>
            <p:nvSpPr>
              <p:cNvPr id="2220" name=""/>
              <p:cNvSpPr/>
              <p:nvPr/>
            </p:nvSpPr>
            <p:spPr>
              <a:xfrm>
                <a:off x="0" y="8866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0" y="8866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Derived calls constructors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"/>
            <p:cNvGrpSpPr/>
            <p:nvPr/>
          </p:nvGrpSpPr>
          <p:grpSpPr>
            <a:xfrm>
              <a:off x="0" y="1108080"/>
              <a:ext cx="6780960" cy="221400"/>
              <a:chOff x="0" y="1108080"/>
              <a:chExt cx="6780960" cy="221400"/>
            </a:xfrm>
          </p:grpSpPr>
          <p:sp>
            <p:nvSpPr>
              <p:cNvPr id="2223" name=""/>
              <p:cNvSpPr/>
              <p:nvPr/>
            </p:nvSpPr>
            <p:spPr>
              <a:xfrm>
                <a:off x="0" y="1108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0" y="1108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lass Base1 and class Base2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5" name=""/>
            <p:cNvGrpSpPr/>
            <p:nvPr/>
          </p:nvGrpSpPr>
          <p:grpSpPr>
            <a:xfrm>
              <a:off x="0" y="1329840"/>
              <a:ext cx="6780960" cy="221760"/>
              <a:chOff x="0" y="1329840"/>
              <a:chExt cx="6780960" cy="221760"/>
            </a:xfrm>
          </p:grpSpPr>
          <p:sp>
            <p:nvSpPr>
              <p:cNvPr id="2226" name=""/>
              <p:cNvSpPr/>
              <p:nvPr/>
            </p:nvSpPr>
            <p:spPr>
              <a:xfrm>
                <a:off x="0" y="13298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0" y="13298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e member initializers to call base-class construc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8" name=""/>
            <p:cNvGrpSpPr/>
            <p:nvPr/>
          </p:nvGrpSpPr>
          <p:grpSpPr>
            <a:xfrm>
              <a:off x="0" y="1551600"/>
              <a:ext cx="6780960" cy="221400"/>
              <a:chOff x="0" y="1551600"/>
              <a:chExt cx="6780960" cy="221400"/>
            </a:xfrm>
          </p:grpSpPr>
          <p:sp>
            <p:nvSpPr>
              <p:cNvPr id="2229" name=""/>
              <p:cNvSpPr/>
              <p:nvPr/>
            </p:nvSpPr>
            <p:spPr>
              <a:xfrm>
                <a:off x="0" y="15516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0" y="15516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erived::Derive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1" name=""/>
            <p:cNvGrpSpPr/>
            <p:nvPr/>
          </p:nvGrpSpPr>
          <p:grpSpPr>
            <a:xfrm>
              <a:off x="0" y="1773360"/>
              <a:ext cx="6780960" cy="221400"/>
              <a:chOff x="0" y="1773360"/>
              <a:chExt cx="6780960" cy="221400"/>
            </a:xfrm>
          </p:grpSpPr>
          <p:sp>
            <p:nvSpPr>
              <p:cNvPr id="2232" name=""/>
              <p:cNvSpPr/>
              <p:nvPr/>
            </p:nvSpPr>
            <p:spPr>
              <a:xfrm>
                <a:off x="0" y="17733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0" y="17733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Base1( i ), Base2( c ), real ( f ) { }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4" name=""/>
            <p:cNvGrpSpPr/>
            <p:nvPr/>
          </p:nvGrpSpPr>
          <p:grpSpPr>
            <a:xfrm>
              <a:off x="0" y="1995120"/>
              <a:ext cx="6780960" cy="221400"/>
              <a:chOff x="0" y="1995120"/>
              <a:chExt cx="6780960" cy="221400"/>
            </a:xfrm>
          </p:grpSpPr>
          <p:sp>
            <p:nvSpPr>
              <p:cNvPr id="2235" name=""/>
              <p:cNvSpPr/>
              <p:nvPr/>
            </p:nvSpPr>
            <p:spPr>
              <a:xfrm>
                <a:off x="0" y="1995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0" y="1995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7" name=""/>
            <p:cNvGrpSpPr/>
            <p:nvPr/>
          </p:nvGrpSpPr>
          <p:grpSpPr>
            <a:xfrm>
              <a:off x="0" y="2216520"/>
              <a:ext cx="6780960" cy="221760"/>
              <a:chOff x="0" y="2216520"/>
              <a:chExt cx="6780960" cy="221760"/>
            </a:xfrm>
          </p:grpSpPr>
          <p:sp>
            <p:nvSpPr>
              <p:cNvPr id="2238" name=""/>
              <p:cNvSpPr/>
              <p:nvPr/>
            </p:nvSpPr>
            <p:spPr>
              <a:xfrm>
                <a:off x="0" y="2216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0" y="2216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the value of re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0" name=""/>
            <p:cNvGrpSpPr/>
            <p:nvPr/>
          </p:nvGrpSpPr>
          <p:grpSpPr>
            <a:xfrm>
              <a:off x="0" y="2438640"/>
              <a:ext cx="6780960" cy="221400"/>
              <a:chOff x="0" y="2438640"/>
              <a:chExt cx="6780960" cy="221400"/>
            </a:xfrm>
          </p:grpSpPr>
          <p:sp>
            <p:nvSpPr>
              <p:cNvPr id="2241" name=""/>
              <p:cNvSpPr/>
              <p:nvPr/>
            </p:nvSpPr>
            <p:spPr>
              <a:xfrm>
                <a:off x="0" y="2438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0" y="2438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::getReal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a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3" name=""/>
            <p:cNvGrpSpPr/>
            <p:nvPr/>
          </p:nvGrpSpPr>
          <p:grpSpPr>
            <a:xfrm>
              <a:off x="0" y="2660040"/>
              <a:ext cx="6780960" cy="221400"/>
              <a:chOff x="0" y="2660040"/>
              <a:chExt cx="6780960" cy="221400"/>
            </a:xfrm>
          </p:grpSpPr>
          <p:sp>
            <p:nvSpPr>
              <p:cNvPr id="2244" name=""/>
              <p:cNvSpPr/>
              <p:nvPr/>
            </p:nvSpPr>
            <p:spPr>
              <a:xfrm>
                <a:off x="0" y="2660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0" y="2660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6" name=""/>
            <p:cNvGrpSpPr/>
            <p:nvPr/>
          </p:nvGrpSpPr>
          <p:grpSpPr>
            <a:xfrm>
              <a:off x="0" y="2881800"/>
              <a:ext cx="6780960" cy="221400"/>
              <a:chOff x="0" y="2881800"/>
              <a:chExt cx="6780960" cy="221400"/>
            </a:xfrm>
          </p:grpSpPr>
          <p:sp>
            <p:nvSpPr>
              <p:cNvPr id="2247" name=""/>
              <p:cNvSpPr/>
              <p:nvPr/>
            </p:nvSpPr>
            <p:spPr>
              <a:xfrm>
                <a:off x="0" y="2881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0" y="2881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all the data members of Deri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9" name=""/>
            <p:cNvGrpSpPr/>
            <p:nvPr/>
          </p:nvGrpSpPr>
          <p:grpSpPr>
            <a:xfrm>
              <a:off x="0" y="3103560"/>
              <a:ext cx="6780960" cy="221760"/>
              <a:chOff x="0" y="3103560"/>
              <a:chExt cx="6780960" cy="221760"/>
            </a:xfrm>
          </p:grpSpPr>
          <p:sp>
            <p:nvSpPr>
              <p:cNvPr id="2250" name=""/>
              <p:cNvSpPr/>
              <p:nvPr/>
            </p:nvSpPr>
            <p:spPr>
              <a:xfrm>
                <a:off x="0" y="3103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0" y="3103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 &amp;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2" name=""/>
            <p:cNvGrpSpPr/>
            <p:nvPr/>
          </p:nvGrpSpPr>
          <p:grpSpPr>
            <a:xfrm>
              <a:off x="0" y="3325320"/>
              <a:ext cx="6780960" cy="221400"/>
              <a:chOff x="0" y="3325320"/>
              <a:chExt cx="6780960" cy="221400"/>
            </a:xfrm>
          </p:grpSpPr>
          <p:sp>
            <p:nvSpPr>
              <p:cNvPr id="2253" name=""/>
              <p:cNvSpPr/>
              <p:nvPr/>
            </p:nvSpPr>
            <p:spPr>
              <a:xfrm>
                <a:off x="0" y="3325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0" y="3325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5" name=""/>
            <p:cNvGrpSpPr/>
            <p:nvPr/>
          </p:nvGrpSpPr>
          <p:grpSpPr>
            <a:xfrm>
              <a:off x="0" y="3546720"/>
              <a:ext cx="6780960" cy="221400"/>
              <a:chOff x="0" y="3546720"/>
              <a:chExt cx="6780960" cy="221400"/>
            </a:xfrm>
          </p:grpSpPr>
          <p:sp>
            <p:nvSpPr>
              <p:cNvPr id="2256" name=""/>
              <p:cNvSpPr/>
              <p:nvPr/>
            </p:nvSpPr>
            <p:spPr>
              <a:xfrm>
                <a:off x="0" y="3546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0" y="3546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"    Integer: " &lt;&lt; d.valu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"/>
            <p:cNvGrpSpPr/>
            <p:nvPr/>
          </p:nvGrpSpPr>
          <p:grpSpPr>
            <a:xfrm>
              <a:off x="0" y="3768480"/>
              <a:ext cx="6780960" cy="221400"/>
              <a:chOff x="0" y="3768480"/>
              <a:chExt cx="6780960" cy="221400"/>
            </a:xfrm>
          </p:grpSpPr>
          <p:sp>
            <p:nvSpPr>
              <p:cNvPr id="2259" name=""/>
              <p:cNvSpPr/>
              <p:nvPr/>
            </p:nvSpPr>
            <p:spPr>
              <a:xfrm>
                <a:off x="0" y="3768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0" y="3768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\n  Character: " &lt;&lt; d.le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0" y="3990240"/>
              <a:ext cx="6780960" cy="221400"/>
              <a:chOff x="0" y="3990240"/>
              <a:chExt cx="6780960" cy="221400"/>
            </a:xfrm>
          </p:grpSpPr>
          <p:sp>
            <p:nvSpPr>
              <p:cNvPr id="2262" name=""/>
              <p:cNvSpPr/>
              <p:nvPr/>
            </p:nvSpPr>
            <p:spPr>
              <a:xfrm>
                <a:off x="0" y="39902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0" y="39902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\nReal number: " &lt;&lt; d.rea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4" name=""/>
            <p:cNvGrpSpPr/>
            <p:nvPr/>
          </p:nvGrpSpPr>
          <p:grpSpPr>
            <a:xfrm>
              <a:off x="0" y="4212000"/>
              <a:ext cx="6780960" cy="221760"/>
              <a:chOff x="0" y="4212000"/>
              <a:chExt cx="6780960" cy="221760"/>
            </a:xfrm>
          </p:grpSpPr>
          <p:sp>
            <p:nvSpPr>
              <p:cNvPr id="2265" name=""/>
              <p:cNvSpPr/>
              <p:nvPr/>
            </p:nvSpPr>
            <p:spPr>
              <a:xfrm>
                <a:off x="0" y="4212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0" y="4212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0" y="4433760"/>
              <a:ext cx="6780960" cy="221400"/>
              <a:chOff x="0" y="4433760"/>
              <a:chExt cx="6780960" cy="221400"/>
            </a:xfrm>
          </p:grpSpPr>
          <p:sp>
            <p:nvSpPr>
              <p:cNvPr id="2268" name=""/>
              <p:cNvSpPr/>
              <p:nvPr/>
            </p:nvSpPr>
            <p:spPr>
              <a:xfrm>
                <a:off x="0" y="4433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0" y="4433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0" y="4655160"/>
              <a:ext cx="6780960" cy="221400"/>
              <a:chOff x="0" y="4655160"/>
              <a:chExt cx="6780960" cy="221400"/>
            </a:xfrm>
          </p:grpSpPr>
          <p:sp>
            <p:nvSpPr>
              <p:cNvPr id="2271" name=""/>
              <p:cNvSpPr/>
              <p:nvPr/>
            </p:nvSpPr>
            <p:spPr>
              <a:xfrm>
                <a:off x="0" y="46551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2" name=""/>
              <p:cNvGrpSpPr/>
              <p:nvPr/>
            </p:nvGrpSpPr>
            <p:grpSpPr>
              <a:xfrm>
                <a:off x="0" y="4655160"/>
                <a:ext cx="6780600" cy="221400"/>
                <a:chOff x="0" y="4655160"/>
                <a:chExt cx="6780600" cy="221400"/>
              </a:xfrm>
            </p:grpSpPr>
            <p:sp>
              <p:nvSpPr>
                <p:cNvPr id="2273" name=""/>
                <p:cNvSpPr/>
                <p:nvPr/>
              </p:nvSpPr>
              <p:spPr>
                <a:xfrm>
                  <a:off x="0" y="4655160"/>
                  <a:ext cx="678060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0" y="4655160"/>
                  <a:ext cx="6780600" cy="22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5" name=""/>
          <p:cNvGrpSpPr/>
          <p:nvPr/>
        </p:nvGrpSpPr>
        <p:grpSpPr>
          <a:xfrm>
            <a:off x="0" y="4876920"/>
            <a:ext cx="6780960" cy="1981080"/>
            <a:chOff x="0" y="4876920"/>
            <a:chExt cx="6780960" cy="1981080"/>
          </a:xfrm>
        </p:grpSpPr>
        <p:grpSp>
          <p:nvGrpSpPr>
            <p:cNvPr id="2276" name=""/>
            <p:cNvGrpSpPr/>
            <p:nvPr/>
          </p:nvGrpSpPr>
          <p:grpSpPr>
            <a:xfrm>
              <a:off x="0" y="4876920"/>
              <a:ext cx="6780960" cy="219960"/>
              <a:chOff x="0" y="4876920"/>
              <a:chExt cx="6780960" cy="219960"/>
            </a:xfrm>
          </p:grpSpPr>
          <p:sp>
            <p:nvSpPr>
              <p:cNvPr id="2277" name=""/>
              <p:cNvSpPr/>
              <p:nvPr/>
            </p:nvSpPr>
            <p:spPr>
              <a:xfrm>
                <a:off x="0" y="4876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0" y="4876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fig09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9" name=""/>
            <p:cNvGrpSpPr/>
            <p:nvPr/>
          </p:nvGrpSpPr>
          <p:grpSpPr>
            <a:xfrm>
              <a:off x="0" y="5096880"/>
              <a:ext cx="6780960" cy="219960"/>
              <a:chOff x="0" y="5096880"/>
              <a:chExt cx="6780960" cy="219960"/>
            </a:xfrm>
          </p:grpSpPr>
          <p:sp>
            <p:nvSpPr>
              <p:cNvPr id="2280" name=""/>
              <p:cNvSpPr/>
              <p:nvPr/>
            </p:nvSpPr>
            <p:spPr>
              <a:xfrm>
                <a:off x="0" y="50968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0" y="50968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multiple inheritance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0" y="5316840"/>
              <a:ext cx="6780960" cy="219960"/>
              <a:chOff x="0" y="5316840"/>
              <a:chExt cx="6780960" cy="219960"/>
            </a:xfrm>
          </p:grpSpPr>
          <p:sp>
            <p:nvSpPr>
              <p:cNvPr id="2283" name=""/>
              <p:cNvSpPr/>
              <p:nvPr/>
            </p:nvSpPr>
            <p:spPr>
              <a:xfrm>
                <a:off x="0" y="53168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0" y="53168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5" name=""/>
            <p:cNvGrpSpPr/>
            <p:nvPr/>
          </p:nvGrpSpPr>
          <p:grpSpPr>
            <a:xfrm>
              <a:off x="0" y="5537160"/>
              <a:ext cx="6780960" cy="219960"/>
              <a:chOff x="0" y="5537160"/>
              <a:chExt cx="6780960" cy="219960"/>
            </a:xfrm>
          </p:grpSpPr>
          <p:sp>
            <p:nvSpPr>
              <p:cNvPr id="2286" name=""/>
              <p:cNvSpPr/>
              <p:nvPr/>
            </p:nvSpPr>
            <p:spPr>
              <a:xfrm>
                <a:off x="0" y="55371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0" y="55371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"/>
            <p:cNvGrpSpPr/>
            <p:nvPr/>
          </p:nvGrpSpPr>
          <p:grpSpPr>
            <a:xfrm>
              <a:off x="0" y="5757480"/>
              <a:ext cx="6780960" cy="219960"/>
              <a:chOff x="0" y="5757480"/>
              <a:chExt cx="6780960" cy="219960"/>
            </a:xfrm>
          </p:grpSpPr>
          <p:sp>
            <p:nvSpPr>
              <p:cNvPr id="2289" name=""/>
              <p:cNvSpPr/>
              <p:nvPr/>
            </p:nvSpPr>
            <p:spPr>
              <a:xfrm>
                <a:off x="0" y="5757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0" y="5757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"/>
            <p:cNvGrpSpPr/>
            <p:nvPr/>
          </p:nvGrpSpPr>
          <p:grpSpPr>
            <a:xfrm>
              <a:off x="0" y="5977440"/>
              <a:ext cx="6780960" cy="219960"/>
              <a:chOff x="0" y="5977440"/>
              <a:chExt cx="6780960" cy="219960"/>
            </a:xfrm>
          </p:grpSpPr>
          <p:sp>
            <p:nvSpPr>
              <p:cNvPr id="2292" name=""/>
              <p:cNvSpPr/>
              <p:nvPr/>
            </p:nvSpPr>
            <p:spPr>
              <a:xfrm>
                <a:off x="0" y="59774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0" y="59774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4" name=""/>
            <p:cNvGrpSpPr/>
            <p:nvPr/>
          </p:nvGrpSpPr>
          <p:grpSpPr>
            <a:xfrm>
              <a:off x="0" y="6197400"/>
              <a:ext cx="6780960" cy="219960"/>
              <a:chOff x="0" y="6197400"/>
              <a:chExt cx="6780960" cy="219960"/>
            </a:xfrm>
          </p:grpSpPr>
          <p:sp>
            <p:nvSpPr>
              <p:cNvPr id="2295" name=""/>
              <p:cNvSpPr/>
              <p:nvPr/>
            </p:nvSpPr>
            <p:spPr>
              <a:xfrm>
                <a:off x="0" y="61974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0" y="61974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7" name=""/>
            <p:cNvGrpSpPr/>
            <p:nvPr/>
          </p:nvGrpSpPr>
          <p:grpSpPr>
            <a:xfrm>
              <a:off x="0" y="6417720"/>
              <a:ext cx="6780960" cy="219960"/>
              <a:chOff x="0" y="6417720"/>
              <a:chExt cx="6780960" cy="219960"/>
            </a:xfrm>
          </p:grpSpPr>
          <p:sp>
            <p:nvSpPr>
              <p:cNvPr id="2298" name=""/>
              <p:cNvSpPr/>
              <p:nvPr/>
            </p:nvSpPr>
            <p:spPr>
              <a:xfrm>
                <a:off x="0" y="64177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0" y="64177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as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0" name=""/>
            <p:cNvGrpSpPr/>
            <p:nvPr/>
          </p:nvGrpSpPr>
          <p:grpSpPr>
            <a:xfrm>
              <a:off x="0" y="6638040"/>
              <a:ext cx="6780960" cy="219960"/>
              <a:chOff x="0" y="6638040"/>
              <a:chExt cx="6780960" cy="219960"/>
            </a:xfrm>
          </p:grpSpPr>
          <p:sp>
            <p:nvSpPr>
              <p:cNvPr id="2301" name=""/>
              <p:cNvSpPr/>
              <p:nvPr/>
            </p:nvSpPr>
            <p:spPr>
              <a:xfrm>
                <a:off x="0" y="6638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0" y="6638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as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B0461-81A9-493A-BD5E-ADE204CEBEC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reat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0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305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2306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erived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8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2309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2312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2315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2318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1 b1( 10 ), *base1Ptr =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Base1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2321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2 b2( 'Z' ), *base2Ptr = 0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Base2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2324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erived d( 7, 'A', 3.5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Derived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2327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2330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data members of base class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2333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Object b1 contains integer " &lt;&lt; b1.getData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2336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Object b2 contains character " &lt;&lt; b2.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2339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Object d contains:\n" &lt;&lt; d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2342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2345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data members of derived class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2348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cope resolution operator resolves getData ambig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2351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a members of Derived can be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2354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accessed individually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6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2357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Integer: " &lt;&lt; d.Base1::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2360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Character: " &lt;&lt; d.Base2::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2363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Real number: " &lt;&lt; d.getReal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2366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2369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erived can be treated as an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2372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object of either base clas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2375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2378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reat Derived as a Base1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2381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1Ptr = &amp;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2384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ase1Ptr-&gt;getData()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2387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base1Ptr-&gt;getDat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2390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2393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reat Derived as a Base2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2396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2Ptr = &amp;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98" name=""/>
          <p:cNvGrpSpPr/>
          <p:nvPr/>
        </p:nvGrpSpPr>
        <p:grpSpPr>
          <a:xfrm>
            <a:off x="1980720" y="4191120"/>
            <a:ext cx="5715360" cy="1447200"/>
            <a:chOff x="1980720" y="4191120"/>
            <a:chExt cx="5715360" cy="1447200"/>
          </a:xfrm>
        </p:grpSpPr>
        <p:sp>
          <p:nvSpPr>
            <p:cNvPr id="2399" name=""/>
            <p:cNvSpPr/>
            <p:nvPr/>
          </p:nvSpPr>
          <p:spPr>
            <a:xfrm>
              <a:off x="5257440" y="4191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1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1980720" y="4495680"/>
              <a:ext cx="327636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1" name=""/>
          <p:cNvGrpSpPr/>
          <p:nvPr/>
        </p:nvGrpSpPr>
        <p:grpSpPr>
          <a:xfrm>
            <a:off x="2057400" y="5562720"/>
            <a:ext cx="5486400" cy="1143000"/>
            <a:chOff x="2057400" y="5562720"/>
            <a:chExt cx="5486400" cy="1143000"/>
          </a:xfrm>
        </p:grpSpPr>
        <p:sp>
          <p:nvSpPr>
            <p:cNvPr id="2402" name=""/>
            <p:cNvSpPr/>
            <p:nvPr/>
          </p:nvSpPr>
          <p:spPr>
            <a:xfrm>
              <a:off x="5105160" y="556272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>
              <a:off x="2057400" y="5867280"/>
              <a:ext cx="30477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5791320" y="2514600"/>
            <a:ext cx="304776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b1 contains integer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b2 contains character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d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l number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5181480" y="2819520"/>
            <a:ext cx="3886200" cy="1292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members of Derived can be accessed individual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l number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421800" y="5126040"/>
            <a:ext cx="53928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rived can be treated as an object of either base cl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863600" y="594360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se1Ptr-&gt;getData() yield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D9F8-A546-4D23-A718-150CDC936EA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0" y="0"/>
            <a:ext cx="6780960" cy="1752120"/>
            <a:chOff x="0" y="0"/>
            <a:chExt cx="6780960" cy="1752120"/>
          </a:xfrm>
        </p:grpSpPr>
        <p:grpSp>
          <p:nvGrpSpPr>
            <p:cNvPr id="2410" name=""/>
            <p:cNvGrpSpPr/>
            <p:nvPr/>
          </p:nvGrpSpPr>
          <p:grpSpPr>
            <a:xfrm>
              <a:off x="0" y="0"/>
              <a:ext cx="6780960" cy="350280"/>
              <a:chOff x="0" y="0"/>
              <a:chExt cx="6780960" cy="350280"/>
            </a:xfrm>
          </p:grpSpPr>
          <p:sp>
            <p:nvSpPr>
              <p:cNvPr id="2411" name="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ase2Ptr-&gt;getData()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3" name=""/>
            <p:cNvGrpSpPr/>
            <p:nvPr/>
          </p:nvGrpSpPr>
          <p:grpSpPr>
            <a:xfrm>
              <a:off x="0" y="350280"/>
              <a:ext cx="6780960" cy="350280"/>
              <a:chOff x="0" y="350280"/>
              <a:chExt cx="6780960" cy="350280"/>
            </a:xfrm>
          </p:grpSpPr>
          <p:sp>
            <p:nvSpPr>
              <p:cNvPr id="2414" name=""/>
              <p:cNvSpPr/>
              <p:nvPr/>
            </p:nvSpPr>
            <p:spPr>
              <a:xfrm>
                <a:off x="0" y="35028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0" y="35028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base2Ptr-&gt;getDat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6" name=""/>
            <p:cNvGrpSpPr/>
            <p:nvPr/>
          </p:nvGrpSpPr>
          <p:grpSpPr>
            <a:xfrm>
              <a:off x="0" y="700920"/>
              <a:ext cx="6780960" cy="350640"/>
              <a:chOff x="0" y="700920"/>
              <a:chExt cx="6780960" cy="350640"/>
            </a:xfrm>
          </p:grpSpPr>
          <p:sp>
            <p:nvSpPr>
              <p:cNvPr id="2417" name=""/>
              <p:cNvSpPr/>
              <p:nvPr/>
            </p:nvSpPr>
            <p:spPr>
              <a:xfrm>
                <a:off x="0" y="700920"/>
                <a:ext cx="6780960" cy="350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0" y="700920"/>
                <a:ext cx="6780960" cy="350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9" name=""/>
            <p:cNvGrpSpPr/>
            <p:nvPr/>
          </p:nvGrpSpPr>
          <p:grpSpPr>
            <a:xfrm>
              <a:off x="0" y="1051560"/>
              <a:ext cx="6780960" cy="350280"/>
              <a:chOff x="0" y="1051560"/>
              <a:chExt cx="6780960" cy="350280"/>
            </a:xfrm>
          </p:grpSpPr>
          <p:sp>
            <p:nvSpPr>
              <p:cNvPr id="2420" name=""/>
              <p:cNvSpPr/>
              <p:nvPr/>
            </p:nvSpPr>
            <p:spPr>
              <a:xfrm>
                <a:off x="0" y="105156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0" y="105156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2" name=""/>
            <p:cNvGrpSpPr/>
            <p:nvPr/>
          </p:nvGrpSpPr>
          <p:grpSpPr>
            <a:xfrm>
              <a:off x="0" y="1401840"/>
              <a:ext cx="6780960" cy="350280"/>
              <a:chOff x="0" y="1401840"/>
              <a:chExt cx="6780960" cy="350280"/>
            </a:xfrm>
          </p:grpSpPr>
          <p:sp>
            <p:nvSpPr>
              <p:cNvPr id="2423" name=""/>
              <p:cNvSpPr/>
              <p:nvPr/>
            </p:nvSpPr>
            <p:spPr>
              <a:xfrm>
                <a:off x="0" y="140184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0" y="140184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5" name=""/>
          <p:cNvGrpSpPr/>
          <p:nvPr/>
        </p:nvGrpSpPr>
        <p:grpSpPr>
          <a:xfrm>
            <a:off x="0" y="2133720"/>
            <a:ext cx="6781680" cy="3108240"/>
            <a:chOff x="0" y="2133720"/>
            <a:chExt cx="6781680" cy="3108240"/>
          </a:xfrm>
        </p:grpSpPr>
        <p:sp>
          <p:nvSpPr>
            <p:cNvPr id="2426" name=""/>
            <p:cNvSpPr/>
            <p:nvPr/>
          </p:nvSpPr>
          <p:spPr>
            <a:xfrm>
              <a:off x="0" y="2133720"/>
              <a:ext cx="6781680" cy="1371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 b1 contains integer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 b2 contains character 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 d contain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: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racter: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al number: 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0" y="3505320"/>
              <a:ext cx="6781680" cy="1736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 members of Derived can be accessed individuall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: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racter: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al number: 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rived can be treated as an object of either base clas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1Ptr-&gt;getData() yields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2Ptr-&gt;getData() yield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8" name=""/>
          <p:cNvSpPr/>
          <p:nvPr/>
        </p:nvSpPr>
        <p:spPr>
          <a:xfrm>
            <a:off x="4253760" y="15228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se2Ptr-&gt;getData() yield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36B5-9AB8-45C5-BF78-4D00F95A32E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Inheritance: Base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mmissionWorker : public Employee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missionWork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s from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not inheri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base class not accessible from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9C70-60A3-4378-BB69-D7C2EB5417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tecte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mediate level of protection betwe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members can ref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the base class simply by using the member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“breaks” encaps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36EC-3582-4D9F-8E7E-9C355130FC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4   Casting Base-Class Pointers to Derived Class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classes relationships to bas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of a derived class can be treated as objects of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 not tr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 class objects cannot be derived-clas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casting a 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n explicit cast to convert a base-class pointer to a derived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pointer is going to be dereferenced, the type of the pointer must match the type of object to which the pointer po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rivedPtr = static_cast&lt; DerivedClass * &gt; bas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A2AF-3457-4BBA-BB8B-0A8EE1D6C7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4   Casting Base-Class Pointers to Derived-Class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onstrates the casting of base class pointers to derived class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derived from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ointer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used to referenc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, and a pointer to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used to referenc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87C5-F616-45A7-905A-79E69F5B89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0"/>
            <a:ext cx="6780960" cy="4343400"/>
            <a:chOff x="0" y="0"/>
            <a:chExt cx="6780960" cy="4343400"/>
          </a:xfrm>
        </p:grpSpPr>
        <p:grpSp>
          <p:nvGrpSpPr>
            <p:cNvPr id="114" name=""/>
            <p:cNvGrpSpPr/>
            <p:nvPr/>
          </p:nvGrpSpPr>
          <p:grpSpPr>
            <a:xfrm>
              <a:off x="0" y="0"/>
              <a:ext cx="6780960" cy="221760"/>
              <a:chOff x="0" y="0"/>
              <a:chExt cx="6780960" cy="221760"/>
            </a:xfrm>
          </p:grpSpPr>
          <p:sp>
            <p:nvSpPr>
              <p:cNvPr id="115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point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0" y="221760"/>
              <a:ext cx="6780960" cy="205920"/>
              <a:chOff x="0" y="221760"/>
              <a:chExt cx="6780960" cy="20592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21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221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0" y="428040"/>
              <a:ext cx="6780960" cy="205920"/>
              <a:chOff x="0" y="428040"/>
              <a:chExt cx="6780960" cy="205920"/>
            </a:xfrm>
          </p:grpSpPr>
          <p:sp>
            <p:nvSpPr>
              <p:cNvPr id="121" name=""/>
              <p:cNvSpPr/>
              <p:nvPr/>
            </p:nvSpPr>
            <p:spPr>
              <a:xfrm>
                <a:off x="0" y="4280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4280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0" y="633960"/>
              <a:ext cx="6780960" cy="205920"/>
              <a:chOff x="0" y="633960"/>
              <a:chExt cx="6780960" cy="205920"/>
            </a:xfrm>
          </p:grpSpPr>
          <p:sp>
            <p:nvSpPr>
              <p:cNvPr id="124" name=""/>
              <p:cNvSpPr/>
              <p:nvPr/>
            </p:nvSpPr>
            <p:spPr>
              <a:xfrm>
                <a:off x="0" y="633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633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0" y="840240"/>
              <a:ext cx="6780960" cy="205920"/>
              <a:chOff x="0" y="840240"/>
              <a:chExt cx="6780960" cy="20592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8402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8402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0" y="1046160"/>
              <a:ext cx="6780960" cy="205920"/>
              <a:chOff x="0" y="1046160"/>
              <a:chExt cx="6780960" cy="205920"/>
            </a:xfrm>
          </p:grpSpPr>
          <p:sp>
            <p:nvSpPr>
              <p:cNvPr id="130" name=""/>
              <p:cNvSpPr/>
              <p:nvPr/>
            </p:nvSpPr>
            <p:spPr>
              <a:xfrm>
                <a:off x="0" y="10461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0461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0" y="1252080"/>
              <a:ext cx="6780960" cy="205920"/>
              <a:chOff x="0" y="1252080"/>
              <a:chExt cx="6780960" cy="205920"/>
            </a:xfrm>
          </p:grpSpPr>
          <p:sp>
            <p:nvSpPr>
              <p:cNvPr id="133" name=""/>
              <p:cNvSpPr/>
              <p:nvPr/>
            </p:nvSpPr>
            <p:spPr>
              <a:xfrm>
                <a:off x="0" y="1252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252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0" y="1458360"/>
              <a:ext cx="6780960" cy="205920"/>
              <a:chOff x="0" y="1458360"/>
              <a:chExt cx="6780960" cy="205920"/>
            </a:xfrm>
          </p:grpSpPr>
          <p:sp>
            <p:nvSpPr>
              <p:cNvPr id="136" name=""/>
              <p:cNvSpPr/>
              <p:nvPr/>
            </p:nvSpPr>
            <p:spPr>
              <a:xfrm>
                <a:off x="0" y="14583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14583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0" y="1664280"/>
              <a:ext cx="6780960" cy="205920"/>
              <a:chOff x="0" y="1664280"/>
              <a:chExt cx="6780960" cy="205920"/>
            </a:xfrm>
          </p:grpSpPr>
          <p:sp>
            <p:nvSpPr>
              <p:cNvPr id="139" name=""/>
              <p:cNvSpPr/>
              <p:nvPr/>
            </p:nvSpPr>
            <p:spPr>
              <a:xfrm>
                <a:off x="0" y="1664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664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0" y="1870560"/>
              <a:ext cx="6780960" cy="205920"/>
              <a:chOff x="0" y="1870560"/>
              <a:chExt cx="6780960" cy="205920"/>
            </a:xfrm>
          </p:grpSpPr>
          <p:sp>
            <p:nvSpPr>
              <p:cNvPr id="142" name=""/>
              <p:cNvSpPr/>
              <p:nvPr/>
            </p:nvSpPr>
            <p:spPr>
              <a:xfrm>
                <a:off x="0" y="18705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18705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0" y="2076480"/>
              <a:ext cx="6780960" cy="205920"/>
              <a:chOff x="0" y="2076480"/>
              <a:chExt cx="6780960" cy="205920"/>
            </a:xfrm>
          </p:grpSpPr>
          <p:sp>
            <p:nvSpPr>
              <p:cNvPr id="145" name=""/>
              <p:cNvSpPr/>
              <p:nvPr/>
            </p:nvSpPr>
            <p:spPr>
              <a:xfrm>
                <a:off x="0" y="2076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2076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0" y="2282760"/>
              <a:ext cx="6780960" cy="205920"/>
              <a:chOff x="0" y="2282760"/>
              <a:chExt cx="6780960" cy="20592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2282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2282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0" y="2488680"/>
              <a:ext cx="6780960" cy="205920"/>
              <a:chOff x="0" y="2488680"/>
              <a:chExt cx="6780960" cy="20592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24886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24886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0" y="2694960"/>
              <a:ext cx="6780960" cy="205920"/>
              <a:chOff x="0" y="2694960"/>
              <a:chExt cx="6780960" cy="205920"/>
            </a:xfrm>
          </p:grpSpPr>
          <p:sp>
            <p:nvSpPr>
              <p:cNvPr id="154" name=""/>
              <p:cNvSpPr/>
              <p:nvPr/>
            </p:nvSpPr>
            <p:spPr>
              <a:xfrm>
                <a:off x="0" y="2694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2694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0" y="2900880"/>
              <a:ext cx="6780960" cy="205920"/>
              <a:chOff x="0" y="2900880"/>
              <a:chExt cx="6780960" cy="20592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2900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2900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x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0" y="3106800"/>
              <a:ext cx="6780960" cy="205920"/>
              <a:chOff x="0" y="3106800"/>
              <a:chExt cx="6780960" cy="20592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31068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31068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y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0" y="3313080"/>
              <a:ext cx="6780960" cy="205920"/>
              <a:chOff x="0" y="3313080"/>
              <a:chExt cx="6780960" cy="20592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3313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3313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by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3519000"/>
              <a:ext cx="6780960" cy="205920"/>
              <a:chOff x="0" y="3519000"/>
              <a:chExt cx="6780960" cy="20592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35190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35190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x and y coordinates of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0" y="3725280"/>
              <a:ext cx="6780960" cy="205920"/>
              <a:chOff x="0" y="3725280"/>
              <a:chExt cx="6780960" cy="20592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3725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3725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3931200"/>
              <a:ext cx="6780960" cy="205920"/>
              <a:chOff x="0" y="3931200"/>
              <a:chExt cx="6780960" cy="20592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39312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39312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4137480"/>
              <a:ext cx="6780960" cy="205920"/>
              <a:chOff x="0" y="4137480"/>
              <a:chExt cx="6780960" cy="20592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4137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137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0" y="4343400"/>
            <a:ext cx="6780960" cy="2514600"/>
            <a:chOff x="0" y="4343400"/>
            <a:chExt cx="6780960" cy="2514600"/>
          </a:xfrm>
        </p:grpSpPr>
        <p:grpSp>
          <p:nvGrpSpPr>
            <p:cNvPr id="178" name=""/>
            <p:cNvGrpSpPr/>
            <p:nvPr/>
          </p:nvGrpSpPr>
          <p:grpSpPr>
            <a:xfrm>
              <a:off x="0" y="4343400"/>
              <a:ext cx="6780960" cy="209520"/>
              <a:chOff x="0" y="4343400"/>
              <a:chExt cx="6780960" cy="20952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4343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343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point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4552920"/>
              <a:ext cx="6780960" cy="209520"/>
              <a:chOff x="0" y="4552920"/>
              <a:chExt cx="6780960" cy="20952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4552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552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4762440"/>
              <a:ext cx="6780960" cy="209520"/>
              <a:chOff x="0" y="4762440"/>
              <a:chExt cx="6780960" cy="20952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4762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762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4971960"/>
              <a:ext cx="6780960" cy="209520"/>
              <a:chOff x="0" y="4971960"/>
              <a:chExt cx="6780960" cy="20952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4971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971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5181480"/>
              <a:ext cx="6780960" cy="209520"/>
              <a:chOff x="0" y="5181480"/>
              <a:chExt cx="6780960" cy="20952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5181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181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5391000"/>
              <a:ext cx="6780960" cy="209520"/>
              <a:chOff x="0" y="5391000"/>
              <a:chExt cx="6780960" cy="20952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5391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5391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5600520"/>
              <a:ext cx="6780960" cy="209520"/>
              <a:chOff x="0" y="5600520"/>
              <a:chExt cx="6780960" cy="20952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5600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5600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5810400"/>
              <a:ext cx="6780960" cy="209520"/>
              <a:chOff x="0" y="5810400"/>
              <a:chExt cx="6780960" cy="20952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5810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5810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6019920"/>
              <a:ext cx="6780960" cy="209520"/>
              <a:chOff x="0" y="6019920"/>
              <a:chExt cx="6780960" cy="20952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6019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6019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6229440"/>
              <a:ext cx="6780960" cy="209520"/>
              <a:chOff x="0" y="6229440"/>
              <a:chExt cx="6780960" cy="20952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6229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6229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6438960"/>
              <a:ext cx="6780960" cy="209520"/>
              <a:chOff x="0" y="6438960"/>
              <a:chExt cx="6780960" cy="20952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6438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6438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6648480"/>
              <a:ext cx="6780960" cy="209520"/>
              <a:chOff x="0" y="6648480"/>
              <a:chExt cx="6780960" cy="20952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6648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6648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9E7C3-7581-4BD9-B399-0BF0EE0855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3:06:25Z</dcterms:created>
  <dc:creator>aftab bukhari</dc:creator>
  <dc:description/>
  <dc:language>en-US</dc:language>
  <cp:lastModifiedBy>Antonella Esposito</cp:lastModifiedBy>
  <dcterms:modified xsi:type="dcterms:W3CDTF">2001-01-12T10:45:06Z</dcterms:modified>
  <cp:revision>397</cp:revision>
  <dc:subject/>
  <dc:title>Chapter 9 - Inheritance</dc:title>
</cp:coreProperties>
</file>