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04A4-E05D-433D-AD95-014A1E699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357D-0235-4197-BB70-2979FF329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D345-0B0B-4A47-94E4-96981E5C8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0D33-B3AC-4248-A286-7244E503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3863-C411-4E01-B243-A1CA008EB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C31B-0FB2-4E58-9315-130B85F94E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4961-A75F-4DB2-B392-B372E9BEE7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B8B5-A562-4A47-8D73-253F96D4B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2824-64FB-4279-B114-E31FB879A0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EA7B-37B5-4CA6-846C-C087D55D8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CAAA-B64D-41CD-8654-5D2C4D90B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C0CC-1B6C-4D1C-B754-D521FDC51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C230-B8F1-489F-AFBA-F6612D27D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BF80-1456-444A-B2E5-F455B3C33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7E1D-3908-46E8-912D-399C0A3CD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54F-E5C0-451D-A871-FA6F4CDC9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4085-165B-48E4-91B6-FAE82C7C6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5FC1-8CCD-47D7-B507-EB7311E7A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13B0-ACD8-45C6-979B-480BE339D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6BAF-972B-4AA7-B0A8-C9E8DD87E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D400-F1A4-41F5-A867-90C4A0365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4546-AA0D-427D-8602-C8E8BC91A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F801-2282-44C9-9AA0-FA9AB92F3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5CC6-136F-4F97-9C85-D7E9F0028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630-7DB9-449B-A3DA-1228B7BF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2FD-331A-4A16-9153-1B689CC0F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0- Virtual Functions 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ype Fields and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Statement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Function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bstract Base Classes and Concrete Classe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A Payroll System Using 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New Classes and Dynamic Binding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Destructor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Inheriting Interface and Implementa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irtual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and Dynamic Bind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              “Under the Hood”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D73B-50A2-4577-B605-25FF6565D3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780F-3FF5-4988-A1BD-75E3E95377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9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7194-266A-400A-A8B7-22BA4E3E6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7" name="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85F3-45D8-4927-A404-D40C7E4B4A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5ACE-82B6-4E7E-A139-C709D39F0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5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A229-762C-4701-A941-0C614A985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6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60C5-E38F-4192-8356-CDDA450F08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1" name="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79" name="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4E5A-D518-42FA-BCD0-543729868C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5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AF3A-3CFD-47A2-A0AC-BEC1FEB794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7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3" name="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CE9F-59FA-4BFD-8B8E-280CAD2E7E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59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6324-CFD2-4D09-8EF8-08BCA9BD27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and polymorph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and implement systems that are more easily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to generically process objects of all existing classes in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22E4-01AE-4B71-A0DB-5B7C93FAF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1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A57A-9B2B-4D11-ADFF-C1BAD217B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47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295D-6BC6-4B0E-9A46-71FAA54097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52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EFF9-8AD2-4C4C-ADDF-6B6D53EA14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42" name="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45" name="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48" name="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56" name="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144C-DDDB-4CAD-B905-A221CD4FB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61" name="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87" name="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25FA-29B3-4248-B1FB-686617E112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New Classes and 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A1F2-CB18-458D-B243-8C832B7B20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EE40-171F-4180-870C-D76A800EE0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AAD8-0E47-4269-8AA2-22A692DBE4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298" name="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20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23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26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32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47" name="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02" name="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05" name="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D7A4-DA2D-4124-8FBD-6D2814172B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0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31" name="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4B9D-B7F2-49C5-AB41-B5AD2E603B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Type Fields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n action on a object based on it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witch structure could determine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 based on which type in a hierarchy of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ay forget to test all possible cases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this down can be time consuming and prone to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c programming can eliminate the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4DEF-280F-4B79-BA42-009E07728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75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7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7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8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48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48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39" name="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6070-7F56-4D36-A70E-1A4CF12AB4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3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9ADC-F1A8-4864-84BF-C209A9658A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17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687" name="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7E25-CC28-4315-8C76-5F000F660B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ECEF-0E22-49E1-B313-086A0E6071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6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7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7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7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8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2319-913E-46E8-9ACF-F5F220FEFE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8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3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6" name="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1988" name="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1993" name="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8C2F-F2F4-4962-9B7D-6395CACBC2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01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32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35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080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5" name="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086" name="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13DC-DEF4-4BF7-85F0-09BE9D0653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80F1-15E4-4122-833D-13C54F7D58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Polymorphism,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requires a lot of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is 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its vtable has a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erived class has the same function as a base class, then the function pointer points to the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3B7D-3EDC-4246-9539-FEDD487B7C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9BE4-CE71-4043-A642-27461B18A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A0CE-90EF-481D-B312-35D414E524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AA09-93FB-4ACE-A536-E48B0DCE2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for objects of 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defined in multiple classes and called from base-class pointer then the base-class version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C258-366B-4011-B000-B01C526F7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C159-6D6C-4060-AA35-74AC7C4D2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7" name="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DBE6-5B6D-4CF5-915D-F1DD574EC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0:58:22Z</dcterms:created>
  <dc:creator>aftab bukhari</dc:creator>
  <dc:description/>
  <dc:language>en-US</dc:language>
  <cp:lastModifiedBy>Antonella Esposito</cp:lastModifiedBy>
  <dcterms:modified xsi:type="dcterms:W3CDTF">2001-01-12T10:45:34Z</dcterms:modified>
  <cp:revision>307</cp:revision>
  <dc:subject/>
  <dc:title>PowerPoint Presentation</dc:title>
</cp:coreProperties>
</file>