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4.wmf" ContentType="image/x-wmf"/>
  <Override PartName="/ppt/media/image1.png" ContentType="image/png"/>
  <Override PartName="/ppt/media/image2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4"/>
          </p:nvPr>
        </p:nvSpPr>
        <p:spPr>
          <a:xfrm>
            <a:off x="3887280" y="0"/>
            <a:ext cx="29703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41400" y="744120"/>
            <a:ext cx="4973760" cy="373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2960" y="4724280"/>
            <a:ext cx="503208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5"/>
          </p:nvPr>
        </p:nvSpPr>
        <p:spPr>
          <a:xfrm>
            <a:off x="-360" y="9450360"/>
            <a:ext cx="29703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6"/>
          </p:nvPr>
        </p:nvSpPr>
        <p:spPr>
          <a:xfrm>
            <a:off x="3887280" y="9450360"/>
            <a:ext cx="29703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0E2A-FA24-448A-BA93-2E43E7F77F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41400" y="74448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2960" y="4724280"/>
            <a:ext cx="503208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low Meeting – Naples,  April 1</a:t>
            </a:r>
            <a:r>
              <a:rPr b="0" lang="it-IT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41400" y="74448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2960" y="4724280"/>
            <a:ext cx="503208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low Meeting – Naples,  April 1</a:t>
            </a:r>
            <a:r>
              <a:rPr b="0" lang="it-IT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41400" y="74448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2960" y="4724280"/>
            <a:ext cx="503208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low Meeting – Naples,  April 1</a:t>
            </a:r>
            <a:r>
              <a:rPr b="0" lang="it-IT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8280" y="-19440"/>
            <a:ext cx="7155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60948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355500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8280" y="-19440"/>
            <a:ext cx="7155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6094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0760" y="6094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355500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20760" y="355500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28280" y="-19440"/>
            <a:ext cx="7155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6094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6080" y="6094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3720" y="6094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355500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6080" y="355500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3720" y="355500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092A-26C7-4742-BAC8-D52DE94BB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8280" y="-19440"/>
            <a:ext cx="7155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1751-7F74-479E-8A64-84619B82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8280" y="-19440"/>
            <a:ext cx="7155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DDE2-8FB8-46CF-B993-D7792093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8280" y="-19440"/>
            <a:ext cx="7155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609480"/>
            <a:ext cx="3792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0760" y="609480"/>
            <a:ext cx="3792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D8C7-C92F-43BE-A5BD-10F83E33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8280" y="-19440"/>
            <a:ext cx="7155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9E74-C977-497D-99DC-2D663A48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728280" y="157320"/>
            <a:ext cx="7155000" cy="187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52C1-D3CE-4301-9E77-0D67D8BD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8280" y="-19440"/>
            <a:ext cx="7155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6094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20760" y="609480"/>
            <a:ext cx="3792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55500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6E62-EF1E-4AE3-A15E-F303AFC8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8280" y="-19440"/>
            <a:ext cx="7155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8280" y="-19440"/>
            <a:ext cx="7155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609480"/>
            <a:ext cx="3792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0760" y="6094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20760" y="355500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CEA4-E9E0-47A4-8EB5-F0513EE1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8280" y="-19440"/>
            <a:ext cx="7155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6094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6094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355500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E64B-86AD-4695-A0E1-4D61AACA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8280" y="-19440"/>
            <a:ext cx="7155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60948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355500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1C42-8CBB-4D4D-80CB-288CE889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28280" y="-19440"/>
            <a:ext cx="7155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6094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6094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355500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20760" y="355500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42C7-9012-4A7C-95C6-00234B755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8280" y="-19440"/>
            <a:ext cx="7155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6094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66080" y="6094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3720" y="6094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355500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66080" y="355500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93720" y="355500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E707-8D98-4BB8-A74E-092B5A28C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28280" y="-19440"/>
            <a:ext cx="7155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8280" y="-19440"/>
            <a:ext cx="7155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609480"/>
            <a:ext cx="3792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0760" y="609480"/>
            <a:ext cx="3792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28280" y="-19440"/>
            <a:ext cx="7155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28280" y="157320"/>
            <a:ext cx="7155000" cy="187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8280" y="-19440"/>
            <a:ext cx="7155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6094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609480"/>
            <a:ext cx="3792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355500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8280" y="-19440"/>
            <a:ext cx="7155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609480"/>
            <a:ext cx="3792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6094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20760" y="355500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8280" y="-19440"/>
            <a:ext cx="7155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6094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6094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55500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hyperlink" Target="http://www.unical.it/index.html" TargetMode="External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8280" y="157320"/>
            <a:ext cx="7155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417600" y="471600"/>
            <a:ext cx="4214880" cy="38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 rot="16200000">
            <a:off x="-731880" y="1639080"/>
            <a:ext cx="2898720" cy="363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4843440" y="3801960"/>
            <a:ext cx="4214880" cy="2898720"/>
            <a:chOff x="4843440" y="3801960"/>
            <a:chExt cx="4214880" cy="2898720"/>
          </a:xfrm>
        </p:grpSpPr>
        <p:sp>
          <p:nvSpPr>
            <p:cNvPr id="5" name=""/>
            <p:cNvSpPr/>
            <p:nvPr/>
          </p:nvSpPr>
          <p:spPr>
            <a:xfrm rot="10800000">
              <a:off x="4843440" y="6492960"/>
              <a:ext cx="4214880" cy="3816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7438320" y="5232960"/>
              <a:ext cx="2898720" cy="36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99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1280" y="71280"/>
            <a:ext cx="59076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 rot="16200000">
            <a:off x="-2466000" y="3081960"/>
            <a:ext cx="5770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pperplate Gothic Bold"/>
              </a:rPr>
              <a:t>Università della Calab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6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869B-0D31-4809-B36F-4C8CFC199844}" type="slidenum">
              <a:rPr b="0" lang="it-IT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8160" y="1380960"/>
            <a:ext cx="78105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he 2001 Etnean Crisis: Application Of The “SCIARA” Sim</a:t>
            </a:r>
            <a:r>
              <a:rPr b="1" lang="en-GB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u</a:t>
            </a:r>
            <a:r>
              <a:rPr b="1" lang="en-GB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ation Mode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0" i="1" lang="it-IT" sz="28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2</a:t>
            </a:r>
            <a:r>
              <a:rPr b="0" i="1" lang="it-IT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volio, M. V.,</a:t>
            </a:r>
            <a:r>
              <a:rPr b="0" i="1" lang="it-IT" sz="28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1</a:t>
            </a:r>
            <a:r>
              <a:rPr b="0" i="1" lang="it-IT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risci, G. M., </a:t>
            </a:r>
            <a:br>
              <a:rPr sz="2800"/>
            </a:br>
            <a:r>
              <a:rPr b="0" i="1" lang="it-IT" sz="28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2</a:t>
            </a:r>
            <a:r>
              <a:rPr b="0" i="1" lang="it-IT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 Gregorio, S., </a:t>
            </a:r>
            <a:r>
              <a:rPr b="0" i="1" lang="it-IT" sz="28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1</a:t>
            </a:r>
            <a:r>
              <a:rPr b="0" i="1" lang="it-IT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Rongo, R., </a:t>
            </a:r>
            <a:r>
              <a:rPr b="0" i="1" lang="it-IT" sz="28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2</a:t>
            </a:r>
            <a:r>
              <a:rPr b="0" i="1" lang="it-IT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pataro, W.</a:t>
            </a:r>
            <a:r>
              <a:rPr b="0" i="1" lang="it-IT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i="1" lang="en-U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epartment of Earth Sciences</a:t>
            </a:r>
            <a:br>
              <a:rPr sz="2000"/>
            </a:br>
            <a:r>
              <a:rPr b="0" i="1" lang="en-U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epartment of Mathematics</a:t>
            </a:r>
            <a:br>
              <a:rPr sz="2000"/>
            </a:br>
            <a:r>
              <a:rPr b="0" i="1" lang="en-GB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12</a:t>
            </a:r>
            <a:r>
              <a:rPr b="0" i="1" lang="en-GB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High Performance Computing Center</a:t>
            </a:r>
            <a:r>
              <a:rPr b="0" i="1" lang="it-IT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1" i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University of Calabria, Italy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4114800"/>
            <a:ext cx="746784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6160" y="0"/>
            <a:ext cx="77551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GCP 455 Second International Workshop: “</a:t>
            </a:r>
            <a:r>
              <a:rPr b="1" i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ternational Symposium on interaction between volcanoes and their basement and related geological hazards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38760" y="6521400"/>
            <a:ext cx="395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Tahoma"/>
              </a:rPr>
              <a:t>Santiago del Cile – 22-24 october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1600200" y="2057400"/>
          <a:ext cx="5943600" cy="33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057400"/>
                    <a:ext cx="5943600" cy="33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733320" y="0"/>
            <a:ext cx="5853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Cellular Automata (Flow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794880" y="796680"/>
            <a:ext cx="8062920" cy="54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0152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arca, Crisci, Di Gregorio, Nicoletta (1986-89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approach to the Cellular Automata Model. Three and two dimensional models with discrete time and space, allowing multiple flow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10152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hihara et al. (1988, 1989)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Navier-Stokes equations, adopting a space tessellation and discrete time. However, not applicable to multi-flows and/or extruded intermittently flow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10152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Young and Wadge (1990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ellular Automata approach with simulation of simple advancing lava flow fronts (FLOWFRO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101520" algn="just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Miyamoto H. and Sasaki S. (1997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mulating lava flows by an improved cellular automata method. They solved the problem of spurious symmetries with a probabilistic metho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101520" algn="just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McBirney, A.R., Murase, T. (1984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tudy of rheological properties of magmas 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101520" algn="just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Kilburn, C.R.J., Lopes, R.M.C. (199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tudy of temperature mixing in aa flow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29196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733320" y="0"/>
            <a:ext cx="6896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Lava Simulation Models</a:t>
            </a: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 (by oth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0"/>
                            </p:stCondLst>
                            <p:childTnLst>
                              <p:par>
                                <p:cTn id="2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6000"/>
                            </p:stCondLst>
                            <p:childTnLst>
                              <p:par>
                                <p:cTn id="2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79120" y="791640"/>
            <a:ext cx="7731000" cy="54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inite states of each cell a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altitude (e.g. 2000 a.s.l) : varies due to lava solidificatio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ava thickness (e.g. 6 m): varies due to in-coming and out-going lava flow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ava outflows (6) towards neighbouring cells: calculated by minimizing lava heights among neighbour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ava temperature (e.g. 1200 K°): varies by (1) averaging temperature from incoming flows and (2) thermal energy losses at su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747720" y="0"/>
            <a:ext cx="5853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CA States for Lava F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28280" y="157320"/>
            <a:ext cx="7155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rmally speaking! (1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mal definition, is given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CIAR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R, L, X, S,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whe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= {(x, y)| x, y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0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x, 0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} is the set of hexagonal cells in the finite region where the phenomenon evolv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specifies the lava source cel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t X identifies the geometrical pattern of cells that influence the cell state chang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 </a:t>
            </a:r>
            <a:br>
              <a:rPr sz="32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{Center, NW, NE, E, SE, SW, W}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28280" y="157320"/>
            <a:ext cx="7155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Formally speaking!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nite set S of states of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= 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presents the altitude of the cell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presents a parameter correlated to the lava thickness in the cell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presents a parameter correlated to the temperature of the lava in the cell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presents a parameter correlated to lava outflows from the cell toward the six neighbourhood direc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 is the deterministic state transition for the cells in 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ecifies the emitted lava from the source cell at the time t. In this case the set of natural numbers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presents the time intervals of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28280" y="157320"/>
            <a:ext cx="7155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Formally speaking!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058400"/>
            <a:ext cx="777240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beginning of time we specify the states of the cells in R, defining the initial configuration of the C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each following step the function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pplied to all cells in R, at the same time the function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rrects the substate 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ells in L, so that the configuration is changed in time and the evolution of the A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CIAR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obtain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28280" y="114480"/>
            <a:ext cx="7155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Cell Altitude S</a:t>
            </a:r>
            <a:r>
              <a:rPr b="0" lang="it-IT" sz="3200" spc="-1" strike="noStrike" baseline="-25000">
                <a:solidFill>
                  <a:srgbClr val="333399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ell Altitude at step t+1 is increased by the thickness of lava, once the lava temperature drops to a minimal value so that motion is blocked (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solidificatio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)  (i.e 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automatic morphology updating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t the same time the lava thickness of the cell is reset to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83808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sults from earlier simulations on Etnean flows suggest that the Etnean examples are reasonably represented by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=7 m for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=1123 K and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=0.7 m for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=1373 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362320" y="3352680"/>
            <a:ext cx="3504600" cy="2796120"/>
            <a:chOff x="2362320" y="3352680"/>
            <a:chExt cx="3504600" cy="2796120"/>
          </a:xfrm>
        </p:grpSpPr>
        <p:sp>
          <p:nvSpPr>
            <p:cNvPr id="232" name=""/>
            <p:cNvSpPr/>
            <p:nvPr/>
          </p:nvSpPr>
          <p:spPr>
            <a:xfrm>
              <a:off x="2742840" y="548640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895480" y="373356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428640" y="5410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81480" y="5410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19160" y="396252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19160" y="525780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86040" y="5410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590560" y="33526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428640" y="3962160"/>
              <a:ext cx="0" cy="15238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95480" y="5257800"/>
              <a:ext cx="2285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95480" y="3962520"/>
              <a:ext cx="5328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28640" y="4038480"/>
              <a:ext cx="1752480" cy="1219320"/>
            </a:xfrm>
            <a:custGeom>
              <a:avLst/>
              <a:gdLst/>
              <a:ahLst/>
              <a:rect l="l" t="t" r="r" b="b"/>
              <a:pathLst>
                <a:path w="1104" h="816">
                  <a:moveTo>
                    <a:pt x="0" y="0"/>
                  </a:moveTo>
                  <a:cubicBezTo>
                    <a:pt x="52" y="268"/>
                    <a:pt x="104" y="536"/>
                    <a:pt x="288" y="672"/>
                  </a:cubicBezTo>
                  <a:cubicBezTo>
                    <a:pt x="472" y="808"/>
                    <a:pt x="788" y="812"/>
                    <a:pt x="1104" y="816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8640" y="3962520"/>
              <a:ext cx="60948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38480" y="4952880"/>
              <a:ext cx="114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276360" y="563868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028840" y="563868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62320" y="380988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362320" y="495288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6477120" y="4191120"/>
                <a:ext cx="1752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747720" y="0"/>
            <a:ext cx="5853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he “Adherence Paramete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28280" y="157320"/>
            <a:ext cx="7155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Temperature drop computation S</a:t>
            </a:r>
            <a:r>
              <a:rPr b="0" lang="it-IT" sz="3200" spc="-1" strike="noStrike" baseline="-25000">
                <a:solidFill>
                  <a:srgbClr val="333399"/>
                </a:solidFill>
                <a:latin typeface="Tahoma"/>
              </a:rPr>
              <a:t>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117080"/>
            <a:ext cx="77724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t is assumed that lava inside a cell can be treated as though thermally well mixed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t might seem like a major simplification but, as suggested by Kilburn &amp; Lopes (1991), it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doe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yield a characteristic cooling time scale comparable to the typical emplacement times of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flows,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hu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wo step calcul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) Averaging temperature of residual lava inside a cell and incoming lav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) Estimation of temperature drop due to thermal energy losses at the surfac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28280" y="157320"/>
            <a:ext cx="7155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Temperatur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209600" y="4587840"/>
            <a:ext cx="6869160" cy="6415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That 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1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820880" y="1563840"/>
                <a:ext cx="5110200" cy="13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em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ava</m:t>
                            </m:r>
                          </m:sub>
                        </m:sSub>
                        <m:r>
                          <m:t xml:space="preserve">´</m:t>
                        </m:r>
                        <m:r>
                          <m:t xml:space="preserve">T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6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i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  <m:r>
                                  <m:t xml:space="preserve">´</m:t>
                                </m:r>
                                <m:r>
                                  <m:t xml:space="preserve">T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d>
                          </m:e>
                        </m:nary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ava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6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i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261800" y="1185480"/>
            <a:ext cx="687996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llular Automata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va Flow Modelling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ck Model Overview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nean July 2001 Eruption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ulations &amp; Future Scenar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776160" y="0"/>
            <a:ext cx="5853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28280" y="157320"/>
            <a:ext cx="7155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Cell lava thickness S</a:t>
            </a:r>
            <a:r>
              <a:rPr b="0" lang="it-IT" sz="3200" spc="-1" strike="noStrike" baseline="-25000">
                <a:solidFill>
                  <a:srgbClr val="333399"/>
                </a:solidFill>
                <a:latin typeface="Tahoma"/>
              </a:rPr>
              <a:t>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The value of the lava thickness inside a cell during a CA time-step is computed by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</a:rPr>
              <a:t>adding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inflows towards the cell,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</a:rPr>
              <a:t>subtracting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eventually outgoing flows towards neighbouring cells, to the remaing lava inside the cell (adherenc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28280" y="157320"/>
            <a:ext cx="7155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Lava flows computation S</a:t>
            </a:r>
            <a:r>
              <a:rPr b="0" lang="it-IT" sz="3200" spc="-1" strike="noStrike" baseline="-25000">
                <a:solidFill>
                  <a:srgbClr val="333399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857160"/>
            <a:ext cx="777240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outflows depend on the hydrostatic pressure gradients among the cell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algorithm is based on the minimisation of the differences of heights between neighbouring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over, the lava rheological resistance depends on temperature (resistanc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increase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as temperatur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decrease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) (McBirney &amp; Murase, 1984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e have chosen to model rheological resistance in terms of an adherence parameter, which represents the amount of lava remaining in a cell at each ste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28280" y="157320"/>
            <a:ext cx="7155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Minimisation algorithm (outline!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4840" y="703080"/>
            <a:ext cx="7902360" cy="55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utflow from a cell is calculated by minimizing the differences of heights between the neighbouring cel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879560" y="1682640"/>
            <a:ext cx="5181480" cy="1052640"/>
            <a:chOff x="1879560" y="1682640"/>
            <a:chExt cx="5181480" cy="1052640"/>
          </a:xfrm>
        </p:grpSpPr>
        <p:pic>
          <p:nvPicPr>
            <p:cNvPr id="265" name="" descr=""/>
            <p:cNvPicPr/>
            <p:nvPr/>
          </p:nvPicPr>
          <p:blipFill>
            <a:blip r:embed="rId2"/>
            <a:stretch/>
          </p:blipFill>
          <p:spPr>
            <a:xfrm>
              <a:off x="1879560" y="1682640"/>
              <a:ext cx="1863000" cy="102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3"/>
            <a:stretch/>
          </p:blipFill>
          <p:spPr>
            <a:xfrm>
              <a:off x="5119920" y="1682640"/>
              <a:ext cx="1941120" cy="1052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"/>
          <p:cNvGrpSpPr/>
          <p:nvPr/>
        </p:nvGrpSpPr>
        <p:grpSpPr>
          <a:xfrm>
            <a:off x="1879560" y="3836880"/>
            <a:ext cx="5167440" cy="1033560"/>
            <a:chOff x="1879560" y="3836880"/>
            <a:chExt cx="5167440" cy="1033560"/>
          </a:xfrm>
        </p:grpSpPr>
        <p:pic>
          <p:nvPicPr>
            <p:cNvPr id="268" name="" descr=""/>
            <p:cNvPicPr/>
            <p:nvPr/>
          </p:nvPicPr>
          <p:blipFill>
            <a:blip r:embed="rId4"/>
            <a:stretch/>
          </p:blipFill>
          <p:spPr>
            <a:xfrm>
              <a:off x="1879560" y="3836880"/>
              <a:ext cx="1914840" cy="101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5"/>
            <a:stretch/>
          </p:blipFill>
          <p:spPr>
            <a:xfrm>
              <a:off x="5118840" y="3836880"/>
              <a:ext cx="1928160" cy="103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"/>
          <p:cNvSpPr/>
          <p:nvPr/>
        </p:nvSpPr>
        <p:spPr>
          <a:xfrm>
            <a:off x="1312920" y="2819520"/>
            <a:ext cx="662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1620720"/>
                <a:tab algn="ctr" pos="4951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v_height = 70/5 =14                        av_height = 40/4 =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620720"/>
                <a:tab algn="ctr" pos="4951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neighbour cell 1 is eliminated               neighbour cell 3 is elimin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1620720"/>
                <a:tab algn="ctr" pos="4951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30320" y="4818240"/>
            <a:ext cx="6735600" cy="7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ctr" pos="1711440"/>
                <a:tab algn="ctr" pos="4951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000" spc="-1" strike="noStrike">
                <a:solidFill>
                  <a:srgbClr val="000000"/>
                </a:solidFill>
                <a:latin typeface="Genev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v_height = 27/3 = 9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heights after the l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ctr" pos="1711440"/>
                <a:tab algn="ctr" pos="4951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no cell is eliminate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i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83808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transition function intervene parameters which characterize globally the CA and therefore the lava flow in its physical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imension (5m)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oling parameter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va emission and solidification temperature (1373 K and 1123 K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va adherence at vent (e.g. 0.7m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va adherence at solidification (e.g. 7m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a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graphy and location of the vent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va discharge r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0"/>
            <a:ext cx="58528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Global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071360" y="1176120"/>
            <a:ext cx="756108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35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ava Flows show complex behaviour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35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Need for Navier-Stokes equations, BU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35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y are Differential Equation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35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Major Complexities arise due to irregular ground topography and because lavas range rheologically from Newtonian fluids to brittle soli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804960" y="0"/>
            <a:ext cx="58528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Lava Flow Mode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909360"/>
            <a:ext cx="777240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Mathematical tool for modelling natural phenomen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nceived in the 1950s by J. Von Neumann to investigate self-reproduction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A approach involves</a:t>
            </a:r>
            <a:r>
              <a:rPr b="0" i="1" lang="it-IT" sz="2800" spc="-1" strike="noStrike">
                <a:solidFill>
                  <a:srgbClr val="000000"/>
                </a:solidFill>
                <a:latin typeface="Tahoma"/>
              </a:rPr>
              <a:t> localit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(cell state interaction) and </a:t>
            </a:r>
            <a:r>
              <a:rPr b="0" i="1" lang="it-IT" sz="2800" spc="-1" strike="noStrike">
                <a:solidFill>
                  <a:srgbClr val="000000"/>
                </a:solidFill>
                <a:latin typeface="Tahoma"/>
              </a:rPr>
              <a:t>uniformit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(same evolution for each cell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A = discrete time and space (usually square or hexagonal grid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747720" y="0"/>
            <a:ext cx="5853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Cellular Automata (C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87120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-384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Enviromental Issue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: Lava Flows, Landslides, Contamination, Bioremediation, Earthquakes, Forest Fires, Soil Erosion, etc…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8440" indent="-384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io-medicine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: Immunology system, Cancer cell growth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8440" indent="-384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Industrial application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: Coffee percolation (ILLY), Tire mixture (PIRELLI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8440" indent="-384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Fluid-dynamics, Traffic, ETC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76160" y="0"/>
            <a:ext cx="5853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CA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28280" y="157320"/>
            <a:ext cx="7155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CA Bibliograph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80920" y="942480"/>
            <a:ext cx="77724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von Neumann, J., (1966)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ory of self reproducing automata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. University of Illinois Press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urray, A. B. and Paola, C., (1994),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 cellular model of braided river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Natur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371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, 54-57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alamud B. D. &amp; Turcotte D. L., (2000),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ellular Automata models applied to natural hazard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ing in Science and Engineering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vol 2 n. 3 pp 43-5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ffoli, T., (1984)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ellular Automata as an alternative to (rather than an approximation of) differential equations in modeling physic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ysica 10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, 117-127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argolus, N., Toffoli, T., Vichniac, G., (1986)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ellular Automata supercomputers for fluid-dynamics modelling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Phys. Rev. Lett., 56(10) ,1694-1696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Vichniac, G., (1984),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mulating physics with cellular automata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, Physica 10D, 96-11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39680" y="1219320"/>
            <a:ext cx="777240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 can be seen as a d-dimensional space (i.e. grid), partitioned in cells of uniform size each one embedding 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finite automat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a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ell is given b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i.e. altitude, temperature, outflows) of the neighbouring cel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time t=0, the CA evolves changing the state at discrete times, according to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ransition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747720" y="0"/>
            <a:ext cx="5853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Cellular Automata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1538280" y="3276720"/>
            <a:ext cx="6199200" cy="2541240"/>
            <a:chOff x="1538280" y="3276720"/>
            <a:chExt cx="6199200" cy="2541240"/>
          </a:xfrm>
        </p:grpSpPr>
        <p:grpSp>
          <p:nvGrpSpPr>
            <p:cNvPr id="119" name=""/>
            <p:cNvGrpSpPr/>
            <p:nvPr/>
          </p:nvGrpSpPr>
          <p:grpSpPr>
            <a:xfrm>
              <a:off x="1538280" y="3276720"/>
              <a:ext cx="2590920" cy="2541240"/>
              <a:chOff x="1538280" y="3276720"/>
              <a:chExt cx="2590920" cy="2541240"/>
            </a:xfrm>
          </p:grpSpPr>
          <p:sp>
            <p:nvSpPr>
              <p:cNvPr id="120" name=""/>
              <p:cNvSpPr/>
              <p:nvPr/>
            </p:nvSpPr>
            <p:spPr>
              <a:xfrm>
                <a:off x="2686680" y="4376520"/>
                <a:ext cx="41004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ffffff"/>
                    </a:solidFill>
                    <a:latin typeface="Times New Roman"/>
                  </a:rPr>
                  <a:t>0,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549520" y="4801680"/>
                <a:ext cx="505440" cy="5076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054960" y="4293360"/>
                <a:ext cx="505440" cy="507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043720" y="4293360"/>
                <a:ext cx="505440" cy="507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549520" y="4293360"/>
                <a:ext cx="505440" cy="5079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549520" y="3783240"/>
                <a:ext cx="505440" cy="507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031840" y="4372920"/>
                <a:ext cx="55296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-1, 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591640" y="4911480"/>
                <a:ext cx="50544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0, -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074400" y="4372920"/>
                <a:ext cx="51048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1, 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584800" y="3863880"/>
                <a:ext cx="43992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0,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043720" y="3863880"/>
                <a:ext cx="57096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-1,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017080" y="4905360"/>
                <a:ext cx="56772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-1, -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054960" y="4905360"/>
                <a:ext cx="55152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1, -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072600" y="3863880"/>
                <a:ext cx="49428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1,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544040" y="3863880"/>
                <a:ext cx="49932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-2,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538280" y="4884480"/>
                <a:ext cx="58932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-2, -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544040" y="5371560"/>
                <a:ext cx="59328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-2, -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017080" y="5371560"/>
                <a:ext cx="56772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-1, -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581920" y="5371560"/>
                <a:ext cx="55296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0, -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538280" y="4372920"/>
                <a:ext cx="50256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-2, 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567240" y="5371560"/>
                <a:ext cx="56196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2, -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057120" y="5371560"/>
                <a:ext cx="48852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1, -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584880" y="4905360"/>
                <a:ext cx="54396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2, -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606480" y="4372920"/>
                <a:ext cx="52236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2, 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655440" y="3863880"/>
                <a:ext cx="41004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2,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581920" y="4372920"/>
                <a:ext cx="51480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0, 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097080" y="3385080"/>
                <a:ext cx="48744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1,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655440" y="3355200"/>
                <a:ext cx="41004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2,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584800" y="3355200"/>
                <a:ext cx="48924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0,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043720" y="3355200"/>
                <a:ext cx="49644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-1,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581120" y="3355200"/>
                <a:ext cx="50256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-2,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538280" y="3277440"/>
                <a:ext cx="505440" cy="507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043720" y="3277440"/>
                <a:ext cx="505440" cy="507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549520" y="3277440"/>
                <a:ext cx="505440" cy="507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560400" y="3276720"/>
                <a:ext cx="505440" cy="507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054960" y="3277440"/>
                <a:ext cx="505440" cy="507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538280" y="3785400"/>
                <a:ext cx="505440" cy="50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043720" y="3785400"/>
                <a:ext cx="505440" cy="50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560400" y="3784680"/>
                <a:ext cx="505440" cy="507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054960" y="3785400"/>
                <a:ext cx="505440" cy="50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538280" y="4293360"/>
                <a:ext cx="505440" cy="507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560400" y="4292640"/>
                <a:ext cx="505440" cy="50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538280" y="4801680"/>
                <a:ext cx="505440" cy="50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043720" y="4801680"/>
                <a:ext cx="505440" cy="50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560400" y="4800600"/>
                <a:ext cx="505440" cy="507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054960" y="4801680"/>
                <a:ext cx="505440" cy="50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538280" y="5310360"/>
                <a:ext cx="505440" cy="50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043720" y="5310360"/>
                <a:ext cx="505440" cy="50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549520" y="5310360"/>
                <a:ext cx="505440" cy="50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560400" y="5309640"/>
                <a:ext cx="505440" cy="507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054960" y="5310360"/>
                <a:ext cx="505440" cy="50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4662720" y="3281400"/>
              <a:ext cx="3074760" cy="2530440"/>
              <a:chOff x="4662720" y="3281400"/>
              <a:chExt cx="3074760" cy="2530440"/>
            </a:xfrm>
          </p:grpSpPr>
          <p:sp>
            <p:nvSpPr>
              <p:cNvPr id="172" name=""/>
              <p:cNvSpPr/>
              <p:nvPr/>
            </p:nvSpPr>
            <p:spPr>
              <a:xfrm flipH="1" rot="16200000">
                <a:off x="5579280" y="3765960"/>
                <a:ext cx="632520" cy="614880"/>
              </a:xfrm>
              <a:prstGeom prst="hexagon">
                <a:avLst>
                  <a:gd name="adj" fmla="val 25717"/>
                  <a:gd name="vf" fmla="val 115470"/>
                </a:avLst>
              </a:prstGeom>
              <a:solidFill>
                <a:srgbClr val="ffcc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rot="16200000">
                <a:off x="5269680" y="4238280"/>
                <a:ext cx="631440" cy="614160"/>
              </a:xfrm>
              <a:prstGeom prst="hexagon">
                <a:avLst>
                  <a:gd name="adj" fmla="val 25703"/>
                  <a:gd name="vf" fmla="val 115470"/>
                </a:avLst>
              </a:prstGeom>
              <a:solidFill>
                <a:srgbClr val="ffcc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16200000">
                <a:off x="5886000" y="4241880"/>
                <a:ext cx="631440" cy="614880"/>
              </a:xfrm>
              <a:prstGeom prst="hexagon">
                <a:avLst>
                  <a:gd name="adj" fmla="val 25673"/>
                  <a:gd name="vf" fmla="val 115470"/>
                </a:avLst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16200000">
                <a:off x="5576400" y="4714200"/>
                <a:ext cx="631440" cy="614880"/>
              </a:xfrm>
              <a:prstGeom prst="hexagon">
                <a:avLst>
                  <a:gd name="adj" fmla="val 25673"/>
                  <a:gd name="vf" fmla="val 115470"/>
                </a:avLst>
              </a:prstGeom>
              <a:solidFill>
                <a:srgbClr val="ffcc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16200000">
                <a:off x="6194880" y="3767400"/>
                <a:ext cx="631440" cy="614880"/>
              </a:xfrm>
              <a:prstGeom prst="hexagon">
                <a:avLst>
                  <a:gd name="adj" fmla="val 25673"/>
                  <a:gd name="vf" fmla="val 115470"/>
                </a:avLst>
              </a:prstGeom>
              <a:solidFill>
                <a:srgbClr val="ffcc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rot="16200000">
                <a:off x="6809040" y="3771000"/>
                <a:ext cx="632520" cy="614160"/>
              </a:xfrm>
              <a:prstGeom prst="hexagon">
                <a:avLst>
                  <a:gd name="adj" fmla="val 25747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 rot="16200000">
                <a:off x="6501240" y="4241880"/>
                <a:ext cx="631440" cy="614880"/>
              </a:xfrm>
              <a:prstGeom prst="hexagon">
                <a:avLst>
                  <a:gd name="adj" fmla="val 25673"/>
                  <a:gd name="vf" fmla="val 115470"/>
                </a:avLst>
              </a:prstGeom>
              <a:solidFill>
                <a:srgbClr val="ffcc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 rot="16200000">
                <a:off x="7114320" y="4241880"/>
                <a:ext cx="631440" cy="614880"/>
              </a:xfrm>
              <a:prstGeom prst="hexagon">
                <a:avLst>
                  <a:gd name="adj" fmla="val 25673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rot="16200000">
                <a:off x="6192720" y="4715640"/>
                <a:ext cx="632520" cy="614880"/>
              </a:xfrm>
              <a:prstGeom prst="hexagon">
                <a:avLst>
                  <a:gd name="adj" fmla="val 25717"/>
                  <a:gd name="vf" fmla="val 115470"/>
                </a:avLst>
              </a:prstGeom>
              <a:solidFill>
                <a:srgbClr val="ffcc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 rot="16200000">
                <a:off x="6809040" y="4716000"/>
                <a:ext cx="632520" cy="614160"/>
              </a:xfrm>
              <a:prstGeom prst="hexagon">
                <a:avLst>
                  <a:gd name="adj" fmla="val 25747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 rot="16200000">
                <a:off x="4962240" y="3764880"/>
                <a:ext cx="631440" cy="614880"/>
              </a:xfrm>
              <a:prstGeom prst="hexagon">
                <a:avLst>
                  <a:gd name="adj" fmla="val 25673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rot="16200000">
                <a:off x="5270760" y="3289680"/>
                <a:ext cx="631440" cy="614880"/>
              </a:xfrm>
              <a:prstGeom prst="hexagon">
                <a:avLst>
                  <a:gd name="adj" fmla="val 25673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 rot="16200000">
                <a:off x="5887080" y="3294360"/>
                <a:ext cx="631440" cy="614880"/>
              </a:xfrm>
              <a:prstGeom prst="hexagon">
                <a:avLst>
                  <a:gd name="adj" fmla="val 25673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 rot="16200000">
                <a:off x="6504120" y="3294720"/>
                <a:ext cx="632160" cy="614880"/>
              </a:xfrm>
              <a:prstGeom prst="hexagon">
                <a:avLst>
                  <a:gd name="adj" fmla="val 25703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 rot="16200000">
                <a:off x="4961520" y="4708800"/>
                <a:ext cx="632520" cy="614880"/>
              </a:xfrm>
              <a:prstGeom prst="hexagon">
                <a:avLst>
                  <a:gd name="adj" fmla="val 25717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 rot="16200000">
                <a:off x="5266800" y="5188680"/>
                <a:ext cx="631440" cy="614880"/>
              </a:xfrm>
              <a:prstGeom prst="hexagon">
                <a:avLst>
                  <a:gd name="adj" fmla="val 25673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rot="16200000">
                <a:off x="5883840" y="5188680"/>
                <a:ext cx="631440" cy="614880"/>
              </a:xfrm>
              <a:prstGeom prst="hexagon">
                <a:avLst>
                  <a:gd name="adj" fmla="val 25673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rot="16200000">
                <a:off x="6499800" y="5188680"/>
                <a:ext cx="631440" cy="614880"/>
              </a:xfrm>
              <a:prstGeom prst="hexagon">
                <a:avLst>
                  <a:gd name="adj" fmla="val 25673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rot="16200000">
                <a:off x="4654440" y="4234320"/>
                <a:ext cx="631440" cy="614880"/>
              </a:xfrm>
              <a:prstGeom prst="hexagon">
                <a:avLst>
                  <a:gd name="adj" fmla="val 25673"/>
                  <a:gd name="vf" fmla="val 11547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973480" y="4388040"/>
                <a:ext cx="71604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0,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250320" y="3881880"/>
                <a:ext cx="53748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0,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599440" y="3881880"/>
                <a:ext cx="62604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-1,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331960" y="4345560"/>
                <a:ext cx="49140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-1,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639760" y="4829760"/>
                <a:ext cx="54540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0,-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565320" y="4346640"/>
                <a:ext cx="48996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1,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281640" y="4829760"/>
                <a:ext cx="53676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1,-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565320" y="3348000"/>
                <a:ext cx="53748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0,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331960" y="5271480"/>
                <a:ext cx="53748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0,-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969520" y="5271480"/>
                <a:ext cx="53748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1,-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565320" y="5271480"/>
                <a:ext cx="53748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2,-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76720" y="4857480"/>
                <a:ext cx="53748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2,-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175880" y="4388040"/>
                <a:ext cx="53748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2,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876720" y="3912840"/>
                <a:ext cx="53748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1,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969520" y="3348000"/>
                <a:ext cx="53748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-1,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331960" y="3348000"/>
                <a:ext cx="53748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-2,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994640" y="3881880"/>
                <a:ext cx="53748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-2,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716720" y="4326480"/>
                <a:ext cx="53748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-2,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963320" y="4829760"/>
                <a:ext cx="676440" cy="4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-1,-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0" name=""/>
          <p:cNvSpPr/>
          <p:nvPr/>
        </p:nvSpPr>
        <p:spPr>
          <a:xfrm>
            <a:off x="895320" y="733320"/>
            <a:ext cx="7686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t of regular square or hexagons cover the finite region where the phenomenon evo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square hexagon is individuated by a pair of integers 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7720" y="0"/>
            <a:ext cx="5853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CA Neighbourho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052280" y="2228400"/>
            <a:ext cx="735804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s possible applications can b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440" indent="-1440" algn="just">
              <a:spcBef>
                <a:spcPts val="499"/>
              </a:spcBef>
              <a:spcAft>
                <a:spcPts val="10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long term forecasting of the flow direction at various eruption rates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440" indent="-1440" algn="just">
              <a:spcBef>
                <a:spcPts val="499"/>
              </a:spcBef>
              <a:spcAft>
                <a:spcPts val="10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creation of microzonal hazard maps through a statistical approach, by simulating different lava event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440" indent="-1440" algn="just">
              <a:spcBef>
                <a:spcPts val="499"/>
              </a:spcBef>
              <a:spcAft>
                <a:spcPts val="10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ility to follow the progress of an event and predict its evolutio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440" indent="-1440" algn="just">
              <a:spcBef>
                <a:spcPts val="499"/>
              </a:spcBef>
              <a:spcAft>
                <a:spcPts val="10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imulation of the possible effects of intervention (canals, embankments, etc) on flows for stream devi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4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747720" y="0"/>
            <a:ext cx="5853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The SCIARA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25560" y="874800"/>
            <a:ext cx="75769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IARA is a Cellular Automata based model for the simulation of lava f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0:08:30Z</dcterms:created>
  <dc:creator>Pippo</dc:creator>
  <dc:description/>
  <dc:language>en-US</dc:language>
  <cp:lastModifiedBy>empedocles</cp:lastModifiedBy>
  <dcterms:modified xsi:type="dcterms:W3CDTF">2003-05-19T09:00:38Z</dcterms:modified>
  <cp:revision>95</cp:revision>
  <dc:subject/>
  <dc:title>Hexagonal Cellular Automata Model for Lava Flow Simulation. G M Crisci, A Di Francia, S Di Gregorio, R Rongo W Spataro University of Calabria,  Italy</dc:title>
</cp:coreProperties>
</file>