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7518-EC9A-427C-BDF8-05358F99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7F4-9665-411F-8F37-CF53182C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F3E6-C819-4D6A-82CE-64EE9AE6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0EB8-9ADE-4258-9772-AEBE4158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EF32-BC71-450E-9D25-D8691B26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241E-4BEB-400C-A844-D6A8C9BC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6620-FCB3-4D4C-94E7-0DF6DD69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57B4-02AC-4D9A-ABBF-A835E0F7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340D-5E4E-4EC8-9A5B-F9EEB45B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AA0A-E67C-4AEA-828B-2CCE053A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167E-4B15-4C9A-AD16-267B2BBA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893-004D-428F-866B-5586334A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B96F-03B8-4542-8A28-0B622A75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779B-7E5A-4F98-A6DA-81EF89CD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0FD4-DDCA-45B6-BB78-216217B8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A0CC-7B23-4053-9E9D-7C73A668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DA16-D70F-4EBA-A551-D846B2B4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068-3988-4B5C-B734-2AE81012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336-EEA0-4055-8C48-041AC444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C0E-A240-461E-822F-974C0E4B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DD2-411A-4187-A95C-6015C73E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D79-32EF-46C0-890D-BE1DD361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FCDF-A4D4-4D56-9502-F8FFE351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BC9-2D63-4F41-B496-A4629B01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792D-FC77-4FFF-8065-6253440D2A57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57F6-658C-4844-ACEB-F1D1772FB067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AE28-1150-4726-8A79-EB02560E576F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5912-9D96-4876-8B77-CBFC5F4A5B08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Reti Neurali: studi sull'intelligenza artificia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. Genti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Dipartimento di Matematica e Informatica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Struttura delle re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 neuroni sono  distribuiti e connessi in modi che dipendono dal tipo di re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elle reti di tipo feed-forward il segnale si propaga da un input a un 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elle reti ricorrenti o di tipo feedback torna anche indi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2695320" cy="1447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447920" y="4495680"/>
            <a:ext cx="263844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 computer tradizionali non imparano dai propri sbag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l cervello umano s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La maggior parte delle reti neurali an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648320" y="2166840"/>
            <a:ext cx="3429000" cy="3367080"/>
            <a:chOff x="4648320" y="2166840"/>
            <a:chExt cx="3429000" cy="336708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4648320" y="2166840"/>
              <a:ext cx="3429000" cy="33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6705720" y="2362320"/>
              <a:ext cx="76176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L’addestramento delle re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Addestram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e reti neurali rispondono in funzione della forza delle connessioni fra neuro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Una rete addestrata è quindi una rete in cui i pesi delle connessioni sono stati fissa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metod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4724280"/>
            <a:ext cx="7162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reti a struttura predefin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reti supervisio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reti auto-organizz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19320" y="5334120"/>
            <a:ext cx="590400" cy="609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295280" y="4800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143000" y="6019920"/>
            <a:ext cx="67644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La storia delle reti neurali artificiali: gli iniz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l primo modello di neurone artificiale risale al 1943 e fu ideato da Mc. Culloch e Pit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e prime reti neurali artificiali non apprendevano e i pesi sinaptici venivano modificati a m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 neuroni avevano una semplice attivazione a sog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57200" y="4876920"/>
            <a:ext cx="53352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Gli anni 50-6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Nel 1949 Hebb propose il primo meccanismo di apprendimento: se due neuroni sono attivi contemporaneamente la forza della loro connessione aumen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Nel 1962 Rosemblatt propose una regola di apprendimento che modificava i pesi se la risposta era scorretta (perceptron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Nello stesso periodo (1960) Widrow e Hoff proposero un meccanismo simile ma più potente la “regola della delta”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590400" cy="609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590400" cy="609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80880" y="2133720"/>
            <a:ext cx="67644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Gli anni 70-8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el 1969 Minsky e Papert dimostrarono che i perceptron non erano in grado di risolvere funzioni logiche non linearmente separabil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el 1974 Kohonen propose le “mappe di Kohonen” si trattava di reti “non supervisionat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el 1986 venne risolto il problema dei perceptron con lo sviluppo della “Back-Propagation” il metodo più diffuso ancor ogg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ello stesso anno Grossberg propose la Teoria della Risonanza Adattiva che permetteva di aggiungere conoscenza a una rete già addestr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590760" cy="609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04920" y="5181480"/>
            <a:ext cx="676080" cy="505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04920" y="3200400"/>
            <a:ext cx="676080" cy="50472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33520" y="2209680"/>
            <a:ext cx="489960" cy="447840"/>
            <a:chOff x="533520" y="2209680"/>
            <a:chExt cx="489960" cy="447840"/>
          </a:xfrm>
        </p:grpSpPr>
        <p:grpSp>
          <p:nvGrpSpPr>
            <p:cNvPr id="167" name=""/>
            <p:cNvGrpSpPr/>
            <p:nvPr/>
          </p:nvGrpSpPr>
          <p:grpSpPr>
            <a:xfrm>
              <a:off x="550800" y="2209680"/>
              <a:ext cx="39240" cy="442440"/>
              <a:chOff x="550800" y="2209680"/>
              <a:chExt cx="39240" cy="442440"/>
            </a:xfrm>
          </p:grpSpPr>
          <p:sp>
            <p:nvSpPr>
              <p:cNvPr id="168" name=""/>
              <p:cNvSpPr/>
              <p:nvPr/>
            </p:nvSpPr>
            <p:spPr>
              <a:xfrm>
                <a:off x="568800" y="2240280"/>
                <a:ext cx="360" cy="411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50800" y="2209680"/>
                <a:ext cx="39240" cy="38520"/>
              </a:xfrm>
              <a:custGeom>
                <a:avLst/>
                <a:gdLst/>
                <a:ahLst/>
                <a:rect l="l" t="t" r="r" b="b"/>
                <a:pathLst>
                  <a:path w="65" h="60">
                    <a:moveTo>
                      <a:pt x="65" y="60"/>
                    </a:moveTo>
                    <a:lnTo>
                      <a:pt x="30" y="0"/>
                    </a:lnTo>
                    <a:lnTo>
                      <a:pt x="0" y="60"/>
                    </a:lnTo>
                    <a:lnTo>
                      <a:pt x="65" y="6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69880" y="2598480"/>
              <a:ext cx="453600" cy="42840"/>
              <a:chOff x="569880" y="2598480"/>
              <a:chExt cx="453600" cy="42840"/>
            </a:xfrm>
          </p:grpSpPr>
          <p:sp>
            <p:nvSpPr>
              <p:cNvPr id="171" name=""/>
              <p:cNvSpPr/>
              <p:nvPr/>
            </p:nvSpPr>
            <p:spPr>
              <a:xfrm>
                <a:off x="569880" y="2617920"/>
                <a:ext cx="4244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87120" y="2598480"/>
                <a:ext cx="36360" cy="4284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12520" y="2282760"/>
              <a:ext cx="72720" cy="7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520" y="2282760"/>
              <a:ext cx="7128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12520" y="2579400"/>
              <a:ext cx="72720" cy="78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3520" y="2579400"/>
              <a:ext cx="71280" cy="7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7920" y="2217600"/>
              <a:ext cx="348840" cy="36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Sviluppi degli ultimi 10 ann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plicazioni delle reti neurali esistenti a moltissimi campi di ricer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viluppo di hardware parallelo per implementare le reti neural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plicazione della logica Fuzzy alle reti neura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Possibilità di aggiungere conoscenza a reti supervisionate già addest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Applicazioni esisten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Compressione dei da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Eliminazione del rum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Riconoscimento segnali son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Macchina da scrivere fone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Riconoscimento di caratte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istemi di guida automa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Analisi finanzia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Medic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Problema del riconoscimento di ogget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5280" y="34290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gget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lassific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3962520"/>
            <a:ext cx="106704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3962520"/>
            <a:ext cx="99036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3657600"/>
            <a:ext cx="1905120" cy="609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37339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lassificat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3962520"/>
            <a:ext cx="16002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3429000"/>
            <a:ext cx="220968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3429000"/>
            <a:ext cx="213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ostruzione di una descrizione form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tte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Vantaggi delle reti neural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e reti neurali sono in grado di risolvere problemi estremamente complessi per algoritmi tradiziona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ono in grado di impar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avorano in tempo re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Ottengono risultati anche in presenza di dati complicati e imprecis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Cos’è l’intelligenza artificial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Lo scopo dell’intelligenza artificiale è lo sviluppo di algoritmi che svolgono operazioni che apparentemente richiedono </a:t>
            </a: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cognizion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quando fatte da uma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Un sistema intelligente deve fare 3 co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41972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Memorizzare la conoscen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plicare la conoscenza a risolvere i proble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cquisire conoscenza tramite l’esperien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Possibili limi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ono “scatole nere”, i problemi vengono risolti, non capi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È necessario disporre di un ampio insieme di esempi per addestrar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Cos’è una rete neural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Una rete neurale è letteralmente una rete di neuroni (artificiali o no) collegati fra lo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l singolo neurone del cervello  è più lento di un chip (1 evento/ms vs 1 milione/m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l cervello è però composto da 100 miliardi di neuroni ognuno dei quali comunica con altri diecimila neuro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Computer e reti neural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l computer tradizionale (di Von Neumann) è molto rapido e efficiente nel risolvere compiti in cui l’essere umano è in difficolt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È però molto lento e inefficiente nel risolvere problemi che riguardano la vita quotidiana che l’essere umano risolve molto veloce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848720" y="762120"/>
            <a:ext cx="761760" cy="6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it-IT" sz="4000" spc="-1" strike="noStrike">
                <a:solidFill>
                  <a:srgbClr val="ffcc66"/>
                </a:solidFill>
                <a:latin typeface="Times New Roman"/>
              </a:rPr>
              <a:t>Calcolatore tradizional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Ogni dato viene elaborato in success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Esiste un solo elemento di elaborazione (processore) che fa tutte le operazio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Ogni dato è identificato da un indiriz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l calcolatore deve essere programmato per svolgere un comp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362320" y="6019920"/>
            <a:ext cx="3200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Cervello uman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 dati vengono elaborati in parall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Molti elementi di elaborazione (neuroni) lavorano allo stesso probl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l singolo dato è identificato in base al contenu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l cervello impara in base all’esperienza o con l’aiuto di un insegn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61760" cy="6634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2362320" y="6019920"/>
            <a:ext cx="3200400" cy="457200"/>
            <a:chOff x="2362320" y="6019920"/>
            <a:chExt cx="3200400" cy="457200"/>
          </a:xfrm>
        </p:grpSpPr>
        <p:sp>
          <p:nvSpPr>
            <p:cNvPr id="119" name=""/>
            <p:cNvSpPr/>
            <p:nvPr/>
          </p:nvSpPr>
          <p:spPr>
            <a:xfrm>
              <a:off x="2362320" y="6019920"/>
              <a:ext cx="3200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62320" y="6172200"/>
              <a:ext cx="3200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2320" y="6324480"/>
              <a:ext cx="3200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62320" y="6477120"/>
              <a:ext cx="3200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12952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58680" y="1279440"/>
            <a:ext cx="695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Le reti neurali artificial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e reti neurali artificiali sono sistemi di elaborazione ispirati al sistema nervoso degli esseri viventi li ricordano in due co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19320" y="3886200"/>
            <a:ext cx="7162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a conoscenza è acquisita tramite un processo di addestra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a forza delle connessioni fra neuroni è usata per memorizzare la conoscen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Il cervello uman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l cervello è costituito da una rete di neuron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l singolo neurone, tramite dendriti e sinapsi arrivano segnali elettrici dagli altri neuro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e il segnale è al di sopra di una soglia il neurone genera un segnale in uscita lungo l’asso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" y="2152800"/>
            <a:ext cx="3809880" cy="37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La rete neurale artificia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a rete neurale artificiale è costituita da semplici unità che simulano i neuroni (neuroni o nod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l singolo neurone arrivano segnali dagli altri neuroni con una intensità che dipende dai pesi sinaptici delle connessio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l segnale in uscita è in genere una funzione della somma di quelli in entr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17:46:11Z</dcterms:created>
  <dc:creator>Stefania Gentili</dc:creator>
  <dc:description/>
  <dc:language>en-US</dc:language>
  <cp:lastModifiedBy>Università della Calabria</cp:lastModifiedBy>
  <dcterms:modified xsi:type="dcterms:W3CDTF">2003-05-22T13:32:00Z</dcterms:modified>
  <cp:revision>27</cp:revision>
  <dc:subject/>
  <dc:title>Reti Neurali: studi sull'intelligenza artificiale</dc:title>
</cp:coreProperties>
</file>