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848-0555-4B42-A903-4E2D73F2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E17-CBEB-4B1C-8766-29D5D30C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F29-1F94-4126-8A47-4AF03D34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1B5-F859-49CB-B97A-419AB813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11D2-B1B2-4184-BC88-CC0D474D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4B5D-1AA8-40E8-811D-FA044AED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F479-49D0-414E-8BB8-B1AB456A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5CEF-1B91-4150-8790-C226CB25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2EC3-FCBE-4236-8540-E8248DA6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0F32-33AE-4197-A8CF-1454CE6D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4BF-B4A3-45CD-A21F-B3F75424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1DE-287F-470C-B569-BB20E215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C9B6-E643-4763-B2F9-ECF846A5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C72D-9E38-4C23-BE56-D88AF4C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2FE8-D237-4A60-94F4-268E2F06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8988-182F-4E84-8F32-DAE0BF5C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42D0-68C1-41B3-8A8F-E00A1563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A97-3A6F-4258-824B-DACA753E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A36-733D-4676-8158-A6CFF058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92C-1814-44B7-8CE3-92ECE6BD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EFD-2C95-47D6-B0FB-C1EB063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4BE-8BA9-4C4A-AD3A-8B1EB0B9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192-1AD2-43B9-8667-8F2E6817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B3E-504B-4AC1-999F-3B537123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AD73-A14F-4743-BF18-6247AFC62C0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94FD-AA36-48AE-98FB-DA887258483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0066"/>
                </a:solidFill>
                <a:latin typeface="Arial"/>
              </a:rPr>
              <a:t>Grafi</a:t>
            </a:r>
            <a:br>
              <a:rPr sz="3500"/>
            </a:br>
            <a:br>
              <a:rPr sz="800"/>
            </a:br>
            <a:r>
              <a:rPr b="1" lang="it-IT" sz="3500" spc="-1" strike="noStrike">
                <a:solidFill>
                  <a:srgbClr val="330066"/>
                </a:solidFill>
                <a:latin typeface="Arial"/>
              </a:rPr>
              <a:t>La classe Grafo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rafi orien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trici di adiac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todi essenz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La classe Grafo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 vn, vm;          // numero di nodi e numero di ar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trice&lt;bool&gt; archi;    // matrice di adiac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oid init( int nNo 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// inizi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La classe Grafo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/ costru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rafo( int nNo 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/ inserisce o elimina (i,j) a secondo se b è true 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oid operator()( int i, int j, bool b 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limina tutti gli ar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oid svuota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sseg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rafo&amp; operator= ( const Grafo&amp; G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La classe Grafo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/ funzioni cost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/ restituisce il numero di no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 n() 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/ restituisce il numero di arch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 m() 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/ restituisce vero o falso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/ l'arco (i,j) è nel grafo o m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ool operator() ( int i, int j ) 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Esempio di utilizzo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ttore&lt;bool&gt; visitaVentaglio( const Grafo&amp; G, int v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ttore&lt;bool&gt; visitato(1,G.n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 (int k=1; k&lt;=visitato.n(); k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sitato[k]=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da&lt;int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sitato[v] = tru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.inCoda(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hile ( !C.vuota(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 i = C.fuoriCoda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 (int j = 1; j &lt;= G.n(); 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f ( G(i,j) &amp;&amp; !visitato[j]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.inCoda(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sitato[j] =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turn visit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Esempio di utilizzo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int main()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Grafo g(6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g(1,2,true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g(1,3,true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g(1,5,true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g(2,4,true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g(2,6,true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int start = 1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Vettore&lt;bool&gt; vis = visitaVentaglio( g, start 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cout&lt;&lt;"Nodi visitati a partire da " &lt;&lt; start &lt;&lt; end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for( int i=1; i&lt;=g.n(); i++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if( vis[i]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cout&lt;&lt;i&lt;&lt;end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sanna</cp:lastModifiedBy>
  <dcterms:modified xsi:type="dcterms:W3CDTF">2010-12-10T14:33:1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7758975</vt:r8>
  </property>
  <property fmtid="{D5CDD505-2E9C-101B-9397-08002B2CF9AE}" pid="3" name="_AuthorEmail">
    <vt:lpwstr>cozza@mat.unical.it</vt:lpwstr>
  </property>
  <property fmtid="{D5CDD505-2E9C-101B-9397-08002B2CF9AE}" pid="4" name="_AuthorEmailDisplayName">
    <vt:lpwstr>Susanna Cozza</vt:lpwstr>
  </property>
  <property fmtid="{D5CDD505-2E9C-101B-9397-08002B2CF9AE}" pid="5" name="_EmailSubject">
    <vt:lpwstr>esercitazione di lunedì prossimo</vt:lpwstr>
  </property>
</Properties>
</file>