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5844-F832-4CAF-A48E-D27069170F9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4012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2C33D-BC52-49F8-82FB-1C066BF99C8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7920" cy="37180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93FC-32DA-4516-8169-FEC89F94869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celle su cui applicare la formattazione condizionale possono contenere formule, oltre che val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. Immettere in colonna i valori 2000, 3500, 2750, 3800 e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 In A6 inserire la somma dei valori immessi da A1 ad 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 Attivare A6 e applicare la formattazione condizionale in modo da essere avvertiti quando il valore è &lt; 1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. Scegliere un formato per tale ev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932A-186A-443F-A19F-3D5E7DEB0C52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Salvataggio dell’area di lavoro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vengono salvate le singole cartelle di lavoro, le informazioni sui file aperti e sulle posizioni delle finest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Quando si apre il file di un’area di lavoro, tutte le cartelle di lavoro e le finestre sono aperte e disposte come nell’area di lavoro salv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D61D-17F5-458B-BEBF-F36EB3EF07F1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elezionare i fogli, immettere e modificare dati, modificare larghezza colonne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8747-6ECC-48F8-B455-DCAC41F2A42E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alcolare il valore di un incremento del 10% per uno stipendio di L. 2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. In A2, digitare 2000000, riattivare A2, cliccare sul pulsante Valu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 In B2, digitare il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 In C2, digitare =A2*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o di funzione semplice: visualizza “Eccedenza budget” se il valore immesso è &lt;1000, altrimenti “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A10, digitare 1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 In B10, digitare =SE(A10&gt;1000; “Eccedenza budget”; “OK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o di funzione complessa: =SE(A20&gt;=9; “A”; SE(A20&gt;=8; “B”; SE(A20&gt;=7; “C”; SE (A20&gt;=6; “D”; “F”)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tri esempi: vedere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Guida </a:t>
            </a: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empi di formule com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5D4-E58B-4CC2-B973-9D2E040432A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È possibile ridimensionare la colonna trascinando il bordo che si trova tra le intestazioni di colo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pplicare un formato numero differen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   In alcuni casi è possibile cambiare il formato numero della cella per adattare il numero alla larghezza della cella. È ad esempio possibile diminuire il numero di cifre decimali dopo la virg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ccertarsi che le formule di data e di ora siano corret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   Quando si sottraggono date e ore, accertarsi che la formula sia definita correttamente. Se si utilizza il sistema di data 1900, è necessario che le date e le ore siano valori positivi. Di conseguenza, se si sottrae una data o un'ora da una precedente, verrà restituito l'errore #####. Per utilizzare il sistema di data 1900, sceglier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p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al menu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trument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fare clic sulla sched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alcol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quindi deselezionare la casella di controll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istema data 1904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 Se la formula è corretta, benché il risultato sia un valore negativo, sarà possibile visualizzare il valore utilizzando nella cella in formato diverso dal formato data o ora. Sceglier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ell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al menu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fare clic sulla sched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umer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quindi selezionare un formato differente dal formato data o 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52B4-4CD1-497E-8AEA-AECBA1EEACF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983-1110-40A1-A822-5C472521A74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1100-7A37-41ED-8774-B0376F551E4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dere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Guida</a:t>
            </a:r>
            <a:r>
              <a:rPr b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fferenza tra riferimenti relativi e riferimenti assolu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226D-9B5C-4E00-BFFF-9DAF41B23C53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5EE1-9874-414C-9E16-A56178B88655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questo esempio un grafico ad area evidenzia l'incremento delle vendite in Valle d'Aosta e illustra il contributo di ciascuna area alle vendite tot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grafico riportato in questo esempio, la serie di dati che copre l'area più ampia rappresenta la marca con il più alto contenuto di vitamine (marca 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8AF0-C9BC-456F-A8F1-D9B426A98AE0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Cenni: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Inserire, rimuovere, scoprire, nascondere, ridimensionare righe e colo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-up Menu, o Inserisci, o Form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grafico di questo esempio mostra che la società A prevale come numero di prodotti e quota di mercato ma non come vend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grafico a superficie mostra le varie combinazioni di temperature e tempo relative a una stessa misura di resistenza alla tr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reazione di un ideogra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il grafico, cliccare con il tasto destro del mouse, scegliere Tipo di grafico e selezionare un istogramma a due dimens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ccare su una delle due barre del gra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serisci/Immagine/Da file, scegliere l’imma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ccare  con il tasto destro del mouse e scegliere Formato serie d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ccare sull’opzione Proporzionale dalla scheda Mo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7B7-D7C7-4505-93AF-9815BAE11F8B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umeri: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xcel usa automaticamente la notazione scientifica per visualizzare i numeri troppo lunghi perché la cella possa contenerli per intero. Se anche la notazione scientifica è troppo estesa, il valore viene sostituito con una serie di simboli di numero o cancelletto. Oltre le 11 cifre, Excel converte il numero in notazione scientifica e regola la larghezza della colonna di consegue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esto: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quando un numero deve essere interpretato come testo è sufficiente digitare un apostrofo prima del num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ate/Orari: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xcel converte l’informazione in numero progressivo, indicante il tempo che separa la data o l’ora dall’inizio del secolo. L’uso di questi numeri progressivi permettte al programma di effettuare qualsiasi calcolo sulle date e gli orari immessi. I numeri progressivi sono mantenuti in background dal programma, che invece visualizza sul foglio le date e gli orari corrispondenti nel formato sce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4409-9E9E-4869-B6F5-60A4FE7E458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gen, gen-00, 1 3, Mela pera ara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Valore limi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 valore finale della s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ndenz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 fornisce le curve di crescita lineare e geome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Cenni: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Controllo ortografia e correzione autom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6E7A-30DC-4DF3-93BE-E5D694056C29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Cenni: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Pulsante unisci c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512F-7FA9-4698-8D8C-149F4B29C4B4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D0D-DAA5-4B57-85F2-BCEE7F14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78540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D50-DCA1-4AFB-A238-A0FA000F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5E2-6E26-43FB-A884-58514A21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B8D-75E3-4F12-8CC4-08BE3C04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DB93B-12EC-44DE-B382-5F82181FD5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4A41A-551F-46F3-909A-1CBD4CB4F0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A965F-F1B1-4C8B-9A15-B17CD25BE1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42157-1B6D-4472-BFAF-8AAAC642D9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742C2-28A1-4E2A-AD9B-0D407A8CFF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8001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DECE1-BB7D-4575-9EBA-DA89EE9E5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62DC9-4E07-44C4-997D-86D16049A5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3FE-23B2-42CD-9449-F68A682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C73B6-5CD2-4433-92D2-F92CF7B13B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FD0B4-FDC3-497F-8417-C317B4ECDA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78540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D64B2-9698-45FF-BFAD-DC49030455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FEE86-5F8C-4CAC-BE4D-286F6C041B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71AF4-AD15-4856-89A8-FF28CF0F2E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C07-0840-4C84-86EB-A58D9733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185-EDA5-4D4A-9BBD-ADCD2B72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D27-9149-4DF1-8803-23F11EA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8001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2ED-1D30-4615-B672-FB4936F8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09E-4B74-4DCF-9E72-19C0F007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4D1-5C38-48A1-BCD0-F1C2C3D0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80B-6A80-4A74-82BA-4275CE3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28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092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0792-809A-4CD0-9E55-CFA214741E6A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946160" y="981000"/>
            <a:ext cx="7197840" cy="108000"/>
            <a:chOff x="1946160" y="981000"/>
            <a:chExt cx="7197840" cy="108000"/>
          </a:xfrm>
        </p:grpSpPr>
        <p:sp>
          <p:nvSpPr>
            <p:cNvPr id="6" name="Rectangle 8"/>
            <p:cNvSpPr/>
            <p:nvPr/>
          </p:nvSpPr>
          <p:spPr>
            <a:xfrm>
              <a:off x="1946160" y="1017720"/>
              <a:ext cx="7197840" cy="3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877080" y="981000"/>
              <a:ext cx="1800360" cy="1080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189000"/>
            <a:ext cx="7197840" cy="936360"/>
            <a:chOff x="0" y="189000"/>
            <a:chExt cx="7197840" cy="936360"/>
          </a:xfrm>
        </p:grpSpPr>
        <p:sp>
          <p:nvSpPr>
            <p:cNvPr id="9" name="Rectangle 11"/>
            <p:cNvSpPr/>
            <p:nvPr/>
          </p:nvSpPr>
          <p:spPr>
            <a:xfrm>
              <a:off x="0" y="331920"/>
              <a:ext cx="7197840" cy="3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24000" y="189000"/>
              <a:ext cx="215640" cy="9363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 flipV="1">
            <a:off x="1187280" y="2851560"/>
            <a:ext cx="7201080" cy="716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AutoShape 5"/>
          <p:cNvSpPr/>
          <p:nvPr/>
        </p:nvSpPr>
        <p:spPr>
          <a:xfrm flipH="1">
            <a:off x="1115280" y="4508640"/>
            <a:ext cx="7270920" cy="71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651640" y="5084640"/>
            <a:ext cx="2806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46800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B79A-232E-447C-B406-3A2920E3CC51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Università della Calabria</a:t>
            </a:r>
            <a:br>
              <a:rPr sz="1500"/>
            </a:br>
            <a:br>
              <a:rPr sz="2300"/>
            </a:br>
            <a:r>
              <a:rPr b="0" lang="it-IT" sz="1700" spc="-1" strike="noStrike">
                <a:solidFill>
                  <a:srgbClr val="cc0000"/>
                </a:solidFill>
                <a:latin typeface="Tahoma"/>
              </a:rPr>
              <a:t>Facoltà di Farmacia e Scienze della Nutrizione e della Salute</a:t>
            </a:r>
            <a:endParaRPr b="0" lang="en-US" sz="17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4360" y="39290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6699"/>
                </a:solidFill>
                <a:latin typeface="Tahoma"/>
              </a:rPr>
              <a:t>CORSI DI POTENZIAMENTO</a:t>
            </a:r>
            <a:br>
              <a:rPr sz="1500"/>
            </a:b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Modulo di 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INFORMATICA</a:t>
            </a:r>
            <a:br>
              <a:rPr sz="1500"/>
            </a:br>
            <a:br>
              <a:rPr sz="1300"/>
            </a:br>
            <a:br>
              <a:rPr sz="1300"/>
            </a:br>
            <a:r>
              <a:rPr b="1" lang="it-IT" sz="2700" spc="-1" strike="noStrike">
                <a:solidFill>
                  <a:srgbClr val="cc0000"/>
                </a:solidFill>
                <a:latin typeface="Tahoma"/>
              </a:rPr>
              <a:t>4-Microsoft Exc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7BE9-2A0D-4ACE-A5E8-0C373F2469E6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ormattazione automatica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pplicare i formati predefiniti ad un gruppo di dati disposti in forma tabellar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ormattazione condizionale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nitorare i dati immessi ed avvertire l’utente quando i valori digitati in un certo intervallo non soddisfano i criteri impostati precedentemen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ù FORMATO -&gt; Formattazione condizional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4/4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71" name="Picture 4" descr="format_cond"/>
          <p:cNvPicPr/>
          <p:nvPr/>
        </p:nvPicPr>
        <p:blipFill>
          <a:blip r:embed="rId1"/>
          <a:stretch/>
        </p:blipFill>
        <p:spPr>
          <a:xfrm>
            <a:off x="1928880" y="4429080"/>
            <a:ext cx="52480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"/>
          <p:cNvGrpSpPr/>
          <p:nvPr/>
        </p:nvGrpSpPr>
        <p:grpSpPr>
          <a:xfrm>
            <a:off x="6858000" y="235080"/>
            <a:ext cx="1676520" cy="1323000"/>
            <a:chOff x="6858000" y="235080"/>
            <a:chExt cx="1676520" cy="1323000"/>
          </a:xfrm>
        </p:grpSpPr>
        <p:pic>
          <p:nvPicPr>
            <p:cNvPr id="173" name="Picture 6" descr="lez"/>
            <p:cNvPicPr/>
            <p:nvPr/>
          </p:nvPicPr>
          <p:blipFill>
            <a:blip r:embed="rId2"/>
            <a:stretch/>
          </p:blipFill>
          <p:spPr>
            <a:xfrm>
              <a:off x="7050240" y="23508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6858000" y="12207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Segnaposto data 8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egnaposto piè di pagina 9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9F2F-2A43-4F13-934A-7408EBDBBEC7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66280" y="155880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alvataggio dell’area di lavoro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emorizzare la disposizione desiderata delle finestre aper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File/Salva area di lavoro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isposizione delle cartelle di lavor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Finestra/Disponi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postamento e copia dei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fogli di lavoro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Modifica/Sposta  </a:t>
            </a: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o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Modifica/Copia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Rapidi: 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ostamento: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rag ‘n’ drop con il pulsante sinistro del mous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pia: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TRL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+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rag ‘n’ drop con il pulsante sinistro del mous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Gest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cc0000"/>
                </a:solidFill>
                <a:latin typeface="Tahoma"/>
              </a:rPr>
              <a:t>dell’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area di lavoro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927840" y="44280"/>
            <a:ext cx="1676520" cy="1323360"/>
            <a:chOff x="6927840" y="44280"/>
            <a:chExt cx="1676520" cy="1323360"/>
          </a:xfrm>
        </p:grpSpPr>
        <p:pic>
          <p:nvPicPr>
            <p:cNvPr id="181" name="Picture 6" descr="lez"/>
            <p:cNvPicPr/>
            <p:nvPr/>
          </p:nvPicPr>
          <p:blipFill>
            <a:blip r:embed="rId1"/>
            <a:stretch/>
          </p:blipFill>
          <p:spPr>
            <a:xfrm>
              <a:off x="7120080" y="44280"/>
              <a:ext cx="13316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7"/>
            <p:cNvSpPr/>
            <p:nvPr/>
          </p:nvSpPr>
          <p:spPr>
            <a:xfrm>
              <a:off x="6927840" y="1030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9C89-F23C-44E7-BECF-FB7009BBDEB1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6280" y="163008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elezione e modifica su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fogli multipl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ire le stesse informazioni, applicare lo stesso format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prire una nuova cartella di lavor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liccare sulla scheda del primo foglio da modificar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enere premuto </a:t>
            </a:r>
            <a:r>
              <a:rPr b="0" lang="it-IT" sz="2000" spc="-1" strike="noStrike">
                <a:solidFill>
                  <a:srgbClr val="003399"/>
                </a:solidFill>
                <a:latin typeface="Courier New"/>
              </a:rPr>
              <a:t>SHIFT 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e cliccare sulla scheda dell’ultimo foglio da modificare; per i fogli non adiacenti tenere premuto </a:t>
            </a:r>
            <a:r>
              <a:rPr b="0" lang="it-IT" sz="2000" spc="-1" strike="noStrike">
                <a:solidFill>
                  <a:srgbClr val="003399"/>
                </a:solidFill>
                <a:latin typeface="Courier New"/>
              </a:rPr>
              <a:t>CTRL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anziché </a:t>
            </a:r>
            <a:r>
              <a:rPr b="0" lang="it-IT" sz="2000" spc="-1" strike="noStrike">
                <a:solidFill>
                  <a:srgbClr val="003399"/>
                </a:solidFill>
                <a:latin typeface="Courier New"/>
              </a:rPr>
              <a:t>SHIFT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llegamenti ipertestual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Inserisci/Collegamento ipertestuale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Gest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cc0000"/>
                </a:solidFill>
                <a:latin typeface="Tahoma"/>
              </a:rPr>
              <a:t>dell’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area di lavoro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7072200" y="115920"/>
            <a:ext cx="1676520" cy="1323000"/>
            <a:chOff x="7072200" y="115920"/>
            <a:chExt cx="1676520" cy="1323000"/>
          </a:xfrm>
        </p:grpSpPr>
        <p:pic>
          <p:nvPicPr>
            <p:cNvPr id="189" name="Picture 5" descr="lez"/>
            <p:cNvPicPr/>
            <p:nvPr/>
          </p:nvPicPr>
          <p:blipFill>
            <a:blip r:embed="rId1"/>
            <a:stretch/>
          </p:blipFill>
          <p:spPr>
            <a:xfrm>
              <a:off x="7264440" y="11592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6"/>
            <p:cNvSpPr/>
            <p:nvPr/>
          </p:nvSpPr>
          <p:spPr>
            <a:xfrm>
              <a:off x="7072200" y="1101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3C67-CA17-43D5-9434-47B62ED5542E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Una formula/funzione si distingue da un dato costante iniziando con un segno di ugual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(=)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isualizzare il testo delle formule/funzioni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anziché il risultato)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Strumenti/Opzioni/Visualizza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, casella di controllo 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Formule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; oppur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nteporre al testo un segno di apice (‘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Ordine di priorità degli operatori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Elementi fra parentesi – Potenze – Moltiplicazioni – Divisioni – Somme –  Sottrazioni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reazione</a:t>
            </a:r>
            <a:r>
              <a:rPr b="0" lang="it-IT" sz="1000" spc="-1" strike="noStrike">
                <a:solidFill>
                  <a:srgbClr val="cc0000"/>
                </a:solidFill>
                <a:latin typeface="Tahoma"/>
              </a:rPr>
              <a:t> di 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formule</a:t>
            </a:r>
            <a:r>
              <a:rPr b="0" lang="it-IT" sz="1000" spc="-1" strike="noStrike">
                <a:solidFill>
                  <a:srgbClr val="cc0000"/>
                </a:solidFill>
                <a:latin typeface="Tahoma"/>
              </a:rPr>
              <a:t> e 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funzioni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6858000" y="44280"/>
            <a:ext cx="1676520" cy="1323360"/>
            <a:chOff x="6858000" y="44280"/>
            <a:chExt cx="1676520" cy="1323360"/>
          </a:xfrm>
        </p:grpSpPr>
        <p:pic>
          <p:nvPicPr>
            <p:cNvPr id="197" name="Picture 6" descr="lez"/>
            <p:cNvPicPr/>
            <p:nvPr/>
          </p:nvPicPr>
          <p:blipFill>
            <a:blip r:embed="rId1"/>
            <a:stretch/>
          </p:blipFill>
          <p:spPr>
            <a:xfrm>
              <a:off x="7050240" y="44280"/>
              <a:ext cx="13316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7"/>
            <p:cNvSpPr/>
            <p:nvPr/>
          </p:nvSpPr>
          <p:spPr>
            <a:xfrm>
              <a:off x="6858000" y="1030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9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C9AA-550B-449F-B95A-22434A05CA4D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rrore #####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i verifica quando la cella contiene un numero, una data o un'ora che non rientra nella cella oppure quando contiene una formula di data e/o di ora che genera un risultato negativo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Correzioni: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grandimento della larghezza della colonn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pplicare un formato numerico differen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ccertarsi che le formule di data e di ora siano corret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rrori legati alle formule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4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1AC6-D012-4A3C-B526-9FD55C5BA625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752480" y="2367000"/>
          <a:ext cx="6096240" cy="3429000"/>
        </p:xfrm>
        <a:graphic>
          <a:graphicData uri="http://schemas.openxmlformats.org/drawingml/2006/table">
            <a:tbl>
              <a:tblPr/>
              <a:tblGrid>
                <a:gridCol w="1600200"/>
                <a:gridCol w="4496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a divisione per z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D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o dei valori della formula non è disponib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OM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ella formula è stato usato un nome di intervallo non riconosci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LLO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 riferimento di cella non va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 numero non corr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RIF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 riferimento non valido ad una cella o interva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OR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 argomento o un operatore non va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rrori legati alle formule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9" name="Segnaposto data 32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egnaposto piè di pagina 33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0EC0-ABD9-4FDB-B76A-9D4520F8108E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Operatori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Due punti: identifica l’intervallo di cel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1:A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Punto e virgola: identifica l’unione di cell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1;A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pazio: identifica l’intersezione di due intervall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1:A4 A1:C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 riferimenti possono essere estesi anc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 altri fogli della stessa cartella di lavoro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Foglio3!A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 fogli di altre cartelle di lavoro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‘C:\dirname\filename.xls’!A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Riferimenti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800" spc="-1" strike="noStrike">
                <a:solidFill>
                  <a:srgbClr val="cc0000"/>
                </a:solidFill>
                <a:latin typeface="Tahoma"/>
              </a:rPr>
              <a:t>di 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cella</a:t>
            </a:r>
            <a:r>
              <a:rPr b="0" lang="it-IT" sz="800" spc="-1" strike="noStrike">
                <a:solidFill>
                  <a:srgbClr val="cc0000"/>
                </a:solidFill>
                <a:latin typeface="Tahoma"/>
              </a:rPr>
              <a:t> e 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intervallo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6858000" y="44280"/>
            <a:ext cx="1676520" cy="1323360"/>
            <a:chOff x="6858000" y="44280"/>
            <a:chExt cx="1676520" cy="1323360"/>
          </a:xfrm>
        </p:grpSpPr>
        <p:pic>
          <p:nvPicPr>
            <p:cNvPr id="215" name="Picture 6" descr="lez"/>
            <p:cNvPicPr/>
            <p:nvPr/>
          </p:nvPicPr>
          <p:blipFill>
            <a:blip r:embed="rId1"/>
            <a:stretch/>
          </p:blipFill>
          <p:spPr>
            <a:xfrm>
              <a:off x="7050240" y="44280"/>
              <a:ext cx="13316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/>
            <p:cNvSpPr/>
            <p:nvPr/>
          </p:nvSpPr>
          <p:spPr>
            <a:xfrm>
              <a:off x="6858000" y="1030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8351-5CA1-443E-BB5F-9E390FA2DB8C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66280" y="177480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ile A1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mpostazione predefini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Riferimento ad una cella: 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ettera della colonna seguita dal numero di rig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Riferimento ad un intervallo: 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ferimento della cella nell’angolo superiore sinistro, seguito da :, seguito dal riferimento della cella nell’angolo inferiore destr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ile R1C1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 posizione di una cella è indicata da una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eguita da un numero di riga, e da una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eguita da un numero di colonn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Riferimenti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800" spc="-1" strike="noStrike">
                <a:solidFill>
                  <a:srgbClr val="cc0000"/>
                </a:solidFill>
                <a:latin typeface="Tahoma"/>
              </a:rPr>
              <a:t>di 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cella</a:t>
            </a:r>
            <a:r>
              <a:rPr b="0" lang="it-IT" sz="800" spc="-1" strike="noStrike">
                <a:solidFill>
                  <a:srgbClr val="cc0000"/>
                </a:solidFill>
                <a:latin typeface="Tahoma"/>
              </a:rPr>
              <a:t> e 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intervallo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858000" y="189000"/>
            <a:ext cx="1676520" cy="1323000"/>
            <a:chOff x="6858000" y="189000"/>
            <a:chExt cx="1676520" cy="1323000"/>
          </a:xfrm>
        </p:grpSpPr>
        <p:pic>
          <p:nvPicPr>
            <p:cNvPr id="223" name="Picture 5" descr="lez"/>
            <p:cNvPicPr/>
            <p:nvPr/>
          </p:nvPicPr>
          <p:blipFill>
            <a:blip r:embed="rId1"/>
            <a:stretch/>
          </p:blipFill>
          <p:spPr>
            <a:xfrm>
              <a:off x="7050240" y="18900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6"/>
            <p:cNvSpPr/>
            <p:nvPr/>
          </p:nvSpPr>
          <p:spPr>
            <a:xfrm>
              <a:off x="6858000" y="1174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7E2-CCFD-415C-93E5-1FE9053A5A98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lativo: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rva la distanza e non la posizione fisica della cell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e copie sono aggiornate relativamente alla nuova posizion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soluto ($):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rva la posizione fisica della cell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antiene invariati i riferimenti di cella nelle formul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ssaggio da relativo ad assolu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lezionare il riferimento da modificar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Premere F4 per passare ad un diverso tipo di riferiment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Riferimenti</a:t>
            </a:r>
            <a:r>
              <a:rPr b="0" lang="it-IT" sz="13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cc0000"/>
                </a:solidFill>
                <a:latin typeface="Tahoma"/>
              </a:rPr>
              <a:t>relativi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 e </a:t>
            </a:r>
            <a:r>
              <a:rPr b="0" lang="it-IT" sz="1700" spc="-1" strike="noStrike">
                <a:solidFill>
                  <a:srgbClr val="cc0000"/>
                </a:solidFill>
                <a:latin typeface="Tahoma"/>
              </a:rPr>
              <a:t>assoluti</a:t>
            </a:r>
            <a:endParaRPr b="0" lang="en-US" sz="17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6858000" y="44280"/>
            <a:ext cx="1676520" cy="1323360"/>
            <a:chOff x="6858000" y="44280"/>
            <a:chExt cx="1676520" cy="1323360"/>
          </a:xfrm>
        </p:grpSpPr>
        <p:pic>
          <p:nvPicPr>
            <p:cNvPr id="231" name="Picture 5" descr="lez"/>
            <p:cNvPicPr/>
            <p:nvPr/>
          </p:nvPicPr>
          <p:blipFill>
            <a:blip r:embed="rId1"/>
            <a:stretch/>
          </p:blipFill>
          <p:spPr>
            <a:xfrm>
              <a:off x="7050240" y="44280"/>
              <a:ext cx="13316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6"/>
            <p:cNvSpPr/>
            <p:nvPr/>
          </p:nvSpPr>
          <p:spPr>
            <a:xfrm>
              <a:off x="6858000" y="1030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3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FDB1-A751-4C77-BDFF-6AC538321455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ormule predefinite per il calcolo di espressioni matematiche comples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Sintassi:</a:t>
            </a: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=Funzione(arg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;arg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;…;arg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tegori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Finanziari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Data e ora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Lucida Sans"/>
              </a:rPr>
              <a:t>Matematiche</a:t>
            </a:r>
            <a:r>
              <a:rPr b="0" lang="it-IT" sz="1200" spc="-1" strike="noStrike">
                <a:solidFill>
                  <a:srgbClr val="003399"/>
                </a:solidFill>
                <a:latin typeface="Lucida Sans"/>
              </a:rPr>
              <a:t> e </a:t>
            </a:r>
            <a:r>
              <a:rPr b="0" lang="it-IT" sz="1600" spc="-1" strike="noStrike">
                <a:solidFill>
                  <a:srgbClr val="003399"/>
                </a:solidFill>
                <a:latin typeface="Lucida Sans"/>
              </a:rPr>
              <a:t>trigonometriche</a:t>
            </a:r>
            <a:endParaRPr b="0" lang="en-US" sz="16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Statistich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Ricerca e riferimento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Databas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Testo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Logich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Informativ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Definite dall’utent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Funzioni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38" name="Picture 4" descr="funzioni_excel"/>
          <p:cNvPicPr/>
          <p:nvPr/>
        </p:nvPicPr>
        <p:blipFill>
          <a:blip r:embed="rId1"/>
          <a:stretch/>
        </p:blipFill>
        <p:spPr>
          <a:xfrm>
            <a:off x="4570560" y="3141720"/>
            <a:ext cx="4105080" cy="2800440"/>
          </a:xfrm>
          <a:prstGeom prst="rect">
            <a:avLst/>
          </a:prstGeom>
          <a:ln w="0">
            <a:noFill/>
          </a:ln>
        </p:spPr>
      </p:pic>
      <p:sp>
        <p:nvSpPr>
          <p:cNvPr id="239" name="Segnaposto data 5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Segnaposto piè di pagina 6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0FD-84F7-4FB7-BE44-4E1C472D295B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xcel è uno spreadsheet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Consente di effettuare calcoli e analisi sui dati, e rappresentare graficamente le informazioni in vari tipi di diagrammi.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Supporta l’utente nelle operazioni di: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dellazione di formule comples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ppresentazione grafica avanzata e creazione di carte geografi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rdinare e filtrare elenchi di informazion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mportazione/esportazione per lo scambio di dati con datab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os’è Excel?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4A1-0E6A-473D-BC10-BBAD0377A05B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 nomi consentono di identificare istantaneamente le celle a cui si riferiscono, a differenza dei riferimenti (impersonali e generici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izion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Selezionare la cella o l’intervallo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Inserisci/Nome/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Definisci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Nomi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di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o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ntervallo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44" name="Picture 5" descr="definisci_nome"/>
          <p:cNvPicPr/>
          <p:nvPr/>
        </p:nvPicPr>
        <p:blipFill>
          <a:blip r:embed="rId1"/>
          <a:stretch/>
        </p:blipFill>
        <p:spPr>
          <a:xfrm>
            <a:off x="4843440" y="4005360"/>
            <a:ext cx="3905280" cy="238104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6"/>
          <p:cNvGrpSpPr/>
          <p:nvPr/>
        </p:nvGrpSpPr>
        <p:grpSpPr>
          <a:xfrm>
            <a:off x="6858000" y="189000"/>
            <a:ext cx="1676520" cy="1323000"/>
            <a:chOff x="6858000" y="189000"/>
            <a:chExt cx="1676520" cy="1323000"/>
          </a:xfrm>
        </p:grpSpPr>
        <p:pic>
          <p:nvPicPr>
            <p:cNvPr id="246" name="Picture 7" descr="lez"/>
            <p:cNvPicPr/>
            <p:nvPr/>
          </p:nvPicPr>
          <p:blipFill>
            <a:blip r:embed="rId2"/>
            <a:stretch/>
          </p:blipFill>
          <p:spPr>
            <a:xfrm>
              <a:off x="7050240" y="18900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8"/>
            <p:cNvSpPr/>
            <p:nvPr/>
          </p:nvSpPr>
          <p:spPr>
            <a:xfrm>
              <a:off x="6858000" y="1174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" name="Segnaposto data 8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Segnaposto piè di pagina 9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F4EC-A8C2-46F4-9E09-33C1F590AFED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Raccolte di informazioni organizzate per righe (</a:t>
            </a:r>
            <a:r>
              <a:rPr b="0" i="1" lang="it-IT" sz="2200" spc="-1" strike="noStrike">
                <a:solidFill>
                  <a:srgbClr val="000000"/>
                </a:solidFill>
                <a:latin typeface="Lucida Sans"/>
              </a:rPr>
              <a:t>Record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) e colonne (</a:t>
            </a:r>
            <a:r>
              <a:rPr b="0" i="1" lang="it-IT" sz="2200" spc="-1" strike="noStrike">
                <a:solidFill>
                  <a:srgbClr val="000000"/>
                </a:solidFill>
                <a:latin typeface="Lucida Sans"/>
              </a:rPr>
              <a:t>Campi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Per creare un elenco trattabile con Excel occorre rispettare alcune semplici regol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un solo elenco per foglio di lavoro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inserire le etichette dei campi nella prima riga dell’elenco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non inserire righe vuote sotto la prima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inserire dati omogenei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usare lo stesso formato per tutti i dati di una stessa colonna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non inserire spazi davanti ai dati nelle celle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Manipolazione dei dat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lenchi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53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5D89-82FF-4338-BC0A-D1EEEE0F22C5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reazione di un modulo per l’inserimento dei record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Definire la riga d’intestazione dell’elenco, con le etichette dei campi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Dati/Modulo</a:t>
            </a: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, inserire i record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Ricerca dei record con l’uso dei 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criteri: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ulsan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riter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ecificare i criteri e avviar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 ricer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Manipolazione dei dat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lenchi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58" name="Picture 4" descr="modulo_elenco"/>
          <p:cNvPicPr/>
          <p:nvPr/>
        </p:nvPicPr>
        <p:blipFill>
          <a:blip r:embed="rId1"/>
          <a:stretch/>
        </p:blipFill>
        <p:spPr>
          <a:xfrm>
            <a:off x="6095880" y="3562200"/>
            <a:ext cx="2448000" cy="2962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modulo_elenco_"/>
          <p:cNvPicPr/>
          <p:nvPr/>
        </p:nvPicPr>
        <p:blipFill>
          <a:blip r:embed="rId2"/>
          <a:stretch/>
        </p:blipFill>
        <p:spPr>
          <a:xfrm>
            <a:off x="3276720" y="5651640"/>
            <a:ext cx="2619360" cy="514080"/>
          </a:xfrm>
          <a:prstGeom prst="rect">
            <a:avLst/>
          </a:prstGeom>
          <a:ln w="0">
            <a:noFill/>
          </a:ln>
        </p:spPr>
      </p:pic>
      <p:sp>
        <p:nvSpPr>
          <p:cNvPr id="260" name="Segnaposto data 6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Segnaposto piè di pagina 7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D7AD-E6BA-469C-94E5-34202E09CD2A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Ordinare un elenco sulla base di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un campo (pulsanti        )</a:t>
            </a:r>
            <a:endParaRPr b="0" lang="en-US" sz="2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chiavi di ordinamento multiple:</a:t>
            </a:r>
            <a:endParaRPr b="0" lang="en-US" sz="28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ati/Ordin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convenzioni non alfabetiche </a:t>
            </a: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(es., per i nomi dei mesi)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trumenti/Opzion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sched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lench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serire l’elenco delle nuove voci nell’area di test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Voci di elenc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Manipolazione dei dat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Ordinamento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65" name="Picture 4" descr="tasti_ordinamento"/>
          <p:cNvPicPr/>
          <p:nvPr/>
        </p:nvPicPr>
        <p:blipFill>
          <a:blip r:embed="rId1"/>
          <a:stretch/>
        </p:blipFill>
        <p:spPr>
          <a:xfrm>
            <a:off x="4673520" y="2924280"/>
            <a:ext cx="690480" cy="3236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6858000" y="162000"/>
            <a:ext cx="1676520" cy="1323000"/>
            <a:chOff x="6858000" y="162000"/>
            <a:chExt cx="1676520" cy="1323000"/>
          </a:xfrm>
        </p:grpSpPr>
        <p:pic>
          <p:nvPicPr>
            <p:cNvPr id="267" name="Picture 6" descr="lez"/>
            <p:cNvPicPr/>
            <p:nvPr/>
          </p:nvPicPr>
          <p:blipFill>
            <a:blip r:embed="rId2"/>
            <a:stretch/>
          </p:blipFill>
          <p:spPr>
            <a:xfrm>
              <a:off x="7050240" y="16200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7"/>
            <p:cNvSpPr/>
            <p:nvPr/>
          </p:nvSpPr>
          <p:spPr>
            <a:xfrm>
              <a:off x="6858000" y="1147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Segnaposto data 8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egnaposto piè di pagina 9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Descrizione delle funzioni principali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72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SE(test;se_vero;se_falso)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stituisce un valore se la condizione specificata ha valore VERO e un altro valore se essa ha valore FALS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CONTA.SE(intervallo;criteri)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nta il numero di celle in un intervallo che corrispondono al criterio da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SOMMA.SE(intervallo;criteri;int_somma):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omma le celle specificate secondo un criterio assegna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Esempi di uso delle funzioni principali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43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=ARROTONDA(1,23;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1,2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=ARROTONDA(A12;2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il contenuto della cella A12 arrotondato a due cifre decimal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OMMA(A1:A24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la somma delle celle della colonna A a partire dalla riga 1 alla riga 24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MEDIA(B2:B1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la media aritmetica delle celle della colonna B a partire dalla riga 2 alla riga 10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=MAX(C1:C1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il massimo valore contenuto nelle celle della colonna C a partire dalla riga 2 alla riga 10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6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FUNZIONE SE(test;se_vero;se_falso) (1/2)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43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E(test;se_vero;se_falso)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est   è un valore o un'espressione qualsiasi che può dare come risultato VERO o FALSO. Ad esempio, A10=100 è un'espressione logica; se il valore contenuto nella cella A10 è uguale a 100, l'espressione darà come risultato VERO. In caso contrario, l'espressione darà come risultato FALSO. Questo argomento può utilizzare qualsiasi operatore di calcolo di confront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Lucida Sans"/>
              </a:rPr>
              <a:t>Se_vero 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 è il valore che viene restituito se test è VERO. Ad esempio, se questo argomento è la stringa di testo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“Nel budget”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e l'argomento test dà come risultato VERO, allora la funzione SE visualizzerà il testo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“Nel budget”.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Se_vero può anche essere un'altra formul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Lucida Sans"/>
              </a:rPr>
              <a:t>Se_falso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  è il valore che viene restituito se test è FALSO. Ad esempio, se questo argomento è la stringa di testo Fuori budget e l'argomento test dà come risultato FALSO, allora la funzione SE visualizzerà il testo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“Fuori budget”.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Se_falso può anche essere un'altra formul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6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FUNZIONE SE(test,se_vero,se_falso) (2/2)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9640" y="1268280"/>
          <a:ext cx="8200800" cy="5219640"/>
        </p:xfrm>
        <a:graphic>
          <a:graphicData uri="http://schemas.openxmlformats.org/drawingml/2006/table">
            <a:tbl>
              <a:tblPr/>
              <a:tblGrid>
                <a:gridCol w="4889520"/>
                <a:gridCol w="331128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scrizione (risulta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(A2&lt;=100;"Nel budget";"Fuori budge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 il numero è inferiore o uguale a 100, la formula visualizz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el budg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. In caso contrario, verrà visualizzato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uori budg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 (Nel budg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(A2&gt;100;SOMMA(B5:B15);"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 il numero è maggiore di 100, verrà calcolato l'intervallo B5:B15. In caso contrario, verrà restituita una stringa di testo vuota ("") 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FUNZIONE CONTA.SE(intervallo;criteri) (1/2)</a:t>
            </a:r>
            <a:endParaRPr b="0" lang="en-US" sz="1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72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ONTA.SE(intervallo;criteri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tervallo   è l'intervallo di celle a partire dal quale si desidera contare le cel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riteri   sono i criteri in forma di numeri, espressioni o testo che determinano quali celle verranno contate. Ad esempio, criteri può essere espresso come 32, "32", "&gt;32", "mele"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FUNZIONE CONTA.SE(intervallo;criteri) (2/2)</a:t>
            </a:r>
            <a:endParaRPr b="0" lang="en-US" sz="15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411280" y="1371600"/>
          <a:ext cx="6481800" cy="4936680"/>
        </p:xfrm>
        <a:graphic>
          <a:graphicData uri="http://schemas.openxmlformats.org/drawingml/2006/table">
            <a:tbl>
              <a:tblPr/>
              <a:tblGrid>
                <a:gridCol w="216000"/>
                <a:gridCol w="6265800"/>
              </a:tblGrid>
              <a:tr h="49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66640" y="1341360"/>
          <a:ext cx="8001000" cy="4496040"/>
        </p:xfrm>
        <a:graphic>
          <a:graphicData uri="http://schemas.openxmlformats.org/drawingml/2006/table">
            <a:tbl>
              <a:tblPr/>
              <a:tblGrid>
                <a:gridCol w="3746520"/>
                <a:gridCol w="4254480"/>
              </a:tblGrid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scrizione (risulta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CONTA.SE(A2:A5;"mele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umero di celle contenente mele nella prima colonna (righe da 2 a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CONTA.SE(B2:B5;"&gt;55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umero di celle con un valore maggiore di 55 nella seconda colonna (righe da 2 a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4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8227-A729-4C86-9DAE-8E71AD6FDB5D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nterfaccia di Excel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05" name="Picture 7" descr="gui"/>
          <p:cNvPicPr/>
          <p:nvPr/>
        </p:nvPicPr>
        <p:blipFill>
          <a:blip r:embed="rId1"/>
          <a:stretch/>
        </p:blipFill>
        <p:spPr>
          <a:xfrm>
            <a:off x="1332000" y="1773360"/>
            <a:ext cx="6054480" cy="4443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7650360" y="5873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a di st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719460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971240" y="12160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a degli strum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823000" y="157320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542600" y="634536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i fogli disponib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3"/>
          <p:cNvSpPr/>
          <p:nvPr/>
        </p:nvSpPr>
        <p:spPr>
          <a:xfrm flipV="1">
            <a:off x="2484360" y="605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2179800" y="605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79280" y="13413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a del titolo (cartella di lavor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394000" y="16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057120" y="105264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a dei me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3851280" y="1355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427400" y="244944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ella at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900000" y="26780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7542000" y="36640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glio at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2"/>
          <p:cNvSpPr/>
          <p:nvPr/>
        </p:nvSpPr>
        <p:spPr>
          <a:xfrm flipH="1">
            <a:off x="617220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900000" y="2421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900000" y="2421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egnaposto data 21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egnaposto piè di pagina 22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FUNZIONE SOMMA.SE(intervallo;criteri;int_somma) (1/2)</a:t>
            </a:r>
            <a:endParaRPr b="0" lang="en-US" sz="1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72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OMMA.SE(intervallo;criteri;int_somm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tervallo   è l'intervallo di celle che si desidera calcolare e sul quale verificare i criter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riteri   sono i criteri in forma di numeri, espressioni o testo che determinano le celle che verranno sommate. Ad esempio, criteri può essere espresso come 32, "32", "&gt;32", "mele"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t_somma   sono le celle da sommar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3860640"/>
            <a:ext cx="6400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Osserv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e celle in int_somma vengono sommate solo se le celle corrispondenti in intervallo soddisfano i criteri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 Int_somma è omesso, verranno sommate le celle in intervall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FUNZIONE SOMMA.SE(intervallo;criteri;int_somma) (2/2)</a:t>
            </a:r>
            <a:endParaRPr b="0" lang="en-US" sz="15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11280" y="1125360"/>
          <a:ext cx="8200800" cy="5091120"/>
        </p:xfrm>
        <a:graphic>
          <a:graphicData uri="http://schemas.openxmlformats.org/drawingml/2006/table">
            <a:tbl>
              <a:tblPr/>
              <a:tblGrid>
                <a:gridCol w="4856040"/>
                <a:gridCol w="3344760"/>
              </a:tblGrid>
              <a:tr h="93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scrizione (risulta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SOMMA.SE(A2:A5;"&gt;160000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omma del contenuto delle celle della selezione A2:A5 dove il contenuto della cella è maggiore di 1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SOMMA.SE(A2:A5;"&gt;160000";B2:B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omma del contenuto delle celle della selezione B2:B5 dove il contenuto della cella corrispondente in A2:A5 è maggiore di 1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ppresentare graficamente le informazioni per renderle interessanti e facilmente comprensibil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imento di un grafic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lezionare l’intervallo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tenente i dati da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r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Inserisci/Grafic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guire la procedur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reare il grafico sul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foglio attivo o in un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nuov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800600" y="3271680"/>
            <a:ext cx="371952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d aree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il contributo che ogni serie di dati fornisce al totale, nel temp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Più piccola è l’area di una serie, più lieve è il contributo apportato al tot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pe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Vendit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osti di produzion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2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067280" y="3645000"/>
            <a:ext cx="4692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barre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elementi diversi da confrontare, o valori diversi assunti dallo stesso elemento in tempi divers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e categorie sono organizzate verticalmente e i valori orizzontalmente per evidenziare il confronto dei valori anziché la variazione nel temp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 grafici a barre in pila mostrano le relazioni dei singoli elementi rispetto al tot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Risultati di attività competitive in gen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3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332000" y="4941720"/>
            <a:ext cx="2547720" cy="1427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716360" y="5013360"/>
            <a:ext cx="32464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stogrammi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imili ai grafici a barre, in quanto confrontano valori divers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uttavia, l’asse dei valori è verticale, mentre l’asse delle categorie è orizzont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Utile mantenere al minimo il numero di serie, per evitare che le colonne siano eccessivamente strette e difficili da analizzar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Gli istogrammi in pila mostrano le relazioni dei singoli elementi rispetto al totale.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a prospettiva 3D mette a confronto i dati su due ass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Valori da confrontare nel temp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4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32068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torta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il rapporto delle parti fra loro e il relativo contributo al tot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nte di rappresentare una sola serie di valor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Per facilitare la visualizzazione delle sezioni più piccole, è possibile raggrupparle in un unico elemento del grafico a torta per poi dividerle in un grafico più piccolo, a torta o a barr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074240" indent="-21456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ontributo di più prodotti al totale del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vendit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-21456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Informazioni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ulla popolazion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5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780000" y="4797360"/>
            <a:ext cx="2732040" cy="1646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22557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linee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le variazioni dei valori nel temp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ilevazione di tendenze, piuttosto che alla rappresentazione di valori static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d anell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imili ai grafici a torta, mostrano il contributo delle varie parti al totale, m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ntono di rappresentare più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rie di dati, disponendole su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diversi anelli concentric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6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238560" cy="1471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2936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radar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frontano le serie di dati rispetto ad un punto centr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trutturati come uno schermo radar: l’osservatore si trova al centro, da cui vengono emessi i segnali radar (asse dei valori) in tutte le direzion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 punti adiacenti sono congiunti con una linea, creando poligoni per facilitare la localizzazione dei gruppi di dati divers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Valori aggregati di varie serie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di dat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7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6813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dispersione (XY)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ostrano le relazioni tra i valori di varie seri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racciano due gruppi di valori come un'unica serie di coordinate XY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petto ai grafici a linee, l’asse delle categorie è sostituito da un secondo asse dei valor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Visualizzano intervalli,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o gruppi, non omogenei di dat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Risultati di ricerche e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speriment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8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148360" y="3500280"/>
            <a:ext cx="3644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F0FF-E320-490E-9FD8-27B3FD680FBF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posizione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elle disposte in 256 colonne e 65.536 righ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dentificativi colonne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…Z, AA…ZZ, BA…BZ, …, IA…IV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dentificativi righe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…65.53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dirizzo di cella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mbinazione di una lettera di colonna e di un numero di rig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8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boll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ipo di grafico a dispersione (XY) in cui la dimensione dell'indicatore di dati rappresenta il valore di una terza variabi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Quando si immettono i dati,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è utile disporre i valori X in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una riga o colonna e i relativ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valori Y e delle dimensioni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delle bolle nelle righe o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lonne adiacent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9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37926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zionari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Grafici delle quotazioni azionarie massime, minime e di chiusur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rezzi di azion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rappresentazione di dati scientifici (es. variazioni di temperatura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È necessario ordinare i dati in modo corrett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0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51102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superfici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Utili per trovare le combinazioni più favorevoli tra due sistemi di dati.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me in una carta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opografica, i colori e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 motivi indicano le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ree che si trovano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nello stesso intervallo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di valor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1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42973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coni, cilindri, piramidi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Utilizzando gli indicatori di dati a forma di cono, cilindro e piramide è possibile conferire notevole impatto agli istogrammi e ai grafici a barre 3D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2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42920" y="3284640"/>
            <a:ext cx="3036960" cy="2152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299736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deogrammi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le informazioni utilizzando piccole immagini inerent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ntono di inserire una clip art in un grafico lineare o in un istogramm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3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771640" y="3213000"/>
            <a:ext cx="45529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( Intervallo dati )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33" name="Rectangle 3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6173640" cy="522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Rectangle 3"/>
          <p:cNvGraphicFramePr/>
          <p:nvPr/>
        </p:nvGraphicFramePr>
        <p:xfrm>
          <a:off x="395280" y="2205000"/>
          <a:ext cx="220824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5000"/>
                    <a:ext cx="22082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( Serie )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37" name="Rectangle 3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615636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Rectangle 3"/>
          <p:cNvGraphicFramePr/>
          <p:nvPr/>
        </p:nvGraphicFramePr>
        <p:xfrm>
          <a:off x="336600" y="2205000"/>
          <a:ext cx="214956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6600" y="2205000"/>
                    <a:ext cx="21495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41" name="Rectangle 3" descr=""/>
          <p:cNvPicPr/>
          <p:nvPr/>
        </p:nvPicPr>
        <p:blipFill>
          <a:blip r:embed="rId1"/>
          <a:stretch/>
        </p:blipFill>
        <p:spPr>
          <a:xfrm>
            <a:off x="2556000" y="2762280"/>
            <a:ext cx="5940360" cy="3475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50920" y="1341360"/>
            <a:ext cx="331308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e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itolo del graf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3924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71480" indent="-370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X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71480" indent="-370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i dei valori (Y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9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9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9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99240" indent="-39924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Grigl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71480" indent="-370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X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0916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Griglia principa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0916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Griglia secondari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71480" indent="-370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Y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0916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Griglia principa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0916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Griglia secondari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71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71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pic>
        <p:nvPicPr>
          <p:cNvPr id="345" name="Rectangle 3" descr=""/>
          <p:cNvPicPr/>
          <p:nvPr/>
        </p:nvPicPr>
        <p:blipFill>
          <a:blip r:embed="rId1"/>
          <a:stretch/>
        </p:blipFill>
        <p:spPr>
          <a:xfrm>
            <a:off x="4924440" y="1341360"/>
            <a:ext cx="3362400" cy="226224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4923000" y="3755880"/>
            <a:ext cx="336384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24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stra legend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osizion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 bass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 angol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 alt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 destra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 sinistr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tichette dat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Nome seri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Valore X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Valore Y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pic>
        <p:nvPicPr>
          <p:cNvPr id="349" name="Rectangle 3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362400" cy="226224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3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36384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C52B-FA43-4E8E-9C74-C1DDA9CD4869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arra della formula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ssiste l’utente nella creazione di funzioni. Si attiva ad ogni immissione di dati in una cell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umeri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teri, decimali, in notazione scientific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esto: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qualsiasi dato non identificato come numero o dat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ate/Orari: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visualizzati nel formato scelto, ma memorizzati come numeri progressiv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mmissione dei dati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3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mportare dati esterni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24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at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mporta dati estern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Importa dat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3" name="Rectangle 3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59817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reazione e ordinamento delle tabelle in Wor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Tabella/Inserisc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celta del formato e inserimento delle intestazioni di colonn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Visualizza/Barre degli strumenti/Database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, pulsante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Modulo dat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Immissione dei dat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Tabella/Seleziona tabella, copia selezion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pia delle tabelle in Exc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colla selezione, salva fil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egrazione con Word e Access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ollegamento</a:t>
            </a:r>
            <a:r>
              <a:rPr b="0" lang="it-IT" sz="1800" spc="-1" strike="noStrike">
                <a:solidFill>
                  <a:srgbClr val="cc0000"/>
                </a:solidFill>
                <a:latin typeface="Tahoma"/>
              </a:rPr>
              <a:t> dei file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mportazione (collegamento) in Acc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File/Apri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, selezionare il file Excel appena salvat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guire la procedura guidata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cegliere il foglio di lavor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cegliere le intestazioni delle colonne come campi delle tabel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sportazione in Exc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File/Esport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egrazione con Word e Access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ollegamento</a:t>
            </a:r>
            <a:r>
              <a:rPr b="0" lang="it-IT" sz="1800" spc="-1" strike="noStrike">
                <a:solidFill>
                  <a:srgbClr val="cc0000"/>
                </a:solidFill>
                <a:latin typeface="Tahoma"/>
              </a:rPr>
              <a:t> dei file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SERCIZIO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6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250992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3" descr=""/>
          <p:cNvPicPr/>
          <p:nvPr/>
        </p:nvPicPr>
        <p:blipFill>
          <a:blip r:embed="rId2"/>
          <a:stretch/>
        </p:blipFill>
        <p:spPr>
          <a:xfrm>
            <a:off x="1476360" y="2532240"/>
            <a:ext cx="6480360" cy="39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BFA-BC7A-419D-B02E-94449570FCC5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erie di dati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iste di numeri o parole (es. giorni della settimana, nomi dei mesi, etc.) omogenee, ordinate, non necessariamente consecutive, ripetibil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reazione: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Rapida, mediante il dragging della maniglia di riempimento della cell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vanzata: Menu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odifica/Riempimento/Seri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mmissione dei dati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858000" y="115920"/>
            <a:ext cx="1676520" cy="1323000"/>
            <a:chOff x="6858000" y="115920"/>
            <a:chExt cx="1676520" cy="1323000"/>
          </a:xfrm>
        </p:grpSpPr>
        <p:pic>
          <p:nvPicPr>
            <p:cNvPr id="139" name="Picture 5" descr="lez"/>
            <p:cNvPicPr/>
            <p:nvPr/>
          </p:nvPicPr>
          <p:blipFill>
            <a:blip r:embed="rId1"/>
            <a:stretch/>
          </p:blipFill>
          <p:spPr>
            <a:xfrm>
              <a:off x="7050240" y="11592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6"/>
            <p:cNvSpPr/>
            <p:nvPr/>
          </p:nvSpPr>
          <p:spPr>
            <a:xfrm>
              <a:off x="6858000" y="1101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1" name="Picture 7" descr="serie"/>
          <p:cNvPicPr/>
          <p:nvPr/>
        </p:nvPicPr>
        <p:blipFill>
          <a:blip r:embed="rId2"/>
          <a:stretch/>
        </p:blipFill>
        <p:spPr>
          <a:xfrm>
            <a:off x="2743200" y="4508640"/>
            <a:ext cx="4076640" cy="1927080"/>
          </a:xfrm>
          <a:prstGeom prst="rect">
            <a:avLst/>
          </a:prstGeom>
          <a:ln w="0">
            <a:noFill/>
          </a:ln>
        </p:spPr>
      </p:pic>
      <p:sp>
        <p:nvSpPr>
          <p:cNvPr id="142" name="Segnaposto data 8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egnaposto piè di pagina 9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C52-82CB-49A1-BE4B-8C387DEDB4D1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ormati numerici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enu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ormato/Celle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, sched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umer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4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52480" y="2762280"/>
          <a:ext cx="6096240" cy="3429000"/>
        </p:xfrm>
        <a:graphic>
          <a:graphicData uri="http://schemas.openxmlformats.org/drawingml/2006/table">
            <a:tbl>
              <a:tblPr/>
              <a:tblGrid>
                <a:gridCol w="2590920"/>
                <a:gridCol w="35053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s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t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a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ggiunge al numero il simbolo di valuta ed i separatori delle miglia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ggiunge al numero il simbolo di valuta in eu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tile percent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pplica al numero il formato percentu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tile separa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ggiunge al numero i punti di separazione delle miglia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umenta deci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ggiunge una cifra deci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iminuisci decimal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limina una cifra deci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31" descr="valuta"/>
          <p:cNvPicPr/>
          <p:nvPr/>
        </p:nvPicPr>
        <p:blipFill>
          <a:blip r:embed="rId1"/>
          <a:stretch/>
        </p:blipFill>
        <p:spPr>
          <a:xfrm>
            <a:off x="182880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2" descr="euro"/>
          <p:cNvPicPr/>
          <p:nvPr/>
        </p:nvPicPr>
        <p:blipFill>
          <a:blip r:embed="rId2"/>
          <a:stretch/>
        </p:blipFill>
        <p:spPr>
          <a:xfrm>
            <a:off x="1828800" y="3772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3" descr="percentuale"/>
          <p:cNvPicPr/>
          <p:nvPr/>
        </p:nvPicPr>
        <p:blipFill>
          <a:blip r:embed="rId3"/>
          <a:stretch/>
        </p:blipFill>
        <p:spPr>
          <a:xfrm>
            <a:off x="1828800" y="4276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4" descr="dec_decimali"/>
          <p:cNvPicPr/>
          <p:nvPr/>
        </p:nvPicPr>
        <p:blipFill>
          <a:blip r:embed="rId4"/>
          <a:stretch/>
        </p:blipFill>
        <p:spPr>
          <a:xfrm>
            <a:off x="1828800" y="528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5" descr="inc_decimali"/>
          <p:cNvPicPr/>
          <p:nvPr/>
        </p:nvPicPr>
        <p:blipFill>
          <a:blip r:embed="rId5"/>
          <a:stretch/>
        </p:blipFill>
        <p:spPr>
          <a:xfrm>
            <a:off x="182880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6" descr="separatore"/>
          <p:cNvPicPr/>
          <p:nvPr/>
        </p:nvPicPr>
        <p:blipFill>
          <a:blip r:embed="rId6"/>
          <a:stretch/>
        </p:blipFill>
        <p:spPr>
          <a:xfrm>
            <a:off x="1828800" y="479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Segnaposto data 36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egnaposto piè di pagina 37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C12-4B1E-41E8-82DA-58E75C4D11D6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Orientamento del testo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rizzontale, verticale,     o qualsiasi rotazione intermedi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ordi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vari tipi di contorno da applicare alle cell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4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59" name="Picture 5" descr="rotazione_testo"/>
          <p:cNvPicPr/>
          <p:nvPr/>
        </p:nvPicPr>
        <p:blipFill>
          <a:blip r:embed="rId1"/>
          <a:stretch/>
        </p:blipFill>
        <p:spPr>
          <a:xfrm>
            <a:off x="1219320" y="3289320"/>
            <a:ext cx="3886200" cy="2311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bordo_celle"/>
          <p:cNvPicPr/>
          <p:nvPr/>
        </p:nvPicPr>
        <p:blipFill>
          <a:blip r:embed="rId2"/>
          <a:stretch/>
        </p:blipFill>
        <p:spPr>
          <a:xfrm>
            <a:off x="5334120" y="3068640"/>
            <a:ext cx="3047760" cy="2887560"/>
          </a:xfrm>
          <a:prstGeom prst="rect">
            <a:avLst/>
          </a:prstGeom>
          <a:ln w="0">
            <a:noFill/>
          </a:ln>
        </p:spPr>
      </p:pic>
      <p:sp>
        <p:nvSpPr>
          <p:cNvPr id="161" name="Segnaposto data 6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egnaposto piè di pagina 7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7553-C9C1-4B9E-B4F8-622F010A3A69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tili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gistrare tutti i formati applicati ad una cella o intervallo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Creazione:</a:t>
            </a:r>
            <a:endParaRPr b="0" lang="en-US" sz="28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elezionare l’intervallo da formattar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ormato/Stil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pulsan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elezionare i formati desiderati sulle singole sche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alla finestra di dialogo principale, deselezionare le caselle di controllo che non sono di interes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ssegnare un nome allo st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ulsan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hiud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per salvare lo stile ma non applicarl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3/4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6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nella Guzzo</dc:creator>
  <dc:description/>
  <dc:language>en-US</dc:language>
  <cp:lastModifiedBy>#</cp:lastModifiedBy>
  <dcterms:modified xsi:type="dcterms:W3CDTF">2008-09-24T08:23:03Z</dcterms:modified>
  <cp:revision>106</cp:revision>
  <dc:subject/>
  <dc:title>PowerPoint Presentation</dc:title>
</cp:coreProperties>
</file>